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gif" ContentType="image/gif"/>
  <Override PartName="/ppt/media/image6.wmf" ContentType="image/x-wmf"/>
  <Override PartName="/ppt/media/image5.wmf" ContentType="image/x-wmf"/>
  <Override PartName="/ppt/media/image7.wmf" ContentType="image/x-wmf"/>
  <Override PartName="/ppt/media/image8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94CF-81F6-4ECB-880B-DE60C4666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4AD5-0446-40EB-91DB-6C157319B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CB1C-FDA8-41F6-8E4A-2821CB544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D291-A1FA-406B-9A8E-59490F240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1466D-F4E5-49EC-AAEB-B4927B9CB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E7C3D-CC9D-4FAC-9A77-91555E325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1A72E-1017-4B0E-A2DA-171880672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1D580-07F3-4FD3-90A0-DAE1CF72D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0CB9B-CF53-4EFC-8833-D398C9EBB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5B01D-5B35-41D7-BE98-2E294892D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9FEA5-AFA5-44ED-9450-3DFDE9FA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F644-6162-4393-9230-B912B9222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88EAB-8C9B-45A6-85AB-2B4981C5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BE23F-B2FD-4DFA-BED8-CAE85946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26277-D975-4523-90DF-21721CAF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89C82-A2B6-499C-90CC-527BC7255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BDD5A-B69A-4FE5-8723-FB572491C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E161B-9093-4566-BA81-FBED36C8A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A63AF-C9B7-4AAB-B94E-75405DE62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146CE-7336-44A3-8759-EBD1F5940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2BF82-5E83-435C-9F83-5A6F6D44F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BDEB8-6083-4C34-93F1-8CCF09EA5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37CE-E7D7-40AA-827E-09A142BE3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86DA0-D66B-4D00-A6DF-DE575FD6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2DE2C-F5C8-4E67-BFE4-55F86135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D38A4-4B77-4123-8537-0EF94893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9E970-521E-4243-A394-C290ECE8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DA8C7-3D9F-44DF-B5E1-BC69F0039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BDFF5-D79E-4BF5-82B1-FE613F591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9912D-3053-4673-BFBA-ED116E5F0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50957-AF89-46A4-A113-39191512B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C263E-FCBF-4730-A7AB-2EC160615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FFDF1-2693-4046-A82E-1C7948801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4C1E-1AD6-4E20-BF3B-A41C86E31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46FBC-1077-486D-895B-E8865986F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6748B-6FFA-428C-83CC-3B5617FDA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20E69-CBFF-411E-9879-D96B8F3CB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5CF5F-7E04-4B0E-A2CF-FF6ADD8F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2D954-F4EF-4391-99A0-58DE1F5E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639A8-3EF8-4E66-A48F-D987DFA8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FF265-5B9C-4E3D-887A-8FBD62760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0F162-BC08-444E-A1FF-C387788F5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B7C96-51E8-4F47-95B3-8B2C2AFCD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3820-2855-4E70-BDAA-743D9E3A4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C1E8-1AB0-4F71-9A5C-EAB7239DD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5813-9CA3-4FDD-8E0B-646748D2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513A-797D-48F9-9147-9050C1ED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BFD4-E044-4C7E-BAA2-78B85A08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FC5E8F9-3647-4127-8CFF-490958451EA5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6BBDF37-4810-42D5-9B70-4D9F369C4ADC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7905CE0-A4B1-4B52-A181-090C831CD364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dt" idx="10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eeece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eeece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12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eeece1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2461AEF-C374-40C8-AB30-E906117E8FE0}" type="slidenum">
              <a:rPr b="0" lang="ru-RU" sz="1600" spc="-1" strike="noStrike">
                <a:solidFill>
                  <a:srgbClr val="eeece1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14240" y="57132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6600" spc="-1" strike="noStrike" cap="all">
                <a:solidFill>
                  <a:schemeClr val="accent4"/>
                </a:solidFill>
                <a:latin typeface="Calibri"/>
              </a:rPr>
              <a:t>Lesson 9</a:t>
            </a:r>
            <a:endParaRPr b="0" lang="ru-RU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Рисунок 3" descr="35.gif"/>
          <p:cNvPicPr/>
          <p:nvPr/>
        </p:nvPicPr>
        <p:blipFill>
          <a:blip r:embed="rId1"/>
          <a:stretch/>
        </p:blipFill>
        <p:spPr>
          <a:xfrm>
            <a:off x="3071880" y="1549080"/>
            <a:ext cx="5495400" cy="41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49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Family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24640"/>
            <a:ext cx="8229240" cy="5001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Some families are </a:t>
            </a: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big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Some families are </a:t>
            </a: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small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But I love my family </a:t>
            </a: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best of all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273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548640"/>
            <a:ext cx="4038120" cy="5577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b05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Mummy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b05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Daddy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b05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Brother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b05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Sister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b05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Grandmother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b05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Grandfather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b05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Mother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b05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Father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48320" y="548640"/>
            <a:ext cx="4038120" cy="5577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ig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mall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345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240" cy="5361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r and fa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r,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ister and bro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r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and in hand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i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one ano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r.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Рисунок 1" descr=""/>
          <p:cNvPicPr/>
          <p:nvPr/>
        </p:nvPicPr>
        <p:blipFill>
          <a:blip r:embed="rId1"/>
          <a:stretch/>
        </p:blipFill>
        <p:spPr>
          <a:xfrm>
            <a:off x="827640" y="260640"/>
            <a:ext cx="7200360" cy="201600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2" descr=""/>
          <p:cNvPicPr/>
          <p:nvPr/>
        </p:nvPicPr>
        <p:blipFill>
          <a:blip r:embed="rId2"/>
          <a:stretch/>
        </p:blipFill>
        <p:spPr>
          <a:xfrm>
            <a:off x="827640" y="2205000"/>
            <a:ext cx="720036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Рисунок 1" descr=""/>
          <p:cNvPicPr/>
          <p:nvPr/>
        </p:nvPicPr>
        <p:blipFill>
          <a:blip r:embed="rId1"/>
          <a:stretch/>
        </p:blipFill>
        <p:spPr>
          <a:xfrm>
            <a:off x="251640" y="116640"/>
            <a:ext cx="8568720" cy="244800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2" descr=""/>
          <p:cNvPicPr/>
          <p:nvPr/>
        </p:nvPicPr>
        <p:blipFill>
          <a:blip r:embed="rId2"/>
          <a:stretch/>
        </p:blipFill>
        <p:spPr>
          <a:xfrm>
            <a:off x="251640" y="2565000"/>
            <a:ext cx="8568720" cy="41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Рисунок 1" descr=""/>
          <p:cNvPicPr/>
          <p:nvPr/>
        </p:nvPicPr>
        <p:blipFill>
          <a:blip r:embed="rId1"/>
          <a:stretch/>
        </p:blipFill>
        <p:spPr>
          <a:xfrm>
            <a:off x="251640" y="116640"/>
            <a:ext cx="8568720" cy="244800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2" descr=""/>
          <p:cNvPicPr/>
          <p:nvPr/>
        </p:nvPicPr>
        <p:blipFill>
          <a:blip r:embed="rId2"/>
          <a:stretch/>
        </p:blipFill>
        <p:spPr>
          <a:xfrm>
            <a:off x="251640" y="2565000"/>
            <a:ext cx="8568720" cy="41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Рисунок 1" descr=""/>
          <p:cNvPicPr/>
          <p:nvPr/>
        </p:nvPicPr>
        <p:blipFill>
          <a:blip r:embed="rId1"/>
          <a:stretch/>
        </p:blipFill>
        <p:spPr>
          <a:xfrm>
            <a:off x="0" y="178200"/>
            <a:ext cx="9085320" cy="63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561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/T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240" cy="5289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4572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лайд 3 Слова в словарь с транскрипцией и переводом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учить слова письменно и устно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учить стихотворение. Слайд 4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ебник стр.21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пр.5 слушать аудиозапись, читат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ин.яз.10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ин.яз.10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ин.яз.10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Бумажная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ин.яз.10</Template>
  <TotalTime>1284</TotalTime>
  <Application>LibreOffice/7.4.7.2$Linux_X86_64 LibreOffice_project/40$Build-2</Application>
  <AppVersion>15.0000</AppVersion>
  <Words>79</Words>
  <Paragraphs>2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9T02:28:23Z</dcterms:created>
  <dc:creator>Ekaterina</dc:creator>
  <dc:description/>
  <dc:language>en-US</dc:language>
  <cp:lastModifiedBy>Acer</cp:lastModifiedBy>
  <dcterms:modified xsi:type="dcterms:W3CDTF">2020-10-12T08:32:00Z</dcterms:modified>
  <cp:revision>30</cp:revision>
  <dc:subject/>
  <dc:title>Back to schoo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9</vt:r8>
  </property>
</Properties>
</file>