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gif" ContentType="image/gif"/>
  <Override PartName="/ppt/media/image6.wmf" ContentType="image/x-wmf"/>
  <Override PartName="/ppt/media/image5.wmf" ContentType="image/x-wmf"/>
  <Override PartName="/ppt/media/image7.wmf" ContentType="image/x-wmf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E8D-FFEF-4BBA-8DCC-0EBA36E7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774-53E6-4810-868B-3A09FBA7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BE08-098B-4016-96B8-2910C3A1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8A3C-F51B-43C3-93C9-DA115797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DFFB-9569-4A1C-88A0-FA2BBFD1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1C75-51D4-403B-90E3-265BAAE7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9650-104E-4D40-BB96-FF63C0A1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41C2-0D0D-4FFF-9025-387C834B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28DD-60D6-4C9A-B194-A3F0F6A5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17AF-0FDC-41CE-A280-7DF75E2A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98B5-C1D7-4452-AC33-500CFAEE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EAD-3969-42A6-9F1D-CCE301B1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D377-9ED6-4B45-A41E-92646CDA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BE35-3F0D-47F9-B358-5EB25B50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E9C7-A47A-4738-A934-ADD885BA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F0D9-3A74-4F9A-A849-29864D2F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0E03-A4DD-4FEA-B50B-FB165300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617C9-ADF2-47C7-85A1-6EDDECC9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3D4DD-B853-4BF6-B2D0-7D41A267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20C2D-DFBE-4400-8FDE-0E6ECACA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446BA-AF0C-47B7-B84E-CB632F7F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F9D4A-0907-4DC0-BB2A-F457E487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9146-78B3-4A7D-A861-A469589E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5928C-25C6-48FD-9C66-D86F98C4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DB004-F134-4101-AE71-C43783E4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9A95A-E961-4D6B-ADE5-360047BC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1F661-77B6-45CB-8814-082F2026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4C220-1873-40C4-BBD7-9E5CCFE4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1C376-2605-4840-A58C-194E099B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8F1D4-A5FC-4838-B534-434BCB1F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7B1FF-F9D5-4EFC-96F3-A2551D50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FC679-BE2A-4544-99C2-A804651D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EC8AD-2800-4EF4-8D0B-34FC8688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A99-5D95-469E-98BE-A65405B4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43257-7422-415F-9E88-3649E305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DA43F-DBC4-4E10-9DBE-4C820FAF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11979-AD3A-4522-8C54-EAD7307A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F688B-31A3-4A18-ACDD-7375C2AB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2725E-2D32-4DBC-BA61-84DC6252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57564-FEF3-4E8B-A253-A6F0DAD7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C02FA-7493-4941-BDA9-48B3CC42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93BD0-016B-48E9-82DE-396E1FF1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D5579-0519-4891-ACA7-17540324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EECF-44AE-4854-BF9C-5450AB30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769B-3D5B-41B4-887C-3D97644E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13AA-FBBD-4D60-94D3-5BA16303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E73A-17BB-4B03-A2E5-E32F7AED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C0D-5CCD-4334-BE7A-3F228295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C70541-16E2-4EC9-A8AF-EC9136D2CD3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E7E2DE-03F2-44E8-9265-3C3E39FF789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77D25A-15A9-4A94-BE36-1616FE9616D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E9DAB6A-C405-480E-AF93-4453681B7EDA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600" spc="-1" strike="noStrike" cap="all">
                <a:solidFill>
                  <a:schemeClr val="accent4"/>
                </a:solidFill>
                <a:latin typeface="Calibri"/>
              </a:rPr>
              <a:t>Lesson 9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Рисунок 3" descr="35.gif"/>
          <p:cNvPicPr/>
          <p:nvPr/>
        </p:nvPicPr>
        <p:blipFill>
          <a:blip r:embed="rId1"/>
          <a:stretch/>
        </p:blipFill>
        <p:spPr>
          <a:xfrm>
            <a:off x="3071880" y="1549080"/>
            <a:ext cx="549540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Family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229240" cy="500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ome families are 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big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ome families are 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small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t I love my family 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best of all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73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548640"/>
            <a:ext cx="4038120" cy="5577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Mummy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Daddy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Brothe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iste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Grandmothe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Grandfathe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Mothe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athe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548640"/>
            <a:ext cx="4038120" cy="5577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ig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345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240" cy="536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r and fa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r,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ster and bro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r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and in hand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i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ne ano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r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" descr=""/>
          <p:cNvPicPr/>
          <p:nvPr/>
        </p:nvPicPr>
        <p:blipFill>
          <a:blip r:embed="rId1"/>
          <a:stretch/>
        </p:blipFill>
        <p:spPr>
          <a:xfrm>
            <a:off x="827640" y="260640"/>
            <a:ext cx="7200360" cy="20160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2" descr=""/>
          <p:cNvPicPr/>
          <p:nvPr/>
        </p:nvPicPr>
        <p:blipFill>
          <a:blip r:embed="rId2"/>
          <a:stretch/>
        </p:blipFill>
        <p:spPr>
          <a:xfrm>
            <a:off x="827640" y="2205000"/>
            <a:ext cx="72003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1" descr=""/>
          <p:cNvPicPr/>
          <p:nvPr/>
        </p:nvPicPr>
        <p:blipFill>
          <a:blip r:embed="rId1"/>
          <a:stretch/>
        </p:blipFill>
        <p:spPr>
          <a:xfrm>
            <a:off x="251640" y="116640"/>
            <a:ext cx="8568720" cy="24480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" descr=""/>
          <p:cNvPicPr/>
          <p:nvPr/>
        </p:nvPicPr>
        <p:blipFill>
          <a:blip r:embed="rId2"/>
          <a:stretch/>
        </p:blipFill>
        <p:spPr>
          <a:xfrm>
            <a:off x="251640" y="2565000"/>
            <a:ext cx="8568720" cy="41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1" descr=""/>
          <p:cNvPicPr/>
          <p:nvPr/>
        </p:nvPicPr>
        <p:blipFill>
          <a:blip r:embed="rId1"/>
          <a:stretch/>
        </p:blipFill>
        <p:spPr>
          <a:xfrm>
            <a:off x="251640" y="116640"/>
            <a:ext cx="8568720" cy="24480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251640" y="2565000"/>
            <a:ext cx="8568720" cy="41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1" descr=""/>
          <p:cNvPicPr/>
          <p:nvPr/>
        </p:nvPicPr>
        <p:blipFill>
          <a:blip r:embed="rId1"/>
          <a:stretch/>
        </p:blipFill>
        <p:spPr>
          <a:xfrm>
            <a:off x="0" y="178200"/>
            <a:ext cx="908532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/T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240" cy="528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айд 3 Слова в словарь с транскрипцией и переводом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учить слова письменно и устно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учить стихотворение. Слайд 4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бник стр.2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.5 слушать аудиозапись, читат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н.яз.10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н.яз.10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ин.яз.10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умаж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ин.яз.10</Template>
  <TotalTime>1284</TotalTime>
  <Application>LibreOffice/7.4.7.2$Linux_X86_64 LibreOffice_project/40$Build-2</Application>
  <AppVersion>15.0000</AppVersion>
  <Words>79</Words>
  <Paragraphs>2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02:28:23Z</dcterms:created>
  <dc:creator>Ekaterina</dc:creator>
  <dc:description/>
  <dc:language>en-US</dc:language>
  <cp:lastModifiedBy>Acer</cp:lastModifiedBy>
  <dcterms:modified xsi:type="dcterms:W3CDTF">2020-10-12T08:32:00Z</dcterms:modified>
  <cp:revision>30</cp:revision>
  <dc:subject/>
  <dc:title>Back to scho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