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gif" ContentType="image/gif"/>
  <Override PartName="/ppt/media/image6.wmf" ContentType="image/x-wmf"/>
  <Override PartName="/ppt/media/image5.wmf" ContentType="image/x-wmf"/>
  <Override PartName="/ppt/media/image7.wmf" ContentType="image/x-wmf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0F85-9C60-41CD-AE5E-8AD925E2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1FD-2D68-4A66-A20E-8A3EE9EE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AFC-9A26-47C2-9FBD-E672F1FD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FAE-7B9F-422A-8839-632CEDF7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A62B-3CB2-48B3-B46C-35097FDD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0784-D6A7-41CE-AC79-FA56DF3B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C1E1-C571-4E47-9E50-A183E4BC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2E8F-BC9F-4A13-891A-37199B40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72AF-46F8-425E-9A38-21DAD260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DB48-53F9-4F16-BE08-6C8B1E91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CB7E-780D-4A4C-8C03-33572A9F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7566-7483-4417-A754-217E7A52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1668-88F7-4274-AFBA-C138491E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FC76-BC11-4B52-ADE3-847B9A68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A456-21D8-42E4-8A54-ADF982CF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9690-7A37-44BE-BBAE-9BD09F50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7DDE-FF3E-47E6-8427-4E1CB20E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C4310-FF0C-4297-9C83-FF195EF8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0FCA4-C96B-4E55-9745-59313642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E2399-F014-4510-9872-F6E18111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637B3-FB90-4B20-896F-AB5582AB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C00A9-EF89-4F17-9575-0DB2C0B4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15D-CFDA-49CF-BF43-7E553D26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55E5D-3BBC-4BB9-808C-EC113A2D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5D806-0583-4271-B14E-9F615518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909D4-E7A7-47D7-BF2F-B1FCDA7C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8BFD9-0C19-429C-9B11-6CCDEBEB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F24B3-8539-4BAB-988D-49D4922C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F3EFF-C455-46D2-BCC4-9C78B51C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83BAC-6E07-4CF5-99D8-4216B1C9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CFC1B-5C7C-4A34-89CC-8201AB28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01971-7646-4F71-ABED-EFC2057F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DD13E-9E45-43DF-8EA9-4E8C196C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F2BA-592B-466A-A92C-AAA69925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D4B46-E9C1-4C09-9D80-53C2D4F2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4C991-D501-4749-9D3F-F9D438A4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A5F0C-FF24-4E2B-8DEF-417F7A43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E80D9-6077-48C6-9DB0-CD4AA2CE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49D06-CA23-430D-A440-01A2D6E2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9DDB8-1D05-452D-8685-91C92067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0F68B-BE6A-4751-AA59-FB03BB25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9231F-CC1C-4067-BBB1-E920E4C3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DC8B4-365E-464C-B0B3-0938DBD6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D810-DD79-4296-9C95-16A04592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EA4F-84C0-4064-8775-3934FEFD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D10-724B-4635-B825-CEDED80C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ABC-27BE-4656-B5FF-F2F5B96B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D9BF-C0CB-4613-BE6E-348F108F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1EB030-F9A8-4B49-918D-039C60756E4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E5D4A3-900A-4DF8-B153-79EFA3FEE19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9B8DEB-D084-47FF-B87F-AC1E9EDA00C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5D7B745-3C68-43C2-AD01-9D4AF35D1B7C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600" spc="-1" strike="noStrike" cap="all">
                <a:solidFill>
                  <a:schemeClr val="accent4"/>
                </a:solidFill>
                <a:latin typeface="Calibri"/>
              </a:rPr>
              <a:t>Lesson 9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Рисунок 3" descr="35.gif"/>
          <p:cNvPicPr/>
          <p:nvPr/>
        </p:nvPicPr>
        <p:blipFill>
          <a:blip r:embed="rId1"/>
          <a:stretch/>
        </p:blipFill>
        <p:spPr>
          <a:xfrm>
            <a:off x="3071880" y="1549080"/>
            <a:ext cx="549540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Family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229240" cy="500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ome families are 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big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ome families are 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small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t I love my family 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best of all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73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548640"/>
            <a:ext cx="4038120" cy="5577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Mummy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Daddy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Brothe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iste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Grandmothe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Grandfathe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Mothe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athe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548640"/>
            <a:ext cx="4038120" cy="5577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ig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345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240" cy="536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r and fa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r,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ster and bro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r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nd in hand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i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ne ano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r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"/>
          <p:cNvPicPr/>
          <p:nvPr/>
        </p:nvPicPr>
        <p:blipFill>
          <a:blip r:embed="rId1"/>
          <a:stretch/>
        </p:blipFill>
        <p:spPr>
          <a:xfrm>
            <a:off x="827640" y="260640"/>
            <a:ext cx="7200360" cy="20160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2" descr=""/>
          <p:cNvPicPr/>
          <p:nvPr/>
        </p:nvPicPr>
        <p:blipFill>
          <a:blip r:embed="rId2"/>
          <a:stretch/>
        </p:blipFill>
        <p:spPr>
          <a:xfrm>
            <a:off x="827640" y="2205000"/>
            <a:ext cx="72003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1" descr=""/>
          <p:cNvPicPr/>
          <p:nvPr/>
        </p:nvPicPr>
        <p:blipFill>
          <a:blip r:embed="rId1"/>
          <a:stretch/>
        </p:blipFill>
        <p:spPr>
          <a:xfrm>
            <a:off x="251640" y="116640"/>
            <a:ext cx="8568720" cy="24480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" descr=""/>
          <p:cNvPicPr/>
          <p:nvPr/>
        </p:nvPicPr>
        <p:blipFill>
          <a:blip r:embed="rId2"/>
          <a:stretch/>
        </p:blipFill>
        <p:spPr>
          <a:xfrm>
            <a:off x="251640" y="2565000"/>
            <a:ext cx="8568720" cy="41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1" descr=""/>
          <p:cNvPicPr/>
          <p:nvPr/>
        </p:nvPicPr>
        <p:blipFill>
          <a:blip r:embed="rId1"/>
          <a:stretch/>
        </p:blipFill>
        <p:spPr>
          <a:xfrm>
            <a:off x="251640" y="116640"/>
            <a:ext cx="8568720" cy="24480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251640" y="2565000"/>
            <a:ext cx="8568720" cy="41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1" descr=""/>
          <p:cNvPicPr/>
          <p:nvPr/>
        </p:nvPicPr>
        <p:blipFill>
          <a:blip r:embed="rId1"/>
          <a:stretch/>
        </p:blipFill>
        <p:spPr>
          <a:xfrm>
            <a:off x="0" y="178200"/>
            <a:ext cx="908532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/T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240" cy="528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айд 3 Слова в словарь с транскрипцией и переводом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учить слова письменно и устно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учить стихотворение. Слайд 4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бник стр.2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.5 слушать аудиозапись, читат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н.яз.10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н.яз.10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ин.яз.10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умаж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ин.яз.10</Template>
  <TotalTime>1284</TotalTime>
  <Application>LibreOffice/7.4.7.2$Linux_X86_64 LibreOffice_project/40$Build-2</Application>
  <AppVersion>15.0000</AppVersion>
  <Words>79</Words>
  <Paragraphs>2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02:28:23Z</dcterms:created>
  <dc:creator>Ekaterina</dc:creator>
  <dc:description/>
  <dc:language>en-US</dc:language>
  <cp:lastModifiedBy>Acer</cp:lastModifiedBy>
  <dcterms:modified xsi:type="dcterms:W3CDTF">2020-10-12T08:32:00Z</dcterms:modified>
  <cp:revision>30</cp:revision>
  <dc:subject/>
  <dc:title>Back to scho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