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E3835-7CBF-4413-9585-938C8AE7D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D444-5300-4E14-A746-AA0824F89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BFD13-ACAC-4F0E-9C29-ED6A11202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06586-EEFD-4FBB-BC2F-91773217C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BCCF2-F647-4E91-9A3E-7B7FCA8EA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A1528-0592-4769-87F2-7AB946C73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9910B-6883-48A4-AEEE-CCA9453D1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BA716-123E-4504-962F-DCA8ECE1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847BF-70C6-4AA8-AA15-7CCD89CE7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E80F5-EF43-40D0-89F6-D9769897D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C4FC4-BCFB-4DEE-B4F8-5D0208485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85E06-485A-420D-9438-DE0D3DA83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22EA5-A5FF-4613-964D-95DF063A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226A5-D9D9-4647-BC8A-712C9E8B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BFA29-AA9F-41EB-8656-3DDFD576B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27314-FA78-4EE3-B8A0-C4A6DDBB9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68B2D-15DC-42D6-92F7-352A918A4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8165-9019-4E34-871A-C7EDA1B0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E83B5-8B96-414D-BD79-A2A2222E1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BD52F-0313-4D8A-8158-072BE7ED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EEB54-7B98-4B36-8E21-E009CD900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4DD9-4600-4ED6-9A7C-6C1CE086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56B7-A8B5-431E-868A-1003AAE7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18D1-19D0-4C10-99F5-08941D9BA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F758F92-F53D-4BD0-9DCB-6B1D89F145D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D6DFD82-156E-4FB5-B8C2-8FC2EB6DB0C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4" name="Picture 2" descr="C:\Users\sergey\Pictures\primer-fona-700x352.jpg"/>
          <p:cNvPicPr/>
          <p:nvPr/>
        </p:nvPicPr>
        <p:blipFill>
          <a:blip r:embed="rId1"/>
          <a:stretch/>
        </p:blipFill>
        <p:spPr>
          <a:xfrm>
            <a:off x="0" y="0"/>
            <a:ext cx="9143640" cy="6857640"/>
          </a:xfrm>
          <a:prstGeom prst="rect">
            <a:avLst/>
          </a:prstGeom>
          <a:ln w="0">
            <a:noFill/>
          </a:ln>
        </p:spPr>
      </p:pic>
      <p:sp>
        <p:nvSpPr>
          <p:cNvPr id="85" name="TextBox 4"/>
          <p:cNvSpPr/>
          <p:nvPr/>
        </p:nvSpPr>
        <p:spPr>
          <a:xfrm>
            <a:off x="1823040" y="2714760"/>
            <a:ext cx="68076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800" spc="-1" strike="noStrike">
                <a:solidFill>
                  <a:srgbClr val="000000"/>
                </a:solidFill>
                <a:latin typeface="Calibri"/>
              </a:rPr>
              <a:t>Гигиена при занятиях физической культуры </a:t>
            </a:r>
            <a:endParaRPr b="0" lang="en-US" sz="2800" spc="-1" strike="noStrike">
              <a:solidFill>
                <a:srgbClr val="000000"/>
              </a:solidFill>
              <a:latin typeface="Arial"/>
            </a:endParaRPr>
          </a:p>
        </p:txBody>
      </p:sp>
      <p:sp>
        <p:nvSpPr>
          <p:cNvPr id="86" name="TextBox 5"/>
          <p:cNvSpPr/>
          <p:nvPr/>
        </p:nvSpPr>
        <p:spPr>
          <a:xfrm>
            <a:off x="2216880" y="6000840"/>
            <a:ext cx="232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9" name="Picture 2" descr="C:\Users\sergey\Pictures\78102.jpg"/>
          <p:cNvPicPr/>
          <p:nvPr/>
        </p:nvPicPr>
        <p:blipFill>
          <a:blip r:embed="rId1"/>
          <a:stretch/>
        </p:blipFill>
        <p:spPr>
          <a:xfrm>
            <a:off x="0" y="0"/>
            <a:ext cx="9143640" cy="6857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sergey\Pictures\primer-fona-700x352.jpg"/>
          <p:cNvPicPr/>
          <p:nvPr/>
        </p:nvPicPr>
        <p:blipFill>
          <a:blip r:embed="rId1"/>
          <a:stretch/>
        </p:blipFill>
        <p:spPr>
          <a:xfrm>
            <a:off x="0" y="0"/>
            <a:ext cx="9143640" cy="6857640"/>
          </a:xfrm>
          <a:prstGeom prst="rect">
            <a:avLst/>
          </a:prstGeom>
          <a:ln w="0">
            <a:noFill/>
          </a:ln>
        </p:spPr>
      </p:pic>
      <p:sp>
        <p:nvSpPr>
          <p:cNvPr id="112" name="Прямоугольник 4"/>
          <p:cNvSpPr/>
          <p:nvPr/>
        </p:nvSpPr>
        <p:spPr>
          <a:xfrm>
            <a:off x="642960" y="214200"/>
            <a:ext cx="821484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   </a:t>
            </a:r>
            <a:r>
              <a:rPr b="1" lang="ru-RU" sz="2400" spc="-1" strike="noStrike">
                <a:solidFill>
                  <a:srgbClr val="000000"/>
                </a:solidFill>
                <a:latin typeface="Calibri"/>
              </a:rPr>
              <a:t>Заключе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ичинами травматизма и заболеваний, которые могут возникнуть при занятиях физическими упражнениями, являются различные нарушения правильного обеспечения тренировок, нерациональная организация и методика занятий, неполноценное техническое и материальное обеспечение, а также неудовлетворительное здоровье занимающихся.</a:t>
            </a:r>
            <a:r>
              <a:rPr b="1" lang="ru-RU" sz="2400" spc="-1" strike="noStrike">
                <a:solidFill>
                  <a:srgbClr val="000000"/>
                </a:solidFill>
                <a:latin typeface="Calibri"/>
              </a:rPr>
              <a:t> </a:t>
            </a:r>
            <a:r>
              <a:rPr b="0" lang="ru-RU" sz="2400" spc="-1" strike="noStrike">
                <a:solidFill>
                  <a:srgbClr val="000000"/>
                </a:solidFill>
                <a:latin typeface="Calibri"/>
              </a:rPr>
              <a:t>Для профилактики таких отрицательных явлений рекомендуется придерживаться ряда необходимых условий. Заниматься физическими упражнениями следует в одно и то же время, однако не раньше, чем через 2 часа после приёма пищи. Сложные упражнения необходимо разучивать последовательно, равномерно увеличивая их количество и нагрузк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Очень важно соблюдать гигиенические правила касательно спортивного инвентаря, обуви и одежды. Место, где проводятся спортивные занятия, также должно соответствовать санитарным нормам.</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sergey\Pictures\primer-fona-700x352.jpg"/>
          <p:cNvPicPr/>
          <p:nvPr/>
        </p:nvPicPr>
        <p:blipFill>
          <a:blip r:embed="rId1"/>
          <a:stretch/>
        </p:blipFill>
        <p:spPr>
          <a:xfrm>
            <a:off x="0" y="0"/>
            <a:ext cx="9143640" cy="6857640"/>
          </a:xfrm>
          <a:prstGeom prst="rect">
            <a:avLst/>
          </a:prstGeom>
          <a:ln w="0">
            <a:noFill/>
          </a:ln>
        </p:spPr>
      </p:pic>
      <p:sp>
        <p:nvSpPr>
          <p:cNvPr id="115" name="TextBox 4"/>
          <p:cNvSpPr/>
          <p:nvPr/>
        </p:nvSpPr>
        <p:spPr>
          <a:xfrm>
            <a:off x="1166400" y="3357720"/>
            <a:ext cx="44877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3600" spc="-1" strike="noStrike">
                <a:solidFill>
                  <a:srgbClr val="0d0d0d"/>
                </a:solidFill>
                <a:latin typeface="Calibri"/>
              </a:rPr>
              <a:t>Спасибо за внимание </a:t>
            </a:r>
            <a:endParaRPr b="0" lang="en-US" sz="3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88" name="Picture 2" descr="C:\Users\sergey\Pictures\primer-fona-700x352.jpg"/>
          <p:cNvPicPr/>
          <p:nvPr/>
        </p:nvPicPr>
        <p:blipFill>
          <a:blip r:embed="rId1"/>
          <a:stretch/>
        </p:blipFill>
        <p:spPr>
          <a:xfrm>
            <a:off x="0" y="0"/>
            <a:ext cx="9143640" cy="6857640"/>
          </a:xfrm>
          <a:prstGeom prst="rect">
            <a:avLst/>
          </a:prstGeom>
          <a:ln w="0">
            <a:noFill/>
          </a:ln>
        </p:spPr>
      </p:pic>
      <p:sp>
        <p:nvSpPr>
          <p:cNvPr id="89" name="Прямоугольник 4"/>
          <p:cNvSpPr/>
          <p:nvPr/>
        </p:nvSpPr>
        <p:spPr>
          <a:xfrm>
            <a:off x="0" y="428760"/>
            <a:ext cx="8857800" cy="6581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a:t>
            </a:r>
            <a:r>
              <a:rPr b="0" lang="ru-RU" sz="2400" spc="-1" strike="noStrike">
                <a:solidFill>
                  <a:srgbClr val="000000"/>
                </a:solidFill>
                <a:latin typeface="Calibri"/>
              </a:rPr>
              <a:t>Знание гигиенических правил необходимо любому человеку, особенно людям, которые активно занимаются физкультурой и спортом. Строгое выполнение правил повышает эффективность оздоровительных занятий, укрепляет здоровье и формирует навыки культурного поведения. На основании изучения влияния разнообразных внешних факторов разрабатываются специальные нормативы и гигиенические правила при занятиях физическими упражнениями.</a:t>
            </a:r>
            <a:r>
              <a:rPr b="1" lang="ru-RU" sz="2400" spc="-1" strike="noStrike">
                <a:solidFill>
                  <a:srgbClr val="000000"/>
                </a:solidFill>
                <a:latin typeface="Calibri"/>
              </a:rPr>
              <a:t> Рациональное пита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авила рационального питания построены на определённых научных основах, которые обеспечивают правильное формирование организма и его рост, способствуют более длительному сохранению здоровья, высокой интеллектуальной и физической работоспособности, а также продлевают творческое долголетие. При занятиях физическими упражнениями грамотное рациональное питание помогает быстрее восстановить силы после утомления и достичь значительных спортивных результат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1" name="Picture 2" descr="C:\Users\sergey\Pictures\Getting-Your-Child-To-Exercise.jpg"/>
          <p:cNvPicPr/>
          <p:nvPr/>
        </p:nvPicPr>
        <p:blipFill>
          <a:blip r:embed="rId1"/>
          <a:stretch/>
        </p:blipFill>
        <p:spPr>
          <a:xfrm>
            <a:off x="0" y="0"/>
            <a:ext cx="9143640" cy="68576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sergey\Pictures\primer-fona-700x352.jpg"/>
          <p:cNvPicPr/>
          <p:nvPr/>
        </p:nvPicPr>
        <p:blipFill>
          <a:blip r:embed="rId1"/>
          <a:stretch/>
        </p:blipFill>
        <p:spPr>
          <a:xfrm>
            <a:off x="0" y="0"/>
            <a:ext cx="9143640" cy="6857640"/>
          </a:xfrm>
          <a:prstGeom prst="rect">
            <a:avLst/>
          </a:prstGeom>
          <a:ln w="0">
            <a:noFill/>
          </a:ln>
        </p:spPr>
      </p:pic>
      <p:sp>
        <p:nvSpPr>
          <p:cNvPr id="94" name="Прямоугольник 4"/>
          <p:cNvSpPr/>
          <p:nvPr/>
        </p:nvSpPr>
        <p:spPr>
          <a:xfrm>
            <a:off x="428760" y="214200"/>
            <a:ext cx="850068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Санитарно-гигиенические норм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соблюдение правил индивидуальной гигиен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ое состояние места, где проводятся занят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го исправного спортивного инвентар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ие требования к погодным условиям;</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учёт экологического состояния в определённом район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й спортивной обуви и одежд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обязательное проведение водных процедур по окончании занятий.</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Чтобы физкультура принесла человеку максимальную пользу, необходимо проводить её под контролем врача, соблюдая при этом основные правила гигиены, без которых занятия могут нанести вред. Выполняя физические упражнения, следует учесть состояние здоровья занимающегося человека, его анатомические и физиологические особенности.</a:t>
            </a:r>
            <a:endParaRPr b="0" lang="en-US" sz="24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sergey\Pictures\i.jpg"/>
          <p:cNvPicPr/>
          <p:nvPr/>
        </p:nvPicPr>
        <p:blipFill>
          <a:blip r:embed="rId1"/>
          <a:stretch/>
        </p:blipFill>
        <p:spPr>
          <a:xfrm>
            <a:off x="0" y="0"/>
            <a:ext cx="9143640" cy="6857640"/>
          </a:xfrm>
          <a:prstGeom prst="rect">
            <a:avLst/>
          </a:prstGeom>
          <a:ln w="0">
            <a:noFill/>
          </a:ln>
        </p:spPr>
      </p:pic>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8" name="Picture 2" descr="C:\Users\sergey\Pictures\primer-fona-700x352.jpg"/>
          <p:cNvPicPr/>
          <p:nvPr/>
        </p:nvPicPr>
        <p:blipFill>
          <a:blip r:embed="rId1"/>
          <a:stretch/>
        </p:blipFill>
        <p:spPr>
          <a:xfrm>
            <a:off x="0" y="0"/>
            <a:ext cx="9143640" cy="6857640"/>
          </a:xfrm>
          <a:prstGeom prst="rect">
            <a:avLst/>
          </a:prstGeom>
          <a:ln w="0">
            <a:noFill/>
          </a:ln>
        </p:spPr>
      </p:pic>
      <p:sp>
        <p:nvSpPr>
          <p:cNvPr id="99" name="Прямоугольник 4"/>
          <p:cNvSpPr/>
          <p:nvPr/>
        </p:nvSpPr>
        <p:spPr>
          <a:xfrm>
            <a:off x="285840" y="142920"/>
            <a:ext cx="857232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Личная гигиен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Индивидуальная гигиена состоит из суточного рационального режима, ухода за полостью рта и телом, а также гигиены обуви и одежды. Строгое соблюдение определённых правил помогает укрепить здоровье, повысить физическую и умственную работоспособность, а также достичь спортивных достижений. В основе суточного рационального режима лежит правильное и ритмическое чередование отдыха, труда и дополнительных видов деятельности. В первую очередь суточный режим основывается на биологическом ритме человека, правильное соблюдение которого позволяет нормализовать функцию организма, что поможет более эффективно выполнять различные виды рабо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Организация суточного режи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дъём в определённ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зарядки и процедур закалив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работы в одинаков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регулярные занятия спортом;</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ежедневные прогулки на воздух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лноценный сон.</a:t>
            </a:r>
            <a:endParaRPr b="0" lang="en-US" sz="2000" spc="-1" strike="noStrike">
              <a:solidFill>
                <a:srgbClr val="000000"/>
              </a:solidFill>
              <a:latin typeface="Arial"/>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1" name="Picture 2" descr="C:\Users\sergey\Pictures\primer-fona-700x352.jpg"/>
          <p:cNvPicPr/>
          <p:nvPr/>
        </p:nvPicPr>
        <p:blipFill>
          <a:blip r:embed="rId1"/>
          <a:stretch/>
        </p:blipFill>
        <p:spPr>
          <a:xfrm>
            <a:off x="0" y="0"/>
            <a:ext cx="9143640" cy="6857640"/>
          </a:xfrm>
          <a:prstGeom prst="rect">
            <a:avLst/>
          </a:prstGeom>
          <a:ln w="0">
            <a:noFill/>
          </a:ln>
        </p:spPr>
      </p:pic>
      <p:sp>
        <p:nvSpPr>
          <p:cNvPr id="102" name="Прямоугольник 4"/>
          <p:cNvSpPr/>
          <p:nvPr/>
        </p:nvSpPr>
        <p:spPr>
          <a:xfrm>
            <a:off x="214200" y="214200"/>
            <a:ext cx="864360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 </a:t>
            </a:r>
            <a:r>
              <a:rPr b="1" lang="ru-RU" sz="2800" spc="-1" strike="noStrike">
                <a:solidFill>
                  <a:srgbClr val="000000"/>
                </a:solidFill>
                <a:latin typeface="Calibri"/>
              </a:rPr>
              <a:t>Важность ухода за телом</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  </a:t>
            </a:r>
            <a:r>
              <a:rPr b="0" lang="ru-RU" sz="2800" spc="-1" strike="noStrike">
                <a:solidFill>
                  <a:srgbClr val="000000"/>
                </a:solidFill>
                <a:latin typeface="Calibri"/>
              </a:rPr>
              <a:t>Индивидуальная гигиена тела способствует нормализации жизнедеятельности организма, улучшению обменных процессов, пищеварения, кровообращения, дыхания и развитию интеллектуальных и физических способностей. От состояния кожи зависит и здоровье человека, сопротивляемость организма многим заболеваниям и его работоспособность. Уход за телом должен включать в себя не только уход за кожными покровами и волосами, но и за ротовой полостью.</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sergey\Pictures\0005-005-Zanjatija-fizkulturoj.jpg"/>
          <p:cNvPicPr/>
          <p:nvPr/>
        </p:nvPicPr>
        <p:blipFill>
          <a:blip r:embed="rId1"/>
          <a:stretch/>
        </p:blipFill>
        <p:spPr>
          <a:xfrm>
            <a:off x="0" y="0"/>
            <a:ext cx="9143640" cy="68576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6" name="Picture 2" descr="C:\Users\sergey\Pictures\primer-fona-700x352.jpg"/>
          <p:cNvPicPr/>
          <p:nvPr/>
        </p:nvPicPr>
        <p:blipFill>
          <a:blip r:embed="rId1"/>
          <a:stretch/>
        </p:blipFill>
        <p:spPr>
          <a:xfrm>
            <a:off x="0" y="0"/>
            <a:ext cx="9143640" cy="6857640"/>
          </a:xfrm>
          <a:prstGeom prst="rect">
            <a:avLst/>
          </a:prstGeom>
          <a:ln w="0">
            <a:noFill/>
          </a:ln>
        </p:spPr>
      </p:pic>
      <p:sp>
        <p:nvSpPr>
          <p:cNvPr id="107" name="Прямоугольник 4"/>
          <p:cNvSpPr/>
          <p:nvPr/>
        </p:nvSpPr>
        <p:spPr>
          <a:xfrm>
            <a:off x="571320" y="0"/>
            <a:ext cx="8143560" cy="676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 </a:t>
            </a:r>
            <a:r>
              <a:rPr b="1" lang="ru-RU" sz="2000" spc="-1" strike="noStrike">
                <a:solidFill>
                  <a:srgbClr val="000000"/>
                </a:solidFill>
                <a:latin typeface="Calibri"/>
              </a:rPr>
              <a:t>Гигиена обуви и одежд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дежда и обувь должна соответствовать требованиям, которые предъявляет специфика занятий и правила проведения различных спортивных соревнований. Одежда не должна стеснять движений и по возможности быть лёгкой. Изготавливают спортивную одежду, как правило, из эластичной ткани, которая имеет высокую воздухопроницаемость, хорошо впитывает пот и способствует его испарени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обязательно должна быть эластичной, лёгкой и хорошо вентилироваться. Также следует обращать внимание, чтобы водоупорные и теплозащитные свойства обуви соответствовали природным условиям и погоде. Таким требованиям лучше всего отвечает натуральная кожаная обувь, которая имеет хорошую эластичность, малую теплопроводимость и способность сохранять свою форму в случае намок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и одежда нуждаются в регулярном уходе. Бельё нужно стирать каждый раз после тренировки, намокшую или загрязнённую обувь необходимо очищать, сушить и смазывать специальным кремом. Хранить спортивную амуницию следует в хорошо проветриваемом месте.</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u"/>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Words>14</Words>
  <Paragraphs>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2T17:44:19Z</dcterms:created>
  <dc:creator>sergey</dc:creator>
  <dc:description/>
  <dc:language>en-US</dc:language>
  <cp:lastModifiedBy>максимовС</cp:lastModifiedBy>
  <dcterms:modified xsi:type="dcterms:W3CDTF">2016-12-15T15:36:55Z</dcterms:modified>
  <cp:revision>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