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4156C-7488-41DF-88EF-18341F90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E1D2EF-D860-4658-BCBA-71B3CC60E3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DFE-8188-406C-ABC9-040CCA01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0CE-927F-4969-BF34-EA62667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BCB-8DD7-438C-A600-4DAB64D6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89C-75DF-42B2-BF94-6662A7E8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F408-A39B-4377-A7E4-801CB1BB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883C-A1FF-4F58-9A67-07EB9B46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894A-4285-4CBD-8A45-2EC5D2F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0E0-B2DD-415C-8C6D-A491F3F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336-9261-4A57-A46E-DC75E4B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E36F-9F9F-4285-B9F1-91045CF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A44D-3701-4EC3-8BB5-D21779E6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B54-E9E9-4A67-8ADA-0ECF55C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C975-114F-4919-BDD5-5E930F7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82E7-F0F2-44FA-A0DC-EADC1BB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7224-BEC3-414D-B240-44717D88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B52-ACC7-4802-B25D-36113701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DD31-9EB7-492D-8CE7-6489BDB2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D6A5-2403-470D-9609-4E1FE191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3A41-2D43-47E8-90E0-F84C68C7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0F03-34CF-4261-A43D-73C0F96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E436-26AD-40EA-BF21-2F64D10F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3082-185C-40DD-A64A-79EECE3E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178-675B-4E21-BD94-A0067FC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2C1D-E8B7-425A-AF54-3880D98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B34A-E617-4594-82AE-E72CCB7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9FAD-BC0D-4028-A57A-34C4750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6D6E-7F7C-4B3D-A511-713EA99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592F-61CC-4C6E-A1A1-372930E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2E2D-91AF-4432-92DD-E7EA4AA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84FD-594F-4377-95AF-0CB88B56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5AE-2BC7-4FA6-9549-0FE1F10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742-89E1-42A0-B763-EFF1131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B57-8ACF-412D-9218-3F443971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2BC-4E4F-45E9-8F49-237DF42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1BF-A0C1-451E-B289-34346DF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A33-E99D-4744-B747-EE3DB61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6B2B94-8AD0-4E1F-B481-78CC46294A4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09744D-D801-4C3B-ABB6-DFD6F79A914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9549EB-9176-4E49-A6A3-6E863A0BB0A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640" y="1628640"/>
            <a:ext cx="8496720" cy="19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кция №11               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Тема: Гигиена  Лечебно-профилактических учреждений 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ndara"/>
              </a:rPr>
              <a:t>ФГОС «Сестринское дело»</a:t>
            </a: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                       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428000" y="4509000"/>
            <a:ext cx="3888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Княгинина Н.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20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971640" y="686160"/>
            <a:ext cx="734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ffffff"/>
                </a:solidFill>
                <a:latin typeface="Candara"/>
              </a:rPr>
              <a:t>СПБ ГБПОУ «Медицинский колледж № 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Терапевтическ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став помещений соответству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ет стандартоному набору палатной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кции с процедурными кабинет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Хирургическое отделение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алатная секция рассчитывается на тоже количество коек, что и терапевтическая, но количество 1 и 2-х коечных палат должно составлять 20 проц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олжно быть 2 перевязочных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«чистых» и «гнойных» пере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язок, а для больных с гнойно –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птическими заболеваниям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ыделяются обсервационны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5364000" y="476640"/>
            <a:ext cx="2983680" cy="20635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4140000" y="3645000"/>
            <a:ext cx="3943800" cy="25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Операционный блок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ерационных проектируется в больниц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корой помощи -  1 операционная на 25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к, в общепрофильных – 1 операци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 30 коек хирургического профиля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лощадь операционной для общепрофиль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ых операций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36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Акушерское отделение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 2 смотровых и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мещения для сан. обрабо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обсервационное отделение направ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ляются роженицы с признаками ОРЗ,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емпературящие, с гнойничковым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ражениями кожи, любой сыпи 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ез необходимых докум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5470920" y="764640"/>
            <a:ext cx="3240000" cy="20098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4920480" y="3357000"/>
            <a:ext cx="3530520" cy="26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одовый блок должен содержать не менее 2-х родовых палат на 1 – 2 койки, предродовые палаты не менее 4 коек и манипуляционную – туалетную, должна быть малая и большая операцион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 коек совместного пребывания должно быть не более 2 материнских и 2 детских. При раздельном пребывании – не более 4 коек для матерей. Новорожденные могут находиться в отсеках до 20 кроваток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е для недоношенных формируется по типу боксов или полубоксов на 1 – 2 крова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Инфекционн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ая особенность устройство бок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в и полубоксов.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кса для од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чного бокса 22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а для двукоеч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о 2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Площадь в палате на 1 койку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взрослых и детей более 7 лет – 8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Детская больница и детское отдел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ем детей производится в приемно-смотровых боксах. Проектируется боксированное диагностическое отделение с количеством коек не менее 5% от коечности больницы. В каждой палатной секции должен быть бокс или полубокс. Палаты рассчитываются на 2-4 койки . Площадь в палате  на 1 койку для детей менее 7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5076000" y="476640"/>
            <a:ext cx="359964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640" y="1268640"/>
            <a:ext cx="752436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тимальная температура воздуха в палатах 20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В палатах для больных с гипотиреозом -24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больных с тиреотоксикозом -1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в послеоперационных палатах – 22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 новорожденных – 2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носительная влажность 30-60 %, скорость движения воздух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0,1 – 0,2 м/с  Предусматриваются  изолированные системы вентиляции  для «чистых» и «гнойных» перевязочных, операционных, родовых блоков, инфекционных отделен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держание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2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е более 0,1 процента. Искусственная освещенность общая в палатах  не менее 100лк, на посту медицинской сестры 300 лк, в перевязочной и процедурной 500 лк . Наилучшее отопление водяное с температурой воды в радиаторах до 8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и панельно-лучисто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67640" y="338400"/>
            <a:ext cx="821880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икроклимат больничных помещений.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нструкция: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задачи решаются «малыми группами» студентов по конспекту лекции и материалам учебника И.Г. Крымск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Гигиена и экология человека» стр. 367-368, затем обсуждаются и оцениваются преподавателе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а 1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нфекционное отделение  расположено в отдельном блоке централизованной системы строительства больницы, соединённом с основным зданием наземным коридоро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ход в отделение расположен в центра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Итоговый контроль знаний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31640" y="270900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инфекционном отделении имеется 2 палатные секции по 40 коек. В отделении располагаются палаты, боксы и полубоксы. Палаты рассчитаны на 5 коек, с площадью 26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Температура в палатах 18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скорость движения  воздуха 0,2 м/с, относительная влажность 70%, КЕО – 1%, общее искусственное освещение 100лк. Генеральная уборка проводится 1 раз 2 месяца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, противоэпид. режи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дача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городе построена детская соматическая больница. Приём больных детей осуществляется в приёмно-смотровых боксах, количество которых составляет 2% от коечности больницы. Диагностическое отделение имеет только палаты. На терапевтическом отделении нет боксов и полубоксов, а только палаты для детей старше 1 года на 6 коек, площадь палат по 30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70% окон палат имеют северную ориентацию. Температура в палате 21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 скорость движения  воздуха 0,4м/с, относительная влажность 25%, КЕО – 0,5%, общее искусственное освещение 50лк. В отделении влажная уборка осуществляется 1 раз в день, проветривание палат – 2 раза в сутки по 10 минут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еречислить нарушения противоэпидемического режима в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52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ru-RU" sz="5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пасибо за внимание</a:t>
            </a:r>
            <a:r>
              <a:rPr b="1" i="1" lang="ru-RU" sz="7200" spc="-1" strike="noStrike">
                <a:solidFill>
                  <a:srgbClr val="073e87"/>
                </a:solidFill>
                <a:latin typeface="Candara"/>
              </a:rPr>
              <a:t>!     </a:t>
            </a:r>
            <a:endParaRPr b="0" lang="ru-RU" sz="7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7640" y="278100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Цель заняти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 Сформировать теоретические знания  по теме «Гигиена лечебно-профилактических учреждений»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удент должен знать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виды режимов в ЛПУ;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гигиенические требования к планировке, микроклимату, освещению,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отоплению, вентиляции в помещениях различных назначений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Фронтальный опрос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Перечислить нормируемые параметры микроклимата помещений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ЛПУ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Какими путями могут передаваться внутрибольничные инфекции?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Охарактеризовать гигиенический режим и его цели в ЛПУ.</a:t>
            </a: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845000"/>
            <a:ext cx="753300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лавной задачей гигиены лечебно-профилактических учреждений является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азработка системы норм и требований  для успешной  деятельности  в области лечения  и профилактики болезней. Для успешного стационарного лечения необходимо обеспечение режимов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Лечебно-охранительного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Гигиен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ротивоэпидим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ffffff"/>
                </a:solidFill>
                <a:latin typeface="Candara"/>
              </a:rPr>
              <a:t>Гигиена  ЛПУ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 rot="20908200">
            <a:off x="5708880" y="4515120"/>
            <a:ext cx="2404800" cy="17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7640" y="1989000"/>
            <a:ext cx="7452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Лечебно-охранительны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система организационных мероприятий, направленных на обеспечение физического и психологического комфорта больны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игиен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научно обоснованная система  норм и правил регулирующих надлежащие коммунальные условия в помещениях больниц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отивоэпидем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–это система мероприятий, направленных на предупреждение внутрибольничных инфек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ndara"/>
              </a:rPr>
              <a:t>Режимы</a:t>
            </a:r>
            <a:endParaRPr b="0" lang="ru-RU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640" y="1268640"/>
            <a:ext cx="777636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анПин 2.1.3.2630-10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Санитарно –эпидемиологические требования к организациям осуществляющим медицинскую деятельность» устанавливают санитарно–эпидемиологические требования к размещению, устройству, оборудованию, содержанию, противоэпидемическому режиму, профилактическим и противоэпидемическим мероприятиям, условиям труда персонала, организации питания пациентов и персонала организаций, осуществляющих медицинскую деятельность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                  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7439400" cy="603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едусматривается 4 типа строительства больниц</a:t>
            </a: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 Павиль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Централизованная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Смеша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4. Блоч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авильонная 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каждое подразделение располагается в отде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+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эффективное разобщение различных групп больных;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оложительное влияние на лечебно-охранительный режим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-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роблемы транспортировки пищи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сложнение проведения лечебно-диагностических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роприятий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дорожание благоустройства подземных коммуника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«+» и «-» децентрализованной системы меняются на противополож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мешанная систем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при которой основные отделения находятся в главном корпусе, а отделения, имеющие некоторую специфику(морг, прачечная, инфекционное отделение, родильное, детское), располагаются в отдельных корпуса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чная – больница состоит из отдельных корпусов-блоков, объединённых в центр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льшинство недостатков децентрализованной системы устраняются при смешанной застройке больницы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настоящее время больницы строятся по централизованной или смешанной систем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иболее прогрессивной разновидностью централизованной системы строительства больниц является блочная. При этом строится несколько блоков-корпусов, соединённых между собой тёплыми наземными или подземными переход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зеленение территории должно составлять не менее 50% общей площади участка. Территория  больницы должна иметь не менее 2-х въездов, 1 из них хозяйственны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7640" y="1700640"/>
            <a:ext cx="745236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ой структурной единицей внутренней планировки больниц является палатная секция. Она состоит из палат, служебных и подсобных помещений. Вместимость палатной секции до 30 коек. В каждой секции должно быть не менее 2-х однокоечных  палат (для тяжелобольных.) Ориентация палат рекомендуется на южную и юго-восточную сторону – для инфекционных отделений, для общесоматических, допустимо и на запад в центральных и северных широтах; на юге – западная ориентация не рекомендуется. Норматив площади на 1 койку в палатах от 2–х коек  и более для взрослых и детей более 7 лет -7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детей менее 7 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ся максимальное число коек в палатах для взрослых и детей более 1 года – 4, а для детей до 1 года – 2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Внутренняя планировк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632</TotalTime>
  <Application>LibreOffice/7.4.7.2$Linux_X86_64 LibreOffice_project/40$Build-2</Application>
  <AppVersion>15.0000</AppVersion>
  <Words>1244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2T05:32:15Z</dcterms:created>
  <dc:creator>Пользователь</dc:creator>
  <dc:description/>
  <dc:language>en-US</dc:language>
  <cp:lastModifiedBy>d e l l</cp:lastModifiedBy>
  <dcterms:modified xsi:type="dcterms:W3CDTF">2020-10-09T16:09:29Z</dcterms:modified>
  <cp:revision>71</cp:revision>
  <dc:subject/>
  <dc:title>Лекция №11                                                      Тема: Гигиена в ЛПУ   ФГОС «Сестринское дело»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9</vt:r8>
  </property>
</Properties>
</file>