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1CB19-D1A0-474A-BA03-40C9E451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A47BB-3E5E-4B3A-89C7-62E8FB0FA68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938-7E4D-4CF5-9C52-C5F00649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096-E5A3-43EB-B0E5-D5947B8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F75-79B5-46A8-9114-74419BB3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5DD-3DAC-41A4-A376-AA3B7E29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5055-3A4F-4AE1-9966-BAD44FB7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2787-464B-4101-83F1-D9809BCD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1AD2-14EF-4F0C-9A7E-CE8A2AA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9BE1-92A8-44B5-B4D8-82992AA9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5D1-E371-4038-900B-E7406026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E37-495F-4E37-AF0C-3FA4FA0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EAA-A3EB-4465-8CC2-10022C7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3AE-6330-4E5E-A848-880A139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3868-C6FD-419B-B271-DC83A17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E100-43A9-4101-900D-F06FA464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9F5-C133-4DDC-B827-BF139B78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AC25-7703-4595-B15C-8F554857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C6C-C16A-4972-BDC1-2B953638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8BE6-D0AC-47D5-B7BF-4DCF9C8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F791-132A-487C-A139-968C7FB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4C1B-2BD7-4AE0-AC19-437EFA5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36C9-E94E-4AC1-A9F5-D1C1029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DAC4-EFC1-46FD-B9E3-CDAC95D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949-C331-44B0-817C-32F51C2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8C27-3914-41F9-99FA-3B9995F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5E26F-E058-4AD6-96F2-A035D382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4C4D-6CF8-427D-B542-AF8B477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4CC8-32CC-458B-9B78-A0430DE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094B-03D1-4D5E-89D1-95F6763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B612-417E-46BA-9F13-48EFF797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B600-5605-4230-81E8-0168842A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F31-E14D-4EEC-A48B-37C97A57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03F-8551-408B-81D8-C9AD682B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FA9-C8E5-4549-AE73-20952A7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FB5-0CA0-468F-B218-B2C3D4A2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CAB-8180-43A3-8A21-CF6FB6CE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250-8737-42C3-82E4-45553C7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31FA82-8EF1-426F-B3D8-96BCB788B6D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641E302-5865-491A-AB5B-2428C9E8E0A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C30876-B880-4CE3-9B6D-C4FD384B4EC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640" y="1628640"/>
            <a:ext cx="8496720" cy="19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Лекция №11                             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Тема: Гигиена  Лечебно-профилактических учреждений 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Candara"/>
              </a:rPr>
              <a:t>ФГОС «Сестринское дело»</a:t>
            </a: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                       </a:t>
            </a:r>
            <a:endParaRPr b="0" lang="ru-RU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428000" y="4509000"/>
            <a:ext cx="3888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епод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Княгинина Н.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20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971640" y="686160"/>
            <a:ext cx="734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ffffff"/>
                </a:solidFill>
                <a:latin typeface="Candara"/>
              </a:rPr>
              <a:t>СПБ ГБПОУ «Медицинский колледж № 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Терапевтическ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став помещений соответству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ет стандартоному набору палатной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кции с процедурными кабинет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Хирургическое отделение</a:t>
            </a:r>
            <a:r>
              <a:rPr b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алатная секция рассчитывается на тоже количество коек, что и терапевтическая, но количество 1 и 2-х коечных палат должно составлять 20 проц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олжно быть 2 перевязочных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«чистых» и «гнойных» пере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язок, а для больных с гнойно –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ептическими заболеваниям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ыделяются обсервационны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5364000" y="476640"/>
            <a:ext cx="2983680" cy="20635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4" descr=""/>
          <p:cNvPicPr/>
          <p:nvPr/>
        </p:nvPicPr>
        <p:blipFill>
          <a:blip r:embed="rId2"/>
          <a:stretch/>
        </p:blipFill>
        <p:spPr>
          <a:xfrm>
            <a:off x="4140000" y="3645000"/>
            <a:ext cx="3943800" cy="25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Операционный блок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ерационных проектируется в больнице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корой помощи -  1 операционная на 25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к, в общепрофильных – 1 операци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 30 коек хирургического профиля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лощадь операционной для общепрофиль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ых операций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36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Акушерское отделение: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 2 смотровых и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мещения для сан. обрабо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обсервационное отделение направ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ляются роженицы с признаками ОРЗ,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емпературящие, с гнойничковым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ражениями кожи, любой сыпи и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ез необходимых документов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77" name="Рисунок 4" descr=""/>
          <p:cNvPicPr/>
          <p:nvPr/>
        </p:nvPicPr>
        <p:blipFill>
          <a:blip r:embed="rId1"/>
          <a:stretch/>
        </p:blipFill>
        <p:spPr>
          <a:xfrm>
            <a:off x="5470920" y="764640"/>
            <a:ext cx="3240000" cy="20098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4920480" y="3357000"/>
            <a:ext cx="3530520" cy="26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одовый блок должен содержать не менее 2-х родовых палат на 1 – 2 койки, предродовые палаты не менее 4 коек и манипуляционную – туалетную, должна быть малая и большая операцион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личество коек совместного пребывания должно быть не более 2 материнских и 2 детских. При раздельном пребывании – не более 4 коек для матерей. Новорожденные могут находиться в отсеках до 20 кроваток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е для недоношенных формируется по типу боксов или полубоксов на 1 – 2 кроватк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76640"/>
            <a:ext cx="7740360" cy="56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Инфекционное отделение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ая особенность устройство бок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в и полубоксов.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кса для од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оечного бокса 22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а для двукоечно-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го 2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Площадь в палате на 1 койку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взрослых и детей более 7 лет – 8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Детская больница и детское отдел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ем детей производится в приемно-смотровых боксах. Проектируется боксированное диагностическое отделение с количеством коек не менее 5% от коечности больницы. В каждой палатной секции должен быть бокс или полубокс. Палаты рассчитываются на 2-4 койки . Площадь в палате  на 1 койку для детей менее 7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81" name="Рисунок 3" descr=""/>
          <p:cNvPicPr/>
          <p:nvPr/>
        </p:nvPicPr>
        <p:blipFill>
          <a:blip r:embed="rId1"/>
          <a:stretch/>
        </p:blipFill>
        <p:spPr>
          <a:xfrm>
            <a:off x="5076000" y="476640"/>
            <a:ext cx="3599640" cy="20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640" y="1268640"/>
            <a:ext cx="752436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птимальная температура воздуха в палатах 20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 В палатах для больных с гипотиреозом -24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больных с тиреотоксикозом -1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в послеоперационных палатах – 22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 новорожденных – 2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носительная влажность 30-60 %, скорость движения воздуха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0,1 – 0,2 м/с  Предусматриваются  изолированные системы вентиляции  для «чистых» и «гнойных» перевязочных, операционных, родовых блоков, инфекционных отделен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держание 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2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е более 0,1 процента. Искусственная освещенность общая в палатах  не менее 100лк, на посту медицинской сестры 300 лк, в перевязочной и процедурной 500 лк . Наилучшее отопление водяное с температурой воды в радиаторах до 85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и панельно-лучисто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67640" y="338400"/>
            <a:ext cx="821880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икроклимат больничных помещений.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и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нструкция: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задачи решаются «малыми группами» студентов по конспекту лекции и материалам учебника И.Г. Крымск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Гигиена и экология человека» стр. 367-368, затем обсуждаются и оцениваются преподавателе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Задача 1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Инфекционное отделение  расположено в отдельном блоке централизованной системы строительства больницы, соединённом с основным зданием наземным коридоро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2360" indent="-2523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ход в отделение расположен в центра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Итоговый контроль знаний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31640" y="270900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инфекционном отделении имеется 2 палатные секции по 40 коек. В отделении располагаются палаты, боксы и полубоксы. Палаты рассчитаны на 5 коек, с площадью 26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. Температура в палатах 18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скорость движения  воздуха 0,2 м/с, относительная влажность 70%, КЕО – 1%, общее искусственное освещение 100лк. Генеральная уборка проводится 1 раз 2 месяца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0280" indent="-2602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, противоэпид. режим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Задача 2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городе построена детская соматическая больница. Приём больных детей осуществляется в приёмно-смотровых боксах, количество которых составляет 2% от коечности больницы. Диагностическое отделение имеет только палаты. На терапевтическом отделении нет боксов и полубоксов, а только палаты для детей старше 1 года на 6 коек, площадь палат по 30 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70% окон палат имеют северную ориентацию. Температура в палате 21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0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, скорость движения  воздуха 0,4м/с, относительная влажность 25%, КЕО – 0,5%, общее искусственное освещение 50лк. В отделении влажная уборка осуществляется 1 раз в день, проветривание палат – 2 раза в сутки по 10 минут.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просы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Оценить планировку отделения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Оценить микроклимат, освещени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еречислить нарушения противоэпидемического режима в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тделе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524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ru-RU" sz="5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5400" spc="-1" strike="noStrike">
                <a:solidFill>
                  <a:srgbClr val="073e87"/>
                </a:solidFill>
                <a:latin typeface="Candara"/>
              </a:rPr>
              <a:t>Спасибо за внимание</a:t>
            </a:r>
            <a:r>
              <a:rPr b="1" i="1" lang="ru-RU" sz="7200" spc="-1" strike="noStrike">
                <a:solidFill>
                  <a:srgbClr val="073e87"/>
                </a:solidFill>
                <a:latin typeface="Candara"/>
              </a:rPr>
              <a:t>!     </a:t>
            </a:r>
            <a:endParaRPr b="0" lang="ru-RU" sz="7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7640" y="278100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Цель заняти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 Сформировать теоретические знания  по теме «Гигиена лечебно-профилактических учреждений»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Студент должен знать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виды режимов в ЛПУ;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гигиенические требования к планировке, микроклимату, освещению,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отоплению, вентиляции в помещениях различных назначений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Фронтальный опрос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Перечислить нормируемые параметры микроклимата помещений  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ЛПУ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Какими путями могут передаваться внутрибольничные инфекции?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Охарактеризовать гигиенический режим и его цели в ЛПУ.</a:t>
            </a: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845000"/>
            <a:ext cx="753300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лавной задачей гигиены лечебно-профилактических учреждений является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азработка системы норм и требований  для успешной  деятельности  в области лечения  и профилактики болезней. Для успешного стационарного лечения необходимо обеспечение режимов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. Лечебно-охранительного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Гигиен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Противоэпидимического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ffffff"/>
                </a:solidFill>
                <a:latin typeface="Candara"/>
              </a:rPr>
              <a:t>Гигиена  ЛПУ</a:t>
            </a:r>
            <a:endParaRPr b="0" lang="ru-RU" sz="5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1"/>
          <a:stretch/>
        </p:blipFill>
        <p:spPr>
          <a:xfrm rot="20908200">
            <a:off x="5708880" y="4515120"/>
            <a:ext cx="2404800" cy="17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7640" y="1989000"/>
            <a:ext cx="7452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Лечебно-охранительны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система организационных мероприятий, направленных на обеспечение физического и психологического комфорта больны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Гигиен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–это научно обоснованная система  норм и правил регулирующих надлежащие коммунальные условия в помещениях больниц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отивоэпидемический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–это система мероприятий, направленных на предупреждение внутрибольничных инфек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ndara"/>
              </a:rPr>
              <a:t>Режимы</a:t>
            </a:r>
            <a:endParaRPr b="0" lang="ru-RU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640" y="1268640"/>
            <a:ext cx="777636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анПин 2.1.3.2630-10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Санитарно –эпидемиологические требования к организациям осуществляющим медицинскую деятельность» устанавливают санитарно–эпидемиологические требования к размещению, устройству, оборудованию, содержанию, противоэпидемическому режиму, профилактическим и противоэпидемическим мероприятиям, условиям труда персонала, организации питания пациентов и персонала организаций, осуществляющих медицинскую деятельность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                  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7439400" cy="603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редусматривается 4 типа строительства больниц</a:t>
            </a: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: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1 Павильо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2. Централизованная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3. Смешан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4. Блочная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авильонная 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каждое подразделение располагается в отдель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+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эффективное разобщение различных групп больных;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оложительное влияние на лечебно-охранительный режим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«-»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проблемы транспортировки пищи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сложнение проведения лечебно-диагностических 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мероприятий;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удорожание благоустройства подземных коммуникаци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66400" indent="-2664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Централизованная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истема,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при которой все подразделения располагаются в одном здани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- «+» и «-» децентрализованной системы меняются на противоположны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мешанная систем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при которой основные отделения находятся в главном корпусе, а отделения, имеющие некоторую специфику(морг, прачечная, инфекционное отделение, родильное, детское), располагаются в отдельных корпусах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лочная – больница состоит из отдельных корпусов-блоков, объединённых в центр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1640" indent="-2516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ольшинство недостатков децентрализованной системы устраняются при смешанной застройке больницы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 настоящее время больницы строятся по централизованной или смешанной системе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Наиболее прогрессивной разновидностью централизованной системы строительства больниц является блочная. При этом строится несколько блоков-корпусов, соединённых между собой тёплыми наземными или подземными переходами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7760" indent="-25776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зеленение территории должно составлять не менее 50% общей площади участка. Территория  больницы должна иметь не менее 2-х въездов, 1 из них хозяйственный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7640" y="1700640"/>
            <a:ext cx="7452360" cy="44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Основной структурной единицей внутренней планировки больниц является палатная секция. Она состоит из палат, служебных и подсобных помещений. Вместимость палатной секции до 30 коек. В каждой секции должно быть не менее 2-х однокоечных  палат (для тяжелобольных.) Ориентация палат рекомендуется на южную и юго-восточную сторону – для инфекционных отделений, для общесоматических, допустимо и на запад в центральных и северных широтах; на юге – западная ориентация не рекомендуется. Норматив площади на 1 койку в палатах от 2–х коек  и более для взрослых и детей более 7 лет -7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, для детей менее 7 лет - 6м</a:t>
            </a:r>
            <a:r>
              <a:rPr b="0" lang="ru-RU" sz="2000" spc="-1" strike="noStrike" baseline="30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marL="254880" indent="-254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едусматривается максимальное число коек в палатах для взрослых и детей более 1 года – 4, а для детей до 1 года – 2.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Внутренняя планировка</a:t>
            </a:r>
            <a:endParaRPr b="0" lang="ru-RU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632</TotalTime>
  <Application>LibreOffice/7.4.7.2$Linux_X86_64 LibreOffice_project/40$Build-2</Application>
  <AppVersion>15.0000</AppVersion>
  <Words>1244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2T05:32:15Z</dcterms:created>
  <dc:creator>Пользователь</dc:creator>
  <dc:description/>
  <dc:language>en-US</dc:language>
  <cp:lastModifiedBy>d e l l</cp:lastModifiedBy>
  <dcterms:modified xsi:type="dcterms:W3CDTF">2020-10-09T16:09:29Z</dcterms:modified>
  <cp:revision>71</cp:revision>
  <dc:subject/>
  <dc:title>Лекция №11                                                      Тема: Гигиена в ЛПУ   ФГОС «Сестринское дело»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9</vt:r8>
  </property>
</Properties>
</file>