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0C83-E7B3-4EE9-8AF2-B5122699D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A08C-1556-40F4-827E-030AF565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D201-7DAA-42FE-B130-532D727EA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C3A9-3CF4-4603-ACC7-6BEC9B805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579E-5C4B-46AE-A46C-B256C800D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67189-6ED0-429A-8060-BBAFE2FD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B41F-51B2-49A9-B933-6751C4EB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3D169-BAF9-4771-979E-3409C299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B223-6612-40A8-B742-FFDDDE27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50231-C755-4717-83CF-9E294DB3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C516-CB77-47AF-A65B-0ACA4C6D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DB2E-6BBA-4CE5-9CAE-5419FEF4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283F-C1FD-49D6-970F-E53C6DFE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F2E1-BFB2-45C6-A9CA-C66FABDA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7AFE-6ACE-4ABB-B63C-F21261F7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A28B-F4F5-4BD1-931E-AF5C891B5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499C-1069-416E-9CF8-62C96CE58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2D3C-39E3-4399-8E55-7C83C011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C0BA-78E7-4E2C-9AC0-6DCB20AB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79A3-7BF5-415C-896B-85B6CD04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28A0-5ED8-4F8A-ABDA-A9FEF4C6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B8BF-37D2-4331-BF05-1F1032EC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B94F-A9EF-4FCC-8023-8A313C9F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F6B2-B403-4C39-B7FA-98C6F7A6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FFA8B8-CF77-4A38-AC61-E1D6EEE0B29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69C681B-5325-49B0-B968-867B1CCB2CF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2" descr=""/>
          <p:cNvPicPr/>
          <p:nvPr/>
        </p:nvPicPr>
        <p:blipFill>
          <a:blip r:embed="rId1"/>
          <a:stretch/>
        </p:blipFill>
        <p:spPr>
          <a:xfrm>
            <a:off x="1301400" y="1239840"/>
            <a:ext cx="9823680" cy="438696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ая выноска 4"/>
          <p:cNvSpPr/>
          <p:nvPr/>
        </p:nvSpPr>
        <p:spPr>
          <a:xfrm>
            <a:off x="4024080" y="3182760"/>
            <a:ext cx="4378320" cy="1476720"/>
          </a:xfrm>
          <a:prstGeom prst="wedgeRectCallout">
            <a:avLst>
              <a:gd name="adj1" fmla="val 67969"/>
              <a:gd name="adj2" fmla="val -34481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Рамзро барои воридшави ба </a:t>
            </a:r>
            <a:r>
              <a:rPr b="0" lang="en-US" sz="1800" spc="-1" strike="noStrike">
                <a:solidFill>
                  <a:schemeClr val="dk1"/>
                </a:solidFill>
                <a:latin typeface="Calibri"/>
              </a:rPr>
              <a:t>edu@SUSU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аз деканат дастрас  намое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2102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Как использовать «Форум»?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2" descr=""/>
          <p:cNvPicPr/>
          <p:nvPr/>
        </p:nvPicPr>
        <p:blipFill>
          <a:blip r:embed="rId1"/>
          <a:stretch/>
        </p:blipFill>
        <p:spPr>
          <a:xfrm>
            <a:off x="571320" y="1535760"/>
            <a:ext cx="10983600" cy="458352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ая выноска 3"/>
          <p:cNvSpPr/>
          <p:nvPr/>
        </p:nvSpPr>
        <p:spPr>
          <a:xfrm>
            <a:off x="3988800" y="5099400"/>
            <a:ext cx="3211560" cy="553680"/>
          </a:xfrm>
          <a:prstGeom prst="wedgeRectCallout">
            <a:avLst>
              <a:gd name="adj1" fmla="val -73999"/>
              <a:gd name="adj2" fmla="val 25867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«Форум»-ро пахш намо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1" descr=""/>
          <p:cNvPicPr/>
          <p:nvPr/>
        </p:nvPicPr>
        <p:blipFill>
          <a:blip r:embed="rId1"/>
          <a:stretch/>
        </p:blipFill>
        <p:spPr>
          <a:xfrm>
            <a:off x="439560" y="952920"/>
            <a:ext cx="11327400" cy="479700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ая выноска 2"/>
          <p:cNvSpPr/>
          <p:nvPr/>
        </p:nvSpPr>
        <p:spPr>
          <a:xfrm>
            <a:off x="4199760" y="2690280"/>
            <a:ext cx="3704040" cy="553680"/>
          </a:xfrm>
          <a:prstGeom prst="wedgeRectCallout">
            <a:avLst>
              <a:gd name="adj1" fmla="val -78105"/>
              <a:gd name="adj2" fmla="val 71899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Мавзуи лозимаро мекушо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"/>
          <p:cNvPicPr/>
          <p:nvPr/>
        </p:nvPicPr>
        <p:blipFill>
          <a:blip r:embed="rId1"/>
          <a:stretch/>
        </p:blipFill>
        <p:spPr>
          <a:xfrm>
            <a:off x="650520" y="1000080"/>
            <a:ext cx="11022120" cy="466200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ая выноска 2"/>
          <p:cNvSpPr/>
          <p:nvPr/>
        </p:nvSpPr>
        <p:spPr>
          <a:xfrm>
            <a:off x="5363280" y="3472920"/>
            <a:ext cx="5943240" cy="553680"/>
          </a:xfrm>
          <a:prstGeom prst="wedgeRectCallout">
            <a:avLst>
              <a:gd name="adj1" fmla="val 43387"/>
              <a:gd name="adj2" fmla="val 98883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Барои дохил кардани чавоб, тугмачаи «Ответить»-ро пахш намо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1" descr=""/>
          <p:cNvPicPr/>
          <p:nvPr/>
        </p:nvPicPr>
        <p:blipFill>
          <a:blip r:embed="rId1"/>
          <a:stretch/>
        </p:blipFill>
        <p:spPr>
          <a:xfrm>
            <a:off x="518760" y="996480"/>
            <a:ext cx="11150280" cy="477108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ая выноска 2"/>
          <p:cNvSpPr/>
          <p:nvPr/>
        </p:nvSpPr>
        <p:spPr>
          <a:xfrm>
            <a:off x="5521680" y="4343400"/>
            <a:ext cx="5943240" cy="553680"/>
          </a:xfrm>
          <a:prstGeom prst="wedgeRectCallout">
            <a:avLst>
              <a:gd name="adj1" fmla="val 40872"/>
              <a:gd name="adj2" fmla="val 125867"/>
            </a:avLst>
          </a:prstGeom>
          <a:solidFill>
            <a:srgbClr val="ffffff"/>
          </a:solidFill>
          <a:ln w="38100">
            <a:solidFill>
              <a:srgbClr val="4472c4"/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Муаллим чавоби шуморо мебинад. Шумо метавонед онро тахрир дихед ё чавоби бештар илова кун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  <Words>52</Words>
  <Paragraphs>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17T07:12:16Z</dcterms:created>
  <dc:creator>Курбанова Алина Салаватовна</dc:creator>
  <dc:description/>
  <dc:language>en-US</dc:language>
  <cp:lastModifiedBy>Asus</cp:lastModifiedBy>
  <dcterms:modified xsi:type="dcterms:W3CDTF">2020-09-21T18:53:07Z</dcterms:modified>
  <cp:revision>4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5</vt:r8>
  </property>
</Properties>
</file>