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F33F-8D77-47FD-8B63-E7B6D29AD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DB12-C8B5-4C9F-830C-DC6CEC39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0243-AF09-4988-BE06-18B2FBD5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1A77-39EF-4A52-8FDC-4C85278A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BC8B-5911-4D04-A2DB-CB21FA756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EB86-90C3-48C1-B685-75121505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ECEB-40CF-471A-8039-F3369F9E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9490-ED54-4F43-B36F-4EBE4DE5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6124-FE3B-42C9-BF3A-DB1175ED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7415-2D11-492E-B341-A5E759AE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4AD6-668B-4E93-9336-C0672D49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6BBA-459E-44F8-8542-7BB317C2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D045-6DF0-460C-9F0B-ABE59C1E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AFA0-9A25-4F7F-931C-A9F86D74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8A74-77CF-46A2-B554-FE1CD80B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952E-4432-4564-BCD5-6E68B5CF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A058-4219-41AE-B4FF-42C41787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C070-F3C7-49DB-BF5C-45C753D3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F7BB-37C4-4C14-B5C0-9D79585A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1403-F275-44DB-8FB6-339E32A1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4533-9663-46B5-9361-6E226D85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EBED-84CF-44CE-A00F-64068726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7C73-A358-45BC-AC66-F45FFC2F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9E07-F9DA-46B8-8EF1-AABD1D38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62B0D7-57E5-445E-8305-3952FE4FCA4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9CBF73-4946-44C5-8ADC-4D127332A16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2" descr=""/>
          <p:cNvPicPr/>
          <p:nvPr/>
        </p:nvPicPr>
        <p:blipFill>
          <a:blip r:embed="rId1"/>
          <a:stretch/>
        </p:blipFill>
        <p:spPr>
          <a:xfrm>
            <a:off x="1301400" y="1239840"/>
            <a:ext cx="9823680" cy="43869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ая выноска 4"/>
          <p:cNvSpPr/>
          <p:nvPr/>
        </p:nvSpPr>
        <p:spPr>
          <a:xfrm>
            <a:off x="4024080" y="3182760"/>
            <a:ext cx="4378320" cy="1476720"/>
          </a:xfrm>
          <a:prstGeom prst="wedgeRectCallout">
            <a:avLst>
              <a:gd name="adj1" fmla="val 67969"/>
              <a:gd name="adj2" fmla="val -34481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Рамзро барои воридшави ба 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edu@SUSU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аз деканат дастрас  намо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2102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Как использовать «Форум»?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2" descr=""/>
          <p:cNvPicPr/>
          <p:nvPr/>
        </p:nvPicPr>
        <p:blipFill>
          <a:blip r:embed="rId1"/>
          <a:stretch/>
        </p:blipFill>
        <p:spPr>
          <a:xfrm>
            <a:off x="571320" y="1535760"/>
            <a:ext cx="10983600" cy="458352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ая выноска 3"/>
          <p:cNvSpPr/>
          <p:nvPr/>
        </p:nvSpPr>
        <p:spPr>
          <a:xfrm>
            <a:off x="3988800" y="5099400"/>
            <a:ext cx="3211560" cy="553680"/>
          </a:xfrm>
          <a:prstGeom prst="wedgeRectCallout">
            <a:avLst>
              <a:gd name="adj1" fmla="val -73999"/>
              <a:gd name="adj2" fmla="val 25867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«Форум»-ро пахш намо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"/>
          <p:cNvPicPr/>
          <p:nvPr/>
        </p:nvPicPr>
        <p:blipFill>
          <a:blip r:embed="rId1"/>
          <a:stretch/>
        </p:blipFill>
        <p:spPr>
          <a:xfrm>
            <a:off x="439560" y="952920"/>
            <a:ext cx="11327400" cy="47970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ая выноска 2"/>
          <p:cNvSpPr/>
          <p:nvPr/>
        </p:nvSpPr>
        <p:spPr>
          <a:xfrm>
            <a:off x="4199760" y="2690280"/>
            <a:ext cx="3704040" cy="553680"/>
          </a:xfrm>
          <a:prstGeom prst="wedgeRectCallout">
            <a:avLst>
              <a:gd name="adj1" fmla="val -78105"/>
              <a:gd name="adj2" fmla="val 71899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Мавзуи лозимаро мекушо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"/>
          <p:cNvPicPr/>
          <p:nvPr/>
        </p:nvPicPr>
        <p:blipFill>
          <a:blip r:embed="rId1"/>
          <a:stretch/>
        </p:blipFill>
        <p:spPr>
          <a:xfrm>
            <a:off x="650520" y="1000080"/>
            <a:ext cx="11022120" cy="46620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ая выноска 2"/>
          <p:cNvSpPr/>
          <p:nvPr/>
        </p:nvSpPr>
        <p:spPr>
          <a:xfrm>
            <a:off x="5363280" y="3472920"/>
            <a:ext cx="5943240" cy="553680"/>
          </a:xfrm>
          <a:prstGeom prst="wedgeRectCallout">
            <a:avLst>
              <a:gd name="adj1" fmla="val 43387"/>
              <a:gd name="adj2" fmla="val 98883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Барои дохил кардани чавоб, тугмачаи «Ответить»-ро пахш намо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518760" y="996480"/>
            <a:ext cx="11150280" cy="47710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ая выноска 2"/>
          <p:cNvSpPr/>
          <p:nvPr/>
        </p:nvSpPr>
        <p:spPr>
          <a:xfrm>
            <a:off x="5521680" y="4343400"/>
            <a:ext cx="5943240" cy="553680"/>
          </a:xfrm>
          <a:prstGeom prst="wedgeRectCallout">
            <a:avLst>
              <a:gd name="adj1" fmla="val 40872"/>
              <a:gd name="adj2" fmla="val 125867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Муаллим чавоби шуморо мебинад. Шумо метавонед онро тахрир дихед ё чавоби бештар илова кун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  <Words>52</Words>
  <Paragraphs>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17T07:12:16Z</dcterms:created>
  <dc:creator>Курбанова Алина Салаватовна</dc:creator>
  <dc:description/>
  <dc:language>en-US</dc:language>
  <cp:lastModifiedBy>Asus</cp:lastModifiedBy>
  <dcterms:modified xsi:type="dcterms:W3CDTF">2020-09-21T18:53:07Z</dcterms:modified>
  <cp:revision>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5</vt:r8>
  </property>
</Properties>
</file>