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2DD60EC-84CC-4625-A365-DB620A77BDC3}" type="doc">
      <dgm:prSet loTypeId="urn:microsoft.com/office/officeart/2005/8/layout/orgChart1" loCatId="hierarchy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11243CB8-4710-46F5-873E-CCBE11645C0D}">
      <dgm:prSet phldrT="[Текст]"/>
      <dgm:spPr/>
      <dgm:t>
        <a:bodyPr/>
        <a:lstStyle/>
        <a:p>
          <a:r>
            <a:rPr lang="ru-RU" dirty="0" err="1" smtClean="0"/>
            <a:t>Ду</a:t>
          </a:r>
          <a:r>
            <a:rPr lang="ru-RU" dirty="0" smtClean="0"/>
            <a:t> </a:t>
          </a:r>
          <a:r>
            <a:rPr lang="ru-RU" dirty="0" err="1" smtClean="0"/>
            <a:t>рох</a:t>
          </a:r>
          <a:r>
            <a:rPr lang="ru-RU" dirty="0" smtClean="0"/>
            <a:t> </a:t>
          </a:r>
          <a:r>
            <a:rPr lang="ru-RU" dirty="0" err="1" smtClean="0"/>
            <a:t>аст</a:t>
          </a:r>
          <a:r>
            <a:rPr lang="ru-RU" dirty="0" smtClean="0"/>
            <a:t>:</a:t>
          </a:r>
          <a:endParaRPr lang="ru-RU" dirty="0"/>
        </a:p>
      </dgm:t>
    </dgm:pt>
    <dgm:pt modelId="{4E122E57-E861-466C-8221-83E50F962801}" type="parTrans" cxnId="{1ADA1964-037F-4ADD-ADCF-BD8A45E87F1C}">
      <dgm:prSet/>
      <dgm:spPr/>
      <dgm:t>
        <a:bodyPr/>
        <a:lstStyle/>
        <a:p>
          <a:endParaRPr lang="ru-RU"/>
        </a:p>
      </dgm:t>
    </dgm:pt>
    <dgm:pt modelId="{CB991BF6-4980-444A-86C8-C4AA8D200DE1}" type="sibTrans" cxnId="{1ADA1964-037F-4ADD-ADCF-BD8A45E87F1C}">
      <dgm:prSet/>
      <dgm:spPr/>
      <dgm:t>
        <a:bodyPr/>
        <a:lstStyle/>
        <a:p>
          <a:endParaRPr lang="ru-RU"/>
        </a:p>
      </dgm:t>
    </dgm:pt>
    <dgm:pt modelId="{A1D3145D-9B8C-42BB-B749-AC4629DBE6B3}">
      <dgm:prSet phldrT="[Текст]" custT="1"/>
      <dgm:spPr/>
      <dgm:t>
        <a:bodyPr/>
        <a:lstStyle/>
        <a:p>
          <a:r>
            <a:rPr lang="ru-RU" sz="2800" dirty="0" err="1" smtClean="0"/>
            <a:t>Муаллим</a:t>
          </a:r>
          <a:r>
            <a:rPr lang="ru-RU" sz="2800" dirty="0" smtClean="0"/>
            <a:t> </a:t>
          </a:r>
          <a:r>
            <a:rPr lang="ru-RU" sz="2800" dirty="0" err="1" smtClean="0"/>
            <a:t>худаш</a:t>
          </a:r>
          <a:r>
            <a:rPr lang="ru-RU" sz="2800" dirty="0" smtClean="0"/>
            <a:t> </a:t>
          </a:r>
          <a:r>
            <a:rPr lang="ru-RU" sz="2800" dirty="0" err="1" smtClean="0"/>
            <a:t>кайд</a:t>
          </a:r>
          <a:r>
            <a:rPr lang="ru-RU" sz="2800" dirty="0" smtClean="0"/>
            <a:t> </a:t>
          </a:r>
          <a:r>
            <a:rPr lang="ru-RU" sz="2800" dirty="0" err="1" smtClean="0"/>
            <a:t>мекунад</a:t>
          </a:r>
          <a:r>
            <a:rPr lang="ru-RU" sz="2800" dirty="0" smtClean="0"/>
            <a:t> </a:t>
          </a:r>
          <a:r>
            <a:rPr lang="ru-RU" sz="2800" dirty="0" err="1" smtClean="0"/>
            <a:t>ва</a:t>
          </a:r>
          <a:r>
            <a:rPr lang="ru-RU" sz="2800" dirty="0" smtClean="0"/>
            <a:t> ба </a:t>
          </a:r>
          <a:r>
            <a:rPr lang="ru-RU" sz="2800" dirty="0" err="1" smtClean="0"/>
            <a:t>шумо</a:t>
          </a:r>
          <a:r>
            <a:rPr lang="ru-RU" sz="2800" dirty="0" smtClean="0"/>
            <a:t> </a:t>
          </a:r>
          <a:r>
            <a:rPr lang="ru-RU" sz="2800" dirty="0" err="1" smtClean="0"/>
            <a:t>чизеро</a:t>
          </a:r>
          <a:r>
            <a:rPr lang="ru-RU" sz="2800" dirty="0" smtClean="0"/>
            <a:t> </a:t>
          </a:r>
          <a:r>
            <a:rPr lang="ru-RU" sz="2800" dirty="0" err="1" smtClean="0"/>
            <a:t>пахш</a:t>
          </a:r>
          <a:r>
            <a:rPr lang="ru-RU" sz="2800" dirty="0" smtClean="0"/>
            <a:t> кардан </a:t>
          </a:r>
          <a:r>
            <a:rPr lang="ru-RU" sz="2800" dirty="0" err="1" smtClean="0"/>
            <a:t>лозим</a:t>
          </a:r>
          <a:r>
            <a:rPr lang="ru-RU" sz="2800" dirty="0" smtClean="0"/>
            <a:t> </a:t>
          </a:r>
          <a:r>
            <a:rPr lang="ru-RU" sz="2800" dirty="0" err="1" smtClean="0"/>
            <a:t>нест</a:t>
          </a:r>
          <a:r>
            <a:rPr lang="ru-RU" sz="2800" dirty="0" smtClean="0"/>
            <a:t> </a:t>
          </a:r>
          <a:endParaRPr lang="ru-RU" sz="2800" dirty="0"/>
        </a:p>
      </dgm:t>
    </dgm:pt>
    <dgm:pt modelId="{5681D1B3-C989-489E-B359-F812FA4E3062}" type="parTrans" cxnId="{07176E5B-4CDA-4303-B4B1-FB30A25C9870}">
      <dgm:prSet/>
      <dgm:spPr/>
      <dgm:t>
        <a:bodyPr/>
        <a:lstStyle/>
        <a:p>
          <a:endParaRPr lang="ru-RU"/>
        </a:p>
      </dgm:t>
    </dgm:pt>
    <dgm:pt modelId="{C54B5E6F-170E-44C0-8147-7AF3BF1E6E56}" type="sibTrans" cxnId="{07176E5B-4CDA-4303-B4B1-FB30A25C9870}">
      <dgm:prSet/>
      <dgm:spPr/>
      <dgm:t>
        <a:bodyPr/>
        <a:lstStyle/>
        <a:p>
          <a:endParaRPr lang="ru-RU"/>
        </a:p>
      </dgm:t>
    </dgm:pt>
    <dgm:pt modelId="{20234E44-79BB-44A3-ACAE-86D8DD679B75}">
      <dgm:prSet phldrT="[Текст]" custT="1"/>
      <dgm:spPr/>
      <dgm:t>
        <a:bodyPr/>
        <a:lstStyle/>
        <a:p>
          <a:r>
            <a:rPr lang="ru-RU" sz="2800" dirty="0" err="1" smtClean="0"/>
            <a:t>Шумо</a:t>
          </a:r>
          <a:r>
            <a:rPr lang="ru-RU" sz="2800" dirty="0" smtClean="0"/>
            <a:t> </a:t>
          </a:r>
          <a:r>
            <a:rPr lang="ru-RU" sz="2800" dirty="0" err="1" smtClean="0"/>
            <a:t>хузури</a:t>
          </a:r>
          <a:r>
            <a:rPr lang="ru-RU" sz="2800" dirty="0" smtClean="0"/>
            <a:t> </a:t>
          </a:r>
          <a:r>
            <a:rPr lang="ru-RU" sz="2800" dirty="0" err="1" smtClean="0"/>
            <a:t>худро</a:t>
          </a:r>
          <a:r>
            <a:rPr lang="ru-RU" sz="2800" dirty="0" smtClean="0"/>
            <a:t> </a:t>
          </a:r>
          <a:r>
            <a:rPr lang="ru-RU" sz="2800" dirty="0" err="1" smtClean="0"/>
            <a:t>мустакилона</a:t>
          </a:r>
          <a:r>
            <a:rPr lang="ru-RU" sz="2800" dirty="0" smtClean="0"/>
            <a:t> </a:t>
          </a:r>
          <a:r>
            <a:rPr lang="ru-RU" sz="2800" dirty="0" err="1" smtClean="0"/>
            <a:t>кайд</a:t>
          </a:r>
          <a:r>
            <a:rPr lang="ru-RU" sz="2800" dirty="0" smtClean="0"/>
            <a:t> </a:t>
          </a:r>
          <a:r>
            <a:rPr lang="ru-RU" sz="2800" dirty="0" err="1" smtClean="0"/>
            <a:t>мекунед</a:t>
          </a:r>
          <a:r>
            <a:rPr lang="ru-RU" sz="2800" dirty="0" smtClean="0"/>
            <a:t>(</a:t>
          </a:r>
          <a:r>
            <a:rPr lang="ru-RU" sz="2800" dirty="0" err="1" smtClean="0"/>
            <a:t>чи</a:t>
          </a:r>
          <a:r>
            <a:rPr lang="ru-RU" sz="2800" dirty="0" smtClean="0"/>
            <a:t> </a:t>
          </a:r>
          <a:r>
            <a:rPr lang="ru-RU" sz="2800" dirty="0" err="1" smtClean="0"/>
            <a:t>гуна</a:t>
          </a:r>
          <a:r>
            <a:rPr lang="ru-RU" sz="2800" dirty="0" smtClean="0"/>
            <a:t> ин </a:t>
          </a:r>
          <a:r>
            <a:rPr lang="ru-RU" sz="2800" dirty="0" err="1" smtClean="0"/>
            <a:t>корро</a:t>
          </a:r>
          <a:r>
            <a:rPr lang="ru-RU" sz="2800" dirty="0" smtClean="0"/>
            <a:t> </a:t>
          </a:r>
          <a:r>
            <a:rPr lang="ru-RU" sz="2800" dirty="0" err="1" smtClean="0"/>
            <a:t>карданро</a:t>
          </a:r>
          <a:r>
            <a:rPr lang="ru-RU" sz="2800" dirty="0" smtClean="0"/>
            <a:t> </a:t>
          </a:r>
          <a:r>
            <a:rPr lang="ru-RU" sz="2800" dirty="0" err="1" smtClean="0"/>
            <a:t>мо</a:t>
          </a:r>
          <a:r>
            <a:rPr lang="ru-RU" sz="2800" dirty="0" smtClean="0"/>
            <a:t> </a:t>
          </a:r>
          <a:r>
            <a:rPr lang="ru-RU" sz="2800" dirty="0" err="1" smtClean="0"/>
            <a:t>холо</a:t>
          </a:r>
          <a:r>
            <a:rPr lang="ru-RU" sz="2800" dirty="0" smtClean="0"/>
            <a:t> </a:t>
          </a:r>
          <a:r>
            <a:rPr lang="ru-RU" sz="2800" dirty="0" err="1" smtClean="0"/>
            <a:t>нишон</a:t>
          </a:r>
          <a:r>
            <a:rPr lang="ru-RU" sz="2800" dirty="0" smtClean="0"/>
            <a:t> </a:t>
          </a:r>
          <a:r>
            <a:rPr lang="ru-RU" sz="2800" dirty="0" err="1" smtClean="0"/>
            <a:t>медихем</a:t>
          </a:r>
          <a:r>
            <a:rPr lang="ru-RU" sz="2800" dirty="0" smtClean="0"/>
            <a:t>)</a:t>
          </a:r>
          <a:endParaRPr lang="ru-RU" sz="2800" dirty="0"/>
        </a:p>
      </dgm:t>
    </dgm:pt>
    <dgm:pt modelId="{A2B2FE3D-A80A-4630-9D23-FD6E6FAF7CE4}" type="parTrans" cxnId="{C67FECE9-95AE-4FC2-A9AA-7EE1E810AA08}">
      <dgm:prSet/>
      <dgm:spPr/>
      <dgm:t>
        <a:bodyPr/>
        <a:lstStyle/>
        <a:p>
          <a:endParaRPr lang="ru-RU"/>
        </a:p>
      </dgm:t>
    </dgm:pt>
    <dgm:pt modelId="{131ABD66-3C4D-4D72-9C07-CA658A29031C}" type="sibTrans" cxnId="{C67FECE9-95AE-4FC2-A9AA-7EE1E810AA08}">
      <dgm:prSet/>
      <dgm:spPr/>
      <dgm:t>
        <a:bodyPr/>
        <a:lstStyle/>
        <a:p>
          <a:endParaRPr lang="ru-RU"/>
        </a:p>
      </dgm:t>
    </dgm:pt>
    <dgm:pt modelId="{6A2621B5-948E-4543-B38A-5291E64BA8EA}" type="pres">
      <dgm:prSet presAssocID="{A2DD60EC-84CC-4625-A365-DB620A77BDC3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2578831D-1ECF-4ADA-830F-E4BC4AEA5B51}" type="pres">
      <dgm:prSet presAssocID="{11243CB8-4710-46F5-873E-CCBE11645C0D}" presName="hierRoot1" presStyleCnt="0">
        <dgm:presLayoutVars>
          <dgm:hierBranch val="init"/>
        </dgm:presLayoutVars>
      </dgm:prSet>
      <dgm:spPr/>
    </dgm:pt>
    <dgm:pt modelId="{8A6E98F6-B158-4D2A-B953-2349C7EAB7B9}" type="pres">
      <dgm:prSet presAssocID="{11243CB8-4710-46F5-873E-CCBE11645C0D}" presName="rootComposite1" presStyleCnt="0"/>
      <dgm:spPr/>
    </dgm:pt>
    <dgm:pt modelId="{6F5AB85C-230A-4443-8BA2-77523D774AC8}" type="pres">
      <dgm:prSet presAssocID="{11243CB8-4710-46F5-873E-CCBE11645C0D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2F3E62D-7199-4FCE-9206-635499D49C72}" type="pres">
      <dgm:prSet presAssocID="{11243CB8-4710-46F5-873E-CCBE11645C0D}" presName="rootConnector1" presStyleLbl="node1" presStyleIdx="0" presStyleCnt="0"/>
      <dgm:spPr/>
      <dgm:t>
        <a:bodyPr/>
        <a:lstStyle/>
        <a:p>
          <a:endParaRPr lang="ru-RU"/>
        </a:p>
      </dgm:t>
    </dgm:pt>
    <dgm:pt modelId="{2855B7E6-F874-4092-8733-2B7B4DAD7197}" type="pres">
      <dgm:prSet presAssocID="{11243CB8-4710-46F5-873E-CCBE11645C0D}" presName="hierChild2" presStyleCnt="0"/>
      <dgm:spPr/>
    </dgm:pt>
    <dgm:pt modelId="{B5AA84C9-3579-48D3-905C-C654FAE07332}" type="pres">
      <dgm:prSet presAssocID="{5681D1B3-C989-489E-B359-F812FA4E3062}" presName="Name37" presStyleLbl="parChTrans1D2" presStyleIdx="0" presStyleCnt="2"/>
      <dgm:spPr/>
      <dgm:t>
        <a:bodyPr/>
        <a:lstStyle/>
        <a:p>
          <a:endParaRPr lang="ru-RU"/>
        </a:p>
      </dgm:t>
    </dgm:pt>
    <dgm:pt modelId="{4BA8BEC7-6F3F-4945-A584-1A2A2C6411A0}" type="pres">
      <dgm:prSet presAssocID="{A1D3145D-9B8C-42BB-B749-AC4629DBE6B3}" presName="hierRoot2" presStyleCnt="0">
        <dgm:presLayoutVars>
          <dgm:hierBranch val="init"/>
        </dgm:presLayoutVars>
      </dgm:prSet>
      <dgm:spPr/>
    </dgm:pt>
    <dgm:pt modelId="{231767BE-149E-413F-B180-F22F33CD351D}" type="pres">
      <dgm:prSet presAssocID="{A1D3145D-9B8C-42BB-B749-AC4629DBE6B3}" presName="rootComposite" presStyleCnt="0"/>
      <dgm:spPr/>
    </dgm:pt>
    <dgm:pt modelId="{E0A863FE-3473-44A8-A58B-51F8069B3A5C}" type="pres">
      <dgm:prSet presAssocID="{A1D3145D-9B8C-42BB-B749-AC4629DBE6B3}" presName="rootText" presStyleLbl="node2" presStyleIdx="0" presStyleCnt="2" custLinFactNeighborX="2092" custLinFactNeighborY="60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E855B76-6E52-4336-A425-72F9CC489995}" type="pres">
      <dgm:prSet presAssocID="{A1D3145D-9B8C-42BB-B749-AC4629DBE6B3}" presName="rootConnector" presStyleLbl="node2" presStyleIdx="0" presStyleCnt="2"/>
      <dgm:spPr/>
      <dgm:t>
        <a:bodyPr/>
        <a:lstStyle/>
        <a:p>
          <a:endParaRPr lang="ru-RU"/>
        </a:p>
      </dgm:t>
    </dgm:pt>
    <dgm:pt modelId="{90F71EF9-46B5-4B52-940F-78433E21167B}" type="pres">
      <dgm:prSet presAssocID="{A1D3145D-9B8C-42BB-B749-AC4629DBE6B3}" presName="hierChild4" presStyleCnt="0"/>
      <dgm:spPr/>
    </dgm:pt>
    <dgm:pt modelId="{F13B2CBF-7522-451B-8E21-69329FEDDBDD}" type="pres">
      <dgm:prSet presAssocID="{A1D3145D-9B8C-42BB-B749-AC4629DBE6B3}" presName="hierChild5" presStyleCnt="0"/>
      <dgm:spPr/>
    </dgm:pt>
    <dgm:pt modelId="{1DFA4676-486E-414A-AE77-A924A13D347A}" type="pres">
      <dgm:prSet presAssocID="{A2B2FE3D-A80A-4630-9D23-FD6E6FAF7CE4}" presName="Name37" presStyleLbl="parChTrans1D2" presStyleIdx="1" presStyleCnt="2"/>
      <dgm:spPr/>
      <dgm:t>
        <a:bodyPr/>
        <a:lstStyle/>
        <a:p>
          <a:endParaRPr lang="ru-RU"/>
        </a:p>
      </dgm:t>
    </dgm:pt>
    <dgm:pt modelId="{0AB5A574-209B-4B44-8F05-7AA20F15A7C8}" type="pres">
      <dgm:prSet presAssocID="{20234E44-79BB-44A3-ACAE-86D8DD679B75}" presName="hierRoot2" presStyleCnt="0">
        <dgm:presLayoutVars>
          <dgm:hierBranch val="init"/>
        </dgm:presLayoutVars>
      </dgm:prSet>
      <dgm:spPr/>
    </dgm:pt>
    <dgm:pt modelId="{DF26839C-E8B7-404D-B16C-D3614692DFC0}" type="pres">
      <dgm:prSet presAssocID="{20234E44-79BB-44A3-ACAE-86D8DD679B75}" presName="rootComposite" presStyleCnt="0"/>
      <dgm:spPr/>
    </dgm:pt>
    <dgm:pt modelId="{870A82F5-1E68-4820-9F35-E585D298E42A}" type="pres">
      <dgm:prSet presAssocID="{20234E44-79BB-44A3-ACAE-86D8DD679B75}" presName="rootText" presStyleLbl="node2" presStyleIdx="1" presStyleCnt="2" custLinFactNeighborX="-465" custLinFactNeighborY="1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CBC4B32-9CB9-4242-8282-380D9CB502A9}" type="pres">
      <dgm:prSet presAssocID="{20234E44-79BB-44A3-ACAE-86D8DD679B75}" presName="rootConnector" presStyleLbl="node2" presStyleIdx="1" presStyleCnt="2"/>
      <dgm:spPr/>
      <dgm:t>
        <a:bodyPr/>
        <a:lstStyle/>
        <a:p>
          <a:endParaRPr lang="ru-RU"/>
        </a:p>
      </dgm:t>
    </dgm:pt>
    <dgm:pt modelId="{84148CAB-F161-40B4-B7C6-C2E116F029A1}" type="pres">
      <dgm:prSet presAssocID="{20234E44-79BB-44A3-ACAE-86D8DD679B75}" presName="hierChild4" presStyleCnt="0"/>
      <dgm:spPr/>
    </dgm:pt>
    <dgm:pt modelId="{07E50D45-E2C1-4D71-AB79-E9B195940899}" type="pres">
      <dgm:prSet presAssocID="{20234E44-79BB-44A3-ACAE-86D8DD679B75}" presName="hierChild5" presStyleCnt="0"/>
      <dgm:spPr/>
    </dgm:pt>
    <dgm:pt modelId="{EBD8A0C7-C1C9-4FD7-8A91-32D0DEAB41CA}" type="pres">
      <dgm:prSet presAssocID="{11243CB8-4710-46F5-873E-CCBE11645C0D}" presName="hierChild3" presStyleCnt="0"/>
      <dgm:spPr/>
    </dgm:pt>
  </dgm:ptLst>
  <dgm:cxnLst>
    <dgm:cxn modelId="{9858EC5B-BA7A-4256-AC67-641B4E8A6D02}" type="presOf" srcId="{5681D1B3-C989-489E-B359-F812FA4E3062}" destId="{B5AA84C9-3579-48D3-905C-C654FAE07332}" srcOrd="0" destOrd="0" presId="urn:microsoft.com/office/officeart/2005/8/layout/orgChart1"/>
    <dgm:cxn modelId="{FB893F61-4F5A-4B00-94A4-550BE35A9913}" type="presOf" srcId="{20234E44-79BB-44A3-ACAE-86D8DD679B75}" destId="{7CBC4B32-9CB9-4242-8282-380D9CB502A9}" srcOrd="1" destOrd="0" presId="urn:microsoft.com/office/officeart/2005/8/layout/orgChart1"/>
    <dgm:cxn modelId="{C67FECE9-95AE-4FC2-A9AA-7EE1E810AA08}" srcId="{11243CB8-4710-46F5-873E-CCBE11645C0D}" destId="{20234E44-79BB-44A3-ACAE-86D8DD679B75}" srcOrd="1" destOrd="0" parTransId="{A2B2FE3D-A80A-4630-9D23-FD6E6FAF7CE4}" sibTransId="{131ABD66-3C4D-4D72-9C07-CA658A29031C}"/>
    <dgm:cxn modelId="{4D458164-CB8D-4923-A115-E6AD432907BD}" type="presOf" srcId="{A1D3145D-9B8C-42BB-B749-AC4629DBE6B3}" destId="{E0A863FE-3473-44A8-A58B-51F8069B3A5C}" srcOrd="0" destOrd="0" presId="urn:microsoft.com/office/officeart/2005/8/layout/orgChart1"/>
    <dgm:cxn modelId="{E10F5BE0-3E7A-42F9-9AB2-997672B77DF7}" type="presOf" srcId="{20234E44-79BB-44A3-ACAE-86D8DD679B75}" destId="{870A82F5-1E68-4820-9F35-E585D298E42A}" srcOrd="0" destOrd="0" presId="urn:microsoft.com/office/officeart/2005/8/layout/orgChart1"/>
    <dgm:cxn modelId="{1ADA1964-037F-4ADD-ADCF-BD8A45E87F1C}" srcId="{A2DD60EC-84CC-4625-A365-DB620A77BDC3}" destId="{11243CB8-4710-46F5-873E-CCBE11645C0D}" srcOrd="0" destOrd="0" parTransId="{4E122E57-E861-466C-8221-83E50F962801}" sibTransId="{CB991BF6-4980-444A-86C8-C4AA8D200DE1}"/>
    <dgm:cxn modelId="{B785C0E5-DBD6-4565-B25C-1912B4A44C3F}" type="presOf" srcId="{A1D3145D-9B8C-42BB-B749-AC4629DBE6B3}" destId="{FE855B76-6E52-4336-A425-72F9CC489995}" srcOrd="1" destOrd="0" presId="urn:microsoft.com/office/officeart/2005/8/layout/orgChart1"/>
    <dgm:cxn modelId="{CF7806E7-50FF-4FCB-B4DA-BC3D00EF1093}" type="presOf" srcId="{11243CB8-4710-46F5-873E-CCBE11645C0D}" destId="{62F3E62D-7199-4FCE-9206-635499D49C72}" srcOrd="1" destOrd="0" presId="urn:microsoft.com/office/officeart/2005/8/layout/orgChart1"/>
    <dgm:cxn modelId="{A2DC222D-20DF-4C40-A561-273881046C94}" type="presOf" srcId="{11243CB8-4710-46F5-873E-CCBE11645C0D}" destId="{6F5AB85C-230A-4443-8BA2-77523D774AC8}" srcOrd="0" destOrd="0" presId="urn:microsoft.com/office/officeart/2005/8/layout/orgChart1"/>
    <dgm:cxn modelId="{07176E5B-4CDA-4303-B4B1-FB30A25C9870}" srcId="{11243CB8-4710-46F5-873E-CCBE11645C0D}" destId="{A1D3145D-9B8C-42BB-B749-AC4629DBE6B3}" srcOrd="0" destOrd="0" parTransId="{5681D1B3-C989-489E-B359-F812FA4E3062}" sibTransId="{C54B5E6F-170E-44C0-8147-7AF3BF1E6E56}"/>
    <dgm:cxn modelId="{4D03B364-550E-478D-AD26-1921E2A3F37B}" type="presOf" srcId="{A2DD60EC-84CC-4625-A365-DB620A77BDC3}" destId="{6A2621B5-948E-4543-B38A-5291E64BA8EA}" srcOrd="0" destOrd="0" presId="urn:microsoft.com/office/officeart/2005/8/layout/orgChart1"/>
    <dgm:cxn modelId="{25149701-7714-488B-AA25-23D724C60AAB}" type="presOf" srcId="{A2B2FE3D-A80A-4630-9D23-FD6E6FAF7CE4}" destId="{1DFA4676-486E-414A-AE77-A924A13D347A}" srcOrd="0" destOrd="0" presId="urn:microsoft.com/office/officeart/2005/8/layout/orgChart1"/>
    <dgm:cxn modelId="{6CCE9105-507F-4EF5-AB7C-D69085A3DD69}" type="presParOf" srcId="{6A2621B5-948E-4543-B38A-5291E64BA8EA}" destId="{2578831D-1ECF-4ADA-830F-E4BC4AEA5B51}" srcOrd="0" destOrd="0" presId="urn:microsoft.com/office/officeart/2005/8/layout/orgChart1"/>
    <dgm:cxn modelId="{BDC8B50D-7A4C-4A57-BAED-9D230DB2B550}" type="presParOf" srcId="{2578831D-1ECF-4ADA-830F-E4BC4AEA5B51}" destId="{8A6E98F6-B158-4D2A-B953-2349C7EAB7B9}" srcOrd="0" destOrd="0" presId="urn:microsoft.com/office/officeart/2005/8/layout/orgChart1"/>
    <dgm:cxn modelId="{5A29ED1C-8EF2-4A5D-A15F-CDCD57BDBA59}" type="presParOf" srcId="{8A6E98F6-B158-4D2A-B953-2349C7EAB7B9}" destId="{6F5AB85C-230A-4443-8BA2-77523D774AC8}" srcOrd="0" destOrd="0" presId="urn:microsoft.com/office/officeart/2005/8/layout/orgChart1"/>
    <dgm:cxn modelId="{27A80196-3374-42A6-926E-512E4B7ED813}" type="presParOf" srcId="{8A6E98F6-B158-4D2A-B953-2349C7EAB7B9}" destId="{62F3E62D-7199-4FCE-9206-635499D49C72}" srcOrd="1" destOrd="0" presId="urn:microsoft.com/office/officeart/2005/8/layout/orgChart1"/>
    <dgm:cxn modelId="{7A7796BB-0F43-4958-BBDB-DE78E8A6A6E3}" type="presParOf" srcId="{2578831D-1ECF-4ADA-830F-E4BC4AEA5B51}" destId="{2855B7E6-F874-4092-8733-2B7B4DAD7197}" srcOrd="1" destOrd="0" presId="urn:microsoft.com/office/officeart/2005/8/layout/orgChart1"/>
    <dgm:cxn modelId="{5B79C667-4E58-448A-AAE7-7561AEAE3FDA}" type="presParOf" srcId="{2855B7E6-F874-4092-8733-2B7B4DAD7197}" destId="{B5AA84C9-3579-48D3-905C-C654FAE07332}" srcOrd="0" destOrd="0" presId="urn:microsoft.com/office/officeart/2005/8/layout/orgChart1"/>
    <dgm:cxn modelId="{49C1BDF3-FA71-460C-A8B4-3C257AC97F27}" type="presParOf" srcId="{2855B7E6-F874-4092-8733-2B7B4DAD7197}" destId="{4BA8BEC7-6F3F-4945-A584-1A2A2C6411A0}" srcOrd="1" destOrd="0" presId="urn:microsoft.com/office/officeart/2005/8/layout/orgChart1"/>
    <dgm:cxn modelId="{C03962EA-B2FB-421F-A5D0-087C55B73EE2}" type="presParOf" srcId="{4BA8BEC7-6F3F-4945-A584-1A2A2C6411A0}" destId="{231767BE-149E-413F-B180-F22F33CD351D}" srcOrd="0" destOrd="0" presId="urn:microsoft.com/office/officeart/2005/8/layout/orgChart1"/>
    <dgm:cxn modelId="{9761FDB6-E274-48C4-86B7-FEC0D307B453}" type="presParOf" srcId="{231767BE-149E-413F-B180-F22F33CD351D}" destId="{E0A863FE-3473-44A8-A58B-51F8069B3A5C}" srcOrd="0" destOrd="0" presId="urn:microsoft.com/office/officeart/2005/8/layout/orgChart1"/>
    <dgm:cxn modelId="{935D80A7-00F9-40AD-9CAF-305BBD2CDFD6}" type="presParOf" srcId="{231767BE-149E-413F-B180-F22F33CD351D}" destId="{FE855B76-6E52-4336-A425-72F9CC489995}" srcOrd="1" destOrd="0" presId="urn:microsoft.com/office/officeart/2005/8/layout/orgChart1"/>
    <dgm:cxn modelId="{40516772-1182-4766-A08A-888A4C88B027}" type="presParOf" srcId="{4BA8BEC7-6F3F-4945-A584-1A2A2C6411A0}" destId="{90F71EF9-46B5-4B52-940F-78433E21167B}" srcOrd="1" destOrd="0" presId="urn:microsoft.com/office/officeart/2005/8/layout/orgChart1"/>
    <dgm:cxn modelId="{C0F2EEAA-9444-4AE5-8755-64DFD33B8733}" type="presParOf" srcId="{4BA8BEC7-6F3F-4945-A584-1A2A2C6411A0}" destId="{F13B2CBF-7522-451B-8E21-69329FEDDBDD}" srcOrd="2" destOrd="0" presId="urn:microsoft.com/office/officeart/2005/8/layout/orgChart1"/>
    <dgm:cxn modelId="{102464C8-042D-4740-A707-5C66EC97F972}" type="presParOf" srcId="{2855B7E6-F874-4092-8733-2B7B4DAD7197}" destId="{1DFA4676-486E-414A-AE77-A924A13D347A}" srcOrd="2" destOrd="0" presId="urn:microsoft.com/office/officeart/2005/8/layout/orgChart1"/>
    <dgm:cxn modelId="{C1497122-1747-40F1-903E-F76E50835DB2}" type="presParOf" srcId="{2855B7E6-F874-4092-8733-2B7B4DAD7197}" destId="{0AB5A574-209B-4B44-8F05-7AA20F15A7C8}" srcOrd="3" destOrd="0" presId="urn:microsoft.com/office/officeart/2005/8/layout/orgChart1"/>
    <dgm:cxn modelId="{5A7B9274-4E7A-4FE4-9096-8583C5DCFA21}" type="presParOf" srcId="{0AB5A574-209B-4B44-8F05-7AA20F15A7C8}" destId="{DF26839C-E8B7-404D-B16C-D3614692DFC0}" srcOrd="0" destOrd="0" presId="urn:microsoft.com/office/officeart/2005/8/layout/orgChart1"/>
    <dgm:cxn modelId="{FF5DB704-9C9E-49C4-912E-E978BECE21F0}" type="presParOf" srcId="{DF26839C-E8B7-404D-B16C-D3614692DFC0}" destId="{870A82F5-1E68-4820-9F35-E585D298E42A}" srcOrd="0" destOrd="0" presId="urn:microsoft.com/office/officeart/2005/8/layout/orgChart1"/>
    <dgm:cxn modelId="{BA188443-E8D2-40DD-A2F2-4435DCD36E8C}" type="presParOf" srcId="{DF26839C-E8B7-404D-B16C-D3614692DFC0}" destId="{7CBC4B32-9CB9-4242-8282-380D9CB502A9}" srcOrd="1" destOrd="0" presId="urn:microsoft.com/office/officeart/2005/8/layout/orgChart1"/>
    <dgm:cxn modelId="{8BBF25EB-8B28-4C58-B084-8D77518D3FA4}" type="presParOf" srcId="{0AB5A574-209B-4B44-8F05-7AA20F15A7C8}" destId="{84148CAB-F161-40B4-B7C6-C2E116F029A1}" srcOrd="1" destOrd="0" presId="urn:microsoft.com/office/officeart/2005/8/layout/orgChart1"/>
    <dgm:cxn modelId="{978BE64B-FDB4-43F1-839F-DE2230430723}" type="presParOf" srcId="{0AB5A574-209B-4B44-8F05-7AA20F15A7C8}" destId="{07E50D45-E2C1-4D71-AB79-E9B195940899}" srcOrd="2" destOrd="0" presId="urn:microsoft.com/office/officeart/2005/8/layout/orgChart1"/>
    <dgm:cxn modelId="{A1B01A37-78C6-4BE9-8955-6CD1E8361383}" type="presParOf" srcId="{2578831D-1ECF-4ADA-830F-E4BC4AEA5B51}" destId="{EBD8A0C7-C1C9-4FD7-8A91-32D0DEAB41CA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DFA4676-486E-414A-AE77-A924A13D347A}">
      <dsp:nvSpPr>
        <dsp:cNvPr id="0" name=""/>
        <dsp:cNvSpPr/>
      </dsp:nvSpPr>
      <dsp:spPr>
        <a:xfrm>
          <a:off x="4690696" y="1969673"/>
          <a:ext cx="2361612" cy="82889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15851"/>
              </a:lnTo>
              <a:lnTo>
                <a:pt x="2361612" y="415851"/>
              </a:lnTo>
              <a:lnTo>
                <a:pt x="2361612" y="828893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5AA84C9-3579-48D3-905C-C654FAE07332}">
      <dsp:nvSpPr>
        <dsp:cNvPr id="0" name=""/>
        <dsp:cNvSpPr/>
      </dsp:nvSpPr>
      <dsp:spPr>
        <a:xfrm>
          <a:off x="2393085" y="1969673"/>
          <a:ext cx="2297610" cy="828893"/>
        </a:xfrm>
        <a:custGeom>
          <a:avLst/>
          <a:gdLst/>
          <a:ahLst/>
          <a:cxnLst/>
          <a:rect l="0" t="0" r="0" b="0"/>
          <a:pathLst>
            <a:path>
              <a:moveTo>
                <a:pt x="2297610" y="0"/>
              </a:moveTo>
              <a:lnTo>
                <a:pt x="2297610" y="415851"/>
              </a:lnTo>
              <a:lnTo>
                <a:pt x="0" y="415851"/>
              </a:lnTo>
              <a:lnTo>
                <a:pt x="0" y="828893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F5AB85C-230A-4443-8BA2-77523D774AC8}">
      <dsp:nvSpPr>
        <dsp:cNvPr id="0" name=""/>
        <dsp:cNvSpPr/>
      </dsp:nvSpPr>
      <dsp:spPr>
        <a:xfrm>
          <a:off x="2723833" y="2810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" tIns="41275" rIns="41275" bIns="41275" numCol="1" spcCol="1270" anchor="ctr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6500" kern="1200" dirty="0" err="1" smtClean="0"/>
            <a:t>Ду</a:t>
          </a:r>
          <a:r>
            <a:rPr lang="ru-RU" sz="6500" kern="1200" dirty="0" smtClean="0"/>
            <a:t> </a:t>
          </a:r>
          <a:r>
            <a:rPr lang="ru-RU" sz="6500" kern="1200" dirty="0" err="1" smtClean="0"/>
            <a:t>рох</a:t>
          </a:r>
          <a:r>
            <a:rPr lang="ru-RU" sz="6500" kern="1200" dirty="0" smtClean="0"/>
            <a:t> </a:t>
          </a:r>
          <a:r>
            <a:rPr lang="ru-RU" sz="6500" kern="1200" dirty="0" err="1" smtClean="0"/>
            <a:t>аст</a:t>
          </a:r>
          <a:r>
            <a:rPr lang="ru-RU" sz="6500" kern="1200" dirty="0" smtClean="0"/>
            <a:t>:</a:t>
          </a:r>
          <a:endParaRPr lang="ru-RU" sz="6500" kern="1200" dirty="0"/>
        </a:p>
      </dsp:txBody>
      <dsp:txXfrm>
        <a:off x="2723833" y="2810"/>
        <a:ext cx="3933726" cy="1966863"/>
      </dsp:txXfrm>
    </dsp:sp>
    <dsp:sp modelId="{E0A863FE-3473-44A8-A58B-51F8069B3A5C}">
      <dsp:nvSpPr>
        <dsp:cNvPr id="0" name=""/>
        <dsp:cNvSpPr/>
      </dsp:nvSpPr>
      <dsp:spPr>
        <a:xfrm>
          <a:off x="426222" y="2798566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err="1" smtClean="0"/>
            <a:t>Муаллим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даш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й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куна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ва</a:t>
          </a:r>
          <a:r>
            <a:rPr lang="ru-RU" sz="2800" kern="1200" dirty="0" smtClean="0"/>
            <a:t> ба </a:t>
          </a:r>
          <a:r>
            <a:rPr lang="ru-RU" sz="2800" kern="1200" dirty="0" err="1" smtClean="0"/>
            <a:t>шу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чизе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ахш</a:t>
          </a:r>
          <a:r>
            <a:rPr lang="ru-RU" sz="2800" kern="1200" dirty="0" smtClean="0"/>
            <a:t> кардан </a:t>
          </a:r>
          <a:r>
            <a:rPr lang="ru-RU" sz="2800" kern="1200" dirty="0" err="1" smtClean="0"/>
            <a:t>лозим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ест</a:t>
          </a:r>
          <a:r>
            <a:rPr lang="ru-RU" sz="2800" kern="1200" dirty="0" smtClean="0"/>
            <a:t> </a:t>
          </a:r>
          <a:endParaRPr lang="ru-RU" sz="2800" kern="1200" dirty="0"/>
        </a:p>
      </dsp:txBody>
      <dsp:txXfrm>
        <a:off x="426222" y="2798566"/>
        <a:ext cx="3933726" cy="1966863"/>
      </dsp:txXfrm>
    </dsp:sp>
    <dsp:sp modelId="{870A82F5-1E68-4820-9F35-E585D298E42A}">
      <dsp:nvSpPr>
        <dsp:cNvPr id="0" name=""/>
        <dsp:cNvSpPr/>
      </dsp:nvSpPr>
      <dsp:spPr>
        <a:xfrm>
          <a:off x="5085445" y="2798566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err="1" smtClean="0"/>
            <a:t>Шу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зури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д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устакилона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й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кунед</a:t>
          </a:r>
          <a:r>
            <a:rPr lang="ru-RU" sz="2800" kern="1200" dirty="0" smtClean="0"/>
            <a:t>(</a:t>
          </a:r>
          <a:r>
            <a:rPr lang="ru-RU" sz="2800" kern="1200" dirty="0" err="1" smtClean="0"/>
            <a:t>чи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гуна</a:t>
          </a:r>
          <a:r>
            <a:rPr lang="ru-RU" sz="2800" kern="1200" dirty="0" smtClean="0"/>
            <a:t> ин </a:t>
          </a:r>
          <a:r>
            <a:rPr lang="ru-RU" sz="2800" kern="1200" dirty="0" err="1" smtClean="0"/>
            <a:t>кор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рдан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ол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ишон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дихем</a:t>
          </a:r>
          <a:r>
            <a:rPr lang="ru-RU" sz="2800" kern="1200" dirty="0" smtClean="0"/>
            <a:t>)</a:t>
          </a:r>
          <a:endParaRPr lang="ru-RU" sz="2800" kern="1200" dirty="0"/>
        </a:p>
      </dsp:txBody>
      <dsp:txXfrm>
        <a:off x="5085445" y="2798566"/>
        <a:ext cx="3933726" cy="196686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DB3-12CA-452A-AB67-B790E33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561-3AEC-491D-A8FA-5C9D87A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73F-86C6-472C-8B24-170E55B8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4CB-CB39-4619-949A-50CA0BC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6CAB-1E01-4D70-A6C3-3167F212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413C-1807-4BC7-B389-7A9E21B9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039-1099-4691-BDF4-0A2AF7DC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ED1C-07E6-485F-9820-D8C7570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29B8-0132-47B8-8C5C-7BAF998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2675-7956-4B71-A782-90CE21E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8B8-CA80-4B37-A4EA-5C793BC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E68-7951-4EA1-A50B-B90CF4C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05C-B478-4A23-98DF-8F437EA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462-AB01-495F-BCAE-FB27076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E37D-8164-4EEE-A8CC-6341A7A3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303-3452-4AAA-8107-68C57FD6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3C6-D78B-403E-A671-D48BF046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FBD-FAEB-43E7-90B9-A6D2E5A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3AC-D2F0-41DB-8E86-2F3F3809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BC8-BBA2-4939-B22D-927AB9FC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518-B37F-4DC0-8413-B1C12984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E07-C0EC-4332-BE42-6C47BE8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A98-1F44-4888-9F5A-55CEC94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E97-00D5-46A6-8353-0472BB5B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23662B-13FE-428F-BFAB-A2935D5964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130EB3-B753-4CF6-B19E-EA2061C183A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3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отметить «Посещаемость»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05218199"/>
              </p:ext>
            </p:extLst>
          </p:nvPr>
        </p:nvGraphicFramePr>
        <p:xfrm>
          <a:off x="1266120" y="1503360"/>
          <a:ext cx="9380880" cy="476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668160" y="813240"/>
            <a:ext cx="10941480" cy="5042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2"/>
          <p:cNvSpPr/>
          <p:nvPr/>
        </p:nvSpPr>
        <p:spPr>
          <a:xfrm>
            <a:off x="4642200" y="3683880"/>
            <a:ext cx="4764960" cy="1054800"/>
          </a:xfrm>
          <a:prstGeom prst="wedgeRectCallout">
            <a:avLst>
              <a:gd name="adj1" fmla="val -82194"/>
              <a:gd name="adj2" fmla="val 4977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Посещаемость»-ро пахш менам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606600" y="775440"/>
            <a:ext cx="10841400" cy="5282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6198480" y="2889000"/>
            <a:ext cx="4764960" cy="1054800"/>
          </a:xfrm>
          <a:prstGeom prst="wedgeRectCallout">
            <a:avLst>
              <a:gd name="adj1" fmla="val 7843"/>
              <a:gd name="adj2" fmla="val -768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посещаемость»-ро пахш менам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571680" y="862920"/>
            <a:ext cx="10924560" cy="49924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3"/>
          <p:cNvSpPr/>
          <p:nvPr/>
        </p:nvSpPr>
        <p:spPr>
          <a:xfrm>
            <a:off x="2980440" y="2765880"/>
            <a:ext cx="4764960" cy="1054800"/>
          </a:xfrm>
          <a:prstGeom prst="wedgeRectCallout">
            <a:avLst>
              <a:gd name="adj1" fmla="val -14482"/>
              <a:gd name="adj2" fmla="val -818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Имконоти дилхохатонро интихоб кунед ва «Сохранить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24240" y="945360"/>
            <a:ext cx="10775880" cy="4919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ая выноска 2"/>
          <p:cNvSpPr/>
          <p:nvPr/>
        </p:nvSpPr>
        <p:spPr>
          <a:xfrm>
            <a:off x="4826880" y="3504600"/>
            <a:ext cx="4764960" cy="1054800"/>
          </a:xfrm>
          <a:prstGeom prst="wedgeRectCallout">
            <a:avLst>
              <a:gd name="adj1" fmla="val 15407"/>
              <a:gd name="adj2" fmla="val -8605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бахои худро би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  <Words>75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4:49:04Z</dcterms:created>
  <dc:creator>Курбанова Алина Салаватовна</dc:creator>
  <dc:description/>
  <dc:language>en-US</dc:language>
  <cp:lastModifiedBy>Asus</cp:lastModifiedBy>
  <dcterms:modified xsi:type="dcterms:W3CDTF">2020-09-21T18:32:14Z</dcterms:modified>
  <cp:revision>4</cp:revision>
  <dc:subject/>
  <dc:title>Как пройти тес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