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F591D41-0188-4D1C-9DDF-88406ECCCBD6}" type="doc">
      <dgm:prSet loTypeId="urn:microsoft.com/office/officeart/2005/8/layout/orgChart1" loCatId="hierarchy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A8CC5235-405D-4944-94C8-6D918BDE065E}">
      <dgm:prSet phldrT="[Текст]"/>
      <dgm:spPr/>
      <dgm:t>
        <a:bodyPr/>
        <a:lstStyle/>
        <a:p>
          <a:r>
            <a:rPr lang="ru-RU" dirty="0" err="1" smtClean="0"/>
            <a:t>Ворид</a:t>
          </a:r>
          <a:r>
            <a:rPr lang="ru-RU" dirty="0" smtClean="0"/>
            <a:t> </a:t>
          </a:r>
          <a:r>
            <a:rPr lang="ru-RU" dirty="0" err="1" smtClean="0"/>
            <a:t>кардани</a:t>
          </a:r>
          <a:r>
            <a:rPr lang="ru-RU" dirty="0" smtClean="0"/>
            <a:t> </a:t>
          </a:r>
          <a:r>
            <a:rPr lang="ru-RU" dirty="0" err="1" smtClean="0"/>
            <a:t>чавоб</a:t>
          </a:r>
          <a:endParaRPr lang="ru-RU" dirty="0" smtClean="0"/>
        </a:p>
        <a:p>
          <a:r>
            <a:rPr lang="ru-RU" dirty="0" err="1" smtClean="0"/>
            <a:t>бо</a:t>
          </a:r>
          <a:r>
            <a:rPr lang="ru-RU" dirty="0" smtClean="0"/>
            <a:t> се </a:t>
          </a:r>
          <a:r>
            <a:rPr lang="ru-RU" dirty="0" err="1" smtClean="0"/>
            <a:t>рох</a:t>
          </a:r>
          <a:endParaRPr lang="ru-RU" dirty="0"/>
        </a:p>
      </dgm:t>
    </dgm:pt>
    <dgm:pt modelId="{7B910A0C-DE9B-46DD-973A-29490373632D}" type="parTrans" cxnId="{08C07415-F61F-49E8-9AB2-78775E46C026}">
      <dgm:prSet/>
      <dgm:spPr/>
      <dgm:t>
        <a:bodyPr/>
        <a:lstStyle/>
        <a:p>
          <a:endParaRPr lang="ru-RU"/>
        </a:p>
      </dgm:t>
    </dgm:pt>
    <dgm:pt modelId="{4A5A9564-163C-4782-87E3-0D44AC5DA4F9}" type="sibTrans" cxnId="{08C07415-F61F-49E8-9AB2-78775E46C026}">
      <dgm:prSet/>
      <dgm:spPr/>
      <dgm:t>
        <a:bodyPr/>
        <a:lstStyle/>
        <a:p>
          <a:endParaRPr lang="ru-RU"/>
        </a:p>
      </dgm:t>
    </dgm:pt>
    <dgm:pt modelId="{392631F9-E922-4A96-B9C1-31C7A3EEC29F}">
      <dgm:prSet phldrT="[Текст]"/>
      <dgm:spPr/>
      <dgm:t>
        <a:bodyPr/>
        <a:lstStyle/>
        <a:p>
          <a:r>
            <a:rPr lang="ru-RU" dirty="0" smtClean="0"/>
            <a:t>1. </a:t>
          </a:r>
          <a:r>
            <a:rPr lang="ru-RU" dirty="0" smtClean="0"/>
            <a:t>Дар </a:t>
          </a:r>
          <a:r>
            <a:rPr lang="ru-RU" dirty="0" err="1" smtClean="0"/>
            <a:t>тирезаи</a:t>
          </a:r>
          <a:r>
            <a:rPr lang="ru-RU" dirty="0" smtClean="0"/>
            <a:t> </a:t>
          </a:r>
          <a:r>
            <a:rPr lang="ru-RU" dirty="0" err="1" smtClean="0"/>
            <a:t>махсус</a:t>
          </a:r>
          <a:r>
            <a:rPr lang="ru-RU" dirty="0" smtClean="0"/>
            <a:t> </a:t>
          </a:r>
          <a:r>
            <a:rPr lang="ru-RU" dirty="0" err="1" smtClean="0"/>
            <a:t>чоп</a:t>
          </a:r>
          <a:r>
            <a:rPr lang="ru-RU" dirty="0" smtClean="0"/>
            <a:t> кардан</a:t>
          </a:r>
          <a:endParaRPr lang="ru-RU" dirty="0"/>
        </a:p>
      </dgm:t>
    </dgm:pt>
    <dgm:pt modelId="{E4EA6CA7-B4CD-4960-BD63-4DED8CA1BFA3}" type="parTrans" cxnId="{7F2C5C14-5511-4088-AD9D-17521F0047B7}">
      <dgm:prSet/>
      <dgm:spPr/>
      <dgm:t>
        <a:bodyPr/>
        <a:lstStyle/>
        <a:p>
          <a:endParaRPr lang="ru-RU"/>
        </a:p>
      </dgm:t>
    </dgm:pt>
    <dgm:pt modelId="{8E0F037C-1309-4999-A3FB-6B0A665626ED}" type="sibTrans" cxnId="{7F2C5C14-5511-4088-AD9D-17521F0047B7}">
      <dgm:prSet/>
      <dgm:spPr/>
      <dgm:t>
        <a:bodyPr/>
        <a:lstStyle/>
        <a:p>
          <a:endParaRPr lang="ru-RU"/>
        </a:p>
      </dgm:t>
    </dgm:pt>
    <dgm:pt modelId="{07223E5C-1D59-4B08-BF3F-548170D806E7}">
      <dgm:prSet phldrT="[Текст]"/>
      <dgm:spPr/>
      <dgm:t>
        <a:bodyPr/>
        <a:lstStyle/>
        <a:p>
          <a:r>
            <a:rPr lang="ru-RU" dirty="0" smtClean="0"/>
            <a:t>2. </a:t>
          </a:r>
          <a:r>
            <a:rPr lang="ru-RU" dirty="0" err="1" smtClean="0"/>
            <a:t>Тайёр</a:t>
          </a:r>
          <a:r>
            <a:rPr lang="ru-RU" dirty="0" smtClean="0"/>
            <a:t> </a:t>
          </a:r>
          <a:r>
            <a:rPr lang="ru-RU" dirty="0" err="1" smtClean="0"/>
            <a:t>кардани</a:t>
          </a:r>
          <a:r>
            <a:rPr lang="ru-RU" dirty="0" smtClean="0"/>
            <a:t> </a:t>
          </a:r>
          <a:r>
            <a:rPr lang="ru-RU" dirty="0" err="1" smtClean="0"/>
            <a:t>вазифа</a:t>
          </a:r>
          <a:r>
            <a:rPr lang="ru-RU" dirty="0" smtClean="0"/>
            <a:t> дар </a:t>
          </a:r>
          <a:r>
            <a:rPr lang="ru-RU" dirty="0" err="1" smtClean="0"/>
            <a:t>дафтар</a:t>
          </a:r>
          <a:r>
            <a:rPr lang="ru-RU" dirty="0" smtClean="0"/>
            <a:t>, </a:t>
          </a:r>
          <a:r>
            <a:rPr lang="ru-RU" dirty="0" err="1" smtClean="0"/>
            <a:t>акс</a:t>
          </a:r>
          <a:r>
            <a:rPr lang="ru-RU" dirty="0" smtClean="0"/>
            <a:t> </a:t>
          </a:r>
          <a:r>
            <a:rPr lang="ru-RU" dirty="0" err="1" smtClean="0"/>
            <a:t>гирифтан</a:t>
          </a:r>
          <a:r>
            <a:rPr lang="ru-RU" dirty="0" smtClean="0"/>
            <a:t> </a:t>
          </a:r>
          <a:r>
            <a:rPr lang="ru-RU" dirty="0" err="1" smtClean="0"/>
            <a:t>ва</a:t>
          </a:r>
          <a:r>
            <a:rPr lang="ru-RU" dirty="0" smtClean="0"/>
            <a:t> ба </a:t>
          </a:r>
          <a:r>
            <a:rPr lang="ru-RU" dirty="0" err="1" smtClean="0"/>
            <a:t>сахифа</a:t>
          </a:r>
          <a:r>
            <a:rPr lang="ru-RU" dirty="0" smtClean="0"/>
            <a:t> </a:t>
          </a:r>
          <a:r>
            <a:rPr lang="ru-RU" dirty="0" err="1" smtClean="0"/>
            <a:t>дохил</a:t>
          </a:r>
          <a:r>
            <a:rPr lang="ru-RU" dirty="0" smtClean="0"/>
            <a:t> кардан</a:t>
          </a:r>
          <a:endParaRPr lang="ru-RU" dirty="0"/>
        </a:p>
      </dgm:t>
    </dgm:pt>
    <dgm:pt modelId="{63BA8D77-B36B-4DA5-A86B-DDEF5B4A2330}" type="parTrans" cxnId="{D619B3A1-F15C-46D5-8C8E-025E62034FCF}">
      <dgm:prSet/>
      <dgm:spPr/>
      <dgm:t>
        <a:bodyPr/>
        <a:lstStyle/>
        <a:p>
          <a:endParaRPr lang="ru-RU"/>
        </a:p>
      </dgm:t>
    </dgm:pt>
    <dgm:pt modelId="{BB6324AE-EFDF-44EE-B09B-59BCC3A9C402}" type="sibTrans" cxnId="{D619B3A1-F15C-46D5-8C8E-025E62034FCF}">
      <dgm:prSet/>
      <dgm:spPr/>
      <dgm:t>
        <a:bodyPr/>
        <a:lstStyle/>
        <a:p>
          <a:endParaRPr lang="ru-RU"/>
        </a:p>
      </dgm:t>
    </dgm:pt>
    <dgm:pt modelId="{0177E145-7651-47C1-94B7-9B39D86DCB4A}">
      <dgm:prSet phldrT="[Текст]"/>
      <dgm:spPr/>
      <dgm:t>
        <a:bodyPr/>
        <a:lstStyle/>
        <a:p>
          <a:r>
            <a:rPr lang="ru-RU" dirty="0" smtClean="0"/>
            <a:t>3. </a:t>
          </a:r>
          <a:r>
            <a:rPr lang="ru-RU" dirty="0" err="1" smtClean="0"/>
            <a:t>Тайёр</a:t>
          </a:r>
          <a:r>
            <a:rPr lang="ru-RU" dirty="0" smtClean="0"/>
            <a:t> </a:t>
          </a:r>
          <a:r>
            <a:rPr lang="ru-RU" dirty="0" err="1" smtClean="0"/>
            <a:t>кардани</a:t>
          </a:r>
          <a:r>
            <a:rPr lang="ru-RU" dirty="0" smtClean="0"/>
            <a:t> </a:t>
          </a:r>
          <a:r>
            <a:rPr lang="ru-RU" dirty="0" err="1" smtClean="0"/>
            <a:t>вазифа</a:t>
          </a:r>
          <a:r>
            <a:rPr lang="ru-RU" dirty="0" smtClean="0"/>
            <a:t> дар яке аз </a:t>
          </a:r>
          <a:r>
            <a:rPr lang="ru-RU" dirty="0" err="1" smtClean="0"/>
            <a:t>мухаррирони</a:t>
          </a:r>
          <a:r>
            <a:rPr lang="ru-RU" dirty="0" smtClean="0"/>
            <a:t> </a:t>
          </a:r>
          <a:r>
            <a:rPr lang="ru-RU" dirty="0" err="1" smtClean="0"/>
            <a:t>матн</a:t>
          </a:r>
          <a:r>
            <a:rPr lang="ru-RU" dirty="0" smtClean="0"/>
            <a:t> </a:t>
          </a:r>
          <a:r>
            <a:rPr lang="ru-RU" dirty="0" err="1" smtClean="0"/>
            <a:t>ва</a:t>
          </a:r>
          <a:r>
            <a:rPr lang="ru-RU" dirty="0" smtClean="0"/>
            <a:t> </a:t>
          </a:r>
          <a:r>
            <a:rPr lang="ru-RU" dirty="0" err="1" smtClean="0"/>
            <a:t>дохил</a:t>
          </a:r>
          <a:r>
            <a:rPr lang="ru-RU" dirty="0" smtClean="0"/>
            <a:t> кардан ба </a:t>
          </a:r>
          <a:r>
            <a:rPr lang="ru-RU" dirty="0" err="1" smtClean="0"/>
            <a:t>сахифа</a:t>
          </a:r>
          <a:endParaRPr lang="ru-RU" dirty="0"/>
        </a:p>
      </dgm:t>
    </dgm:pt>
    <dgm:pt modelId="{0942BCE0-F3F8-445B-AFD5-0F39C89CDDA1}" type="parTrans" cxnId="{7ED20E71-6F23-4509-AABF-ADABE6743E64}">
      <dgm:prSet/>
      <dgm:spPr/>
      <dgm:t>
        <a:bodyPr/>
        <a:lstStyle/>
        <a:p>
          <a:endParaRPr lang="ru-RU"/>
        </a:p>
      </dgm:t>
    </dgm:pt>
    <dgm:pt modelId="{B4243EB7-298C-47B8-9291-6B22C5696C47}" type="sibTrans" cxnId="{7ED20E71-6F23-4509-AABF-ADABE6743E64}">
      <dgm:prSet/>
      <dgm:spPr/>
      <dgm:t>
        <a:bodyPr/>
        <a:lstStyle/>
        <a:p>
          <a:endParaRPr lang="ru-RU"/>
        </a:p>
      </dgm:t>
    </dgm:pt>
    <dgm:pt modelId="{6443C71C-70B8-4FE6-9018-52247D9051BA}" type="pres">
      <dgm:prSet presAssocID="{BF591D41-0188-4D1C-9DDF-88406ECCCBD6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15C870E-D92F-4060-9AD3-86650341FEC8}" type="pres">
      <dgm:prSet presAssocID="{A8CC5235-405D-4944-94C8-6D918BDE065E}" presName="hierRoot1" presStyleCnt="0">
        <dgm:presLayoutVars>
          <dgm:hierBranch val="init"/>
        </dgm:presLayoutVars>
      </dgm:prSet>
      <dgm:spPr/>
    </dgm:pt>
    <dgm:pt modelId="{40ABB2FC-DB75-4973-ABA7-A1018D73008E}" type="pres">
      <dgm:prSet presAssocID="{A8CC5235-405D-4944-94C8-6D918BDE065E}" presName="rootComposite1" presStyleCnt="0"/>
      <dgm:spPr/>
    </dgm:pt>
    <dgm:pt modelId="{63F5050E-DB87-47DE-938D-332509213C6B}" type="pres">
      <dgm:prSet presAssocID="{A8CC5235-405D-4944-94C8-6D918BDE065E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0A9776C-F809-4D71-A3A9-7CD4AD8004C3}" type="pres">
      <dgm:prSet presAssocID="{A8CC5235-405D-4944-94C8-6D918BDE065E}" presName="rootConnector1" presStyleLbl="node1" presStyleIdx="0" presStyleCnt="0"/>
      <dgm:spPr/>
      <dgm:t>
        <a:bodyPr/>
        <a:lstStyle/>
        <a:p>
          <a:endParaRPr lang="ru-RU"/>
        </a:p>
      </dgm:t>
    </dgm:pt>
    <dgm:pt modelId="{B54A229F-AE13-456C-B4AE-4E3E83B14A5E}" type="pres">
      <dgm:prSet presAssocID="{A8CC5235-405D-4944-94C8-6D918BDE065E}" presName="hierChild2" presStyleCnt="0"/>
      <dgm:spPr/>
    </dgm:pt>
    <dgm:pt modelId="{391D49A0-A6DE-4606-BAC9-D376D8D9E0BE}" type="pres">
      <dgm:prSet presAssocID="{E4EA6CA7-B4CD-4960-BD63-4DED8CA1BFA3}" presName="Name37" presStyleLbl="parChTrans1D2" presStyleIdx="0" presStyleCnt="3"/>
      <dgm:spPr/>
      <dgm:t>
        <a:bodyPr/>
        <a:lstStyle/>
        <a:p>
          <a:endParaRPr lang="ru-RU"/>
        </a:p>
      </dgm:t>
    </dgm:pt>
    <dgm:pt modelId="{A40964DF-6F49-435F-8DA4-9315E3FC2AF2}" type="pres">
      <dgm:prSet presAssocID="{392631F9-E922-4A96-B9C1-31C7A3EEC29F}" presName="hierRoot2" presStyleCnt="0">
        <dgm:presLayoutVars>
          <dgm:hierBranch val="init"/>
        </dgm:presLayoutVars>
      </dgm:prSet>
      <dgm:spPr/>
    </dgm:pt>
    <dgm:pt modelId="{DB17ED96-7106-453C-9DC4-360084D0CA75}" type="pres">
      <dgm:prSet presAssocID="{392631F9-E922-4A96-B9C1-31C7A3EEC29F}" presName="rootComposite" presStyleCnt="0"/>
      <dgm:spPr/>
    </dgm:pt>
    <dgm:pt modelId="{C42B9A2C-1CC2-4BC3-B731-A6BC4B009197}" type="pres">
      <dgm:prSet presAssocID="{392631F9-E922-4A96-B9C1-31C7A3EEC29F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E8A3C6A-77A9-407F-AB78-9B87F3A8974E}" type="pres">
      <dgm:prSet presAssocID="{392631F9-E922-4A96-B9C1-31C7A3EEC29F}" presName="rootConnector" presStyleLbl="node2" presStyleIdx="0" presStyleCnt="3"/>
      <dgm:spPr/>
      <dgm:t>
        <a:bodyPr/>
        <a:lstStyle/>
        <a:p>
          <a:endParaRPr lang="ru-RU"/>
        </a:p>
      </dgm:t>
    </dgm:pt>
    <dgm:pt modelId="{978212CE-18D6-446C-8536-9B1FC2B3302B}" type="pres">
      <dgm:prSet presAssocID="{392631F9-E922-4A96-B9C1-31C7A3EEC29F}" presName="hierChild4" presStyleCnt="0"/>
      <dgm:spPr/>
    </dgm:pt>
    <dgm:pt modelId="{49742FB4-0A34-46AB-AFDE-8BCC402B8377}" type="pres">
      <dgm:prSet presAssocID="{392631F9-E922-4A96-B9C1-31C7A3EEC29F}" presName="hierChild5" presStyleCnt="0"/>
      <dgm:spPr/>
    </dgm:pt>
    <dgm:pt modelId="{1A1D0A27-BD03-4CDC-B2BE-7696C8DC9005}" type="pres">
      <dgm:prSet presAssocID="{63BA8D77-B36B-4DA5-A86B-DDEF5B4A2330}" presName="Name37" presStyleLbl="parChTrans1D2" presStyleIdx="1" presStyleCnt="3"/>
      <dgm:spPr/>
      <dgm:t>
        <a:bodyPr/>
        <a:lstStyle/>
        <a:p>
          <a:endParaRPr lang="ru-RU"/>
        </a:p>
      </dgm:t>
    </dgm:pt>
    <dgm:pt modelId="{12DF9165-5EDC-44CF-ADBD-45A9922099F7}" type="pres">
      <dgm:prSet presAssocID="{07223E5C-1D59-4B08-BF3F-548170D806E7}" presName="hierRoot2" presStyleCnt="0">
        <dgm:presLayoutVars>
          <dgm:hierBranch val="init"/>
        </dgm:presLayoutVars>
      </dgm:prSet>
      <dgm:spPr/>
    </dgm:pt>
    <dgm:pt modelId="{DD61E208-9169-4463-972B-BE1F0FD33EB7}" type="pres">
      <dgm:prSet presAssocID="{07223E5C-1D59-4B08-BF3F-548170D806E7}" presName="rootComposite" presStyleCnt="0"/>
      <dgm:spPr/>
    </dgm:pt>
    <dgm:pt modelId="{37C5CB48-983F-4041-82F0-7E2524786997}" type="pres">
      <dgm:prSet presAssocID="{07223E5C-1D59-4B08-BF3F-548170D806E7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3DB6167-D247-4F42-857A-748ADB1114B4}" type="pres">
      <dgm:prSet presAssocID="{07223E5C-1D59-4B08-BF3F-548170D806E7}" presName="rootConnector" presStyleLbl="node2" presStyleIdx="1" presStyleCnt="3"/>
      <dgm:spPr/>
      <dgm:t>
        <a:bodyPr/>
        <a:lstStyle/>
        <a:p>
          <a:endParaRPr lang="ru-RU"/>
        </a:p>
      </dgm:t>
    </dgm:pt>
    <dgm:pt modelId="{052A2E7F-2C93-4362-9E53-F15C46D5C1FE}" type="pres">
      <dgm:prSet presAssocID="{07223E5C-1D59-4B08-BF3F-548170D806E7}" presName="hierChild4" presStyleCnt="0"/>
      <dgm:spPr/>
    </dgm:pt>
    <dgm:pt modelId="{1BD0D1F9-2CD1-4FBD-81A9-BA28C9E74D91}" type="pres">
      <dgm:prSet presAssocID="{07223E5C-1D59-4B08-BF3F-548170D806E7}" presName="hierChild5" presStyleCnt="0"/>
      <dgm:spPr/>
    </dgm:pt>
    <dgm:pt modelId="{2CEE4A6A-1A27-4C34-BAEF-59B04C80E47D}" type="pres">
      <dgm:prSet presAssocID="{0942BCE0-F3F8-445B-AFD5-0F39C89CDDA1}" presName="Name37" presStyleLbl="parChTrans1D2" presStyleIdx="2" presStyleCnt="3"/>
      <dgm:spPr/>
      <dgm:t>
        <a:bodyPr/>
        <a:lstStyle/>
        <a:p>
          <a:endParaRPr lang="ru-RU"/>
        </a:p>
      </dgm:t>
    </dgm:pt>
    <dgm:pt modelId="{01A110D5-50A6-42D7-8060-C2A1D4966689}" type="pres">
      <dgm:prSet presAssocID="{0177E145-7651-47C1-94B7-9B39D86DCB4A}" presName="hierRoot2" presStyleCnt="0">
        <dgm:presLayoutVars>
          <dgm:hierBranch val="init"/>
        </dgm:presLayoutVars>
      </dgm:prSet>
      <dgm:spPr/>
    </dgm:pt>
    <dgm:pt modelId="{3AAD4378-269E-457D-B46B-CCD84E423FDC}" type="pres">
      <dgm:prSet presAssocID="{0177E145-7651-47C1-94B7-9B39D86DCB4A}" presName="rootComposite" presStyleCnt="0"/>
      <dgm:spPr/>
    </dgm:pt>
    <dgm:pt modelId="{F1B529EF-5333-4958-83A4-40AE416659E8}" type="pres">
      <dgm:prSet presAssocID="{0177E145-7651-47C1-94B7-9B39D86DCB4A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DC722FB-089A-4612-A3FB-FAE6483F1CD9}" type="pres">
      <dgm:prSet presAssocID="{0177E145-7651-47C1-94B7-9B39D86DCB4A}" presName="rootConnector" presStyleLbl="node2" presStyleIdx="2" presStyleCnt="3"/>
      <dgm:spPr/>
      <dgm:t>
        <a:bodyPr/>
        <a:lstStyle/>
        <a:p>
          <a:endParaRPr lang="ru-RU"/>
        </a:p>
      </dgm:t>
    </dgm:pt>
    <dgm:pt modelId="{B3D61363-D46E-4739-8443-0C318DBB1F47}" type="pres">
      <dgm:prSet presAssocID="{0177E145-7651-47C1-94B7-9B39D86DCB4A}" presName="hierChild4" presStyleCnt="0"/>
      <dgm:spPr/>
    </dgm:pt>
    <dgm:pt modelId="{F3B5107B-8E5F-4BAF-A3DA-C744F0EFCE9C}" type="pres">
      <dgm:prSet presAssocID="{0177E145-7651-47C1-94B7-9B39D86DCB4A}" presName="hierChild5" presStyleCnt="0"/>
      <dgm:spPr/>
    </dgm:pt>
    <dgm:pt modelId="{90FD970C-85CE-4FF8-9052-28E85B68DE02}" type="pres">
      <dgm:prSet presAssocID="{A8CC5235-405D-4944-94C8-6D918BDE065E}" presName="hierChild3" presStyleCnt="0"/>
      <dgm:spPr/>
    </dgm:pt>
  </dgm:ptLst>
  <dgm:cxnLst>
    <dgm:cxn modelId="{A3042132-C148-481B-97C6-14257F8E668D}" type="presOf" srcId="{392631F9-E922-4A96-B9C1-31C7A3EEC29F}" destId="{DE8A3C6A-77A9-407F-AB78-9B87F3A8974E}" srcOrd="1" destOrd="0" presId="urn:microsoft.com/office/officeart/2005/8/layout/orgChart1"/>
    <dgm:cxn modelId="{3F548074-8210-47CE-AFFB-24CC1885435D}" type="presOf" srcId="{A8CC5235-405D-4944-94C8-6D918BDE065E}" destId="{63F5050E-DB87-47DE-938D-332509213C6B}" srcOrd="0" destOrd="0" presId="urn:microsoft.com/office/officeart/2005/8/layout/orgChart1"/>
    <dgm:cxn modelId="{08C07415-F61F-49E8-9AB2-78775E46C026}" srcId="{BF591D41-0188-4D1C-9DDF-88406ECCCBD6}" destId="{A8CC5235-405D-4944-94C8-6D918BDE065E}" srcOrd="0" destOrd="0" parTransId="{7B910A0C-DE9B-46DD-973A-29490373632D}" sibTransId="{4A5A9564-163C-4782-87E3-0D44AC5DA4F9}"/>
    <dgm:cxn modelId="{0368B19A-50A4-4ED5-BEB0-CC9ED7872026}" type="presOf" srcId="{E4EA6CA7-B4CD-4960-BD63-4DED8CA1BFA3}" destId="{391D49A0-A6DE-4606-BAC9-D376D8D9E0BE}" srcOrd="0" destOrd="0" presId="urn:microsoft.com/office/officeart/2005/8/layout/orgChart1"/>
    <dgm:cxn modelId="{7863B3BA-F158-4F6E-BD73-AE6337F6736E}" type="presOf" srcId="{392631F9-E922-4A96-B9C1-31C7A3EEC29F}" destId="{C42B9A2C-1CC2-4BC3-B731-A6BC4B009197}" srcOrd="0" destOrd="0" presId="urn:microsoft.com/office/officeart/2005/8/layout/orgChart1"/>
    <dgm:cxn modelId="{33DF32D4-C735-4AF2-9718-BF23C253F12F}" type="presOf" srcId="{07223E5C-1D59-4B08-BF3F-548170D806E7}" destId="{37C5CB48-983F-4041-82F0-7E2524786997}" srcOrd="0" destOrd="0" presId="urn:microsoft.com/office/officeart/2005/8/layout/orgChart1"/>
    <dgm:cxn modelId="{C1AE0DB6-5BB2-4875-968B-E014513A72F2}" type="presOf" srcId="{BF591D41-0188-4D1C-9DDF-88406ECCCBD6}" destId="{6443C71C-70B8-4FE6-9018-52247D9051BA}" srcOrd="0" destOrd="0" presId="urn:microsoft.com/office/officeart/2005/8/layout/orgChart1"/>
    <dgm:cxn modelId="{D619B3A1-F15C-46D5-8C8E-025E62034FCF}" srcId="{A8CC5235-405D-4944-94C8-6D918BDE065E}" destId="{07223E5C-1D59-4B08-BF3F-548170D806E7}" srcOrd="1" destOrd="0" parTransId="{63BA8D77-B36B-4DA5-A86B-DDEF5B4A2330}" sibTransId="{BB6324AE-EFDF-44EE-B09B-59BCC3A9C402}"/>
    <dgm:cxn modelId="{7F2C5C14-5511-4088-AD9D-17521F0047B7}" srcId="{A8CC5235-405D-4944-94C8-6D918BDE065E}" destId="{392631F9-E922-4A96-B9C1-31C7A3EEC29F}" srcOrd="0" destOrd="0" parTransId="{E4EA6CA7-B4CD-4960-BD63-4DED8CA1BFA3}" sibTransId="{8E0F037C-1309-4999-A3FB-6B0A665626ED}"/>
    <dgm:cxn modelId="{F79B93A2-66C4-450E-BF73-6A943DD842FA}" type="presOf" srcId="{07223E5C-1D59-4B08-BF3F-548170D806E7}" destId="{83DB6167-D247-4F42-857A-748ADB1114B4}" srcOrd="1" destOrd="0" presId="urn:microsoft.com/office/officeart/2005/8/layout/orgChart1"/>
    <dgm:cxn modelId="{B219B83A-A9AA-47FC-9F16-FC99C2C3E3F9}" type="presOf" srcId="{63BA8D77-B36B-4DA5-A86B-DDEF5B4A2330}" destId="{1A1D0A27-BD03-4CDC-B2BE-7696C8DC9005}" srcOrd="0" destOrd="0" presId="urn:microsoft.com/office/officeart/2005/8/layout/orgChart1"/>
    <dgm:cxn modelId="{D0C94336-43C6-40E6-B3D4-B8CD91DAB779}" type="presOf" srcId="{0177E145-7651-47C1-94B7-9B39D86DCB4A}" destId="{CDC722FB-089A-4612-A3FB-FAE6483F1CD9}" srcOrd="1" destOrd="0" presId="urn:microsoft.com/office/officeart/2005/8/layout/orgChart1"/>
    <dgm:cxn modelId="{DD77182E-0BF2-46A5-93A9-3906242C0281}" type="presOf" srcId="{0177E145-7651-47C1-94B7-9B39D86DCB4A}" destId="{F1B529EF-5333-4958-83A4-40AE416659E8}" srcOrd="0" destOrd="0" presId="urn:microsoft.com/office/officeart/2005/8/layout/orgChart1"/>
    <dgm:cxn modelId="{08DB186C-D051-4868-8E75-C8AD52AE2102}" type="presOf" srcId="{A8CC5235-405D-4944-94C8-6D918BDE065E}" destId="{30A9776C-F809-4D71-A3A9-7CD4AD8004C3}" srcOrd="1" destOrd="0" presId="urn:microsoft.com/office/officeart/2005/8/layout/orgChart1"/>
    <dgm:cxn modelId="{7ED20E71-6F23-4509-AABF-ADABE6743E64}" srcId="{A8CC5235-405D-4944-94C8-6D918BDE065E}" destId="{0177E145-7651-47C1-94B7-9B39D86DCB4A}" srcOrd="2" destOrd="0" parTransId="{0942BCE0-F3F8-445B-AFD5-0F39C89CDDA1}" sibTransId="{B4243EB7-298C-47B8-9291-6B22C5696C47}"/>
    <dgm:cxn modelId="{C0F8A7B1-F31E-4754-BE58-9ECD76C0E15B}" type="presOf" srcId="{0942BCE0-F3F8-445B-AFD5-0F39C89CDDA1}" destId="{2CEE4A6A-1A27-4C34-BAEF-59B04C80E47D}" srcOrd="0" destOrd="0" presId="urn:microsoft.com/office/officeart/2005/8/layout/orgChart1"/>
    <dgm:cxn modelId="{E2F570D6-9797-4149-ACF5-4282DC2682CE}" type="presParOf" srcId="{6443C71C-70B8-4FE6-9018-52247D9051BA}" destId="{315C870E-D92F-4060-9AD3-86650341FEC8}" srcOrd="0" destOrd="0" presId="urn:microsoft.com/office/officeart/2005/8/layout/orgChart1"/>
    <dgm:cxn modelId="{0C91FB33-450B-49D5-965A-B69E06AA6FB8}" type="presParOf" srcId="{315C870E-D92F-4060-9AD3-86650341FEC8}" destId="{40ABB2FC-DB75-4973-ABA7-A1018D73008E}" srcOrd="0" destOrd="0" presId="urn:microsoft.com/office/officeart/2005/8/layout/orgChart1"/>
    <dgm:cxn modelId="{10473BE4-2F8E-453D-A1BD-3613A0259330}" type="presParOf" srcId="{40ABB2FC-DB75-4973-ABA7-A1018D73008E}" destId="{63F5050E-DB87-47DE-938D-332509213C6B}" srcOrd="0" destOrd="0" presId="urn:microsoft.com/office/officeart/2005/8/layout/orgChart1"/>
    <dgm:cxn modelId="{D284A6D7-3D34-463C-B1B4-9186CBDE5ADC}" type="presParOf" srcId="{40ABB2FC-DB75-4973-ABA7-A1018D73008E}" destId="{30A9776C-F809-4D71-A3A9-7CD4AD8004C3}" srcOrd="1" destOrd="0" presId="urn:microsoft.com/office/officeart/2005/8/layout/orgChart1"/>
    <dgm:cxn modelId="{EBA578AF-B144-49F1-97C1-5C2E273491B9}" type="presParOf" srcId="{315C870E-D92F-4060-9AD3-86650341FEC8}" destId="{B54A229F-AE13-456C-B4AE-4E3E83B14A5E}" srcOrd="1" destOrd="0" presId="urn:microsoft.com/office/officeart/2005/8/layout/orgChart1"/>
    <dgm:cxn modelId="{EF6CCBF2-B474-4562-A573-AD95274BA00F}" type="presParOf" srcId="{B54A229F-AE13-456C-B4AE-4E3E83B14A5E}" destId="{391D49A0-A6DE-4606-BAC9-D376D8D9E0BE}" srcOrd="0" destOrd="0" presId="urn:microsoft.com/office/officeart/2005/8/layout/orgChart1"/>
    <dgm:cxn modelId="{F92112B1-D2C8-4DB7-91C5-807B74C90CF6}" type="presParOf" srcId="{B54A229F-AE13-456C-B4AE-4E3E83B14A5E}" destId="{A40964DF-6F49-435F-8DA4-9315E3FC2AF2}" srcOrd="1" destOrd="0" presId="urn:microsoft.com/office/officeart/2005/8/layout/orgChart1"/>
    <dgm:cxn modelId="{2ECDB905-A283-4A31-AAE4-BACA14FED79D}" type="presParOf" srcId="{A40964DF-6F49-435F-8DA4-9315E3FC2AF2}" destId="{DB17ED96-7106-453C-9DC4-360084D0CA75}" srcOrd="0" destOrd="0" presId="urn:microsoft.com/office/officeart/2005/8/layout/orgChart1"/>
    <dgm:cxn modelId="{7B3A2CC5-9A01-4352-867D-B0B5B6C486DF}" type="presParOf" srcId="{DB17ED96-7106-453C-9DC4-360084D0CA75}" destId="{C42B9A2C-1CC2-4BC3-B731-A6BC4B009197}" srcOrd="0" destOrd="0" presId="urn:microsoft.com/office/officeart/2005/8/layout/orgChart1"/>
    <dgm:cxn modelId="{5C713B8B-9ACC-42FC-8C5E-48598F5E206B}" type="presParOf" srcId="{DB17ED96-7106-453C-9DC4-360084D0CA75}" destId="{DE8A3C6A-77A9-407F-AB78-9B87F3A8974E}" srcOrd="1" destOrd="0" presId="urn:microsoft.com/office/officeart/2005/8/layout/orgChart1"/>
    <dgm:cxn modelId="{4320399A-5475-44E2-85E3-6CE42572A772}" type="presParOf" srcId="{A40964DF-6F49-435F-8DA4-9315E3FC2AF2}" destId="{978212CE-18D6-446C-8536-9B1FC2B3302B}" srcOrd="1" destOrd="0" presId="urn:microsoft.com/office/officeart/2005/8/layout/orgChart1"/>
    <dgm:cxn modelId="{9EE79FA5-C6CF-4B1D-A29F-F6EA167B7561}" type="presParOf" srcId="{A40964DF-6F49-435F-8DA4-9315E3FC2AF2}" destId="{49742FB4-0A34-46AB-AFDE-8BCC402B8377}" srcOrd="2" destOrd="0" presId="urn:microsoft.com/office/officeart/2005/8/layout/orgChart1"/>
    <dgm:cxn modelId="{99E9B475-62F6-49F1-A4FE-776CE802A470}" type="presParOf" srcId="{B54A229F-AE13-456C-B4AE-4E3E83B14A5E}" destId="{1A1D0A27-BD03-4CDC-B2BE-7696C8DC9005}" srcOrd="2" destOrd="0" presId="urn:microsoft.com/office/officeart/2005/8/layout/orgChart1"/>
    <dgm:cxn modelId="{E34F7A5C-3AEC-4C47-BF2A-283316062516}" type="presParOf" srcId="{B54A229F-AE13-456C-B4AE-4E3E83B14A5E}" destId="{12DF9165-5EDC-44CF-ADBD-45A9922099F7}" srcOrd="3" destOrd="0" presId="urn:microsoft.com/office/officeart/2005/8/layout/orgChart1"/>
    <dgm:cxn modelId="{3D262033-6022-46F0-87A2-EE96375E655C}" type="presParOf" srcId="{12DF9165-5EDC-44CF-ADBD-45A9922099F7}" destId="{DD61E208-9169-4463-972B-BE1F0FD33EB7}" srcOrd="0" destOrd="0" presId="urn:microsoft.com/office/officeart/2005/8/layout/orgChart1"/>
    <dgm:cxn modelId="{DDC6174A-E798-4519-A819-E2273813BE9C}" type="presParOf" srcId="{DD61E208-9169-4463-972B-BE1F0FD33EB7}" destId="{37C5CB48-983F-4041-82F0-7E2524786997}" srcOrd="0" destOrd="0" presId="urn:microsoft.com/office/officeart/2005/8/layout/orgChart1"/>
    <dgm:cxn modelId="{A5DC5CDF-3FDB-49BF-8E16-83AD19FFA40A}" type="presParOf" srcId="{DD61E208-9169-4463-972B-BE1F0FD33EB7}" destId="{83DB6167-D247-4F42-857A-748ADB1114B4}" srcOrd="1" destOrd="0" presId="urn:microsoft.com/office/officeart/2005/8/layout/orgChart1"/>
    <dgm:cxn modelId="{5D11A44D-28C8-4014-8893-16D0BC7C2291}" type="presParOf" srcId="{12DF9165-5EDC-44CF-ADBD-45A9922099F7}" destId="{052A2E7F-2C93-4362-9E53-F15C46D5C1FE}" srcOrd="1" destOrd="0" presId="urn:microsoft.com/office/officeart/2005/8/layout/orgChart1"/>
    <dgm:cxn modelId="{4AD61F51-494E-456C-8A79-5B43A35CEC11}" type="presParOf" srcId="{12DF9165-5EDC-44CF-ADBD-45A9922099F7}" destId="{1BD0D1F9-2CD1-4FBD-81A9-BA28C9E74D91}" srcOrd="2" destOrd="0" presId="urn:microsoft.com/office/officeart/2005/8/layout/orgChart1"/>
    <dgm:cxn modelId="{23BDB310-18FD-4411-BA38-34C5CBF93A8B}" type="presParOf" srcId="{B54A229F-AE13-456C-B4AE-4E3E83B14A5E}" destId="{2CEE4A6A-1A27-4C34-BAEF-59B04C80E47D}" srcOrd="4" destOrd="0" presId="urn:microsoft.com/office/officeart/2005/8/layout/orgChart1"/>
    <dgm:cxn modelId="{20C39F22-DA13-47E9-9373-3163FDE4F753}" type="presParOf" srcId="{B54A229F-AE13-456C-B4AE-4E3E83B14A5E}" destId="{01A110D5-50A6-42D7-8060-C2A1D4966689}" srcOrd="5" destOrd="0" presId="urn:microsoft.com/office/officeart/2005/8/layout/orgChart1"/>
    <dgm:cxn modelId="{34FE7A22-A2F3-47B1-ADFF-59F7E3F918E9}" type="presParOf" srcId="{01A110D5-50A6-42D7-8060-C2A1D4966689}" destId="{3AAD4378-269E-457D-B46B-CCD84E423FDC}" srcOrd="0" destOrd="0" presId="urn:microsoft.com/office/officeart/2005/8/layout/orgChart1"/>
    <dgm:cxn modelId="{CB2C84A7-7CCA-4F4E-BD2A-CEB214A6D746}" type="presParOf" srcId="{3AAD4378-269E-457D-B46B-CCD84E423FDC}" destId="{F1B529EF-5333-4958-83A4-40AE416659E8}" srcOrd="0" destOrd="0" presId="urn:microsoft.com/office/officeart/2005/8/layout/orgChart1"/>
    <dgm:cxn modelId="{E4BEF349-4878-439C-B6A6-A1E56642A70A}" type="presParOf" srcId="{3AAD4378-269E-457D-B46B-CCD84E423FDC}" destId="{CDC722FB-089A-4612-A3FB-FAE6483F1CD9}" srcOrd="1" destOrd="0" presId="urn:microsoft.com/office/officeart/2005/8/layout/orgChart1"/>
    <dgm:cxn modelId="{C413885B-962C-41FB-9794-1FB927B632E2}" type="presParOf" srcId="{01A110D5-50A6-42D7-8060-C2A1D4966689}" destId="{B3D61363-D46E-4739-8443-0C318DBB1F47}" srcOrd="1" destOrd="0" presId="urn:microsoft.com/office/officeart/2005/8/layout/orgChart1"/>
    <dgm:cxn modelId="{20001798-41C0-4F91-8C5C-46410F110977}" type="presParOf" srcId="{01A110D5-50A6-42D7-8060-C2A1D4966689}" destId="{F3B5107B-8E5F-4BAF-A3DA-C744F0EFCE9C}" srcOrd="2" destOrd="0" presId="urn:microsoft.com/office/officeart/2005/8/layout/orgChart1"/>
    <dgm:cxn modelId="{7E0DB3A1-ACA0-45A8-B9B9-10B782F2F8F4}" type="presParOf" srcId="{315C870E-D92F-4060-9AD3-86650341FEC8}" destId="{90FD970C-85CE-4FF8-9052-28E85B68DE02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  <a:ext uri="{C62137D5-CB1D-491B-B009-E17868A290BF}">
      <dgm14:recolorImg xmlns:dgm14="http://schemas.microsoft.com/office/drawing/2010/diagram" val="1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CEE4A6A-1A27-4C34-BAEF-59B04C80E47D}">
      <dsp:nvSpPr>
        <dsp:cNvPr id="0" name=""/>
        <dsp:cNvSpPr/>
      </dsp:nvSpPr>
      <dsp:spPr>
        <a:xfrm>
          <a:off x="4998427" y="2278058"/>
          <a:ext cx="3536423" cy="613759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06879"/>
              </a:lnTo>
              <a:lnTo>
                <a:pt x="3536423" y="306879"/>
              </a:lnTo>
              <a:lnTo>
                <a:pt x="3536423" y="613759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A1D0A27-BD03-4CDC-B2BE-7696C8DC9005}">
      <dsp:nvSpPr>
        <dsp:cNvPr id="0" name=""/>
        <dsp:cNvSpPr/>
      </dsp:nvSpPr>
      <dsp:spPr>
        <a:xfrm>
          <a:off x="4952707" y="2278058"/>
          <a:ext cx="91440" cy="613759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613759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91D49A0-A6DE-4606-BAC9-D376D8D9E0BE}">
      <dsp:nvSpPr>
        <dsp:cNvPr id="0" name=""/>
        <dsp:cNvSpPr/>
      </dsp:nvSpPr>
      <dsp:spPr>
        <a:xfrm>
          <a:off x="1462003" y="2278058"/>
          <a:ext cx="3536423" cy="613759"/>
        </a:xfrm>
        <a:custGeom>
          <a:avLst/>
          <a:gdLst/>
          <a:ahLst/>
          <a:cxnLst/>
          <a:rect l="0" t="0" r="0" b="0"/>
          <a:pathLst>
            <a:path>
              <a:moveTo>
                <a:pt x="3536423" y="0"/>
              </a:moveTo>
              <a:lnTo>
                <a:pt x="3536423" y="306879"/>
              </a:lnTo>
              <a:lnTo>
                <a:pt x="0" y="306879"/>
              </a:lnTo>
              <a:lnTo>
                <a:pt x="0" y="613759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3F5050E-DB87-47DE-938D-332509213C6B}">
      <dsp:nvSpPr>
        <dsp:cNvPr id="0" name=""/>
        <dsp:cNvSpPr/>
      </dsp:nvSpPr>
      <dsp:spPr>
        <a:xfrm>
          <a:off x="3537094" y="816726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err="1" smtClean="0"/>
            <a:t>Ворид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карда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чавоб</a:t>
          </a:r>
          <a:endParaRPr lang="ru-RU" sz="2200" kern="1200" dirty="0" smtClean="0"/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err="1" smtClean="0"/>
            <a:t>бо</a:t>
          </a:r>
          <a:r>
            <a:rPr lang="ru-RU" sz="2200" kern="1200" dirty="0" smtClean="0"/>
            <a:t> се </a:t>
          </a:r>
          <a:r>
            <a:rPr lang="ru-RU" sz="2200" kern="1200" dirty="0" err="1" smtClean="0"/>
            <a:t>рох</a:t>
          </a:r>
          <a:endParaRPr lang="ru-RU" sz="2200" kern="1200" dirty="0"/>
        </a:p>
      </dsp:txBody>
      <dsp:txXfrm>
        <a:off x="3537094" y="816726"/>
        <a:ext cx="2922664" cy="1461332"/>
      </dsp:txXfrm>
    </dsp:sp>
    <dsp:sp modelId="{C42B9A2C-1CC2-4BC3-B731-A6BC4B009197}">
      <dsp:nvSpPr>
        <dsp:cNvPr id="0" name=""/>
        <dsp:cNvSpPr/>
      </dsp:nvSpPr>
      <dsp:spPr>
        <a:xfrm>
          <a:off x="671" y="2891817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1. </a:t>
          </a:r>
          <a:r>
            <a:rPr lang="ru-RU" sz="2200" kern="1200" dirty="0" smtClean="0"/>
            <a:t>Дар </a:t>
          </a:r>
          <a:r>
            <a:rPr lang="ru-RU" sz="2200" kern="1200" dirty="0" err="1" smtClean="0"/>
            <a:t>тиреза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махсус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чоп</a:t>
          </a:r>
          <a:r>
            <a:rPr lang="ru-RU" sz="2200" kern="1200" dirty="0" smtClean="0"/>
            <a:t> кардан</a:t>
          </a:r>
          <a:endParaRPr lang="ru-RU" sz="2200" kern="1200" dirty="0"/>
        </a:p>
      </dsp:txBody>
      <dsp:txXfrm>
        <a:off x="671" y="2891817"/>
        <a:ext cx="2922664" cy="1461332"/>
      </dsp:txXfrm>
    </dsp:sp>
    <dsp:sp modelId="{37C5CB48-983F-4041-82F0-7E2524786997}">
      <dsp:nvSpPr>
        <dsp:cNvPr id="0" name=""/>
        <dsp:cNvSpPr/>
      </dsp:nvSpPr>
      <dsp:spPr>
        <a:xfrm>
          <a:off x="3537094" y="2891817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2. </a:t>
          </a:r>
          <a:r>
            <a:rPr lang="ru-RU" sz="2200" kern="1200" dirty="0" err="1" smtClean="0"/>
            <a:t>Тайёр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карда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зифа</a:t>
          </a:r>
          <a:r>
            <a:rPr lang="ru-RU" sz="2200" kern="1200" dirty="0" smtClean="0"/>
            <a:t> дар </a:t>
          </a:r>
          <a:r>
            <a:rPr lang="ru-RU" sz="2200" kern="1200" dirty="0" err="1" smtClean="0"/>
            <a:t>дафтар</a:t>
          </a:r>
          <a:r>
            <a:rPr lang="ru-RU" sz="2200" kern="1200" dirty="0" smtClean="0"/>
            <a:t>, </a:t>
          </a:r>
          <a:r>
            <a:rPr lang="ru-RU" sz="2200" kern="1200" dirty="0" err="1" smtClean="0"/>
            <a:t>акс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гирифтан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</a:t>
          </a:r>
          <a:r>
            <a:rPr lang="ru-RU" sz="2200" kern="1200" dirty="0" smtClean="0"/>
            <a:t> ба </a:t>
          </a:r>
          <a:r>
            <a:rPr lang="ru-RU" sz="2200" kern="1200" dirty="0" err="1" smtClean="0"/>
            <a:t>сахифа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дохил</a:t>
          </a:r>
          <a:r>
            <a:rPr lang="ru-RU" sz="2200" kern="1200" dirty="0" smtClean="0"/>
            <a:t> кардан</a:t>
          </a:r>
          <a:endParaRPr lang="ru-RU" sz="2200" kern="1200" dirty="0"/>
        </a:p>
      </dsp:txBody>
      <dsp:txXfrm>
        <a:off x="3537094" y="2891817"/>
        <a:ext cx="2922664" cy="1461332"/>
      </dsp:txXfrm>
    </dsp:sp>
    <dsp:sp modelId="{F1B529EF-5333-4958-83A4-40AE416659E8}">
      <dsp:nvSpPr>
        <dsp:cNvPr id="0" name=""/>
        <dsp:cNvSpPr/>
      </dsp:nvSpPr>
      <dsp:spPr>
        <a:xfrm>
          <a:off x="7073518" y="2891817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3. </a:t>
          </a:r>
          <a:r>
            <a:rPr lang="ru-RU" sz="2200" kern="1200" dirty="0" err="1" smtClean="0"/>
            <a:t>Тайёр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карда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зифа</a:t>
          </a:r>
          <a:r>
            <a:rPr lang="ru-RU" sz="2200" kern="1200" dirty="0" smtClean="0"/>
            <a:t> дар яке аз </a:t>
          </a:r>
          <a:r>
            <a:rPr lang="ru-RU" sz="2200" kern="1200" dirty="0" err="1" smtClean="0"/>
            <a:t>мухарриро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матн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дохил</a:t>
          </a:r>
          <a:r>
            <a:rPr lang="ru-RU" sz="2200" kern="1200" dirty="0" smtClean="0"/>
            <a:t> кардан ба </a:t>
          </a:r>
          <a:r>
            <a:rPr lang="ru-RU" sz="2200" kern="1200" dirty="0" err="1" smtClean="0"/>
            <a:t>сахифа</a:t>
          </a:r>
          <a:endParaRPr lang="ru-RU" sz="2200" kern="1200" dirty="0"/>
        </a:p>
      </dsp:txBody>
      <dsp:txXfrm>
        <a:off x="7073518" y="2891817"/>
        <a:ext cx="2922664" cy="146133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794-C006-40E1-A0B3-99E07CCA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1D9-40B5-4BE4-B776-6E181BF3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39D-0D65-4B08-944B-D70C46CC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F98-F8AE-4C0E-93E7-153D4BD4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8E68-4E64-4D91-9FD3-9ACCFDE9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CDC2-1E07-4938-A368-0FED3E6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8BC8-8EEB-4A28-B506-917909A5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18D-73C1-4923-AC4F-CD2D3974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1EE-9FD2-4134-94A5-43A647E3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BCC2-A6A8-469B-9CA9-AD02C5F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5839-5B6A-4561-94A6-1166F34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45B-B375-4269-8CC2-FDB25CE3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7117-7DE7-4A79-9374-729D443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CCF-CDC7-4D4B-9D8D-471AA3E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5364-CA61-46D1-848C-C4E0A352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4687-B130-4757-B9FA-B78F0812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8A16-B233-469D-A902-D2DF1621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4A1-BB2F-4D5E-8AA5-16B054E8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D7B-6970-46FE-8167-F1DFB251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F18-EC80-4130-8047-D46626CC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96E-F4DF-494C-96F6-D6D712B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DF6-5349-487A-87B2-E3666F12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56C-E4B9-4003-AC28-E22F04C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449-1AF2-4E65-BFFF-F89664D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83A100-3BA4-4E09-85DE-33F27AA105D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9B5080-0657-476D-A3BD-F62C55AEA3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545040" y="599760"/>
            <a:ext cx="10905840" cy="5501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ая выноска 2"/>
          <p:cNvSpPr/>
          <p:nvPr/>
        </p:nvSpPr>
        <p:spPr>
          <a:xfrm>
            <a:off x="7476480" y="4185000"/>
            <a:ext cx="3636720" cy="528480"/>
          </a:xfrm>
          <a:prstGeom prst="wedgeRectCallout">
            <a:avLst>
              <a:gd name="adj1" fmla="val -59926"/>
              <a:gd name="adj2" fmla="val 264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Загрузить этот файл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765000" y="678240"/>
            <a:ext cx="10656000" cy="53614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ая выноска 3"/>
          <p:cNvSpPr/>
          <p:nvPr/>
        </p:nvSpPr>
        <p:spPr>
          <a:xfrm>
            <a:off x="2948400" y="2628720"/>
            <a:ext cx="5016960" cy="528480"/>
          </a:xfrm>
          <a:prstGeom prst="wedgeRectCallout">
            <a:avLst>
              <a:gd name="adj1" fmla="val -59926"/>
              <a:gd name="adj2" fmla="val 264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уттии «Описание не обязательно»-ро кайд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ая выноска 4"/>
          <p:cNvSpPr/>
          <p:nvPr/>
        </p:nvSpPr>
        <p:spPr>
          <a:xfrm>
            <a:off x="5964120" y="3999600"/>
            <a:ext cx="3988440" cy="528480"/>
          </a:xfrm>
          <a:prstGeom prst="wedgeRectCallout">
            <a:avLst>
              <a:gd name="adj1" fmla="val -37928"/>
              <a:gd name="adj2" fmla="val 79685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Сохранить изображение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852840" y="527040"/>
            <a:ext cx="10717560" cy="5519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ая выноска 2"/>
          <p:cNvSpPr/>
          <p:nvPr/>
        </p:nvSpPr>
        <p:spPr>
          <a:xfrm>
            <a:off x="4091400" y="4422600"/>
            <a:ext cx="3636720" cy="528480"/>
          </a:xfrm>
          <a:prstGeom prst="wedgeRectCallout">
            <a:avLst>
              <a:gd name="adj1" fmla="val -15204"/>
              <a:gd name="adj2" fmla="val 87995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Сохранить»- 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492480" y="848880"/>
            <a:ext cx="11073960" cy="48304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ая выноска 2"/>
          <p:cNvSpPr/>
          <p:nvPr/>
        </p:nvSpPr>
        <p:spPr>
          <a:xfrm>
            <a:off x="7757640" y="4087080"/>
            <a:ext cx="3610440" cy="528480"/>
          </a:xfrm>
          <a:prstGeom prst="wedgeRectCallout">
            <a:avLst>
              <a:gd name="adj1" fmla="val -62585"/>
              <a:gd name="adj2" fmla="val 5309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на проверку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492480" y="1184760"/>
            <a:ext cx="11205000" cy="5475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ая выноска 4"/>
          <p:cNvSpPr/>
          <p:nvPr/>
        </p:nvSpPr>
        <p:spPr>
          <a:xfrm>
            <a:off x="5600880" y="4539600"/>
            <a:ext cx="4202280" cy="634320"/>
          </a:xfrm>
          <a:prstGeom prst="wedgeRectCallout">
            <a:avLst>
              <a:gd name="adj1" fmla="val -69004"/>
              <a:gd name="adj2" fmla="val -5941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Шумо метавонед чавобро бо фарматх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.doc .pdf .ppt .xls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охил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383760" y="107640"/>
            <a:ext cx="11313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делать задание в одном из текстовых редакторов и загрузить этот файл на 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510120" y="620280"/>
            <a:ext cx="11102400" cy="54198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ая выноска 2"/>
          <p:cNvSpPr/>
          <p:nvPr/>
        </p:nvSpPr>
        <p:spPr>
          <a:xfrm>
            <a:off x="5999400" y="3253320"/>
            <a:ext cx="3100320" cy="492120"/>
          </a:xfrm>
          <a:prstGeom prst="wedgeRectCallout">
            <a:avLst>
              <a:gd name="adj1" fmla="val -59454"/>
              <a:gd name="adj2" fmla="val -4694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Выберите файл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588960" y="653400"/>
            <a:ext cx="11042640" cy="5585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ая выноска 3"/>
          <p:cNvSpPr/>
          <p:nvPr/>
        </p:nvSpPr>
        <p:spPr>
          <a:xfrm>
            <a:off x="5119920" y="4106160"/>
            <a:ext cx="3109320" cy="623880"/>
          </a:xfrm>
          <a:prstGeom prst="wedgeRectCallout">
            <a:avLst>
              <a:gd name="adj1" fmla="val 32897"/>
              <a:gd name="adj2" fmla="val 13292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Файлро интихоб карда в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&lt;&lt;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ткрыть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&gt;&gt;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 зер кун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606600" y="593640"/>
            <a:ext cx="10965600" cy="55432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ая выноска 2"/>
          <p:cNvSpPr/>
          <p:nvPr/>
        </p:nvSpPr>
        <p:spPr>
          <a:xfrm>
            <a:off x="7669800" y="4185000"/>
            <a:ext cx="3636720" cy="528480"/>
          </a:xfrm>
          <a:prstGeom prst="wedgeRectCallout">
            <a:avLst>
              <a:gd name="adj1" fmla="val -59926"/>
              <a:gd name="adj2" fmla="val 264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Загрузить этот файл»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606600" y="660240"/>
            <a:ext cx="10866960" cy="52959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ая выноска 2"/>
          <p:cNvSpPr/>
          <p:nvPr/>
        </p:nvSpPr>
        <p:spPr>
          <a:xfrm>
            <a:off x="3942000" y="5301720"/>
            <a:ext cx="3636720" cy="528480"/>
          </a:xfrm>
          <a:prstGeom prst="wedgeRectCallout">
            <a:avLst>
              <a:gd name="adj1" fmla="val -17380"/>
              <a:gd name="adj2" fmla="val -78210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Сохранить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694440" y="694440"/>
            <a:ext cx="10840680" cy="542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ая выноска 2"/>
          <p:cNvSpPr/>
          <p:nvPr/>
        </p:nvSpPr>
        <p:spPr>
          <a:xfrm>
            <a:off x="8083080" y="5045400"/>
            <a:ext cx="3610440" cy="528480"/>
          </a:xfrm>
          <a:prstGeom prst="wedgeRectCallout">
            <a:avLst>
              <a:gd name="adj1" fmla="val -62585"/>
              <a:gd name="adj2" fmla="val 5309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на проверку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6280" y="312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добавить ответ на задание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476991336"/>
              </p:ext>
            </p:extLst>
          </p:nvPr>
        </p:nvGraphicFramePr>
        <p:xfrm>
          <a:off x="1185480" y="1266120"/>
          <a:ext cx="9996480" cy="5169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571320" y="978840"/>
            <a:ext cx="11012760" cy="44895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2"/>
          <p:cNvSpPr/>
          <p:nvPr/>
        </p:nvSpPr>
        <p:spPr>
          <a:xfrm>
            <a:off x="5108400" y="1846440"/>
            <a:ext cx="4764960" cy="1054800"/>
          </a:xfrm>
          <a:prstGeom prst="wedgeRectCallout">
            <a:avLst>
              <a:gd name="adj1" fmla="val -86253"/>
              <a:gd name="adj2" fmla="val 48108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азифаро куш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677160" y="577800"/>
            <a:ext cx="10978920" cy="5356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ая выноска 2"/>
          <p:cNvSpPr/>
          <p:nvPr/>
        </p:nvSpPr>
        <p:spPr>
          <a:xfrm>
            <a:off x="4633560" y="4061880"/>
            <a:ext cx="4413240" cy="1054800"/>
          </a:xfrm>
          <a:prstGeom prst="wedgeRectCallout">
            <a:avLst>
              <a:gd name="adj1" fmla="val 4441"/>
              <a:gd name="adj2" fmla="val 8144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Добавить ответ на задание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27400" y="997920"/>
            <a:ext cx="11205000" cy="54759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ая выноска 2"/>
          <p:cNvSpPr/>
          <p:nvPr/>
        </p:nvSpPr>
        <p:spPr>
          <a:xfrm>
            <a:off x="1943280" y="2514600"/>
            <a:ext cx="2197800" cy="711720"/>
          </a:xfrm>
          <a:prstGeom prst="wedgeRectCallout">
            <a:avLst>
              <a:gd name="adj1" fmla="val 65187"/>
              <a:gd name="adj2" fmla="val -818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Чавобро чоп кардан мумкин 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24240" y="246240"/>
            <a:ext cx="70333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печатать в специальном ок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510120" y="1162080"/>
            <a:ext cx="11205000" cy="5475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ая выноска 3"/>
          <p:cNvSpPr/>
          <p:nvPr/>
        </p:nvSpPr>
        <p:spPr>
          <a:xfrm>
            <a:off x="5744160" y="1389240"/>
            <a:ext cx="3021120" cy="634320"/>
          </a:xfrm>
          <a:prstGeom prst="wedgeRectCallout">
            <a:avLst>
              <a:gd name="adj1" fmla="val -30537"/>
              <a:gd name="adj2" fmla="val 95783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етавонед акси чавобро дохил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10760" y="84960"/>
            <a:ext cx="1140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делать задание в тетради, сфотографировать его и загрузить фото на 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624240" y="669960"/>
            <a:ext cx="1098684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ая выноска 2"/>
          <p:cNvSpPr/>
          <p:nvPr/>
        </p:nvSpPr>
        <p:spPr>
          <a:xfrm>
            <a:off x="7757640" y="1582560"/>
            <a:ext cx="3021120" cy="634320"/>
          </a:xfrm>
          <a:prstGeom prst="wedgeRectCallout">
            <a:avLst>
              <a:gd name="adj1" fmla="val -61672"/>
              <a:gd name="adj2" fmla="val 142896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Выбрать из хранилища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641880" y="818280"/>
            <a:ext cx="11007000" cy="51426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ая выноска 2"/>
          <p:cNvSpPr/>
          <p:nvPr/>
        </p:nvSpPr>
        <p:spPr>
          <a:xfrm>
            <a:off x="6069600" y="3244320"/>
            <a:ext cx="3100320" cy="492120"/>
          </a:xfrm>
          <a:prstGeom prst="wedgeRectCallout">
            <a:avLst>
              <a:gd name="adj1" fmla="val -59454"/>
              <a:gd name="adj2" fmla="val -4694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Выберите файл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582480" y="1044360"/>
            <a:ext cx="10910880" cy="5573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ая выноска 2"/>
          <p:cNvSpPr/>
          <p:nvPr/>
        </p:nvSpPr>
        <p:spPr>
          <a:xfrm>
            <a:off x="5023440" y="3401640"/>
            <a:ext cx="3021120" cy="1152360"/>
          </a:xfrm>
          <a:prstGeom prst="wedgeRectCallout">
            <a:avLst>
              <a:gd name="adj1" fmla="val 32897"/>
              <a:gd name="adj2" fmla="val 13292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Акси чавобро интихоб намоед ва тугмачаи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“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ткрыть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“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246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6T11:19:22Z</dcterms:created>
  <dc:creator>Курбанова Алина Салаватовна</dc:creator>
  <dc:description/>
  <dc:language>en-US</dc:language>
  <cp:lastModifiedBy>Asus</cp:lastModifiedBy>
  <dcterms:modified xsi:type="dcterms:W3CDTF">2020-09-21T16:34:02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9</vt:r8>
  </property>
</Properties>
</file>