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CD67-54D7-4944-8184-AC1A1B082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EA72-8307-4E4E-A3A8-1D7D4451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006B-D2C1-4A1A-A644-147A97C0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87C-02CE-41A7-949A-A330991B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71B1-3CEB-49A7-9967-2E231B20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64F0-4A6D-479C-B1F9-9FA8B5C1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5796-8761-49E6-A128-AF63372D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DC5-AC64-451B-9D83-8C3AA71F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745-C8B7-4D8A-9EA2-A3FE8D1C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8FD4-F6FF-4189-B10D-526865AD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C4C6-FC84-4D67-A1C7-64AAE778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B8D9-491A-45EF-9114-8228C3F5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A2EF62-9648-4D49-9999-FA88F51DDC5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"/>
          <p:cNvPicPr/>
          <p:nvPr/>
        </p:nvPicPr>
        <p:blipFill>
          <a:blip r:embed="rId1"/>
          <a:stretch/>
        </p:blipFill>
        <p:spPr>
          <a:xfrm>
            <a:off x="1301400" y="1239840"/>
            <a:ext cx="9823680" cy="43869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ая выноска 4"/>
          <p:cNvSpPr/>
          <p:nvPr/>
        </p:nvSpPr>
        <p:spPr>
          <a:xfrm>
            <a:off x="4024080" y="3182760"/>
            <a:ext cx="4378320" cy="1476720"/>
          </a:xfrm>
          <a:prstGeom prst="wedgeRectCallout">
            <a:avLst>
              <a:gd name="adj1" fmla="val 67969"/>
              <a:gd name="adj2" fmla="val -34481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амзро барои воридшави ба 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edu@SUSU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аз деканат дастрас  намо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765000" y="1499040"/>
            <a:ext cx="10712520" cy="49366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ая выноска 2"/>
          <p:cNvSpPr/>
          <p:nvPr/>
        </p:nvSpPr>
        <p:spPr>
          <a:xfrm>
            <a:off x="3918600" y="4308120"/>
            <a:ext cx="4636080" cy="1476720"/>
          </a:xfrm>
          <a:prstGeom prst="wedgeRectCallout">
            <a:avLst>
              <a:gd name="adj1" fmla="val -73999"/>
              <a:gd name="adj2" fmla="val 31591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Ба аломати нишони сурхдор «Тест» зер мекун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(номаш метавонад дигар боша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899640" y="472680"/>
            <a:ext cx="105152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ак выполнить тес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518760" y="844200"/>
            <a:ext cx="11054880" cy="52131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ая выноска 2"/>
          <p:cNvSpPr/>
          <p:nvPr/>
        </p:nvSpPr>
        <p:spPr>
          <a:xfrm>
            <a:off x="7555680" y="1573920"/>
            <a:ext cx="3856320" cy="2646000"/>
          </a:xfrm>
          <a:prstGeom prst="wedgeRectCallout">
            <a:avLst>
              <a:gd name="adj1" fmla="val -66248"/>
              <a:gd name="adj2" fmla="val 2023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Начать тестирование»-ро пахш кунед. Ба «Ограничение по времени» ва «Разрешено попыт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диккат дих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545040" y="840240"/>
            <a:ext cx="11081880" cy="50414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ая выноска 2"/>
          <p:cNvSpPr/>
          <p:nvPr/>
        </p:nvSpPr>
        <p:spPr>
          <a:xfrm>
            <a:off x="5252040" y="4387320"/>
            <a:ext cx="3856320" cy="1301040"/>
          </a:xfrm>
          <a:prstGeom prst="wedgeRectCallout">
            <a:avLst>
              <a:gd name="adj1" fmla="val -32508"/>
              <a:gd name="adj2" fmla="val -75004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Начать попытку»-ро зер куне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527400" y="698040"/>
            <a:ext cx="10936440" cy="50252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ая выноска 3"/>
          <p:cNvSpPr/>
          <p:nvPr/>
        </p:nvSpPr>
        <p:spPr>
          <a:xfrm>
            <a:off x="4469400" y="1864080"/>
            <a:ext cx="3856320" cy="500760"/>
          </a:xfrm>
          <a:prstGeom prst="wedgeRectCallout">
            <a:avLst>
              <a:gd name="adj1" fmla="val -80610"/>
              <a:gd name="adj2" fmla="val 21512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Савол бо интихоби чав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ая выноска 10"/>
          <p:cNvSpPr/>
          <p:nvPr/>
        </p:nvSpPr>
        <p:spPr>
          <a:xfrm>
            <a:off x="5656680" y="3013200"/>
            <a:ext cx="3680640" cy="517320"/>
          </a:xfrm>
          <a:prstGeom prst="wedgeRectCallout">
            <a:avLst>
              <a:gd name="adj1" fmla="val -54849"/>
              <a:gd name="adj2" fmla="val 2774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Чавобро навиштан лозим 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ая выноска 11"/>
          <p:cNvSpPr/>
          <p:nvPr/>
        </p:nvSpPr>
        <p:spPr>
          <a:xfrm>
            <a:off x="4006440" y="3920040"/>
            <a:ext cx="3680640" cy="517320"/>
          </a:xfrm>
          <a:prstGeom prst="wedgeRectCallout">
            <a:avLst>
              <a:gd name="adj1" fmla="val -58910"/>
              <a:gd name="adj2" fmla="val -31184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Савол бо интихоби чаво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536400" y="899280"/>
            <a:ext cx="10980720" cy="49208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ая выноска 2"/>
          <p:cNvSpPr/>
          <p:nvPr/>
        </p:nvSpPr>
        <p:spPr>
          <a:xfrm>
            <a:off x="3988800" y="4069440"/>
            <a:ext cx="5066640" cy="517320"/>
          </a:xfrm>
          <a:prstGeom prst="wedgeRectCallout">
            <a:avLst>
              <a:gd name="adj1" fmla="val -9743"/>
              <a:gd name="adj2" fmla="val -87214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Отправить всё и завершить тест»-ро пахш намо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536400" y="792720"/>
            <a:ext cx="11097720" cy="507168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ая выноска 2"/>
          <p:cNvSpPr/>
          <p:nvPr/>
        </p:nvSpPr>
        <p:spPr>
          <a:xfrm>
            <a:off x="3707640" y="4474080"/>
            <a:ext cx="5893200" cy="517320"/>
          </a:xfrm>
          <a:prstGeom prst="wedgeRectCallout">
            <a:avLst>
              <a:gd name="adj1" fmla="val -17387"/>
              <a:gd name="adj2" fmla="val -138151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Отправить всё и завершить тест»-ро як бори дигар пахш намо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562680" y="749880"/>
            <a:ext cx="11053080" cy="50968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ая выноска 2"/>
          <p:cNvSpPr/>
          <p:nvPr/>
        </p:nvSpPr>
        <p:spPr>
          <a:xfrm>
            <a:off x="4015440" y="1757160"/>
            <a:ext cx="5559120" cy="517320"/>
          </a:xfrm>
          <a:prstGeom prst="wedgeRectCallout">
            <a:avLst>
              <a:gd name="adj1" fmla="val -59185"/>
              <a:gd name="adj2" fmla="val 29940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Шумо метавонед инчо бахои худро би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  <Words>103</Words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7T07:12:01Z</dcterms:created>
  <dc:creator>Курбанова Алина Салаватовна</dc:creator>
  <dc:description/>
  <dc:language>en-US</dc:language>
  <cp:lastModifiedBy>Asus</cp:lastModifiedBy>
  <dcterms:modified xsi:type="dcterms:W3CDTF">2020-09-21T18:43:48Z</dcterms:modified>
  <cp:revision>5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8</vt:r8>
  </property>
</Properties>
</file>