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C87-3486-4592-BDBD-FD2E1F96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D56-5238-4404-8B41-B9EF3698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08F-A459-4F6C-8C57-A3C132B5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64C-EFAB-4651-B498-22FA07D1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285-2D5B-41FD-9F2E-13ABEC23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C6C3-F8CC-4C68-B6B0-6B10140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510-2D52-435D-AB82-A3A5010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3FA4-2DB3-427E-BBFE-FBC17F4C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EAFD-52A1-4283-9F7E-B0BF7B9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2045-C79C-4218-8668-21E4CD1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7333-2F3E-43C5-86D4-7B1023A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300-CE7A-49FB-A4FA-1A3D867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8730-E036-4419-AE1C-4C528B0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AF9-3BF3-4259-9A3D-4D23B3E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515E-7686-40A9-A54A-69B90D6E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2BDF-2959-4E7E-98BB-98951532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F89-9E60-4D9C-A137-8D400CCE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7A3-A0E8-41AE-94A3-1F0ACCD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C46-91F9-4633-A9F2-8AC73B31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8D1-1AFC-4E04-BD3E-D3D05632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E73-6288-44F1-A66C-2D3F876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C97-1EAD-4FAF-AC28-421F163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4A1-E97E-45B3-A5F4-7C3CCFA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90B-E858-40FB-B8BE-7B5F5B6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971021-4DC3-4727-8DFF-566A4D131F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72BFEC-DE39-4AD8-88B1-482B1366E8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18680" y="1230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огин и пароль для входа в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 получаете в своем дека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659520" y="684360"/>
            <a:ext cx="10954800" cy="5264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ая выноска 4"/>
          <p:cNvSpPr/>
          <p:nvPr/>
        </p:nvSpPr>
        <p:spPr>
          <a:xfrm>
            <a:off x="2239200" y="932040"/>
            <a:ext cx="4811760" cy="694080"/>
          </a:xfrm>
          <a:prstGeom prst="wedgeRectCallout">
            <a:avLst>
              <a:gd name="adj1" fmla="val -63155"/>
              <a:gd name="adj2" fmla="val -3283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вы можете найти список все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2"/>
          <p:cNvGrpSpPr/>
          <p:nvPr/>
        </p:nvGrpSpPr>
        <p:grpSpPr>
          <a:xfrm>
            <a:off x="588960" y="812880"/>
            <a:ext cx="10902240" cy="5008680"/>
            <a:chOff x="588960" y="812880"/>
            <a:chExt cx="10902240" cy="5008680"/>
          </a:xfrm>
        </p:grpSpPr>
        <p:pic>
          <p:nvPicPr>
            <p:cNvPr id="87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588960" y="812880"/>
              <a:ext cx="10902240" cy="50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8"/>
            <p:cNvSpPr/>
            <p:nvPr/>
          </p:nvSpPr>
          <p:spPr>
            <a:xfrm>
              <a:off x="2136600" y="240912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Прямоугольник 9"/>
            <p:cNvSpPr/>
            <p:nvPr/>
          </p:nvSpPr>
          <p:spPr>
            <a:xfrm>
              <a:off x="1981080" y="187560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Прямоугольник 10"/>
            <p:cNvSpPr/>
            <p:nvPr/>
          </p:nvSpPr>
          <p:spPr>
            <a:xfrm>
              <a:off x="2136600" y="267588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" name="Прямоугольная выноска 7"/>
          <p:cNvSpPr/>
          <p:nvPr/>
        </p:nvSpPr>
        <p:spPr>
          <a:xfrm>
            <a:off x="6269040" y="1151640"/>
            <a:ext cx="3982680" cy="579960"/>
          </a:xfrm>
          <a:prstGeom prst="wedgeRectCallout">
            <a:avLst>
              <a:gd name="adj1" fmla="val 58651"/>
              <a:gd name="adj2" fmla="val -2499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информация о пользова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5" descr=""/>
          <p:cNvPicPr/>
          <p:nvPr/>
        </p:nvPicPr>
        <p:blipFill>
          <a:blip r:embed="rId1"/>
          <a:stretch/>
        </p:blipFill>
        <p:spPr>
          <a:xfrm>
            <a:off x="650520" y="780480"/>
            <a:ext cx="10825200" cy="5030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16"/>
          <p:cNvSpPr/>
          <p:nvPr/>
        </p:nvSpPr>
        <p:spPr>
          <a:xfrm>
            <a:off x="6603120" y="1105920"/>
            <a:ext cx="3578040" cy="579960"/>
          </a:xfrm>
          <a:prstGeom prst="wedgeRectCallout">
            <a:avLst>
              <a:gd name="adj1" fmla="val 60684"/>
              <a:gd name="adj2" fmla="val -37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информация об оцен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9372600" y="5635800"/>
            <a:ext cx="1125000" cy="1051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9372600" y="4654080"/>
            <a:ext cx="1125000" cy="10512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88960" y="809280"/>
            <a:ext cx="10776960" cy="5019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ая выноска 2"/>
          <p:cNvSpPr/>
          <p:nvPr/>
        </p:nvSpPr>
        <p:spPr>
          <a:xfrm>
            <a:off x="2010600" y="1079640"/>
            <a:ext cx="2464200" cy="458640"/>
          </a:xfrm>
          <a:prstGeom prst="wedgeRectCallout">
            <a:avLst>
              <a:gd name="adj1" fmla="val -64826"/>
              <a:gd name="adj2" fmla="val 1113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алендарь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  <Words>29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9:29:48Z</dcterms:created>
  <dc:creator>Курбанова Алина Салаватовна</dc:creator>
  <dc:description/>
  <dc:language>en-US</dc:language>
  <cp:lastModifiedBy>Курбанова Алина Салаватовна</cp:lastModifiedBy>
  <dcterms:modified xsi:type="dcterms:W3CDTF">2020-09-17T09:59:57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