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D8E-9D00-4C77-BB3E-638620B1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70F5-7367-4EBE-B9D0-815CFDA6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21C-3572-401C-9911-E15AF0B9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B7B-F11E-415B-AA79-7D8D3120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6025-26FE-4F07-BD49-A8D613D99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8F0FA-03CB-42C7-B31A-8F6CAB4E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0F5-9919-482D-A29A-AB6AF995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E33D-DC0D-46C3-A4C8-C1A26D42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BD1E-65BA-4BF0-811D-5FC2233A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8D51-1A2C-4AF1-9835-9C58840E2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02B5-55DF-492F-9938-3C455DCC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21FF-8C0D-4D93-98C1-07711F7E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9AA0-72A2-4D82-89A0-35944EE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04A-DEFA-4D1B-B844-A157D0F3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AEFC-8C2B-4A4F-B069-FA6B4A22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9E4-4A92-4905-A6F1-E2E31DEA3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249-F60C-4983-8A86-16EB21BE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2D3-9983-4777-A303-FAC699DB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D3A9-3D18-4703-A9A5-AD5F2DA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9D0-0196-4C0D-B97F-FD4779E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FE8C-6A78-483F-85A5-1E4AC3F3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820-836F-49BE-8F21-C3DCF7A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B264-4DA9-4A57-B2D8-C373508D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5F9-E8D3-4691-A21D-76E93588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F1C3CA-E5E5-4300-A938-EB3933B3297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8C6B51-ECFB-480D-AACE-A0B409F7892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18680" y="1230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огин и пароль для входа в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 получаете в своем декан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"/>
          <p:cNvPicPr/>
          <p:nvPr/>
        </p:nvPicPr>
        <p:blipFill>
          <a:blip r:embed="rId1"/>
          <a:stretch/>
        </p:blipFill>
        <p:spPr>
          <a:xfrm>
            <a:off x="659520" y="684360"/>
            <a:ext cx="10954800" cy="526428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ая выноска 4"/>
          <p:cNvSpPr/>
          <p:nvPr/>
        </p:nvSpPr>
        <p:spPr>
          <a:xfrm>
            <a:off x="2239200" y="932040"/>
            <a:ext cx="4811760" cy="694080"/>
          </a:xfrm>
          <a:prstGeom prst="wedgeRectCallout">
            <a:avLst>
              <a:gd name="adj1" fmla="val -63155"/>
              <a:gd name="adj2" fmla="val -32838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вы можете найти список всех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2"/>
          <p:cNvGrpSpPr/>
          <p:nvPr/>
        </p:nvGrpSpPr>
        <p:grpSpPr>
          <a:xfrm>
            <a:off x="588960" y="812880"/>
            <a:ext cx="10902240" cy="5008680"/>
            <a:chOff x="588960" y="812880"/>
            <a:chExt cx="10902240" cy="5008680"/>
          </a:xfrm>
        </p:grpSpPr>
        <p:pic>
          <p:nvPicPr>
            <p:cNvPr id="87" name="Рисунок 6" descr=""/>
            <p:cNvPicPr/>
            <p:nvPr/>
          </p:nvPicPr>
          <p:blipFill>
            <a:blip r:embed="rId1"/>
            <a:stretch/>
          </p:blipFill>
          <p:spPr>
            <a:xfrm>
              <a:off x="588960" y="812880"/>
              <a:ext cx="10902240" cy="50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Прямоугольник 8"/>
            <p:cNvSpPr/>
            <p:nvPr/>
          </p:nvSpPr>
          <p:spPr>
            <a:xfrm>
              <a:off x="2136600" y="240912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Прямоугольник 9"/>
            <p:cNvSpPr/>
            <p:nvPr/>
          </p:nvSpPr>
          <p:spPr>
            <a:xfrm>
              <a:off x="1981080" y="187560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Прямоугольник 10"/>
            <p:cNvSpPr/>
            <p:nvPr/>
          </p:nvSpPr>
          <p:spPr>
            <a:xfrm>
              <a:off x="2136600" y="2675880"/>
              <a:ext cx="1344960" cy="964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" name="Прямоугольная выноска 7"/>
          <p:cNvSpPr/>
          <p:nvPr/>
        </p:nvSpPr>
        <p:spPr>
          <a:xfrm>
            <a:off x="6269040" y="1151640"/>
            <a:ext cx="3982680" cy="579960"/>
          </a:xfrm>
          <a:prstGeom prst="wedgeRectCallout">
            <a:avLst>
              <a:gd name="adj1" fmla="val 58651"/>
              <a:gd name="adj2" fmla="val -24994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информация о пользоват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5" descr=""/>
          <p:cNvPicPr/>
          <p:nvPr/>
        </p:nvPicPr>
        <p:blipFill>
          <a:blip r:embed="rId1"/>
          <a:stretch/>
        </p:blipFill>
        <p:spPr>
          <a:xfrm>
            <a:off x="650520" y="780480"/>
            <a:ext cx="10825200" cy="503064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ая выноска 16"/>
          <p:cNvSpPr/>
          <p:nvPr/>
        </p:nvSpPr>
        <p:spPr>
          <a:xfrm>
            <a:off x="6603120" y="1105920"/>
            <a:ext cx="3578040" cy="579960"/>
          </a:xfrm>
          <a:prstGeom prst="wedgeRectCallout">
            <a:avLst>
              <a:gd name="adj1" fmla="val 60684"/>
              <a:gd name="adj2" fmla="val -37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Тут информация об оцен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9372600" y="5635800"/>
            <a:ext cx="1125000" cy="105120"/>
          </a:xfrm>
          <a:prstGeom prst="rect">
            <a:avLst/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9372600" y="4654080"/>
            <a:ext cx="1125000" cy="105120"/>
          </a:xfrm>
          <a:prstGeom prst="rect">
            <a:avLst/>
          </a:prstGeom>
          <a:solidFill>
            <a:srgbClr val="f2f2f2"/>
          </a:solidFill>
          <a:ln>
            <a:solidFill>
              <a:srgbClr val="f2f2f2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"/>
          <p:cNvPicPr/>
          <p:nvPr/>
        </p:nvPicPr>
        <p:blipFill>
          <a:blip r:embed="rId1"/>
          <a:stretch/>
        </p:blipFill>
        <p:spPr>
          <a:xfrm>
            <a:off x="588960" y="809280"/>
            <a:ext cx="10776960" cy="50194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ая выноска 2"/>
          <p:cNvSpPr/>
          <p:nvPr/>
        </p:nvSpPr>
        <p:spPr>
          <a:xfrm>
            <a:off x="2010600" y="1079640"/>
            <a:ext cx="2464200" cy="458640"/>
          </a:xfrm>
          <a:prstGeom prst="wedgeRectCallout">
            <a:avLst>
              <a:gd name="adj1" fmla="val -64826"/>
              <a:gd name="adj2" fmla="val 1113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Календарь собы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  <Words>29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9:29:48Z</dcterms:created>
  <dc:creator>Курбанова Алина Салаватовна</dc:creator>
  <dc:description/>
  <dc:language>en-US</dc:language>
  <cp:lastModifiedBy>Курбанова Алина Салаватовна</cp:lastModifiedBy>
  <dcterms:modified xsi:type="dcterms:W3CDTF">2020-09-17T09:59:57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