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colors51.xml" ContentType="application/vnd.openxmlformats-officedocument.drawingml.diagramColors+xml"/>
  <Override PartName="/ppt/diagrams/colors50.xml" ContentType="application/vnd.openxmlformats-officedocument.drawingml.diagramColors+xml"/>
  <Override PartName="/ppt/diagrams/layout50.xml" ContentType="application/vnd.openxmlformats-officedocument.drawingml.diagramLayout+xml"/>
  <Override PartName="/ppt/diagrams/colors48.xml" ContentType="application/vnd.openxmlformats-officedocument.drawingml.diagramColors+xml"/>
  <Override PartName="/ppt/diagrams/drawing49.xml" ContentType="application/vnd.ms-office.drawingml.diagramDrawing+xml"/>
  <Override PartName="/ppt/diagrams/quickStyle49.xml" ContentType="application/vnd.openxmlformats-officedocument.drawingml.diagramStyle+xml"/>
  <Override PartName="/ppt/diagrams/drawing70.xml" ContentType="application/vnd.ms-office.drawingml.diagramDrawing+xml"/>
  <Override PartName="/ppt/diagrams/data49.xml" ContentType="application/vnd.openxmlformats-officedocument.drawingml.diagramData+xml"/>
  <Override PartName="/ppt/diagrams/quickStyle30.xml" ContentType="application/vnd.openxmlformats-officedocument.drawingml.diagramStyle+xml"/>
  <Override PartName="/ppt/diagrams/drawing48.xml" ContentType="application/vnd.ms-office.drawingml.diagramDrawing+xml"/>
  <Override PartName="/ppt/diagrams/quickStyle48.xml" ContentType="application/vnd.openxmlformats-officedocument.drawingml.diagramStyle+xml"/>
  <Override PartName="/ppt/diagrams/colors42.xml" ContentType="application/vnd.openxmlformats-officedocument.drawingml.diagramColors+xml"/>
  <Override PartName="/ppt/diagrams/colors41.xml" ContentType="application/vnd.openxmlformats-officedocument.drawingml.diagramColors+xml"/>
  <Override PartName="/ppt/diagrams/colors40.xml" ContentType="application/vnd.openxmlformats-officedocument.drawingml.diagramColors+xml"/>
  <Override PartName="/ppt/diagrams/layout40.xml" ContentType="application/vnd.openxmlformats-officedocument.drawingml.diagramLayout+xml"/>
  <Override PartName="/ppt/diagrams/colors38.xml" ContentType="application/vnd.openxmlformats-officedocument.drawingml.diagramColors+xml"/>
  <Override PartName="/ppt/diagrams/drawing39.xml" ContentType="application/vnd.ms-office.drawingml.diagramDrawing+xml"/>
  <Override PartName="/ppt/diagrams/quickStyle39.xml" ContentType="application/vnd.openxmlformats-officedocument.drawingml.diagramStyle+xml"/>
  <Override PartName="/ppt/diagrams/data2.xml" ContentType="application/vnd.openxmlformats-officedocument.drawingml.diagramData+xml"/>
  <Override PartName="/ppt/diagrams/drawing60.xml" ContentType="application/vnd.ms-office.drawingml.diagramDrawing+xml"/>
  <Override PartName="/ppt/diagrams/drawing38.xml" ContentType="application/vnd.ms-office.drawingml.diagramDrawing+xml"/>
  <Override PartName="/ppt/diagrams/quickStyle38.xml" ContentType="application/vnd.openxmlformats-officedocument.drawingml.diagramStyle+xml"/>
  <Override PartName="/ppt/diagrams/data1.xml" ContentType="application/vnd.openxmlformats-officedocument.drawingml.diagramData+xml"/>
  <Override PartName="/ppt/diagrams/quickStyle37.xml" ContentType="application/vnd.openxmlformats-officedocument.drawingml.diagramStyle+xml"/>
  <Override PartName="/ppt/diagrams/colors49.xml" ContentType="application/vnd.openxmlformats-officedocument.drawingml.diagramColors+xml"/>
  <Override PartName="/ppt/diagrams/layout51.xml" ContentType="application/vnd.openxmlformats-officedocument.drawingml.diagramLayout+xml"/>
  <Override PartName="/ppt/diagrams/quickStyle36.xml" ContentType="application/vnd.openxmlformats-officedocument.drawingml.diagramStyle+xml"/>
  <Override PartName="/ppt/diagrams/quickStyle35.xml" ContentType="application/vnd.openxmlformats-officedocument.drawingml.diagramStyle+xml"/>
  <Override PartName="/ppt/diagrams/data35.xml" ContentType="application/vnd.openxmlformats-officedocument.drawingml.diagramData+xml"/>
  <Override PartName="/ppt/diagrams/colors47.xml" ContentType="application/vnd.openxmlformats-officedocument.drawingml.diagramColors+xml"/>
  <Override PartName="/ppt/diagrams/quickStyle34.xml" ContentType="application/vnd.openxmlformats-officedocument.drawingml.diagramStyle+xml"/>
  <Override PartName="/ppt/diagrams/data34.xml" ContentType="application/vnd.openxmlformats-officedocument.drawingml.diagramData+xml"/>
  <Override PartName="/ppt/diagrams/colors46.xml" ContentType="application/vnd.openxmlformats-officedocument.drawingml.diagramColors+xml"/>
  <Override PartName="/ppt/diagrams/quickStyle33.xml" ContentType="application/vnd.openxmlformats-officedocument.drawingml.diagramStyle+xml"/>
  <Override PartName="/ppt/diagrams/data33.xml" ContentType="application/vnd.openxmlformats-officedocument.drawingml.diagramData+xml"/>
  <Override PartName="/ppt/diagrams/colors32.xml" ContentType="application/vnd.openxmlformats-officedocument.drawingml.diagramColors+xml"/>
  <Override PartName="/ppt/diagrams/colors45.xml" ContentType="application/vnd.openxmlformats-officedocument.drawingml.diagramColors+xml"/>
  <Override PartName="/ppt/diagrams/quickStyle32.xml" ContentType="application/vnd.openxmlformats-officedocument.drawingml.diagramStyle+xml"/>
  <Override PartName="/ppt/diagrams/data32.xml" ContentType="application/vnd.openxmlformats-officedocument.drawingml.diagramData+xml"/>
  <Override PartName="/ppt/diagrams/colors31.xml" ContentType="application/vnd.openxmlformats-officedocument.drawingml.diagramColors+xml"/>
  <Override PartName="/ppt/diagrams/colors44.xml" ContentType="application/vnd.openxmlformats-officedocument.drawingml.diagramColors+xml"/>
  <Override PartName="/ppt/diagrams/quickStyle31.xml" ContentType="application/vnd.openxmlformats-officedocument.drawingml.diagramStyle+xml"/>
  <Override PartName="/ppt/diagrams/layout52.xml" ContentType="application/vnd.openxmlformats-officedocument.drawingml.diagramLayout+xml"/>
  <Override PartName="/ppt/diagrams/data31.xml" ContentType="application/vnd.openxmlformats-officedocument.drawingml.diagramData+xml"/>
  <Override PartName="/ppt/diagrams/colors30.xml" ContentType="application/vnd.openxmlformats-officedocument.drawingml.diagramColors+xml"/>
  <Override PartName="/ppt/diagrams/colors43.xml" ContentType="application/vnd.openxmlformats-officedocument.drawingml.diagramColors+xml"/>
  <Override PartName="/ppt/diagrams/layout30.xml" ContentType="application/vnd.openxmlformats-officedocument.drawingml.diagramLayout+xml"/>
  <Override PartName="/ppt/diagrams/colors28.xml" ContentType="application/vnd.openxmlformats-officedocument.drawingml.diagramColors+xml"/>
  <Override PartName="/ppt/diagrams/data30.xml" ContentType="application/vnd.openxmlformats-officedocument.drawingml.diagramData+xml"/>
  <Override PartName="/ppt/diagrams/drawing29.xml" ContentType="application/vnd.ms-office.drawingml.diagramDrawing+xml"/>
  <Override PartName="/ppt/diagrams/drawing6.xml" ContentType="application/vnd.ms-office.drawingml.diagramDrawing+xml"/>
  <Override PartName="/ppt/diagrams/quickStyle29.xml" ContentType="application/vnd.openxmlformats-officedocument.drawingml.diagramStyle+xml"/>
  <Override PartName="/ppt/diagrams/drawing50.xml" ContentType="application/vnd.ms-office.drawingml.diagramDrawing+xml"/>
  <Override PartName="/ppt/diagrams/drawing47.xml" ContentType="application/vnd.ms-office.drawingml.diagramDrawing+xml"/>
  <Override PartName="/ppt/diagrams/layout29.xml" ContentType="application/vnd.openxmlformats-officedocument.drawingml.diagramLayout+xml"/>
  <Override PartName="/ppt/diagrams/data95.xml" ContentType="application/vnd.openxmlformats-officedocument.drawingml.diagramData+xml"/>
  <Override PartName="/ppt/diagrams/data29.xml" ContentType="application/vnd.openxmlformats-officedocument.drawingml.diagramData+xml"/>
  <Override PartName="/ppt/diagrams/quickStyle10.xml" ContentType="application/vnd.openxmlformats-officedocument.drawingml.diagramStyle+xml"/>
  <Override PartName="/ppt/diagrams/colors97.xml" ContentType="application/vnd.openxmlformats-officedocument.drawingml.diagramColors+xml"/>
  <Override PartName="/ppt/diagrams/drawing28.xml" ContentType="application/vnd.ms-office.drawingml.diagramDrawing+xml"/>
  <Override PartName="/ppt/diagrams/drawing5.xml" ContentType="application/vnd.ms-office.drawingml.diagramDrawing+xml"/>
  <Override PartName="/ppt/diagrams/quickStyle28.xml" ContentType="application/vnd.openxmlformats-officedocument.drawingml.diagramStyle+xml"/>
  <Override PartName="/ppt/diagrams/layout49.xml" ContentType="application/vnd.openxmlformats-officedocument.drawingml.diagramLayout+xml"/>
  <Override PartName="/ppt/diagrams/data28.xml" ContentType="application/vnd.openxmlformats-officedocument.drawingml.diagramData+xml"/>
  <Override PartName="/ppt/diagrams/colors96.xml" ContentType="application/vnd.openxmlformats-officedocument.drawingml.diagramColors+xml"/>
  <Override PartName="/ppt/diagrams/drawing27.xml" ContentType="application/vnd.ms-office.drawingml.diagramDrawing+xml"/>
  <Override PartName="/ppt/diagrams/drawing4.xml" ContentType="application/vnd.ms-office.drawingml.diagramDrawing+xml"/>
  <Override PartName="/ppt/diagrams/quickStyle27.xml" ContentType="application/vnd.openxmlformats-officedocument.drawingml.diagramStyle+xml"/>
  <Override PartName="/ppt/diagrams/layout48.xml" ContentType="application/vnd.openxmlformats-officedocument.drawingml.diagramLayout+xml"/>
  <Override PartName="/ppt/diagrams/data27.xml" ContentType="application/vnd.openxmlformats-officedocument.drawingml.diagramData+xml"/>
  <Override PartName="/ppt/diagrams/colors95.xml" ContentType="application/vnd.openxmlformats-officedocument.drawingml.diagramColors+xml"/>
  <Override PartName="/ppt/diagrams/drawing26.xml" ContentType="application/vnd.ms-office.drawingml.diagramDrawing+xml"/>
  <Override PartName="/ppt/diagrams/drawing3.xml" ContentType="application/vnd.ms-office.drawingml.diagramDrawing+xml"/>
  <Override PartName="/ppt/diagrams/drawing30.xml" ContentType="application/vnd.ms-office.drawingml.diagramDrawing+xml"/>
  <Override PartName="/ppt/diagrams/layout98.xml" ContentType="application/vnd.openxmlformats-officedocument.drawingml.diagramLayout+xml"/>
  <Override PartName="/ppt/diagrams/layout12.xml" ContentType="application/vnd.openxmlformats-officedocument.drawingml.diagramLayout+xml"/>
  <Override PartName="/ppt/diagrams/drawing51.xml" ContentType="application/vnd.ms-office.drawingml.diagramDrawing+xml"/>
  <Override PartName="/ppt/diagrams/layout33.xml" ContentType="application/vnd.openxmlformats-officedocument.drawingml.diagramLayout+xml"/>
  <Override PartName="/ppt/diagrams/data12.xml" ContentType="application/vnd.openxmlformats-officedocument.drawingml.diagramData+xml"/>
  <Override PartName="/ppt/diagrams/colors80.xml" ContentType="application/vnd.openxmlformats-officedocument.drawingml.diagramColors+xml"/>
  <Override PartName="/ppt/diagrams/data44.xml" ContentType="application/vnd.openxmlformats-officedocument.drawingml.diagramData+xml"/>
  <Override PartName="/ppt/diagrams/drawing15.xml" ContentType="application/vnd.ms-office.drawingml.diagramDrawing+xml"/>
  <Override PartName="/ppt/diagrams/data38.xml" ContentType="application/vnd.openxmlformats-officedocument.drawingml.diagramData+xml"/>
  <Override PartName="/ppt/diagrams/colors3.xml" ContentType="application/vnd.openxmlformats-officedocument.drawingml.diagramColors+xml"/>
  <Override PartName="/ppt/diagrams/quickStyle76.xml" ContentType="application/vnd.openxmlformats-officedocument.drawingml.diagramStyle+xml"/>
  <Override PartName="/ppt/diagrams/layout11.xml" ContentType="application/vnd.openxmlformats-officedocument.drawingml.diagramLayout+xml"/>
  <Override PartName="/ppt/diagrams/layout32.xml" ContentType="application/vnd.openxmlformats-officedocument.drawingml.diagramLayout+xml"/>
  <Override PartName="/ppt/diagrams/data11.xml" ContentType="application/vnd.openxmlformats-officedocument.drawingml.diagramData+xml"/>
  <Override PartName="/ppt/diagrams/data43.xml" ContentType="application/vnd.openxmlformats-officedocument.drawingml.diagramData+xml"/>
  <Override PartName="/ppt/diagrams/drawing14.xml" ContentType="application/vnd.ms-office.drawingml.diagramDrawing+xml"/>
  <Override PartName="/ppt/diagrams/data37.xml" ContentType="application/vnd.openxmlformats-officedocument.drawingml.diagramData+xml"/>
  <Override PartName="/ppt/diagrams/colors2.xml" ContentType="application/vnd.openxmlformats-officedocument.drawingml.diagramColors+xml"/>
  <Override PartName="/ppt/diagrams/quickStyle75.xml" ContentType="application/vnd.openxmlformats-officedocument.drawingml.diagramStyle+xml"/>
  <Override PartName="/ppt/diagrams/layout10.xml" ContentType="application/vnd.openxmlformats-officedocument.drawingml.diagramLayout+xml"/>
  <Override PartName="/ppt/diagrams/layout31.xml" ContentType="application/vnd.openxmlformats-officedocument.drawingml.diagramLayout+xml"/>
  <Override PartName="/ppt/diagrams/colors29.xml" ContentType="application/vnd.openxmlformats-officedocument.drawingml.diagramColors+xml"/>
  <Override PartName="/ppt/diagrams/data10.xml" ContentType="application/vnd.openxmlformats-officedocument.drawingml.diagramData+xml"/>
  <Override PartName="/ppt/diagrams/data42.xml" ContentType="application/vnd.openxmlformats-officedocument.drawingml.diagramData+xml"/>
  <Override PartName="/ppt/diagrams/drawing13.xml" ContentType="application/vnd.ms-office.drawingml.diagramDrawing+xml"/>
  <Override PartName="/ppt/diagrams/drawing46.xml" ContentType="application/vnd.ms-office.drawingml.diagramDrawing+xml"/>
  <Override PartName="/ppt/diagrams/layout28.xml" ContentType="application/vnd.openxmlformats-officedocument.drawingml.diagramLayout+xml"/>
  <Override PartName="/ppt/diagrams/data94.xml" ContentType="application/vnd.openxmlformats-officedocument.drawingml.diagramData+xml"/>
  <Override PartName="/ppt/diagrams/drawing9.xml" ContentType="application/vnd.ms-office.drawingml.diagramDrawing+xml"/>
  <Override PartName="/ppt/diagrams/quickStyle47.xml" ContentType="application/vnd.openxmlformats-officedocument.drawingml.diagramStyle+xml"/>
  <Override PartName="/ppt/diagrams/quickStyle9.xml" ContentType="application/vnd.openxmlformats-officedocument.drawingml.diagramStyle+xml"/>
  <Override PartName="/ppt/diagrams/layout9.xml" ContentType="application/vnd.openxmlformats-officedocument.drawingml.diagramLayout+xml"/>
  <Override PartName="/ppt/diagrams/layout65.xml" ContentType="application/vnd.openxmlformats-officedocument.drawingml.diagramLayout+xml"/>
  <Override PartName="/ppt/diagrams/colors9.xml" ContentType="application/vnd.openxmlformats-officedocument.drawingml.diagramColors+xml"/>
  <Override PartName="/ppt/diagrams/drawing45.xml" ContentType="application/vnd.ms-office.drawingml.diagramDrawing+xml"/>
  <Override PartName="/ppt/diagrams/layout27.xml" ContentType="application/vnd.openxmlformats-officedocument.drawingml.diagramLayout+xml"/>
  <Override PartName="/ppt/diagrams/data93.xml" ContentType="application/vnd.openxmlformats-officedocument.drawingml.diagramData+xml"/>
  <Override PartName="/ppt/diagrams/drawing8.xml" ContentType="application/vnd.ms-office.drawingml.diagramDrawing+xml"/>
  <Override PartName="/ppt/diagrams/quickStyle46.xml" ContentType="application/vnd.openxmlformats-officedocument.drawingml.diagramStyle+xml"/>
  <Override PartName="/ppt/diagrams/quickStyle8.xml" ContentType="application/vnd.openxmlformats-officedocument.drawingml.diagramStyle+xml"/>
  <Override PartName="/ppt/diagrams/layout8.xml" ContentType="application/vnd.openxmlformats-officedocument.drawingml.diagramLayout+xml"/>
  <Override PartName="/ppt/diagrams/layout64.xml" ContentType="application/vnd.openxmlformats-officedocument.drawingml.diagramLayout+xml"/>
  <Override PartName="/ppt/diagrams/data41.xml" ContentType="application/vnd.openxmlformats-officedocument.drawingml.diagramData+xml"/>
  <Override PartName="/ppt/diagrams/drawing12.xml" ContentType="application/vnd.ms-office.drawingml.diagramDrawing+xml"/>
  <Override PartName="/ppt/diagrams/colors8.xml" ContentType="application/vnd.openxmlformats-officedocument.drawingml.diagramColors+xml"/>
  <Override PartName="/ppt/diagrams/data8.xml" ContentType="application/vnd.openxmlformats-officedocument.drawingml.diagramData+xml"/>
  <Override PartName="/ppt/diagrams/drawing66.xml" ContentType="application/vnd.ms-office.drawingml.diagramDrawing+xml"/>
  <Override PartName="/ppt/diagrams/quickStyle16.xml" ContentType="application/vnd.openxmlformats-officedocument.drawingml.diagramStyle+xml"/>
  <Override PartName="/ppt/diagrams/colors12.xml" ContentType="application/vnd.openxmlformats-officedocument.drawingml.diagramColors+xml"/>
  <Override PartName="/ppt/diagrams/quickStyle45.xml" ContentType="application/vnd.openxmlformats-officedocument.drawingml.diagramStyle+xml"/>
  <Override PartName="/ppt/diagrams/quickStyle7.xml" ContentType="application/vnd.openxmlformats-officedocument.drawingml.diagramStyle+xml"/>
  <Override PartName="/ppt/diagrams/layout7.xml" ContentType="application/vnd.openxmlformats-officedocument.drawingml.diagramLayout+xml"/>
  <Override PartName="/ppt/diagrams/layout63.xml" ContentType="application/vnd.openxmlformats-officedocument.drawingml.diagramLayout+xml"/>
  <Override PartName="/ppt/diagrams/quickStyle42.xml" ContentType="application/vnd.openxmlformats-officedocument.drawingml.diagramStyle+xml"/>
  <Override PartName="/ppt/diagrams/quickStyle4.xml" ContentType="application/vnd.openxmlformats-officedocument.drawingml.diagramStyle+xml"/>
  <Override PartName="/ppt/diagrams/layout57.xml" ContentType="application/vnd.openxmlformats-officedocument.drawingml.diagramLayout+xml"/>
  <Override PartName="/ppt/diagrams/quickStyle41.xml" ContentType="application/vnd.openxmlformats-officedocument.drawingml.diagramStyle+xml"/>
  <Override PartName="/ppt/diagrams/quickStyle3.xml" ContentType="application/vnd.openxmlformats-officedocument.drawingml.diagramStyle+xml"/>
  <Override PartName="/ppt/diagrams/layout56.xml" ContentType="application/vnd.openxmlformats-officedocument.drawingml.diagramLayout+xml"/>
  <Override PartName="/ppt/diagrams/quickStyle40.xml" ContentType="application/vnd.openxmlformats-officedocument.drawingml.diagramStyle+xml"/>
  <Override PartName="/ppt/diagrams/data59.xml" ContentType="application/vnd.openxmlformats-officedocument.drawingml.diagramData+xml"/>
  <Override PartName="/ppt/diagrams/quickStyle2.xml" ContentType="application/vnd.openxmlformats-officedocument.drawingml.diagramStyle+xml"/>
  <Override PartName="/ppt/diagrams/layout55.xml" ContentType="application/vnd.openxmlformats-officedocument.drawingml.diagramLayout+xml"/>
  <Override PartName="/ppt/diagrams/data36.xml" ContentType="application/vnd.openxmlformats-officedocument.drawingml.diagramData+xml"/>
  <Override PartName="/ppt/diagrams/colors1.xml" ContentType="application/vnd.openxmlformats-officedocument.drawingml.diagramColors+xml"/>
  <Override PartName="/ppt/diagrams/quickStyle74.xml" ContentType="application/vnd.openxmlformats-officedocument.drawingml.diagramStyle+xml"/>
  <Override PartName="/ppt/diagrams/layout3.xml" ContentType="application/vnd.openxmlformats-officedocument.drawingml.diagramLayout+xml"/>
  <Override PartName="/ppt/diagrams/colors57.xml" ContentType="application/vnd.openxmlformats-officedocument.drawingml.diagramColors+xml"/>
  <Override PartName="/ppt/diagrams/colors18.xml" ContentType="application/vnd.openxmlformats-officedocument.drawingml.diagramColors+xml"/>
  <Override PartName="/ppt/diagrams/layout20.xml" ContentType="application/vnd.openxmlformats-officedocument.drawingml.diagramLayout+xml"/>
  <Override PartName="/ppt/diagrams/data39.xml" ContentType="application/vnd.openxmlformats-officedocument.drawingml.diagramData+xml"/>
  <Override PartName="/ppt/diagrams/quickStyle20.xml" ContentType="application/vnd.openxmlformats-officedocument.drawingml.diagramStyle+xml"/>
  <Override PartName="/ppt/diagrams/colors4.xml" ContentType="application/vnd.openxmlformats-officedocument.drawingml.diagramColors+xml"/>
  <Override PartName="/ppt/diagrams/quickStyle77.xml" ContentType="application/vnd.openxmlformats-officedocument.drawingml.diagramStyle+xml"/>
  <Override PartName="/ppt/diagrams/quickStyle1.xml" ContentType="application/vnd.openxmlformats-officedocument.drawingml.diagramStyle+xml"/>
  <Override PartName="/ppt/diagrams/layout54.xml" ContentType="application/vnd.openxmlformats-officedocument.drawingml.diagramLayout+xml"/>
  <Override PartName="/ppt/diagrams/drawing2.xml" ContentType="application/vnd.ms-office.drawingml.diagramDrawing+xml"/>
  <Override PartName="/ppt/diagrams/drawing25.xml" ContentType="application/vnd.ms-office.drawingml.diagramDrawing+xml"/>
  <Override PartName="/ppt/diagrams/layout21.xml" ContentType="application/vnd.openxmlformats-officedocument.drawingml.diagramLayout+xml"/>
  <Override PartName="/ppt/diagrams/colors19.xml" ContentType="application/vnd.openxmlformats-officedocument.drawingml.diagramColors+xml"/>
  <Override PartName="/ppt/diagrams/quickStyle17.xml" ContentType="application/vnd.openxmlformats-officedocument.drawingml.diagramStyle+xml"/>
  <Override PartName="/ppt/diagrams/data9.xml" ContentType="application/vnd.openxmlformats-officedocument.drawingml.diagramData+xml"/>
  <Override PartName="/ppt/diagrams/drawing67.xml" ContentType="application/vnd.ms-office.drawingml.diagramDrawing+xml"/>
  <Override PartName="/ppt/diagrams/layout1.xml" ContentType="application/vnd.openxmlformats-officedocument.drawingml.diagramLayout+xml"/>
  <Override PartName="/ppt/diagrams/colors55.xml" ContentType="application/vnd.openxmlformats-officedocument.drawingml.diagramColors+xml"/>
  <Override PartName="/ppt/diagrams/colors16.xml" ContentType="application/vnd.openxmlformats-officedocument.drawingml.diagramColors+xml"/>
  <Override PartName="/ppt/diagrams/layout2.xml" ContentType="application/vnd.openxmlformats-officedocument.drawingml.diagramLayout+xml"/>
  <Override PartName="/ppt/diagrams/colors56.xml" ContentType="application/vnd.openxmlformats-officedocument.drawingml.diagramColors+xml"/>
  <Override PartName="/ppt/diagrams/colors17.xml" ContentType="application/vnd.openxmlformats-officedocument.drawingml.diagramColors+xml"/>
  <Override PartName="/ppt/diagrams/colors22.xml" ContentType="application/vnd.openxmlformats-officedocument.drawingml.diagramColors+xml"/>
  <Override PartName="/ppt/diagrams/data19.xml" ContentType="application/vnd.openxmlformats-officedocument.drawingml.diagramData+xml"/>
  <Override PartName="/ppt/diagrams/colors87.xml" ContentType="application/vnd.openxmlformats-officedocument.drawingml.diagramColors+xml"/>
  <Override PartName="/ppt/diagrams/quickStyle50.xml" ContentType="application/vnd.openxmlformats-officedocument.drawingml.diagramStyle+xml"/>
  <Override PartName="/ppt/diagrams/data69.xml" ContentType="application/vnd.openxmlformats-officedocument.drawingml.diagramData+xml"/>
  <Override PartName="/ppt/diagrams/layout4.xml" ContentType="application/vnd.openxmlformats-officedocument.drawingml.diagramLayout+xml"/>
  <Override PartName="/ppt/diagrams/colors58.xml" ContentType="application/vnd.openxmlformats-officedocument.drawingml.diagramColors+xml"/>
  <Override PartName="/ppt/diagrams/layout60.xml" ContentType="application/vnd.openxmlformats-officedocument.drawingml.diagramLayout+xml"/>
  <Override PartName="/ppt/diagrams/drawing40.xml" ContentType="application/vnd.ms-office.drawingml.diagramDrawing+xml"/>
  <Override PartName="/ppt/diagrams/quickStyle19.xml" ContentType="application/vnd.openxmlformats-officedocument.drawingml.diagramStyle+xml"/>
  <Override PartName="/ppt/diagrams/layout22.xml" ContentType="application/vnd.openxmlformats-officedocument.drawingml.diagramLayout+xml"/>
  <Override PartName="/ppt/diagrams/colors23.xml" ContentType="application/vnd.openxmlformats-officedocument.drawingml.diagramColors+xml"/>
  <Override PartName="/ppt/diagrams/colors10.xml" ContentType="application/vnd.openxmlformats-officedocument.drawingml.diagramColors+xml"/>
  <Override PartName="/ppt/diagrams/quickStyle43.xml" ContentType="application/vnd.openxmlformats-officedocument.drawingml.diagramStyle+xml"/>
  <Override PartName="/ppt/diagrams/quickStyle5.xml" ContentType="application/vnd.openxmlformats-officedocument.drawingml.diagramStyle+xml"/>
  <Override PartName="/ppt/diagrams/layout58.xml" ContentType="application/vnd.openxmlformats-officedocument.drawingml.diagramLayout+xml"/>
  <Override PartName="/ppt/diagrams/quickStyle51.xml" ContentType="application/vnd.openxmlformats-officedocument.drawingml.diagramStyle+xml"/>
  <Override PartName="/ppt/diagrams/layout5.xml" ContentType="application/vnd.openxmlformats-officedocument.drawingml.diagramLayout+xml"/>
  <Override PartName="/ppt/diagrams/colors59.xml" ContentType="application/vnd.openxmlformats-officedocument.drawingml.diagramColors+xml"/>
  <Override PartName="/ppt/diagrams/layout61.xml" ContentType="application/vnd.openxmlformats-officedocument.drawingml.diagramLayout+xml"/>
  <Override PartName="/ppt/diagrams/drawing41.xml" ContentType="application/vnd.ms-office.drawingml.diagramDrawing+xml"/>
  <Override PartName="/ppt/diagrams/layout23.xml" ContentType="application/vnd.openxmlformats-officedocument.drawingml.diagramLayout+xml"/>
  <Override PartName="/ppt/diagrams/quickStyle11.xml" ContentType="application/vnd.openxmlformats-officedocument.drawingml.diagramStyle+xml"/>
  <Override PartName="/ppt/diagrams/colors98.xml" ContentType="application/vnd.openxmlformats-officedocument.drawingml.diagramColors+xml"/>
  <Override PartName="/ppt/diagrams/data3.xml" ContentType="application/vnd.openxmlformats-officedocument.drawingml.diagramData+xml"/>
  <Override PartName="/ppt/diagrams/drawing61.xml" ContentType="application/vnd.ms-office.drawingml.diagramDrawing+xml"/>
  <Override PartName="/ppt/diagrams/colors24.xml" ContentType="application/vnd.openxmlformats-officedocument.drawingml.diagramColors+xml"/>
  <Override PartName="/ppt/diagrams/colors5.xml" ContentType="application/vnd.openxmlformats-officedocument.drawingml.diagramColors+xml"/>
  <Override PartName="/ppt/diagrams/quickStyle78.xml" ContentType="application/vnd.openxmlformats-officedocument.drawingml.diagramStyle+xml"/>
  <Override PartName="/ppt/diagrams/colors26.xml" ContentType="application/vnd.openxmlformats-officedocument.drawingml.diagramColors+xml"/>
  <Override PartName="/ppt/diagrams/data5.xml" ContentType="application/vnd.openxmlformats-officedocument.drawingml.diagramData+xml"/>
  <Override PartName="/ppt/diagrams/drawing63.xml" ContentType="application/vnd.ms-office.drawingml.diagramDrawing+xml"/>
  <Override PartName="/ppt/diagrams/quickStyle13.xml" ContentType="application/vnd.openxmlformats-officedocument.drawingml.diagramStyle+xml"/>
  <Override PartName="/ppt/diagrams/colors11.xml" ContentType="application/vnd.openxmlformats-officedocument.drawingml.diagramColors+xml"/>
  <Override PartName="/ppt/diagrams/quickStyle44.xml" ContentType="application/vnd.openxmlformats-officedocument.drawingml.diagramStyle+xml"/>
  <Override PartName="/ppt/diagrams/quickStyle6.xml" ContentType="application/vnd.openxmlformats-officedocument.drawingml.diagramStyle+xml"/>
  <Override PartName="/ppt/diagrams/layout59.xml" ContentType="application/vnd.openxmlformats-officedocument.drawingml.diagramLayout+xml"/>
  <Override PartName="/ppt/diagrams/drawing44.xml" ContentType="application/vnd.ms-office.drawingml.diagramDrawing+xml"/>
  <Override PartName="/ppt/diagrams/drawing7.xml" ContentType="application/vnd.ms-office.drawingml.diagramDrawing+xml"/>
  <Override PartName="/ppt/diagrams/layout26.xml" ContentType="application/vnd.openxmlformats-officedocument.drawingml.diagramLayout+xml"/>
  <Override PartName="/ppt/diagrams/data92.xml" ContentType="application/vnd.openxmlformats-officedocument.drawingml.diagramData+xml"/>
  <Override PartName="/ppt/diagrams/quickStyle52.xml" ContentType="application/vnd.openxmlformats-officedocument.drawingml.diagramStyle+xml"/>
  <Override PartName="/ppt/diagrams/layout6.xml" ContentType="application/vnd.openxmlformats-officedocument.drawingml.diagramLayout+xml"/>
  <Override PartName="/ppt/diagrams/layout62.xml" ContentType="application/vnd.openxmlformats-officedocument.drawingml.diagramLayout+xml"/>
  <Override PartName="/ppt/diagrams/drawing10.xml" ContentType="application/vnd.ms-office.drawingml.diagramDrawing+xml"/>
  <Override PartName="/ppt/diagrams/layout78.xml" ContentType="application/vnd.openxmlformats-officedocument.drawingml.diagramLayout+xml"/>
  <Override PartName="/ppt/diagrams/drawing42.xml" ContentType="application/vnd.ms-office.drawingml.diagramDrawing+xml"/>
  <Override PartName="/ppt/diagrams/layout24.xml" ContentType="application/vnd.openxmlformats-officedocument.drawingml.diagramLayout+xml"/>
  <Override PartName="/ppt/diagrams/data90.xml" ContentType="application/vnd.openxmlformats-officedocument.drawingml.diagramData+xml"/>
  <Override PartName="/ppt/diagrams/quickStyle12.xml" ContentType="application/vnd.openxmlformats-officedocument.drawingml.diagramStyle+xml"/>
  <Override PartName="/ppt/diagrams/data4.xml" ContentType="application/vnd.openxmlformats-officedocument.drawingml.diagramData+xml"/>
  <Override PartName="/ppt/diagrams/drawing62.xml" ContentType="application/vnd.ms-office.drawingml.diagramDrawing+xml"/>
  <Override PartName="/ppt/diagrams/colors25.xml" ContentType="application/vnd.openxmlformats-officedocument.drawingml.diagramColors+xml"/>
  <Override PartName="/ppt/diagrams/colors6.xml" ContentType="application/vnd.openxmlformats-officedocument.drawingml.diagramColors+xml"/>
  <Override PartName="/ppt/diagrams/quickStyle79.xml" ContentType="application/vnd.openxmlformats-officedocument.drawingml.diagramStyle+xml"/>
  <Override PartName="/ppt/diagrams/colors27.xml" ContentType="application/vnd.openxmlformats-officedocument.drawingml.diagramColors+xml"/>
  <Override PartName="/ppt/diagrams/data6.xml" ContentType="application/vnd.openxmlformats-officedocument.drawingml.diagramData+xml"/>
  <Override PartName="/ppt/diagrams/drawing64.xml" ContentType="application/vnd.ms-office.drawingml.diagramDrawing+xml"/>
  <Override PartName="/ppt/diagrams/quickStyle14.xml" ContentType="application/vnd.openxmlformats-officedocument.drawingml.diagramStyle+xml"/>
  <Override PartName="/ppt/diagrams/data40.xml" ContentType="application/vnd.openxmlformats-officedocument.drawingml.diagramData+xml"/>
  <Override PartName="/ppt/diagrams/drawing11.xml" ContentType="application/vnd.ms-office.drawingml.diagramDrawing+xml"/>
  <Override PartName="/ppt/diagrams/layout79.xml" ContentType="application/vnd.openxmlformats-officedocument.drawingml.diagramLayout+xml"/>
  <Override PartName="/ppt/diagrams/colors7.xml" ContentType="application/vnd.openxmlformats-officedocument.drawingml.diagramColors+xml"/>
  <Override PartName="/ppt/diagrams/data7.xml" ContentType="application/vnd.openxmlformats-officedocument.drawingml.diagramData+xml"/>
  <Override PartName="/ppt/diagrams/drawing65.xml" ContentType="application/vnd.ms-office.drawingml.diagramDrawing+xml"/>
  <Override PartName="/ppt/diagrams/quickStyle15.xml" ContentType="application/vnd.openxmlformats-officedocument.drawingml.diagramStyle+xml"/>
  <Override PartName="/ppt/diagrams/drawing43.xml" ContentType="application/vnd.ms-office.drawingml.diagramDrawing+xml"/>
  <Override PartName="/ppt/diagrams/quickStyle63.xml" ContentType="application/vnd.openxmlformats-officedocument.drawingml.diagramStyle+xml"/>
  <Override PartName="/ppt/diagrams/colors76.xml" ContentType="application/vnd.openxmlformats-officedocument.drawingml.diagramColors+xml"/>
  <Override PartName="/ppt/diagrams/quickStyle64.xml" ContentType="application/vnd.openxmlformats-officedocument.drawingml.diagramStyle+xml"/>
  <Override PartName="/ppt/diagrams/colors77.xml" ContentType="application/vnd.openxmlformats-officedocument.drawingml.diagramColors+xml"/>
  <Override PartName="/ppt/diagrams/quickStyle65.xml" ContentType="application/vnd.openxmlformats-officedocument.drawingml.diagramStyle+xml"/>
  <Override PartName="/ppt/diagrams/layout66.xml" ContentType="application/vnd.openxmlformats-officedocument.drawingml.diagramLayout+xml"/>
  <Override PartName="/ppt/diagrams/drawing84.xml" ContentType="application/vnd.ms-office.drawingml.diagramDrawing+xml"/>
  <Override PartName="/ppt/diagrams/drawing16.xml" ContentType="application/vnd.ms-office.drawingml.diagramDrawing+xml"/>
  <Override PartName="/ppt/diagrams/data45.xml" ContentType="application/vnd.openxmlformats-officedocument.drawingml.diagramData+xml"/>
  <Override PartName="/ppt/diagrams/layout67.xml" ContentType="application/vnd.openxmlformats-officedocument.drawingml.diagramLayout+xml"/>
  <Override PartName="/ppt/diagrams/drawing85.xml" ContentType="application/vnd.ms-office.drawingml.diagramDrawing+xml"/>
  <Override PartName="/ppt/diagrams/drawing17.xml" ContentType="application/vnd.ms-office.drawingml.diagramDrawing+xml"/>
  <Override PartName="/ppt/diagrams/data46.xml" ContentType="application/vnd.openxmlformats-officedocument.drawingml.diagramData+xml"/>
  <Override PartName="/ppt/diagrams/quickStyle68.xml" ContentType="application/vnd.openxmlformats-officedocument.drawingml.diagramStyle+xml"/>
  <Override PartName="/ppt/diagrams/quickStyle55.xml" ContentType="application/vnd.openxmlformats-officedocument.drawingml.diagramStyle+xml"/>
  <Override PartName="/ppt/diagrams/colors68.xml" ContentType="application/vnd.openxmlformats-officedocument.drawingml.diagramColors+xml"/>
  <Override PartName="/ppt/diagrams/layout70.xml" ContentType="application/vnd.openxmlformats-officedocument.drawingml.diagramLayout+xml"/>
  <Override PartName="/ppt/diagrams/quickStyle56.xml" ContentType="application/vnd.openxmlformats-officedocument.drawingml.diagramStyle+xml"/>
  <Override PartName="/ppt/diagrams/colors69.xml" ContentType="application/vnd.openxmlformats-officedocument.drawingml.diagramColors+xml"/>
  <Override PartName="/ppt/diagrams/layout71.xml" ContentType="application/vnd.openxmlformats-officedocument.drawingml.diagramLayout+xml"/>
  <Override PartName="/ppt/diagrams/data50.xml" ContentType="application/vnd.openxmlformats-officedocument.drawingml.diagramData+xml"/>
  <Override PartName="/ppt/diagrams/layout68.xml" ContentType="application/vnd.openxmlformats-officedocument.drawingml.diagramLayout+xml"/>
  <Override PartName="/ppt/diagrams/drawing86.xml" ContentType="application/vnd.ms-office.drawingml.diagramDrawing+xml"/>
  <Override PartName="/ppt/diagrams/drawing18.xml" ContentType="application/vnd.ms-office.drawingml.diagramDrawing+xml"/>
  <Override PartName="/ppt/diagrams/data47.xml" ContentType="application/vnd.openxmlformats-officedocument.drawingml.diagramData+xml"/>
  <Override PartName="/ppt/diagrams/colors15.xml" ContentType="application/vnd.openxmlformats-officedocument.drawingml.diagramColors+xml"/>
  <Override PartName="/ppt/diagrams/colors67.xml" ContentType="application/vnd.openxmlformats-officedocument.drawingml.diagramColors+xml"/>
  <Override PartName="/ppt/diagrams/quickStyle54.xml" ContentType="application/vnd.openxmlformats-officedocument.drawingml.diagramStyle+xml"/>
  <Override PartName="/ppt/diagrams/quickStyle70.xml" ContentType="application/vnd.openxmlformats-officedocument.drawingml.diagramStyle+xml"/>
  <Override PartName="/ppt/diagrams/data89.xml" ContentType="application/vnd.openxmlformats-officedocument.drawingml.diagramData+xml"/>
  <Override PartName="/ppt/diagrams/layout69.xml" ContentType="application/vnd.openxmlformats-officedocument.drawingml.diagramLayout+xml"/>
  <Override PartName="/ppt/diagrams/drawing87.xml" ContentType="application/vnd.ms-office.drawingml.diagramDrawing+xml"/>
  <Override PartName="/ppt/diagrams/drawing19.xml" ContentType="application/vnd.ms-office.drawingml.diagramDrawing+xml"/>
  <Override PartName="/ppt/diagrams/data48.xml" ContentType="application/vnd.openxmlformats-officedocument.drawingml.diagramData+xml"/>
  <Override PartName="/ppt/diagrams/quickStyle71.xml" ContentType="application/vnd.openxmlformats-officedocument.drawingml.diagramStyle+xml"/>
  <Override PartName="/ppt/diagrams/drawing71.xml" ContentType="application/vnd.ms-office.drawingml.diagramDrawing+xml"/>
  <Override PartName="/ppt/diagrams/layout53.xml" ContentType="application/vnd.openxmlformats-officedocument.drawingml.diagramLayout+xml"/>
  <Override PartName="/ppt/diagrams/layout72.xml" ContentType="application/vnd.openxmlformats-officedocument.drawingml.diagramLayout+xml"/>
  <Override PartName="/ppt/diagrams/quickStyle69.xml" ContentType="application/vnd.openxmlformats-officedocument.drawingml.diagramStyle+xml"/>
  <Override PartName="/ppt/diagrams/drawing90.xml" ContentType="application/vnd.ms-office.drawingml.diagramDrawing+xml"/>
  <Override PartName="/ppt/diagrams/drawing22.xml" ContentType="application/vnd.ms-office.drawingml.diagramDrawing+xml"/>
  <Override PartName="/ppt/diagrams/data51.xml" ContentType="application/vnd.openxmlformats-officedocument.drawingml.diagramData+xml"/>
  <Override PartName="/ppt/diagrams/quickStyle72.xml" ContentType="application/vnd.openxmlformats-officedocument.drawingml.diagramStyle+xml"/>
  <Override PartName="/ppt/diagrams/colors72.xml" ContentType="application/vnd.openxmlformats-officedocument.drawingml.diagramColors+xml"/>
  <Override PartName="/ppt/diagrams/drawing72.xml" ContentType="application/vnd.ms-office.drawingml.diagramDrawing+xml"/>
  <Override PartName="/ppt/diagrams/layout73.xml" ContentType="application/vnd.openxmlformats-officedocument.drawingml.diagramLayout+xml"/>
  <Override PartName="/ppt/diagrams/drawing91.xml" ContentType="application/vnd.ms-office.drawingml.diagramDrawing+xml"/>
  <Override PartName="/ppt/diagrams/drawing23.xml" ContentType="application/vnd.ms-office.drawingml.diagramDrawing+xml"/>
  <Override PartName="/ppt/diagrams/data52.xml" ContentType="application/vnd.openxmlformats-officedocument.drawingml.diagramData+xml"/>
  <Override PartName="/ppt/diagrams/quickStyle73.xml" ContentType="application/vnd.openxmlformats-officedocument.drawingml.diagramStyle+xml"/>
  <Override PartName="/ppt/diagrams/data70.xml" ContentType="application/vnd.openxmlformats-officedocument.drawingml.diagramData+xml"/>
  <Override PartName="/ppt/diagrams/drawing73.xml" ContentType="application/vnd.ms-office.drawingml.diagramDrawing+xml"/>
  <Override PartName="/ppt/diagrams/layout74.xml" ContentType="application/vnd.openxmlformats-officedocument.drawingml.diagramLayout+xml"/>
  <Override PartName="/ppt/diagrams/drawing92.xml" ContentType="application/vnd.ms-office.drawingml.diagramDrawing+xml"/>
  <Override PartName="/ppt/diagrams/data53.xml" ContentType="application/vnd.openxmlformats-officedocument.drawingml.diagramData+xml"/>
  <Override PartName="/ppt/diagrams/drawing24.xml" ContentType="application/vnd.ms-office.drawingml.diagramDrawing+xml"/>
  <Override PartName="/ppt/diagrams/layout75.xml" ContentType="application/vnd.openxmlformats-officedocument.drawingml.diagramLayout+xml"/>
  <Override PartName="/ppt/diagrams/drawing93.xml" ContentType="application/vnd.ms-office.drawingml.diagramDrawing+xml"/>
  <Override PartName="/ppt/diagrams/data54.xml" ContentType="application/vnd.openxmlformats-officedocument.drawingml.diagramData+xml"/>
  <Override PartName="/ppt/diagrams/layout76.xml" ContentType="application/vnd.openxmlformats-officedocument.drawingml.diagramLayout+xml"/>
  <Override PartName="/ppt/diagrams/drawing94.xml" ContentType="application/vnd.ms-office.drawingml.diagramDrawing+xml"/>
  <Override PartName="/ppt/diagrams/data55.xml" ContentType="application/vnd.openxmlformats-officedocument.drawingml.diagramData+xml"/>
  <Override PartName="/ppt/diagrams/layout77.xml" ContentType="application/vnd.openxmlformats-officedocument.drawingml.diagramLayout+xml"/>
  <Override PartName="/ppt/diagrams/drawing95.xml" ContentType="application/vnd.ms-office.drawingml.diagramDrawing+xml"/>
  <Override PartName="/ppt/diagrams/data56.xml" ContentType="application/vnd.openxmlformats-officedocument.drawingml.diagramData+xml"/>
  <Override PartName="/ppt/diagrams/colors78.xml" ContentType="application/vnd.openxmlformats-officedocument.drawingml.diagramColors+xml"/>
  <Override PartName="/ppt/diagrams/layout80.xml" ContentType="application/vnd.openxmlformats-officedocument.drawingml.diagramLayout+xml"/>
  <Override PartName="/ppt/diagrams/quickStyle66.xml" ContentType="application/vnd.openxmlformats-officedocument.drawingml.diagramStyle+xml"/>
  <Override PartName="/ppt/diagrams/quickStyle90.xml" ContentType="application/vnd.openxmlformats-officedocument.drawingml.diagramStyle+xml"/>
  <Override PartName="/ppt/diagrams/quickStyle22.xml" ContentType="application/vnd.openxmlformats-officedocument.drawingml.diagramStyle+xml"/>
  <Override PartName="/ppt/diagrams/colors35.xml" ContentType="application/vnd.openxmlformats-officedocument.drawingml.diagramColors+xml"/>
  <Override PartName="/ppt/diagrams/colors71.xml" ContentType="application/vnd.openxmlformats-officedocument.drawingml.diagramColors+xml"/>
  <Override PartName="/ppt/diagrams/drawing96.xml" ContentType="application/vnd.ms-office.drawingml.diagramDrawing+xml"/>
  <Override PartName="/ppt/diagrams/data57.xml" ContentType="application/vnd.openxmlformats-officedocument.drawingml.diagramData+xml"/>
  <Override PartName="/ppt/diagrams/quickStyle89.xml" ContentType="application/vnd.openxmlformats-officedocument.drawingml.diagramStyle+xml"/>
  <Override PartName="/ppt/diagrams/quickStyle91.xml" ContentType="application/vnd.openxmlformats-officedocument.drawingml.diagramStyle+xml"/>
  <Override PartName="/ppt/diagrams/quickStyle23.xml" ContentType="application/vnd.openxmlformats-officedocument.drawingml.diagramStyle+xml"/>
  <Override PartName="/ppt/diagrams/colors36.xml" ContentType="application/vnd.openxmlformats-officedocument.drawingml.diagramColors+xml"/>
  <Override PartName="/ppt/diagrams/data72.xml" ContentType="application/vnd.openxmlformats-officedocument.drawingml.diagramData+xml"/>
  <Override PartName="/ppt/diagrams/layout93.xml" ContentType="application/vnd.openxmlformats-officedocument.drawingml.diagramLayout+xml"/>
  <Override PartName="/ppt/diagrams/drawing75.xml" ContentType="application/vnd.ms-office.drawingml.diagramDrawing+xml"/>
  <Override PartName="/ppt/diagrams/quickStyle92.xml" ContentType="application/vnd.openxmlformats-officedocument.drawingml.diagramStyle+xml"/>
  <Override PartName="/ppt/diagrams/quickStyle24.xml" ContentType="application/vnd.openxmlformats-officedocument.drawingml.diagramStyle+xml"/>
  <Override PartName="/ppt/diagrams/colors37.xml" ContentType="application/vnd.openxmlformats-officedocument.drawingml.diagramColors+xml"/>
  <Override PartName="/ppt/diagrams/colors73.xml" ContentType="application/vnd.openxmlformats-officedocument.drawingml.diagramColors+xml"/>
  <Override PartName="/ppt/diagrams/drawing98.xml" ContentType="application/vnd.ms-office.drawingml.diagramDrawing+xml"/>
  <Override PartName="/ppt/diagrams/quickStyle67.xml" ContentType="application/vnd.openxmlformats-officedocument.drawingml.diagramStyle+xml"/>
  <Override PartName="/ppt/diagrams/layout91.xml" ContentType="application/vnd.openxmlformats-officedocument.drawingml.diagramLayout+xml"/>
  <Override PartName="/ppt/diagrams/colors89.xml" ContentType="application/vnd.openxmlformats-officedocument.drawingml.diagramColors+xml"/>
  <Override PartName="/ppt/diagrams/data73.xml" ContentType="application/vnd.openxmlformats-officedocument.drawingml.diagramData+xml"/>
  <Override PartName="/ppt/diagrams/layout94.xml" ContentType="application/vnd.openxmlformats-officedocument.drawingml.diagramLayout+xml"/>
  <Override PartName="/ppt/diagrams/drawing76.xml" ContentType="application/vnd.ms-office.drawingml.diagramDrawing+xml"/>
  <Override PartName="/ppt/diagrams/layout92.xml" ContentType="application/vnd.openxmlformats-officedocument.drawingml.diagramLayout+xml"/>
  <Override PartName="/ppt/diagrams/data71.xml" ContentType="application/vnd.openxmlformats-officedocument.drawingml.diagramData+xml"/>
  <Override PartName="/ppt/diagrams/quickStyle93.xml" ContentType="application/vnd.openxmlformats-officedocument.drawingml.diagramStyle+xml"/>
  <Override PartName="/ppt/diagrams/quickStyle25.xml" ContentType="application/vnd.openxmlformats-officedocument.drawingml.diagramStyle+xml"/>
  <Override PartName="/ppt/diagrams/data74.xml" ContentType="application/vnd.openxmlformats-officedocument.drawingml.diagramData+xml"/>
  <Override PartName="/ppt/diagrams/layout95.xml" ContentType="application/vnd.openxmlformats-officedocument.drawingml.diagramLayout+xml"/>
  <Override PartName="/ppt/diagrams/drawing77.xml" ContentType="application/vnd.ms-office.drawingml.diagramDrawing+xml"/>
  <Override PartName="/ppt/diagrams/quickStyle94.xml" ContentType="application/vnd.openxmlformats-officedocument.drawingml.diagramStyle+xml"/>
  <Override PartName="/ppt/diagrams/quickStyle26.xml" ContentType="application/vnd.openxmlformats-officedocument.drawingml.diagramStyle+xml"/>
  <Override PartName="/ppt/diagrams/quickStyle83.xml" ContentType="application/vnd.openxmlformats-officedocument.drawingml.diagramStyle+xml"/>
  <Override PartName="/ppt/diagrams/quickStyle98.xml" ContentType="application/vnd.openxmlformats-officedocument.drawingml.diagramStyle+xml"/>
  <Override PartName="/ppt/diagrams/data64.xml" ContentType="application/vnd.openxmlformats-officedocument.drawingml.diagramData+xml"/>
  <Override PartName="/ppt/diagrams/layout85.xml" ContentType="application/vnd.openxmlformats-officedocument.drawingml.diagramLayout+xml"/>
  <Override PartName="/ppt/diagrams/drawing35.xml" ContentType="application/vnd.ms-office.drawingml.diagramDrawing+xml"/>
  <Override PartName="/ppt/diagrams/layout83.xml" ContentType="application/vnd.openxmlformats-officedocument.drawingml.diagramLayout+xml"/>
  <Override PartName="/ppt/diagrams/data62.xml" ContentType="application/vnd.openxmlformats-officedocument.drawingml.diagramData+xml"/>
  <Override PartName="/ppt/diagrams/drawing33.xml" ContentType="application/vnd.ms-office.drawingml.diagramDrawing+xml"/>
  <Override PartName="/ppt/diagrams/data98.xml" ContentType="application/vnd.openxmlformats-officedocument.drawingml.diagramData+xml"/>
  <Override PartName="/ppt/diagrams/drawing69.xml" ContentType="application/vnd.ms-office.drawingml.diagramDrawing+xml"/>
  <Override PartName="/ppt/diagrams/quickStyle97.xml" ContentType="application/vnd.openxmlformats-officedocument.drawingml.diagramStyle+xml"/>
  <Override PartName="/ppt/diagrams/data63.xml" ContentType="application/vnd.openxmlformats-officedocument.drawingml.diagramData+xml"/>
  <Override PartName="/ppt/diagrams/layout84.xml" ContentType="application/vnd.openxmlformats-officedocument.drawingml.diagramLayout+xml"/>
  <Override PartName="/ppt/diagrams/drawing34.xml" ContentType="application/vnd.ms-office.drawingml.diagramDrawing+xml"/>
  <Override PartName="/ppt/diagrams/layout82.xml" ContentType="application/vnd.openxmlformats-officedocument.drawingml.diagramLayout+xml"/>
  <Override PartName="/ppt/diagrams/data61.xml" ContentType="application/vnd.openxmlformats-officedocument.drawingml.diagramData+xml"/>
  <Override PartName="/ppt/diagrams/drawing32.xml" ContentType="application/vnd.ms-office.drawingml.diagramDrawing+xml"/>
  <Override PartName="/ppt/diagrams/data78.xml" ContentType="application/vnd.openxmlformats-officedocument.drawingml.diagramData+xml"/>
  <Override PartName="/ppt/diagrams/layout97.xml" ContentType="application/vnd.openxmlformats-officedocument.drawingml.diagramLayout+xml"/>
  <Override PartName="/ppt/diagrams/data76.xml" ContentType="application/vnd.openxmlformats-officedocument.drawingml.diagramData+xml"/>
  <Override PartName="/ppt/diagrams/data75.xml" ContentType="application/vnd.openxmlformats-officedocument.drawingml.diagramData+xml"/>
  <Override PartName="/ppt/diagrams/layout96.xml" ContentType="application/vnd.openxmlformats-officedocument.drawingml.diagramLayout+xml"/>
  <Override PartName="/ppt/diagrams/drawing78.xml" ContentType="application/vnd.ms-office.drawingml.diagramDrawing+xml"/>
  <Override PartName="/ppt/diagrams/quickStyle95.xml" ContentType="application/vnd.openxmlformats-officedocument.drawingml.diagramStyle+xml"/>
  <Override PartName="/ppt/diagrams/colors74.xml" ContentType="application/vnd.openxmlformats-officedocument.drawingml.diagramColors+xml"/>
  <Override PartName="/ppt/diagrams/quickStyle61.xml" ContentType="application/vnd.openxmlformats-officedocument.drawingml.diagramStyle+xml"/>
  <Override PartName="/ppt/diagrams/data96.xml" ContentType="application/vnd.openxmlformats-officedocument.drawingml.diagramData+xml"/>
  <Override PartName="/ppt/diagrams/colors75.xml" ContentType="application/vnd.openxmlformats-officedocument.drawingml.diagramColors+xml"/>
  <Override PartName="/ppt/diagrams/quickStyle62.xml" ContentType="application/vnd.openxmlformats-officedocument.drawingml.diagramStyle+xml"/>
  <Override PartName="/ppt/diagrams/data97.xml" ContentType="application/vnd.openxmlformats-officedocument.drawingml.diagramData+xml"/>
  <Override PartName="/ppt/diagrams/drawing68.xml" ContentType="application/vnd.ms-office.drawingml.diagramDrawing+xml"/>
  <Override PartName="/ppt/diagrams/quickStyle96.xml" ContentType="application/vnd.openxmlformats-officedocument.drawingml.diagramStyle+xml"/>
  <Override PartName="/ppt/diagrams/colors79.xml" ContentType="application/vnd.openxmlformats-officedocument.drawingml.diagramColors+xml"/>
  <Override PartName="/ppt/diagrams/layout81.xml" ContentType="application/vnd.openxmlformats-officedocument.drawingml.diagramLayout+xml"/>
  <Override PartName="/ppt/diagrams/data60.xml" ContentType="application/vnd.openxmlformats-officedocument.drawingml.diagramData+xml"/>
  <Override PartName="/ppt/diagrams/layout13.xml" ContentType="application/vnd.openxmlformats-officedocument.drawingml.diagramLayout+xml"/>
  <Override PartName="/ppt/diagrams/drawing31.xml" ContentType="application/vnd.ms-office.drawingml.diagramDrawing+xml"/>
  <Override PartName="/ppt/diagrams/data77.xml" ContentType="application/vnd.openxmlformats-officedocument.drawingml.diagramData+xml"/>
  <Override PartName="/ppt/diagrams/colors70.xml" ContentType="application/vnd.openxmlformats-officedocument.drawingml.diagramColors+xml"/>
  <Override PartName="/ppt/diagrams/drawing79.xml" ContentType="application/vnd.ms-office.drawingml.diagramDrawing+xml"/>
  <Override PartName="/ppt/diagrams/colors63.xml" ContentType="application/vnd.openxmlformats-officedocument.drawingml.diagramColors+xml"/>
  <Override PartName="/ppt/diagrams/drawing88.xml" ContentType="application/vnd.ms-office.drawingml.diagramDrawing+xml"/>
  <Override PartName="/ppt/diagrams/quickStyle82.xml" ContentType="application/vnd.openxmlformats-officedocument.drawingml.diagramStyle+xml"/>
  <Override PartName="/ppt/diagrams/drawing74.xml" ContentType="application/vnd.ms-office.drawingml.diagramDrawing+xml"/>
  <Override PartName="/ppt/diagrams/layout90.xml" ContentType="application/vnd.openxmlformats-officedocument.drawingml.diagramLayout+xml"/>
  <Override PartName="/ppt/diagrams/colors88.xml" ContentType="application/vnd.openxmlformats-officedocument.drawingml.diagramColors+xml"/>
  <Override PartName="/ppt/diagrams/quickStyle88.xml" ContentType="application/vnd.openxmlformats-officedocument.drawingml.diagramStyle+xml"/>
  <Override PartName="/ppt/diagrams/colors66.xml" ContentType="application/vnd.openxmlformats-officedocument.drawingml.diagramColors+xml"/>
  <Override PartName="/ppt/diagrams/quickStyle53.xml" ContentType="application/vnd.openxmlformats-officedocument.drawingml.diagramStyle+xml"/>
  <Override PartName="/ppt/diagrams/data88.xml" ContentType="application/vnd.openxmlformats-officedocument.drawingml.diagramData+xml"/>
  <Override PartName="/ppt/diagrams/drawing59.xml" ContentType="application/vnd.ms-office.drawingml.diagramDrawing+xml"/>
  <Override PartName="/ppt/diagrams/quickStyle87.xml" ContentType="application/vnd.openxmlformats-officedocument.drawingml.diagramStyle+xml"/>
  <Override PartName="/ppt/diagrams/quickStyle81.xml" ContentType="application/vnd.openxmlformats-officedocument.drawingml.diagramStyle+xml"/>
  <Override PartName="/ppt/diagrams/data68.xml" ContentType="application/vnd.openxmlformats-officedocument.drawingml.diagramData+xml"/>
  <Override PartName="/ppt/diagrams/drawing21.xml" ContentType="application/vnd.ms-office.drawingml.diagramDrawing+xml"/>
  <Override PartName="/ppt/diagrams/layout89.xml" ContentType="application/vnd.openxmlformats-officedocument.drawingml.diagramLayout+xml"/>
  <Override PartName="/ppt/diagrams/layout87.xml" ContentType="application/vnd.openxmlformats-officedocument.drawingml.diagramLayout+xml"/>
  <Override PartName="/ppt/diagrams/data66.xml" ContentType="application/vnd.openxmlformats-officedocument.drawingml.diagramData+xml"/>
  <Override PartName="/ppt/diagrams/drawing37.xml" ContentType="application/vnd.ms-office.drawingml.diagramDrawing+xml"/>
  <Override PartName="/ppt/diagrams/colors65.xml" ContentType="application/vnd.openxmlformats-officedocument.drawingml.diagramColors+xml"/>
  <Override PartName="/ppt/diagrams/data87.xml" ContentType="application/vnd.openxmlformats-officedocument.drawingml.diagramData+xml"/>
  <Override PartName="/ppt/diagrams/drawing58.xml" ContentType="application/vnd.ms-office.drawingml.diagramDrawing+xml"/>
  <Override PartName="/ppt/diagrams/quickStyle86.xml" ContentType="application/vnd.openxmlformats-officedocument.drawingml.diagramStyle+xml"/>
  <Override PartName="/ppt/diagrams/quickStyle18.xml" ContentType="application/vnd.openxmlformats-officedocument.drawingml.diagramStyle+xml"/>
  <Override PartName="/ppt/diagrams/quickStyle80.xml" ContentType="application/vnd.openxmlformats-officedocument.drawingml.diagramStyle+xml"/>
  <Override PartName="/ppt/diagrams/data67.xml" ContentType="application/vnd.openxmlformats-officedocument.drawingml.diagramData+xml"/>
  <Override PartName="/ppt/diagrams/drawing20.xml" ContentType="application/vnd.ms-office.drawingml.diagramDrawing+xml"/>
  <Override PartName="/ppt/diagrams/layout88.xml" ContentType="application/vnd.openxmlformats-officedocument.drawingml.diagramLayout+xml"/>
  <Override PartName="/ppt/diagrams/layout86.xml" ContentType="application/vnd.openxmlformats-officedocument.drawingml.diagramLayout+xml"/>
  <Override PartName="/ppt/diagrams/data65.xml" ContentType="application/vnd.openxmlformats-officedocument.drawingml.diagramData+xml"/>
  <Override PartName="/ppt/diagrams/drawing36.xml" ContentType="application/vnd.ms-office.drawingml.diagramDrawing+xml"/>
  <Override PartName="/ppt/diagrams/colors64.xml" ContentType="application/vnd.openxmlformats-officedocument.drawingml.diagramColors+xml"/>
  <Override PartName="/ppt/diagrams/drawing89.xml" ContentType="application/vnd.ms-office.drawingml.diagramDrawing+xml"/>
  <Override PartName="/ppt/diagrams/data86.xml" ContentType="application/vnd.openxmlformats-officedocument.drawingml.diagramData+xml"/>
  <Override PartName="/ppt/diagrams/drawing57.xml" ContentType="application/vnd.ms-office.drawingml.diagramDrawing+xml"/>
  <Override PartName="/ppt/diagrams/colors86.xml" ContentType="application/vnd.openxmlformats-officedocument.drawingml.diagramColors+xml"/>
  <Override PartName="/ppt/diagrams/data18.xml" ContentType="application/vnd.openxmlformats-officedocument.drawingml.diagramData+xml"/>
  <Override PartName="/ppt/diagrams/layout39.xml" ContentType="application/vnd.openxmlformats-officedocument.drawingml.diagramLayout+xml"/>
  <Override PartName="/ppt/diagrams/quickStyle85.xml" ContentType="application/vnd.openxmlformats-officedocument.drawingml.diagramStyle+xml"/>
  <Override PartName="/ppt/diagrams/quickStyle84.xml" ContentType="application/vnd.openxmlformats-officedocument.drawingml.diagramStyle+xml"/>
  <Override PartName="/ppt/diagrams/drawing83.xml" ContentType="application/vnd.ms-office.drawingml.diagramDrawing+xml"/>
  <Override PartName="/ppt/diagrams/drawing82.xml" ContentType="application/vnd.ms-office.drawingml.diagramDrawing+xml"/>
  <Override PartName="/ppt/diagrams/drawing81.xml" ContentType="application/vnd.ms-office.drawingml.diagramDrawing+xml"/>
  <Override PartName="/ppt/diagrams/colors62.xml" ContentType="application/vnd.openxmlformats-officedocument.drawingml.diagramColors+xml"/>
  <Override PartName="/ppt/diagrams/colors61.xml" ContentType="application/vnd.openxmlformats-officedocument.drawingml.diagramColors+xml"/>
  <Override PartName="/ppt/diagrams/colors60.xml" ContentType="application/vnd.openxmlformats-officedocument.drawingml.diagramColors+xml"/>
  <Override PartName="/ppt/diagrams/quickStyle60.xml" ContentType="application/vnd.openxmlformats-officedocument.drawingml.diagramStyle+xml"/>
  <Override PartName="/ppt/diagrams/data79.xml" ContentType="application/vnd.openxmlformats-officedocument.drawingml.diagramData+xml"/>
  <Override PartName="/ppt/diagrams/drawing80.xml" ContentType="application/vnd.ms-office.drawingml.diagramDrawing+xml"/>
  <Override PartName="/ppt/diagrams/quickStyle59.xml" ContentType="application/vnd.openxmlformats-officedocument.drawingml.diagramStyle+xml"/>
  <Override PartName="/ppt/diagrams/quickStyle58.xml" ContentType="application/vnd.openxmlformats-officedocument.drawingml.diagramStyle+xml"/>
  <Override PartName="/ppt/diagrams/data58.xml" ContentType="application/vnd.openxmlformats-officedocument.drawingml.diagramData+xml"/>
  <Override PartName="/ppt/diagrams/quickStyle57.xml" ContentType="application/vnd.openxmlformats-officedocument.drawingml.diagramStyle+xml"/>
  <Override PartName="/ppt/diagrams/drawing56.xml" ContentType="application/vnd.ms-office.drawingml.diagramDrawing+xml"/>
  <Override PartName="/ppt/diagrams/layout19.xml" ContentType="application/vnd.openxmlformats-officedocument.drawingml.diagramLayout+xml"/>
  <Override PartName="/ppt/diagrams/data85.xml" ContentType="application/vnd.openxmlformats-officedocument.drawingml.diagramData+xml"/>
  <Override PartName="/ppt/diagrams/colors85.xml" ContentType="application/vnd.openxmlformats-officedocument.drawingml.diagramColors+xml"/>
  <Override PartName="/ppt/diagrams/data17.xml" ContentType="application/vnd.openxmlformats-officedocument.drawingml.diagramData+xml"/>
  <Override PartName="/ppt/diagrams/layout38.xml" ContentType="application/vnd.openxmlformats-officedocument.drawingml.diagramLayout+xml"/>
  <Override PartName="/ppt/diagrams/drawing55.xml" ContentType="application/vnd.ms-office.drawingml.diagramDrawing+xml"/>
  <Override PartName="/ppt/diagrams/layout18.xml" ContentType="application/vnd.openxmlformats-officedocument.drawingml.diagramLayout+xml"/>
  <Override PartName="/ppt/diagrams/data84.xml" ContentType="application/vnd.openxmlformats-officedocument.drawingml.diagramData+xml"/>
  <Override PartName="/ppt/diagrams/colors84.xml" ContentType="application/vnd.openxmlformats-officedocument.drawingml.diagramColors+xml"/>
  <Override PartName="/ppt/diagrams/data16.xml" ContentType="application/vnd.openxmlformats-officedocument.drawingml.diagramData+xml"/>
  <Override PartName="/ppt/diagrams/layout37.xml" ContentType="application/vnd.openxmlformats-officedocument.drawingml.diagramLayout+xml"/>
  <Override PartName="/ppt/diagrams/drawing54.xml" ContentType="application/vnd.ms-office.drawingml.diagramDrawing+xml"/>
  <Override PartName="/ppt/diagrams/layout17.xml" ContentType="application/vnd.openxmlformats-officedocument.drawingml.diagramLayout+xml"/>
  <Override PartName="/ppt/diagrams/data83.xml" ContentType="application/vnd.openxmlformats-officedocument.drawingml.diagramData+xml"/>
  <Override PartName="/ppt/diagrams/colors83.xml" ContentType="application/vnd.openxmlformats-officedocument.drawingml.diagramColors+xml"/>
  <Override PartName="/ppt/diagrams/data15.xml" ContentType="application/vnd.openxmlformats-officedocument.drawingml.diagramData+xml"/>
  <Override PartName="/ppt/diagrams/layout36.xml" ContentType="application/vnd.openxmlformats-officedocument.drawingml.diagramLayout+xml"/>
  <Override PartName="/ppt/diagrams/colors54.xml" ContentType="application/vnd.openxmlformats-officedocument.drawingml.diagramColors+xml"/>
  <Override PartName="/ppt/diagrams/drawing53.xml" ContentType="application/vnd.ms-office.drawingml.diagramDrawing+xml"/>
  <Override PartName="/ppt/diagrams/layout16.xml" ContentType="application/vnd.openxmlformats-officedocument.drawingml.diagramLayout+xml"/>
  <Override PartName="/ppt/diagrams/data82.xml" ContentType="application/vnd.openxmlformats-officedocument.drawingml.diagramData+xml"/>
  <Override PartName="/ppt/diagrams/layout35.xml" ContentType="application/vnd.openxmlformats-officedocument.drawingml.diagramLayout+xml"/>
  <Override PartName="/ppt/diagrams/colors53.xml" ContentType="application/vnd.openxmlformats-officedocument.drawingml.diagramColors+xml"/>
  <Override PartName="/ppt/diagrams/drawing52.xml" ContentType="application/vnd.ms-office.drawingml.diagramDrawing+xml"/>
  <Override PartName="/ppt/diagrams/layout15.xml" ContentType="application/vnd.openxmlformats-officedocument.drawingml.diagramLayout+xml"/>
  <Override PartName="/ppt/diagrams/data81.xml" ContentType="application/vnd.openxmlformats-officedocument.drawingml.diagramData+xml"/>
  <Override PartName="/ppt/diagrams/layout34.xml" ContentType="application/vnd.openxmlformats-officedocument.drawingml.diagramLayout+xml"/>
  <Override PartName="/ppt/diagrams/colors52.xml" ContentType="application/vnd.openxmlformats-officedocument.drawingml.diagramColors+xml"/>
  <Override PartName="/ppt/diagrams/colors94.xml" ContentType="application/vnd.openxmlformats-officedocument.drawingml.diagramColors+xml"/>
  <Override PartName="/ppt/diagrams/data26.xml" ContentType="application/vnd.openxmlformats-officedocument.drawingml.diagramData+xml"/>
  <Override PartName="/ppt/diagrams/layout47.xml" ContentType="application/vnd.openxmlformats-officedocument.drawingml.diagramLayout+xml"/>
  <Override PartName="/ppt/diagrams/colors93.xml" ContentType="application/vnd.openxmlformats-officedocument.drawingml.diagramColors+xml"/>
  <Override PartName="/ppt/diagrams/data25.xml" ContentType="application/vnd.openxmlformats-officedocument.drawingml.diagramData+xml"/>
  <Override PartName="/ppt/diagrams/layout46.xml" ContentType="application/vnd.openxmlformats-officedocument.drawingml.diagramLayout+xml"/>
  <Override PartName="/ppt/diagrams/colors92.xml" ContentType="application/vnd.openxmlformats-officedocument.drawingml.diagramColors+xml"/>
  <Override PartName="/ppt/diagrams/data24.xml" ContentType="application/vnd.openxmlformats-officedocument.drawingml.diagramData+xml"/>
  <Override PartName="/ppt/diagrams/layout45.xml" ContentType="application/vnd.openxmlformats-officedocument.drawingml.diagramLayout+xml"/>
  <Override PartName="/ppt/diagrams/colors91.xml" ContentType="application/vnd.openxmlformats-officedocument.drawingml.diagramColors+xml"/>
  <Override PartName="/ppt/diagrams/data23.xml" ContentType="application/vnd.openxmlformats-officedocument.drawingml.diagramData+xml"/>
  <Override PartName="/ppt/diagrams/layout44.xml" ContentType="application/vnd.openxmlformats-officedocument.drawingml.diagramLayout+xml"/>
  <Override PartName="/ppt/diagrams/layout25.xml" ContentType="application/vnd.openxmlformats-officedocument.drawingml.diagramLayout+xml"/>
  <Override PartName="/ppt/diagrams/data91.xml" ContentType="application/vnd.openxmlformats-officedocument.drawingml.diagramData+xml"/>
  <Override PartName="/ppt/diagrams/colors90.xml" ContentType="application/vnd.openxmlformats-officedocument.drawingml.diagramColors+xml"/>
  <Override PartName="/ppt/diagrams/data22.xml" ContentType="application/vnd.openxmlformats-officedocument.drawingml.diagramData+xml"/>
  <Override PartName="/ppt/diagrams/layout43.xml" ContentType="application/vnd.openxmlformats-officedocument.drawingml.diagramLayout+xml"/>
  <Override PartName="/ppt/diagrams/colors21.xml" ContentType="application/vnd.openxmlformats-officedocument.drawingml.diagramColors+xml"/>
  <Override PartName="/ppt/diagrams/data21.xml" ContentType="application/vnd.openxmlformats-officedocument.drawingml.diagramData+xml"/>
  <Override PartName="/ppt/diagrams/layout42.xml" ContentType="application/vnd.openxmlformats-officedocument.drawingml.diagramLayout+xml"/>
  <Override PartName="/ppt/diagrams/colors20.xml" ContentType="application/vnd.openxmlformats-officedocument.drawingml.diagramColors+xml"/>
  <Override PartName="/ppt/diagrams/data20.xml" ContentType="application/vnd.openxmlformats-officedocument.drawingml.diagramData+xml"/>
  <Override PartName="/ppt/diagrams/colors39.xml" ContentType="application/vnd.openxmlformats-officedocument.drawingml.diagramColors+xml"/>
  <Override PartName="/ppt/diagrams/layout41.xml" ContentType="application/vnd.openxmlformats-officedocument.drawingml.diagramLayout+xml"/>
  <Override PartName="/ppt/diagrams/quickStyle21.xml" ContentType="application/vnd.openxmlformats-officedocument.drawingml.diagramStyle+xml"/>
  <Override PartName="/ppt/diagrams/colors34.xml" ContentType="application/vnd.openxmlformats-officedocument.drawingml.diagramColors+xml"/>
  <Override PartName="/ppt/diagrams/colors33.xml" ContentType="application/vnd.openxmlformats-officedocument.drawingml.diagramColors+xml"/>
  <Override PartName="/ppt/diagrams/colors14.xml" ContentType="application/vnd.openxmlformats-officedocument.drawingml.diagramColors+xml"/>
  <Override PartName="/ppt/diagrams/data14.xml" ContentType="application/vnd.openxmlformats-officedocument.drawingml.diagramData+xml"/>
  <Override PartName="/ppt/diagrams/colors82.xml" ContentType="application/vnd.openxmlformats-officedocument.drawingml.diagramColors+xml"/>
  <Override PartName="/ppt/diagrams/layout14.xml" ContentType="application/vnd.openxmlformats-officedocument.drawingml.diagramLayout+xml"/>
  <Override PartName="/ppt/diagrams/data80.xml" ContentType="application/vnd.openxmlformats-officedocument.drawingml.diagramData+xml"/>
  <Override PartName="/ppt/diagrams/colors13.xml" ContentType="application/vnd.openxmlformats-officedocument.drawingml.diagramColors+xml"/>
  <Override PartName="/ppt/diagrams/data13.xml" ContentType="application/vnd.openxmlformats-officedocument.drawingml.diagramData+xml"/>
  <Override PartName="/ppt/diagrams/colors81.xml" ContentType="application/vnd.openxmlformats-officedocument.drawingml.diagramColor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3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4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5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6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7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8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9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4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6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7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9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1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3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4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5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6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7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9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1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3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4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5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6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7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9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1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4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5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6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7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9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0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4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6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7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8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9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0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4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6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7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8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9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0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4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6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7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9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1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4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6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7.xml><?xml version="1.0" encoding="utf-8"?>
<dgm:colorsDef xmlns:dgm="http://schemas.openxmlformats.org/drawingml/2006/diagram" xmlns:a="http://schemas.openxmlformats.org/drawingml/2006/main" uniqueId="urn:microsoft.com/office/officeart/2005/8/colors/accent3_5">
  <dgm:title val=""/>
  <dgm:desc val=""/>
  <dgm:catLst>
    <dgm:cat type="accent3" pri="11500"/>
  </dgm:catLst>
  <dgm:styleLbl name="node0">
    <dgm:fillClrLst meth="cycle">
      <a:schemeClr val="accent3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>
        <a:alpha val="9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>
        <a:alpha val="90000"/>
      </a:schemeClr>
      <a:schemeClr val="accent3">
        <a:alpha val="5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/>
    <dgm:txEffectClrLst/>
  </dgm:styleLbl>
  <dgm:styleLbl name="lnNode1">
    <dgm:fillClrLst>
      <a:schemeClr val="accent3">
        <a:shade val="90000"/>
      </a:schemeClr>
      <a:schemeClr val="accent3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shade val="80000"/>
        <a:alpha val="50000"/>
      </a:schemeClr>
      <a:schemeClr val="accent3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3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  <a:alpha val="90000"/>
      </a:schemeClr>
      <a:schemeClr val="accent3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>
        <a:shade val="90000"/>
      </a:schemeClr>
      <a:schemeClr val="accent3">
        <a:tint val="50000"/>
      </a:schemeClr>
    </dgm:fillClrLst>
    <dgm:linClrLst>
      <a:schemeClr val="accent3">
        <a:shade val="90000"/>
      </a:schemeClr>
      <a:schemeClr val="accent3">
        <a:tint val="50000"/>
      </a:schemeClr>
    </dgm:linClrLst>
    <dgm:effectClrLst/>
    <dgm:txLinClrLst/>
    <dgm:txFillClrLst/>
    <dgm:txEffectClrLst/>
  </dgm:styleLbl>
  <dgm:styleLbl name="fgSibTrans2D1">
    <dgm:fillClrLst>
      <a:schemeClr val="accent3">
        <a:shade val="90000"/>
      </a:schemeClr>
      <a:schemeClr val="accent3">
        <a:tint val="50000"/>
      </a:schemeClr>
    </dgm:fillClrLst>
    <dgm:linClrLst>
      <a:schemeClr val="accent3">
        <a:shade val="90000"/>
      </a:schemeClr>
      <a:schemeClr val="accent3">
        <a:tint val="50000"/>
      </a:schemeClr>
    </dgm:linClrLst>
    <dgm:effectClrLst/>
    <dgm:txLinClrLst/>
    <dgm:txFillClrLst/>
    <dgm:txEffectClrLst/>
  </dgm:styleLbl>
  <dgm:styleLbl name="bgSibTrans2D1">
    <dgm:fillClrLst>
      <a:schemeClr val="accent3">
        <a:shade val="90000"/>
      </a:schemeClr>
      <a:schemeClr val="accent3">
        <a:tint val="50000"/>
      </a:schemeClr>
    </dgm:fillClrLst>
    <dgm:linClrLst>
      <a:schemeClr val="accent3">
        <a:shade val="90000"/>
      </a:schemeClr>
      <a:schemeClr val="accent3">
        <a:tint val="50000"/>
      </a:schemeClr>
    </dgm:linClrLst>
    <dgm:effectClrLst/>
    <dgm:txLinClrLst/>
    <dgm:txFillClrLst/>
    <dgm:txEffectClrLst/>
  </dgm:styleLbl>
  <dgm:styleLbl name="sibTrans1D1">
    <dgm:fillClrLst>
      <a:schemeClr val="accent3">
        <a:shade val="90000"/>
      </a:schemeClr>
      <a:schemeClr val="accent3">
        <a:tint val="50000"/>
      </a:schemeClr>
    </dgm:fillClrLst>
    <dgm:linClrLst>
      <a:schemeClr val="accent3">
        <a:shade val="90000"/>
      </a:schemeClr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3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3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3">
        <a:shade val="8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3">
        <a:tint val="90000"/>
      </a:schemeClr>
    </dgm:fillClrLst>
    <dgm:linClrLst meth="repeat">
      <a:schemeClr val="accent3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3">
        <a:tint val="70000"/>
      </a:schemeClr>
    </dgm:fillClrLst>
    <dgm:linClrLst meth="repeat">
      <a:schemeClr val="accent3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3">
        <a:tint val="50000"/>
      </a:schemeClr>
    </dgm:fillClrLst>
    <dgm:linClrLst meth="repeat">
      <a:schemeClr val="accent3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3">
        <a:shade val="8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3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>
        <a:tint val="70000"/>
      </a:schemeClr>
    </dgm:fillClrLst>
    <dgm:linClrLst meth="repeat">
      <a:schemeClr val="accent3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>
        <a:tint val="50000"/>
      </a:schemeClr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alpha val="90000"/>
        <a:tint val="40000"/>
      </a:schemeClr>
      <a:schemeClr val="accent3">
        <a:alpha val="5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3">
        <a:alpha val="9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3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3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3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3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EC364E1-7ED0-462F-A115-BC8CDC6D1077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DC503EA-4954-4EF2-9B30-5F1753387B63}" type="pres">
      <dgm:prSet presAssocID="{1EC364E1-7ED0-462F-A115-BC8CDC6D1077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</dgm:ptLst>
  <dgm:cxnLst>
    <dgm:cxn modelId="{DD09C00B-0E31-4B4A-B088-AAF367321CCD}" type="presOf" srcId="{1EC364E1-7ED0-462F-A115-BC8CDC6D1077}" destId="{9DC503EA-4954-4EF2-9B30-5F1753387B63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1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rtl="0"/>
          <a:r>
            <a:rPr lang="en-US" sz="2800" b="1" dirty="0" smtClean="0"/>
            <a:t>      It   …    my toy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endParaRPr lang="ru-RU" b="1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endParaRPr lang="ru-RU" b="1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X="2222" custLinFactNeighborY="1248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FB5FE45A-C97A-4643-B7BC-6EEA54636603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2FC478E4-EF0D-4A01-9BD1-04162ED39782}" type="presOf" srcId="{AA54ED0A-A7A9-4E1B-9CF6-A7AF3F2D899A}" destId="{DC3E2338-4F7B-49E8-8119-14A26B802010}" srcOrd="0" destOrd="0" presId="urn:microsoft.com/office/officeart/2005/8/layout/vList2"/>
    <dgm:cxn modelId="{298B561B-D74B-4D17-9C37-107BEBD099CC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1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rtl="0"/>
          <a:r>
            <a:rPr lang="en-US" sz="2800" b="1" dirty="0" smtClean="0"/>
            <a:t>   We  …       friends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endParaRPr lang="ru-RU" b="1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endParaRPr lang="ru-RU" b="1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FB00D7A-C502-4D75-BBD2-4B02408D9584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51772101-0C30-499D-B9AA-DF3BB7CEA180}" type="presOf" srcId="{AA54ED0A-A7A9-4E1B-9CF6-A7AF3F2D899A}" destId="{DC3E2338-4F7B-49E8-8119-14A26B802010}" srcOrd="0" destOrd="0" presId="urn:microsoft.com/office/officeart/2005/8/layout/vList2"/>
    <dgm:cxn modelId="{659870D7-9A5A-4C07-B62A-3DD913CD8D15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12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2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am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64494" custLinFactNeighborX="9095" custLinFactNeighborY="-34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FCBE335F-1660-4B21-B0C5-F584F2BEA15F}" type="presOf" srcId="{945F1E84-132D-4E8D-9FD8-0C6290324F5C}" destId="{B220A31A-FFB7-451C-9EB8-84C30FA2851D}" srcOrd="0" destOrd="0" presId="urn:microsoft.com/office/officeart/2005/8/layout/vList2"/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047C3148-A079-4283-A642-7CFF435B0ED1}" type="presOf" srcId="{A2328721-6A45-4132-97C0-45D6ECD7B2A1}" destId="{F1B67B02-D320-481B-8B2A-05AAE23E9E0E}" srcOrd="0" destOrd="0" presId="urn:microsoft.com/office/officeart/2005/8/layout/vList2"/>
    <dgm:cxn modelId="{65DDFDFA-6382-4024-9174-F455F267973A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13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are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64494" custLinFactNeighborX="9095" custLinFactNeighborY="-34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7C9E9299-FA34-458D-A104-CC09DB2E7484}" type="presOf" srcId="{A2328721-6A45-4132-97C0-45D6ECD7B2A1}" destId="{F1B67B02-D320-481B-8B2A-05AAE23E9E0E}" srcOrd="0" destOrd="0" presId="urn:microsoft.com/office/officeart/2005/8/layout/vList2"/>
    <dgm:cxn modelId="{75353827-7CB2-4257-818D-AE747FEE9E9C}" type="presOf" srcId="{945F1E84-132D-4E8D-9FD8-0C6290324F5C}" destId="{B220A31A-FFB7-451C-9EB8-84C30FA2851D}" srcOrd="0" destOrd="0" presId="urn:microsoft.com/office/officeart/2005/8/layout/vList2"/>
    <dgm:cxn modelId="{9BE074BA-2F18-4974-9AB1-78FDC53A2FC5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14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is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81090" custLinFactNeighborX="11117" custLinFactNeighborY="-8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BF17C4E9-746A-41E4-970A-861BB6234DD8}" type="presOf" srcId="{A2328721-6A45-4132-97C0-45D6ECD7B2A1}" destId="{F1B67B02-D320-481B-8B2A-05AAE23E9E0E}" srcOrd="0" destOrd="0" presId="urn:microsoft.com/office/officeart/2005/8/layout/vList2"/>
    <dgm:cxn modelId="{1FB1A0A1-4706-418E-8B4E-AC9F2ACAC702}" type="presOf" srcId="{945F1E84-132D-4E8D-9FD8-0C6290324F5C}" destId="{B220A31A-FFB7-451C-9EB8-84C30FA2851D}" srcOrd="0" destOrd="0" presId="urn:microsoft.com/office/officeart/2005/8/layout/vList2"/>
    <dgm:cxn modelId="{2F1D537E-CEF7-4063-B6CC-CEFBFA8ACA2C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15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are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64494" custLinFactNeighborX="9095" custLinFactNeighborY="-34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A7008F62-F9F0-4DF8-9B9F-B713D4355C71}" type="presOf" srcId="{A2328721-6A45-4132-97C0-45D6ECD7B2A1}" destId="{F1B67B02-D320-481B-8B2A-05AAE23E9E0E}" srcOrd="0" destOrd="0" presId="urn:microsoft.com/office/officeart/2005/8/layout/vList2"/>
    <dgm:cxn modelId="{5F5EDB2C-CF8A-494E-9165-02086872AE62}" type="presOf" srcId="{945F1E84-132D-4E8D-9FD8-0C6290324F5C}" destId="{B220A31A-FFB7-451C-9EB8-84C30FA2851D}" srcOrd="0" destOrd="0" presId="urn:microsoft.com/office/officeart/2005/8/layout/vList2"/>
    <dgm:cxn modelId="{B8438DF2-A231-414C-BF3D-B6841850C298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16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are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64494" custLinFactNeighborX="9095" custLinFactNeighborY="-34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83E91E60-7384-450A-8304-BE26C72D4093}" type="presOf" srcId="{A2328721-6A45-4132-97C0-45D6ECD7B2A1}" destId="{F1B67B02-D320-481B-8B2A-05AAE23E9E0E}" srcOrd="0" destOrd="0" presId="urn:microsoft.com/office/officeart/2005/8/layout/vList2"/>
    <dgm:cxn modelId="{5CF4FBA8-03D3-4DC9-B65C-C65C53E89D92}" type="presOf" srcId="{945F1E84-132D-4E8D-9FD8-0C6290324F5C}" destId="{B220A31A-FFB7-451C-9EB8-84C30FA2851D}" srcOrd="0" destOrd="0" presId="urn:microsoft.com/office/officeart/2005/8/layout/vList2"/>
    <dgm:cxn modelId="{9C1B1B26-B04D-4FB8-8C1E-ABB20B37418C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17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is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81090" custLinFactNeighborX="11117" custLinFactNeighborY="-34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E5A249F0-2AFA-4CA0-820D-B49F3FBB79F1}" type="presOf" srcId="{945F1E84-132D-4E8D-9FD8-0C6290324F5C}" destId="{B220A31A-FFB7-451C-9EB8-84C30FA2851D}" srcOrd="0" destOrd="0" presId="urn:microsoft.com/office/officeart/2005/8/layout/vList2"/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4BF6D2AD-7884-48B8-B713-0981187BF88C}" type="presOf" srcId="{A2328721-6A45-4132-97C0-45D6ECD7B2A1}" destId="{F1B67B02-D320-481B-8B2A-05AAE23E9E0E}" srcOrd="0" destOrd="0" presId="urn:microsoft.com/office/officeart/2005/8/layout/vList2"/>
    <dgm:cxn modelId="{AB2C08E7-83B7-4196-96CA-CCD92B2A05E9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18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is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81090" custLinFactNeighborX="11117" custLinFactNeighborY="-8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E9EAC5C-657E-4BA0-9E11-4481222BC5E2}" type="presOf" srcId="{A2328721-6A45-4132-97C0-45D6ECD7B2A1}" destId="{F1B67B02-D320-481B-8B2A-05AAE23E9E0E}" srcOrd="0" destOrd="0" presId="urn:microsoft.com/office/officeart/2005/8/layout/vList2"/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A2D7128B-B1BA-4304-AC0E-CB94E98F2B8D}" type="presOf" srcId="{945F1E84-132D-4E8D-9FD8-0C6290324F5C}" destId="{B220A31A-FFB7-451C-9EB8-84C30FA2851D}" srcOrd="0" destOrd="0" presId="urn:microsoft.com/office/officeart/2005/8/layout/vList2"/>
    <dgm:cxn modelId="{D87ADAD4-4C60-45D5-AAC5-DCE7BD00FD4A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19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Correct the mistakes.</a:t>
          </a:r>
          <a:endParaRPr lang="ru-RU" sz="3600" b="1" dirty="0">
            <a:solidFill>
              <a:srgbClr val="FF000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A4ED300-2783-48F1-8BF6-B48642E13E3D}" type="presOf" srcId="{2D12C966-950A-4088-927E-A6A3A2FFBFDC}" destId="{EB7FC6E1-083E-4ECA-99D8-1F2DBD66B6A9}" srcOrd="0" destOrd="0" presId="urn:microsoft.com/office/officeart/2005/8/layout/vList2"/>
    <dgm:cxn modelId="{036F68C3-B7E5-4DF4-AA99-354A84AB74DC}" type="presOf" srcId="{96570C62-DC05-44A6-86B5-43E4F319A635}" destId="{73F9C575-9C73-4BBF-A96E-6D95DF6FC640}" srcOrd="0" destOrd="0" presId="urn:microsoft.com/office/officeart/2005/8/layout/vList2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2B0A1F55-777C-4A3F-8AEF-2B5C39F1B3C5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8668165E-1C49-43A7-BD0C-0A1486BAA466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51764BAE-C4F6-4B86-B429-753B7CF2CBC1}">
      <dgm:prSet custT="1"/>
      <dgm:spPr/>
      <dgm:t>
        <a:bodyPr/>
        <a:lstStyle/>
        <a:p>
          <a:pPr algn="ctr" rtl="0"/>
          <a:r>
            <a:rPr lang="en-US" sz="6600" dirty="0" smtClean="0">
              <a:solidFill>
                <a:srgbClr val="002060"/>
              </a:solidFill>
            </a:rPr>
            <a:t>Contents </a:t>
          </a:r>
          <a:endParaRPr lang="ru-RU" sz="6600" dirty="0">
            <a:solidFill>
              <a:srgbClr val="002060"/>
            </a:solidFill>
          </a:endParaRPr>
        </a:p>
      </dgm:t>
    </dgm:pt>
    <dgm:pt modelId="{9CCA5D29-13DA-4B4E-AFF7-4E2D92466D2D}" type="parTrans" cxnId="{9AA3B0DE-DA1E-4965-8120-44DBC54763C1}">
      <dgm:prSet/>
      <dgm:spPr/>
      <dgm:t>
        <a:bodyPr/>
        <a:lstStyle/>
        <a:p>
          <a:pPr algn="ctr"/>
          <a:endParaRPr lang="ru-RU" sz="3200">
            <a:solidFill>
              <a:srgbClr val="002060"/>
            </a:solidFill>
          </a:endParaRPr>
        </a:p>
      </dgm:t>
    </dgm:pt>
    <dgm:pt modelId="{C6144D04-8B05-43D7-8104-EC231679C756}" type="sibTrans" cxnId="{9AA3B0DE-DA1E-4965-8120-44DBC54763C1}">
      <dgm:prSet/>
      <dgm:spPr/>
      <dgm:t>
        <a:bodyPr/>
        <a:lstStyle/>
        <a:p>
          <a:pPr algn="ctr"/>
          <a:endParaRPr lang="ru-RU" sz="3200">
            <a:solidFill>
              <a:srgbClr val="002060"/>
            </a:solidFill>
          </a:endParaRPr>
        </a:p>
      </dgm:t>
    </dgm:pt>
    <dgm:pt modelId="{3F652307-C03E-4523-BBBC-54247E761B2A}" type="pres">
      <dgm:prSet presAssocID="{8668165E-1C49-43A7-BD0C-0A1486BAA466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89F2A04B-B3C8-4DDE-9EAD-D3232A1EA912}" type="pres">
      <dgm:prSet presAssocID="{51764BAE-C4F6-4B86-B429-753B7CF2CBC1}" presName="parentText" presStyleLbl="node1" presStyleIdx="0" presStyleCnt="1" custLinFactNeighborX="69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79D7CB7-EFBF-4FCF-9D71-ABFD32764604}" type="presOf" srcId="{8668165E-1C49-43A7-BD0C-0A1486BAA466}" destId="{3F652307-C03E-4523-BBBC-54247E761B2A}" srcOrd="0" destOrd="0" presId="urn:microsoft.com/office/officeart/2005/8/layout/vList2"/>
    <dgm:cxn modelId="{9AA3B0DE-DA1E-4965-8120-44DBC54763C1}" srcId="{8668165E-1C49-43A7-BD0C-0A1486BAA466}" destId="{51764BAE-C4F6-4B86-B429-753B7CF2CBC1}" srcOrd="0" destOrd="0" parTransId="{9CCA5D29-13DA-4B4E-AFF7-4E2D92466D2D}" sibTransId="{C6144D04-8B05-43D7-8104-EC231679C756}"/>
    <dgm:cxn modelId="{54048D5C-53CC-4617-826C-5333BA5520EA}" type="presOf" srcId="{51764BAE-C4F6-4B86-B429-753B7CF2CBC1}" destId="{89F2A04B-B3C8-4DDE-9EAD-D3232A1EA912}" srcOrd="0" destOrd="0" presId="urn:microsoft.com/office/officeart/2005/8/layout/vList2"/>
    <dgm:cxn modelId="{0660C338-0B26-48B2-91EB-12D4328EDACF}" type="presParOf" srcId="{3F652307-C03E-4523-BBBC-54247E761B2A}" destId="{89F2A04B-B3C8-4DDE-9EAD-D3232A1EA912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He are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7D58305B-8ACC-4FA3-9961-90ACD5868EB5}" type="presOf" srcId="{4B52F623-9EDD-4639-8F4F-A60159388BAE}" destId="{13583DBC-89D5-4A61-947C-7830DF8C31CC}" srcOrd="0" destOrd="0" presId="urn:microsoft.com/office/officeart/2005/8/layout/vList2"/>
    <dgm:cxn modelId="{D432C185-6013-47A2-8FA7-971A21BB5828}" type="presOf" srcId="{AA54ED0A-A7A9-4E1B-9CF6-A7AF3F2D899A}" destId="{DC3E2338-4F7B-49E8-8119-14A26B802010}" srcOrd="0" destOrd="0" presId="urn:microsoft.com/office/officeart/2005/8/layout/vList2"/>
    <dgm:cxn modelId="{1612E8A8-EC65-4409-9486-32BCF458CD78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2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 is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CA383A1-7834-4472-BC01-C4C9E457B4EF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F21335E-1DDF-4813-AE84-577C76EFD00D}" type="presOf" srcId="{4B52F623-9EDD-4639-8F4F-A60159388BAE}" destId="{13583DBC-89D5-4A61-947C-7830DF8C31CC}" srcOrd="0" destOrd="0" presId="urn:microsoft.com/office/officeart/2005/8/layout/vList2"/>
    <dgm:cxn modelId="{21077D16-D68E-42FD-8D03-4389A3375BF6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22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 </a:t>
          </a:r>
          <a:r>
            <a:rPr lang="en-US" sz="2800" b="1" u="sng" dirty="0" smtClean="0"/>
            <a:t>am</a:t>
          </a:r>
          <a:r>
            <a:rPr lang="en-US" sz="2800" b="1" dirty="0" smtClean="0"/>
            <a:t>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Y="37540" custLinFactNeighborX="4255" custLinFactNeighborY="100000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3BF09FE-AE07-47D6-94DC-18FFEE263498}" type="presOf" srcId="{AA54ED0A-A7A9-4E1B-9CF6-A7AF3F2D899A}" destId="{DC3E2338-4F7B-49E8-8119-14A26B802010}" srcOrd="0" destOrd="0" presId="urn:microsoft.com/office/officeart/2005/8/layout/vList2"/>
    <dgm:cxn modelId="{5FE7B7EE-461F-4F66-91AB-FF11DEB8AAD9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E3280709-7A11-40B5-B0FC-0C04B033C27D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2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t am slim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E014118-10C8-40F6-881B-A748FFA7942E}" type="presOf" srcId="{4B52F623-9EDD-4639-8F4F-A60159388BAE}" destId="{13583DBC-89D5-4A61-947C-7830DF8C31CC}" srcOrd="0" destOrd="0" presId="urn:microsoft.com/office/officeart/2005/8/layout/vList2"/>
    <dgm:cxn modelId="{9569FF06-25D8-48C6-8319-619E1B0A0D37}" type="presOf" srcId="{AA54ED0A-A7A9-4E1B-9CF6-A7AF3F2D899A}" destId="{DC3E2338-4F7B-49E8-8119-14A26B802010}" srcOrd="0" destOrd="0" presId="urn:microsoft.com/office/officeart/2005/8/layout/vList2"/>
    <dgm:cxn modelId="{5759C6BB-FAD8-4A8C-9212-0513CCDFC327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24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t </a:t>
          </a:r>
          <a:r>
            <a:rPr lang="en-US" sz="2800" b="1" u="sng" dirty="0" smtClean="0"/>
            <a:t>is</a:t>
          </a:r>
          <a:r>
            <a:rPr lang="en-US" sz="2800" b="1" dirty="0" smtClean="0"/>
            <a:t> slim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CA2BE579-F9A9-4E00-A7E0-9CB32C053998}" type="presOf" srcId="{AA54ED0A-A7A9-4E1B-9CF6-A7AF3F2D899A}" destId="{DC3E2338-4F7B-49E8-8119-14A26B802010}" srcOrd="0" destOrd="0" presId="urn:microsoft.com/office/officeart/2005/8/layout/vList2"/>
    <dgm:cxn modelId="{451D113C-BF9E-4380-8B72-61578CF6D3A6}" type="presOf" srcId="{4B52F623-9EDD-4639-8F4F-A60159388BAE}" destId="{13583DBC-89D5-4A61-947C-7830DF8C31CC}" srcOrd="0" destOrd="0" presId="urn:microsoft.com/office/officeart/2005/8/layout/vList2"/>
    <dgm:cxn modelId="{813691B0-D921-41BB-B823-933EDBF6C3D2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2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She are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C25CA8E7-27D6-4B23-A0C2-6147C88DE766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0B90A804-B3DE-40B6-98B3-5F27CB80F26E}" type="presOf" srcId="{4B52F623-9EDD-4639-8F4F-A60159388BAE}" destId="{13583DBC-89D5-4A61-947C-7830DF8C31CC}" srcOrd="0" destOrd="0" presId="urn:microsoft.com/office/officeart/2005/8/layout/vList2"/>
    <dgm:cxn modelId="{E48739BB-CDCE-4CAF-B5A0-4B702FB0B24B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2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She </a:t>
          </a:r>
          <a:r>
            <a:rPr lang="en-US" sz="2800" b="1" u="sng" dirty="0" smtClean="0"/>
            <a:t>is</a:t>
          </a:r>
          <a:r>
            <a:rPr lang="en-US" sz="2800" b="1" dirty="0" smtClean="0"/>
            <a:t>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18160461-3CC8-429D-ACFC-55F36B1B1810}" type="presOf" srcId="{4B52F623-9EDD-4639-8F4F-A60159388BAE}" destId="{13583DBC-89D5-4A61-947C-7830DF8C31CC}" srcOrd="0" destOrd="0" presId="urn:microsoft.com/office/officeart/2005/8/layout/vList2"/>
    <dgm:cxn modelId="{8C063935-38B9-4929-897F-FF51F5DE4258}" type="presOf" srcId="{AA54ED0A-A7A9-4E1B-9CF6-A7AF3F2D899A}" destId="{DC3E2338-4F7B-49E8-8119-14A26B802010}" srcOrd="0" destOrd="0" presId="urn:microsoft.com/office/officeart/2005/8/layout/vList2"/>
    <dgm:cxn modelId="{9D0A2DA3-18C1-4490-A12D-5EB9D5275AE0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27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He </a:t>
          </a:r>
          <a:r>
            <a:rPr lang="en-US" sz="2800" b="1" u="sng" dirty="0" smtClean="0"/>
            <a:t>is</a:t>
          </a:r>
          <a:r>
            <a:rPr lang="en-US" sz="2800" b="1" dirty="0" smtClean="0"/>
            <a:t>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2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001209F-7257-4C7A-BC18-9E20DEC58972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D5D49BC2-17A9-4482-9663-E235FB690088}" type="presOf" srcId="{4B52F623-9EDD-4639-8F4F-A60159388BAE}" destId="{13583DBC-89D5-4A61-947C-7830DF8C31CC}" srcOrd="0" destOrd="0" presId="urn:microsoft.com/office/officeart/2005/8/layout/vList2"/>
    <dgm:cxn modelId="{56D01461-A385-4746-90D4-44F5C9792F20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28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You am plump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37923D7-540A-48F3-A500-FAAB12A6282D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38FDBA45-2549-44F6-8C58-6A0F3A69700C}" type="presOf" srcId="{AA54ED0A-A7A9-4E1B-9CF6-A7AF3F2D899A}" destId="{DC3E2338-4F7B-49E8-8119-14A26B802010}" srcOrd="0" destOrd="0" presId="urn:microsoft.com/office/officeart/2005/8/layout/vList2"/>
    <dgm:cxn modelId="{58D76860-70B2-4F5F-B29F-381B096AAC6A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29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You </a:t>
          </a:r>
          <a:r>
            <a:rPr lang="en-US" sz="2800" b="1" u="sng" dirty="0" smtClean="0"/>
            <a:t>are</a:t>
          </a:r>
          <a:r>
            <a:rPr lang="en-US" sz="2800" b="1" dirty="0" smtClean="0"/>
            <a:t> plump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0961B80C-8631-471F-8370-5DA28D9F2685}" type="presOf" srcId="{4B52F623-9EDD-4639-8F4F-A60159388BAE}" destId="{13583DBC-89D5-4A61-947C-7830DF8C31CC}" srcOrd="0" destOrd="0" presId="urn:microsoft.com/office/officeart/2005/8/layout/vList2"/>
    <dgm:cxn modelId="{5844ED73-A0EC-471B-A86F-610367983FB6}" type="presOf" srcId="{AA54ED0A-A7A9-4E1B-9CF6-A7AF3F2D899A}" destId="{DC3E2338-4F7B-49E8-8119-14A26B802010}" srcOrd="0" destOrd="0" presId="urn:microsoft.com/office/officeart/2005/8/layout/vList2"/>
    <dgm:cxn modelId="{BD287668-52C0-4BAC-8C7A-1C1F052C6635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1FE1AF20-CAA8-455A-B519-36AE64444D49}" type="doc">
      <dgm:prSet loTypeId="urn:microsoft.com/office/officeart/2005/8/layout/cycle2" loCatId="cycle" qsTypeId="urn:microsoft.com/office/officeart/2005/8/quickstyle/simple1" qsCatId="simple" csTypeId="urn:microsoft.com/office/officeart/2005/8/colors/colorful5" csCatId="colorful" phldr="0"/>
      <dgm:spPr/>
      <dgm:t>
        <a:bodyPr/>
        <a:lstStyle/>
        <a:p>
          <a:endParaRPr lang="ru-RU"/>
        </a:p>
      </dgm:t>
    </dgm:pt>
    <dgm:pt modelId="{19E9C282-30CD-4B86-9EB2-736D05F81151}">
      <dgm:prSet phldrT="[Текст]" phldr="1"/>
      <dgm:spPr/>
      <dgm:t>
        <a:bodyPr/>
        <a:lstStyle/>
        <a:p>
          <a:endParaRPr lang="ru-RU"/>
        </a:p>
      </dgm:t>
    </dgm:pt>
    <dgm:pt modelId="{CC66EC31-E913-4640-9E26-2DEA3F5AD864}" type="parTrans" cxnId="{E8C04AF3-E66A-45D4-811C-4629A3E5E33C}">
      <dgm:prSet/>
      <dgm:spPr/>
      <dgm:t>
        <a:bodyPr/>
        <a:lstStyle/>
        <a:p>
          <a:endParaRPr lang="ru-RU"/>
        </a:p>
      </dgm:t>
    </dgm:pt>
    <dgm:pt modelId="{F359A693-1577-4D71-AE78-8D41944D9911}" type="sibTrans" cxnId="{E8C04AF3-E66A-45D4-811C-4629A3E5E33C}">
      <dgm:prSet/>
      <dgm:spPr/>
      <dgm:t>
        <a:bodyPr/>
        <a:lstStyle/>
        <a:p>
          <a:endParaRPr lang="ru-RU"/>
        </a:p>
      </dgm:t>
    </dgm:pt>
    <dgm:pt modelId="{AC9745A9-6A2B-485B-89C5-8C7593D573C5}">
      <dgm:prSet phldrT="[Текст]" phldr="1"/>
      <dgm:spPr/>
      <dgm:t>
        <a:bodyPr/>
        <a:lstStyle/>
        <a:p>
          <a:endParaRPr lang="ru-RU"/>
        </a:p>
      </dgm:t>
    </dgm:pt>
    <dgm:pt modelId="{3AA10EBB-0868-4800-9D47-7AB5DDC425FE}" type="parTrans" cxnId="{938EDAA9-2E16-4321-97F7-E776E85D9EDC}">
      <dgm:prSet/>
      <dgm:spPr/>
      <dgm:t>
        <a:bodyPr/>
        <a:lstStyle/>
        <a:p>
          <a:endParaRPr lang="ru-RU"/>
        </a:p>
      </dgm:t>
    </dgm:pt>
    <dgm:pt modelId="{BB137832-E77F-4317-AE82-90518C0BF865}" type="sibTrans" cxnId="{938EDAA9-2E16-4321-97F7-E776E85D9EDC}">
      <dgm:prSet/>
      <dgm:spPr/>
      <dgm:t>
        <a:bodyPr/>
        <a:lstStyle/>
        <a:p>
          <a:endParaRPr lang="ru-RU"/>
        </a:p>
      </dgm:t>
    </dgm:pt>
    <dgm:pt modelId="{EECB8D45-E9D5-496A-B078-31C23FFE47F0}">
      <dgm:prSet phldrT="[Текст]" phldr="1"/>
      <dgm:spPr/>
      <dgm:t>
        <a:bodyPr/>
        <a:lstStyle/>
        <a:p>
          <a:endParaRPr lang="ru-RU" dirty="0"/>
        </a:p>
      </dgm:t>
    </dgm:pt>
    <dgm:pt modelId="{A1466EC6-64E3-4B3B-9AC8-4132178C1062}" type="sibTrans" cxnId="{89C60DCC-235B-4BC4-9A52-EE0D721A504D}">
      <dgm:prSet/>
      <dgm:spPr/>
      <dgm:t>
        <a:bodyPr/>
        <a:lstStyle/>
        <a:p>
          <a:endParaRPr lang="ru-RU"/>
        </a:p>
      </dgm:t>
    </dgm:pt>
    <dgm:pt modelId="{EA648A37-BC2B-4B57-9093-EB1137ADC9FE}" type="parTrans" cxnId="{89C60DCC-235B-4BC4-9A52-EE0D721A504D}">
      <dgm:prSet/>
      <dgm:spPr/>
      <dgm:t>
        <a:bodyPr/>
        <a:lstStyle/>
        <a:p>
          <a:endParaRPr lang="ru-RU"/>
        </a:p>
      </dgm:t>
    </dgm:pt>
    <dgm:pt modelId="{2DD5CB38-B7E9-47FB-9EE8-D531663FB4D2}" type="pres">
      <dgm:prSet presAssocID="{1FE1AF20-CAA8-455A-B519-36AE64444D49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C06D926C-2EE2-4D26-BAFD-D7BB5F2A8AE5}" type="pres">
      <dgm:prSet presAssocID="{EECB8D45-E9D5-496A-B078-31C23FFE47F0}" presName="node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231F16B-4EB1-409D-9660-BA1CA497FB96}" type="pres">
      <dgm:prSet presAssocID="{A1466EC6-64E3-4B3B-9AC8-4132178C1062}" presName="sibTrans" presStyleLbl="sibTrans2D1" presStyleIdx="0" presStyleCnt="3"/>
      <dgm:spPr/>
      <dgm:t>
        <a:bodyPr/>
        <a:lstStyle/>
        <a:p>
          <a:endParaRPr lang="ru-RU"/>
        </a:p>
      </dgm:t>
    </dgm:pt>
    <dgm:pt modelId="{A79D01BC-ABCB-45A3-9B8C-086A9172AC66}" type="pres">
      <dgm:prSet presAssocID="{A1466EC6-64E3-4B3B-9AC8-4132178C1062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AAFDEFCE-DCC7-47E5-81A6-5C9405A5A361}" type="pres">
      <dgm:prSet presAssocID="{19E9C282-30CD-4B86-9EB2-736D05F81151}" presName="node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3226745-A5DF-4C3D-A85D-A4E92B077DA3}" type="pres">
      <dgm:prSet presAssocID="{F359A693-1577-4D71-AE78-8D41944D9911}" presName="sibTrans" presStyleLbl="sibTrans2D1" presStyleIdx="1" presStyleCnt="3"/>
      <dgm:spPr/>
      <dgm:t>
        <a:bodyPr/>
        <a:lstStyle/>
        <a:p>
          <a:endParaRPr lang="ru-RU"/>
        </a:p>
      </dgm:t>
    </dgm:pt>
    <dgm:pt modelId="{06F6407E-B40D-4621-A006-553D119947D7}" type="pres">
      <dgm:prSet presAssocID="{F359A693-1577-4D71-AE78-8D41944D9911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BC97BD55-7DC3-4C41-8229-908293E2B22D}" type="pres">
      <dgm:prSet presAssocID="{AC9745A9-6A2B-485B-89C5-8C7593D573C5}" presName="node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C457698-33D7-48AD-B439-2280B5B92AB2}" type="pres">
      <dgm:prSet presAssocID="{BB137832-E77F-4317-AE82-90518C0BF865}" presName="sibTrans" presStyleLbl="sibTrans2D1" presStyleIdx="2" presStyleCnt="3"/>
      <dgm:spPr/>
      <dgm:t>
        <a:bodyPr/>
        <a:lstStyle/>
        <a:p>
          <a:endParaRPr lang="ru-RU"/>
        </a:p>
      </dgm:t>
    </dgm:pt>
    <dgm:pt modelId="{B160DE51-6876-4F06-9A7B-AAA1F0EC144D}" type="pres">
      <dgm:prSet presAssocID="{BB137832-E77F-4317-AE82-90518C0BF865}" presName="connectorText" presStyleLbl="sibTrans2D1" presStyleIdx="2" presStyleCnt="3"/>
      <dgm:spPr/>
      <dgm:t>
        <a:bodyPr/>
        <a:lstStyle/>
        <a:p>
          <a:endParaRPr lang="ru-RU"/>
        </a:p>
      </dgm:t>
    </dgm:pt>
  </dgm:ptLst>
  <dgm:cxnLst>
    <dgm:cxn modelId="{89C60DCC-235B-4BC4-9A52-EE0D721A504D}" srcId="{1FE1AF20-CAA8-455A-B519-36AE64444D49}" destId="{EECB8D45-E9D5-496A-B078-31C23FFE47F0}" srcOrd="0" destOrd="0" parTransId="{EA648A37-BC2B-4B57-9093-EB1137ADC9FE}" sibTransId="{A1466EC6-64E3-4B3B-9AC8-4132178C1062}"/>
    <dgm:cxn modelId="{CA51B59A-DF58-45AF-A938-09AD57381E51}" type="presOf" srcId="{F359A693-1577-4D71-AE78-8D41944D9911}" destId="{06F6407E-B40D-4621-A006-553D119947D7}" srcOrd="1" destOrd="0" presId="urn:microsoft.com/office/officeart/2005/8/layout/cycle2"/>
    <dgm:cxn modelId="{DC27C177-DC4A-4D2A-8988-E6E1EDA8BF7C}" type="presOf" srcId="{A1466EC6-64E3-4B3B-9AC8-4132178C1062}" destId="{A79D01BC-ABCB-45A3-9B8C-086A9172AC66}" srcOrd="1" destOrd="0" presId="urn:microsoft.com/office/officeart/2005/8/layout/cycle2"/>
    <dgm:cxn modelId="{75189C10-F330-4C14-953F-85B28021486C}" type="presOf" srcId="{BB137832-E77F-4317-AE82-90518C0BF865}" destId="{2C457698-33D7-48AD-B439-2280B5B92AB2}" srcOrd="0" destOrd="0" presId="urn:microsoft.com/office/officeart/2005/8/layout/cycle2"/>
    <dgm:cxn modelId="{D6468631-AC84-472B-9C72-B0EFFB5C0ABE}" type="presOf" srcId="{AC9745A9-6A2B-485B-89C5-8C7593D573C5}" destId="{BC97BD55-7DC3-4C41-8229-908293E2B22D}" srcOrd="0" destOrd="0" presId="urn:microsoft.com/office/officeart/2005/8/layout/cycle2"/>
    <dgm:cxn modelId="{938EDAA9-2E16-4321-97F7-E776E85D9EDC}" srcId="{1FE1AF20-CAA8-455A-B519-36AE64444D49}" destId="{AC9745A9-6A2B-485B-89C5-8C7593D573C5}" srcOrd="2" destOrd="0" parTransId="{3AA10EBB-0868-4800-9D47-7AB5DDC425FE}" sibTransId="{BB137832-E77F-4317-AE82-90518C0BF865}"/>
    <dgm:cxn modelId="{4F76FFB7-FCB9-4100-82C5-2F1D092C9AA6}" type="presOf" srcId="{BB137832-E77F-4317-AE82-90518C0BF865}" destId="{B160DE51-6876-4F06-9A7B-AAA1F0EC144D}" srcOrd="1" destOrd="0" presId="urn:microsoft.com/office/officeart/2005/8/layout/cycle2"/>
    <dgm:cxn modelId="{C50E7977-673C-445F-BBB0-164D9C88F2B9}" type="presOf" srcId="{1FE1AF20-CAA8-455A-B519-36AE64444D49}" destId="{2DD5CB38-B7E9-47FB-9EE8-D531663FB4D2}" srcOrd="0" destOrd="0" presId="urn:microsoft.com/office/officeart/2005/8/layout/cycle2"/>
    <dgm:cxn modelId="{3C9261FD-9EA3-4058-B18D-F7EFC826E5E5}" type="presOf" srcId="{A1466EC6-64E3-4B3B-9AC8-4132178C1062}" destId="{B231F16B-4EB1-409D-9660-BA1CA497FB96}" srcOrd="0" destOrd="0" presId="urn:microsoft.com/office/officeart/2005/8/layout/cycle2"/>
    <dgm:cxn modelId="{5BA00B92-24AC-43EE-AAD7-48B1D8FD26C4}" type="presOf" srcId="{F359A693-1577-4D71-AE78-8D41944D9911}" destId="{C3226745-A5DF-4C3D-A85D-A4E92B077DA3}" srcOrd="0" destOrd="0" presId="urn:microsoft.com/office/officeart/2005/8/layout/cycle2"/>
    <dgm:cxn modelId="{3F30219E-E2F3-4051-BE4A-E8D550D0BC38}" type="presOf" srcId="{EECB8D45-E9D5-496A-B078-31C23FFE47F0}" destId="{C06D926C-2EE2-4D26-BAFD-D7BB5F2A8AE5}" srcOrd="0" destOrd="0" presId="urn:microsoft.com/office/officeart/2005/8/layout/cycle2"/>
    <dgm:cxn modelId="{E8C04AF3-E66A-45D4-811C-4629A3E5E33C}" srcId="{1FE1AF20-CAA8-455A-B519-36AE64444D49}" destId="{19E9C282-30CD-4B86-9EB2-736D05F81151}" srcOrd="1" destOrd="0" parTransId="{CC66EC31-E913-4640-9E26-2DEA3F5AD864}" sibTransId="{F359A693-1577-4D71-AE78-8D41944D9911}"/>
    <dgm:cxn modelId="{D51193F9-072F-454B-B858-37DD224699D5}" type="presOf" srcId="{19E9C282-30CD-4B86-9EB2-736D05F81151}" destId="{AAFDEFCE-DCC7-47E5-81A6-5C9405A5A361}" srcOrd="0" destOrd="0" presId="urn:microsoft.com/office/officeart/2005/8/layout/cycle2"/>
    <dgm:cxn modelId="{0D0DB055-8C75-44C5-8BBB-718C65B807B7}" type="presParOf" srcId="{2DD5CB38-B7E9-47FB-9EE8-D531663FB4D2}" destId="{C06D926C-2EE2-4D26-BAFD-D7BB5F2A8AE5}" srcOrd="0" destOrd="0" presId="urn:microsoft.com/office/officeart/2005/8/layout/cycle2"/>
    <dgm:cxn modelId="{B99A3DA6-6D1C-4BAE-B142-DF93E5E04AEC}" type="presParOf" srcId="{2DD5CB38-B7E9-47FB-9EE8-D531663FB4D2}" destId="{B231F16B-4EB1-409D-9660-BA1CA497FB96}" srcOrd="1" destOrd="0" presId="urn:microsoft.com/office/officeart/2005/8/layout/cycle2"/>
    <dgm:cxn modelId="{0874038A-291F-4659-8909-0F7435625589}" type="presParOf" srcId="{B231F16B-4EB1-409D-9660-BA1CA497FB96}" destId="{A79D01BC-ABCB-45A3-9B8C-086A9172AC66}" srcOrd="0" destOrd="0" presId="urn:microsoft.com/office/officeart/2005/8/layout/cycle2"/>
    <dgm:cxn modelId="{F7728053-4AED-489E-AF25-CD22DC86AE8F}" type="presParOf" srcId="{2DD5CB38-B7E9-47FB-9EE8-D531663FB4D2}" destId="{AAFDEFCE-DCC7-47E5-81A6-5C9405A5A361}" srcOrd="2" destOrd="0" presId="urn:microsoft.com/office/officeart/2005/8/layout/cycle2"/>
    <dgm:cxn modelId="{03D49290-3E26-4E00-97C0-F1C0F55C904A}" type="presParOf" srcId="{2DD5CB38-B7E9-47FB-9EE8-D531663FB4D2}" destId="{C3226745-A5DF-4C3D-A85D-A4E92B077DA3}" srcOrd="3" destOrd="0" presId="urn:microsoft.com/office/officeart/2005/8/layout/cycle2"/>
    <dgm:cxn modelId="{A90C4C84-763C-4038-B52C-825B1F63F390}" type="presParOf" srcId="{C3226745-A5DF-4C3D-A85D-A4E92B077DA3}" destId="{06F6407E-B40D-4621-A006-553D119947D7}" srcOrd="0" destOrd="0" presId="urn:microsoft.com/office/officeart/2005/8/layout/cycle2"/>
    <dgm:cxn modelId="{13BAAAA9-E52F-47E6-8960-4E1F435ECED1}" type="presParOf" srcId="{2DD5CB38-B7E9-47FB-9EE8-D531663FB4D2}" destId="{BC97BD55-7DC3-4C41-8229-908293E2B22D}" srcOrd="4" destOrd="0" presId="urn:microsoft.com/office/officeart/2005/8/layout/cycle2"/>
    <dgm:cxn modelId="{B7516BD5-318E-45B5-85D7-985EACFEF773}" type="presParOf" srcId="{2DD5CB38-B7E9-47FB-9EE8-D531663FB4D2}" destId="{2C457698-33D7-48AD-B439-2280B5B92AB2}" srcOrd="5" destOrd="0" presId="urn:microsoft.com/office/officeart/2005/8/layout/cycle2"/>
    <dgm:cxn modelId="{0C73ED31-0760-4AD9-B528-23B7284E0118}" type="presParOf" srcId="{2C457698-33D7-48AD-B439-2280B5B92AB2}" destId="{B160DE51-6876-4F06-9A7B-AAA1F0EC144D}" srcOrd="0" destOrd="0" presId="urn:microsoft.com/office/officeart/2005/8/layout/cycle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3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We is young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63CAE774-5227-4345-93D8-6223E4D1FCF4}" type="presOf" srcId="{4B52F623-9EDD-4639-8F4F-A60159388BAE}" destId="{13583DBC-89D5-4A61-947C-7830DF8C31CC}" srcOrd="0" destOrd="0" presId="urn:microsoft.com/office/officeart/2005/8/layout/vList2"/>
    <dgm:cxn modelId="{F787CDBA-B4BA-454A-B6A0-C266E859F409}" type="presOf" srcId="{AA54ED0A-A7A9-4E1B-9CF6-A7AF3F2D899A}" destId="{DC3E2338-4F7B-49E8-8119-14A26B802010}" srcOrd="0" destOrd="0" presId="urn:microsoft.com/office/officeart/2005/8/layout/vList2"/>
    <dgm:cxn modelId="{6D7670BC-D0E4-4E67-BC34-87B935FC91B9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0" minVer="http://schemas.openxmlformats.org/drawingml/2006/diagram"/>
    </a:ext>
  </dgm:extLst>
</dgm:dataModel>
</file>

<file path=ppt/diagrams/data3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We </a:t>
          </a:r>
          <a:r>
            <a:rPr lang="en-US" sz="2800" b="1" u="sng" dirty="0" smtClean="0"/>
            <a:t>are</a:t>
          </a:r>
          <a:r>
            <a:rPr lang="en-US" sz="2800" b="1" dirty="0" smtClean="0"/>
            <a:t> young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70C756BA-4D08-4565-91C3-12E81E477637}" type="presOf" srcId="{AA54ED0A-A7A9-4E1B-9CF6-A7AF3F2D899A}" destId="{DC3E2338-4F7B-49E8-8119-14A26B802010}" srcOrd="0" destOrd="0" presId="urn:microsoft.com/office/officeart/2005/8/layout/vList2"/>
    <dgm:cxn modelId="{397708B6-D767-4221-8E44-29C66402CCC7}" type="presOf" srcId="{4B52F623-9EDD-4639-8F4F-A60159388BAE}" destId="{13583DBC-89D5-4A61-947C-7830DF8C31CC}" srcOrd="0" destOrd="0" presId="urn:microsoft.com/office/officeart/2005/8/layout/vList2"/>
    <dgm:cxn modelId="{FFB09964-3179-4910-BA70-E35B3BF1A188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5" minVer="http://schemas.openxmlformats.org/drawingml/2006/diagram"/>
    </a:ext>
  </dgm:extLst>
</dgm:dataModel>
</file>

<file path=ppt/diagrams/data32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They am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7B24202-C28C-44DC-8C4C-D01A77DF5B3F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2F3C460C-136B-41D7-967B-5751A751FDB4}" type="presOf" srcId="{AA54ED0A-A7A9-4E1B-9CF6-A7AF3F2D899A}" destId="{DC3E2338-4F7B-49E8-8119-14A26B802010}" srcOrd="0" destOrd="0" presId="urn:microsoft.com/office/officeart/2005/8/layout/vList2"/>
    <dgm:cxn modelId="{2E241DAA-8758-4E85-A1C7-BF357A253A28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70" minVer="http://schemas.openxmlformats.org/drawingml/2006/diagram"/>
    </a:ext>
  </dgm:extLst>
</dgm:dataModel>
</file>

<file path=ppt/diagrams/data3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They </a:t>
          </a:r>
          <a:r>
            <a:rPr lang="en-US" sz="2800" b="1" u="sng" dirty="0" smtClean="0"/>
            <a:t>are</a:t>
          </a:r>
          <a:r>
            <a:rPr lang="en-US" sz="2800" b="1" dirty="0" smtClean="0"/>
            <a:t>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2A8743D-B446-47B2-A4FF-BD02711EAACB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3BAC5C7B-BCAF-4B6C-BABA-88FD368F8537}" type="presOf" srcId="{4B52F623-9EDD-4639-8F4F-A60159388BAE}" destId="{13583DBC-89D5-4A61-947C-7830DF8C31CC}" srcOrd="0" destOrd="0" presId="urn:microsoft.com/office/officeart/2005/8/layout/vList2"/>
    <dgm:cxn modelId="{1AFBCA87-C2C3-4BE5-9D8B-EE791ADB3892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75" minVer="http://schemas.openxmlformats.org/drawingml/2006/diagram"/>
    </a:ext>
  </dgm:extLst>
</dgm:dataModel>
</file>

<file path=ppt/diagrams/data34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5600" b="1" u="sng" dirty="0" smtClean="0">
              <a:solidFill>
                <a:srgbClr val="0070C0"/>
              </a:solidFill>
            </a:rPr>
            <a:t>To be + not</a:t>
          </a: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4800" b="1" dirty="0" smtClean="0">
              <a:solidFill>
                <a:srgbClr val="FF0000"/>
              </a:solidFill>
            </a:rPr>
            <a:t>Am </a:t>
          </a:r>
          <a:r>
            <a:rPr lang="en-US" sz="4800" b="1" i="1" dirty="0" smtClean="0">
              <a:solidFill>
                <a:srgbClr val="C00000"/>
              </a:solidFill>
            </a:rPr>
            <a:t>not</a:t>
          </a:r>
        </a:p>
        <a:p>
          <a:r>
            <a:rPr lang="en-US" sz="3600" dirty="0" smtClean="0"/>
            <a:t>I </a:t>
          </a:r>
          <a:r>
            <a:rPr lang="en-US" sz="3600" b="1" dirty="0" smtClean="0">
              <a:solidFill>
                <a:srgbClr val="FF0000"/>
              </a:solidFill>
            </a:rPr>
            <a:t>am</a:t>
          </a:r>
          <a:r>
            <a:rPr lang="en-US" sz="3600" dirty="0" smtClean="0"/>
            <a:t> </a:t>
          </a:r>
          <a:r>
            <a:rPr lang="en-US" sz="3600" b="1" i="1" dirty="0" smtClean="0">
              <a:solidFill>
                <a:srgbClr val="C00000"/>
              </a:solidFill>
            </a:rPr>
            <a:t>not</a:t>
          </a:r>
          <a:r>
            <a:rPr lang="en-US" sz="3600" dirty="0" smtClean="0"/>
            <a:t> nine.</a:t>
          </a:r>
          <a:endParaRPr lang="ru-RU" sz="3600" dirty="0"/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Is </a:t>
          </a:r>
          <a:r>
            <a:rPr lang="en-US" sz="5200" b="1" i="1" dirty="0" smtClean="0">
              <a:solidFill>
                <a:srgbClr val="C00000"/>
              </a:solidFill>
            </a:rPr>
            <a:t>not</a:t>
          </a:r>
        </a:p>
        <a:p>
          <a:r>
            <a:rPr lang="en-US" sz="3600" dirty="0" smtClean="0"/>
            <a:t>He </a:t>
          </a:r>
          <a:r>
            <a:rPr lang="en-US" sz="3600" b="1" dirty="0" smtClean="0">
              <a:solidFill>
                <a:srgbClr val="FF0000"/>
              </a:solidFill>
            </a:rPr>
            <a:t>is</a:t>
          </a:r>
          <a:r>
            <a:rPr lang="en-US" sz="3600" dirty="0" smtClean="0"/>
            <a:t> </a:t>
          </a:r>
          <a:r>
            <a:rPr lang="en-US" sz="3600" b="1" i="1" dirty="0" smtClean="0">
              <a:solidFill>
                <a:srgbClr val="C00000"/>
              </a:solidFill>
            </a:rPr>
            <a:t>not</a:t>
          </a:r>
          <a:r>
            <a:rPr lang="en-US" sz="3600" dirty="0" smtClean="0"/>
            <a:t> tall.</a:t>
          </a:r>
          <a:endParaRPr lang="ru-RU" sz="3600" dirty="0"/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Are </a:t>
          </a:r>
          <a:r>
            <a:rPr lang="en-US" sz="5200" b="1" i="1" dirty="0" smtClean="0">
              <a:solidFill>
                <a:srgbClr val="C00000"/>
              </a:solidFill>
            </a:rPr>
            <a:t>not</a:t>
          </a:r>
        </a:p>
        <a:p>
          <a:r>
            <a:rPr lang="en-US" sz="3600" dirty="0" smtClean="0"/>
            <a:t>We </a:t>
          </a:r>
          <a:r>
            <a:rPr lang="en-US" sz="3600" b="1" dirty="0" smtClean="0">
              <a:solidFill>
                <a:srgbClr val="FF0000"/>
              </a:solidFill>
            </a:rPr>
            <a:t>are</a:t>
          </a:r>
          <a:r>
            <a:rPr lang="en-US" sz="3600" dirty="0" smtClean="0"/>
            <a:t> </a:t>
          </a:r>
          <a:r>
            <a:rPr lang="en-US" sz="3600" b="1" i="1" dirty="0" smtClean="0">
              <a:solidFill>
                <a:srgbClr val="C00000"/>
              </a:solidFill>
            </a:rPr>
            <a:t>not</a:t>
          </a:r>
          <a:r>
            <a:rPr lang="en-US" sz="3600" dirty="0" smtClean="0"/>
            <a:t> happy.</a:t>
          </a:r>
          <a:endParaRPr lang="ru-RU" sz="3600" dirty="0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211113" custScaleY="15078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161364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19295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EF7803BF-E8A6-44EA-A78E-DDBB44F4E18E}" type="presOf" srcId="{D2D72486-AAD4-450C-8E59-7F61C73E0BD7}" destId="{3BA41D92-E0AA-47BA-BDD6-1F1BBA990E53}" srcOrd="0" destOrd="0" presId="urn:microsoft.com/office/officeart/2005/8/layout/hierarchy1"/>
    <dgm:cxn modelId="{45E9B0EB-3990-4B98-B849-C000B91324FE}" type="presOf" srcId="{1EFFFEB2-3EA7-4DF6-A4F1-5F0CBFF8F518}" destId="{085FEB04-415F-4DE1-AABD-130565C53ED0}" srcOrd="0" destOrd="0" presId="urn:microsoft.com/office/officeart/2005/8/layout/hierarchy1"/>
    <dgm:cxn modelId="{C67FE82A-DC8D-4EA3-AC8D-10D4501E6482}" type="presOf" srcId="{795C5933-EF67-42B7-A6D9-5A001A0CC200}" destId="{8F16986A-20BF-4CC6-ACBF-A6E5568F7498}" srcOrd="0" destOrd="0" presId="urn:microsoft.com/office/officeart/2005/8/layout/hierarchy1"/>
    <dgm:cxn modelId="{A4FD7B26-41DE-4312-8EF5-F13EC6FFCA50}" type="presOf" srcId="{0FF86A8F-72B7-47EC-BD03-14F46E5BBE66}" destId="{92EA9F0A-E810-468F-A35A-E9FF2CF87B17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3C920C71-5412-4218-B3D5-E91530BF9886}" type="presOf" srcId="{89284321-9837-4A96-8BF8-9E181CE5C2C0}" destId="{631FEE27-82B7-44FA-8759-5F5D7758CAF9}" srcOrd="0" destOrd="0" presId="urn:microsoft.com/office/officeart/2005/8/layout/hierarchy1"/>
    <dgm:cxn modelId="{92E8E11C-CA13-4991-98F3-57C4077F2552}" type="presOf" srcId="{1082FB86-8FE6-4749-8952-D84713C6EBE5}" destId="{2339854B-93F8-44B0-AA3A-0B1BBF47BE05}" srcOrd="0" destOrd="0" presId="urn:microsoft.com/office/officeart/2005/8/layout/hierarchy1"/>
    <dgm:cxn modelId="{D14E8D23-E6E9-44BD-8783-B87B78EFC413}" type="presOf" srcId="{1323325D-30D4-4234-8C32-F0D8DCC1ED8A}" destId="{91CEBC9A-8EA8-49A1-AD73-E157E2E6B42F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F0F4B68E-C0C9-41B6-9E9F-85C122140397}" type="presOf" srcId="{9EF497F3-3426-4260-9AA0-C2C2D9EF8B43}" destId="{FE415ED9-D810-4305-A0D7-9AD3C9403FB5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5D23C14D-80AC-498F-B749-25179965BBFD}" type="presParOf" srcId="{2339854B-93F8-44B0-AA3A-0B1BBF47BE05}" destId="{857672AF-E98D-47E4-BEEF-7182C44663DA}" srcOrd="0" destOrd="0" presId="urn:microsoft.com/office/officeart/2005/8/layout/hierarchy1"/>
    <dgm:cxn modelId="{489634D6-A9A4-4493-B5FA-B6EADE931EF5}" type="presParOf" srcId="{857672AF-E98D-47E4-BEEF-7182C44663DA}" destId="{65FAC69B-7B5F-4DAC-A113-692343934542}" srcOrd="0" destOrd="0" presId="urn:microsoft.com/office/officeart/2005/8/layout/hierarchy1"/>
    <dgm:cxn modelId="{ACAA2B9B-2639-4823-92F9-959FEEA9D288}" type="presParOf" srcId="{65FAC69B-7B5F-4DAC-A113-692343934542}" destId="{E90BDA39-24E6-4659-BEE7-F6EE70F02DE5}" srcOrd="0" destOrd="0" presId="urn:microsoft.com/office/officeart/2005/8/layout/hierarchy1"/>
    <dgm:cxn modelId="{62BCFEE1-5F9B-4DCE-9F0E-5FC79375CC39}" type="presParOf" srcId="{65FAC69B-7B5F-4DAC-A113-692343934542}" destId="{FE415ED9-D810-4305-A0D7-9AD3C9403FB5}" srcOrd="1" destOrd="0" presId="urn:microsoft.com/office/officeart/2005/8/layout/hierarchy1"/>
    <dgm:cxn modelId="{F82F83B2-DDD2-423E-A658-28974A13D2BE}" type="presParOf" srcId="{857672AF-E98D-47E4-BEEF-7182C44663DA}" destId="{A37A6F38-9B62-446E-A8F7-1C91B74DC78D}" srcOrd="1" destOrd="0" presId="urn:microsoft.com/office/officeart/2005/8/layout/hierarchy1"/>
    <dgm:cxn modelId="{59020626-DA0B-4113-BD53-6DA54A9545D8}" type="presParOf" srcId="{A37A6F38-9B62-446E-A8F7-1C91B74DC78D}" destId="{085FEB04-415F-4DE1-AABD-130565C53ED0}" srcOrd="0" destOrd="0" presId="urn:microsoft.com/office/officeart/2005/8/layout/hierarchy1"/>
    <dgm:cxn modelId="{44C9B7DA-E0C2-49BF-BF61-E85EA86945C6}" type="presParOf" srcId="{A37A6F38-9B62-446E-A8F7-1C91B74DC78D}" destId="{195D3A31-3DA9-47A3-9AE7-243B93BEFA1F}" srcOrd="1" destOrd="0" presId="urn:microsoft.com/office/officeart/2005/8/layout/hierarchy1"/>
    <dgm:cxn modelId="{12565C0F-8A21-4FF2-B3C0-EFEC9333F958}" type="presParOf" srcId="{195D3A31-3DA9-47A3-9AE7-243B93BEFA1F}" destId="{022DF595-D71A-4DE6-A41B-F7BDC264D918}" srcOrd="0" destOrd="0" presId="urn:microsoft.com/office/officeart/2005/8/layout/hierarchy1"/>
    <dgm:cxn modelId="{BC4E3ED8-2A8F-4FA9-B09B-58CBE12F6C52}" type="presParOf" srcId="{022DF595-D71A-4DE6-A41B-F7BDC264D918}" destId="{8BA927DD-1013-4678-9187-7ED61423452A}" srcOrd="0" destOrd="0" presId="urn:microsoft.com/office/officeart/2005/8/layout/hierarchy1"/>
    <dgm:cxn modelId="{75028FD0-B18E-4D1B-8C8C-86F7F954AA2F}" type="presParOf" srcId="{022DF595-D71A-4DE6-A41B-F7BDC264D918}" destId="{92EA9F0A-E810-468F-A35A-E9FF2CF87B17}" srcOrd="1" destOrd="0" presId="urn:microsoft.com/office/officeart/2005/8/layout/hierarchy1"/>
    <dgm:cxn modelId="{EA80DAAE-DB39-45B3-971F-8175A7B6BD34}" type="presParOf" srcId="{195D3A31-3DA9-47A3-9AE7-243B93BEFA1F}" destId="{025B3468-F61D-44F7-A524-3298B42D503F}" srcOrd="1" destOrd="0" presId="urn:microsoft.com/office/officeart/2005/8/layout/hierarchy1"/>
    <dgm:cxn modelId="{DC582E39-8AE4-4AF6-8CE2-D9210951FD93}" type="presParOf" srcId="{A37A6F38-9B62-446E-A8F7-1C91B74DC78D}" destId="{3BA41D92-E0AA-47BA-BDD6-1F1BBA990E53}" srcOrd="2" destOrd="0" presId="urn:microsoft.com/office/officeart/2005/8/layout/hierarchy1"/>
    <dgm:cxn modelId="{BFFD85F3-16D1-4167-AA0D-69DB65E9BBD0}" type="presParOf" srcId="{A37A6F38-9B62-446E-A8F7-1C91B74DC78D}" destId="{B3CA3075-0F0D-4AAB-8451-1035C9F5A29B}" srcOrd="3" destOrd="0" presId="urn:microsoft.com/office/officeart/2005/8/layout/hierarchy1"/>
    <dgm:cxn modelId="{87A8419F-B635-4744-920A-0D23913FB8CE}" type="presParOf" srcId="{B3CA3075-0F0D-4AAB-8451-1035C9F5A29B}" destId="{0661FD34-5AFB-4272-9080-F0F7262DE335}" srcOrd="0" destOrd="0" presId="urn:microsoft.com/office/officeart/2005/8/layout/hierarchy1"/>
    <dgm:cxn modelId="{F93B4102-6716-4125-AF4E-E9B801838375}" type="presParOf" srcId="{0661FD34-5AFB-4272-9080-F0F7262DE335}" destId="{55035FB5-07BC-4E58-B39A-29E6C019E9BA}" srcOrd="0" destOrd="0" presId="urn:microsoft.com/office/officeart/2005/8/layout/hierarchy1"/>
    <dgm:cxn modelId="{ED50DACB-AA8E-405A-AEBC-C74D72C28549}" type="presParOf" srcId="{0661FD34-5AFB-4272-9080-F0F7262DE335}" destId="{631FEE27-82B7-44FA-8759-5F5D7758CAF9}" srcOrd="1" destOrd="0" presId="urn:microsoft.com/office/officeart/2005/8/layout/hierarchy1"/>
    <dgm:cxn modelId="{9B521827-D6FA-4CDA-9930-CA33071BD432}" type="presParOf" srcId="{B3CA3075-0F0D-4AAB-8451-1035C9F5A29B}" destId="{C849D450-ED17-4137-930D-D27CE58CD8C1}" srcOrd="1" destOrd="0" presId="urn:microsoft.com/office/officeart/2005/8/layout/hierarchy1"/>
    <dgm:cxn modelId="{F63852A5-3ED4-4F58-A148-36ED0CF5D5C5}" type="presParOf" srcId="{A37A6F38-9B62-446E-A8F7-1C91B74DC78D}" destId="{8F16986A-20BF-4CC6-ACBF-A6E5568F7498}" srcOrd="4" destOrd="0" presId="urn:microsoft.com/office/officeart/2005/8/layout/hierarchy1"/>
    <dgm:cxn modelId="{CF2C3D2F-B130-4931-B5D9-84C2B3CA22B7}" type="presParOf" srcId="{A37A6F38-9B62-446E-A8F7-1C91B74DC78D}" destId="{C4528015-7F1A-474B-A63F-7D8204E09E52}" srcOrd="5" destOrd="0" presId="urn:microsoft.com/office/officeart/2005/8/layout/hierarchy1"/>
    <dgm:cxn modelId="{1F92BD58-303D-4CDE-9EFF-2FD4D124045C}" type="presParOf" srcId="{C4528015-7F1A-474B-A63F-7D8204E09E52}" destId="{24BA23A8-167C-4CF2-9FBB-1B07CDAF4062}" srcOrd="0" destOrd="0" presId="urn:microsoft.com/office/officeart/2005/8/layout/hierarchy1"/>
    <dgm:cxn modelId="{55A7E055-9A5C-4092-9F3D-69A0E95AE7A4}" type="presParOf" srcId="{24BA23A8-167C-4CF2-9FBB-1B07CDAF4062}" destId="{28C98B7F-2492-4698-A3CE-C05B0DBF7826}" srcOrd="0" destOrd="0" presId="urn:microsoft.com/office/officeart/2005/8/layout/hierarchy1"/>
    <dgm:cxn modelId="{4E735D41-F202-43F0-9046-9C816C828396}" type="presParOf" srcId="{24BA23A8-167C-4CF2-9FBB-1B07CDAF4062}" destId="{91CEBC9A-8EA8-49A1-AD73-E157E2E6B42F}" srcOrd="1" destOrd="0" presId="urn:microsoft.com/office/officeart/2005/8/layout/hierarchy1"/>
    <dgm:cxn modelId="{BD42AEC7-0F17-401B-B707-3C7114006C8A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5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m</a:t>
          </a:r>
          <a:r>
            <a:rPr lang="en-US" sz="6600" b="1" u="none" dirty="0" smtClean="0">
              <a:solidFill>
                <a:srgbClr val="FF0000"/>
              </a:solidFill>
            </a:rPr>
            <a:t> </a:t>
          </a:r>
          <a:r>
            <a:rPr lang="en-US" sz="6600" b="1" i="1" u="sng" dirty="0" smtClean="0">
              <a:solidFill>
                <a:srgbClr val="C00000"/>
              </a:solidFill>
            </a:rPr>
            <a:t>not</a:t>
          </a: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9BB7265A-41D2-4BD8-8796-C1971633D021}">
      <dgm:prSet custT="1"/>
      <dgm:spPr/>
      <dgm:t>
        <a:bodyPr/>
        <a:lstStyle/>
        <a:p>
          <a:pPr algn="ctr"/>
          <a:r>
            <a:rPr lang="en-US" sz="6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algn="ctr"/>
          <a:r>
            <a:rPr lang="en-US" sz="3200" b="1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brave.  </a:t>
          </a:r>
        </a:p>
        <a:p>
          <a:pPr algn="ctr"/>
          <a:r>
            <a:rPr lang="en-US" sz="3200" b="1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a farmer. </a:t>
          </a:r>
        </a:p>
        <a:p>
          <a:pPr algn="ctr"/>
          <a:r>
            <a:rPr lang="en-US" sz="3200" b="1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Kate. </a:t>
          </a:r>
        </a:p>
      </dgm:t>
    </dgm:pt>
    <dgm:pt modelId="{450300F7-D86A-45F7-A919-9E0CFCA043C9}" type="parTrans" cxnId="{17D0653A-FB8E-4FC1-9922-947EC54BECCC}">
      <dgm:prSet/>
      <dgm:spPr/>
      <dgm:t>
        <a:bodyPr/>
        <a:lstStyle/>
        <a:p>
          <a:endParaRPr lang="ru-RU"/>
        </a:p>
      </dgm:t>
    </dgm:pt>
    <dgm:pt modelId="{8E332003-BF2A-44D9-83DE-5C66E9BCB53A}" type="sibTrans" cxnId="{17D0653A-FB8E-4FC1-9922-947EC54BECCC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98299" custScaleY="72491" custLinFactNeighborX="456" custLinFactNeighborY="-6736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94505EA7-410F-425B-915A-90C0F894BC4F}" type="pres">
      <dgm:prSet presAssocID="{450300F7-D86A-45F7-A919-9E0CFCA043C9}" presName="Name10" presStyleLbl="parChTrans1D2" presStyleIdx="0" presStyleCnt="1"/>
      <dgm:spPr/>
      <dgm:t>
        <a:bodyPr/>
        <a:lstStyle/>
        <a:p>
          <a:endParaRPr lang="ru-RU"/>
        </a:p>
      </dgm:t>
    </dgm:pt>
    <dgm:pt modelId="{A0762CE7-0839-412B-9F74-EDA1D0FB9623}" type="pres">
      <dgm:prSet presAssocID="{9BB7265A-41D2-4BD8-8796-C1971633D021}" presName="hierRoot2" presStyleCnt="0"/>
      <dgm:spPr/>
    </dgm:pt>
    <dgm:pt modelId="{E06384C6-E0E4-4274-9A7D-38D2F6F987D8}" type="pres">
      <dgm:prSet presAssocID="{9BB7265A-41D2-4BD8-8796-C1971633D021}" presName="composite2" presStyleCnt="0"/>
      <dgm:spPr/>
    </dgm:pt>
    <dgm:pt modelId="{D3E90D8E-A42A-4416-AC64-E74096182B25}" type="pres">
      <dgm:prSet presAssocID="{9BB7265A-41D2-4BD8-8796-C1971633D021}" presName="background2" presStyleLbl="node2" presStyleIdx="0" presStyleCnt="1"/>
      <dgm:spPr/>
    </dgm:pt>
    <dgm:pt modelId="{FF31EB55-993C-4537-B40A-1037EF8FDEBE}" type="pres">
      <dgm:prSet presAssocID="{9BB7265A-41D2-4BD8-8796-C1971633D021}" presName="text2" presStyleLbl="fgAcc2" presStyleIdx="0" presStyleCnt="1" custScaleX="188528" custScaleY="135287" custLinFactNeighborX="2015" custLinFactNeighborY="-2084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1F8D869-1898-406C-9EE0-B8DFB01B92F7}" type="pres">
      <dgm:prSet presAssocID="{9BB7265A-41D2-4BD8-8796-C1971633D021}" presName="hierChild3" presStyleCnt="0"/>
      <dgm:spPr/>
    </dgm:pt>
  </dgm:ptLst>
  <dgm:cxnLst>
    <dgm:cxn modelId="{0047F316-2C95-4BE6-A350-E1C542BC7592}" type="presOf" srcId="{9BB7265A-41D2-4BD8-8796-C1971633D021}" destId="{FF31EB55-993C-4537-B40A-1037EF8FDEBE}" srcOrd="0" destOrd="0" presId="urn:microsoft.com/office/officeart/2005/8/layout/hierarchy1"/>
    <dgm:cxn modelId="{46611E1B-65F5-47B7-9824-D0F4F716FFBC}" type="presOf" srcId="{450300F7-D86A-45F7-A919-9E0CFCA043C9}" destId="{94505EA7-410F-425B-915A-90C0F894BC4F}" srcOrd="0" destOrd="0" presId="urn:microsoft.com/office/officeart/2005/8/layout/hierarchy1"/>
    <dgm:cxn modelId="{F65384B6-24A3-4A52-92E4-196A2EC84E41}" type="presOf" srcId="{1082FB86-8FE6-4749-8952-D84713C6EBE5}" destId="{2339854B-93F8-44B0-AA3A-0B1BBF47BE05}" srcOrd="0" destOrd="0" presId="urn:microsoft.com/office/officeart/2005/8/layout/hierarchy1"/>
    <dgm:cxn modelId="{37E2834A-DD12-472D-AD3C-3F14CEAA1B0B}" type="presOf" srcId="{9EF497F3-3426-4260-9AA0-C2C2D9EF8B43}" destId="{FE415ED9-D810-4305-A0D7-9AD3C9403FB5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17D0653A-FB8E-4FC1-9922-947EC54BECCC}" srcId="{9EF497F3-3426-4260-9AA0-C2C2D9EF8B43}" destId="{9BB7265A-41D2-4BD8-8796-C1971633D021}" srcOrd="0" destOrd="0" parTransId="{450300F7-D86A-45F7-A919-9E0CFCA043C9}" sibTransId="{8E332003-BF2A-44D9-83DE-5C66E9BCB53A}"/>
    <dgm:cxn modelId="{314B33EB-9973-4F3D-84E3-2CCCAEDB9846}" type="presParOf" srcId="{2339854B-93F8-44B0-AA3A-0B1BBF47BE05}" destId="{857672AF-E98D-47E4-BEEF-7182C44663DA}" srcOrd="0" destOrd="0" presId="urn:microsoft.com/office/officeart/2005/8/layout/hierarchy1"/>
    <dgm:cxn modelId="{417B0971-CE1A-436D-8E76-27F98E4647B8}" type="presParOf" srcId="{857672AF-E98D-47E4-BEEF-7182C44663DA}" destId="{65FAC69B-7B5F-4DAC-A113-692343934542}" srcOrd="0" destOrd="0" presId="urn:microsoft.com/office/officeart/2005/8/layout/hierarchy1"/>
    <dgm:cxn modelId="{705AE97F-49FC-4BF1-B864-57D66A842CC6}" type="presParOf" srcId="{65FAC69B-7B5F-4DAC-A113-692343934542}" destId="{E90BDA39-24E6-4659-BEE7-F6EE70F02DE5}" srcOrd="0" destOrd="0" presId="urn:microsoft.com/office/officeart/2005/8/layout/hierarchy1"/>
    <dgm:cxn modelId="{C852CD1E-BD2B-4129-B0E1-E6D6A7F023D7}" type="presParOf" srcId="{65FAC69B-7B5F-4DAC-A113-692343934542}" destId="{FE415ED9-D810-4305-A0D7-9AD3C9403FB5}" srcOrd="1" destOrd="0" presId="urn:microsoft.com/office/officeart/2005/8/layout/hierarchy1"/>
    <dgm:cxn modelId="{1ED0A8B1-4EF1-41A7-AFAA-226B400311DA}" type="presParOf" srcId="{857672AF-E98D-47E4-BEEF-7182C44663DA}" destId="{A37A6F38-9B62-446E-A8F7-1C91B74DC78D}" srcOrd="1" destOrd="0" presId="urn:microsoft.com/office/officeart/2005/8/layout/hierarchy1"/>
    <dgm:cxn modelId="{959973FD-5794-4408-8EB9-4EA6527AABB4}" type="presParOf" srcId="{A37A6F38-9B62-446E-A8F7-1C91B74DC78D}" destId="{94505EA7-410F-425B-915A-90C0F894BC4F}" srcOrd="0" destOrd="0" presId="urn:microsoft.com/office/officeart/2005/8/layout/hierarchy1"/>
    <dgm:cxn modelId="{9DD68170-1CF8-4A79-A65B-608D95161212}" type="presParOf" srcId="{A37A6F38-9B62-446E-A8F7-1C91B74DC78D}" destId="{A0762CE7-0839-412B-9F74-EDA1D0FB9623}" srcOrd="1" destOrd="0" presId="urn:microsoft.com/office/officeart/2005/8/layout/hierarchy1"/>
    <dgm:cxn modelId="{5AC263CC-33CF-4E58-B846-EB6AD254DC29}" type="presParOf" srcId="{A0762CE7-0839-412B-9F74-EDA1D0FB9623}" destId="{E06384C6-E0E4-4274-9A7D-38D2F6F987D8}" srcOrd="0" destOrd="0" presId="urn:microsoft.com/office/officeart/2005/8/layout/hierarchy1"/>
    <dgm:cxn modelId="{72481AD7-C8C4-4BA9-8E30-2200A96E2BD6}" type="presParOf" srcId="{E06384C6-E0E4-4274-9A7D-38D2F6F987D8}" destId="{D3E90D8E-A42A-4416-AC64-E74096182B25}" srcOrd="0" destOrd="0" presId="urn:microsoft.com/office/officeart/2005/8/layout/hierarchy1"/>
    <dgm:cxn modelId="{DE48856A-350F-4200-8AB1-86934663DD29}" type="presParOf" srcId="{E06384C6-E0E4-4274-9A7D-38D2F6F987D8}" destId="{FF31EB55-993C-4537-B40A-1037EF8FDEBE}" srcOrd="1" destOrd="0" presId="urn:microsoft.com/office/officeart/2005/8/layout/hierarchy1"/>
    <dgm:cxn modelId="{D86D6B90-E07F-4DAE-87C0-49F4CAC3C99C}" type="presParOf" srcId="{A0762CE7-0839-412B-9F74-EDA1D0FB9623}" destId="{41F8D869-1898-406C-9EE0-B8DFB01B92F7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6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Is</a:t>
          </a:r>
          <a:r>
            <a:rPr lang="en-US" sz="6600" b="1" u="none" dirty="0" smtClean="0">
              <a:solidFill>
                <a:srgbClr val="FF0000"/>
              </a:solidFill>
            </a:rPr>
            <a:t> </a:t>
          </a:r>
          <a:r>
            <a:rPr lang="en-US" sz="6600" b="1" i="1" u="sng" dirty="0" smtClean="0">
              <a:solidFill>
                <a:srgbClr val="C00000"/>
              </a:solidFill>
            </a:rPr>
            <a:t>not</a:t>
          </a:r>
          <a:endParaRPr lang="ru-RU" sz="6600" b="1" i="1" u="sng" dirty="0">
            <a:solidFill>
              <a:srgbClr val="C0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He</a:t>
          </a:r>
        </a:p>
        <a:p>
          <a:r>
            <a:rPr lang="en-US" sz="2800" b="1" dirty="0" smtClean="0">
              <a:solidFill>
                <a:schemeClr val="tx1"/>
              </a:solidFill>
            </a:rPr>
            <a:t>He</a:t>
          </a:r>
          <a:r>
            <a:rPr lang="en-US" sz="2800" b="1" dirty="0" smtClean="0">
              <a:solidFill>
                <a:srgbClr val="C00000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1" u="none" dirty="0" smtClean="0">
              <a:solidFill>
                <a:srgbClr val="FF0000"/>
              </a:solidFill>
            </a:rPr>
            <a:t> </a:t>
          </a:r>
          <a:r>
            <a:rPr lang="en-US" sz="2800" b="1" i="1" u="sng" dirty="0" smtClean="0">
              <a:solidFill>
                <a:srgbClr val="C00000"/>
              </a:solidFill>
            </a:rPr>
            <a:t>not</a:t>
          </a:r>
          <a:r>
            <a:rPr lang="en-US" sz="2800" b="1" i="1" u="none" dirty="0" smtClean="0">
              <a:solidFill>
                <a:srgbClr val="C00000"/>
              </a:solidFill>
            </a:rPr>
            <a:t>       </a:t>
          </a:r>
          <a:r>
            <a:rPr lang="en-US" sz="2800" b="0" dirty="0" smtClean="0">
              <a:solidFill>
                <a:schemeClr val="tx1"/>
              </a:solidFill>
            </a:rPr>
            <a:t> a doctor.</a:t>
          </a:r>
        </a:p>
        <a:p>
          <a:r>
            <a:rPr lang="en-US" sz="2800" b="1" dirty="0" smtClean="0">
              <a:solidFill>
                <a:schemeClr val="tx1"/>
              </a:solidFill>
            </a:rPr>
            <a:t>H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1" i="1" u="sng" dirty="0" smtClean="0">
              <a:solidFill>
                <a:srgbClr val="C00000"/>
              </a:solidFill>
            </a:rPr>
            <a:t>n’t   </a:t>
          </a:r>
          <a:r>
            <a:rPr lang="en-US" sz="2800" b="1" i="1" u="none" dirty="0" smtClean="0">
              <a:solidFill>
                <a:srgbClr val="C00000"/>
              </a:solidFill>
            </a:rPr>
            <a:t>     </a:t>
          </a:r>
          <a:r>
            <a:rPr lang="en-US" sz="2800" b="0" u="none" dirty="0" smtClean="0">
              <a:solidFill>
                <a:schemeClr val="tx1"/>
              </a:solidFill>
            </a:rPr>
            <a:t>my</a:t>
          </a:r>
          <a:r>
            <a:rPr lang="en-US" sz="2800" b="0" dirty="0" smtClean="0">
              <a:solidFill>
                <a:schemeClr val="tx1"/>
              </a:solidFill>
            </a:rPr>
            <a:t> brother.</a:t>
          </a:r>
        </a:p>
        <a:p>
          <a:endParaRPr lang="en-US" sz="500" b="0" dirty="0" smtClean="0">
            <a:solidFill>
              <a:schemeClr val="tx1"/>
            </a:solidFill>
          </a:endParaRP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She</a:t>
          </a:r>
        </a:p>
        <a:p>
          <a:r>
            <a:rPr lang="en-US" sz="2800" b="1" dirty="0" smtClean="0">
              <a:solidFill>
                <a:schemeClr val="tx1"/>
              </a:solidFill>
            </a:rPr>
            <a:t>She</a:t>
          </a:r>
          <a:r>
            <a:rPr lang="en-US" sz="2800" b="1" dirty="0" smtClean="0">
              <a:solidFill>
                <a:srgbClr val="C00000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i="1" u="sng" dirty="0" smtClean="0">
              <a:solidFill>
                <a:srgbClr val="C00000"/>
              </a:solidFill>
            </a:rPr>
            <a:t>not</a:t>
          </a:r>
          <a:r>
            <a:rPr lang="en-US" sz="2800" b="1" i="1" u="none" dirty="0" smtClean="0">
              <a:solidFill>
                <a:srgbClr val="C00000"/>
              </a:solidFill>
            </a:rPr>
            <a:t>       </a:t>
          </a:r>
          <a:r>
            <a:rPr lang="en-US" sz="2800" b="0" u="none" dirty="0" smtClean="0">
              <a:solidFill>
                <a:schemeClr val="tx1"/>
              </a:solidFill>
            </a:rPr>
            <a:t>a</a:t>
          </a:r>
          <a:r>
            <a:rPr lang="en-US" sz="2800" b="0" dirty="0" smtClean="0">
              <a:solidFill>
                <a:schemeClr val="tx1"/>
              </a:solidFill>
            </a:rPr>
            <a:t> teacher.</a:t>
          </a:r>
        </a:p>
        <a:p>
          <a:endParaRPr lang="en-US" sz="800" b="0" dirty="0" smtClean="0">
            <a:solidFill>
              <a:schemeClr val="tx1"/>
            </a:solidFill>
          </a:endParaRPr>
        </a:p>
        <a:p>
          <a:r>
            <a:rPr lang="en-US" sz="2800" b="1" dirty="0" smtClean="0">
              <a:solidFill>
                <a:schemeClr val="tx1"/>
              </a:solidFill>
            </a:rPr>
            <a:t>Sh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i="0" u="sng" dirty="0" smtClean="0">
              <a:solidFill>
                <a:srgbClr val="FF0000"/>
              </a:solidFill>
            </a:rPr>
            <a:t>is</a:t>
          </a:r>
          <a:r>
            <a:rPr lang="en-US" sz="2800" b="1" i="1" u="sng" dirty="0" smtClean="0">
              <a:solidFill>
                <a:srgbClr val="C00000"/>
              </a:solidFill>
            </a:rPr>
            <a:t>n’t  </a:t>
          </a:r>
          <a:r>
            <a:rPr lang="en-US" sz="2800" b="1" i="1" u="none" dirty="0" smtClean="0">
              <a:solidFill>
                <a:srgbClr val="C00000"/>
              </a:solidFill>
            </a:rPr>
            <a:t>  </a:t>
          </a:r>
          <a:r>
            <a:rPr lang="en-US" sz="2800" b="0" dirty="0" smtClean="0">
              <a:solidFill>
                <a:schemeClr val="tx1"/>
              </a:solidFill>
            </a:rPr>
            <a:t>my sister.</a:t>
          </a:r>
          <a:endParaRPr lang="en-US" sz="4000" b="0" dirty="0" smtClean="0">
            <a:solidFill>
              <a:schemeClr val="tx1"/>
            </a:solidFill>
          </a:endParaRP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It</a:t>
          </a:r>
        </a:p>
        <a:p>
          <a:r>
            <a:rPr lang="en-US" sz="2800" b="1" dirty="0" smtClean="0">
              <a:solidFill>
                <a:schemeClr val="tx1"/>
              </a:solidFill>
            </a:rPr>
            <a:t>It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i="1" u="sng" dirty="0" smtClean="0">
              <a:solidFill>
                <a:srgbClr val="C00000"/>
              </a:solidFill>
            </a:rPr>
            <a:t>not</a:t>
          </a:r>
          <a:r>
            <a:rPr lang="en-US" sz="2800" b="1" i="1" u="none" dirty="0" smtClean="0">
              <a:solidFill>
                <a:srgbClr val="C00000"/>
              </a:solidFill>
            </a:rPr>
            <a:t>         </a:t>
          </a:r>
          <a:r>
            <a:rPr lang="en-US" sz="2800" b="0" u="none" dirty="0" smtClean="0">
              <a:solidFill>
                <a:schemeClr val="tx1"/>
              </a:solidFill>
            </a:rPr>
            <a:t>a</a:t>
          </a:r>
          <a:r>
            <a:rPr lang="en-US" sz="2800" b="0" dirty="0" smtClean="0">
              <a:solidFill>
                <a:schemeClr val="tx1"/>
              </a:solidFill>
            </a:rPr>
            <a:t> cat.</a:t>
          </a:r>
        </a:p>
        <a:p>
          <a:r>
            <a:rPr lang="en-US" sz="2800" b="1" dirty="0" smtClean="0">
              <a:solidFill>
                <a:schemeClr val="tx1"/>
              </a:solidFill>
            </a:rPr>
            <a:t>It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1" i="1" u="sng" dirty="0" smtClean="0">
              <a:solidFill>
                <a:srgbClr val="C00000"/>
              </a:solidFill>
            </a:rPr>
            <a:t>n’t</a:t>
          </a:r>
          <a:r>
            <a:rPr lang="en-US" sz="2800" b="0" dirty="0" smtClean="0">
              <a:solidFill>
                <a:schemeClr val="tx1"/>
              </a:solidFill>
            </a:rPr>
            <a:t>  a dog.</a:t>
          </a:r>
        </a:p>
        <a:p>
          <a:endParaRPr lang="en-US" sz="100" b="0" dirty="0" smtClean="0">
            <a:solidFill>
              <a:schemeClr val="tx1"/>
            </a:solidFill>
          </a:endParaRPr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34685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6D964C7D-AC74-41DC-86C0-CA5C13E8506D}" type="presOf" srcId="{89284321-9837-4A96-8BF8-9E181CE5C2C0}" destId="{631FEE27-82B7-44FA-8759-5F5D7758CAF9}" srcOrd="0" destOrd="0" presId="urn:microsoft.com/office/officeart/2005/8/layout/hierarchy1"/>
    <dgm:cxn modelId="{ED9C32D6-4FE3-47FC-901A-63604A4FA58A}" type="presOf" srcId="{1082FB86-8FE6-4749-8952-D84713C6EBE5}" destId="{2339854B-93F8-44B0-AA3A-0B1BBF47BE05}" srcOrd="0" destOrd="0" presId="urn:microsoft.com/office/officeart/2005/8/layout/hierarchy1"/>
    <dgm:cxn modelId="{552D8DE6-9B14-458C-8D53-E6A0B1E2E86D}" type="presOf" srcId="{795C5933-EF67-42B7-A6D9-5A001A0CC200}" destId="{8F16986A-20BF-4CC6-ACBF-A6E5568F7498}" srcOrd="0" destOrd="0" presId="urn:microsoft.com/office/officeart/2005/8/layout/hierarchy1"/>
    <dgm:cxn modelId="{A322D15D-0DF8-49A6-8A33-33E26F37AB9F}" type="presOf" srcId="{1323325D-30D4-4234-8C32-F0D8DCC1ED8A}" destId="{91CEBC9A-8EA8-49A1-AD73-E157E2E6B42F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4FF3D6EE-5F44-4F0B-804F-4CD69F88E096}" type="presOf" srcId="{1EFFFEB2-3EA7-4DF6-A4F1-5F0CBFF8F518}" destId="{085FEB04-415F-4DE1-AABD-130565C53ED0}" srcOrd="0" destOrd="0" presId="urn:microsoft.com/office/officeart/2005/8/layout/hierarchy1"/>
    <dgm:cxn modelId="{185F7E03-8803-4CC4-B897-63C0ABB4836D}" type="presOf" srcId="{9EF497F3-3426-4260-9AA0-C2C2D9EF8B43}" destId="{FE415ED9-D810-4305-A0D7-9AD3C9403FB5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07B3FB34-6A9D-462F-9805-2699F105CC70}" type="presOf" srcId="{D2D72486-AAD4-450C-8E59-7F61C73E0BD7}" destId="{3BA41D92-E0AA-47BA-BDD6-1F1BBA990E53}" srcOrd="0" destOrd="0" presId="urn:microsoft.com/office/officeart/2005/8/layout/hierarchy1"/>
    <dgm:cxn modelId="{EE84F693-F8C1-409C-9801-A125725FC818}" type="presOf" srcId="{0FF86A8F-72B7-47EC-BD03-14F46E5BBE66}" destId="{92EA9F0A-E810-468F-A35A-E9FF2CF87B17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DAF5FE6C-4ACA-4C79-AE1D-343BD7C7039C}" type="presParOf" srcId="{2339854B-93F8-44B0-AA3A-0B1BBF47BE05}" destId="{857672AF-E98D-47E4-BEEF-7182C44663DA}" srcOrd="0" destOrd="0" presId="urn:microsoft.com/office/officeart/2005/8/layout/hierarchy1"/>
    <dgm:cxn modelId="{A2D0EB1C-E33F-4F60-B9A1-4815C5CEC161}" type="presParOf" srcId="{857672AF-E98D-47E4-BEEF-7182C44663DA}" destId="{65FAC69B-7B5F-4DAC-A113-692343934542}" srcOrd="0" destOrd="0" presId="urn:microsoft.com/office/officeart/2005/8/layout/hierarchy1"/>
    <dgm:cxn modelId="{54F7F095-5AC7-4386-9690-2462B3B39B6E}" type="presParOf" srcId="{65FAC69B-7B5F-4DAC-A113-692343934542}" destId="{E90BDA39-24E6-4659-BEE7-F6EE70F02DE5}" srcOrd="0" destOrd="0" presId="urn:microsoft.com/office/officeart/2005/8/layout/hierarchy1"/>
    <dgm:cxn modelId="{9CD68C3F-7703-4F6D-8F3B-229F7342175F}" type="presParOf" srcId="{65FAC69B-7B5F-4DAC-A113-692343934542}" destId="{FE415ED9-D810-4305-A0D7-9AD3C9403FB5}" srcOrd="1" destOrd="0" presId="urn:microsoft.com/office/officeart/2005/8/layout/hierarchy1"/>
    <dgm:cxn modelId="{8D8F01F0-3F99-4057-AF9E-8F7C0DA96243}" type="presParOf" srcId="{857672AF-E98D-47E4-BEEF-7182C44663DA}" destId="{A37A6F38-9B62-446E-A8F7-1C91B74DC78D}" srcOrd="1" destOrd="0" presId="urn:microsoft.com/office/officeart/2005/8/layout/hierarchy1"/>
    <dgm:cxn modelId="{03BCD4EE-BBA3-4D5D-B908-FC5E1F6DABC8}" type="presParOf" srcId="{A37A6F38-9B62-446E-A8F7-1C91B74DC78D}" destId="{085FEB04-415F-4DE1-AABD-130565C53ED0}" srcOrd="0" destOrd="0" presId="urn:microsoft.com/office/officeart/2005/8/layout/hierarchy1"/>
    <dgm:cxn modelId="{CD7B362D-9A0D-4ED4-AEEF-043D0256D3F8}" type="presParOf" srcId="{A37A6F38-9B62-446E-A8F7-1C91B74DC78D}" destId="{195D3A31-3DA9-47A3-9AE7-243B93BEFA1F}" srcOrd="1" destOrd="0" presId="urn:microsoft.com/office/officeart/2005/8/layout/hierarchy1"/>
    <dgm:cxn modelId="{2E602134-0661-4367-81E1-29F2CD432802}" type="presParOf" srcId="{195D3A31-3DA9-47A3-9AE7-243B93BEFA1F}" destId="{022DF595-D71A-4DE6-A41B-F7BDC264D918}" srcOrd="0" destOrd="0" presId="urn:microsoft.com/office/officeart/2005/8/layout/hierarchy1"/>
    <dgm:cxn modelId="{54182D4D-C11B-4AD5-AF2E-E03AA4DDA4C2}" type="presParOf" srcId="{022DF595-D71A-4DE6-A41B-F7BDC264D918}" destId="{8BA927DD-1013-4678-9187-7ED61423452A}" srcOrd="0" destOrd="0" presId="urn:microsoft.com/office/officeart/2005/8/layout/hierarchy1"/>
    <dgm:cxn modelId="{E4826424-DB68-425A-AFBA-26F8740020BD}" type="presParOf" srcId="{022DF595-D71A-4DE6-A41B-F7BDC264D918}" destId="{92EA9F0A-E810-468F-A35A-E9FF2CF87B17}" srcOrd="1" destOrd="0" presId="urn:microsoft.com/office/officeart/2005/8/layout/hierarchy1"/>
    <dgm:cxn modelId="{19EFB6A0-D9DF-44B9-89C6-E20A7627BCAA}" type="presParOf" srcId="{195D3A31-3DA9-47A3-9AE7-243B93BEFA1F}" destId="{025B3468-F61D-44F7-A524-3298B42D503F}" srcOrd="1" destOrd="0" presId="urn:microsoft.com/office/officeart/2005/8/layout/hierarchy1"/>
    <dgm:cxn modelId="{8C90F5F1-375E-41DB-A366-F55E3D93CCE2}" type="presParOf" srcId="{A37A6F38-9B62-446E-A8F7-1C91B74DC78D}" destId="{3BA41D92-E0AA-47BA-BDD6-1F1BBA990E53}" srcOrd="2" destOrd="0" presId="urn:microsoft.com/office/officeart/2005/8/layout/hierarchy1"/>
    <dgm:cxn modelId="{C711348E-C0C0-444B-BC7D-76D7C204464C}" type="presParOf" srcId="{A37A6F38-9B62-446E-A8F7-1C91B74DC78D}" destId="{B3CA3075-0F0D-4AAB-8451-1035C9F5A29B}" srcOrd="3" destOrd="0" presId="urn:microsoft.com/office/officeart/2005/8/layout/hierarchy1"/>
    <dgm:cxn modelId="{66B32DCD-DFC7-4414-BF68-710DAF116780}" type="presParOf" srcId="{B3CA3075-0F0D-4AAB-8451-1035C9F5A29B}" destId="{0661FD34-5AFB-4272-9080-F0F7262DE335}" srcOrd="0" destOrd="0" presId="urn:microsoft.com/office/officeart/2005/8/layout/hierarchy1"/>
    <dgm:cxn modelId="{78A988C1-C2B6-4C12-980C-AB2967630B5F}" type="presParOf" srcId="{0661FD34-5AFB-4272-9080-F0F7262DE335}" destId="{55035FB5-07BC-4E58-B39A-29E6C019E9BA}" srcOrd="0" destOrd="0" presId="urn:microsoft.com/office/officeart/2005/8/layout/hierarchy1"/>
    <dgm:cxn modelId="{630D1C6C-CB3A-449C-821D-1F9A47783FBE}" type="presParOf" srcId="{0661FD34-5AFB-4272-9080-F0F7262DE335}" destId="{631FEE27-82B7-44FA-8759-5F5D7758CAF9}" srcOrd="1" destOrd="0" presId="urn:microsoft.com/office/officeart/2005/8/layout/hierarchy1"/>
    <dgm:cxn modelId="{42923F70-2C19-4B17-A32B-5324B8E05513}" type="presParOf" srcId="{B3CA3075-0F0D-4AAB-8451-1035C9F5A29B}" destId="{C849D450-ED17-4137-930D-D27CE58CD8C1}" srcOrd="1" destOrd="0" presId="urn:microsoft.com/office/officeart/2005/8/layout/hierarchy1"/>
    <dgm:cxn modelId="{3AE2B951-3F3F-4B8D-9642-A124CDB4B177}" type="presParOf" srcId="{A37A6F38-9B62-446E-A8F7-1C91B74DC78D}" destId="{8F16986A-20BF-4CC6-ACBF-A6E5568F7498}" srcOrd="4" destOrd="0" presId="urn:microsoft.com/office/officeart/2005/8/layout/hierarchy1"/>
    <dgm:cxn modelId="{7464371D-6A25-42D1-BA1D-C7B1375D5C62}" type="presParOf" srcId="{A37A6F38-9B62-446E-A8F7-1C91B74DC78D}" destId="{C4528015-7F1A-474B-A63F-7D8204E09E52}" srcOrd="5" destOrd="0" presId="urn:microsoft.com/office/officeart/2005/8/layout/hierarchy1"/>
    <dgm:cxn modelId="{5E88C8EB-C5C5-44A9-87B5-04C87B044A8D}" type="presParOf" srcId="{C4528015-7F1A-474B-A63F-7D8204E09E52}" destId="{24BA23A8-167C-4CF2-9FBB-1B07CDAF4062}" srcOrd="0" destOrd="0" presId="urn:microsoft.com/office/officeart/2005/8/layout/hierarchy1"/>
    <dgm:cxn modelId="{23B26870-B503-4B24-B064-0ADCA269B6A6}" type="presParOf" srcId="{24BA23A8-167C-4CF2-9FBB-1B07CDAF4062}" destId="{28C98B7F-2492-4698-A3CE-C05B0DBF7826}" srcOrd="0" destOrd="0" presId="urn:microsoft.com/office/officeart/2005/8/layout/hierarchy1"/>
    <dgm:cxn modelId="{DD6402F2-B3F0-428B-BBE2-BCBACF0258AC}" type="presParOf" srcId="{24BA23A8-167C-4CF2-9FBB-1B07CDAF4062}" destId="{91CEBC9A-8EA8-49A1-AD73-E157E2E6B42F}" srcOrd="1" destOrd="0" presId="urn:microsoft.com/office/officeart/2005/8/layout/hierarchy1"/>
    <dgm:cxn modelId="{0D48D8D6-9882-4030-B42D-04C1FF1AB2B0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7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re</a:t>
          </a:r>
          <a:r>
            <a:rPr lang="en-US" sz="6600" b="1" u="none" dirty="0" smtClean="0">
              <a:solidFill>
                <a:srgbClr val="FF0000"/>
              </a:solidFill>
            </a:rPr>
            <a:t> </a:t>
          </a:r>
          <a:r>
            <a:rPr lang="en-US" sz="6600" b="1" i="1" u="sng" dirty="0" smtClean="0">
              <a:solidFill>
                <a:srgbClr val="C00000"/>
              </a:solidFill>
            </a:rPr>
            <a:t>not</a:t>
          </a:r>
          <a:endParaRPr lang="ru-RU" sz="6600" b="1" i="1" u="sng" dirty="0">
            <a:solidFill>
              <a:srgbClr val="C0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You</a:t>
          </a:r>
          <a:endParaRPr lang="en-US" sz="2800" b="1" dirty="0" smtClean="0">
            <a:solidFill>
              <a:srgbClr val="C00000"/>
            </a:solidFill>
          </a:endParaRPr>
        </a:p>
        <a:p>
          <a:r>
            <a:rPr lang="en-US" sz="2800" b="1" dirty="0" smtClean="0">
              <a:solidFill>
                <a:schemeClr val="tx1"/>
              </a:solidFill>
            </a:rPr>
            <a:t>You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u="none" dirty="0" smtClean="0">
              <a:solidFill>
                <a:srgbClr val="FF0000"/>
              </a:solidFill>
            </a:rPr>
            <a:t> </a:t>
          </a:r>
          <a:r>
            <a:rPr lang="en-US" sz="2800" b="1" i="1" u="sng" dirty="0" smtClean="0">
              <a:solidFill>
                <a:srgbClr val="C00000"/>
              </a:solidFill>
            </a:rPr>
            <a:t>not</a:t>
          </a:r>
          <a:r>
            <a:rPr lang="en-US" sz="2800" b="1" u="none" dirty="0" smtClean="0">
              <a:solidFill>
                <a:srgbClr val="FF0000"/>
              </a:solidFill>
            </a:rPr>
            <a:t>           </a:t>
          </a:r>
          <a:r>
            <a:rPr lang="en-US" sz="2800" b="0" dirty="0" smtClean="0">
              <a:solidFill>
                <a:schemeClr val="tx1"/>
              </a:solidFill>
            </a:rPr>
            <a:t> a student.</a:t>
          </a:r>
        </a:p>
        <a:p>
          <a:r>
            <a:rPr lang="en-US" sz="2800" b="1" dirty="0" smtClean="0">
              <a:solidFill>
                <a:schemeClr val="tx1"/>
              </a:solidFill>
            </a:rPr>
            <a:t>You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i="1" u="sng" dirty="0" smtClean="0">
              <a:solidFill>
                <a:srgbClr val="C00000"/>
              </a:solidFill>
            </a:rPr>
            <a:t>n’t</a:t>
          </a:r>
          <a:r>
            <a:rPr lang="en-US" sz="2800" b="0" dirty="0" smtClean="0">
              <a:solidFill>
                <a:schemeClr val="tx1"/>
              </a:solidFill>
            </a:rPr>
            <a:t> kind.</a:t>
          </a: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We</a:t>
          </a:r>
        </a:p>
        <a:p>
          <a:r>
            <a:rPr lang="en-US" sz="2800" b="1" dirty="0" smtClean="0">
              <a:solidFill>
                <a:schemeClr val="tx1"/>
              </a:solidFill>
            </a:rPr>
            <a:t>W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u="none" strike="noStrike" dirty="0" smtClean="0">
              <a:solidFill>
                <a:srgbClr val="FF0000"/>
              </a:solidFill>
            </a:rPr>
            <a:t> </a:t>
          </a:r>
          <a:r>
            <a:rPr lang="en-US" sz="2800" b="1" i="1" u="sng" strike="noStrike" dirty="0" smtClean="0">
              <a:solidFill>
                <a:srgbClr val="C00000"/>
              </a:solidFill>
            </a:rPr>
            <a:t>not</a:t>
          </a:r>
          <a:r>
            <a:rPr lang="en-US" sz="2800" b="0" dirty="0" smtClean="0">
              <a:solidFill>
                <a:schemeClr val="tx1"/>
              </a:solidFill>
            </a:rPr>
            <a:t> students.</a:t>
          </a:r>
        </a:p>
        <a:p>
          <a:r>
            <a:rPr lang="en-US" sz="2800" b="1" dirty="0" smtClean="0">
              <a:solidFill>
                <a:schemeClr val="tx1"/>
              </a:solidFill>
            </a:rPr>
            <a:t>W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i="1" u="sng" dirty="0" smtClean="0">
              <a:solidFill>
                <a:srgbClr val="C00000"/>
              </a:solidFill>
            </a:rPr>
            <a:t>n’t</a:t>
          </a:r>
          <a:r>
            <a:rPr lang="en-US" sz="2800" b="0" dirty="0" smtClean="0">
              <a:solidFill>
                <a:schemeClr val="tx1"/>
              </a:solidFill>
            </a:rPr>
            <a:t> kind.</a:t>
          </a: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They</a:t>
          </a:r>
        </a:p>
        <a:p>
          <a:r>
            <a:rPr lang="en-US" sz="2800" b="1" dirty="0" smtClean="0">
              <a:solidFill>
                <a:schemeClr val="tx1"/>
              </a:solidFill>
            </a:rPr>
            <a:t>They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u="none" dirty="0" smtClean="0">
              <a:solidFill>
                <a:srgbClr val="FF0000"/>
              </a:solidFill>
            </a:rPr>
            <a:t> </a:t>
          </a:r>
          <a:r>
            <a:rPr lang="en-US" sz="2800" b="1" i="1" u="sng" dirty="0" smtClean="0">
              <a:solidFill>
                <a:srgbClr val="C00000"/>
              </a:solidFill>
            </a:rPr>
            <a:t>not</a:t>
          </a:r>
          <a:r>
            <a:rPr lang="en-US" sz="2800" b="0" dirty="0" smtClean="0">
              <a:solidFill>
                <a:schemeClr val="tx1"/>
              </a:solidFill>
            </a:rPr>
            <a:t> teachers.</a:t>
          </a:r>
        </a:p>
        <a:p>
          <a:r>
            <a:rPr lang="en-US" sz="2800" b="1" dirty="0" smtClean="0">
              <a:solidFill>
                <a:schemeClr val="tx1"/>
              </a:solidFill>
            </a:rPr>
            <a:t>They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i="1" u="sng" dirty="0" smtClean="0">
              <a:solidFill>
                <a:srgbClr val="C00000"/>
              </a:solidFill>
            </a:rPr>
            <a:t>n’t</a:t>
          </a:r>
          <a:r>
            <a:rPr lang="en-US" sz="2800" b="0" dirty="0" smtClean="0">
              <a:solidFill>
                <a:schemeClr val="tx1"/>
              </a:solidFill>
            </a:rPr>
            <a:t> kind.</a:t>
          </a:r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66380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3572382D-3E64-43AE-B676-38A091634ADD}" type="presOf" srcId="{0FF86A8F-72B7-47EC-BD03-14F46E5BBE66}" destId="{92EA9F0A-E810-468F-A35A-E9FF2CF87B17}" srcOrd="0" destOrd="0" presId="urn:microsoft.com/office/officeart/2005/8/layout/hierarchy1"/>
    <dgm:cxn modelId="{D0866D19-BD2C-436A-A888-27C3A6868562}" type="presOf" srcId="{1323325D-30D4-4234-8C32-F0D8DCC1ED8A}" destId="{91CEBC9A-8EA8-49A1-AD73-E157E2E6B42F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3196B559-3C82-4377-8F59-FBB71840439E}" type="presOf" srcId="{1082FB86-8FE6-4749-8952-D84713C6EBE5}" destId="{2339854B-93F8-44B0-AA3A-0B1BBF47BE05}" srcOrd="0" destOrd="0" presId="urn:microsoft.com/office/officeart/2005/8/layout/hierarchy1"/>
    <dgm:cxn modelId="{4C7B3624-E41A-410C-A340-9998B2658E75}" type="presOf" srcId="{89284321-9837-4A96-8BF8-9E181CE5C2C0}" destId="{631FEE27-82B7-44FA-8759-5F5D7758CAF9}" srcOrd="0" destOrd="0" presId="urn:microsoft.com/office/officeart/2005/8/layout/hierarchy1"/>
    <dgm:cxn modelId="{86348CE4-5C4D-49CF-95E0-A93D601241E0}" type="presOf" srcId="{9EF497F3-3426-4260-9AA0-C2C2D9EF8B43}" destId="{FE415ED9-D810-4305-A0D7-9AD3C9403FB5}" srcOrd="0" destOrd="0" presId="urn:microsoft.com/office/officeart/2005/8/layout/hierarchy1"/>
    <dgm:cxn modelId="{2122C11D-5C3A-4525-B550-2F86D10E67C0}" type="presOf" srcId="{D2D72486-AAD4-450C-8E59-7F61C73E0BD7}" destId="{3BA41D92-E0AA-47BA-BDD6-1F1BBA990E53}" srcOrd="0" destOrd="0" presId="urn:microsoft.com/office/officeart/2005/8/layout/hierarchy1"/>
    <dgm:cxn modelId="{D34840E5-663D-4969-AAFB-A18833C22FC3}" type="presOf" srcId="{795C5933-EF67-42B7-A6D9-5A001A0CC200}" destId="{8F16986A-20BF-4CC6-ACBF-A6E5568F7498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7B709232-400A-4C6F-8869-A79917C01955}" type="presOf" srcId="{1EFFFEB2-3EA7-4DF6-A4F1-5F0CBFF8F518}" destId="{085FEB04-415F-4DE1-AABD-130565C53ED0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6FD83D6A-1EC5-4446-9E0D-4DD3A17D9D36}" type="presParOf" srcId="{2339854B-93F8-44B0-AA3A-0B1BBF47BE05}" destId="{857672AF-E98D-47E4-BEEF-7182C44663DA}" srcOrd="0" destOrd="0" presId="urn:microsoft.com/office/officeart/2005/8/layout/hierarchy1"/>
    <dgm:cxn modelId="{4773FE67-CEAF-41BB-95FB-C82D4C455F5A}" type="presParOf" srcId="{857672AF-E98D-47E4-BEEF-7182C44663DA}" destId="{65FAC69B-7B5F-4DAC-A113-692343934542}" srcOrd="0" destOrd="0" presId="urn:microsoft.com/office/officeart/2005/8/layout/hierarchy1"/>
    <dgm:cxn modelId="{06181CE3-CA2B-441C-968D-9C6B83C9C51D}" type="presParOf" srcId="{65FAC69B-7B5F-4DAC-A113-692343934542}" destId="{E90BDA39-24E6-4659-BEE7-F6EE70F02DE5}" srcOrd="0" destOrd="0" presId="urn:microsoft.com/office/officeart/2005/8/layout/hierarchy1"/>
    <dgm:cxn modelId="{2086FC3D-CBCF-4730-9761-A617A140BFDE}" type="presParOf" srcId="{65FAC69B-7B5F-4DAC-A113-692343934542}" destId="{FE415ED9-D810-4305-A0D7-9AD3C9403FB5}" srcOrd="1" destOrd="0" presId="urn:microsoft.com/office/officeart/2005/8/layout/hierarchy1"/>
    <dgm:cxn modelId="{5EB117C5-AF9C-4D0B-B860-0FCB91BCFB82}" type="presParOf" srcId="{857672AF-E98D-47E4-BEEF-7182C44663DA}" destId="{A37A6F38-9B62-446E-A8F7-1C91B74DC78D}" srcOrd="1" destOrd="0" presId="urn:microsoft.com/office/officeart/2005/8/layout/hierarchy1"/>
    <dgm:cxn modelId="{25901B6F-3A83-4CD8-97AC-ABF1FD1C9C83}" type="presParOf" srcId="{A37A6F38-9B62-446E-A8F7-1C91B74DC78D}" destId="{085FEB04-415F-4DE1-AABD-130565C53ED0}" srcOrd="0" destOrd="0" presId="urn:microsoft.com/office/officeart/2005/8/layout/hierarchy1"/>
    <dgm:cxn modelId="{FA4ECD69-1F8C-443E-BD82-B696DF87A78C}" type="presParOf" srcId="{A37A6F38-9B62-446E-A8F7-1C91B74DC78D}" destId="{195D3A31-3DA9-47A3-9AE7-243B93BEFA1F}" srcOrd="1" destOrd="0" presId="urn:microsoft.com/office/officeart/2005/8/layout/hierarchy1"/>
    <dgm:cxn modelId="{B0335E88-1BC2-4B80-A978-3F563174EC26}" type="presParOf" srcId="{195D3A31-3DA9-47A3-9AE7-243B93BEFA1F}" destId="{022DF595-D71A-4DE6-A41B-F7BDC264D918}" srcOrd="0" destOrd="0" presId="urn:microsoft.com/office/officeart/2005/8/layout/hierarchy1"/>
    <dgm:cxn modelId="{652D5846-AD20-4DFD-9541-C2677349D637}" type="presParOf" srcId="{022DF595-D71A-4DE6-A41B-F7BDC264D918}" destId="{8BA927DD-1013-4678-9187-7ED61423452A}" srcOrd="0" destOrd="0" presId="urn:microsoft.com/office/officeart/2005/8/layout/hierarchy1"/>
    <dgm:cxn modelId="{DD65809E-E4DB-4A0C-A0C3-E7D74C771D13}" type="presParOf" srcId="{022DF595-D71A-4DE6-A41B-F7BDC264D918}" destId="{92EA9F0A-E810-468F-A35A-E9FF2CF87B17}" srcOrd="1" destOrd="0" presId="urn:microsoft.com/office/officeart/2005/8/layout/hierarchy1"/>
    <dgm:cxn modelId="{61993CA9-036A-4984-B030-291DFCC49810}" type="presParOf" srcId="{195D3A31-3DA9-47A3-9AE7-243B93BEFA1F}" destId="{025B3468-F61D-44F7-A524-3298B42D503F}" srcOrd="1" destOrd="0" presId="urn:microsoft.com/office/officeart/2005/8/layout/hierarchy1"/>
    <dgm:cxn modelId="{635668EB-E63C-4F60-8546-50497597066A}" type="presParOf" srcId="{A37A6F38-9B62-446E-A8F7-1C91B74DC78D}" destId="{3BA41D92-E0AA-47BA-BDD6-1F1BBA990E53}" srcOrd="2" destOrd="0" presId="urn:microsoft.com/office/officeart/2005/8/layout/hierarchy1"/>
    <dgm:cxn modelId="{F676F1BA-7A15-48A1-9BAE-9F0F6B3A873A}" type="presParOf" srcId="{A37A6F38-9B62-446E-A8F7-1C91B74DC78D}" destId="{B3CA3075-0F0D-4AAB-8451-1035C9F5A29B}" srcOrd="3" destOrd="0" presId="urn:microsoft.com/office/officeart/2005/8/layout/hierarchy1"/>
    <dgm:cxn modelId="{B0213B60-109C-49FE-80F6-AD9586CE28F5}" type="presParOf" srcId="{B3CA3075-0F0D-4AAB-8451-1035C9F5A29B}" destId="{0661FD34-5AFB-4272-9080-F0F7262DE335}" srcOrd="0" destOrd="0" presId="urn:microsoft.com/office/officeart/2005/8/layout/hierarchy1"/>
    <dgm:cxn modelId="{3FD0BA70-6D80-40D7-8242-96D90E6D8872}" type="presParOf" srcId="{0661FD34-5AFB-4272-9080-F0F7262DE335}" destId="{55035FB5-07BC-4E58-B39A-29E6C019E9BA}" srcOrd="0" destOrd="0" presId="urn:microsoft.com/office/officeart/2005/8/layout/hierarchy1"/>
    <dgm:cxn modelId="{A5964FB2-7701-463A-A1BC-24F9838B9BA8}" type="presParOf" srcId="{0661FD34-5AFB-4272-9080-F0F7262DE335}" destId="{631FEE27-82B7-44FA-8759-5F5D7758CAF9}" srcOrd="1" destOrd="0" presId="urn:microsoft.com/office/officeart/2005/8/layout/hierarchy1"/>
    <dgm:cxn modelId="{D122E4CF-F12A-436E-8CF9-6D3FADE1CF76}" type="presParOf" srcId="{B3CA3075-0F0D-4AAB-8451-1035C9F5A29B}" destId="{C849D450-ED17-4137-930D-D27CE58CD8C1}" srcOrd="1" destOrd="0" presId="urn:microsoft.com/office/officeart/2005/8/layout/hierarchy1"/>
    <dgm:cxn modelId="{047AF29E-3203-44FF-BE18-1D18B5C17D84}" type="presParOf" srcId="{A37A6F38-9B62-446E-A8F7-1C91B74DC78D}" destId="{8F16986A-20BF-4CC6-ACBF-A6E5568F7498}" srcOrd="4" destOrd="0" presId="urn:microsoft.com/office/officeart/2005/8/layout/hierarchy1"/>
    <dgm:cxn modelId="{902B0809-2404-43E6-B7E6-9528E80C05B0}" type="presParOf" srcId="{A37A6F38-9B62-446E-A8F7-1C91B74DC78D}" destId="{C4528015-7F1A-474B-A63F-7D8204E09E52}" srcOrd="5" destOrd="0" presId="urn:microsoft.com/office/officeart/2005/8/layout/hierarchy1"/>
    <dgm:cxn modelId="{5810C7A5-B84A-4080-9E46-C5CCF0ADF49E}" type="presParOf" srcId="{C4528015-7F1A-474B-A63F-7D8204E09E52}" destId="{24BA23A8-167C-4CF2-9FBB-1B07CDAF4062}" srcOrd="0" destOrd="0" presId="urn:microsoft.com/office/officeart/2005/8/layout/hierarchy1"/>
    <dgm:cxn modelId="{06DDF59E-6C5D-47A6-B0B4-F9D2807F9E02}" type="presParOf" srcId="{24BA23A8-167C-4CF2-9FBB-1B07CDAF4062}" destId="{28C98B7F-2492-4698-A3CE-C05B0DBF7826}" srcOrd="0" destOrd="0" presId="urn:microsoft.com/office/officeart/2005/8/layout/hierarchy1"/>
    <dgm:cxn modelId="{4412F50C-EB66-473D-A862-6180475B7192}" type="presParOf" srcId="{24BA23A8-167C-4CF2-9FBB-1B07CDAF4062}" destId="{91CEBC9A-8EA8-49A1-AD73-E157E2E6B42F}" srcOrd="1" destOrd="0" presId="urn:microsoft.com/office/officeart/2005/8/layout/hierarchy1"/>
    <dgm:cxn modelId="{3362E4F1-3071-4FCC-A566-33DF627E6660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8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Make sentences negative. </a:t>
          </a:r>
          <a:endParaRPr lang="ru-RU" sz="3600" b="1" dirty="0">
            <a:solidFill>
              <a:srgbClr val="00206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 custLinFactNeighborX="885" custLinFactNeighborY="-3031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5847CD7-1505-4E31-8238-9FE76F0DA2B8}" type="presOf" srcId="{96570C62-DC05-44A6-86B5-43E4F319A635}" destId="{73F9C575-9C73-4BBF-A96E-6D95DF6FC640}" srcOrd="0" destOrd="0" presId="urn:microsoft.com/office/officeart/2005/8/layout/vList2"/>
    <dgm:cxn modelId="{BC641A93-0B50-480B-B223-F4BD936E2721}" type="presOf" srcId="{2D12C966-950A-4088-927E-A6A3A2FFBFDC}" destId="{EB7FC6E1-083E-4ECA-99D8-1F2DBD66B6A9}" srcOrd="0" destOrd="0" presId="urn:microsoft.com/office/officeart/2005/8/layout/vList2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65FB1863-6DF3-4F15-BA06-C7DED8C990FB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9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2800" b="1" dirty="0" smtClean="0">
              <a:solidFill>
                <a:srgbClr val="002060"/>
              </a:solidFill>
            </a:rPr>
            <a:t>Model:</a:t>
          </a:r>
          <a:endParaRPr lang="ru-RU" sz="2800" b="1" dirty="0">
            <a:solidFill>
              <a:srgbClr val="00206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 sz="1400">
            <a:solidFill>
              <a:srgbClr val="002060"/>
            </a:solidFill>
          </a:endParaRPr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 sz="1400">
            <a:solidFill>
              <a:srgbClr val="002060"/>
            </a:solidFill>
          </a:endParaRPr>
        </a:p>
      </dgm:t>
    </dgm:pt>
    <dgm:pt modelId="{36E9CBD4-A27E-4AD5-9399-CEAB425F48DF}">
      <dgm:prSet custT="1"/>
      <dgm:spPr/>
      <dgm:t>
        <a:bodyPr/>
        <a:lstStyle/>
        <a:p>
          <a:pPr algn="ctr" rtl="0"/>
          <a:r>
            <a:rPr lang="en-US" sz="2800" b="1" dirty="0" smtClean="0">
              <a:solidFill>
                <a:srgbClr val="002060"/>
              </a:solidFill>
            </a:rPr>
            <a:t>It </a:t>
          </a:r>
          <a:r>
            <a:rPr lang="en-US" sz="2800" b="1" i="1" u="sng" dirty="0" smtClean="0">
              <a:solidFill>
                <a:srgbClr val="C00000"/>
              </a:solidFill>
            </a:rPr>
            <a:t>is</a:t>
          </a:r>
          <a:r>
            <a:rPr lang="en-US" sz="2800" b="1" dirty="0" smtClean="0">
              <a:solidFill>
                <a:srgbClr val="002060"/>
              </a:solidFill>
            </a:rPr>
            <a:t> slim. – It </a:t>
          </a:r>
          <a:r>
            <a:rPr lang="en-US" sz="2800" b="1" i="1" u="sng" dirty="0" smtClean="0">
              <a:solidFill>
                <a:srgbClr val="C00000"/>
              </a:solidFill>
            </a:rPr>
            <a:t>is not</a:t>
          </a:r>
          <a:r>
            <a:rPr lang="en-US" sz="2800" b="1" i="1" u="none" dirty="0" smtClean="0">
              <a:solidFill>
                <a:srgbClr val="C00000"/>
              </a:solidFill>
            </a:rPr>
            <a:t> </a:t>
          </a:r>
          <a:r>
            <a:rPr lang="en-US" sz="2800" b="1" dirty="0" smtClean="0">
              <a:solidFill>
                <a:srgbClr val="002060"/>
              </a:solidFill>
            </a:rPr>
            <a:t>slim.</a:t>
          </a:r>
          <a:endParaRPr lang="ru-RU" sz="2800" b="1" dirty="0">
            <a:solidFill>
              <a:srgbClr val="002060"/>
            </a:solidFill>
          </a:endParaRPr>
        </a:p>
      </dgm:t>
    </dgm:pt>
    <dgm:pt modelId="{16682C43-28E5-4FB9-B8B4-B3D12D0C9CA6}" type="parTrans" cxnId="{DE20273B-94BA-4623-A9F7-0B275C6357A4}">
      <dgm:prSet/>
      <dgm:spPr/>
      <dgm:t>
        <a:bodyPr/>
        <a:lstStyle/>
        <a:p>
          <a:endParaRPr lang="ru-RU">
            <a:solidFill>
              <a:srgbClr val="002060"/>
            </a:solidFill>
          </a:endParaRPr>
        </a:p>
      </dgm:t>
    </dgm:pt>
    <dgm:pt modelId="{FE819384-585B-48C0-A7D1-8BC2CA9A66A2}" type="sibTrans" cxnId="{DE20273B-94BA-4623-A9F7-0B275C6357A4}">
      <dgm:prSet/>
      <dgm:spPr/>
      <dgm:t>
        <a:bodyPr/>
        <a:lstStyle/>
        <a:p>
          <a:endParaRPr lang="ru-RU">
            <a:solidFill>
              <a:srgbClr val="002060"/>
            </a:solidFill>
          </a:endParaRPr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2" custLinFactNeighborY="-1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321CE67-43F2-4069-BA9E-186318A33108}" type="pres">
      <dgm:prSet presAssocID="{4FBEDB84-061C-4581-B82D-31CED8FF9EAC}" presName="spacer" presStyleCnt="0"/>
      <dgm:spPr/>
    </dgm:pt>
    <dgm:pt modelId="{23E0AF8B-6472-40A2-8D8A-DF5D39CF2B7F}" type="pres">
      <dgm:prSet presAssocID="{36E9CBD4-A27E-4AD5-9399-CEAB425F48DF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7A45CA3-81CB-46E3-A645-39A7DCCB7F60}" type="presOf" srcId="{36E9CBD4-A27E-4AD5-9399-CEAB425F48DF}" destId="{23E0AF8B-6472-40A2-8D8A-DF5D39CF2B7F}" srcOrd="0" destOrd="0" presId="urn:microsoft.com/office/officeart/2005/8/layout/vList2"/>
    <dgm:cxn modelId="{DE20273B-94BA-4623-A9F7-0B275C6357A4}" srcId="{2D12C966-950A-4088-927E-A6A3A2FFBFDC}" destId="{36E9CBD4-A27E-4AD5-9399-CEAB425F48DF}" srcOrd="1" destOrd="0" parTransId="{16682C43-28E5-4FB9-B8B4-B3D12D0C9CA6}" sibTransId="{FE819384-585B-48C0-A7D1-8BC2CA9A66A2}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0588E24E-C41F-44E2-819B-7DF991B44F9A}" type="presOf" srcId="{96570C62-DC05-44A6-86B5-43E4F319A635}" destId="{73F9C575-9C73-4BBF-A96E-6D95DF6FC640}" srcOrd="0" destOrd="0" presId="urn:microsoft.com/office/officeart/2005/8/layout/vList2"/>
    <dgm:cxn modelId="{251930AF-5425-4E51-8827-CBDB2FB45ED7}" type="presOf" srcId="{2D12C966-950A-4088-927E-A6A3A2FFBFDC}" destId="{EB7FC6E1-083E-4ECA-99D8-1F2DBD66B6A9}" srcOrd="0" destOrd="0" presId="urn:microsoft.com/office/officeart/2005/8/layout/vList2"/>
    <dgm:cxn modelId="{C90078A0-DB38-430E-9A5F-BEF3A7C24136}" type="presParOf" srcId="{EB7FC6E1-083E-4ECA-99D8-1F2DBD66B6A9}" destId="{73F9C575-9C73-4BBF-A96E-6D95DF6FC640}" srcOrd="0" destOrd="0" presId="urn:microsoft.com/office/officeart/2005/8/layout/vList2"/>
    <dgm:cxn modelId="{49B0032E-5E2F-4E9D-A3A2-21148E084558}" type="presParOf" srcId="{EB7FC6E1-083E-4ECA-99D8-1F2DBD66B6A9}" destId="{0321CE67-43F2-4069-BA9E-186318A33108}" srcOrd="1" destOrd="0" presId="urn:microsoft.com/office/officeart/2005/8/layout/vList2"/>
    <dgm:cxn modelId="{C0732E03-66E0-4A32-92E8-65248DA7AA87}" type="presParOf" srcId="{EB7FC6E1-083E-4ECA-99D8-1F2DBD66B6A9}" destId="{23E0AF8B-6472-40A2-8D8A-DF5D39CF2B7F}" srcOrd="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5600" b="1" u="sng" smtClean="0">
              <a:solidFill>
                <a:srgbClr val="0070C0"/>
              </a:solidFill>
            </a:rPr>
            <a:t>To be</a:t>
          </a:r>
        </a:p>
        <a:p>
          <a:r>
            <a:rPr lang="ru-RU" sz="4000" smtClean="0"/>
            <a:t>Глагол </a:t>
          </a:r>
          <a:r>
            <a:rPr lang="ru-RU" sz="4400" b="1" smtClean="0">
              <a:solidFill>
                <a:srgbClr val="FF0000"/>
              </a:solidFill>
            </a:rPr>
            <a:t>«быть»</a:t>
          </a:r>
          <a:endParaRPr lang="ru-RU" sz="4800" b="1" dirty="0">
            <a:solidFill>
              <a:srgbClr val="FF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pPr algn="ctr"/>
          <a:r>
            <a:rPr lang="en-US" sz="5200" b="1" dirty="0" smtClean="0">
              <a:solidFill>
                <a:srgbClr val="FF0000"/>
              </a:solidFill>
            </a:rPr>
            <a:t>Am</a:t>
          </a:r>
        </a:p>
        <a:p>
          <a:pPr algn="ctr"/>
          <a:r>
            <a:rPr lang="en-US" sz="3200" b="1" dirty="0" smtClean="0"/>
            <a:t>I </a:t>
          </a:r>
          <a:r>
            <a:rPr lang="en-US" sz="3200" b="1" i="1" u="sng" dirty="0" smtClean="0">
              <a:solidFill>
                <a:srgbClr val="C00000"/>
              </a:solidFill>
            </a:rPr>
            <a:t>am</a:t>
          </a:r>
          <a:r>
            <a:rPr lang="en-US" sz="3200" b="1" dirty="0" smtClean="0"/>
            <a:t> happy. </a:t>
          </a:r>
          <a:r>
            <a:rPr lang="en-US" sz="2400" dirty="0" smtClean="0"/>
            <a:t>( </a:t>
          </a:r>
          <a:r>
            <a:rPr lang="ru-RU" sz="2400" dirty="0" smtClean="0"/>
            <a:t>Я счастливый)</a:t>
          </a:r>
          <a:endParaRPr lang="ru-RU" sz="3200" dirty="0"/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Is</a:t>
          </a:r>
        </a:p>
        <a:p>
          <a:r>
            <a:rPr lang="en-US" sz="2800" b="1" dirty="0" smtClean="0"/>
            <a:t>He  </a:t>
          </a:r>
          <a:r>
            <a:rPr lang="en-US" sz="2800" b="1" i="1" u="sng" dirty="0" smtClean="0">
              <a:solidFill>
                <a:srgbClr val="C00000"/>
              </a:solidFill>
            </a:rPr>
            <a:t>is</a:t>
          </a:r>
          <a:r>
            <a:rPr lang="en-US" sz="2800" b="1" dirty="0" smtClean="0"/>
            <a:t> happy.</a:t>
          </a:r>
          <a:r>
            <a:rPr lang="ru-RU" sz="2800" b="1" dirty="0" smtClean="0"/>
            <a:t> </a:t>
          </a:r>
          <a:r>
            <a:rPr lang="ru-RU" sz="2000" dirty="0" smtClean="0"/>
            <a:t>(Он счастливый)</a:t>
          </a:r>
          <a:endParaRPr lang="ru-RU" sz="2000" dirty="0"/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Are</a:t>
          </a:r>
        </a:p>
        <a:p>
          <a:r>
            <a:rPr lang="en-US" sz="2400" b="1" dirty="0" smtClean="0"/>
            <a:t>We </a:t>
          </a:r>
          <a:r>
            <a:rPr lang="en-US" sz="2400" b="1" i="1" u="sng" dirty="0" smtClean="0">
              <a:solidFill>
                <a:srgbClr val="C00000"/>
              </a:solidFill>
            </a:rPr>
            <a:t>are </a:t>
          </a:r>
          <a:r>
            <a:rPr lang="en-US" sz="2400" b="1" dirty="0" smtClean="0"/>
            <a:t>happy.</a:t>
          </a:r>
          <a:r>
            <a:rPr lang="ru-RU" sz="2400" b="1" dirty="0" smtClean="0"/>
            <a:t> </a:t>
          </a:r>
          <a:r>
            <a:rPr lang="ru-RU" sz="2000" dirty="0" smtClean="0"/>
            <a:t>( Мы счастливые)</a:t>
          </a:r>
          <a:endParaRPr lang="ru-RU" sz="2000" dirty="0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  <dgm:t>
        <a:bodyPr/>
        <a:lstStyle/>
        <a:p>
          <a:endParaRPr lang="ru-RU"/>
        </a:p>
      </dgm:t>
    </dgm:pt>
    <dgm:pt modelId="{65FAC69B-7B5F-4DAC-A113-692343934542}" type="pres">
      <dgm:prSet presAssocID="{9EF497F3-3426-4260-9AA0-C2C2D9EF8B43}" presName="composite" presStyleCnt="0"/>
      <dgm:spPr/>
      <dgm:t>
        <a:bodyPr/>
        <a:lstStyle/>
        <a:p>
          <a:endParaRPr lang="ru-RU"/>
        </a:p>
      </dgm:t>
    </dgm:pt>
    <dgm:pt modelId="{E90BDA39-24E6-4659-BEE7-F6EE70F02DE5}" type="pres">
      <dgm:prSet presAssocID="{9EF497F3-3426-4260-9AA0-C2C2D9EF8B43}" presName="background" presStyleLbl="node0" presStyleIdx="0" presStyleCnt="1"/>
      <dgm:spPr/>
      <dgm:t>
        <a:bodyPr/>
        <a:lstStyle/>
        <a:p>
          <a:endParaRPr lang="ru-RU"/>
        </a:p>
      </dgm:t>
    </dgm:pt>
    <dgm:pt modelId="{FE415ED9-D810-4305-A0D7-9AD3C9403FB5}" type="pres">
      <dgm:prSet presAssocID="{9EF497F3-3426-4260-9AA0-C2C2D9EF8B43}" presName="text" presStyleLbl="fgAcc0" presStyleIdx="0" presStyleCnt="1" custScaleX="211113" custScaleY="15078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  <dgm:t>
        <a:bodyPr/>
        <a:lstStyle/>
        <a:p>
          <a:endParaRPr lang="ru-RU"/>
        </a:p>
      </dgm:t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  <dgm:t>
        <a:bodyPr/>
        <a:lstStyle/>
        <a:p>
          <a:endParaRPr lang="ru-RU"/>
        </a:p>
      </dgm:t>
    </dgm:pt>
    <dgm:pt modelId="{022DF595-D71A-4DE6-A41B-F7BDC264D918}" type="pres">
      <dgm:prSet presAssocID="{0FF86A8F-72B7-47EC-BD03-14F46E5BBE66}" presName="composite2" presStyleCnt="0"/>
      <dgm:spPr/>
      <dgm:t>
        <a:bodyPr/>
        <a:lstStyle/>
        <a:p>
          <a:endParaRPr lang="ru-RU"/>
        </a:p>
      </dgm:t>
    </dgm:pt>
    <dgm:pt modelId="{8BA927DD-1013-4678-9187-7ED61423452A}" type="pres">
      <dgm:prSet presAssocID="{0FF86A8F-72B7-47EC-BD03-14F46E5BBE66}" presName="background2" presStyleLbl="node2" presStyleIdx="0" presStyleCnt="3"/>
      <dgm:spPr/>
      <dgm:t>
        <a:bodyPr/>
        <a:lstStyle/>
        <a:p>
          <a:endParaRPr lang="ru-RU"/>
        </a:p>
      </dgm:t>
    </dgm:pt>
    <dgm:pt modelId="{92EA9F0A-E810-468F-A35A-E9FF2CF87B17}" type="pres">
      <dgm:prSet presAssocID="{0FF86A8F-72B7-47EC-BD03-14F46E5BBE66}" presName="text2" presStyleLbl="fgAcc2" presStyleIdx="0" presStyleCnt="3" custScaleX="116666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  <dgm:t>
        <a:bodyPr/>
        <a:lstStyle/>
        <a:p>
          <a:endParaRPr lang="ru-RU"/>
        </a:p>
      </dgm:t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  <dgm:t>
        <a:bodyPr/>
        <a:lstStyle/>
        <a:p>
          <a:endParaRPr lang="ru-RU"/>
        </a:p>
      </dgm:t>
    </dgm:pt>
    <dgm:pt modelId="{0661FD34-5AFB-4272-9080-F0F7262DE335}" type="pres">
      <dgm:prSet presAssocID="{89284321-9837-4A96-8BF8-9E181CE5C2C0}" presName="composite2" presStyleCnt="0"/>
      <dgm:spPr/>
      <dgm:t>
        <a:bodyPr/>
        <a:lstStyle/>
        <a:p>
          <a:endParaRPr lang="ru-RU"/>
        </a:p>
      </dgm:t>
    </dgm:pt>
    <dgm:pt modelId="{55035FB5-07BC-4E58-B39A-29E6C019E9BA}" type="pres">
      <dgm:prSet presAssocID="{89284321-9837-4A96-8BF8-9E181CE5C2C0}" presName="background2" presStyleLbl="node2" presStyleIdx="1" presStyleCnt="3"/>
      <dgm:spPr/>
      <dgm:t>
        <a:bodyPr/>
        <a:lstStyle/>
        <a:p>
          <a:endParaRPr lang="ru-RU"/>
        </a:p>
      </dgm:t>
    </dgm:pt>
    <dgm:pt modelId="{631FEE27-82B7-44FA-8759-5F5D7758CAF9}" type="pres">
      <dgm:prSet presAssocID="{89284321-9837-4A96-8BF8-9E181CE5C2C0}" presName="text2" presStyleLbl="fgAcc2" presStyleIdx="1" presStyleCnt="3" custScaleX="111886" custScaleY="161364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  <dgm:t>
        <a:bodyPr/>
        <a:lstStyle/>
        <a:p>
          <a:endParaRPr lang="ru-RU"/>
        </a:p>
      </dgm:t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  <dgm:t>
        <a:bodyPr/>
        <a:lstStyle/>
        <a:p>
          <a:endParaRPr lang="ru-RU"/>
        </a:p>
      </dgm:t>
    </dgm:pt>
    <dgm:pt modelId="{24BA23A8-167C-4CF2-9FBB-1B07CDAF4062}" type="pres">
      <dgm:prSet presAssocID="{1323325D-30D4-4234-8C32-F0D8DCC1ED8A}" presName="composite2" presStyleCnt="0"/>
      <dgm:spPr/>
      <dgm:t>
        <a:bodyPr/>
        <a:lstStyle/>
        <a:p>
          <a:endParaRPr lang="ru-RU"/>
        </a:p>
      </dgm:t>
    </dgm:pt>
    <dgm:pt modelId="{28C98B7F-2492-4698-A3CE-C05B0DBF7826}" type="pres">
      <dgm:prSet presAssocID="{1323325D-30D4-4234-8C32-F0D8DCC1ED8A}" presName="background2" presStyleLbl="node2" presStyleIdx="2" presStyleCnt="3"/>
      <dgm:spPr/>
      <dgm:t>
        <a:bodyPr/>
        <a:lstStyle/>
        <a:p>
          <a:endParaRPr lang="ru-RU"/>
        </a:p>
      </dgm:t>
    </dgm:pt>
    <dgm:pt modelId="{91CEBC9A-8EA8-49A1-AD73-E157E2E6B42F}" type="pres">
      <dgm:prSet presAssocID="{1323325D-30D4-4234-8C32-F0D8DCC1ED8A}" presName="text2" presStyleLbl="fgAcc2" presStyleIdx="2" presStyleCnt="3" custScaleX="108832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  <dgm:t>
        <a:bodyPr/>
        <a:lstStyle/>
        <a:p>
          <a:endParaRPr lang="ru-RU"/>
        </a:p>
      </dgm:t>
    </dgm:pt>
  </dgm:ptLst>
  <dgm:cxnLst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29C58B1C-9E1F-4158-9ADF-DCFFE7FE1F33}" type="presOf" srcId="{0FF86A8F-72B7-47EC-BD03-14F46E5BBE66}" destId="{92EA9F0A-E810-468F-A35A-E9FF2CF87B17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5C903B1F-2FC7-47FF-B936-7F47324DE5AF}" type="presOf" srcId="{1082FB86-8FE6-4749-8952-D84713C6EBE5}" destId="{2339854B-93F8-44B0-AA3A-0B1BBF47BE05}" srcOrd="0" destOrd="0" presId="urn:microsoft.com/office/officeart/2005/8/layout/hierarchy1"/>
    <dgm:cxn modelId="{654BE09C-60A0-4F65-A9EB-55B4A59C3C70}" type="presOf" srcId="{1323325D-30D4-4234-8C32-F0D8DCC1ED8A}" destId="{91CEBC9A-8EA8-49A1-AD73-E157E2E6B42F}" srcOrd="0" destOrd="0" presId="urn:microsoft.com/office/officeart/2005/8/layout/hierarchy1"/>
    <dgm:cxn modelId="{8FA017F8-111A-4B4B-BAAC-60198A696459}" type="presOf" srcId="{9EF497F3-3426-4260-9AA0-C2C2D9EF8B43}" destId="{FE415ED9-D810-4305-A0D7-9AD3C9403FB5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BCBB5C7C-BBBC-4F79-ADBD-94D49ADAA366}" type="presOf" srcId="{1EFFFEB2-3EA7-4DF6-A4F1-5F0CBFF8F518}" destId="{085FEB04-415F-4DE1-AABD-130565C53ED0}" srcOrd="0" destOrd="0" presId="urn:microsoft.com/office/officeart/2005/8/layout/hierarchy1"/>
    <dgm:cxn modelId="{C3008BB4-B33E-4A35-942A-4AA195595110}" type="presOf" srcId="{D2D72486-AAD4-450C-8E59-7F61C73E0BD7}" destId="{3BA41D92-E0AA-47BA-BDD6-1F1BBA990E53}" srcOrd="0" destOrd="0" presId="urn:microsoft.com/office/officeart/2005/8/layout/hierarchy1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869939C4-8BD9-4D8C-906B-C33518D3626F}" type="presOf" srcId="{795C5933-EF67-42B7-A6D9-5A001A0CC200}" destId="{8F16986A-20BF-4CC6-ACBF-A6E5568F7498}" srcOrd="0" destOrd="0" presId="urn:microsoft.com/office/officeart/2005/8/layout/hierarchy1"/>
    <dgm:cxn modelId="{3ED93394-ECEB-4536-A998-21113F3F7AD0}" type="presOf" srcId="{89284321-9837-4A96-8BF8-9E181CE5C2C0}" destId="{631FEE27-82B7-44FA-8759-5F5D7758CAF9}" srcOrd="0" destOrd="0" presId="urn:microsoft.com/office/officeart/2005/8/layout/hierarchy1"/>
    <dgm:cxn modelId="{2DE30776-FD62-456C-AE88-F553138DC6BD}" type="presParOf" srcId="{2339854B-93F8-44B0-AA3A-0B1BBF47BE05}" destId="{857672AF-E98D-47E4-BEEF-7182C44663DA}" srcOrd="0" destOrd="0" presId="urn:microsoft.com/office/officeart/2005/8/layout/hierarchy1"/>
    <dgm:cxn modelId="{49896E41-3D13-4E47-8292-32B5AA2E719B}" type="presParOf" srcId="{857672AF-E98D-47E4-BEEF-7182C44663DA}" destId="{65FAC69B-7B5F-4DAC-A113-692343934542}" srcOrd="0" destOrd="0" presId="urn:microsoft.com/office/officeart/2005/8/layout/hierarchy1"/>
    <dgm:cxn modelId="{35D79B27-8B67-4787-9732-965858611949}" type="presParOf" srcId="{65FAC69B-7B5F-4DAC-A113-692343934542}" destId="{E90BDA39-24E6-4659-BEE7-F6EE70F02DE5}" srcOrd="0" destOrd="0" presId="urn:microsoft.com/office/officeart/2005/8/layout/hierarchy1"/>
    <dgm:cxn modelId="{5392EA99-5152-489A-B5BF-A3331E2EC114}" type="presParOf" srcId="{65FAC69B-7B5F-4DAC-A113-692343934542}" destId="{FE415ED9-D810-4305-A0D7-9AD3C9403FB5}" srcOrd="1" destOrd="0" presId="urn:microsoft.com/office/officeart/2005/8/layout/hierarchy1"/>
    <dgm:cxn modelId="{C38B52B1-76E8-4E1E-9A3F-0872E4A37A2A}" type="presParOf" srcId="{857672AF-E98D-47E4-BEEF-7182C44663DA}" destId="{A37A6F38-9B62-446E-A8F7-1C91B74DC78D}" srcOrd="1" destOrd="0" presId="urn:microsoft.com/office/officeart/2005/8/layout/hierarchy1"/>
    <dgm:cxn modelId="{642458DF-8200-43E9-B7F5-06799D05B87B}" type="presParOf" srcId="{A37A6F38-9B62-446E-A8F7-1C91B74DC78D}" destId="{085FEB04-415F-4DE1-AABD-130565C53ED0}" srcOrd="0" destOrd="0" presId="urn:microsoft.com/office/officeart/2005/8/layout/hierarchy1"/>
    <dgm:cxn modelId="{563C88F0-AB76-4D61-80E6-27E4097E7EBD}" type="presParOf" srcId="{A37A6F38-9B62-446E-A8F7-1C91B74DC78D}" destId="{195D3A31-3DA9-47A3-9AE7-243B93BEFA1F}" srcOrd="1" destOrd="0" presId="urn:microsoft.com/office/officeart/2005/8/layout/hierarchy1"/>
    <dgm:cxn modelId="{B4378C90-CD04-419F-AB4D-627C97366EBD}" type="presParOf" srcId="{195D3A31-3DA9-47A3-9AE7-243B93BEFA1F}" destId="{022DF595-D71A-4DE6-A41B-F7BDC264D918}" srcOrd="0" destOrd="0" presId="urn:microsoft.com/office/officeart/2005/8/layout/hierarchy1"/>
    <dgm:cxn modelId="{9AB957B3-5C60-47A0-881E-1D1DFC1D423B}" type="presParOf" srcId="{022DF595-D71A-4DE6-A41B-F7BDC264D918}" destId="{8BA927DD-1013-4678-9187-7ED61423452A}" srcOrd="0" destOrd="0" presId="urn:microsoft.com/office/officeart/2005/8/layout/hierarchy1"/>
    <dgm:cxn modelId="{AAF7434D-4A68-41D5-B9D1-8A28BB35036C}" type="presParOf" srcId="{022DF595-D71A-4DE6-A41B-F7BDC264D918}" destId="{92EA9F0A-E810-468F-A35A-E9FF2CF87B17}" srcOrd="1" destOrd="0" presId="urn:microsoft.com/office/officeart/2005/8/layout/hierarchy1"/>
    <dgm:cxn modelId="{B2A09FFA-B455-4E06-BDCB-B811DCB87C86}" type="presParOf" srcId="{195D3A31-3DA9-47A3-9AE7-243B93BEFA1F}" destId="{025B3468-F61D-44F7-A524-3298B42D503F}" srcOrd="1" destOrd="0" presId="urn:microsoft.com/office/officeart/2005/8/layout/hierarchy1"/>
    <dgm:cxn modelId="{61B75C2E-631B-4C1F-BB6C-0662B54806FE}" type="presParOf" srcId="{A37A6F38-9B62-446E-A8F7-1C91B74DC78D}" destId="{3BA41D92-E0AA-47BA-BDD6-1F1BBA990E53}" srcOrd="2" destOrd="0" presId="urn:microsoft.com/office/officeart/2005/8/layout/hierarchy1"/>
    <dgm:cxn modelId="{FFCEADC7-7DC0-410D-A268-F3B86C42546B}" type="presParOf" srcId="{A37A6F38-9B62-446E-A8F7-1C91B74DC78D}" destId="{B3CA3075-0F0D-4AAB-8451-1035C9F5A29B}" srcOrd="3" destOrd="0" presId="urn:microsoft.com/office/officeart/2005/8/layout/hierarchy1"/>
    <dgm:cxn modelId="{0CF9105D-DCD9-4471-ADEE-EC6C4E556728}" type="presParOf" srcId="{B3CA3075-0F0D-4AAB-8451-1035C9F5A29B}" destId="{0661FD34-5AFB-4272-9080-F0F7262DE335}" srcOrd="0" destOrd="0" presId="urn:microsoft.com/office/officeart/2005/8/layout/hierarchy1"/>
    <dgm:cxn modelId="{0848338B-8B66-4105-9BE3-4E5CA6C1D0CD}" type="presParOf" srcId="{0661FD34-5AFB-4272-9080-F0F7262DE335}" destId="{55035FB5-07BC-4E58-B39A-29E6C019E9BA}" srcOrd="0" destOrd="0" presId="urn:microsoft.com/office/officeart/2005/8/layout/hierarchy1"/>
    <dgm:cxn modelId="{49C548E8-47E4-46D7-8E78-14E9670BF93A}" type="presParOf" srcId="{0661FD34-5AFB-4272-9080-F0F7262DE335}" destId="{631FEE27-82B7-44FA-8759-5F5D7758CAF9}" srcOrd="1" destOrd="0" presId="urn:microsoft.com/office/officeart/2005/8/layout/hierarchy1"/>
    <dgm:cxn modelId="{441C2BF7-AB3B-4B58-A9E6-E540CFFED3C2}" type="presParOf" srcId="{B3CA3075-0F0D-4AAB-8451-1035C9F5A29B}" destId="{C849D450-ED17-4137-930D-D27CE58CD8C1}" srcOrd="1" destOrd="0" presId="urn:microsoft.com/office/officeart/2005/8/layout/hierarchy1"/>
    <dgm:cxn modelId="{553B846B-B3A1-4E66-B063-FA412935839F}" type="presParOf" srcId="{A37A6F38-9B62-446E-A8F7-1C91B74DC78D}" destId="{8F16986A-20BF-4CC6-ACBF-A6E5568F7498}" srcOrd="4" destOrd="0" presId="urn:microsoft.com/office/officeart/2005/8/layout/hierarchy1"/>
    <dgm:cxn modelId="{0B1407ED-D21A-40E3-9BEA-130B16C5DCEF}" type="presParOf" srcId="{A37A6F38-9B62-446E-A8F7-1C91B74DC78D}" destId="{C4528015-7F1A-474B-A63F-7D8204E09E52}" srcOrd="5" destOrd="0" presId="urn:microsoft.com/office/officeart/2005/8/layout/hierarchy1"/>
    <dgm:cxn modelId="{FE090E78-1189-4CA9-AE67-DB53957395D6}" type="presParOf" srcId="{C4528015-7F1A-474B-A63F-7D8204E09E52}" destId="{24BA23A8-167C-4CF2-9FBB-1B07CDAF4062}" srcOrd="0" destOrd="0" presId="urn:microsoft.com/office/officeart/2005/8/layout/hierarchy1"/>
    <dgm:cxn modelId="{1B55EDFC-5F51-4F27-99B9-9CC27D86A0D1}" type="presParOf" srcId="{24BA23A8-167C-4CF2-9FBB-1B07CDAF4062}" destId="{28C98B7F-2492-4698-A3CE-C05B0DBF7826}" srcOrd="0" destOrd="0" presId="urn:microsoft.com/office/officeart/2005/8/layout/hierarchy1"/>
    <dgm:cxn modelId="{9463008A-9194-4C14-8095-AA3F71FDC27C}" type="presParOf" srcId="{24BA23A8-167C-4CF2-9FBB-1B07CDAF4062}" destId="{91CEBC9A-8EA8-49A1-AD73-E157E2E6B42F}" srcOrd="1" destOrd="0" presId="urn:microsoft.com/office/officeart/2005/8/layout/hierarchy1"/>
    <dgm:cxn modelId="{4A719AB8-BE26-483B-8916-F05FF8C5C356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4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 am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711BAFC-A294-4EDD-8ABE-52C254C6A01B}" type="presOf" srcId="{4B52F623-9EDD-4639-8F4F-A60159388BAE}" destId="{13583DBC-89D5-4A61-947C-7830DF8C31CC}" srcOrd="0" destOrd="0" presId="urn:microsoft.com/office/officeart/2005/8/layout/vList2"/>
    <dgm:cxn modelId="{F348DE0B-2DF4-44DF-9B16-C5BFB03EC65D}" type="presOf" srcId="{AA54ED0A-A7A9-4E1B-9CF6-A7AF3F2D899A}" destId="{DC3E2338-4F7B-49E8-8119-14A26B802010}" srcOrd="0" destOrd="0" presId="urn:microsoft.com/office/officeart/2005/8/layout/vList2"/>
    <dgm:cxn modelId="{6DFCFB23-B220-4EC8-AFED-C54F45C6AF1D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4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 </a:t>
          </a:r>
          <a:r>
            <a:rPr lang="en-US" sz="2800" b="1" u="sng" dirty="0" smtClean="0"/>
            <a:t>am not</a:t>
          </a:r>
          <a:r>
            <a:rPr lang="en-US" sz="2800" b="1" dirty="0" smtClean="0"/>
            <a:t>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1C38C1F0-E9FB-44A4-BF78-3E0FC66BD63D}" type="presOf" srcId="{4B52F623-9EDD-4639-8F4F-A60159388BAE}" destId="{13583DBC-89D5-4A61-947C-7830DF8C31CC}" srcOrd="0" destOrd="0" presId="urn:microsoft.com/office/officeart/2005/8/layout/vList2"/>
    <dgm:cxn modelId="{6BABD4B2-FFE8-4151-BE15-D9CA117A302D}" type="presOf" srcId="{AA54ED0A-A7A9-4E1B-9CF6-A7AF3F2D899A}" destId="{DC3E2338-4F7B-49E8-8119-14A26B802010}" srcOrd="0" destOrd="0" presId="urn:microsoft.com/office/officeart/2005/8/layout/vList2"/>
    <dgm:cxn modelId="{14401A48-26A4-4708-874C-D4F5B0CD424C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42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t is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DAE0BBC8-9C94-4191-98F4-C299B48BE81C}" type="presOf" srcId="{AA54ED0A-A7A9-4E1B-9CF6-A7AF3F2D899A}" destId="{DC3E2338-4F7B-49E8-8119-14A26B802010}" srcOrd="0" destOrd="0" presId="urn:microsoft.com/office/officeart/2005/8/layout/vList2"/>
    <dgm:cxn modelId="{37088EA5-153D-4923-94B4-F75017E27FFD}" type="presOf" srcId="{4B52F623-9EDD-4639-8F4F-A60159388BAE}" destId="{13583DBC-89D5-4A61-947C-7830DF8C31CC}" srcOrd="0" destOrd="0" presId="urn:microsoft.com/office/officeart/2005/8/layout/vList2"/>
    <dgm:cxn modelId="{C0FB2EA6-B1F0-4AE7-87C2-54494EF46E6F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4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t </a:t>
          </a:r>
          <a:r>
            <a:rPr lang="en-US" sz="2800" b="1" u="sng" dirty="0" smtClean="0"/>
            <a:t>is not</a:t>
          </a:r>
          <a:r>
            <a:rPr lang="en-US" sz="2800" b="1" dirty="0" smtClean="0"/>
            <a:t>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20820F10-7685-4803-803B-5F90B8156753}" type="presOf" srcId="{AA54ED0A-A7A9-4E1B-9CF6-A7AF3F2D899A}" destId="{DC3E2338-4F7B-49E8-8119-14A26B802010}" srcOrd="0" destOrd="0" presId="urn:microsoft.com/office/officeart/2005/8/layout/vList2"/>
    <dgm:cxn modelId="{D15D1836-A310-45E5-88B8-F51611847583}" type="presOf" srcId="{4B52F623-9EDD-4639-8F4F-A60159388BAE}" destId="{13583DBC-89D5-4A61-947C-7830DF8C31CC}" srcOrd="0" destOrd="0" presId="urn:microsoft.com/office/officeart/2005/8/layout/vList2"/>
    <dgm:cxn modelId="{D325F377-5D4B-493A-89F0-E435262B9384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44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She is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5801069B-A1DA-486B-B055-0A0EB90802AE}" type="presOf" srcId="{AA54ED0A-A7A9-4E1B-9CF6-A7AF3F2D899A}" destId="{DC3E2338-4F7B-49E8-8119-14A26B802010}" srcOrd="0" destOrd="0" presId="urn:microsoft.com/office/officeart/2005/8/layout/vList2"/>
    <dgm:cxn modelId="{9D15A0D2-5534-41E2-BE71-39FF9FB61200}" type="presOf" srcId="{4B52F623-9EDD-4639-8F4F-A60159388BAE}" destId="{13583DBC-89D5-4A61-947C-7830DF8C31CC}" srcOrd="0" destOrd="0" presId="urn:microsoft.com/office/officeart/2005/8/layout/vList2"/>
    <dgm:cxn modelId="{98D21477-08FD-45FC-B738-98D0A2A2FA7A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4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She </a:t>
          </a:r>
          <a:r>
            <a:rPr lang="en-US" sz="2800" b="1" u="sng" dirty="0" smtClean="0"/>
            <a:t>is not</a:t>
          </a:r>
          <a:r>
            <a:rPr lang="en-US" sz="2800" b="1" dirty="0" smtClean="0"/>
            <a:t>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C6895B87-DCAA-47E8-A01B-E2A3530ED589}" type="presOf" srcId="{AA54ED0A-A7A9-4E1B-9CF6-A7AF3F2D899A}" destId="{DC3E2338-4F7B-49E8-8119-14A26B802010}" srcOrd="0" destOrd="0" presId="urn:microsoft.com/office/officeart/2005/8/layout/vList2"/>
    <dgm:cxn modelId="{ECEB0150-E7C7-4ADD-966C-C51CED1F711B}" type="presOf" srcId="{4B52F623-9EDD-4639-8F4F-A60159388BAE}" destId="{13583DBC-89D5-4A61-947C-7830DF8C31CC}" srcOrd="0" destOrd="0" presId="urn:microsoft.com/office/officeart/2005/8/layout/vList2"/>
    <dgm:cxn modelId="{63B74973-47F2-4344-998F-89743B0DEB35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4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You are sm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A965772-6CF9-4E3B-B9E1-792E994AF0F7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FA31A66F-EF0B-415C-836A-CD5DEC5E31FA}" type="presOf" srcId="{4B52F623-9EDD-4639-8F4F-A60159388BAE}" destId="{13583DBC-89D5-4A61-947C-7830DF8C31CC}" srcOrd="0" destOrd="0" presId="urn:microsoft.com/office/officeart/2005/8/layout/vList2"/>
    <dgm:cxn modelId="{6BCB7792-9DFA-4C7A-9CE7-BAA9EE6AD8C8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47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You </a:t>
          </a:r>
          <a:r>
            <a:rPr lang="en-US" sz="2800" b="1" u="sng" dirty="0" smtClean="0"/>
            <a:t>are not</a:t>
          </a:r>
          <a:r>
            <a:rPr lang="en-US" sz="2800" b="1" dirty="0" smtClean="0"/>
            <a:t> sm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ED751AA-52AB-4BE6-8846-181850A7B4E2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4BED3767-E82F-4222-A5B6-297B338BE66A}" type="presOf" srcId="{AA54ED0A-A7A9-4E1B-9CF6-A7AF3F2D899A}" destId="{DC3E2338-4F7B-49E8-8119-14A26B802010}" srcOrd="0" destOrd="0" presId="urn:microsoft.com/office/officeart/2005/8/layout/vList2"/>
    <dgm:cxn modelId="{14FDB0FE-00DD-44DE-9633-9299869420F3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48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We are lazy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C4A8FFF9-2573-4BA8-BE46-A369A04A0DAF}" type="presOf" srcId="{4B52F623-9EDD-4639-8F4F-A60159388BAE}" destId="{13583DBC-89D5-4A61-947C-7830DF8C31CC}" srcOrd="0" destOrd="0" presId="urn:microsoft.com/office/officeart/2005/8/layout/vList2"/>
    <dgm:cxn modelId="{D306D3C6-EE9D-477B-9845-63493E802FC0}" type="presOf" srcId="{AA54ED0A-A7A9-4E1B-9CF6-A7AF3F2D899A}" destId="{DC3E2338-4F7B-49E8-8119-14A26B802010}" srcOrd="0" destOrd="0" presId="urn:microsoft.com/office/officeart/2005/8/layout/vList2"/>
    <dgm:cxn modelId="{B923BE5E-C42E-4079-82E9-6F6FD27B7366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49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We </a:t>
          </a:r>
          <a:r>
            <a:rPr lang="en-US" sz="2800" b="1" u="sng" dirty="0" smtClean="0"/>
            <a:t>are not</a:t>
          </a:r>
          <a:r>
            <a:rPr lang="en-US" sz="2800" b="1" dirty="0" smtClean="0"/>
            <a:t> lazy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8FDB75C3-1008-4B32-88A5-D8B08E6C9098}" type="presOf" srcId="{4B52F623-9EDD-4639-8F4F-A60159388BAE}" destId="{13583DBC-89D5-4A61-947C-7830DF8C31CC}" srcOrd="0" destOrd="0" presId="urn:microsoft.com/office/officeart/2005/8/layout/vList2"/>
    <dgm:cxn modelId="{F2195909-6276-466B-BCB3-8B54083C6933}" type="presOf" srcId="{AA54ED0A-A7A9-4E1B-9CF6-A7AF3F2D899A}" destId="{DC3E2338-4F7B-49E8-8119-14A26B802010}" srcOrd="0" destOrd="0" presId="urn:microsoft.com/office/officeart/2005/8/layout/vList2"/>
    <dgm:cxn modelId="{2805FFB9-4547-48E0-BAF4-424FECDCCE97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0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m</a:t>
          </a: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9BB7265A-41D2-4BD8-8796-C1971633D021}">
      <dgm:prSet custT="1"/>
      <dgm:spPr/>
      <dgm:t>
        <a:bodyPr/>
        <a:lstStyle/>
        <a:p>
          <a:pPr algn="ctr"/>
          <a:r>
            <a:rPr lang="en-US" sz="6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algn="ctr"/>
          <a:r>
            <a:rPr lang="en-US" sz="3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Kate. </a:t>
          </a:r>
          <a:r>
            <a:rPr lang="en-US" sz="3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a girl. </a:t>
          </a:r>
        </a:p>
        <a:p>
          <a:pPr algn="ctr"/>
          <a:r>
            <a:rPr lang="en-US" sz="3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small. </a:t>
          </a:r>
          <a:r>
            <a:rPr lang="en-US" sz="3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four. </a:t>
          </a:r>
        </a:p>
        <a:p>
          <a:pPr algn="ctr"/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</a:p>
      </dgm:t>
    </dgm:pt>
    <dgm:pt modelId="{450300F7-D86A-45F7-A919-9E0CFCA043C9}" type="parTrans" cxnId="{17D0653A-FB8E-4FC1-9922-947EC54BECCC}">
      <dgm:prSet/>
      <dgm:spPr/>
      <dgm:t>
        <a:bodyPr/>
        <a:lstStyle/>
        <a:p>
          <a:endParaRPr lang="ru-RU"/>
        </a:p>
      </dgm:t>
    </dgm:pt>
    <dgm:pt modelId="{8E332003-BF2A-44D9-83DE-5C66E9BCB53A}" type="sibTrans" cxnId="{17D0653A-FB8E-4FC1-9922-947EC54BECCC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98299" custScaleY="72491" custLinFactNeighborX="456" custLinFactNeighborY="-6736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94505EA7-410F-425B-915A-90C0F894BC4F}" type="pres">
      <dgm:prSet presAssocID="{450300F7-D86A-45F7-A919-9E0CFCA043C9}" presName="Name10" presStyleLbl="parChTrans1D2" presStyleIdx="0" presStyleCnt="1"/>
      <dgm:spPr/>
      <dgm:t>
        <a:bodyPr/>
        <a:lstStyle/>
        <a:p>
          <a:endParaRPr lang="ru-RU"/>
        </a:p>
      </dgm:t>
    </dgm:pt>
    <dgm:pt modelId="{A0762CE7-0839-412B-9F74-EDA1D0FB9623}" type="pres">
      <dgm:prSet presAssocID="{9BB7265A-41D2-4BD8-8796-C1971633D021}" presName="hierRoot2" presStyleCnt="0"/>
      <dgm:spPr/>
    </dgm:pt>
    <dgm:pt modelId="{E06384C6-E0E4-4274-9A7D-38D2F6F987D8}" type="pres">
      <dgm:prSet presAssocID="{9BB7265A-41D2-4BD8-8796-C1971633D021}" presName="composite2" presStyleCnt="0"/>
      <dgm:spPr/>
    </dgm:pt>
    <dgm:pt modelId="{D3E90D8E-A42A-4416-AC64-E74096182B25}" type="pres">
      <dgm:prSet presAssocID="{9BB7265A-41D2-4BD8-8796-C1971633D021}" presName="background2" presStyleLbl="node2" presStyleIdx="0" presStyleCnt="1"/>
      <dgm:spPr/>
    </dgm:pt>
    <dgm:pt modelId="{FF31EB55-993C-4537-B40A-1037EF8FDEBE}" type="pres">
      <dgm:prSet presAssocID="{9BB7265A-41D2-4BD8-8796-C1971633D021}" presName="text2" presStyleLbl="fgAcc2" presStyleIdx="0" presStyleCnt="1" custScaleX="188528" custScaleY="135287" custLinFactNeighborX="2015" custLinFactNeighborY="-2084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1F8D869-1898-406C-9EE0-B8DFB01B92F7}" type="pres">
      <dgm:prSet presAssocID="{9BB7265A-41D2-4BD8-8796-C1971633D021}" presName="hierChild3" presStyleCnt="0"/>
      <dgm:spPr/>
    </dgm:pt>
  </dgm:ptLst>
  <dgm:cxnLst>
    <dgm:cxn modelId="{9802F9D9-3BD3-447E-8686-8F4431A05E22}" type="presOf" srcId="{9BB7265A-41D2-4BD8-8796-C1971633D021}" destId="{FF31EB55-993C-4537-B40A-1037EF8FDEBE}" srcOrd="0" destOrd="0" presId="urn:microsoft.com/office/officeart/2005/8/layout/hierarchy1"/>
    <dgm:cxn modelId="{9DFC5F44-9349-435C-BA51-499F4674B4A4}" type="presOf" srcId="{450300F7-D86A-45F7-A919-9E0CFCA043C9}" destId="{94505EA7-410F-425B-915A-90C0F894BC4F}" srcOrd="0" destOrd="0" presId="urn:microsoft.com/office/officeart/2005/8/layout/hierarchy1"/>
    <dgm:cxn modelId="{9FE63054-47D8-4749-90E3-E4A423BE9BCD}" type="presOf" srcId="{1082FB86-8FE6-4749-8952-D84713C6EBE5}" destId="{2339854B-93F8-44B0-AA3A-0B1BBF47BE05}" srcOrd="0" destOrd="0" presId="urn:microsoft.com/office/officeart/2005/8/layout/hierarchy1"/>
    <dgm:cxn modelId="{17D0653A-FB8E-4FC1-9922-947EC54BECCC}" srcId="{9EF497F3-3426-4260-9AA0-C2C2D9EF8B43}" destId="{9BB7265A-41D2-4BD8-8796-C1971633D021}" srcOrd="0" destOrd="0" parTransId="{450300F7-D86A-45F7-A919-9E0CFCA043C9}" sibTransId="{8E332003-BF2A-44D9-83DE-5C66E9BCB53A}"/>
    <dgm:cxn modelId="{4AA4EE3F-DB26-4021-940F-9FC68F26E696}" type="presOf" srcId="{9EF497F3-3426-4260-9AA0-C2C2D9EF8B43}" destId="{FE415ED9-D810-4305-A0D7-9AD3C9403FB5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7188D6DE-2E78-4C02-8F36-F2463497578F}" type="presParOf" srcId="{2339854B-93F8-44B0-AA3A-0B1BBF47BE05}" destId="{857672AF-E98D-47E4-BEEF-7182C44663DA}" srcOrd="0" destOrd="0" presId="urn:microsoft.com/office/officeart/2005/8/layout/hierarchy1"/>
    <dgm:cxn modelId="{C8CD8C38-E9BB-48D6-B51A-AF66D5D23418}" type="presParOf" srcId="{857672AF-E98D-47E4-BEEF-7182C44663DA}" destId="{65FAC69B-7B5F-4DAC-A113-692343934542}" srcOrd="0" destOrd="0" presId="urn:microsoft.com/office/officeart/2005/8/layout/hierarchy1"/>
    <dgm:cxn modelId="{C923F9F0-A02A-42C2-B817-61AA042B16EC}" type="presParOf" srcId="{65FAC69B-7B5F-4DAC-A113-692343934542}" destId="{E90BDA39-24E6-4659-BEE7-F6EE70F02DE5}" srcOrd="0" destOrd="0" presId="urn:microsoft.com/office/officeart/2005/8/layout/hierarchy1"/>
    <dgm:cxn modelId="{689D1C77-FE62-4780-B404-312957C7E5AB}" type="presParOf" srcId="{65FAC69B-7B5F-4DAC-A113-692343934542}" destId="{FE415ED9-D810-4305-A0D7-9AD3C9403FB5}" srcOrd="1" destOrd="0" presId="urn:microsoft.com/office/officeart/2005/8/layout/hierarchy1"/>
    <dgm:cxn modelId="{134853AD-1CFB-4422-A123-9D70924C7258}" type="presParOf" srcId="{857672AF-E98D-47E4-BEEF-7182C44663DA}" destId="{A37A6F38-9B62-446E-A8F7-1C91B74DC78D}" srcOrd="1" destOrd="0" presId="urn:microsoft.com/office/officeart/2005/8/layout/hierarchy1"/>
    <dgm:cxn modelId="{1EE0569E-18E3-44E6-8719-68F091B20C39}" type="presParOf" srcId="{A37A6F38-9B62-446E-A8F7-1C91B74DC78D}" destId="{94505EA7-410F-425B-915A-90C0F894BC4F}" srcOrd="0" destOrd="0" presId="urn:microsoft.com/office/officeart/2005/8/layout/hierarchy1"/>
    <dgm:cxn modelId="{476B65DE-1D9A-4A65-81AE-59BCF3569318}" type="presParOf" srcId="{A37A6F38-9B62-446E-A8F7-1C91B74DC78D}" destId="{A0762CE7-0839-412B-9F74-EDA1D0FB9623}" srcOrd="1" destOrd="0" presId="urn:microsoft.com/office/officeart/2005/8/layout/hierarchy1"/>
    <dgm:cxn modelId="{4A71AD21-FA0C-4401-BD18-9F6FA3FFBFC5}" type="presParOf" srcId="{A0762CE7-0839-412B-9F74-EDA1D0FB9623}" destId="{E06384C6-E0E4-4274-9A7D-38D2F6F987D8}" srcOrd="0" destOrd="0" presId="urn:microsoft.com/office/officeart/2005/8/layout/hierarchy1"/>
    <dgm:cxn modelId="{EEC8B922-CDD8-498D-B622-3AF009CABB97}" type="presParOf" srcId="{E06384C6-E0E4-4274-9A7D-38D2F6F987D8}" destId="{D3E90D8E-A42A-4416-AC64-E74096182B25}" srcOrd="0" destOrd="0" presId="urn:microsoft.com/office/officeart/2005/8/layout/hierarchy1"/>
    <dgm:cxn modelId="{8B5DBC9A-DAFB-45F6-B2CD-BDF54220A0A6}" type="presParOf" srcId="{E06384C6-E0E4-4274-9A7D-38D2F6F987D8}" destId="{FF31EB55-993C-4537-B40A-1037EF8FDEBE}" srcOrd="1" destOrd="0" presId="urn:microsoft.com/office/officeart/2005/8/layout/hierarchy1"/>
    <dgm:cxn modelId="{D11B0BC1-A979-4447-A2DA-7C715AFC57DD}" type="presParOf" srcId="{A0762CE7-0839-412B-9F74-EDA1D0FB9623}" destId="{41F8D869-1898-406C-9EE0-B8DFB01B92F7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5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They are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EDA22FF8-72B7-46B2-A1B8-BAC776D718A1}" type="presOf" srcId="{AA54ED0A-A7A9-4E1B-9CF6-A7AF3F2D899A}" destId="{DC3E2338-4F7B-49E8-8119-14A26B802010}" srcOrd="0" destOrd="0" presId="urn:microsoft.com/office/officeart/2005/8/layout/vList2"/>
    <dgm:cxn modelId="{5C9D73BC-8BF9-4C5D-AE95-013EA9E2BAFA}" type="presOf" srcId="{4B52F623-9EDD-4639-8F4F-A60159388BAE}" destId="{13583DBC-89D5-4A61-947C-7830DF8C31CC}" srcOrd="0" destOrd="0" presId="urn:microsoft.com/office/officeart/2005/8/layout/vList2"/>
    <dgm:cxn modelId="{73246FAA-C116-493B-B0EE-58F150A254C7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5" minVer="http://schemas.openxmlformats.org/drawingml/2006/diagram"/>
    </a:ext>
  </dgm:extLst>
</dgm:dataModel>
</file>

<file path=ppt/diagrams/data5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They </a:t>
          </a:r>
          <a:r>
            <a:rPr lang="en-US" sz="2800" b="1" u="sng" dirty="0" smtClean="0"/>
            <a:t>are not</a:t>
          </a:r>
          <a:r>
            <a:rPr lang="en-US" sz="2800" b="1" dirty="0" smtClean="0"/>
            <a:t>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F0BF114C-C7DA-448A-B25A-43261860BCAC}" type="presOf" srcId="{4B52F623-9EDD-4639-8F4F-A60159388BAE}" destId="{13583DBC-89D5-4A61-947C-7830DF8C31CC}" srcOrd="0" destOrd="0" presId="urn:microsoft.com/office/officeart/2005/8/layout/vList2"/>
    <dgm:cxn modelId="{B5837C2C-EA31-4AF6-8C85-71738DA593A5}" type="presOf" srcId="{AA54ED0A-A7A9-4E1B-9CF6-A7AF3F2D899A}" destId="{DC3E2338-4F7B-49E8-8119-14A26B802010}" srcOrd="0" destOrd="0" presId="urn:microsoft.com/office/officeart/2005/8/layout/vList2"/>
    <dgm:cxn modelId="{574D0595-CEEC-467B-952D-8A8144A5948A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70" minVer="http://schemas.openxmlformats.org/drawingml/2006/diagram"/>
    </a:ext>
  </dgm:extLst>
</dgm:dataModel>
</file>

<file path=ppt/diagrams/data52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Correct the mistakes.</a:t>
          </a:r>
          <a:endParaRPr lang="ru-RU" sz="3600" b="1" dirty="0">
            <a:solidFill>
              <a:srgbClr val="00206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>
            <a:solidFill>
              <a:srgbClr val="002060"/>
            </a:solidFill>
          </a:endParaRPr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>
            <a:solidFill>
              <a:srgbClr val="002060"/>
            </a:solidFill>
          </a:endParaRPr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 custLinFactNeighborY="-1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DA8F2D40-FE56-4CB8-BC21-089892C014EC}" type="presOf" srcId="{96570C62-DC05-44A6-86B5-43E4F319A635}" destId="{73F9C575-9C73-4BBF-A96E-6D95DF6FC640}" srcOrd="0" destOrd="0" presId="urn:microsoft.com/office/officeart/2005/8/layout/vList2"/>
    <dgm:cxn modelId="{C610A3CA-2CF8-4103-9C89-E5A1D83B76C0}" type="presOf" srcId="{2D12C966-950A-4088-927E-A6A3A2FFBFDC}" destId="{EB7FC6E1-083E-4ECA-99D8-1F2DBD66B6A9}" srcOrd="0" destOrd="0" presId="urn:microsoft.com/office/officeart/2005/8/layout/vList2"/>
    <dgm:cxn modelId="{D1ADA566-6D59-4A32-B0C3-CBD4D0B1167A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5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He not is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B128C7AB-CA15-4DEA-8B90-6AAC41CC0930}" type="presOf" srcId="{4B52F623-9EDD-4639-8F4F-A60159388BAE}" destId="{13583DBC-89D5-4A61-947C-7830DF8C31CC}" srcOrd="0" destOrd="0" presId="urn:microsoft.com/office/officeart/2005/8/layout/vList2"/>
    <dgm:cxn modelId="{0C646D25-EBAF-4A91-AFDC-C658394946F3}" type="presOf" srcId="{AA54ED0A-A7A9-4E1B-9CF6-A7AF3F2D899A}" destId="{DC3E2338-4F7B-49E8-8119-14A26B802010}" srcOrd="0" destOrd="0" presId="urn:microsoft.com/office/officeart/2005/8/layout/vList2"/>
    <dgm:cxn modelId="{DB72ED8B-F7ED-4860-B7E2-5E9F1EC9902A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54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 </a:t>
          </a:r>
          <a:r>
            <a:rPr lang="en-US" sz="2800" b="1" dirty="0" err="1" smtClean="0"/>
            <a:t>amn’t</a:t>
          </a:r>
          <a:r>
            <a:rPr lang="en-US" sz="2800" b="1" dirty="0" smtClean="0"/>
            <a:t>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A0FF007-E7B9-4615-A069-9190297762F3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F49D5294-253C-4AF2-B719-72B1E1D1B46E}" type="presOf" srcId="{AA54ED0A-A7A9-4E1B-9CF6-A7AF3F2D899A}" destId="{DC3E2338-4F7B-49E8-8119-14A26B802010}" srcOrd="0" destOrd="0" presId="urn:microsoft.com/office/officeart/2005/8/layout/vList2"/>
    <dgm:cxn modelId="{E4B04865-F0C5-4428-B8A3-1ED28C146DE6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5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 </a:t>
          </a:r>
          <a:r>
            <a:rPr lang="en-US" sz="2800" b="1" u="sng" dirty="0" smtClean="0"/>
            <a:t>am not</a:t>
          </a:r>
          <a:r>
            <a:rPr lang="en-US" sz="2800" b="1" dirty="0" smtClean="0"/>
            <a:t>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Y="37540" custLinFactNeighborX="4255" custLinFactNeighborY="100000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4A7A223C-2ED3-4A61-895B-C478D382DE4A}" type="presOf" srcId="{AA54ED0A-A7A9-4E1B-9CF6-A7AF3F2D899A}" destId="{DC3E2338-4F7B-49E8-8119-14A26B802010}" srcOrd="0" destOrd="0" presId="urn:microsoft.com/office/officeart/2005/8/layout/vList2"/>
    <dgm:cxn modelId="{B067B07B-485A-45A0-90B7-866287E1FC31}" type="presOf" srcId="{4B52F623-9EDD-4639-8F4F-A60159388BAE}" destId="{13583DBC-89D5-4A61-947C-7830DF8C31CC}" srcOrd="0" destOrd="0" presId="urn:microsoft.com/office/officeart/2005/8/layout/vList2"/>
    <dgm:cxn modelId="{B9FEF18A-354D-47E2-AF92-087AA3F0BC09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5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t </a:t>
          </a:r>
          <a:r>
            <a:rPr lang="en-US" sz="2800" b="1" dirty="0" err="1" smtClean="0"/>
            <a:t>isnot</a:t>
          </a:r>
          <a:r>
            <a:rPr lang="en-US" sz="2800" b="1" dirty="0" smtClean="0"/>
            <a:t> slim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983075B-E26C-4FC0-84C4-2BD30F4CBDAA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EB0D6AE6-AD7A-46CA-84B5-54821A48315D}" type="presOf" srcId="{4B52F623-9EDD-4639-8F4F-A60159388BAE}" destId="{13583DBC-89D5-4A61-947C-7830DF8C31CC}" srcOrd="0" destOrd="0" presId="urn:microsoft.com/office/officeart/2005/8/layout/vList2"/>
    <dgm:cxn modelId="{1A00C32E-6899-4E20-B977-5C79A4C6FC8D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57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t </a:t>
          </a:r>
          <a:r>
            <a:rPr lang="en-US" sz="2800" b="1" u="sng" dirty="0" smtClean="0"/>
            <a:t>isn’t</a:t>
          </a:r>
          <a:r>
            <a:rPr lang="en-US" sz="2800" b="1" dirty="0" smtClean="0"/>
            <a:t> slim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25FDED10-E5DA-4A5C-AFDE-808531FC76A0}" type="presOf" srcId="{AA54ED0A-A7A9-4E1B-9CF6-A7AF3F2D899A}" destId="{DC3E2338-4F7B-49E8-8119-14A26B802010}" srcOrd="0" destOrd="0" presId="urn:microsoft.com/office/officeart/2005/8/layout/vList2"/>
    <dgm:cxn modelId="{84249475-5EDA-4ACB-AD1B-22F0500F96D5}" type="presOf" srcId="{4B52F623-9EDD-4639-8F4F-A60159388BAE}" destId="{13583DBC-89D5-4A61-947C-7830DF8C31CC}" srcOrd="0" destOrd="0" presId="urn:microsoft.com/office/officeart/2005/8/layout/vList2"/>
    <dgm:cxn modelId="{DD558648-B6BD-405B-9A05-3DD59FF15504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58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She </a:t>
          </a:r>
          <a:r>
            <a:rPr lang="en-US" sz="2800" b="1" dirty="0" err="1" smtClean="0"/>
            <a:t>is’not</a:t>
          </a:r>
          <a:r>
            <a:rPr lang="en-US" sz="2800" b="1" dirty="0" smtClean="0"/>
            <a:t>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48E2FBE-B3A3-45FE-822D-1E980B86B235}" type="presOf" srcId="{4B52F623-9EDD-4639-8F4F-A60159388BAE}" destId="{13583DBC-89D5-4A61-947C-7830DF8C31CC}" srcOrd="0" destOrd="0" presId="urn:microsoft.com/office/officeart/2005/8/layout/vList2"/>
    <dgm:cxn modelId="{1345A9B6-BAB6-43F6-9EF4-166FEB962556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C0A397CA-AF58-40D3-89AA-ACEF67E2BDC8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59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She </a:t>
          </a:r>
          <a:r>
            <a:rPr lang="en-US" sz="2800" b="1" u="sng" dirty="0" smtClean="0"/>
            <a:t>isn’t</a:t>
          </a:r>
          <a:r>
            <a:rPr lang="en-US" sz="2800" b="1" dirty="0" smtClean="0"/>
            <a:t>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F0908F9-FA23-4B6A-BECA-2CF43A3B48E5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3C66519E-3CB1-42CD-975B-FBE0B8D22585}" type="presOf" srcId="{AA54ED0A-A7A9-4E1B-9CF6-A7AF3F2D899A}" destId="{DC3E2338-4F7B-49E8-8119-14A26B802010}" srcOrd="0" destOrd="0" presId="urn:microsoft.com/office/officeart/2005/8/layout/vList2"/>
    <dgm:cxn modelId="{1988365E-890B-480E-803D-967E9D7C16B3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Is</a:t>
          </a:r>
          <a:endParaRPr lang="ru-RU" sz="6600" b="1" u="sng" dirty="0">
            <a:solidFill>
              <a:srgbClr val="FF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He</a:t>
          </a:r>
        </a:p>
        <a:p>
          <a:r>
            <a:rPr lang="en-US" sz="2800" b="1" dirty="0" smtClean="0">
              <a:solidFill>
                <a:srgbClr val="C00000"/>
              </a:solidFill>
            </a:rPr>
            <a:t>He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a doctor.</a:t>
          </a:r>
        </a:p>
        <a:p>
          <a:r>
            <a:rPr lang="en-US" sz="2800" b="1" dirty="0" smtClean="0">
              <a:solidFill>
                <a:srgbClr val="C00000"/>
              </a:solidFill>
            </a:rPr>
            <a:t>H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my brother.</a:t>
          </a:r>
        </a:p>
        <a:p>
          <a:r>
            <a:rPr lang="en-US" sz="2800" b="1" dirty="0" smtClean="0">
              <a:solidFill>
                <a:srgbClr val="C00000"/>
              </a:solidFill>
            </a:rPr>
            <a:t>H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young.</a:t>
          </a:r>
          <a:endParaRPr lang="en-US" sz="2800" b="0" dirty="0" smtClean="0">
            <a:solidFill>
              <a:srgbClr val="C00000"/>
            </a:solidFill>
          </a:endParaRP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She</a:t>
          </a:r>
        </a:p>
        <a:p>
          <a:r>
            <a:rPr lang="en-US" sz="2800" b="1" dirty="0" smtClean="0">
              <a:solidFill>
                <a:srgbClr val="C00000"/>
              </a:solidFill>
            </a:rPr>
            <a:t>She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a teacher.</a:t>
          </a:r>
        </a:p>
        <a:p>
          <a:endParaRPr lang="en-US" sz="800" b="0" dirty="0" smtClean="0">
            <a:solidFill>
              <a:schemeClr val="tx1"/>
            </a:solidFill>
          </a:endParaRPr>
        </a:p>
        <a:p>
          <a:r>
            <a:rPr lang="en-US" sz="2800" b="1" dirty="0" smtClean="0">
              <a:solidFill>
                <a:srgbClr val="C00000"/>
              </a:solidFill>
            </a:rPr>
            <a:t>Sh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i="0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my sister.</a:t>
          </a: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It</a:t>
          </a:r>
        </a:p>
        <a:p>
          <a:r>
            <a:rPr lang="en-US" sz="2800" b="1" dirty="0" smtClean="0">
              <a:solidFill>
                <a:srgbClr val="C00000"/>
              </a:solidFill>
            </a:rPr>
            <a:t>It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a cat.</a:t>
          </a:r>
        </a:p>
        <a:p>
          <a:r>
            <a:rPr lang="en-US" sz="2800" b="1" dirty="0" smtClean="0">
              <a:solidFill>
                <a:srgbClr val="C00000"/>
              </a:solidFill>
            </a:rPr>
            <a:t>It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plump.</a:t>
          </a:r>
        </a:p>
        <a:p>
          <a:r>
            <a:rPr lang="en-US" sz="2800" b="1" dirty="0" smtClean="0">
              <a:solidFill>
                <a:srgbClr val="C00000"/>
              </a:solidFill>
            </a:rPr>
            <a:t>It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happy.</a:t>
          </a:r>
        </a:p>
        <a:p>
          <a:endParaRPr lang="en-US" sz="1400" b="0" dirty="0" smtClean="0">
            <a:solidFill>
              <a:schemeClr val="tx1"/>
            </a:solidFill>
          </a:endParaRPr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34685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AE6B6DC2-1F9E-4CFD-B380-3003698438FC}" type="presOf" srcId="{1323325D-30D4-4234-8C32-F0D8DCC1ED8A}" destId="{91CEBC9A-8EA8-49A1-AD73-E157E2E6B42F}" srcOrd="0" destOrd="0" presId="urn:microsoft.com/office/officeart/2005/8/layout/hierarchy1"/>
    <dgm:cxn modelId="{BCE0140B-D902-45F6-841B-1317FE776E73}" type="presOf" srcId="{1082FB86-8FE6-4749-8952-D84713C6EBE5}" destId="{2339854B-93F8-44B0-AA3A-0B1BBF47BE05}" srcOrd="0" destOrd="0" presId="urn:microsoft.com/office/officeart/2005/8/layout/hierarchy1"/>
    <dgm:cxn modelId="{43037581-6A85-4166-AB66-B842BEF59401}" type="presOf" srcId="{795C5933-EF67-42B7-A6D9-5A001A0CC200}" destId="{8F16986A-20BF-4CC6-ACBF-A6E5568F7498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6B5A9781-FA2A-4D57-9467-4A4877960EC5}" type="presOf" srcId="{1EFFFEB2-3EA7-4DF6-A4F1-5F0CBFF8F518}" destId="{085FEB04-415F-4DE1-AABD-130565C53ED0}" srcOrd="0" destOrd="0" presId="urn:microsoft.com/office/officeart/2005/8/layout/hierarchy1"/>
    <dgm:cxn modelId="{FD42BB86-BA33-488D-A20F-D26F59D3FADF}" type="presOf" srcId="{89284321-9837-4A96-8BF8-9E181CE5C2C0}" destId="{631FEE27-82B7-44FA-8759-5F5D7758CAF9}" srcOrd="0" destOrd="0" presId="urn:microsoft.com/office/officeart/2005/8/layout/hierarchy1"/>
    <dgm:cxn modelId="{9D556244-9ACF-4F7C-8BE4-4300A7D209B2}" type="presOf" srcId="{D2D72486-AAD4-450C-8E59-7F61C73E0BD7}" destId="{3BA41D92-E0AA-47BA-BDD6-1F1BBA990E53}" srcOrd="0" destOrd="0" presId="urn:microsoft.com/office/officeart/2005/8/layout/hierarchy1"/>
    <dgm:cxn modelId="{7346B17C-BBB2-4206-9F10-15DE1125EAC8}" type="presOf" srcId="{0FF86A8F-72B7-47EC-BD03-14F46E5BBE66}" destId="{92EA9F0A-E810-468F-A35A-E9FF2CF87B17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8C407AF4-FBEF-4B86-9EF5-4B38231F81F3}" type="presOf" srcId="{9EF497F3-3426-4260-9AA0-C2C2D9EF8B43}" destId="{FE415ED9-D810-4305-A0D7-9AD3C9403FB5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CBA7BE75-A9F9-4EAF-8795-9012F5B461A8}" type="presParOf" srcId="{2339854B-93F8-44B0-AA3A-0B1BBF47BE05}" destId="{857672AF-E98D-47E4-BEEF-7182C44663DA}" srcOrd="0" destOrd="0" presId="urn:microsoft.com/office/officeart/2005/8/layout/hierarchy1"/>
    <dgm:cxn modelId="{8DF3CE5F-6ADD-4395-A786-0C39A32116AE}" type="presParOf" srcId="{857672AF-E98D-47E4-BEEF-7182C44663DA}" destId="{65FAC69B-7B5F-4DAC-A113-692343934542}" srcOrd="0" destOrd="0" presId="urn:microsoft.com/office/officeart/2005/8/layout/hierarchy1"/>
    <dgm:cxn modelId="{68A68F52-2D04-4020-A3AB-F53E16EB2EC3}" type="presParOf" srcId="{65FAC69B-7B5F-4DAC-A113-692343934542}" destId="{E90BDA39-24E6-4659-BEE7-F6EE70F02DE5}" srcOrd="0" destOrd="0" presId="urn:microsoft.com/office/officeart/2005/8/layout/hierarchy1"/>
    <dgm:cxn modelId="{3DE35314-4C1A-45CA-929E-A7060A2F2086}" type="presParOf" srcId="{65FAC69B-7B5F-4DAC-A113-692343934542}" destId="{FE415ED9-D810-4305-A0D7-9AD3C9403FB5}" srcOrd="1" destOrd="0" presId="urn:microsoft.com/office/officeart/2005/8/layout/hierarchy1"/>
    <dgm:cxn modelId="{372B41E0-4C67-4631-87B6-D21D06E65474}" type="presParOf" srcId="{857672AF-E98D-47E4-BEEF-7182C44663DA}" destId="{A37A6F38-9B62-446E-A8F7-1C91B74DC78D}" srcOrd="1" destOrd="0" presId="urn:microsoft.com/office/officeart/2005/8/layout/hierarchy1"/>
    <dgm:cxn modelId="{12D4DAEC-A9AA-48DD-A1F0-93A723AE7B1B}" type="presParOf" srcId="{A37A6F38-9B62-446E-A8F7-1C91B74DC78D}" destId="{085FEB04-415F-4DE1-AABD-130565C53ED0}" srcOrd="0" destOrd="0" presId="urn:microsoft.com/office/officeart/2005/8/layout/hierarchy1"/>
    <dgm:cxn modelId="{DACF4681-2EF0-47E4-946B-403D5D95151E}" type="presParOf" srcId="{A37A6F38-9B62-446E-A8F7-1C91B74DC78D}" destId="{195D3A31-3DA9-47A3-9AE7-243B93BEFA1F}" srcOrd="1" destOrd="0" presId="urn:microsoft.com/office/officeart/2005/8/layout/hierarchy1"/>
    <dgm:cxn modelId="{0B6F5F2C-EDB1-475D-BD87-9304BE2E26FC}" type="presParOf" srcId="{195D3A31-3DA9-47A3-9AE7-243B93BEFA1F}" destId="{022DF595-D71A-4DE6-A41B-F7BDC264D918}" srcOrd="0" destOrd="0" presId="urn:microsoft.com/office/officeart/2005/8/layout/hierarchy1"/>
    <dgm:cxn modelId="{0CEFDD54-17E8-4B41-AEF0-6E707377B78F}" type="presParOf" srcId="{022DF595-D71A-4DE6-A41B-F7BDC264D918}" destId="{8BA927DD-1013-4678-9187-7ED61423452A}" srcOrd="0" destOrd="0" presId="urn:microsoft.com/office/officeart/2005/8/layout/hierarchy1"/>
    <dgm:cxn modelId="{BDE4D434-1F2B-420A-BF65-D18735B42DE6}" type="presParOf" srcId="{022DF595-D71A-4DE6-A41B-F7BDC264D918}" destId="{92EA9F0A-E810-468F-A35A-E9FF2CF87B17}" srcOrd="1" destOrd="0" presId="urn:microsoft.com/office/officeart/2005/8/layout/hierarchy1"/>
    <dgm:cxn modelId="{831F6C50-834B-4CEB-94A8-E0FCE00362FA}" type="presParOf" srcId="{195D3A31-3DA9-47A3-9AE7-243B93BEFA1F}" destId="{025B3468-F61D-44F7-A524-3298B42D503F}" srcOrd="1" destOrd="0" presId="urn:microsoft.com/office/officeart/2005/8/layout/hierarchy1"/>
    <dgm:cxn modelId="{2C4675FE-9D08-4E5B-825A-198FBBFDA8F3}" type="presParOf" srcId="{A37A6F38-9B62-446E-A8F7-1C91B74DC78D}" destId="{3BA41D92-E0AA-47BA-BDD6-1F1BBA990E53}" srcOrd="2" destOrd="0" presId="urn:microsoft.com/office/officeart/2005/8/layout/hierarchy1"/>
    <dgm:cxn modelId="{6C489ECF-D5B5-4DB1-92F5-83721415A531}" type="presParOf" srcId="{A37A6F38-9B62-446E-A8F7-1C91B74DC78D}" destId="{B3CA3075-0F0D-4AAB-8451-1035C9F5A29B}" srcOrd="3" destOrd="0" presId="urn:microsoft.com/office/officeart/2005/8/layout/hierarchy1"/>
    <dgm:cxn modelId="{F746F80D-905A-4CFD-8770-FF1D2EA25BE9}" type="presParOf" srcId="{B3CA3075-0F0D-4AAB-8451-1035C9F5A29B}" destId="{0661FD34-5AFB-4272-9080-F0F7262DE335}" srcOrd="0" destOrd="0" presId="urn:microsoft.com/office/officeart/2005/8/layout/hierarchy1"/>
    <dgm:cxn modelId="{DD485C72-8A60-4756-90F6-B98D2BA1A396}" type="presParOf" srcId="{0661FD34-5AFB-4272-9080-F0F7262DE335}" destId="{55035FB5-07BC-4E58-B39A-29E6C019E9BA}" srcOrd="0" destOrd="0" presId="urn:microsoft.com/office/officeart/2005/8/layout/hierarchy1"/>
    <dgm:cxn modelId="{EB052223-11D8-4472-8AFC-A124E17789CC}" type="presParOf" srcId="{0661FD34-5AFB-4272-9080-F0F7262DE335}" destId="{631FEE27-82B7-44FA-8759-5F5D7758CAF9}" srcOrd="1" destOrd="0" presId="urn:microsoft.com/office/officeart/2005/8/layout/hierarchy1"/>
    <dgm:cxn modelId="{0FFCD292-D3A0-48C8-B500-2BDBF7C5DA44}" type="presParOf" srcId="{B3CA3075-0F0D-4AAB-8451-1035C9F5A29B}" destId="{C849D450-ED17-4137-930D-D27CE58CD8C1}" srcOrd="1" destOrd="0" presId="urn:microsoft.com/office/officeart/2005/8/layout/hierarchy1"/>
    <dgm:cxn modelId="{087C8618-E050-4220-A784-958B031A2133}" type="presParOf" srcId="{A37A6F38-9B62-446E-A8F7-1C91B74DC78D}" destId="{8F16986A-20BF-4CC6-ACBF-A6E5568F7498}" srcOrd="4" destOrd="0" presId="urn:microsoft.com/office/officeart/2005/8/layout/hierarchy1"/>
    <dgm:cxn modelId="{E6E93013-8C94-485C-8329-A0578EEC3816}" type="presParOf" srcId="{A37A6F38-9B62-446E-A8F7-1C91B74DC78D}" destId="{C4528015-7F1A-474B-A63F-7D8204E09E52}" srcOrd="5" destOrd="0" presId="urn:microsoft.com/office/officeart/2005/8/layout/hierarchy1"/>
    <dgm:cxn modelId="{04C36206-D2EE-4F13-8455-3F3DD1614B2A}" type="presParOf" srcId="{C4528015-7F1A-474B-A63F-7D8204E09E52}" destId="{24BA23A8-167C-4CF2-9FBB-1B07CDAF4062}" srcOrd="0" destOrd="0" presId="urn:microsoft.com/office/officeart/2005/8/layout/hierarchy1"/>
    <dgm:cxn modelId="{FAB3B8A3-A206-4B5C-8F50-0FF262FA125C}" type="presParOf" srcId="{24BA23A8-167C-4CF2-9FBB-1B07CDAF4062}" destId="{28C98B7F-2492-4698-A3CE-C05B0DBF7826}" srcOrd="0" destOrd="0" presId="urn:microsoft.com/office/officeart/2005/8/layout/hierarchy1"/>
    <dgm:cxn modelId="{F958F0EC-AE9D-4D34-9F90-C30C0EC0C9DB}" type="presParOf" srcId="{24BA23A8-167C-4CF2-9FBB-1B07CDAF4062}" destId="{91CEBC9A-8EA8-49A1-AD73-E157E2E6B42F}" srcOrd="1" destOrd="0" presId="urn:microsoft.com/office/officeart/2005/8/layout/hierarchy1"/>
    <dgm:cxn modelId="{6B064EB3-B839-4955-9AC1-FE9FF90E1908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6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He </a:t>
          </a:r>
          <a:r>
            <a:rPr lang="en-US" sz="2800" b="1" u="sng" dirty="0" smtClean="0"/>
            <a:t>is not</a:t>
          </a:r>
          <a:r>
            <a:rPr lang="en-US" sz="2800" b="1" dirty="0" smtClean="0"/>
            <a:t>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2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465B2EB-CCE2-4FEA-B33D-867B279DE44C}" type="presOf" srcId="{4B52F623-9EDD-4639-8F4F-A60159388BAE}" destId="{13583DBC-89D5-4A61-947C-7830DF8C31CC}" srcOrd="0" destOrd="0" presId="urn:microsoft.com/office/officeart/2005/8/layout/vList2"/>
    <dgm:cxn modelId="{EF7CB91C-1103-43B4-AFE9-38ABD1347EE0}" type="presOf" srcId="{AA54ED0A-A7A9-4E1B-9CF6-A7AF3F2D899A}" destId="{DC3E2338-4F7B-49E8-8119-14A26B802010}" srcOrd="0" destOrd="0" presId="urn:microsoft.com/office/officeart/2005/8/layout/vList2"/>
    <dgm:cxn modelId="{55B4CCE5-1A4C-4C59-95CB-5D0C217537D7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6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You not plump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B1CEC11B-9F70-4A57-A165-BC8205AB1F01}" type="presOf" srcId="{AA54ED0A-A7A9-4E1B-9CF6-A7AF3F2D899A}" destId="{DC3E2338-4F7B-49E8-8119-14A26B802010}" srcOrd="0" destOrd="0" presId="urn:microsoft.com/office/officeart/2005/8/layout/vList2"/>
    <dgm:cxn modelId="{EFA5029A-FC1E-4DFA-9069-3BB413EB062E}" type="presOf" srcId="{4B52F623-9EDD-4639-8F4F-A60159388BAE}" destId="{13583DBC-89D5-4A61-947C-7830DF8C31CC}" srcOrd="0" destOrd="0" presId="urn:microsoft.com/office/officeart/2005/8/layout/vList2"/>
    <dgm:cxn modelId="{B077ADDF-4DD1-4147-9FD6-779539A4C663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62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You </a:t>
          </a:r>
          <a:r>
            <a:rPr lang="en-US" sz="2800" b="1" u="sng" dirty="0" smtClean="0"/>
            <a:t>are not</a:t>
          </a:r>
          <a:r>
            <a:rPr lang="en-US" sz="2800" b="1" dirty="0" smtClean="0"/>
            <a:t> plump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E656A82F-6176-4B40-B986-99770856C6E2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6D74BA9-F6AA-4526-BE73-CC130AA4F066}" type="presOf" srcId="{4B52F623-9EDD-4639-8F4F-A60159388BAE}" destId="{13583DBC-89D5-4A61-947C-7830DF8C31CC}" srcOrd="0" destOrd="0" presId="urn:microsoft.com/office/officeart/2005/8/layout/vList2"/>
    <dgm:cxn modelId="{171DBFE0-435F-45E1-935E-ACD6EF06DF8C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6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We </a:t>
          </a:r>
          <a:r>
            <a:rPr lang="en-US" sz="2800" b="1" dirty="0" err="1" smtClean="0"/>
            <a:t>arn’t</a:t>
          </a:r>
          <a:r>
            <a:rPr lang="en-US" sz="2800" b="1" dirty="0" smtClean="0"/>
            <a:t> young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AF4BD6A9-1AD1-4DCD-BDE5-96654647006F}" type="presOf" srcId="{4B52F623-9EDD-4639-8F4F-A60159388BAE}" destId="{13583DBC-89D5-4A61-947C-7830DF8C31CC}" srcOrd="0" destOrd="0" presId="urn:microsoft.com/office/officeart/2005/8/layout/vList2"/>
    <dgm:cxn modelId="{E21AC130-4DA4-401D-967F-370617DD4537}" type="presOf" srcId="{AA54ED0A-A7A9-4E1B-9CF6-A7AF3F2D899A}" destId="{DC3E2338-4F7B-49E8-8119-14A26B802010}" srcOrd="0" destOrd="0" presId="urn:microsoft.com/office/officeart/2005/8/layout/vList2"/>
    <dgm:cxn modelId="{00AA7BCD-BCA4-4739-9A0D-0A73E18B761F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0" minVer="http://schemas.openxmlformats.org/drawingml/2006/diagram"/>
    </a:ext>
  </dgm:extLst>
</dgm:dataModel>
</file>

<file path=ppt/diagrams/data64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We </a:t>
          </a:r>
          <a:r>
            <a:rPr lang="en-US" sz="2800" b="1" u="sng" dirty="0" smtClean="0"/>
            <a:t>aren’t</a:t>
          </a:r>
          <a:r>
            <a:rPr lang="en-US" sz="2800" b="1" dirty="0" smtClean="0"/>
            <a:t> young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0967AC61-74C3-494E-B4BE-C3CE98F4C151}" type="presOf" srcId="{4B52F623-9EDD-4639-8F4F-A60159388BAE}" destId="{13583DBC-89D5-4A61-947C-7830DF8C31CC}" srcOrd="0" destOrd="0" presId="urn:microsoft.com/office/officeart/2005/8/layout/vList2"/>
    <dgm:cxn modelId="{E89064B9-DBDB-4434-BA5A-12536D97B031}" type="presOf" srcId="{AA54ED0A-A7A9-4E1B-9CF6-A7AF3F2D899A}" destId="{DC3E2338-4F7B-49E8-8119-14A26B802010}" srcOrd="0" destOrd="0" presId="urn:microsoft.com/office/officeart/2005/8/layout/vList2"/>
    <dgm:cxn modelId="{F3BFEEA7-0F75-4E0B-948B-6A17BCF5C73E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5" minVer="http://schemas.openxmlformats.org/drawingml/2006/diagram"/>
    </a:ext>
  </dgm:extLst>
</dgm:dataModel>
</file>

<file path=ppt/diagrams/data6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They are aren’t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3173456-14B4-4792-B2BD-DDAC6ACB9DE0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D7972D4F-99FF-4BAB-B47F-429D17400121}" type="presOf" srcId="{AA54ED0A-A7A9-4E1B-9CF6-A7AF3F2D899A}" destId="{DC3E2338-4F7B-49E8-8119-14A26B802010}" srcOrd="0" destOrd="0" presId="urn:microsoft.com/office/officeart/2005/8/layout/vList2"/>
    <dgm:cxn modelId="{7BF5ED3B-051B-451E-BE56-6842A0247BFB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70" minVer="http://schemas.openxmlformats.org/drawingml/2006/diagram"/>
    </a:ext>
  </dgm:extLst>
</dgm:dataModel>
</file>

<file path=ppt/diagrams/data6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They </a:t>
          </a:r>
          <a:r>
            <a:rPr lang="en-US" sz="2800" b="1" u="sng" dirty="0" smtClean="0"/>
            <a:t>aren’t</a:t>
          </a:r>
          <a:r>
            <a:rPr lang="en-US" sz="2800" b="1" dirty="0" smtClean="0"/>
            <a:t>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84C63CE-431F-4D64-827A-94DD311518A6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69DD0E40-D3E0-43EB-B5A0-A98B65F23663}" type="presOf" srcId="{AA54ED0A-A7A9-4E1B-9CF6-A7AF3F2D899A}" destId="{DC3E2338-4F7B-49E8-8119-14A26B802010}" srcOrd="0" destOrd="0" presId="urn:microsoft.com/office/officeart/2005/8/layout/vList2"/>
    <dgm:cxn modelId="{D875410D-53A4-4482-9FD6-17EEA2DBD1F1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75" minVer="http://schemas.openxmlformats.org/drawingml/2006/diagram"/>
    </a:ext>
  </dgm:extLst>
</dgm:dataModel>
</file>

<file path=ppt/diagrams/data67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5600" b="1" u="sng" dirty="0" smtClean="0">
              <a:solidFill>
                <a:srgbClr val="0070C0"/>
              </a:solidFill>
            </a:rPr>
            <a:t>To be …?</a:t>
          </a: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4800" b="1" dirty="0" smtClean="0">
              <a:solidFill>
                <a:srgbClr val="FF0000"/>
              </a:solidFill>
            </a:rPr>
            <a:t>Am …?</a:t>
          </a:r>
          <a:endParaRPr lang="en-US" sz="4800" b="1" i="1" dirty="0" smtClean="0">
            <a:solidFill>
              <a:srgbClr val="C00000"/>
            </a:solidFill>
          </a:endParaRPr>
        </a:p>
        <a:p>
          <a:r>
            <a:rPr lang="en-US" sz="3600" b="1" dirty="0" smtClean="0">
              <a:solidFill>
                <a:srgbClr val="FF0000"/>
              </a:solidFill>
            </a:rPr>
            <a:t>Am </a:t>
          </a:r>
          <a:r>
            <a:rPr lang="en-US" sz="3600" dirty="0" smtClean="0"/>
            <a:t>I eight?</a:t>
          </a:r>
          <a:endParaRPr lang="ru-RU" sz="3600" dirty="0"/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Is …?</a:t>
          </a:r>
          <a:endParaRPr lang="en-US" sz="5200" b="1" i="1" dirty="0" smtClean="0">
            <a:solidFill>
              <a:srgbClr val="C00000"/>
            </a:solidFill>
          </a:endParaRPr>
        </a:p>
        <a:p>
          <a:r>
            <a:rPr lang="en-US" sz="3600" b="1" dirty="0" smtClean="0">
              <a:solidFill>
                <a:srgbClr val="FF0000"/>
              </a:solidFill>
            </a:rPr>
            <a:t>Is</a:t>
          </a:r>
          <a:r>
            <a:rPr lang="en-US" sz="3600" dirty="0" smtClean="0"/>
            <a:t> he tall?</a:t>
          </a:r>
        </a:p>
        <a:p>
          <a:endParaRPr lang="ru-RU" sz="2000" dirty="0"/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Are …?</a:t>
          </a:r>
          <a:endParaRPr lang="en-US" sz="5200" b="1" i="1" dirty="0" smtClean="0">
            <a:solidFill>
              <a:srgbClr val="C00000"/>
            </a:solidFill>
          </a:endParaRPr>
        </a:p>
        <a:p>
          <a:r>
            <a:rPr lang="en-US" sz="3600" b="1" dirty="0" smtClean="0">
              <a:solidFill>
                <a:srgbClr val="FF0000"/>
              </a:solidFill>
            </a:rPr>
            <a:t>Are</a:t>
          </a:r>
          <a:r>
            <a:rPr lang="en-US" sz="3600" dirty="0" smtClean="0"/>
            <a:t> we happy?</a:t>
          </a:r>
          <a:endParaRPr lang="ru-RU" sz="3600" dirty="0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211113" custScaleY="15078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161364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19295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8BAD81AB-E7D6-410D-996B-BE435CD301C6}" type="presOf" srcId="{795C5933-EF67-42B7-A6D9-5A001A0CC200}" destId="{8F16986A-20BF-4CC6-ACBF-A6E5568F7498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6BB1D377-A6EA-4DA6-80DD-368B4F096796}" type="presOf" srcId="{1323325D-30D4-4234-8C32-F0D8DCC1ED8A}" destId="{91CEBC9A-8EA8-49A1-AD73-E157E2E6B42F}" srcOrd="0" destOrd="0" presId="urn:microsoft.com/office/officeart/2005/8/layout/hierarchy1"/>
    <dgm:cxn modelId="{2AFCCF19-539F-48EC-836A-64FDBE33B17F}" type="presOf" srcId="{89284321-9837-4A96-8BF8-9E181CE5C2C0}" destId="{631FEE27-82B7-44FA-8759-5F5D7758CAF9}" srcOrd="0" destOrd="0" presId="urn:microsoft.com/office/officeart/2005/8/layout/hierarchy1"/>
    <dgm:cxn modelId="{5EF91DE7-523D-44E7-9D02-03A3079679D8}" type="presOf" srcId="{1EFFFEB2-3EA7-4DF6-A4F1-5F0CBFF8F518}" destId="{085FEB04-415F-4DE1-AABD-130565C53ED0}" srcOrd="0" destOrd="0" presId="urn:microsoft.com/office/officeart/2005/8/layout/hierarchy1"/>
    <dgm:cxn modelId="{1752E0CF-DBEE-419F-8199-49719F198D45}" type="presOf" srcId="{0FF86A8F-72B7-47EC-BD03-14F46E5BBE66}" destId="{92EA9F0A-E810-468F-A35A-E9FF2CF87B17}" srcOrd="0" destOrd="0" presId="urn:microsoft.com/office/officeart/2005/8/layout/hierarchy1"/>
    <dgm:cxn modelId="{811B9FF4-C135-4E9A-B3AC-1EC546C877B7}" type="presOf" srcId="{9EF497F3-3426-4260-9AA0-C2C2D9EF8B43}" destId="{FE415ED9-D810-4305-A0D7-9AD3C9403FB5}" srcOrd="0" destOrd="0" presId="urn:microsoft.com/office/officeart/2005/8/layout/hierarchy1"/>
    <dgm:cxn modelId="{5820A67E-5F15-4213-8B6A-4EF83F5BD3F7}" type="presOf" srcId="{1082FB86-8FE6-4749-8952-D84713C6EBE5}" destId="{2339854B-93F8-44B0-AA3A-0B1BBF47BE05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C6380EE2-064A-4D5F-AB51-2DE541F562C5}" type="presOf" srcId="{D2D72486-AAD4-450C-8E59-7F61C73E0BD7}" destId="{3BA41D92-E0AA-47BA-BDD6-1F1BBA990E53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E33E126E-9E65-4ADE-A8C1-423C902E9199}" type="presParOf" srcId="{2339854B-93F8-44B0-AA3A-0B1BBF47BE05}" destId="{857672AF-E98D-47E4-BEEF-7182C44663DA}" srcOrd="0" destOrd="0" presId="urn:microsoft.com/office/officeart/2005/8/layout/hierarchy1"/>
    <dgm:cxn modelId="{E3BD9C51-CA16-4F57-AF08-E596A19FF462}" type="presParOf" srcId="{857672AF-E98D-47E4-BEEF-7182C44663DA}" destId="{65FAC69B-7B5F-4DAC-A113-692343934542}" srcOrd="0" destOrd="0" presId="urn:microsoft.com/office/officeart/2005/8/layout/hierarchy1"/>
    <dgm:cxn modelId="{D85DC980-6FFC-40D5-8A81-E648B3CD144F}" type="presParOf" srcId="{65FAC69B-7B5F-4DAC-A113-692343934542}" destId="{E90BDA39-24E6-4659-BEE7-F6EE70F02DE5}" srcOrd="0" destOrd="0" presId="urn:microsoft.com/office/officeart/2005/8/layout/hierarchy1"/>
    <dgm:cxn modelId="{D581EB54-31D6-4AF1-9961-D5CDACC30C9E}" type="presParOf" srcId="{65FAC69B-7B5F-4DAC-A113-692343934542}" destId="{FE415ED9-D810-4305-A0D7-9AD3C9403FB5}" srcOrd="1" destOrd="0" presId="urn:microsoft.com/office/officeart/2005/8/layout/hierarchy1"/>
    <dgm:cxn modelId="{167B3317-411F-49C0-8040-56F9413C966F}" type="presParOf" srcId="{857672AF-E98D-47E4-BEEF-7182C44663DA}" destId="{A37A6F38-9B62-446E-A8F7-1C91B74DC78D}" srcOrd="1" destOrd="0" presId="urn:microsoft.com/office/officeart/2005/8/layout/hierarchy1"/>
    <dgm:cxn modelId="{F3B303B9-8863-4F4F-89F8-A841839A126B}" type="presParOf" srcId="{A37A6F38-9B62-446E-A8F7-1C91B74DC78D}" destId="{085FEB04-415F-4DE1-AABD-130565C53ED0}" srcOrd="0" destOrd="0" presId="urn:microsoft.com/office/officeart/2005/8/layout/hierarchy1"/>
    <dgm:cxn modelId="{CD372F3F-39BE-4F2F-BC3F-BDF0F626D766}" type="presParOf" srcId="{A37A6F38-9B62-446E-A8F7-1C91B74DC78D}" destId="{195D3A31-3DA9-47A3-9AE7-243B93BEFA1F}" srcOrd="1" destOrd="0" presId="urn:microsoft.com/office/officeart/2005/8/layout/hierarchy1"/>
    <dgm:cxn modelId="{763DB446-B701-4990-B014-7569B8B0A379}" type="presParOf" srcId="{195D3A31-3DA9-47A3-9AE7-243B93BEFA1F}" destId="{022DF595-D71A-4DE6-A41B-F7BDC264D918}" srcOrd="0" destOrd="0" presId="urn:microsoft.com/office/officeart/2005/8/layout/hierarchy1"/>
    <dgm:cxn modelId="{B814BACB-1BC4-4F96-BEDE-1763F2CC94AB}" type="presParOf" srcId="{022DF595-D71A-4DE6-A41B-F7BDC264D918}" destId="{8BA927DD-1013-4678-9187-7ED61423452A}" srcOrd="0" destOrd="0" presId="urn:microsoft.com/office/officeart/2005/8/layout/hierarchy1"/>
    <dgm:cxn modelId="{86716070-039B-4CC5-9716-34CFFB47CC74}" type="presParOf" srcId="{022DF595-D71A-4DE6-A41B-F7BDC264D918}" destId="{92EA9F0A-E810-468F-A35A-E9FF2CF87B17}" srcOrd="1" destOrd="0" presId="urn:microsoft.com/office/officeart/2005/8/layout/hierarchy1"/>
    <dgm:cxn modelId="{A5C763B0-0B8D-4CA1-AA12-87F3F012CD19}" type="presParOf" srcId="{195D3A31-3DA9-47A3-9AE7-243B93BEFA1F}" destId="{025B3468-F61D-44F7-A524-3298B42D503F}" srcOrd="1" destOrd="0" presId="urn:microsoft.com/office/officeart/2005/8/layout/hierarchy1"/>
    <dgm:cxn modelId="{9EE4368A-EEE5-43DB-9DAF-9D42EC085F2A}" type="presParOf" srcId="{A37A6F38-9B62-446E-A8F7-1C91B74DC78D}" destId="{3BA41D92-E0AA-47BA-BDD6-1F1BBA990E53}" srcOrd="2" destOrd="0" presId="urn:microsoft.com/office/officeart/2005/8/layout/hierarchy1"/>
    <dgm:cxn modelId="{AE1BCEB7-2154-4868-A35C-77CA5AFEDC8F}" type="presParOf" srcId="{A37A6F38-9B62-446E-A8F7-1C91B74DC78D}" destId="{B3CA3075-0F0D-4AAB-8451-1035C9F5A29B}" srcOrd="3" destOrd="0" presId="urn:microsoft.com/office/officeart/2005/8/layout/hierarchy1"/>
    <dgm:cxn modelId="{CB54FDFD-FB5E-4938-8A68-6C63E4444AAD}" type="presParOf" srcId="{B3CA3075-0F0D-4AAB-8451-1035C9F5A29B}" destId="{0661FD34-5AFB-4272-9080-F0F7262DE335}" srcOrd="0" destOrd="0" presId="urn:microsoft.com/office/officeart/2005/8/layout/hierarchy1"/>
    <dgm:cxn modelId="{801F199D-9138-4D8E-B344-570C49F76D0F}" type="presParOf" srcId="{0661FD34-5AFB-4272-9080-F0F7262DE335}" destId="{55035FB5-07BC-4E58-B39A-29E6C019E9BA}" srcOrd="0" destOrd="0" presId="urn:microsoft.com/office/officeart/2005/8/layout/hierarchy1"/>
    <dgm:cxn modelId="{881593A0-FAB5-4934-B013-FA7FDF371AA1}" type="presParOf" srcId="{0661FD34-5AFB-4272-9080-F0F7262DE335}" destId="{631FEE27-82B7-44FA-8759-5F5D7758CAF9}" srcOrd="1" destOrd="0" presId="urn:microsoft.com/office/officeart/2005/8/layout/hierarchy1"/>
    <dgm:cxn modelId="{FE71478E-5DA4-4B73-BEA9-6D92B97F0039}" type="presParOf" srcId="{B3CA3075-0F0D-4AAB-8451-1035C9F5A29B}" destId="{C849D450-ED17-4137-930D-D27CE58CD8C1}" srcOrd="1" destOrd="0" presId="urn:microsoft.com/office/officeart/2005/8/layout/hierarchy1"/>
    <dgm:cxn modelId="{C232E46B-2B88-40D8-B696-446381549C16}" type="presParOf" srcId="{A37A6F38-9B62-446E-A8F7-1C91B74DC78D}" destId="{8F16986A-20BF-4CC6-ACBF-A6E5568F7498}" srcOrd="4" destOrd="0" presId="urn:microsoft.com/office/officeart/2005/8/layout/hierarchy1"/>
    <dgm:cxn modelId="{E7B1354D-72D3-4805-B83D-8CE2E99168BE}" type="presParOf" srcId="{A37A6F38-9B62-446E-A8F7-1C91B74DC78D}" destId="{C4528015-7F1A-474B-A63F-7D8204E09E52}" srcOrd="5" destOrd="0" presId="urn:microsoft.com/office/officeart/2005/8/layout/hierarchy1"/>
    <dgm:cxn modelId="{7046D8DE-DBB8-428F-87E5-728F73FF5314}" type="presParOf" srcId="{C4528015-7F1A-474B-A63F-7D8204E09E52}" destId="{24BA23A8-167C-4CF2-9FBB-1B07CDAF4062}" srcOrd="0" destOrd="0" presId="urn:microsoft.com/office/officeart/2005/8/layout/hierarchy1"/>
    <dgm:cxn modelId="{C3E7492F-E370-4AC7-AC88-36745DB8B32D}" type="presParOf" srcId="{24BA23A8-167C-4CF2-9FBB-1B07CDAF4062}" destId="{28C98B7F-2492-4698-A3CE-C05B0DBF7826}" srcOrd="0" destOrd="0" presId="urn:microsoft.com/office/officeart/2005/8/layout/hierarchy1"/>
    <dgm:cxn modelId="{F39599A7-4FDD-4A23-8295-1CA58A9A3C84}" type="presParOf" srcId="{24BA23A8-167C-4CF2-9FBB-1B07CDAF4062}" destId="{91CEBC9A-8EA8-49A1-AD73-E157E2E6B42F}" srcOrd="1" destOrd="0" presId="urn:microsoft.com/office/officeart/2005/8/layout/hierarchy1"/>
    <dgm:cxn modelId="{1349DAB6-03FB-4E01-80C5-D4AF403AB3DB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68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m</a:t>
          </a:r>
          <a:r>
            <a:rPr lang="en-US" sz="6600" b="1" u="none" dirty="0" smtClean="0">
              <a:solidFill>
                <a:srgbClr val="FF0000"/>
              </a:solidFill>
            </a:rPr>
            <a:t> …?</a:t>
          </a:r>
          <a:endParaRPr lang="en-US" sz="6600" b="1" i="1" u="sng" dirty="0" smtClean="0">
            <a:solidFill>
              <a:srgbClr val="C0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9BB7265A-41D2-4BD8-8796-C1971633D021}">
      <dgm:prSet custT="1"/>
      <dgm:spPr/>
      <dgm:t>
        <a:bodyPr/>
        <a:lstStyle/>
        <a:p>
          <a:pPr algn="ctr"/>
          <a:r>
            <a:rPr lang="en-US" sz="6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algn="l"/>
          <a:r>
            <a:rPr lang="en-US" sz="36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I an actor?         </a:t>
          </a:r>
          <a:r>
            <a:rPr lang="en-US" sz="36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Yes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, I </a:t>
          </a:r>
          <a:r>
            <a:rPr lang="en-US" sz="36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. </a:t>
          </a:r>
        </a:p>
        <a:p>
          <a:pPr algn="l"/>
          <a:r>
            <a:rPr lang="en-US" sz="36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I a doctor?         </a:t>
          </a:r>
          <a:r>
            <a:rPr lang="en-US" sz="36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No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, I </a:t>
          </a:r>
          <a:r>
            <a:rPr lang="en-US" sz="36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 not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. </a:t>
          </a:r>
        </a:p>
      </dgm:t>
    </dgm:pt>
    <dgm:pt modelId="{450300F7-D86A-45F7-A919-9E0CFCA043C9}" type="parTrans" cxnId="{17D0653A-FB8E-4FC1-9922-947EC54BECCC}">
      <dgm:prSet/>
      <dgm:spPr/>
      <dgm:t>
        <a:bodyPr/>
        <a:lstStyle/>
        <a:p>
          <a:endParaRPr lang="ru-RU"/>
        </a:p>
      </dgm:t>
    </dgm:pt>
    <dgm:pt modelId="{8E332003-BF2A-44D9-83DE-5C66E9BCB53A}" type="sibTrans" cxnId="{17D0653A-FB8E-4FC1-9922-947EC54BECCC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98299" custScaleY="72491" custLinFactNeighborX="456" custLinFactNeighborY="-6736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94505EA7-410F-425B-915A-90C0F894BC4F}" type="pres">
      <dgm:prSet presAssocID="{450300F7-D86A-45F7-A919-9E0CFCA043C9}" presName="Name10" presStyleLbl="parChTrans1D2" presStyleIdx="0" presStyleCnt="1"/>
      <dgm:spPr/>
      <dgm:t>
        <a:bodyPr/>
        <a:lstStyle/>
        <a:p>
          <a:endParaRPr lang="ru-RU"/>
        </a:p>
      </dgm:t>
    </dgm:pt>
    <dgm:pt modelId="{A0762CE7-0839-412B-9F74-EDA1D0FB9623}" type="pres">
      <dgm:prSet presAssocID="{9BB7265A-41D2-4BD8-8796-C1971633D021}" presName="hierRoot2" presStyleCnt="0"/>
      <dgm:spPr/>
    </dgm:pt>
    <dgm:pt modelId="{E06384C6-E0E4-4274-9A7D-38D2F6F987D8}" type="pres">
      <dgm:prSet presAssocID="{9BB7265A-41D2-4BD8-8796-C1971633D021}" presName="composite2" presStyleCnt="0"/>
      <dgm:spPr/>
    </dgm:pt>
    <dgm:pt modelId="{D3E90D8E-A42A-4416-AC64-E74096182B25}" type="pres">
      <dgm:prSet presAssocID="{9BB7265A-41D2-4BD8-8796-C1971633D021}" presName="background2" presStyleLbl="node2" presStyleIdx="0" presStyleCnt="1"/>
      <dgm:spPr/>
    </dgm:pt>
    <dgm:pt modelId="{FF31EB55-993C-4537-B40A-1037EF8FDEBE}" type="pres">
      <dgm:prSet presAssocID="{9BB7265A-41D2-4BD8-8796-C1971633D021}" presName="text2" presStyleLbl="fgAcc2" presStyleIdx="0" presStyleCnt="1" custScaleX="188528" custScaleY="135287" custLinFactNeighborX="2015" custLinFactNeighborY="-2084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1F8D869-1898-406C-9EE0-B8DFB01B92F7}" type="pres">
      <dgm:prSet presAssocID="{9BB7265A-41D2-4BD8-8796-C1971633D021}" presName="hierChild3" presStyleCnt="0"/>
      <dgm:spPr/>
    </dgm:pt>
  </dgm:ptLst>
  <dgm:cxnLst>
    <dgm:cxn modelId="{0DB09FEF-40F9-48B3-9C68-8D0E7B97B3B7}" type="presOf" srcId="{9EF497F3-3426-4260-9AA0-C2C2D9EF8B43}" destId="{FE415ED9-D810-4305-A0D7-9AD3C9403FB5}" srcOrd="0" destOrd="0" presId="urn:microsoft.com/office/officeart/2005/8/layout/hierarchy1"/>
    <dgm:cxn modelId="{1C7A0441-9BA7-471C-990B-9470A30BB262}" type="presOf" srcId="{1082FB86-8FE6-4749-8952-D84713C6EBE5}" destId="{2339854B-93F8-44B0-AA3A-0B1BBF47BE05}" srcOrd="0" destOrd="0" presId="urn:microsoft.com/office/officeart/2005/8/layout/hierarchy1"/>
    <dgm:cxn modelId="{17D0653A-FB8E-4FC1-9922-947EC54BECCC}" srcId="{9EF497F3-3426-4260-9AA0-C2C2D9EF8B43}" destId="{9BB7265A-41D2-4BD8-8796-C1971633D021}" srcOrd="0" destOrd="0" parTransId="{450300F7-D86A-45F7-A919-9E0CFCA043C9}" sibTransId="{8E332003-BF2A-44D9-83DE-5C66E9BCB53A}"/>
    <dgm:cxn modelId="{0279BDF7-7907-4F5C-9917-CA1B567D93E1}" type="presOf" srcId="{450300F7-D86A-45F7-A919-9E0CFCA043C9}" destId="{94505EA7-410F-425B-915A-90C0F894BC4F}" srcOrd="0" destOrd="0" presId="urn:microsoft.com/office/officeart/2005/8/layout/hierarchy1"/>
    <dgm:cxn modelId="{BF8835E1-8680-4918-A1F9-2BF2CA169761}" type="presOf" srcId="{9BB7265A-41D2-4BD8-8796-C1971633D021}" destId="{FF31EB55-993C-4537-B40A-1037EF8FDEBE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4CB98C7A-BC44-4731-83DF-8A10FB9A32AE}" type="presParOf" srcId="{2339854B-93F8-44B0-AA3A-0B1BBF47BE05}" destId="{857672AF-E98D-47E4-BEEF-7182C44663DA}" srcOrd="0" destOrd="0" presId="urn:microsoft.com/office/officeart/2005/8/layout/hierarchy1"/>
    <dgm:cxn modelId="{1A9FCA45-640D-495A-B650-8CBED2EBA9C0}" type="presParOf" srcId="{857672AF-E98D-47E4-BEEF-7182C44663DA}" destId="{65FAC69B-7B5F-4DAC-A113-692343934542}" srcOrd="0" destOrd="0" presId="urn:microsoft.com/office/officeart/2005/8/layout/hierarchy1"/>
    <dgm:cxn modelId="{9ABA1E2C-FAF6-4074-815C-398263D186A6}" type="presParOf" srcId="{65FAC69B-7B5F-4DAC-A113-692343934542}" destId="{E90BDA39-24E6-4659-BEE7-F6EE70F02DE5}" srcOrd="0" destOrd="0" presId="urn:microsoft.com/office/officeart/2005/8/layout/hierarchy1"/>
    <dgm:cxn modelId="{C54F0EC3-50F4-4FB9-8CDD-96399C4E0718}" type="presParOf" srcId="{65FAC69B-7B5F-4DAC-A113-692343934542}" destId="{FE415ED9-D810-4305-A0D7-9AD3C9403FB5}" srcOrd="1" destOrd="0" presId="urn:microsoft.com/office/officeart/2005/8/layout/hierarchy1"/>
    <dgm:cxn modelId="{27C2984C-BCDE-4FF7-BA0F-CB2322653BD3}" type="presParOf" srcId="{857672AF-E98D-47E4-BEEF-7182C44663DA}" destId="{A37A6F38-9B62-446E-A8F7-1C91B74DC78D}" srcOrd="1" destOrd="0" presId="urn:microsoft.com/office/officeart/2005/8/layout/hierarchy1"/>
    <dgm:cxn modelId="{2AFDBC54-BD8C-40BD-9E1D-C91BBD35B9A5}" type="presParOf" srcId="{A37A6F38-9B62-446E-A8F7-1C91B74DC78D}" destId="{94505EA7-410F-425B-915A-90C0F894BC4F}" srcOrd="0" destOrd="0" presId="urn:microsoft.com/office/officeart/2005/8/layout/hierarchy1"/>
    <dgm:cxn modelId="{5EED24A2-C8BD-4E7A-BFD2-DA503B078C4D}" type="presParOf" srcId="{A37A6F38-9B62-446E-A8F7-1C91B74DC78D}" destId="{A0762CE7-0839-412B-9F74-EDA1D0FB9623}" srcOrd="1" destOrd="0" presId="urn:microsoft.com/office/officeart/2005/8/layout/hierarchy1"/>
    <dgm:cxn modelId="{F4D937D9-F515-4C49-A645-4DDABA61F4E0}" type="presParOf" srcId="{A0762CE7-0839-412B-9F74-EDA1D0FB9623}" destId="{E06384C6-E0E4-4274-9A7D-38D2F6F987D8}" srcOrd="0" destOrd="0" presId="urn:microsoft.com/office/officeart/2005/8/layout/hierarchy1"/>
    <dgm:cxn modelId="{3AA2F3C5-FC18-4A05-8B07-280305AB6B8C}" type="presParOf" srcId="{E06384C6-E0E4-4274-9A7D-38D2F6F987D8}" destId="{D3E90D8E-A42A-4416-AC64-E74096182B25}" srcOrd="0" destOrd="0" presId="urn:microsoft.com/office/officeart/2005/8/layout/hierarchy1"/>
    <dgm:cxn modelId="{8DF582A7-416F-418D-84CB-15E88B12FEB6}" type="presParOf" srcId="{E06384C6-E0E4-4274-9A7D-38D2F6F987D8}" destId="{FF31EB55-993C-4537-B40A-1037EF8FDEBE}" srcOrd="1" destOrd="0" presId="urn:microsoft.com/office/officeart/2005/8/layout/hierarchy1"/>
    <dgm:cxn modelId="{03E1CB01-B391-4E6C-92BD-00F7D4069E84}" type="presParOf" srcId="{A0762CE7-0839-412B-9F74-EDA1D0FB9623}" destId="{41F8D869-1898-406C-9EE0-B8DFB01B92F7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69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Is</a:t>
          </a:r>
          <a:r>
            <a:rPr lang="en-US" sz="6600" b="1" u="none" dirty="0" smtClean="0">
              <a:solidFill>
                <a:srgbClr val="FF0000"/>
              </a:solidFill>
            </a:rPr>
            <a:t> …?</a:t>
          </a:r>
          <a:endParaRPr lang="ru-RU" sz="6600" b="1" i="1" u="sng" dirty="0">
            <a:solidFill>
              <a:srgbClr val="C0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He</a:t>
          </a:r>
        </a:p>
        <a:p>
          <a:r>
            <a:rPr lang="en-US" sz="2800" b="1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he a doctor?</a:t>
          </a: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he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./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he </a:t>
          </a:r>
          <a:r>
            <a:rPr lang="en-US" sz="2800" b="1" u="sng" dirty="0" smtClean="0">
              <a:solidFill>
                <a:srgbClr val="FF0000"/>
              </a:solidFill>
            </a:rPr>
            <a:t>isn’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  <a:endParaRPr lang="en-US" sz="500" b="0" dirty="0" smtClean="0">
            <a:solidFill>
              <a:schemeClr val="tx1"/>
            </a:solidFill>
          </a:endParaRP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She</a:t>
          </a:r>
        </a:p>
        <a:p>
          <a:r>
            <a:rPr lang="en-US" sz="2800" b="1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she a teacher?</a:t>
          </a: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she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./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she </a:t>
          </a:r>
          <a:r>
            <a:rPr lang="en-US" sz="2800" b="1" u="sng" dirty="0" smtClean="0">
              <a:solidFill>
                <a:srgbClr val="FF0000"/>
              </a:solidFill>
            </a:rPr>
            <a:t>isn’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It</a:t>
          </a:r>
        </a:p>
        <a:p>
          <a:r>
            <a:rPr lang="en-US" sz="2800" b="1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it a monkey?       </a:t>
          </a:r>
          <a:endParaRPr lang="en-US" sz="100" b="0" dirty="0" smtClean="0">
            <a:solidFill>
              <a:schemeClr val="tx1"/>
            </a:solidFill>
          </a:endParaRP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it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./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it </a:t>
          </a:r>
          <a:r>
            <a:rPr lang="en-US" sz="2800" b="1" i="0" u="sng" dirty="0" smtClean="0">
              <a:solidFill>
                <a:srgbClr val="FF0000"/>
              </a:solidFill>
            </a:rPr>
            <a:t>isn’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  <a:endParaRPr lang="en-US" sz="1600" b="0" dirty="0" smtClean="0">
            <a:solidFill>
              <a:schemeClr val="tx1"/>
            </a:solidFill>
          </a:endParaRPr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34685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7D36A1AB-2076-431F-B795-110F83AA81AC}" type="presOf" srcId="{D2D72486-AAD4-450C-8E59-7F61C73E0BD7}" destId="{3BA41D92-E0AA-47BA-BDD6-1F1BBA990E53}" srcOrd="0" destOrd="0" presId="urn:microsoft.com/office/officeart/2005/8/layout/hierarchy1"/>
    <dgm:cxn modelId="{6424DE24-20B9-46A6-8510-0D64CD540F30}" type="presOf" srcId="{9EF497F3-3426-4260-9AA0-C2C2D9EF8B43}" destId="{FE415ED9-D810-4305-A0D7-9AD3C9403FB5}" srcOrd="0" destOrd="0" presId="urn:microsoft.com/office/officeart/2005/8/layout/hierarchy1"/>
    <dgm:cxn modelId="{36CBC03B-11ED-4157-A4BF-BB5DA2AC41BE}" type="presOf" srcId="{1EFFFEB2-3EA7-4DF6-A4F1-5F0CBFF8F518}" destId="{085FEB04-415F-4DE1-AABD-130565C53ED0}" srcOrd="0" destOrd="0" presId="urn:microsoft.com/office/officeart/2005/8/layout/hierarchy1"/>
    <dgm:cxn modelId="{9067F276-65E5-44E8-8E8E-61A6A4C8C7F9}" type="presOf" srcId="{1323325D-30D4-4234-8C32-F0D8DCC1ED8A}" destId="{91CEBC9A-8EA8-49A1-AD73-E157E2E6B42F}" srcOrd="0" destOrd="0" presId="urn:microsoft.com/office/officeart/2005/8/layout/hierarchy1"/>
    <dgm:cxn modelId="{C6B4D188-4634-4B77-9CE4-FFFA6340C709}" type="presOf" srcId="{0FF86A8F-72B7-47EC-BD03-14F46E5BBE66}" destId="{92EA9F0A-E810-468F-A35A-E9FF2CF87B17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465C9D35-2866-4DA2-9428-CE0BB4CF7AF8}" type="presOf" srcId="{795C5933-EF67-42B7-A6D9-5A001A0CC200}" destId="{8F16986A-20BF-4CC6-ACBF-A6E5568F7498}" srcOrd="0" destOrd="0" presId="urn:microsoft.com/office/officeart/2005/8/layout/hierarchy1"/>
    <dgm:cxn modelId="{9C6A3DFA-15C8-4035-BAF1-5126CDDBF7C9}" type="presOf" srcId="{1082FB86-8FE6-4749-8952-D84713C6EBE5}" destId="{2339854B-93F8-44B0-AA3A-0B1BBF47BE05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B12A7610-DD89-45B8-9DE6-12B5358EF158}" type="presOf" srcId="{89284321-9837-4A96-8BF8-9E181CE5C2C0}" destId="{631FEE27-82B7-44FA-8759-5F5D7758CAF9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EFD3088D-6745-402C-8A6E-C1C8A661832E}" type="presParOf" srcId="{2339854B-93F8-44B0-AA3A-0B1BBF47BE05}" destId="{857672AF-E98D-47E4-BEEF-7182C44663DA}" srcOrd="0" destOrd="0" presId="urn:microsoft.com/office/officeart/2005/8/layout/hierarchy1"/>
    <dgm:cxn modelId="{B7498398-F470-4D08-8FF7-7FF16A2A7F88}" type="presParOf" srcId="{857672AF-E98D-47E4-BEEF-7182C44663DA}" destId="{65FAC69B-7B5F-4DAC-A113-692343934542}" srcOrd="0" destOrd="0" presId="urn:microsoft.com/office/officeart/2005/8/layout/hierarchy1"/>
    <dgm:cxn modelId="{25F1BEEC-27A3-48A3-A1F1-68E30101830C}" type="presParOf" srcId="{65FAC69B-7B5F-4DAC-A113-692343934542}" destId="{E90BDA39-24E6-4659-BEE7-F6EE70F02DE5}" srcOrd="0" destOrd="0" presId="urn:microsoft.com/office/officeart/2005/8/layout/hierarchy1"/>
    <dgm:cxn modelId="{C6C90D6C-44CF-4356-908B-767DAFF129D4}" type="presParOf" srcId="{65FAC69B-7B5F-4DAC-A113-692343934542}" destId="{FE415ED9-D810-4305-A0D7-9AD3C9403FB5}" srcOrd="1" destOrd="0" presId="urn:microsoft.com/office/officeart/2005/8/layout/hierarchy1"/>
    <dgm:cxn modelId="{4B26DCBF-8872-48D3-A2A6-EC5FD04A3965}" type="presParOf" srcId="{857672AF-E98D-47E4-BEEF-7182C44663DA}" destId="{A37A6F38-9B62-446E-A8F7-1C91B74DC78D}" srcOrd="1" destOrd="0" presId="urn:microsoft.com/office/officeart/2005/8/layout/hierarchy1"/>
    <dgm:cxn modelId="{731A83D5-AAC3-48DC-BDD8-CA0255F5E7AC}" type="presParOf" srcId="{A37A6F38-9B62-446E-A8F7-1C91B74DC78D}" destId="{085FEB04-415F-4DE1-AABD-130565C53ED0}" srcOrd="0" destOrd="0" presId="urn:microsoft.com/office/officeart/2005/8/layout/hierarchy1"/>
    <dgm:cxn modelId="{0FC2CF27-7415-4F1D-9F55-967655292182}" type="presParOf" srcId="{A37A6F38-9B62-446E-A8F7-1C91B74DC78D}" destId="{195D3A31-3DA9-47A3-9AE7-243B93BEFA1F}" srcOrd="1" destOrd="0" presId="urn:microsoft.com/office/officeart/2005/8/layout/hierarchy1"/>
    <dgm:cxn modelId="{9F471669-A0D1-4E6A-B5CD-A7DE4556FCA8}" type="presParOf" srcId="{195D3A31-3DA9-47A3-9AE7-243B93BEFA1F}" destId="{022DF595-D71A-4DE6-A41B-F7BDC264D918}" srcOrd="0" destOrd="0" presId="urn:microsoft.com/office/officeart/2005/8/layout/hierarchy1"/>
    <dgm:cxn modelId="{4C294CE7-ECD0-413B-8441-CDC52AA12025}" type="presParOf" srcId="{022DF595-D71A-4DE6-A41B-F7BDC264D918}" destId="{8BA927DD-1013-4678-9187-7ED61423452A}" srcOrd="0" destOrd="0" presId="urn:microsoft.com/office/officeart/2005/8/layout/hierarchy1"/>
    <dgm:cxn modelId="{C50F9382-3D3A-4239-B318-4D3601409653}" type="presParOf" srcId="{022DF595-D71A-4DE6-A41B-F7BDC264D918}" destId="{92EA9F0A-E810-468F-A35A-E9FF2CF87B17}" srcOrd="1" destOrd="0" presId="urn:microsoft.com/office/officeart/2005/8/layout/hierarchy1"/>
    <dgm:cxn modelId="{D36B0A94-8632-40CE-B994-BA4262A87ACD}" type="presParOf" srcId="{195D3A31-3DA9-47A3-9AE7-243B93BEFA1F}" destId="{025B3468-F61D-44F7-A524-3298B42D503F}" srcOrd="1" destOrd="0" presId="urn:microsoft.com/office/officeart/2005/8/layout/hierarchy1"/>
    <dgm:cxn modelId="{F784FEAC-AAC6-4208-A4DF-C7974CE4CD22}" type="presParOf" srcId="{A37A6F38-9B62-446E-A8F7-1C91B74DC78D}" destId="{3BA41D92-E0AA-47BA-BDD6-1F1BBA990E53}" srcOrd="2" destOrd="0" presId="urn:microsoft.com/office/officeart/2005/8/layout/hierarchy1"/>
    <dgm:cxn modelId="{ACBBA995-B136-45EB-B532-B579806F0777}" type="presParOf" srcId="{A37A6F38-9B62-446E-A8F7-1C91B74DC78D}" destId="{B3CA3075-0F0D-4AAB-8451-1035C9F5A29B}" srcOrd="3" destOrd="0" presId="urn:microsoft.com/office/officeart/2005/8/layout/hierarchy1"/>
    <dgm:cxn modelId="{69337B24-6B72-420A-A507-5162E61724BB}" type="presParOf" srcId="{B3CA3075-0F0D-4AAB-8451-1035C9F5A29B}" destId="{0661FD34-5AFB-4272-9080-F0F7262DE335}" srcOrd="0" destOrd="0" presId="urn:microsoft.com/office/officeart/2005/8/layout/hierarchy1"/>
    <dgm:cxn modelId="{0A604908-F7EB-4991-B435-3AEF60810581}" type="presParOf" srcId="{0661FD34-5AFB-4272-9080-F0F7262DE335}" destId="{55035FB5-07BC-4E58-B39A-29E6C019E9BA}" srcOrd="0" destOrd="0" presId="urn:microsoft.com/office/officeart/2005/8/layout/hierarchy1"/>
    <dgm:cxn modelId="{42A48A2A-863C-426C-A9AB-FF1BB0F01C8A}" type="presParOf" srcId="{0661FD34-5AFB-4272-9080-F0F7262DE335}" destId="{631FEE27-82B7-44FA-8759-5F5D7758CAF9}" srcOrd="1" destOrd="0" presId="urn:microsoft.com/office/officeart/2005/8/layout/hierarchy1"/>
    <dgm:cxn modelId="{F47401BF-5D2A-48E4-8CE4-382329E352BB}" type="presParOf" srcId="{B3CA3075-0F0D-4AAB-8451-1035C9F5A29B}" destId="{C849D450-ED17-4137-930D-D27CE58CD8C1}" srcOrd="1" destOrd="0" presId="urn:microsoft.com/office/officeart/2005/8/layout/hierarchy1"/>
    <dgm:cxn modelId="{99D9746F-1C59-4D55-8E10-FDEDB5C7AC90}" type="presParOf" srcId="{A37A6F38-9B62-446E-A8F7-1C91B74DC78D}" destId="{8F16986A-20BF-4CC6-ACBF-A6E5568F7498}" srcOrd="4" destOrd="0" presId="urn:microsoft.com/office/officeart/2005/8/layout/hierarchy1"/>
    <dgm:cxn modelId="{73F79815-DAFF-4935-95BB-3CCD160F0AB2}" type="presParOf" srcId="{A37A6F38-9B62-446E-A8F7-1C91B74DC78D}" destId="{C4528015-7F1A-474B-A63F-7D8204E09E52}" srcOrd="5" destOrd="0" presId="urn:microsoft.com/office/officeart/2005/8/layout/hierarchy1"/>
    <dgm:cxn modelId="{B0E62F9F-0E34-4956-AF2B-4B395D221391}" type="presParOf" srcId="{C4528015-7F1A-474B-A63F-7D8204E09E52}" destId="{24BA23A8-167C-4CF2-9FBB-1B07CDAF4062}" srcOrd="0" destOrd="0" presId="urn:microsoft.com/office/officeart/2005/8/layout/hierarchy1"/>
    <dgm:cxn modelId="{3E74BC12-E915-47E6-A213-E6F900F31362}" type="presParOf" srcId="{24BA23A8-167C-4CF2-9FBB-1B07CDAF4062}" destId="{28C98B7F-2492-4698-A3CE-C05B0DBF7826}" srcOrd="0" destOrd="0" presId="urn:microsoft.com/office/officeart/2005/8/layout/hierarchy1"/>
    <dgm:cxn modelId="{5528FCBA-5F6F-468F-B839-875179851C34}" type="presParOf" srcId="{24BA23A8-167C-4CF2-9FBB-1B07CDAF4062}" destId="{91CEBC9A-8EA8-49A1-AD73-E157E2E6B42F}" srcOrd="1" destOrd="0" presId="urn:microsoft.com/office/officeart/2005/8/layout/hierarchy1"/>
    <dgm:cxn modelId="{74007789-744F-421B-A382-D1CF36D7463D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re</a:t>
          </a:r>
          <a:endParaRPr lang="ru-RU" sz="6600" b="1" u="sng" dirty="0">
            <a:solidFill>
              <a:srgbClr val="FF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You</a:t>
          </a:r>
          <a:endParaRPr lang="en-US" sz="2800" b="1" dirty="0" smtClean="0">
            <a:solidFill>
              <a:srgbClr val="C00000"/>
            </a:solidFill>
          </a:endParaRPr>
        </a:p>
        <a:p>
          <a:r>
            <a:rPr lang="en-US" sz="2800" b="1" dirty="0" smtClean="0">
              <a:solidFill>
                <a:srgbClr val="C00000"/>
              </a:solidFill>
            </a:rPr>
            <a:t>You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u="none" dirty="0" smtClean="0">
              <a:solidFill>
                <a:srgbClr val="FF0000"/>
              </a:solidFill>
            </a:rPr>
            <a:t>           </a:t>
          </a:r>
          <a:r>
            <a:rPr lang="en-US" sz="2800" b="0" dirty="0" smtClean="0">
              <a:solidFill>
                <a:schemeClr val="tx1"/>
              </a:solidFill>
            </a:rPr>
            <a:t> friends.</a:t>
          </a:r>
        </a:p>
        <a:p>
          <a:r>
            <a:rPr lang="en-US" sz="2800" b="1" dirty="0" smtClean="0">
              <a:solidFill>
                <a:srgbClr val="C00000"/>
              </a:solidFill>
            </a:rPr>
            <a:t>You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kind.</a:t>
          </a:r>
        </a:p>
        <a:p>
          <a:r>
            <a:rPr lang="en-US" sz="2800" b="1" dirty="0" smtClean="0">
              <a:solidFill>
                <a:srgbClr val="C00000"/>
              </a:solidFill>
            </a:rPr>
            <a:t>You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smart.</a:t>
          </a:r>
          <a:endParaRPr lang="en-US" sz="5200" b="0" dirty="0" smtClean="0">
            <a:solidFill>
              <a:schemeClr val="tx1"/>
            </a:solidFill>
          </a:endParaRP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We</a:t>
          </a:r>
        </a:p>
        <a:p>
          <a:r>
            <a:rPr lang="en-US" sz="2800" b="1" dirty="0" smtClean="0">
              <a:solidFill>
                <a:srgbClr val="C00000"/>
              </a:solidFill>
            </a:rPr>
            <a:t>W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boys.</a:t>
          </a:r>
        </a:p>
        <a:p>
          <a:r>
            <a:rPr lang="en-US" sz="2800" b="1" dirty="0" smtClean="0">
              <a:solidFill>
                <a:srgbClr val="C00000"/>
              </a:solidFill>
            </a:rPr>
            <a:t>W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kind.</a:t>
          </a:r>
        </a:p>
        <a:p>
          <a:r>
            <a:rPr lang="en-US" sz="2800" b="1" dirty="0" smtClean="0">
              <a:solidFill>
                <a:srgbClr val="C00000"/>
              </a:solidFill>
            </a:rPr>
            <a:t>W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smart.</a:t>
          </a: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They</a:t>
          </a:r>
        </a:p>
        <a:p>
          <a:r>
            <a:rPr lang="en-US" sz="2800" b="1" dirty="0" smtClean="0">
              <a:solidFill>
                <a:srgbClr val="C00000"/>
              </a:solidFill>
            </a:rPr>
            <a:t>They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strong.</a:t>
          </a:r>
        </a:p>
        <a:p>
          <a:r>
            <a:rPr lang="en-US" sz="2800" b="1" dirty="0" smtClean="0">
              <a:solidFill>
                <a:srgbClr val="C00000"/>
              </a:solidFill>
            </a:rPr>
            <a:t>They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clever.</a:t>
          </a:r>
        </a:p>
        <a:p>
          <a:endParaRPr lang="en-US" sz="2800" b="0" dirty="0" smtClean="0">
            <a:solidFill>
              <a:schemeClr val="tx1"/>
            </a:solidFill>
          </a:endParaRPr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34685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717CE772-5887-4B68-B4E2-42E75D585A4C}" type="presOf" srcId="{795C5933-EF67-42B7-A6D9-5A001A0CC200}" destId="{8F16986A-20BF-4CC6-ACBF-A6E5568F7498}" srcOrd="0" destOrd="0" presId="urn:microsoft.com/office/officeart/2005/8/layout/hierarchy1"/>
    <dgm:cxn modelId="{CEC56403-397E-49AA-973E-26E7349B6809}" type="presOf" srcId="{89284321-9837-4A96-8BF8-9E181CE5C2C0}" destId="{631FEE27-82B7-44FA-8759-5F5D7758CAF9}" srcOrd="0" destOrd="0" presId="urn:microsoft.com/office/officeart/2005/8/layout/hierarchy1"/>
    <dgm:cxn modelId="{2C75584E-87CF-45DC-833A-01CD16F439AE}" type="presOf" srcId="{1082FB86-8FE6-4749-8952-D84713C6EBE5}" destId="{2339854B-93F8-44B0-AA3A-0B1BBF47BE05}" srcOrd="0" destOrd="0" presId="urn:microsoft.com/office/officeart/2005/8/layout/hierarchy1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CF18C174-2A14-44D3-A089-2470F01E2C64}" type="presOf" srcId="{1EFFFEB2-3EA7-4DF6-A4F1-5F0CBFF8F518}" destId="{085FEB04-415F-4DE1-AABD-130565C53ED0}" srcOrd="0" destOrd="0" presId="urn:microsoft.com/office/officeart/2005/8/layout/hierarchy1"/>
    <dgm:cxn modelId="{30A999FD-75B5-4197-97FE-A32F6C485357}" type="presOf" srcId="{9EF497F3-3426-4260-9AA0-C2C2D9EF8B43}" destId="{FE415ED9-D810-4305-A0D7-9AD3C9403FB5}" srcOrd="0" destOrd="0" presId="urn:microsoft.com/office/officeart/2005/8/layout/hierarchy1"/>
    <dgm:cxn modelId="{E99A5CD3-0CF0-4858-8310-D5ECD10B0473}" type="presOf" srcId="{0FF86A8F-72B7-47EC-BD03-14F46E5BBE66}" destId="{92EA9F0A-E810-468F-A35A-E9FF2CF87B17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968E02C8-A94F-43A1-8FDC-142841F142D5}" type="presOf" srcId="{1323325D-30D4-4234-8C32-F0D8DCC1ED8A}" destId="{91CEBC9A-8EA8-49A1-AD73-E157E2E6B42F}" srcOrd="0" destOrd="0" presId="urn:microsoft.com/office/officeart/2005/8/layout/hierarchy1"/>
    <dgm:cxn modelId="{62CFD2F2-AD5C-484A-A0C2-C4D1B7C70F31}" type="presOf" srcId="{D2D72486-AAD4-450C-8E59-7F61C73E0BD7}" destId="{3BA41D92-E0AA-47BA-BDD6-1F1BBA990E53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1965DE55-85A8-4375-8121-D2FCA2AC057F}" type="presParOf" srcId="{2339854B-93F8-44B0-AA3A-0B1BBF47BE05}" destId="{857672AF-E98D-47E4-BEEF-7182C44663DA}" srcOrd="0" destOrd="0" presId="urn:microsoft.com/office/officeart/2005/8/layout/hierarchy1"/>
    <dgm:cxn modelId="{45CAD21F-E12B-4959-81CF-96B593357A27}" type="presParOf" srcId="{857672AF-E98D-47E4-BEEF-7182C44663DA}" destId="{65FAC69B-7B5F-4DAC-A113-692343934542}" srcOrd="0" destOrd="0" presId="urn:microsoft.com/office/officeart/2005/8/layout/hierarchy1"/>
    <dgm:cxn modelId="{2D6D1CC8-5714-4149-83C1-3904C3C76725}" type="presParOf" srcId="{65FAC69B-7B5F-4DAC-A113-692343934542}" destId="{E90BDA39-24E6-4659-BEE7-F6EE70F02DE5}" srcOrd="0" destOrd="0" presId="urn:microsoft.com/office/officeart/2005/8/layout/hierarchy1"/>
    <dgm:cxn modelId="{2AE4152B-2450-46E2-A180-1BE5BD7F985E}" type="presParOf" srcId="{65FAC69B-7B5F-4DAC-A113-692343934542}" destId="{FE415ED9-D810-4305-A0D7-9AD3C9403FB5}" srcOrd="1" destOrd="0" presId="urn:microsoft.com/office/officeart/2005/8/layout/hierarchy1"/>
    <dgm:cxn modelId="{28777774-6604-4DCA-BE5D-B0B28CD1B786}" type="presParOf" srcId="{857672AF-E98D-47E4-BEEF-7182C44663DA}" destId="{A37A6F38-9B62-446E-A8F7-1C91B74DC78D}" srcOrd="1" destOrd="0" presId="urn:microsoft.com/office/officeart/2005/8/layout/hierarchy1"/>
    <dgm:cxn modelId="{FC8E7FAC-4F47-4FD3-8115-AC3A801EAB69}" type="presParOf" srcId="{A37A6F38-9B62-446E-A8F7-1C91B74DC78D}" destId="{085FEB04-415F-4DE1-AABD-130565C53ED0}" srcOrd="0" destOrd="0" presId="urn:microsoft.com/office/officeart/2005/8/layout/hierarchy1"/>
    <dgm:cxn modelId="{23FD35AE-E732-403C-9692-FFDE28F20A56}" type="presParOf" srcId="{A37A6F38-9B62-446E-A8F7-1C91B74DC78D}" destId="{195D3A31-3DA9-47A3-9AE7-243B93BEFA1F}" srcOrd="1" destOrd="0" presId="urn:microsoft.com/office/officeart/2005/8/layout/hierarchy1"/>
    <dgm:cxn modelId="{8CFE0F9B-3492-4331-8363-DA1C4E26CD4D}" type="presParOf" srcId="{195D3A31-3DA9-47A3-9AE7-243B93BEFA1F}" destId="{022DF595-D71A-4DE6-A41B-F7BDC264D918}" srcOrd="0" destOrd="0" presId="urn:microsoft.com/office/officeart/2005/8/layout/hierarchy1"/>
    <dgm:cxn modelId="{DAC6CC06-2C71-45D9-9E5E-D3EDA5178436}" type="presParOf" srcId="{022DF595-D71A-4DE6-A41B-F7BDC264D918}" destId="{8BA927DD-1013-4678-9187-7ED61423452A}" srcOrd="0" destOrd="0" presId="urn:microsoft.com/office/officeart/2005/8/layout/hierarchy1"/>
    <dgm:cxn modelId="{F0D2D022-465E-4849-B471-EFFCA464D309}" type="presParOf" srcId="{022DF595-D71A-4DE6-A41B-F7BDC264D918}" destId="{92EA9F0A-E810-468F-A35A-E9FF2CF87B17}" srcOrd="1" destOrd="0" presId="urn:microsoft.com/office/officeart/2005/8/layout/hierarchy1"/>
    <dgm:cxn modelId="{3C96091D-8857-471A-B895-81E4AEFAACE8}" type="presParOf" srcId="{195D3A31-3DA9-47A3-9AE7-243B93BEFA1F}" destId="{025B3468-F61D-44F7-A524-3298B42D503F}" srcOrd="1" destOrd="0" presId="urn:microsoft.com/office/officeart/2005/8/layout/hierarchy1"/>
    <dgm:cxn modelId="{1BC2DB82-41B2-48AB-B7A0-E300621FF05E}" type="presParOf" srcId="{A37A6F38-9B62-446E-A8F7-1C91B74DC78D}" destId="{3BA41D92-E0AA-47BA-BDD6-1F1BBA990E53}" srcOrd="2" destOrd="0" presId="urn:microsoft.com/office/officeart/2005/8/layout/hierarchy1"/>
    <dgm:cxn modelId="{4D015113-3AA6-4988-A1B6-7708734FBCD6}" type="presParOf" srcId="{A37A6F38-9B62-446E-A8F7-1C91B74DC78D}" destId="{B3CA3075-0F0D-4AAB-8451-1035C9F5A29B}" srcOrd="3" destOrd="0" presId="urn:microsoft.com/office/officeart/2005/8/layout/hierarchy1"/>
    <dgm:cxn modelId="{E0040BD5-144F-401B-9B18-27355BD2A1F2}" type="presParOf" srcId="{B3CA3075-0F0D-4AAB-8451-1035C9F5A29B}" destId="{0661FD34-5AFB-4272-9080-F0F7262DE335}" srcOrd="0" destOrd="0" presId="urn:microsoft.com/office/officeart/2005/8/layout/hierarchy1"/>
    <dgm:cxn modelId="{F41B1968-B27E-48D3-948A-8934555965DD}" type="presParOf" srcId="{0661FD34-5AFB-4272-9080-F0F7262DE335}" destId="{55035FB5-07BC-4E58-B39A-29E6C019E9BA}" srcOrd="0" destOrd="0" presId="urn:microsoft.com/office/officeart/2005/8/layout/hierarchy1"/>
    <dgm:cxn modelId="{E924A0C9-2579-400C-B702-154E0485A866}" type="presParOf" srcId="{0661FD34-5AFB-4272-9080-F0F7262DE335}" destId="{631FEE27-82B7-44FA-8759-5F5D7758CAF9}" srcOrd="1" destOrd="0" presId="urn:microsoft.com/office/officeart/2005/8/layout/hierarchy1"/>
    <dgm:cxn modelId="{7842521A-6CFE-403A-9076-A5BFCC446CD8}" type="presParOf" srcId="{B3CA3075-0F0D-4AAB-8451-1035C9F5A29B}" destId="{C849D450-ED17-4137-930D-D27CE58CD8C1}" srcOrd="1" destOrd="0" presId="urn:microsoft.com/office/officeart/2005/8/layout/hierarchy1"/>
    <dgm:cxn modelId="{A6095E21-3F95-4549-9500-0E4979A4B18A}" type="presParOf" srcId="{A37A6F38-9B62-446E-A8F7-1C91B74DC78D}" destId="{8F16986A-20BF-4CC6-ACBF-A6E5568F7498}" srcOrd="4" destOrd="0" presId="urn:microsoft.com/office/officeart/2005/8/layout/hierarchy1"/>
    <dgm:cxn modelId="{C0887A17-C785-48F0-9FD3-279FF7638A76}" type="presParOf" srcId="{A37A6F38-9B62-446E-A8F7-1C91B74DC78D}" destId="{C4528015-7F1A-474B-A63F-7D8204E09E52}" srcOrd="5" destOrd="0" presId="urn:microsoft.com/office/officeart/2005/8/layout/hierarchy1"/>
    <dgm:cxn modelId="{464BE2E7-A54B-4CFC-AFEF-C2BB22A7AA35}" type="presParOf" srcId="{C4528015-7F1A-474B-A63F-7D8204E09E52}" destId="{24BA23A8-167C-4CF2-9FBB-1B07CDAF4062}" srcOrd="0" destOrd="0" presId="urn:microsoft.com/office/officeart/2005/8/layout/hierarchy1"/>
    <dgm:cxn modelId="{BD5712B7-883D-416C-90E6-30D04AA66EA6}" type="presParOf" srcId="{24BA23A8-167C-4CF2-9FBB-1B07CDAF4062}" destId="{28C98B7F-2492-4698-A3CE-C05B0DBF7826}" srcOrd="0" destOrd="0" presId="urn:microsoft.com/office/officeart/2005/8/layout/hierarchy1"/>
    <dgm:cxn modelId="{C9D1D07D-B6F2-4B9D-BDDD-5EC2C942C04F}" type="presParOf" srcId="{24BA23A8-167C-4CF2-9FBB-1B07CDAF4062}" destId="{91CEBC9A-8EA8-49A1-AD73-E157E2E6B42F}" srcOrd="1" destOrd="0" presId="urn:microsoft.com/office/officeart/2005/8/layout/hierarchy1"/>
    <dgm:cxn modelId="{9B02BBEF-E49F-4940-8BFB-9CFC3D5F1FFA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70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re</a:t>
          </a:r>
          <a:r>
            <a:rPr lang="en-US" sz="6600" b="1" u="none" dirty="0" smtClean="0">
              <a:solidFill>
                <a:srgbClr val="FF0000"/>
              </a:solidFill>
            </a:rPr>
            <a:t> …?</a:t>
          </a:r>
          <a:endParaRPr lang="ru-RU" sz="6600" b="1" i="1" u="sng" dirty="0">
            <a:solidFill>
              <a:srgbClr val="C0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You</a:t>
          </a:r>
          <a:endParaRPr lang="en-US" sz="2800" b="1" dirty="0" smtClean="0">
            <a:solidFill>
              <a:srgbClr val="C00000"/>
            </a:solidFill>
          </a:endParaRPr>
        </a:p>
        <a:p>
          <a:r>
            <a:rPr lang="en-US" sz="2800" b="1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you a student?</a:t>
          </a: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I </a:t>
          </a:r>
          <a:r>
            <a:rPr lang="en-US" sz="2800" b="1" u="sng" dirty="0" smtClean="0">
              <a:solidFill>
                <a:srgbClr val="FF0000"/>
              </a:solidFill>
            </a:rPr>
            <a:t>am</a:t>
          </a:r>
          <a:r>
            <a:rPr lang="en-US" sz="2800" b="0" dirty="0" smtClean="0">
              <a:solidFill>
                <a:schemeClr val="tx1"/>
              </a:solidFill>
            </a:rPr>
            <a:t>./ 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I </a:t>
          </a:r>
          <a:r>
            <a:rPr lang="en-US" sz="2800" b="1" u="sng" dirty="0" smtClean="0">
              <a:solidFill>
                <a:srgbClr val="FF0000"/>
              </a:solidFill>
            </a:rPr>
            <a:t>am no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</a:p>
        <a:p>
          <a:endParaRPr lang="en-US" sz="1400" b="0" u="sng" dirty="0" smtClean="0">
            <a:solidFill>
              <a:schemeClr val="tx1"/>
            </a:solidFill>
          </a:endParaRP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We</a:t>
          </a:r>
        </a:p>
        <a:p>
          <a:r>
            <a:rPr lang="en-US" sz="2800" b="1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we students?</a:t>
          </a: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we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./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we </a:t>
          </a:r>
          <a:r>
            <a:rPr lang="en-US" sz="2800" b="1" u="sng" dirty="0" smtClean="0">
              <a:solidFill>
                <a:srgbClr val="FF0000"/>
              </a:solidFill>
            </a:rPr>
            <a:t>aren’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They</a:t>
          </a:r>
        </a:p>
        <a:p>
          <a:r>
            <a:rPr lang="en-US" sz="2800" b="1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they teachers?</a:t>
          </a: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they </a:t>
          </a:r>
          <a:r>
            <a:rPr lang="en-US" sz="2800" b="1" u="sng" dirty="0" smtClean="0">
              <a:solidFill>
                <a:srgbClr val="FF0000"/>
              </a:solidFill>
            </a:rPr>
            <a:t>are.</a:t>
          </a:r>
          <a:r>
            <a:rPr lang="en-US" sz="2800" b="0" dirty="0" smtClean="0">
              <a:solidFill>
                <a:schemeClr val="tx1"/>
              </a:solidFill>
            </a:rPr>
            <a:t>/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they </a:t>
          </a:r>
          <a:r>
            <a:rPr lang="en-US" sz="2800" b="1" u="sng" dirty="0" smtClean="0">
              <a:solidFill>
                <a:srgbClr val="FF0000"/>
              </a:solidFill>
            </a:rPr>
            <a:t>aren’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66380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67D7D5DF-D535-4F25-9EEE-A70330537DEE}" type="presOf" srcId="{1323325D-30D4-4234-8C32-F0D8DCC1ED8A}" destId="{91CEBC9A-8EA8-49A1-AD73-E157E2E6B42F}" srcOrd="0" destOrd="0" presId="urn:microsoft.com/office/officeart/2005/8/layout/hierarchy1"/>
    <dgm:cxn modelId="{A62CF33B-6747-4472-ACA5-8F320B44272D}" type="presOf" srcId="{1EFFFEB2-3EA7-4DF6-A4F1-5F0CBFF8F518}" destId="{085FEB04-415F-4DE1-AABD-130565C53ED0}" srcOrd="0" destOrd="0" presId="urn:microsoft.com/office/officeart/2005/8/layout/hierarchy1"/>
    <dgm:cxn modelId="{C0AA8F54-82CC-404E-AFB0-51BE45DD4238}" type="presOf" srcId="{9EF497F3-3426-4260-9AA0-C2C2D9EF8B43}" destId="{FE415ED9-D810-4305-A0D7-9AD3C9403FB5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4989F6A6-D729-4BA6-A71B-82F97C215F41}" type="presOf" srcId="{795C5933-EF67-42B7-A6D9-5A001A0CC200}" destId="{8F16986A-20BF-4CC6-ACBF-A6E5568F7498}" srcOrd="0" destOrd="0" presId="urn:microsoft.com/office/officeart/2005/8/layout/hierarchy1"/>
    <dgm:cxn modelId="{F372EE66-3B16-46B7-97C4-826943768357}" type="presOf" srcId="{0FF86A8F-72B7-47EC-BD03-14F46E5BBE66}" destId="{92EA9F0A-E810-468F-A35A-E9FF2CF87B17}" srcOrd="0" destOrd="0" presId="urn:microsoft.com/office/officeart/2005/8/layout/hierarchy1"/>
    <dgm:cxn modelId="{58CF11F1-6EEF-499F-847D-DE44A684963A}" type="presOf" srcId="{89284321-9837-4A96-8BF8-9E181CE5C2C0}" destId="{631FEE27-82B7-44FA-8759-5F5D7758CAF9}" srcOrd="0" destOrd="0" presId="urn:microsoft.com/office/officeart/2005/8/layout/hierarchy1"/>
    <dgm:cxn modelId="{453982E6-42C5-4538-BA5D-D7D37D1A3495}" type="presOf" srcId="{1082FB86-8FE6-4749-8952-D84713C6EBE5}" destId="{2339854B-93F8-44B0-AA3A-0B1BBF47BE05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AD97667A-8351-4FFA-8784-2FCE23C77C1A}" type="presOf" srcId="{D2D72486-AAD4-450C-8E59-7F61C73E0BD7}" destId="{3BA41D92-E0AA-47BA-BDD6-1F1BBA990E53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60566C9B-5841-45A8-9F66-37523A79D2E0}" type="presParOf" srcId="{2339854B-93F8-44B0-AA3A-0B1BBF47BE05}" destId="{857672AF-E98D-47E4-BEEF-7182C44663DA}" srcOrd="0" destOrd="0" presId="urn:microsoft.com/office/officeart/2005/8/layout/hierarchy1"/>
    <dgm:cxn modelId="{3C79E853-5553-416A-86D5-DD90BA0A71F7}" type="presParOf" srcId="{857672AF-E98D-47E4-BEEF-7182C44663DA}" destId="{65FAC69B-7B5F-4DAC-A113-692343934542}" srcOrd="0" destOrd="0" presId="urn:microsoft.com/office/officeart/2005/8/layout/hierarchy1"/>
    <dgm:cxn modelId="{03D59696-FBED-4F6C-B31E-AB03198AB465}" type="presParOf" srcId="{65FAC69B-7B5F-4DAC-A113-692343934542}" destId="{E90BDA39-24E6-4659-BEE7-F6EE70F02DE5}" srcOrd="0" destOrd="0" presId="urn:microsoft.com/office/officeart/2005/8/layout/hierarchy1"/>
    <dgm:cxn modelId="{1DAFBB93-E292-401C-868B-B5207D87260D}" type="presParOf" srcId="{65FAC69B-7B5F-4DAC-A113-692343934542}" destId="{FE415ED9-D810-4305-A0D7-9AD3C9403FB5}" srcOrd="1" destOrd="0" presId="urn:microsoft.com/office/officeart/2005/8/layout/hierarchy1"/>
    <dgm:cxn modelId="{CCE7C752-53BC-49FD-90AD-09D22CFA828F}" type="presParOf" srcId="{857672AF-E98D-47E4-BEEF-7182C44663DA}" destId="{A37A6F38-9B62-446E-A8F7-1C91B74DC78D}" srcOrd="1" destOrd="0" presId="urn:microsoft.com/office/officeart/2005/8/layout/hierarchy1"/>
    <dgm:cxn modelId="{771EBED1-7D3B-4E0E-9E4E-A4B0E519ADA0}" type="presParOf" srcId="{A37A6F38-9B62-446E-A8F7-1C91B74DC78D}" destId="{085FEB04-415F-4DE1-AABD-130565C53ED0}" srcOrd="0" destOrd="0" presId="urn:microsoft.com/office/officeart/2005/8/layout/hierarchy1"/>
    <dgm:cxn modelId="{E3E71E4B-3E6C-463D-85D2-FBE9BB216713}" type="presParOf" srcId="{A37A6F38-9B62-446E-A8F7-1C91B74DC78D}" destId="{195D3A31-3DA9-47A3-9AE7-243B93BEFA1F}" srcOrd="1" destOrd="0" presId="urn:microsoft.com/office/officeart/2005/8/layout/hierarchy1"/>
    <dgm:cxn modelId="{8F41CE80-89BA-4F13-82F1-DBE6521D4430}" type="presParOf" srcId="{195D3A31-3DA9-47A3-9AE7-243B93BEFA1F}" destId="{022DF595-D71A-4DE6-A41B-F7BDC264D918}" srcOrd="0" destOrd="0" presId="urn:microsoft.com/office/officeart/2005/8/layout/hierarchy1"/>
    <dgm:cxn modelId="{5BF3C9AC-4019-499E-9DE3-956DC4461BE5}" type="presParOf" srcId="{022DF595-D71A-4DE6-A41B-F7BDC264D918}" destId="{8BA927DD-1013-4678-9187-7ED61423452A}" srcOrd="0" destOrd="0" presId="urn:microsoft.com/office/officeart/2005/8/layout/hierarchy1"/>
    <dgm:cxn modelId="{B6201536-2152-4905-9B67-AEF6D997C8A4}" type="presParOf" srcId="{022DF595-D71A-4DE6-A41B-F7BDC264D918}" destId="{92EA9F0A-E810-468F-A35A-E9FF2CF87B17}" srcOrd="1" destOrd="0" presId="urn:microsoft.com/office/officeart/2005/8/layout/hierarchy1"/>
    <dgm:cxn modelId="{8B4F97F7-5C51-4A96-864D-5FC003509EA8}" type="presParOf" srcId="{195D3A31-3DA9-47A3-9AE7-243B93BEFA1F}" destId="{025B3468-F61D-44F7-A524-3298B42D503F}" srcOrd="1" destOrd="0" presId="urn:microsoft.com/office/officeart/2005/8/layout/hierarchy1"/>
    <dgm:cxn modelId="{C8864F6C-3B9C-4155-AA1F-F4E199FA4A5B}" type="presParOf" srcId="{A37A6F38-9B62-446E-A8F7-1C91B74DC78D}" destId="{3BA41D92-E0AA-47BA-BDD6-1F1BBA990E53}" srcOrd="2" destOrd="0" presId="urn:microsoft.com/office/officeart/2005/8/layout/hierarchy1"/>
    <dgm:cxn modelId="{53F6E982-ACB4-42A0-BE52-C891545A6945}" type="presParOf" srcId="{A37A6F38-9B62-446E-A8F7-1C91B74DC78D}" destId="{B3CA3075-0F0D-4AAB-8451-1035C9F5A29B}" srcOrd="3" destOrd="0" presId="urn:microsoft.com/office/officeart/2005/8/layout/hierarchy1"/>
    <dgm:cxn modelId="{85170279-D1F1-481B-AA67-A79BDD1E492A}" type="presParOf" srcId="{B3CA3075-0F0D-4AAB-8451-1035C9F5A29B}" destId="{0661FD34-5AFB-4272-9080-F0F7262DE335}" srcOrd="0" destOrd="0" presId="urn:microsoft.com/office/officeart/2005/8/layout/hierarchy1"/>
    <dgm:cxn modelId="{6EF67C29-5ABA-49D8-867D-D62607FD0CAA}" type="presParOf" srcId="{0661FD34-5AFB-4272-9080-F0F7262DE335}" destId="{55035FB5-07BC-4E58-B39A-29E6C019E9BA}" srcOrd="0" destOrd="0" presId="urn:microsoft.com/office/officeart/2005/8/layout/hierarchy1"/>
    <dgm:cxn modelId="{8D24E57A-04DD-412D-A06C-D4C549406086}" type="presParOf" srcId="{0661FD34-5AFB-4272-9080-F0F7262DE335}" destId="{631FEE27-82B7-44FA-8759-5F5D7758CAF9}" srcOrd="1" destOrd="0" presId="urn:microsoft.com/office/officeart/2005/8/layout/hierarchy1"/>
    <dgm:cxn modelId="{AEBF1F75-8AB9-49D7-833C-5FA5EAAF6007}" type="presParOf" srcId="{B3CA3075-0F0D-4AAB-8451-1035C9F5A29B}" destId="{C849D450-ED17-4137-930D-D27CE58CD8C1}" srcOrd="1" destOrd="0" presId="urn:microsoft.com/office/officeart/2005/8/layout/hierarchy1"/>
    <dgm:cxn modelId="{CD972E4C-BFE9-4115-853B-B472F224C573}" type="presParOf" srcId="{A37A6F38-9B62-446E-A8F7-1C91B74DC78D}" destId="{8F16986A-20BF-4CC6-ACBF-A6E5568F7498}" srcOrd="4" destOrd="0" presId="urn:microsoft.com/office/officeart/2005/8/layout/hierarchy1"/>
    <dgm:cxn modelId="{55FF9A0C-0AC4-40EE-806C-C7054984A79B}" type="presParOf" srcId="{A37A6F38-9B62-446E-A8F7-1C91B74DC78D}" destId="{C4528015-7F1A-474B-A63F-7D8204E09E52}" srcOrd="5" destOrd="0" presId="urn:microsoft.com/office/officeart/2005/8/layout/hierarchy1"/>
    <dgm:cxn modelId="{FAB690DA-344E-49CD-9E9C-B3101302F32F}" type="presParOf" srcId="{C4528015-7F1A-474B-A63F-7D8204E09E52}" destId="{24BA23A8-167C-4CF2-9FBB-1B07CDAF4062}" srcOrd="0" destOrd="0" presId="urn:microsoft.com/office/officeart/2005/8/layout/hierarchy1"/>
    <dgm:cxn modelId="{A4EFBE57-846A-492C-AD1A-75EA8BB20140}" type="presParOf" srcId="{24BA23A8-167C-4CF2-9FBB-1B07CDAF4062}" destId="{28C98B7F-2492-4698-A3CE-C05B0DBF7826}" srcOrd="0" destOrd="0" presId="urn:microsoft.com/office/officeart/2005/8/layout/hierarchy1"/>
    <dgm:cxn modelId="{DEECB2D7-6471-440C-9412-D2639A97645B}" type="presParOf" srcId="{24BA23A8-167C-4CF2-9FBB-1B07CDAF4062}" destId="{91CEBC9A-8EA8-49A1-AD73-E157E2E6B42F}" srcOrd="1" destOrd="0" presId="urn:microsoft.com/office/officeart/2005/8/layout/hierarchy1"/>
    <dgm:cxn modelId="{D9624DFE-AB15-408A-AE99-62B7586D5BAA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71.xml><?xml version="1.0" encoding="utf-8"?>
<dgm:dataModel xmlns:dgm="http://schemas.openxmlformats.org/drawingml/2006/diagram" xmlns:a="http://schemas.openxmlformats.org/drawingml/2006/main">
  <dgm:ptLst>
    <dgm:pt modelId="{4367799B-23F1-4430-B68C-C809801A7F0D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C371DC14-2A86-425E-902F-0621D5A85DE9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short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511D1A25-E0D6-495D-A39B-933802B294FE}" type="parTrans" cxnId="{83023E48-8EBC-4260-81B0-018A0BAF74FF}">
      <dgm:prSet/>
      <dgm:spPr/>
      <dgm:t>
        <a:bodyPr/>
        <a:lstStyle/>
        <a:p>
          <a:endParaRPr lang="ru-RU"/>
        </a:p>
      </dgm:t>
    </dgm:pt>
    <dgm:pt modelId="{1CB20223-8A77-4A6D-9064-721D5CFE8F93}" type="sibTrans" cxnId="{83023E48-8EBC-4260-81B0-018A0BAF74FF}">
      <dgm:prSet/>
      <dgm:spPr/>
      <dgm:t>
        <a:bodyPr/>
        <a:lstStyle/>
        <a:p>
          <a:endParaRPr lang="ru-RU"/>
        </a:p>
      </dgm:t>
    </dgm:pt>
    <dgm:pt modelId="{E1BCABA4-E507-4EA3-AB83-8547D38DBA54}" type="pres">
      <dgm:prSet presAssocID="{4367799B-23F1-4430-B68C-C809801A7F0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D88AB8AF-37D6-4411-A660-ED670E057039}" type="pres">
      <dgm:prSet presAssocID="{C371DC14-2A86-425E-902F-0621D5A85DE9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3023E48-8EBC-4260-81B0-018A0BAF74FF}" srcId="{4367799B-23F1-4430-B68C-C809801A7F0D}" destId="{C371DC14-2A86-425E-902F-0621D5A85DE9}" srcOrd="0" destOrd="0" parTransId="{511D1A25-E0D6-495D-A39B-933802B294FE}" sibTransId="{1CB20223-8A77-4A6D-9064-721D5CFE8F93}"/>
    <dgm:cxn modelId="{F1C018AB-105F-494E-994C-5776F74C411A}" type="presOf" srcId="{4367799B-23F1-4430-B68C-C809801A7F0D}" destId="{E1BCABA4-E507-4EA3-AB83-8547D38DBA54}" srcOrd="0" destOrd="0" presId="urn:microsoft.com/office/officeart/2005/8/layout/vList2"/>
    <dgm:cxn modelId="{8DAEDF25-9436-45FF-80FC-58EBFF3ACD28}" type="presOf" srcId="{C371DC14-2A86-425E-902F-0621D5A85DE9}" destId="{D88AB8AF-37D6-4411-A660-ED670E057039}" srcOrd="0" destOrd="0" presId="urn:microsoft.com/office/officeart/2005/8/layout/vList2"/>
    <dgm:cxn modelId="{87555B51-0FF0-448F-8EC2-36D78AD856F5}" type="presParOf" srcId="{E1BCABA4-E507-4EA3-AB83-8547D38DBA54}" destId="{D88AB8AF-37D6-4411-A660-ED670E057039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72.xml><?xml version="1.0" encoding="utf-8"?>
<dgm:dataModel xmlns:dgm="http://schemas.openxmlformats.org/drawingml/2006/diagram" xmlns:a="http://schemas.openxmlformats.org/drawingml/2006/main">
  <dgm:ptLst>
    <dgm:pt modelId="{82491F77-0162-4311-B183-9A05888ACAB3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174FB3B1-9906-477D-B8A6-C637295A6E93}">
      <dgm:prSet custT="1"/>
      <dgm:spPr/>
      <dgm:t>
        <a:bodyPr/>
        <a:lstStyle/>
        <a:p>
          <a:pPr rtl="0"/>
          <a:r>
            <a:rPr lang="en-US" sz="2800" b="1" dirty="0" smtClean="0"/>
            <a:t>No, she isn’t.</a:t>
          </a:r>
          <a:endParaRPr lang="ru-RU" sz="2800" b="1" dirty="0"/>
        </a:p>
      </dgm:t>
    </dgm:pt>
    <dgm:pt modelId="{E11A7BB9-2510-4479-AE8B-6CBD9152B67F}" type="parTrans" cxnId="{E0701141-403B-4DDA-A7B8-6E4217ED51D1}">
      <dgm:prSet/>
      <dgm:spPr/>
      <dgm:t>
        <a:bodyPr/>
        <a:lstStyle/>
        <a:p>
          <a:endParaRPr lang="ru-RU"/>
        </a:p>
      </dgm:t>
    </dgm:pt>
    <dgm:pt modelId="{22BE57B7-3BA7-4632-A54F-221EA93E2EB7}" type="sibTrans" cxnId="{E0701141-403B-4DDA-A7B8-6E4217ED51D1}">
      <dgm:prSet/>
      <dgm:spPr/>
      <dgm:t>
        <a:bodyPr/>
        <a:lstStyle/>
        <a:p>
          <a:endParaRPr lang="ru-RU"/>
        </a:p>
      </dgm:t>
    </dgm:pt>
    <dgm:pt modelId="{D2F18F99-290F-4C8E-82AC-CFAA5DF37DA8}" type="pres">
      <dgm:prSet presAssocID="{82491F77-0162-4311-B183-9A05888ACAB3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D2A5C30E-844A-4389-A696-F50BBBCA96CD}" type="pres">
      <dgm:prSet presAssocID="{174FB3B1-9906-477D-B8A6-C637295A6E93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E0701141-403B-4DDA-A7B8-6E4217ED51D1}" srcId="{82491F77-0162-4311-B183-9A05888ACAB3}" destId="{174FB3B1-9906-477D-B8A6-C637295A6E93}" srcOrd="0" destOrd="0" parTransId="{E11A7BB9-2510-4479-AE8B-6CBD9152B67F}" sibTransId="{22BE57B7-3BA7-4632-A54F-221EA93E2EB7}"/>
    <dgm:cxn modelId="{24B26B71-FE45-4251-82B9-D06426927D9E}" type="presOf" srcId="{82491F77-0162-4311-B183-9A05888ACAB3}" destId="{D2F18F99-290F-4C8E-82AC-CFAA5DF37DA8}" srcOrd="0" destOrd="0" presId="urn:microsoft.com/office/officeart/2005/8/layout/vList2"/>
    <dgm:cxn modelId="{3B17C585-ED53-4166-BCA7-71D10206329E}" type="presOf" srcId="{174FB3B1-9906-477D-B8A6-C637295A6E93}" destId="{D2A5C30E-844A-4389-A696-F50BBBCA96CD}" srcOrd="0" destOrd="0" presId="urn:microsoft.com/office/officeart/2005/8/layout/vList2"/>
    <dgm:cxn modelId="{25E0B155-9FBF-4E86-8AEF-65AB6CB93689}" type="presParOf" srcId="{D2F18F99-290F-4C8E-82AC-CFAA5DF37DA8}" destId="{D2A5C30E-844A-4389-A696-F50BBBCA96C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73.xml><?xml version="1.0" encoding="utf-8"?>
<dgm:dataModel xmlns:dgm="http://schemas.openxmlformats.org/drawingml/2006/diagram" xmlns:a="http://schemas.openxmlformats.org/drawingml/2006/main">
  <dgm:ptLst>
    <dgm:pt modelId="{6F3635C6-D6BC-4DA8-81BA-72F8B4D92016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5772099A-B5C3-4F84-8145-6E2A3C553805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tall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25F5881E-AFB1-4363-9B5B-F1EE3BBFA173}" type="parTrans" cxnId="{D5BC1F8E-E2A6-4FBD-970F-510BFA5C999E}">
      <dgm:prSet/>
      <dgm:spPr/>
      <dgm:t>
        <a:bodyPr/>
        <a:lstStyle/>
        <a:p>
          <a:endParaRPr lang="ru-RU"/>
        </a:p>
      </dgm:t>
    </dgm:pt>
    <dgm:pt modelId="{62F7B2BC-EE9E-433A-9FCD-8DF5CD801A8B}" type="sibTrans" cxnId="{D5BC1F8E-E2A6-4FBD-970F-510BFA5C999E}">
      <dgm:prSet/>
      <dgm:spPr/>
      <dgm:t>
        <a:bodyPr/>
        <a:lstStyle/>
        <a:p>
          <a:endParaRPr lang="ru-RU"/>
        </a:p>
      </dgm:t>
    </dgm:pt>
    <dgm:pt modelId="{352C61E5-563D-4BED-A12C-D8952952CAA4}" type="pres">
      <dgm:prSet presAssocID="{6F3635C6-D6BC-4DA8-81BA-72F8B4D92016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F8E1B175-57ED-4157-A12B-A7D04B658C50}" type="pres">
      <dgm:prSet presAssocID="{5772099A-B5C3-4F84-8145-6E2A3C553805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D875C99-4E52-47C5-8D34-D6914FABFE9A}" type="presOf" srcId="{5772099A-B5C3-4F84-8145-6E2A3C553805}" destId="{F8E1B175-57ED-4157-A12B-A7D04B658C50}" srcOrd="0" destOrd="0" presId="urn:microsoft.com/office/officeart/2005/8/layout/vList2"/>
    <dgm:cxn modelId="{35A8F91D-5E71-4785-A49B-CB4ED9150DB5}" type="presOf" srcId="{6F3635C6-D6BC-4DA8-81BA-72F8B4D92016}" destId="{352C61E5-563D-4BED-A12C-D8952952CAA4}" srcOrd="0" destOrd="0" presId="urn:microsoft.com/office/officeart/2005/8/layout/vList2"/>
    <dgm:cxn modelId="{D5BC1F8E-E2A6-4FBD-970F-510BFA5C999E}" srcId="{6F3635C6-D6BC-4DA8-81BA-72F8B4D92016}" destId="{5772099A-B5C3-4F84-8145-6E2A3C553805}" srcOrd="0" destOrd="0" parTransId="{25F5881E-AFB1-4363-9B5B-F1EE3BBFA173}" sibTransId="{62F7B2BC-EE9E-433A-9FCD-8DF5CD801A8B}"/>
    <dgm:cxn modelId="{49B1241D-1B64-48A9-AFA8-6F8EE3CC5248}" type="presParOf" srcId="{352C61E5-563D-4BED-A12C-D8952952CAA4}" destId="{F8E1B175-57ED-4157-A12B-A7D04B658C5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74.xml><?xml version="1.0" encoding="utf-8"?>
<dgm:dataModel xmlns:dgm="http://schemas.openxmlformats.org/drawingml/2006/diagram" xmlns:a="http://schemas.openxmlformats.org/drawingml/2006/main">
  <dgm:ptLst>
    <dgm:pt modelId="{17BAB01D-FB58-4F9B-A91F-80CCF908180B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30FC2C7A-11E1-49A4-8975-813B8F024F12}">
      <dgm:prSet custT="1"/>
      <dgm:spPr/>
      <dgm:t>
        <a:bodyPr/>
        <a:lstStyle/>
        <a:p>
          <a:pPr rtl="0"/>
          <a:r>
            <a:rPr lang="en-US" sz="2800" b="1" dirty="0" smtClean="0"/>
            <a:t>Yes, she is.</a:t>
          </a:r>
          <a:endParaRPr lang="ru-RU" sz="2800" b="1" dirty="0"/>
        </a:p>
      </dgm:t>
    </dgm:pt>
    <dgm:pt modelId="{CE67B5E3-BFF8-4B0B-B1DD-3608458FF665}" type="parTrans" cxnId="{8B51A105-E068-476C-9AF3-9F16C9E0CBFD}">
      <dgm:prSet/>
      <dgm:spPr/>
      <dgm:t>
        <a:bodyPr/>
        <a:lstStyle/>
        <a:p>
          <a:endParaRPr lang="ru-RU"/>
        </a:p>
      </dgm:t>
    </dgm:pt>
    <dgm:pt modelId="{37F5F5C2-5CCC-4F85-B541-7BFD0B0AF94F}" type="sibTrans" cxnId="{8B51A105-E068-476C-9AF3-9F16C9E0CBFD}">
      <dgm:prSet/>
      <dgm:spPr/>
      <dgm:t>
        <a:bodyPr/>
        <a:lstStyle/>
        <a:p>
          <a:endParaRPr lang="ru-RU"/>
        </a:p>
      </dgm:t>
    </dgm:pt>
    <dgm:pt modelId="{F86323C1-488B-4CD5-AABF-05246D8D647B}" type="pres">
      <dgm:prSet presAssocID="{17BAB01D-FB58-4F9B-A91F-80CCF908180B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4E995253-88FA-430E-9231-52BB969D8138}" type="pres">
      <dgm:prSet presAssocID="{30FC2C7A-11E1-49A4-8975-813B8F024F12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90B15D9-1D75-4873-B195-4A820BFD68AB}" type="presOf" srcId="{30FC2C7A-11E1-49A4-8975-813B8F024F12}" destId="{4E995253-88FA-430E-9231-52BB969D8138}" srcOrd="0" destOrd="0" presId="urn:microsoft.com/office/officeart/2005/8/layout/vList2"/>
    <dgm:cxn modelId="{8B51A105-E068-476C-9AF3-9F16C9E0CBFD}" srcId="{17BAB01D-FB58-4F9B-A91F-80CCF908180B}" destId="{30FC2C7A-11E1-49A4-8975-813B8F024F12}" srcOrd="0" destOrd="0" parTransId="{CE67B5E3-BFF8-4B0B-B1DD-3608458FF665}" sibTransId="{37F5F5C2-5CCC-4F85-B541-7BFD0B0AF94F}"/>
    <dgm:cxn modelId="{B3DBA04F-E36D-4D2A-9AC3-3F777618CBA6}" type="presOf" srcId="{17BAB01D-FB58-4F9B-A91F-80CCF908180B}" destId="{F86323C1-488B-4CD5-AABF-05246D8D647B}" srcOrd="0" destOrd="0" presId="urn:microsoft.com/office/officeart/2005/8/layout/vList2"/>
    <dgm:cxn modelId="{3F4F58F0-1BF8-4C7A-8798-989AA29345FC}" type="presParOf" srcId="{F86323C1-488B-4CD5-AABF-05246D8D647B}" destId="{4E995253-88FA-430E-9231-52BB969D8138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75.xml><?xml version="1.0" encoding="utf-8"?>
<dgm:dataModel xmlns:dgm="http://schemas.openxmlformats.org/drawingml/2006/diagram" xmlns:a="http://schemas.openxmlformats.org/drawingml/2006/main">
  <dgm:ptLst>
    <dgm:pt modelId="{58B888E9-4FD6-4E51-BCAA-A21A0E275068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64E0862C-852D-4E75-91EC-5365F39AE32F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old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D84E57E4-2E6F-4878-9966-E80576E66AF6}" type="parTrans" cxnId="{D39FAED5-2A7F-4561-BD21-2E713B30A636}">
      <dgm:prSet/>
      <dgm:spPr/>
      <dgm:t>
        <a:bodyPr/>
        <a:lstStyle/>
        <a:p>
          <a:endParaRPr lang="ru-RU"/>
        </a:p>
      </dgm:t>
    </dgm:pt>
    <dgm:pt modelId="{923245DE-960B-4A1E-9924-5E8D55031477}" type="sibTrans" cxnId="{D39FAED5-2A7F-4561-BD21-2E713B30A636}">
      <dgm:prSet/>
      <dgm:spPr/>
      <dgm:t>
        <a:bodyPr/>
        <a:lstStyle/>
        <a:p>
          <a:endParaRPr lang="ru-RU"/>
        </a:p>
      </dgm:t>
    </dgm:pt>
    <dgm:pt modelId="{CD5F0A85-D732-44AF-9800-B24151E09547}" type="pres">
      <dgm:prSet presAssocID="{58B888E9-4FD6-4E51-BCAA-A21A0E275068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18D73C1-BA8B-4471-8B0C-CE5A32828BA9}" type="pres">
      <dgm:prSet presAssocID="{64E0862C-852D-4E75-91EC-5365F39AE32F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CD71E74-D870-4431-9C20-1FD14806D552}" type="presOf" srcId="{64E0862C-852D-4E75-91EC-5365F39AE32F}" destId="{718D73C1-BA8B-4471-8B0C-CE5A32828BA9}" srcOrd="0" destOrd="0" presId="urn:microsoft.com/office/officeart/2005/8/layout/vList2"/>
    <dgm:cxn modelId="{D39FAED5-2A7F-4561-BD21-2E713B30A636}" srcId="{58B888E9-4FD6-4E51-BCAA-A21A0E275068}" destId="{64E0862C-852D-4E75-91EC-5365F39AE32F}" srcOrd="0" destOrd="0" parTransId="{D84E57E4-2E6F-4878-9966-E80576E66AF6}" sibTransId="{923245DE-960B-4A1E-9924-5E8D55031477}"/>
    <dgm:cxn modelId="{F9752A30-7944-4895-881D-C47611E169A0}" type="presOf" srcId="{58B888E9-4FD6-4E51-BCAA-A21A0E275068}" destId="{CD5F0A85-D732-44AF-9800-B24151E09547}" srcOrd="0" destOrd="0" presId="urn:microsoft.com/office/officeart/2005/8/layout/vList2"/>
    <dgm:cxn modelId="{BAEA59F5-0F84-45A2-9091-33222C6B9046}" type="presParOf" srcId="{CD5F0A85-D732-44AF-9800-B24151E09547}" destId="{718D73C1-BA8B-4471-8B0C-CE5A32828BA9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76.xml><?xml version="1.0" encoding="utf-8"?>
<dgm:dataModel xmlns:dgm="http://schemas.openxmlformats.org/drawingml/2006/diagram" xmlns:a="http://schemas.openxmlformats.org/drawingml/2006/main">
  <dgm:ptLst>
    <dgm:pt modelId="{E6A41159-955E-44D5-8A6A-DEB35EA11B6F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AB0AB371-7E4D-423F-AAC0-CBA43B53FF12}">
      <dgm:prSet custT="1"/>
      <dgm:spPr/>
      <dgm:t>
        <a:bodyPr/>
        <a:lstStyle/>
        <a:p>
          <a:pPr rtl="0"/>
          <a:r>
            <a:rPr lang="en-US" sz="2800" b="1" dirty="0" smtClean="0"/>
            <a:t>No, she isn’t.</a:t>
          </a:r>
          <a:endParaRPr lang="ru-RU" sz="2800" b="1" dirty="0"/>
        </a:p>
      </dgm:t>
    </dgm:pt>
    <dgm:pt modelId="{10041AC0-6A7E-4AA1-94F6-28D1A66FD659}" type="parTrans" cxnId="{A1B2AE85-6E96-478A-8269-C1FF7975AE51}">
      <dgm:prSet/>
      <dgm:spPr/>
      <dgm:t>
        <a:bodyPr/>
        <a:lstStyle/>
        <a:p>
          <a:endParaRPr lang="ru-RU"/>
        </a:p>
      </dgm:t>
    </dgm:pt>
    <dgm:pt modelId="{EBC2EF88-D45E-4874-B444-B4BE30AA688C}" type="sibTrans" cxnId="{A1B2AE85-6E96-478A-8269-C1FF7975AE51}">
      <dgm:prSet/>
      <dgm:spPr/>
      <dgm:t>
        <a:bodyPr/>
        <a:lstStyle/>
        <a:p>
          <a:endParaRPr lang="ru-RU"/>
        </a:p>
      </dgm:t>
    </dgm:pt>
    <dgm:pt modelId="{DB9072F1-7111-4098-9C2D-18FA8D6F7686}" type="pres">
      <dgm:prSet presAssocID="{E6A41159-955E-44D5-8A6A-DEB35EA11B6F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486D35A8-08F6-4816-ADC1-30CF4F55A43D}" type="pres">
      <dgm:prSet presAssocID="{AB0AB371-7E4D-423F-AAC0-CBA43B53FF12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1B2AE85-6E96-478A-8269-C1FF7975AE51}" srcId="{E6A41159-955E-44D5-8A6A-DEB35EA11B6F}" destId="{AB0AB371-7E4D-423F-AAC0-CBA43B53FF12}" srcOrd="0" destOrd="0" parTransId="{10041AC0-6A7E-4AA1-94F6-28D1A66FD659}" sibTransId="{EBC2EF88-D45E-4874-B444-B4BE30AA688C}"/>
    <dgm:cxn modelId="{1D5E69E5-C615-4874-B047-042097CB6474}" type="presOf" srcId="{E6A41159-955E-44D5-8A6A-DEB35EA11B6F}" destId="{DB9072F1-7111-4098-9C2D-18FA8D6F7686}" srcOrd="0" destOrd="0" presId="urn:microsoft.com/office/officeart/2005/8/layout/vList2"/>
    <dgm:cxn modelId="{3CFFB434-4FC8-4BB2-AF7E-6969CD81DFD3}" type="presOf" srcId="{AB0AB371-7E4D-423F-AAC0-CBA43B53FF12}" destId="{486D35A8-08F6-4816-ADC1-30CF4F55A43D}" srcOrd="0" destOrd="0" presId="urn:microsoft.com/office/officeart/2005/8/layout/vList2"/>
    <dgm:cxn modelId="{1CA89305-6760-4FF1-A195-14123930CE97}" type="presParOf" srcId="{DB9072F1-7111-4098-9C2D-18FA8D6F7686}" destId="{486D35A8-08F6-4816-ADC1-30CF4F55A43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77.xml><?xml version="1.0" encoding="utf-8"?>
<dgm:dataModel xmlns:dgm="http://schemas.openxmlformats.org/drawingml/2006/diagram" xmlns:a="http://schemas.openxmlformats.org/drawingml/2006/main">
  <dgm:ptLst>
    <dgm:pt modelId="{316BDD7E-63FB-4DCD-ABFB-E9E3D222835D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8BDFEC61-60A2-44FC-A977-011034C3BE76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young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17DD4A68-7768-49E0-B1C1-07A6638726B1}" type="parTrans" cxnId="{909B4096-72D0-41A2-8B97-DC973CCE01CA}">
      <dgm:prSet/>
      <dgm:spPr/>
      <dgm:t>
        <a:bodyPr/>
        <a:lstStyle/>
        <a:p>
          <a:endParaRPr lang="ru-RU"/>
        </a:p>
      </dgm:t>
    </dgm:pt>
    <dgm:pt modelId="{F98CE78C-E12B-4F50-B450-A3EEE0BF4943}" type="sibTrans" cxnId="{909B4096-72D0-41A2-8B97-DC973CCE01CA}">
      <dgm:prSet/>
      <dgm:spPr/>
      <dgm:t>
        <a:bodyPr/>
        <a:lstStyle/>
        <a:p>
          <a:endParaRPr lang="ru-RU"/>
        </a:p>
      </dgm:t>
    </dgm:pt>
    <dgm:pt modelId="{A4B10BDC-AAFD-4604-A640-50D84873EEC4}" type="pres">
      <dgm:prSet presAssocID="{316BDD7E-63FB-4DCD-ABFB-E9E3D222835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CC3DD58F-9374-443E-A157-9AD5A48F341A}" type="pres">
      <dgm:prSet presAssocID="{8BDFEC61-60A2-44FC-A977-011034C3BE76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3FC911A-1D8F-49AD-9D24-E5E488D07214}" type="presOf" srcId="{8BDFEC61-60A2-44FC-A977-011034C3BE76}" destId="{CC3DD58F-9374-443E-A157-9AD5A48F341A}" srcOrd="0" destOrd="0" presId="urn:microsoft.com/office/officeart/2005/8/layout/vList2"/>
    <dgm:cxn modelId="{500A45D8-FFC3-43B8-AE9C-C0E82661DDDA}" type="presOf" srcId="{316BDD7E-63FB-4DCD-ABFB-E9E3D222835D}" destId="{A4B10BDC-AAFD-4604-A640-50D84873EEC4}" srcOrd="0" destOrd="0" presId="urn:microsoft.com/office/officeart/2005/8/layout/vList2"/>
    <dgm:cxn modelId="{909B4096-72D0-41A2-8B97-DC973CCE01CA}" srcId="{316BDD7E-63FB-4DCD-ABFB-E9E3D222835D}" destId="{8BDFEC61-60A2-44FC-A977-011034C3BE76}" srcOrd="0" destOrd="0" parTransId="{17DD4A68-7768-49E0-B1C1-07A6638726B1}" sibTransId="{F98CE78C-E12B-4F50-B450-A3EEE0BF4943}"/>
    <dgm:cxn modelId="{085904FD-72A0-43CA-9585-9A287D2FD288}" type="presParOf" srcId="{A4B10BDC-AAFD-4604-A640-50D84873EEC4}" destId="{CC3DD58F-9374-443E-A157-9AD5A48F341A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78.xml><?xml version="1.0" encoding="utf-8"?>
<dgm:dataModel xmlns:dgm="http://schemas.openxmlformats.org/drawingml/2006/diagram" xmlns:a="http://schemas.openxmlformats.org/drawingml/2006/main">
  <dgm:ptLst>
    <dgm:pt modelId="{BA6EA963-0BAC-4044-AD02-6510CD03AEDC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846587D3-D43D-4D71-9A46-D7A93060E9FB}">
      <dgm:prSet custT="1"/>
      <dgm:spPr/>
      <dgm:t>
        <a:bodyPr/>
        <a:lstStyle/>
        <a:p>
          <a:pPr rtl="0"/>
          <a:r>
            <a:rPr lang="en-US" sz="2800" b="1" dirty="0" smtClean="0"/>
            <a:t>Yes, she is.</a:t>
          </a:r>
          <a:endParaRPr lang="ru-RU" sz="2800" b="1" dirty="0"/>
        </a:p>
      </dgm:t>
    </dgm:pt>
    <dgm:pt modelId="{115857F4-47A8-4F78-A9C4-F750D85958F4}" type="parTrans" cxnId="{496F7196-A5B9-4671-8494-C0D566A5E6E1}">
      <dgm:prSet/>
      <dgm:spPr/>
      <dgm:t>
        <a:bodyPr/>
        <a:lstStyle/>
        <a:p>
          <a:endParaRPr lang="ru-RU"/>
        </a:p>
      </dgm:t>
    </dgm:pt>
    <dgm:pt modelId="{C928DA31-F280-47C1-B3A9-C9BEB34A7B45}" type="sibTrans" cxnId="{496F7196-A5B9-4671-8494-C0D566A5E6E1}">
      <dgm:prSet/>
      <dgm:spPr/>
      <dgm:t>
        <a:bodyPr/>
        <a:lstStyle/>
        <a:p>
          <a:endParaRPr lang="ru-RU"/>
        </a:p>
      </dgm:t>
    </dgm:pt>
    <dgm:pt modelId="{CD4B2FF4-03D0-403F-B7E1-53E78301ADC5}" type="pres">
      <dgm:prSet presAssocID="{BA6EA963-0BAC-4044-AD02-6510CD03AE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1645A4A-E056-4C67-B7E4-1E312CA27446}" type="pres">
      <dgm:prSet presAssocID="{846587D3-D43D-4D71-9A46-D7A93060E9FB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96F7196-A5B9-4671-8494-C0D566A5E6E1}" srcId="{BA6EA963-0BAC-4044-AD02-6510CD03AEDC}" destId="{846587D3-D43D-4D71-9A46-D7A93060E9FB}" srcOrd="0" destOrd="0" parTransId="{115857F4-47A8-4F78-A9C4-F750D85958F4}" sibTransId="{C928DA31-F280-47C1-B3A9-C9BEB34A7B45}"/>
    <dgm:cxn modelId="{1958FD70-FBF3-491A-ACCC-92A620D074D1}" type="presOf" srcId="{846587D3-D43D-4D71-9A46-D7A93060E9FB}" destId="{B1645A4A-E056-4C67-B7E4-1E312CA27446}" srcOrd="0" destOrd="0" presId="urn:microsoft.com/office/officeart/2005/8/layout/vList2"/>
    <dgm:cxn modelId="{4A9019A7-8B43-4E6B-8638-FCF94D6B8022}" type="presOf" srcId="{BA6EA963-0BAC-4044-AD02-6510CD03AEDC}" destId="{CD4B2FF4-03D0-403F-B7E1-53E78301ADC5}" srcOrd="0" destOrd="0" presId="urn:microsoft.com/office/officeart/2005/8/layout/vList2"/>
    <dgm:cxn modelId="{E4F1E688-9A9E-4FBC-833B-9B35311261AC}" type="presParOf" srcId="{CD4B2FF4-03D0-403F-B7E1-53E78301ADC5}" destId="{B1645A4A-E056-4C67-B7E4-1E312CA27446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79.xml><?xml version="1.0" encoding="utf-8"?>
<dgm:dataModel xmlns:dgm="http://schemas.openxmlformats.org/drawingml/2006/diagram" xmlns:a="http://schemas.openxmlformats.org/drawingml/2006/main">
  <dgm:ptLst>
    <dgm:pt modelId="{3E90E6D4-C321-4456-A68A-0408217266D3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93FA7617-B4FF-44E5-90EF-710E65056E03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sad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D7B444CB-FE76-44B0-93F4-1CF27AA4DBB7}" type="parTrans" cxnId="{329E34C7-DEDC-4577-8614-AC7B1D81F933}">
      <dgm:prSet/>
      <dgm:spPr/>
      <dgm:t>
        <a:bodyPr/>
        <a:lstStyle/>
        <a:p>
          <a:endParaRPr lang="ru-RU"/>
        </a:p>
      </dgm:t>
    </dgm:pt>
    <dgm:pt modelId="{EF66D370-51F8-4335-B7BF-34DD212F9B58}" type="sibTrans" cxnId="{329E34C7-DEDC-4577-8614-AC7B1D81F933}">
      <dgm:prSet/>
      <dgm:spPr/>
      <dgm:t>
        <a:bodyPr/>
        <a:lstStyle/>
        <a:p>
          <a:endParaRPr lang="ru-RU"/>
        </a:p>
      </dgm:t>
    </dgm:pt>
    <dgm:pt modelId="{23372FAA-EF0E-4EA6-92C4-A4CD30ED9F5E}" type="pres">
      <dgm:prSet presAssocID="{3E90E6D4-C321-4456-A68A-0408217266D3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8673F28-236C-45EB-A5B9-704A03A77398}" type="pres">
      <dgm:prSet presAssocID="{93FA7617-B4FF-44E5-90EF-710E65056E03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29E34C7-DEDC-4577-8614-AC7B1D81F933}" srcId="{3E90E6D4-C321-4456-A68A-0408217266D3}" destId="{93FA7617-B4FF-44E5-90EF-710E65056E03}" srcOrd="0" destOrd="0" parTransId="{D7B444CB-FE76-44B0-93F4-1CF27AA4DBB7}" sibTransId="{EF66D370-51F8-4335-B7BF-34DD212F9B58}"/>
    <dgm:cxn modelId="{33107D5C-7554-40D6-96A9-D6F56E5A2DB0}" type="presOf" srcId="{93FA7617-B4FF-44E5-90EF-710E65056E03}" destId="{38673F28-236C-45EB-A5B9-704A03A77398}" srcOrd="0" destOrd="0" presId="urn:microsoft.com/office/officeart/2005/8/layout/vList2"/>
    <dgm:cxn modelId="{B408297A-C116-4CE3-9925-3976BF8BD909}" type="presOf" srcId="{3E90E6D4-C321-4456-A68A-0408217266D3}" destId="{23372FAA-EF0E-4EA6-92C4-A4CD30ED9F5E}" srcOrd="0" destOrd="0" presId="urn:microsoft.com/office/officeart/2005/8/layout/vList2"/>
    <dgm:cxn modelId="{38A2A022-8E97-4EA8-8FF1-C01BDF149CA5}" type="presParOf" srcId="{23372FAA-EF0E-4EA6-92C4-A4CD30ED9F5E}" destId="{38673F28-236C-45EB-A5B9-704A03A77398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8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Fill in the gaps </a:t>
          </a:r>
          <a:r>
            <a:rPr lang="en-US" sz="3600" b="1" dirty="0" smtClean="0">
              <a:solidFill>
                <a:srgbClr val="FF0000"/>
              </a:solidFill>
            </a:rPr>
            <a:t>(am, is, are)</a:t>
          </a:r>
          <a:r>
            <a:rPr lang="en-US" sz="3600" b="1" dirty="0" smtClean="0">
              <a:solidFill>
                <a:srgbClr val="002060"/>
              </a:solidFill>
            </a:rPr>
            <a:t>.</a:t>
          </a:r>
          <a:endParaRPr lang="ru-RU" sz="3600" b="1" dirty="0">
            <a:solidFill>
              <a:srgbClr val="00206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>
            <a:solidFill>
              <a:srgbClr val="002060"/>
            </a:solidFill>
          </a:endParaRPr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>
            <a:solidFill>
              <a:srgbClr val="002060"/>
            </a:solidFill>
          </a:endParaRPr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C459714-4670-44B5-8027-D60211251590}" type="presOf" srcId="{2D12C966-950A-4088-927E-A6A3A2FFBFDC}" destId="{EB7FC6E1-083E-4ECA-99D8-1F2DBD66B6A9}" srcOrd="0" destOrd="0" presId="urn:microsoft.com/office/officeart/2005/8/layout/vList2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4B6772B9-AA41-421F-9FF5-9ABB8725B343}" type="presOf" srcId="{96570C62-DC05-44A6-86B5-43E4F319A635}" destId="{73F9C575-9C73-4BBF-A96E-6D95DF6FC640}" srcOrd="0" destOrd="0" presId="urn:microsoft.com/office/officeart/2005/8/layout/vList2"/>
    <dgm:cxn modelId="{DA9E2335-4780-4FEE-A73B-70E6439044C4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80.xml><?xml version="1.0" encoding="utf-8"?>
<dgm:dataModel xmlns:dgm="http://schemas.openxmlformats.org/drawingml/2006/diagram" xmlns:a="http://schemas.openxmlformats.org/drawingml/2006/main">
  <dgm:ptLst>
    <dgm:pt modelId="{59DEE92C-A28B-4700-958D-0F093AABBBE8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E186C4B8-DD0F-452D-9FF4-1F5A6E77A2B0}">
      <dgm:prSet custT="1"/>
      <dgm:spPr/>
      <dgm:t>
        <a:bodyPr/>
        <a:lstStyle/>
        <a:p>
          <a:pPr rtl="0"/>
          <a:r>
            <a:rPr lang="en-US" sz="2800" b="1" dirty="0" smtClean="0"/>
            <a:t>No, she isn’t.</a:t>
          </a:r>
          <a:endParaRPr lang="ru-RU" sz="2800" b="1" dirty="0"/>
        </a:p>
      </dgm:t>
    </dgm:pt>
    <dgm:pt modelId="{780F4406-D2C9-4991-999F-8346713F21A5}" type="parTrans" cxnId="{31A89F22-7210-483E-89CE-ABFFD1595525}">
      <dgm:prSet/>
      <dgm:spPr/>
      <dgm:t>
        <a:bodyPr/>
        <a:lstStyle/>
        <a:p>
          <a:endParaRPr lang="ru-RU"/>
        </a:p>
      </dgm:t>
    </dgm:pt>
    <dgm:pt modelId="{FB728BEC-D672-4F2E-9204-AC474A6BD158}" type="sibTrans" cxnId="{31A89F22-7210-483E-89CE-ABFFD1595525}">
      <dgm:prSet/>
      <dgm:spPr/>
      <dgm:t>
        <a:bodyPr/>
        <a:lstStyle/>
        <a:p>
          <a:endParaRPr lang="ru-RU"/>
        </a:p>
      </dgm:t>
    </dgm:pt>
    <dgm:pt modelId="{D79F69B7-2267-4620-A5A5-1E01AB064CB4}" type="pres">
      <dgm:prSet presAssocID="{59DEE92C-A28B-4700-958D-0F093AABBBE8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1638023-9EBF-4308-8F07-E1CDCD97207D}" type="pres">
      <dgm:prSet presAssocID="{E186C4B8-DD0F-452D-9FF4-1F5A6E77A2B0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58312E9-ED23-4E8D-A8FC-3CD8379E8937}" type="presOf" srcId="{59DEE92C-A28B-4700-958D-0F093AABBBE8}" destId="{D79F69B7-2267-4620-A5A5-1E01AB064CB4}" srcOrd="0" destOrd="0" presId="urn:microsoft.com/office/officeart/2005/8/layout/vList2"/>
    <dgm:cxn modelId="{8DCEC96D-6A06-48BA-B371-A07D598203E8}" type="presOf" srcId="{E186C4B8-DD0F-452D-9FF4-1F5A6E77A2B0}" destId="{31638023-9EBF-4308-8F07-E1CDCD97207D}" srcOrd="0" destOrd="0" presId="urn:microsoft.com/office/officeart/2005/8/layout/vList2"/>
    <dgm:cxn modelId="{31A89F22-7210-483E-89CE-ABFFD1595525}" srcId="{59DEE92C-A28B-4700-958D-0F093AABBBE8}" destId="{E186C4B8-DD0F-452D-9FF4-1F5A6E77A2B0}" srcOrd="0" destOrd="0" parTransId="{780F4406-D2C9-4991-999F-8346713F21A5}" sibTransId="{FB728BEC-D672-4F2E-9204-AC474A6BD158}"/>
    <dgm:cxn modelId="{F34BFB0B-A73D-412E-A130-178D99C724F9}" type="presParOf" srcId="{D79F69B7-2267-4620-A5A5-1E01AB064CB4}" destId="{31638023-9EBF-4308-8F07-E1CDCD97207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81.xml><?xml version="1.0" encoding="utf-8"?>
<dgm:dataModel xmlns:dgm="http://schemas.openxmlformats.org/drawingml/2006/diagram" xmlns:a="http://schemas.openxmlformats.org/drawingml/2006/main">
  <dgm:ptLst>
    <dgm:pt modelId="{C5E75D76-433D-4C8A-A19D-A5508A6EAA09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B935F760-5B99-4AA3-9D83-8B69770E2C62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happy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5244E18C-1916-4C81-9DA2-7C4B4918D620}" type="parTrans" cxnId="{9588F392-5123-4AD2-AAD9-19A904CCB2EA}">
      <dgm:prSet/>
      <dgm:spPr/>
      <dgm:t>
        <a:bodyPr/>
        <a:lstStyle/>
        <a:p>
          <a:endParaRPr lang="ru-RU"/>
        </a:p>
      </dgm:t>
    </dgm:pt>
    <dgm:pt modelId="{C7FA17A3-F769-4CDB-928B-9C61D281FA89}" type="sibTrans" cxnId="{9588F392-5123-4AD2-AAD9-19A904CCB2EA}">
      <dgm:prSet/>
      <dgm:spPr/>
      <dgm:t>
        <a:bodyPr/>
        <a:lstStyle/>
        <a:p>
          <a:endParaRPr lang="ru-RU"/>
        </a:p>
      </dgm:t>
    </dgm:pt>
    <dgm:pt modelId="{6D99BF4C-4657-4887-B87F-23C3ADCEEDF3}" type="pres">
      <dgm:prSet presAssocID="{C5E75D76-433D-4C8A-A19D-A5508A6EAA09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8A6EB61-69AF-4EAE-8A8C-EE1D2B9F2751}" type="pres">
      <dgm:prSet presAssocID="{B935F760-5B99-4AA3-9D83-8B69770E2C62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29D37F7-04B3-4740-AB58-3DB3D301CCD0}" type="presOf" srcId="{C5E75D76-433D-4C8A-A19D-A5508A6EAA09}" destId="{6D99BF4C-4657-4887-B87F-23C3ADCEEDF3}" srcOrd="0" destOrd="0" presId="urn:microsoft.com/office/officeart/2005/8/layout/vList2"/>
    <dgm:cxn modelId="{74A4AB02-C4A1-408D-A1F0-1B6A2032AB57}" type="presOf" srcId="{B935F760-5B99-4AA3-9D83-8B69770E2C62}" destId="{28A6EB61-69AF-4EAE-8A8C-EE1D2B9F2751}" srcOrd="0" destOrd="0" presId="urn:microsoft.com/office/officeart/2005/8/layout/vList2"/>
    <dgm:cxn modelId="{9588F392-5123-4AD2-AAD9-19A904CCB2EA}" srcId="{C5E75D76-433D-4C8A-A19D-A5508A6EAA09}" destId="{B935F760-5B99-4AA3-9D83-8B69770E2C62}" srcOrd="0" destOrd="0" parTransId="{5244E18C-1916-4C81-9DA2-7C4B4918D620}" sibTransId="{C7FA17A3-F769-4CDB-928B-9C61D281FA89}"/>
    <dgm:cxn modelId="{D750FC7D-126A-4264-9970-7824CE963EC2}" type="presParOf" srcId="{6D99BF4C-4657-4887-B87F-23C3ADCEEDF3}" destId="{28A6EB61-69AF-4EAE-8A8C-EE1D2B9F2751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82.xml><?xml version="1.0" encoding="utf-8"?>
<dgm:dataModel xmlns:dgm="http://schemas.openxmlformats.org/drawingml/2006/diagram" xmlns:a="http://schemas.openxmlformats.org/drawingml/2006/main">
  <dgm:ptLst>
    <dgm:pt modelId="{1CFD027D-67B3-4376-9F45-CBC043206C37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4F142059-1381-4393-91AD-29C489621F14}">
      <dgm:prSet custT="1"/>
      <dgm:spPr/>
      <dgm:t>
        <a:bodyPr/>
        <a:lstStyle/>
        <a:p>
          <a:pPr rtl="0"/>
          <a:r>
            <a:rPr lang="en-US" sz="2800" b="1" dirty="0" smtClean="0"/>
            <a:t>Yes, she is.</a:t>
          </a:r>
          <a:endParaRPr lang="ru-RU" sz="2800" b="1" dirty="0"/>
        </a:p>
      </dgm:t>
    </dgm:pt>
    <dgm:pt modelId="{01281505-BCC9-4907-9E5B-54E46050DC01}" type="parTrans" cxnId="{BD49155F-558F-497C-A7D5-D65CF1F7B363}">
      <dgm:prSet/>
      <dgm:spPr/>
      <dgm:t>
        <a:bodyPr/>
        <a:lstStyle/>
        <a:p>
          <a:endParaRPr lang="ru-RU"/>
        </a:p>
      </dgm:t>
    </dgm:pt>
    <dgm:pt modelId="{B2CF3ABA-1A99-4128-B04F-1CB99D294682}" type="sibTrans" cxnId="{BD49155F-558F-497C-A7D5-D65CF1F7B363}">
      <dgm:prSet/>
      <dgm:spPr/>
      <dgm:t>
        <a:bodyPr/>
        <a:lstStyle/>
        <a:p>
          <a:endParaRPr lang="ru-RU"/>
        </a:p>
      </dgm:t>
    </dgm:pt>
    <dgm:pt modelId="{98604770-6F8A-4856-8899-A69BD53EF1DE}" type="pres">
      <dgm:prSet presAssocID="{1CFD027D-67B3-4376-9F45-CBC043206C37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095B9CF6-4136-402E-87D8-E6947FF5287C}" type="pres">
      <dgm:prSet presAssocID="{4F142059-1381-4393-91AD-29C489621F14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A40579A-1400-4139-93DA-D42C21F42E65}" type="presOf" srcId="{1CFD027D-67B3-4376-9F45-CBC043206C37}" destId="{98604770-6F8A-4856-8899-A69BD53EF1DE}" srcOrd="0" destOrd="0" presId="urn:microsoft.com/office/officeart/2005/8/layout/vList2"/>
    <dgm:cxn modelId="{BD49155F-558F-497C-A7D5-D65CF1F7B363}" srcId="{1CFD027D-67B3-4376-9F45-CBC043206C37}" destId="{4F142059-1381-4393-91AD-29C489621F14}" srcOrd="0" destOrd="0" parTransId="{01281505-BCC9-4907-9E5B-54E46050DC01}" sibTransId="{B2CF3ABA-1A99-4128-B04F-1CB99D294682}"/>
    <dgm:cxn modelId="{44D61861-0B4B-40DA-98D5-3DA52780D069}" type="presOf" srcId="{4F142059-1381-4393-91AD-29C489621F14}" destId="{095B9CF6-4136-402E-87D8-E6947FF5287C}" srcOrd="0" destOrd="0" presId="urn:microsoft.com/office/officeart/2005/8/layout/vList2"/>
    <dgm:cxn modelId="{59BF3203-0BE5-4326-8F73-FEE524EDEBA4}" type="presParOf" srcId="{98604770-6F8A-4856-8899-A69BD53EF1DE}" destId="{095B9CF6-4136-402E-87D8-E6947FF5287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0" minVer="http://schemas.openxmlformats.org/drawingml/2006/diagram"/>
    </a:ext>
  </dgm:extLst>
</dgm:dataModel>
</file>

<file path=ppt/diagrams/data83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Answer the questions.</a:t>
          </a:r>
          <a:endParaRPr lang="ru-RU" sz="3600" b="1" dirty="0">
            <a:solidFill>
              <a:srgbClr val="00206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 custLinFactNeighborY="-1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403D86C-2513-47B5-B1E4-6CADED77D284}" type="presOf" srcId="{2D12C966-950A-4088-927E-A6A3A2FFBFDC}" destId="{EB7FC6E1-083E-4ECA-99D8-1F2DBD66B6A9}" srcOrd="0" destOrd="0" presId="urn:microsoft.com/office/officeart/2005/8/layout/vList2"/>
    <dgm:cxn modelId="{91C3A083-E52B-47E9-9879-B85A904E5D60}" type="presOf" srcId="{96570C62-DC05-44A6-86B5-43E4F319A635}" destId="{73F9C575-9C73-4BBF-A96E-6D95DF6FC640}" srcOrd="0" destOrd="0" presId="urn:microsoft.com/office/officeart/2005/8/layout/vList2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BEC431CD-37C8-4775-B7C2-D63ADAE78F53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5" minVer="http://schemas.openxmlformats.org/drawingml/2006/diagram"/>
    </a:ext>
  </dgm:extLst>
</dgm:dataModel>
</file>

<file path=ppt/diagrams/data84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Correct the mistakes</a:t>
          </a:r>
          <a:r>
            <a:rPr lang="en-US" sz="3600" b="1" dirty="0" smtClean="0">
              <a:solidFill>
                <a:schemeClr val="tx1"/>
              </a:solidFill>
            </a:rPr>
            <a:t>.</a:t>
          </a:r>
          <a:endParaRPr lang="ru-RU" sz="3600" b="1" dirty="0">
            <a:solidFill>
              <a:schemeClr val="tx1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 custLinFactNeighborY="-1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CCE895DE-804F-4AED-B3E1-A01A238D3EBC}" type="presOf" srcId="{2D12C966-950A-4088-927E-A6A3A2FFBFDC}" destId="{EB7FC6E1-083E-4ECA-99D8-1F2DBD66B6A9}" srcOrd="0" destOrd="0" presId="urn:microsoft.com/office/officeart/2005/8/layout/vList2"/>
    <dgm:cxn modelId="{68D8EF03-1814-450A-9015-00E9F1977FC2}" type="presOf" srcId="{96570C62-DC05-44A6-86B5-43E4F319A635}" destId="{73F9C575-9C73-4BBF-A96E-6D95DF6FC640}" srcOrd="0" destOrd="0" presId="urn:microsoft.com/office/officeart/2005/8/layout/vList2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64E8C8B8-4740-44EF-9724-C293B714C268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8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He is happy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7694824-31C3-4AFD-BB77-1BF0B40AD0D5}" type="presOf" srcId="{4B52F623-9EDD-4639-8F4F-A60159388BAE}" destId="{13583DBC-89D5-4A61-947C-7830DF8C31CC}" srcOrd="0" destOrd="0" presId="urn:microsoft.com/office/officeart/2005/8/layout/vList2"/>
    <dgm:cxn modelId="{907330AA-A0BC-495E-A470-E9CA58D17204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2780AF9B-D9EF-4592-9E0A-3326AAD74D23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8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s he tall.</a:t>
          </a:r>
          <a:endParaRPr lang="ru-RU" sz="2800" b="1" dirty="0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CE6D6454-240B-476D-86B0-435829FD1F71}" type="presOf" srcId="{4B52F623-9EDD-4639-8F4F-A60159388BAE}" destId="{13583DBC-89D5-4A61-947C-7830DF8C31CC}" srcOrd="0" destOrd="0" presId="urn:microsoft.com/office/officeart/2005/8/layout/vList2"/>
    <dgm:cxn modelId="{53B5BC14-C407-4BA6-8CC0-4A78C719FAA0}" type="presOf" srcId="{AA54ED0A-A7A9-4E1B-9CF6-A7AF3F2D899A}" destId="{DC3E2338-4F7B-49E8-8119-14A26B802010}" srcOrd="0" destOrd="0" presId="urn:microsoft.com/office/officeart/2005/8/layout/vList2"/>
    <dgm:cxn modelId="{3EEE957B-50EB-40D2-AF5D-849DAFFCC9C4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87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s he tall</a:t>
          </a:r>
          <a:r>
            <a:rPr lang="en-US" sz="2800" b="1" u="sng" dirty="0" smtClean="0"/>
            <a:t>?</a:t>
          </a:r>
          <a:endParaRPr lang="ru-RU" sz="2800" b="1" u="sng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Y="37540" custLinFactNeighborX="4255" custLinFactNeighborY="100000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E865C26C-E2EC-429E-84CB-F26AAF6BE86C}" type="presOf" srcId="{4B52F623-9EDD-4639-8F4F-A60159388BAE}" destId="{13583DBC-89D5-4A61-947C-7830DF8C31CC}" srcOrd="0" destOrd="0" presId="urn:microsoft.com/office/officeart/2005/8/layout/vList2"/>
    <dgm:cxn modelId="{5255EBFD-8C75-476D-8ED7-EEA3299D8F36}" type="presOf" srcId="{AA54ED0A-A7A9-4E1B-9CF6-A7AF3F2D899A}" destId="{DC3E2338-4F7B-49E8-8119-14A26B802010}" srcOrd="0" destOrd="0" presId="urn:microsoft.com/office/officeart/2005/8/layout/vList2"/>
    <dgm:cxn modelId="{18F0E58F-F2AF-49AC-8E8D-250113F6DB92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88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He slim is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58B0FDE-4DA1-440A-B22C-9F7CBE63A425}" type="presOf" srcId="{4B52F623-9EDD-4639-8F4F-A60159388BAE}" destId="{13583DBC-89D5-4A61-947C-7830DF8C31CC}" srcOrd="0" destOrd="0" presId="urn:microsoft.com/office/officeart/2005/8/layout/vList2"/>
    <dgm:cxn modelId="{CB55B558-991C-4DE9-8EFF-DB04F3E3C0B9}" type="presOf" srcId="{AA54ED0A-A7A9-4E1B-9CF6-A7AF3F2D899A}" destId="{DC3E2338-4F7B-49E8-8119-14A26B802010}" srcOrd="0" destOrd="0" presId="urn:microsoft.com/office/officeart/2005/8/layout/vList2"/>
    <dgm:cxn modelId="{2DF52653-ABF2-4848-9844-C609E59C9990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89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u="sng" dirty="0" smtClean="0"/>
            <a:t>Is</a:t>
          </a:r>
          <a:r>
            <a:rPr lang="en-US" sz="2800" b="1" dirty="0" smtClean="0"/>
            <a:t> he slim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4F21270B-0A8C-4B37-9B96-B8F88C57C8EA}" type="presOf" srcId="{AA54ED0A-A7A9-4E1B-9CF6-A7AF3F2D899A}" destId="{DC3E2338-4F7B-49E8-8119-14A26B802010}" srcOrd="0" destOrd="0" presId="urn:microsoft.com/office/officeart/2005/8/layout/vList2"/>
    <dgm:cxn modelId="{D37B7536-24D6-4280-A616-4EB98439E545}" type="presOf" srcId="{4B52F623-9EDD-4639-8F4F-A60159388BAE}" destId="{13583DBC-89D5-4A61-947C-7830DF8C31CC}" srcOrd="0" destOrd="0" presId="urn:microsoft.com/office/officeart/2005/8/layout/vList2"/>
    <dgm:cxn modelId="{A353CF24-1C20-4C16-9EE0-6A6D89AD7A36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9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rtl="0"/>
          <a:r>
            <a:rPr lang="en-US" sz="2800" b="1" dirty="0" smtClean="0"/>
            <a:t>       I   …       Bob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F10BC319-06FF-463F-AEB3-A80807B915AA}" type="presOf" srcId="{AA54ED0A-A7A9-4E1B-9CF6-A7AF3F2D899A}" destId="{DC3E2338-4F7B-49E8-8119-14A26B802010}" srcOrd="0" destOrd="0" presId="urn:microsoft.com/office/officeart/2005/8/layout/vList2"/>
    <dgm:cxn modelId="{94753C7E-0C5F-4216-BBCB-6611848128BB}" type="presOf" srcId="{4B52F623-9EDD-4639-8F4F-A60159388BAE}" destId="{13583DBC-89D5-4A61-947C-7830DF8C31CC}" srcOrd="0" destOrd="0" presId="urn:microsoft.com/office/officeart/2005/8/layout/vList2"/>
    <dgm:cxn modelId="{A7469242-BA7F-49A8-9270-4ECD4A76873C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9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No, he is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FB037FB6-BA31-4690-8457-114D63D961C8}" type="presOf" srcId="{4B52F623-9EDD-4639-8F4F-A60159388BAE}" destId="{13583DBC-89D5-4A61-947C-7830DF8C31CC}" srcOrd="0" destOrd="0" presId="urn:microsoft.com/office/officeart/2005/8/layout/vList2"/>
    <dgm:cxn modelId="{295509D6-1E2D-409C-9913-974D80C10F5C}" type="presOf" srcId="{AA54ED0A-A7A9-4E1B-9CF6-A7AF3F2D899A}" destId="{DC3E2338-4F7B-49E8-8119-14A26B802010}" srcOrd="0" destOrd="0" presId="urn:microsoft.com/office/officeart/2005/8/layout/vList2"/>
    <dgm:cxn modelId="{E82D193F-447C-4154-B054-B87DB1A11194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9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No, he </a:t>
          </a:r>
          <a:r>
            <a:rPr lang="en-US" sz="2800" b="1" u="sng" dirty="0" smtClean="0"/>
            <a:t>isn’t</a:t>
          </a:r>
          <a:r>
            <a:rPr lang="en-US" sz="2800" b="1" dirty="0" smtClean="0"/>
            <a:t>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D314FD9-63F0-446A-B3E0-D04044AD1DCA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E0DD62C2-BFA0-4400-9F13-E594CFBE6190}" type="presOf" srcId="{AA54ED0A-A7A9-4E1B-9CF6-A7AF3F2D899A}" destId="{DC3E2338-4F7B-49E8-8119-14A26B802010}" srcOrd="0" destOrd="0" presId="urn:microsoft.com/office/officeart/2005/8/layout/vList2"/>
    <dgm:cxn modelId="{93331E1E-3866-43A3-BA98-1171AF4533D1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92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u="sng" dirty="0" smtClean="0"/>
            <a:t>Is</a:t>
          </a:r>
          <a:r>
            <a:rPr lang="en-US" sz="2800" b="1" dirty="0" smtClean="0"/>
            <a:t> he happy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2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6CFC1501-A206-49B6-BDEA-72405275A29C}" type="presOf" srcId="{4B52F623-9EDD-4639-8F4F-A60159388BAE}" destId="{13583DBC-89D5-4A61-947C-7830DF8C31CC}" srcOrd="0" destOrd="0" presId="urn:microsoft.com/office/officeart/2005/8/layout/vList2"/>
    <dgm:cxn modelId="{487C85F6-3AE5-4421-98E5-A881203001D0}" type="presOf" srcId="{AA54ED0A-A7A9-4E1B-9CF6-A7AF3F2D899A}" destId="{DC3E2338-4F7B-49E8-8119-14A26B802010}" srcOrd="0" destOrd="0" presId="urn:microsoft.com/office/officeart/2005/8/layout/vList2"/>
    <dgm:cxn modelId="{6269A11A-68AF-47C0-BFE4-1ED68EAA253C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9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Yes, h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95D4C8F-B33B-486A-81D6-3CD47462D9E1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1AD05E07-B6D2-4B50-B5DC-E3CA0B28DA80}" type="presOf" srcId="{AA54ED0A-A7A9-4E1B-9CF6-A7AF3F2D899A}" destId="{DC3E2338-4F7B-49E8-8119-14A26B802010}" srcOrd="0" destOrd="0" presId="urn:microsoft.com/office/officeart/2005/8/layout/vList2"/>
    <dgm:cxn modelId="{CEF20ECC-E791-43A9-B723-A9DE0FAD2DF6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94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Yes, he </a:t>
          </a:r>
          <a:r>
            <a:rPr lang="en-US" sz="2800" b="1" u="sng" dirty="0" smtClean="0"/>
            <a:t>is</a:t>
          </a:r>
          <a:r>
            <a:rPr lang="en-US" sz="2800" b="1" dirty="0" smtClean="0"/>
            <a:t>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19ED7D29-56CA-415B-90DA-D6B804FE27FE}" type="presOf" srcId="{AA54ED0A-A7A9-4E1B-9CF6-A7AF3F2D899A}" destId="{DC3E2338-4F7B-49E8-8119-14A26B802010}" srcOrd="0" destOrd="0" presId="urn:microsoft.com/office/officeart/2005/8/layout/vList2"/>
    <dgm:cxn modelId="{2A7AFBFF-E0A5-4D8B-8DE9-32272445A78D}" type="presOf" srcId="{4B52F623-9EDD-4639-8F4F-A60159388BAE}" destId="{13583DBC-89D5-4A61-947C-7830DF8C31CC}" srcOrd="0" destOrd="0" presId="urn:microsoft.com/office/officeart/2005/8/layout/vList2"/>
    <dgm:cxn modelId="{2742F9F6-F0B4-4022-9EBB-F32EDADFB77F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9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He young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16B36A82-87E4-4982-9B57-E1CD4A59B4F6}" type="presOf" srcId="{4B52F623-9EDD-4639-8F4F-A60159388BAE}" destId="{13583DBC-89D5-4A61-947C-7830DF8C31CC}" srcOrd="0" destOrd="0" presId="urn:microsoft.com/office/officeart/2005/8/layout/vList2"/>
    <dgm:cxn modelId="{52BE81E7-9E61-4AEB-971C-D9788BF5ED36}" type="presOf" srcId="{AA54ED0A-A7A9-4E1B-9CF6-A7AF3F2D899A}" destId="{DC3E2338-4F7B-49E8-8119-14A26B802010}" srcOrd="0" destOrd="0" presId="urn:microsoft.com/office/officeart/2005/8/layout/vList2"/>
    <dgm:cxn modelId="{9E701574-0108-4843-8D2F-91211AA6DCFA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0" minVer="http://schemas.openxmlformats.org/drawingml/2006/diagram"/>
    </a:ext>
  </dgm:extLst>
</dgm:dataModel>
</file>

<file path=ppt/diagrams/data9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u="sng" dirty="0" smtClean="0"/>
            <a:t>Is</a:t>
          </a:r>
          <a:r>
            <a:rPr lang="en-US" sz="2800" b="1" dirty="0" smtClean="0"/>
            <a:t> he young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5B5A036-EC12-4D4B-96B7-C2DA3F68E14F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D36AD5E2-6766-4D2D-918D-7438059E4981}" type="presOf" srcId="{AA54ED0A-A7A9-4E1B-9CF6-A7AF3F2D899A}" destId="{DC3E2338-4F7B-49E8-8119-14A26B802010}" srcOrd="0" destOrd="0" presId="urn:microsoft.com/office/officeart/2005/8/layout/vList2"/>
    <dgm:cxn modelId="{52732261-2FD1-4DBF-B543-3A4706643B6D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5" minVer="http://schemas.openxmlformats.org/drawingml/2006/diagram"/>
    </a:ext>
  </dgm:extLst>
</dgm:dataModel>
</file>

<file path=ppt/diagrams/data97.xml><?xml version="1.0" encoding="utf-8"?>
<dgm:dataModel xmlns:dgm="http://schemas.openxmlformats.org/drawingml/2006/diagram" xmlns:a="http://schemas.openxmlformats.org/drawingml/2006/main">
  <dgm:ptLst>
    <dgm:pt modelId="{007B261E-B9F0-4455-A3D5-2DF1B0790E80}" type="doc">
      <dgm:prSet loTypeId="urn:microsoft.com/office/officeart/2005/8/layout/vList2" loCatId="list" qsTypeId="urn:microsoft.com/office/officeart/2005/8/quickstyle/simple3" qsCatId="simple" csTypeId="urn:microsoft.com/office/officeart/2005/8/colors/accent3_5" csCatId="accent3" phldr="1"/>
      <dgm:spPr/>
      <dgm:t>
        <a:bodyPr/>
        <a:lstStyle/>
        <a:p>
          <a:endParaRPr lang="ru-RU"/>
        </a:p>
      </dgm:t>
    </dgm:pt>
    <dgm:pt modelId="{429C0406-0F06-49C2-90A6-611B6C63F454}" type="pres">
      <dgm:prSet presAssocID="{007B261E-B9F0-4455-A3D5-2DF1B0790E80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</dgm:ptLst>
  <dgm:cxnLst>
    <dgm:cxn modelId="{18112E72-8BBD-4032-8C2A-C36AD0BADC9D}" type="presOf" srcId="{007B261E-B9F0-4455-A3D5-2DF1B0790E80}" destId="{429C0406-0F06-49C2-90A6-611B6C63F454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98.xml><?xml version="1.0" encoding="utf-8"?>
<dgm:dataModel xmlns:dgm="http://schemas.openxmlformats.org/drawingml/2006/diagram" xmlns:a="http://schemas.openxmlformats.org/drawingml/2006/main">
  <dgm:ptLst>
    <dgm:pt modelId="{1EC364E1-7ED0-462F-A115-BC8CDC6D1077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45FA3132-A72B-4FD4-B887-03F9B0AC5975}">
      <dgm:prSet/>
      <dgm:spPr/>
      <dgm:t>
        <a:bodyPr/>
        <a:lstStyle/>
        <a:p>
          <a:pPr algn="ctr" rtl="0"/>
          <a:r>
            <a:rPr lang="ru-RU" b="0" i="0" baseline="0" dirty="0" smtClean="0">
              <a:solidFill>
                <a:srgbClr val="002060"/>
              </a:solidFill>
            </a:rPr>
            <a:t>Спасибо за внимание!</a:t>
          </a:r>
          <a:endParaRPr lang="ru-RU" b="0" i="0" baseline="0" dirty="0">
            <a:solidFill>
              <a:srgbClr val="002060"/>
            </a:solidFill>
          </a:endParaRPr>
        </a:p>
      </dgm:t>
    </dgm:pt>
    <dgm:pt modelId="{C70CA675-4524-41E3-9A8A-CF746AE66EC0}" type="parTrans" cxnId="{6FB97769-5557-44BC-9540-FF6FCE56F8ED}">
      <dgm:prSet/>
      <dgm:spPr/>
      <dgm:t>
        <a:bodyPr/>
        <a:lstStyle/>
        <a:p>
          <a:endParaRPr lang="ru-RU"/>
        </a:p>
      </dgm:t>
    </dgm:pt>
    <dgm:pt modelId="{BAB340B5-9E77-49B3-B817-26928E79E497}" type="sibTrans" cxnId="{6FB97769-5557-44BC-9540-FF6FCE56F8ED}">
      <dgm:prSet/>
      <dgm:spPr/>
      <dgm:t>
        <a:bodyPr/>
        <a:lstStyle/>
        <a:p>
          <a:endParaRPr lang="ru-RU"/>
        </a:p>
      </dgm:t>
    </dgm:pt>
    <dgm:pt modelId="{9DC503EA-4954-4EF2-9B30-5F1753387B63}" type="pres">
      <dgm:prSet presAssocID="{1EC364E1-7ED0-462F-A115-BC8CDC6D1077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DBBB6A65-DE37-4B18-97A7-DFE4846E9361}" type="pres">
      <dgm:prSet presAssocID="{45FA3132-A72B-4FD4-B887-03F9B0AC5975}" presName="parentText" presStyleLbl="node1" presStyleIdx="0" presStyleCnt="1" custLinFactNeighborX="-91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0978C61-9233-4117-AD9E-AD36A5FD49FD}" type="presOf" srcId="{45FA3132-A72B-4FD4-B887-03F9B0AC5975}" destId="{DBBB6A65-DE37-4B18-97A7-DFE4846E9361}" srcOrd="0" destOrd="0" presId="urn:microsoft.com/office/officeart/2005/8/layout/vList2"/>
    <dgm:cxn modelId="{AEB12C9E-10F6-467C-A941-9F59F0A59EA6}" type="presOf" srcId="{1EC364E1-7ED0-462F-A115-BC8CDC6D1077}" destId="{9DC503EA-4954-4EF2-9B30-5F1753387B63}" srcOrd="0" destOrd="0" presId="urn:microsoft.com/office/officeart/2005/8/layout/vList2"/>
    <dgm:cxn modelId="{6FB97769-5557-44BC-9540-FF6FCE56F8ED}" srcId="{1EC364E1-7ED0-462F-A115-BC8CDC6D1077}" destId="{45FA3132-A72B-4FD4-B887-03F9B0AC5975}" srcOrd="0" destOrd="0" parTransId="{C70CA675-4524-41E3-9A8A-CF746AE66EC0}" sibTransId="{BAB340B5-9E77-49B3-B817-26928E79E497}"/>
    <dgm:cxn modelId="{27522AC1-627F-4452-9D7E-063CA9C73DE7}" type="presParOf" srcId="{9DC503EA-4954-4EF2-9B30-5F1753387B63}" destId="{DBBB6A65-DE37-4B18-97A7-DFE4846E9361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9" minVer="http://schemas.openxmlformats.org/drawingml/2006/diagram"/>
    </a:ext>
  </dgm:extLst>
</dgm:dataModel>
</file>

<file path=ppt/diagrams/drawing1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443"/>
          <a:ext cx="6192084" cy="571060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      It   …    my toy.</a:t>
          </a:r>
          <a:endParaRPr lang="ru-RU" sz="2800" b="1" kern="1200" dirty="0"/>
        </a:p>
      </dsp:txBody>
      <dsp:txXfrm>
        <a:off x="27877" y="28320"/>
        <a:ext cx="6136330" cy="515306"/>
      </dsp:txXfrm>
    </dsp:sp>
  </dsp:spTree>
</dsp:drawing>
</file>

<file path=ppt/diagrams/drawing1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443"/>
          <a:ext cx="6192084" cy="571060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   We  …       friends.</a:t>
          </a:r>
          <a:endParaRPr lang="ru-RU" sz="2800" b="1" kern="1200" dirty="0"/>
        </a:p>
      </dsp:txBody>
      <dsp:txXfrm>
        <a:off x="27877" y="28320"/>
        <a:ext cx="6136330" cy="515306"/>
      </dsp:txXfrm>
    </dsp:sp>
  </dsp:spTree>
</dsp:drawing>
</file>

<file path=ppt/diagrams/drawing1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20311"/>
          <a:ext cx="785786" cy="509515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am</a:t>
          </a:r>
          <a:endParaRPr lang="ru-RU" sz="2800" b="1" kern="1200" dirty="0"/>
        </a:p>
      </dsp:txBody>
      <dsp:txXfrm>
        <a:off x="24872" y="45183"/>
        <a:ext cx="736042" cy="459771"/>
      </dsp:txXfrm>
    </dsp:sp>
  </dsp:spTree>
</dsp:drawing>
</file>

<file path=ppt/diagrams/drawing1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20311"/>
          <a:ext cx="785786" cy="509515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are</a:t>
          </a:r>
          <a:endParaRPr lang="ru-RU" sz="2800" b="1" kern="1200" dirty="0"/>
        </a:p>
      </dsp:txBody>
      <dsp:txXfrm>
        <a:off x="24872" y="45183"/>
        <a:ext cx="736042" cy="459771"/>
      </dsp:txXfrm>
    </dsp:sp>
  </dsp:spTree>
</dsp:drawing>
</file>

<file path=ppt/diagrams/drawing1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5015"/>
          <a:ext cx="642909" cy="560921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</a:t>
          </a:r>
          <a:endParaRPr lang="ru-RU" sz="2800" b="1" kern="1200" dirty="0"/>
        </a:p>
      </dsp:txBody>
      <dsp:txXfrm>
        <a:off x="27382" y="32397"/>
        <a:ext cx="588145" cy="506157"/>
      </dsp:txXfrm>
    </dsp:sp>
  </dsp:spTree>
</dsp:drawing>
</file>

<file path=ppt/diagrams/drawing1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20311"/>
          <a:ext cx="785786" cy="509515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are</a:t>
          </a:r>
          <a:endParaRPr lang="ru-RU" sz="2800" b="1" kern="1200" dirty="0"/>
        </a:p>
      </dsp:txBody>
      <dsp:txXfrm>
        <a:off x="24872" y="45183"/>
        <a:ext cx="736042" cy="459771"/>
      </dsp:txXfrm>
    </dsp:sp>
  </dsp:spTree>
</dsp:drawing>
</file>

<file path=ppt/diagrams/drawing1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20311"/>
          <a:ext cx="785786" cy="509515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are</a:t>
          </a:r>
          <a:endParaRPr lang="ru-RU" sz="2800" b="1" kern="1200" dirty="0"/>
        </a:p>
      </dsp:txBody>
      <dsp:txXfrm>
        <a:off x="24872" y="45183"/>
        <a:ext cx="736042" cy="459771"/>
      </dsp:txXfrm>
    </dsp:sp>
  </dsp:spTree>
</dsp:drawing>
</file>

<file path=ppt/diagrams/drawing1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0"/>
          <a:ext cx="642909" cy="560921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</a:t>
          </a:r>
          <a:endParaRPr lang="ru-RU" sz="2800" b="1" kern="1200" dirty="0"/>
        </a:p>
      </dsp:txBody>
      <dsp:txXfrm>
        <a:off x="27382" y="27382"/>
        <a:ext cx="588145" cy="506157"/>
      </dsp:txXfrm>
    </dsp:sp>
  </dsp:spTree>
</dsp:drawing>
</file>

<file path=ppt/diagrams/drawing1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5015"/>
          <a:ext cx="642909" cy="560921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</a:t>
          </a:r>
          <a:endParaRPr lang="ru-RU" sz="2800" b="1" kern="1200" dirty="0"/>
        </a:p>
      </dsp:txBody>
      <dsp:txXfrm>
        <a:off x="27382" y="32397"/>
        <a:ext cx="588145" cy="506157"/>
      </dsp:txXfrm>
    </dsp:sp>
  </dsp:spTree>
</dsp:drawing>
</file>

<file path=ppt/diagrams/drawing1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200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Correct the mistakes.</a:t>
          </a:r>
          <a:endParaRPr lang="ru-RU" sz="3600" b="1" kern="1200" dirty="0">
            <a:solidFill>
              <a:srgbClr val="FF0000"/>
            </a:solidFill>
          </a:endParaRPr>
        </a:p>
      </dsp:txBody>
      <dsp:txXfrm>
        <a:off x="34537" y="34737"/>
        <a:ext cx="8003420" cy="63841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9F2A04B-B3C8-4DDE-9EAD-D3232A1EA912}">
      <dsp:nvSpPr>
        <dsp:cNvPr id="0" name=""/>
        <dsp:cNvSpPr/>
      </dsp:nvSpPr>
      <dsp:spPr>
        <a:xfrm>
          <a:off x="0" y="645"/>
          <a:ext cx="8229600" cy="1141709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kern="1200" dirty="0" smtClean="0">
              <a:solidFill>
                <a:srgbClr val="002060"/>
              </a:solidFill>
            </a:rPr>
            <a:t>Contents </a:t>
          </a:r>
          <a:endParaRPr lang="ru-RU" sz="6600" kern="1200" dirty="0">
            <a:solidFill>
              <a:srgbClr val="002060"/>
            </a:solidFill>
          </a:endParaRPr>
        </a:p>
      </dsp:txBody>
      <dsp:txXfrm>
        <a:off x="55734" y="56379"/>
        <a:ext cx="8118132" cy="1030241"/>
      </dsp:txXfrm>
    </dsp:sp>
  </dsp:spTree>
</dsp:drawing>
</file>

<file path=ppt/diagrams/drawing2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are sa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2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is purple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2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72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</a:t>
          </a:r>
          <a:r>
            <a:rPr lang="en-US" sz="2800" b="1" u="sng" kern="1200" dirty="0" smtClean="0"/>
            <a:t>am</a:t>
          </a:r>
          <a:r>
            <a:rPr lang="en-US" sz="2800" b="1" kern="1200" dirty="0" smtClean="0"/>
            <a:t> purple.</a:t>
          </a:r>
          <a:endParaRPr lang="ru-RU" sz="2800" b="1" kern="1200" dirty="0"/>
        </a:p>
      </dsp:txBody>
      <dsp:txXfrm>
        <a:off x="27885" y="28157"/>
        <a:ext cx="3301816" cy="515461"/>
      </dsp:txXfrm>
    </dsp:sp>
  </dsp:spTree>
</dsp:drawing>
</file>

<file path=ppt/diagrams/drawing2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am slim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2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</a:t>
          </a:r>
          <a:r>
            <a:rPr lang="en-US" sz="2800" b="1" u="sng" kern="1200" dirty="0" smtClean="0"/>
            <a:t>is</a:t>
          </a:r>
          <a:r>
            <a:rPr lang="en-US" sz="2800" b="1" kern="1200" dirty="0" smtClean="0"/>
            <a:t> slim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2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are tall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2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</a:t>
          </a:r>
          <a:r>
            <a:rPr lang="en-US" sz="2800" b="1" u="sng" kern="1200" dirty="0" smtClean="0"/>
            <a:t>is</a:t>
          </a:r>
          <a:r>
            <a:rPr lang="en-US" sz="2800" b="1" kern="1200" dirty="0" smtClean="0"/>
            <a:t> tall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2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</a:t>
          </a:r>
          <a:r>
            <a:rPr lang="en-US" sz="2800" b="1" u="sng" kern="1200" dirty="0" smtClean="0"/>
            <a:t>is</a:t>
          </a:r>
          <a:r>
            <a:rPr lang="en-US" sz="2800" b="1" kern="1200" dirty="0" smtClean="0"/>
            <a:t> sad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2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am plump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2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</a:t>
          </a:r>
          <a:r>
            <a:rPr lang="en-US" sz="2800" b="1" u="sng" kern="1200" dirty="0" smtClean="0"/>
            <a:t>are</a:t>
          </a:r>
          <a:r>
            <a:rPr lang="en-US" sz="2800" b="1" kern="1200" dirty="0" smtClean="0"/>
            <a:t> plump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C06D926C-2EE2-4D26-BAFD-D7BB5F2A8AE5}">
      <dsp:nvSpPr>
        <dsp:cNvPr id="0" name=""/>
        <dsp:cNvSpPr/>
      </dsp:nvSpPr>
      <dsp:spPr>
        <a:xfrm>
          <a:off x="2843218" y="1214"/>
          <a:ext cx="2171743" cy="2171743"/>
        </a:xfrm>
        <a:prstGeom prst="ellipse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0800" tIns="50800" rIns="50800" bIns="508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000" kern="1200" dirty="0"/>
        </a:p>
      </dsp:txBody>
      <dsp:txXfrm>
        <a:off x="3161262" y="319258"/>
        <a:ext cx="1535655" cy="1535655"/>
      </dsp:txXfrm>
    </dsp:sp>
    <dsp:sp modelId="{B231F16B-4EB1-409D-9660-BA1CA497FB96}">
      <dsp:nvSpPr>
        <dsp:cNvPr id="0" name=""/>
        <dsp:cNvSpPr/>
      </dsp:nvSpPr>
      <dsp:spPr>
        <a:xfrm rot="3600000">
          <a:off x="4447455" y="2119662"/>
          <a:ext cx="578762" cy="732963"/>
        </a:xfrm>
        <a:prstGeom prst="rightArrow">
          <a:avLst>
            <a:gd name="adj1" fmla="val 60000"/>
            <a:gd name="adj2" fmla="val 50000"/>
          </a:avLst>
        </a:prstGeom>
        <a:solidFill>
          <a:schemeClr val="accent5"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466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300" kern="1200"/>
        </a:p>
      </dsp:txBody>
      <dsp:txXfrm>
        <a:off x="4490862" y="2191071"/>
        <a:ext cx="405133" cy="439777"/>
      </dsp:txXfrm>
    </dsp:sp>
    <dsp:sp modelId="{AAFDEFCE-DCC7-47E5-81A6-5C9405A5A361}">
      <dsp:nvSpPr>
        <dsp:cNvPr id="0" name=""/>
        <dsp:cNvSpPr/>
      </dsp:nvSpPr>
      <dsp:spPr>
        <a:xfrm>
          <a:off x="4475091" y="2827702"/>
          <a:ext cx="2171743" cy="2171743"/>
        </a:xfrm>
        <a:prstGeom prst="ellipse">
          <a:avLst/>
        </a:prstGeom>
        <a:solidFill>
          <a:schemeClr val="accent5">
            <a:hueOff val="7661738"/>
            <a:satOff val="-4451"/>
            <a:lumOff val="-2745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0800" tIns="50800" rIns="50800" bIns="508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000" kern="1200"/>
        </a:p>
      </dsp:txBody>
      <dsp:txXfrm>
        <a:off x="4793135" y="3145746"/>
        <a:ext cx="1535655" cy="1535655"/>
      </dsp:txXfrm>
    </dsp:sp>
    <dsp:sp modelId="{C3226745-A5DF-4C3D-A85D-A4E92B077DA3}">
      <dsp:nvSpPr>
        <dsp:cNvPr id="0" name=""/>
        <dsp:cNvSpPr/>
      </dsp:nvSpPr>
      <dsp:spPr>
        <a:xfrm rot="10800000">
          <a:off x="3656089" y="3547092"/>
          <a:ext cx="578762" cy="732963"/>
        </a:xfrm>
        <a:prstGeom prst="rightArrow">
          <a:avLst>
            <a:gd name="adj1" fmla="val 60000"/>
            <a:gd name="adj2" fmla="val 50000"/>
          </a:avLst>
        </a:prstGeom>
        <a:solidFill>
          <a:schemeClr val="accent5">
            <a:hueOff val="7661738"/>
            <a:satOff val="-4451"/>
            <a:lumOff val="-2745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466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300" kern="1200"/>
        </a:p>
      </dsp:txBody>
      <dsp:txXfrm rot="10800000">
        <a:off x="3829718" y="3693685"/>
        <a:ext cx="405133" cy="439777"/>
      </dsp:txXfrm>
    </dsp:sp>
    <dsp:sp modelId="{BC97BD55-7DC3-4C41-8229-908293E2B22D}">
      <dsp:nvSpPr>
        <dsp:cNvPr id="0" name=""/>
        <dsp:cNvSpPr/>
      </dsp:nvSpPr>
      <dsp:spPr>
        <a:xfrm>
          <a:off x="1211344" y="2827702"/>
          <a:ext cx="2171743" cy="2171743"/>
        </a:xfrm>
        <a:prstGeom prst="ellipse">
          <a:avLst/>
        </a:prstGeom>
        <a:solidFill>
          <a:schemeClr val="accent5">
            <a:hueOff val="15323477"/>
            <a:satOff val="-8902"/>
            <a:lumOff val="-549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0800" tIns="50800" rIns="50800" bIns="508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000" kern="1200"/>
        </a:p>
      </dsp:txBody>
      <dsp:txXfrm>
        <a:off x="1529388" y="3145746"/>
        <a:ext cx="1535655" cy="1535655"/>
      </dsp:txXfrm>
    </dsp:sp>
    <dsp:sp modelId="{2C457698-33D7-48AD-B439-2280B5B92AB2}">
      <dsp:nvSpPr>
        <dsp:cNvPr id="0" name=""/>
        <dsp:cNvSpPr/>
      </dsp:nvSpPr>
      <dsp:spPr>
        <a:xfrm rot="18000000">
          <a:off x="2815582" y="2148033"/>
          <a:ext cx="578762" cy="732963"/>
        </a:xfrm>
        <a:prstGeom prst="rightArrow">
          <a:avLst>
            <a:gd name="adj1" fmla="val 60000"/>
            <a:gd name="adj2" fmla="val 50000"/>
          </a:avLst>
        </a:prstGeom>
        <a:solidFill>
          <a:schemeClr val="accent5">
            <a:hueOff val="15323477"/>
            <a:satOff val="-8902"/>
            <a:lumOff val="-549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466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300" kern="1200"/>
        </a:p>
      </dsp:txBody>
      <dsp:txXfrm>
        <a:off x="2858989" y="2369810"/>
        <a:ext cx="405133" cy="439777"/>
      </dsp:txXfrm>
    </dsp:sp>
  </dsp:spTree>
</dsp:drawing>
</file>

<file path=ppt/diagrams/drawing3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is young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3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</a:t>
          </a:r>
          <a:r>
            <a:rPr lang="en-US" sz="2800" b="1" u="sng" kern="1200" dirty="0" smtClean="0"/>
            <a:t>are</a:t>
          </a:r>
          <a:r>
            <a:rPr lang="en-US" sz="2800" b="1" kern="1200" dirty="0" smtClean="0"/>
            <a:t> young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3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am ol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3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</a:t>
          </a:r>
          <a:r>
            <a:rPr lang="en-US" sz="2800" b="1" u="sng" kern="1200" dirty="0" smtClean="0"/>
            <a:t>are</a:t>
          </a:r>
          <a:r>
            <a:rPr lang="en-US" sz="2800" b="1" kern="1200" dirty="0" smtClean="0"/>
            <a:t> old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3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7181" y="2908782"/>
          <a:ext cx="2996881" cy="638538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35145"/>
              </a:lnTo>
              <a:lnTo>
                <a:pt x="2996881" y="435145"/>
              </a:lnTo>
              <a:lnTo>
                <a:pt x="2996881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32600" y="2908782"/>
          <a:ext cx="91440" cy="638538"/>
        </a:xfrm>
        <a:custGeom>
          <a:avLst/>
          <a:gdLst/>
          <a:ahLst/>
          <a:cxnLst/>
          <a:rect l="0" t="0" r="0" b="0"/>
          <a:pathLst>
            <a:path>
              <a:moveTo>
                <a:pt x="74580" y="0"/>
              </a:moveTo>
              <a:lnTo>
                <a:pt x="74580" y="435145"/>
              </a:lnTo>
              <a:lnTo>
                <a:pt x="45720" y="435145"/>
              </a:lnTo>
              <a:lnTo>
                <a:pt x="45720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281438" y="2908782"/>
          <a:ext cx="3025742" cy="638538"/>
        </a:xfrm>
        <a:custGeom>
          <a:avLst/>
          <a:gdLst/>
          <a:ahLst/>
          <a:cxnLst/>
          <a:rect l="0" t="0" r="0" b="0"/>
          <a:pathLst>
            <a:path>
              <a:moveTo>
                <a:pt x="3025742" y="0"/>
              </a:moveTo>
              <a:lnTo>
                <a:pt x="3025742" y="435145"/>
              </a:lnTo>
              <a:lnTo>
                <a:pt x="0" y="435145"/>
              </a:lnTo>
              <a:lnTo>
                <a:pt x="0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1989639" y="806524"/>
          <a:ext cx="4635084" cy="210225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233588" y="1038276"/>
          <a:ext cx="4635084" cy="210225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13360" tIns="213360" rIns="213360" bIns="213360" numCol="1" spcCol="1270" anchor="ctr" anchorCtr="0">
          <a:noAutofit/>
        </a:bodyPr>
        <a:lstStyle/>
        <a:p>
          <a:pPr lvl="0" algn="ctr" defTabSz="2489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600" b="1" u="sng" kern="1200" dirty="0" smtClean="0">
              <a:solidFill>
                <a:srgbClr val="0070C0"/>
              </a:solidFill>
            </a:rPr>
            <a:t>To be + not</a:t>
          </a:r>
        </a:p>
      </dsp:txBody>
      <dsp:txXfrm>
        <a:off x="2295161" y="1099849"/>
        <a:ext cx="4511938" cy="1979112"/>
      </dsp:txXfrm>
    </dsp:sp>
    <dsp:sp modelId="{8BA927DD-1013-4678-9187-7ED61423452A}">
      <dsp:nvSpPr>
        <dsp:cNvPr id="0" name=""/>
        <dsp:cNvSpPr/>
      </dsp:nvSpPr>
      <dsp:spPr>
        <a:xfrm>
          <a:off x="710" y="3547320"/>
          <a:ext cx="2561456" cy="227240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44660" y="3779072"/>
          <a:ext cx="2561456" cy="22724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82880" tIns="182880" rIns="182880" bIns="182880" numCol="1" spcCol="1270" anchor="ctr" anchorCtr="0">
          <a:noAutofit/>
        </a:bodyPr>
        <a:lstStyle/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4800" b="1" kern="1200" dirty="0" smtClean="0">
              <a:solidFill>
                <a:srgbClr val="FF0000"/>
              </a:solidFill>
            </a:rPr>
            <a:t>Am </a:t>
          </a:r>
          <a:r>
            <a:rPr lang="en-US" sz="4800" b="1" i="1" kern="1200" dirty="0" smtClean="0">
              <a:solidFill>
                <a:srgbClr val="C00000"/>
              </a:solidFill>
            </a:rPr>
            <a:t>not</a:t>
          </a:r>
        </a:p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kern="1200" dirty="0" smtClean="0"/>
            <a:t>I </a:t>
          </a:r>
          <a:r>
            <a:rPr lang="en-US" sz="3600" b="1" kern="1200" dirty="0" smtClean="0">
              <a:solidFill>
                <a:srgbClr val="FF0000"/>
              </a:solidFill>
            </a:rPr>
            <a:t>am</a:t>
          </a:r>
          <a:r>
            <a:rPr lang="en-US" sz="3600" kern="1200" dirty="0" smtClean="0"/>
            <a:t> </a:t>
          </a:r>
          <a:r>
            <a:rPr lang="en-US" sz="3600" b="1" i="1" kern="1200" dirty="0" smtClean="0">
              <a:solidFill>
                <a:srgbClr val="C00000"/>
              </a:solidFill>
            </a:rPr>
            <a:t>not</a:t>
          </a:r>
          <a:r>
            <a:rPr lang="en-US" sz="3600" kern="1200" dirty="0" smtClean="0"/>
            <a:t> nine.</a:t>
          </a:r>
          <a:endParaRPr lang="ru-RU" sz="3600" kern="1200" dirty="0"/>
        </a:p>
      </dsp:txBody>
      <dsp:txXfrm>
        <a:off x="311216" y="3845628"/>
        <a:ext cx="2428344" cy="2139290"/>
      </dsp:txXfrm>
    </dsp:sp>
    <dsp:sp modelId="{55035FB5-07BC-4E58-B39A-29E6C019E9BA}">
      <dsp:nvSpPr>
        <dsp:cNvPr id="0" name=""/>
        <dsp:cNvSpPr/>
      </dsp:nvSpPr>
      <dsp:spPr>
        <a:xfrm>
          <a:off x="3050066" y="3547320"/>
          <a:ext cx="2456509" cy="224969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294015" y="3779072"/>
          <a:ext cx="2456509" cy="2249691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Is </a:t>
          </a:r>
          <a:r>
            <a:rPr lang="en-US" sz="5200" b="1" i="1" kern="1200" dirty="0" smtClean="0">
              <a:solidFill>
                <a:srgbClr val="C00000"/>
              </a:solidFill>
            </a:rPr>
            <a:t>not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kern="1200" dirty="0" smtClean="0"/>
            <a:t>He </a:t>
          </a:r>
          <a:r>
            <a:rPr lang="en-US" sz="3600" b="1" kern="1200" dirty="0" smtClean="0">
              <a:solidFill>
                <a:srgbClr val="FF0000"/>
              </a:solidFill>
            </a:rPr>
            <a:t>is</a:t>
          </a:r>
          <a:r>
            <a:rPr lang="en-US" sz="3600" kern="1200" dirty="0" smtClean="0"/>
            <a:t> </a:t>
          </a:r>
          <a:r>
            <a:rPr lang="en-US" sz="3600" b="1" i="1" kern="1200" dirty="0" smtClean="0">
              <a:solidFill>
                <a:srgbClr val="C00000"/>
              </a:solidFill>
            </a:rPr>
            <a:t>not</a:t>
          </a:r>
          <a:r>
            <a:rPr lang="en-US" sz="3600" kern="1200" dirty="0" smtClean="0"/>
            <a:t> tall.</a:t>
          </a:r>
          <a:endParaRPr lang="ru-RU" sz="3600" kern="1200" dirty="0"/>
        </a:p>
      </dsp:txBody>
      <dsp:txXfrm>
        <a:off x="3359906" y="3844963"/>
        <a:ext cx="2324727" cy="2117909"/>
      </dsp:txXfrm>
    </dsp:sp>
    <dsp:sp modelId="{28C98B7F-2492-4698-A3CE-C05B0DBF7826}">
      <dsp:nvSpPr>
        <dsp:cNvPr id="0" name=""/>
        <dsp:cNvSpPr/>
      </dsp:nvSpPr>
      <dsp:spPr>
        <a:xfrm>
          <a:off x="5994474" y="3547320"/>
          <a:ext cx="2619177" cy="227240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238424" y="3779072"/>
          <a:ext cx="2619177" cy="22724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Are </a:t>
          </a:r>
          <a:r>
            <a:rPr lang="en-US" sz="5200" b="1" i="1" kern="1200" dirty="0" smtClean="0">
              <a:solidFill>
                <a:srgbClr val="C00000"/>
              </a:solidFill>
            </a:rPr>
            <a:t>not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kern="1200" dirty="0" smtClean="0"/>
            <a:t>We </a:t>
          </a:r>
          <a:r>
            <a:rPr lang="en-US" sz="3600" b="1" kern="1200" dirty="0" smtClean="0">
              <a:solidFill>
                <a:srgbClr val="FF0000"/>
              </a:solidFill>
            </a:rPr>
            <a:t>are</a:t>
          </a:r>
          <a:r>
            <a:rPr lang="en-US" sz="3600" kern="1200" dirty="0" smtClean="0"/>
            <a:t> </a:t>
          </a:r>
          <a:r>
            <a:rPr lang="en-US" sz="3600" b="1" i="1" kern="1200" dirty="0" smtClean="0">
              <a:solidFill>
                <a:srgbClr val="C00000"/>
              </a:solidFill>
            </a:rPr>
            <a:t>not</a:t>
          </a:r>
          <a:r>
            <a:rPr lang="en-US" sz="3600" kern="1200" dirty="0" smtClean="0"/>
            <a:t> happy.</a:t>
          </a:r>
          <a:endParaRPr lang="ru-RU" sz="3600" kern="1200" dirty="0"/>
        </a:p>
      </dsp:txBody>
      <dsp:txXfrm>
        <a:off x="6304980" y="3845628"/>
        <a:ext cx="2486065" cy="2139290"/>
      </dsp:txXfrm>
    </dsp:sp>
  </dsp:spTree>
</dsp:drawing>
</file>

<file path=ppt/diagrams/drawing3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4505EA7-410F-425B-915A-90C0F894BC4F}">
      <dsp:nvSpPr>
        <dsp:cNvPr id="0" name=""/>
        <dsp:cNvSpPr/>
      </dsp:nvSpPr>
      <dsp:spPr>
        <a:xfrm>
          <a:off x="4192463" y="1565666"/>
          <a:ext cx="91440" cy="753672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06750"/>
              </a:lnTo>
              <a:lnTo>
                <a:pt x="104102" y="406750"/>
              </a:lnTo>
              <a:lnTo>
                <a:pt x="104102" y="753672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397590" y="-158170"/>
          <a:ext cx="3681185" cy="1723837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813689" y="237122"/>
          <a:ext cx="3681185" cy="172383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m</a:t>
          </a:r>
          <a:r>
            <a:rPr lang="en-US" sz="6600" b="1" u="none" kern="1200" dirty="0" smtClean="0">
              <a:solidFill>
                <a:srgbClr val="FF0000"/>
              </a:solidFill>
            </a:rPr>
            <a:t> </a:t>
          </a:r>
          <a:r>
            <a:rPr lang="en-US" sz="6600" b="1" i="1" u="sng" kern="1200" dirty="0" smtClean="0">
              <a:solidFill>
                <a:srgbClr val="C00000"/>
              </a:solidFill>
            </a:rPr>
            <a:t>not</a:t>
          </a:r>
        </a:p>
      </dsp:txBody>
      <dsp:txXfrm>
        <a:off x="2864178" y="287611"/>
        <a:ext cx="3580207" cy="1622859"/>
      </dsp:txXfrm>
    </dsp:sp>
    <dsp:sp modelId="{D3E90D8E-A42A-4416-AC64-E74096182B25}">
      <dsp:nvSpPr>
        <dsp:cNvPr id="0" name=""/>
        <dsp:cNvSpPr/>
      </dsp:nvSpPr>
      <dsp:spPr>
        <a:xfrm>
          <a:off x="766486" y="2319339"/>
          <a:ext cx="7060158" cy="321712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F31EB55-993C-4537-B40A-1037EF8FDEBE}">
      <dsp:nvSpPr>
        <dsp:cNvPr id="0" name=""/>
        <dsp:cNvSpPr/>
      </dsp:nvSpPr>
      <dsp:spPr>
        <a:xfrm>
          <a:off x="1182585" y="2714633"/>
          <a:ext cx="7060158" cy="321712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36220" tIns="236220" rIns="236220" bIns="236220" numCol="1" spcCol="1270" anchor="ctr" anchorCtr="0">
          <a:noAutofit/>
        </a:bodyPr>
        <a:lstStyle/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brave.  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a farmer. 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Kate. </a:t>
          </a:r>
        </a:p>
      </dsp:txBody>
      <dsp:txXfrm>
        <a:off x="1276811" y="2808859"/>
        <a:ext cx="6871706" cy="3028676"/>
      </dsp:txXfrm>
    </dsp:sp>
  </dsp:spTree>
</dsp:drawing>
</file>

<file path=ppt/diagrams/drawing3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786078" y="285726"/>
          <a:ext cx="3035717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3036516" y="523641"/>
          <a:ext cx="3035717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Is</a:t>
          </a:r>
          <a:r>
            <a:rPr lang="en-US" sz="6600" b="1" u="none" kern="1200" dirty="0" smtClean="0">
              <a:solidFill>
                <a:srgbClr val="FF0000"/>
              </a:solidFill>
            </a:rPr>
            <a:t> </a:t>
          </a:r>
          <a:r>
            <a:rPr lang="en-US" sz="6600" b="1" i="1" u="sng" kern="1200" dirty="0" smtClean="0">
              <a:solidFill>
                <a:srgbClr val="C00000"/>
              </a:solidFill>
            </a:rPr>
            <a:t>not</a:t>
          </a:r>
          <a:endParaRPr lang="ru-RU" sz="6600" b="1" i="1" u="sng" kern="1200" dirty="0">
            <a:solidFill>
              <a:srgbClr val="C00000"/>
            </a:solidFill>
          </a:endParaRPr>
        </a:p>
      </dsp:txBody>
      <dsp:txXfrm>
        <a:off x="3083596" y="570721"/>
        <a:ext cx="2941557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He</a:t>
          </a:r>
          <a:r>
            <a:rPr lang="en-US" sz="2800" b="1" kern="1200" dirty="0" smtClean="0">
              <a:solidFill>
                <a:srgbClr val="C00000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1" u="none" kern="1200" dirty="0" smtClean="0">
              <a:solidFill>
                <a:srgbClr val="FF0000"/>
              </a:solidFill>
            </a:rPr>
            <a:t> </a:t>
          </a:r>
          <a:r>
            <a:rPr lang="en-US" sz="2800" b="1" i="1" u="sng" kern="1200" dirty="0" smtClean="0">
              <a:solidFill>
                <a:srgbClr val="C00000"/>
              </a:solidFill>
            </a:rPr>
            <a:t>not</a:t>
          </a:r>
          <a:r>
            <a:rPr lang="en-US" sz="2800" b="1" i="1" u="none" kern="1200" dirty="0" smtClean="0">
              <a:solidFill>
                <a:srgbClr val="C00000"/>
              </a:solidFill>
            </a:rPr>
            <a:t>       </a:t>
          </a:r>
          <a:r>
            <a:rPr lang="en-US" sz="2800" b="0" kern="1200" dirty="0" smtClean="0">
              <a:solidFill>
                <a:schemeClr val="tx1"/>
              </a:solidFill>
            </a:rPr>
            <a:t> a docto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H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   </a:t>
          </a:r>
          <a:r>
            <a:rPr lang="en-US" sz="2800" b="1" i="1" u="none" kern="1200" dirty="0" smtClean="0">
              <a:solidFill>
                <a:srgbClr val="C00000"/>
              </a:solidFill>
            </a:rPr>
            <a:t>     </a:t>
          </a:r>
          <a:r>
            <a:rPr lang="en-US" sz="2800" b="0" u="none" kern="1200" dirty="0" smtClean="0">
              <a:solidFill>
                <a:schemeClr val="tx1"/>
              </a:solidFill>
            </a:rPr>
            <a:t>my</a:t>
          </a:r>
          <a:r>
            <a:rPr lang="en-US" sz="2800" b="0" kern="1200" dirty="0" smtClean="0">
              <a:solidFill>
                <a:schemeClr val="tx1"/>
              </a:solidFill>
            </a:rPr>
            <a:t> brothe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500" b="0" kern="1200" dirty="0" smtClean="0">
            <a:solidFill>
              <a:schemeClr val="tx1"/>
            </a:solidFill>
          </a:endParaRP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S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She</a:t>
          </a:r>
          <a:r>
            <a:rPr lang="en-US" sz="2800" b="1" kern="1200" dirty="0" smtClean="0">
              <a:solidFill>
                <a:srgbClr val="C00000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i="1" u="sng" kern="1200" dirty="0" smtClean="0">
              <a:solidFill>
                <a:srgbClr val="C00000"/>
              </a:solidFill>
            </a:rPr>
            <a:t>not</a:t>
          </a:r>
          <a:r>
            <a:rPr lang="en-US" sz="2800" b="1" i="1" u="none" kern="1200" dirty="0" smtClean="0">
              <a:solidFill>
                <a:srgbClr val="C00000"/>
              </a:solidFill>
            </a:rPr>
            <a:t>       </a:t>
          </a:r>
          <a:r>
            <a:rPr lang="en-US" sz="2800" b="0" u="none" kern="1200" dirty="0" smtClean="0">
              <a:solidFill>
                <a:schemeClr val="tx1"/>
              </a:solidFill>
            </a:rPr>
            <a:t>a</a:t>
          </a:r>
          <a:r>
            <a:rPr lang="en-US" sz="2800" b="0" kern="1200" dirty="0" smtClean="0">
              <a:solidFill>
                <a:schemeClr val="tx1"/>
              </a:solidFill>
            </a:rPr>
            <a:t> teache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800" b="0" kern="1200" dirty="0" smtClean="0">
            <a:solidFill>
              <a:schemeClr val="tx1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Sh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i="0" u="sng" kern="1200" dirty="0" smtClean="0">
              <a:solidFill>
                <a:srgbClr val="FF0000"/>
              </a:solidFill>
            </a:rPr>
            <a:t>is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  </a:t>
          </a:r>
          <a:r>
            <a:rPr lang="en-US" sz="2800" b="1" i="1" u="none" kern="1200" dirty="0" smtClean="0">
              <a:solidFill>
                <a:srgbClr val="C00000"/>
              </a:solidFill>
            </a:rPr>
            <a:t>  </a:t>
          </a:r>
          <a:r>
            <a:rPr lang="en-US" sz="2800" b="0" kern="1200" dirty="0" smtClean="0">
              <a:solidFill>
                <a:schemeClr val="tx1"/>
              </a:solidFill>
            </a:rPr>
            <a:t>my sister.</a:t>
          </a:r>
          <a:endParaRPr lang="en-US" sz="4000" b="0" kern="1200" dirty="0" smtClean="0">
            <a:solidFill>
              <a:schemeClr val="tx1"/>
            </a:solidFill>
          </a:endParaRP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It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It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i="1" u="sng" kern="1200" dirty="0" smtClean="0">
              <a:solidFill>
                <a:srgbClr val="C00000"/>
              </a:solidFill>
            </a:rPr>
            <a:t>not</a:t>
          </a:r>
          <a:r>
            <a:rPr lang="en-US" sz="2800" b="1" i="1" u="none" kern="1200" dirty="0" smtClean="0">
              <a:solidFill>
                <a:srgbClr val="C00000"/>
              </a:solidFill>
            </a:rPr>
            <a:t>         </a:t>
          </a:r>
          <a:r>
            <a:rPr lang="en-US" sz="2800" b="0" u="none" kern="1200" dirty="0" smtClean="0">
              <a:solidFill>
                <a:schemeClr val="tx1"/>
              </a:solidFill>
            </a:rPr>
            <a:t>a</a:t>
          </a:r>
          <a:r>
            <a:rPr lang="en-US" sz="2800" b="0" kern="1200" dirty="0" smtClean="0">
              <a:solidFill>
                <a:schemeClr val="tx1"/>
              </a:solidFill>
            </a:rPr>
            <a:t> cat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It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</a:t>
          </a:r>
          <a:r>
            <a:rPr lang="en-US" sz="2800" b="0" kern="1200" dirty="0" smtClean="0">
              <a:solidFill>
                <a:schemeClr val="tx1"/>
              </a:solidFill>
            </a:rPr>
            <a:t>  a dog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100" b="0" kern="1200" dirty="0" smtClean="0">
            <a:solidFill>
              <a:schemeClr val="tx1"/>
            </a:solidFill>
          </a:endParaRPr>
        </a:p>
      </dsp:txBody>
      <dsp:txXfrm>
        <a:off x="6465958" y="2869467"/>
        <a:ext cx="2309314" cy="3619940"/>
      </dsp:txXfrm>
    </dsp:sp>
  </dsp:spTree>
</dsp:drawing>
</file>

<file path=ppt/diagrams/drawing3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428885" y="285726"/>
          <a:ext cx="3750103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679323" y="523641"/>
          <a:ext cx="3750103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re</a:t>
          </a:r>
          <a:r>
            <a:rPr lang="en-US" sz="6600" b="1" u="none" kern="1200" dirty="0" smtClean="0">
              <a:solidFill>
                <a:srgbClr val="FF0000"/>
              </a:solidFill>
            </a:rPr>
            <a:t> </a:t>
          </a:r>
          <a:r>
            <a:rPr lang="en-US" sz="6600" b="1" i="1" u="sng" kern="1200" dirty="0" smtClean="0">
              <a:solidFill>
                <a:srgbClr val="C00000"/>
              </a:solidFill>
            </a:rPr>
            <a:t>not</a:t>
          </a:r>
          <a:endParaRPr lang="ru-RU" sz="6600" b="1" i="1" u="sng" kern="1200" dirty="0">
            <a:solidFill>
              <a:srgbClr val="C00000"/>
            </a:solidFill>
          </a:endParaRPr>
        </a:p>
      </dsp:txBody>
      <dsp:txXfrm>
        <a:off x="2726403" y="570721"/>
        <a:ext cx="3655943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You</a:t>
          </a:r>
          <a:endParaRPr lang="en-US" sz="2800" b="1" kern="1200" dirty="0" smtClean="0">
            <a:solidFill>
              <a:srgbClr val="C00000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You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u="none" kern="1200" dirty="0" smtClean="0">
              <a:solidFill>
                <a:srgbClr val="FF0000"/>
              </a:solidFill>
            </a:rPr>
            <a:t> </a:t>
          </a:r>
          <a:r>
            <a:rPr lang="en-US" sz="2800" b="1" i="1" u="sng" kern="1200" dirty="0" smtClean="0">
              <a:solidFill>
                <a:srgbClr val="C00000"/>
              </a:solidFill>
            </a:rPr>
            <a:t>not</a:t>
          </a:r>
          <a:r>
            <a:rPr lang="en-US" sz="2800" b="1" u="none" kern="1200" dirty="0" smtClean="0">
              <a:solidFill>
                <a:srgbClr val="FF0000"/>
              </a:solidFill>
            </a:rPr>
            <a:t>           </a:t>
          </a:r>
          <a:r>
            <a:rPr lang="en-US" sz="2800" b="0" kern="1200" dirty="0" smtClean="0">
              <a:solidFill>
                <a:schemeClr val="tx1"/>
              </a:solidFill>
            </a:rPr>
            <a:t> a student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You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</a:t>
          </a:r>
          <a:r>
            <a:rPr lang="en-US" sz="2800" b="0" kern="1200" dirty="0" smtClean="0">
              <a:solidFill>
                <a:schemeClr val="tx1"/>
              </a:solidFill>
            </a:rPr>
            <a:t> kind.</a:t>
          </a: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W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W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u="none" strike="noStrike" kern="1200" dirty="0" smtClean="0">
              <a:solidFill>
                <a:srgbClr val="FF0000"/>
              </a:solidFill>
            </a:rPr>
            <a:t> </a:t>
          </a:r>
          <a:r>
            <a:rPr lang="en-US" sz="2800" b="1" i="1" u="sng" strike="noStrike" kern="1200" dirty="0" smtClean="0">
              <a:solidFill>
                <a:srgbClr val="C00000"/>
              </a:solidFill>
            </a:rPr>
            <a:t>not</a:t>
          </a:r>
          <a:r>
            <a:rPr lang="en-US" sz="2800" b="0" kern="1200" dirty="0" smtClean="0">
              <a:solidFill>
                <a:schemeClr val="tx1"/>
              </a:solidFill>
            </a:rPr>
            <a:t> students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W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</a:t>
          </a:r>
          <a:r>
            <a:rPr lang="en-US" sz="2800" b="0" kern="1200" dirty="0" smtClean="0">
              <a:solidFill>
                <a:schemeClr val="tx1"/>
              </a:solidFill>
            </a:rPr>
            <a:t> kind.</a:t>
          </a: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They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They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u="none" kern="1200" dirty="0" smtClean="0">
              <a:solidFill>
                <a:srgbClr val="FF0000"/>
              </a:solidFill>
            </a:rPr>
            <a:t> </a:t>
          </a:r>
          <a:r>
            <a:rPr lang="en-US" sz="2800" b="1" i="1" u="sng" kern="1200" dirty="0" smtClean="0">
              <a:solidFill>
                <a:srgbClr val="C00000"/>
              </a:solidFill>
            </a:rPr>
            <a:t>not</a:t>
          </a:r>
          <a:r>
            <a:rPr lang="en-US" sz="2800" b="0" kern="1200" dirty="0" smtClean="0">
              <a:solidFill>
                <a:schemeClr val="tx1"/>
              </a:solidFill>
            </a:rPr>
            <a:t> teachers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They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</a:t>
          </a:r>
          <a:r>
            <a:rPr lang="en-US" sz="2800" b="0" kern="1200" dirty="0" smtClean="0">
              <a:solidFill>
                <a:schemeClr val="tx1"/>
              </a:solidFill>
            </a:rPr>
            <a:t> kind.</a:t>
          </a:r>
        </a:p>
      </dsp:txBody>
      <dsp:txXfrm>
        <a:off x="6465958" y="2869467"/>
        <a:ext cx="2309314" cy="3619940"/>
      </dsp:txXfrm>
    </dsp:sp>
  </dsp:spTree>
</dsp:drawing>
</file>

<file path=ppt/diagrams/drawing3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0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Make sentences negative. </a:t>
          </a:r>
          <a:endParaRPr lang="ru-RU" sz="3600" b="1" kern="1200" dirty="0">
            <a:solidFill>
              <a:srgbClr val="002060"/>
            </a:solidFill>
          </a:endParaRPr>
        </a:p>
      </dsp:txBody>
      <dsp:txXfrm>
        <a:off x="34537" y="34537"/>
        <a:ext cx="8003420" cy="638410"/>
      </dsp:txXfrm>
    </dsp:sp>
  </dsp:spTree>
</dsp:drawing>
</file>

<file path=ppt/diagrams/drawing3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601"/>
          <a:ext cx="8072494" cy="493936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002060"/>
              </a:solidFill>
            </a:rPr>
            <a:t>Model:</a:t>
          </a:r>
          <a:endParaRPr lang="ru-RU" sz="2800" b="1" kern="1200" dirty="0">
            <a:solidFill>
              <a:srgbClr val="002060"/>
            </a:solidFill>
          </a:endParaRPr>
        </a:p>
      </dsp:txBody>
      <dsp:txXfrm>
        <a:off x="24112" y="24713"/>
        <a:ext cx="8024270" cy="445712"/>
      </dsp:txXfrm>
    </dsp:sp>
    <dsp:sp modelId="{23E0AF8B-6472-40A2-8D8A-DF5D39CF2B7F}">
      <dsp:nvSpPr>
        <dsp:cNvPr id="0" name=""/>
        <dsp:cNvSpPr/>
      </dsp:nvSpPr>
      <dsp:spPr>
        <a:xfrm>
          <a:off x="0" y="505592"/>
          <a:ext cx="8072494" cy="493936"/>
        </a:xfrm>
        <a:prstGeom prst="roundRect">
          <a:avLst/>
        </a:prstGeom>
        <a:gradFill rotWithShape="0">
          <a:gsLst>
            <a:gs pos="0">
              <a:schemeClr val="accent5">
                <a:hueOff val="15323477"/>
                <a:satOff val="-8902"/>
                <a:lumOff val="-5490"/>
                <a:alphaOff val="0"/>
                <a:tint val="30000"/>
                <a:satMod val="250000"/>
              </a:schemeClr>
            </a:gs>
            <a:gs pos="72000">
              <a:schemeClr val="accent5">
                <a:hueOff val="15323477"/>
                <a:satOff val="-8902"/>
                <a:lumOff val="-5490"/>
                <a:alphaOff val="0"/>
                <a:tint val="75000"/>
                <a:satMod val="210000"/>
              </a:schemeClr>
            </a:gs>
            <a:gs pos="100000">
              <a:schemeClr val="accent5">
                <a:hueOff val="15323477"/>
                <a:satOff val="-8902"/>
                <a:lumOff val="-549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002060"/>
              </a:solidFill>
            </a:rPr>
            <a:t>It </a:t>
          </a:r>
          <a:r>
            <a:rPr lang="en-US" sz="2800" b="1" i="1" u="sng" kern="1200" dirty="0" smtClean="0">
              <a:solidFill>
                <a:srgbClr val="C00000"/>
              </a:solidFill>
            </a:rPr>
            <a:t>is</a:t>
          </a:r>
          <a:r>
            <a:rPr lang="en-US" sz="2800" b="1" kern="1200" dirty="0" smtClean="0">
              <a:solidFill>
                <a:srgbClr val="002060"/>
              </a:solidFill>
            </a:rPr>
            <a:t> slim. – It </a:t>
          </a:r>
          <a:r>
            <a:rPr lang="en-US" sz="2800" b="1" i="1" u="sng" kern="1200" dirty="0" smtClean="0">
              <a:solidFill>
                <a:srgbClr val="C00000"/>
              </a:solidFill>
            </a:rPr>
            <a:t>is not</a:t>
          </a:r>
          <a:r>
            <a:rPr lang="en-US" sz="2800" b="1" i="1" u="none" kern="1200" dirty="0" smtClean="0">
              <a:solidFill>
                <a:srgbClr val="C00000"/>
              </a:solidFill>
            </a:rPr>
            <a:t> </a:t>
          </a:r>
          <a:r>
            <a:rPr lang="en-US" sz="2800" b="1" kern="1200" dirty="0" smtClean="0">
              <a:solidFill>
                <a:srgbClr val="002060"/>
              </a:solidFill>
            </a:rPr>
            <a:t>slim.</a:t>
          </a:r>
          <a:endParaRPr lang="ru-RU" sz="2800" b="1" kern="1200" dirty="0">
            <a:solidFill>
              <a:srgbClr val="002060"/>
            </a:solidFill>
          </a:endParaRPr>
        </a:p>
      </dsp:txBody>
      <dsp:txXfrm>
        <a:off x="24112" y="529704"/>
        <a:ext cx="8024270" cy="445712"/>
      </dsp:txXfrm>
    </dsp:sp>
  </dsp:spTree>
</dsp:drawing>
</file>

<file path=ppt/diagrams/drawing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2894946"/>
          <a:ext cx="3076586" cy="65552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46718"/>
              </a:lnTo>
              <a:lnTo>
                <a:pt x="3076586" y="446718"/>
              </a:lnTo>
              <a:lnTo>
                <a:pt x="307658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2894946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2894946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1924758" y="736777"/>
          <a:ext cx="4758357" cy="2158169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175196" y="974693"/>
          <a:ext cx="4758357" cy="2158169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13360" tIns="213360" rIns="213360" bIns="213360" numCol="1" spcCol="1270" anchor="ctr" anchorCtr="0">
          <a:noAutofit/>
        </a:bodyPr>
        <a:lstStyle/>
        <a:p>
          <a:pPr lvl="0" algn="ctr" defTabSz="2489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600" b="1" u="sng" kern="1200" smtClean="0">
              <a:solidFill>
                <a:srgbClr val="0070C0"/>
              </a:solidFill>
            </a:rPr>
            <a:t>To be</a:t>
          </a:r>
        </a:p>
        <a:p>
          <a:pPr lvl="0" algn="ctr" defTabSz="2489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000" kern="1200" smtClean="0"/>
            <a:t>Глагол </a:t>
          </a:r>
          <a:r>
            <a:rPr lang="ru-RU" sz="4400" b="1" kern="1200" smtClean="0">
              <a:solidFill>
                <a:srgbClr val="FF0000"/>
              </a:solidFill>
            </a:rPr>
            <a:t>«быть»</a:t>
          </a:r>
          <a:endParaRPr lang="ru-RU" sz="4800" b="1" kern="1200" dirty="0">
            <a:solidFill>
              <a:srgbClr val="FF0000"/>
            </a:solidFill>
          </a:endParaRPr>
        </a:p>
      </dsp:txBody>
      <dsp:txXfrm>
        <a:off x="2238407" y="1037904"/>
        <a:ext cx="4631935" cy="2031747"/>
      </dsp:txXfrm>
    </dsp:sp>
    <dsp:sp modelId="{8BA927DD-1013-4678-9187-7ED61423452A}">
      <dsp:nvSpPr>
        <dsp:cNvPr id="0" name=""/>
        <dsp:cNvSpPr/>
      </dsp:nvSpPr>
      <dsp:spPr>
        <a:xfrm>
          <a:off x="847" y="3550467"/>
          <a:ext cx="2629580" cy="2332839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3788383"/>
          <a:ext cx="2629580" cy="2332839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Am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kern="1200" dirty="0" smtClean="0"/>
            <a:t>I </a:t>
          </a:r>
          <a:r>
            <a:rPr lang="en-US" sz="3200" b="1" i="1" u="sng" kern="1200" dirty="0" smtClean="0">
              <a:solidFill>
                <a:srgbClr val="C00000"/>
              </a:solidFill>
            </a:rPr>
            <a:t>am</a:t>
          </a:r>
          <a:r>
            <a:rPr lang="en-US" sz="3200" b="1" kern="1200" dirty="0" smtClean="0"/>
            <a:t> happy. </a:t>
          </a:r>
          <a:r>
            <a:rPr lang="en-US" sz="2400" kern="1200" dirty="0" smtClean="0"/>
            <a:t>( </a:t>
          </a:r>
          <a:r>
            <a:rPr lang="ru-RU" sz="2400" kern="1200" dirty="0" smtClean="0"/>
            <a:t>Я счастливый)</a:t>
          </a:r>
          <a:endParaRPr lang="ru-RU" sz="3200" kern="1200" dirty="0"/>
        </a:p>
      </dsp:txBody>
      <dsp:txXfrm>
        <a:off x="319612" y="3856710"/>
        <a:ext cx="2492926" cy="2196185"/>
      </dsp:txXfrm>
    </dsp:sp>
    <dsp:sp modelId="{55035FB5-07BC-4E58-B39A-29E6C019E9BA}">
      <dsp:nvSpPr>
        <dsp:cNvPr id="0" name=""/>
        <dsp:cNvSpPr/>
      </dsp:nvSpPr>
      <dsp:spPr>
        <a:xfrm>
          <a:off x="3131303" y="3550467"/>
          <a:ext cx="2521841" cy="230952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3788383"/>
          <a:ext cx="2521841" cy="230952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Is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 </a:t>
          </a:r>
          <a:r>
            <a:rPr lang="en-US" sz="2800" b="1" i="1" u="sng" kern="1200" dirty="0" smtClean="0">
              <a:solidFill>
                <a:srgbClr val="C00000"/>
              </a:solidFill>
            </a:rPr>
            <a:t>is</a:t>
          </a:r>
          <a:r>
            <a:rPr lang="en-US" sz="2800" b="1" kern="1200" dirty="0" smtClean="0"/>
            <a:t> happy.</a:t>
          </a:r>
          <a:r>
            <a:rPr lang="ru-RU" sz="2800" b="1" kern="1200" dirty="0" smtClean="0"/>
            <a:t> </a:t>
          </a:r>
          <a:r>
            <a:rPr lang="ru-RU" sz="2000" kern="1200" dirty="0" smtClean="0"/>
            <a:t>(Он счастливый)</a:t>
          </a:r>
          <a:endParaRPr lang="ru-RU" sz="2000" kern="1200" dirty="0"/>
        </a:p>
      </dsp:txBody>
      <dsp:txXfrm>
        <a:off x="3449384" y="3856027"/>
        <a:ext cx="2386553" cy="2174235"/>
      </dsp:txXfrm>
    </dsp:sp>
    <dsp:sp modelId="{28C98B7F-2492-4698-A3CE-C05B0DBF7826}">
      <dsp:nvSpPr>
        <dsp:cNvPr id="0" name=""/>
        <dsp:cNvSpPr/>
      </dsp:nvSpPr>
      <dsp:spPr>
        <a:xfrm>
          <a:off x="6154020" y="3550467"/>
          <a:ext cx="2453006" cy="2332839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404457" y="3788383"/>
          <a:ext cx="2453006" cy="2332839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Ar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b="1" kern="1200" dirty="0" smtClean="0"/>
            <a:t>We </a:t>
          </a:r>
          <a:r>
            <a:rPr lang="en-US" sz="2400" b="1" i="1" u="sng" kern="1200" dirty="0" smtClean="0">
              <a:solidFill>
                <a:srgbClr val="C00000"/>
              </a:solidFill>
            </a:rPr>
            <a:t>are </a:t>
          </a:r>
          <a:r>
            <a:rPr lang="en-US" sz="2400" b="1" kern="1200" dirty="0" smtClean="0"/>
            <a:t>happy.</a:t>
          </a:r>
          <a:r>
            <a:rPr lang="ru-RU" sz="2400" b="1" kern="1200" dirty="0" smtClean="0"/>
            <a:t> </a:t>
          </a:r>
          <a:r>
            <a:rPr lang="ru-RU" sz="2000" kern="1200" dirty="0" smtClean="0"/>
            <a:t>( Мы счастливые)</a:t>
          </a:r>
          <a:endParaRPr lang="ru-RU" sz="2000" kern="1200" dirty="0"/>
        </a:p>
      </dsp:txBody>
      <dsp:txXfrm>
        <a:off x="6472784" y="3856710"/>
        <a:ext cx="2316352" cy="2196185"/>
      </dsp:txXfrm>
    </dsp:sp>
  </dsp:spTree>
</dsp:drawing>
</file>

<file path=ppt/diagrams/drawing4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am sa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4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72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</a:t>
          </a:r>
          <a:r>
            <a:rPr lang="en-US" sz="2800" b="1" u="sng" kern="1200" dirty="0" smtClean="0"/>
            <a:t>am not</a:t>
          </a:r>
          <a:r>
            <a:rPr lang="en-US" sz="2800" b="1" kern="1200" dirty="0" smtClean="0"/>
            <a:t> sad.</a:t>
          </a:r>
          <a:endParaRPr lang="ru-RU" sz="2800" b="1" kern="1200" dirty="0"/>
        </a:p>
      </dsp:txBody>
      <dsp:txXfrm>
        <a:off x="27885" y="28157"/>
        <a:ext cx="3301816" cy="515461"/>
      </dsp:txXfrm>
    </dsp:sp>
  </dsp:spTree>
</dsp:drawing>
</file>

<file path=ppt/diagrams/drawing4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is purple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4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</a:t>
          </a:r>
          <a:r>
            <a:rPr lang="en-US" sz="2800" b="1" u="sng" kern="1200" dirty="0" smtClean="0"/>
            <a:t>is not</a:t>
          </a:r>
          <a:r>
            <a:rPr lang="en-US" sz="2800" b="1" kern="1200" dirty="0" smtClean="0"/>
            <a:t> purple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4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is tall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4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72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</a:t>
          </a:r>
          <a:r>
            <a:rPr lang="en-US" sz="2800" b="1" u="sng" kern="1200" dirty="0" smtClean="0"/>
            <a:t>is not</a:t>
          </a:r>
          <a:r>
            <a:rPr lang="en-US" sz="2800" b="1" kern="1200" dirty="0" smtClean="0"/>
            <a:t> tall.</a:t>
          </a:r>
          <a:endParaRPr lang="ru-RU" sz="2800" b="1" kern="1200" dirty="0"/>
        </a:p>
      </dsp:txBody>
      <dsp:txXfrm>
        <a:off x="27885" y="28157"/>
        <a:ext cx="3301816" cy="515461"/>
      </dsp:txXfrm>
    </dsp:sp>
  </dsp:spTree>
</dsp:drawing>
</file>

<file path=ppt/diagrams/drawing4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are small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4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</a:t>
          </a:r>
          <a:r>
            <a:rPr lang="en-US" sz="2800" b="1" u="sng" kern="1200" dirty="0" smtClean="0"/>
            <a:t>are not</a:t>
          </a:r>
          <a:r>
            <a:rPr lang="en-US" sz="2800" b="1" kern="1200" dirty="0" smtClean="0"/>
            <a:t> small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4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are lazy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4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</a:t>
          </a:r>
          <a:r>
            <a:rPr lang="en-US" sz="2800" b="1" u="sng" kern="1200" dirty="0" smtClean="0"/>
            <a:t>are not</a:t>
          </a:r>
          <a:r>
            <a:rPr lang="en-US" sz="2800" b="1" kern="1200" dirty="0" smtClean="0"/>
            <a:t> lazy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4505EA7-410F-425B-915A-90C0F894BC4F}">
      <dsp:nvSpPr>
        <dsp:cNvPr id="0" name=""/>
        <dsp:cNvSpPr/>
      </dsp:nvSpPr>
      <dsp:spPr>
        <a:xfrm>
          <a:off x="4192463" y="1565666"/>
          <a:ext cx="91440" cy="753672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06750"/>
              </a:lnTo>
              <a:lnTo>
                <a:pt x="104102" y="406750"/>
              </a:lnTo>
              <a:lnTo>
                <a:pt x="104102" y="753672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397590" y="-158170"/>
          <a:ext cx="3681185" cy="1723837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813689" y="237122"/>
          <a:ext cx="3681185" cy="172383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m</a:t>
          </a:r>
        </a:p>
      </dsp:txBody>
      <dsp:txXfrm>
        <a:off x="2864178" y="287611"/>
        <a:ext cx="3580207" cy="1622859"/>
      </dsp:txXfrm>
    </dsp:sp>
    <dsp:sp modelId="{D3E90D8E-A42A-4416-AC64-E74096182B25}">
      <dsp:nvSpPr>
        <dsp:cNvPr id="0" name=""/>
        <dsp:cNvSpPr/>
      </dsp:nvSpPr>
      <dsp:spPr>
        <a:xfrm>
          <a:off x="766486" y="2319339"/>
          <a:ext cx="7060158" cy="321712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F31EB55-993C-4537-B40A-1037EF8FDEBE}">
      <dsp:nvSpPr>
        <dsp:cNvPr id="0" name=""/>
        <dsp:cNvSpPr/>
      </dsp:nvSpPr>
      <dsp:spPr>
        <a:xfrm>
          <a:off x="1182585" y="2714633"/>
          <a:ext cx="7060158" cy="321712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36220" tIns="236220" rIns="236220" bIns="236220" numCol="1" spcCol="1270" anchor="ctr" anchorCtr="0">
          <a:noAutofit/>
        </a:bodyPr>
        <a:lstStyle/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Kate. </a:t>
          </a:r>
          <a:r>
            <a:rPr lang="en-US" sz="3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a girl. 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small. </a:t>
          </a:r>
          <a:r>
            <a:rPr lang="en-US" sz="3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four. 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</a:p>
      </dsp:txBody>
      <dsp:txXfrm>
        <a:off x="1276811" y="2808859"/>
        <a:ext cx="6871706" cy="3028676"/>
      </dsp:txXfrm>
    </dsp:sp>
  </dsp:spTree>
</dsp:drawing>
</file>

<file path=ppt/diagrams/drawing5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are ol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5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</a:t>
          </a:r>
          <a:r>
            <a:rPr lang="en-US" sz="2800" b="1" u="sng" kern="1200" dirty="0" smtClean="0"/>
            <a:t>are not</a:t>
          </a:r>
          <a:r>
            <a:rPr lang="en-US" sz="2800" b="1" kern="1200" dirty="0" smtClean="0"/>
            <a:t> old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5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101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Correct the mistakes.</a:t>
          </a:r>
          <a:endParaRPr lang="ru-RU" sz="3600" b="1" kern="1200" dirty="0">
            <a:solidFill>
              <a:srgbClr val="002060"/>
            </a:solidFill>
          </a:endParaRPr>
        </a:p>
      </dsp:txBody>
      <dsp:txXfrm>
        <a:off x="34537" y="34638"/>
        <a:ext cx="8003420" cy="638410"/>
      </dsp:txXfrm>
    </dsp:sp>
  </dsp:spTree>
</dsp:drawing>
</file>

<file path=ppt/diagrams/drawing5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not is sa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5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</a:t>
          </a:r>
          <a:r>
            <a:rPr lang="en-US" sz="2800" b="1" kern="1200" dirty="0" err="1" smtClean="0"/>
            <a:t>amn’t</a:t>
          </a:r>
          <a:r>
            <a:rPr lang="en-US" sz="2800" b="1" kern="1200" dirty="0" smtClean="0"/>
            <a:t> purple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5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72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</a:t>
          </a:r>
          <a:r>
            <a:rPr lang="en-US" sz="2800" b="1" u="sng" kern="1200" dirty="0" smtClean="0"/>
            <a:t>am not</a:t>
          </a:r>
          <a:r>
            <a:rPr lang="en-US" sz="2800" b="1" kern="1200" dirty="0" smtClean="0"/>
            <a:t> purple.</a:t>
          </a:r>
          <a:endParaRPr lang="ru-RU" sz="2800" b="1" kern="1200" dirty="0"/>
        </a:p>
      </dsp:txBody>
      <dsp:txXfrm>
        <a:off x="27885" y="28157"/>
        <a:ext cx="3301816" cy="515461"/>
      </dsp:txXfrm>
    </dsp:sp>
  </dsp:spTree>
</dsp:drawing>
</file>

<file path=ppt/diagrams/drawing5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</a:t>
          </a:r>
          <a:r>
            <a:rPr lang="en-US" sz="2800" b="1" kern="1200" dirty="0" err="1" smtClean="0"/>
            <a:t>isnot</a:t>
          </a:r>
          <a:r>
            <a:rPr lang="en-US" sz="2800" b="1" kern="1200" dirty="0" smtClean="0"/>
            <a:t> slim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5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</a:t>
          </a:r>
          <a:r>
            <a:rPr lang="en-US" sz="2800" b="1" u="sng" kern="1200" dirty="0" smtClean="0"/>
            <a:t>isn’t</a:t>
          </a:r>
          <a:r>
            <a:rPr lang="en-US" sz="2800" b="1" kern="1200" dirty="0" smtClean="0"/>
            <a:t> slim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5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</a:t>
          </a:r>
          <a:r>
            <a:rPr lang="en-US" sz="2800" b="1" kern="1200" dirty="0" err="1" smtClean="0"/>
            <a:t>is’not</a:t>
          </a:r>
          <a:r>
            <a:rPr lang="en-US" sz="2800" b="1" kern="1200" dirty="0" smtClean="0"/>
            <a:t> tall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5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</a:t>
          </a:r>
          <a:r>
            <a:rPr lang="en-US" sz="2800" b="1" u="sng" kern="1200" dirty="0" smtClean="0"/>
            <a:t>isn’t</a:t>
          </a:r>
          <a:r>
            <a:rPr lang="en-US" sz="2800" b="1" kern="1200" dirty="0" smtClean="0"/>
            <a:t> tall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786078" y="285726"/>
          <a:ext cx="3035717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3036516" y="523641"/>
          <a:ext cx="3035717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Is</a:t>
          </a:r>
          <a:endParaRPr lang="ru-RU" sz="6600" b="1" u="sng" kern="1200" dirty="0">
            <a:solidFill>
              <a:srgbClr val="FF0000"/>
            </a:solidFill>
          </a:endParaRPr>
        </a:p>
      </dsp:txBody>
      <dsp:txXfrm>
        <a:off x="3083596" y="570721"/>
        <a:ext cx="2941557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He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a docto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H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my brothe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H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young.</a:t>
          </a:r>
          <a:endParaRPr lang="en-US" sz="2800" b="0" kern="1200" dirty="0" smtClean="0">
            <a:solidFill>
              <a:srgbClr val="C00000"/>
            </a:solidFill>
          </a:endParaRP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S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She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a teache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800" b="0" kern="1200" dirty="0" smtClean="0">
            <a:solidFill>
              <a:schemeClr val="tx1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Sh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i="0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my sister.</a:t>
          </a: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It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It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a cat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It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plump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It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happy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1400" b="0" kern="1200" dirty="0" smtClean="0">
            <a:solidFill>
              <a:schemeClr val="tx1"/>
            </a:solidFill>
          </a:endParaRPr>
        </a:p>
      </dsp:txBody>
      <dsp:txXfrm>
        <a:off x="6465958" y="2869467"/>
        <a:ext cx="2309314" cy="3619940"/>
      </dsp:txXfrm>
    </dsp:sp>
  </dsp:spTree>
</dsp:drawing>
</file>

<file path=ppt/diagrams/drawing6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</a:t>
          </a:r>
          <a:r>
            <a:rPr lang="en-US" sz="2800" b="1" u="sng" kern="1200" dirty="0" smtClean="0"/>
            <a:t>is not</a:t>
          </a:r>
          <a:r>
            <a:rPr lang="en-US" sz="2800" b="1" kern="1200" dirty="0" smtClean="0"/>
            <a:t> sad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6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not plump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6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</a:t>
          </a:r>
          <a:r>
            <a:rPr lang="en-US" sz="2800" b="1" u="sng" kern="1200" dirty="0" smtClean="0"/>
            <a:t>are not</a:t>
          </a:r>
          <a:r>
            <a:rPr lang="en-US" sz="2800" b="1" kern="1200" dirty="0" smtClean="0"/>
            <a:t> plump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6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</a:t>
          </a:r>
          <a:r>
            <a:rPr lang="en-US" sz="2800" b="1" kern="1200" dirty="0" err="1" smtClean="0"/>
            <a:t>arn’t</a:t>
          </a:r>
          <a:r>
            <a:rPr lang="en-US" sz="2800" b="1" kern="1200" dirty="0" smtClean="0"/>
            <a:t> young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6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</a:t>
          </a:r>
          <a:r>
            <a:rPr lang="en-US" sz="2800" b="1" u="sng" kern="1200" dirty="0" smtClean="0"/>
            <a:t>aren’t</a:t>
          </a:r>
          <a:r>
            <a:rPr lang="en-US" sz="2800" b="1" kern="1200" dirty="0" smtClean="0"/>
            <a:t> young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6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are aren’t ol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6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</a:t>
          </a:r>
          <a:r>
            <a:rPr lang="en-US" sz="2800" b="1" u="sng" kern="1200" dirty="0" smtClean="0"/>
            <a:t>aren’t</a:t>
          </a:r>
          <a:r>
            <a:rPr lang="en-US" sz="2800" b="1" kern="1200" dirty="0" smtClean="0"/>
            <a:t> old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6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7181" y="2908782"/>
          <a:ext cx="2996881" cy="638538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35145"/>
              </a:lnTo>
              <a:lnTo>
                <a:pt x="2996881" y="435145"/>
              </a:lnTo>
              <a:lnTo>
                <a:pt x="2996881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32600" y="2908782"/>
          <a:ext cx="91440" cy="638538"/>
        </a:xfrm>
        <a:custGeom>
          <a:avLst/>
          <a:gdLst/>
          <a:ahLst/>
          <a:cxnLst/>
          <a:rect l="0" t="0" r="0" b="0"/>
          <a:pathLst>
            <a:path>
              <a:moveTo>
                <a:pt x="74580" y="0"/>
              </a:moveTo>
              <a:lnTo>
                <a:pt x="74580" y="435145"/>
              </a:lnTo>
              <a:lnTo>
                <a:pt x="45720" y="435145"/>
              </a:lnTo>
              <a:lnTo>
                <a:pt x="45720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281438" y="2908782"/>
          <a:ext cx="3025742" cy="638538"/>
        </a:xfrm>
        <a:custGeom>
          <a:avLst/>
          <a:gdLst/>
          <a:ahLst/>
          <a:cxnLst/>
          <a:rect l="0" t="0" r="0" b="0"/>
          <a:pathLst>
            <a:path>
              <a:moveTo>
                <a:pt x="3025742" y="0"/>
              </a:moveTo>
              <a:lnTo>
                <a:pt x="3025742" y="435145"/>
              </a:lnTo>
              <a:lnTo>
                <a:pt x="0" y="435145"/>
              </a:lnTo>
              <a:lnTo>
                <a:pt x="0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1989639" y="806524"/>
          <a:ext cx="4635084" cy="210225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233588" y="1038276"/>
          <a:ext cx="4635084" cy="210225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13360" tIns="213360" rIns="213360" bIns="213360" numCol="1" spcCol="1270" anchor="ctr" anchorCtr="0">
          <a:noAutofit/>
        </a:bodyPr>
        <a:lstStyle/>
        <a:p>
          <a:pPr lvl="0" algn="ctr" defTabSz="2489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600" b="1" u="sng" kern="1200" dirty="0" smtClean="0">
              <a:solidFill>
                <a:srgbClr val="0070C0"/>
              </a:solidFill>
            </a:rPr>
            <a:t>To be …?</a:t>
          </a:r>
        </a:p>
      </dsp:txBody>
      <dsp:txXfrm>
        <a:off x="2295161" y="1099849"/>
        <a:ext cx="4511938" cy="1979112"/>
      </dsp:txXfrm>
    </dsp:sp>
    <dsp:sp modelId="{8BA927DD-1013-4678-9187-7ED61423452A}">
      <dsp:nvSpPr>
        <dsp:cNvPr id="0" name=""/>
        <dsp:cNvSpPr/>
      </dsp:nvSpPr>
      <dsp:spPr>
        <a:xfrm>
          <a:off x="710" y="3547320"/>
          <a:ext cx="2561456" cy="227240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44660" y="3779072"/>
          <a:ext cx="2561456" cy="22724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82880" tIns="182880" rIns="182880" bIns="182880" numCol="1" spcCol="1270" anchor="ctr" anchorCtr="0">
          <a:noAutofit/>
        </a:bodyPr>
        <a:lstStyle/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4800" b="1" kern="1200" dirty="0" smtClean="0">
              <a:solidFill>
                <a:srgbClr val="FF0000"/>
              </a:solidFill>
            </a:rPr>
            <a:t>Am …?</a:t>
          </a:r>
          <a:endParaRPr lang="en-US" sz="4800" b="1" i="1" kern="1200" dirty="0" smtClean="0">
            <a:solidFill>
              <a:srgbClr val="C00000"/>
            </a:solidFill>
          </a:endParaRPr>
        </a:p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FF0000"/>
              </a:solidFill>
            </a:rPr>
            <a:t>Am </a:t>
          </a:r>
          <a:r>
            <a:rPr lang="en-US" sz="3600" kern="1200" dirty="0" smtClean="0"/>
            <a:t>I eight?</a:t>
          </a:r>
          <a:endParaRPr lang="ru-RU" sz="3600" kern="1200" dirty="0"/>
        </a:p>
      </dsp:txBody>
      <dsp:txXfrm>
        <a:off x="311216" y="3845628"/>
        <a:ext cx="2428344" cy="2139290"/>
      </dsp:txXfrm>
    </dsp:sp>
    <dsp:sp modelId="{55035FB5-07BC-4E58-B39A-29E6C019E9BA}">
      <dsp:nvSpPr>
        <dsp:cNvPr id="0" name=""/>
        <dsp:cNvSpPr/>
      </dsp:nvSpPr>
      <dsp:spPr>
        <a:xfrm>
          <a:off x="3050066" y="3547320"/>
          <a:ext cx="2456509" cy="224969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294015" y="3779072"/>
          <a:ext cx="2456509" cy="2249691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Is …?</a:t>
          </a:r>
          <a:endParaRPr lang="en-US" sz="5200" b="1" i="1" kern="1200" dirty="0" smtClean="0">
            <a:solidFill>
              <a:srgbClr val="C00000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FF0000"/>
              </a:solidFill>
            </a:rPr>
            <a:t>Is</a:t>
          </a:r>
          <a:r>
            <a:rPr lang="en-US" sz="3600" kern="1200" dirty="0" smtClean="0"/>
            <a:t> he tall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 dirty="0"/>
        </a:p>
      </dsp:txBody>
      <dsp:txXfrm>
        <a:off x="3359906" y="3844963"/>
        <a:ext cx="2324727" cy="2117909"/>
      </dsp:txXfrm>
    </dsp:sp>
    <dsp:sp modelId="{28C98B7F-2492-4698-A3CE-C05B0DBF7826}">
      <dsp:nvSpPr>
        <dsp:cNvPr id="0" name=""/>
        <dsp:cNvSpPr/>
      </dsp:nvSpPr>
      <dsp:spPr>
        <a:xfrm>
          <a:off x="5994474" y="3547320"/>
          <a:ext cx="2619177" cy="227240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238424" y="3779072"/>
          <a:ext cx="2619177" cy="22724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Are …?</a:t>
          </a:r>
          <a:endParaRPr lang="en-US" sz="5200" b="1" i="1" kern="1200" dirty="0" smtClean="0">
            <a:solidFill>
              <a:srgbClr val="C00000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FF0000"/>
              </a:solidFill>
            </a:rPr>
            <a:t>Are</a:t>
          </a:r>
          <a:r>
            <a:rPr lang="en-US" sz="3600" kern="1200" dirty="0" smtClean="0"/>
            <a:t> we happy?</a:t>
          </a:r>
          <a:endParaRPr lang="ru-RU" sz="3600" kern="1200" dirty="0"/>
        </a:p>
      </dsp:txBody>
      <dsp:txXfrm>
        <a:off x="6304980" y="3845628"/>
        <a:ext cx="2486065" cy="2139290"/>
      </dsp:txXfrm>
    </dsp:sp>
  </dsp:spTree>
</dsp:drawing>
</file>

<file path=ppt/diagrams/drawing6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4505EA7-410F-425B-915A-90C0F894BC4F}">
      <dsp:nvSpPr>
        <dsp:cNvPr id="0" name=""/>
        <dsp:cNvSpPr/>
      </dsp:nvSpPr>
      <dsp:spPr>
        <a:xfrm>
          <a:off x="4192463" y="1565666"/>
          <a:ext cx="91440" cy="753672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06750"/>
              </a:lnTo>
              <a:lnTo>
                <a:pt x="104102" y="406750"/>
              </a:lnTo>
              <a:lnTo>
                <a:pt x="104102" y="753672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397590" y="-158170"/>
          <a:ext cx="3681185" cy="1723837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813689" y="237122"/>
          <a:ext cx="3681185" cy="172383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m</a:t>
          </a:r>
          <a:r>
            <a:rPr lang="en-US" sz="6600" b="1" u="none" kern="1200" dirty="0" smtClean="0">
              <a:solidFill>
                <a:srgbClr val="FF0000"/>
              </a:solidFill>
            </a:rPr>
            <a:t> …?</a:t>
          </a:r>
          <a:endParaRPr lang="en-US" sz="6600" b="1" i="1" u="sng" kern="1200" dirty="0" smtClean="0">
            <a:solidFill>
              <a:srgbClr val="C00000"/>
            </a:solidFill>
          </a:endParaRPr>
        </a:p>
      </dsp:txBody>
      <dsp:txXfrm>
        <a:off x="2864178" y="287611"/>
        <a:ext cx="3580207" cy="1622859"/>
      </dsp:txXfrm>
    </dsp:sp>
    <dsp:sp modelId="{D3E90D8E-A42A-4416-AC64-E74096182B25}">
      <dsp:nvSpPr>
        <dsp:cNvPr id="0" name=""/>
        <dsp:cNvSpPr/>
      </dsp:nvSpPr>
      <dsp:spPr>
        <a:xfrm>
          <a:off x="766486" y="2319339"/>
          <a:ext cx="7060158" cy="321712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F31EB55-993C-4537-B40A-1037EF8FDEBE}">
      <dsp:nvSpPr>
        <dsp:cNvPr id="0" name=""/>
        <dsp:cNvSpPr/>
      </dsp:nvSpPr>
      <dsp:spPr>
        <a:xfrm>
          <a:off x="1182585" y="2714633"/>
          <a:ext cx="7060158" cy="321712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36220" tIns="236220" rIns="236220" bIns="236220" numCol="1" spcCol="1270" anchor="ctr" anchorCtr="0">
          <a:noAutofit/>
        </a:bodyPr>
        <a:lstStyle/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lvl="0" algn="l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I an actor?         </a:t>
          </a:r>
          <a:r>
            <a:rPr lang="en-US" sz="36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Yes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, I </a:t>
          </a:r>
          <a:r>
            <a:rPr lang="en-US" sz="36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. </a:t>
          </a:r>
        </a:p>
        <a:p>
          <a:pPr lvl="0" algn="l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I a doctor?         </a:t>
          </a:r>
          <a:r>
            <a:rPr lang="en-US" sz="36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No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, I </a:t>
          </a:r>
          <a:r>
            <a:rPr lang="en-US" sz="36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 not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. </a:t>
          </a:r>
        </a:p>
      </dsp:txBody>
      <dsp:txXfrm>
        <a:off x="1276811" y="2808859"/>
        <a:ext cx="6871706" cy="3028676"/>
      </dsp:txXfrm>
    </dsp:sp>
  </dsp:spTree>
</dsp:drawing>
</file>

<file path=ppt/diagrams/drawing6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786078" y="285726"/>
          <a:ext cx="3035717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3036516" y="523641"/>
          <a:ext cx="3035717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Is</a:t>
          </a:r>
          <a:r>
            <a:rPr lang="en-US" sz="6600" b="1" u="none" kern="1200" dirty="0" smtClean="0">
              <a:solidFill>
                <a:srgbClr val="FF0000"/>
              </a:solidFill>
            </a:rPr>
            <a:t> …?</a:t>
          </a:r>
          <a:endParaRPr lang="ru-RU" sz="6600" b="1" i="1" u="sng" kern="1200" dirty="0">
            <a:solidFill>
              <a:srgbClr val="C00000"/>
            </a:solidFill>
          </a:endParaRPr>
        </a:p>
      </dsp:txBody>
      <dsp:txXfrm>
        <a:off x="3083596" y="570721"/>
        <a:ext cx="2941557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he a doctor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he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./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he </a:t>
          </a:r>
          <a:r>
            <a:rPr lang="en-US" sz="2800" b="1" u="sng" kern="1200" dirty="0" smtClean="0">
              <a:solidFill>
                <a:srgbClr val="FF0000"/>
              </a:solidFill>
            </a:rPr>
            <a:t>isn’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  <a:endParaRPr lang="en-US" sz="500" b="0" kern="1200" dirty="0" smtClean="0">
            <a:solidFill>
              <a:schemeClr val="tx1"/>
            </a:solidFill>
          </a:endParaRP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S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she a teacher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she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./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she </a:t>
          </a:r>
          <a:r>
            <a:rPr lang="en-US" sz="2800" b="1" u="sng" kern="1200" dirty="0" smtClean="0">
              <a:solidFill>
                <a:srgbClr val="FF0000"/>
              </a:solidFill>
            </a:rPr>
            <a:t>isn’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It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it a monkey?       </a:t>
          </a:r>
          <a:endParaRPr lang="en-US" sz="100" b="0" kern="1200" dirty="0" smtClean="0">
            <a:solidFill>
              <a:schemeClr val="tx1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it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./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it </a:t>
          </a:r>
          <a:r>
            <a:rPr lang="en-US" sz="2800" b="1" i="0" u="sng" kern="1200" dirty="0" smtClean="0">
              <a:solidFill>
                <a:srgbClr val="FF0000"/>
              </a:solidFill>
            </a:rPr>
            <a:t>isn’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  <a:endParaRPr lang="en-US" sz="1600" b="0" kern="1200" dirty="0" smtClean="0">
            <a:solidFill>
              <a:schemeClr val="tx1"/>
            </a:solidFill>
          </a:endParaRPr>
        </a:p>
      </dsp:txBody>
      <dsp:txXfrm>
        <a:off x="6465958" y="2869467"/>
        <a:ext cx="2309314" cy="3619940"/>
      </dsp:txXfrm>
    </dsp:sp>
  </dsp:spTree>
</dsp:drawing>
</file>

<file path=ppt/diagrams/drawing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786078" y="285726"/>
          <a:ext cx="3035717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3036516" y="523641"/>
          <a:ext cx="3035717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re</a:t>
          </a:r>
          <a:endParaRPr lang="ru-RU" sz="6600" b="1" u="sng" kern="1200" dirty="0">
            <a:solidFill>
              <a:srgbClr val="FF0000"/>
            </a:solidFill>
          </a:endParaRPr>
        </a:p>
      </dsp:txBody>
      <dsp:txXfrm>
        <a:off x="3083596" y="570721"/>
        <a:ext cx="2941557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You</a:t>
          </a:r>
          <a:endParaRPr lang="en-US" sz="2800" b="1" kern="1200" dirty="0" smtClean="0">
            <a:solidFill>
              <a:srgbClr val="C00000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You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u="none" kern="1200" dirty="0" smtClean="0">
              <a:solidFill>
                <a:srgbClr val="FF0000"/>
              </a:solidFill>
            </a:rPr>
            <a:t>           </a:t>
          </a:r>
          <a:r>
            <a:rPr lang="en-US" sz="2800" b="0" kern="1200" dirty="0" smtClean="0">
              <a:solidFill>
                <a:schemeClr val="tx1"/>
              </a:solidFill>
            </a:rPr>
            <a:t> friends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You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kind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You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smart.</a:t>
          </a:r>
          <a:endParaRPr lang="en-US" sz="5200" b="0" kern="1200" dirty="0" smtClean="0">
            <a:solidFill>
              <a:schemeClr val="tx1"/>
            </a:solidFill>
          </a:endParaRP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W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W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boys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W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kind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W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smart.</a:t>
          </a: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They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They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strong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They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cleve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2800" b="0" kern="1200" dirty="0" smtClean="0">
            <a:solidFill>
              <a:schemeClr val="tx1"/>
            </a:solidFill>
          </a:endParaRPr>
        </a:p>
      </dsp:txBody>
      <dsp:txXfrm>
        <a:off x="6465958" y="2869467"/>
        <a:ext cx="2309314" cy="3619940"/>
      </dsp:txXfrm>
    </dsp:sp>
  </dsp:spTree>
</dsp:drawing>
</file>

<file path=ppt/diagrams/drawing7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428885" y="285726"/>
          <a:ext cx="3750103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679323" y="523641"/>
          <a:ext cx="3750103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re</a:t>
          </a:r>
          <a:r>
            <a:rPr lang="en-US" sz="6600" b="1" u="none" kern="1200" dirty="0" smtClean="0">
              <a:solidFill>
                <a:srgbClr val="FF0000"/>
              </a:solidFill>
            </a:rPr>
            <a:t> …?</a:t>
          </a:r>
          <a:endParaRPr lang="ru-RU" sz="6600" b="1" i="1" u="sng" kern="1200" dirty="0">
            <a:solidFill>
              <a:srgbClr val="C00000"/>
            </a:solidFill>
          </a:endParaRPr>
        </a:p>
      </dsp:txBody>
      <dsp:txXfrm>
        <a:off x="2726403" y="570721"/>
        <a:ext cx="3655943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You</a:t>
          </a:r>
          <a:endParaRPr lang="en-US" sz="2800" b="1" kern="1200" dirty="0" smtClean="0">
            <a:solidFill>
              <a:srgbClr val="C00000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you a student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I </a:t>
          </a:r>
          <a:r>
            <a:rPr lang="en-US" sz="2800" b="1" u="sng" kern="1200" dirty="0" smtClean="0">
              <a:solidFill>
                <a:srgbClr val="FF0000"/>
              </a:solidFill>
            </a:rPr>
            <a:t>am</a:t>
          </a:r>
          <a:r>
            <a:rPr lang="en-US" sz="2800" b="0" kern="1200" dirty="0" smtClean="0">
              <a:solidFill>
                <a:schemeClr val="tx1"/>
              </a:solidFill>
            </a:rPr>
            <a:t>./ 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I </a:t>
          </a:r>
          <a:r>
            <a:rPr lang="en-US" sz="2800" b="1" u="sng" kern="1200" dirty="0" smtClean="0">
              <a:solidFill>
                <a:srgbClr val="FF0000"/>
              </a:solidFill>
            </a:rPr>
            <a:t>am no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1400" b="0" u="sng" kern="1200" dirty="0" smtClean="0">
            <a:solidFill>
              <a:schemeClr val="tx1"/>
            </a:solidFill>
          </a:endParaRP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W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we students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we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./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we </a:t>
          </a:r>
          <a:r>
            <a:rPr lang="en-US" sz="2800" b="1" u="sng" kern="1200" dirty="0" smtClean="0">
              <a:solidFill>
                <a:srgbClr val="FF0000"/>
              </a:solidFill>
            </a:rPr>
            <a:t>aren’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They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they teachers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they </a:t>
          </a:r>
          <a:r>
            <a:rPr lang="en-US" sz="2800" b="1" u="sng" kern="1200" dirty="0" smtClean="0">
              <a:solidFill>
                <a:srgbClr val="FF0000"/>
              </a:solidFill>
            </a:rPr>
            <a:t>are.</a:t>
          </a:r>
          <a:r>
            <a:rPr lang="en-US" sz="2800" b="0" kern="1200" dirty="0" smtClean="0">
              <a:solidFill>
                <a:schemeClr val="tx1"/>
              </a:solidFill>
            </a:rPr>
            <a:t>/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they </a:t>
          </a:r>
          <a:r>
            <a:rPr lang="en-US" sz="2800" b="1" u="sng" kern="1200" dirty="0" smtClean="0">
              <a:solidFill>
                <a:srgbClr val="FF0000"/>
              </a:solidFill>
            </a:rPr>
            <a:t>aren’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</a:p>
      </dsp:txBody>
      <dsp:txXfrm>
        <a:off x="6465958" y="2869467"/>
        <a:ext cx="2309314" cy="3619940"/>
      </dsp:txXfrm>
    </dsp:sp>
  </dsp:spTree>
</dsp:drawing>
</file>

<file path=ppt/diagrams/drawing7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D88AB8AF-37D6-4411-A660-ED670E057039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short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7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D2A5C30E-844A-4389-A696-F50BBBCA96CD}">
      <dsp:nvSpPr>
        <dsp:cNvPr id="0" name=""/>
        <dsp:cNvSpPr/>
      </dsp:nvSpPr>
      <dsp:spPr>
        <a:xfrm>
          <a:off x="0" y="159"/>
          <a:ext cx="2214578" cy="522900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No, she isn’t.</a:t>
          </a:r>
          <a:endParaRPr lang="ru-RU" sz="2800" b="1" kern="1200" dirty="0"/>
        </a:p>
      </dsp:txBody>
      <dsp:txXfrm>
        <a:off x="25526" y="25685"/>
        <a:ext cx="2163526" cy="471848"/>
      </dsp:txXfrm>
    </dsp:sp>
  </dsp:spTree>
</dsp:drawing>
</file>

<file path=ppt/diagrams/drawing7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F8E1B175-57ED-4157-A12B-A7D04B658C50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tall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7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4E995253-88FA-430E-9231-52BB969D8138}">
      <dsp:nvSpPr>
        <dsp:cNvPr id="0" name=""/>
        <dsp:cNvSpPr/>
      </dsp:nvSpPr>
      <dsp:spPr>
        <a:xfrm>
          <a:off x="0" y="188"/>
          <a:ext cx="2214578" cy="522843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es, she is.</a:t>
          </a:r>
          <a:endParaRPr lang="ru-RU" sz="2800" b="1" kern="1200" dirty="0"/>
        </a:p>
      </dsp:txBody>
      <dsp:txXfrm>
        <a:off x="25523" y="25711"/>
        <a:ext cx="2163532" cy="471797"/>
      </dsp:txXfrm>
    </dsp:sp>
  </dsp:spTree>
</dsp:drawing>
</file>

<file path=ppt/diagrams/drawing7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18D73C1-BA8B-4471-8B0C-CE5A32828BA9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old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7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486D35A8-08F6-4816-ADC1-30CF4F55A43D}">
      <dsp:nvSpPr>
        <dsp:cNvPr id="0" name=""/>
        <dsp:cNvSpPr/>
      </dsp:nvSpPr>
      <dsp:spPr>
        <a:xfrm>
          <a:off x="0" y="159"/>
          <a:ext cx="2214578" cy="522900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No, she isn’t.</a:t>
          </a:r>
          <a:endParaRPr lang="ru-RU" sz="2800" b="1" kern="1200" dirty="0"/>
        </a:p>
      </dsp:txBody>
      <dsp:txXfrm>
        <a:off x="25526" y="25685"/>
        <a:ext cx="2163526" cy="471848"/>
      </dsp:txXfrm>
    </dsp:sp>
  </dsp:spTree>
</dsp:drawing>
</file>

<file path=ppt/diagrams/drawing7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CC3DD58F-9374-443E-A157-9AD5A48F341A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young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7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1645A4A-E056-4C67-B7E4-1E312CA27446}">
      <dsp:nvSpPr>
        <dsp:cNvPr id="0" name=""/>
        <dsp:cNvSpPr/>
      </dsp:nvSpPr>
      <dsp:spPr>
        <a:xfrm>
          <a:off x="0" y="188"/>
          <a:ext cx="2214578" cy="522843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es, she is.</a:t>
          </a:r>
          <a:endParaRPr lang="ru-RU" sz="2800" b="1" kern="1200" dirty="0"/>
        </a:p>
      </dsp:txBody>
      <dsp:txXfrm>
        <a:off x="25523" y="25711"/>
        <a:ext cx="2163532" cy="471797"/>
      </dsp:txXfrm>
    </dsp:sp>
  </dsp:spTree>
</dsp:drawing>
</file>

<file path=ppt/diagrams/drawing7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8673F28-236C-45EB-A5B9-704A03A77398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sad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200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Fill in the gaps </a:t>
          </a:r>
          <a:r>
            <a:rPr lang="en-US" sz="3600" b="1" kern="1200" dirty="0" smtClean="0">
              <a:solidFill>
                <a:srgbClr val="FF0000"/>
              </a:solidFill>
            </a:rPr>
            <a:t>(am, is, are)</a:t>
          </a:r>
          <a:r>
            <a:rPr lang="en-US" sz="3600" b="1" kern="1200" dirty="0" smtClean="0">
              <a:solidFill>
                <a:srgbClr val="002060"/>
              </a:solidFill>
            </a:rPr>
            <a:t>.</a:t>
          </a:r>
          <a:endParaRPr lang="ru-RU" sz="3600" b="1" kern="1200" dirty="0">
            <a:solidFill>
              <a:srgbClr val="002060"/>
            </a:solidFill>
          </a:endParaRPr>
        </a:p>
      </dsp:txBody>
      <dsp:txXfrm>
        <a:off x="34537" y="34737"/>
        <a:ext cx="8003420" cy="638410"/>
      </dsp:txXfrm>
    </dsp:sp>
  </dsp:spTree>
</dsp:drawing>
</file>

<file path=ppt/diagrams/drawing8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1638023-9EBF-4308-8F07-E1CDCD97207D}">
      <dsp:nvSpPr>
        <dsp:cNvPr id="0" name=""/>
        <dsp:cNvSpPr/>
      </dsp:nvSpPr>
      <dsp:spPr>
        <a:xfrm>
          <a:off x="0" y="159"/>
          <a:ext cx="2214578" cy="522900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No, she isn’t.</a:t>
          </a:r>
          <a:endParaRPr lang="ru-RU" sz="2800" b="1" kern="1200" dirty="0"/>
        </a:p>
      </dsp:txBody>
      <dsp:txXfrm>
        <a:off x="25526" y="25685"/>
        <a:ext cx="2163526" cy="471848"/>
      </dsp:txXfrm>
    </dsp:sp>
  </dsp:spTree>
</dsp:drawing>
</file>

<file path=ppt/diagrams/drawing8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8A6EB61-69AF-4EAE-8A8C-EE1D2B9F2751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happy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8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95B9CF6-4136-402E-87D8-E6947FF5287C}">
      <dsp:nvSpPr>
        <dsp:cNvPr id="0" name=""/>
        <dsp:cNvSpPr/>
      </dsp:nvSpPr>
      <dsp:spPr>
        <a:xfrm>
          <a:off x="0" y="188"/>
          <a:ext cx="2214578" cy="522843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es, she is.</a:t>
          </a:r>
          <a:endParaRPr lang="ru-RU" sz="2800" b="1" kern="1200" dirty="0"/>
        </a:p>
      </dsp:txBody>
      <dsp:txXfrm>
        <a:off x="25523" y="25711"/>
        <a:ext cx="2163532" cy="471797"/>
      </dsp:txXfrm>
    </dsp:sp>
  </dsp:spTree>
</dsp:drawing>
</file>

<file path=ppt/diagrams/drawing8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101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Answer the questions.</a:t>
          </a:r>
          <a:endParaRPr lang="ru-RU" sz="3600" b="1" kern="1200" dirty="0">
            <a:solidFill>
              <a:srgbClr val="002060"/>
            </a:solidFill>
          </a:endParaRPr>
        </a:p>
      </dsp:txBody>
      <dsp:txXfrm>
        <a:off x="34537" y="34638"/>
        <a:ext cx="8003420" cy="638410"/>
      </dsp:txXfrm>
    </dsp:sp>
  </dsp:spTree>
</dsp:drawing>
</file>

<file path=ppt/diagrams/drawing8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101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Correct the mistakes</a:t>
          </a:r>
          <a:r>
            <a:rPr lang="en-US" sz="3600" b="1" kern="1200" dirty="0" smtClean="0">
              <a:solidFill>
                <a:schemeClr val="tx1"/>
              </a:solidFill>
            </a:rPr>
            <a:t>.</a:t>
          </a:r>
          <a:endParaRPr lang="ru-RU" sz="3600" b="1" kern="1200" dirty="0">
            <a:solidFill>
              <a:schemeClr val="tx1"/>
            </a:solidFill>
          </a:endParaRPr>
        </a:p>
      </dsp:txBody>
      <dsp:txXfrm>
        <a:off x="34537" y="34638"/>
        <a:ext cx="8003420" cy="638410"/>
      </dsp:txXfrm>
    </dsp:sp>
  </dsp:spTree>
</dsp:drawing>
</file>

<file path=ppt/diagrams/drawing8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is happy?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8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he tall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8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72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he tall</a:t>
          </a:r>
          <a:r>
            <a:rPr lang="en-US" sz="2800" b="1" u="sng" kern="1200" dirty="0" smtClean="0"/>
            <a:t>?</a:t>
          </a:r>
          <a:endParaRPr lang="ru-RU" sz="2800" b="1" u="sng" kern="1200" dirty="0"/>
        </a:p>
      </dsp:txBody>
      <dsp:txXfrm>
        <a:off x="27885" y="28157"/>
        <a:ext cx="3301816" cy="515461"/>
      </dsp:txXfrm>
    </dsp:sp>
  </dsp:spTree>
</dsp:drawing>
</file>

<file path=ppt/diagrams/drawing8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slim is?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8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u="sng" kern="1200" dirty="0" smtClean="0"/>
            <a:t>Is</a:t>
          </a:r>
          <a:r>
            <a:rPr lang="en-US" sz="2800" b="1" kern="1200" dirty="0" smtClean="0"/>
            <a:t> he slim?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21"/>
          <a:ext cx="6304214" cy="571060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       I   …       Bob.</a:t>
          </a:r>
          <a:endParaRPr lang="ru-RU" sz="2800" b="1" kern="1200" dirty="0"/>
        </a:p>
      </dsp:txBody>
      <dsp:txXfrm>
        <a:off x="27877" y="28098"/>
        <a:ext cx="6248460" cy="515306"/>
      </dsp:txXfrm>
    </dsp:sp>
  </dsp:spTree>
</dsp:drawing>
</file>

<file path=ppt/diagrams/drawing9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No, he is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9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No, he </a:t>
          </a:r>
          <a:r>
            <a:rPr lang="en-US" sz="2800" b="1" u="sng" kern="1200" dirty="0" smtClean="0"/>
            <a:t>isn’t</a:t>
          </a:r>
          <a:r>
            <a:rPr lang="en-US" sz="2800" b="1" kern="1200" dirty="0" smtClean="0"/>
            <a:t>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9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u="sng" kern="1200" dirty="0" smtClean="0"/>
            <a:t>Is</a:t>
          </a:r>
          <a:r>
            <a:rPr lang="en-US" sz="2800" b="1" kern="1200" dirty="0" smtClean="0"/>
            <a:t> he happy?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9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es, he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9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es, he </a:t>
          </a:r>
          <a:r>
            <a:rPr lang="en-US" sz="2800" b="1" u="sng" kern="1200" dirty="0" smtClean="0"/>
            <a:t>is</a:t>
          </a:r>
          <a:r>
            <a:rPr lang="en-US" sz="2800" b="1" kern="1200" dirty="0" smtClean="0"/>
            <a:t>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9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young?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9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u="sng" kern="1200" dirty="0" smtClean="0"/>
            <a:t>Is</a:t>
          </a:r>
          <a:r>
            <a:rPr lang="en-US" sz="2800" b="1" kern="1200" dirty="0" smtClean="0"/>
            <a:t> he young?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9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DBBB6A65-DE37-4B18-97A7-DFE4846E9361}">
      <dsp:nvSpPr>
        <dsp:cNvPr id="0" name=""/>
        <dsp:cNvSpPr/>
      </dsp:nvSpPr>
      <dsp:spPr>
        <a:xfrm>
          <a:off x="0" y="84784"/>
          <a:ext cx="7772400" cy="1300455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217170" tIns="217170" rIns="217170" bIns="217170" numCol="1" spcCol="1270" anchor="ctr" anchorCtr="0">
          <a:noAutofit/>
        </a:bodyPr>
        <a:lstStyle/>
        <a:p>
          <a:pPr lvl="0" algn="ctr" defTabSz="25336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5700" b="0" i="0" kern="1200" baseline="0" dirty="0" smtClean="0">
              <a:solidFill>
                <a:srgbClr val="002060"/>
              </a:solidFill>
            </a:rPr>
            <a:t>Спасибо за внимание!</a:t>
          </a:r>
          <a:endParaRPr lang="ru-RU" sz="5700" b="0" i="0" kern="1200" baseline="0" dirty="0">
            <a:solidFill>
              <a:srgbClr val="002060"/>
            </a:solidFill>
          </a:endParaRPr>
        </a:p>
      </dsp:txBody>
      <dsp:txXfrm>
        <a:off x="63483" y="148267"/>
        <a:ext cx="7645434" cy="117348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cycle2">
  <dgm:title val=""/>
  <dgm:desc val=""/>
  <dgm:catLst>
    <dgm:cat type="cycle" pri="1000"/>
    <dgm:cat type="convert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choose name="Name2">
          <dgm:if name="Name3" axis="ch" ptType="node" func="cnt" op="gt" val="2">
            <dgm:alg type="cycle">
              <dgm:param type="stAng" val="0"/>
              <dgm:param type="spanAng" val="360"/>
            </dgm:alg>
          </dgm:if>
          <dgm:else name="Name4">
            <dgm:alg type="cycle">
              <dgm:param type="stAng" val="-90"/>
              <dgm:param type="spanAng" val="360"/>
            </dgm:alg>
          </dgm:else>
        </dgm:choose>
      </dgm:if>
      <dgm:else name="Name5">
        <dgm:choose name="Name6">
          <dgm:if name="Name7" axis="ch" ptType="node" func="cnt" op="gt" val="2">
            <dgm:alg type="cycle">
              <dgm:param type="stAng" val="0"/>
              <dgm:param type="spanAng" val="-360"/>
            </dgm:alg>
          </dgm:if>
          <dgm:else name="Name8">
            <dgm:alg type="cycle">
              <dgm:param type="stAng" val="90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ptType="sibTrans" refType="w" refFor="ch" refPtType="node" op="equ" fact="0.25"/>
      <dgm:constr type="sibSp" refType="w" refFor="ch" refPtType="node" fact="0.5"/>
      <dgm:constr type="primFontSz" for="ch" ptType="node" op="equ" val="65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ellipse" r:blip="">
          <dgm:adjLst/>
        </dgm:shape>
        <dgm:presOf axis="desOrSelf" ptType="node"/>
        <dgm:constrLst>
          <dgm:constr type="h" refType="w"/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  <dgm:choose name="Name9">
        <dgm:if name="Name10" axis="par ch" ptType="doc node" func="cnt" op="gt" val="1">
          <dgm:forEach name="sibTransForEach" axis="followSib" ptType="sibTrans" hideLastTrans="0" cnt="1">
            <dgm:layoutNode name="sibTrans">
              <dgm:choose name="Name11">
                <dgm:if name="Name12" axis="par ch" ptType="doc node" func="cnt" op="lt" val="3">
                  <dgm:alg type="conn">
                    <dgm:param type="begPts" val="radial"/>
                    <dgm:param type="endPts" val="radial"/>
                  </dgm:alg>
                </dgm:if>
                <dgm:else name="Name13">
                  <dgm:alg type="conn">
                    <dgm:param type="begPts" val="auto"/>
                    <dgm:param type="endPts" val="auto"/>
                  </dgm:alg>
                </dgm:else>
              </dgm:choose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1.35"/>
                <dgm:constr type="connDist"/>
                <dgm:constr type="w" for="ch" refType="connDist" fact="0.45"/>
                <dgm:constr type="h" for="ch" refType="h"/>
              </dgm:constrLst>
              <dgm:ruleLst/>
              <dgm:layoutNode name="connectorText">
                <dgm:alg type="tx">
                  <dgm:param type="autoTxRot" val="grav"/>
                </dgm:alg>
                <dgm:shape xmlns:r="http://schemas.openxmlformats.org/officeDocument/2006/relationships" type="conn" r:blip="" hideGeom="1">
                  <dgm:adjLst/>
                </dgm:shape>
                <dgm:presOf axis="self"/>
                <dgm:constrLst>
                  <dgm:constr type="lMarg"/>
                  <dgm:constr type="rMarg"/>
                  <dgm:constr type="tMarg"/>
                  <dgm:constr type="bMarg"/>
                </dgm:constrLst>
                <dgm:ruleLst>
                  <dgm:rule type="primFontSz" val="5" fact="NaN" max="NaN"/>
                </dgm:ruleLst>
              </dgm:layoutNode>
            </dgm:layoutNode>
          </dgm:forEach>
        </dgm:if>
        <dgm:else name="Name14"/>
      </dgm:choose>
    </dgm:forEach>
  </dgm:layoutNode>
</dgm:layoutDef>
</file>

<file path=ppt/diagrams/layout3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4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35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36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37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3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4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5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6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7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68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69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70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7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2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9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4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5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6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7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8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9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7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8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9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0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7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8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4A32F4-79D5-4AFC-A0AE-52A27EFB9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0C0900-BDA1-452B-8623-DE1586B2E83B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83440A-98A8-4999-94E0-06504D127ADA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6C63EB-6E16-45EC-88FB-9E172D5E2589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205A58-E7A0-44BB-A614-2C58EB0D90D8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A1E679-4064-40D5-AAF8-76B444E0DC67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1E4-1D07-4197-8A42-7A943065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338-0F79-497C-85C5-9105B085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6C3-8372-4641-9EF7-FD2401E3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EAE-3F49-49E3-A872-B6789E04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CFC4-5B09-43E3-8584-A407F37E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7EF0-063A-4BDE-8F17-74EF4BFA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EB80-DF65-4378-BF7B-9C51A694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4B71-C6DD-42B8-83CE-1D967F61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E14C-832B-493A-BA76-E0971756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879F-AADF-47D1-9DE4-4F7F1A31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6005-BA6C-4C60-A8AE-03E9CBFD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0F7-24A4-4CBE-B395-B8C333B9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ABB2-0ADD-4419-AF6F-D5FFAAAB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2BF9-9E8C-4B4E-A170-4A87CC7B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8F6A-F472-4BA0-BD02-65487621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7BBA-77D8-4FDC-AE09-A70123D7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D4DE-2A83-498E-8876-471074A1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92CEF-000F-4B01-9C3D-4B68D202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A9287-C1BE-4124-8CC4-C9B626BA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2EF7-CAA4-49D2-A50E-71E823F1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FC63D-F5E3-459A-8B4D-BC3E61F1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3C08-9377-4BD2-BAFB-12FFA857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54D-4135-4B19-B7EA-8DC6B58E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418BB-FFAE-41AF-BABC-D76D9503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3763-C7FA-4FD9-BAE4-9CA1F276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AD71D-A367-43EB-9CE9-4A10F900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A616E-52BE-4154-9F11-AF98FC96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6087C-4DB6-4839-8E91-A2A426BA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1A24-083E-4FC8-A817-FF89750E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85A3E-4175-4619-BF43-AFAE4DD1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2D557-A898-41AB-82BE-0E3E9AFC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7DE07-1E70-4A84-9CFD-14724FEC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6AF51-5421-410B-99CF-D759C5A1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60C-F054-447E-84A7-B04EC10B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3A5B1-8BB3-4ACA-9745-37C045A7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97AFD-7297-4293-BADF-134907C0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0CB6-3F6F-425F-865E-4CB7374F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6E7DC-3D4F-426D-B06C-9E92AE19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0B0CA-C1FE-4C26-B7D5-C58FA9DA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CD5CE-1004-4F1F-9061-4DE90098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D8B7F-DCB2-4893-8B50-37A75275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1E58-A01A-4968-B048-C2642B80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3DB43-EB13-43DF-AF93-CE084C64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A50-0851-4BBC-B6E3-B3D48F4E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233-5BF8-4924-B00E-76E895D6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58D-C87F-4E61-B8E5-1D4AAFAC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556-87F0-4195-906D-68CAC1D3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24D-F1F9-4A9E-A200-2D0CF1F3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1143000"/>
            <a:ext cx="785772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824739-5BD3-481A-BC98-DCD39B617853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701404-3C9E-4184-8A0B-90D1BAEABBF0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3"/>
              </a:buBlip>
            </a:pP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SzPct val="100058"/>
              <a:buBlip>
                <a:blip r:embed="rId4"/>
              </a:buBlip>
            </a:pPr>
            <a:r>
              <a:rPr b="0" lang="ru-RU" sz="28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5"/>
              </a:buBlip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7"/>
              </a:buBlip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Пятый уровень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9E0240-AB0A-4CBA-956E-0F1BA4EC4623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2CA03A-B1FB-4576-979F-16779A35FBDF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35.xml"/><Relationship Id="rId2" Type="http://schemas.openxmlformats.org/officeDocument/2006/relationships/diagramLayout" Target="../diagrams/layout35.xml"/><Relationship Id="rId3" Type="http://schemas.openxmlformats.org/officeDocument/2006/relationships/diagramQuickStyle" Target="../diagrams/quickStyle35.xml"/><Relationship Id="rId4" Type="http://schemas.openxmlformats.org/officeDocument/2006/relationships/diagramColors" Target="../diagrams/colors35.xml"/><Relationship Id="rId5" Type="http://schemas.microsoft.com/office/2007/relationships/diagramDrawing" Target="../diagrams/drawing35.xml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36.xml"/><Relationship Id="rId2" Type="http://schemas.openxmlformats.org/officeDocument/2006/relationships/diagramLayout" Target="../diagrams/layout36.xml"/><Relationship Id="rId3" Type="http://schemas.openxmlformats.org/officeDocument/2006/relationships/diagramQuickStyle" Target="../diagrams/quickStyle36.xml"/><Relationship Id="rId4" Type="http://schemas.openxmlformats.org/officeDocument/2006/relationships/diagramColors" Target="../diagrams/colors36.xml"/><Relationship Id="rId5" Type="http://schemas.microsoft.com/office/2007/relationships/diagramDrawing" Target="../diagrams/drawing36.xml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diagramData" Target="../diagrams/data37.xml"/><Relationship Id="rId2" Type="http://schemas.openxmlformats.org/officeDocument/2006/relationships/diagramLayout" Target="../diagrams/layout37.xml"/><Relationship Id="rId3" Type="http://schemas.openxmlformats.org/officeDocument/2006/relationships/diagramQuickStyle" Target="../diagrams/quickStyle37.xml"/><Relationship Id="rId4" Type="http://schemas.openxmlformats.org/officeDocument/2006/relationships/diagramColors" Target="../diagrams/colors37.xml"/><Relationship Id="rId5" Type="http://schemas.microsoft.com/office/2007/relationships/diagramDrawing" Target="../diagrams/drawing37.xml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diagramData" Target="../diagrams/data38.xml"/><Relationship Id="rId2" Type="http://schemas.openxmlformats.org/officeDocument/2006/relationships/diagramLayout" Target="../diagrams/layout38.xml"/><Relationship Id="rId3" Type="http://schemas.openxmlformats.org/officeDocument/2006/relationships/diagramQuickStyle" Target="../diagrams/quickStyle38.xml"/><Relationship Id="rId4" Type="http://schemas.openxmlformats.org/officeDocument/2006/relationships/diagramColors" Target="../diagrams/colors38.xml"/><Relationship Id="rId5" Type="http://schemas.microsoft.com/office/2007/relationships/diagramDrawing" Target="../diagrams/drawing38.xml"/><Relationship Id="rId6" Type="http://schemas.openxmlformats.org/officeDocument/2006/relationships/diagramData" Target="../diagrams/data39.xml"/><Relationship Id="rId7" Type="http://schemas.openxmlformats.org/officeDocument/2006/relationships/diagramLayout" Target="../diagrams/layout39.xml"/><Relationship Id="rId8" Type="http://schemas.openxmlformats.org/officeDocument/2006/relationships/diagramQuickStyle" Target="../diagrams/quickStyle39.xml"/><Relationship Id="rId9" Type="http://schemas.openxmlformats.org/officeDocument/2006/relationships/diagramColors" Target="../diagrams/colors39.xml"/><Relationship Id="rId10" Type="http://schemas.microsoft.com/office/2007/relationships/diagramDrawing" Target="../diagrams/drawing39.xml"/><Relationship Id="rId11" Type="http://schemas.openxmlformats.org/officeDocument/2006/relationships/diagramData" Target="../diagrams/data40.xml"/><Relationship Id="rId12" Type="http://schemas.openxmlformats.org/officeDocument/2006/relationships/diagramLayout" Target="../diagrams/layout40.xml"/><Relationship Id="rId13" Type="http://schemas.openxmlformats.org/officeDocument/2006/relationships/diagramQuickStyle" Target="../diagrams/quickStyle40.xml"/><Relationship Id="rId14" Type="http://schemas.openxmlformats.org/officeDocument/2006/relationships/diagramColors" Target="../diagrams/colors40.xml"/><Relationship Id="rId15" Type="http://schemas.microsoft.com/office/2007/relationships/diagramDrawing" Target="../diagrams/drawing40.xml"/><Relationship Id="rId16" Type="http://schemas.openxmlformats.org/officeDocument/2006/relationships/diagramData" Target="../diagrams/data41.xml"/><Relationship Id="rId17" Type="http://schemas.openxmlformats.org/officeDocument/2006/relationships/diagramLayout" Target="../diagrams/layout41.xml"/><Relationship Id="rId18" Type="http://schemas.openxmlformats.org/officeDocument/2006/relationships/diagramQuickStyle" Target="../diagrams/quickStyle41.xml"/><Relationship Id="rId19" Type="http://schemas.openxmlformats.org/officeDocument/2006/relationships/diagramColors" Target="../diagrams/colors41.xml"/><Relationship Id="rId20" Type="http://schemas.microsoft.com/office/2007/relationships/diagramDrawing" Target="../diagrams/drawing41.xml"/><Relationship Id="rId21" Type="http://schemas.openxmlformats.org/officeDocument/2006/relationships/diagramData" Target="../diagrams/data42.xml"/><Relationship Id="rId22" Type="http://schemas.openxmlformats.org/officeDocument/2006/relationships/diagramLayout" Target="../diagrams/layout42.xml"/><Relationship Id="rId23" Type="http://schemas.openxmlformats.org/officeDocument/2006/relationships/diagramQuickStyle" Target="../diagrams/quickStyle42.xml"/><Relationship Id="rId24" Type="http://schemas.openxmlformats.org/officeDocument/2006/relationships/diagramColors" Target="../diagrams/colors42.xml"/><Relationship Id="rId25" Type="http://schemas.microsoft.com/office/2007/relationships/diagramDrawing" Target="../diagrams/drawing42.xml"/><Relationship Id="rId26" Type="http://schemas.openxmlformats.org/officeDocument/2006/relationships/diagramData" Target="../diagrams/data43.xml"/><Relationship Id="rId27" Type="http://schemas.openxmlformats.org/officeDocument/2006/relationships/diagramLayout" Target="../diagrams/layout43.xml"/><Relationship Id="rId28" Type="http://schemas.openxmlformats.org/officeDocument/2006/relationships/diagramQuickStyle" Target="../diagrams/quickStyle43.xml"/><Relationship Id="rId29" Type="http://schemas.openxmlformats.org/officeDocument/2006/relationships/diagramColors" Target="../diagrams/colors43.xml"/><Relationship Id="rId30" Type="http://schemas.microsoft.com/office/2007/relationships/diagramDrawing" Target="../diagrams/drawing43.xml"/><Relationship Id="rId31" Type="http://schemas.openxmlformats.org/officeDocument/2006/relationships/diagramData" Target="../diagrams/data44.xml"/><Relationship Id="rId32" Type="http://schemas.openxmlformats.org/officeDocument/2006/relationships/diagramLayout" Target="../diagrams/layout44.xml"/><Relationship Id="rId33" Type="http://schemas.openxmlformats.org/officeDocument/2006/relationships/diagramQuickStyle" Target="../diagrams/quickStyle44.xml"/><Relationship Id="rId34" Type="http://schemas.openxmlformats.org/officeDocument/2006/relationships/diagramColors" Target="../diagrams/colors44.xml"/><Relationship Id="rId35" Type="http://schemas.microsoft.com/office/2007/relationships/diagramDrawing" Target="../diagrams/drawing44.xml"/><Relationship Id="rId36" Type="http://schemas.openxmlformats.org/officeDocument/2006/relationships/diagramData" Target="../diagrams/data45.xml"/><Relationship Id="rId37" Type="http://schemas.openxmlformats.org/officeDocument/2006/relationships/diagramLayout" Target="../diagrams/layout45.xml"/><Relationship Id="rId38" Type="http://schemas.openxmlformats.org/officeDocument/2006/relationships/diagramQuickStyle" Target="../diagrams/quickStyle45.xml"/><Relationship Id="rId39" Type="http://schemas.openxmlformats.org/officeDocument/2006/relationships/diagramColors" Target="../diagrams/colors45.xml"/><Relationship Id="rId40" Type="http://schemas.microsoft.com/office/2007/relationships/diagramDrawing" Target="../diagrams/drawing45.xml"/><Relationship Id="rId41" Type="http://schemas.openxmlformats.org/officeDocument/2006/relationships/diagramData" Target="../diagrams/data46.xml"/><Relationship Id="rId42" Type="http://schemas.openxmlformats.org/officeDocument/2006/relationships/diagramLayout" Target="../diagrams/layout46.xml"/><Relationship Id="rId43" Type="http://schemas.openxmlformats.org/officeDocument/2006/relationships/diagramQuickStyle" Target="../diagrams/quickStyle46.xml"/><Relationship Id="rId44" Type="http://schemas.openxmlformats.org/officeDocument/2006/relationships/diagramColors" Target="../diagrams/colors46.xml"/><Relationship Id="rId45" Type="http://schemas.microsoft.com/office/2007/relationships/diagramDrawing" Target="../diagrams/drawing46.xml"/><Relationship Id="rId46" Type="http://schemas.openxmlformats.org/officeDocument/2006/relationships/diagramData" Target="../diagrams/data47.xml"/><Relationship Id="rId47" Type="http://schemas.openxmlformats.org/officeDocument/2006/relationships/diagramLayout" Target="../diagrams/layout47.xml"/><Relationship Id="rId48" Type="http://schemas.openxmlformats.org/officeDocument/2006/relationships/diagramQuickStyle" Target="../diagrams/quickStyle47.xml"/><Relationship Id="rId49" Type="http://schemas.openxmlformats.org/officeDocument/2006/relationships/diagramColors" Target="../diagrams/colors47.xml"/><Relationship Id="rId50" Type="http://schemas.microsoft.com/office/2007/relationships/diagramDrawing" Target="../diagrams/drawing47.xml"/><Relationship Id="rId51" Type="http://schemas.openxmlformats.org/officeDocument/2006/relationships/diagramData" Target="../diagrams/data48.xml"/><Relationship Id="rId52" Type="http://schemas.openxmlformats.org/officeDocument/2006/relationships/diagramLayout" Target="../diagrams/layout48.xml"/><Relationship Id="rId53" Type="http://schemas.openxmlformats.org/officeDocument/2006/relationships/diagramQuickStyle" Target="../diagrams/quickStyle48.xml"/><Relationship Id="rId54" Type="http://schemas.openxmlformats.org/officeDocument/2006/relationships/diagramColors" Target="../diagrams/colors48.xml"/><Relationship Id="rId55" Type="http://schemas.microsoft.com/office/2007/relationships/diagramDrawing" Target="../diagrams/drawing48.xml"/><Relationship Id="rId56" Type="http://schemas.openxmlformats.org/officeDocument/2006/relationships/diagramData" Target="../diagrams/data49.xml"/><Relationship Id="rId57" Type="http://schemas.openxmlformats.org/officeDocument/2006/relationships/diagramLayout" Target="../diagrams/layout49.xml"/><Relationship Id="rId58" Type="http://schemas.openxmlformats.org/officeDocument/2006/relationships/diagramQuickStyle" Target="../diagrams/quickStyle49.xml"/><Relationship Id="rId59" Type="http://schemas.openxmlformats.org/officeDocument/2006/relationships/diagramColors" Target="../diagrams/colors49.xml"/><Relationship Id="rId60" Type="http://schemas.microsoft.com/office/2007/relationships/diagramDrawing" Target="../diagrams/drawing49.xml"/><Relationship Id="rId61" Type="http://schemas.openxmlformats.org/officeDocument/2006/relationships/diagramData" Target="../diagrams/data50.xml"/><Relationship Id="rId62" Type="http://schemas.openxmlformats.org/officeDocument/2006/relationships/diagramLayout" Target="../diagrams/layout50.xml"/><Relationship Id="rId63" Type="http://schemas.openxmlformats.org/officeDocument/2006/relationships/diagramQuickStyle" Target="../diagrams/quickStyle50.xml"/><Relationship Id="rId64" Type="http://schemas.openxmlformats.org/officeDocument/2006/relationships/diagramColors" Target="../diagrams/colors50.xml"/><Relationship Id="rId65" Type="http://schemas.microsoft.com/office/2007/relationships/diagramDrawing" Target="../diagrams/drawing50.xml"/><Relationship Id="rId66" Type="http://schemas.openxmlformats.org/officeDocument/2006/relationships/diagramData" Target="../diagrams/data51.xml"/><Relationship Id="rId67" Type="http://schemas.openxmlformats.org/officeDocument/2006/relationships/diagramLayout" Target="../diagrams/layout51.xml"/><Relationship Id="rId68" Type="http://schemas.openxmlformats.org/officeDocument/2006/relationships/diagramQuickStyle" Target="../diagrams/quickStyle51.xml"/><Relationship Id="rId69" Type="http://schemas.openxmlformats.org/officeDocument/2006/relationships/diagramColors" Target="../diagrams/colors51.xml"/><Relationship Id="rId70" Type="http://schemas.microsoft.com/office/2007/relationships/diagramDrawing" Target="../diagrams/drawing51.xml"/><Relationship Id="rId7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2.xml"/><Relationship Id="rId2" Type="http://schemas.openxmlformats.org/officeDocument/2006/relationships/diagramLayout" Target="../diagrams/layout52.xml"/><Relationship Id="rId3" Type="http://schemas.openxmlformats.org/officeDocument/2006/relationships/diagramQuickStyle" Target="../diagrams/quickStyle52.xml"/><Relationship Id="rId4" Type="http://schemas.openxmlformats.org/officeDocument/2006/relationships/diagramColors" Target="../diagrams/colors52.xml"/><Relationship Id="rId5" Type="http://schemas.microsoft.com/office/2007/relationships/diagramDrawing" Target="../diagrams/drawing52.xml"/><Relationship Id="rId6" Type="http://schemas.openxmlformats.org/officeDocument/2006/relationships/diagramData" Target="../diagrams/data53.xml"/><Relationship Id="rId7" Type="http://schemas.openxmlformats.org/officeDocument/2006/relationships/diagramLayout" Target="../diagrams/layout53.xml"/><Relationship Id="rId8" Type="http://schemas.openxmlformats.org/officeDocument/2006/relationships/diagramQuickStyle" Target="../diagrams/quickStyle53.xml"/><Relationship Id="rId9" Type="http://schemas.openxmlformats.org/officeDocument/2006/relationships/diagramColors" Target="../diagrams/colors53.xml"/><Relationship Id="rId10" Type="http://schemas.microsoft.com/office/2007/relationships/diagramDrawing" Target="../diagrams/drawing53.xml"/><Relationship Id="rId11" Type="http://schemas.openxmlformats.org/officeDocument/2006/relationships/diagramData" Target="../diagrams/data54.xml"/><Relationship Id="rId12" Type="http://schemas.openxmlformats.org/officeDocument/2006/relationships/diagramLayout" Target="../diagrams/layout54.xml"/><Relationship Id="rId13" Type="http://schemas.openxmlformats.org/officeDocument/2006/relationships/diagramQuickStyle" Target="../diagrams/quickStyle54.xml"/><Relationship Id="rId14" Type="http://schemas.openxmlformats.org/officeDocument/2006/relationships/diagramColors" Target="../diagrams/colors54.xml"/><Relationship Id="rId15" Type="http://schemas.microsoft.com/office/2007/relationships/diagramDrawing" Target="../diagrams/drawing54.xml"/><Relationship Id="rId16" Type="http://schemas.openxmlformats.org/officeDocument/2006/relationships/diagramData" Target="../diagrams/data55.xml"/><Relationship Id="rId17" Type="http://schemas.openxmlformats.org/officeDocument/2006/relationships/diagramLayout" Target="../diagrams/layout55.xml"/><Relationship Id="rId18" Type="http://schemas.openxmlformats.org/officeDocument/2006/relationships/diagramQuickStyle" Target="../diagrams/quickStyle55.xml"/><Relationship Id="rId19" Type="http://schemas.openxmlformats.org/officeDocument/2006/relationships/diagramColors" Target="../diagrams/colors55.xml"/><Relationship Id="rId20" Type="http://schemas.microsoft.com/office/2007/relationships/diagramDrawing" Target="../diagrams/drawing55.xml"/><Relationship Id="rId21" Type="http://schemas.openxmlformats.org/officeDocument/2006/relationships/diagramData" Target="../diagrams/data56.xml"/><Relationship Id="rId22" Type="http://schemas.openxmlformats.org/officeDocument/2006/relationships/diagramLayout" Target="../diagrams/layout56.xml"/><Relationship Id="rId23" Type="http://schemas.openxmlformats.org/officeDocument/2006/relationships/diagramQuickStyle" Target="../diagrams/quickStyle56.xml"/><Relationship Id="rId24" Type="http://schemas.openxmlformats.org/officeDocument/2006/relationships/diagramColors" Target="../diagrams/colors56.xml"/><Relationship Id="rId25" Type="http://schemas.microsoft.com/office/2007/relationships/diagramDrawing" Target="../diagrams/drawing56.xml"/><Relationship Id="rId26" Type="http://schemas.openxmlformats.org/officeDocument/2006/relationships/diagramData" Target="../diagrams/data57.xml"/><Relationship Id="rId27" Type="http://schemas.openxmlformats.org/officeDocument/2006/relationships/diagramLayout" Target="../diagrams/layout57.xml"/><Relationship Id="rId28" Type="http://schemas.openxmlformats.org/officeDocument/2006/relationships/diagramQuickStyle" Target="../diagrams/quickStyle57.xml"/><Relationship Id="rId29" Type="http://schemas.openxmlformats.org/officeDocument/2006/relationships/diagramColors" Target="../diagrams/colors57.xml"/><Relationship Id="rId30" Type="http://schemas.microsoft.com/office/2007/relationships/diagramDrawing" Target="../diagrams/drawing57.xml"/><Relationship Id="rId31" Type="http://schemas.openxmlformats.org/officeDocument/2006/relationships/diagramData" Target="../diagrams/data58.xml"/><Relationship Id="rId32" Type="http://schemas.openxmlformats.org/officeDocument/2006/relationships/diagramLayout" Target="../diagrams/layout58.xml"/><Relationship Id="rId33" Type="http://schemas.openxmlformats.org/officeDocument/2006/relationships/diagramQuickStyle" Target="../diagrams/quickStyle58.xml"/><Relationship Id="rId34" Type="http://schemas.openxmlformats.org/officeDocument/2006/relationships/diagramColors" Target="../diagrams/colors58.xml"/><Relationship Id="rId35" Type="http://schemas.microsoft.com/office/2007/relationships/diagramDrawing" Target="../diagrams/drawing58.xml"/><Relationship Id="rId36" Type="http://schemas.openxmlformats.org/officeDocument/2006/relationships/diagramData" Target="../diagrams/data59.xml"/><Relationship Id="rId37" Type="http://schemas.openxmlformats.org/officeDocument/2006/relationships/diagramLayout" Target="../diagrams/layout59.xml"/><Relationship Id="rId38" Type="http://schemas.openxmlformats.org/officeDocument/2006/relationships/diagramQuickStyle" Target="../diagrams/quickStyle59.xml"/><Relationship Id="rId39" Type="http://schemas.openxmlformats.org/officeDocument/2006/relationships/diagramColors" Target="../diagrams/colors59.xml"/><Relationship Id="rId40" Type="http://schemas.microsoft.com/office/2007/relationships/diagramDrawing" Target="../diagrams/drawing59.xml"/><Relationship Id="rId41" Type="http://schemas.openxmlformats.org/officeDocument/2006/relationships/diagramData" Target="../diagrams/data60.xml"/><Relationship Id="rId42" Type="http://schemas.openxmlformats.org/officeDocument/2006/relationships/diagramLayout" Target="../diagrams/layout60.xml"/><Relationship Id="rId43" Type="http://schemas.openxmlformats.org/officeDocument/2006/relationships/diagramQuickStyle" Target="../diagrams/quickStyle60.xml"/><Relationship Id="rId44" Type="http://schemas.openxmlformats.org/officeDocument/2006/relationships/diagramColors" Target="../diagrams/colors60.xml"/><Relationship Id="rId45" Type="http://schemas.microsoft.com/office/2007/relationships/diagramDrawing" Target="../diagrams/drawing60.xml"/><Relationship Id="rId46" Type="http://schemas.openxmlformats.org/officeDocument/2006/relationships/diagramData" Target="../diagrams/data61.xml"/><Relationship Id="rId47" Type="http://schemas.openxmlformats.org/officeDocument/2006/relationships/diagramLayout" Target="../diagrams/layout61.xml"/><Relationship Id="rId48" Type="http://schemas.openxmlformats.org/officeDocument/2006/relationships/diagramQuickStyle" Target="../diagrams/quickStyle61.xml"/><Relationship Id="rId49" Type="http://schemas.openxmlformats.org/officeDocument/2006/relationships/diagramColors" Target="../diagrams/colors61.xml"/><Relationship Id="rId50" Type="http://schemas.microsoft.com/office/2007/relationships/diagramDrawing" Target="../diagrams/drawing61.xml"/><Relationship Id="rId51" Type="http://schemas.openxmlformats.org/officeDocument/2006/relationships/diagramData" Target="../diagrams/data62.xml"/><Relationship Id="rId52" Type="http://schemas.openxmlformats.org/officeDocument/2006/relationships/diagramLayout" Target="../diagrams/layout62.xml"/><Relationship Id="rId53" Type="http://schemas.openxmlformats.org/officeDocument/2006/relationships/diagramQuickStyle" Target="../diagrams/quickStyle62.xml"/><Relationship Id="rId54" Type="http://schemas.openxmlformats.org/officeDocument/2006/relationships/diagramColors" Target="../diagrams/colors62.xml"/><Relationship Id="rId55" Type="http://schemas.microsoft.com/office/2007/relationships/diagramDrawing" Target="../diagrams/drawing62.xml"/><Relationship Id="rId56" Type="http://schemas.openxmlformats.org/officeDocument/2006/relationships/diagramData" Target="../diagrams/data63.xml"/><Relationship Id="rId57" Type="http://schemas.openxmlformats.org/officeDocument/2006/relationships/diagramLayout" Target="../diagrams/layout63.xml"/><Relationship Id="rId58" Type="http://schemas.openxmlformats.org/officeDocument/2006/relationships/diagramQuickStyle" Target="../diagrams/quickStyle63.xml"/><Relationship Id="rId59" Type="http://schemas.openxmlformats.org/officeDocument/2006/relationships/diagramColors" Target="../diagrams/colors63.xml"/><Relationship Id="rId60" Type="http://schemas.microsoft.com/office/2007/relationships/diagramDrawing" Target="../diagrams/drawing63.xml"/><Relationship Id="rId61" Type="http://schemas.openxmlformats.org/officeDocument/2006/relationships/diagramData" Target="../diagrams/data64.xml"/><Relationship Id="rId62" Type="http://schemas.openxmlformats.org/officeDocument/2006/relationships/diagramLayout" Target="../diagrams/layout64.xml"/><Relationship Id="rId63" Type="http://schemas.openxmlformats.org/officeDocument/2006/relationships/diagramQuickStyle" Target="../diagrams/quickStyle64.xml"/><Relationship Id="rId64" Type="http://schemas.openxmlformats.org/officeDocument/2006/relationships/diagramColors" Target="../diagrams/colors64.xml"/><Relationship Id="rId65" Type="http://schemas.microsoft.com/office/2007/relationships/diagramDrawing" Target="../diagrams/drawing64.xml"/><Relationship Id="rId66" Type="http://schemas.openxmlformats.org/officeDocument/2006/relationships/diagramData" Target="../diagrams/data65.xml"/><Relationship Id="rId67" Type="http://schemas.openxmlformats.org/officeDocument/2006/relationships/diagramLayout" Target="../diagrams/layout65.xml"/><Relationship Id="rId68" Type="http://schemas.openxmlformats.org/officeDocument/2006/relationships/diagramQuickStyle" Target="../diagrams/quickStyle65.xml"/><Relationship Id="rId69" Type="http://schemas.openxmlformats.org/officeDocument/2006/relationships/diagramColors" Target="../diagrams/colors65.xml"/><Relationship Id="rId70" Type="http://schemas.microsoft.com/office/2007/relationships/diagramDrawing" Target="../diagrams/drawing65.xml"/><Relationship Id="rId71" Type="http://schemas.openxmlformats.org/officeDocument/2006/relationships/diagramData" Target="../diagrams/data66.xml"/><Relationship Id="rId72" Type="http://schemas.openxmlformats.org/officeDocument/2006/relationships/diagramLayout" Target="../diagrams/layout66.xml"/><Relationship Id="rId73" Type="http://schemas.openxmlformats.org/officeDocument/2006/relationships/diagramQuickStyle" Target="../diagrams/quickStyle66.xml"/><Relationship Id="rId74" Type="http://schemas.openxmlformats.org/officeDocument/2006/relationships/diagramColors" Target="../diagrams/colors66.xml"/><Relationship Id="rId75" Type="http://schemas.microsoft.com/office/2007/relationships/diagramDrawing" Target="../diagrams/drawing66.xml"/><Relationship Id="rId76" Type="http://schemas.openxmlformats.org/officeDocument/2006/relationships/slide" Target="slide2.xml"/><Relationship Id="rId7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67.xml"/><Relationship Id="rId2" Type="http://schemas.openxmlformats.org/officeDocument/2006/relationships/diagramLayout" Target="../diagrams/layout67.xml"/><Relationship Id="rId3" Type="http://schemas.openxmlformats.org/officeDocument/2006/relationships/diagramQuickStyle" Target="../diagrams/quickStyle67.xml"/><Relationship Id="rId4" Type="http://schemas.openxmlformats.org/officeDocument/2006/relationships/diagramColors" Target="../diagrams/colors67.xml"/><Relationship Id="rId5" Type="http://schemas.microsoft.com/office/2007/relationships/diagramDrawing" Target="../diagrams/drawing67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8.xml"/><Relationship Id="rId2" Type="http://schemas.openxmlformats.org/officeDocument/2006/relationships/diagramLayout" Target="../diagrams/layout68.xml"/><Relationship Id="rId3" Type="http://schemas.openxmlformats.org/officeDocument/2006/relationships/diagramQuickStyle" Target="../diagrams/quickStyle68.xml"/><Relationship Id="rId4" Type="http://schemas.openxmlformats.org/officeDocument/2006/relationships/diagramColors" Target="../diagrams/colors68.xml"/><Relationship Id="rId5" Type="http://schemas.microsoft.com/office/2007/relationships/diagramDrawing" Target="../diagrams/drawing68.xml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diagramData" Target="../diagrams/data69.xml"/><Relationship Id="rId2" Type="http://schemas.openxmlformats.org/officeDocument/2006/relationships/diagramLayout" Target="../diagrams/layout69.xml"/><Relationship Id="rId3" Type="http://schemas.openxmlformats.org/officeDocument/2006/relationships/diagramQuickStyle" Target="../diagrams/quickStyle69.xml"/><Relationship Id="rId4" Type="http://schemas.openxmlformats.org/officeDocument/2006/relationships/diagramColors" Target="../diagrams/colors69.xml"/><Relationship Id="rId5" Type="http://schemas.microsoft.com/office/2007/relationships/diagramDrawing" Target="../diagrams/drawing69.xml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diagramData" Target="../diagrams/data70.xml"/><Relationship Id="rId2" Type="http://schemas.openxmlformats.org/officeDocument/2006/relationships/diagramLayout" Target="../diagrams/layout70.xml"/><Relationship Id="rId3" Type="http://schemas.openxmlformats.org/officeDocument/2006/relationships/diagramQuickStyle" Target="../diagrams/quickStyle70.xml"/><Relationship Id="rId4" Type="http://schemas.openxmlformats.org/officeDocument/2006/relationships/diagramColors" Target="../diagrams/colors70.xml"/><Relationship Id="rId5" Type="http://schemas.microsoft.com/office/2007/relationships/diagramDrawing" Target="../diagrams/drawing70.xml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diagramData" Target="../diagrams/data71.xml"/><Relationship Id="rId2" Type="http://schemas.openxmlformats.org/officeDocument/2006/relationships/diagramLayout" Target="../diagrams/layout71.xml"/><Relationship Id="rId3" Type="http://schemas.openxmlformats.org/officeDocument/2006/relationships/diagramQuickStyle" Target="../diagrams/quickStyle71.xml"/><Relationship Id="rId4" Type="http://schemas.openxmlformats.org/officeDocument/2006/relationships/diagramColors" Target="../diagrams/colors71.xml"/><Relationship Id="rId5" Type="http://schemas.microsoft.com/office/2007/relationships/diagramDrawing" Target="../diagrams/drawing71.xml"/><Relationship Id="rId6" Type="http://schemas.openxmlformats.org/officeDocument/2006/relationships/diagramData" Target="../diagrams/data72.xml"/><Relationship Id="rId7" Type="http://schemas.openxmlformats.org/officeDocument/2006/relationships/diagramLayout" Target="../diagrams/layout72.xml"/><Relationship Id="rId8" Type="http://schemas.openxmlformats.org/officeDocument/2006/relationships/diagramQuickStyle" Target="../diagrams/quickStyle72.xml"/><Relationship Id="rId9" Type="http://schemas.openxmlformats.org/officeDocument/2006/relationships/diagramColors" Target="../diagrams/colors72.xml"/><Relationship Id="rId10" Type="http://schemas.microsoft.com/office/2007/relationships/diagramDrawing" Target="../diagrams/drawing72.xml"/><Relationship Id="rId11" Type="http://schemas.openxmlformats.org/officeDocument/2006/relationships/diagramData" Target="../diagrams/data73.xml"/><Relationship Id="rId12" Type="http://schemas.openxmlformats.org/officeDocument/2006/relationships/diagramLayout" Target="../diagrams/layout73.xml"/><Relationship Id="rId13" Type="http://schemas.openxmlformats.org/officeDocument/2006/relationships/diagramQuickStyle" Target="../diagrams/quickStyle73.xml"/><Relationship Id="rId14" Type="http://schemas.openxmlformats.org/officeDocument/2006/relationships/diagramColors" Target="../diagrams/colors73.xml"/><Relationship Id="rId15" Type="http://schemas.microsoft.com/office/2007/relationships/diagramDrawing" Target="../diagrams/drawing73.xml"/><Relationship Id="rId16" Type="http://schemas.openxmlformats.org/officeDocument/2006/relationships/diagramData" Target="../diagrams/data74.xml"/><Relationship Id="rId17" Type="http://schemas.openxmlformats.org/officeDocument/2006/relationships/diagramLayout" Target="../diagrams/layout74.xml"/><Relationship Id="rId18" Type="http://schemas.openxmlformats.org/officeDocument/2006/relationships/diagramQuickStyle" Target="../diagrams/quickStyle74.xml"/><Relationship Id="rId19" Type="http://schemas.openxmlformats.org/officeDocument/2006/relationships/diagramColors" Target="../diagrams/colors74.xml"/><Relationship Id="rId20" Type="http://schemas.microsoft.com/office/2007/relationships/diagramDrawing" Target="../diagrams/drawing74.xml"/><Relationship Id="rId21" Type="http://schemas.openxmlformats.org/officeDocument/2006/relationships/diagramData" Target="../diagrams/data75.xml"/><Relationship Id="rId22" Type="http://schemas.openxmlformats.org/officeDocument/2006/relationships/diagramLayout" Target="../diagrams/layout75.xml"/><Relationship Id="rId23" Type="http://schemas.openxmlformats.org/officeDocument/2006/relationships/diagramQuickStyle" Target="../diagrams/quickStyle75.xml"/><Relationship Id="rId24" Type="http://schemas.openxmlformats.org/officeDocument/2006/relationships/diagramColors" Target="../diagrams/colors75.xml"/><Relationship Id="rId25" Type="http://schemas.microsoft.com/office/2007/relationships/diagramDrawing" Target="../diagrams/drawing75.xml"/><Relationship Id="rId26" Type="http://schemas.openxmlformats.org/officeDocument/2006/relationships/diagramData" Target="../diagrams/data76.xml"/><Relationship Id="rId27" Type="http://schemas.openxmlformats.org/officeDocument/2006/relationships/diagramLayout" Target="../diagrams/layout76.xml"/><Relationship Id="rId28" Type="http://schemas.openxmlformats.org/officeDocument/2006/relationships/diagramQuickStyle" Target="../diagrams/quickStyle76.xml"/><Relationship Id="rId29" Type="http://schemas.openxmlformats.org/officeDocument/2006/relationships/diagramColors" Target="../diagrams/colors76.xml"/><Relationship Id="rId30" Type="http://schemas.microsoft.com/office/2007/relationships/diagramDrawing" Target="../diagrams/drawing76.xml"/><Relationship Id="rId31" Type="http://schemas.openxmlformats.org/officeDocument/2006/relationships/diagramData" Target="../diagrams/data77.xml"/><Relationship Id="rId32" Type="http://schemas.openxmlformats.org/officeDocument/2006/relationships/diagramLayout" Target="../diagrams/layout77.xml"/><Relationship Id="rId33" Type="http://schemas.openxmlformats.org/officeDocument/2006/relationships/diagramQuickStyle" Target="../diagrams/quickStyle77.xml"/><Relationship Id="rId34" Type="http://schemas.openxmlformats.org/officeDocument/2006/relationships/diagramColors" Target="../diagrams/colors77.xml"/><Relationship Id="rId35" Type="http://schemas.microsoft.com/office/2007/relationships/diagramDrawing" Target="../diagrams/drawing77.xml"/><Relationship Id="rId36" Type="http://schemas.openxmlformats.org/officeDocument/2006/relationships/diagramData" Target="../diagrams/data78.xml"/><Relationship Id="rId37" Type="http://schemas.openxmlformats.org/officeDocument/2006/relationships/diagramLayout" Target="../diagrams/layout78.xml"/><Relationship Id="rId38" Type="http://schemas.openxmlformats.org/officeDocument/2006/relationships/diagramQuickStyle" Target="../diagrams/quickStyle78.xml"/><Relationship Id="rId39" Type="http://schemas.openxmlformats.org/officeDocument/2006/relationships/diagramColors" Target="../diagrams/colors78.xml"/><Relationship Id="rId40" Type="http://schemas.microsoft.com/office/2007/relationships/diagramDrawing" Target="../diagrams/drawing78.xml"/><Relationship Id="rId41" Type="http://schemas.openxmlformats.org/officeDocument/2006/relationships/diagramData" Target="../diagrams/data79.xml"/><Relationship Id="rId42" Type="http://schemas.openxmlformats.org/officeDocument/2006/relationships/diagramLayout" Target="../diagrams/layout79.xml"/><Relationship Id="rId43" Type="http://schemas.openxmlformats.org/officeDocument/2006/relationships/diagramQuickStyle" Target="../diagrams/quickStyle79.xml"/><Relationship Id="rId44" Type="http://schemas.openxmlformats.org/officeDocument/2006/relationships/diagramColors" Target="../diagrams/colors79.xml"/><Relationship Id="rId45" Type="http://schemas.microsoft.com/office/2007/relationships/diagramDrawing" Target="../diagrams/drawing79.xml"/><Relationship Id="rId46" Type="http://schemas.openxmlformats.org/officeDocument/2006/relationships/diagramData" Target="../diagrams/data80.xml"/><Relationship Id="rId47" Type="http://schemas.openxmlformats.org/officeDocument/2006/relationships/diagramLayout" Target="../diagrams/layout80.xml"/><Relationship Id="rId48" Type="http://schemas.openxmlformats.org/officeDocument/2006/relationships/diagramQuickStyle" Target="../diagrams/quickStyle80.xml"/><Relationship Id="rId49" Type="http://schemas.openxmlformats.org/officeDocument/2006/relationships/diagramColors" Target="../diagrams/colors80.xml"/><Relationship Id="rId50" Type="http://schemas.microsoft.com/office/2007/relationships/diagramDrawing" Target="../diagrams/drawing80.xml"/><Relationship Id="rId51" Type="http://schemas.openxmlformats.org/officeDocument/2006/relationships/diagramData" Target="../diagrams/data81.xml"/><Relationship Id="rId52" Type="http://schemas.openxmlformats.org/officeDocument/2006/relationships/diagramLayout" Target="../diagrams/layout81.xml"/><Relationship Id="rId53" Type="http://schemas.openxmlformats.org/officeDocument/2006/relationships/diagramQuickStyle" Target="../diagrams/quickStyle81.xml"/><Relationship Id="rId54" Type="http://schemas.openxmlformats.org/officeDocument/2006/relationships/diagramColors" Target="../diagrams/colors81.xml"/><Relationship Id="rId55" Type="http://schemas.microsoft.com/office/2007/relationships/diagramDrawing" Target="../diagrams/drawing81.xml"/><Relationship Id="rId56" Type="http://schemas.openxmlformats.org/officeDocument/2006/relationships/diagramData" Target="../diagrams/data82.xml"/><Relationship Id="rId57" Type="http://schemas.openxmlformats.org/officeDocument/2006/relationships/diagramLayout" Target="../diagrams/layout82.xml"/><Relationship Id="rId58" Type="http://schemas.openxmlformats.org/officeDocument/2006/relationships/diagramQuickStyle" Target="../diagrams/quickStyle82.xml"/><Relationship Id="rId59" Type="http://schemas.openxmlformats.org/officeDocument/2006/relationships/diagramColors" Target="../diagrams/colors82.xml"/><Relationship Id="rId60" Type="http://schemas.microsoft.com/office/2007/relationships/diagramDrawing" Target="../diagrams/drawing82.xml"/><Relationship Id="rId61" Type="http://schemas.openxmlformats.org/officeDocument/2006/relationships/diagramData" Target="../diagrams/data83.xml"/><Relationship Id="rId62" Type="http://schemas.openxmlformats.org/officeDocument/2006/relationships/diagramLayout" Target="../diagrams/layout83.xml"/><Relationship Id="rId63" Type="http://schemas.openxmlformats.org/officeDocument/2006/relationships/diagramQuickStyle" Target="../diagrams/quickStyle83.xml"/><Relationship Id="rId64" Type="http://schemas.openxmlformats.org/officeDocument/2006/relationships/diagramColors" Target="../diagrams/colors83.xml"/><Relationship Id="rId65" Type="http://schemas.microsoft.com/office/2007/relationships/diagramDrawing" Target="../diagrams/drawing83.xml"/><Relationship Id="rId6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diagramData" Target="../diagrams/data3.xml"/><Relationship Id="rId7" Type="http://schemas.openxmlformats.org/officeDocument/2006/relationships/diagramLayout" Target="../diagrams/layout3.xml"/><Relationship Id="rId8" Type="http://schemas.openxmlformats.org/officeDocument/2006/relationships/diagramQuickStyle" Target="../diagrams/quickStyle3.xml"/><Relationship Id="rId9" Type="http://schemas.openxmlformats.org/officeDocument/2006/relationships/diagramColors" Target="../diagrams/colors3.xml"/><Relationship Id="rId10" Type="http://schemas.microsoft.com/office/2007/relationships/diagramDrawing" Target="../diagrams/drawing3.xml"/><Relationship Id="rId11" Type="http://schemas.openxmlformats.org/officeDocument/2006/relationships/slide" Target="slide3.xml"/><Relationship Id="rId12" Type="http://schemas.openxmlformats.org/officeDocument/2006/relationships/slide" Target="slide15.xml"/><Relationship Id="rId13" Type="http://schemas.openxmlformats.org/officeDocument/2006/relationships/slide" Target="slide9.xml"/><Relationship Id="rId14" Type="http://schemas.openxmlformats.org/officeDocument/2006/relationships/slide" Target="slide21.xml"/><Relationship Id="rId15" Type="http://schemas.openxmlformats.org/officeDocument/2006/relationships/slideLayout" Target="../slideLayouts/slideLayout17.xml"/><Relationship Id="rId1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84.xml"/><Relationship Id="rId2" Type="http://schemas.openxmlformats.org/officeDocument/2006/relationships/diagramLayout" Target="../diagrams/layout84.xml"/><Relationship Id="rId3" Type="http://schemas.openxmlformats.org/officeDocument/2006/relationships/diagramQuickStyle" Target="../diagrams/quickStyle84.xml"/><Relationship Id="rId4" Type="http://schemas.openxmlformats.org/officeDocument/2006/relationships/diagramColors" Target="../diagrams/colors84.xml"/><Relationship Id="rId5" Type="http://schemas.microsoft.com/office/2007/relationships/diagramDrawing" Target="../diagrams/drawing84.xml"/><Relationship Id="rId6" Type="http://schemas.openxmlformats.org/officeDocument/2006/relationships/diagramData" Target="../diagrams/data85.xml"/><Relationship Id="rId7" Type="http://schemas.openxmlformats.org/officeDocument/2006/relationships/diagramLayout" Target="../diagrams/layout85.xml"/><Relationship Id="rId8" Type="http://schemas.openxmlformats.org/officeDocument/2006/relationships/diagramQuickStyle" Target="../diagrams/quickStyle85.xml"/><Relationship Id="rId9" Type="http://schemas.openxmlformats.org/officeDocument/2006/relationships/diagramColors" Target="../diagrams/colors85.xml"/><Relationship Id="rId10" Type="http://schemas.microsoft.com/office/2007/relationships/diagramDrawing" Target="../diagrams/drawing85.xml"/><Relationship Id="rId11" Type="http://schemas.openxmlformats.org/officeDocument/2006/relationships/diagramData" Target="../diagrams/data86.xml"/><Relationship Id="rId12" Type="http://schemas.openxmlformats.org/officeDocument/2006/relationships/diagramLayout" Target="../diagrams/layout86.xml"/><Relationship Id="rId13" Type="http://schemas.openxmlformats.org/officeDocument/2006/relationships/diagramQuickStyle" Target="../diagrams/quickStyle86.xml"/><Relationship Id="rId14" Type="http://schemas.openxmlformats.org/officeDocument/2006/relationships/diagramColors" Target="../diagrams/colors86.xml"/><Relationship Id="rId15" Type="http://schemas.microsoft.com/office/2007/relationships/diagramDrawing" Target="../diagrams/drawing86.xml"/><Relationship Id="rId16" Type="http://schemas.openxmlformats.org/officeDocument/2006/relationships/diagramData" Target="../diagrams/data87.xml"/><Relationship Id="rId17" Type="http://schemas.openxmlformats.org/officeDocument/2006/relationships/diagramLayout" Target="../diagrams/layout87.xml"/><Relationship Id="rId18" Type="http://schemas.openxmlformats.org/officeDocument/2006/relationships/diagramQuickStyle" Target="../diagrams/quickStyle87.xml"/><Relationship Id="rId19" Type="http://schemas.openxmlformats.org/officeDocument/2006/relationships/diagramColors" Target="../diagrams/colors87.xml"/><Relationship Id="rId20" Type="http://schemas.microsoft.com/office/2007/relationships/diagramDrawing" Target="../diagrams/drawing87.xml"/><Relationship Id="rId21" Type="http://schemas.openxmlformats.org/officeDocument/2006/relationships/diagramData" Target="../diagrams/data88.xml"/><Relationship Id="rId22" Type="http://schemas.openxmlformats.org/officeDocument/2006/relationships/diagramLayout" Target="../diagrams/layout88.xml"/><Relationship Id="rId23" Type="http://schemas.openxmlformats.org/officeDocument/2006/relationships/diagramQuickStyle" Target="../diagrams/quickStyle88.xml"/><Relationship Id="rId24" Type="http://schemas.openxmlformats.org/officeDocument/2006/relationships/diagramColors" Target="../diagrams/colors88.xml"/><Relationship Id="rId25" Type="http://schemas.microsoft.com/office/2007/relationships/diagramDrawing" Target="../diagrams/drawing88.xml"/><Relationship Id="rId26" Type="http://schemas.openxmlformats.org/officeDocument/2006/relationships/diagramData" Target="../diagrams/data89.xml"/><Relationship Id="rId27" Type="http://schemas.openxmlformats.org/officeDocument/2006/relationships/diagramLayout" Target="../diagrams/layout89.xml"/><Relationship Id="rId28" Type="http://schemas.openxmlformats.org/officeDocument/2006/relationships/diagramQuickStyle" Target="../diagrams/quickStyle89.xml"/><Relationship Id="rId29" Type="http://schemas.openxmlformats.org/officeDocument/2006/relationships/diagramColors" Target="../diagrams/colors89.xml"/><Relationship Id="rId30" Type="http://schemas.microsoft.com/office/2007/relationships/diagramDrawing" Target="../diagrams/drawing89.xml"/><Relationship Id="rId31" Type="http://schemas.openxmlformats.org/officeDocument/2006/relationships/diagramData" Target="../diagrams/data90.xml"/><Relationship Id="rId32" Type="http://schemas.openxmlformats.org/officeDocument/2006/relationships/diagramLayout" Target="../diagrams/layout90.xml"/><Relationship Id="rId33" Type="http://schemas.openxmlformats.org/officeDocument/2006/relationships/diagramQuickStyle" Target="../diagrams/quickStyle90.xml"/><Relationship Id="rId34" Type="http://schemas.openxmlformats.org/officeDocument/2006/relationships/diagramColors" Target="../diagrams/colors90.xml"/><Relationship Id="rId35" Type="http://schemas.microsoft.com/office/2007/relationships/diagramDrawing" Target="../diagrams/drawing90.xml"/><Relationship Id="rId36" Type="http://schemas.openxmlformats.org/officeDocument/2006/relationships/diagramData" Target="../diagrams/data91.xml"/><Relationship Id="rId37" Type="http://schemas.openxmlformats.org/officeDocument/2006/relationships/diagramLayout" Target="../diagrams/layout91.xml"/><Relationship Id="rId38" Type="http://schemas.openxmlformats.org/officeDocument/2006/relationships/diagramQuickStyle" Target="../diagrams/quickStyle91.xml"/><Relationship Id="rId39" Type="http://schemas.openxmlformats.org/officeDocument/2006/relationships/diagramColors" Target="../diagrams/colors91.xml"/><Relationship Id="rId40" Type="http://schemas.microsoft.com/office/2007/relationships/diagramDrawing" Target="../diagrams/drawing91.xml"/><Relationship Id="rId41" Type="http://schemas.openxmlformats.org/officeDocument/2006/relationships/diagramData" Target="../diagrams/data92.xml"/><Relationship Id="rId42" Type="http://schemas.openxmlformats.org/officeDocument/2006/relationships/diagramLayout" Target="../diagrams/layout92.xml"/><Relationship Id="rId43" Type="http://schemas.openxmlformats.org/officeDocument/2006/relationships/diagramQuickStyle" Target="../diagrams/quickStyle92.xml"/><Relationship Id="rId44" Type="http://schemas.openxmlformats.org/officeDocument/2006/relationships/diagramColors" Target="../diagrams/colors92.xml"/><Relationship Id="rId45" Type="http://schemas.microsoft.com/office/2007/relationships/diagramDrawing" Target="../diagrams/drawing92.xml"/><Relationship Id="rId46" Type="http://schemas.openxmlformats.org/officeDocument/2006/relationships/diagramData" Target="../diagrams/data93.xml"/><Relationship Id="rId47" Type="http://schemas.openxmlformats.org/officeDocument/2006/relationships/diagramLayout" Target="../diagrams/layout93.xml"/><Relationship Id="rId48" Type="http://schemas.openxmlformats.org/officeDocument/2006/relationships/diagramQuickStyle" Target="../diagrams/quickStyle93.xml"/><Relationship Id="rId49" Type="http://schemas.openxmlformats.org/officeDocument/2006/relationships/diagramColors" Target="../diagrams/colors93.xml"/><Relationship Id="rId50" Type="http://schemas.microsoft.com/office/2007/relationships/diagramDrawing" Target="../diagrams/drawing93.xml"/><Relationship Id="rId51" Type="http://schemas.openxmlformats.org/officeDocument/2006/relationships/diagramData" Target="../diagrams/data94.xml"/><Relationship Id="rId52" Type="http://schemas.openxmlformats.org/officeDocument/2006/relationships/diagramLayout" Target="../diagrams/layout94.xml"/><Relationship Id="rId53" Type="http://schemas.openxmlformats.org/officeDocument/2006/relationships/diagramQuickStyle" Target="../diagrams/quickStyle94.xml"/><Relationship Id="rId54" Type="http://schemas.openxmlformats.org/officeDocument/2006/relationships/diagramColors" Target="../diagrams/colors94.xml"/><Relationship Id="rId55" Type="http://schemas.microsoft.com/office/2007/relationships/diagramDrawing" Target="../diagrams/drawing94.xml"/><Relationship Id="rId56" Type="http://schemas.openxmlformats.org/officeDocument/2006/relationships/diagramData" Target="../diagrams/data95.xml"/><Relationship Id="rId57" Type="http://schemas.openxmlformats.org/officeDocument/2006/relationships/diagramLayout" Target="../diagrams/layout95.xml"/><Relationship Id="rId58" Type="http://schemas.openxmlformats.org/officeDocument/2006/relationships/diagramQuickStyle" Target="../diagrams/quickStyle95.xml"/><Relationship Id="rId59" Type="http://schemas.openxmlformats.org/officeDocument/2006/relationships/diagramColors" Target="../diagrams/colors95.xml"/><Relationship Id="rId60" Type="http://schemas.microsoft.com/office/2007/relationships/diagramDrawing" Target="../diagrams/drawing95.xml"/><Relationship Id="rId61" Type="http://schemas.openxmlformats.org/officeDocument/2006/relationships/diagramData" Target="../diagrams/data96.xml"/><Relationship Id="rId62" Type="http://schemas.openxmlformats.org/officeDocument/2006/relationships/diagramLayout" Target="../diagrams/layout96.xml"/><Relationship Id="rId63" Type="http://schemas.openxmlformats.org/officeDocument/2006/relationships/diagramQuickStyle" Target="../diagrams/quickStyle96.xml"/><Relationship Id="rId64" Type="http://schemas.openxmlformats.org/officeDocument/2006/relationships/diagramColors" Target="../diagrams/colors96.xml"/><Relationship Id="rId65" Type="http://schemas.microsoft.com/office/2007/relationships/diagramDrawing" Target="../diagrams/drawing96.xml"/><Relationship Id="rId66" Type="http://schemas.openxmlformats.org/officeDocument/2006/relationships/slide" Target="slide2.xml"/><Relationship Id="rId67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diagramData" Target="../diagrams/data97.xml"/><Relationship Id="rId2" Type="http://schemas.openxmlformats.org/officeDocument/2006/relationships/diagramLayout" Target="../diagrams/layout97.xml"/><Relationship Id="rId3" Type="http://schemas.openxmlformats.org/officeDocument/2006/relationships/diagramQuickStyle" Target="../diagrams/quickStyle97.xml"/><Relationship Id="rId4" Type="http://schemas.openxmlformats.org/officeDocument/2006/relationships/diagramColors" Target="../diagrams/colors97.xml"/><Relationship Id="rId5" Type="http://schemas.openxmlformats.org/officeDocument/2006/relationships/diagramData" Target="../diagrams/data98.xml"/><Relationship Id="rId6" Type="http://schemas.openxmlformats.org/officeDocument/2006/relationships/diagramLayout" Target="../diagrams/layout98.xml"/><Relationship Id="rId7" Type="http://schemas.openxmlformats.org/officeDocument/2006/relationships/diagramQuickStyle" Target="../diagrams/quickStyle98.xml"/><Relationship Id="rId8" Type="http://schemas.openxmlformats.org/officeDocument/2006/relationships/diagramColors" Target="../diagrams/colors98.xml"/><Relationship Id="rId9" Type="http://schemas.microsoft.com/office/2007/relationships/diagramDrawing" Target="../diagrams/drawing98.xml"/><Relationship Id="rId10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blogs.mail.ru/mail/nadushka-0606/46ac31563cc11226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investigator.org.ua/news/3183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yarfoto.ru/klipart3.htm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tnc.nnov.ru/showthread.php?t=188451" TargetMode="Externa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microsoft.com/office/2007/relationships/diagramDrawing" Target="../diagrams/drawing6.xml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microsoft.com/office/2007/relationships/diagramDrawing" Target="../diagrams/drawing7.xml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8.xml"/><Relationship Id="rId2" Type="http://schemas.openxmlformats.org/officeDocument/2006/relationships/diagramLayout" Target="../diagrams/layout8.xml"/><Relationship Id="rId3" Type="http://schemas.openxmlformats.org/officeDocument/2006/relationships/diagramQuickStyle" Target="../diagrams/quickStyle8.xml"/><Relationship Id="rId4" Type="http://schemas.openxmlformats.org/officeDocument/2006/relationships/diagramColors" Target="../diagrams/colors8.xml"/><Relationship Id="rId5" Type="http://schemas.microsoft.com/office/2007/relationships/diagramDrawing" Target="../diagrams/drawing8.xml"/><Relationship Id="rId6" Type="http://schemas.openxmlformats.org/officeDocument/2006/relationships/diagramData" Target="../diagrams/data9.xml"/><Relationship Id="rId7" Type="http://schemas.openxmlformats.org/officeDocument/2006/relationships/diagramLayout" Target="../diagrams/layout9.xml"/><Relationship Id="rId8" Type="http://schemas.openxmlformats.org/officeDocument/2006/relationships/diagramQuickStyle" Target="../diagrams/quickStyle9.xml"/><Relationship Id="rId9" Type="http://schemas.openxmlformats.org/officeDocument/2006/relationships/diagramColors" Target="../diagrams/colors9.xml"/><Relationship Id="rId10" Type="http://schemas.microsoft.com/office/2007/relationships/diagramDrawing" Target="../diagrams/drawing9.xml"/><Relationship Id="rId11" Type="http://schemas.openxmlformats.org/officeDocument/2006/relationships/diagramData" Target="../diagrams/data10.xml"/><Relationship Id="rId12" Type="http://schemas.openxmlformats.org/officeDocument/2006/relationships/diagramLayout" Target="../diagrams/layout10.xml"/><Relationship Id="rId13" Type="http://schemas.openxmlformats.org/officeDocument/2006/relationships/diagramQuickStyle" Target="../diagrams/quickStyle10.xml"/><Relationship Id="rId14" Type="http://schemas.openxmlformats.org/officeDocument/2006/relationships/diagramColors" Target="../diagrams/colors10.xml"/><Relationship Id="rId15" Type="http://schemas.microsoft.com/office/2007/relationships/diagramDrawing" Target="../diagrams/drawing10.xml"/><Relationship Id="rId16" Type="http://schemas.openxmlformats.org/officeDocument/2006/relationships/diagramData" Target="../diagrams/data11.xml"/><Relationship Id="rId17" Type="http://schemas.openxmlformats.org/officeDocument/2006/relationships/diagramLayout" Target="../diagrams/layout11.xml"/><Relationship Id="rId18" Type="http://schemas.openxmlformats.org/officeDocument/2006/relationships/diagramQuickStyle" Target="../diagrams/quickStyle11.xml"/><Relationship Id="rId19" Type="http://schemas.openxmlformats.org/officeDocument/2006/relationships/diagramColors" Target="../diagrams/colors11.xml"/><Relationship Id="rId20" Type="http://schemas.microsoft.com/office/2007/relationships/diagramDrawing" Target="../diagrams/drawing11.xml"/><Relationship Id="rId21" Type="http://schemas.openxmlformats.org/officeDocument/2006/relationships/diagramData" Target="../diagrams/data12.xml"/><Relationship Id="rId22" Type="http://schemas.openxmlformats.org/officeDocument/2006/relationships/diagramLayout" Target="../diagrams/layout12.xml"/><Relationship Id="rId23" Type="http://schemas.openxmlformats.org/officeDocument/2006/relationships/diagramQuickStyle" Target="../diagrams/quickStyle12.xml"/><Relationship Id="rId24" Type="http://schemas.openxmlformats.org/officeDocument/2006/relationships/diagramColors" Target="../diagrams/colors12.xml"/><Relationship Id="rId25" Type="http://schemas.microsoft.com/office/2007/relationships/diagramDrawing" Target="../diagrams/drawing12.xml"/><Relationship Id="rId26" Type="http://schemas.openxmlformats.org/officeDocument/2006/relationships/diagramData" Target="../diagrams/data13.xml"/><Relationship Id="rId27" Type="http://schemas.openxmlformats.org/officeDocument/2006/relationships/diagramLayout" Target="../diagrams/layout13.xml"/><Relationship Id="rId28" Type="http://schemas.openxmlformats.org/officeDocument/2006/relationships/diagramQuickStyle" Target="../diagrams/quickStyle13.xml"/><Relationship Id="rId29" Type="http://schemas.openxmlformats.org/officeDocument/2006/relationships/diagramColors" Target="../diagrams/colors13.xml"/><Relationship Id="rId30" Type="http://schemas.microsoft.com/office/2007/relationships/diagramDrawing" Target="../diagrams/drawing13.xml"/><Relationship Id="rId31" Type="http://schemas.openxmlformats.org/officeDocument/2006/relationships/diagramData" Target="../diagrams/data14.xml"/><Relationship Id="rId32" Type="http://schemas.openxmlformats.org/officeDocument/2006/relationships/diagramLayout" Target="../diagrams/layout14.xml"/><Relationship Id="rId33" Type="http://schemas.openxmlformats.org/officeDocument/2006/relationships/diagramQuickStyle" Target="../diagrams/quickStyle14.xml"/><Relationship Id="rId34" Type="http://schemas.openxmlformats.org/officeDocument/2006/relationships/diagramColors" Target="../diagrams/colors14.xml"/><Relationship Id="rId35" Type="http://schemas.microsoft.com/office/2007/relationships/diagramDrawing" Target="../diagrams/drawing14.xml"/><Relationship Id="rId36" Type="http://schemas.openxmlformats.org/officeDocument/2006/relationships/diagramData" Target="../diagrams/data15.xml"/><Relationship Id="rId37" Type="http://schemas.openxmlformats.org/officeDocument/2006/relationships/diagramLayout" Target="../diagrams/layout15.xml"/><Relationship Id="rId38" Type="http://schemas.openxmlformats.org/officeDocument/2006/relationships/diagramQuickStyle" Target="../diagrams/quickStyle15.xml"/><Relationship Id="rId39" Type="http://schemas.openxmlformats.org/officeDocument/2006/relationships/diagramColors" Target="../diagrams/colors15.xml"/><Relationship Id="rId40" Type="http://schemas.microsoft.com/office/2007/relationships/diagramDrawing" Target="../diagrams/drawing15.xml"/><Relationship Id="rId41" Type="http://schemas.openxmlformats.org/officeDocument/2006/relationships/diagramData" Target="../diagrams/data16.xml"/><Relationship Id="rId42" Type="http://schemas.openxmlformats.org/officeDocument/2006/relationships/diagramLayout" Target="../diagrams/layout16.xml"/><Relationship Id="rId43" Type="http://schemas.openxmlformats.org/officeDocument/2006/relationships/diagramQuickStyle" Target="../diagrams/quickStyle16.xml"/><Relationship Id="rId44" Type="http://schemas.openxmlformats.org/officeDocument/2006/relationships/diagramColors" Target="../diagrams/colors16.xml"/><Relationship Id="rId45" Type="http://schemas.microsoft.com/office/2007/relationships/diagramDrawing" Target="../diagrams/drawing16.xml"/><Relationship Id="rId46" Type="http://schemas.openxmlformats.org/officeDocument/2006/relationships/diagramData" Target="../diagrams/data17.xml"/><Relationship Id="rId47" Type="http://schemas.openxmlformats.org/officeDocument/2006/relationships/diagramLayout" Target="../diagrams/layout17.xml"/><Relationship Id="rId48" Type="http://schemas.openxmlformats.org/officeDocument/2006/relationships/diagramQuickStyle" Target="../diagrams/quickStyle17.xml"/><Relationship Id="rId49" Type="http://schemas.openxmlformats.org/officeDocument/2006/relationships/diagramColors" Target="../diagrams/colors17.xml"/><Relationship Id="rId50" Type="http://schemas.microsoft.com/office/2007/relationships/diagramDrawing" Target="../diagrams/drawing17.xml"/><Relationship Id="rId51" Type="http://schemas.openxmlformats.org/officeDocument/2006/relationships/diagramData" Target="../diagrams/data18.xml"/><Relationship Id="rId52" Type="http://schemas.openxmlformats.org/officeDocument/2006/relationships/diagramLayout" Target="../diagrams/layout18.xml"/><Relationship Id="rId53" Type="http://schemas.openxmlformats.org/officeDocument/2006/relationships/diagramQuickStyle" Target="../diagrams/quickStyle18.xml"/><Relationship Id="rId54" Type="http://schemas.openxmlformats.org/officeDocument/2006/relationships/diagramColors" Target="../diagrams/colors18.xml"/><Relationship Id="rId55" Type="http://schemas.microsoft.com/office/2007/relationships/diagramDrawing" Target="../diagrams/drawing18.xml"/><Relationship Id="rId5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19.xml"/><Relationship Id="rId2" Type="http://schemas.openxmlformats.org/officeDocument/2006/relationships/diagramLayout" Target="../diagrams/layout19.xml"/><Relationship Id="rId3" Type="http://schemas.openxmlformats.org/officeDocument/2006/relationships/diagramQuickStyle" Target="../diagrams/quickStyle19.xml"/><Relationship Id="rId4" Type="http://schemas.openxmlformats.org/officeDocument/2006/relationships/diagramColors" Target="../diagrams/colors19.xml"/><Relationship Id="rId5" Type="http://schemas.microsoft.com/office/2007/relationships/diagramDrawing" Target="../diagrams/drawing19.xml"/><Relationship Id="rId6" Type="http://schemas.openxmlformats.org/officeDocument/2006/relationships/diagramData" Target="../diagrams/data20.xml"/><Relationship Id="rId7" Type="http://schemas.openxmlformats.org/officeDocument/2006/relationships/diagramLayout" Target="../diagrams/layout20.xml"/><Relationship Id="rId8" Type="http://schemas.openxmlformats.org/officeDocument/2006/relationships/diagramQuickStyle" Target="../diagrams/quickStyle20.xml"/><Relationship Id="rId9" Type="http://schemas.openxmlformats.org/officeDocument/2006/relationships/diagramColors" Target="../diagrams/colors20.xml"/><Relationship Id="rId10" Type="http://schemas.microsoft.com/office/2007/relationships/diagramDrawing" Target="../diagrams/drawing20.xml"/><Relationship Id="rId11" Type="http://schemas.openxmlformats.org/officeDocument/2006/relationships/diagramData" Target="../diagrams/data21.xml"/><Relationship Id="rId12" Type="http://schemas.openxmlformats.org/officeDocument/2006/relationships/diagramLayout" Target="../diagrams/layout21.xml"/><Relationship Id="rId13" Type="http://schemas.openxmlformats.org/officeDocument/2006/relationships/diagramQuickStyle" Target="../diagrams/quickStyle21.xml"/><Relationship Id="rId14" Type="http://schemas.openxmlformats.org/officeDocument/2006/relationships/diagramColors" Target="../diagrams/colors21.xml"/><Relationship Id="rId15" Type="http://schemas.microsoft.com/office/2007/relationships/diagramDrawing" Target="../diagrams/drawing21.xml"/><Relationship Id="rId16" Type="http://schemas.openxmlformats.org/officeDocument/2006/relationships/diagramData" Target="../diagrams/data22.xml"/><Relationship Id="rId17" Type="http://schemas.openxmlformats.org/officeDocument/2006/relationships/diagramLayout" Target="../diagrams/layout22.xml"/><Relationship Id="rId18" Type="http://schemas.openxmlformats.org/officeDocument/2006/relationships/diagramQuickStyle" Target="../diagrams/quickStyle22.xml"/><Relationship Id="rId19" Type="http://schemas.openxmlformats.org/officeDocument/2006/relationships/diagramColors" Target="../diagrams/colors22.xml"/><Relationship Id="rId20" Type="http://schemas.microsoft.com/office/2007/relationships/diagramDrawing" Target="../diagrams/drawing22.xml"/><Relationship Id="rId21" Type="http://schemas.openxmlformats.org/officeDocument/2006/relationships/diagramData" Target="../diagrams/data23.xml"/><Relationship Id="rId22" Type="http://schemas.openxmlformats.org/officeDocument/2006/relationships/diagramLayout" Target="../diagrams/layout23.xml"/><Relationship Id="rId23" Type="http://schemas.openxmlformats.org/officeDocument/2006/relationships/diagramQuickStyle" Target="../diagrams/quickStyle23.xml"/><Relationship Id="rId24" Type="http://schemas.openxmlformats.org/officeDocument/2006/relationships/diagramColors" Target="../diagrams/colors23.xml"/><Relationship Id="rId25" Type="http://schemas.microsoft.com/office/2007/relationships/diagramDrawing" Target="../diagrams/drawing23.xml"/><Relationship Id="rId26" Type="http://schemas.openxmlformats.org/officeDocument/2006/relationships/diagramData" Target="../diagrams/data24.xml"/><Relationship Id="rId27" Type="http://schemas.openxmlformats.org/officeDocument/2006/relationships/diagramLayout" Target="../diagrams/layout24.xml"/><Relationship Id="rId28" Type="http://schemas.openxmlformats.org/officeDocument/2006/relationships/diagramQuickStyle" Target="../diagrams/quickStyle24.xml"/><Relationship Id="rId29" Type="http://schemas.openxmlformats.org/officeDocument/2006/relationships/diagramColors" Target="../diagrams/colors24.xml"/><Relationship Id="rId30" Type="http://schemas.microsoft.com/office/2007/relationships/diagramDrawing" Target="../diagrams/drawing24.xml"/><Relationship Id="rId31" Type="http://schemas.openxmlformats.org/officeDocument/2006/relationships/diagramData" Target="../diagrams/data25.xml"/><Relationship Id="rId32" Type="http://schemas.openxmlformats.org/officeDocument/2006/relationships/diagramLayout" Target="../diagrams/layout25.xml"/><Relationship Id="rId33" Type="http://schemas.openxmlformats.org/officeDocument/2006/relationships/diagramQuickStyle" Target="../diagrams/quickStyle25.xml"/><Relationship Id="rId34" Type="http://schemas.openxmlformats.org/officeDocument/2006/relationships/diagramColors" Target="../diagrams/colors25.xml"/><Relationship Id="rId35" Type="http://schemas.microsoft.com/office/2007/relationships/diagramDrawing" Target="../diagrams/drawing25.xml"/><Relationship Id="rId36" Type="http://schemas.openxmlformats.org/officeDocument/2006/relationships/diagramData" Target="../diagrams/data26.xml"/><Relationship Id="rId37" Type="http://schemas.openxmlformats.org/officeDocument/2006/relationships/diagramLayout" Target="../diagrams/layout26.xml"/><Relationship Id="rId38" Type="http://schemas.openxmlformats.org/officeDocument/2006/relationships/diagramQuickStyle" Target="../diagrams/quickStyle26.xml"/><Relationship Id="rId39" Type="http://schemas.openxmlformats.org/officeDocument/2006/relationships/diagramColors" Target="../diagrams/colors26.xml"/><Relationship Id="rId40" Type="http://schemas.microsoft.com/office/2007/relationships/diagramDrawing" Target="../diagrams/drawing26.xml"/><Relationship Id="rId41" Type="http://schemas.openxmlformats.org/officeDocument/2006/relationships/diagramData" Target="../diagrams/data27.xml"/><Relationship Id="rId42" Type="http://schemas.openxmlformats.org/officeDocument/2006/relationships/diagramLayout" Target="../diagrams/layout27.xml"/><Relationship Id="rId43" Type="http://schemas.openxmlformats.org/officeDocument/2006/relationships/diagramQuickStyle" Target="../diagrams/quickStyle27.xml"/><Relationship Id="rId44" Type="http://schemas.openxmlformats.org/officeDocument/2006/relationships/diagramColors" Target="../diagrams/colors27.xml"/><Relationship Id="rId45" Type="http://schemas.microsoft.com/office/2007/relationships/diagramDrawing" Target="../diagrams/drawing27.xml"/><Relationship Id="rId46" Type="http://schemas.openxmlformats.org/officeDocument/2006/relationships/diagramData" Target="../diagrams/data28.xml"/><Relationship Id="rId47" Type="http://schemas.openxmlformats.org/officeDocument/2006/relationships/diagramLayout" Target="../diagrams/layout28.xml"/><Relationship Id="rId48" Type="http://schemas.openxmlformats.org/officeDocument/2006/relationships/diagramQuickStyle" Target="../diagrams/quickStyle28.xml"/><Relationship Id="rId49" Type="http://schemas.openxmlformats.org/officeDocument/2006/relationships/diagramColors" Target="../diagrams/colors28.xml"/><Relationship Id="rId50" Type="http://schemas.microsoft.com/office/2007/relationships/diagramDrawing" Target="../diagrams/drawing28.xml"/><Relationship Id="rId51" Type="http://schemas.openxmlformats.org/officeDocument/2006/relationships/diagramData" Target="../diagrams/data29.xml"/><Relationship Id="rId52" Type="http://schemas.openxmlformats.org/officeDocument/2006/relationships/diagramLayout" Target="../diagrams/layout29.xml"/><Relationship Id="rId53" Type="http://schemas.openxmlformats.org/officeDocument/2006/relationships/diagramQuickStyle" Target="../diagrams/quickStyle29.xml"/><Relationship Id="rId54" Type="http://schemas.openxmlformats.org/officeDocument/2006/relationships/diagramColors" Target="../diagrams/colors29.xml"/><Relationship Id="rId55" Type="http://schemas.microsoft.com/office/2007/relationships/diagramDrawing" Target="../diagrams/drawing29.xml"/><Relationship Id="rId56" Type="http://schemas.openxmlformats.org/officeDocument/2006/relationships/diagramData" Target="../diagrams/data30.xml"/><Relationship Id="rId57" Type="http://schemas.openxmlformats.org/officeDocument/2006/relationships/diagramLayout" Target="../diagrams/layout30.xml"/><Relationship Id="rId58" Type="http://schemas.openxmlformats.org/officeDocument/2006/relationships/diagramQuickStyle" Target="../diagrams/quickStyle30.xml"/><Relationship Id="rId59" Type="http://schemas.openxmlformats.org/officeDocument/2006/relationships/diagramColors" Target="../diagrams/colors30.xml"/><Relationship Id="rId60" Type="http://schemas.microsoft.com/office/2007/relationships/diagramDrawing" Target="../diagrams/drawing30.xml"/><Relationship Id="rId61" Type="http://schemas.openxmlformats.org/officeDocument/2006/relationships/diagramData" Target="../diagrams/data31.xml"/><Relationship Id="rId62" Type="http://schemas.openxmlformats.org/officeDocument/2006/relationships/diagramLayout" Target="../diagrams/layout31.xml"/><Relationship Id="rId63" Type="http://schemas.openxmlformats.org/officeDocument/2006/relationships/diagramQuickStyle" Target="../diagrams/quickStyle31.xml"/><Relationship Id="rId64" Type="http://schemas.openxmlformats.org/officeDocument/2006/relationships/diagramColors" Target="../diagrams/colors31.xml"/><Relationship Id="rId65" Type="http://schemas.microsoft.com/office/2007/relationships/diagramDrawing" Target="../diagrams/drawing31.xml"/><Relationship Id="rId66" Type="http://schemas.openxmlformats.org/officeDocument/2006/relationships/diagramData" Target="../diagrams/data32.xml"/><Relationship Id="rId67" Type="http://schemas.openxmlformats.org/officeDocument/2006/relationships/diagramLayout" Target="../diagrams/layout32.xml"/><Relationship Id="rId68" Type="http://schemas.openxmlformats.org/officeDocument/2006/relationships/diagramQuickStyle" Target="../diagrams/quickStyle32.xml"/><Relationship Id="rId69" Type="http://schemas.openxmlformats.org/officeDocument/2006/relationships/diagramColors" Target="../diagrams/colors32.xml"/><Relationship Id="rId70" Type="http://schemas.microsoft.com/office/2007/relationships/diagramDrawing" Target="../diagrams/drawing32.xml"/><Relationship Id="rId71" Type="http://schemas.openxmlformats.org/officeDocument/2006/relationships/diagramData" Target="../diagrams/data33.xml"/><Relationship Id="rId72" Type="http://schemas.openxmlformats.org/officeDocument/2006/relationships/diagramLayout" Target="../diagrams/layout33.xml"/><Relationship Id="rId73" Type="http://schemas.openxmlformats.org/officeDocument/2006/relationships/diagramQuickStyle" Target="../diagrams/quickStyle33.xml"/><Relationship Id="rId74" Type="http://schemas.openxmlformats.org/officeDocument/2006/relationships/diagramColors" Target="../diagrams/colors33.xml"/><Relationship Id="rId75" Type="http://schemas.microsoft.com/office/2007/relationships/diagramDrawing" Target="../diagrams/drawing33.xml"/><Relationship Id="rId76" Type="http://schemas.openxmlformats.org/officeDocument/2006/relationships/slide" Target="slide2.xml"/><Relationship Id="rId7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34.xml"/><Relationship Id="rId2" Type="http://schemas.openxmlformats.org/officeDocument/2006/relationships/diagramLayout" Target="../diagrams/layout34.xml"/><Relationship Id="rId3" Type="http://schemas.openxmlformats.org/officeDocument/2006/relationships/diagramQuickStyle" Target="../diagrams/quickStyle34.xml"/><Relationship Id="rId4" Type="http://schemas.openxmlformats.org/officeDocument/2006/relationships/diagramColors" Target="../diagrams/colors34.xml"/><Relationship Id="rId5" Type="http://schemas.microsoft.com/office/2007/relationships/diagramDrawing" Target="../diagrams/drawing34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51028373"/>
              </p:ext>
            </p:extLst>
          </p:nvPr>
        </p:nvGraphicFramePr>
        <p:xfrm>
          <a:off x="728640" y="1530360"/>
          <a:ext cx="7772040" cy="1469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960" y="1143000"/>
            <a:ext cx="785772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339a"/>
                </a:solidFill>
                <a:latin typeface="Arial Black"/>
              </a:rPr>
              <a:t>Глагол </a:t>
            </a:r>
            <a:r>
              <a:rPr b="1" lang="en-US" sz="5400" spc="-1" strike="noStrike">
                <a:solidFill>
                  <a:srgbClr val="00339a"/>
                </a:solidFill>
                <a:latin typeface="Arial Black"/>
              </a:rPr>
              <a:t>to be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85880" y="3071880"/>
            <a:ext cx="7786440" cy="31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480"/>
              </a:spcBef>
              <a:buNone/>
              <a:tabLst>
                <a:tab algn="l" pos="0"/>
              </a:tabLst>
            </a:pPr>
            <a:r>
              <a:rPr b="0" lang="ru-RU" sz="74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      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" name="Diagram35"/>
          <p:cNvGraphicFramePr/>
          <p:nvPr>
            <p:extLst>
              <p:ext uri="{D42A27DB-BD31-4B8C-83A1-F6EECF244321}">
                <p14:modId xmlns:p14="http://schemas.microsoft.com/office/powerpoint/2010/main" val="269027777"/>
              </p:ext>
            </p:extLst>
          </p:nvPr>
        </p:nvGraphicFramePr>
        <p:xfrm>
          <a:off x="0" y="428760"/>
          <a:ext cx="8857800" cy="6429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" name="Diagram36"/>
          <p:cNvGraphicFramePr/>
          <p:nvPr>
            <p:extLst>
              <p:ext uri="{D42A27DB-BD31-4B8C-83A1-F6EECF244321}">
                <p14:modId xmlns:p14="http://schemas.microsoft.com/office/powerpoint/2010/main" val="3729157109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" name="Diagram37"/>
          <p:cNvGraphicFramePr/>
          <p:nvPr>
            <p:extLst>
              <p:ext uri="{D42A27DB-BD31-4B8C-83A1-F6EECF244321}">
                <p14:modId xmlns:p14="http://schemas.microsoft.com/office/powerpoint/2010/main" val="1717840247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Diagram38"/>
          <p:cNvGraphicFramePr/>
          <p:nvPr>
            <p:extLst>
              <p:ext uri="{D42A27DB-BD31-4B8C-83A1-F6EECF244321}">
                <p14:modId xmlns:p14="http://schemas.microsoft.com/office/powerpoint/2010/main" val="1787746082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39" name="Diagram39"/>
          <p:cNvGraphicFramePr/>
          <p:nvPr>
            <p:extLst>
              <p:ext uri="{D42A27DB-BD31-4B8C-83A1-F6EECF244321}">
                <p14:modId xmlns:p14="http://schemas.microsoft.com/office/powerpoint/2010/main" val="3950637641"/>
              </p:ext>
            </p:extLst>
          </p:nvPr>
        </p:nvGraphicFramePr>
        <p:xfrm>
          <a:off x="500040" y="1071720"/>
          <a:ext cx="8072280" cy="999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aphicFrame>
        <p:nvGraphicFramePr>
          <p:cNvPr id="40" name="Diagram40"/>
          <p:cNvGraphicFramePr/>
          <p:nvPr>
            <p:extLst>
              <p:ext uri="{D42A27DB-BD31-4B8C-83A1-F6EECF244321}">
                <p14:modId xmlns:p14="http://schemas.microsoft.com/office/powerpoint/2010/main" val="166379404"/>
              </p:ext>
            </p:extLst>
          </p:nvPr>
        </p:nvGraphicFramePr>
        <p:xfrm>
          <a:off x="5000760" y="23572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41" name="Diagram41"/>
          <p:cNvGraphicFramePr/>
          <p:nvPr>
            <p:extLst>
              <p:ext uri="{D42A27DB-BD31-4B8C-83A1-F6EECF244321}">
                <p14:modId xmlns:p14="http://schemas.microsoft.com/office/powerpoint/2010/main" val="3564741653"/>
              </p:ext>
            </p:extLst>
          </p:nvPr>
        </p:nvGraphicFramePr>
        <p:xfrm>
          <a:off x="5000760" y="23572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aphicFrame>
        <p:nvGraphicFramePr>
          <p:cNvPr id="42" name="Diagram42"/>
          <p:cNvGraphicFramePr/>
          <p:nvPr>
            <p:extLst>
              <p:ext uri="{D42A27DB-BD31-4B8C-83A1-F6EECF244321}">
                <p14:modId xmlns:p14="http://schemas.microsoft.com/office/powerpoint/2010/main" val="1307696375"/>
              </p:ext>
            </p:extLst>
          </p:nvPr>
        </p:nvGraphicFramePr>
        <p:xfrm>
          <a:off x="5000760" y="30718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43" name="Diagram43"/>
          <p:cNvGraphicFramePr/>
          <p:nvPr>
            <p:extLst>
              <p:ext uri="{D42A27DB-BD31-4B8C-83A1-F6EECF244321}">
                <p14:modId xmlns:p14="http://schemas.microsoft.com/office/powerpoint/2010/main" val="2597014300"/>
              </p:ext>
            </p:extLst>
          </p:nvPr>
        </p:nvGraphicFramePr>
        <p:xfrm>
          <a:off x="5000760" y="30718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44" name="Diagram44"/>
          <p:cNvGraphicFramePr/>
          <p:nvPr>
            <p:extLst>
              <p:ext uri="{D42A27DB-BD31-4B8C-83A1-F6EECF244321}">
                <p14:modId xmlns:p14="http://schemas.microsoft.com/office/powerpoint/2010/main" val="2563469005"/>
              </p:ext>
            </p:extLst>
          </p:nvPr>
        </p:nvGraphicFramePr>
        <p:xfrm>
          <a:off x="5000760" y="37861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45" name="Diagram45"/>
          <p:cNvGraphicFramePr/>
          <p:nvPr>
            <p:extLst>
              <p:ext uri="{D42A27DB-BD31-4B8C-83A1-F6EECF244321}">
                <p14:modId xmlns:p14="http://schemas.microsoft.com/office/powerpoint/2010/main" val="904545987"/>
              </p:ext>
            </p:extLst>
          </p:nvPr>
        </p:nvGraphicFramePr>
        <p:xfrm>
          <a:off x="5000760" y="37861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46" name="Diagram46"/>
          <p:cNvGraphicFramePr/>
          <p:nvPr>
            <p:extLst>
              <p:ext uri="{D42A27DB-BD31-4B8C-83A1-F6EECF244321}">
                <p14:modId xmlns:p14="http://schemas.microsoft.com/office/powerpoint/2010/main" val="2968454861"/>
              </p:ext>
            </p:extLst>
          </p:nvPr>
        </p:nvGraphicFramePr>
        <p:xfrm>
          <a:off x="5000760" y="45007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47" name="Diagram47"/>
          <p:cNvGraphicFramePr/>
          <p:nvPr>
            <p:extLst>
              <p:ext uri="{D42A27DB-BD31-4B8C-83A1-F6EECF244321}">
                <p14:modId xmlns:p14="http://schemas.microsoft.com/office/powerpoint/2010/main" val="3694360146"/>
              </p:ext>
            </p:extLst>
          </p:nvPr>
        </p:nvGraphicFramePr>
        <p:xfrm>
          <a:off x="5000760" y="45007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48" name="Diagram48"/>
          <p:cNvGraphicFramePr/>
          <p:nvPr>
            <p:extLst>
              <p:ext uri="{D42A27DB-BD31-4B8C-83A1-F6EECF244321}">
                <p14:modId xmlns:p14="http://schemas.microsoft.com/office/powerpoint/2010/main" val="3559175666"/>
              </p:ext>
            </p:extLst>
          </p:nvPr>
        </p:nvGraphicFramePr>
        <p:xfrm>
          <a:off x="5000760" y="52149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  <p:graphicFrame>
        <p:nvGraphicFramePr>
          <p:cNvPr id="49" name="Diagram49"/>
          <p:cNvGraphicFramePr/>
          <p:nvPr>
            <p:extLst>
              <p:ext uri="{D42A27DB-BD31-4B8C-83A1-F6EECF244321}">
                <p14:modId xmlns:p14="http://schemas.microsoft.com/office/powerpoint/2010/main" val="4073164621"/>
              </p:ext>
            </p:extLst>
          </p:nvPr>
        </p:nvGraphicFramePr>
        <p:xfrm>
          <a:off x="5000760" y="52149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6" r:lo="rId57" r:qs="rId58" r:cs="rId59"/>
          </a:graphicData>
        </a:graphic>
      </p:graphicFrame>
      <p:graphicFrame>
        <p:nvGraphicFramePr>
          <p:cNvPr id="50" name="Diagram50"/>
          <p:cNvGraphicFramePr/>
          <p:nvPr>
            <p:extLst>
              <p:ext uri="{D42A27DB-BD31-4B8C-83A1-F6EECF244321}">
                <p14:modId xmlns:p14="http://schemas.microsoft.com/office/powerpoint/2010/main" val="2926497530"/>
              </p:ext>
            </p:extLst>
          </p:nvPr>
        </p:nvGraphicFramePr>
        <p:xfrm>
          <a:off x="5000760" y="59292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1" r:lo="rId62" r:qs="rId63" r:cs="rId64"/>
          </a:graphicData>
        </a:graphic>
      </p:graphicFrame>
      <p:graphicFrame>
        <p:nvGraphicFramePr>
          <p:cNvPr id="51" name="Diagram51"/>
          <p:cNvGraphicFramePr/>
          <p:nvPr>
            <p:extLst>
              <p:ext uri="{D42A27DB-BD31-4B8C-83A1-F6EECF244321}">
                <p14:modId xmlns:p14="http://schemas.microsoft.com/office/powerpoint/2010/main" val="2529908642"/>
              </p:ext>
            </p:extLst>
          </p:nvPr>
        </p:nvGraphicFramePr>
        <p:xfrm>
          <a:off x="5000760" y="59292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6" r:lo="rId67" r:qs="rId68" r:cs="rId69"/>
          </a:graphicData>
        </a:graphic>
      </p:graphicFrame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89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95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01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07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13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19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Diagram52"/>
          <p:cNvGraphicFramePr/>
          <p:nvPr>
            <p:extLst>
              <p:ext uri="{D42A27DB-BD31-4B8C-83A1-F6EECF244321}">
                <p14:modId xmlns:p14="http://schemas.microsoft.com/office/powerpoint/2010/main" val="4127349150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53" name="Diagram53"/>
          <p:cNvGraphicFramePr/>
          <p:nvPr>
            <p:extLst>
              <p:ext uri="{D42A27DB-BD31-4B8C-83A1-F6EECF244321}">
                <p14:modId xmlns:p14="http://schemas.microsoft.com/office/powerpoint/2010/main" val="1933922802"/>
              </p:ext>
            </p:extLst>
          </p:nvPr>
        </p:nvGraphicFramePr>
        <p:xfrm>
          <a:off x="4786200" y="14288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aphicFrame>
        <p:nvGraphicFramePr>
          <p:cNvPr id="54" name="Diagram54"/>
          <p:cNvGraphicFramePr/>
          <p:nvPr>
            <p:extLst>
              <p:ext uri="{D42A27DB-BD31-4B8C-83A1-F6EECF244321}">
                <p14:modId xmlns:p14="http://schemas.microsoft.com/office/powerpoint/2010/main" val="1015772293"/>
              </p:ext>
            </p:extLst>
          </p:nvPr>
        </p:nvGraphicFramePr>
        <p:xfrm>
          <a:off x="4786200" y="21430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55" name="Diagram55"/>
          <p:cNvGraphicFramePr/>
          <p:nvPr>
            <p:extLst>
              <p:ext uri="{D42A27DB-BD31-4B8C-83A1-F6EECF244321}">
                <p14:modId xmlns:p14="http://schemas.microsoft.com/office/powerpoint/2010/main" val="1596919976"/>
              </p:ext>
            </p:extLst>
          </p:nvPr>
        </p:nvGraphicFramePr>
        <p:xfrm>
          <a:off x="4786200" y="21430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aphicFrame>
        <p:nvGraphicFramePr>
          <p:cNvPr id="56" name="Diagram56"/>
          <p:cNvGraphicFramePr/>
          <p:nvPr>
            <p:extLst>
              <p:ext uri="{D42A27DB-BD31-4B8C-83A1-F6EECF244321}">
                <p14:modId xmlns:p14="http://schemas.microsoft.com/office/powerpoint/2010/main" val="507707696"/>
              </p:ext>
            </p:extLst>
          </p:nvPr>
        </p:nvGraphicFramePr>
        <p:xfrm>
          <a:off x="4786200" y="28573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57" name="Diagram57"/>
          <p:cNvGraphicFramePr/>
          <p:nvPr>
            <p:extLst>
              <p:ext uri="{D42A27DB-BD31-4B8C-83A1-F6EECF244321}">
                <p14:modId xmlns:p14="http://schemas.microsoft.com/office/powerpoint/2010/main" val="2588945663"/>
              </p:ext>
            </p:extLst>
          </p:nvPr>
        </p:nvGraphicFramePr>
        <p:xfrm>
          <a:off x="4786200" y="28573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58" name="Diagram58"/>
          <p:cNvGraphicFramePr/>
          <p:nvPr>
            <p:extLst>
              <p:ext uri="{D42A27DB-BD31-4B8C-83A1-F6EECF244321}">
                <p14:modId xmlns:p14="http://schemas.microsoft.com/office/powerpoint/2010/main" val="3958291898"/>
              </p:ext>
            </p:extLst>
          </p:nvPr>
        </p:nvGraphicFramePr>
        <p:xfrm>
          <a:off x="4786200" y="35719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59" name="Diagram59"/>
          <p:cNvGraphicFramePr/>
          <p:nvPr>
            <p:extLst>
              <p:ext uri="{D42A27DB-BD31-4B8C-83A1-F6EECF244321}">
                <p14:modId xmlns:p14="http://schemas.microsoft.com/office/powerpoint/2010/main" val="4292653541"/>
              </p:ext>
            </p:extLst>
          </p:nvPr>
        </p:nvGraphicFramePr>
        <p:xfrm>
          <a:off x="4786200" y="35719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60" name="Diagram60"/>
          <p:cNvGraphicFramePr/>
          <p:nvPr>
            <p:extLst>
              <p:ext uri="{D42A27DB-BD31-4B8C-83A1-F6EECF244321}">
                <p14:modId xmlns:p14="http://schemas.microsoft.com/office/powerpoint/2010/main" val="692391763"/>
              </p:ext>
            </p:extLst>
          </p:nvPr>
        </p:nvGraphicFramePr>
        <p:xfrm>
          <a:off x="4786200" y="14288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61" name="Diagram61"/>
          <p:cNvGraphicFramePr/>
          <p:nvPr>
            <p:extLst>
              <p:ext uri="{D42A27DB-BD31-4B8C-83A1-F6EECF244321}">
                <p14:modId xmlns:p14="http://schemas.microsoft.com/office/powerpoint/2010/main" val="2970749620"/>
              </p:ext>
            </p:extLst>
          </p:nvPr>
        </p:nvGraphicFramePr>
        <p:xfrm>
          <a:off x="4786200" y="42861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62" name="Diagram62"/>
          <p:cNvGraphicFramePr/>
          <p:nvPr>
            <p:extLst>
              <p:ext uri="{D42A27DB-BD31-4B8C-83A1-F6EECF244321}">
                <p14:modId xmlns:p14="http://schemas.microsoft.com/office/powerpoint/2010/main" val="3820330199"/>
              </p:ext>
            </p:extLst>
          </p:nvPr>
        </p:nvGraphicFramePr>
        <p:xfrm>
          <a:off x="4786200" y="42861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  <p:graphicFrame>
        <p:nvGraphicFramePr>
          <p:cNvPr id="63" name="Diagram63"/>
          <p:cNvGraphicFramePr/>
          <p:nvPr>
            <p:extLst>
              <p:ext uri="{D42A27DB-BD31-4B8C-83A1-F6EECF244321}">
                <p14:modId xmlns:p14="http://schemas.microsoft.com/office/powerpoint/2010/main" val="3399686646"/>
              </p:ext>
            </p:extLst>
          </p:nvPr>
        </p:nvGraphicFramePr>
        <p:xfrm>
          <a:off x="4786200" y="50007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6" r:lo="rId57" r:qs="rId58" r:cs="rId59"/>
          </a:graphicData>
        </a:graphic>
      </p:graphicFrame>
      <p:graphicFrame>
        <p:nvGraphicFramePr>
          <p:cNvPr id="64" name="Diagram64"/>
          <p:cNvGraphicFramePr/>
          <p:nvPr>
            <p:extLst>
              <p:ext uri="{D42A27DB-BD31-4B8C-83A1-F6EECF244321}">
                <p14:modId xmlns:p14="http://schemas.microsoft.com/office/powerpoint/2010/main" val="2132060279"/>
              </p:ext>
            </p:extLst>
          </p:nvPr>
        </p:nvGraphicFramePr>
        <p:xfrm>
          <a:off x="4786200" y="50007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1" r:lo="rId62" r:qs="rId63" r:cs="rId64"/>
          </a:graphicData>
        </a:graphic>
      </p:graphicFrame>
      <p:graphicFrame>
        <p:nvGraphicFramePr>
          <p:cNvPr id="65" name="Diagram65"/>
          <p:cNvGraphicFramePr/>
          <p:nvPr>
            <p:extLst>
              <p:ext uri="{D42A27DB-BD31-4B8C-83A1-F6EECF244321}">
                <p14:modId xmlns:p14="http://schemas.microsoft.com/office/powerpoint/2010/main" val="2421675335"/>
              </p:ext>
            </p:extLst>
          </p:nvPr>
        </p:nvGraphicFramePr>
        <p:xfrm>
          <a:off x="4786200" y="57150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6" r:lo="rId67" r:qs="rId68" r:cs="rId69"/>
          </a:graphicData>
        </a:graphic>
      </p:graphicFrame>
      <p:graphicFrame>
        <p:nvGraphicFramePr>
          <p:cNvPr id="66" name="Diagram66"/>
          <p:cNvGraphicFramePr/>
          <p:nvPr>
            <p:extLst>
              <p:ext uri="{D42A27DB-BD31-4B8C-83A1-F6EECF244321}">
                <p14:modId xmlns:p14="http://schemas.microsoft.com/office/powerpoint/2010/main" val="2718166585"/>
              </p:ext>
            </p:extLst>
          </p:nvPr>
        </p:nvGraphicFramePr>
        <p:xfrm>
          <a:off x="4786200" y="57150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71" r:lo="rId72" r:qs="rId73" r:cs="rId74"/>
          </a:graphicData>
        </a:graphic>
      </p:graphicFrame>
      <p:sp>
        <p:nvSpPr>
          <p:cNvPr id="189" name="Управляющая кнопка: домой 20">
            <a:hlinkClick r:id="rId76" action="ppaction://hlinksldjump"/>
          </p:cNvPr>
          <p:cNvSpPr/>
          <p:nvPr/>
        </p:nvSpPr>
        <p:spPr>
          <a:xfrm>
            <a:off x="8358120" y="6143760"/>
            <a:ext cx="642600" cy="571320"/>
          </a:xfrm>
          <a:prstGeom prst="actionButtonHome">
            <a:avLst/>
          </a:prstGeom>
          <a:solidFill>
            <a:srgbClr val="00cc66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2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32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38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44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50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5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62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Diagram67"/>
          <p:cNvGraphicFramePr/>
          <p:nvPr>
            <p:extLst>
              <p:ext uri="{D42A27DB-BD31-4B8C-83A1-F6EECF244321}">
                <p14:modId xmlns:p14="http://schemas.microsoft.com/office/powerpoint/2010/main" val="2703379356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Diagram68"/>
          <p:cNvGraphicFramePr/>
          <p:nvPr>
            <p:extLst>
              <p:ext uri="{D42A27DB-BD31-4B8C-83A1-F6EECF244321}">
                <p14:modId xmlns:p14="http://schemas.microsoft.com/office/powerpoint/2010/main" val="633509185"/>
              </p:ext>
            </p:extLst>
          </p:nvPr>
        </p:nvGraphicFramePr>
        <p:xfrm>
          <a:off x="0" y="428760"/>
          <a:ext cx="8857800" cy="6429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Diagram69"/>
          <p:cNvGraphicFramePr/>
          <p:nvPr>
            <p:extLst>
              <p:ext uri="{D42A27DB-BD31-4B8C-83A1-F6EECF244321}">
                <p14:modId xmlns:p14="http://schemas.microsoft.com/office/powerpoint/2010/main" val="1449293325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Diagram70"/>
          <p:cNvGraphicFramePr/>
          <p:nvPr>
            <p:extLst>
              <p:ext uri="{D42A27DB-BD31-4B8C-83A1-F6EECF244321}">
                <p14:modId xmlns:p14="http://schemas.microsoft.com/office/powerpoint/2010/main" val="1327764907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Diagram71"/>
          <p:cNvGraphicFramePr/>
          <p:nvPr>
            <p:extLst>
              <p:ext uri="{D42A27DB-BD31-4B8C-83A1-F6EECF244321}">
                <p14:modId xmlns:p14="http://schemas.microsoft.com/office/powerpoint/2010/main" val="3203530647"/>
              </p:ext>
            </p:extLst>
          </p:nvPr>
        </p:nvGraphicFramePr>
        <p:xfrm>
          <a:off x="3786120" y="171432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72" name="Diagram72"/>
          <p:cNvGraphicFramePr/>
          <p:nvPr>
            <p:extLst>
              <p:ext uri="{D42A27DB-BD31-4B8C-83A1-F6EECF244321}">
                <p14:modId xmlns:p14="http://schemas.microsoft.com/office/powerpoint/2010/main" val="211107308"/>
              </p:ext>
            </p:extLst>
          </p:nvPr>
        </p:nvGraphicFramePr>
        <p:xfrm>
          <a:off x="6429240" y="171432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aphicFrame>
        <p:nvGraphicFramePr>
          <p:cNvPr id="73" name="Diagram73"/>
          <p:cNvGraphicFramePr/>
          <p:nvPr>
            <p:extLst>
              <p:ext uri="{D42A27DB-BD31-4B8C-83A1-F6EECF244321}">
                <p14:modId xmlns:p14="http://schemas.microsoft.com/office/powerpoint/2010/main" val="1852069035"/>
              </p:ext>
            </p:extLst>
          </p:nvPr>
        </p:nvGraphicFramePr>
        <p:xfrm>
          <a:off x="3786120" y="238068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74" name="Diagram74"/>
          <p:cNvGraphicFramePr/>
          <p:nvPr>
            <p:extLst>
              <p:ext uri="{D42A27DB-BD31-4B8C-83A1-F6EECF244321}">
                <p14:modId xmlns:p14="http://schemas.microsoft.com/office/powerpoint/2010/main" val="3636903283"/>
              </p:ext>
            </p:extLst>
          </p:nvPr>
        </p:nvGraphicFramePr>
        <p:xfrm>
          <a:off x="6429240" y="235728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aphicFrame>
        <p:nvGraphicFramePr>
          <p:cNvPr id="75" name="Diagram75"/>
          <p:cNvGraphicFramePr/>
          <p:nvPr>
            <p:extLst>
              <p:ext uri="{D42A27DB-BD31-4B8C-83A1-F6EECF244321}">
                <p14:modId xmlns:p14="http://schemas.microsoft.com/office/powerpoint/2010/main" val="572369435"/>
              </p:ext>
            </p:extLst>
          </p:nvPr>
        </p:nvGraphicFramePr>
        <p:xfrm>
          <a:off x="3786120" y="307188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76" name="Diagram76"/>
          <p:cNvGraphicFramePr/>
          <p:nvPr>
            <p:extLst>
              <p:ext uri="{D42A27DB-BD31-4B8C-83A1-F6EECF244321}">
                <p14:modId xmlns:p14="http://schemas.microsoft.com/office/powerpoint/2010/main" val="2709773530"/>
              </p:ext>
            </p:extLst>
          </p:nvPr>
        </p:nvGraphicFramePr>
        <p:xfrm>
          <a:off x="6429240" y="304848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77" name="Diagram77"/>
          <p:cNvGraphicFramePr/>
          <p:nvPr>
            <p:extLst>
              <p:ext uri="{D42A27DB-BD31-4B8C-83A1-F6EECF244321}">
                <p14:modId xmlns:p14="http://schemas.microsoft.com/office/powerpoint/2010/main" val="292442355"/>
              </p:ext>
            </p:extLst>
          </p:nvPr>
        </p:nvGraphicFramePr>
        <p:xfrm>
          <a:off x="3786120" y="378612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78" name="Diagram78"/>
          <p:cNvGraphicFramePr/>
          <p:nvPr>
            <p:extLst>
              <p:ext uri="{D42A27DB-BD31-4B8C-83A1-F6EECF244321}">
                <p14:modId xmlns:p14="http://schemas.microsoft.com/office/powerpoint/2010/main" val="3614760053"/>
              </p:ext>
            </p:extLst>
          </p:nvPr>
        </p:nvGraphicFramePr>
        <p:xfrm>
          <a:off x="6429240" y="378612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79" name="Diagram79"/>
          <p:cNvGraphicFramePr/>
          <p:nvPr>
            <p:extLst>
              <p:ext uri="{D42A27DB-BD31-4B8C-83A1-F6EECF244321}">
                <p14:modId xmlns:p14="http://schemas.microsoft.com/office/powerpoint/2010/main" val="2476781412"/>
              </p:ext>
            </p:extLst>
          </p:nvPr>
        </p:nvGraphicFramePr>
        <p:xfrm>
          <a:off x="3786120" y="447732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80" name="Diagram80"/>
          <p:cNvGraphicFramePr/>
          <p:nvPr>
            <p:extLst>
              <p:ext uri="{D42A27DB-BD31-4B8C-83A1-F6EECF244321}">
                <p14:modId xmlns:p14="http://schemas.microsoft.com/office/powerpoint/2010/main" val="1021670880"/>
              </p:ext>
            </p:extLst>
          </p:nvPr>
        </p:nvGraphicFramePr>
        <p:xfrm>
          <a:off x="6429240" y="447732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81" name="Diagram81"/>
          <p:cNvGraphicFramePr/>
          <p:nvPr>
            <p:extLst>
              <p:ext uri="{D42A27DB-BD31-4B8C-83A1-F6EECF244321}">
                <p14:modId xmlns:p14="http://schemas.microsoft.com/office/powerpoint/2010/main" val="2863767205"/>
              </p:ext>
            </p:extLst>
          </p:nvPr>
        </p:nvGraphicFramePr>
        <p:xfrm>
          <a:off x="3786120" y="519192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  <p:graphicFrame>
        <p:nvGraphicFramePr>
          <p:cNvPr id="82" name="Diagram82"/>
          <p:cNvGraphicFramePr/>
          <p:nvPr>
            <p:extLst>
              <p:ext uri="{D42A27DB-BD31-4B8C-83A1-F6EECF244321}">
                <p14:modId xmlns:p14="http://schemas.microsoft.com/office/powerpoint/2010/main" val="833602729"/>
              </p:ext>
            </p:extLst>
          </p:nvPr>
        </p:nvGraphicFramePr>
        <p:xfrm>
          <a:off x="6429240" y="519192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6" r:lo="rId57" r:qs="rId58" r:cs="rId59"/>
          </a:graphicData>
        </a:graphic>
      </p:graphicFrame>
      <p:graphicFrame>
        <p:nvGraphicFramePr>
          <p:cNvPr id="83" name="Diagram83"/>
          <p:cNvGraphicFramePr/>
          <p:nvPr>
            <p:extLst>
              <p:ext uri="{D42A27DB-BD31-4B8C-83A1-F6EECF244321}">
                <p14:modId xmlns:p14="http://schemas.microsoft.com/office/powerpoint/2010/main" val="1143361119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1" r:lo="rId62" r:qs="rId63" r:cs="rId64"/>
          </a:graphicData>
        </a:graphic>
      </p:graphicFrame>
    </p:spTree>
  </p:cSld>
  <p:transition spd="slow">
    <p:fade/>
  </p:transition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69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75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81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87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93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99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0143484"/>
              </p:ext>
            </p:extLst>
          </p:nvPr>
        </p:nvGraphicFramePr>
        <p:xfrm>
          <a:off x="485640" y="142920"/>
          <a:ext cx="8229240" cy="1142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458780006"/>
              </p:ext>
            </p:extLst>
          </p:nvPr>
        </p:nvGraphicFramePr>
        <p:xfrm>
          <a:off x="642960" y="1500120"/>
          <a:ext cx="7857720" cy="5000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sp>
        <p:nvSpPr>
          <p:cNvPr id="172" name="Овал 7">
            <a:hlinkClick r:id="rId11" action="ppaction://hlinksldjump"/>
          </p:cNvPr>
          <p:cNvSpPr/>
          <p:nvPr/>
        </p:nvSpPr>
        <p:spPr>
          <a:xfrm>
            <a:off x="3500280" y="1500120"/>
            <a:ext cx="2142720" cy="2142720"/>
          </a:xfrm>
          <a:prstGeom prst="ellipse">
            <a:avLst/>
          </a:prstGeom>
          <a:solidFill>
            <a:srgbClr val="91644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1500" spc="-1" strike="noStrike">
                <a:solidFill>
                  <a:schemeClr val="lt1"/>
                </a:solidFill>
                <a:latin typeface="Franklin Gothic Book"/>
              </a:rPr>
              <a:t>+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8">
            <a:hlinkClick r:id="rId12" action="ppaction://hlinksldjump"/>
          </p:cNvPr>
          <p:cNvSpPr/>
          <p:nvPr/>
        </p:nvSpPr>
        <p:spPr>
          <a:xfrm>
            <a:off x="1857240" y="4357800"/>
            <a:ext cx="2142720" cy="2142720"/>
          </a:xfrm>
          <a:prstGeom prst="ellipse">
            <a:avLst/>
          </a:prstGeom>
          <a:solidFill>
            <a:srgbClr val="654a76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3800" spc="-1" strike="noStrike">
                <a:solidFill>
                  <a:schemeClr val="lt1"/>
                </a:solidFill>
                <a:latin typeface="Franklin Gothic Book"/>
              </a:rPr>
              <a:t>?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9">
            <a:hlinkClick r:id="rId13" action="ppaction://hlinksldjump"/>
          </p:cNvPr>
          <p:cNvSpPr/>
          <p:nvPr/>
        </p:nvSpPr>
        <p:spPr>
          <a:xfrm>
            <a:off x="5143680" y="4357800"/>
            <a:ext cx="2142720" cy="2142720"/>
          </a:xfrm>
          <a:prstGeom prst="ellipse">
            <a:avLst/>
          </a:prstGeom>
          <a:solidFill>
            <a:srgbClr val="5dda00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600" spc="-1" strike="noStrike">
                <a:solidFill>
                  <a:schemeClr val="lt1"/>
                </a:solidFill>
                <a:latin typeface="Franklin Gothic Book"/>
              </a:rPr>
              <a:t>-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Управляющая кнопка: домой 10">
            <a:hlinkClick r:id="rId14" action="ppaction://hlinksldjump"/>
          </p:cNvPr>
          <p:cNvSpPr/>
          <p:nvPr/>
        </p:nvSpPr>
        <p:spPr>
          <a:xfrm>
            <a:off x="8358120" y="6143760"/>
            <a:ext cx="642600" cy="571320"/>
          </a:xfrm>
          <a:prstGeom prst="actionButtonHome">
            <a:avLst/>
          </a:prstGeom>
          <a:solidFill>
            <a:srgbClr val="b2b787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Diagram84"/>
          <p:cNvGraphicFramePr/>
          <p:nvPr>
            <p:extLst>
              <p:ext uri="{D42A27DB-BD31-4B8C-83A1-F6EECF244321}">
                <p14:modId xmlns:p14="http://schemas.microsoft.com/office/powerpoint/2010/main" val="1273701750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85" name="Diagram85"/>
          <p:cNvGraphicFramePr/>
          <p:nvPr>
            <p:extLst>
              <p:ext uri="{D42A27DB-BD31-4B8C-83A1-F6EECF244321}">
                <p14:modId xmlns:p14="http://schemas.microsoft.com/office/powerpoint/2010/main" val="86945632"/>
              </p:ext>
            </p:extLst>
          </p:nvPr>
        </p:nvGraphicFramePr>
        <p:xfrm>
          <a:off x="5072040" y="16430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aphicFrame>
        <p:nvGraphicFramePr>
          <p:cNvPr id="86" name="Diagram86"/>
          <p:cNvGraphicFramePr/>
          <p:nvPr>
            <p:extLst>
              <p:ext uri="{D42A27DB-BD31-4B8C-83A1-F6EECF244321}">
                <p14:modId xmlns:p14="http://schemas.microsoft.com/office/powerpoint/2010/main" val="166381575"/>
              </p:ext>
            </p:extLst>
          </p:nvPr>
        </p:nvGraphicFramePr>
        <p:xfrm>
          <a:off x="5072040" y="23572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87" name="Diagram87"/>
          <p:cNvGraphicFramePr/>
          <p:nvPr>
            <p:extLst>
              <p:ext uri="{D42A27DB-BD31-4B8C-83A1-F6EECF244321}">
                <p14:modId xmlns:p14="http://schemas.microsoft.com/office/powerpoint/2010/main" val="3064107583"/>
              </p:ext>
            </p:extLst>
          </p:nvPr>
        </p:nvGraphicFramePr>
        <p:xfrm>
          <a:off x="5072040" y="23572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aphicFrame>
        <p:nvGraphicFramePr>
          <p:cNvPr id="88" name="Diagram88"/>
          <p:cNvGraphicFramePr/>
          <p:nvPr>
            <p:extLst>
              <p:ext uri="{D42A27DB-BD31-4B8C-83A1-F6EECF244321}">
                <p14:modId xmlns:p14="http://schemas.microsoft.com/office/powerpoint/2010/main" val="2737526319"/>
              </p:ext>
            </p:extLst>
          </p:nvPr>
        </p:nvGraphicFramePr>
        <p:xfrm>
          <a:off x="5072040" y="30718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89" name="Diagram89"/>
          <p:cNvGraphicFramePr/>
          <p:nvPr>
            <p:extLst>
              <p:ext uri="{D42A27DB-BD31-4B8C-83A1-F6EECF244321}">
                <p14:modId xmlns:p14="http://schemas.microsoft.com/office/powerpoint/2010/main" val="2060435978"/>
              </p:ext>
            </p:extLst>
          </p:nvPr>
        </p:nvGraphicFramePr>
        <p:xfrm>
          <a:off x="5072040" y="30718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90" name="Diagram90"/>
          <p:cNvGraphicFramePr/>
          <p:nvPr>
            <p:extLst>
              <p:ext uri="{D42A27DB-BD31-4B8C-83A1-F6EECF244321}">
                <p14:modId xmlns:p14="http://schemas.microsoft.com/office/powerpoint/2010/main" val="4088376520"/>
              </p:ext>
            </p:extLst>
          </p:nvPr>
        </p:nvGraphicFramePr>
        <p:xfrm>
          <a:off x="5072040" y="37861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91" name="Diagram91"/>
          <p:cNvGraphicFramePr/>
          <p:nvPr>
            <p:extLst>
              <p:ext uri="{D42A27DB-BD31-4B8C-83A1-F6EECF244321}">
                <p14:modId xmlns:p14="http://schemas.microsoft.com/office/powerpoint/2010/main" val="1151138318"/>
              </p:ext>
            </p:extLst>
          </p:nvPr>
        </p:nvGraphicFramePr>
        <p:xfrm>
          <a:off x="5072040" y="37861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92" name="Diagram92"/>
          <p:cNvGraphicFramePr/>
          <p:nvPr>
            <p:extLst>
              <p:ext uri="{D42A27DB-BD31-4B8C-83A1-F6EECF244321}">
                <p14:modId xmlns:p14="http://schemas.microsoft.com/office/powerpoint/2010/main" val="3261847185"/>
              </p:ext>
            </p:extLst>
          </p:nvPr>
        </p:nvGraphicFramePr>
        <p:xfrm>
          <a:off x="5072040" y="16430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93" name="Diagram93"/>
          <p:cNvGraphicFramePr/>
          <p:nvPr>
            <p:extLst>
              <p:ext uri="{D42A27DB-BD31-4B8C-83A1-F6EECF244321}">
                <p14:modId xmlns:p14="http://schemas.microsoft.com/office/powerpoint/2010/main" val="1708145890"/>
              </p:ext>
            </p:extLst>
          </p:nvPr>
        </p:nvGraphicFramePr>
        <p:xfrm>
          <a:off x="5072040" y="45007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94" name="Diagram94"/>
          <p:cNvGraphicFramePr/>
          <p:nvPr>
            <p:extLst>
              <p:ext uri="{D42A27DB-BD31-4B8C-83A1-F6EECF244321}">
                <p14:modId xmlns:p14="http://schemas.microsoft.com/office/powerpoint/2010/main" val="3172350880"/>
              </p:ext>
            </p:extLst>
          </p:nvPr>
        </p:nvGraphicFramePr>
        <p:xfrm>
          <a:off x="5072040" y="45007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  <p:graphicFrame>
        <p:nvGraphicFramePr>
          <p:cNvPr id="95" name="Diagram95"/>
          <p:cNvGraphicFramePr/>
          <p:nvPr>
            <p:extLst>
              <p:ext uri="{D42A27DB-BD31-4B8C-83A1-F6EECF244321}">
                <p14:modId xmlns:p14="http://schemas.microsoft.com/office/powerpoint/2010/main" val="2006489973"/>
              </p:ext>
            </p:extLst>
          </p:nvPr>
        </p:nvGraphicFramePr>
        <p:xfrm>
          <a:off x="5072040" y="52149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6" r:lo="rId57" r:qs="rId58" r:cs="rId59"/>
          </a:graphicData>
        </a:graphic>
      </p:graphicFrame>
      <p:graphicFrame>
        <p:nvGraphicFramePr>
          <p:cNvPr id="96" name="Diagram96"/>
          <p:cNvGraphicFramePr/>
          <p:nvPr>
            <p:extLst>
              <p:ext uri="{D42A27DB-BD31-4B8C-83A1-F6EECF244321}">
                <p14:modId xmlns:p14="http://schemas.microsoft.com/office/powerpoint/2010/main" val="3679589055"/>
              </p:ext>
            </p:extLst>
          </p:nvPr>
        </p:nvGraphicFramePr>
        <p:xfrm>
          <a:off x="5072040" y="52149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1" r:lo="rId62" r:qs="rId63" r:cs="rId64"/>
          </a:graphicData>
        </a:graphic>
      </p:graphicFrame>
      <p:sp>
        <p:nvSpPr>
          <p:cNvPr id="190" name="Управляющая кнопка: домой 17">
            <a:hlinkClick r:id="rId66" action="ppaction://hlinksldjump"/>
          </p:cNvPr>
          <p:cNvSpPr/>
          <p:nvPr/>
        </p:nvSpPr>
        <p:spPr>
          <a:xfrm>
            <a:off x="8358120" y="6143760"/>
            <a:ext cx="642600" cy="571320"/>
          </a:xfrm>
          <a:prstGeom prst="actionButtonHome">
            <a:avLst/>
          </a:prstGeom>
          <a:solidFill>
            <a:srgbClr val="654a76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0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12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18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24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30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3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Diagram97"/>
          <p:cNvGraphicFramePr/>
          <p:nvPr>
            <p:extLst>
              <p:ext uri="{D42A27DB-BD31-4B8C-83A1-F6EECF244321}">
                <p14:modId xmlns:p14="http://schemas.microsoft.com/office/powerpoint/2010/main" val="3226119578"/>
              </p:ext>
            </p:extLst>
          </p:nvPr>
        </p:nvGraphicFramePr>
        <p:xfrm>
          <a:off x="357120" y="3714840"/>
          <a:ext cx="8572320" cy="221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98" name="Diagram98"/>
          <p:cNvGraphicFramePr/>
          <p:nvPr>
            <p:extLst>
              <p:ext uri="{D42A27DB-BD31-4B8C-83A1-F6EECF244321}">
                <p14:modId xmlns:p14="http://schemas.microsoft.com/office/powerpoint/2010/main" val="2356715375"/>
              </p:ext>
            </p:extLst>
          </p:nvPr>
        </p:nvGraphicFramePr>
        <p:xfrm>
          <a:off x="728640" y="1816200"/>
          <a:ext cx="7772040" cy="1469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" r:lo="rId6" r:qs="rId7" r:cs="rId8"/>
          </a:graphicData>
        </a:graphic>
      </p:graphicFrame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Garamond"/>
              </a:rPr>
              <a:t>Информационные ресурсы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1"/>
              </a:buBlip>
            </a:pPr>
            <a:r>
              <a:rPr b="0" lang="en-US" sz="3200" spc="-1" strike="noStrike" u="sng">
                <a:solidFill>
                  <a:schemeClr val="accent5">
                    <a:lumMod val="50000"/>
                  </a:schemeClr>
                </a:solidFill>
                <a:uFillTx/>
                <a:latin typeface="Franklin Gothic Book"/>
                <a:hlinkClick r:id="rId2"/>
              </a:rPr>
              <a:t>http://blogs.mail.ru/mail/nadushka-0606/46ac31563cc11226.html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3"/>
              </a:buBlip>
            </a:pPr>
            <a:r>
              <a:rPr b="0" lang="en-US" sz="3200" spc="-1" strike="noStrike" u="sng">
                <a:solidFill>
                  <a:schemeClr val="accent5">
                    <a:lumMod val="50000"/>
                  </a:schemeClr>
                </a:solidFill>
                <a:uFillTx/>
                <a:latin typeface="Franklin Gothic Book"/>
                <a:hlinkClick r:id="rId4"/>
              </a:rPr>
              <a:t>http://investigator.org.ua/news/3183/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5"/>
              </a:buBlip>
            </a:pPr>
            <a:r>
              <a:rPr b="0" lang="en-US" sz="3200" spc="-1" strike="noStrike" u="sng">
                <a:solidFill>
                  <a:schemeClr val="accent5">
                    <a:lumMod val="50000"/>
                  </a:schemeClr>
                </a:solidFill>
                <a:uFillTx/>
                <a:latin typeface="Franklin Gothic Book"/>
                <a:hlinkClick r:id="rId6"/>
              </a:rPr>
              <a:t>http://www.yarfoto.ru/klipart3.htm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7"/>
              </a:buBlip>
            </a:pPr>
            <a:r>
              <a:rPr b="0" lang="en-US" sz="3200" spc="-1" strike="noStrike" u="sng">
                <a:solidFill>
                  <a:srgbClr val="00a800"/>
                </a:solidFill>
                <a:uFillTx/>
                <a:latin typeface="Franklin Gothic Book"/>
                <a:hlinkClick r:id="rId8"/>
              </a:rPr>
              <a:t>http://tnc.nnov.ru/showthread.php?t=188451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9"/>
              </a:buBlip>
            </a:pPr>
            <a:r>
              <a:rPr b="0" lang="en-US" sz="3200" spc="-1" strike="noStrike" u="sng">
                <a:solidFill>
                  <a:srgbClr val="00b050"/>
                </a:solidFill>
                <a:uFillTx/>
                <a:latin typeface="Franklin Gothic Book"/>
              </a:rPr>
              <a:t>http://mirgif.com/multjashki7.htm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137747848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443347077"/>
              </p:ext>
            </p:extLst>
          </p:nvPr>
        </p:nvGraphicFramePr>
        <p:xfrm>
          <a:off x="142920" y="428760"/>
          <a:ext cx="8857800" cy="6429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490573713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2162365094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" name="Diagram8"/>
          <p:cNvGraphicFramePr/>
          <p:nvPr>
            <p:extLst>
              <p:ext uri="{D42A27DB-BD31-4B8C-83A1-F6EECF244321}">
                <p14:modId xmlns:p14="http://schemas.microsoft.com/office/powerpoint/2010/main" val="1510995542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9" name="Diagram9"/>
          <p:cNvGraphicFramePr/>
          <p:nvPr>
            <p:extLst>
              <p:ext uri="{D42A27DB-BD31-4B8C-83A1-F6EECF244321}">
                <p14:modId xmlns:p14="http://schemas.microsoft.com/office/powerpoint/2010/main" val="204871471"/>
              </p:ext>
            </p:extLst>
          </p:nvPr>
        </p:nvGraphicFramePr>
        <p:xfrm>
          <a:off x="2339640" y="1500120"/>
          <a:ext cx="63039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pSp>
        <p:nvGrpSpPr>
          <p:cNvPr id="176" name="Группа 5"/>
          <p:cNvGrpSpPr/>
          <p:nvPr/>
        </p:nvGrpSpPr>
        <p:grpSpPr>
          <a:xfrm>
            <a:off x="2339640" y="2286000"/>
            <a:ext cx="6303960" cy="571320"/>
            <a:chOff x="2339640" y="2286000"/>
            <a:chExt cx="6303960" cy="571320"/>
          </a:xfrm>
        </p:grpSpPr>
        <p:sp>
          <p:nvSpPr>
            <p:cNvPr id="177" name="Скругленный прямоугольник 6"/>
            <p:cNvSpPr/>
            <p:nvPr/>
          </p:nvSpPr>
          <p:spPr>
            <a:xfrm>
              <a:off x="2339640" y="2286000"/>
              <a:ext cx="6303960" cy="571320"/>
            </a:xfrm>
            <a:prstGeom prst="roundRect">
              <a:avLst>
                <a:gd name="adj" fmla="val 16667"/>
              </a:avLst>
            </a:prstGeom>
            <a:solidFill>
              <a:srgbClr val="91644b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5">
                <a:hueOff val="0"/>
                <a:satOff val="0"/>
                <a:lumOff val="0"/>
                <a:alphaOff val="0"/>
              </a:schemeClr>
            </a:fillRef>
            <a:effectRef idx="0">
              <a:schemeClr val="accent5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Скругленный прямоугольник 4"/>
            <p:cNvSpPr/>
            <p:nvPr/>
          </p:nvSpPr>
          <p:spPr>
            <a:xfrm>
              <a:off x="2403000" y="2314440"/>
              <a:ext cx="62406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  </a:t>
              </a: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You   …      Susa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Группа 8"/>
          <p:cNvGrpSpPr/>
          <p:nvPr/>
        </p:nvGrpSpPr>
        <p:grpSpPr>
          <a:xfrm>
            <a:off x="2339640" y="3071880"/>
            <a:ext cx="6518520" cy="571320"/>
            <a:chOff x="2339640" y="3071880"/>
            <a:chExt cx="6518520" cy="571320"/>
          </a:xfrm>
        </p:grpSpPr>
        <p:sp>
          <p:nvSpPr>
            <p:cNvPr id="180" name="Скругленный прямоугольник 9"/>
            <p:cNvSpPr/>
            <p:nvPr/>
          </p:nvSpPr>
          <p:spPr>
            <a:xfrm>
              <a:off x="2339640" y="3071880"/>
              <a:ext cx="6156000" cy="571320"/>
            </a:xfrm>
            <a:prstGeom prst="roundRect">
              <a:avLst>
                <a:gd name="adj" fmla="val 16667"/>
              </a:avLst>
            </a:prstGeom>
            <a:solidFill>
              <a:srgbClr val="91644b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5">
                <a:hueOff val="0"/>
                <a:satOff val="0"/>
                <a:lumOff val="0"/>
                <a:alphaOff val="0"/>
              </a:schemeClr>
            </a:fillRef>
            <a:effectRef idx="0">
              <a:schemeClr val="accent5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Скругленный прямоугольник 4"/>
            <p:cNvSpPr/>
            <p:nvPr/>
          </p:nvSpPr>
          <p:spPr>
            <a:xfrm>
              <a:off x="2401560" y="3100320"/>
              <a:ext cx="64566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   </a:t>
              </a: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He    …   my</a:t>
              </a:r>
              <a:r>
                <a:rPr b="1" lang="ru-RU" sz="2800" spc="-1" strike="noStrike">
                  <a:solidFill>
                    <a:schemeClr val="lt1"/>
                  </a:solidFill>
                  <a:latin typeface="Franklin Gothic Book"/>
                </a:rPr>
                <a:t> </a:t>
              </a: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brothe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Группа 11"/>
          <p:cNvGrpSpPr/>
          <p:nvPr/>
        </p:nvGrpSpPr>
        <p:grpSpPr>
          <a:xfrm>
            <a:off x="2403000" y="3857760"/>
            <a:ext cx="6240600" cy="571320"/>
            <a:chOff x="2403000" y="3857760"/>
            <a:chExt cx="6240600" cy="571320"/>
          </a:xfrm>
        </p:grpSpPr>
        <p:sp>
          <p:nvSpPr>
            <p:cNvPr id="183" name="Скругленный прямоугольник 12"/>
            <p:cNvSpPr/>
            <p:nvPr/>
          </p:nvSpPr>
          <p:spPr>
            <a:xfrm>
              <a:off x="2403000" y="3857760"/>
              <a:ext cx="6240600" cy="571320"/>
            </a:xfrm>
            <a:prstGeom prst="roundRect">
              <a:avLst>
                <a:gd name="adj" fmla="val 16667"/>
              </a:avLst>
            </a:prstGeom>
            <a:solidFill>
              <a:srgbClr val="91644b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5">
                <a:hueOff val="0"/>
                <a:satOff val="0"/>
                <a:lumOff val="0"/>
                <a:alphaOff val="0"/>
              </a:schemeClr>
            </a:fillRef>
            <a:effectRef idx="0">
              <a:schemeClr val="accent5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Скругленный прямоугольник 4"/>
            <p:cNvSpPr/>
            <p:nvPr/>
          </p:nvSpPr>
          <p:spPr>
            <a:xfrm>
              <a:off x="2451960" y="3886200"/>
              <a:ext cx="61426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  </a:t>
              </a: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She   …    your siste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" name="Diagram10"/>
          <p:cNvGraphicFramePr/>
          <p:nvPr>
            <p:extLst>
              <p:ext uri="{D42A27DB-BD31-4B8C-83A1-F6EECF244321}">
                <p14:modId xmlns:p14="http://schemas.microsoft.com/office/powerpoint/2010/main" val="1453786782"/>
              </p:ext>
            </p:extLst>
          </p:nvPr>
        </p:nvGraphicFramePr>
        <p:xfrm>
          <a:off x="2451960" y="4572000"/>
          <a:ext cx="619164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11" name="Diagram11"/>
          <p:cNvGraphicFramePr/>
          <p:nvPr>
            <p:extLst>
              <p:ext uri="{D42A27DB-BD31-4B8C-83A1-F6EECF244321}">
                <p14:modId xmlns:p14="http://schemas.microsoft.com/office/powerpoint/2010/main" val="3425862007"/>
              </p:ext>
            </p:extLst>
          </p:nvPr>
        </p:nvGraphicFramePr>
        <p:xfrm>
          <a:off x="2451960" y="5357880"/>
          <a:ext cx="619164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pSp>
        <p:nvGrpSpPr>
          <p:cNvPr id="185" name="Группа 16"/>
          <p:cNvGrpSpPr/>
          <p:nvPr/>
        </p:nvGrpSpPr>
        <p:grpSpPr>
          <a:xfrm>
            <a:off x="5000760" y="6072120"/>
            <a:ext cx="3642840" cy="571320"/>
            <a:chOff x="5000760" y="6072120"/>
            <a:chExt cx="3642840" cy="571320"/>
          </a:xfrm>
        </p:grpSpPr>
        <p:sp>
          <p:nvSpPr>
            <p:cNvPr id="186" name="Скругленный прямоугольник 17"/>
            <p:cNvSpPr/>
            <p:nvPr/>
          </p:nvSpPr>
          <p:spPr>
            <a:xfrm>
              <a:off x="5000760" y="6072120"/>
              <a:ext cx="3642840" cy="571320"/>
            </a:xfrm>
            <a:prstGeom prst="roundRect">
              <a:avLst>
                <a:gd name="adj" fmla="val 16667"/>
              </a:avLst>
            </a:prstGeom>
            <a:solidFill>
              <a:srgbClr val="91644b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5">
                <a:hueOff val="0"/>
                <a:satOff val="0"/>
                <a:lumOff val="0"/>
                <a:alphaOff val="0"/>
              </a:schemeClr>
            </a:fillRef>
            <a:effectRef idx="0">
              <a:schemeClr val="accent5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Скругленный прямоугольник 4"/>
            <p:cNvSpPr/>
            <p:nvPr/>
          </p:nvSpPr>
          <p:spPr>
            <a:xfrm>
              <a:off x="5032440" y="6100920"/>
              <a:ext cx="35794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They  …       student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" name="Diagram12"/>
          <p:cNvGraphicFramePr/>
          <p:nvPr>
            <p:extLst>
              <p:ext uri="{D42A27DB-BD31-4B8C-83A1-F6EECF244321}">
                <p14:modId xmlns:p14="http://schemas.microsoft.com/office/powerpoint/2010/main" val="2101418546"/>
              </p:ext>
            </p:extLst>
          </p:nvPr>
        </p:nvGraphicFramePr>
        <p:xfrm>
          <a:off x="5929200" y="1500120"/>
          <a:ext cx="78552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13" name="Diagram13"/>
          <p:cNvGraphicFramePr/>
          <p:nvPr>
            <p:extLst>
              <p:ext uri="{D42A27DB-BD31-4B8C-83A1-F6EECF244321}">
                <p14:modId xmlns:p14="http://schemas.microsoft.com/office/powerpoint/2010/main" val="1842218940"/>
              </p:ext>
            </p:extLst>
          </p:nvPr>
        </p:nvGraphicFramePr>
        <p:xfrm>
          <a:off x="5929200" y="2286000"/>
          <a:ext cx="78552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14" name="Diagram14"/>
          <p:cNvGraphicFramePr/>
          <p:nvPr>
            <p:extLst>
              <p:ext uri="{D42A27DB-BD31-4B8C-83A1-F6EECF244321}">
                <p14:modId xmlns:p14="http://schemas.microsoft.com/office/powerpoint/2010/main" val="146272210"/>
              </p:ext>
            </p:extLst>
          </p:nvPr>
        </p:nvGraphicFramePr>
        <p:xfrm>
          <a:off x="6000840" y="3071880"/>
          <a:ext cx="64260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15" name="Diagram15"/>
          <p:cNvGraphicFramePr/>
          <p:nvPr>
            <p:extLst>
              <p:ext uri="{D42A27DB-BD31-4B8C-83A1-F6EECF244321}">
                <p14:modId xmlns:p14="http://schemas.microsoft.com/office/powerpoint/2010/main" val="2962992901"/>
              </p:ext>
            </p:extLst>
          </p:nvPr>
        </p:nvGraphicFramePr>
        <p:xfrm>
          <a:off x="5929200" y="5357880"/>
          <a:ext cx="78552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16" name="Diagram16"/>
          <p:cNvGraphicFramePr/>
          <p:nvPr>
            <p:extLst>
              <p:ext uri="{D42A27DB-BD31-4B8C-83A1-F6EECF244321}">
                <p14:modId xmlns:p14="http://schemas.microsoft.com/office/powerpoint/2010/main" val="3011851067"/>
              </p:ext>
            </p:extLst>
          </p:nvPr>
        </p:nvGraphicFramePr>
        <p:xfrm>
          <a:off x="5929200" y="6072120"/>
          <a:ext cx="78552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17" name="Diagram17"/>
          <p:cNvGraphicFramePr/>
          <p:nvPr>
            <p:extLst>
              <p:ext uri="{D42A27DB-BD31-4B8C-83A1-F6EECF244321}">
                <p14:modId xmlns:p14="http://schemas.microsoft.com/office/powerpoint/2010/main" val="3556517300"/>
              </p:ext>
            </p:extLst>
          </p:nvPr>
        </p:nvGraphicFramePr>
        <p:xfrm>
          <a:off x="6000840" y="4572000"/>
          <a:ext cx="64260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18" name="Diagram18"/>
          <p:cNvGraphicFramePr/>
          <p:nvPr>
            <p:extLst>
              <p:ext uri="{D42A27DB-BD31-4B8C-83A1-F6EECF244321}">
                <p14:modId xmlns:p14="http://schemas.microsoft.com/office/powerpoint/2010/main" val="523480648"/>
              </p:ext>
            </p:extLst>
          </p:nvPr>
        </p:nvGraphicFramePr>
        <p:xfrm>
          <a:off x="6000840" y="3857760"/>
          <a:ext cx="64260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</p:spTree>
  </p:cSld>
  <p:transition spd="slow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delay="0" evt="onClick">
                    <p:tgtEl>
                      <p:spTgt spid="176"/>
                    </p:tgtEl>
                  </p:cond>
                </p:stCondLst>
                <p:childTnLst>
                  <p:par>
                    <p:cTn id="9" fill="hold">
                      <p:stCondLst>
                        <p:cond delay="0"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delay="0" evt="onClick">
                    <p:tgtEl>
                      <p:spTgt spid="179"/>
                    </p:tgtEl>
                  </p:cond>
                </p:stCondLst>
                <p:childTnLst>
                  <p:par>
                    <p:cTn id="15" fill="hold">
                      <p:stCondLst>
                        <p:cond delay="0"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delay="0" evt="onClick">
                    <p:tgtEl>
                      <p:spTgt spid="182"/>
                    </p:tgtEl>
                  </p:cond>
                </p:stCondLst>
                <p:childTnLst>
                  <p:par>
                    <p:cTn id="21" fill="hold">
                      <p:stCondLst>
                        <p:cond delay="0"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7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33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delay="0" evt="onClick">
                    <p:tgtEl>
                      <p:spTgt spid="185"/>
                    </p:tgtEl>
                  </p:cond>
                </p:stCondLst>
                <p:childTnLst>
                  <p:par>
                    <p:cTn id="39" fill="hold">
                      <p:stCondLst>
                        <p:cond delay="0"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" name="Diagram19"/>
          <p:cNvGraphicFramePr/>
          <p:nvPr>
            <p:extLst>
              <p:ext uri="{D42A27DB-BD31-4B8C-83A1-F6EECF244321}">
                <p14:modId xmlns:p14="http://schemas.microsoft.com/office/powerpoint/2010/main" val="1086508676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20" name="Diagram20"/>
          <p:cNvGraphicFramePr/>
          <p:nvPr>
            <p:extLst>
              <p:ext uri="{D42A27DB-BD31-4B8C-83A1-F6EECF244321}">
                <p14:modId xmlns:p14="http://schemas.microsoft.com/office/powerpoint/2010/main" val="2404213285"/>
              </p:ext>
            </p:extLst>
          </p:nvPr>
        </p:nvGraphicFramePr>
        <p:xfrm>
          <a:off x="4786200" y="14288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aphicFrame>
        <p:nvGraphicFramePr>
          <p:cNvPr id="21" name="Diagram21"/>
          <p:cNvGraphicFramePr/>
          <p:nvPr>
            <p:extLst>
              <p:ext uri="{D42A27DB-BD31-4B8C-83A1-F6EECF244321}">
                <p14:modId xmlns:p14="http://schemas.microsoft.com/office/powerpoint/2010/main" val="3442138541"/>
              </p:ext>
            </p:extLst>
          </p:nvPr>
        </p:nvGraphicFramePr>
        <p:xfrm>
          <a:off x="4786200" y="21430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22" name="Diagram22"/>
          <p:cNvGraphicFramePr/>
          <p:nvPr>
            <p:extLst>
              <p:ext uri="{D42A27DB-BD31-4B8C-83A1-F6EECF244321}">
                <p14:modId xmlns:p14="http://schemas.microsoft.com/office/powerpoint/2010/main" val="3134412352"/>
              </p:ext>
            </p:extLst>
          </p:nvPr>
        </p:nvGraphicFramePr>
        <p:xfrm>
          <a:off x="4786200" y="21430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aphicFrame>
        <p:nvGraphicFramePr>
          <p:cNvPr id="23" name="Diagram23"/>
          <p:cNvGraphicFramePr/>
          <p:nvPr>
            <p:extLst>
              <p:ext uri="{D42A27DB-BD31-4B8C-83A1-F6EECF244321}">
                <p14:modId xmlns:p14="http://schemas.microsoft.com/office/powerpoint/2010/main" val="681982717"/>
              </p:ext>
            </p:extLst>
          </p:nvPr>
        </p:nvGraphicFramePr>
        <p:xfrm>
          <a:off x="4786200" y="28573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24" name="Diagram24"/>
          <p:cNvGraphicFramePr/>
          <p:nvPr>
            <p:extLst>
              <p:ext uri="{D42A27DB-BD31-4B8C-83A1-F6EECF244321}">
                <p14:modId xmlns:p14="http://schemas.microsoft.com/office/powerpoint/2010/main" val="3287474237"/>
              </p:ext>
            </p:extLst>
          </p:nvPr>
        </p:nvGraphicFramePr>
        <p:xfrm>
          <a:off x="4786200" y="28573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25" name="Diagram25"/>
          <p:cNvGraphicFramePr/>
          <p:nvPr>
            <p:extLst>
              <p:ext uri="{D42A27DB-BD31-4B8C-83A1-F6EECF244321}">
                <p14:modId xmlns:p14="http://schemas.microsoft.com/office/powerpoint/2010/main" val="1071534398"/>
              </p:ext>
            </p:extLst>
          </p:nvPr>
        </p:nvGraphicFramePr>
        <p:xfrm>
          <a:off x="4786200" y="35719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26" name="Diagram26"/>
          <p:cNvGraphicFramePr/>
          <p:nvPr>
            <p:extLst>
              <p:ext uri="{D42A27DB-BD31-4B8C-83A1-F6EECF244321}">
                <p14:modId xmlns:p14="http://schemas.microsoft.com/office/powerpoint/2010/main" val="1571930628"/>
              </p:ext>
            </p:extLst>
          </p:nvPr>
        </p:nvGraphicFramePr>
        <p:xfrm>
          <a:off x="4786200" y="35719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27" name="Diagram27"/>
          <p:cNvGraphicFramePr/>
          <p:nvPr>
            <p:extLst>
              <p:ext uri="{D42A27DB-BD31-4B8C-83A1-F6EECF244321}">
                <p14:modId xmlns:p14="http://schemas.microsoft.com/office/powerpoint/2010/main" val="3426665990"/>
              </p:ext>
            </p:extLst>
          </p:nvPr>
        </p:nvGraphicFramePr>
        <p:xfrm>
          <a:off x="4786200" y="14288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28" name="Diagram28"/>
          <p:cNvGraphicFramePr/>
          <p:nvPr>
            <p:extLst>
              <p:ext uri="{D42A27DB-BD31-4B8C-83A1-F6EECF244321}">
                <p14:modId xmlns:p14="http://schemas.microsoft.com/office/powerpoint/2010/main" val="3837636898"/>
              </p:ext>
            </p:extLst>
          </p:nvPr>
        </p:nvGraphicFramePr>
        <p:xfrm>
          <a:off x="4786200" y="42861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29" name="Diagram29"/>
          <p:cNvGraphicFramePr/>
          <p:nvPr>
            <p:extLst>
              <p:ext uri="{D42A27DB-BD31-4B8C-83A1-F6EECF244321}">
                <p14:modId xmlns:p14="http://schemas.microsoft.com/office/powerpoint/2010/main" val="2917201618"/>
              </p:ext>
            </p:extLst>
          </p:nvPr>
        </p:nvGraphicFramePr>
        <p:xfrm>
          <a:off x="4786200" y="42861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  <p:graphicFrame>
        <p:nvGraphicFramePr>
          <p:cNvPr id="30" name="Diagram30"/>
          <p:cNvGraphicFramePr/>
          <p:nvPr>
            <p:extLst>
              <p:ext uri="{D42A27DB-BD31-4B8C-83A1-F6EECF244321}">
                <p14:modId xmlns:p14="http://schemas.microsoft.com/office/powerpoint/2010/main" val="1293109204"/>
              </p:ext>
            </p:extLst>
          </p:nvPr>
        </p:nvGraphicFramePr>
        <p:xfrm>
          <a:off x="4786200" y="50007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6" r:lo="rId57" r:qs="rId58" r:cs="rId59"/>
          </a:graphicData>
        </a:graphic>
      </p:graphicFrame>
      <p:graphicFrame>
        <p:nvGraphicFramePr>
          <p:cNvPr id="31" name="Diagram31"/>
          <p:cNvGraphicFramePr/>
          <p:nvPr>
            <p:extLst>
              <p:ext uri="{D42A27DB-BD31-4B8C-83A1-F6EECF244321}">
                <p14:modId xmlns:p14="http://schemas.microsoft.com/office/powerpoint/2010/main" val="2674698774"/>
              </p:ext>
            </p:extLst>
          </p:nvPr>
        </p:nvGraphicFramePr>
        <p:xfrm>
          <a:off x="4786200" y="50007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1" r:lo="rId62" r:qs="rId63" r:cs="rId64"/>
          </a:graphicData>
        </a:graphic>
      </p:graphicFrame>
      <p:graphicFrame>
        <p:nvGraphicFramePr>
          <p:cNvPr id="32" name="Diagram32"/>
          <p:cNvGraphicFramePr/>
          <p:nvPr>
            <p:extLst>
              <p:ext uri="{D42A27DB-BD31-4B8C-83A1-F6EECF244321}">
                <p14:modId xmlns:p14="http://schemas.microsoft.com/office/powerpoint/2010/main" val="604341589"/>
              </p:ext>
            </p:extLst>
          </p:nvPr>
        </p:nvGraphicFramePr>
        <p:xfrm>
          <a:off x="4786200" y="57150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6" r:lo="rId67" r:qs="rId68" r:cs="rId69"/>
          </a:graphicData>
        </a:graphic>
      </p:graphicFrame>
      <p:graphicFrame>
        <p:nvGraphicFramePr>
          <p:cNvPr id="33" name="Diagram33"/>
          <p:cNvGraphicFramePr/>
          <p:nvPr>
            <p:extLst>
              <p:ext uri="{D42A27DB-BD31-4B8C-83A1-F6EECF244321}">
                <p14:modId xmlns:p14="http://schemas.microsoft.com/office/powerpoint/2010/main" val="3075168272"/>
              </p:ext>
            </p:extLst>
          </p:nvPr>
        </p:nvGraphicFramePr>
        <p:xfrm>
          <a:off x="4786200" y="57150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71" r:lo="rId72" r:qs="rId73" r:cs="rId74"/>
          </a:graphicData>
        </a:graphic>
      </p:graphicFrame>
      <p:sp>
        <p:nvSpPr>
          <p:cNvPr id="188" name="Управляющая кнопка: домой 21">
            <a:hlinkClick r:id="rId76" action="ppaction://hlinksldjump"/>
          </p:cNvPr>
          <p:cNvSpPr/>
          <p:nvPr/>
        </p:nvSpPr>
        <p:spPr>
          <a:xfrm>
            <a:off x="8358120" y="6143760"/>
            <a:ext cx="642600" cy="571320"/>
          </a:xfrm>
          <a:prstGeom prst="actionButtonHome">
            <a:avLst/>
          </a:prstGeom>
          <a:solidFill>
            <a:srgbClr val="91644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4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52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58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64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70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7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82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" name="Diagram34"/>
          <p:cNvGraphicFramePr/>
          <p:nvPr>
            <p:extLst>
              <p:ext uri="{D42A27DB-BD31-4B8C-83A1-F6EECF244321}">
                <p14:modId xmlns:p14="http://schemas.microsoft.com/office/powerpoint/2010/main" val="4018737636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Тема2">
  <a:themeElements>
    <a:clrScheme name="Каллиграфия">
      <a:dk1>
        <a:srgbClr val="000000"/>
      </a:dk1>
      <a:lt1>
        <a:srgbClr val="ffffff"/>
      </a:lt1>
      <a:dk2>
        <a:srgbClr val="411401"/>
      </a:dk2>
      <a:lt2>
        <a:srgbClr val="ffe6e6"/>
      </a:lt2>
      <a:accent1>
        <a:srgbClr val="a24a48"/>
      </a:accent1>
      <a:accent2>
        <a:srgbClr val="b2935c"/>
      </a:accent2>
      <a:accent3>
        <a:srgbClr val="6a9a9a"/>
      </a:accent3>
      <a:accent4>
        <a:srgbClr val="b2b787"/>
      </a:accent4>
      <a:accent5>
        <a:srgbClr val="91644b"/>
      </a:accent5>
      <a:accent6>
        <a:srgbClr val="654a76"/>
      </a:accent6>
      <a:hlink>
        <a:srgbClr val="00a800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2">
  <a:themeElements>
    <a:clrScheme name="Каллиграфия">
      <a:dk1>
        <a:srgbClr val="000000"/>
      </a:dk1>
      <a:lt1>
        <a:srgbClr val="ffffff"/>
      </a:lt1>
      <a:dk2>
        <a:srgbClr val="411401"/>
      </a:dk2>
      <a:lt2>
        <a:srgbClr val="ffe6e6"/>
      </a:lt2>
      <a:accent1>
        <a:srgbClr val="a24a48"/>
      </a:accent1>
      <a:accent2>
        <a:srgbClr val="b2935c"/>
      </a:accent2>
      <a:accent3>
        <a:srgbClr val="6a9a9a"/>
      </a:accent3>
      <a:accent4>
        <a:srgbClr val="b2b787"/>
      </a:accent4>
      <a:accent5>
        <a:srgbClr val="91644b"/>
      </a:accent5>
      <a:accent6>
        <a:srgbClr val="654a76"/>
      </a:accent6>
      <a:hlink>
        <a:srgbClr val="00a800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2">
  <a:themeElements>
    <a:clrScheme name="Каллиграфия">
      <a:dk1>
        <a:srgbClr val="000000"/>
      </a:dk1>
      <a:lt1>
        <a:srgbClr val="ffffff"/>
      </a:lt1>
      <a:dk2>
        <a:srgbClr val="411401"/>
      </a:dk2>
      <a:lt2>
        <a:srgbClr val="ffe6e6"/>
      </a:lt2>
      <a:accent1>
        <a:srgbClr val="a24a48"/>
      </a:accent1>
      <a:accent2>
        <a:srgbClr val="b2935c"/>
      </a:accent2>
      <a:accent3>
        <a:srgbClr val="6a9a9a"/>
      </a:accent3>
      <a:accent4>
        <a:srgbClr val="b2b787"/>
      </a:accent4>
      <a:accent5>
        <a:srgbClr val="91644b"/>
      </a:accent5>
      <a:accent6>
        <a:srgbClr val="654a76"/>
      </a:accent6>
      <a:hlink>
        <a:srgbClr val="00a800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2">
  <a:themeElements>
    <a:clrScheme name="Каллиграфия">
      <a:dk1>
        <a:srgbClr val="000000"/>
      </a:dk1>
      <a:lt1>
        <a:srgbClr val="ffffff"/>
      </a:lt1>
      <a:dk2>
        <a:srgbClr val="411401"/>
      </a:dk2>
      <a:lt2>
        <a:srgbClr val="ffe6e6"/>
      </a:lt2>
      <a:accent1>
        <a:srgbClr val="a24a48"/>
      </a:accent1>
      <a:accent2>
        <a:srgbClr val="b2935c"/>
      </a:accent2>
      <a:accent3>
        <a:srgbClr val="6a9a9a"/>
      </a:accent3>
      <a:accent4>
        <a:srgbClr val="b2b787"/>
      </a:accent4>
      <a:accent5>
        <a:srgbClr val="91644b"/>
      </a:accent5>
      <a:accent6>
        <a:srgbClr val="654a76"/>
      </a:accent6>
      <a:hlink>
        <a:srgbClr val="00a800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11401"/>
      </a:dk2>
      <a:lt2>
        <a:srgbClr val="ffe6e6"/>
      </a:lt2>
      <a:accent1>
        <a:srgbClr val="a24a48"/>
      </a:accent1>
      <a:accent2>
        <a:srgbClr val="b2935c"/>
      </a:accent2>
      <a:accent3>
        <a:srgbClr val="6a9a9a"/>
      </a:accent3>
      <a:accent4>
        <a:srgbClr val="b2b787"/>
      </a:accent4>
      <a:accent5>
        <a:srgbClr val="91644b"/>
      </a:accent5>
      <a:accent6>
        <a:srgbClr val="654a76"/>
      </a:accent6>
      <a:hlink>
        <a:srgbClr val="00a800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Тема2</Template>
  <TotalTime>554</TotalTime>
  <Application>LibreOffice/7.4.7.2$Linux_X86_64 LibreOffice_project/40$Build-2</Application>
  <AppVersion>15.0000</AppVersion>
  <Words>784</Words>
  <Paragraphs>2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6:50:18Z</dcterms:created>
  <dc:creator>User</dc:creator>
  <dc:description/>
  <dc:language>en-US</dc:language>
  <cp:lastModifiedBy>DELL</cp:lastModifiedBy>
  <dcterms:modified xsi:type="dcterms:W3CDTF">2020-09-10T19:18:49Z</dcterms:modified>
  <cp:revision>6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Экран (4:3)</vt:lpwstr>
  </property>
  <property fmtid="{D5CDD505-2E9C-101B-9397-08002B2CF9AE}" pid="4" name="Slides">
    <vt:r8>22</vt:r8>
  </property>
</Properties>
</file>