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33.jpeg" ContentType="image/jpeg"/>
  <Override PartName="/ppt/media/image13.png" ContentType="image/png"/>
  <Override PartName="/ppt/media/image37.png" ContentType="image/png"/>
  <Override PartName="/ppt/media/image48.jpeg" ContentType="image/jpeg"/>
  <Override PartName="/ppt/media/image45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4.png" ContentType="image/png"/>
  <Override PartName="/ppt/media/image40.jpeg" ContentType="image/jpeg"/>
  <Override PartName="/ppt/media/image4.png" ContentType="image/png"/>
  <Override PartName="/ppt/media/image34.png" ContentType="image/png"/>
  <Override PartName="/ppt/media/image46.png" ContentType="image/png"/>
  <Override PartName="/ppt/media/image11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19.jpeg" ContentType="image/jpeg"/>
  <Override PartName="/ppt/media/image42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2F7-F399-4B9C-A6E8-15060E80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332-5563-4861-B2BA-D0814F58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0B3-B79E-4AAD-BFCF-82251B71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F10-A912-4D51-8104-F554BEF6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3F9E-7E0A-482B-AC2D-14479675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7E6-C75B-4682-B05E-0BF65342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E297-077C-4E41-9719-C2E1C85B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3547-A24A-4E4C-AA54-B0BC8E8C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B54-6B72-40D2-BFED-634CB2F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0193-0160-44F8-852C-9BBE523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7538-5D54-4789-B64A-C190E8E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E30-F7D7-4CF9-9B4A-038EC387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068C-7D9B-4B5E-977E-AE2B625D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2B85-C6F4-4E1D-B167-E459200D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DBEE-EDB6-4D79-A9AA-AEE912F0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056B-CA33-4CFC-86AE-02344180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B95C-D780-4BB7-AFE1-5447E416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88D-E5AD-416B-83F2-0B538B63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2A1-8177-4DC8-88FD-9250D24F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EBB-1CFD-44DB-A5F1-D87B2679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2C1-52A7-4B0C-9E5B-71B16156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164-906C-4291-884D-5F3B05A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B26-F9CF-4030-B66B-52558690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7C8-0A16-4677-87E4-1B38D0CE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D5A0-5004-4292-ADC2-489C83D23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73EF-3CAF-4D08-90B5-ABB9F6AB77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hyperlink" Target="http://fotki.yandex.ru/users/belyaevatatyana/view/218487/?page=0" TargetMode="External"/><Relationship Id="rId7" Type="http://schemas.openxmlformats.org/officeDocument/2006/relationships/image" Target="../media/image36.jpe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jpe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08080" y="255600"/>
            <a:ext cx="8654760" cy="1317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:\картинки к уроку\1273970278_img_0006.jpg"/>
          <p:cNvPicPr/>
          <p:nvPr/>
        </p:nvPicPr>
        <p:blipFill>
          <a:blip r:embed="rId2"/>
          <a:srcRect l="0" t="-1220" r="0" b="0"/>
          <a:stretch/>
        </p:blipFill>
        <p:spPr>
          <a:xfrm>
            <a:off x="2063880" y="1628640"/>
            <a:ext cx="4816440" cy="395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&amp;Pcy;&amp;rcy;&amp;icy;&amp;mcy;&amp;iecy;&amp;ncy;&amp;iecy;&amp;ncy;&amp;icy;&amp;iecy; &amp;kcy;&amp;lcy;&amp;icy;&amp;ncy;&amp;acy;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&amp;Vcy;&amp;icy;&amp;ncy;&amp;tcy;"/>
          <p:cNvPicPr/>
          <p:nvPr/>
        </p:nvPicPr>
        <p:blipFill>
          <a:blip r:embed="rId1"/>
          <a:stretch/>
        </p:blipFill>
        <p:spPr>
          <a:xfrm>
            <a:off x="25092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ыча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вердое тело, которое может вращаться вокруг неподвижной опо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G:\картинки к уроку\рычаг.gif"/>
          <p:cNvPicPr/>
          <p:nvPr/>
        </p:nvPicPr>
        <p:blipFill>
          <a:blip r:embed="rId2"/>
          <a:stretch/>
        </p:blipFill>
        <p:spPr>
          <a:xfrm>
            <a:off x="4762440" y="1465200"/>
            <a:ext cx="3841920" cy="2714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255840" cy="2747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771640" y="4194000"/>
            <a:ext cx="360072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85840" y="642960"/>
            <a:ext cx="850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 рычага первого рода точка опоры находится между точками приложения с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 рычага второго рода точки приложения сил находятся по одну сторону от точки о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3" descr="{FDDD6EDF-9A9C-4402-A594-59F7411D924F}.gif"/>
          <p:cNvPicPr/>
          <p:nvPr/>
        </p:nvPicPr>
        <p:blipFill>
          <a:blip r:embed="rId1"/>
          <a:stretch/>
        </p:blipFill>
        <p:spPr>
          <a:xfrm>
            <a:off x="4432320" y="4071960"/>
            <a:ext cx="3236760" cy="242568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3" descr="{421A41EA-A020-433A-81BA-1A793BF6643E}.gif"/>
          <p:cNvPicPr/>
          <p:nvPr/>
        </p:nvPicPr>
        <p:blipFill>
          <a:blip r:embed="rId2"/>
          <a:stretch/>
        </p:blipFill>
        <p:spPr>
          <a:xfrm>
            <a:off x="4359240" y="1000080"/>
            <a:ext cx="3211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0" y="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Применение рыча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"/>
          <p:cNvSpPr/>
          <p:nvPr/>
        </p:nvSpPr>
        <p:spPr>
          <a:xfrm>
            <a:off x="2786040" y="642960"/>
            <a:ext cx="3500640" cy="4287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реобразова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4"/>
          <p:cNvCxnSpPr/>
          <p:nvPr/>
        </p:nvCxnSpPr>
        <p:spPr>
          <a:xfrm flipH="1">
            <a:off x="1856880" y="785880"/>
            <a:ext cx="858240" cy="429120"/>
          </a:xfrm>
          <a:prstGeom prst="straightConnector1">
            <a:avLst/>
          </a:prstGeom>
          <a:ln cap="sq" w="442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Прямая со стрелкой 5"/>
          <p:cNvCxnSpPr/>
          <p:nvPr/>
        </p:nvCxnSpPr>
        <p:spPr>
          <a:xfrm>
            <a:off x="6357960" y="785880"/>
            <a:ext cx="1000800" cy="429120"/>
          </a:xfrm>
          <a:prstGeom prst="straightConnector1">
            <a:avLst/>
          </a:prstGeom>
          <a:ln cap="sq" w="442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7" name="Скругленный прямоугольник 7"/>
          <p:cNvSpPr/>
          <p:nvPr/>
        </p:nvSpPr>
        <p:spPr>
          <a:xfrm>
            <a:off x="285840" y="1285920"/>
            <a:ext cx="2571840" cy="4287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ыигрыш в с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8"/>
          <p:cNvSpPr/>
          <p:nvPr/>
        </p:nvSpPr>
        <p:spPr>
          <a:xfrm>
            <a:off x="6429240" y="1285920"/>
            <a:ext cx="2500560" cy="4287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роигрыш в си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>
            <a:lum bright="20000"/>
          </a:blip>
          <a:srcRect l="6334" t="0" r="8162" b="62803"/>
          <a:stretch/>
        </p:blipFill>
        <p:spPr>
          <a:xfrm>
            <a:off x="214200" y="1785960"/>
            <a:ext cx="1714680" cy="127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>
            <a:lum bright="20000"/>
          </a:blip>
          <a:srcRect l="15843" t="46512" r="17672" b="36757"/>
          <a:stretch/>
        </p:blipFill>
        <p:spPr>
          <a:xfrm>
            <a:off x="2214720" y="1785960"/>
            <a:ext cx="1690560" cy="723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>
            <a:lum bright="20000"/>
          </a:blip>
          <a:srcRect l="15843" t="72559" r="17672" b="10823"/>
          <a:stretch/>
        </p:blipFill>
        <p:spPr>
          <a:xfrm>
            <a:off x="2143080" y="2428920"/>
            <a:ext cx="1428840" cy="608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4000680" y="1357200"/>
            <a:ext cx="1722240" cy="1860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5"/>
          <a:srcRect l="0" t="0" r="0" b="8654"/>
          <a:stretch/>
        </p:blipFill>
        <p:spPr>
          <a:xfrm>
            <a:off x="2428920" y="3286080"/>
            <a:ext cx="2400120" cy="19368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7" descr="http://img-fotki.yandex.ru/get/4007/belyaevatatyana.e/0_3564c_5c262fda_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4200" y="3071880"/>
            <a:ext cx="1866960" cy="27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cit.vvsu.ru/MIRROR/www.fizika.ru/theory/tema-15/15b-i2.gif"/>
          <p:cNvPicPr/>
          <p:nvPr/>
        </p:nvPicPr>
        <p:blipFill>
          <a:blip r:embed="rId8"/>
          <a:stretch/>
        </p:blipFill>
        <p:spPr>
          <a:xfrm>
            <a:off x="2143080" y="5207040"/>
            <a:ext cx="1500120" cy="16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cit.vvsu.ru/MIRROR/www.fizika.ru/theory/tema-15/15b-i3.gif"/>
          <p:cNvPicPr/>
          <p:nvPr/>
        </p:nvPicPr>
        <p:blipFill>
          <a:blip r:embed="rId9"/>
          <a:stretch/>
        </p:blipFill>
        <p:spPr>
          <a:xfrm>
            <a:off x="5000760" y="3357720"/>
            <a:ext cx="1904760" cy="174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http://www.class-fizika.ru/7_class/7_blok/22.jpg"/>
          <p:cNvPicPr/>
          <p:nvPr/>
        </p:nvPicPr>
        <p:blipFill>
          <a:blip r:embed="rId10"/>
          <a:stretch/>
        </p:blipFill>
        <p:spPr>
          <a:xfrm>
            <a:off x="6500880" y="1857240"/>
            <a:ext cx="2442960" cy="1405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http://www.class-fizika.ru/7_class/7_blok/25.jpg"/>
          <p:cNvPicPr/>
          <p:nvPr/>
        </p:nvPicPr>
        <p:blipFill>
          <a:blip r:embed="rId11"/>
          <a:stretch/>
        </p:blipFill>
        <p:spPr>
          <a:xfrm>
            <a:off x="5500800" y="5143680"/>
            <a:ext cx="3146400" cy="1714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C:\C&amp;M\VSCHOOL2003_NET\Files\A4\{A4541E64-982F-409D-A5F2-F8F8730EAB37}.gif"/>
          <p:cNvPicPr/>
          <p:nvPr/>
        </p:nvPicPr>
        <p:blipFill>
          <a:blip r:embed="rId12"/>
          <a:stretch/>
        </p:blipFill>
        <p:spPr>
          <a:xfrm>
            <a:off x="3714840" y="5429160"/>
            <a:ext cx="15476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Устройство рыча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560" y="4076280"/>
            <a:ext cx="7705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опор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 F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ы, действующие на рыча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1</a:t>
            </a:r>
            <a:r>
              <a:rPr b="1" i="1" lang="ru-RU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(ОА) 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Calibri"/>
              </a:rPr>
              <a:t>l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i="1" lang="ru-RU" sz="3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В) -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ечо сил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i="1" lang="en-US" sz="3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i="1" lang="ru-RU" sz="3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4929120" y="1052640"/>
            <a:ext cx="3387960" cy="2570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428760" y="1052640"/>
            <a:ext cx="39765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лечо силы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кратчайшее расстояние от точки опоры до линии действия си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т.е. перпендикуляр, опущенный из точки опоры на линию действия силы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означается буквой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Script MT Bol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238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Условие равновесия рычаг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Архимед, 3 век до н.э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9280" y="2421000"/>
            <a:ext cx="88264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Рычаг находится в равновесии тогда, когда силы, действующие на него, обратно пропорциональны плечам этих с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G:\картинки к уроку\архимед.jpeg"/>
          <p:cNvPicPr/>
          <p:nvPr/>
        </p:nvPicPr>
        <p:blipFill>
          <a:blip r:embed="rId2"/>
          <a:stretch/>
        </p:blipFill>
        <p:spPr>
          <a:xfrm>
            <a:off x="108000" y="189000"/>
            <a:ext cx="1333440" cy="2000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3348000" y="4365720"/>
            <a:ext cx="2592360" cy="210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5" descr="24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6"/>
          <p:cNvSpPr/>
          <p:nvPr/>
        </p:nvSpPr>
        <p:spPr>
          <a:xfrm>
            <a:off x="108000" y="1557360"/>
            <a:ext cx="8913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 flipV="1">
            <a:off x="1023840" y="3198960"/>
            <a:ext cx="7293240" cy="5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/>
          <p:cNvSpPr/>
          <p:nvPr/>
        </p:nvSpPr>
        <p:spPr>
          <a:xfrm>
            <a:off x="6588000" y="3197160"/>
            <a:ext cx="648000" cy="719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971640" y="476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 и с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1077840" y="3487680"/>
            <a:ext cx="7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5616" t="31469" r="24227" b="4228"/>
          <a:stretch/>
        </p:blipFill>
        <p:spPr>
          <a:xfrm>
            <a:off x="257040" y="2031840"/>
            <a:ext cx="1535400" cy="1224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8"/>
          <p:cNvSpPr/>
          <p:nvPr/>
        </p:nvSpPr>
        <p:spPr>
          <a:xfrm>
            <a:off x="8317080" y="3394080"/>
            <a:ext cx="57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4"/>
          <p:cNvCxnSpPr/>
          <p:nvPr/>
        </p:nvCxnSpPr>
        <p:spPr>
          <a:xfrm>
            <a:off x="8316720" y="3211200"/>
            <a:ext cx="1080" cy="7340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7416720" y="2147760"/>
            <a:ext cx="1604880" cy="1025640"/>
          </a:xfrm>
          <a:prstGeom prst="rect">
            <a:avLst/>
          </a:prstGeom>
          <a:ln w="0">
            <a:noFill/>
          </a:ln>
        </p:spPr>
      </p:pic>
      <p:cxnSp>
        <p:nvCxnSpPr>
          <p:cNvPr id="183" name="Прямая со стрелкой 8"/>
          <p:cNvCxnSpPr>
            <a:stCxn id="179" idx="2"/>
          </p:cNvCxnSpPr>
          <p:nvPr/>
        </p:nvCxnSpPr>
        <p:spPr>
          <a:xfrm flipH="1">
            <a:off x="1009080" y="3255480"/>
            <a:ext cx="14760" cy="661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Text Box 38"/>
          <p:cNvSpPr/>
          <p:nvPr/>
        </p:nvSpPr>
        <p:spPr>
          <a:xfrm>
            <a:off x="3708360" y="32558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7383600" y="32702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755640" y="43974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муравья – 6 м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слона – 6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е плечо силы (слона) – 1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левое плечо си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0121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айте мне точку опоры, и я подниму Землю!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Архиме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                           (около 287 — 212 до н. э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664524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72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ревних времен для облегчения своего труда человек использует различные механизмы, которые способны преобразовывать силу человека в значительно большую силу. Еще три тысячи лет назад при строительстве пирамид в Древнем Египте тяжелые каменные плиты передвигали и поднимали с помощью простых механиз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572000" y="300024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G:\картинки к уроку\egyptian_pyramids.jpg"/>
          <p:cNvPicPr/>
          <p:nvPr/>
        </p:nvPicPr>
        <p:blipFill>
          <a:blip r:embed="rId3"/>
          <a:stretch/>
        </p:blipFill>
        <p:spPr>
          <a:xfrm>
            <a:off x="201600" y="3000240"/>
            <a:ext cx="4140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ставьте пропущенные слова: УС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ления, служащие для преобразования силы называют _____________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простым механизмам относятся:____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лучаев простые механизмы применяют для того, чтобы __________, т.е.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  <a:ea typeface="Arial"/>
              </a:rPr>
              <a:t>Простые механиз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пособления (устройства), служащие для преобразования си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1383840" y="621504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значение – получить выигрыш в си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5"/>
          <p:cNvGrpSpPr/>
          <p:nvPr/>
        </p:nvGrpSpPr>
        <p:grpSpPr>
          <a:xfrm>
            <a:off x="800280" y="1563840"/>
            <a:ext cx="7615080" cy="2957400"/>
            <a:chOff x="800280" y="1563840"/>
            <a:chExt cx="7615080" cy="2957400"/>
          </a:xfrm>
        </p:grpSpPr>
        <p:grpSp>
          <p:nvGrpSpPr>
            <p:cNvPr id="96" name="TextBox 6"/>
            <p:cNvGrpSpPr/>
            <p:nvPr/>
          </p:nvGrpSpPr>
          <p:grpSpPr>
            <a:xfrm>
              <a:off x="3260520" y="1563840"/>
              <a:ext cx="2496240" cy="1022760"/>
              <a:chOff x="3260520" y="1563840"/>
              <a:chExt cx="2496240" cy="1022760"/>
            </a:xfrm>
          </p:grpSpPr>
          <p:pic>
            <p:nvPicPr>
              <p:cNvPr id="97" name="TextBox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60520" y="1563840"/>
                <a:ext cx="2496240" cy="10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3318840" y="1633320"/>
                <a:ext cx="2376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простые механизм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TextBox 7"/>
            <p:cNvGrpSpPr/>
            <p:nvPr/>
          </p:nvGrpSpPr>
          <p:grpSpPr>
            <a:xfrm>
              <a:off x="1520280" y="2975760"/>
              <a:ext cx="2076120" cy="694800"/>
              <a:chOff x="1520280" y="2975760"/>
              <a:chExt cx="2076120" cy="694800"/>
            </a:xfrm>
          </p:grpSpPr>
          <p:pic>
            <p:nvPicPr>
              <p:cNvPr id="100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0280" y="2975760"/>
                <a:ext cx="20761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1578600" y="3047760"/>
                <a:ext cx="195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рыча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TextBox 8"/>
            <p:cNvGrpSpPr/>
            <p:nvPr/>
          </p:nvGrpSpPr>
          <p:grpSpPr>
            <a:xfrm>
              <a:off x="5433120" y="2942640"/>
              <a:ext cx="2526120" cy="867240"/>
              <a:chOff x="5433120" y="2942640"/>
              <a:chExt cx="2526120" cy="867240"/>
            </a:xfrm>
          </p:grpSpPr>
          <p:pic>
            <p:nvPicPr>
              <p:cNvPr id="103" name="TextBox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33120" y="2942640"/>
                <a:ext cx="2526120" cy="86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490000" y="2995200"/>
                <a:ext cx="2411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Calibri"/>
                  </a:rPr>
                  <a:t>наклонная плоско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TextBox 9"/>
            <p:cNvGrpSpPr/>
            <p:nvPr/>
          </p:nvGrpSpPr>
          <p:grpSpPr>
            <a:xfrm>
              <a:off x="800280" y="3771000"/>
              <a:ext cx="1620000" cy="689400"/>
              <a:chOff x="800280" y="3771000"/>
              <a:chExt cx="1620000" cy="689400"/>
            </a:xfrm>
          </p:grpSpPr>
          <p:pic>
            <p:nvPicPr>
              <p:cNvPr id="106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800280" y="3771000"/>
                <a:ext cx="1620000" cy="68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861480" y="3840480"/>
                <a:ext cx="149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бло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TextBox 10"/>
            <p:cNvGrpSpPr/>
            <p:nvPr/>
          </p:nvGrpSpPr>
          <p:grpSpPr>
            <a:xfrm>
              <a:off x="2624400" y="3771000"/>
              <a:ext cx="1620000" cy="689400"/>
              <a:chOff x="2624400" y="3771000"/>
              <a:chExt cx="1620000" cy="689400"/>
            </a:xfrm>
          </p:grpSpPr>
          <p:pic>
            <p:nvPicPr>
              <p:cNvPr id="109" name="TextBox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2624400" y="3771000"/>
                <a:ext cx="1620000" cy="68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686680" y="3840480"/>
                <a:ext cx="149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воро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TextBox 11"/>
            <p:cNvGrpSpPr/>
            <p:nvPr/>
          </p:nvGrpSpPr>
          <p:grpSpPr>
            <a:xfrm>
              <a:off x="5036760" y="3821040"/>
              <a:ext cx="1620000" cy="694800"/>
              <a:chOff x="5036760" y="3821040"/>
              <a:chExt cx="1620000" cy="694800"/>
            </a:xfrm>
          </p:grpSpPr>
          <p:pic>
            <p:nvPicPr>
              <p:cNvPr id="112" name="TextBox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5036760" y="3821040"/>
                <a:ext cx="162000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098680" y="3893400"/>
                <a:ext cx="149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кли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TextBox 12"/>
            <p:cNvGrpSpPr/>
            <p:nvPr/>
          </p:nvGrpSpPr>
          <p:grpSpPr>
            <a:xfrm>
              <a:off x="6735240" y="3826440"/>
              <a:ext cx="1680120" cy="694800"/>
              <a:chOff x="6735240" y="3826440"/>
              <a:chExt cx="1680120" cy="694800"/>
            </a:xfrm>
          </p:grpSpPr>
          <p:pic>
            <p:nvPicPr>
              <p:cNvPr id="115" name="TextBox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6735240" y="3826440"/>
                <a:ext cx="16801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793560" y="389772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Calibri"/>
                  </a:rPr>
                  <a:t>вин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Стрелка вниз 13"/>
            <p:cNvSpPr/>
            <p:nvPr/>
          </p:nvSpPr>
          <p:spPr>
            <a:xfrm rot="2823000">
              <a:off x="3234960" y="2284920"/>
              <a:ext cx="302400" cy="892080"/>
            </a:xfrm>
            <a:prstGeom prst="downArrow">
              <a:avLst>
                <a:gd name="adj1" fmla="val 50000"/>
                <a:gd name="adj2" fmla="val 6171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Стрелка вниз 14"/>
            <p:cNvSpPr/>
            <p:nvPr/>
          </p:nvSpPr>
          <p:spPr>
            <a:xfrm rot="18860400">
              <a:off x="5528160" y="2275560"/>
              <a:ext cx="300960" cy="892080"/>
            </a:xfrm>
            <a:prstGeom prst="downArrow">
              <a:avLst>
                <a:gd name="adj1" fmla="val 50000"/>
                <a:gd name="adj2" fmla="val 6171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Стрелка вниз 15"/>
            <p:cNvSpPr/>
            <p:nvPr/>
          </p:nvSpPr>
          <p:spPr>
            <a:xfrm>
              <a:off x="1708560" y="3470400"/>
              <a:ext cx="373320" cy="374760"/>
            </a:xfrm>
            <a:prstGeom prst="downArrow">
              <a:avLst>
                <a:gd name="adj1" fmla="val 50000"/>
                <a:gd name="adj2" fmla="val 405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Стрелка вниз 16"/>
            <p:cNvSpPr/>
            <p:nvPr/>
          </p:nvSpPr>
          <p:spPr>
            <a:xfrm>
              <a:off x="3013560" y="3470400"/>
              <a:ext cx="373320" cy="374760"/>
            </a:xfrm>
            <a:prstGeom prst="downArrow">
              <a:avLst>
                <a:gd name="adj1" fmla="val 50000"/>
                <a:gd name="adj2" fmla="val 405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Стрелка вниз 17"/>
            <p:cNvSpPr/>
            <p:nvPr/>
          </p:nvSpPr>
          <p:spPr>
            <a:xfrm>
              <a:off x="5685840" y="3524040"/>
              <a:ext cx="373320" cy="373320"/>
            </a:xfrm>
            <a:prstGeom prst="downArrow">
              <a:avLst>
                <a:gd name="adj1" fmla="val 50000"/>
                <a:gd name="adj2" fmla="val 405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Стрелка вниз 18"/>
            <p:cNvSpPr/>
            <p:nvPr/>
          </p:nvSpPr>
          <p:spPr>
            <a:xfrm>
              <a:off x="7250400" y="3524040"/>
              <a:ext cx="373320" cy="373320"/>
            </a:xfrm>
            <a:prstGeom prst="downArrow">
              <a:avLst>
                <a:gd name="adj1" fmla="val 50000"/>
                <a:gd name="adj2" fmla="val 405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5" descr=""/>
          <p:cNvPicPr/>
          <p:nvPr/>
        </p:nvPicPr>
        <p:blipFill>
          <a:blip r:embed="rId9"/>
          <a:stretch/>
        </p:blipFill>
        <p:spPr>
          <a:xfrm>
            <a:off x="941400" y="4581360"/>
            <a:ext cx="109548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0"/>
          <a:stretch/>
        </p:blipFill>
        <p:spPr>
          <a:xfrm>
            <a:off x="2930400" y="4581360"/>
            <a:ext cx="1036800" cy="141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11"/>
          <a:stretch/>
        </p:blipFill>
        <p:spPr>
          <a:xfrm>
            <a:off x="662040" y="1684440"/>
            <a:ext cx="1860480" cy="127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G:\картинки к уроку\накл.jpg"/>
          <p:cNvPicPr/>
          <p:nvPr/>
        </p:nvPicPr>
        <p:blipFill>
          <a:blip r:embed="rId12"/>
          <a:stretch/>
        </p:blipFill>
        <p:spPr>
          <a:xfrm>
            <a:off x="6454800" y="1616040"/>
            <a:ext cx="204768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5a-i1"/>
          <p:cNvPicPr/>
          <p:nvPr/>
        </p:nvPicPr>
        <p:blipFill>
          <a:blip r:embed="rId13"/>
          <a:stretch/>
        </p:blipFill>
        <p:spPr>
          <a:xfrm>
            <a:off x="4973760" y="4475160"/>
            <a:ext cx="1731960" cy="1730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15a-i4"/>
          <p:cNvPicPr/>
          <p:nvPr/>
        </p:nvPicPr>
        <p:blipFill>
          <a:blip r:embed="rId14"/>
          <a:stretch/>
        </p:blipFill>
        <p:spPr>
          <a:xfrm>
            <a:off x="6692760" y="4608360"/>
            <a:ext cx="246384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&amp;Icy;&amp;scy;&amp;pcy;&amp;ocy;&amp;lcy;&amp;softcy;&amp;zcy;&amp;ocy;&amp;vcy;&amp;acy;&amp;ncy;&amp;icy;&amp;iecy; &amp;rcy;&amp;ycy;&amp;chcy;&amp;acy;&amp;gcy;&amp;acy;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&amp;Bcy;&amp;lcy;&amp;ocy;&amp;k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&amp;Vcy;&amp;ocy;&amp;rcy;&amp;ocy;&amp;t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&amp;Ncy;&amp;acy;&amp;kcy;&amp;lcy;&amp;ocy;&amp;ncy;&amp;ncy;&amp;acy;&amp;yacy; &amp;pcy;&amp;lcy;&amp;ocy;&amp;scy;&amp;kcy;&amp;ocy;&amp;scy;&amp;tcy;&amp;softcy;"/>
          <p:cNvPicPr/>
          <p:nvPr/>
        </p:nvPicPr>
        <p:blipFill>
          <a:blip r:embed="rId1"/>
          <a:stretch/>
        </p:blipFill>
        <p:spPr>
          <a:xfrm>
            <a:off x="324000" y="33336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3:46:51Z</dcterms:created>
  <dc:creator>Елена</dc:creator>
  <dc:description/>
  <dc:language>en-US</dc:language>
  <cp:lastModifiedBy>чукча</cp:lastModifiedBy>
  <dcterms:modified xsi:type="dcterms:W3CDTF">2020-04-07T14:43:40Z</dcterms:modified>
  <cp:revision>105</cp:revision>
  <dc:subject/>
  <dc:title>Слайд 1</dc:title>
</cp:coreProperties>
</file>