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5AB-BD40-49B7-99ED-DF774ABF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B6E-9FB7-4FFE-9D94-46D7625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81A-00B3-4160-A5DB-03CF60E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D1C-FC2B-4795-A571-F7D967F6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6711-F461-4F96-923C-173B832F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000-CB52-44D7-825C-307867D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D55-134C-418E-A279-63E02BC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9939-07A8-48F7-8F0C-1D13538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76C-7B13-4145-9B80-5BB3AE9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1D0-F42E-403B-B674-964FD32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8B9-2D73-4DDA-9C82-0CF8C4A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C7E-0F2B-43BB-AC5E-FDDBA92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B12-5F74-492D-8C2F-C4F2EA8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355-1FD3-44FA-8865-BD09F96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B0C7-D552-45D4-9F39-674E795F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607A-3897-46DE-9E88-771B923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2D5-1EDD-4A23-A5D9-3AAF4F82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020-CC3C-4810-8E17-5C5E85D5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D1D-7B32-4268-806F-B70628B4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018-C338-4214-8FD6-E84D42E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A2E-2EE3-43F8-AE2C-60C0E887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A14-2DB0-4104-85DC-0A2DE20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B11-2A79-45A1-9C62-C87A384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07-18B5-4A02-B7EE-8C86BA5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6B4B-E9F3-4F4C-A7C0-1777323EAF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351-7942-4B05-A777-6CC928671B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Скругленный прямоугольник 1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, УМ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2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ULD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после котор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ыслов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 употребляется без частицы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ы которые не меняются по лицам и числ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907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Ольга</cp:lastModifiedBy>
  <dcterms:modified xsi:type="dcterms:W3CDTF">2020-04-13T19:08:20Z</dcterms:modified>
  <cp:revision>12</cp:revision>
  <dc:subject/>
  <dc:title>MODAL VERBS</dc:title>
</cp:coreProperties>
</file>