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002-A872-4CF1-91B7-CFFC77B0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4C34-CA87-4D3C-96AA-FC5938DE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6E10-03C8-4B81-9749-6BF0D06F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FD7-109A-433F-B25F-4F725B0C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603A-14CA-4552-9F32-9B0B9A34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9347-E022-4E67-B896-550ED5B6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58B2-EC14-42A8-8BD6-77A78737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CCC5-6890-4DF6-B0AD-491B92D0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EC6E-8DBC-414C-9482-205F9767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1671-D7C8-461E-B9CA-8634073D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67C8-C3DB-4D21-9697-8A8D6B10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C8F-0842-4FAC-A5D4-16A7C913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74BA-3253-4B56-93CD-69F58262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2042-3A67-4553-8066-D3444377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17BF-EAAC-4CF6-B203-C6D5D7FF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FFBA-8577-4B38-8C95-E78176C9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8C8C-61C4-47C7-8FE1-7F76D753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39F-7826-4D25-A74C-E161CFC2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DC0-D97C-49AC-A23E-00D2CA29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039-D214-4010-A7BB-8D6A141A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A8A0-DB4D-44CA-9B53-39D9796E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1F3-AD80-404C-A101-6BA3851E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7E3-D3D9-431D-AF0F-6BDBD61F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70F-7495-4EBF-9328-E2E07B04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0108-A2CD-46D8-A0A9-ED72596473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D045-890E-4A29-A1C5-3797E07966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2127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Garamond"/>
              </a:rPr>
              <a:t>MODAL VERB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85920" y="3142800"/>
            <a:ext cx="6400800" cy="221004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 rot="20301000">
            <a:off x="756000" y="1052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5"/>
          <p:cNvSpPr/>
          <p:nvPr/>
        </p:nvSpPr>
        <p:spPr>
          <a:xfrm rot="20443200">
            <a:off x="6109200" y="46414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U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43080" y="1214280"/>
            <a:ext cx="13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7"/>
          <p:cNvSpPr/>
          <p:nvPr/>
        </p:nvSpPr>
        <p:spPr>
          <a:xfrm rot="21391200">
            <a:off x="4013280" y="1123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143760" y="38577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9"/>
          <p:cNvSpPr/>
          <p:nvPr/>
        </p:nvSpPr>
        <p:spPr>
          <a:xfrm rot="20928600">
            <a:off x="1743120" y="4092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0"/>
          <p:cNvSpPr/>
          <p:nvPr/>
        </p:nvSpPr>
        <p:spPr>
          <a:xfrm rot="1352400">
            <a:off x="5998320" y="1432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1"/>
          <p:cNvSpPr/>
          <p:nvPr/>
        </p:nvSpPr>
        <p:spPr>
          <a:xfrm rot="21340800">
            <a:off x="3522600" y="34668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ULD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3017520" y="46432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ught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3857760" y="414324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Скругленный прямоугольник 1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МОДАЛЬНЫЕ ГЛАГОЛЫ -ЭТ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то глаголы, обозначающие не само действие, а отношение к нему говорящ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ULD-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Г, УМЕ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-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ЕДУ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6" descr="j0353654"/>
          <p:cNvPicPr/>
          <p:nvPr/>
        </p:nvPicPr>
        <p:blipFill>
          <a:blip r:embed="rId1"/>
          <a:stretch/>
        </p:blipFill>
        <p:spPr>
          <a:xfrm>
            <a:off x="539640" y="1484280"/>
            <a:ext cx="2021040" cy="1311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j0430792"/>
          <p:cNvPicPr/>
          <p:nvPr/>
        </p:nvPicPr>
        <p:blipFill>
          <a:blip r:embed="rId2"/>
          <a:stretch/>
        </p:blipFill>
        <p:spPr>
          <a:xfrm>
            <a:off x="324000" y="4508640"/>
            <a:ext cx="2160360" cy="2087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2627280" y="191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COULD SWIM WE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771640" y="5229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SHOULD KEEP F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МОДАЛЬНЫЕ ГЛАГОЛЫ -ЭТ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голы ,которые  не принимают окончание -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s,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es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 3-ем лице единственного числа 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Present Indefinit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голы ,после которых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ысловой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гол употребляется без частицы </a:t>
            </a:r>
            <a:r>
              <a:rPr b="1" lang="ru-RU" sz="2000" spc="-1" strike="noStrike">
                <a:solidFill>
                  <a:srgbClr val="660033"/>
                </a:solidFill>
                <a:latin typeface="Verdana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голы которые не меняются по лицам и числ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ни образуют вопросительную и отрицательную формы без вспомогательного глагол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Can / could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тот модальный глагол имеет две формы: can - для настоящего времени, could - для прошедшего. Употребляется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возможности или способности совершения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умения в прошл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разрешения совершить действ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запрет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вершить действ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0" y="836640"/>
            <a:ext cx="4038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y these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 speak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English well but s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't writ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it at al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Bill and Jenny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couldn't com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to the party last wee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w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m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?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Yes, you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can g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't speak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t the lesson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8" descr="unit025a"/>
          <p:cNvPicPr/>
          <p:nvPr/>
        </p:nvPicPr>
        <p:blipFill>
          <a:blip r:embed="rId1"/>
          <a:stretch/>
        </p:blipFill>
        <p:spPr>
          <a:xfrm>
            <a:off x="395280" y="1052640"/>
            <a:ext cx="8136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C A 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9640" y="907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альный 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аn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возможность или способность совершить действие. На русский язык обычно переводится словами </a:t>
            </a:r>
            <a:r>
              <a:rPr b="1" lang="ru-RU" sz="2800" spc="-1" strike="noStrike">
                <a:solidFill>
                  <a:srgbClr val="003399"/>
                </a:solidFill>
                <a:latin typeface="Verdana"/>
              </a:rPr>
              <a:t>могу, умею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В прошедшем неопределенном времени он имеет форму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coul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ет формы будущего неопределенног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l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потребляется также для выражения реальной или предполагаемой возмож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4d4d00"/>
                </a:solidFill>
                <a:latin typeface="Verdana"/>
              </a:rPr>
              <a:t>This work could be done at once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у работу можно было сделать сраз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HOULD/ SHOULDN’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отребляетс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ть со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оветовать, что не следует дел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разить совет мож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y don’t you…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think it’s a good id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don’t think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udy these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Tom should go to bed earli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,because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he's always tired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You work all the time. You shouldn't work so har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y don’t you go to bed earli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think it’s a good idea to se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don’t think it’s a good idea to  cross the street he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7" descr="unit028a"/>
          <p:cNvPicPr/>
          <p:nvPr/>
        </p:nvPicPr>
        <p:blipFill>
          <a:blip r:embed="rId1"/>
          <a:stretch/>
        </p:blipFill>
        <p:spPr>
          <a:xfrm>
            <a:off x="395280" y="1484280"/>
            <a:ext cx="4753080" cy="453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unit028b"/>
          <p:cNvPicPr/>
          <p:nvPr/>
        </p:nvPicPr>
        <p:blipFill>
          <a:blip r:embed="rId2"/>
          <a:stretch/>
        </p:blipFill>
        <p:spPr>
          <a:xfrm>
            <a:off x="5148360" y="1557360"/>
            <a:ext cx="35510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HOUL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shoul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совет, субъективную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необходимость совершения действ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На русский язык обычно переводится словами </a:t>
            </a:r>
            <a:r>
              <a:rPr b="1" lang="ru-RU" sz="2800" spc="-1" strike="noStrike">
                <a:solidFill>
                  <a:srgbClr val="737300"/>
                </a:solidFill>
                <a:latin typeface="Verdana"/>
              </a:rPr>
              <a:t>должен, следуе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Имеет только одну форму shou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9900"/>
                </a:solidFill>
                <a:latin typeface="Verdana"/>
              </a:rPr>
              <a:t>The instructions should be written in clear language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нужно писать (должны писать) ясным язы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5:21:11Z</dcterms:created>
  <dc:creator>Владимир</dc:creator>
  <dc:description/>
  <dc:language>en-US</dc:language>
  <cp:lastModifiedBy>Ольга</cp:lastModifiedBy>
  <dcterms:modified xsi:type="dcterms:W3CDTF">2020-04-13T19:08:20Z</dcterms:modified>
  <cp:revision>12</cp:revision>
  <dc:subject/>
  <dc:title>MODAL VERBS</dc:title>
</cp:coreProperties>
</file>