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DA10-FFE9-4E6D-BA1C-7295273D8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3B68-8C66-43A2-8DDE-DF037067C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3A93-01A5-4666-9508-0292F4216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6790-299F-49A2-98A1-5C4980F24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4EDE-33BF-42A2-83FA-E63CDA8D7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5A4E-0830-4AD9-8F3C-16FDC8C86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2CD8-5C60-465E-AEF5-799F95344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0291-B889-4A6B-ADF8-4FB16C20F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8D3E-0477-4488-8CD1-987BBE7DA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260D-9EAD-4888-978D-B57CAB9FE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C65B-92A9-4ED6-A4EA-B99FACCEB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9D81-84A5-4CF5-BDFA-C077B6ED0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9CDC-6666-408D-900A-402571249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AD4D-8288-45C0-BA8B-99E1DCE6A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8A8F-6985-4622-9118-2F1A033FF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D9C7-9C3C-4C23-94D4-8405A0803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B4C4-98C5-4DB5-A2C3-9BBC9179B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736F-36DA-4A4D-9F58-5397593D2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445-E72F-47D6-8F23-B2E77E311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0EDE-FA75-4260-8F4B-B823D031A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615-9700-4019-BEEF-42F5B306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D44-5A4B-4CFF-A207-959425F8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965-8BE2-4773-8EDC-3CCF5BEE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5B1-1077-4105-A2CD-AF265C68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5F9-7B71-4A59-8831-CD573297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C9A-3FD0-4F61-996A-D310804E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6AA-CF62-419F-AFE9-3F5ABD6A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0DA-5BBD-4A30-8151-ADB812C3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720-8CDB-4D64-85B8-4265C70F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431-2BE4-42BE-BC7A-88A9F618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568-7BEB-49EB-94E9-AAB6A0A1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16B-CBA8-44E4-9550-D6D3DD20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2CD3-8897-4962-AF4B-C2AD5709A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ckey-mouse-and-his-magic-bru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09480" y="22860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Gretoon Highlight"/>
              </a:rPr>
              <a:t>Magic</a:t>
            </a:r>
            <a:r>
              <a:rPr b="0" lang="en-US" sz="9600" spc="-1" strike="noStrike">
                <a:solidFill>
                  <a:srgbClr val="ffff00"/>
                </a:solidFill>
                <a:latin typeface="Gretoon Highligh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Gretoon Highligh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743200" y="2514600"/>
            <a:ext cx="4343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mickey-mouse-and-his-magic-brush.jpg">
            <a:hlinkClick r:id="rId1" action="ppaction://hlinksldjump"/>
          </p:cNvPr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Straight Connector 4" descr=""/>
          <p:cNvPicPr/>
          <p:nvPr/>
        </p:nvPicPr>
        <p:blipFill>
          <a:blip r:embed="rId3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>
            <a:hlinkClick r:id="rId4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>
            <a:hlinkClick r:id="rId5" action="ppaction://hlinksldjump"/>
          </p:cNvPr>
          <p:cNvSpPr/>
          <p:nvPr/>
        </p:nvSpPr>
        <p:spPr>
          <a:xfrm>
            <a:off x="487692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p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8">
            <a:hlinkClick r:id="rId4" action="ppaction://hlinksldjump"/>
          </p:cNvPr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209680" y="762120"/>
            <a:ext cx="472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ta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8">
            <a:hlinkClick r:id="rId4" action="ppaction://hlinksldjump"/>
          </p:cNvPr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tap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">
            <a:hlinkClick r:id="rId4" action="ppaction://hlinksldjump"/>
          </p:cNvPr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p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p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ma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m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w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w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0" y="274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kbar"/>
              </a:rPr>
              <a:t>Last one! Almost ther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"/>
          <p:cNvSpPr/>
          <p:nvPr/>
        </p:nvSpPr>
        <p:spPr>
          <a:xfrm>
            <a:off x="0" y="380880"/>
            <a:ext cx="914400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ff00"/>
                </a:solidFill>
                <a:latin typeface="Chiller"/>
              </a:rPr>
              <a:t>Well done! You made it!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ounded Rectangle 2"/>
          <p:cNvSpPr/>
          <p:nvPr/>
        </p:nvSpPr>
        <p:spPr>
          <a:xfrm>
            <a:off x="228600" y="228600"/>
            <a:ext cx="8686800" cy="6324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52280" y="2819520"/>
            <a:ext cx="8991720" cy="427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ry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ain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&quot;No&quot; Symbol 4"/>
          <p:cNvSpPr/>
          <p:nvPr/>
        </p:nvSpPr>
        <p:spPr>
          <a:xfrm>
            <a:off x="3048120" y="304920"/>
            <a:ext cx="3352680" cy="3352680"/>
          </a:xfrm>
          <a:custGeom>
            <a:avLst/>
            <a:gdLst>
              <a:gd name="textAreaLeft" fmla="*/ 491040 w 3352680"/>
              <a:gd name="textAreaRight" fmla="*/ 2861640 w 3352680"/>
              <a:gd name="textAreaTop" fmla="*/ 491040 h 3352680"/>
              <a:gd name="textAreaBottom" fmla="*/ 2861640 h 3352680"/>
            </a:gdLst>
            <a:ahLst/>
            <a:rect l="textAreaLeft" t="textAreaTop" r="textAreaRight" b="textAreaBottom"/>
            <a:pathLst>
              <a:path w="3352800" h="3352800">
                <a:moveTo>
                  <a:pt x="0" y="1676400"/>
                </a:moveTo>
                <a:lnTo>
                  <a:pt x="0" y="1676400"/>
                </a:lnTo>
                <a:arcTo wR="1676400" hR="1676400" stAng="-10799996" swAng="5400002"/>
                <a:lnTo>
                  <a:pt x="1676403" y="2"/>
                </a:lnTo>
                <a:arcTo wR="1676400" hR="1676400" stAng="-5399996" swAng="5400002"/>
                <a:lnTo>
                  <a:pt x="3352801" y="1676405"/>
                </a:lnTo>
                <a:arcTo wR="1676400" hR="1676400" stAng="0" swAng="5400002"/>
                <a:lnTo>
                  <a:pt x="1676400" y="3352805"/>
                </a:lnTo>
                <a:arcTo wR="1676400" hR="1676400" stAng="5400002" swAng="5400002"/>
                <a:close/>
                <a:moveTo>
                  <a:pt x="2598914" y="2173138"/>
                </a:moveTo>
                <a:lnTo>
                  <a:pt x="2598914" y="2173138"/>
                </a:lnTo>
                <a:arcTo wR="1047750" hR="1047750" stAng="1698044" swAng="-8796093"/>
                <a:close/>
                <a:moveTo>
                  <a:pt x="753886" y="1179662"/>
                </a:moveTo>
                <a:lnTo>
                  <a:pt x="753886" y="1179662"/>
                </a:lnTo>
                <a:arcTo wR="1047750" hR="1047750" stAng="-9101958" swAng="-8796095"/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762120" y="5791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A A A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cap.jpg"/>
          <p:cNvPicPr/>
          <p:nvPr/>
        </p:nvPicPr>
        <p:blipFill>
          <a:blip r:embed="rId2"/>
          <a:stretch/>
        </p:blipFill>
        <p:spPr>
          <a:xfrm>
            <a:off x="228600" y="838080"/>
            <a:ext cx="2486160" cy="1838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5"/>
          <p:cNvSpPr/>
          <p:nvPr/>
        </p:nvSpPr>
        <p:spPr>
          <a:xfrm>
            <a:off x="6858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9" descr="mickey mouse fantasia.jpg"/>
          <p:cNvPicPr/>
          <p:nvPr/>
        </p:nvPicPr>
        <p:blipFill>
          <a:blip r:embed="rId3"/>
          <a:stretch/>
        </p:blipFill>
        <p:spPr>
          <a:xfrm>
            <a:off x="0" y="91440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A A A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6858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6" descr="tap.jpg"/>
          <p:cNvPicPr/>
          <p:nvPr/>
        </p:nvPicPr>
        <p:blipFill>
          <a:blip r:embed="rId2"/>
          <a:stretch/>
        </p:blipFill>
        <p:spPr>
          <a:xfrm>
            <a:off x="533520" y="838080"/>
            <a:ext cx="3276360" cy="360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tape.jpg"/>
          <p:cNvPicPr/>
          <p:nvPr/>
        </p:nvPicPr>
        <p:blipFill>
          <a:blip r:embed="rId3"/>
          <a:stretch/>
        </p:blipFill>
        <p:spPr>
          <a:xfrm>
            <a:off x="228600" y="685800"/>
            <a:ext cx="4290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9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E E E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609588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4" descr="pet.jpg"/>
          <p:cNvPicPr/>
          <p:nvPr/>
        </p:nvPicPr>
        <p:blipFill>
          <a:blip r:embed="rId2"/>
          <a:stretch/>
        </p:blipFill>
        <p:spPr>
          <a:xfrm>
            <a:off x="0" y="762120"/>
            <a:ext cx="3583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6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I I I 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718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4008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kit.jpg"/>
          <p:cNvPicPr/>
          <p:nvPr/>
        </p:nvPicPr>
        <p:blipFill>
          <a:blip r:embed="rId2"/>
          <a:stretch/>
        </p:blipFill>
        <p:spPr>
          <a:xfrm>
            <a:off x="0" y="685800"/>
            <a:ext cx="3079800" cy="232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kite.jpg"/>
          <p:cNvPicPr/>
          <p:nvPr/>
        </p:nvPicPr>
        <p:blipFill>
          <a:blip r:embed="rId3"/>
          <a:stretch/>
        </p:blipFill>
        <p:spPr>
          <a:xfrm>
            <a:off x="1219320" y="685800"/>
            <a:ext cx="26668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6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O O O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266688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8769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4008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own Arrow 17"/>
          <p:cNvSpPr/>
          <p:nvPr/>
        </p:nvSpPr>
        <p:spPr>
          <a:xfrm>
            <a:off x="32004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4" descr="not.jpg"/>
          <p:cNvPicPr/>
          <p:nvPr/>
        </p:nvPicPr>
        <p:blipFill>
          <a:blip r:embed="rId2"/>
          <a:stretch/>
        </p:blipFill>
        <p:spPr>
          <a:xfrm>
            <a:off x="0" y="8380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note.jpg"/>
          <p:cNvPicPr/>
          <p:nvPr/>
        </p:nvPicPr>
        <p:blipFill>
          <a:blip r:embed="rId3"/>
          <a:stretch/>
        </p:blipFill>
        <p:spPr>
          <a:xfrm>
            <a:off x="0" y="6094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U U U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6858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4" descr="tub.jpg"/>
          <p:cNvPicPr/>
          <p:nvPr/>
        </p:nvPicPr>
        <p:blipFill>
          <a:blip r:embed="rId2"/>
          <a:stretch/>
        </p:blipFill>
        <p:spPr>
          <a:xfrm>
            <a:off x="304920" y="838080"/>
            <a:ext cx="4038480" cy="2517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tube.jpg"/>
          <p:cNvPicPr/>
          <p:nvPr/>
        </p:nvPicPr>
        <p:blipFill>
          <a:blip r:embed="rId3"/>
          <a:stretch/>
        </p:blipFill>
        <p:spPr>
          <a:xfrm>
            <a:off x="228600" y="3049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1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62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Super_39_e_39_hip_children_39_s_song_by_Mark_D (1).wmv" descr=""/>
          <p:cNvPicPr/>
          <p:nvPr/>
        </p:nvPicPr>
        <p:blipFill>
          <a:blip r:embed="rId2"/>
          <a:stretch/>
        </p:blipFill>
        <p:spPr>
          <a:xfrm>
            <a:off x="2747880" y="1714680"/>
            <a:ext cx="3648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1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hiller"/>
              </a:rPr>
              <a:t>Find your way to the haunted hous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-228600" y="3429000"/>
            <a:ext cx="9677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Listen to the teacher. Which word do they say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23:56:41Z</dcterms:created>
  <dc:creator>simon whalley</dc:creator>
  <dc:description/>
  <dc:language>en-US</dc:language>
  <cp:lastModifiedBy>simon whalley</cp:lastModifiedBy>
  <dcterms:modified xsi:type="dcterms:W3CDTF">2013-03-18T00:06:52Z</dcterms:modified>
  <cp:revision>1</cp:revision>
  <dc:subject/>
  <dc:title>Slide 1</dc:title>
</cp:coreProperties>
</file>