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4A8C-59F8-4626-A11E-9A07737BF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9C3-3E13-47A5-85F2-3FCFF7EC4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D49-7B71-41D7-9DFA-19A615987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9E7F-4EEC-4FE6-AC5C-70AA75F45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C13-BCAD-49B7-888E-C259DE5B6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B165-019B-441E-9373-943C91C65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AFE-D2FD-4DEC-AE3C-692211A64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463-F9F7-41D3-B8D8-639191AEA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02E8-8CC2-4DA5-B7EC-0ADD512A3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AF13-76F1-4E7A-9F6C-D7E86239E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09FE-8D08-494C-9C76-723811158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6A5A-7886-485E-87ED-AB5283F08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BF90-FDAA-4613-B913-4BA6B8C9C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2551-C7FC-4C46-A52B-2298A8241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1360-7222-4885-A7BC-7246FB6A8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167-D40C-463E-912C-3953593BA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715-0821-4D81-81FD-D186D4E85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7B5D-C142-4598-9F52-FE050121C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5EDE-A157-4966-B805-82EA5F49F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B93-9844-467B-9AA4-E76E61756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219-7512-44B0-9EE6-18FEF790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120-5965-4672-9058-094F4B3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526-B7A6-4D3D-8D7E-D590DC0C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4FE-8428-471C-81C8-AFD2E90A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4CE-AA58-42FD-99A0-8D93964C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A79-DFC4-4071-959E-F7AD43DD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F94-3D37-4E51-A24D-90653741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D97-591A-41C3-AE58-CE44931C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30D-110D-47EB-A78C-71B6286A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8C0-9824-42BF-A3A1-6C39D322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DCA-582C-46E1-B431-7B8BCED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C5C-181E-4F4C-A8C3-87569F08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DEA2-3C2E-4A2C-B581-2FDF953EC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ckey-mouse-and-his-magic-bru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09480" y="22860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Magic</a:t>
            </a: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743200" y="2514600"/>
            <a:ext cx="4343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mickey-mouse-and-his-magic-brush.jpg">
            <a:hlinkClick r:id="rId1" action="ppaction://hlinksldjump"/>
          </p:cNvPr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Straight Connector 4" descr=""/>
          <p:cNvPicPr/>
          <p:nvPr/>
        </p:nvPicPr>
        <p:blipFill>
          <a:blip r:embed="rId3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>
            <a:hlinkClick r:id="rId4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>
            <a:hlinkClick r:id="rId5" action="ppaction://hlinksldjump"/>
          </p:cNvPr>
          <p:cNvSpPr/>
          <p:nvPr/>
        </p:nvSpPr>
        <p:spPr>
          <a:xfrm>
            <a:off x="487692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p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209680" y="762120"/>
            <a:ext cx="472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ta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tap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p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p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m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m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w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w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0" y="274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kbar"/>
              </a:rPr>
              <a:t>Last one! Almost ther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"/>
          <p:cNvSpPr/>
          <p:nvPr/>
        </p:nvSpPr>
        <p:spPr>
          <a:xfrm>
            <a:off x="0" y="380880"/>
            <a:ext cx="91440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ff00"/>
                </a:solidFill>
                <a:latin typeface="Chiller"/>
              </a:rPr>
              <a:t>Well done! You made it!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ounded Rectangle 2"/>
          <p:cNvSpPr/>
          <p:nvPr/>
        </p:nvSpPr>
        <p:spPr>
          <a:xfrm>
            <a:off x="228600" y="228600"/>
            <a:ext cx="8686800" cy="6324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52280" y="2819520"/>
            <a:ext cx="8991720" cy="427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&quot;No&quot; Symbol 4"/>
          <p:cNvSpPr/>
          <p:nvPr/>
        </p:nvSpPr>
        <p:spPr>
          <a:xfrm>
            <a:off x="3048120" y="304920"/>
            <a:ext cx="3352680" cy="3352680"/>
          </a:xfrm>
          <a:custGeom>
            <a:avLst/>
            <a:gdLst>
              <a:gd name="textAreaLeft" fmla="*/ 491040 w 3352680"/>
              <a:gd name="textAreaRight" fmla="*/ 2861640 w 3352680"/>
              <a:gd name="textAreaTop" fmla="*/ 491040 h 3352680"/>
              <a:gd name="textAreaBottom" fmla="*/ 2861640 h 3352680"/>
            </a:gdLst>
            <a:ahLst/>
            <a:rect l="textAreaLeft" t="textAreaTop" r="textAreaRight" b="textAreaBottom"/>
            <a:pathLst>
              <a:path w="3352800" h="3352800">
                <a:moveTo>
                  <a:pt x="0" y="1676400"/>
                </a:moveTo>
                <a:lnTo>
                  <a:pt x="0" y="1676400"/>
                </a:lnTo>
                <a:arcTo wR="1676400" hR="1676400" stAng="-10799996" swAng="5400002"/>
                <a:lnTo>
                  <a:pt x="1676403" y="2"/>
                </a:lnTo>
                <a:arcTo wR="1676400" hR="1676400" stAng="-5399996" swAng="5400002"/>
                <a:lnTo>
                  <a:pt x="3352801" y="1676405"/>
                </a:lnTo>
                <a:arcTo wR="1676400" hR="1676400" stAng="0" swAng="5400002"/>
                <a:lnTo>
                  <a:pt x="1676400" y="3352805"/>
                </a:lnTo>
                <a:arcTo wR="1676400" hR="1676400" stAng="5400002" swAng="5400002"/>
                <a:close/>
                <a:moveTo>
                  <a:pt x="2598914" y="2173138"/>
                </a:moveTo>
                <a:lnTo>
                  <a:pt x="2598914" y="2173138"/>
                </a:lnTo>
                <a:arcTo wR="1047750" hR="1047750" stAng="1698044" swAng="-8796093"/>
                <a:close/>
                <a:moveTo>
                  <a:pt x="753886" y="1179662"/>
                </a:moveTo>
                <a:lnTo>
                  <a:pt x="753886" y="1179662"/>
                </a:lnTo>
                <a:arcTo wR="1047750" hR="1047750" stAng="-9101958" swAng="-8796095"/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762120" y="5791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A A A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cap.jpg"/>
          <p:cNvPicPr/>
          <p:nvPr/>
        </p:nvPicPr>
        <p:blipFill>
          <a:blip r:embed="rId2"/>
          <a:stretch/>
        </p:blipFill>
        <p:spPr>
          <a:xfrm>
            <a:off x="228600" y="838080"/>
            <a:ext cx="2486160" cy="1838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9" descr="mickey mouse fantasia.jpg"/>
          <p:cNvPicPr/>
          <p:nvPr/>
        </p:nvPicPr>
        <p:blipFill>
          <a:blip r:embed="rId3"/>
          <a:stretch/>
        </p:blipFill>
        <p:spPr>
          <a:xfrm>
            <a:off x="0" y="91440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A A A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6" descr="tap.jpg"/>
          <p:cNvPicPr/>
          <p:nvPr/>
        </p:nvPicPr>
        <p:blipFill>
          <a:blip r:embed="rId2"/>
          <a:stretch/>
        </p:blipFill>
        <p:spPr>
          <a:xfrm>
            <a:off x="533520" y="838080"/>
            <a:ext cx="3276360" cy="360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tape.jpg"/>
          <p:cNvPicPr/>
          <p:nvPr/>
        </p:nvPicPr>
        <p:blipFill>
          <a:blip r:embed="rId3"/>
          <a:stretch/>
        </p:blipFill>
        <p:spPr>
          <a:xfrm>
            <a:off x="228600" y="685800"/>
            <a:ext cx="4290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E E E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09588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4" descr="pet.jpg"/>
          <p:cNvPicPr/>
          <p:nvPr/>
        </p:nvPicPr>
        <p:blipFill>
          <a:blip r:embed="rId2"/>
          <a:stretch/>
        </p:blipFill>
        <p:spPr>
          <a:xfrm>
            <a:off x="0" y="762120"/>
            <a:ext cx="358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6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I I I 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71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400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kit.jpg"/>
          <p:cNvPicPr/>
          <p:nvPr/>
        </p:nvPicPr>
        <p:blipFill>
          <a:blip r:embed="rId2"/>
          <a:stretch/>
        </p:blipFill>
        <p:spPr>
          <a:xfrm>
            <a:off x="0" y="685800"/>
            <a:ext cx="3079800" cy="232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kite.jpg"/>
          <p:cNvPicPr/>
          <p:nvPr/>
        </p:nvPicPr>
        <p:blipFill>
          <a:blip r:embed="rId3"/>
          <a:stretch/>
        </p:blipFill>
        <p:spPr>
          <a:xfrm>
            <a:off x="1219320" y="685800"/>
            <a:ext cx="26668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6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O O O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266688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8769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00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own Arrow 17"/>
          <p:cNvSpPr/>
          <p:nvPr/>
        </p:nvSpPr>
        <p:spPr>
          <a:xfrm>
            <a:off x="32004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4" descr="not.jpg"/>
          <p:cNvPicPr/>
          <p:nvPr/>
        </p:nvPicPr>
        <p:blipFill>
          <a:blip r:embed="rId2"/>
          <a:stretch/>
        </p:blipFill>
        <p:spPr>
          <a:xfrm>
            <a:off x="0" y="8380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note.jpg"/>
          <p:cNvPicPr/>
          <p:nvPr/>
        </p:nvPicPr>
        <p:blipFill>
          <a:blip r:embed="rId3"/>
          <a:stretch/>
        </p:blipFill>
        <p:spPr>
          <a:xfrm>
            <a:off x="0" y="6094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U U U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4" descr="tub.jpg"/>
          <p:cNvPicPr/>
          <p:nvPr/>
        </p:nvPicPr>
        <p:blipFill>
          <a:blip r:embed="rId2"/>
          <a:stretch/>
        </p:blipFill>
        <p:spPr>
          <a:xfrm>
            <a:off x="304920" y="838080"/>
            <a:ext cx="4038480" cy="2517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tube.jpg"/>
          <p:cNvPicPr/>
          <p:nvPr/>
        </p:nvPicPr>
        <p:blipFill>
          <a:blip r:embed="rId3"/>
          <a:stretch/>
        </p:blipFill>
        <p:spPr>
          <a:xfrm>
            <a:off x="228600" y="3049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2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Super_39_e_39_hip_children_39_s_song_by_Mark_D (1).wmv" descr=""/>
          <p:cNvPicPr/>
          <p:nvPr/>
        </p:nvPicPr>
        <p:blipFill>
          <a:blip r:embed="rId2"/>
          <a:stretch/>
        </p:blipFill>
        <p:spPr>
          <a:xfrm>
            <a:off x="2747880" y="1714680"/>
            <a:ext cx="3648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hiller"/>
              </a:rPr>
              <a:t>Find your way to the haunted hous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-228600" y="3429000"/>
            <a:ext cx="9677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Listen to the teacher. Which word do they say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23:56:41Z</dcterms:created>
  <dc:creator>simon whalley</dc:creator>
  <dc:description/>
  <dc:language>en-US</dc:language>
  <cp:lastModifiedBy>simon whalley</cp:lastModifiedBy>
  <dcterms:modified xsi:type="dcterms:W3CDTF">2013-03-18T00:06:52Z</dcterms:modified>
  <cp:revision>1</cp:revision>
  <dc:subject/>
  <dc:title>Slide 1</dc:title>
</cp:coreProperties>
</file>