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13.gif" ContentType="image/gif"/>
  <Override PartName="/ppt/media/image5.jpeg" ContentType="image/jpeg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56C0-5F0F-4CAE-B04B-82A4155BE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061B-BFB7-437D-BA6D-F6F9E85D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9048-9977-403F-B80B-E91FD3A1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B0BE-4496-4141-8396-3F956E439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447D-4558-4216-8F99-5D908666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6159-9946-45B3-8A8A-D9706C5F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3E58-0432-4EE0-BCFD-7D00AFD8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2322-197D-4A52-B37E-DFFA0A77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FF5E-19B5-4259-826E-BB024E6B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F9FE-7276-4127-A597-5AB892E8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5AAE-2BBE-437F-B9F5-B45265D4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407C-E239-4858-9140-2A40E747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5D61-8BA7-4BF6-BADC-A5729B9B43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2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1685880" y="404640"/>
            <a:ext cx="5772240" cy="3286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7"/>
              </a:avLst>
            </a:prstTxWarp>
            <a:noAutofit/>
          </a:bodyPr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реко-римская  борьба    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539640" y="2205000"/>
            <a:ext cx="828036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66"/>
              </a:avLst>
            </a:prstTxWarp>
            <a:noAutofit/>
          </a:bodyPr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Борьба  не  только  рук  сплетенье,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Борьба - Себя  преодоленье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Каким ты был вчера, каким ты станешь завтра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Победам в спорте нет конца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Как нет без злости без азарта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Настоящего борца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pe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ный п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ъём г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т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й н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иц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— у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ки би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 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у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 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т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й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ём-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x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Documents and Settings\Admin\Рабочий стол\gantelistoja.gif"/>
          <p:cNvPicPr/>
          <p:nvPr/>
        </p:nvPicPr>
        <p:blipFill>
          <a:blip r:embed="rId1"/>
          <a:stretch/>
        </p:blipFill>
        <p:spPr>
          <a:xfrm>
            <a:off x="214200" y="1500120"/>
            <a:ext cx="414360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дновременный п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ъём г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т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й н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иц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н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в 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, 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ыв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Documents and Settings\Admin\Рабочий стол\molotki.gif"/>
          <p:cNvPicPr/>
          <p:nvPr/>
        </p:nvPicPr>
        <p:blipFill>
          <a:blip r:embed="rId1"/>
          <a:stretch/>
        </p:blipFill>
        <p:spPr>
          <a:xfrm>
            <a:off x="0" y="1143000"/>
            <a:ext cx="47862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гиб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и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 p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к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т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ью из-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ы (французский жим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лич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. 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ы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нять у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я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ну 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Documents and Settings\Admin\Рабочий стол\gantelizagal.gif"/>
          <p:cNvPicPr/>
          <p:nvPr/>
        </p:nvPicPr>
        <p:blipFill>
          <a:blip r:embed="rId1"/>
          <a:stretch/>
        </p:blipFill>
        <p:spPr>
          <a:xfrm>
            <a:off x="0" y="857160"/>
            <a:ext cx="46432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ван Поддубный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–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чемпион чемпионо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88000" y="765000"/>
            <a:ext cx="41767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усский атлет и борец Иван Поддубный родился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ктября 1871 г. в крестьянской семье городе Ей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тавропольского края. В 22 года он устроился груз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иком в Севастопольском порту. В это время ход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цирк посмотреть поединки борцов и пробует сво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илы на арене одерживая первые свои побе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1987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. его берут в труппу цирковых борцов.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1903 г. получает приглашение от председателя П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ербурского атлетического общества и начина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пециализироваться во французской (греко-римск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орьбе, с этого момента он не знает себе равных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держивая одну победу за другой, став пятикратн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мпионом мира.  В 1904 г. принял участие в конкур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илачей, где поднял на бицепс штангу весом 120 к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1925 г. Поддубный отправился в Америку для уч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тия в соревнованиях борцов. Где он произвёл фурор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ыл провозглашён «Чемпионом Америки», его угов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ивали остаться. Но он был патриотом своей Род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ы и в 1927 г. возвращается, оставив на счету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анке Америки около миллиона долларов. Поддуб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должает выступать до 1941 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мер Иван Поддубный 8 августа 1949 г. На род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оддубного установлен мраморный бюст «Чемпио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мпионов». На памятнике золотыми буквами выс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но: «Здесь русский богатырь лежит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175450_i_0"/>
          <p:cNvPicPr/>
          <p:nvPr/>
        </p:nvPicPr>
        <p:blipFill>
          <a:blip r:embed="rId2"/>
          <a:stretch/>
        </p:blipFill>
        <p:spPr>
          <a:xfrm>
            <a:off x="0" y="549360"/>
            <a:ext cx="474804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-31680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88000" y="0"/>
            <a:ext cx="4356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арелин Александр Александрович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19.09.6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Заслуженный мастер спорта (1988). Выступал в весовой категории до 130 кг. Трёхкратный олимпийский чемпион (1988, 1992 ,1996), десятикратный чемпион мира, абсолютный чемпион мира, двенадцатикратный чемпион Европы, тринадцатикратный чемпион России. Серебряный призёр Игр 27 Олимпиады в Сиднее (2000). Международной федерацией любительской борьбы (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ILA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) назван величайшим борцом греко-римского стиля 20 века. В 1996 году присвоено звание Героя России. Награждён орденами  «Знак Почёта» , «Дружбы народов», Серебряным Олимпийским орденом МОК (2001), «Золотая ветвь»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ILA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(2002). Член Исполкома Олимпийского комитета России. Член Высшего совета Всероссийского добровольного общества  «Спортивная Россия». Депутат Государственной Думы Федерального Собрания РФ; заместитель председателя Комитета ГД по международным дел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Член Совета при Президенте РФ по физической культуре и спор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4" descr="f_14_0"/>
          <p:cNvPicPr/>
          <p:nvPr/>
        </p:nvPicPr>
        <p:blipFill>
          <a:blip r:embed="rId1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WordArt 15"/>
          <p:cNvSpPr txBox="1"/>
          <p:nvPr/>
        </p:nvSpPr>
        <p:spPr>
          <a:xfrm>
            <a:off x="684360" y="4869000"/>
            <a:ext cx="3456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ЧЕМПИОН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52" name="WordArt 16"/>
          <p:cNvSpPr txBox="1"/>
          <p:nvPr/>
        </p:nvSpPr>
        <p:spPr>
          <a:xfrm>
            <a:off x="971640" y="6014880"/>
            <a:ext cx="3057480" cy="843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5"/>
              </a:avLst>
            </a:prstTxWarp>
            <a:noAutofit/>
          </a:bodyPr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ЕМПИОНОВ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advTm="3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м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e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и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 co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в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ным в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co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 и гантелями н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бботу (18 апреля 2020 го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357120" y="2143080"/>
            <a:ext cx="8572680" cy="36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ги/п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ecc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ин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/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иц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/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иц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минка 10-15 мину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 – З 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12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я б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 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ли 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я 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й 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 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 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и) — 4 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12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й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ы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ы — 4 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дую 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у 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12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ъём 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 в в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 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 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8-15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ъём туловища со с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ем — З 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ль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ж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я мышц 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c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 в 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 — 5-6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10-12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p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ный 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ъём 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й 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иц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— З-4 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8-12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новременный подъем гантелей на бицепс - З 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8-10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гиб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 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к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ью из-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 (французский жим) — З 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10-12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– 4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у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пражнения на растя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e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ия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 co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в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ным в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co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вуют мышцы 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 и я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ц. Для утя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я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ьзуй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н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cp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к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или буты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й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 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c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я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, 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ь 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й 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ocuments and Settings\Admin\Рабочий стол\prisedanija.gif"/>
          <p:cNvPicPr/>
          <p:nvPr/>
        </p:nvPicPr>
        <p:blipFill>
          <a:blip r:embed="rId1"/>
          <a:stretch/>
        </p:blipFill>
        <p:spPr>
          <a:xfrm>
            <a:off x="642960" y="1500120"/>
            <a:ext cx="371952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ып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щё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ки 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ы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няя вы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ы, г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ь 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дикул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у. У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в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 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шцы 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: к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ы, я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цы и би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ы 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Documents and Settings\Admin\Рабочий стол\vipadi.gif"/>
          <p:cNvPicPr/>
          <p:nvPr/>
        </p:nvPicPr>
        <p:blipFill>
          <a:blip r:embed="rId1"/>
          <a:stretch/>
        </p:blipFill>
        <p:spPr>
          <a:xfrm>
            <a:off x="219240" y="1214280"/>
            <a:ext cx="428616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няти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 в ви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 мышцы 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cca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уч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г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й. Львиную 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 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зки 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 низ 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c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Documents and Settings\Admin\Рабочий стол\podemnog.gif"/>
          <p:cNvPicPr/>
          <p:nvPr/>
        </p:nvPicPr>
        <p:blipFill>
          <a:blip r:embed="rId1"/>
          <a:stretch/>
        </p:blipFill>
        <p:spPr>
          <a:xfrm>
            <a:off x="714240" y="1500120"/>
            <a:ext cx="40770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дъём туловища со ск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чив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ием вп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pe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ки мышц 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cca. B o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 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зку 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у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 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яя 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ь жи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ня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я 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ы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ь 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ц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 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Documents and Settings\Admin\Рабочий стол\ituierty29t2.gif"/>
          <p:cNvPicPr/>
          <p:nvPr/>
        </p:nvPicPr>
        <p:blipFill>
          <a:blip r:embed="rId1"/>
          <a:stretch/>
        </p:blipFill>
        <p:spPr>
          <a:xfrm>
            <a:off x="142920" y="1000080"/>
            <a:ext cx="436248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яг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т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 в н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л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лич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 мышц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ны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ы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нять нуж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й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ну 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м и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ь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p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й, 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Documents and Settings\Admin\Рабочий стол\tagaganteli.gif"/>
          <p:cNvPicPr/>
          <p:nvPr/>
        </p:nvPicPr>
        <p:blipFill>
          <a:blip r:embed="rId1"/>
          <a:stretch/>
        </p:blipFill>
        <p:spPr>
          <a:xfrm>
            <a:off x="357120" y="1571760"/>
            <a:ext cx="424332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17:29:09Z</dcterms:created>
  <dc:creator>worker</dc:creator>
  <dc:description/>
  <dc:language>en-US</dc:language>
  <cp:lastModifiedBy>Admin</cp:lastModifiedBy>
  <dcterms:modified xsi:type="dcterms:W3CDTF">2020-04-18T05:51:56Z</dcterms:modified>
  <cp:revision>179</cp:revision>
  <dc:subject/>
  <dc:title>Слайд 1</dc:title>
</cp:coreProperties>
</file>