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435-A6D2-4E8B-9ED6-537F6CCF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C77-2CF6-40FD-AA1A-272D1F2B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A4D-2C1C-4CB6-A170-655C5431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8B7-F4A9-4F92-8960-54805C04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4DC-559F-4CE4-AB88-5D4E3B1C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4D8-F512-4FBD-AED9-575D8E69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FAD-4374-456E-86F8-A5E1DEBB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BAC-D066-4DD0-9E58-88D87995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0A6-42C2-4926-A1EC-9F6C6DB8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B77-270F-4B4F-8D4C-446F66B8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21B-C742-4ED6-B541-F762E88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05D-35FB-49BD-8F40-2A9F6AA8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F157-883F-4E4C-8CBC-31092A3E9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685880" y="404640"/>
            <a:ext cx="5772240" cy="328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еко-римская  борьба   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39640" y="2205000"/>
            <a:ext cx="8280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66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орьба  не  только  рук  сплетенье,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Борьба - Себя  преодоленье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аким ты был вчера, каким ты станешь завтр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обедам в спорте нет конц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Как нет без злости без азарт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Настоящего борц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p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ый 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ъём 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й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и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—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ки б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ём-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x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Admin\Рабочий стол\gantelistoja.gif"/>
          <p:cNvPicPr/>
          <p:nvPr/>
        </p:nvPicPr>
        <p:blipFill>
          <a:blip r:embed="rId1"/>
          <a:stretch/>
        </p:blipFill>
        <p:spPr>
          <a:xfrm>
            <a:off x="214200" y="1500120"/>
            <a:ext cx="41436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временный 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ъём 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й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и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, 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в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molotki.gif"/>
          <p:cNvPicPr/>
          <p:nvPr/>
        </p:nvPicPr>
        <p:blipFill>
          <a:blip r:embed="rId1"/>
          <a:stretch/>
        </p:blipFill>
        <p:spPr>
          <a:xfrm>
            <a:off x="0" y="114300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ги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ью из-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 (французский жи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л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. 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ть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я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ну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Admin\Рабочий стол\gantelizagal.gif"/>
          <p:cNvPicPr/>
          <p:nvPr/>
        </p:nvPicPr>
        <p:blipFill>
          <a:blip r:embed="rId1"/>
          <a:stretch/>
        </p:blipFill>
        <p:spPr>
          <a:xfrm>
            <a:off x="0" y="857160"/>
            <a:ext cx="4643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ван Поддубны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чемпион чемпион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88000" y="765000"/>
            <a:ext cx="4176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усский атлет и борец Иван Поддубный родился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ктября 1871 г. в крестьянской семье городе Ей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тавропольского края. В 22 года он устроился гру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ком в Севастопольском порту. В это время хо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цирк посмотреть поединки борцов и пробует св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лы на арене одерживая первые свои поб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1987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его берут в труппу цирковых борцов.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903 г. получает приглашение от председателя П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рбурского атлетического общества и начин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пециализироваться во французской (греко-римск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орьбе, с этого момента он не знает себе рав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держивая одну победу за другой, став пятикрат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пионом мира.  В 1904 г. принял участие в конкур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лачей, где поднял на бицепс штангу весом 12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1925 г. Поддубный отправился в Америку для 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тия в соревнованиях борцов. Где он произвёл фуро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л провозглашён «Чемпионом Америки», его угов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ивали остаться. Но он был патриотом своей Ро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 и в 1927 г. возвращается, оставив на счету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анке Америки около миллиона долларов. Поддуб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ает выступать до 1941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р Иван Поддубный 8 августа 1949 г. На род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ддубного установлен мраморный бюст «Чемпио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пионов». На памятнике золотыми буквами выс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но: «Здесь русский богатырь лежи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175450_i_0"/>
          <p:cNvPicPr/>
          <p:nvPr/>
        </p:nvPicPr>
        <p:blipFill>
          <a:blip r:embed="rId2"/>
          <a:stretch/>
        </p:blipFill>
        <p:spPr>
          <a:xfrm>
            <a:off x="0" y="549360"/>
            <a:ext cx="4748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-316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релин Александр Александрович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19.09.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Заслуженный мастер спорта (1988). Выступал в весовой категории до 130 кг. Трёхкратный олимпийский чемпион (1988, 1992 ,1996), десятикратный чемпион мира, абсолютный чемпион мира, двенадцатикратный чемпион Европы, тринадцатикратный чемпион России. Серебряный призёр Игр 27 Олимпиады в Сиднее (2000). Международной федерацией любительской борьбы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ILA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) назван величайшим борцом греко-римского стиля 20 века. В 1996 году присвоено звание Героя России. Награждён орденами  «Знак Почёта» , «Дружбы народов», Серебряным Олимпийским орденом МОК (2001), «Золотая ветвь»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ILA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(2002). Член Исполкома Олимпийского комитета России. Член Высшего совета Всероссийского добровольного общества  «Спортивная Россия». Депутат Государственной Думы Федерального Собрания РФ; заместитель председателя Комитета ГД по международным де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лен Совета при Президенте РФ по физической культуре и спор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f_14_0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15"/>
          <p:cNvSpPr txBox="1"/>
          <p:nvPr/>
        </p:nvSpPr>
        <p:spPr>
          <a:xfrm>
            <a:off x="684360" y="4869000"/>
            <a:ext cx="3456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ЧЕМПИОН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52" name="WordArt 16"/>
          <p:cNvSpPr txBox="1"/>
          <p:nvPr/>
        </p:nvSpPr>
        <p:spPr>
          <a:xfrm>
            <a:off x="971640" y="6014880"/>
            <a:ext cx="3057480" cy="843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МПИОНО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3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ым 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 и гантелями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боту (18 апреля 2020 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57120" y="2143080"/>
            <a:ext cx="857268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и/п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ecc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ин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/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иц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/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ц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инка 10-15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 –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 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и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й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 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) — 4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ы — 4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дую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ъём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 в в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8-15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ъём туловища со с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ем —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мышц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c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 в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— 5-6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10-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p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ный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ъём 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й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— З-4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8-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овременный подъем гантелей на бицепс -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8-1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ги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ью из-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 (французский жим) — З 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10-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– 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у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жнения на растя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я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ным 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c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уют мышцы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 и я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ц. Для утя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ьзу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c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к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или буты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 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я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,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Admin\Рабочий стол\prisedanija.gif"/>
          <p:cNvPicPr/>
          <p:nvPr/>
        </p:nvPicPr>
        <p:blipFill>
          <a:blip r:embed="rId1"/>
          <a:stretch/>
        </p:blipFill>
        <p:spPr>
          <a:xfrm>
            <a:off x="642960" y="1500120"/>
            <a:ext cx="37195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ы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и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я в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ы, г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дику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. 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шцы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: к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, я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цы и би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 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Admin\Рабочий стол\vipadi.gif"/>
          <p:cNvPicPr/>
          <p:nvPr/>
        </p:nvPicPr>
        <p:blipFill>
          <a:blip r:embed="rId1"/>
          <a:stretch/>
        </p:blipFill>
        <p:spPr>
          <a:xfrm>
            <a:off x="219240" y="1214280"/>
            <a:ext cx="42861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нят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 в в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мышцы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c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й. Львиную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ки 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низ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Admin\Рабочий стол\podemnog.gif"/>
          <p:cNvPicPr/>
          <p:nvPr/>
        </p:nvPicPr>
        <p:blipFill>
          <a:blip r:embed="rId1"/>
          <a:stretch/>
        </p:blipFill>
        <p:spPr>
          <a:xfrm>
            <a:off x="714240" y="1500120"/>
            <a:ext cx="4077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ъём туловища со ск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чи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ем в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p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ки мышц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ca. B 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зку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яя 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ж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ц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Admin\Рабочий стол\ituierty29t2.gif"/>
          <p:cNvPicPr/>
          <p:nvPr/>
        </p:nvPicPr>
        <p:blipFill>
          <a:blip r:embed="rId1"/>
          <a:stretch/>
        </p:blipFill>
        <p:spPr>
          <a:xfrm>
            <a:off x="142920" y="1000080"/>
            <a:ext cx="436248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 в 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мыш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ны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нять нуж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й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ну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м 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ь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, 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Admin\Рабочий стол\tagaganteli.gif"/>
          <p:cNvPicPr/>
          <p:nvPr/>
        </p:nvPicPr>
        <p:blipFill>
          <a:blip r:embed="rId1"/>
          <a:stretch/>
        </p:blipFill>
        <p:spPr>
          <a:xfrm>
            <a:off x="357120" y="1571760"/>
            <a:ext cx="42433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7:29:09Z</dcterms:created>
  <dc:creator>worker</dc:creator>
  <dc:description/>
  <dc:language>en-US</dc:language>
  <cp:lastModifiedBy>Admin</cp:lastModifiedBy>
  <dcterms:modified xsi:type="dcterms:W3CDTF">2020-04-18T05:51:56Z</dcterms:modified>
  <cp:revision>179</cp:revision>
  <dc:subject/>
  <dc:title>Слайд 1</dc:title>
</cp:coreProperties>
</file>