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5.jpeg" ContentType="image/jpeg"/>
  <Override PartName="/ppt/media/image14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EEC1-C46C-42B2-8DCC-262305B4D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FD19-707D-4054-B953-2C8082D1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A7C6-CEB4-4FAD-9D05-6EF1AD4AA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BC6A-2571-4D0F-AA14-B193EC9B1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CB68-C6BA-439D-AB1A-FFBF30311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199E-0042-402A-B6EB-D32D6358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9221-CC79-4D85-9FA6-42BCDB37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5184-2CDE-4B84-9552-29CC1801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B9E2-59C2-4D94-AC17-5B7F843C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EE11-32B2-4FAD-834F-4CF7F75E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FF25-09F7-418B-89C9-DAA45E79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04F0-6BAB-425C-832A-B210EE37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D367-8E19-4ECB-8A51-EC9346AB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DC58-BECC-41BC-9AB2-73C226A3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19DC-CD3E-4BF0-BF1B-1A6BD2D5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AFC2-3742-4689-99CB-C171C75C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3E9C-07C3-4A65-A073-351C748B2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DCD10-9E4A-409A-B8B8-A13EBEB1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34541-6049-4A61-AA5A-162CB156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EE7D0-29E7-452B-B4D7-FD18DB25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72351-9FCF-43E2-9FF3-26A6845F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3FCCE-862E-4A8D-B1D0-F715E8AD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207B-9281-4D3A-84C5-664E37A2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77076-976A-48FC-8071-5F280F89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DE7C3-A00C-4FE8-8BE2-391F994A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C1F93-8114-4225-B005-75DE6382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E6A8E-1B80-43D9-AB21-D822CC8B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8A898-078A-4B3D-BE7C-2A52AC5C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0795A-9BE3-4242-9838-E3D81BD73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89B96-F987-44B8-9A38-B33F7668C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9124F-7B75-4B52-B042-291F54067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EF569-65F5-4726-9AAC-701486D4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AF920-D200-4317-AB55-AF775764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7B41-4799-4983-8F18-8AE00631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E525A-3981-4FFC-8632-4B20F12C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79F72-DD19-4CE1-90FD-E1D498CE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BBF59-1865-4A32-A81A-97440FBA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C09D6-BF8A-4FB8-8EF7-E0EED315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30434-A2FF-48CA-A4B0-6B82CF4C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2A910-7EE0-4546-94D2-CC744D60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C2C3F-5632-4349-98B0-6E7CF42B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DF4F5-C5B8-491A-A600-41655153D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BEC01-FA9F-4F72-8396-F0038BEB1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9115-1EFD-47E2-8E22-27AD232F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A9A0-823B-41D5-8EBE-1191B915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D8C7-EC8C-480C-B7C3-D1F82F86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503B-F00B-4135-8702-5943CEED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4D6A-CDEE-49D8-9FE6-0490AB15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D1DA-65A6-4FDE-92D0-306BBDF175FD}" type="slidenum">
              <a:rPr b="0" lang="ru-RU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8866-1E95-4B93-A34D-DE1FAC9C08C2}" type="slidenum">
              <a:rPr b="0" lang="ru-RU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Straight Connector 16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Straight Connector 17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3F53-B7E8-4D8A-A0F1-C590B7A489CA}" type="slidenum">
              <a:rPr b="0" lang="ru-RU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Straight Connector 18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Straight Connector 19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1034-8C6C-4064-8121-50355AE1E2C5}" type="slidenum">
              <a:rPr b="0" lang="ru-RU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стые механизмы. Рычаг. Равновесие сил на рычаге.</a:t>
            </a: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5" name="Прямоугольник 1"/>
          <p:cNvSpPr/>
          <p:nvPr/>
        </p:nvSpPr>
        <p:spPr>
          <a:xfrm>
            <a:off x="5374440" y="452520"/>
            <a:ext cx="28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7.04.2020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ычаги</a:t>
            </a:r>
            <a:endParaRPr b="0" lang="en-US" sz="6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417680"/>
            <a:ext cx="822960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Рычаг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ставляет собой твердое тело, которое может вращаться вокруг неподвижной опоры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    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зависимости от взаимного расположения точки опоры, точки приложения усилия и точки приложения нагрузки различают рычаги первого и второго рода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42"/>
          <p:cNvSpPr/>
          <p:nvPr/>
        </p:nvSpPr>
        <p:spPr>
          <a:xfrm>
            <a:off x="1692360" y="4076640"/>
            <a:ext cx="576108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Rectangle 26"/>
          <p:cNvSpPr/>
          <p:nvPr/>
        </p:nvSpPr>
        <p:spPr>
          <a:xfrm>
            <a:off x="1763640" y="1341360"/>
            <a:ext cx="5761080" cy="15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2281320" y="1436760"/>
            <a:ext cx="457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Line 5"/>
          <p:cNvSpPr/>
          <p:nvPr/>
        </p:nvSpPr>
        <p:spPr>
          <a:xfrm>
            <a:off x="2509920" y="1671480"/>
            <a:ext cx="0" cy="57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Line 4"/>
          <p:cNvSpPr/>
          <p:nvPr/>
        </p:nvSpPr>
        <p:spPr>
          <a:xfrm flipH="1">
            <a:off x="6948360" y="1916280"/>
            <a:ext cx="6480" cy="819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Line 21"/>
          <p:cNvSpPr/>
          <p:nvPr/>
        </p:nvSpPr>
        <p:spPr>
          <a:xfrm>
            <a:off x="2268360" y="1916280"/>
            <a:ext cx="468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AutoShape 22"/>
          <p:cNvSpPr/>
          <p:nvPr/>
        </p:nvSpPr>
        <p:spPr>
          <a:xfrm>
            <a:off x="3924360" y="1916280"/>
            <a:ext cx="647640" cy="718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Text Box 23"/>
          <p:cNvSpPr/>
          <p:nvPr/>
        </p:nvSpPr>
        <p:spPr>
          <a:xfrm>
            <a:off x="2577960" y="194472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Text Box 25"/>
          <p:cNvSpPr/>
          <p:nvPr/>
        </p:nvSpPr>
        <p:spPr>
          <a:xfrm>
            <a:off x="7020000" y="24210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Text Box 27"/>
          <p:cNvSpPr/>
          <p:nvPr/>
        </p:nvSpPr>
        <p:spPr>
          <a:xfrm>
            <a:off x="2195640" y="18590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Text Box 28"/>
          <p:cNvSpPr/>
          <p:nvPr/>
        </p:nvSpPr>
        <p:spPr>
          <a:xfrm>
            <a:off x="3995640" y="134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Text Box 29"/>
          <p:cNvSpPr/>
          <p:nvPr/>
        </p:nvSpPr>
        <p:spPr>
          <a:xfrm>
            <a:off x="6961320" y="17622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Text Box 30"/>
          <p:cNvSpPr/>
          <p:nvPr/>
        </p:nvSpPr>
        <p:spPr>
          <a:xfrm>
            <a:off x="755640" y="33336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Rectangle 31"/>
          <p:cNvSpPr/>
          <p:nvPr/>
        </p:nvSpPr>
        <p:spPr>
          <a:xfrm>
            <a:off x="971640" y="476280"/>
            <a:ext cx="77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 рычагах первого рода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точка опоры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O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расположен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между точками приложения усилия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B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и нагрузки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A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Line 32"/>
          <p:cNvSpPr/>
          <p:nvPr/>
        </p:nvSpPr>
        <p:spPr>
          <a:xfrm>
            <a:off x="2268360" y="4941720"/>
            <a:ext cx="468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Rectangle 33"/>
          <p:cNvSpPr/>
          <p:nvPr/>
        </p:nvSpPr>
        <p:spPr>
          <a:xfrm>
            <a:off x="3635280" y="4437000"/>
            <a:ext cx="457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Line 34"/>
          <p:cNvSpPr/>
          <p:nvPr/>
        </p:nvSpPr>
        <p:spPr>
          <a:xfrm>
            <a:off x="3851280" y="4724280"/>
            <a:ext cx="0" cy="57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AutoShape 35"/>
          <p:cNvSpPr/>
          <p:nvPr/>
        </p:nvSpPr>
        <p:spPr>
          <a:xfrm>
            <a:off x="1979640" y="4941720"/>
            <a:ext cx="647640" cy="719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Line 36"/>
          <p:cNvSpPr/>
          <p:nvPr/>
        </p:nvSpPr>
        <p:spPr>
          <a:xfrm flipV="1">
            <a:off x="6948360" y="429228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Text Box 37"/>
          <p:cNvSpPr/>
          <p:nvPr/>
        </p:nvSpPr>
        <p:spPr>
          <a:xfrm>
            <a:off x="3995640" y="508464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Text Box 38"/>
          <p:cNvSpPr/>
          <p:nvPr/>
        </p:nvSpPr>
        <p:spPr>
          <a:xfrm>
            <a:off x="7020000" y="414972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Text Box 39"/>
          <p:cNvSpPr/>
          <p:nvPr/>
        </p:nvSpPr>
        <p:spPr>
          <a:xfrm>
            <a:off x="3497400" y="4906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Text Box 40"/>
          <p:cNvSpPr/>
          <p:nvPr/>
        </p:nvSpPr>
        <p:spPr>
          <a:xfrm>
            <a:off x="2124000" y="4437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Text Box 41"/>
          <p:cNvSpPr/>
          <p:nvPr/>
        </p:nvSpPr>
        <p:spPr>
          <a:xfrm>
            <a:off x="6804000" y="501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Rectangle 43"/>
          <p:cNvSpPr/>
          <p:nvPr/>
        </p:nvSpPr>
        <p:spPr>
          <a:xfrm>
            <a:off x="971640" y="2997360"/>
            <a:ext cx="77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 рычагах второго рода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точка опоры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O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и точка приложения усилия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B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находятся на противоположных концах, а точка приложения нагрузки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A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расположена между ним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оугольник 3"/>
          <p:cNvSpPr/>
          <p:nvPr/>
        </p:nvSpPr>
        <p:spPr>
          <a:xfrm>
            <a:off x="684360" y="620640"/>
            <a:ext cx="78483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иболее распространенными примерами рычага первого рода являются  плоскогубцы, лом и ножниц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3" name="Picture 2" descr="http://odem-ural.ru/img/147/224.jpg"/>
          <p:cNvPicPr/>
          <p:nvPr/>
        </p:nvPicPr>
        <p:blipFill>
          <a:blip r:embed="rId1"/>
          <a:stretch/>
        </p:blipFill>
        <p:spPr>
          <a:xfrm>
            <a:off x="380880" y="2349360"/>
            <a:ext cx="2376720" cy="32194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http://900igr.net/datas/predmety/Instrumenty-v-garazhe.files/0024-024-Lom.jpg"/>
          <p:cNvPicPr/>
          <p:nvPr/>
        </p:nvPicPr>
        <p:blipFill>
          <a:blip r:embed="rId2"/>
          <a:stretch/>
        </p:blipFill>
        <p:spPr>
          <a:xfrm>
            <a:off x="3067200" y="2349360"/>
            <a:ext cx="2736720" cy="32194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http://izobretenie.net/uploads/posts/2012-01/1327059086_nozhnicy1.jpg"/>
          <p:cNvPicPr/>
          <p:nvPr/>
        </p:nvPicPr>
        <p:blipFill>
          <a:blip r:embed="rId3"/>
          <a:stretch/>
        </p:blipFill>
        <p:spPr>
          <a:xfrm>
            <a:off x="6097680" y="2349360"/>
            <a:ext cx="28288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рямоугольник 1"/>
          <p:cNvSpPr/>
          <p:nvPr/>
        </p:nvSpPr>
        <p:spPr>
          <a:xfrm>
            <a:off x="755640" y="54936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меры рычага второго рода – щипцы для раскалывания орехов, тачк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7" name="Picture 4" descr="http://boom-dom.ru/image/data/1/12/120/12089976_7949.jpg"/>
          <p:cNvPicPr/>
          <p:nvPr/>
        </p:nvPicPr>
        <p:blipFill>
          <a:blip r:embed="rId1"/>
          <a:stretch/>
        </p:blipFill>
        <p:spPr>
          <a:xfrm>
            <a:off x="468360" y="2133720"/>
            <a:ext cx="3456000" cy="3705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http://sinotech.ru/images/stories/8977.jpg"/>
          <p:cNvPicPr/>
          <p:nvPr/>
        </p:nvPicPr>
        <p:blipFill>
          <a:blip r:embed="rId2"/>
          <a:stretch/>
        </p:blipFill>
        <p:spPr>
          <a:xfrm>
            <a:off x="4859280" y="2133720"/>
            <a:ext cx="352908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826560" y="2052360"/>
            <a:ext cx="6712200" cy="41958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TextBox 1"/>
          <p:cNvSpPr/>
          <p:nvPr/>
        </p:nvSpPr>
        <p:spPr>
          <a:xfrm>
            <a:off x="179280" y="549360"/>
            <a:ext cx="3313080" cy="11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лечо силы</a:t>
            </a:r>
            <a:endParaRPr b="0" lang="en-US" sz="6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439560" y="1197000"/>
            <a:ext cx="8393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Кратчайшее расстояние между точкой опоры и прямой, вдоль которой действует на рычаг сила, называется </a:t>
            </a:r>
            <a:r>
              <a:rPr b="0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лечом силы</a:t>
            </a:r>
            <a:r>
              <a:rPr b="0" lang="ru-RU" sz="6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5" descr="235194_html_100d4baa"/>
          <p:cNvPicPr/>
          <p:nvPr/>
        </p:nvPicPr>
        <p:blipFill>
          <a:blip r:embed="rId1"/>
          <a:stretch/>
        </p:blipFill>
        <p:spPr>
          <a:xfrm>
            <a:off x="0" y="0"/>
            <a:ext cx="9144000" cy="539892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2"/>
          <p:cNvSpPr/>
          <p:nvPr/>
        </p:nvSpPr>
        <p:spPr>
          <a:xfrm>
            <a:off x="457200" y="539892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Вывод: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при помощи рычага большую силу можно уравновесить меньше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7993080" cy="498312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ffff00"/>
                </a:solidFill>
                <a:latin typeface="Century Gothic"/>
              </a:rPr>
              <a:t>Дайте мне точку опоры и я переверну мир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31"/>
          <p:cNvSpPr/>
          <p:nvPr/>
        </p:nvSpPr>
        <p:spPr>
          <a:xfrm>
            <a:off x="539640" y="155736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 помощью рычага рабочий поднимает плиту массой 120 кг. Какую силу он прикладывает к большему плечу рычага, равному 2,4 м, если меньшее плечо 0,8 м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1476360" y="260280"/>
            <a:ext cx="5688000" cy="1009800"/>
          </a:xfrm>
          <a:prstGeom prst="rect">
            <a:avLst/>
          </a:pr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Рассмотрим задачу: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4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AutoShape 6"/>
          <p:cNvSpPr/>
          <p:nvPr/>
        </p:nvSpPr>
        <p:spPr>
          <a:xfrm>
            <a:off x="395280" y="1484280"/>
            <a:ext cx="82803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ано:                         Решение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= 120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кг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      из правила равновесия рычага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=2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4 м             получим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∙ L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=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∙ L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= 0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8 м            Сила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= Р (весу плиты).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= 10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Н/кг           Р=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m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∙ g= 120 ∙ 10 = 1200 H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Тогда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∙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L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꞉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= 1200 ∙ 0,8 ꞉ 2,4=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йти: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?                          400 Н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твет: 400 Н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Федор Шаляпин - Эй, ухнем  (audiopoisk.com).mp3" descr=""/>
          <p:cNvPicPr/>
          <p:nvPr/>
        </p:nvPicPr>
        <p:blipFill>
          <a:blip r:embed="rId1"/>
          <a:stretch/>
        </p:blipFill>
        <p:spPr>
          <a:xfrm>
            <a:off x="17928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http://physik.ucoz.ru/_ld/5/93475151.jpg"/>
          <p:cNvPicPr/>
          <p:nvPr/>
        </p:nvPicPr>
        <p:blipFill>
          <a:blip r:embed="rId2"/>
          <a:stretch/>
        </p:blipFill>
        <p:spPr>
          <a:xfrm>
            <a:off x="179280" y="404640"/>
            <a:ext cx="8731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3865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6"/>
          <p:cNvSpPr/>
          <p:nvPr/>
        </p:nvSpPr>
        <p:spPr>
          <a:xfrm>
            <a:off x="108000" y="1989000"/>
            <a:ext cx="8913600" cy="236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Line 21"/>
          <p:cNvSpPr/>
          <p:nvPr/>
        </p:nvSpPr>
        <p:spPr>
          <a:xfrm flipV="1">
            <a:off x="1023840" y="3198960"/>
            <a:ext cx="7293240" cy="5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AutoShape 22"/>
          <p:cNvSpPr/>
          <p:nvPr/>
        </p:nvSpPr>
        <p:spPr>
          <a:xfrm>
            <a:off x="6588000" y="3197160"/>
            <a:ext cx="648000" cy="719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Text Box 30"/>
          <p:cNvSpPr/>
          <p:nvPr/>
        </p:nvSpPr>
        <p:spPr>
          <a:xfrm>
            <a:off x="755640" y="33336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Rectangle 31"/>
          <p:cNvSpPr/>
          <p:nvPr/>
        </p:nvSpPr>
        <p:spPr>
          <a:xfrm>
            <a:off x="693720" y="291960"/>
            <a:ext cx="77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машнее задание: §57,58 прочитать, выучить термины и формулу. Решить задание: «Муравей и слон»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Text Box 38"/>
          <p:cNvSpPr/>
          <p:nvPr/>
        </p:nvSpPr>
        <p:spPr>
          <a:xfrm>
            <a:off x="1077840" y="3487680"/>
            <a:ext cx="7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8" name="Picture 4" descr=""/>
          <p:cNvPicPr/>
          <p:nvPr/>
        </p:nvPicPr>
        <p:blipFill>
          <a:blip r:embed="rId1"/>
          <a:srcRect l="5616" t="31469" r="24227" b="4228"/>
          <a:stretch/>
        </p:blipFill>
        <p:spPr>
          <a:xfrm>
            <a:off x="257040" y="2031840"/>
            <a:ext cx="1535400" cy="122400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38"/>
          <p:cNvSpPr/>
          <p:nvPr/>
        </p:nvSpPr>
        <p:spPr>
          <a:xfrm>
            <a:off x="8317080" y="3394080"/>
            <a:ext cx="57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300" name="Прямая со стрелкой 4"/>
          <p:cNvCxnSpPr/>
          <p:nvPr/>
        </p:nvCxnSpPr>
        <p:spPr>
          <a:xfrm>
            <a:off x="8316720" y="3211200"/>
            <a:ext cx="1080" cy="734040"/>
          </a:xfrm>
          <a:prstGeom prst="straightConnector1">
            <a:avLst/>
          </a:prstGeom>
          <a:ln cap="rnd" w="3492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01" name="Picture 4" descr=""/>
          <p:cNvPicPr/>
          <p:nvPr/>
        </p:nvPicPr>
        <p:blipFill>
          <a:blip r:embed="rId2"/>
          <a:stretch/>
        </p:blipFill>
        <p:spPr>
          <a:xfrm>
            <a:off x="7416720" y="2147760"/>
            <a:ext cx="1604880" cy="1025640"/>
          </a:xfrm>
          <a:prstGeom prst="rect">
            <a:avLst/>
          </a:prstGeom>
          <a:ln w="0">
            <a:noFill/>
          </a:ln>
        </p:spPr>
      </p:pic>
      <p:cxnSp>
        <p:nvCxnSpPr>
          <p:cNvPr id="302" name="Прямая со стрелкой 8"/>
          <p:cNvCxnSpPr>
            <a:stCxn id="298" idx="2"/>
          </p:cNvCxnSpPr>
          <p:nvPr/>
        </p:nvCxnSpPr>
        <p:spPr>
          <a:xfrm flipH="1">
            <a:off x="1009080" y="3255480"/>
            <a:ext cx="14760" cy="661320"/>
          </a:xfrm>
          <a:prstGeom prst="straightConnector1">
            <a:avLst/>
          </a:prstGeom>
          <a:ln cap="rnd"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" name="Text Box 38"/>
          <p:cNvSpPr/>
          <p:nvPr/>
        </p:nvSpPr>
        <p:spPr>
          <a:xfrm>
            <a:off x="3708360" y="3255840"/>
            <a:ext cx="712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Text Box 38"/>
          <p:cNvSpPr/>
          <p:nvPr/>
        </p:nvSpPr>
        <p:spPr>
          <a:xfrm>
            <a:off x="7383600" y="3270240"/>
            <a:ext cx="712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Rectangle 31"/>
          <p:cNvSpPr/>
          <p:nvPr/>
        </p:nvSpPr>
        <p:spPr>
          <a:xfrm>
            <a:off x="755640" y="4397400"/>
            <a:ext cx="77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сса муравья – 6 м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сса слона – 6 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вое плечо силы (слона) – 1 м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ределите левое плечо силы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46836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способления, служащие для преобразования силы, называют 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ханизмами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простым механизмам относятся: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ычаг, блок, ворот;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наклонная плоскость, клин, винт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&amp;Icy;&amp;scy;&amp;pcy;&amp;ocy;&amp;lcy;&amp;softcy;&amp;zcy;&amp;ocy;&amp;vcy;&amp;acy;&amp;ncy;&amp;icy;&amp;iecy; &amp;rcy;&amp;ycy;&amp;chcy;&amp;acy;&amp;gcy;&amp;acy;"/>
          <p:cNvPicPr/>
          <p:nvPr/>
        </p:nvPicPr>
        <p:blipFill>
          <a:blip r:embed="rId1"/>
          <a:stretch/>
        </p:blipFill>
        <p:spPr>
          <a:xfrm>
            <a:off x="108000" y="189000"/>
            <a:ext cx="8785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&amp;Bcy;&amp;lcy;&amp;ocy;&amp;kcy;"/>
          <p:cNvPicPr/>
          <p:nvPr/>
        </p:nvPicPr>
        <p:blipFill>
          <a:blip r:embed="rId1"/>
          <a:stretch/>
        </p:blipFill>
        <p:spPr>
          <a:xfrm>
            <a:off x="324000" y="260280"/>
            <a:ext cx="85438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&amp;Vcy;&amp;ocy;&amp;rcy;&amp;ocy;&amp;tcy;"/>
          <p:cNvPicPr/>
          <p:nvPr/>
        </p:nvPicPr>
        <p:blipFill>
          <a:blip r:embed="rId1"/>
          <a:stretch/>
        </p:blipFill>
        <p:spPr>
          <a:xfrm>
            <a:off x="324000" y="260280"/>
            <a:ext cx="85438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&amp;Ncy;&amp;acy;&amp;kcy;&amp;lcy;&amp;ocy;&amp;ncy;&amp;ncy;&amp;acy;&amp;yacy; &amp;pcy;&amp;lcy;&amp;ocy;&amp;scy;&amp;kcy;&amp;ocy;&amp;scy;&amp;tcy;&amp;softcy;"/>
          <p:cNvPicPr/>
          <p:nvPr/>
        </p:nvPicPr>
        <p:blipFill>
          <a:blip r:embed="rId1"/>
          <a:stretch/>
        </p:blipFill>
        <p:spPr>
          <a:xfrm>
            <a:off x="324000" y="333360"/>
            <a:ext cx="84484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&amp;Pcy;&amp;rcy;&amp;icy;&amp;mcy;&amp;iecy;&amp;ncy;&amp;iecy;&amp;ncy;&amp;icy;&amp;iecy; &amp;kcy;&amp;lcy;&amp;icy;&amp;ncy;&amp;acy;"/>
          <p:cNvPicPr/>
          <p:nvPr/>
        </p:nvPicPr>
        <p:blipFill>
          <a:blip r:embed="rId1"/>
          <a:stretch/>
        </p:blipFill>
        <p:spPr>
          <a:xfrm>
            <a:off x="250920" y="333360"/>
            <a:ext cx="849780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&amp;Vcy;&amp;icy;&amp;ncy;&amp;tcy;"/>
          <p:cNvPicPr/>
          <p:nvPr/>
        </p:nvPicPr>
        <p:blipFill>
          <a:blip r:embed="rId1"/>
          <a:stretch/>
        </p:blipFill>
        <p:spPr>
          <a:xfrm>
            <a:off x="250920" y="189000"/>
            <a:ext cx="85453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7T07:03:57Z</dcterms:created>
  <dc:creator>ustimenko-lv</dc:creator>
  <dc:description/>
  <dc:language>en-US</dc:language>
  <cp:lastModifiedBy>Учитель</cp:lastModifiedBy>
  <dcterms:modified xsi:type="dcterms:W3CDTF">2020-04-17T00:23:12Z</dcterms:modified>
  <cp:revision>37</cp:revision>
  <dc:subject/>
  <dc:title>Простые механизмы. Рычаг. Равновесие сил на рычаге</dc:title>
</cp:coreProperties>
</file>