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1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36F4-2821-42DD-8841-B4E34006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3AC-9351-4BFA-84A8-11DFCFFC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791-AC2C-4177-9B1D-9BD212AB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5156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3508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6804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5156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3508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E04-D525-4815-A255-EDD0F947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C589-0719-477D-BFE6-A9D89CB7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39A3-9A8C-4747-9E28-15327550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CB4A-0C07-473E-865D-4AC1727D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44DF-7E0B-4BDF-A4EA-8EF02D01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1C8F-1174-4D8B-AF09-D51CAAE8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07960" y="375840"/>
            <a:ext cx="914400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FCC1-932D-4B78-912E-F22E8A79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2BAB-E55A-46D8-B4F2-4FA6C3DD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4E20-AB89-4780-8121-582D11D2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1CDF-6385-4EB6-96D2-40D67E81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7ACD-B2FC-4D6D-8758-AAF39F30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6A13-B9C0-4B1C-B96E-FFDB0C7B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36E8-720C-4A5D-8BAA-CC04DFE8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5156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3508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6804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75156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3508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0C69-6270-4E05-9BEB-C30BBBE8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DAE70-BA32-417D-82AD-DB00C50D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7AF6B-1A22-42C4-BAD9-9E15BE47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F9F7D-B5A4-4604-9125-32F6E9DB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E8900-E949-4C10-866F-505B4E65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07869-2BB9-4F8D-9089-3891F641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9B69-172B-415B-A71F-A6CD729E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7960" y="375840"/>
            <a:ext cx="914400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9D406-CA61-4CE2-AA07-E17D0C5E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D8981-325E-4BFB-8056-52CCE37B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07CC9-E3B5-4422-ACC8-65CF034A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15C37-BE7B-49F3-AD91-181A03C8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FB6FD-F2B2-4B1C-B107-2CEB1BD8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67210-2CA1-4B23-A6F3-6D6B0505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75156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3508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6804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75156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3508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79951-0F0B-4DF5-A838-20736E12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438C2-25A0-4B27-8755-BB61EB55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7BED0-2684-4CA5-9E8F-C99D67DF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0749F-0B76-4549-A7E1-17E883EC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FC1-D28A-4E53-AD61-52D034DE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D781E-3B6E-4CA0-8B1A-246C0CC8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50A0C-2388-4A35-8E72-7C6405D1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07960" y="375840"/>
            <a:ext cx="914400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1B067-F9C0-45AF-A44F-2D7D07D7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9133A-855A-475B-AC8D-8E9F2D66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8E605-31B5-4B76-9291-981471B8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B608D-43DF-4029-8971-FFC12533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E686A-7227-4711-B604-7EC7DF42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794CF-CE60-48CF-BEA2-2E246BA2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75156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53508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96804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75156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53508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775FF-6925-4992-AFFA-DBC36584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9E639-1D55-426D-B08C-6E8DF946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03DD-BE2C-4330-917F-E23DCFD8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4AB2F-E9A9-46B3-A0FB-5FF8C0A5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BD9AD-BFE3-454D-9ACC-3BB22D91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1C716-13CE-49D0-8C62-B18A918C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C007F-779F-4D44-BE1A-59515436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07960" y="375840"/>
            <a:ext cx="914400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A66EE-CBE4-420C-8E79-A741F211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CE703-7523-4A7A-A588-1E769C4B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14D05-3719-483E-BF2F-0703E246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D96BF-973B-4323-926D-5EEC18BD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A605C-E749-4D39-82E7-500A8FD7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D24C3-ED53-4B4A-A02F-64FB2974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07960" y="375840"/>
            <a:ext cx="914400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051-9180-48C4-8DC7-4E189A3E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75156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53508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96804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75156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53508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12AB0-23BD-4919-A593-3D710908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B2386-80A2-43F3-9ED2-0275ED15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10C6A-1E83-499F-9028-5EF42F55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314D1-BF46-4A0C-836C-D3357885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4CC80-C5F2-4D51-8A99-955B082D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5A31E-C12D-426F-9898-F61F3C25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7960" y="375840"/>
            <a:ext cx="914400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BAB83-2D4B-45C7-98A1-6E443392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06D5C-FA1F-4A06-B4AB-6C684609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DE41D-4BD5-4DC9-8724-EB008986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2B620-99A2-4A62-9A8A-4DE1A43E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9F9F-EB2C-4EAE-8F2D-CA36F533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D2F71-3DEB-4F3D-A6BD-7AAFE26D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938A8-2CA0-4F03-B7E4-A8F2FF55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5156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3508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6804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5156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3508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96E7B-6358-4CC8-8E44-7A9AF78F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9C3F8-9AA2-498B-A86A-C2DAE646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7195C-106A-472B-A846-28CF6320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B6204-1B5A-407E-845F-D34DD3D5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D2E1A-DF45-4E75-A07C-FFF86B2C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DF032-F9E5-4117-9D43-44161039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07960" y="375840"/>
            <a:ext cx="914400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4C1B7-E753-4A79-89B4-15AE54B7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0422C-6669-48C0-99E5-A6E791DD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341-3286-4AF7-A152-2B9A864C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70D5D-FF68-45F8-94FC-8A03E680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178F7-266D-478A-B3FD-642EC8B6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C8333-3BB5-4DDE-BDAC-30D05682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7004F-C4CA-4510-A225-1894B557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75156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53508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96804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75156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53508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8462C-DFAC-468F-A4E9-7E242F6A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2BA-FF0C-4BBB-B523-9438854A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54160" y="254160"/>
            <a:ext cx="96613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35080" y="1865160"/>
            <a:ext cx="9693000" cy="1478160"/>
            <a:chOff x="235080" y="1865160"/>
            <a:chExt cx="9693000" cy="1478160"/>
          </a:xfrm>
        </p:grpSpPr>
        <p:sp>
          <p:nvSpPr>
            <p:cNvPr id="2" name="Freeform 14"/>
            <p:cNvSpPr/>
            <p:nvPr/>
          </p:nvSpPr>
          <p:spPr>
            <a:xfrm>
              <a:off x="6719400" y="2026080"/>
              <a:ext cx="3196080" cy="7938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910240" y="1883520"/>
              <a:ext cx="6160680" cy="9450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3142800" y="1897200"/>
              <a:ext cx="6075720" cy="8607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6233040" y="1882440"/>
              <a:ext cx="3675600" cy="72432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35080" y="1865160"/>
              <a:ext cx="9693000" cy="14781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737320" y="6945480"/>
            <a:ext cx="4206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15640" y="6945480"/>
            <a:ext cx="42066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4433760" y="6945480"/>
            <a:ext cx="12924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C0CA-8B83-47DB-B4F1-E960EEA87597}" type="slidenum">
              <a:rPr b="0" lang="en-US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54160" y="254160"/>
            <a:ext cx="9661320" cy="67053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35080" y="5948280"/>
            <a:ext cx="9693000" cy="1479600"/>
            <a:chOff x="235080" y="5948280"/>
            <a:chExt cx="9693000" cy="1479600"/>
          </a:xfrm>
        </p:grpSpPr>
        <p:sp>
          <p:nvSpPr>
            <p:cNvPr id="50" name="Freeform 14"/>
            <p:cNvSpPr/>
            <p:nvPr/>
          </p:nvSpPr>
          <p:spPr>
            <a:xfrm>
              <a:off x="6728040" y="6109560"/>
              <a:ext cx="3200040" cy="7945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913840" y="5966640"/>
              <a:ext cx="6168600" cy="9460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3146760" y="5980320"/>
              <a:ext cx="6083640" cy="8614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6240600" y="5965560"/>
              <a:ext cx="3680280" cy="7250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35080" y="5948280"/>
              <a:ext cx="9693000" cy="14796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737320" y="6945480"/>
            <a:ext cx="4206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215640" y="6945480"/>
            <a:ext cx="42066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4433760" y="6945480"/>
            <a:ext cx="12924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992A-C434-4D6C-AE83-132B23056175}" type="slidenum">
              <a:rPr b="0" lang="en-US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54160" y="254160"/>
            <a:ext cx="9661320" cy="526248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719760" y="4670280"/>
            <a:ext cx="3195720" cy="79380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909880" y="4527720"/>
            <a:ext cx="6161040" cy="9442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3143160" y="4541760"/>
            <a:ext cx="6075360" cy="86040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6232680" y="4527720"/>
            <a:ext cx="3674880" cy="72360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35080" y="4510080"/>
            <a:ext cx="9693000" cy="14763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737320" y="6945480"/>
            <a:ext cx="4206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15640" y="6945480"/>
            <a:ext cx="42066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4433760" y="6945480"/>
            <a:ext cx="12924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839E-B440-44FB-B812-9E3D926A2946}" type="slidenum">
              <a:rPr b="0" lang="en-US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54160" y="254160"/>
            <a:ext cx="9661320" cy="15840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35080" y="793800"/>
            <a:ext cx="9693000" cy="1477800"/>
            <a:chOff x="235080" y="793800"/>
            <a:chExt cx="9693000" cy="1477800"/>
          </a:xfrm>
        </p:grpSpPr>
        <p:sp>
          <p:nvSpPr>
            <p:cNvPr id="145" name="Freeform 14"/>
            <p:cNvSpPr/>
            <p:nvPr/>
          </p:nvSpPr>
          <p:spPr>
            <a:xfrm>
              <a:off x="6719400" y="954720"/>
              <a:ext cx="3196080" cy="7934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910240" y="812160"/>
              <a:ext cx="6160680" cy="9446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3142800" y="825840"/>
              <a:ext cx="6075720" cy="8604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6233040" y="811080"/>
              <a:ext cx="3675600" cy="723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35080" y="793800"/>
              <a:ext cx="9693000" cy="14778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737320" y="6945480"/>
            <a:ext cx="4206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15640" y="6945480"/>
            <a:ext cx="42066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433760" y="6945480"/>
            <a:ext cx="12924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9676-5E89-4AB7-9743-FC7175EEDC83}" type="slidenum">
              <a:rPr b="0" lang="en-US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54160" y="254160"/>
            <a:ext cx="9661320" cy="15840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35080" y="793800"/>
            <a:ext cx="9693000" cy="1479600"/>
            <a:chOff x="235080" y="793800"/>
            <a:chExt cx="9693000" cy="1479600"/>
          </a:xfrm>
        </p:grpSpPr>
        <p:sp>
          <p:nvSpPr>
            <p:cNvPr id="193" name="Freeform 14"/>
            <p:cNvSpPr/>
            <p:nvPr/>
          </p:nvSpPr>
          <p:spPr>
            <a:xfrm>
              <a:off x="6728040" y="955080"/>
              <a:ext cx="3200040" cy="7945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913840" y="812160"/>
              <a:ext cx="6168600" cy="9460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3146760" y="825840"/>
              <a:ext cx="6083640" cy="8614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6240600" y="811080"/>
              <a:ext cx="3680280" cy="7250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35080" y="793800"/>
              <a:ext cx="9693000" cy="14796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737320" y="6945480"/>
            <a:ext cx="4206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215640" y="6945480"/>
            <a:ext cx="42066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4433760" y="6945480"/>
            <a:ext cx="12924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CE6F-55AC-42C3-BAD9-85B351167564}" type="slidenum">
              <a:rPr b="0" lang="en-US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54160" y="254160"/>
            <a:ext cx="9661320" cy="67053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35080" y="5948280"/>
            <a:ext cx="9693000" cy="1479600"/>
            <a:chOff x="235080" y="5948280"/>
            <a:chExt cx="9693000" cy="1479600"/>
          </a:xfrm>
        </p:grpSpPr>
        <p:sp>
          <p:nvSpPr>
            <p:cNvPr id="241" name="Freeform 14"/>
            <p:cNvSpPr/>
            <p:nvPr/>
          </p:nvSpPr>
          <p:spPr>
            <a:xfrm>
              <a:off x="6728040" y="6109560"/>
              <a:ext cx="3200040" cy="7945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913840" y="5966640"/>
              <a:ext cx="6168600" cy="9460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3146760" y="5980320"/>
              <a:ext cx="6083640" cy="8614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6240600" y="5965560"/>
              <a:ext cx="3680280" cy="7250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35080" y="5948280"/>
              <a:ext cx="9693000" cy="14796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737320" y="6945480"/>
            <a:ext cx="4206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215640" y="6945480"/>
            <a:ext cx="42066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4433760" y="6945480"/>
            <a:ext cx="12924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B8A4-8E33-49FE-B315-8469A1F20A7D}" type="slidenum">
              <a:rPr b="0" lang="en-US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54160" y="254160"/>
            <a:ext cx="9661320" cy="15840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35080" y="793800"/>
            <a:ext cx="9693000" cy="1479600"/>
            <a:chOff x="235080" y="793800"/>
            <a:chExt cx="9693000" cy="1479600"/>
          </a:xfrm>
        </p:grpSpPr>
        <p:sp>
          <p:nvSpPr>
            <p:cNvPr id="289" name="Freeform 14"/>
            <p:cNvSpPr/>
            <p:nvPr/>
          </p:nvSpPr>
          <p:spPr>
            <a:xfrm>
              <a:off x="6728040" y="955080"/>
              <a:ext cx="3200040" cy="7945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913840" y="812160"/>
              <a:ext cx="6168600" cy="9460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3146760" y="825840"/>
              <a:ext cx="6083640" cy="8614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6240600" y="811080"/>
              <a:ext cx="3680280" cy="7250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35080" y="793800"/>
              <a:ext cx="9693000" cy="14796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737320" y="6945480"/>
            <a:ext cx="4206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215640" y="6945480"/>
            <a:ext cx="42066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4433760" y="6945480"/>
            <a:ext cx="12924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44AA-64D4-4CA6-9FF7-2EC987B818DB}" type="slidenum">
              <a:rPr b="0" lang="en-US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medicinform.net/" TargetMode="External"/><Relationship Id="rId3" Type="http://schemas.openxmlformats.org/officeDocument/2006/relationships/hyperlink" Target="mailto:matviishinan@msosh279.ru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6880" y="1649160"/>
            <a:ext cx="9506160" cy="3546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ndara"/>
              </a:rPr>
              <a:t>Здравствуйте, ребята!</a:t>
            </a: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ndara"/>
              </a:rPr>
              <a:t>1.Представляю вам очередную тему наших занятий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ndara"/>
              </a:rPr>
              <a:t>2. Прошу отнестись со всей серьезностью к выполнению рекомендаций1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ndara"/>
              </a:rPr>
              <a:t>3. Работу выполнять без напоминаний, не так много я задаю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ndara"/>
              </a:rPr>
              <a:t>4. За «красивые глазки» оценок ставить не буду. Надо хоть немножко потрудиться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ndara"/>
              </a:rPr>
              <a:t>5. Успехов!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6120" y="304560"/>
            <a:ext cx="820908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0d0d0d"/>
                </a:solidFill>
                <a:latin typeface="Arial"/>
              </a:rPr>
              <a:t>АБОРТ — ВОТ ЦЕНА, КОТОРУЮ ПРИХОДИТСЯ ПЛАТИТЬ ЗА ТО, ЧТО У ТЕБЯ ЕСТЬ ГОРМОНЫ</a:t>
            </a:r>
            <a:endParaRPr b="0" lang="en-US" sz="3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326880" y="2154240"/>
            <a:ext cx="554544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зультате раннего полового контакта девушке может угрожать нежеланная беременность, в то время как она ни физически, ни психологически, ни социально еще не готова к материнств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5" descr=""/>
          <p:cNvPicPr/>
          <p:nvPr/>
        </p:nvPicPr>
        <p:blipFill>
          <a:blip r:embed="rId2"/>
          <a:stretch/>
        </p:blipFill>
        <p:spPr>
          <a:xfrm>
            <a:off x="6010200" y="1946160"/>
            <a:ext cx="351468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98440" y="50760"/>
            <a:ext cx="939312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НЕРИЧЕСКИЕ ЗАБОЛЕВАНИЯ, ПСИХОЛОГИЧЕСКИЕ РАССТРОЙСТВА, В СЛЕДСТВИИ РАННЕЙ ПОЛОВОЙ ЖИЗНИ 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336600" y="1217520"/>
            <a:ext cx="9577440" cy="60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Преждевременная половая жизнь оказывает опустошающее воздействие на эмоционально-психическую сферу и вредит здоровью. Она обедняет полноту сексуальных эмоций, особенно у женщин, нередко делая их навсегда фригидными ( холодными), ставит под сомнение прочность предстоящего брака, делает легкими супружеские измены в будущем, ведет к возникновению тяжелых семейных коллизий и конфлик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Заболевания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 ППП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 (Передающиеся Половым Путем)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– это не только «традиционные» инфекционные заболевания, как то: гонорея, сифилис – но и те, риск заражения которыми, возрос в последние десятилетия: например, СПИД и вирус герпес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58520" y="5322960"/>
            <a:ext cx="820908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ЕМ МЛАДШЕ ПОДРОСТОК В МОМЕНТ СВОЕЙ ПЕРВОЙ ПОЛОВОЙ СВЯЗИ, ТЕМ МЕНЬШЕ ЭТА СВЯЗЬ МОТИВИРУЕТСЯ ЛЮБОВЬЮ, ТЕМ БОЛЬШЕ В НЕЙ СЛУЧАЙНОГО, СИТУАТИВНОГО</a:t>
            </a:r>
            <a:r>
              <a:rPr b="0" lang="ru-RU" sz="2700" spc="-1" strike="noStrike">
                <a:solidFill>
                  <a:srgbClr val="fff39d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2"/>
          <a:stretch/>
        </p:blipFill>
        <p:spPr>
          <a:xfrm>
            <a:off x="422280" y="168120"/>
            <a:ext cx="4160880" cy="5092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3"/>
          <a:stretch/>
        </p:blipFill>
        <p:spPr>
          <a:xfrm>
            <a:off x="5502240" y="168120"/>
            <a:ext cx="414972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52600" y="388800"/>
            <a:ext cx="820872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4900" spc="-1" strike="noStrike">
                <a:solidFill>
                  <a:srgbClr val="3c3e42"/>
                </a:solidFill>
                <a:latin typeface="Arial"/>
              </a:rPr>
              <a:t>МУДРОСТЬ……….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68360" y="1574640"/>
            <a:ext cx="4397400" cy="42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d0d0d"/>
                </a:solidFill>
                <a:latin typeface="Arial"/>
              </a:rPr>
              <a:t>Невинность – это пробуждающаяся чувственность, которая ещё не понимает себя. </a:t>
            </a:r>
            <a:r>
              <a:rPr b="1" i="1" lang="en-US" sz="2700" spc="-1" strike="noStrike">
                <a:solidFill>
                  <a:srgbClr val="0d0d0d"/>
                </a:solidFill>
                <a:latin typeface="Arial"/>
              </a:rPr>
              <a:t>Геббель Кристиан Фридрих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d0d0d"/>
                </a:solidFill>
                <a:latin typeface="Arial"/>
              </a:rPr>
              <a:t>Влюбиться – не грех; грех обычно совершается позже. </a:t>
            </a:r>
            <a:r>
              <a:rPr b="1" i="1" lang="en-US" sz="2700" spc="-1" strike="noStrike">
                <a:solidFill>
                  <a:srgbClr val="0d0d0d"/>
                </a:solidFill>
                <a:latin typeface="Arial"/>
              </a:rPr>
              <a:t>Збышек Крыгел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5" descr=""/>
          <p:cNvPicPr/>
          <p:nvPr/>
        </p:nvPicPr>
        <p:blipFill>
          <a:blip r:embed="rId2"/>
          <a:stretch/>
        </p:blipFill>
        <p:spPr>
          <a:xfrm>
            <a:off x="5248440" y="1862280"/>
            <a:ext cx="340992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21800" y="473040"/>
            <a:ext cx="820764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ЛИРИЧЕСКОЕ ОТСТУПЛЕНИЕ</a:t>
            </a:r>
            <a:r>
              <a:rPr b="0" lang="ru-RU" sz="3300" spc="-1" strike="noStrike">
                <a:solidFill>
                  <a:srgbClr val="fff39d"/>
                </a:solidFill>
                <a:latin typeface="Arial"/>
              </a:rPr>
              <a:t>…</a:t>
            </a:r>
            <a:endParaRPr b="0" lang="en-US" sz="33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2"/>
          <a:stretch/>
        </p:blipFill>
        <p:spPr>
          <a:xfrm>
            <a:off x="507960" y="1692360"/>
            <a:ext cx="4075200" cy="439416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5"/>
          <p:cNvSpPr/>
          <p:nvPr/>
        </p:nvSpPr>
        <p:spPr>
          <a:xfrm>
            <a:off x="4789440" y="1828800"/>
            <a:ext cx="4734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вочка мальчику розу дарит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вую розу с куст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вочку мальчик целует в уст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вым лобзаньем дари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лнышко скрылось, аллея пуста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ыдно в уста целовать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вочка, надо ли было срывать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вую розу с куста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арина Цветае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52600" y="355320"/>
            <a:ext cx="82087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Arial"/>
              </a:rPr>
              <a:t>Вывод: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8800920" cy="53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Ранняя половая связь -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необузданный половой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инстинкт, ведущий к распущенности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4"/>
          <p:cNvGraphicFramePr/>
          <p:nvPr/>
        </p:nvGraphicFramePr>
        <p:xfrm>
          <a:off x="111240" y="324000"/>
          <a:ext cx="9793080" cy="718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40" y="324000"/>
                    <a:ext cx="9793080" cy="71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2"/>
          <p:cNvSpPr/>
          <p:nvPr/>
        </p:nvSpPr>
        <p:spPr>
          <a:xfrm>
            <a:off x="399960" y="5538960"/>
            <a:ext cx="95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Т. Смирнов, Б.О. Хренников «Учебник ОБЖ 9 класс», М. Прсвещение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.Б.Коростелев «От А до Я». М.: Медицина. – 1987. – 288 с.: и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80ff"/>
                </a:solidFill>
                <a:uFillTx/>
                <a:latin typeface="Times New Roman"/>
                <a:hlinkClick r:id="rId2"/>
              </a:rPr>
              <a:t>www.medicinform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42520" y="353880"/>
            <a:ext cx="8636040" cy="4570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Домашнее зада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А. Изучите материал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. Законспектируйте материал (1 слайд)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Ответ подписать, скопировать,  переслать по электронной почте </a:t>
            </a:r>
            <a:r>
              <a:rPr b="0" lang="en-US" sz="2400" spc="-1" strike="noStrike" u="sng">
                <a:solidFill>
                  <a:srgbClr val="0080ff"/>
                </a:solidFill>
                <a:uFillTx/>
                <a:latin typeface="HelveticaNeue"/>
                <a:hlinkClick r:id="rId3"/>
              </a:rPr>
              <a:t>matviishinan@msosh279.ru</a:t>
            </a:r>
            <a:r>
              <a:rPr b="0" lang="ru-RU" sz="2400" spc="-1" strike="noStrike">
                <a:solidFill>
                  <a:srgbClr val="ff0000"/>
                </a:solidFill>
                <a:latin typeface="HelveticaNeue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до 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Candara"/>
              </a:rPr>
              <a:t>26 апреля 2020года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86880" y="785520"/>
            <a:ext cx="875196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100" spc="-1" strike="noStrike">
                <a:solidFill>
                  <a:srgbClr val="ffff00"/>
                </a:solidFill>
                <a:latin typeface="Arial"/>
              </a:rPr>
              <a:t>«Ранн</a:t>
            </a:r>
            <a:r>
              <a:rPr b="1" lang="ru-RU" sz="6100" spc="-1" strike="noStrike">
                <a:solidFill>
                  <a:srgbClr val="ffff00"/>
                </a:solidFill>
                <a:latin typeface="Arial"/>
              </a:rPr>
              <a:t>ие</a:t>
            </a:r>
            <a:r>
              <a:rPr b="1" lang="en-US" sz="6100" spc="-1" strike="noStrike">
                <a:solidFill>
                  <a:srgbClr val="ffff00"/>
                </a:solidFill>
                <a:latin typeface="Arial"/>
              </a:rPr>
              <a:t> полов</a:t>
            </a:r>
            <a:r>
              <a:rPr b="1" lang="ru-RU" sz="6100" spc="-1" strike="noStrike">
                <a:solidFill>
                  <a:srgbClr val="ffff00"/>
                </a:solidFill>
                <a:latin typeface="Arial"/>
              </a:rPr>
              <a:t>ые</a:t>
            </a:r>
            <a:endParaRPr b="0" lang="en-US" sz="61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61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6100" spc="-1" strike="noStrike">
                <a:solidFill>
                  <a:srgbClr val="ffff00"/>
                </a:solidFill>
                <a:latin typeface="Arial"/>
              </a:rPr>
              <a:t>связ</a:t>
            </a:r>
            <a:r>
              <a:rPr b="1" lang="ru-RU" sz="6100" spc="-1" strike="noStrike">
                <a:solidFill>
                  <a:srgbClr val="ffff00"/>
                </a:solidFill>
                <a:latin typeface="Arial"/>
              </a:rPr>
              <a:t>и и их </a:t>
            </a:r>
            <a:endParaRPr b="0" lang="en-US" sz="61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61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6100" spc="-1" strike="noStrike">
                <a:solidFill>
                  <a:srgbClr val="ffff00"/>
                </a:solidFill>
                <a:latin typeface="Arial"/>
              </a:rPr>
              <a:t>последствия»</a:t>
            </a:r>
            <a:endParaRPr b="0" lang="en-US" sz="6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2416320" y="5826240"/>
            <a:ext cx="40957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8880" y="569520"/>
            <a:ext cx="19429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0" lang="en-US" sz="3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2631600" y="4457880"/>
            <a:ext cx="6853320" cy="26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6520" indent="-343080">
              <a:lnSpc>
                <a:spcPct val="95000"/>
              </a:lnSpc>
              <a:buClr>
                <a:srgbClr val="ff99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айти ответ на поставленный вопрос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06520" indent="-343080">
              <a:lnSpc>
                <a:spcPct val="95000"/>
              </a:lnSpc>
              <a:buClr>
                <a:srgbClr val="ff99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оказать последствия начала ранней половой близост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2246400" y="1405080"/>
            <a:ext cx="736128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Изучить статистику ранних половых связей и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научить сверстников правильному половому поведению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1550880" y="3494160"/>
            <a:ext cx="194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70c0"/>
                </a:solidFill>
                <a:latin typeface="Arial"/>
              </a:rPr>
              <a:t>Задачи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76320" y="472680"/>
            <a:ext cx="820728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5300" spc="-1" strike="noStrike">
                <a:solidFill>
                  <a:srgbClr val="862110"/>
                </a:solidFill>
                <a:latin typeface="Arial"/>
              </a:rPr>
              <a:t>ПОЛОВАЯ ЗРЕЛОСТЬ</a:t>
            </a:r>
            <a:endParaRPr b="0" lang="en-US" sz="53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2"/>
          <a:stretch/>
        </p:blipFill>
        <p:spPr>
          <a:xfrm>
            <a:off x="412920" y="1692360"/>
            <a:ext cx="8064360" cy="52718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5"/>
          <p:cNvSpPr/>
          <p:nvPr/>
        </p:nvSpPr>
        <p:spPr>
          <a:xfrm>
            <a:off x="552600" y="1828800"/>
            <a:ext cx="397512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8621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62110"/>
                </a:solidFill>
                <a:latin typeface="Arial"/>
              </a:rPr>
              <a:t>Как уже известно, половая зрелость человека наступает гораздо раньше его социальной, гражданской зрелости — времени, когда молодые люди должны создавать свою семью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200160" y="-360"/>
            <a:ext cx="9680400" cy="7410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ndara"/>
              </a:rPr>
              <a:t>Вступление в половые отношения в подростковом возрасте, как правило, происходит по следующим обстоятельствам: скука, алкогольное опьянение, материальная выгода, желание привлечь к себе внимание и удержать партнера, для самоутверждения, как средство доказать свою взрослость, насилие.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ndara"/>
              </a:rPr>
              <a:t>Американские психологи проводили исследования и пришли к выводу, что ранний сексуальный опыт может развить подростковую депрессию и даже способен привести к суициду. Специалисты России в целом соглашаются с выводами коллег: секс – это мина замедленного действия, которая при неумелом обращении может серьёзно повлиять на психику подростков. 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10880" y="1730520"/>
            <a:ext cx="9937800" cy="568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ndara"/>
              </a:rPr>
              <a:t>Чтобы чувствовать себя менее одиноким или стать популярной;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ndara"/>
              </a:rPr>
              <a:t>Чтобы продемонстрировать свою независимость от родителей;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ndara"/>
              </a:rPr>
              <a:t>Попытка утвердить своё «я» через секс, потому что очень неуверенно чувствуют себя и хотят таким образом подчеркнуть свою привлекательность. Мужчины пытаются подтвердить свое мужское начало, женщины – доказать всему миру и самим себе, что они желанны, что их могут любить;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ndara"/>
              </a:rPr>
              <a:t>Чтобы удержать любовь;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ndara"/>
              </a:rPr>
              <a:t>Потому что «все это делают».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39560" y="209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ndara"/>
              </a:rPr>
              <a:t>         </a:t>
            </a:r>
            <a:r>
              <a:rPr b="1" lang="ru-RU" sz="4400" spc="-1" strike="noStrike">
                <a:solidFill>
                  <a:srgbClr val="ffff00"/>
                </a:solidFill>
                <a:latin typeface="Candara"/>
              </a:rPr>
              <a:t>Причины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Candara"/>
              </a:rPr>
              <a:t>         ранних половых отношен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Скругленный прямоугольник 30"/>
          <p:cNvSpPr/>
          <p:nvPr/>
        </p:nvSpPr>
        <p:spPr>
          <a:xfrm>
            <a:off x="5827680" y="2081160"/>
            <a:ext cx="3997440" cy="108432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Скругленный прямоугольник 29"/>
          <p:cNvSpPr/>
          <p:nvPr/>
        </p:nvSpPr>
        <p:spPr>
          <a:xfrm>
            <a:off x="1703520" y="6377040"/>
            <a:ext cx="4124160" cy="103644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Скругленный прямоугольник 28"/>
          <p:cNvSpPr/>
          <p:nvPr/>
        </p:nvSpPr>
        <p:spPr>
          <a:xfrm>
            <a:off x="6518160" y="5722920"/>
            <a:ext cx="3541680" cy="130644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Скругленный прямоугольник 27"/>
          <p:cNvSpPr/>
          <p:nvPr/>
        </p:nvSpPr>
        <p:spPr>
          <a:xfrm>
            <a:off x="1084320" y="4876920"/>
            <a:ext cx="4362480" cy="89676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Скругленный прямоугольник 26"/>
          <p:cNvSpPr/>
          <p:nvPr/>
        </p:nvSpPr>
        <p:spPr>
          <a:xfrm>
            <a:off x="6435720" y="3637080"/>
            <a:ext cx="3706920" cy="123984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Скругленный прямоугольник 25"/>
          <p:cNvSpPr/>
          <p:nvPr/>
        </p:nvSpPr>
        <p:spPr>
          <a:xfrm>
            <a:off x="1084320" y="3209760"/>
            <a:ext cx="4362480" cy="75276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Скругленный прямоугольник 22"/>
          <p:cNvSpPr/>
          <p:nvPr/>
        </p:nvSpPr>
        <p:spPr>
          <a:xfrm>
            <a:off x="471600" y="1876320"/>
            <a:ext cx="4154400" cy="75420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80" y="496440"/>
            <a:ext cx="10059840" cy="122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итуации, которые провоцируют на интимную близость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6" name="Прямоугольник 5"/>
          <p:cNvSpPr/>
          <p:nvPr/>
        </p:nvSpPr>
        <p:spPr>
          <a:xfrm>
            <a:off x="687240" y="1876320"/>
            <a:ext cx="393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тельное уединение вдво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оугольник 6"/>
          <p:cNvSpPr/>
          <p:nvPr/>
        </p:nvSpPr>
        <p:spPr>
          <a:xfrm>
            <a:off x="5815800" y="2225520"/>
            <a:ext cx="42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ый выезд на дачу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у с ночев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14"/>
          <p:cNvSpPr/>
          <p:nvPr/>
        </p:nvSpPr>
        <p:spPr>
          <a:xfrm>
            <a:off x="1084320" y="4927680"/>
            <a:ext cx="40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ражание взросл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анерах пове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15"/>
          <p:cNvSpPr/>
          <p:nvPr/>
        </p:nvSpPr>
        <p:spPr>
          <a:xfrm>
            <a:off x="6721560" y="3724200"/>
            <a:ext cx="34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черкивающая сексуальность одеж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Прямоугольник 16"/>
          <p:cNvSpPr/>
          <p:nvPr/>
        </p:nvSpPr>
        <p:spPr>
          <a:xfrm>
            <a:off x="1390680" y="3090960"/>
            <a:ext cx="39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ьное опьянен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ействие наркот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Прямоугольник 18"/>
          <p:cNvSpPr/>
          <p:nvPr/>
        </p:nvSpPr>
        <p:spPr>
          <a:xfrm>
            <a:off x="6897600" y="5762520"/>
            <a:ext cx="29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мотр порнографической проду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Прямоугольник 21"/>
          <p:cNvSpPr/>
          <p:nvPr/>
        </p:nvSpPr>
        <p:spPr>
          <a:xfrm>
            <a:off x="1895400" y="6357960"/>
            <a:ext cx="39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овенные разгово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ексуальные 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4"/>
          <p:cNvSpPr/>
          <p:nvPr/>
        </p:nvSpPr>
        <p:spPr>
          <a:xfrm>
            <a:off x="722160" y="388800"/>
            <a:ext cx="8801280" cy="40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d0d0d"/>
                </a:solidFill>
                <a:latin typeface="Arial"/>
              </a:rPr>
              <a:t>Ранняя половая жизнь не только не облегчает, но, наоборот, усложняет достижение гармонии, способствует возникновению и развитию некоторых половых расстройств и выработке неправильных представлений о взаимоотношениях между мужем и женой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6" descr=""/>
          <p:cNvPicPr/>
          <p:nvPr/>
        </p:nvPicPr>
        <p:blipFill>
          <a:blip r:embed="rId2"/>
          <a:stretch/>
        </p:blipFill>
        <p:spPr>
          <a:xfrm>
            <a:off x="2416320" y="4097160"/>
            <a:ext cx="4968720" cy="33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35240" y="425160"/>
            <a:ext cx="76327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ЗАКОНСПЕКТИРОВАТЬ!!!</a:t>
            </a:r>
            <a:br>
              <a:rPr sz="28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482760" y="966960"/>
            <a:ext cx="9102600" cy="654048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5"/>
          <p:cNvSpPr/>
          <p:nvPr/>
        </p:nvSpPr>
        <p:spPr>
          <a:xfrm>
            <a:off x="111240" y="1073160"/>
            <a:ext cx="10048680" cy="62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160b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5a160b"/>
                </a:solidFill>
                <a:latin typeface="Arial"/>
              </a:rPr>
              <a:t>ПОСЛЕДСТВИЯ РАННЕЙ ПОЛОВОЙ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Arial"/>
              </a:rPr>
              <a:t>          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Arial"/>
              </a:rPr>
              <a:t>ранняя беременность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, которая чаще всего заканчивается 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Arial"/>
              </a:rPr>
              <a:t>абортом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со всеми его негативными последствия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Arial"/>
              </a:rPr>
              <a:t>          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Arial"/>
              </a:rPr>
              <a:t>воспалительные заболевания половых путей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и опасность заражения болезнями, передающимися половым путе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Arial"/>
              </a:rPr>
              <a:t>       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Arial"/>
              </a:rPr>
              <a:t>гинекологические заболевания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как следствие аборта, беременности и родов в подростковом возраст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трудноразрешимые социальные и морально-этические проблемы, связанные с ранним материнство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ранняя половая жизнь опасна тем, что приводит к нарушению гормональной регуляции репродуктивной системы, которая в этом возрасте только налаживается</a:t>
            </a:r>
            <a:r>
              <a:rPr b="1" lang="en-US" sz="2200" spc="-1" strike="noStrike">
                <a:solidFill>
                  <a:srgbClr val="0d0d0d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DMIN</cp:lastModifiedBy>
  <dcterms:modified xsi:type="dcterms:W3CDTF">2020-04-20T09:20:4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140000000000010250300207f7000400038000</vt:lpwstr>
  </property>
</Properties>
</file>