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1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524-F956-482E-9484-6D3062C7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F7D-70E8-4ADD-9F9E-657A5607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813C-6FC0-4A7A-AD4D-7C55FE2B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5156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3508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6804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5156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3508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9AA-9898-4534-BD51-E891DF1B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C4A7-FDEE-46A1-BC73-29AA47BE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EB3F-47B7-49B9-B8A2-3149883B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6A87-10D4-4E56-9EC2-E3288789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54A0-108F-40E6-A200-6AF54BF1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ABF5-5303-4AA1-AF76-0029363F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07960" y="375840"/>
            <a:ext cx="914400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EE81-9B0E-4583-A05E-C303BA6B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31E0-5BC0-4E5A-9135-77A50C45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822F-E484-4227-A4DD-4E209A9A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17D9-A3E9-4B06-8CAF-BDFCCE35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557E-E52D-4281-9F94-26C24D29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13A5-3492-4570-B33F-7CCE69EC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9F42-37B8-4FD1-BE88-5328BD52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5156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3508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6804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75156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3508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9A58-8674-4664-B054-D9D707D3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D8075-1095-4B89-B31D-E2D8173A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1FD17-9002-45A2-8F77-3013CC8F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B4AB6-E5D1-43CB-A54D-A8F1078D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48CB3-B0D2-44F4-B643-D9BE87C1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F9531-FF25-4F58-AECD-2166C986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180B-0919-468E-9FC1-8000A846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7960" y="375840"/>
            <a:ext cx="914400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7C467-686E-4A60-9770-778CCF5C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FA7A9-7A2F-46E0-AB02-5BEB39A3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CDBBC-3E6F-4B29-8A7B-4F6ECE19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84E47-637B-4118-8216-1024764E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FAF92-9A5D-4557-9A7A-3B02C253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BFA3E-68DE-4269-9FCA-A4E29027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75156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3508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6804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75156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3508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5F0D0-B18C-49C4-8029-C967B9B3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BC570-C7B2-469D-BE18-B47E63EA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8C287-07A2-4443-AD57-1F10A4B3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739E5-45B9-4774-8621-516E7749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63B0-F208-40DA-9D30-CCCC9099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11106-B9BE-470A-ACBE-BD8F4AF8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5ECE6-6D49-47EB-A6C5-3A736557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07960" y="375840"/>
            <a:ext cx="914400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D97F7-007E-42C8-B788-D50891A1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22873-A1A5-4B83-9EA2-4014D4DB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4008B-527E-4222-981C-C4B7839A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BF2B7-9625-48BF-A3E1-748B2224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2C590-24E1-4211-B028-2D9390F8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7DADD-98B9-4619-BB68-E85D2E6E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75156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53508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96804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75156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53508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74FED-1725-4B10-B691-E6253B0B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54914-24F2-4AFF-AED8-E00DD167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C2A8-AD53-4D55-BB27-F3AD6B9E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AC79B-FECF-436A-83BC-8A554E62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EC0E8-BA0A-4678-8B47-4E58D970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60EF4-C42C-47EF-820D-493B02D7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1DF55-9DE4-4BFB-BCD7-E608884F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07960" y="375840"/>
            <a:ext cx="914400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D2D6B-A077-4CA4-AE8C-CEC91C30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61733-6543-4117-8514-4217B0FD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25EA4-2487-48B7-B5F5-4C8C3726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7BE06-A484-4769-BF52-DE792EEC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6B7D1-E3FE-41E9-B6CE-65CB2BEB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A49BF-5823-4874-8EE4-88C21848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07960" y="375840"/>
            <a:ext cx="914400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D182-BF28-4075-90B7-1379CC63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75156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53508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96804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75156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53508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8E467-AB16-41BC-BFE3-CFAA7B02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6E049-2E1D-4679-AAC3-95704C5E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A6FBB-1E8E-40E8-A716-660D6066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66D7B-A0CA-4654-BC2E-44E32B48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523D7-E0EE-4CE5-9D1E-CBC2AAF7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019CA-29D5-4E05-AD7C-DACC8EF8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7960" y="375840"/>
            <a:ext cx="914400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956D0-6A42-457B-B64F-A5A6D0DC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112C4-EED7-4950-9ACD-CC91F0F1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D2F38-0D7D-4299-9B56-27A519DD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7F5E2-30DD-4131-A7EE-53EDCC72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B3C-33AB-46FB-85C0-4A22CE38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2F705-5981-474B-AF51-55024BC6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959F8-B8A5-46FF-AC62-370BD378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5156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3508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6804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5156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3508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F1CC1-AEC4-49AB-BC02-06A7C167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BB914-146B-47D9-A456-8C6F7FB2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057C3-62D7-4128-AF30-819E9130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B3DEF-AB60-42A9-81AE-D1F19D73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8342D-046F-44BF-8AAA-DCFE2347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F0693-4D61-476B-B7EA-FAD8A5E6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07960" y="375840"/>
            <a:ext cx="914400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5D6F3-1BC6-443F-8B3E-804A7A39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131A2-2342-4CD6-8352-5587145E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6E7D-BB18-46EB-B609-75102400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3F818-5B03-4C0E-B4DC-44503079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2E14F-77A8-4F0B-B75C-8308668A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214B2-F7E7-40F0-B2CC-515DF955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76FA0-456F-4900-8C31-E5D3A51D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75156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53508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96804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75156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53508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CA3C1-9CBE-4278-AE82-1B5D1574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A21-E912-4117-9703-D0F9EB55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54160" y="254160"/>
            <a:ext cx="96613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35080" y="1865160"/>
            <a:ext cx="9693000" cy="1478160"/>
            <a:chOff x="235080" y="1865160"/>
            <a:chExt cx="9693000" cy="1478160"/>
          </a:xfrm>
        </p:grpSpPr>
        <p:sp>
          <p:nvSpPr>
            <p:cNvPr id="2" name="Freeform 14"/>
            <p:cNvSpPr/>
            <p:nvPr/>
          </p:nvSpPr>
          <p:spPr>
            <a:xfrm>
              <a:off x="6719400" y="2026080"/>
              <a:ext cx="3196080" cy="7938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910240" y="1883520"/>
              <a:ext cx="6160680" cy="9450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3142800" y="1897200"/>
              <a:ext cx="6075720" cy="8607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6233040" y="1882440"/>
              <a:ext cx="3675600" cy="72432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35080" y="1865160"/>
              <a:ext cx="9693000" cy="14781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737320" y="6945480"/>
            <a:ext cx="4206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15640" y="6945480"/>
            <a:ext cx="42066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4433760" y="6945480"/>
            <a:ext cx="12924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6D13-FBD9-4EC4-8E14-84AA63921744}" type="slidenum">
              <a:rPr b="0" lang="en-US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54160" y="254160"/>
            <a:ext cx="9661320" cy="67053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35080" y="5948280"/>
            <a:ext cx="9693000" cy="1479600"/>
            <a:chOff x="235080" y="5948280"/>
            <a:chExt cx="9693000" cy="1479600"/>
          </a:xfrm>
        </p:grpSpPr>
        <p:sp>
          <p:nvSpPr>
            <p:cNvPr id="50" name="Freeform 14"/>
            <p:cNvSpPr/>
            <p:nvPr/>
          </p:nvSpPr>
          <p:spPr>
            <a:xfrm>
              <a:off x="6728040" y="6109560"/>
              <a:ext cx="3200040" cy="7945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913840" y="5966640"/>
              <a:ext cx="6168600" cy="9460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3146760" y="5980320"/>
              <a:ext cx="6083640" cy="8614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6240600" y="5965560"/>
              <a:ext cx="3680280" cy="7250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35080" y="5948280"/>
              <a:ext cx="9693000" cy="14796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737320" y="6945480"/>
            <a:ext cx="4206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215640" y="6945480"/>
            <a:ext cx="42066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4433760" y="6945480"/>
            <a:ext cx="12924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0FE8-E696-4960-BED0-AA081336520D}" type="slidenum">
              <a:rPr b="0" lang="en-US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54160" y="254160"/>
            <a:ext cx="9661320" cy="526248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719760" y="4670280"/>
            <a:ext cx="3195720" cy="79380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909880" y="4527720"/>
            <a:ext cx="6161040" cy="9442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3143160" y="4541760"/>
            <a:ext cx="6075360" cy="86040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6232680" y="4527720"/>
            <a:ext cx="3674880" cy="72360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35080" y="4510080"/>
            <a:ext cx="9693000" cy="14763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737320" y="6945480"/>
            <a:ext cx="4206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15640" y="6945480"/>
            <a:ext cx="42066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4433760" y="6945480"/>
            <a:ext cx="12924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8552-8B78-4917-B42D-084882138A96}" type="slidenum">
              <a:rPr b="0" lang="en-US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54160" y="254160"/>
            <a:ext cx="9661320" cy="15840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35080" y="793800"/>
            <a:ext cx="9693000" cy="1477800"/>
            <a:chOff x="235080" y="793800"/>
            <a:chExt cx="9693000" cy="1477800"/>
          </a:xfrm>
        </p:grpSpPr>
        <p:sp>
          <p:nvSpPr>
            <p:cNvPr id="145" name="Freeform 14"/>
            <p:cNvSpPr/>
            <p:nvPr/>
          </p:nvSpPr>
          <p:spPr>
            <a:xfrm>
              <a:off x="6719400" y="954720"/>
              <a:ext cx="3196080" cy="7934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910240" y="812160"/>
              <a:ext cx="6160680" cy="9446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3142800" y="825840"/>
              <a:ext cx="6075720" cy="8604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6233040" y="811080"/>
              <a:ext cx="3675600" cy="723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35080" y="793800"/>
              <a:ext cx="9693000" cy="14778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737320" y="6945480"/>
            <a:ext cx="4206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15640" y="6945480"/>
            <a:ext cx="42066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433760" y="6945480"/>
            <a:ext cx="12924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EB55-E15B-4D36-897A-F8907B39E082}" type="slidenum">
              <a:rPr b="0" lang="en-US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54160" y="254160"/>
            <a:ext cx="9661320" cy="15840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35080" y="793800"/>
            <a:ext cx="9693000" cy="1479600"/>
            <a:chOff x="235080" y="793800"/>
            <a:chExt cx="9693000" cy="1479600"/>
          </a:xfrm>
        </p:grpSpPr>
        <p:sp>
          <p:nvSpPr>
            <p:cNvPr id="193" name="Freeform 14"/>
            <p:cNvSpPr/>
            <p:nvPr/>
          </p:nvSpPr>
          <p:spPr>
            <a:xfrm>
              <a:off x="6728040" y="955080"/>
              <a:ext cx="3200040" cy="7945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913840" y="812160"/>
              <a:ext cx="6168600" cy="9460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3146760" y="825840"/>
              <a:ext cx="6083640" cy="8614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6240600" y="811080"/>
              <a:ext cx="3680280" cy="7250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35080" y="793800"/>
              <a:ext cx="9693000" cy="14796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737320" y="6945480"/>
            <a:ext cx="4206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215640" y="6945480"/>
            <a:ext cx="42066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4433760" y="6945480"/>
            <a:ext cx="12924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DAB3-982A-4201-81C8-678C6FF0D6B1}" type="slidenum">
              <a:rPr b="0" lang="en-US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54160" y="254160"/>
            <a:ext cx="9661320" cy="67053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35080" y="5948280"/>
            <a:ext cx="9693000" cy="1479600"/>
            <a:chOff x="235080" y="5948280"/>
            <a:chExt cx="9693000" cy="1479600"/>
          </a:xfrm>
        </p:grpSpPr>
        <p:sp>
          <p:nvSpPr>
            <p:cNvPr id="241" name="Freeform 14"/>
            <p:cNvSpPr/>
            <p:nvPr/>
          </p:nvSpPr>
          <p:spPr>
            <a:xfrm>
              <a:off x="6728040" y="6109560"/>
              <a:ext cx="3200040" cy="7945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913840" y="5966640"/>
              <a:ext cx="6168600" cy="9460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3146760" y="5980320"/>
              <a:ext cx="6083640" cy="8614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6240600" y="5965560"/>
              <a:ext cx="3680280" cy="7250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35080" y="5948280"/>
              <a:ext cx="9693000" cy="14796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737320" y="6945480"/>
            <a:ext cx="4206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215640" y="6945480"/>
            <a:ext cx="42066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4433760" y="6945480"/>
            <a:ext cx="12924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BA6C-4897-405A-A9F7-7E19445CF5F2}" type="slidenum">
              <a:rPr b="0" lang="en-US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54160" y="254160"/>
            <a:ext cx="9661320" cy="15840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35080" y="793800"/>
            <a:ext cx="9693000" cy="1479600"/>
            <a:chOff x="235080" y="793800"/>
            <a:chExt cx="9693000" cy="1479600"/>
          </a:xfrm>
        </p:grpSpPr>
        <p:sp>
          <p:nvSpPr>
            <p:cNvPr id="289" name="Freeform 14"/>
            <p:cNvSpPr/>
            <p:nvPr/>
          </p:nvSpPr>
          <p:spPr>
            <a:xfrm>
              <a:off x="6728040" y="955080"/>
              <a:ext cx="3200040" cy="7945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913840" y="812160"/>
              <a:ext cx="6168600" cy="9460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3146760" y="825840"/>
              <a:ext cx="6083640" cy="8614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6240600" y="811080"/>
              <a:ext cx="3680280" cy="7250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35080" y="793800"/>
              <a:ext cx="9693000" cy="14796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737320" y="6945480"/>
            <a:ext cx="4206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215640" y="6945480"/>
            <a:ext cx="42066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4433760" y="6945480"/>
            <a:ext cx="12924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AF7B-073D-4F67-94A2-61B1AE36A1D8}" type="slidenum">
              <a:rPr b="0" lang="en-US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medicinform.net/" TargetMode="External"/><Relationship Id="rId3" Type="http://schemas.openxmlformats.org/officeDocument/2006/relationships/hyperlink" Target="mailto:matviishinan@msosh279.ru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6880" y="1649160"/>
            <a:ext cx="9506160" cy="3546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ndara"/>
              </a:rPr>
              <a:t>Здравствуйте, ребята!</a:t>
            </a: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ndara"/>
              </a:rPr>
              <a:t>1.Представляю вам очередную тему наших занятий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ndara"/>
              </a:rPr>
              <a:t>2. Прошу отнестись со всей серьезностью к выполнению рекомендаций1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ndara"/>
              </a:rPr>
              <a:t>3. Работу выполнять без напоминаний, не так много я задаю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ndara"/>
              </a:rPr>
              <a:t>4. За «красивые глазки» оценок ставить не буду. Надо хоть немножко потрудиться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ndara"/>
              </a:rPr>
              <a:t>5. Успехов!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6120" y="304560"/>
            <a:ext cx="820908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0d0d0d"/>
                </a:solidFill>
                <a:latin typeface="Arial"/>
              </a:rPr>
              <a:t>АБОРТ — ВОТ ЦЕНА, КОТОРУЮ ПРИХОДИТСЯ ПЛАТИТЬ ЗА ТО, ЧТО У ТЕБЯ ЕСТЬ ГОРМОНЫ</a:t>
            </a:r>
            <a:endParaRPr b="0" lang="en-US" sz="3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326880" y="2154240"/>
            <a:ext cx="554544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зультате раннего полового контакта девушке может угрожать нежеланная беременность, в то время как она ни физически, ни психологически, ни социально еще не готова к материнств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5" descr=""/>
          <p:cNvPicPr/>
          <p:nvPr/>
        </p:nvPicPr>
        <p:blipFill>
          <a:blip r:embed="rId2"/>
          <a:stretch/>
        </p:blipFill>
        <p:spPr>
          <a:xfrm>
            <a:off x="6010200" y="1946160"/>
            <a:ext cx="351468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98440" y="50760"/>
            <a:ext cx="939312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НЕРИЧЕСКИЕ ЗАБОЛЕВАНИЯ, ПСИХОЛОГИЧЕСКИЕ РАССТРОЙСТВА, В СЛЕДСТВИИ РАННЕЙ ПОЛОВОЙ ЖИЗНИ 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336600" y="1217520"/>
            <a:ext cx="9577440" cy="60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Преждевременная половая жизнь оказывает опустошающее воздействие на эмоционально-психическую сферу и вредит здоровью. Она обедняет полноту сексуальных эмоций, особенно у женщин, нередко делая их навсегда фригидными ( холодными), ставит под сомнение прочность предстоящего брака, делает легкими супружеские измены в будущем, ведет к возникновению тяжелых семейных коллизий и конфлик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Заболевания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 ППП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 (Передающиеся Половым Путем)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– это не только «традиционные» инфекционные заболевания, как то: гонорея, сифилис – но и те, риск заражения которыми, возрос в последние десятилетия: например, СПИД и вирус герпес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58520" y="5322960"/>
            <a:ext cx="820908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ЕМ МЛАДШЕ ПОДРОСТОК В МОМЕНТ СВОЕЙ ПЕРВОЙ ПОЛОВОЙ СВЯЗИ, ТЕМ МЕНЬШЕ ЭТА СВЯЗЬ МОТИВИРУЕТСЯ ЛЮБОВЬЮ, ТЕМ БОЛЬШЕ В НЕЙ СЛУЧАЙНОГО, СИТУАТИВНОГО</a:t>
            </a:r>
            <a:r>
              <a:rPr b="0" lang="ru-RU" sz="2700" spc="-1" strike="noStrike">
                <a:solidFill>
                  <a:srgbClr val="fff39d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2"/>
          <a:stretch/>
        </p:blipFill>
        <p:spPr>
          <a:xfrm>
            <a:off x="422280" y="168120"/>
            <a:ext cx="4160880" cy="5092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3"/>
          <a:stretch/>
        </p:blipFill>
        <p:spPr>
          <a:xfrm>
            <a:off x="5502240" y="168120"/>
            <a:ext cx="414972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52600" y="388800"/>
            <a:ext cx="820872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4900" spc="-1" strike="noStrike">
                <a:solidFill>
                  <a:srgbClr val="3c3e42"/>
                </a:solidFill>
                <a:latin typeface="Arial"/>
              </a:rPr>
              <a:t>МУДРОСТЬ……….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68360" y="1574640"/>
            <a:ext cx="4397400" cy="42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d0d0d"/>
                </a:solidFill>
                <a:latin typeface="Arial"/>
              </a:rPr>
              <a:t>Невинность – это пробуждающаяся чувственность, которая ещё не понимает себя. </a:t>
            </a:r>
            <a:r>
              <a:rPr b="1" i="1" lang="en-US" sz="2700" spc="-1" strike="noStrike">
                <a:solidFill>
                  <a:srgbClr val="0d0d0d"/>
                </a:solidFill>
                <a:latin typeface="Arial"/>
              </a:rPr>
              <a:t>Геббель Кристиан Фридрих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d0d0d"/>
                </a:solidFill>
                <a:latin typeface="Arial"/>
              </a:rPr>
              <a:t>Влюбиться – не грех; грех обычно совершается позже. </a:t>
            </a:r>
            <a:r>
              <a:rPr b="1" i="1" lang="en-US" sz="2700" spc="-1" strike="noStrike">
                <a:solidFill>
                  <a:srgbClr val="0d0d0d"/>
                </a:solidFill>
                <a:latin typeface="Arial"/>
              </a:rPr>
              <a:t>Збышек Крыгел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5" descr=""/>
          <p:cNvPicPr/>
          <p:nvPr/>
        </p:nvPicPr>
        <p:blipFill>
          <a:blip r:embed="rId2"/>
          <a:stretch/>
        </p:blipFill>
        <p:spPr>
          <a:xfrm>
            <a:off x="5248440" y="1862280"/>
            <a:ext cx="340992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21800" y="473040"/>
            <a:ext cx="820764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ЛИРИЧЕСКОЕ ОТСТУПЛЕНИЕ</a:t>
            </a:r>
            <a:r>
              <a:rPr b="0" lang="ru-RU" sz="3300" spc="-1" strike="noStrike">
                <a:solidFill>
                  <a:srgbClr val="fff39d"/>
                </a:solidFill>
                <a:latin typeface="Arial"/>
              </a:rPr>
              <a:t>…</a:t>
            </a:r>
            <a:endParaRPr b="0" lang="en-US" sz="33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2"/>
          <a:stretch/>
        </p:blipFill>
        <p:spPr>
          <a:xfrm>
            <a:off x="507960" y="1692360"/>
            <a:ext cx="4075200" cy="439416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5"/>
          <p:cNvSpPr/>
          <p:nvPr/>
        </p:nvSpPr>
        <p:spPr>
          <a:xfrm>
            <a:off x="4789440" y="1828800"/>
            <a:ext cx="4734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вочка мальчику розу дарит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вую розу с куст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вочку мальчик целует в уст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вым лобзаньем дари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лнышко скрылось, аллея пуста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ыдно в уста целовать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вочка, надо ли было срывать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вую розу с куста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арина Цветае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52600" y="355320"/>
            <a:ext cx="82087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Arial"/>
              </a:rPr>
              <a:t>Вывод: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8800920" cy="53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Ранняя половая связь -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необузданный половой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инстинкт, ведущий к распущенности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4"/>
          <p:cNvGraphicFramePr/>
          <p:nvPr/>
        </p:nvGraphicFramePr>
        <p:xfrm>
          <a:off x="111240" y="324000"/>
          <a:ext cx="9793080" cy="718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40" y="324000"/>
                    <a:ext cx="9793080" cy="71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2"/>
          <p:cNvSpPr/>
          <p:nvPr/>
        </p:nvSpPr>
        <p:spPr>
          <a:xfrm>
            <a:off x="399960" y="5538960"/>
            <a:ext cx="95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Т. Смирнов, Б.О. Хренников «Учебник ОБЖ 9 класс», М. Прсвещение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.Б.Коростелев «От А до Я». М.: Медицина. – 1987. – 288 с.: и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80ff"/>
                </a:solidFill>
                <a:uFillTx/>
                <a:latin typeface="Times New Roman"/>
                <a:hlinkClick r:id="rId2"/>
              </a:rPr>
              <a:t>www.medicinform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42520" y="353880"/>
            <a:ext cx="8636040" cy="4570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Домашнее зада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А. Изучите материал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. Законспектируйте материал (1 слайд)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Ответ подписать, скопировать,  переслать по электронной почте </a:t>
            </a:r>
            <a:r>
              <a:rPr b="0" lang="en-US" sz="2400" spc="-1" strike="noStrike" u="sng">
                <a:solidFill>
                  <a:srgbClr val="0080ff"/>
                </a:solidFill>
                <a:uFillTx/>
                <a:latin typeface="HelveticaNeue"/>
                <a:hlinkClick r:id="rId3"/>
              </a:rPr>
              <a:t>matviishinan@msosh279.ru</a:t>
            </a:r>
            <a:r>
              <a:rPr b="0" lang="ru-RU" sz="2400" spc="-1" strike="noStrike">
                <a:solidFill>
                  <a:srgbClr val="ff0000"/>
                </a:solidFill>
                <a:latin typeface="HelveticaNeue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до 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Candara"/>
              </a:rPr>
              <a:t>26 апреля 2020года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86880" y="785520"/>
            <a:ext cx="875196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100" spc="-1" strike="noStrike">
                <a:solidFill>
                  <a:srgbClr val="ffff00"/>
                </a:solidFill>
                <a:latin typeface="Arial"/>
              </a:rPr>
              <a:t>«Ранн</a:t>
            </a:r>
            <a:r>
              <a:rPr b="1" lang="ru-RU" sz="6100" spc="-1" strike="noStrike">
                <a:solidFill>
                  <a:srgbClr val="ffff00"/>
                </a:solidFill>
                <a:latin typeface="Arial"/>
              </a:rPr>
              <a:t>ие</a:t>
            </a:r>
            <a:r>
              <a:rPr b="1" lang="en-US" sz="6100" spc="-1" strike="noStrike">
                <a:solidFill>
                  <a:srgbClr val="ffff00"/>
                </a:solidFill>
                <a:latin typeface="Arial"/>
              </a:rPr>
              <a:t> полов</a:t>
            </a:r>
            <a:r>
              <a:rPr b="1" lang="ru-RU" sz="6100" spc="-1" strike="noStrike">
                <a:solidFill>
                  <a:srgbClr val="ffff00"/>
                </a:solidFill>
                <a:latin typeface="Arial"/>
              </a:rPr>
              <a:t>ые</a:t>
            </a:r>
            <a:endParaRPr b="0" lang="en-US" sz="61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61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6100" spc="-1" strike="noStrike">
                <a:solidFill>
                  <a:srgbClr val="ffff00"/>
                </a:solidFill>
                <a:latin typeface="Arial"/>
              </a:rPr>
              <a:t>связ</a:t>
            </a:r>
            <a:r>
              <a:rPr b="1" lang="ru-RU" sz="6100" spc="-1" strike="noStrike">
                <a:solidFill>
                  <a:srgbClr val="ffff00"/>
                </a:solidFill>
                <a:latin typeface="Arial"/>
              </a:rPr>
              <a:t>и и их </a:t>
            </a:r>
            <a:endParaRPr b="0" lang="en-US" sz="61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61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6100" spc="-1" strike="noStrike">
                <a:solidFill>
                  <a:srgbClr val="ffff00"/>
                </a:solidFill>
                <a:latin typeface="Arial"/>
              </a:rPr>
              <a:t>последствия»</a:t>
            </a:r>
            <a:endParaRPr b="0" lang="en-US" sz="6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2416320" y="5826240"/>
            <a:ext cx="40957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8880" y="569520"/>
            <a:ext cx="19429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0" lang="en-US" sz="3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2631600" y="4457880"/>
            <a:ext cx="6853320" cy="26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6520" indent="-343080">
              <a:lnSpc>
                <a:spcPct val="95000"/>
              </a:lnSpc>
              <a:buClr>
                <a:srgbClr val="ff99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айти ответ на поставленный вопрос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06520" indent="-343080">
              <a:lnSpc>
                <a:spcPct val="95000"/>
              </a:lnSpc>
              <a:buClr>
                <a:srgbClr val="ff99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оказать последствия начала ранней половой близост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2246400" y="1405080"/>
            <a:ext cx="736128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Изучить статистику ранних половых связей и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научить сверстников правильному половому поведению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1550880" y="3494160"/>
            <a:ext cx="194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70c0"/>
                </a:solidFill>
                <a:latin typeface="Arial"/>
              </a:rPr>
              <a:t>Задачи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76320" y="472680"/>
            <a:ext cx="820728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5300" spc="-1" strike="noStrike">
                <a:solidFill>
                  <a:srgbClr val="862110"/>
                </a:solidFill>
                <a:latin typeface="Arial"/>
              </a:rPr>
              <a:t>ПОЛОВАЯ ЗРЕЛОСТЬ</a:t>
            </a:r>
            <a:endParaRPr b="0" lang="en-US" sz="53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2"/>
          <a:stretch/>
        </p:blipFill>
        <p:spPr>
          <a:xfrm>
            <a:off x="412920" y="1692360"/>
            <a:ext cx="8064360" cy="52718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5"/>
          <p:cNvSpPr/>
          <p:nvPr/>
        </p:nvSpPr>
        <p:spPr>
          <a:xfrm>
            <a:off x="552600" y="1828800"/>
            <a:ext cx="397512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8621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62110"/>
                </a:solidFill>
                <a:latin typeface="Arial"/>
              </a:rPr>
              <a:t>Как уже известно, половая зрелость человека наступает гораздо раньше его социальной, гражданской зрелости — времени, когда молодые люди должны создавать свою семью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200160" y="-360"/>
            <a:ext cx="9680400" cy="7410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ndara"/>
              </a:rPr>
              <a:t>Вступление в половые отношения в подростковом возрасте, как правило, происходит по следующим обстоятельствам: скука, алкогольное опьянение, материальная выгода, желание привлечь к себе внимание и удержать партнера, для самоутверждения, как средство доказать свою взрослость, насилие.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ndara"/>
              </a:rPr>
              <a:t>Американские психологи проводили исследования и пришли к выводу, что ранний сексуальный опыт может развить подростковую депрессию и даже способен привести к суициду. Специалисты России в целом соглашаются с выводами коллег: секс – это мина замедленного действия, которая при неумелом обращении может серьёзно повлиять на психику подростков. 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10880" y="1730520"/>
            <a:ext cx="9937800" cy="568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ndara"/>
              </a:rPr>
              <a:t>Чтобы чувствовать себя менее одиноким или стать популярной;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ndara"/>
              </a:rPr>
              <a:t>Чтобы продемонстрировать свою независимость от родителей;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ndara"/>
              </a:rPr>
              <a:t>Попытка утвердить своё «я» через секс, потому что очень неуверенно чувствуют себя и хотят таким образом подчеркнуть свою привлекательность. Мужчины пытаются подтвердить свое мужское начало, женщины – доказать всему миру и самим себе, что они желанны, что их могут любить;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ndara"/>
              </a:rPr>
              <a:t>Чтобы удержать любовь;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ndara"/>
              </a:rPr>
              <a:t>Потому что «все это делают».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39560" y="209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ndara"/>
              </a:rPr>
              <a:t>         </a:t>
            </a:r>
            <a:r>
              <a:rPr b="1" lang="ru-RU" sz="4400" spc="-1" strike="noStrike">
                <a:solidFill>
                  <a:srgbClr val="ffff00"/>
                </a:solidFill>
                <a:latin typeface="Candara"/>
              </a:rPr>
              <a:t>Причины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Candara"/>
              </a:rPr>
              <a:t>         ранних половых отношен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Скругленный прямоугольник 30"/>
          <p:cNvSpPr/>
          <p:nvPr/>
        </p:nvSpPr>
        <p:spPr>
          <a:xfrm>
            <a:off x="5827680" y="2081160"/>
            <a:ext cx="3997440" cy="108432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Скругленный прямоугольник 29"/>
          <p:cNvSpPr/>
          <p:nvPr/>
        </p:nvSpPr>
        <p:spPr>
          <a:xfrm>
            <a:off x="1703520" y="6377040"/>
            <a:ext cx="4124160" cy="103644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Скругленный прямоугольник 28"/>
          <p:cNvSpPr/>
          <p:nvPr/>
        </p:nvSpPr>
        <p:spPr>
          <a:xfrm>
            <a:off x="6518160" y="5722920"/>
            <a:ext cx="3541680" cy="130644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Скругленный прямоугольник 27"/>
          <p:cNvSpPr/>
          <p:nvPr/>
        </p:nvSpPr>
        <p:spPr>
          <a:xfrm>
            <a:off x="1084320" y="4876920"/>
            <a:ext cx="4362480" cy="89676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Скругленный прямоугольник 26"/>
          <p:cNvSpPr/>
          <p:nvPr/>
        </p:nvSpPr>
        <p:spPr>
          <a:xfrm>
            <a:off x="6435720" y="3637080"/>
            <a:ext cx="3706920" cy="123984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Скругленный прямоугольник 25"/>
          <p:cNvSpPr/>
          <p:nvPr/>
        </p:nvSpPr>
        <p:spPr>
          <a:xfrm>
            <a:off x="1084320" y="3209760"/>
            <a:ext cx="4362480" cy="75276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Скругленный прямоугольник 22"/>
          <p:cNvSpPr/>
          <p:nvPr/>
        </p:nvSpPr>
        <p:spPr>
          <a:xfrm>
            <a:off x="471600" y="1876320"/>
            <a:ext cx="4154400" cy="75420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80" y="496440"/>
            <a:ext cx="10059840" cy="122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итуации, которые провоцируют на интимную близость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6" name="Прямоугольник 5"/>
          <p:cNvSpPr/>
          <p:nvPr/>
        </p:nvSpPr>
        <p:spPr>
          <a:xfrm>
            <a:off x="687240" y="1876320"/>
            <a:ext cx="393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тельное уединение вдво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оугольник 6"/>
          <p:cNvSpPr/>
          <p:nvPr/>
        </p:nvSpPr>
        <p:spPr>
          <a:xfrm>
            <a:off x="5815800" y="2225520"/>
            <a:ext cx="42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ый выезд на дачу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у с ночев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14"/>
          <p:cNvSpPr/>
          <p:nvPr/>
        </p:nvSpPr>
        <p:spPr>
          <a:xfrm>
            <a:off x="1084320" y="4927680"/>
            <a:ext cx="40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ражание взросл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анерах пове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15"/>
          <p:cNvSpPr/>
          <p:nvPr/>
        </p:nvSpPr>
        <p:spPr>
          <a:xfrm>
            <a:off x="6721560" y="3724200"/>
            <a:ext cx="34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черкивающая сексуальность одеж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Прямоугольник 16"/>
          <p:cNvSpPr/>
          <p:nvPr/>
        </p:nvSpPr>
        <p:spPr>
          <a:xfrm>
            <a:off x="1390680" y="3090960"/>
            <a:ext cx="39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ьное опьянен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ействие наркот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Прямоугольник 18"/>
          <p:cNvSpPr/>
          <p:nvPr/>
        </p:nvSpPr>
        <p:spPr>
          <a:xfrm>
            <a:off x="6897600" y="5762520"/>
            <a:ext cx="29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мотр порнографической проду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Прямоугольник 21"/>
          <p:cNvSpPr/>
          <p:nvPr/>
        </p:nvSpPr>
        <p:spPr>
          <a:xfrm>
            <a:off x="1895400" y="6357960"/>
            <a:ext cx="39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овенные разгово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ексуальные 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4"/>
          <p:cNvSpPr/>
          <p:nvPr/>
        </p:nvSpPr>
        <p:spPr>
          <a:xfrm>
            <a:off x="722160" y="388800"/>
            <a:ext cx="8801280" cy="40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d0d0d"/>
                </a:solidFill>
                <a:latin typeface="Arial"/>
              </a:rPr>
              <a:t>Ранняя половая жизнь не только не облегчает, но, наоборот, усложняет достижение гармонии, способствует возникновению и развитию некоторых половых расстройств и выработке неправильных представлений о взаимоотношениях между мужем и женой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6" descr=""/>
          <p:cNvPicPr/>
          <p:nvPr/>
        </p:nvPicPr>
        <p:blipFill>
          <a:blip r:embed="rId2"/>
          <a:stretch/>
        </p:blipFill>
        <p:spPr>
          <a:xfrm>
            <a:off x="2416320" y="4097160"/>
            <a:ext cx="4968720" cy="33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35240" y="425160"/>
            <a:ext cx="76327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ЗАКОНСПЕКТИРОВАТЬ!!!</a:t>
            </a:r>
            <a:br>
              <a:rPr sz="28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482760" y="966960"/>
            <a:ext cx="9102600" cy="654048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5"/>
          <p:cNvSpPr/>
          <p:nvPr/>
        </p:nvSpPr>
        <p:spPr>
          <a:xfrm>
            <a:off x="111240" y="1073160"/>
            <a:ext cx="10048680" cy="62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160b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5a160b"/>
                </a:solidFill>
                <a:latin typeface="Arial"/>
              </a:rPr>
              <a:t>ПОСЛЕДСТВИЯ РАННЕЙ ПОЛОВОЙ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Arial"/>
              </a:rPr>
              <a:t>          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Arial"/>
              </a:rPr>
              <a:t>ранняя беременность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, которая чаще всего заканчивается 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Arial"/>
              </a:rPr>
              <a:t>абортом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со всеми его негативными последствия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Arial"/>
              </a:rPr>
              <a:t>          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Arial"/>
              </a:rPr>
              <a:t>воспалительные заболевания половых путей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и опасность заражения болезнями, передающимися половым путе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Arial"/>
              </a:rPr>
              <a:t>       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Arial"/>
              </a:rPr>
              <a:t>гинекологические заболевания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как следствие аборта, беременности и родов в подростковом возраст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трудноразрешимые социальные и морально-этические проблемы, связанные с ранним материнство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ранняя половая жизнь опасна тем, что приводит к нарушению гормональной регуляции репродуктивной системы, которая в этом возрасте только налаживается</a:t>
            </a:r>
            <a:r>
              <a:rPr b="1" lang="en-US" sz="2200" spc="-1" strike="noStrike">
                <a:solidFill>
                  <a:srgbClr val="0d0d0d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DMIN</cp:lastModifiedBy>
  <dcterms:modified xsi:type="dcterms:W3CDTF">2020-04-20T09:20:4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140000000000010250300207f7000400038000</vt:lpwstr>
  </property>
</Properties>
</file>