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1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A91-36B5-4ABC-8327-D4401FDC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B32-FA6D-43DD-9E31-61009DB7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029-7219-4275-AA7C-C7E51A39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5156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3508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6804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5156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3508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94C-3D11-467B-8D9B-CA4653DA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B108-121C-4EAE-8E13-7777CA92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CBCE-C02A-4A2D-A806-A6D4F818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4C03-40B4-4836-8D25-BB3D0A04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F492-1F63-40B3-AA6C-97D4B2AB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2EA7-5CCE-4537-BE0F-819C8D50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07960" y="375840"/>
            <a:ext cx="914400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3647-6E49-4C43-9915-6A255ADD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5332-39FB-4EC2-93E3-438B2EBF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20B-4E1B-4D9C-880C-702D4D1F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0B44-63CF-4C30-8081-403A5A49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4D17-2893-446F-8F9E-45848A4D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8185-811D-40CB-AA07-C25833A4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ABF8-0143-46A6-B3E1-6BCF38F7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5156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3508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6804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75156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3508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D961-89CB-4B9D-95AB-E40B04B8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7266E-C74D-4E4A-9E76-A6B606BA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595D0-8472-4EE2-9551-E5A129D0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69046-1D84-4A82-9C90-21C9DFF6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142B1-D018-43C6-8008-7F5BAE4D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110C6-C460-4A85-8A04-CD669F64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CAB-BBC0-49FE-A661-70860F44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7960" y="375840"/>
            <a:ext cx="914400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CB201-5F62-46EE-8768-A1388E1F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AA81A-38B3-40D1-B9DB-43273FA0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1CEE1-5C42-4C64-B257-3E6E37D4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9FCE9-DFB4-4053-9EA4-591512A9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353B6-09FE-49FE-80C6-BD9082BC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070C9-292E-4E48-B55C-4088D6A5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75156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3508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6804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75156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3508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1B5DF-3606-4FF8-9475-1817A90B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0D6B1-539E-428B-AE9A-4DA7794D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FD3CC-3070-417E-83BC-209AE367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FA373-033F-4CB4-94AE-6F35358B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413A-FE8C-4F8E-8290-14D3A40C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649CB-F60B-48C5-AFB9-5D5419DA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B2206-78D5-4B30-8CBD-C27BEA5A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07960" y="375840"/>
            <a:ext cx="914400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08401-353B-4864-9135-BF0E7833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526FC-1A43-4C4F-A713-D9C8DF91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30B9F-CA6D-4661-9129-ED04C521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D3879-969F-49EA-B14C-294E1DE6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F7760-B4CC-47F2-A229-3E9C5494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A282B-91DE-4DE1-9F61-612CBCC1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75156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53508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96804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75156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53508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E0A9D-F342-4120-BEF1-560DEA1A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5B640-5AC3-4AC5-A777-14D9398A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CF9-0804-4EAF-B363-80E6952C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833EA-2129-4914-AA58-54BB5D92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DCD59-4349-424F-AC71-3E6CDBFD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ED128-D1DD-4655-8411-8422B553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1D8A2-A674-4BFA-A34B-4597718A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07960" y="375840"/>
            <a:ext cx="914400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65C21-9FA9-4C2F-A167-4A1C1289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4950D-130C-4BB8-AB82-A7E9218E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ED9B2-6213-4A34-BE26-AD6AF6C2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A9C00-B0EC-41D8-B410-E78D762A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862F2-C1B0-4102-8569-B01EBD53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F4E4D-132B-4787-946C-AE49D7E3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07960" y="375840"/>
            <a:ext cx="914400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81B-DA34-4E8D-83AD-69C1E922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75156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53508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96804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75156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53508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EB900-724F-4EC7-807B-374AA55C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B3DFC-FBD9-4D47-BF8E-F9F3821C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DBA71-97A3-4F89-A389-477F3C59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83D64-4218-4D08-AB59-7931EBF7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584F5-8EAC-4C1C-BC51-634694B8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5C003-8695-4659-8E43-2D26EF59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7960" y="375840"/>
            <a:ext cx="914400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0495C-65D0-4F8F-A28C-B3B5DD44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8DFF1-D9DD-4B3F-87F7-380FACFE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6A899-7784-4567-862E-D0A4A565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D4223-0CE0-4E10-A9D5-53E8982E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3E33-D52B-49D1-9694-F5B7858C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66A3C-BE01-4B04-85C0-F7E8D946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BF400-17FD-4BC0-AD13-16A3A3AF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5156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3508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6804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5156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3508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63B5E-B2E7-4D1C-AB16-0E08B98D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31132-6F5C-465C-A122-BF9414F7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3B122-BA0C-46EA-929E-2A76442B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16617-B50B-4AA9-AF5E-4BFD7900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46715-8FC0-4BE7-85AF-BFD30F9E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A6D45-122E-4054-A347-167DCF81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07960" y="375840"/>
            <a:ext cx="914400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65F7E-34BC-4A89-9876-DAC21AEB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495F3-265D-4C1E-B1A0-AC10EFDF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262-BDC7-4CA0-B0A3-5126A52E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00B25-D351-48B6-85B3-907DCDCA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5F2AD-BE60-4235-865E-348634F4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A3DB9-B97E-49AF-87AD-8A5FAC85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186880" y="497628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668DD-AD81-4F03-9DC9-F193FFE2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75156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535080" y="297324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96804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75156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535080" y="4976280"/>
            <a:ext cx="26506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93D5A-5E7C-48B2-A0C9-64AFF545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6804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973240"/>
            <a:ext cx="40176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68040" y="4976280"/>
            <a:ext cx="823284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CDE-1A5E-4FBA-BADC-F8048C97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54160" y="254160"/>
            <a:ext cx="9661320" cy="2743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35080" y="1865160"/>
            <a:ext cx="9693000" cy="1478160"/>
            <a:chOff x="235080" y="1865160"/>
            <a:chExt cx="9693000" cy="1478160"/>
          </a:xfrm>
        </p:grpSpPr>
        <p:sp>
          <p:nvSpPr>
            <p:cNvPr id="2" name="Freeform 14"/>
            <p:cNvSpPr/>
            <p:nvPr/>
          </p:nvSpPr>
          <p:spPr>
            <a:xfrm>
              <a:off x="6719400" y="2026080"/>
              <a:ext cx="3196080" cy="7938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910240" y="1883520"/>
              <a:ext cx="6160680" cy="9450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3142800" y="1897200"/>
              <a:ext cx="6075720" cy="8607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6233040" y="1882440"/>
              <a:ext cx="3675600" cy="72432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35080" y="1865160"/>
              <a:ext cx="9693000" cy="14781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737320" y="6945480"/>
            <a:ext cx="4206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15640" y="6945480"/>
            <a:ext cx="42066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4433760" y="6945480"/>
            <a:ext cx="12924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5496-C1A3-4B77-977E-D5FD0EDE68CE}" type="slidenum">
              <a:rPr b="0" lang="en-US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54160" y="254160"/>
            <a:ext cx="9661320" cy="67053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35080" y="5948280"/>
            <a:ext cx="9693000" cy="1479600"/>
            <a:chOff x="235080" y="5948280"/>
            <a:chExt cx="9693000" cy="1479600"/>
          </a:xfrm>
        </p:grpSpPr>
        <p:sp>
          <p:nvSpPr>
            <p:cNvPr id="50" name="Freeform 14"/>
            <p:cNvSpPr/>
            <p:nvPr/>
          </p:nvSpPr>
          <p:spPr>
            <a:xfrm>
              <a:off x="6728040" y="6109560"/>
              <a:ext cx="3200040" cy="7945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913840" y="5966640"/>
              <a:ext cx="6168600" cy="9460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3146760" y="5980320"/>
              <a:ext cx="6083640" cy="8614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6240600" y="5965560"/>
              <a:ext cx="3680280" cy="7250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35080" y="5948280"/>
              <a:ext cx="9693000" cy="14796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737320" y="6945480"/>
            <a:ext cx="4206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215640" y="6945480"/>
            <a:ext cx="42066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4433760" y="6945480"/>
            <a:ext cx="12924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943E-BD71-436F-A8DF-5F2A65F1B066}" type="slidenum">
              <a:rPr b="0" lang="en-US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54160" y="254160"/>
            <a:ext cx="9661320" cy="526248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719760" y="4670280"/>
            <a:ext cx="3195720" cy="79380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909880" y="4527720"/>
            <a:ext cx="6161040" cy="9442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3143160" y="4541760"/>
            <a:ext cx="6075360" cy="86040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6232680" y="4527720"/>
            <a:ext cx="3674880" cy="72360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35080" y="4510080"/>
            <a:ext cx="9693000" cy="14763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737320" y="6945480"/>
            <a:ext cx="4206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15640" y="6945480"/>
            <a:ext cx="42066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4433760" y="6945480"/>
            <a:ext cx="12924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CD53-CB7F-4D7D-A74F-5BA97C323BC5}" type="slidenum">
              <a:rPr b="0" lang="en-US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54160" y="254160"/>
            <a:ext cx="9661320" cy="15840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35080" y="793800"/>
            <a:ext cx="9693000" cy="1477800"/>
            <a:chOff x="235080" y="793800"/>
            <a:chExt cx="9693000" cy="1477800"/>
          </a:xfrm>
        </p:grpSpPr>
        <p:sp>
          <p:nvSpPr>
            <p:cNvPr id="145" name="Freeform 14"/>
            <p:cNvSpPr/>
            <p:nvPr/>
          </p:nvSpPr>
          <p:spPr>
            <a:xfrm>
              <a:off x="6719400" y="954720"/>
              <a:ext cx="3196080" cy="7934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910240" y="812160"/>
              <a:ext cx="6160680" cy="9446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3142800" y="825840"/>
              <a:ext cx="6075720" cy="8604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6233040" y="811080"/>
              <a:ext cx="3675600" cy="723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35080" y="793800"/>
              <a:ext cx="9693000" cy="14778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737320" y="6945480"/>
            <a:ext cx="4206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15640" y="6945480"/>
            <a:ext cx="42066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433760" y="6945480"/>
            <a:ext cx="12924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58D9-7643-4035-A01E-5BDB95323E59}" type="slidenum">
              <a:rPr b="0" lang="en-US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54160" y="254160"/>
            <a:ext cx="9661320" cy="15840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35080" y="793800"/>
            <a:ext cx="9693000" cy="1479600"/>
            <a:chOff x="235080" y="793800"/>
            <a:chExt cx="9693000" cy="1479600"/>
          </a:xfrm>
        </p:grpSpPr>
        <p:sp>
          <p:nvSpPr>
            <p:cNvPr id="193" name="Freeform 14"/>
            <p:cNvSpPr/>
            <p:nvPr/>
          </p:nvSpPr>
          <p:spPr>
            <a:xfrm>
              <a:off x="6728040" y="955080"/>
              <a:ext cx="3200040" cy="7945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913840" y="812160"/>
              <a:ext cx="6168600" cy="9460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3146760" y="825840"/>
              <a:ext cx="6083640" cy="8614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6240600" y="811080"/>
              <a:ext cx="3680280" cy="7250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35080" y="793800"/>
              <a:ext cx="9693000" cy="14796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737320" y="6945480"/>
            <a:ext cx="4206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215640" y="6945480"/>
            <a:ext cx="42066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4433760" y="6945480"/>
            <a:ext cx="12924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2E11-1D55-4285-AE16-68DDBB96E643}" type="slidenum">
              <a:rPr b="0" lang="en-US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54160" y="254160"/>
            <a:ext cx="9661320" cy="67053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35080" y="5948280"/>
            <a:ext cx="9693000" cy="1479600"/>
            <a:chOff x="235080" y="5948280"/>
            <a:chExt cx="9693000" cy="1479600"/>
          </a:xfrm>
        </p:grpSpPr>
        <p:sp>
          <p:nvSpPr>
            <p:cNvPr id="241" name="Freeform 14"/>
            <p:cNvSpPr/>
            <p:nvPr/>
          </p:nvSpPr>
          <p:spPr>
            <a:xfrm>
              <a:off x="6728040" y="6109560"/>
              <a:ext cx="3200040" cy="7945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913840" y="5966640"/>
              <a:ext cx="6168600" cy="9460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3146760" y="5980320"/>
              <a:ext cx="6083640" cy="8614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6240600" y="5965560"/>
              <a:ext cx="3680280" cy="7250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35080" y="5948280"/>
              <a:ext cx="9693000" cy="14796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737320" y="6945480"/>
            <a:ext cx="4206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215640" y="6945480"/>
            <a:ext cx="42066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4433760" y="6945480"/>
            <a:ext cx="12924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AC1F-3D70-4C51-8D46-5FD208E778A3}" type="slidenum">
              <a:rPr b="0" lang="en-US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54160" y="254160"/>
            <a:ext cx="9661320" cy="15840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35080" y="793800"/>
            <a:ext cx="9693000" cy="1479600"/>
            <a:chOff x="235080" y="793800"/>
            <a:chExt cx="9693000" cy="1479600"/>
          </a:xfrm>
        </p:grpSpPr>
        <p:sp>
          <p:nvSpPr>
            <p:cNvPr id="289" name="Freeform 14"/>
            <p:cNvSpPr/>
            <p:nvPr/>
          </p:nvSpPr>
          <p:spPr>
            <a:xfrm>
              <a:off x="6728040" y="955080"/>
              <a:ext cx="3200040" cy="7945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913840" y="812160"/>
              <a:ext cx="6168600" cy="9460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3146760" y="825840"/>
              <a:ext cx="6083640" cy="8614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6240600" y="811080"/>
              <a:ext cx="3680280" cy="7250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35080" y="793800"/>
              <a:ext cx="9693000" cy="14796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7960" y="375840"/>
            <a:ext cx="9144000" cy="139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68040" y="2973240"/>
            <a:ext cx="8232840" cy="3834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1" marL="639720" indent="-30312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2" marL="94932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3" marL="126828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4" marL="1623960" indent="-252360">
              <a:spcBef>
                <a:spcPts val="675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5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lvl="6" marL="1623960" indent="-252360">
              <a:spcBef>
                <a:spcPts val="675"/>
              </a:spcBef>
              <a:buClr>
                <a:srgbClr val="000000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737320" y="6945480"/>
            <a:ext cx="4206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215640" y="6945480"/>
            <a:ext cx="42066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4433760" y="6945480"/>
            <a:ext cx="12924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3F19-4525-47FB-95FC-B68A78BE9748}" type="slidenum">
              <a:rPr b="0" lang="en-US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medicinform.net/" TargetMode="External"/><Relationship Id="rId3" Type="http://schemas.openxmlformats.org/officeDocument/2006/relationships/hyperlink" Target="mailto:matviishinan@msosh279.ru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6880" y="1649160"/>
            <a:ext cx="9506160" cy="3546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ndara"/>
              </a:rPr>
              <a:t>Здравствуйте, ребята!</a:t>
            </a: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ndara"/>
              </a:rPr>
              <a:t>1.Представляю вам очередную тему наших занятий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ndara"/>
              </a:rPr>
              <a:t>2. Прошу отнестись со всей серьезностью к выполнению рекомендаций1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ndara"/>
              </a:rPr>
              <a:t>3. Работу выполнять без напоминаний, не так много я задаю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ndara"/>
              </a:rPr>
              <a:t>4. За «красивые глазки» оценок ставить не буду. Надо хоть немножко потрудиться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ndara"/>
              </a:rPr>
              <a:t>5. Успехов!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6120" y="304560"/>
            <a:ext cx="820908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000" spc="-1" strike="noStrike">
                <a:solidFill>
                  <a:srgbClr val="0d0d0d"/>
                </a:solidFill>
                <a:latin typeface="Arial"/>
              </a:rPr>
              <a:t>АБОРТ — ВОТ ЦЕНА, КОТОРУЮ ПРИХОДИТСЯ ПЛАТИТЬ ЗА ТО, ЧТО У ТЕБЯ ЕСТЬ ГОРМОНЫ</a:t>
            </a:r>
            <a:endParaRPr b="0" lang="en-US" sz="3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326880" y="2154240"/>
            <a:ext cx="554544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зультате раннего полового контакта девушке может угрожать нежеланная беременность, в то время как она ни физически, ни психологически, ни социально еще не готова к материнств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5" descr=""/>
          <p:cNvPicPr/>
          <p:nvPr/>
        </p:nvPicPr>
        <p:blipFill>
          <a:blip r:embed="rId2"/>
          <a:stretch/>
        </p:blipFill>
        <p:spPr>
          <a:xfrm>
            <a:off x="6010200" y="1946160"/>
            <a:ext cx="351468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98440" y="50760"/>
            <a:ext cx="939312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НЕРИЧЕСКИЕ ЗАБОЛЕВАНИЯ, ПСИХОЛОГИЧЕСКИЕ РАССТРОЙСТВА, В СЛЕДСТВИИ РАННЕЙ ПОЛОВОЙ ЖИЗНИ 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336600" y="1217520"/>
            <a:ext cx="9577440" cy="60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Преждевременная половая жизнь оказывает опустошающее воздействие на эмоционально-психическую сферу и вредит здоровью. Она обедняет полноту сексуальных эмоций, особенно у женщин, нередко делая их навсегда фригидными ( холодными), ставит под сомнение прочность предстоящего брака, делает легкими супружеские измены в будущем, ведет к возникновению тяжелых семейных коллизий и конфлик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Заболевания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 ППП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 (Передающиеся Половым Путем)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– это не только «традиционные» инфекционные заболевания, как то: гонорея, сифилис – но и те, риск заражения которыми, возрос в последние десятилетия: например, СПИД и вирус герпес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58520" y="5322960"/>
            <a:ext cx="820908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ЕМ МЛАДШЕ ПОДРОСТОК В МОМЕНТ СВОЕЙ ПЕРВОЙ ПОЛОВОЙ СВЯЗИ, ТЕМ МЕНЬШЕ ЭТА СВЯЗЬ МОТИВИРУЕТСЯ ЛЮБОВЬЮ, ТЕМ БОЛЬШЕ В НЕЙ СЛУЧАЙНОГО, СИТУАТИВНОГО</a:t>
            </a:r>
            <a:r>
              <a:rPr b="0" lang="ru-RU" sz="2700" spc="-1" strike="noStrike">
                <a:solidFill>
                  <a:srgbClr val="fff39d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2"/>
          <a:stretch/>
        </p:blipFill>
        <p:spPr>
          <a:xfrm>
            <a:off x="422280" y="168120"/>
            <a:ext cx="4160880" cy="5092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3"/>
          <a:stretch/>
        </p:blipFill>
        <p:spPr>
          <a:xfrm>
            <a:off x="5502240" y="168120"/>
            <a:ext cx="414972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52600" y="388800"/>
            <a:ext cx="820872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4900" spc="-1" strike="noStrike">
                <a:solidFill>
                  <a:srgbClr val="3c3e42"/>
                </a:solidFill>
                <a:latin typeface="Arial"/>
              </a:rPr>
              <a:t>МУДРОСТЬ……….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68360" y="1574640"/>
            <a:ext cx="4397400" cy="42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d0d0d"/>
                </a:solidFill>
                <a:latin typeface="Arial"/>
              </a:rPr>
              <a:t>Невинность – это пробуждающаяся чувственность, которая ещё не понимает себя. </a:t>
            </a:r>
            <a:r>
              <a:rPr b="1" i="1" lang="en-US" sz="2700" spc="-1" strike="noStrike">
                <a:solidFill>
                  <a:srgbClr val="0d0d0d"/>
                </a:solidFill>
                <a:latin typeface="Arial"/>
              </a:rPr>
              <a:t>Геббель Кристиан Фридрих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d0d0d"/>
                </a:solidFill>
                <a:latin typeface="Arial"/>
              </a:rPr>
              <a:t>Влюбиться – не грех; грех обычно совершается позже. </a:t>
            </a:r>
            <a:r>
              <a:rPr b="1" i="1" lang="en-US" sz="2700" spc="-1" strike="noStrike">
                <a:solidFill>
                  <a:srgbClr val="0d0d0d"/>
                </a:solidFill>
                <a:latin typeface="Arial"/>
              </a:rPr>
              <a:t>Збышек Крыгел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5" descr=""/>
          <p:cNvPicPr/>
          <p:nvPr/>
        </p:nvPicPr>
        <p:blipFill>
          <a:blip r:embed="rId2"/>
          <a:stretch/>
        </p:blipFill>
        <p:spPr>
          <a:xfrm>
            <a:off x="5248440" y="1862280"/>
            <a:ext cx="340992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21800" y="473040"/>
            <a:ext cx="820764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ЛИРИЧЕСКОЕ ОТСТУПЛЕНИЕ</a:t>
            </a:r>
            <a:r>
              <a:rPr b="0" lang="ru-RU" sz="3300" spc="-1" strike="noStrike">
                <a:solidFill>
                  <a:srgbClr val="fff39d"/>
                </a:solidFill>
                <a:latin typeface="Arial"/>
              </a:rPr>
              <a:t>…</a:t>
            </a:r>
            <a:endParaRPr b="0" lang="en-US" sz="33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2"/>
          <a:stretch/>
        </p:blipFill>
        <p:spPr>
          <a:xfrm>
            <a:off x="507960" y="1692360"/>
            <a:ext cx="4075200" cy="439416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5"/>
          <p:cNvSpPr/>
          <p:nvPr/>
        </p:nvSpPr>
        <p:spPr>
          <a:xfrm>
            <a:off x="4789440" y="1828800"/>
            <a:ext cx="4734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вочка мальчику розу дарит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вую розу с куст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вочку мальчик целует в уст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вым лобзаньем дари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лнышко скрылось, аллея пуста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ыдно в уста целовать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вочка, надо ли было срывать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вую розу с куста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арина Цветае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52600" y="355320"/>
            <a:ext cx="82087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Arial"/>
              </a:rPr>
              <a:t>Вывод: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8800920" cy="53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Ранняя половая связь -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необузданный половой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инстинкт, ведущий к распущенности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4"/>
          <p:cNvGraphicFramePr/>
          <p:nvPr/>
        </p:nvGraphicFramePr>
        <p:xfrm>
          <a:off x="111240" y="324000"/>
          <a:ext cx="9793080" cy="718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40" y="324000"/>
                    <a:ext cx="9793080" cy="71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2"/>
          <p:cNvSpPr/>
          <p:nvPr/>
        </p:nvSpPr>
        <p:spPr>
          <a:xfrm>
            <a:off x="399960" y="5538960"/>
            <a:ext cx="95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Т. Смирнов, Б.О. Хренников «Учебник ОБЖ 9 класс», М. Прсвещение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.Б.Коростелев «От А до Я». М.: Медицина. – 1987. – 288 с.: и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80ff"/>
                </a:solidFill>
                <a:uFillTx/>
                <a:latin typeface="Times New Roman"/>
                <a:hlinkClick r:id="rId2"/>
              </a:rPr>
              <a:t>www.medicinform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42520" y="353880"/>
            <a:ext cx="8636040" cy="4570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Домашнее зада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А. Изучите материал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. Законспектируйте материал (1 слайд)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Ответ подписать, скопировать,  переслать по электронной почте </a:t>
            </a:r>
            <a:r>
              <a:rPr b="0" lang="en-US" sz="2400" spc="-1" strike="noStrike" u="sng">
                <a:solidFill>
                  <a:srgbClr val="0080ff"/>
                </a:solidFill>
                <a:uFillTx/>
                <a:latin typeface="HelveticaNeue"/>
                <a:hlinkClick r:id="rId3"/>
              </a:rPr>
              <a:t>matviishinan@msosh279.ru</a:t>
            </a:r>
            <a:r>
              <a:rPr b="0" lang="ru-RU" sz="2400" spc="-1" strike="noStrike">
                <a:solidFill>
                  <a:srgbClr val="ff0000"/>
                </a:solidFill>
                <a:latin typeface="HelveticaNeue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до 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Candara"/>
              </a:rPr>
              <a:t>26 апреля 2020года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86880" y="785520"/>
            <a:ext cx="875196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100" spc="-1" strike="noStrike">
                <a:solidFill>
                  <a:srgbClr val="ffff00"/>
                </a:solidFill>
                <a:latin typeface="Arial"/>
              </a:rPr>
              <a:t>«Ранн</a:t>
            </a:r>
            <a:r>
              <a:rPr b="1" lang="ru-RU" sz="6100" spc="-1" strike="noStrike">
                <a:solidFill>
                  <a:srgbClr val="ffff00"/>
                </a:solidFill>
                <a:latin typeface="Arial"/>
              </a:rPr>
              <a:t>ие</a:t>
            </a:r>
            <a:r>
              <a:rPr b="1" lang="en-US" sz="6100" spc="-1" strike="noStrike">
                <a:solidFill>
                  <a:srgbClr val="ffff00"/>
                </a:solidFill>
                <a:latin typeface="Arial"/>
              </a:rPr>
              <a:t> полов</a:t>
            </a:r>
            <a:r>
              <a:rPr b="1" lang="ru-RU" sz="6100" spc="-1" strike="noStrike">
                <a:solidFill>
                  <a:srgbClr val="ffff00"/>
                </a:solidFill>
                <a:latin typeface="Arial"/>
              </a:rPr>
              <a:t>ые</a:t>
            </a:r>
            <a:endParaRPr b="0" lang="en-US" sz="61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61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6100" spc="-1" strike="noStrike">
                <a:solidFill>
                  <a:srgbClr val="ffff00"/>
                </a:solidFill>
                <a:latin typeface="Arial"/>
              </a:rPr>
              <a:t>связ</a:t>
            </a:r>
            <a:r>
              <a:rPr b="1" lang="ru-RU" sz="6100" spc="-1" strike="noStrike">
                <a:solidFill>
                  <a:srgbClr val="ffff00"/>
                </a:solidFill>
                <a:latin typeface="Arial"/>
              </a:rPr>
              <a:t>и и их </a:t>
            </a:r>
            <a:endParaRPr b="0" lang="en-US" sz="61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61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6100" spc="-1" strike="noStrike">
                <a:solidFill>
                  <a:srgbClr val="ffff00"/>
                </a:solidFill>
                <a:latin typeface="Arial"/>
              </a:rPr>
              <a:t>последствия»</a:t>
            </a:r>
            <a:endParaRPr b="0" lang="en-US" sz="6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2416320" y="5826240"/>
            <a:ext cx="40957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8880" y="569520"/>
            <a:ext cx="19429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0" lang="en-US" sz="3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2631600" y="4457880"/>
            <a:ext cx="6853320" cy="26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6520" indent="-343080">
              <a:lnSpc>
                <a:spcPct val="95000"/>
              </a:lnSpc>
              <a:buClr>
                <a:srgbClr val="ff99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айти ответ на поставленный вопрос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06520" indent="-343080">
              <a:lnSpc>
                <a:spcPct val="95000"/>
              </a:lnSpc>
              <a:buClr>
                <a:srgbClr val="ff99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оказать последствия начала ранней половой близост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2246400" y="1405080"/>
            <a:ext cx="736128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Изучить статистику ранних половых связей и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научить сверстников правильному половому поведению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1550880" y="3494160"/>
            <a:ext cx="194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70c0"/>
                </a:solidFill>
                <a:latin typeface="Arial"/>
              </a:rPr>
              <a:t>Задачи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76320" y="472680"/>
            <a:ext cx="820728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5300" spc="-1" strike="noStrike">
                <a:solidFill>
                  <a:srgbClr val="862110"/>
                </a:solidFill>
                <a:latin typeface="Arial"/>
              </a:rPr>
              <a:t>ПОЛОВАЯ ЗРЕЛОСТЬ</a:t>
            </a:r>
            <a:endParaRPr b="0" lang="en-US" sz="53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2"/>
          <a:stretch/>
        </p:blipFill>
        <p:spPr>
          <a:xfrm>
            <a:off x="412920" y="1692360"/>
            <a:ext cx="8064360" cy="52718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5"/>
          <p:cNvSpPr/>
          <p:nvPr/>
        </p:nvSpPr>
        <p:spPr>
          <a:xfrm>
            <a:off x="552600" y="1828800"/>
            <a:ext cx="397512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8621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62110"/>
                </a:solidFill>
                <a:latin typeface="Arial"/>
              </a:rPr>
              <a:t>Как уже известно, половая зрелость человека наступает гораздо раньше его социальной, гражданской зрелости — времени, когда молодые люди должны создавать свою семью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200160" y="-360"/>
            <a:ext cx="9680400" cy="7410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ndara"/>
              </a:rPr>
              <a:t>Вступление в половые отношения в подростковом возрасте, как правило, происходит по следующим обстоятельствам: скука, алкогольное опьянение, материальная выгода, желание привлечь к себе внимание и удержать партнера, для самоутверждения, как средство доказать свою взрослость, насилие.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ndara"/>
              </a:rPr>
              <a:t>Американские психологи проводили исследования и пришли к выводу, что ранний сексуальный опыт может развить подростковую депрессию и даже способен привести к суициду. Специалисты России в целом соглашаются с выводами коллег: секс – это мина замедленного действия, которая при неумелом обращении может серьёзно повлиять на психику подростков. 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10880" y="1730520"/>
            <a:ext cx="9937800" cy="568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ndara"/>
              </a:rPr>
              <a:t>Чтобы чувствовать себя менее одиноким или стать популярной;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ndara"/>
              </a:rPr>
              <a:t>Чтобы продемонстрировать свою независимость от родителей;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ndara"/>
              </a:rPr>
              <a:t>Попытка утвердить своё «я» через секс, потому что очень неуверенно чувствуют себя и хотят таким образом подчеркнуть свою привлекательность. Мужчины пытаются подтвердить свое мужское начало, женщины – доказать всему миру и самим себе, что они желанны, что их могут любить;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ndara"/>
              </a:rPr>
              <a:t>Чтобы удержать любовь;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ndara"/>
              </a:rPr>
              <a:t>Потому что «все это делают».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303120" indent="-303120">
              <a:lnSpc>
                <a:spcPct val="8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39560" y="209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ndara"/>
              </a:rPr>
              <a:t>         </a:t>
            </a:r>
            <a:r>
              <a:rPr b="1" lang="ru-RU" sz="4400" spc="-1" strike="noStrike">
                <a:solidFill>
                  <a:srgbClr val="ffff00"/>
                </a:solidFill>
                <a:latin typeface="Candara"/>
              </a:rPr>
              <a:t>Причины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Candara"/>
              </a:rPr>
              <a:t>         ранних половых отношен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Скругленный прямоугольник 30"/>
          <p:cNvSpPr/>
          <p:nvPr/>
        </p:nvSpPr>
        <p:spPr>
          <a:xfrm>
            <a:off x="5827680" y="2081160"/>
            <a:ext cx="3997440" cy="108432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Скругленный прямоугольник 29"/>
          <p:cNvSpPr/>
          <p:nvPr/>
        </p:nvSpPr>
        <p:spPr>
          <a:xfrm>
            <a:off x="1703520" y="6377040"/>
            <a:ext cx="4124160" cy="103644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Скругленный прямоугольник 28"/>
          <p:cNvSpPr/>
          <p:nvPr/>
        </p:nvSpPr>
        <p:spPr>
          <a:xfrm>
            <a:off x="6518160" y="5722920"/>
            <a:ext cx="3541680" cy="130644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Скругленный прямоугольник 27"/>
          <p:cNvSpPr/>
          <p:nvPr/>
        </p:nvSpPr>
        <p:spPr>
          <a:xfrm>
            <a:off x="1084320" y="4876920"/>
            <a:ext cx="4362480" cy="89676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Скругленный прямоугольник 26"/>
          <p:cNvSpPr/>
          <p:nvPr/>
        </p:nvSpPr>
        <p:spPr>
          <a:xfrm>
            <a:off x="6435720" y="3637080"/>
            <a:ext cx="3706920" cy="123984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Скругленный прямоугольник 25"/>
          <p:cNvSpPr/>
          <p:nvPr/>
        </p:nvSpPr>
        <p:spPr>
          <a:xfrm>
            <a:off x="1084320" y="3209760"/>
            <a:ext cx="4362480" cy="75276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Скругленный прямоугольник 22"/>
          <p:cNvSpPr/>
          <p:nvPr/>
        </p:nvSpPr>
        <p:spPr>
          <a:xfrm>
            <a:off x="471600" y="1876320"/>
            <a:ext cx="4154400" cy="75420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80" y="496440"/>
            <a:ext cx="10059840" cy="122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итуации, которые провоцируют на интимную близость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6" name="Прямоугольник 5"/>
          <p:cNvSpPr/>
          <p:nvPr/>
        </p:nvSpPr>
        <p:spPr>
          <a:xfrm>
            <a:off x="687240" y="1876320"/>
            <a:ext cx="393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тельное уединение вдво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оугольник 6"/>
          <p:cNvSpPr/>
          <p:nvPr/>
        </p:nvSpPr>
        <p:spPr>
          <a:xfrm>
            <a:off x="5815800" y="2225520"/>
            <a:ext cx="42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ый выезд на дачу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у с ночев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14"/>
          <p:cNvSpPr/>
          <p:nvPr/>
        </p:nvSpPr>
        <p:spPr>
          <a:xfrm>
            <a:off x="1084320" y="4927680"/>
            <a:ext cx="40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ражание взросл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анерах пове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15"/>
          <p:cNvSpPr/>
          <p:nvPr/>
        </p:nvSpPr>
        <p:spPr>
          <a:xfrm>
            <a:off x="6721560" y="3724200"/>
            <a:ext cx="34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черкивающая сексуальность одеж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Прямоугольник 16"/>
          <p:cNvSpPr/>
          <p:nvPr/>
        </p:nvSpPr>
        <p:spPr>
          <a:xfrm>
            <a:off x="1390680" y="3090960"/>
            <a:ext cx="39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ьное опьянен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ействие наркот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Прямоугольник 18"/>
          <p:cNvSpPr/>
          <p:nvPr/>
        </p:nvSpPr>
        <p:spPr>
          <a:xfrm>
            <a:off x="6897600" y="5762520"/>
            <a:ext cx="29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мотр порнографической проду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Прямоугольник 21"/>
          <p:cNvSpPr/>
          <p:nvPr/>
        </p:nvSpPr>
        <p:spPr>
          <a:xfrm>
            <a:off x="1895400" y="6357960"/>
            <a:ext cx="39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овенные разгово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ексуальные 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4"/>
          <p:cNvSpPr/>
          <p:nvPr/>
        </p:nvSpPr>
        <p:spPr>
          <a:xfrm>
            <a:off x="722160" y="388800"/>
            <a:ext cx="8801280" cy="40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d0d0d"/>
                </a:solidFill>
                <a:latin typeface="Arial"/>
              </a:rPr>
              <a:t>Ранняя половая жизнь не только не облегчает, но, наоборот, усложняет достижение гармонии, способствует возникновению и развитию некоторых половых расстройств и выработке неправильных представлений о взаимоотношениях между мужем и женой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6" descr=""/>
          <p:cNvPicPr/>
          <p:nvPr/>
        </p:nvPicPr>
        <p:blipFill>
          <a:blip r:embed="rId2"/>
          <a:stretch/>
        </p:blipFill>
        <p:spPr>
          <a:xfrm>
            <a:off x="2416320" y="4097160"/>
            <a:ext cx="4968720" cy="33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35240" y="425160"/>
            <a:ext cx="76327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ЗАКОНСПЕКТИРОВАТЬ!!!</a:t>
            </a:r>
            <a:br>
              <a:rPr sz="28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482760" y="966960"/>
            <a:ext cx="9102600" cy="654048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5"/>
          <p:cNvSpPr/>
          <p:nvPr/>
        </p:nvSpPr>
        <p:spPr>
          <a:xfrm>
            <a:off x="111240" y="1073160"/>
            <a:ext cx="10048680" cy="62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160b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5a160b"/>
                </a:solidFill>
                <a:latin typeface="Arial"/>
              </a:rPr>
              <a:t>ПОСЛЕДСТВИЯ РАННЕЙ ПОЛОВОЙ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Arial"/>
              </a:rPr>
              <a:t>          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Arial"/>
              </a:rPr>
              <a:t>ранняя беременность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, которая чаще всего заканчивается 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Arial"/>
              </a:rPr>
              <a:t>абортом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со всеми его негативными последствия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Arial"/>
              </a:rPr>
              <a:t>          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Arial"/>
              </a:rPr>
              <a:t>воспалительные заболевания половых путей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и опасность заражения болезнями, передающимися половым путе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Arial"/>
              </a:rPr>
              <a:t>       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Arial"/>
              </a:rPr>
              <a:t>гинекологические заболевания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 как следствие аборта, беременности и родов в подростковом возраст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трудноразрешимые социальные и морально-этические проблемы, связанные с ранним материнство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ранняя половая жизнь опасна тем, что приводит к нарушению гормональной регуляции репродуктивной системы, которая в этом возрасте только налаживается</a:t>
            </a:r>
            <a:r>
              <a:rPr b="1" lang="en-US" sz="2200" spc="-1" strike="noStrike">
                <a:solidFill>
                  <a:srgbClr val="0d0d0d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DMIN</cp:lastModifiedBy>
  <dcterms:modified xsi:type="dcterms:W3CDTF">2020-04-20T09:20:4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140000000000010250300207f7000400038000</vt:lpwstr>
  </property>
</Properties>
</file>