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0CBC-86AA-49AD-8D78-F90A1723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95F-2A5D-4E14-B7E0-C42C4939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128-7934-4339-8D29-03AE541C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C19-397D-4F74-B3E2-7948FDAF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351-BF86-4B29-89BF-3079EA69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330-8663-4407-9A8D-D6B32BB5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495-5574-43CA-AAAC-2456BFB3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5F0-E575-4B71-AD64-61E6C08E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3D4D-99D0-4FC3-9C44-999AF27C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636-DF2B-4E6C-81F2-43C7C841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D58-08DE-4A6E-BAD8-D58D62E7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1110-6A00-435A-89F9-A2AC57E8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3011-0CC1-46DB-8DFF-CF74364946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cabg005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971640" y="4797360"/>
            <a:ext cx="7007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ardvark"/>
              </a:rPr>
              <a:t>ВИКТОР ПЕТ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ardvark"/>
              </a:rPr>
              <a:t>АСТАФ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ardvark"/>
              </a:rPr>
              <a:t>«ВАСЮТКИНО ОЗЕР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(Урок литературы 5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298116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abg005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067280" y="1413000"/>
            <a:ext cx="4897440" cy="4465440"/>
          </a:xfrm>
          <a:prstGeom prst="rect">
            <a:avLst/>
          </a:prstGeom>
          <a:solidFill>
            <a:srgbClr val="ffcc99">
              <a:alpha val="6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1d00"/>
                </a:solidFill>
                <a:latin typeface="AG_Garamond"/>
              </a:rPr>
              <a:t>  </a:t>
            </a:r>
            <a:r>
              <a:rPr b="1" lang="ru-RU" sz="2800" spc="-1" strike="noStrike">
                <a:solidFill>
                  <a:srgbClr val="3a1d00"/>
                </a:solidFill>
                <a:latin typeface="AG_Garamond"/>
              </a:rPr>
              <a:t>Это</a:t>
            </a:r>
            <a:r>
              <a:rPr b="1" lang="en-US" sz="2800" spc="-1" strike="noStrike">
                <a:solidFill>
                  <a:srgbClr val="3a1d00"/>
                </a:solidFill>
                <a:latin typeface="AG_Garamond"/>
              </a:rPr>
              <a:t> </a:t>
            </a:r>
            <a:r>
              <a:rPr b="1" lang="ru-RU" sz="2800" spc="-1" strike="noStrike">
                <a:solidFill>
                  <a:srgbClr val="3a1d00"/>
                </a:solidFill>
                <a:latin typeface="AG_Garamond"/>
              </a:rPr>
              <a:t>автобиографичный рассказ, который</a:t>
            </a:r>
            <a:r>
              <a:rPr b="1" lang="en-US" sz="2800" spc="-1" strike="noStrike">
                <a:solidFill>
                  <a:srgbClr val="3a1d00"/>
                </a:solidFill>
                <a:latin typeface="AG_Garamond"/>
              </a:rPr>
              <a:t> </a:t>
            </a:r>
            <a:r>
              <a:rPr b="1" lang="ru-RU" sz="2800" spc="-1" strike="noStrike">
                <a:solidFill>
                  <a:srgbClr val="3a1d00"/>
                </a:solidFill>
                <a:latin typeface="AG_Garamond"/>
              </a:rPr>
              <a:t>оформился из школьного сочинения «Жи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1d00"/>
                </a:solidFill>
                <a:latin typeface="AG_Garamond"/>
              </a:rPr>
              <a:t>   </a:t>
            </a:r>
            <a:r>
              <a:rPr b="1" lang="ru-RU" sz="2800" spc="-1" strike="noStrike">
                <a:solidFill>
                  <a:srgbClr val="3a1d00"/>
                </a:solidFill>
                <a:latin typeface="AG_Garamond"/>
              </a:rPr>
              <a:t>Автор вспоминает о нескольких днях, проведенных им в тай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koster"/>
          <p:cNvPicPr/>
          <p:nvPr/>
        </p:nvPicPr>
        <p:blipFill>
          <a:blip r:embed="rId2"/>
          <a:stretch/>
        </p:blipFill>
        <p:spPr>
          <a:xfrm>
            <a:off x="179280" y="2421000"/>
            <a:ext cx="3718080" cy="3887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1836360" y="333360"/>
            <a:ext cx="60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1d00"/>
                </a:solidFill>
                <a:latin typeface="AG_Garamond"/>
              </a:rPr>
              <a:t>История создания расск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468360" y="472428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Землю люблю свою и не устаю удивляться её красоте, неистощимому терпению и доброт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жизнь предоставляла мне постоянную возможность быть на природе и с природой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П.Астаф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3284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640720" cy="5832360"/>
          </a:xfrm>
          <a:prstGeom prst="rect">
            <a:avLst/>
          </a:prstGeom>
          <a:solidFill>
            <a:srgbClr val="ffcc99">
              <a:alpha val="5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1d00"/>
                </a:solidFill>
                <a:latin typeface="Tahoma"/>
              </a:rPr>
              <a:t>  </a:t>
            </a:r>
            <a:r>
              <a:rPr b="1" lang="ru-RU" sz="2600" spc="-1" strike="noStrike">
                <a:solidFill>
                  <a:srgbClr val="582c00"/>
                </a:solidFill>
                <a:latin typeface="Tahoma"/>
              </a:rPr>
              <a:t>«Астафьев, несомненно, из числа тех</a:t>
            </a:r>
            <a:r>
              <a:rPr b="1" lang="en-US" sz="2600" spc="-1" strike="noStrike">
                <a:solidFill>
                  <a:srgbClr val="582c00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582c00"/>
                </a:solidFill>
                <a:latin typeface="Tahoma"/>
              </a:rPr>
              <a:t>писателей, о которых мы можем благодарно сказать, что они являются твердью нашей под ногами, нашей</a:t>
            </a:r>
            <a:r>
              <a:rPr b="1" lang="en-US" sz="2600" spc="-1" strike="noStrike">
                <a:solidFill>
                  <a:srgbClr val="582c00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582c00"/>
                </a:solidFill>
                <a:latin typeface="Tahoma"/>
              </a:rPr>
              <a:t>надеждой и упованием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82c00"/>
                </a:solidFill>
                <a:latin typeface="Tahoma"/>
              </a:rPr>
              <a:t>                                    </a:t>
            </a:r>
            <a:r>
              <a:rPr b="1" lang="ru-RU" sz="2600" spc="-1" strike="noStrike">
                <a:solidFill>
                  <a:srgbClr val="582c00"/>
                </a:solidFill>
                <a:latin typeface="Tahoma"/>
              </a:rPr>
              <a:t>                 </a:t>
            </a:r>
            <a:r>
              <a:rPr b="1" lang="en-US" sz="2600" spc="-1" strike="noStrike">
                <a:solidFill>
                  <a:srgbClr val="582c00"/>
                </a:solidFill>
                <a:latin typeface="Tahoma"/>
              </a:rPr>
              <a:t> </a:t>
            </a:r>
            <a:r>
              <a:rPr b="1" i="1" lang="ru-RU" sz="2600" spc="-1" strike="noStrike">
                <a:solidFill>
                  <a:srgbClr val="582c00"/>
                </a:solidFill>
                <a:latin typeface="Tahoma"/>
              </a:rPr>
              <a:t>А.Пантелеева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a1d00"/>
                </a:solidFill>
                <a:latin typeface="Tahoma"/>
              </a:rPr>
              <a:t>    </a:t>
            </a:r>
            <a:r>
              <a:rPr b="1" lang="ru-RU" sz="2600" spc="-1" strike="noStrike">
                <a:solidFill>
                  <a:srgbClr val="3a1d00"/>
                </a:solidFill>
                <a:latin typeface="Tahoma"/>
              </a:rPr>
              <a:t>«Виктор Петрович обладал редкостным свойством — быть благодарным… Ни один человек, давший ему хоть каплю добра, не затерялся в его памяти. Всем им нашлось место в астафьевских книгах».</a:t>
            </a:r>
            <a:r>
              <a:rPr b="1" lang="ru-RU" sz="2800" spc="-1" strike="noStrike">
                <a:solidFill>
                  <a:srgbClr val="3a1d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1d00"/>
                </a:solidFill>
                <a:latin typeface="Tahoma"/>
              </a:rPr>
              <a:t>                                                       </a:t>
            </a:r>
            <a:r>
              <a:rPr b="1" i="1" lang="ru-RU" sz="2600" spc="-1" strike="noStrike">
                <a:solidFill>
                  <a:srgbClr val="3a1d00"/>
                </a:solidFill>
                <a:latin typeface="Tahoma"/>
              </a:rPr>
              <a:t>Д.Шева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1d00"/>
                </a:solidFill>
                <a:latin typeface="AG_Garamond"/>
              </a:rPr>
              <a:t>Страницы биогра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11280" y="1197000"/>
            <a:ext cx="4753080" cy="5113440"/>
          </a:xfrm>
          <a:prstGeom prst="rect">
            <a:avLst/>
          </a:prstGeom>
          <a:solidFill>
            <a:srgbClr val="ffcc99">
              <a:alpha val="61000"/>
            </a:srgbClr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1d00"/>
                </a:solidFill>
                <a:latin typeface="AG_Garamond"/>
              </a:rPr>
              <a:t>    </a:t>
            </a:r>
            <a:r>
              <a:rPr b="1" lang="ru-RU" sz="2400" spc="-1" strike="noStrike">
                <a:solidFill>
                  <a:srgbClr val="3a1d00"/>
                </a:solidFill>
                <a:latin typeface="AG_Garamond"/>
              </a:rPr>
              <a:t>1 мая 1924 года в селе Овсянка, что на берегу Енисея, недалеко от Красноярска, в семье Петра Павловича и Лидии Ильиничны Астафьевых родился сын Виктор.              В семь лет мальчик потерял мать.Заступницей и кормилицей мальчика становится его бабушка - Екатерина Петровна Потылицын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720960" cy="4897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595080" y="6184800"/>
            <a:ext cx="28782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родителями 1931 г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2664000"/>
          </a:xfrm>
          <a:prstGeom prst="rect">
            <a:avLst/>
          </a:prstGeom>
          <a:solidFill>
            <a:srgbClr val="ffcc99">
              <a:alpha val="6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a1d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3a1d00"/>
                </a:solidFill>
                <a:latin typeface="Times New Roman"/>
              </a:rPr>
              <a:t>«Впереди открывается простор, от которого и по сей день у меня заходится сердце... Пуще приворотного зелья мне эта даль и эта близь - леса, горы, перевал, и главное - вот эта, притиснутая ими к Енисею деревенька, издали, с высоты, такая сиротливая, такая смирная, такая заброшенная, что стоном стонать хочется от любви и жалости к н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959120" y="431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8642160" cy="342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3"/>
          <p:cNvSpPr/>
          <p:nvPr/>
        </p:nvSpPr>
        <p:spPr>
          <a:xfrm>
            <a:off x="1166760" y="33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1439640"/>
          </a:xfrm>
          <a:prstGeom prst="rect">
            <a:avLst/>
          </a:prstGeom>
          <a:solidFill>
            <a:srgbClr val="ffcc99">
              <a:alpha val="5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1d00"/>
                </a:solidFill>
                <a:latin typeface="AG_Garamond"/>
              </a:rPr>
              <a:t>  </a:t>
            </a:r>
            <a:r>
              <a:rPr b="1" lang="ru-RU" sz="2800" spc="-1" strike="noStrike">
                <a:solidFill>
                  <a:srgbClr val="3a1d00"/>
                </a:solidFill>
                <a:latin typeface="AG_Garamond"/>
              </a:rPr>
              <a:t>"Самостоятельную жизнь я начал сразу, безо всякой подготовки", - напишет впоследствии В. П. Астаф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рама"/>
          <p:cNvPicPr/>
          <p:nvPr/>
        </p:nvPicPr>
        <p:blipFill>
          <a:blip r:embed="rId2"/>
          <a:stretch/>
        </p:blipFill>
        <p:spPr>
          <a:xfrm>
            <a:off x="468360" y="2133720"/>
            <a:ext cx="5976720" cy="410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"/>
          <p:cNvPicPr/>
          <p:nvPr/>
        </p:nvPicPr>
        <p:blipFill>
          <a:blip r:embed="rId3"/>
          <a:stretch/>
        </p:blipFill>
        <p:spPr>
          <a:xfrm>
            <a:off x="684360" y="2349360"/>
            <a:ext cx="5543280" cy="3649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9"/>
          <p:cNvSpPr/>
          <p:nvPr/>
        </p:nvSpPr>
        <p:spPr>
          <a:xfrm>
            <a:off x="6659640" y="5373720"/>
            <a:ext cx="2246400" cy="642600"/>
          </a:xfrm>
          <a:prstGeom prst="rect">
            <a:avLst/>
          </a:prstGeom>
          <a:solidFill>
            <a:srgbClr val="ffcc99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ский дом. Игарка.  1941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5405400" y="1413000"/>
            <a:ext cx="3394080" cy="4967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4824360" cy="518472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1d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a1d00"/>
                </a:solidFill>
                <a:latin typeface="AG_Garamond"/>
              </a:rPr>
              <a:t>Осенью 1942 года Виктор Астафьев добровольцем уходит в армию, а весной 1943 года попадает на фронт. Фронтовая биография солдата Астафьева отмечена орденом Красной Звезды, медалями "За отвагу", "За победу над Германией" и "За освобождение Польши". Несколько раз он был тяжело ран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1d00"/>
                </a:solidFill>
                <a:latin typeface="AG_Garamond"/>
              </a:rPr>
              <a:t>Музей В.П.Астафьева в г.Чус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4753080" cy="2765520"/>
          </a:xfrm>
          <a:prstGeom prst="rect">
            <a:avLst/>
          </a:prstGeom>
          <a:solidFill>
            <a:srgbClr val="ffcc99">
              <a:alpha val="6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1d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a1d00"/>
                </a:solidFill>
                <a:latin typeface="AG_Garamond"/>
              </a:rPr>
              <a:t>После войны жил на Урале, где в газете «Чусовой рабочий» был напечатан его первый рассказ «Сибиряк», который и положил начало писательской би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tretch/>
        </p:blipFill>
        <p:spPr>
          <a:xfrm>
            <a:off x="5246640" y="981000"/>
            <a:ext cx="3897360" cy="245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3"/>
          <a:stretch/>
        </p:blipFill>
        <p:spPr>
          <a:xfrm>
            <a:off x="3635280" y="3429000"/>
            <a:ext cx="4032360" cy="2516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4"/>
          <a:stretch/>
        </p:blipFill>
        <p:spPr>
          <a:xfrm>
            <a:off x="179280" y="4292640"/>
            <a:ext cx="38149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abg005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052800"/>
          </a:xfrm>
          <a:prstGeom prst="rect">
            <a:avLst/>
          </a:prstGeom>
          <a:solidFill>
            <a:srgbClr val="ffcc99">
              <a:alpha val="8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1d00"/>
                </a:solidFill>
                <a:latin typeface="Times New Roman"/>
              </a:rPr>
              <a:t>         </a:t>
            </a:r>
            <a:r>
              <a:rPr b="1" lang="ru-RU" sz="2400" spc="-1" strike="noStrike">
                <a:solidFill>
                  <a:srgbClr val="3a1d00"/>
                </a:solidFill>
                <a:latin typeface="Times New Roman"/>
              </a:rPr>
              <a:t>В основе произведений Астафьева история его собственной жизни. «...думал я, думал, и вышло, что мне надо рассказывать о своих земляках, в первую голову о своих односельчанах, о бабушке и дедушке и прочей родне... Они были интересны мне и любимы мной такими, какие они есть на самом дел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1d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3a1d00"/>
                </a:solidFill>
                <a:latin typeface="Times New Roman"/>
              </a:rPr>
              <a:t>Самая светлая книга «Последний поклон» почти целиком посвящена воспоминаниям детств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1d00"/>
                </a:solidFill>
                <a:latin typeface="AG_Garamond"/>
              </a:rPr>
              <a:t>"Животворящий свет детства"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 rot="20554200">
            <a:off x="826920" y="4436640"/>
            <a:ext cx="1349640" cy="209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 rot="757200">
            <a:off x="2268000" y="4436640"/>
            <a:ext cx="1436760" cy="2205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4"/>
          <a:stretch/>
        </p:blipFill>
        <p:spPr>
          <a:xfrm rot="21278400">
            <a:off x="3850920" y="4436640"/>
            <a:ext cx="1476360" cy="213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5"/>
          <a:stretch/>
        </p:blipFill>
        <p:spPr>
          <a:xfrm rot="756600">
            <a:off x="5435640" y="4365360"/>
            <a:ext cx="1373040" cy="217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6"/>
          <a:stretch/>
        </p:blipFill>
        <p:spPr>
          <a:xfrm rot="21252000">
            <a:off x="6948360" y="4365360"/>
            <a:ext cx="137664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abg005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ardvark"/>
              </a:rPr>
              <a:t>«ВАСЮТКИ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ardvark"/>
              </a:rPr>
              <a:t>                        </a:t>
            </a:r>
            <a:r>
              <a:rPr b="1" i="1" lang="ru-RU" sz="4000" spc="-1" strike="noStrike">
                <a:solidFill>
                  <a:srgbClr val="333399"/>
                </a:solidFill>
                <a:latin typeface="Aardvark"/>
              </a:rPr>
              <a:t>ОЗЕ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7:16:01Z</dcterms:created>
  <dc:creator>qweds</dc:creator>
  <dc:description/>
  <dc:language>en-US</dc:language>
  <cp:lastModifiedBy>Компик</cp:lastModifiedBy>
  <dcterms:modified xsi:type="dcterms:W3CDTF">2020-04-21T06:57:27Z</dcterms:modified>
  <cp:revision>11</cp:revision>
  <dc:subject/>
  <dc:title>Слайд 1</dc:title>
</cp:coreProperties>
</file>