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82A-CCAF-402D-8502-DB689ED3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C3B-208A-48FF-858A-D204E0C2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53F-A686-4142-857F-A3A17582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C7C-E4CF-411F-B970-F98D0107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28C-307A-4C20-92E7-A634CF97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5334-E884-4F30-BD0A-8C9BFFD0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DAD-5DCF-4A49-B0F7-BC71888F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14E-1E26-41F9-901F-7545AB41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55A-2599-4FFE-AA79-26E699CE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046-0E16-4C2A-AA41-BA14682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0A2-D6F1-4F50-9624-6EB868D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75A3-9EEE-4938-8B65-1678FFF1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6642-B748-43F1-92BE-4F1CF326F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cabg005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971640" y="4797360"/>
            <a:ext cx="70070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ВИКТОР ПЕТ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ardvark"/>
              </a:rPr>
              <a:t>АСТАФ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ardvark"/>
              </a:rPr>
              <a:t>«ВАСЮТКИНО ОЗЕР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(Урок литературы 5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98116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067280" y="1413000"/>
            <a:ext cx="4897440" cy="4465440"/>
          </a:xfrm>
          <a:prstGeom prst="rect">
            <a:avLst/>
          </a:prstGeom>
          <a:solidFill>
            <a:srgbClr val="ffcc99">
              <a:alpha val="6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Это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биографичный рассказ, который</a:t>
            </a: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оформился из школьного сочинения «Жи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1d00"/>
                </a:solidFill>
                <a:latin typeface="AG_Garamond"/>
              </a:rPr>
              <a:t> 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Автор вспоминает о нескольких днях, проведенных им в тай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koster"/>
          <p:cNvPicPr/>
          <p:nvPr/>
        </p:nvPicPr>
        <p:blipFill>
          <a:blip r:embed="rId2"/>
          <a:stretch/>
        </p:blipFill>
        <p:spPr>
          <a:xfrm>
            <a:off x="179280" y="2421000"/>
            <a:ext cx="3718080" cy="388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1836360" y="333360"/>
            <a:ext cx="60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a1d00"/>
                </a:solidFill>
                <a:latin typeface="AG_Garamond"/>
              </a:rPr>
              <a:t>История создания расск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468360" y="472428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Землю люблю свою и не устаю удивляться её красоте, неистощимому терпению и доброт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 жизнь предоставляла мне постоянную возможность быть на природе и с природой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П.Астаф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3284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640720" cy="5832360"/>
          </a:xfrm>
          <a:prstGeom prst="rect">
            <a:avLst/>
          </a:prstGeom>
          <a:solidFill>
            <a:srgbClr val="ffcc99">
              <a:alpha val="5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a1d00"/>
                </a:solidFill>
                <a:latin typeface="Tahoma"/>
              </a:rPr>
              <a:t>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«Астафьев, несомненно, из числа тех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писателей, о которых мы можем благодарно сказать, что они являются твердью нашей под ногами, нашей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надеждой и упование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                                   </a:t>
            </a:r>
            <a:r>
              <a:rPr b="1" lang="ru-RU" sz="2600" spc="-1" strike="noStrike">
                <a:solidFill>
                  <a:srgbClr val="582c00"/>
                </a:solidFill>
                <a:latin typeface="Tahoma"/>
              </a:rPr>
              <a:t>                 </a:t>
            </a:r>
            <a:r>
              <a:rPr b="1" lang="en-US" sz="2600" spc="-1" strike="noStrike">
                <a:solidFill>
                  <a:srgbClr val="582c00"/>
                </a:solidFill>
                <a:latin typeface="Tahoma"/>
              </a:rPr>
              <a:t> </a:t>
            </a:r>
            <a:r>
              <a:rPr b="1" i="1" lang="ru-RU" sz="2600" spc="-1" strike="noStrike">
                <a:solidFill>
                  <a:srgbClr val="582c00"/>
                </a:solidFill>
                <a:latin typeface="Tahoma"/>
              </a:rPr>
              <a:t>А.Пантелеев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    </a:t>
            </a:r>
            <a:r>
              <a:rPr b="1" lang="ru-RU" sz="2600" spc="-1" strike="noStrike">
                <a:solidFill>
                  <a:srgbClr val="3a1d00"/>
                </a:solidFill>
                <a:latin typeface="Tahoma"/>
              </a:rPr>
              <a:t>«Виктор Петрович обладал редкостным свойством — быть благодарным… Ни один человек, давший ему хоть каплю добра, не затерялся в его памяти. Всем им нашлось место в астафьевских книгах».</a:t>
            </a:r>
            <a:r>
              <a:rPr b="1" lang="ru-RU" sz="2800" spc="-1" strike="noStrike">
                <a:solidFill>
                  <a:srgbClr val="3a1d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Tahoma"/>
              </a:rPr>
              <a:t>                                                       </a:t>
            </a:r>
            <a:r>
              <a:rPr b="1" i="1" lang="ru-RU" sz="2600" spc="-1" strike="noStrike">
                <a:solidFill>
                  <a:srgbClr val="3a1d00"/>
                </a:solidFill>
                <a:latin typeface="Tahoma"/>
              </a:rPr>
              <a:t>Д.Шевар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Страницы биогра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11280" y="1197000"/>
            <a:ext cx="4753080" cy="511344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1 мая 1924 года в селе Овсянка, что на берегу Енисея, недалеко от Красноярска, в семье Петра Павловича и Лидии Ильиничны Астафьевых родился сын Виктор.              В семь лет мальчик потерял мать.Заступницей и кормилицей мальчика становится его бабушка - Екатерина Петровна Потылицын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720960" cy="4897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595080" y="6184800"/>
            <a:ext cx="28782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родителями 1931 г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266400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3a1d00"/>
                </a:solidFill>
                <a:latin typeface="Times New Roman"/>
              </a:rPr>
              <a:t>«Впереди открывается простор, от которого и по сей день у меня заходится сердце... Пуще приворотного зелья мне эта даль и эта близь - леса, горы, перевал, и главное - вот эта, притиснутая ими к Енисею деревенька, издали, с высоты, такая сиротливая, такая смирная, такая заброшенная, что стоном стонать хочется от любви и жалости к н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95912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8642160" cy="3421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"/>
          <p:cNvSpPr/>
          <p:nvPr/>
        </p:nvSpPr>
        <p:spPr>
          <a:xfrm>
            <a:off x="11667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1439640"/>
          </a:xfrm>
          <a:prstGeom prst="rect">
            <a:avLst/>
          </a:prstGeom>
          <a:solidFill>
            <a:srgbClr val="ffcc99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  </a:t>
            </a:r>
            <a:r>
              <a:rPr b="1" lang="ru-RU" sz="2800" spc="-1" strike="noStrike">
                <a:solidFill>
                  <a:srgbClr val="3a1d00"/>
                </a:solidFill>
                <a:latin typeface="AG_Garamond"/>
              </a:rPr>
              <a:t>"Самостоятельную жизнь я начал сразу, безо всякой подготовки", - напишет впоследствии В. П. Астаф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рама"/>
          <p:cNvPicPr/>
          <p:nvPr/>
        </p:nvPicPr>
        <p:blipFill>
          <a:blip r:embed="rId2"/>
          <a:stretch/>
        </p:blipFill>
        <p:spPr>
          <a:xfrm>
            <a:off x="468360" y="2133720"/>
            <a:ext cx="5976720" cy="4103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"/>
          <p:cNvPicPr/>
          <p:nvPr/>
        </p:nvPicPr>
        <p:blipFill>
          <a:blip r:embed="rId3"/>
          <a:stretch/>
        </p:blipFill>
        <p:spPr>
          <a:xfrm>
            <a:off x="684360" y="2349360"/>
            <a:ext cx="5543280" cy="3649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659640" y="5373720"/>
            <a:ext cx="2246400" cy="642600"/>
          </a:xfrm>
          <a:prstGeom prst="rect">
            <a:avLst/>
          </a:prstGeom>
          <a:solidFill>
            <a:srgbClr val="ffcc99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ский дом. Игарка.  1941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5405400" y="1413000"/>
            <a:ext cx="3394080" cy="4967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4824360" cy="518472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a1d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Осенью 1942 года Виктор Астафьев добровольцем уходит в армию, а весной 1943 года попадает на фронт. Фронтовая биография солдата Астафьева отмечена орденом Красной Звезды, медалями "За отвагу", "За победу над Германией" и "За освобождение Польши". Несколько раз он был тяжело ран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abg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Музей В.П.Астафьева в г.Чусов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4753080" cy="2765520"/>
          </a:xfrm>
          <a:prstGeom prst="rect">
            <a:avLst/>
          </a:prstGeom>
          <a:solidFill>
            <a:srgbClr val="ffcc99">
              <a:alpha val="6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a1d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3a1d00"/>
                </a:solidFill>
                <a:latin typeface="AG_Garamond"/>
              </a:rPr>
              <a:t>После войны жил на Урале, где в газете «Чусовой рабочий» был напечатан его первый рассказ «Сибиряк», который и положил начало писательской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2"/>
          <a:stretch/>
        </p:blipFill>
        <p:spPr>
          <a:xfrm>
            <a:off x="5246640" y="981000"/>
            <a:ext cx="3897360" cy="2455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3"/>
          <a:stretch/>
        </p:blipFill>
        <p:spPr>
          <a:xfrm>
            <a:off x="3635280" y="3429000"/>
            <a:ext cx="4032360" cy="25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"/>
          <p:cNvPicPr/>
          <p:nvPr/>
        </p:nvPicPr>
        <p:blipFill>
          <a:blip r:embed="rId4"/>
          <a:stretch/>
        </p:blipFill>
        <p:spPr>
          <a:xfrm>
            <a:off x="179280" y="4292640"/>
            <a:ext cx="3814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052800"/>
          </a:xfrm>
          <a:prstGeom prst="rect">
            <a:avLst/>
          </a:prstGeom>
          <a:solidFill>
            <a:srgbClr val="ffcc99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 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В основе произведений Астафьева история его собственной жизни. «...думал я, думал, и вышло, что мне надо рассказывать о своих земляках, в первую голову о своих односельчанах, о бабушке и дедушке и прочей родне... Они были интересны мне и любимы мной такими, какие они есть на самом дел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3a1d00"/>
                </a:solidFill>
                <a:latin typeface="Times New Roman"/>
              </a:rPr>
              <a:t>Самая светлая книга «Последний поклон» почти целиком посвящена воспоминаниям детств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a1d00"/>
                </a:solidFill>
                <a:latin typeface="AG_Garamond"/>
              </a:rPr>
              <a:t>"Животворящий свет детства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 rot="20554200">
            <a:off x="826920" y="4436640"/>
            <a:ext cx="1349640" cy="2097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 rot="757200">
            <a:off x="2268000" y="4436640"/>
            <a:ext cx="1436760" cy="22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4"/>
          <a:stretch/>
        </p:blipFill>
        <p:spPr>
          <a:xfrm rot="21278400">
            <a:off x="3850920" y="4436640"/>
            <a:ext cx="1476360" cy="213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 rot="756600">
            <a:off x="5435640" y="4365360"/>
            <a:ext cx="137304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6"/>
          <a:stretch/>
        </p:blipFill>
        <p:spPr>
          <a:xfrm rot="21252000">
            <a:off x="6948360" y="4365360"/>
            <a:ext cx="1376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abg005"/>
          <p:cNvPicPr/>
          <p:nvPr/>
        </p:nvPicPr>
        <p:blipFill>
          <a:blip r:embed="rId1">
            <a:alphaModFix amt="61000"/>
          </a:blip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«ВАСЮТКИН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                        </a:t>
            </a:r>
            <a:r>
              <a:rPr b="1" i="1" lang="ru-RU" sz="4000" spc="-1" strike="noStrike">
                <a:solidFill>
                  <a:srgbClr val="333399"/>
                </a:solidFill>
                <a:latin typeface="Aardvark"/>
              </a:rPr>
              <a:t>ОЗ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7:16:01Z</dcterms:created>
  <dc:creator>qweds</dc:creator>
  <dc:description/>
  <dc:language>en-US</dc:language>
  <cp:lastModifiedBy>Компик</cp:lastModifiedBy>
  <dcterms:modified xsi:type="dcterms:W3CDTF">2020-04-21T06:57:27Z</dcterms:modified>
  <cp:revision>11</cp:revision>
  <dc:subject/>
  <dc:title>Слайд 1</dc:title>
</cp:coreProperties>
</file>