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67F1-D774-4B91-B1DC-751FB0864DB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AEC8-21C2-48CA-86B2-642D40F917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9250-1F91-40A9-AD40-E1FCAED73C7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17302-5D29-4563-B870-918CB720B5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D29EB-B205-44BC-815B-42504BBDD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C9D4A-933E-4338-9290-8ABD6514581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1C51B-2B5C-473F-A7C5-736EAEEABC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5EAB5-99CD-4039-8C55-22A289DF9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3A46E-5716-4C99-A5F9-C5C4DAB00DE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3951D-B2F2-4DAC-BE57-5A78275FEE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62693-89D4-480B-9998-152AEF6A9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3E44B-38AE-461C-956E-1BDF5E62BFE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1443E-7D50-482B-B413-CF2E671A1D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A2904-2A2B-4F5F-AEC4-14FA1E5E5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CBE8A-4DA4-4EEE-84C7-5FEAA781CF0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A7FEE-9203-4EB6-8F69-FFE44F265C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E5F52-450C-41CD-A0D7-668354F1A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C05B0-7A27-4D73-8E2E-34D3D70CF96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895C-1ECE-4EDB-8666-DBADF249ED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F81ED-9440-40BE-A6CB-EE77291C5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045D2-9865-4690-8667-0D9EDC2FB74F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C48A-0D0C-4D3C-9888-45543B393E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CB1E8-FD30-42F6-A94B-E263094E2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E9767-24A6-43C4-B24B-BA9D49439281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6C78F-BDF6-4A1F-8161-68390CAE1B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CD67C-0F32-4C6C-991E-FB94268F4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0CAC7-785A-44BF-8E9E-DBED0BD12CC8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21F4-3888-4857-97C2-13083C6405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41C6F-363D-48B0-B72C-1ADF4065C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37E27-EA13-4EAD-BE25-FFA153865E9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A9CAF-7F54-4EC3-ABE0-B8E97E26D6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F3119-5C2B-4851-A96F-95598B902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9C171-ECF1-4391-BCFA-E91891ECB7E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3EC2E-94AC-4963-9FDC-32FFE991B6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5F1B4-784B-4CE2-AC76-AAE6E3F25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2790-342C-411E-871A-CA13DE745CE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30FAB-7D38-4A70-B4D7-CE3F624F53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D0F36-F013-474C-A2C0-D10FCDE80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C768-5621-4A75-94E8-21F1D370A1E8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FE34-9082-445C-844B-3CAB1D078C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8C584-4BC8-45C3-B434-C6453621C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30E64-64CD-4390-8787-3F94962949B1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49C9-E955-4F76-A817-E777632991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B753C-50A2-4D26-B41C-69DE05A87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406CB-3152-45D0-9DB1-422A653547B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73303-C4D3-4946-A0F9-DDBF0A9EBF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56C0E-986D-4D1B-BF28-EF0421B31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9069A-F036-4F5D-960B-AAB501DEDDB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A07D1-FBCE-46E9-BB78-7E8B348041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4F42-B461-4A3E-B27E-9672D6B2A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4D65-6115-4F7B-9F99-C7485F10E9D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A429-B8B8-48AF-A00F-3F88709312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E9242-B8C1-4466-A13B-188C810CD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4E4AE-8270-4761-A67D-F8241749D34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90D73-046F-498F-B6F7-1661761775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4B838-0377-4206-9C99-9F13BC2D6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85DA5-3B01-4F31-AAAB-7506FCDDBB9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B391F-0A14-4587-9F5E-4386C67A90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67032-F1B2-4649-8DC1-A1D5E1FEB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952E-B612-489C-B0FC-F4B48674437D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76234-266D-4780-B38B-4E5F671F72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9E110-BC98-47D8-B45B-61089F4EA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AA99-D054-453D-8A9E-4831E8B6196B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DF0A2-26BC-41DD-8A32-2CFB76A78C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8614-789B-468D-B193-1C277D83B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4538D-19F7-4711-A96A-EA7A37877D84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CFF7D-743F-4AC8-A781-ACD5452D29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7B68-E377-47E3-A1D0-9B6678219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35C85-86B8-43CE-94D1-66D0F16532BA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5C0E9-9E39-4E59-8D31-2FFBE41F36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2EF05-6175-447E-B897-19A19D9DD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F499-AAF7-4A59-A789-6D86539B360C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E0A4-A3B5-4433-B45C-B02CFA4D97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4511-B6BA-4353-8440-E7667F516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E24ED-D104-494B-B766-CE99FAFEE366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AE6EE-3366-4A0D-BF3A-F78AC8DA93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79E55-0753-46DE-AD72-BF4F339F2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4DC1-121F-47B6-9EA7-79E5B423F8B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AC6DE-6811-4D35-A968-E76ADDD6AA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69758-EC13-4D20-B342-82D787BA0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0E150-DC2B-4CAF-9065-60AF8CC5121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86149-C558-42A5-A41F-7AAA65FB52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348EF-887C-4639-8ED8-C04AD9819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88E6-1F37-48C4-BE1B-3572AB0B20B2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D343-3727-440C-92EB-675329D99E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1D00E-054D-490B-9641-D93579F3D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BB9AE-DDC7-4370-83CB-8CFA59B98E00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3400-AF06-4268-AF7E-87B630A5D0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C3FD6-F491-4564-965C-6524855A5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6AD8E-590C-4FB7-A8BD-687A93D1F86E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E5226-77A2-4950-AEC2-4BA3AFBBEF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D645-4E23-4283-8120-98867EE59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7EA3-E6D5-4781-BBEA-7306961A87C5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6DBFE-9525-4E8E-9692-D0E57B64A8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D80E0-9766-434C-9758-1D90F756C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1F938-EBF5-4E6C-A076-AAF3D07A1DA7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9247-1902-4F33-9F8B-BCC242C5FC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B457-F9DA-427E-9140-7EEC16B99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F95D1-FB64-4AF2-862B-0227A1B7DBE7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55780-B03A-4E9B-AFAB-015308FFCC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2A649-E8BB-4C17-B5E9-020CA380C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9CE3-C4CE-4816-A148-405DD48979F9}" type="datetime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AD71B-1F6E-47FB-A82F-26AAA16CCB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591E1-0366-4A27-9D44-ADF3C2BEE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83D9-2F2A-4409-88B3-86FEC9949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FEE1-4BF3-4FD0-9F6A-BE538DC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79A6-A35F-4F24-A8D2-81D5A30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04A8-099B-4511-A0A4-EC8BD8A56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1F88-C9BE-4092-A97A-74C1B2B0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23C9-9FB7-45AD-BAC5-B6C8DC65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A7E8-C9CD-4EA7-8A61-CDF099F9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EF70-D70C-43DD-85AA-B479CA74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4F37-93FE-4F98-B8BA-CBE22FEB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D252-46A9-4BB0-95BF-C91F9881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6407-E133-4AFF-AB40-6A46E279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0430-C49A-44D5-9463-78CC8558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6480" y="5791320"/>
            <a:ext cx="3399120" cy="1076040"/>
            <a:chOff x="-6480" y="5791320"/>
            <a:chExt cx="3399120" cy="107604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39912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360"/>
            <a:ext cx="19162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A1537C-A22E-48E0-9115-C8AB62A0CD54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7C63DE-D87A-4001-A275-9EF90C7AE20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ЛЕКЦИЯ  9. </a:t>
            </a:r>
            <a:br>
              <a:rPr sz="2800"/>
            </a:b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55640" y="1052280"/>
            <a:ext cx="792000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овременная онтология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тология как наука о быт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рия как объективная реаль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трибуты матери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ы и уровни самоорганизации матер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нание как субъективная реальность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странством называют свойство предметов быть протяженными, занимать определенное положение, граничить друг с другом, иметь некоторые размеры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глазоме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мет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х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любую точку пространства 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титься вновь, НО в другое врем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Прямая со стрелкой 5"/>
          <p:cNvCxnSpPr/>
          <p:nvPr/>
        </p:nvCxnSpPr>
        <p:spPr>
          <a:xfrm flipH="1">
            <a:off x="2555640" y="256536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7"/>
          <p:cNvCxnSpPr/>
          <p:nvPr/>
        </p:nvCxnSpPr>
        <p:spPr>
          <a:xfrm>
            <a:off x="4716000" y="256536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10"/>
          <p:cNvCxnSpPr/>
          <p:nvPr/>
        </p:nvCxnSpPr>
        <p:spPr>
          <a:xfrm flipH="1">
            <a:off x="1834560" y="5157360"/>
            <a:ext cx="10818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>
            <a:off x="5148000" y="5157360"/>
            <a:ext cx="937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ше пространство трёхмер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днако квантовая физика утверждает факт многомерности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олько всего измерений простран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зможно, 19 или даже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D:\Философия\Philosophy_lectures\8_Бытие\cube.png"/>
          <p:cNvPicPr/>
          <p:nvPr/>
        </p:nvPicPr>
        <p:blipFill>
          <a:blip r:embed="rId1"/>
          <a:stretch/>
        </p:blipFill>
        <p:spPr>
          <a:xfrm>
            <a:off x="539640" y="90792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D:\Философия\Philosophy_lectures\8_Бытие\0006-004-Sostavlen-iz-shesti-kvadratov.jpg"/>
          <p:cNvPicPr/>
          <p:nvPr/>
        </p:nvPicPr>
        <p:blipFill>
          <a:blip r:embed="rId2"/>
          <a:stretch/>
        </p:blipFill>
        <p:spPr>
          <a:xfrm>
            <a:off x="5076720" y="1125360"/>
            <a:ext cx="291960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324000" y="333360"/>
            <a:ext cx="842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ремя – форма, с помощью которой измеряют длительность существования объектов, последовательность смены их состоя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ъекти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 ощущаемое                        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ом на основе                общепринятого этал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х час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 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йства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о начала ХХ века господствовало убеждение,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то пространство и время – конста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Прямая со стрелкой 5"/>
          <p:cNvCxnSpPr/>
          <p:nvPr/>
        </p:nvCxnSpPr>
        <p:spPr>
          <a:xfrm flipH="1">
            <a:off x="2555640" y="2205000"/>
            <a:ext cx="151200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Прямая со стрелкой 7"/>
          <p:cNvCxnSpPr/>
          <p:nvPr/>
        </p:nvCxnSpPr>
        <p:spPr>
          <a:xfrm>
            <a:off x="4716000" y="2205000"/>
            <a:ext cx="1296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Прямая со стрелкой 10"/>
          <p:cNvCxnSpPr/>
          <p:nvPr/>
        </p:nvCxnSpPr>
        <p:spPr>
          <a:xfrm flipH="1">
            <a:off x="2410560" y="4797000"/>
            <a:ext cx="1081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5003640" y="4797000"/>
            <a:ext cx="937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ОВРЕМЕННАЯ  НАУКА  ДОКАЗ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ТНОСИТЕЛЬНОСТЬ ПРОСТРАНСТВА И ВРЕМЕ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оторые по-разному проявляют себ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еживой, живой и социальной ма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ДЕЛ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стеме отсчета Земли пространство-время практически неизменны, т.к. малые скорости и массы. Пространство описывается геометрией Евклида (линей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ри скорости, стремящейся к скорости света, наблюдаются феномены ускоряющегося времени и нелинейного искривленного (неевклидового)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Эйнштейна, Лобачевского, Риман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68360" y="18900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 БИОЛОГИЧЕСК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имметрия левой и правой частей живой клет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способствует лучшей адаптации организмов (в неживой материи наблюдается симметр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иологические часы», которые отличаются ритмичностью, цикличностью и необратимо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которыми можно  управля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дляя или ускоряя время жизни живого су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о знать способы ускорения и замедления биологически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сследования Вернадского, Пастер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189000"/>
            <a:ext cx="84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 СОЦИАЛЬНОЕ  ПРОСТРАНСТВО-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пространство иерархично и многомер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браз пирамиды), при этом можно описать несколько видов пирамид, которые создаются людьми в обществе – социальные, экономическ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, образовательные, нравственные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ремя изучается истори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ет этапы, пери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коряется по мере развития цивилиза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рождает конфликт биологических и социальных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мерность социальног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лендари разных наро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50920" y="189000"/>
            <a:ext cx="871380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ОВАЯ ФИЗИКА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ЩАЯ ТЕОРИЯ ОТНОСИТЕЛЬНОСТИ СФОРМИРОВАЛИ НОВУЮ КАРТИНУ МИ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ЖИВЕМ   В   РЕЛЯЦИОННОМ  (от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atio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 МИР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материя бесконечно дели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материя не имеет тверд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 все атрибуты материи относ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ОЖНО  ЛИ  ОПИРАТЬСЯ  НА  МАТЕР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если она ОТНОСИТЕЛЬНА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ОСНОВНЫЕ      ВОПРОСЫ: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что есть матер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ротивоположна ли материя сознанию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ни  тесно взаимосвяз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187280" y="3573360"/>
            <a:ext cx="6913800" cy="100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1480" y="404640"/>
            <a:ext cx="8318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И 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га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спринимаем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ами чувст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0  с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 МАТЕРИИ        неживая (неорганическа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ая (органическа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ТЕГОРИЯ  «МИР»: -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вокупность всех форм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матер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 Вселен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Группа 13"/>
          <p:cNvGrpSpPr/>
          <p:nvPr/>
        </p:nvGrpSpPr>
        <p:grpSpPr>
          <a:xfrm>
            <a:off x="2195640" y="836640"/>
            <a:ext cx="3887640" cy="3743280"/>
            <a:chOff x="2195640" y="836640"/>
            <a:chExt cx="3887640" cy="3743280"/>
          </a:xfrm>
        </p:grpSpPr>
        <p:sp>
          <p:nvSpPr>
            <p:cNvPr id="146" name="Овал 12"/>
            <p:cNvSpPr/>
            <p:nvPr/>
          </p:nvSpPr>
          <p:spPr>
            <a:xfrm>
              <a:off x="2195640" y="836640"/>
              <a:ext cx="3887640" cy="37432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Группа 10"/>
            <p:cNvGrpSpPr/>
            <p:nvPr/>
          </p:nvGrpSpPr>
          <p:grpSpPr>
            <a:xfrm>
              <a:off x="2699280" y="1321920"/>
              <a:ext cx="2915640" cy="2807640"/>
              <a:chOff x="2699280" y="1321920"/>
              <a:chExt cx="2915640" cy="2807640"/>
            </a:xfrm>
          </p:grpSpPr>
          <p:sp>
            <p:nvSpPr>
              <p:cNvPr id="148" name="Овал 9"/>
              <p:cNvSpPr/>
              <p:nvPr/>
            </p:nvSpPr>
            <p:spPr>
              <a:xfrm>
                <a:off x="2699280" y="1321920"/>
                <a:ext cx="2915640" cy="2807640"/>
              </a:xfrm>
              <a:prstGeom prst="ellipse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Овал 7"/>
              <p:cNvSpPr/>
              <p:nvPr/>
            </p:nvSpPr>
            <p:spPr>
              <a:xfrm>
                <a:off x="3202920" y="1807200"/>
                <a:ext cx="1943640" cy="1871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Овал 8"/>
              <p:cNvSpPr/>
              <p:nvPr/>
            </p:nvSpPr>
            <p:spPr>
              <a:xfrm>
                <a:off x="3706920" y="2292480"/>
                <a:ext cx="971640" cy="93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Овал 11"/>
            <p:cNvSpPr/>
            <p:nvPr/>
          </p:nvSpPr>
          <p:spPr>
            <a:xfrm>
              <a:off x="4067280" y="263880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2" name="Прямая со стрелкой 14"/>
          <p:cNvCxnSpPr>
            <a:endCxn id="151" idx="2"/>
          </p:cNvCxnSpPr>
          <p:nvPr/>
        </p:nvCxnSpPr>
        <p:spPr>
          <a:xfrm>
            <a:off x="2050560" y="2708280"/>
            <a:ext cx="20170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16"/>
          <p:cNvCxnSpPr/>
          <p:nvPr/>
        </p:nvCxnSpPr>
        <p:spPr>
          <a:xfrm flipH="1">
            <a:off x="4715640" y="1773360"/>
            <a:ext cx="158508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Прямая со стрелкой 18"/>
          <p:cNvCxnSpPr/>
          <p:nvPr/>
        </p:nvCxnSpPr>
        <p:spPr>
          <a:xfrm flipH="1">
            <a:off x="4284360" y="83664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324000" y="333360"/>
            <a:ext cx="84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Р (ВСЕЛЕННАЯ)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о бесконечное и неисчерпаемое множество СИСТЕМНЫХ образова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обенное ЦЕЛОЕ, которое характеризуется наличием ЭЛЕМЕНТОВ и СТРУКТУРНЫХ связей между н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этом четко разграничив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живые, живые и социа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324000" y="333360"/>
            <a:ext cx="842472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ИПОТЕЗА «Большого взры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селенная родилась 15 млрд. лет тому назад в результате взрыва физического вакуума, который получил название «большого взрыва». При этом выделилось колоссальное количество тепла, за счет которого Вселенная существует до сих пор. Взрыв произошел не сразу. Сначала 1 млн. лет происходила «инфляция» (раздувание) физического вакуу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620640"/>
            <a:ext cx="85690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ЫТИЕ  ВКЛЮЧ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ЖЕ 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 чем мы еще не зн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 н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тим зна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"/>
          <p:cNvSpPr/>
          <p:nvPr/>
        </p:nvSpPr>
        <p:spPr>
          <a:xfrm>
            <a:off x="4932360" y="3284640"/>
            <a:ext cx="3456000" cy="331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5"/>
          <p:cNvSpPr/>
          <p:nvPr/>
        </p:nvSpPr>
        <p:spPr>
          <a:xfrm>
            <a:off x="5867280" y="3573360"/>
            <a:ext cx="249876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7380360" y="4005360"/>
            <a:ext cx="914400" cy="9144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755640" y="2602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НТОЛОГИЯ – учение о быт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нтральная категория философ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бытие», «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тт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Бытие – всё, что существу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ctr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2484360" y="404640"/>
            <a:ext cx="3888000" cy="3743640"/>
            <a:chOff x="2484360" y="404640"/>
            <a:chExt cx="3888000" cy="3743640"/>
          </a:xfrm>
        </p:grpSpPr>
        <p:sp>
          <p:nvSpPr>
            <p:cNvPr id="161" name="Овал 12"/>
            <p:cNvSpPr/>
            <p:nvPr/>
          </p:nvSpPr>
          <p:spPr>
            <a:xfrm>
              <a:off x="2484360" y="404640"/>
              <a:ext cx="3888000" cy="374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Группа 10"/>
            <p:cNvGrpSpPr/>
            <p:nvPr/>
          </p:nvGrpSpPr>
          <p:grpSpPr>
            <a:xfrm>
              <a:off x="2988360" y="889920"/>
              <a:ext cx="2916000" cy="2807640"/>
              <a:chOff x="2988360" y="889920"/>
              <a:chExt cx="2916000" cy="2807640"/>
            </a:xfrm>
          </p:grpSpPr>
          <p:sp>
            <p:nvSpPr>
              <p:cNvPr id="163" name="Овал 9"/>
              <p:cNvSpPr/>
              <p:nvPr/>
            </p:nvSpPr>
            <p:spPr>
              <a:xfrm>
                <a:off x="2988360" y="889920"/>
                <a:ext cx="291600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Овал 7"/>
              <p:cNvSpPr/>
              <p:nvPr/>
            </p:nvSpPr>
            <p:spPr>
              <a:xfrm>
                <a:off x="3492360" y="1375200"/>
                <a:ext cx="194400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Овал 8"/>
              <p:cNvSpPr/>
              <p:nvPr/>
            </p:nvSpPr>
            <p:spPr>
              <a:xfrm>
                <a:off x="3996360" y="1860480"/>
                <a:ext cx="972000" cy="93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Овал 11"/>
            <p:cNvSpPr/>
            <p:nvPr/>
          </p:nvSpPr>
          <p:spPr>
            <a:xfrm>
              <a:off x="4356360" y="2207160"/>
              <a:ext cx="243000" cy="23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Прямоугольник 9"/>
          <p:cNvSpPr/>
          <p:nvPr/>
        </p:nvSpPr>
        <p:spPr>
          <a:xfrm>
            <a:off x="468360" y="26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    ЖИВЕМ   В   РАСШИРЯЮЩЕЙСЯ   ВСЕЛ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0"/>
          <p:cNvSpPr/>
          <p:nvPr/>
        </p:nvSpPr>
        <p:spPr>
          <a:xfrm>
            <a:off x="1547640" y="5445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акуум - потенциально самый «богатый», самый креативный вид  бы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1"/>
          <p:cNvSpPr/>
          <p:nvPr/>
        </p:nvSpPr>
        <p:spPr>
          <a:xfrm>
            <a:off x="250920" y="4221000"/>
            <a:ext cx="87138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кууме постоянно происходят сложные процессы, связанные с непрерывным появлением и исчезновением, так называемы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иртуальных» част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определенных условиях виртуальные (потенциальные) частицы становятся реальными (актуальны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8"/>
          <p:cNvSpPr/>
          <p:nvPr/>
        </p:nvSpPr>
        <p:spPr>
          <a:xfrm>
            <a:off x="250920" y="260280"/>
            <a:ext cx="8642160" cy="10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ЖИВАЯ  (НЕОРГАНИЧЕСКАЯ) 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зрыва докварковое состояние вещества – струны и  др. объекты. Затем возникли субмикроэлементарные (СМЭ) частицы. Кварко-глюонная плазма – сверхплотное вещество. Далее – микроэлементарные (МЭ) частицы. Из них сформировались ядра атомов и элект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Вакуум --------струны-------субмикроэлементарный --------- микроэлементарный ------- ядерный ---- атомарный ------ молекулярный (плазма-звезда,  газ, жидкость, кристалл-планета) ------ макроскопические тела ------- планеты ----------звездно-планетарные системы ----- галактики -------метагалактики (скопления галактик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 сверхскопления галактик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D:\Философия\Philosophy_lectures\7_Диалектика\m74_baixauli_900.jpg"/>
          <p:cNvPicPr/>
          <p:nvPr/>
        </p:nvPicPr>
        <p:blipFill>
          <a:blip r:embed="rId1"/>
          <a:stretch/>
        </p:blipFill>
        <p:spPr>
          <a:xfrm>
            <a:off x="-1549440" y="907920"/>
            <a:ext cx="6696000" cy="595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D:\Философия\Philosophy_lectures\7_Диалектика\Space_Color_stellar_spiral_065044_.jpg"/>
          <p:cNvPicPr/>
          <p:nvPr/>
        </p:nvPicPr>
        <p:blipFill>
          <a:blip r:embed="rId2"/>
          <a:stretch/>
        </p:blipFill>
        <p:spPr>
          <a:xfrm>
            <a:off x="4762440" y="0"/>
            <a:ext cx="8763120" cy="59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физический вакуум взорвал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необъяснимая случай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зрыв вакуума – следствие закономерности. Роль Бога-Творца (христианство) или Духа-Творца (веданта, тантра, даосиз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ыв вакуума – один из этапов самоорганизации материи. «Самосогласованная модель развития Вселенной». Закономерность и случай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70320" y="-1080"/>
            <a:ext cx="78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 один из этих вариантов наука не в состоянии доказать или опровергну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Проблема №2 - Что ждет Вселенную в будущ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1. «Закрытая модель» развития Вселе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одновременно конечна и неограничена. Множество эволюционных циклов. Один полный цикл насчитывает 100 млрд.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2. «Открытая модель» развития Вселенн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ленная бесконечна. Постепенно звез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стынут, т.к. закончится материал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термоядерных реакций. Звезды буду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кидать свои галактики, а планеты 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отрываться от звезд. Галак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вратятся в массивные черные ды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итоге вся Вселенная превратится в электрон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зитронную плазму малой пло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кая из них соответствует западной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сточной онт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олилиния 6"/>
          <p:cNvSpPr/>
          <p:nvPr/>
        </p:nvSpPr>
        <p:spPr>
          <a:xfrm>
            <a:off x="311040" y="981000"/>
            <a:ext cx="8832960" cy="1546200"/>
          </a:xfrm>
          <a:custGeom>
            <a:avLst/>
            <a:gdLst>
              <a:gd name="textAreaLeft" fmla="*/ 0 w 8832960"/>
              <a:gd name="textAreaRight" fmla="*/ 8832960 w 883296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8833262" h="1545771">
                <a:moveTo>
                  <a:pt x="0" y="1134094"/>
                </a:moveTo>
                <a:cubicBezTo>
                  <a:pt x="440376" y="701634"/>
                  <a:pt x="880753" y="269175"/>
                  <a:pt x="1425039" y="326572"/>
                </a:cubicBezTo>
                <a:cubicBezTo>
                  <a:pt x="1969325" y="383969"/>
                  <a:pt x="2656114" y="1476499"/>
                  <a:pt x="3265714" y="1478478"/>
                </a:cubicBezTo>
                <a:cubicBezTo>
                  <a:pt x="3875314" y="1480457"/>
                  <a:pt x="4512623" y="378031"/>
                  <a:pt x="5082639" y="338447"/>
                </a:cubicBezTo>
                <a:cubicBezTo>
                  <a:pt x="5652655" y="298863"/>
                  <a:pt x="6187044" y="1054925"/>
                  <a:pt x="6685808" y="1240972"/>
                </a:cubicBezTo>
                <a:cubicBezTo>
                  <a:pt x="7184572" y="1427019"/>
                  <a:pt x="7724899" y="1545771"/>
                  <a:pt x="8075221" y="1454727"/>
                </a:cubicBezTo>
                <a:cubicBezTo>
                  <a:pt x="8425543" y="1363683"/>
                  <a:pt x="8833262" y="914401"/>
                  <a:pt x="8787740" y="694707"/>
                </a:cubicBezTo>
                <a:cubicBezTo>
                  <a:pt x="8742218" y="475014"/>
                  <a:pt x="8389917" y="0"/>
                  <a:pt x="7802088" y="136566"/>
                </a:cubicBezTo>
                <a:cubicBezTo>
                  <a:pt x="7214260" y="273132"/>
                  <a:pt x="6012873" y="1492333"/>
                  <a:pt x="5260769" y="1514104"/>
                </a:cubicBezTo>
                <a:cubicBezTo>
                  <a:pt x="4508665" y="1535876"/>
                  <a:pt x="3879273" y="304800"/>
                  <a:pt x="3289465" y="267195"/>
                </a:cubicBezTo>
                <a:cubicBezTo>
                  <a:pt x="2699657" y="229590"/>
                  <a:pt x="2270166" y="1153886"/>
                  <a:pt x="1721922" y="1288473"/>
                </a:cubicBezTo>
                <a:cubicBezTo>
                  <a:pt x="1173678" y="1423060"/>
                  <a:pt x="0" y="1074717"/>
                  <a:pt x="0" y="1074717"/>
                </a:cubicBezTo>
                <a:lnTo>
                  <a:pt x="83127" y="1086592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олилиния 9"/>
          <p:cNvSpPr/>
          <p:nvPr/>
        </p:nvSpPr>
        <p:spPr>
          <a:xfrm>
            <a:off x="539640" y="3573360"/>
            <a:ext cx="2940120" cy="1989360"/>
          </a:xfrm>
          <a:custGeom>
            <a:avLst/>
            <a:gdLst>
              <a:gd name="textAreaLeft" fmla="*/ 0 w 2940120"/>
              <a:gd name="textAreaRight" fmla="*/ 2940480 w 29401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2941121" h="1989117">
                <a:moveTo>
                  <a:pt x="2474026" y="0"/>
                </a:moveTo>
                <a:cubicBezTo>
                  <a:pt x="1237013" y="304800"/>
                  <a:pt x="0" y="609600"/>
                  <a:pt x="3958" y="914400"/>
                </a:cubicBezTo>
                <a:cubicBezTo>
                  <a:pt x="7916" y="1219200"/>
                  <a:pt x="2054431" y="1668483"/>
                  <a:pt x="2497776" y="1828800"/>
                </a:cubicBezTo>
                <a:cubicBezTo>
                  <a:pt x="2941121" y="1989117"/>
                  <a:pt x="2802576" y="1932709"/>
                  <a:pt x="2664031" y="1876302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324000" y="33336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АЯ  (ОРГАНИЧЕСКАЯ)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живая материя  предшествует появлению жизни. Имеют общую основу — микромир. Однако если в неживой материи на основе молекул формируются  плазменные, газовые, жидкие и кристаллические вещества, то в живой материи молекулы образуют такие загадочные соединения как ДНК и РН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Биомакромолекулы (ДНК, РНК, белки) ------- клетка ------- микроорганизмы ------ органы и ткани -------- организм в целом ------- популяция ---------- биоценоз ---------- би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324000" y="33336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ЖИВЫЕ  МОЛЕКУЛЫ                              ЖИ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иомакро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(плазма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газ, жидкость, кристалл)                  (ДНК, РНК, бел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ИКРОМИР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МЭ части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атомы,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ЩАЯ ОСНОВА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59280" y="3716280"/>
            <a:ext cx="446544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Прямая со стрелкой 10"/>
          <p:cNvCxnSpPr/>
          <p:nvPr/>
        </p:nvCxnSpPr>
        <p:spPr>
          <a:xfrm flipH="1" flipV="1">
            <a:off x="2124000" y="2420280"/>
            <a:ext cx="144036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Прямая со стрелкой 12"/>
          <p:cNvCxnSpPr/>
          <p:nvPr/>
        </p:nvCxnSpPr>
        <p:spPr>
          <a:xfrm flipV="1">
            <a:off x="6516360" y="2420280"/>
            <a:ext cx="57708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395280" y="19080"/>
            <a:ext cx="8280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ойства жив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 создавать порядок из хаотического теплового движения молекул и противодействовать возрастанию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троп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аосу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высокий уровень упорядоченности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им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странстве и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ме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окружающей средой веществом, энергией и информацией. Жив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ссимилир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ные извне вещества, т.е. перестраивает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избыточн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овоспроизводст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250920" y="-261000"/>
            <a:ext cx="842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 Почему возникли ДНК, РН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жизнь за пределами Зем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 точки зр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знь – результат эволюции, которая происходила путем мутаций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тественного от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ая э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иэволюцион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озникновение жизни не было результатом длительного эволюционного процесса:  напротив, она возникла в течение очень короткого временного интерва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 называемый „взрыв жизни» на Земле. Роль Духа-Твор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организация мате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Жизнь рано или поздно, но обязательно возникает во Вселенной, однако может существовать в разных формах, в зависимости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вшихся условий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омерность 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учай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179280" y="220680"/>
            <a:ext cx="828036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не может существовать безразлично где. Для ее появления необходим целый ряд услов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пример, на нашей планете Земля сложились следующие условия: а) температурный реж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) углеводородная основа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) 21%  содержание кислорода в атмосфер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и наличие самой атмосфе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г) трехмерное простра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Земле возникла та форма жиз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торая обусловлена сложившими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а ней условиями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!! ФАКТОР 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D:\Философия\Philosophy_lectures\8_Бытие\atmospheric-oxygen-197x300.jpg"/>
          <p:cNvPicPr/>
          <p:nvPr/>
        </p:nvPicPr>
        <p:blipFill>
          <a:blip r:embed="rId1"/>
          <a:stretch/>
        </p:blipFill>
        <p:spPr>
          <a:xfrm>
            <a:off x="6642000" y="3048120"/>
            <a:ext cx="2502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765000"/>
            <a:ext cx="8497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ЖНЕЙШИЕ ВОПРОСЫ ОНТ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– ЧТО ЕСТЬ МАТЕР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2 – ЧТО ЕСТЬ ДУХ (СОЗНАНИЕ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3 – КАК СООТНОСЯТСЯ МАТЕРИЯ И ДУХ (СОЗНАНИЕ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или «Что первично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4 – КАК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324000" y="26028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Microsoft YaHei"/>
              </a:rPr>
              <a:t>ОБЩЕСТВО  (СОЦИАЛЬНАЯ) 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Индивид (личность) ------ семья ---------- коллектив --------- социальная группа (класс) ----------- нация ---------- государство --------- общество в целом ------- челове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ые пробл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1 - Случайно или закономерно возникновение человечества и созн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 №2 -  Есть ли определенная цель существования человечества, и в чем она заключ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250920" y="260280"/>
            <a:ext cx="8642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ще в античной философии возникла ТЕЛЕОЛОГИЯ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чение, согласно которому все в природе устроено целесообраз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 всяком развитии присутствует ЦЕЛ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торая влияет на  процесс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об этом говорил еще Аристотель (каждый предмет имеет целевую причину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ие века - Фома Аквин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ог как Высшая Ц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ое время – Лейб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дея предустановленной гармонии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линг (учение о мировой душе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гель (учение об Абсолютном Дух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250920" y="189000"/>
            <a:ext cx="86421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временная телеологическая пробле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обходимость объяснения чрезвычайно высокой и тонкой взаимосогласованности ряда фундаментальных свойств и характеристик нашей Вселенно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казывается, что изменение некоторых из этих свойств (даже на сотые доли процента) при сохранении всех остальных связей и параметров привело бы к катастрофическим последствиям для всего мирового целого. Например, если уменьшить массу протона на 30%, то в нашем мире отсутствовали бы любые атомы, кроме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атома водород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179280" y="189000"/>
            <a:ext cx="87854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70-е гг. ХХ века Б. Картер сформулировал антропный принцип, предполагающий, ч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ленная обладает такими свойствами, что в ней на определенном этапе с необходимостью могла возникнуть жизнь и сознание (наблюдатель). Т.е. Вселенной необходим познающий субъект-наблюда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ь человека и универсу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создан 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рьбы с энтропи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витие Вселенной неизбежно вызывает появление и накопление хаотических процессов (энтропии).  Должны существовать существа, которые будут препятствовать дальнейшему развитию этих проце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 ЖИЗНИ ЧЕЛОВЕЧЕСТВА – преодоление  ха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ет или выполнить свою миссию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670320" y="90360"/>
            <a:ext cx="78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трудно догадаться, что первая модель соответствует восточной онтологии, а вторая – западн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250920" y="5229360"/>
            <a:ext cx="8569080" cy="936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тное запрограммировано природ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родная программа реализовывается с помощью инстинктов. Смысл жизни животного – выжить и продолжить свой род. Животное не преобразовывает мир, но приспосабливается к нему. Если в программе происходит какой-то сбой, животное обычно погиб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еловек не только приспосабливается к миру, но активно его преобразовыва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процессе развития человеческой цивилизации меняется облик планеты и самого человека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КА – преобразование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так происходи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ОБЛАДАЕТ СОЗНАНИЕМ, которое вырабатывает образы и иде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ЗАНИМАЕТСЯ ТВОРЧЕСТВОМ, т.е.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реализует образы и идеи на прак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сперимен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инверсия зрен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 (Г. Страттон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я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езьянам надевали очки, которые создавали иллюзию перевернутого ми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осознавали, что это всего лишь ОБРАЗ БЫТИЯ и приспосабливались к н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 ------------------  мира,   ----------------------- Ми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                            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  ЕСТЬ СОЗН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НИЕ – способность  челове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ражать мир в образах, переживать события окружающего мира, оценивать их и отвечать на 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ЭТО СУБЪЕКТИВНОЕ  Б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3851280" y="2781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авая фигурная скобка 4"/>
          <p:cNvSpPr/>
          <p:nvPr/>
        </p:nvSpPr>
        <p:spPr>
          <a:xfrm>
            <a:off x="5076720" y="278136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8360" y="476280"/>
            <a:ext cx="81360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ествуют два основных знач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нятия «сознание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уз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ность человека отражать, окружающий мир, оценивать его, вырабатывать определенную программу поведения. Сознание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ворим: «потерял сознание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широком смысле сл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ическая жизнь (душа) человека, объединяющая как сознательные, так и бессознательные проце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611280" y="33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457200" algn="ctr">
              <a:spcBef>
                <a:spcPts val="4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И 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2556000" y="4005360"/>
            <a:ext cx="403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24"/>
          <p:cNvSpPr/>
          <p:nvPr/>
        </p:nvSpPr>
        <p:spPr>
          <a:xfrm>
            <a:off x="3419640" y="1989000"/>
            <a:ext cx="216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ОСОЗНА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25"/>
          <p:cNvSpPr/>
          <p:nvPr/>
        </p:nvSpPr>
        <p:spPr>
          <a:xfrm>
            <a:off x="277164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8"/>
          <p:cNvSpPr/>
          <p:nvPr/>
        </p:nvSpPr>
        <p:spPr>
          <a:xfrm>
            <a:off x="3564000" y="119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??    сверхсознательное 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23"/>
          <p:cNvSpPr/>
          <p:nvPr/>
        </p:nvSpPr>
        <p:spPr>
          <a:xfrm>
            <a:off x="3348000" y="2781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25"/>
          <p:cNvSpPr/>
          <p:nvPr/>
        </p:nvSpPr>
        <p:spPr>
          <a:xfrm flipV="1">
            <a:off x="5651640" y="2565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27"/>
          <p:cNvSpPr/>
          <p:nvPr/>
        </p:nvSpPr>
        <p:spPr>
          <a:xfrm>
            <a:off x="3132000" y="314172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35"/>
          <p:cNvSpPr/>
          <p:nvPr/>
        </p:nvSpPr>
        <p:spPr>
          <a:xfrm flipV="1">
            <a:off x="5796000" y="285228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ческие автоматизмы и стереотип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нстинкты как врождённые тенденции и стремления, выражающихся в форме сложного автоматического поведения; б) рефлексы как стереотипная реакция на раздражители (условные и безусловны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е действия (действующие в привычной ситуации, осознание которых излишне в силу их отработанно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сознаваемые мотивы (истинный смысл которых не осознается в силу их социальной неприемлемости или противоречия с другими мотив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роговое восприятие (или предсознательное). То, что было воспринято, но еще не дошло до сознания. Но при фокусировке внимания может быть осозна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343080"/>
            <a:ext cx="856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шибочные действия (оговорки, описки, ошибки при прослушивании сл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н и сновидения (2 фазы с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бокий сон – 2 часа. Полный отдых и восстановление орган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 сон – 20 мин. Снови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оцессы интуиции, не связанные с новым знанием. Ранее накопленный опы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 Коллективная память человечества и личная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ПОДСОЗНАТЕЛЬНОЕ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раннего психоанализа З. Фрейда. Последователи Фрейда и современные  психологи в основном отказалась от всех терминов, где присутствует «над/под» (за редким исключением)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 startAt="6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  ВОЗНИКЛО БЫТ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сточная онтология      Западная онт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Бог-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творение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        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Апокалипс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ми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«Дни» и «ночи» Брахмы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ытие бесконечное                       бытие конеч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в интервалах меж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дельными циклами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ебытие ДО и ПО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>
            <a:off x="324000" y="2060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ая соединительная линия 22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ая соединительная линия 24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ая соединительная линия 26"/>
          <p:cNvSpPr/>
          <p:nvPr/>
        </p:nvSpPr>
        <p:spPr>
          <a:xfrm>
            <a:off x="7380360" y="2781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30"/>
          <p:cNvSpPr/>
          <p:nvPr/>
        </p:nvSpPr>
        <p:spPr>
          <a:xfrm flipH="1">
            <a:off x="7093080" y="3573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32"/>
          <p:cNvSpPr/>
          <p:nvPr/>
        </p:nvSpPr>
        <p:spPr>
          <a:xfrm>
            <a:off x="6012000" y="2781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34"/>
          <p:cNvSpPr/>
          <p:nvPr/>
        </p:nvSpPr>
        <p:spPr>
          <a:xfrm>
            <a:off x="6012000" y="35733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ая соединительная линия 37"/>
          <p:cNvSpPr/>
          <p:nvPr/>
        </p:nvSpPr>
        <p:spPr>
          <a:xfrm>
            <a:off x="6300720" y="494172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H="1">
            <a:off x="6516720" y="4797360"/>
            <a:ext cx="504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олилиния 6"/>
          <p:cNvSpPr/>
          <p:nvPr/>
        </p:nvSpPr>
        <p:spPr>
          <a:xfrm>
            <a:off x="1908000" y="4653000"/>
            <a:ext cx="1344960" cy="396720"/>
          </a:xfrm>
          <a:custGeom>
            <a:avLst/>
            <a:gdLst>
              <a:gd name="textAreaLeft" fmla="*/ 0 w 1344960"/>
              <a:gd name="textAreaRight" fmla="*/ 1345320 w 134496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343741" h="397264">
                <a:moveTo>
                  <a:pt x="630612" y="71252"/>
                </a:moveTo>
                <a:cubicBezTo>
                  <a:pt x="539568" y="67293"/>
                  <a:pt x="448361" y="66108"/>
                  <a:pt x="357480" y="59376"/>
                </a:cubicBezTo>
                <a:cubicBezTo>
                  <a:pt x="341203" y="58170"/>
                  <a:pt x="326299" y="47501"/>
                  <a:pt x="309978" y="47501"/>
                </a:cubicBezTo>
                <a:cubicBezTo>
                  <a:pt x="254419" y="47501"/>
                  <a:pt x="199142" y="55418"/>
                  <a:pt x="143724" y="59376"/>
                </a:cubicBezTo>
                <a:cubicBezTo>
                  <a:pt x="108209" y="71215"/>
                  <a:pt x="88248" y="73696"/>
                  <a:pt x="60597" y="106878"/>
                </a:cubicBezTo>
                <a:cubicBezTo>
                  <a:pt x="54511" y="114181"/>
                  <a:pt x="37478" y="187475"/>
                  <a:pt x="36846" y="190005"/>
                </a:cubicBezTo>
                <a:cubicBezTo>
                  <a:pt x="40804" y="217714"/>
                  <a:pt x="36203" y="248097"/>
                  <a:pt x="48721" y="273132"/>
                </a:cubicBezTo>
                <a:cubicBezTo>
                  <a:pt x="54319" y="284328"/>
                  <a:pt x="73151" y="279410"/>
                  <a:pt x="84347" y="285008"/>
                </a:cubicBezTo>
                <a:cubicBezTo>
                  <a:pt x="176430" y="331050"/>
                  <a:pt x="66052" y="290783"/>
                  <a:pt x="155599" y="320634"/>
                </a:cubicBezTo>
                <a:cubicBezTo>
                  <a:pt x="187267" y="316675"/>
                  <a:pt x="219122" y="314005"/>
                  <a:pt x="250602" y="308758"/>
                </a:cubicBezTo>
                <a:cubicBezTo>
                  <a:pt x="295147" y="301334"/>
                  <a:pt x="294201" y="296302"/>
                  <a:pt x="333729" y="285008"/>
                </a:cubicBezTo>
                <a:cubicBezTo>
                  <a:pt x="349422" y="280524"/>
                  <a:pt x="365948" y="278863"/>
                  <a:pt x="381230" y="273132"/>
                </a:cubicBezTo>
                <a:cubicBezTo>
                  <a:pt x="464515" y="241900"/>
                  <a:pt x="395446" y="260088"/>
                  <a:pt x="464358" y="225631"/>
                </a:cubicBezTo>
                <a:cubicBezTo>
                  <a:pt x="566144" y="174737"/>
                  <a:pt x="483098" y="228494"/>
                  <a:pt x="571236" y="178130"/>
                </a:cubicBezTo>
                <a:cubicBezTo>
                  <a:pt x="688763" y="110973"/>
                  <a:pt x="510781" y="202420"/>
                  <a:pt x="654363" y="130628"/>
                </a:cubicBezTo>
                <a:cubicBezTo>
                  <a:pt x="695421" y="69042"/>
                  <a:pt x="654829" y="112621"/>
                  <a:pt x="725615" y="83127"/>
                </a:cubicBezTo>
                <a:cubicBezTo>
                  <a:pt x="758297" y="69510"/>
                  <a:pt x="787029" y="46823"/>
                  <a:pt x="820617" y="35626"/>
                </a:cubicBezTo>
                <a:cubicBezTo>
                  <a:pt x="871727" y="18588"/>
                  <a:pt x="844099" y="26786"/>
                  <a:pt x="903745" y="11875"/>
                </a:cubicBezTo>
                <a:cubicBezTo>
                  <a:pt x="955205" y="15833"/>
                  <a:pt x="1006911" y="17348"/>
                  <a:pt x="1058124" y="23750"/>
                </a:cubicBezTo>
                <a:cubicBezTo>
                  <a:pt x="1070545" y="25303"/>
                  <a:pt x="1081714" y="32187"/>
                  <a:pt x="1093750" y="35626"/>
                </a:cubicBezTo>
                <a:cubicBezTo>
                  <a:pt x="1109443" y="40110"/>
                  <a:pt x="1125417" y="43543"/>
                  <a:pt x="1141251" y="47501"/>
                </a:cubicBezTo>
                <a:cubicBezTo>
                  <a:pt x="1236258" y="110840"/>
                  <a:pt x="1121455" y="27706"/>
                  <a:pt x="1200628" y="106878"/>
                </a:cubicBezTo>
                <a:cubicBezTo>
                  <a:pt x="1210720" y="116970"/>
                  <a:pt x="1224379" y="122711"/>
                  <a:pt x="1236254" y="130628"/>
                </a:cubicBezTo>
                <a:cubicBezTo>
                  <a:pt x="1253846" y="201000"/>
                  <a:pt x="1250328" y="155260"/>
                  <a:pt x="1236254" y="225631"/>
                </a:cubicBezTo>
                <a:cubicBezTo>
                  <a:pt x="1231532" y="249242"/>
                  <a:pt x="1235146" y="275347"/>
                  <a:pt x="1224378" y="296883"/>
                </a:cubicBezTo>
                <a:cubicBezTo>
                  <a:pt x="1217995" y="309648"/>
                  <a:pt x="1200628" y="312717"/>
                  <a:pt x="1188753" y="320634"/>
                </a:cubicBezTo>
                <a:cubicBezTo>
                  <a:pt x="1093750" y="316675"/>
                  <a:pt x="998358" y="318219"/>
                  <a:pt x="903745" y="308758"/>
                </a:cubicBezTo>
                <a:cubicBezTo>
                  <a:pt x="878834" y="306267"/>
                  <a:pt x="832493" y="285008"/>
                  <a:pt x="832493" y="285008"/>
                </a:cubicBezTo>
                <a:cubicBezTo>
                  <a:pt x="816659" y="273133"/>
                  <a:pt x="802176" y="259202"/>
                  <a:pt x="784991" y="249382"/>
                </a:cubicBezTo>
                <a:cubicBezTo>
                  <a:pt x="774123" y="243172"/>
                  <a:pt x="760562" y="243104"/>
                  <a:pt x="749366" y="237506"/>
                </a:cubicBezTo>
                <a:cubicBezTo>
                  <a:pt x="736601" y="231123"/>
                  <a:pt x="725615" y="221673"/>
                  <a:pt x="713740" y="213756"/>
                </a:cubicBezTo>
                <a:cubicBezTo>
                  <a:pt x="705823" y="201881"/>
                  <a:pt x="701134" y="187046"/>
                  <a:pt x="689989" y="178130"/>
                </a:cubicBezTo>
                <a:cubicBezTo>
                  <a:pt x="680214" y="170310"/>
                  <a:pt x="665869" y="171185"/>
                  <a:pt x="654363" y="166254"/>
                </a:cubicBezTo>
                <a:cubicBezTo>
                  <a:pt x="638092" y="159281"/>
                  <a:pt x="622232" y="151287"/>
                  <a:pt x="606862" y="142504"/>
                </a:cubicBezTo>
                <a:cubicBezTo>
                  <a:pt x="594470" y="135423"/>
                  <a:pt x="584354" y="124375"/>
                  <a:pt x="571236" y="118753"/>
                </a:cubicBezTo>
                <a:cubicBezTo>
                  <a:pt x="556234" y="112324"/>
                  <a:pt x="539667" y="110419"/>
                  <a:pt x="523734" y="106878"/>
                </a:cubicBezTo>
                <a:cubicBezTo>
                  <a:pt x="453777" y="91332"/>
                  <a:pt x="451635" y="93412"/>
                  <a:pt x="369355" y="83127"/>
                </a:cubicBezTo>
                <a:cubicBezTo>
                  <a:pt x="248218" y="42749"/>
                  <a:pt x="279407" y="48476"/>
                  <a:pt x="36846" y="83127"/>
                </a:cubicBezTo>
                <a:cubicBezTo>
                  <a:pt x="20221" y="85502"/>
                  <a:pt x="13095" y="106878"/>
                  <a:pt x="1220" y="118753"/>
                </a:cubicBezTo>
                <a:cubicBezTo>
                  <a:pt x="5178" y="166254"/>
                  <a:pt x="0" y="215425"/>
                  <a:pt x="13095" y="261257"/>
                </a:cubicBezTo>
                <a:cubicBezTo>
                  <a:pt x="17016" y="274980"/>
                  <a:pt x="36329" y="277927"/>
                  <a:pt x="48721" y="285008"/>
                </a:cubicBezTo>
                <a:cubicBezTo>
                  <a:pt x="154189" y="345274"/>
                  <a:pt x="45052" y="274643"/>
                  <a:pt x="131849" y="332509"/>
                </a:cubicBezTo>
                <a:cubicBezTo>
                  <a:pt x="250602" y="328551"/>
                  <a:pt x="369777" y="331391"/>
                  <a:pt x="488108" y="320634"/>
                </a:cubicBezTo>
                <a:cubicBezTo>
                  <a:pt x="502322" y="319342"/>
                  <a:pt x="510616" y="302505"/>
                  <a:pt x="523734" y="296883"/>
                </a:cubicBezTo>
                <a:cubicBezTo>
                  <a:pt x="577027" y="274043"/>
                  <a:pt x="560625" y="296251"/>
                  <a:pt x="606862" y="273132"/>
                </a:cubicBezTo>
                <a:cubicBezTo>
                  <a:pt x="619627" y="266749"/>
                  <a:pt x="630613" y="257299"/>
                  <a:pt x="642488" y="249382"/>
                </a:cubicBezTo>
                <a:cubicBezTo>
                  <a:pt x="658322" y="225631"/>
                  <a:pt x="662909" y="187157"/>
                  <a:pt x="689989" y="178130"/>
                </a:cubicBezTo>
                <a:cubicBezTo>
                  <a:pt x="725693" y="166228"/>
                  <a:pt x="730548" y="168081"/>
                  <a:pt x="761241" y="142504"/>
                </a:cubicBezTo>
                <a:cubicBezTo>
                  <a:pt x="821885" y="91968"/>
                  <a:pt x="767476" y="114226"/>
                  <a:pt x="844368" y="95002"/>
                </a:cubicBezTo>
                <a:cubicBezTo>
                  <a:pt x="856243" y="87085"/>
                  <a:pt x="866876" y="76874"/>
                  <a:pt x="879994" y="71252"/>
                </a:cubicBezTo>
                <a:cubicBezTo>
                  <a:pt x="894995" y="64823"/>
                  <a:pt x="913915" y="68429"/>
                  <a:pt x="927495" y="59376"/>
                </a:cubicBezTo>
                <a:cubicBezTo>
                  <a:pt x="939370" y="51459"/>
                  <a:pt x="940282" y="32887"/>
                  <a:pt x="951246" y="23750"/>
                </a:cubicBezTo>
                <a:cubicBezTo>
                  <a:pt x="964846" y="12417"/>
                  <a:pt x="982913" y="7917"/>
                  <a:pt x="998747" y="0"/>
                </a:cubicBezTo>
                <a:cubicBezTo>
                  <a:pt x="1069999" y="3958"/>
                  <a:pt x="1141858" y="1783"/>
                  <a:pt x="1212503" y="11875"/>
                </a:cubicBezTo>
                <a:cubicBezTo>
                  <a:pt x="1245454" y="16582"/>
                  <a:pt x="1254763" y="50711"/>
                  <a:pt x="1271880" y="71252"/>
                </a:cubicBezTo>
                <a:cubicBezTo>
                  <a:pt x="1282631" y="84154"/>
                  <a:pt x="1295631" y="95003"/>
                  <a:pt x="1307506" y="106878"/>
                </a:cubicBezTo>
                <a:cubicBezTo>
                  <a:pt x="1337546" y="197001"/>
                  <a:pt x="1343741" y="183202"/>
                  <a:pt x="1319381" y="296883"/>
                </a:cubicBezTo>
                <a:cubicBezTo>
                  <a:pt x="1315672" y="314193"/>
                  <a:pt x="1308148" y="331866"/>
                  <a:pt x="1295630" y="344384"/>
                </a:cubicBezTo>
                <a:cubicBezTo>
                  <a:pt x="1286779" y="353235"/>
                  <a:pt x="1271200" y="350662"/>
                  <a:pt x="1260004" y="356260"/>
                </a:cubicBezTo>
                <a:cubicBezTo>
                  <a:pt x="1177996" y="397264"/>
                  <a:pt x="1275735" y="367170"/>
                  <a:pt x="1176877" y="391886"/>
                </a:cubicBezTo>
                <a:cubicBezTo>
                  <a:pt x="1125417" y="387927"/>
                  <a:pt x="1073794" y="385710"/>
                  <a:pt x="1022498" y="380010"/>
                </a:cubicBezTo>
                <a:cubicBezTo>
                  <a:pt x="963239" y="373426"/>
                  <a:pt x="974584" y="369714"/>
                  <a:pt x="927495" y="356260"/>
                </a:cubicBezTo>
                <a:cubicBezTo>
                  <a:pt x="911802" y="351776"/>
                  <a:pt x="895828" y="348343"/>
                  <a:pt x="879994" y="344384"/>
                </a:cubicBezTo>
                <a:cubicBezTo>
                  <a:pt x="756740" y="262217"/>
                  <a:pt x="947553" y="387295"/>
                  <a:pt x="796867" y="296883"/>
                </a:cubicBezTo>
                <a:cubicBezTo>
                  <a:pt x="653565" y="210901"/>
                  <a:pt x="786695" y="279923"/>
                  <a:pt x="678114" y="225631"/>
                </a:cubicBezTo>
                <a:cubicBezTo>
                  <a:pt x="619145" y="137178"/>
                  <a:pt x="694934" y="245815"/>
                  <a:pt x="618737" y="154379"/>
                </a:cubicBezTo>
                <a:cubicBezTo>
                  <a:pt x="609600" y="143415"/>
                  <a:pt x="605078" y="128845"/>
                  <a:pt x="594986" y="118753"/>
                </a:cubicBezTo>
                <a:cubicBezTo>
                  <a:pt x="574444" y="98211"/>
                  <a:pt x="535148" y="85225"/>
                  <a:pt x="511859" y="71252"/>
                </a:cubicBezTo>
                <a:cubicBezTo>
                  <a:pt x="487382" y="56566"/>
                  <a:pt x="468300" y="30673"/>
                  <a:pt x="440607" y="23750"/>
                </a:cubicBezTo>
                <a:cubicBezTo>
                  <a:pt x="346863" y="315"/>
                  <a:pt x="409371" y="13230"/>
                  <a:pt x="250602" y="0"/>
                </a:cubicBezTo>
                <a:cubicBezTo>
                  <a:pt x="211018" y="3958"/>
                  <a:pt x="171168" y="5826"/>
                  <a:pt x="131849" y="11875"/>
                </a:cubicBezTo>
                <a:cubicBezTo>
                  <a:pt x="119477" y="13778"/>
                  <a:pt x="105998" y="15930"/>
                  <a:pt x="96223" y="23750"/>
                </a:cubicBezTo>
                <a:cubicBezTo>
                  <a:pt x="85078" y="32666"/>
                  <a:pt x="81609" y="48412"/>
                  <a:pt x="72472" y="59376"/>
                </a:cubicBezTo>
                <a:cubicBezTo>
                  <a:pt x="34047" y="105486"/>
                  <a:pt x="36846" y="76396"/>
                  <a:pt x="36846" y="106878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ая соединительная линия 20"/>
          <p:cNvSpPr/>
          <p:nvPr/>
        </p:nvSpPr>
        <p:spPr>
          <a:xfrm>
            <a:off x="4500720" y="1484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олилиния 21"/>
          <p:cNvSpPr/>
          <p:nvPr/>
        </p:nvSpPr>
        <p:spPr>
          <a:xfrm>
            <a:off x="185760" y="2255760"/>
            <a:ext cx="3917880" cy="1001880"/>
          </a:xfrm>
          <a:custGeom>
            <a:avLst/>
            <a:gdLst>
              <a:gd name="textAreaLeft" fmla="*/ 0 w 3917880"/>
              <a:gd name="textAreaRight" fmla="*/ 3918240 w 391788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3916878" h="1001485">
                <a:moveTo>
                  <a:pt x="27709" y="451262"/>
                </a:moveTo>
                <a:cubicBezTo>
                  <a:pt x="55418" y="314696"/>
                  <a:pt x="605642" y="0"/>
                  <a:pt x="930234" y="47501"/>
                </a:cubicBezTo>
                <a:cubicBezTo>
                  <a:pt x="1254826" y="95002"/>
                  <a:pt x="1622961" y="736270"/>
                  <a:pt x="1975262" y="736270"/>
                </a:cubicBezTo>
                <a:cubicBezTo>
                  <a:pt x="2327563" y="736270"/>
                  <a:pt x="2721428" y="81148"/>
                  <a:pt x="3044041" y="47501"/>
                </a:cubicBezTo>
                <a:cubicBezTo>
                  <a:pt x="3366654" y="13854"/>
                  <a:pt x="3916878" y="387927"/>
                  <a:pt x="3910940" y="534389"/>
                </a:cubicBezTo>
                <a:cubicBezTo>
                  <a:pt x="3905002" y="680851"/>
                  <a:pt x="3299360" y="1001485"/>
                  <a:pt x="3008415" y="926275"/>
                </a:cubicBezTo>
                <a:cubicBezTo>
                  <a:pt x="2717470" y="851065"/>
                  <a:pt x="2539340" y="93023"/>
                  <a:pt x="2165267" y="83127"/>
                </a:cubicBezTo>
                <a:cubicBezTo>
                  <a:pt x="1791194" y="73231"/>
                  <a:pt x="1114301" y="809501"/>
                  <a:pt x="763979" y="866898"/>
                </a:cubicBezTo>
                <a:cubicBezTo>
                  <a:pt x="413657" y="924295"/>
                  <a:pt x="0" y="587828"/>
                  <a:pt x="27709" y="451262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55640" y="765000"/>
            <a:ext cx="7920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ОЗНАН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кусирование на переживании настоящего момента, не вовлекаясь в мысли о прошлом и будущ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самонаблюдению, осознанные действия, планирование (интроспекция собственной деятельност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ие своего «Я», самоанализ, самосозн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24000" y="549360"/>
            <a:ext cx="85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ший уровень осознанности (СВЕРХСОЗНАНИ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познавательные процессы (интуиция, творческое озарение, вдохнове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В. Симонов: «творческая интуиц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его теории  бессознательная (подсознательная) интуиция оперирует уже накопленным знанием, на уровне осознания информация передается от одного другому, а в сверхсознании работает механизм получения принципиально новой информации. Творческая интуиция - источник прогресса во всех сферах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мистические состояния (в философско-религиозных учени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324000" y="26028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ТРИБУТЫ    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по К. К. Платонову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жив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не содержит образа отражаемого и проявляется в форме удовольствия или неудовольствия (страдания), напряжения или разрешения, возбуждения или успокоения. Проявляется в эмоциях, чувствах, потребностях,  волевом усилии, произвольном внимании и произвольной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роцесс создания образов, который проявляется в ощущениях, мышлении, восприятии и памяти. Продуктом познания являются знания как идеальное. Идеальное — это субъективное явление, существующее в форме образа, связанного с понят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лич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убъекта к ми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250920" y="378000"/>
            <a:ext cx="842472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ctr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ТОЧНАЯ  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– высшая ц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   Сознание формирует образ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 мира зависит от чистоты сознания человека, от  уровня его развития. Сознание субъектив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ЗНАНИЕ человека определяет БЫТИ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два основных вида со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42720" algn="just">
              <a:spcBef>
                <a:spcPts val="400"/>
              </a:spcBef>
              <a:tabLst>
                <a:tab algn="l" pos="0"/>
                <a:tab algn="l" pos="3650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2664000" y="360360"/>
            <a:ext cx="3958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icture 3"/>
          <p:cNvSpPr/>
          <p:nvPr/>
        </p:nvSpPr>
        <p:spPr>
          <a:xfrm>
            <a:off x="5219640" y="3716280"/>
            <a:ext cx="30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00" y="260280"/>
            <a:ext cx="85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  УРОВНЯ  СОЗНАНИ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озерцание-осознанность (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ТМ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дрств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со сновиде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н без                                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овид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метод просветления – созерц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мыслей, суждений, оце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трение органов чувств – зрения, слуха, обоняния, вкуса, осяз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за реальностью с предельным вниманием – осозна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лабленность, снятие напря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>
            <a:off x="755640" y="981000"/>
            <a:ext cx="70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20"/>
          <p:cNvSpPr/>
          <p:nvPr/>
        </p:nvSpPr>
        <p:spPr>
          <a:xfrm>
            <a:off x="684360" y="981000"/>
            <a:ext cx="367164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4427280" y="98100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26"/>
          <p:cNvSpPr/>
          <p:nvPr/>
        </p:nvSpPr>
        <p:spPr>
          <a:xfrm>
            <a:off x="7885080" y="98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28"/>
          <p:cNvSpPr/>
          <p:nvPr/>
        </p:nvSpPr>
        <p:spPr>
          <a:xfrm>
            <a:off x="2050920" y="234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30"/>
          <p:cNvSpPr/>
          <p:nvPr/>
        </p:nvSpPr>
        <p:spPr>
          <a:xfrm>
            <a:off x="2700360" y="2997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ая соединительная линия 32"/>
          <p:cNvSpPr/>
          <p:nvPr/>
        </p:nvSpPr>
        <p:spPr>
          <a:xfrm>
            <a:off x="1258920" y="1557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авая фигурная скобка 10"/>
          <p:cNvSpPr/>
          <p:nvPr/>
        </p:nvSpPr>
        <p:spPr>
          <a:xfrm>
            <a:off x="7524720" y="1557360"/>
            <a:ext cx="287280" cy="32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240000"/>
              <a:gd name="textAreaBottom" fmla="*/ 323280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60"/>
                </a:cubicBezTo>
                <a:lnTo>
                  <a:pt x="10800" y="10640"/>
                </a:lnTo>
                <a:cubicBezTo>
                  <a:pt x="10800" y="10720"/>
                  <a:pt x="16200" y="10800"/>
                  <a:pt x="21600" y="10800"/>
                </a:cubicBezTo>
                <a:cubicBezTo>
                  <a:pt x="16200" y="10800"/>
                  <a:pt x="10800" y="10880"/>
                  <a:pt x="10800" y="10960"/>
                </a:cubicBezTo>
                <a:lnTo>
                  <a:pt x="10800" y="21440"/>
                </a:lnTo>
                <a:cubicBezTo>
                  <a:pt x="10800" y="21520"/>
                  <a:pt x="5400" y="21600"/>
                  <a:pt x="0" y="21600"/>
                </a:cubicBez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404640"/>
            <a:ext cx="8569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ПАДНАЯ ФИЛОСОФ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ана на идее существования трёх частей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увственно-эмоциональное нача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умно-волевое начало (образ и подобие Бог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физическое начало, инстинктивн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 связывает человека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ансценден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ло -------- ДУША ----------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оплощает подсознание (грех и страст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24000" y="260280"/>
            <a:ext cx="864072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поху Нового времени под влиянием материализма  акцент переносится на тело человека (бессознательн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ух ------------------- ДУША ----------------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игмунд Фрейд (1856 - 1939) наиболее последовательно обосновал новую парадиг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оположник психоанали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7"/>
          <p:cNvSpPr/>
          <p:nvPr/>
        </p:nvSpPr>
        <p:spPr>
          <a:xfrm>
            <a:off x="2843280" y="4653000"/>
            <a:ext cx="3889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0"/>
          <p:cNvSpPr/>
          <p:nvPr/>
        </p:nvSpPr>
        <p:spPr>
          <a:xfrm>
            <a:off x="3276720" y="4005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1"/>
          <p:cNvSpPr/>
          <p:nvPr/>
        </p:nvSpPr>
        <p:spPr>
          <a:xfrm>
            <a:off x="2124000" y="342900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Р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ая соединительная линия 15"/>
          <p:cNvSpPr/>
          <p:nvPr/>
        </p:nvSpPr>
        <p:spPr>
          <a:xfrm flipH="1">
            <a:off x="1763640" y="3141720"/>
            <a:ext cx="237672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17"/>
          <p:cNvSpPr/>
          <p:nvPr/>
        </p:nvSpPr>
        <p:spPr>
          <a:xfrm>
            <a:off x="4140360" y="3141720"/>
            <a:ext cx="26636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ая соединительная линия 19"/>
          <p:cNvSpPr/>
          <p:nvPr/>
        </p:nvSpPr>
        <p:spPr>
          <a:xfrm>
            <a:off x="3564000" y="400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23"/>
          <p:cNvSpPr/>
          <p:nvPr/>
        </p:nvSpPr>
        <p:spPr>
          <a:xfrm>
            <a:off x="3348000" y="44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Равнобедренный треугольник 33"/>
          <p:cNvSpPr/>
          <p:nvPr/>
        </p:nvSpPr>
        <p:spPr>
          <a:xfrm>
            <a:off x="1476360" y="907920"/>
            <a:ext cx="6048360" cy="4969080"/>
          </a:xfrm>
          <a:prstGeom prst="triangle">
            <a:avLst>
              <a:gd name="adj" fmla="val 4922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4452840" y="907920"/>
            <a:ext cx="307188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9"/>
          <p:cNvSpPr/>
          <p:nvPr/>
        </p:nvSpPr>
        <p:spPr>
          <a:xfrm>
            <a:off x="2771640" y="37162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6"/>
          <p:cNvSpPr/>
          <p:nvPr/>
        </p:nvSpPr>
        <p:spPr>
          <a:xfrm>
            <a:off x="7524720" y="450864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58"/>
          <p:cNvSpPr/>
          <p:nvPr/>
        </p:nvSpPr>
        <p:spPr>
          <a:xfrm flipH="1">
            <a:off x="7524720" y="508464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6"/>
          <p:cNvSpPr/>
          <p:nvPr/>
        </p:nvSpPr>
        <p:spPr>
          <a:xfrm flipV="1">
            <a:off x="6156360" y="3357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68"/>
          <p:cNvSpPr/>
          <p:nvPr/>
        </p:nvSpPr>
        <p:spPr>
          <a:xfrm>
            <a:off x="3203640" y="306864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0"/>
          <p:cNvSpPr/>
          <p:nvPr/>
        </p:nvSpPr>
        <p:spPr>
          <a:xfrm flipV="1">
            <a:off x="5796000" y="278136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6"/>
          <p:cNvSpPr/>
          <p:nvPr/>
        </p:nvSpPr>
        <p:spPr>
          <a:xfrm>
            <a:off x="392436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78"/>
          <p:cNvSpPr/>
          <p:nvPr/>
        </p:nvSpPr>
        <p:spPr>
          <a:xfrm flipV="1">
            <a:off x="4932360" y="16999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8"/>
          <p:cNvSpPr/>
          <p:nvPr/>
        </p:nvSpPr>
        <p:spPr>
          <a:xfrm>
            <a:off x="611280" y="33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. Г. Юнг (1875 – 196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1"/>
          <p:cNvSpPr/>
          <p:nvPr/>
        </p:nvSpPr>
        <p:spPr>
          <a:xfrm>
            <a:off x="2484360" y="4508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лектив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БЕССОЗН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22"/>
          <p:cNvSpPr/>
          <p:nvPr/>
        </p:nvSpPr>
        <p:spPr>
          <a:xfrm flipV="1" rot="10800000">
            <a:off x="3708360" y="3926520"/>
            <a:ext cx="17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24"/>
          <p:cNvSpPr/>
          <p:nvPr/>
        </p:nvSpPr>
        <p:spPr>
          <a:xfrm>
            <a:off x="3492360" y="234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СОЗНА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5"/>
          <p:cNvSpPr/>
          <p:nvPr/>
        </p:nvSpPr>
        <p:spPr>
          <a:xfrm>
            <a:off x="2700360" y="31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28"/>
          <p:cNvSpPr/>
          <p:nvPr/>
        </p:nvSpPr>
        <p:spPr>
          <a:xfrm>
            <a:off x="2627280" y="134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созна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ая соединительная линия 19"/>
          <p:cNvSpPr/>
          <p:nvPr/>
        </p:nvSpPr>
        <p:spPr>
          <a:xfrm>
            <a:off x="2340000" y="4365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ая соединительная линия 21"/>
          <p:cNvSpPr/>
          <p:nvPr/>
        </p:nvSpPr>
        <p:spPr>
          <a:xfrm flipV="1">
            <a:off x="6588000" y="386028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22"/>
          <p:cNvSpPr/>
          <p:nvPr/>
        </p:nvSpPr>
        <p:spPr>
          <a:xfrm>
            <a:off x="2556000" y="378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е бессознат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50920" y="-364680"/>
            <a:ext cx="8642160" cy="11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коллективного бессознательного являются инстинкты, безусловные рефлексы и архетипы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АРХЕТИП - модель /стереотип поведения, базовый символ. Отличается универсальностью и всеобщ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Женщина-мать, Мужчина-оте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Microsoft YaHei"/>
              </a:rPr>
              <a:t>Дом,  Бог, Сам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Microsoft YaHei"/>
              </a:rPr>
              <a:t>Основным содержанием личного бессознательного являются: комплексы, условные рефлексы, личная память, бессознательные жел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68360" y="40464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АМОСТЬ - универсальный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рхетип, сущност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АНИМА/АНИМУС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женское и муж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каждом из 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ЕНЬ – то, что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рываем от других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СКА –                                      ЭГО – то, какими 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то, какими мы                             представляем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отим каз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другим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УК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 algn="just"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52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258920" y="260280"/>
            <a:ext cx="6661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Группа 13" descr=""/>
          <p:cNvPicPr/>
          <p:nvPr/>
        </p:nvPicPr>
        <p:blipFill>
          <a:blip r:embed="rId1"/>
          <a:stretch/>
        </p:blipFill>
        <p:spPr>
          <a:xfrm>
            <a:off x="457200" y="463680"/>
            <a:ext cx="3906720" cy="3767040"/>
          </a:xfrm>
          <a:prstGeom prst="rect">
            <a:avLst/>
          </a:prstGeom>
          <a:ln w="0">
            <a:noFill/>
          </a:ln>
        </p:spPr>
      </p:pic>
      <p:cxnSp>
        <p:nvCxnSpPr>
          <p:cNvPr id="292" name="Прямая со стрелкой 22"/>
          <p:cNvCxnSpPr/>
          <p:nvPr/>
        </p:nvCxnSpPr>
        <p:spPr>
          <a:xfrm>
            <a:off x="2916000" y="2276640"/>
            <a:ext cx="1080" cy="7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3" name="Прямая со стрелкой 26"/>
          <p:cNvCxnSpPr/>
          <p:nvPr/>
        </p:nvCxnSpPr>
        <p:spPr>
          <a:xfrm flipH="1" flipV="1">
            <a:off x="3202920" y="3789000"/>
            <a:ext cx="1873800" cy="7200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4" name="Прямая со стрелкой 30"/>
          <p:cNvCxnSpPr/>
          <p:nvPr/>
        </p:nvCxnSpPr>
        <p:spPr>
          <a:xfrm flipH="1">
            <a:off x="2545560" y="692280"/>
            <a:ext cx="1810440" cy="16214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5" name="Прямая со стрелкой 32"/>
          <p:cNvCxnSpPr/>
          <p:nvPr/>
        </p:nvCxnSpPr>
        <p:spPr>
          <a:xfrm flipV="1">
            <a:off x="1116000" y="3933000"/>
            <a:ext cx="216720" cy="359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6" name="Прямая со стрелкой 38"/>
          <p:cNvCxnSpPr/>
          <p:nvPr/>
        </p:nvCxnSpPr>
        <p:spPr>
          <a:xfrm flipH="1">
            <a:off x="3202920" y="2133360"/>
            <a:ext cx="1440360" cy="2163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7" name="Прямая со стрелкой 40"/>
          <p:cNvCxnSpPr/>
          <p:nvPr/>
        </p:nvCxnSpPr>
        <p:spPr>
          <a:xfrm flipH="1" flipV="1">
            <a:off x="3491640" y="2923920"/>
            <a:ext cx="1367640" cy="43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33336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лософ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объективная реальность, которая существует независимо от наших желаний и знаний о ней, и которая может быть зафиксирована с помощью органов чув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ю обычно отличают от сознания – субъективной ре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физической точки зрени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рия – множество всего содержимого пространства-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атерия изучается науками о природе – физикой, химией, биологией и п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539640" y="367560"/>
            <a:ext cx="842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манистическая психолог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рахам Гарольд Маслоу (1908 - 19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тель иерархии (пирамиды) потребностей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и есть первичные (базовые) и высшие. Необходи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ия всех уровней потребностей, начиная с базо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5" descr="D:\Философия\Philosophy_lectures\9_Сознание\piramida-maslou.jpg"/>
          <p:cNvPicPr/>
          <p:nvPr/>
        </p:nvPicPr>
        <p:blipFill>
          <a:blip r:embed="rId1"/>
          <a:stretch/>
        </p:blipFill>
        <p:spPr>
          <a:xfrm>
            <a:off x="0" y="1989000"/>
            <a:ext cx="7958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3" descr="D:\Философия\Philosophy_lectures\9_Сознание\maslou5.jpg"/>
          <p:cNvPicPr/>
          <p:nvPr/>
        </p:nvPicPr>
        <p:blipFill>
          <a:blip r:embed="rId1"/>
          <a:stretch/>
        </p:blipFill>
        <p:spPr>
          <a:xfrm>
            <a:off x="539640" y="0"/>
            <a:ext cx="834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иды мат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О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обладает внутренними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 не обладает внутренни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отами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устота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. состоит из фермионов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много разновидност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бозонов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гравитацион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VI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имеет сложную структуру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электромагнитное (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 мельчайших частиц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вантовое (ХХ-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Х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, лептонов и др.)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 атомов и молеку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Только на молекуляр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не приобретает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змы, газа, жидк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сталла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 flipH="1">
            <a:off x="1762920" y="691920"/>
            <a:ext cx="1369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>
            <a:off x="6011640" y="69192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НТОВОЕ  ПОЛЕ – универсальная форма мат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ЕСТВЕННЫЕ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кварково-лептонные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ЗАИМО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рмионной природы)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-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ильные глю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бозонные слаб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 фотонно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                                           электромагнит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гравит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поле Хигг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я неясной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мат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темная энергия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/>
          <p:nvPr/>
        </p:nvCxnSpPr>
        <p:spPr>
          <a:xfrm flipH="1">
            <a:off x="1547280" y="836280"/>
            <a:ext cx="136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9"/>
          <p:cNvCxnSpPr/>
          <p:nvPr/>
        </p:nvCxnSpPr>
        <p:spPr>
          <a:xfrm>
            <a:off x="6372000" y="90756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6727680" y="6408720"/>
            <a:ext cx="191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71640" y="458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39640" y="620640"/>
            <a:ext cx="835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е поле удерживает частицы вну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е поле удерживает электроны на орбит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же время позволяя 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вращаться вокр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дра ато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что будет с наш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ленн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сли исчез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льное и слабое по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Группа 13"/>
          <p:cNvGrpSpPr/>
          <p:nvPr/>
        </p:nvGrpSpPr>
        <p:grpSpPr>
          <a:xfrm>
            <a:off x="4572000" y="2924280"/>
            <a:ext cx="3887640" cy="3743280"/>
            <a:chOff x="4572000" y="2924280"/>
            <a:chExt cx="3887640" cy="3743280"/>
          </a:xfrm>
        </p:grpSpPr>
        <p:sp>
          <p:nvSpPr>
            <p:cNvPr id="95" name="Овал 12"/>
            <p:cNvSpPr/>
            <p:nvPr/>
          </p:nvSpPr>
          <p:spPr>
            <a:xfrm>
              <a:off x="4572000" y="2924280"/>
              <a:ext cx="3887640" cy="37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Группа 10"/>
            <p:cNvGrpSpPr/>
            <p:nvPr/>
          </p:nvGrpSpPr>
          <p:grpSpPr>
            <a:xfrm>
              <a:off x="5075640" y="3409560"/>
              <a:ext cx="2915640" cy="2807640"/>
              <a:chOff x="5075640" y="3409560"/>
              <a:chExt cx="2915640" cy="2807640"/>
            </a:xfrm>
          </p:grpSpPr>
          <p:sp>
            <p:nvSpPr>
              <p:cNvPr id="97" name="Овал 9"/>
              <p:cNvSpPr/>
              <p:nvPr/>
            </p:nvSpPr>
            <p:spPr>
              <a:xfrm>
                <a:off x="5075640" y="3409560"/>
                <a:ext cx="2915640" cy="28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Овал 7"/>
              <p:cNvSpPr/>
              <p:nvPr/>
            </p:nvSpPr>
            <p:spPr>
              <a:xfrm>
                <a:off x="5579280" y="3894840"/>
                <a:ext cx="1943640" cy="18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Овал 8"/>
              <p:cNvSpPr/>
              <p:nvPr/>
            </p:nvSpPr>
            <p:spPr>
              <a:xfrm>
                <a:off x="6083280" y="4380120"/>
                <a:ext cx="971640" cy="935640"/>
              </a:xfrm>
              <a:prstGeom prst="ellipse">
                <a:avLst/>
              </a:prstGeom>
              <a:solidFill>
                <a:srgbClr val="7030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Овал 11"/>
            <p:cNvSpPr/>
            <p:nvPr/>
          </p:nvSpPr>
          <p:spPr>
            <a:xfrm>
              <a:off x="6443640" y="4726440"/>
              <a:ext cx="242640" cy="233640"/>
            </a:xfrm>
            <a:prstGeom prst="ellipse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Овал 11"/>
          <p:cNvSpPr/>
          <p:nvPr/>
        </p:nvSpPr>
        <p:spPr>
          <a:xfrm>
            <a:off x="7020000" y="4005360"/>
            <a:ext cx="242640" cy="2332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11"/>
          <p:cNvSpPr/>
          <p:nvPr/>
        </p:nvSpPr>
        <p:spPr>
          <a:xfrm>
            <a:off x="4500720" y="5084640"/>
            <a:ext cx="242640" cy="2350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7308720" y="5805360"/>
            <a:ext cx="243000" cy="23364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333360"/>
            <a:ext cx="871380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ТРИБУТЫ   МА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ДВИЖЕНИЕ 2. ПРОСТРАНСТВО 3.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– любое изменение, происходящее в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ижение абсолютно, а покой - относи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иды дв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             химическое                      биол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                                      социа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НЕРГИЯ – мера различных форм движения и взаимодействия материи, мера перехода движени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рии из одних форм в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547640" y="404640"/>
            <a:ext cx="64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Прямая со стрелкой 4"/>
          <p:cNvCxnSpPr/>
          <p:nvPr/>
        </p:nvCxnSpPr>
        <p:spPr>
          <a:xfrm flipH="1">
            <a:off x="1402560" y="3357360"/>
            <a:ext cx="180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6"/>
          <p:cNvCxnSpPr/>
          <p:nvPr/>
        </p:nvCxnSpPr>
        <p:spPr>
          <a:xfrm flipH="1">
            <a:off x="4210920" y="3573360"/>
            <a:ext cx="73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8"/>
          <p:cNvCxnSpPr/>
          <p:nvPr/>
        </p:nvCxnSpPr>
        <p:spPr>
          <a:xfrm>
            <a:off x="5940360" y="3284640"/>
            <a:ext cx="14403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2"/>
          <p:cNvCxnSpPr/>
          <p:nvPr/>
        </p:nvCxnSpPr>
        <p:spPr>
          <a:xfrm flipH="1">
            <a:off x="2410920" y="3499920"/>
            <a:ext cx="100872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4"/>
          <p:cNvCxnSpPr/>
          <p:nvPr/>
        </p:nvCxnSpPr>
        <p:spPr>
          <a:xfrm>
            <a:off x="5003640" y="3499920"/>
            <a:ext cx="11534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2484000" y="836280"/>
            <a:ext cx="432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>
            <a:off x="4571640" y="836280"/>
            <a:ext cx="14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>
            <a:off x="6012000" y="836280"/>
            <a:ext cx="1224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6:40:22Z</dcterms:created>
  <dc:creator>Наталья</dc:creator>
  <dc:description/>
  <dc:language>en-US</dc:language>
  <cp:lastModifiedBy>Наталья</cp:lastModifiedBy>
  <dcterms:modified xsi:type="dcterms:W3CDTF">2020-04-29T16:49:18Z</dcterms:modified>
  <cp:revision>10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9990</vt:lpwstr>
  </property>
</Properties>
</file>