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6A7A1-7BE3-499D-B926-197AD04A722E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A0D51-9580-48DB-BA1E-3E8EBCA240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13025-5FDC-462E-8986-3BC6AF84BE07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429CB-34DD-4C77-A201-CD15BEC96D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9996D-B12C-4DC3-AC74-A52A852FD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B6E0E-BE3C-42F4-924A-332C21429469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5B563-ABD4-4801-9115-B0120FE4F4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446E8-0589-4A73-86FA-80F90F33F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5B75B-902B-4818-B8E3-7B224D78DFB6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1DD03-518A-41F1-8AA1-987F83EFAE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EEB90-9382-400D-A52C-0CD302E74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7C585-7DEA-4CA3-8D03-4ED8C9F536B0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25D91-0337-491B-97A7-911A611C11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F3628-3F44-4BD0-A74A-10F98D94C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E8834-ABD3-4766-B37B-149128942E16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A3E60-CFD0-4DAF-80B3-1328B21201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44252-9311-4E4D-9212-35F5DED6E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11A05-48A7-454B-A357-716C7AAC5A04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E3CF5-3D52-411F-BD04-E7836943C7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DF0C5-39C6-4B50-B439-24D7FEED9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EFF31-C593-4507-AFEA-AB09D51840E2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1AAB7-F8F9-4981-8B82-C823276439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A9E9F-3FC5-4479-9C9E-F54A1B9B6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62F2D-7A7E-4F61-9C73-C0227BA044EE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4E187-8513-4809-AABC-0EBA7D65E10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AF334-5956-4C5C-8DE3-A4F3D446C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1ED1B-3A23-4847-A0D5-473E438FCD09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A4DF9-DDB6-4DDB-AB86-E30D3BF063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163DE-67CB-4465-A4E1-7137FEF34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D6E63-28E3-4D1D-AA26-6107B7602E2B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1267F-F3ED-40AD-8ED4-39DDBC8A74B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A8369-7CEC-4E0D-B9E0-5DE7260BB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BA095-C7D8-4FC1-8F45-7D444CBECE89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AA999-CD81-41EE-A29C-A56B2E70FC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606F7-AB94-4EC8-9149-E1358CEAA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B8E90-164C-40B9-ACE8-4568F5196A40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5B73C-3339-432D-BF9B-84DB12F3C4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DCB00-31D9-457D-BE5D-B78809A86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288A8-36F8-4DFF-BCA2-B2F0D0D451FD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00322-51A8-4D3F-8A2B-F074F1BC95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0A17E-D7E1-4026-A34D-BA9553C69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A4C0A-686F-4830-9CC7-73043CE497E5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055D2-84EB-4725-B0B1-B2690B9A3E0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3DAAF-CAAD-4731-9CCF-8EA2103E7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D1312-4472-422F-857E-FEE90FF95F43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378A5-C871-4229-B2DB-EFC2AFE2689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B0BA5-1BBA-499F-B1CE-3263C41FA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BE0F1-773D-42F4-98B6-F3D7C0C4B9B3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A1230-0B2D-481F-A2EC-EBA5C94018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B2E96-DA3B-4A1B-A76C-C89E4446D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8FC2C-C33E-4C83-884C-FC288682DA7F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66986-53F4-42BD-AA6A-6D46B10E9C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B0085-E6D5-4184-8077-923935276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34D6D-8B67-486C-9E27-C262876D8E70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D99CA-EA3C-41FE-96B0-738A3FE104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57215-DF35-4C71-8A43-B79322CE8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0E366-8670-4F6B-B21D-9208D606853F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D7CB9-AD46-44FB-8198-87A9AE6AF54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0F7C8-6493-4E87-8908-A20125CDE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AAA1A-412B-4FDD-A2E8-0C4CEE8FC35D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62C16-45DA-408D-8201-E4C11E461FA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8A7EC-B079-496B-92C9-9055233E4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6EE77-D589-4934-8E9C-45F8107B7B24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8F027-A59F-4B8A-B37B-C6AE35001B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29183-977C-4CB1-8CE1-B2842D49A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4E55C-ACB4-44D3-8614-8AC5D23C5392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6C365-275F-423A-99D9-4054D2CAFA1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34641-8DBD-493F-B3EA-79D131E47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0114F-7FB7-4541-A2AE-0DCC6E8EFD41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69BB1-985E-40EA-ABCA-89BD11D57A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BFCF5-CC98-49BC-A5BD-FC1C9F5B9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3AE03-2BB9-4BA5-B304-A354A35E3B40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20275-AC70-428E-B7E6-6DDAB10966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614C3-1E9D-468C-AD4B-695E98BBA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7ED50-4B86-4E2D-88B1-DB83ECBA7BD7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A2752-0860-422A-83CE-195DF4B15D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867E8-3AD8-4261-80CB-809735C46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B463D-D420-4A5F-B8F6-5644819B3F44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ED48B-A66C-4404-AB0D-9AFDC728A8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09C25-4296-4474-8A3E-526420746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67573-FDAC-4FD3-9855-DC463E8446DE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B2D65-E9B3-4217-9FBB-8984AF4555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51FD8-1AFB-4D7F-AEE4-3AD2DDB89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4E37E-E100-4411-ADFA-19EBB863549B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6567F-90BF-4B24-B2CB-34A4883ED7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41F0A-7762-45D0-A1F1-3E4F4833D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B7885-75B8-46D6-BCCB-D38BB3B76525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3F856-A4CD-4CFC-936D-40FEF88AEAC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07EE8-8896-47C1-85F0-B8181AC96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8C310-3422-4C80-8D6A-F1457BB66619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F4EC7-2CDF-483E-80F5-AAD785B3D2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70572-90DA-4DF7-BAAF-EBB5CD61A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F6E1E-8798-404E-950C-D0E0AF7F883C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BE1FB-B63D-4007-AEA1-D44586DDBE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FB69F-D115-45A2-B2F2-EED68EF3A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0542B-0BE7-45B7-936E-BD555768D966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D41DE-1CAE-4F93-AAA9-9C000AF605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3CB47-AE0B-43C9-9323-E8D19598B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BC1EB-EA1B-4288-90B6-0E54D17663BA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74576-DB54-436A-BD10-B1F3F72218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B2309-B98A-4D86-AB5E-DDA6C9EF7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E8604-455D-4400-A480-0B2EB74F88FC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F1124-8D73-4C9F-ABD9-CB6975260D1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38902-79A2-4F32-891C-E9F8B7212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D1A2-1317-441B-A22C-F4F0BF8584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8E59-D230-4B8B-A248-F2ACD2B2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8115-27C5-4230-A692-5F2B43E4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820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956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820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956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591C-9861-4C28-9E21-D389407B07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91140-43D9-4117-B6AD-D23BC48B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44C3-0904-448F-BEAC-5F3FDFE8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A335-76F6-418A-9264-93907753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33BA-8D49-41A7-AD83-B41EA244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B78FD-E9AD-4EC1-81A6-25B5A5E6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A2FC-1652-4047-899C-B83C910E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7003-C17C-4621-A472-44AFE724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FEB1-A2AC-4D2E-A664-61EE0A5F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6480" y="5791320"/>
            <a:ext cx="3399120" cy="1076040"/>
            <a:chOff x="-6480" y="5791320"/>
            <a:chExt cx="3399120" cy="1076040"/>
          </a:xfrm>
        </p:grpSpPr>
        <p:pic>
          <p:nvPicPr>
            <p:cNvPr id="3" name="Picture 4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39912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277920" y="6421320"/>
              <a:ext cx="16970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320" y="6408360"/>
            <a:ext cx="19162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2AD09A-9F73-4491-9620-3A65DB7E6534}" type="datetime">
              <a:rPr b="0" lang="ru-RU" sz="18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47200" y="6408360"/>
            <a:ext cx="363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FECF97-1A8F-4C09-BA81-C351AA19DFF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ЛЕКЦИЯ  9. </a:t>
            </a:r>
            <a:br>
              <a:rPr sz="2800"/>
            </a:b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55640" y="1052280"/>
            <a:ext cx="792000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Современная онтологи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нтология как наука о быти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терия как объективная реальнос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трибуты матери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ормы и уровни самоорганизации матери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знание как субъективная реальность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324000" y="333360"/>
            <a:ext cx="84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странством называют свойство предметов быть протяженными, занимать определенное положение, граничить друг с другом, иметь некоторые размеры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РАН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бъективн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объекти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 ощущаемое                         на осн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ом на основе                общепринятого этал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глазоме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 мет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йства простра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хмер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ра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любую точку пространства мож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титься вновь, НО в другое врем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Прямая со стрелкой 5"/>
          <p:cNvCxnSpPr/>
          <p:nvPr/>
        </p:nvCxnSpPr>
        <p:spPr>
          <a:xfrm flipH="1">
            <a:off x="2555640" y="2565360"/>
            <a:ext cx="151200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Прямая со стрелкой 7"/>
          <p:cNvCxnSpPr/>
          <p:nvPr/>
        </p:nvCxnSpPr>
        <p:spPr>
          <a:xfrm>
            <a:off x="4716000" y="2565360"/>
            <a:ext cx="1296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Прямая со стрелкой 10"/>
          <p:cNvCxnSpPr/>
          <p:nvPr/>
        </p:nvCxnSpPr>
        <p:spPr>
          <a:xfrm flipH="1">
            <a:off x="1834560" y="5157360"/>
            <a:ext cx="10818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Прямая со стрелкой 12"/>
          <p:cNvCxnSpPr/>
          <p:nvPr/>
        </p:nvCxnSpPr>
        <p:spPr>
          <a:xfrm>
            <a:off x="5148000" y="5157360"/>
            <a:ext cx="937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8"/>
          <p:cNvSpPr/>
          <p:nvPr/>
        </p:nvSpPr>
        <p:spPr>
          <a:xfrm>
            <a:off x="324000" y="333360"/>
            <a:ext cx="84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ше пространство трёхмер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днако квантовая физика утверждает факт многомерности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колько всего измерений пространст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зможно, 19 или даже бол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D:\Философия\Philosophy_lectures\8_Бытие\cube.png"/>
          <p:cNvPicPr/>
          <p:nvPr/>
        </p:nvPicPr>
        <p:blipFill>
          <a:blip r:embed="rId1"/>
          <a:stretch/>
        </p:blipFill>
        <p:spPr>
          <a:xfrm>
            <a:off x="539640" y="90792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D:\Философия\Philosophy_lectures\8_Бытие\0006-004-Sostavlen-iz-shesti-kvadratov.jpg"/>
          <p:cNvPicPr/>
          <p:nvPr/>
        </p:nvPicPr>
        <p:blipFill>
          <a:blip r:embed="rId2"/>
          <a:stretch/>
        </p:blipFill>
        <p:spPr>
          <a:xfrm>
            <a:off x="5076720" y="1125360"/>
            <a:ext cx="291960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324000" y="333360"/>
            <a:ext cx="84247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ремя – форма, с помощью которой измеряют длительность существования объектов, последовательность смены их состоя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бъективн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объекти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 ощущаемое                         на осн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ом на основе                общепринятого этал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их час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 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йства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дномер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ратимость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о начала ХХ века господствовало убеждение,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что пространство и время – конста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9" name="Прямая со стрелкой 5"/>
          <p:cNvCxnSpPr/>
          <p:nvPr/>
        </p:nvCxnSpPr>
        <p:spPr>
          <a:xfrm flipH="1">
            <a:off x="2555640" y="2205000"/>
            <a:ext cx="151200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Прямая со стрелкой 7"/>
          <p:cNvCxnSpPr/>
          <p:nvPr/>
        </p:nvCxnSpPr>
        <p:spPr>
          <a:xfrm>
            <a:off x="4716000" y="2205000"/>
            <a:ext cx="1296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Прямая со стрелкой 10"/>
          <p:cNvCxnSpPr/>
          <p:nvPr/>
        </p:nvCxnSpPr>
        <p:spPr>
          <a:xfrm flipH="1">
            <a:off x="2410560" y="4797000"/>
            <a:ext cx="1081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Прямая со стрелкой 12"/>
          <p:cNvCxnSpPr/>
          <p:nvPr/>
        </p:nvCxnSpPr>
        <p:spPr>
          <a:xfrm>
            <a:off x="5003640" y="4797000"/>
            <a:ext cx="9374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468360" y="18900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ОВРЕМЕННАЯ  НАУКА  ДОКАЗА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ТНОСИТЕЛЬНОСТЬ ПРОСТРАНСТВА И ВРЕМЕ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оторые по-разному проявляют себя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еживой, живой и социальной ма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ДЕЛЯЮ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ИЗИЧЕСКОЕ  ПРОСТРАНСТВО-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истеме отсчета Земли пространство-время практически неизменны, т.к. малые скорости и массы. Пространство описывается геометрией Евклида (линейн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при скорости, стремящейся к скорости света, наблюдаются феномены ускоряющегося времени и нелинейного искривленного (неевклидового) простра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сследования Эйнштейна, Лобачевского, Римана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468360" y="18900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 БИОЛОГИЧЕСКОЕ  ПРОСТРАНСТВО-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имметрия левой и правой частей живой клет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ая способствует лучшей адаптации организмов (в неживой материи наблюдается симметр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иологические часы», которые отличаются ритмичностью, цикличностью и необратимост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которыми можно  управля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дляя или ускоряя время жизни живого суще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ходимо знать способы ускорения и замедления биологических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сследования Вернадского, Пастер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468360" y="18900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 СОЦИАЛЬНОЕ  ПРОСТРАНСТВО-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е пространство иерархично и многомер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браз пирамиды), при этом можно описать несколько видов пирамид, которые создаются людьми в обществе – социальные, экономическ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ие, образовательные, нравственные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е время изучается истори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этапы, перио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коряется по мере развития цивилизац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орождает конфликт биологических и социальных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мерность социальног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алендари разных народ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250920" y="189000"/>
            <a:ext cx="871380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ВАНТОВАЯ ФИЗИКА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ЩАЯ ТЕОРИЯ ОТНОСИТЕЛЬНОСТИ СФОРМИРОВАЛИ НОВУЮ КАРТИНУ МИ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  ЖИВЕМ   В   РЕЛЯЦИОННОМ  (от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latio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) МИР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 материя бесконечно дели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 материя не имеет тверд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) все атрибуты материи относитель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ОЖНО  ЛИ  ОПИРАТЬСЯ  НА  МАТЕРИ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если она ОТНОСИТЕЛЬНА?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ОСНОВНЫЕ      ВОПРОСЫ: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что есть матер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противоположна ли материя сознанию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ни  тесно взаимосвяз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1187280" y="3573360"/>
            <a:ext cx="6913800" cy="100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1480" y="404640"/>
            <a:ext cx="831852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НИ  МАТЕ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га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ро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спринимаем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ами чувст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3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0  с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Ы  МАТЕРИИ        неживая (неорганическая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ая (органическая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ТЕГОРИЯ  «МИР»: -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овокупность всех форм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матер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- Вселен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Группа 13"/>
          <p:cNvGrpSpPr/>
          <p:nvPr/>
        </p:nvGrpSpPr>
        <p:grpSpPr>
          <a:xfrm>
            <a:off x="2195640" y="836640"/>
            <a:ext cx="3887640" cy="3743280"/>
            <a:chOff x="2195640" y="836640"/>
            <a:chExt cx="3887640" cy="3743280"/>
          </a:xfrm>
        </p:grpSpPr>
        <p:sp>
          <p:nvSpPr>
            <p:cNvPr id="146" name="Овал 12"/>
            <p:cNvSpPr/>
            <p:nvPr/>
          </p:nvSpPr>
          <p:spPr>
            <a:xfrm>
              <a:off x="2195640" y="836640"/>
              <a:ext cx="3887640" cy="374328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Группа 10"/>
            <p:cNvGrpSpPr/>
            <p:nvPr/>
          </p:nvGrpSpPr>
          <p:grpSpPr>
            <a:xfrm>
              <a:off x="2699280" y="1321920"/>
              <a:ext cx="2915640" cy="2807640"/>
              <a:chOff x="2699280" y="1321920"/>
              <a:chExt cx="2915640" cy="2807640"/>
            </a:xfrm>
          </p:grpSpPr>
          <p:sp>
            <p:nvSpPr>
              <p:cNvPr id="148" name="Овал 9"/>
              <p:cNvSpPr/>
              <p:nvPr/>
            </p:nvSpPr>
            <p:spPr>
              <a:xfrm>
                <a:off x="2699280" y="1321920"/>
                <a:ext cx="2915640" cy="2807640"/>
              </a:xfrm>
              <a:prstGeom prst="ellipse">
                <a:avLst/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Овал 7"/>
              <p:cNvSpPr/>
              <p:nvPr/>
            </p:nvSpPr>
            <p:spPr>
              <a:xfrm>
                <a:off x="3202920" y="1807200"/>
                <a:ext cx="1943640" cy="1871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Овал 8"/>
              <p:cNvSpPr/>
              <p:nvPr/>
            </p:nvSpPr>
            <p:spPr>
              <a:xfrm>
                <a:off x="3706920" y="2292480"/>
                <a:ext cx="971640" cy="935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" name="Овал 11"/>
            <p:cNvSpPr/>
            <p:nvPr/>
          </p:nvSpPr>
          <p:spPr>
            <a:xfrm>
              <a:off x="4067280" y="2638800"/>
              <a:ext cx="242640" cy="233640"/>
            </a:xfrm>
            <a:prstGeom prst="ellipse">
              <a:avLst/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2" name="Прямая со стрелкой 14"/>
          <p:cNvCxnSpPr>
            <a:endCxn id="151" idx="2"/>
          </p:cNvCxnSpPr>
          <p:nvPr/>
        </p:nvCxnSpPr>
        <p:spPr>
          <a:xfrm>
            <a:off x="2050560" y="2708280"/>
            <a:ext cx="20170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Прямая со стрелкой 16"/>
          <p:cNvCxnSpPr/>
          <p:nvPr/>
        </p:nvCxnSpPr>
        <p:spPr>
          <a:xfrm flipH="1">
            <a:off x="4715640" y="1773360"/>
            <a:ext cx="158508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Прямая со стрелкой 18"/>
          <p:cNvCxnSpPr/>
          <p:nvPr/>
        </p:nvCxnSpPr>
        <p:spPr>
          <a:xfrm flipH="1">
            <a:off x="4284360" y="836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8"/>
          <p:cNvSpPr/>
          <p:nvPr/>
        </p:nvSpPr>
        <p:spPr>
          <a:xfrm>
            <a:off x="324000" y="333360"/>
            <a:ext cx="842472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ИР (ВСЕЛЕННАЯ) 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о бесконечное и неисчерпаемое множество СИСТЕМНЫХ образован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обенное ЦЕЛОЕ, которое характеризуется наличием ЭЛЕМЕНТОВ и СТРУКТУРНЫХ связей между н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этом четко разграничив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еживые, живые и соци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324000" y="333360"/>
            <a:ext cx="842472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ИПОТЕЗА «Большого взрыв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селенная родилась 15 млрд. лет тому назад в результате взрыва физического вакуума, который получил название «большого взрыва». При этом выделилось колоссальное количество тепла, за счет которого Вселенная существует до сих пор. Взрыв произошел не сразу. Сначала 1 млн. лет происходила «инфляция» (раздувание) физического вакуу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4000" y="620640"/>
            <a:ext cx="85690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ЫТИЕ  ВКЛЮЧ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ЖЕ т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 чем мы еще не зн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ли не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отим знать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вал 3"/>
          <p:cNvSpPr/>
          <p:nvPr/>
        </p:nvSpPr>
        <p:spPr>
          <a:xfrm>
            <a:off x="4932360" y="3284640"/>
            <a:ext cx="3456000" cy="3313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вал 5"/>
          <p:cNvSpPr/>
          <p:nvPr/>
        </p:nvSpPr>
        <p:spPr>
          <a:xfrm>
            <a:off x="5867280" y="3573360"/>
            <a:ext cx="249876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7380360" y="4005360"/>
            <a:ext cx="914400" cy="9144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755640" y="260280"/>
            <a:ext cx="698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НТОЛОГИЯ – учение о быт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нтральная категория философ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«бытие», «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утт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Бытие – всё, что существу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Группа 13"/>
          <p:cNvGrpSpPr/>
          <p:nvPr/>
        </p:nvGrpSpPr>
        <p:grpSpPr>
          <a:xfrm>
            <a:off x="2484360" y="404640"/>
            <a:ext cx="3888000" cy="3743640"/>
            <a:chOff x="2484360" y="404640"/>
            <a:chExt cx="3888000" cy="3743640"/>
          </a:xfrm>
        </p:grpSpPr>
        <p:sp>
          <p:nvSpPr>
            <p:cNvPr id="161" name="Овал 12"/>
            <p:cNvSpPr/>
            <p:nvPr/>
          </p:nvSpPr>
          <p:spPr>
            <a:xfrm>
              <a:off x="2484360" y="404640"/>
              <a:ext cx="3888000" cy="374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Группа 10"/>
            <p:cNvGrpSpPr/>
            <p:nvPr/>
          </p:nvGrpSpPr>
          <p:grpSpPr>
            <a:xfrm>
              <a:off x="2988360" y="889920"/>
              <a:ext cx="2916000" cy="2807640"/>
              <a:chOff x="2988360" y="889920"/>
              <a:chExt cx="2916000" cy="2807640"/>
            </a:xfrm>
          </p:grpSpPr>
          <p:sp>
            <p:nvSpPr>
              <p:cNvPr id="163" name="Овал 9"/>
              <p:cNvSpPr/>
              <p:nvPr/>
            </p:nvSpPr>
            <p:spPr>
              <a:xfrm>
                <a:off x="2988360" y="889920"/>
                <a:ext cx="2916000" cy="280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Овал 7"/>
              <p:cNvSpPr/>
              <p:nvPr/>
            </p:nvSpPr>
            <p:spPr>
              <a:xfrm>
                <a:off x="3492360" y="1375200"/>
                <a:ext cx="1944000" cy="18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Овал 8"/>
              <p:cNvSpPr/>
              <p:nvPr/>
            </p:nvSpPr>
            <p:spPr>
              <a:xfrm>
                <a:off x="3996360" y="1860480"/>
                <a:ext cx="972000" cy="93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Овал 11"/>
            <p:cNvSpPr/>
            <p:nvPr/>
          </p:nvSpPr>
          <p:spPr>
            <a:xfrm>
              <a:off x="4356360" y="2207160"/>
              <a:ext cx="243000" cy="23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Прямоугольник 9"/>
          <p:cNvSpPr/>
          <p:nvPr/>
        </p:nvSpPr>
        <p:spPr>
          <a:xfrm>
            <a:off x="468360" y="260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    ЖИВЕМ   В   РАСШИРЯЮЩЕЙСЯ   ВСЕЛЕН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10"/>
          <p:cNvSpPr/>
          <p:nvPr/>
        </p:nvSpPr>
        <p:spPr>
          <a:xfrm>
            <a:off x="1547640" y="544500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акуум - потенциально самый «богатый», самый креативный вид  бы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11"/>
          <p:cNvSpPr/>
          <p:nvPr/>
        </p:nvSpPr>
        <p:spPr>
          <a:xfrm>
            <a:off x="250920" y="4221000"/>
            <a:ext cx="8713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акууме постоянно происходят сложные процессы, связанные с непрерывным появлением и исчезновением, так называемых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иртуальных» части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 определенных условиях виртуальные (потенциальные) частицы становятся реальными (актуальны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8"/>
          <p:cNvSpPr/>
          <p:nvPr/>
        </p:nvSpPr>
        <p:spPr>
          <a:xfrm>
            <a:off x="250920" y="260280"/>
            <a:ext cx="8642160" cy="102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ЖИВАЯ  (НЕОРГАНИЧЕСКАЯ)  МАТЕ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зрыва докварковое состояние вещества – струны и  др. объекты. Затем возникли субмикроэлементарные (СМЭ) частицы. Кварко-глюонная плазма – сверхплотное вещество. Далее – микроэлементарные (МЭ) частицы. Из них сформировались ядра атомов и элект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И  ОРГАН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Вакуум --------струны-------субмикроэлементарный --------- микроэлементарный ------- ядерный ---- атомарный ------ молекулярный (плазма-звезда,  газ, жидкость, кристалл-планета) ------ макроскопические тела ------- планеты ----------звездно-планетарные системы ----- галактики -------метагалактики (скопления галактик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и сверхскопления галактик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D:\Философия\Philosophy_lectures\7_Диалектика\m74_baixauli_900.jpg"/>
          <p:cNvPicPr/>
          <p:nvPr/>
        </p:nvPicPr>
        <p:blipFill>
          <a:blip r:embed="rId1"/>
          <a:stretch/>
        </p:blipFill>
        <p:spPr>
          <a:xfrm>
            <a:off x="-1549440" y="907920"/>
            <a:ext cx="6696000" cy="5950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D:\Философия\Philosophy_lectures\7_Диалектика\Space_Color_stellar_spiral_065044_.jpg"/>
          <p:cNvPicPr/>
          <p:nvPr/>
        </p:nvPicPr>
        <p:blipFill>
          <a:blip r:embed="rId2"/>
          <a:stretch/>
        </p:blipFill>
        <p:spPr>
          <a:xfrm>
            <a:off x="4762440" y="0"/>
            <a:ext cx="8763120" cy="59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24000" y="260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ые пробл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1 -  Почему физический вакуум взорвал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 точки зр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зрыв вакуума – необъяснимая случай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зрыв вакуума – следствие закономерности. Роль Бога-Творца (христианство) или Духа-Творца (веданта, тантра, даосиз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ыв вакуума – один из этапов самоорганизации материи. «Самосогласованная модель развития Вселенной». Закономерность и случай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70320" y="-1080"/>
            <a:ext cx="780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 один из этих вариантов наука не в состоянии доказать или опровергну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24000" y="260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Проблема №2 - Что ждет Вселенную в будуще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1. «Закрытая модель» развития Вселен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Вселенная одновременно конечна и неограничена. Множество эволюционных циклов. Один полный цикл насчитывает 100 млрд. л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2. «Открытая модель» развития Вселенн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Вселенная бесконечна. Постепенно звез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остынут, т.к. закончится материал д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термоядерных реакций. Звезды буду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окидать свои галактики, а планеты 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отрываться от звезд. Галак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ревратятся в массивные черные ды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А в итоге вся Вселенная превратится в электронно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озитронную плазму малой пло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кая из них соответствует западной 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сточной онтолог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олилиния 6"/>
          <p:cNvSpPr/>
          <p:nvPr/>
        </p:nvSpPr>
        <p:spPr>
          <a:xfrm>
            <a:off x="311040" y="981000"/>
            <a:ext cx="8832960" cy="1546200"/>
          </a:xfrm>
          <a:custGeom>
            <a:avLst/>
            <a:gdLst>
              <a:gd name="textAreaLeft" fmla="*/ 0 w 8832960"/>
              <a:gd name="textAreaRight" fmla="*/ 8832960 w 8832960"/>
              <a:gd name="textAreaTop" fmla="*/ 0 h 1546200"/>
              <a:gd name="textAreaBottom" fmla="*/ 1546560 h 1546200"/>
            </a:gdLst>
            <a:ahLst/>
            <a:rect l="textAreaLeft" t="textAreaTop" r="textAreaRight" b="textAreaBottom"/>
            <a:pathLst>
              <a:path w="8833262" h="1545771">
                <a:moveTo>
                  <a:pt x="0" y="1134094"/>
                </a:moveTo>
                <a:cubicBezTo>
                  <a:pt x="440376" y="701634"/>
                  <a:pt x="880753" y="269175"/>
                  <a:pt x="1425039" y="326572"/>
                </a:cubicBezTo>
                <a:cubicBezTo>
                  <a:pt x="1969325" y="383969"/>
                  <a:pt x="2656114" y="1476499"/>
                  <a:pt x="3265714" y="1478478"/>
                </a:cubicBezTo>
                <a:cubicBezTo>
                  <a:pt x="3875314" y="1480457"/>
                  <a:pt x="4512623" y="378031"/>
                  <a:pt x="5082639" y="338447"/>
                </a:cubicBezTo>
                <a:cubicBezTo>
                  <a:pt x="5652655" y="298863"/>
                  <a:pt x="6187044" y="1054925"/>
                  <a:pt x="6685808" y="1240972"/>
                </a:cubicBezTo>
                <a:cubicBezTo>
                  <a:pt x="7184572" y="1427019"/>
                  <a:pt x="7724899" y="1545771"/>
                  <a:pt x="8075221" y="1454727"/>
                </a:cubicBezTo>
                <a:cubicBezTo>
                  <a:pt x="8425543" y="1363683"/>
                  <a:pt x="8833262" y="914401"/>
                  <a:pt x="8787740" y="694707"/>
                </a:cubicBezTo>
                <a:cubicBezTo>
                  <a:pt x="8742218" y="475014"/>
                  <a:pt x="8389917" y="0"/>
                  <a:pt x="7802088" y="136566"/>
                </a:cubicBezTo>
                <a:cubicBezTo>
                  <a:pt x="7214260" y="273132"/>
                  <a:pt x="6012873" y="1492333"/>
                  <a:pt x="5260769" y="1514104"/>
                </a:cubicBezTo>
                <a:cubicBezTo>
                  <a:pt x="4508665" y="1535876"/>
                  <a:pt x="3879273" y="304800"/>
                  <a:pt x="3289465" y="267195"/>
                </a:cubicBezTo>
                <a:cubicBezTo>
                  <a:pt x="2699657" y="229590"/>
                  <a:pt x="2270166" y="1153886"/>
                  <a:pt x="1721922" y="1288473"/>
                </a:cubicBezTo>
                <a:cubicBezTo>
                  <a:pt x="1173678" y="1423060"/>
                  <a:pt x="0" y="1074717"/>
                  <a:pt x="0" y="1074717"/>
                </a:cubicBezTo>
                <a:lnTo>
                  <a:pt x="83127" y="1086592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олилиния 9"/>
          <p:cNvSpPr/>
          <p:nvPr/>
        </p:nvSpPr>
        <p:spPr>
          <a:xfrm>
            <a:off x="539640" y="3573360"/>
            <a:ext cx="2940120" cy="1989360"/>
          </a:xfrm>
          <a:custGeom>
            <a:avLst/>
            <a:gdLst>
              <a:gd name="textAreaLeft" fmla="*/ 0 w 2940120"/>
              <a:gd name="textAreaRight" fmla="*/ 2940480 w 2940120"/>
              <a:gd name="textAreaTop" fmla="*/ 0 h 1989360"/>
              <a:gd name="textAreaBottom" fmla="*/ 1989720 h 1989360"/>
            </a:gdLst>
            <a:ahLst/>
            <a:rect l="textAreaLeft" t="textAreaTop" r="textAreaRight" b="textAreaBottom"/>
            <a:pathLst>
              <a:path w="2941121" h="1989117">
                <a:moveTo>
                  <a:pt x="2474026" y="0"/>
                </a:moveTo>
                <a:cubicBezTo>
                  <a:pt x="1237013" y="304800"/>
                  <a:pt x="0" y="609600"/>
                  <a:pt x="3958" y="914400"/>
                </a:cubicBezTo>
                <a:cubicBezTo>
                  <a:pt x="7916" y="1219200"/>
                  <a:pt x="2054431" y="1668483"/>
                  <a:pt x="2497776" y="1828800"/>
                </a:cubicBezTo>
                <a:cubicBezTo>
                  <a:pt x="2941121" y="1989117"/>
                  <a:pt x="2802576" y="1932709"/>
                  <a:pt x="2664031" y="1876302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8"/>
          <p:cNvSpPr/>
          <p:nvPr/>
        </p:nvSpPr>
        <p:spPr>
          <a:xfrm>
            <a:off x="324000" y="333360"/>
            <a:ext cx="84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АЯ  (ОРГАНИЧЕСКАЯ)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МАТЕ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живая материя  предшествует появлению жизни. Имеют общую основу — микромир. Однако если в неживой материи на основе молекул формируются  плазменные, газовые, жидкие и кристаллические вещества, то в живой материи молекулы образуют такие загадочные соединения как ДНК и РН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Биомакромолекулы (ДНК, РНК, белки) ------- клетка ------- микроорганизмы ------ органы и ткани -------- организм в целом ------- популяция ---------- биоценоз ---------- би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324000" y="333360"/>
            <a:ext cx="84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ЕЖИВЫЕ  МОЛЕКУЛЫ                              ЖИ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иомакро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(плазма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газ, жидкость, кристалл)                  (ДНК, РНК, бел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ИКРОМИР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СМЭ частиц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атомы, 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БЩАЯ ОСНОВА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Овал 4"/>
          <p:cNvSpPr/>
          <p:nvPr/>
        </p:nvSpPr>
        <p:spPr>
          <a:xfrm>
            <a:off x="3059280" y="3716280"/>
            <a:ext cx="446544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Прямая со стрелкой 10"/>
          <p:cNvCxnSpPr/>
          <p:nvPr/>
        </p:nvCxnSpPr>
        <p:spPr>
          <a:xfrm flipH="1" flipV="1">
            <a:off x="2124000" y="2420280"/>
            <a:ext cx="144036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Прямая со стрелкой 12"/>
          <p:cNvCxnSpPr/>
          <p:nvPr/>
        </p:nvCxnSpPr>
        <p:spPr>
          <a:xfrm flipV="1">
            <a:off x="6516360" y="2420280"/>
            <a:ext cx="577080" cy="14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395280" y="19080"/>
            <a:ext cx="82803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войства живых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 создавать порядок из хаотического теплового движения молекул и противодействовать возрастанию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нтроп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хаосу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высокий уровень упорядоченности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симмет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остранстве и време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ме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окружающей средой веществом, энергией и информацией. Жив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ссимилиру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енные извне вещества, т.е. перестраивает 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к избыточном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овоспроизводств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250920" y="-261000"/>
            <a:ext cx="842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ые пробл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1 -  Почему возникли ДНК, РН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2 -  Есть ли жизнь за пределами Зем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 точки зр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знь – результат эволюции, которая происходила путем мутаций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учай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тественного отб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ариант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омерная э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тиэволюциони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озникновение жизни не было результатом длительного эволюционного процесса:  напротив, она возникла в течение очень короткого временного интервал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 называемый „взрыв жизни» на Земле. Роль Духа-Твор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организация мате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Жизнь рано или поздно, но обязательно возникает во Вселенной, однако может существовать в разных формах, в зависимости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ившихся условий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омерность 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учайнос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179280" y="220680"/>
            <a:ext cx="828036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ь не может существовать безразлично где. Для ее появления необходим целый ряд услов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Например, на нашей планете Земля сложились следующие условия: а) температурный режи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б) углеводородная основа жиз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в) 21%  содержание кислорода в атмосфер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и наличие самой атмосфе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г) трехмерное простран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На Земле возникла та форма жизн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оторая обусловлена сложившими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на ней условиями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!!! ФАКТОР  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D:\Философия\Philosophy_lectures\8_Бытие\atmospheric-oxygen-197x300.jpg"/>
          <p:cNvPicPr/>
          <p:nvPr/>
        </p:nvPicPr>
        <p:blipFill>
          <a:blip r:embed="rId1"/>
          <a:stretch/>
        </p:blipFill>
        <p:spPr>
          <a:xfrm>
            <a:off x="6642000" y="3048120"/>
            <a:ext cx="2502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95280" y="765000"/>
            <a:ext cx="84978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ЖНЕЙШИЕ ВОПРОСЫ ОНТ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– ЧТО ЕСТЬ МАТЕР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2 – ЧТО ЕСТЬ ДУХ (СОЗНАНИЕ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3 – КАК СООТНОСЯТСЯ МАТЕРИЯ И ДУХ (СОЗНАНИЕ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или «Что первично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4 – КАК ВОЗНИКЛО БЫТ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8"/>
          <p:cNvSpPr/>
          <p:nvPr/>
        </p:nvSpPr>
        <p:spPr>
          <a:xfrm>
            <a:off x="324000" y="260280"/>
            <a:ext cx="84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ОБЩЕСТВО  (СОЦИАЛЬНАЯ)  ПРИ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Microsoft YaHe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Индивид (личность) ------ семья ---------- коллектив --------- социальная группа (класс) ----------- нация ---------- государство --------- общество в целом ------- человеч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ые пробл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1 - Случайно или закономерно возникновение человечества и созн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2 -  Есть ли определенная цель существования человечества, и в чем она заключае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>
            <a:off x="250920" y="260280"/>
            <a:ext cx="8642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ще в античной философии возникла ТЕЛЕОЛОГИЯ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чение, согласно которому все в природе устроено целесообраз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 всяком развитии присутствует ЦЕЛ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торая влияет на  процесс разви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ервые об этом говорил еще Аристотель (каждый предмет имеет целевую причину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редние века - Фома Аквин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ог как Высшая Це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овое время – Лейбн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дея предустановленной гармонии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ллинг (учение о мировой душе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гель (учение об Абсолютном Дух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8"/>
          <p:cNvSpPr/>
          <p:nvPr/>
        </p:nvSpPr>
        <p:spPr>
          <a:xfrm>
            <a:off x="250920" y="189000"/>
            <a:ext cx="864216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временная телеологическая проблем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обходимость объяснения чрезвычайно высокой и тонкой взаимосогласованности ряда фундаментальных свойств и характеристик нашей Вселенной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Оказывается, что изменение некоторых из этих свойств (даже на сотые доли процента) при сохранении всех остальных связей и параметров привело бы к катастрофическим последствиям для всего мирового целого. Например, если уменьшить массу протона на 30%, то в нашем мире отсутствовали бы любые атомы, кроме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атома водород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8"/>
          <p:cNvSpPr/>
          <p:nvPr/>
        </p:nvSpPr>
        <p:spPr>
          <a:xfrm>
            <a:off x="179280" y="189000"/>
            <a:ext cx="878544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70-е гг. ХХ века Б. Картер сформулировал антропный принцип, предполагающий, ч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ленная обладает такими свойствами, что в ней на определенном этапе с необходимостью могла возникнуть жизнь и сознание (наблюдатель). Т.е. Вселенной необходим познающий субъект-наблюда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ь человека и универсум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создан д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рьбы с энтропи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витие Вселенной неизбежно вызывает появление и накопление хаотических процессов (энтропии).  Должны существовать существа, которые будут препятствовать дальнейшему развитию этих проце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ЫСЛ ЖИЗНИ ЧЕЛОВЕЧЕСТВА – преодоление  хао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жет или выполнить свою миссию или 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250920" y="5229360"/>
            <a:ext cx="8569080" cy="936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68360" y="476280"/>
            <a:ext cx="81360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отное запрограммировано природ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родная программа реализовывается с помощью инстинктов. Смысл жизни животного – выжить и продолжить свой род. Животное не преобразовывает мир, но приспосабливается к нему. Если в программе происходит какой-то сбой, животное обычно погиба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еловек не только приспосабливается к миру, но активно его преобразовыва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процессе развития человеческой цивилизации меняется облик планеты и самого человека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КТИКА – преобразование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так происходи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ОБЛАДАЕТ СОЗНАНИЕМ, которое вырабатывает образы и иде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ЗАНИМАЕТСЯ ТВОРЧЕСТВОМ, т.е.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реализует образы и идеи на практ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468360" y="476280"/>
            <a:ext cx="81360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ксперимент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инверсия зрени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» (Г. Страттон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ям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езьянам надевали очки, которые создавали иллюзию перевернутого ми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осознавали, что это всего лишь ОБРАЗ БЫТИЯ и приспосабливались к н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знание  ------------------  мира,   ----------------------- Ми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и                               б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ТО  ЕСТЬ СОЗН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НАНИЕ – способность  человек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ражать мир в образах, переживать события окружающего мира, оценивать их и отвечать на 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ЗНАНИЕ – ЭТО СУБЪЕКТИВНОЕ  Б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Левая фигурная скобка 3"/>
          <p:cNvSpPr/>
          <p:nvPr/>
        </p:nvSpPr>
        <p:spPr>
          <a:xfrm>
            <a:off x="3851280" y="27813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авая фигурная скобка 4"/>
          <p:cNvSpPr/>
          <p:nvPr/>
        </p:nvSpPr>
        <p:spPr>
          <a:xfrm>
            <a:off x="5076720" y="278136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68360" y="476280"/>
            <a:ext cx="81360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ествуют два основных знач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нятия «сознание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узком смысле сл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пособность человека отражать, окружающий мир, оценивать его, вырабатывать определенную программу поведения. Сознание ка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оворим: «потерял сознание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широком смысле сл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сихическая жизнь (душа) человека, объединяющая как сознательные, так и бессознательные проце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Равнобедренный треугольник 33"/>
          <p:cNvSpPr/>
          <p:nvPr/>
        </p:nvSpPr>
        <p:spPr>
          <a:xfrm>
            <a:off x="1476360" y="907920"/>
            <a:ext cx="6048360" cy="4969080"/>
          </a:xfrm>
          <a:prstGeom prst="triangle">
            <a:avLst>
              <a:gd name="adj" fmla="val 4922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ая соединительная линия 35"/>
          <p:cNvSpPr/>
          <p:nvPr/>
        </p:nvSpPr>
        <p:spPr>
          <a:xfrm>
            <a:off x="4452840" y="907920"/>
            <a:ext cx="307188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ая соединительная линия 56"/>
          <p:cNvSpPr/>
          <p:nvPr/>
        </p:nvSpPr>
        <p:spPr>
          <a:xfrm>
            <a:off x="7524720" y="450864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ая соединительная линия 58"/>
          <p:cNvSpPr/>
          <p:nvPr/>
        </p:nvSpPr>
        <p:spPr>
          <a:xfrm flipH="1">
            <a:off x="7524720" y="508464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ая соединительная линия 76"/>
          <p:cNvSpPr/>
          <p:nvPr/>
        </p:nvSpPr>
        <p:spPr>
          <a:xfrm>
            <a:off x="3924360" y="17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ая соединительная линия 78"/>
          <p:cNvSpPr/>
          <p:nvPr/>
        </p:nvSpPr>
        <p:spPr>
          <a:xfrm flipV="1">
            <a:off x="4932360" y="1699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611280" y="333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457200" algn="ctr">
              <a:spcBef>
                <a:spcPts val="4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ВНИ     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21"/>
          <p:cNvSpPr/>
          <p:nvPr/>
        </p:nvSpPr>
        <p:spPr>
          <a:xfrm>
            <a:off x="2556000" y="4005360"/>
            <a:ext cx="4032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ЕССОЗНА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22"/>
          <p:cNvSpPr/>
          <p:nvPr/>
        </p:nvSpPr>
        <p:spPr>
          <a:xfrm flipV="1" rot="10800000">
            <a:off x="3708360" y="3926520"/>
            <a:ext cx="17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24"/>
          <p:cNvSpPr/>
          <p:nvPr/>
        </p:nvSpPr>
        <p:spPr>
          <a:xfrm>
            <a:off x="3419640" y="1989000"/>
            <a:ext cx="216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СОЗНА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25"/>
          <p:cNvSpPr/>
          <p:nvPr/>
        </p:nvSpPr>
        <p:spPr>
          <a:xfrm>
            <a:off x="2771640" y="2781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сознательн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8"/>
          <p:cNvSpPr/>
          <p:nvPr/>
        </p:nvSpPr>
        <p:spPr>
          <a:xfrm>
            <a:off x="3564000" y="119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???    сверхсознательное  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ая соединительная линия 23"/>
          <p:cNvSpPr/>
          <p:nvPr/>
        </p:nvSpPr>
        <p:spPr>
          <a:xfrm>
            <a:off x="3348000" y="2781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ая соединительная линия 25"/>
          <p:cNvSpPr/>
          <p:nvPr/>
        </p:nvSpPr>
        <p:spPr>
          <a:xfrm flipV="1">
            <a:off x="5651640" y="256536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ая соединительная линия 27"/>
          <p:cNvSpPr/>
          <p:nvPr/>
        </p:nvSpPr>
        <p:spPr>
          <a:xfrm>
            <a:off x="3132000" y="314172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ая соединительная линия 35"/>
          <p:cNvSpPr/>
          <p:nvPr/>
        </p:nvSpPr>
        <p:spPr>
          <a:xfrm flipV="1">
            <a:off x="5796000" y="285228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24000" y="260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ССОЗНАТЕ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ческие автоматизмы и стереотип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инстинкты как врождённые тенденции и стремления, выражающихся в форме сложного автоматического поведения; б) рефлексы как стереотипная реакция на раздражители (условные и безусловны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е действия (действующие в привычной ситуации, осознание которых излишне в силу их отработанност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сознаваемые мотивы (истинный смысл которых не осознается в силу их социальной неприемлемости или противоречия с другими мотива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ороговое восприятие (или предсознательное). То, что было воспринято, но еще не дошло до сознания. Но при фокусировке внимания может быть осозна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343080"/>
            <a:ext cx="856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шибочные действия (оговорки, описки, ошибки при прослушивании сл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6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н и сновидения (2 фазы с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убокий сон – 2 часа. Полный отдых и восстановление организ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ый  сон – 20 мин. Снови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роцессы интуиции, не связанные с новым знанием. Ранее накопленный опы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 Коллективная память человечества и личная памя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ПОДСОЗНАТЕЛЬНОЕ»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раннего психоанализа З. Фрейда. Последователи Фрейда и современные  психологи в основном отказалась от всех терминов, где присутствует «над/под» (за редким исключением)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 startAt="6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260280"/>
            <a:ext cx="8820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  ВОЗНИКЛО БЫТ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сточная онтология      Западная онт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Бог-Твор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творение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         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Апокалипс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ми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«Дни» и «ночи» Брахмы  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бытие бесконечное                       бытие конеч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ебытие в интервалах меж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тдельными циклами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ебытие ДО и ПОС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ая соединительная линия 14"/>
          <p:cNvSpPr/>
          <p:nvPr/>
        </p:nvSpPr>
        <p:spPr>
          <a:xfrm>
            <a:off x="324000" y="2060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ая соединительная линия 22"/>
          <p:cNvSpPr/>
          <p:nvPr/>
        </p:nvSpPr>
        <p:spPr>
          <a:xfrm>
            <a:off x="6012000" y="2781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ая соединительная линия 24"/>
          <p:cNvSpPr/>
          <p:nvPr/>
        </p:nvSpPr>
        <p:spPr>
          <a:xfrm>
            <a:off x="7164360" y="2781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ая соединительная линия 26"/>
          <p:cNvSpPr/>
          <p:nvPr/>
        </p:nvSpPr>
        <p:spPr>
          <a:xfrm>
            <a:off x="7380360" y="2781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ая соединительная линия 30"/>
          <p:cNvSpPr/>
          <p:nvPr/>
        </p:nvSpPr>
        <p:spPr>
          <a:xfrm flipH="1">
            <a:off x="7093080" y="3573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ая соединительная линия 32"/>
          <p:cNvSpPr/>
          <p:nvPr/>
        </p:nvSpPr>
        <p:spPr>
          <a:xfrm>
            <a:off x="6012000" y="27813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ая соединительная линия 34"/>
          <p:cNvSpPr/>
          <p:nvPr/>
        </p:nvSpPr>
        <p:spPr>
          <a:xfrm>
            <a:off x="6012000" y="35733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ая соединительная линия 37"/>
          <p:cNvSpPr/>
          <p:nvPr/>
        </p:nvSpPr>
        <p:spPr>
          <a:xfrm>
            <a:off x="6300720" y="4941720"/>
            <a:ext cx="86508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ая соединительная линия 41"/>
          <p:cNvSpPr/>
          <p:nvPr/>
        </p:nvSpPr>
        <p:spPr>
          <a:xfrm flipH="1">
            <a:off x="6516720" y="4797360"/>
            <a:ext cx="5047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Полилиния 6"/>
          <p:cNvSpPr/>
          <p:nvPr/>
        </p:nvSpPr>
        <p:spPr>
          <a:xfrm>
            <a:off x="1908000" y="4653000"/>
            <a:ext cx="1344960" cy="396720"/>
          </a:xfrm>
          <a:custGeom>
            <a:avLst/>
            <a:gdLst>
              <a:gd name="textAreaLeft" fmla="*/ 0 w 1344960"/>
              <a:gd name="textAreaRight" fmla="*/ 1345320 w 134496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1343741" h="397264">
                <a:moveTo>
                  <a:pt x="630612" y="71252"/>
                </a:moveTo>
                <a:cubicBezTo>
                  <a:pt x="539568" y="67293"/>
                  <a:pt x="448361" y="66108"/>
                  <a:pt x="357480" y="59376"/>
                </a:cubicBezTo>
                <a:cubicBezTo>
                  <a:pt x="341203" y="58170"/>
                  <a:pt x="326299" y="47501"/>
                  <a:pt x="309978" y="47501"/>
                </a:cubicBezTo>
                <a:cubicBezTo>
                  <a:pt x="254419" y="47501"/>
                  <a:pt x="199142" y="55418"/>
                  <a:pt x="143724" y="59376"/>
                </a:cubicBezTo>
                <a:cubicBezTo>
                  <a:pt x="108209" y="71215"/>
                  <a:pt x="88248" y="73696"/>
                  <a:pt x="60597" y="106878"/>
                </a:cubicBezTo>
                <a:cubicBezTo>
                  <a:pt x="54511" y="114181"/>
                  <a:pt x="37478" y="187475"/>
                  <a:pt x="36846" y="190005"/>
                </a:cubicBezTo>
                <a:cubicBezTo>
                  <a:pt x="40804" y="217714"/>
                  <a:pt x="36203" y="248097"/>
                  <a:pt x="48721" y="273132"/>
                </a:cubicBezTo>
                <a:cubicBezTo>
                  <a:pt x="54319" y="284328"/>
                  <a:pt x="73151" y="279410"/>
                  <a:pt x="84347" y="285008"/>
                </a:cubicBezTo>
                <a:cubicBezTo>
                  <a:pt x="176430" y="331050"/>
                  <a:pt x="66052" y="290783"/>
                  <a:pt x="155599" y="320634"/>
                </a:cubicBezTo>
                <a:cubicBezTo>
                  <a:pt x="187267" y="316675"/>
                  <a:pt x="219122" y="314005"/>
                  <a:pt x="250602" y="308758"/>
                </a:cubicBezTo>
                <a:cubicBezTo>
                  <a:pt x="295147" y="301334"/>
                  <a:pt x="294201" y="296302"/>
                  <a:pt x="333729" y="285008"/>
                </a:cubicBezTo>
                <a:cubicBezTo>
                  <a:pt x="349422" y="280524"/>
                  <a:pt x="365948" y="278863"/>
                  <a:pt x="381230" y="273132"/>
                </a:cubicBezTo>
                <a:cubicBezTo>
                  <a:pt x="464515" y="241900"/>
                  <a:pt x="395446" y="260088"/>
                  <a:pt x="464358" y="225631"/>
                </a:cubicBezTo>
                <a:cubicBezTo>
                  <a:pt x="566144" y="174737"/>
                  <a:pt x="483098" y="228494"/>
                  <a:pt x="571236" y="178130"/>
                </a:cubicBezTo>
                <a:cubicBezTo>
                  <a:pt x="688763" y="110973"/>
                  <a:pt x="510781" y="202420"/>
                  <a:pt x="654363" y="130628"/>
                </a:cubicBezTo>
                <a:cubicBezTo>
                  <a:pt x="695421" y="69042"/>
                  <a:pt x="654829" y="112621"/>
                  <a:pt x="725615" y="83127"/>
                </a:cubicBezTo>
                <a:cubicBezTo>
                  <a:pt x="758297" y="69510"/>
                  <a:pt x="787029" y="46823"/>
                  <a:pt x="820617" y="35626"/>
                </a:cubicBezTo>
                <a:cubicBezTo>
                  <a:pt x="871727" y="18588"/>
                  <a:pt x="844099" y="26786"/>
                  <a:pt x="903745" y="11875"/>
                </a:cubicBezTo>
                <a:cubicBezTo>
                  <a:pt x="955205" y="15833"/>
                  <a:pt x="1006911" y="17348"/>
                  <a:pt x="1058124" y="23750"/>
                </a:cubicBezTo>
                <a:cubicBezTo>
                  <a:pt x="1070545" y="25303"/>
                  <a:pt x="1081714" y="32187"/>
                  <a:pt x="1093750" y="35626"/>
                </a:cubicBezTo>
                <a:cubicBezTo>
                  <a:pt x="1109443" y="40110"/>
                  <a:pt x="1125417" y="43543"/>
                  <a:pt x="1141251" y="47501"/>
                </a:cubicBezTo>
                <a:cubicBezTo>
                  <a:pt x="1236258" y="110840"/>
                  <a:pt x="1121455" y="27706"/>
                  <a:pt x="1200628" y="106878"/>
                </a:cubicBezTo>
                <a:cubicBezTo>
                  <a:pt x="1210720" y="116970"/>
                  <a:pt x="1224379" y="122711"/>
                  <a:pt x="1236254" y="130628"/>
                </a:cubicBezTo>
                <a:cubicBezTo>
                  <a:pt x="1253846" y="201000"/>
                  <a:pt x="1250328" y="155260"/>
                  <a:pt x="1236254" y="225631"/>
                </a:cubicBezTo>
                <a:cubicBezTo>
                  <a:pt x="1231532" y="249242"/>
                  <a:pt x="1235146" y="275347"/>
                  <a:pt x="1224378" y="296883"/>
                </a:cubicBezTo>
                <a:cubicBezTo>
                  <a:pt x="1217995" y="309648"/>
                  <a:pt x="1200628" y="312717"/>
                  <a:pt x="1188753" y="320634"/>
                </a:cubicBezTo>
                <a:cubicBezTo>
                  <a:pt x="1093750" y="316675"/>
                  <a:pt x="998358" y="318219"/>
                  <a:pt x="903745" y="308758"/>
                </a:cubicBezTo>
                <a:cubicBezTo>
                  <a:pt x="878834" y="306267"/>
                  <a:pt x="832493" y="285008"/>
                  <a:pt x="832493" y="285008"/>
                </a:cubicBezTo>
                <a:cubicBezTo>
                  <a:pt x="816659" y="273133"/>
                  <a:pt x="802176" y="259202"/>
                  <a:pt x="784991" y="249382"/>
                </a:cubicBezTo>
                <a:cubicBezTo>
                  <a:pt x="774123" y="243172"/>
                  <a:pt x="760562" y="243104"/>
                  <a:pt x="749366" y="237506"/>
                </a:cubicBezTo>
                <a:cubicBezTo>
                  <a:pt x="736601" y="231123"/>
                  <a:pt x="725615" y="221673"/>
                  <a:pt x="713740" y="213756"/>
                </a:cubicBezTo>
                <a:cubicBezTo>
                  <a:pt x="705823" y="201881"/>
                  <a:pt x="701134" y="187046"/>
                  <a:pt x="689989" y="178130"/>
                </a:cubicBezTo>
                <a:cubicBezTo>
                  <a:pt x="680214" y="170310"/>
                  <a:pt x="665869" y="171185"/>
                  <a:pt x="654363" y="166254"/>
                </a:cubicBezTo>
                <a:cubicBezTo>
                  <a:pt x="638092" y="159281"/>
                  <a:pt x="622232" y="151287"/>
                  <a:pt x="606862" y="142504"/>
                </a:cubicBezTo>
                <a:cubicBezTo>
                  <a:pt x="594470" y="135423"/>
                  <a:pt x="584354" y="124375"/>
                  <a:pt x="571236" y="118753"/>
                </a:cubicBezTo>
                <a:cubicBezTo>
                  <a:pt x="556234" y="112324"/>
                  <a:pt x="539667" y="110419"/>
                  <a:pt x="523734" y="106878"/>
                </a:cubicBezTo>
                <a:cubicBezTo>
                  <a:pt x="453777" y="91332"/>
                  <a:pt x="451635" y="93412"/>
                  <a:pt x="369355" y="83127"/>
                </a:cubicBezTo>
                <a:cubicBezTo>
                  <a:pt x="248218" y="42749"/>
                  <a:pt x="279407" y="48476"/>
                  <a:pt x="36846" y="83127"/>
                </a:cubicBezTo>
                <a:cubicBezTo>
                  <a:pt x="20221" y="85502"/>
                  <a:pt x="13095" y="106878"/>
                  <a:pt x="1220" y="118753"/>
                </a:cubicBezTo>
                <a:cubicBezTo>
                  <a:pt x="5178" y="166254"/>
                  <a:pt x="0" y="215425"/>
                  <a:pt x="13095" y="261257"/>
                </a:cubicBezTo>
                <a:cubicBezTo>
                  <a:pt x="17016" y="274980"/>
                  <a:pt x="36329" y="277927"/>
                  <a:pt x="48721" y="285008"/>
                </a:cubicBezTo>
                <a:cubicBezTo>
                  <a:pt x="154189" y="345274"/>
                  <a:pt x="45052" y="274643"/>
                  <a:pt x="131849" y="332509"/>
                </a:cubicBezTo>
                <a:cubicBezTo>
                  <a:pt x="250602" y="328551"/>
                  <a:pt x="369777" y="331391"/>
                  <a:pt x="488108" y="320634"/>
                </a:cubicBezTo>
                <a:cubicBezTo>
                  <a:pt x="502322" y="319342"/>
                  <a:pt x="510616" y="302505"/>
                  <a:pt x="523734" y="296883"/>
                </a:cubicBezTo>
                <a:cubicBezTo>
                  <a:pt x="577027" y="274043"/>
                  <a:pt x="560625" y="296251"/>
                  <a:pt x="606862" y="273132"/>
                </a:cubicBezTo>
                <a:cubicBezTo>
                  <a:pt x="619627" y="266749"/>
                  <a:pt x="630613" y="257299"/>
                  <a:pt x="642488" y="249382"/>
                </a:cubicBezTo>
                <a:cubicBezTo>
                  <a:pt x="658322" y="225631"/>
                  <a:pt x="662909" y="187157"/>
                  <a:pt x="689989" y="178130"/>
                </a:cubicBezTo>
                <a:cubicBezTo>
                  <a:pt x="725693" y="166228"/>
                  <a:pt x="730548" y="168081"/>
                  <a:pt x="761241" y="142504"/>
                </a:cubicBezTo>
                <a:cubicBezTo>
                  <a:pt x="821885" y="91968"/>
                  <a:pt x="767476" y="114226"/>
                  <a:pt x="844368" y="95002"/>
                </a:cubicBezTo>
                <a:cubicBezTo>
                  <a:pt x="856243" y="87085"/>
                  <a:pt x="866876" y="76874"/>
                  <a:pt x="879994" y="71252"/>
                </a:cubicBezTo>
                <a:cubicBezTo>
                  <a:pt x="894995" y="64823"/>
                  <a:pt x="913915" y="68429"/>
                  <a:pt x="927495" y="59376"/>
                </a:cubicBezTo>
                <a:cubicBezTo>
                  <a:pt x="939370" y="51459"/>
                  <a:pt x="940282" y="32887"/>
                  <a:pt x="951246" y="23750"/>
                </a:cubicBezTo>
                <a:cubicBezTo>
                  <a:pt x="964846" y="12417"/>
                  <a:pt x="982913" y="7917"/>
                  <a:pt x="998747" y="0"/>
                </a:cubicBezTo>
                <a:cubicBezTo>
                  <a:pt x="1069999" y="3958"/>
                  <a:pt x="1141858" y="1783"/>
                  <a:pt x="1212503" y="11875"/>
                </a:cubicBezTo>
                <a:cubicBezTo>
                  <a:pt x="1245454" y="16582"/>
                  <a:pt x="1254763" y="50711"/>
                  <a:pt x="1271880" y="71252"/>
                </a:cubicBezTo>
                <a:cubicBezTo>
                  <a:pt x="1282631" y="84154"/>
                  <a:pt x="1295631" y="95003"/>
                  <a:pt x="1307506" y="106878"/>
                </a:cubicBezTo>
                <a:cubicBezTo>
                  <a:pt x="1337546" y="197001"/>
                  <a:pt x="1343741" y="183202"/>
                  <a:pt x="1319381" y="296883"/>
                </a:cubicBezTo>
                <a:cubicBezTo>
                  <a:pt x="1315672" y="314193"/>
                  <a:pt x="1308148" y="331866"/>
                  <a:pt x="1295630" y="344384"/>
                </a:cubicBezTo>
                <a:cubicBezTo>
                  <a:pt x="1286779" y="353235"/>
                  <a:pt x="1271200" y="350662"/>
                  <a:pt x="1260004" y="356260"/>
                </a:cubicBezTo>
                <a:cubicBezTo>
                  <a:pt x="1177996" y="397264"/>
                  <a:pt x="1275735" y="367170"/>
                  <a:pt x="1176877" y="391886"/>
                </a:cubicBezTo>
                <a:cubicBezTo>
                  <a:pt x="1125417" y="387927"/>
                  <a:pt x="1073794" y="385710"/>
                  <a:pt x="1022498" y="380010"/>
                </a:cubicBezTo>
                <a:cubicBezTo>
                  <a:pt x="963239" y="373426"/>
                  <a:pt x="974584" y="369714"/>
                  <a:pt x="927495" y="356260"/>
                </a:cubicBezTo>
                <a:cubicBezTo>
                  <a:pt x="911802" y="351776"/>
                  <a:pt x="895828" y="348343"/>
                  <a:pt x="879994" y="344384"/>
                </a:cubicBezTo>
                <a:cubicBezTo>
                  <a:pt x="756740" y="262217"/>
                  <a:pt x="947553" y="387295"/>
                  <a:pt x="796867" y="296883"/>
                </a:cubicBezTo>
                <a:cubicBezTo>
                  <a:pt x="653565" y="210901"/>
                  <a:pt x="786695" y="279923"/>
                  <a:pt x="678114" y="225631"/>
                </a:cubicBezTo>
                <a:cubicBezTo>
                  <a:pt x="619145" y="137178"/>
                  <a:pt x="694934" y="245815"/>
                  <a:pt x="618737" y="154379"/>
                </a:cubicBezTo>
                <a:cubicBezTo>
                  <a:pt x="609600" y="143415"/>
                  <a:pt x="605078" y="128845"/>
                  <a:pt x="594986" y="118753"/>
                </a:cubicBezTo>
                <a:cubicBezTo>
                  <a:pt x="574444" y="98211"/>
                  <a:pt x="535148" y="85225"/>
                  <a:pt x="511859" y="71252"/>
                </a:cubicBezTo>
                <a:cubicBezTo>
                  <a:pt x="487382" y="56566"/>
                  <a:pt x="468300" y="30673"/>
                  <a:pt x="440607" y="23750"/>
                </a:cubicBezTo>
                <a:cubicBezTo>
                  <a:pt x="346863" y="315"/>
                  <a:pt x="409371" y="13230"/>
                  <a:pt x="250602" y="0"/>
                </a:cubicBezTo>
                <a:cubicBezTo>
                  <a:pt x="211018" y="3958"/>
                  <a:pt x="171168" y="5826"/>
                  <a:pt x="131849" y="11875"/>
                </a:cubicBezTo>
                <a:cubicBezTo>
                  <a:pt x="119477" y="13778"/>
                  <a:pt x="105998" y="15930"/>
                  <a:pt x="96223" y="23750"/>
                </a:cubicBezTo>
                <a:cubicBezTo>
                  <a:pt x="85078" y="32666"/>
                  <a:pt x="81609" y="48412"/>
                  <a:pt x="72472" y="59376"/>
                </a:cubicBezTo>
                <a:cubicBezTo>
                  <a:pt x="34047" y="105486"/>
                  <a:pt x="36846" y="76396"/>
                  <a:pt x="36846" y="106878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ая соединительная линия 20"/>
          <p:cNvSpPr/>
          <p:nvPr/>
        </p:nvSpPr>
        <p:spPr>
          <a:xfrm>
            <a:off x="4500720" y="148428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олилиния 21"/>
          <p:cNvSpPr/>
          <p:nvPr/>
        </p:nvSpPr>
        <p:spPr>
          <a:xfrm>
            <a:off x="185760" y="2255760"/>
            <a:ext cx="3917880" cy="1001880"/>
          </a:xfrm>
          <a:custGeom>
            <a:avLst/>
            <a:gdLst>
              <a:gd name="textAreaLeft" fmla="*/ 0 w 3917880"/>
              <a:gd name="textAreaRight" fmla="*/ 3918240 w 391788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3916878" h="1001485">
                <a:moveTo>
                  <a:pt x="27709" y="451262"/>
                </a:moveTo>
                <a:cubicBezTo>
                  <a:pt x="55418" y="314696"/>
                  <a:pt x="605642" y="0"/>
                  <a:pt x="930234" y="47501"/>
                </a:cubicBezTo>
                <a:cubicBezTo>
                  <a:pt x="1254826" y="95002"/>
                  <a:pt x="1622961" y="736270"/>
                  <a:pt x="1975262" y="736270"/>
                </a:cubicBezTo>
                <a:cubicBezTo>
                  <a:pt x="2327563" y="736270"/>
                  <a:pt x="2721428" y="81148"/>
                  <a:pt x="3044041" y="47501"/>
                </a:cubicBezTo>
                <a:cubicBezTo>
                  <a:pt x="3366654" y="13854"/>
                  <a:pt x="3916878" y="387927"/>
                  <a:pt x="3910940" y="534389"/>
                </a:cubicBezTo>
                <a:cubicBezTo>
                  <a:pt x="3905002" y="680851"/>
                  <a:pt x="3299360" y="1001485"/>
                  <a:pt x="3008415" y="926275"/>
                </a:cubicBezTo>
                <a:cubicBezTo>
                  <a:pt x="2717470" y="851065"/>
                  <a:pt x="2539340" y="93023"/>
                  <a:pt x="2165267" y="83127"/>
                </a:cubicBezTo>
                <a:cubicBezTo>
                  <a:pt x="1791194" y="73231"/>
                  <a:pt x="1114301" y="809501"/>
                  <a:pt x="763979" y="866898"/>
                </a:cubicBezTo>
                <a:cubicBezTo>
                  <a:pt x="413657" y="924295"/>
                  <a:pt x="0" y="587828"/>
                  <a:pt x="27709" y="451262"/>
                </a:cubicBez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755640" y="765000"/>
            <a:ext cx="792000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ОЗНАН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кусирование на переживании настоящего момента, не вовлекаясь в мысли о прошлом и будущ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к самонаблюдению, осознанные действия, планирование (интроспекция собственной деятельности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ние своего «Я», самоанализ, самосозн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24000" y="549360"/>
            <a:ext cx="85690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сший уровень осознанности (СВЕРХСОЗНАНИ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познавательные процессы (интуиция, творческое озарение, вдохновени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В. Симонов: «творческая интуиц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его теории  бессознательная (подсознательная) интуиция оперирует уже накопленным знанием, на уровне осознания информация передается от одного другому, а в сверхсознании работает механизм получения принципиально новой информации. Творческая интуиция - источник прогресса во всех сферах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мистические состояния (в философско-религиозных учения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324000" y="260280"/>
            <a:ext cx="86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ТРИБУТЫ    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по К. К. Платонову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жива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е содержит образа отражаемого и проявляется в форме удовольствия или неудовольствия (страдания), напряжения или разрешения, возбуждения или успокоения. Проявляется в эмоциях, чувствах, потребностях,  волевом усилии, произвольном внимании и произвольной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роцесс создания образов, который проявляется в ощущениях, мышлении, восприятии и памяти. Продуктом познания являются знания как идеальное. Идеальное — это субъективное явление, существующее в форме образа, связанного с понят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личност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субъекта к мир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250920" y="378000"/>
            <a:ext cx="8424720" cy="53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342720" algn="ctr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ctr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ТОЧНАЯ   ФИЛОСОФ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ЗНАНИЕ – высшая цен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   Сознание формирует образ ми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 мира зависит от чистоты сознания человека, от  уровня его развития. Сознание субъектив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ЗНАНИЕ человека определяет БЫТИЕ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ют два основных вида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just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just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just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just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2664000" y="360360"/>
            <a:ext cx="3958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icture 3"/>
          <p:cNvSpPr/>
          <p:nvPr/>
        </p:nvSpPr>
        <p:spPr>
          <a:xfrm>
            <a:off x="5219640" y="3716280"/>
            <a:ext cx="30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24000" y="260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    УРОВНЯ  СОЗНАНИЯ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озерцание-осознанность (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АТМА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дрств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н со сновиден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н без                                Т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овид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ой метод просветления – созерц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мыслей, суждений, оце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стрение органов чувств – зрения, слуха, обоняния, вкуса, осяза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е за реальностью с предельным вниманием – осознан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лабленность, снятие напря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>
            <a:off x="755640" y="981000"/>
            <a:ext cx="70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ая соединительная линия 20"/>
          <p:cNvSpPr/>
          <p:nvPr/>
        </p:nvSpPr>
        <p:spPr>
          <a:xfrm>
            <a:off x="684360" y="981000"/>
            <a:ext cx="367164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22"/>
          <p:cNvSpPr/>
          <p:nvPr/>
        </p:nvSpPr>
        <p:spPr>
          <a:xfrm flipH="1">
            <a:off x="4427280" y="981000"/>
            <a:ext cx="381636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ая соединительная линия 26"/>
          <p:cNvSpPr/>
          <p:nvPr/>
        </p:nvSpPr>
        <p:spPr>
          <a:xfrm>
            <a:off x="7885080" y="98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28"/>
          <p:cNvSpPr/>
          <p:nvPr/>
        </p:nvSpPr>
        <p:spPr>
          <a:xfrm>
            <a:off x="2050920" y="234936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ая соединительная линия 30"/>
          <p:cNvSpPr/>
          <p:nvPr/>
        </p:nvSpPr>
        <p:spPr>
          <a:xfrm>
            <a:off x="2700360" y="29973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ая соединительная линия 32"/>
          <p:cNvSpPr/>
          <p:nvPr/>
        </p:nvSpPr>
        <p:spPr>
          <a:xfrm>
            <a:off x="1258920" y="1557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авая фигурная скобка 10"/>
          <p:cNvSpPr/>
          <p:nvPr/>
        </p:nvSpPr>
        <p:spPr>
          <a:xfrm>
            <a:off x="7524720" y="1557360"/>
            <a:ext cx="287280" cy="32400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3240000"/>
              <a:gd name="textAreaBottom" fmla="*/ 323280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"/>
                  <a:pt x="10800" y="160"/>
                </a:cubicBezTo>
                <a:lnTo>
                  <a:pt x="10800" y="10640"/>
                </a:lnTo>
                <a:cubicBezTo>
                  <a:pt x="10800" y="10720"/>
                  <a:pt x="16200" y="10800"/>
                  <a:pt x="21600" y="10800"/>
                </a:cubicBezTo>
                <a:cubicBezTo>
                  <a:pt x="16200" y="10800"/>
                  <a:pt x="10800" y="10880"/>
                  <a:pt x="10800" y="10960"/>
                </a:cubicBezTo>
                <a:lnTo>
                  <a:pt x="10800" y="21440"/>
                </a:lnTo>
                <a:cubicBezTo>
                  <a:pt x="10800" y="21520"/>
                  <a:pt x="5400" y="21600"/>
                  <a:pt x="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50920" y="404640"/>
            <a:ext cx="856908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ПАДНАЯ ФИЛОСОФ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ана на идее существования трёх частей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чувственно-эмоциональное начал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умно-волевое начало (образ и подобие Бог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физическое начало, инстинктивн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Х связывает человека 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рансценден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о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ло -------- ДУША -----------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оплощает подсознание (грех и страст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324000" y="260280"/>
            <a:ext cx="864072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поху Нового времени под влиянием материализма  акцент переносится на тело человека (бессознательн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ух ------------------- ДУША ----------------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игмунд Фрейд (1856 - 1939) наиболее последовательно обосновал новую парадиг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оположник психоанали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7"/>
          <p:cNvSpPr/>
          <p:nvPr/>
        </p:nvSpPr>
        <p:spPr>
          <a:xfrm>
            <a:off x="2843280" y="4653000"/>
            <a:ext cx="3889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сознате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0"/>
          <p:cNvSpPr/>
          <p:nvPr/>
        </p:nvSpPr>
        <p:spPr>
          <a:xfrm>
            <a:off x="3276720" y="4005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21"/>
          <p:cNvSpPr/>
          <p:nvPr/>
        </p:nvSpPr>
        <p:spPr>
          <a:xfrm>
            <a:off x="2124000" y="3429000"/>
            <a:ext cx="41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Р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ая соединительная линия 15"/>
          <p:cNvSpPr/>
          <p:nvPr/>
        </p:nvSpPr>
        <p:spPr>
          <a:xfrm flipH="1">
            <a:off x="1763640" y="3141720"/>
            <a:ext cx="237672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ая соединительная линия 17"/>
          <p:cNvSpPr/>
          <p:nvPr/>
        </p:nvSpPr>
        <p:spPr>
          <a:xfrm>
            <a:off x="4140360" y="3141720"/>
            <a:ext cx="266364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ая соединительная линия 19"/>
          <p:cNvSpPr/>
          <p:nvPr/>
        </p:nvSpPr>
        <p:spPr>
          <a:xfrm>
            <a:off x="3564000" y="400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ая соединительная линия 23"/>
          <p:cNvSpPr/>
          <p:nvPr/>
        </p:nvSpPr>
        <p:spPr>
          <a:xfrm>
            <a:off x="3348000" y="4437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Равнобедренный треугольник 33"/>
          <p:cNvSpPr/>
          <p:nvPr/>
        </p:nvSpPr>
        <p:spPr>
          <a:xfrm>
            <a:off x="1476360" y="907920"/>
            <a:ext cx="6048360" cy="4969080"/>
          </a:xfrm>
          <a:prstGeom prst="triangle">
            <a:avLst>
              <a:gd name="adj" fmla="val 4922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ая соединительная линия 35"/>
          <p:cNvSpPr/>
          <p:nvPr/>
        </p:nvSpPr>
        <p:spPr>
          <a:xfrm>
            <a:off x="4452840" y="907920"/>
            <a:ext cx="307188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49"/>
          <p:cNvSpPr/>
          <p:nvPr/>
        </p:nvSpPr>
        <p:spPr>
          <a:xfrm>
            <a:off x="2771640" y="371628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56"/>
          <p:cNvSpPr/>
          <p:nvPr/>
        </p:nvSpPr>
        <p:spPr>
          <a:xfrm>
            <a:off x="7524720" y="450864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ая соединительная линия 58"/>
          <p:cNvSpPr/>
          <p:nvPr/>
        </p:nvSpPr>
        <p:spPr>
          <a:xfrm flipH="1">
            <a:off x="7524720" y="508464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ая соединительная линия 66"/>
          <p:cNvSpPr/>
          <p:nvPr/>
        </p:nvSpPr>
        <p:spPr>
          <a:xfrm flipV="1">
            <a:off x="6156360" y="3357720"/>
            <a:ext cx="360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ая соединительная линия 68"/>
          <p:cNvSpPr/>
          <p:nvPr/>
        </p:nvSpPr>
        <p:spPr>
          <a:xfrm>
            <a:off x="3203640" y="306864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ая соединительная линия 70"/>
          <p:cNvSpPr/>
          <p:nvPr/>
        </p:nvSpPr>
        <p:spPr>
          <a:xfrm flipV="1">
            <a:off x="5796000" y="278136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ая соединительная линия 76"/>
          <p:cNvSpPr/>
          <p:nvPr/>
        </p:nvSpPr>
        <p:spPr>
          <a:xfrm>
            <a:off x="3924360" y="17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ая соединительная линия 78"/>
          <p:cNvSpPr/>
          <p:nvPr/>
        </p:nvSpPr>
        <p:spPr>
          <a:xfrm flipV="1">
            <a:off x="4932360" y="1699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18"/>
          <p:cNvSpPr/>
          <p:nvPr/>
        </p:nvSpPr>
        <p:spPr>
          <a:xfrm>
            <a:off x="611280" y="33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. Г. Юнг (1875 – 196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1"/>
          <p:cNvSpPr/>
          <p:nvPr/>
        </p:nvSpPr>
        <p:spPr>
          <a:xfrm>
            <a:off x="2484360" y="450864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ллектив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БЕССОЗНА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22"/>
          <p:cNvSpPr/>
          <p:nvPr/>
        </p:nvSpPr>
        <p:spPr>
          <a:xfrm flipV="1" rot="10800000">
            <a:off x="3708360" y="3926520"/>
            <a:ext cx="17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24"/>
          <p:cNvSpPr/>
          <p:nvPr/>
        </p:nvSpPr>
        <p:spPr>
          <a:xfrm>
            <a:off x="3492360" y="234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СОЗНАН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25"/>
          <p:cNvSpPr/>
          <p:nvPr/>
        </p:nvSpPr>
        <p:spPr>
          <a:xfrm>
            <a:off x="2700360" y="31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ознате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28"/>
          <p:cNvSpPr/>
          <p:nvPr/>
        </p:nvSpPr>
        <p:spPr>
          <a:xfrm>
            <a:off x="2627280" y="134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сознате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ая соединительная линия 19"/>
          <p:cNvSpPr/>
          <p:nvPr/>
        </p:nvSpPr>
        <p:spPr>
          <a:xfrm>
            <a:off x="2340000" y="436572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ая соединительная линия 21"/>
          <p:cNvSpPr/>
          <p:nvPr/>
        </p:nvSpPr>
        <p:spPr>
          <a:xfrm flipV="1">
            <a:off x="6588000" y="386028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22"/>
          <p:cNvSpPr/>
          <p:nvPr/>
        </p:nvSpPr>
        <p:spPr>
          <a:xfrm>
            <a:off x="2556000" y="3789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е бессознате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250920" y="-364680"/>
            <a:ext cx="8642160" cy="11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Microsoft YaHei"/>
              </a:rPr>
              <a:t>Основным содержанием коллективного бессознательного являются инстинкты, безусловные рефлексы и архетипы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Microsoft YaHei"/>
              </a:rPr>
              <a:t>АРХЕТИП - модель /стереотип поведения, базовый символ. Отличается универсальностью и всеобщ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Microsoft YaHei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Microsoft YaHei"/>
              </a:rPr>
              <a:t>Женщина-мать, Мужчина-отец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Microsoft YaHei"/>
              </a:rPr>
              <a:t>Дом,  Бог, Сам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Microsoft YaHei"/>
              </a:rPr>
              <a:t>Основным содержанием личного бессознательного являются: комплексы, условные рефлексы, личная память, бессознательные жел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468360" y="40464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АМОСТЬ - универсальный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архетип, сущность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АНИМА/АНИМУС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женское и мужск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 каждом из н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ТЕНЬ – то, что 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крываем от других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АСКА –                                      ЭГО – то, какими 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то, какими мы                             представляем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хотим каз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ругим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РУК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258920" y="260280"/>
            <a:ext cx="6661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Группа 13" descr=""/>
          <p:cNvPicPr/>
          <p:nvPr/>
        </p:nvPicPr>
        <p:blipFill>
          <a:blip r:embed="rId1"/>
          <a:stretch/>
        </p:blipFill>
        <p:spPr>
          <a:xfrm>
            <a:off x="457200" y="463680"/>
            <a:ext cx="3906720" cy="3767040"/>
          </a:xfrm>
          <a:prstGeom prst="rect">
            <a:avLst/>
          </a:prstGeom>
          <a:ln w="0">
            <a:noFill/>
          </a:ln>
        </p:spPr>
      </p:pic>
      <p:cxnSp>
        <p:nvCxnSpPr>
          <p:cNvPr id="292" name="Прямая со стрелкой 22"/>
          <p:cNvCxnSpPr/>
          <p:nvPr/>
        </p:nvCxnSpPr>
        <p:spPr>
          <a:xfrm>
            <a:off x="2916000" y="2276640"/>
            <a:ext cx="1080" cy="7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3" name="Прямая со стрелкой 26"/>
          <p:cNvCxnSpPr/>
          <p:nvPr/>
        </p:nvCxnSpPr>
        <p:spPr>
          <a:xfrm flipH="1" flipV="1">
            <a:off x="3202920" y="3789000"/>
            <a:ext cx="1873800" cy="7200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94" name="Прямая со стрелкой 30"/>
          <p:cNvCxnSpPr/>
          <p:nvPr/>
        </p:nvCxnSpPr>
        <p:spPr>
          <a:xfrm flipH="1">
            <a:off x="2545560" y="692280"/>
            <a:ext cx="1810440" cy="16214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95" name="Прямая со стрелкой 32"/>
          <p:cNvCxnSpPr/>
          <p:nvPr/>
        </p:nvCxnSpPr>
        <p:spPr>
          <a:xfrm flipV="1">
            <a:off x="1116000" y="3933000"/>
            <a:ext cx="216720" cy="3596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96" name="Прямая со стрелкой 38"/>
          <p:cNvCxnSpPr/>
          <p:nvPr/>
        </p:nvCxnSpPr>
        <p:spPr>
          <a:xfrm flipH="1">
            <a:off x="3202920" y="2133360"/>
            <a:ext cx="1440360" cy="2163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97" name="Прямая со стрелкой 40"/>
          <p:cNvCxnSpPr/>
          <p:nvPr/>
        </p:nvCxnSpPr>
        <p:spPr>
          <a:xfrm flipH="1" flipV="1">
            <a:off x="3491640" y="2923920"/>
            <a:ext cx="1367640" cy="434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 философской точки зрения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терия – объективная реальность, которая существует независимо от наших желаний и знаний о ней, и которая может быть зафиксирована с помощью органов чувст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терию обычно отличают от сознания – субъективной реа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 физической точки зрения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терия – множество всего содержимого пространства-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Материя изучается науками о природе – физикой, химией, биологией и п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539640" y="367560"/>
            <a:ext cx="842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манистическая психолог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рахам Гарольд Маслоу (1908 - 197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здатель иерархии (пирамиды) потребностей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ребности есть первичные (базовые) и высшие. Необходим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влетворения всех уровней потребностей, начиная с базов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5" descr="D:\Философия\Philosophy_lectures\9_Сознание\piramida-maslou.jpg"/>
          <p:cNvPicPr/>
          <p:nvPr/>
        </p:nvPicPr>
        <p:blipFill>
          <a:blip r:embed="rId1"/>
          <a:stretch/>
        </p:blipFill>
        <p:spPr>
          <a:xfrm>
            <a:off x="0" y="1989000"/>
            <a:ext cx="7958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3" descr="D:\Философия\Philosophy_lectures\9_Сознание\maslou5.jpg"/>
          <p:cNvPicPr/>
          <p:nvPr/>
        </p:nvPicPr>
        <p:blipFill>
          <a:blip r:embed="rId1"/>
          <a:stretch/>
        </p:blipFill>
        <p:spPr>
          <a:xfrm>
            <a:off x="539640" y="0"/>
            <a:ext cx="834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260280"/>
            <a:ext cx="8642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иды матер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ЩЕСТВО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ПОЛ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. обладает внутренними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1. не обладает внутренним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стотами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устотам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состоит из фермионов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2. много разновидност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бозонов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гравитационное (Х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VII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имеет сложную структуру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электромагнитное (Х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Х 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 мельчайших частиц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вантовое (ХХ-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ХХ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кварков, лептонов и др.)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 атомов и молеку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Только на молекуляр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вне приобретает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змы, газа, жидк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исталла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Прямая со стрелкой 7"/>
          <p:cNvCxnSpPr/>
          <p:nvPr/>
        </p:nvCxnSpPr>
        <p:spPr>
          <a:xfrm flipH="1">
            <a:off x="1762920" y="691920"/>
            <a:ext cx="1369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9"/>
          <p:cNvCxnSpPr/>
          <p:nvPr/>
        </p:nvCxnSpPr>
        <p:spPr>
          <a:xfrm>
            <a:off x="6011640" y="691920"/>
            <a:ext cx="11516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50920" y="260280"/>
            <a:ext cx="8642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НТОВОЕ  ПОЛЕ – универсальная форма матер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ЩЕСТВЕННЫЕ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Л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кварково-лептонные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ЗАИМО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ермионной природы)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-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ильные глюо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бозонные слаб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 фотонное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                     электромагнит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поле гравито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поле Хигг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я неясной при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темная мате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темная энергия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Прямая со стрелкой 7"/>
          <p:cNvCxnSpPr/>
          <p:nvPr/>
        </p:nvCxnSpPr>
        <p:spPr>
          <a:xfrm flipH="1">
            <a:off x="1547280" y="836280"/>
            <a:ext cx="13694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9"/>
          <p:cNvCxnSpPr/>
          <p:nvPr/>
        </p:nvCxnSpPr>
        <p:spPr>
          <a:xfrm>
            <a:off x="6372000" y="907560"/>
            <a:ext cx="11516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971640" y="4581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539640" y="620640"/>
            <a:ext cx="8353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ое поле удерживает частицы внут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дра атома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ое поле удерживает электроны на орбит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же время позволяя 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 вращаться вокру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дра ато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 что будет с наш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ленн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сли исчезну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ильное и слабое пол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Группа 13"/>
          <p:cNvGrpSpPr/>
          <p:nvPr/>
        </p:nvGrpSpPr>
        <p:grpSpPr>
          <a:xfrm>
            <a:off x="4572000" y="2924280"/>
            <a:ext cx="3887640" cy="3743280"/>
            <a:chOff x="4572000" y="2924280"/>
            <a:chExt cx="3887640" cy="3743280"/>
          </a:xfrm>
        </p:grpSpPr>
        <p:sp>
          <p:nvSpPr>
            <p:cNvPr id="95" name="Овал 12"/>
            <p:cNvSpPr/>
            <p:nvPr/>
          </p:nvSpPr>
          <p:spPr>
            <a:xfrm>
              <a:off x="4572000" y="2924280"/>
              <a:ext cx="3887640" cy="37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Группа 10"/>
            <p:cNvGrpSpPr/>
            <p:nvPr/>
          </p:nvGrpSpPr>
          <p:grpSpPr>
            <a:xfrm>
              <a:off x="5075640" y="3409560"/>
              <a:ext cx="2915640" cy="2807640"/>
              <a:chOff x="5075640" y="3409560"/>
              <a:chExt cx="2915640" cy="2807640"/>
            </a:xfrm>
          </p:grpSpPr>
          <p:sp>
            <p:nvSpPr>
              <p:cNvPr id="97" name="Овал 9"/>
              <p:cNvSpPr/>
              <p:nvPr/>
            </p:nvSpPr>
            <p:spPr>
              <a:xfrm>
                <a:off x="5075640" y="3409560"/>
                <a:ext cx="2915640" cy="280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Овал 7"/>
              <p:cNvSpPr/>
              <p:nvPr/>
            </p:nvSpPr>
            <p:spPr>
              <a:xfrm>
                <a:off x="5579280" y="3894840"/>
                <a:ext cx="1943640" cy="18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Овал 8"/>
              <p:cNvSpPr/>
              <p:nvPr/>
            </p:nvSpPr>
            <p:spPr>
              <a:xfrm>
                <a:off x="6083280" y="4380120"/>
                <a:ext cx="971640" cy="935640"/>
              </a:xfrm>
              <a:prstGeom prst="ellipse">
                <a:avLst/>
              </a:prstGeom>
              <a:solidFill>
                <a:srgbClr val="7030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Овал 11"/>
            <p:cNvSpPr/>
            <p:nvPr/>
          </p:nvSpPr>
          <p:spPr>
            <a:xfrm>
              <a:off x="6443640" y="4726440"/>
              <a:ext cx="242640" cy="233640"/>
            </a:xfrm>
            <a:prstGeom prst="ellipse">
              <a:avLst/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Овал 11"/>
          <p:cNvSpPr/>
          <p:nvPr/>
        </p:nvSpPr>
        <p:spPr>
          <a:xfrm>
            <a:off x="7020000" y="4005360"/>
            <a:ext cx="242640" cy="23328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Овал 11"/>
          <p:cNvSpPr/>
          <p:nvPr/>
        </p:nvSpPr>
        <p:spPr>
          <a:xfrm>
            <a:off x="4500720" y="5084640"/>
            <a:ext cx="242640" cy="23508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 11"/>
          <p:cNvSpPr/>
          <p:nvPr/>
        </p:nvSpPr>
        <p:spPr>
          <a:xfrm>
            <a:off x="7308720" y="5805360"/>
            <a:ext cx="243000" cy="23364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0920" y="333360"/>
            <a:ext cx="871380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ТРИБУТЫ   МА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 ДВИЖЕНИЕ 2. ПРОСТРАНСТВО 3. 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ижение – любое изменение, происходящее в ми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ижение абсолютно, а покой - относител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иды дви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             химическое                      биолог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                                      социа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НЕРГИЯ – мера различных форм движения и взаимодействия материи, мера перехода движени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терии из одних форм в друг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Прямая со стрелкой 4"/>
          <p:cNvCxnSpPr/>
          <p:nvPr/>
        </p:nvCxnSpPr>
        <p:spPr>
          <a:xfrm flipH="1">
            <a:off x="1402560" y="3357360"/>
            <a:ext cx="180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6"/>
          <p:cNvCxnSpPr/>
          <p:nvPr/>
        </p:nvCxnSpPr>
        <p:spPr>
          <a:xfrm flipH="1">
            <a:off x="4210920" y="3573360"/>
            <a:ext cx="738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8"/>
          <p:cNvCxnSpPr/>
          <p:nvPr/>
        </p:nvCxnSpPr>
        <p:spPr>
          <a:xfrm>
            <a:off x="5940360" y="3284640"/>
            <a:ext cx="144036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12"/>
          <p:cNvCxnSpPr/>
          <p:nvPr/>
        </p:nvCxnSpPr>
        <p:spPr>
          <a:xfrm flipH="1">
            <a:off x="2410920" y="3499920"/>
            <a:ext cx="100872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4"/>
          <p:cNvCxnSpPr/>
          <p:nvPr/>
        </p:nvCxnSpPr>
        <p:spPr>
          <a:xfrm>
            <a:off x="5003640" y="3499920"/>
            <a:ext cx="115344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9"/>
          <p:cNvCxnSpPr/>
          <p:nvPr/>
        </p:nvCxnSpPr>
        <p:spPr>
          <a:xfrm flipH="1">
            <a:off x="2484000" y="836280"/>
            <a:ext cx="43272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11"/>
          <p:cNvCxnSpPr/>
          <p:nvPr/>
        </p:nvCxnSpPr>
        <p:spPr>
          <a:xfrm>
            <a:off x="4571640" y="83628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Прямая со стрелкой 13"/>
          <p:cNvCxnSpPr/>
          <p:nvPr/>
        </p:nvCxnSpPr>
        <p:spPr>
          <a:xfrm>
            <a:off x="6012000" y="836280"/>
            <a:ext cx="122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06:40:22Z</dcterms:created>
  <dc:creator>Наталья</dc:creator>
  <dc:description/>
  <dc:language>en-US</dc:language>
  <cp:lastModifiedBy>Наталья</cp:lastModifiedBy>
  <dcterms:modified xsi:type="dcterms:W3CDTF">2020-04-29T16:49:18Z</dcterms:modified>
  <cp:revision>109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39990</vt:lpwstr>
  </property>
</Properties>
</file>