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3E1AED-8097-469B-9C67-DC1FAB2453FA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53515C-4E0D-48D3-B1C5-B55905732A6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3E8568-D50D-4947-A771-36A9E17C2F8E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C4C92-4B6D-42CF-83A9-0D6DB4E44C9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35CCB-C115-4D09-9085-B0E6AB11B4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307B7-1F63-4299-A763-110D40C0162E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D6508C-D336-4939-A48F-274A0F814B1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548FF5-E10D-42E3-AFA3-D1A815D4D1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1E501-D316-41FA-A571-3B8C71D679DA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F1940-E660-4A53-899A-A30E60CA1B5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C4BB1E-A78A-4085-9990-FB6C3CB165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85701-5422-4EEE-8C59-2FF3521E11E8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2E3A92-9F78-4756-A56A-73C4F634A48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6F2EA-CC11-4E70-92CB-2BEAB4F7D3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B24F2-A16E-40AE-B54F-E1F6F0D8976B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76015-F831-4C42-9DA8-EA04849D5B1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47CCF1-27FE-4ACC-9DFC-94D5B09CED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9EF7A1-F675-4310-83BB-4F68A7713C4A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D312E9-CA32-41F6-9342-37A9C4D7F55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698E0-945E-46BF-86D4-EE7EEBFAD3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A3AC5-AA57-4494-B34B-7414DAB6BB89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A8850-6CF5-488A-9B40-ADBC613E45F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54190-8DD3-413F-AC9C-F78CD2DF3E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E832C9-36A4-41B5-BD24-5EE7A4415BC3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3C0FF3-4372-49F2-AF8A-A7621FF186F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C84333-1801-4008-BE2C-FB2A0B96FB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B481F-C808-49B7-A37E-21209780C8C3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515D1-0604-4127-9D6E-445560B1CB1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6B5F67-E88D-475E-BB0E-701F371ED0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47C9D1-4375-4392-8E78-A08C0D5ADA2C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4E39D-EAE4-497D-817F-ECDE548E6D1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C679D-CF3C-44E7-8C4E-5016D0D692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CE0F2E-2DAB-4A85-98D2-8ECF73736FBB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276E0-6ADC-451B-813A-57B5FFA67A5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1F1258-AEA8-40D8-96EC-7806BFF1C5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70D0FA-A7EF-4A7F-98B1-0ED6701949D5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39769E-62FD-43C2-8942-C07AC8620D7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24AE8-7148-4D22-924B-365BE37337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892FE-4100-4C74-9556-21EB789F3846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3CFCCE-9280-41A7-978C-DC3B0AF3DA6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CC8AF-95D5-4EA4-8071-4CCB366F61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2A8B64-8E08-42D8-9157-5F5E8BD94BCF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CFCE8-D164-4C5C-9DE2-2B91C8F905A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394CC-8F02-4479-88D7-8E8DBEA6E3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F6762-6422-48CC-93EB-8FF47D56D918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996C6-A530-4208-8816-C5A1AA3A51A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6575A2-40EC-4A41-B999-0BCBF43748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95CA5E-F044-4016-89BB-8876D910A0FD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54B159-702B-4BD0-A139-993E8A4E74A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7513B-B21E-41ED-A3AE-36CC111AEB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959B19-8CDE-4A52-84E3-5103399E7A92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F0A60-8784-4FF5-BBCF-D042EF60B82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AA1B5-7491-4C27-9A33-DF40EEB9FC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10852B-2124-4AAA-8B4F-203CD0A30CDD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6A8373-1C5F-4938-8D63-5AE7DD3A3D7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3BD4A-D0AF-46EA-A572-6E4C83A3DA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09BCDD-9386-46BF-A45B-DC96A4C27A81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A4D1C5-D0A9-4B9C-A29C-CF766D82613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5B90C-2EEF-4480-91F2-7DD7FF8A5E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38E97B-C8FB-48C7-A970-3E0270805146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4DC59-B47F-4AC5-BAF4-CF7C5062DF1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6E8ECC-181F-4041-8CB7-7D21526F98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484FA-71A7-4003-B59D-B41B01CEBED2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E38FA-17A7-441E-AA5C-5D82220FDA6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FF16D-930C-4F17-8529-6D264C3EA9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BAAF19-5071-46B3-947D-5A73766CD446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2F8D0-0E94-418A-9C49-9F3ED4114E7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4C8DB-57FE-4A06-9F2D-0203FE8B15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4E66D-CEB0-4364-83DE-5B7BC210D4B6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A94EB-C3D5-4DEC-9480-129D26227D6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7FCFD-CC16-45EB-9872-BE186975BC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5A3BC-5B9A-4FDE-A9CF-C65825D9739A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D56DF-0990-4684-8010-D290FD37E6E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5EA49-9E86-4AA0-8CAA-732BFF78E9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D148F-22DC-4055-AEED-23C7ACF95187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02746A-1D17-4916-B4B3-5C6A2512C63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81DFD-EC00-46F5-832A-F5EE88C97D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D2144-7D70-43BF-AAEB-2F9561FFBC91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C7FC37-55AC-462F-B555-30E66FAB76F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9E6A7-1413-48F5-ACB2-0D83BCD795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18E5C-5393-46AB-95BC-BEE0D71A909A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BAD56-EA85-4FD6-A775-A4726A7B453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B45B6-6D73-4430-89C0-E4721B11F4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AA6C02-D7F1-4860-BF3D-13CF7B329895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D3E86-164C-46C4-B0B7-E499F6D50D7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C9CE9-8464-4054-B1B7-F5C3B4AC88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80F25-631F-41D5-B4B1-B93DA313A99C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64E741-F044-499E-BB9E-5062A4B1438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C6C61A-9A67-45AF-AC94-B6929C3479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6501F-67EA-498C-8574-546E39CA4A72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BE1287-31DE-43E6-B557-A10D1D1030E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775C48-B12A-4499-903D-BC4D743C99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08EFCB-0A28-423C-8149-FFCB71A80B8E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9E33C-491D-4FAD-A14F-ED7D24B35EF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CB11E-C263-45DE-87E7-FC0D9A14AF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C94C70-2601-4575-BCD8-7B2244CBA9A9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65EF3C-5FCE-4819-BE2D-D1337310224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DC339-6AAD-47FE-94B8-D431F020F0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7A4F3-8CA9-40A1-B790-9A888F6DDB78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C961D-1A08-4BA2-9614-EE8A8E33E74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1748B-DF8D-4FC8-8ACC-A47C1DF986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9AD1C-4F58-4878-90E1-24F0092D4C4E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E8241-FB27-49F1-A144-C7324A50848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A73AE1-2736-485C-B3D6-F53680FDAD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3F164-1088-46C6-8536-5FFAC3EDEB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384372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E0C0F-574A-43A8-907E-323D89CE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2440" y="14810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384372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2440" y="384372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805FA-A420-4B15-A334-947064E0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8200" y="148104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19560" y="148104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384372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8200" y="384372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19560" y="384372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FE5F7-8C7F-4155-AFE5-AE15DE62E7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48104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65CAD-8778-4708-8490-956AF225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BF6F9-31D6-47B6-8AF6-7CD8988F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48104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C4155-80EC-41F5-88A9-160CF538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0C22B-1C2E-4F07-A143-27275E133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4E049-4063-4D75-AB9A-C4C6E5A62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440" y="148104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84372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807A0-BC48-4581-AF81-538F21E9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440" y="14810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2440" y="384372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B7E05-EC5E-4305-A8A6-9E053B44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440" y="14810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84372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7B291-33E0-44BA-9C08-CEA61077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2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-6480" y="5791320"/>
            <a:ext cx="3399120" cy="1076040"/>
            <a:chOff x="-6480" y="5791320"/>
            <a:chExt cx="3399120" cy="1076040"/>
          </a:xfrm>
        </p:grpSpPr>
        <p:pic>
          <p:nvPicPr>
            <p:cNvPr id="3" name="Picture 4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399120" cy="10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Text Box 5"/>
            <p:cNvSpPr/>
            <p:nvPr/>
          </p:nvSpPr>
          <p:spPr>
            <a:xfrm>
              <a:off x="277920" y="6421320"/>
              <a:ext cx="16970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6840" y="148104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320" y="6408360"/>
            <a:ext cx="19162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6083196-2605-48BC-A2B2-26F6DE100EF8}" type="datetime">
              <a:rPr b="0" lang="ru-RU" sz="18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Text Box 10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47200" y="6408360"/>
            <a:ext cx="36360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4867DDC-1C8E-4C88-9E29-8CB5ADE42F5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ЛЕКЦИЯ  9. </a:t>
            </a:r>
            <a:br>
              <a:rPr sz="2800"/>
            </a:br>
            <a:endParaRPr b="1" lang="en-US" sz="28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55640" y="1052280"/>
            <a:ext cx="7920000" cy="45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Современная онтология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нтология как наука о бытии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атерия как объективная реальность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трибуты материи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Формы и уровни самоорганизации материи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ознание как субъективная реальность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Дата 3"/>
          <p:cNvSpPr/>
          <p:nvPr/>
        </p:nvSpPr>
        <p:spPr>
          <a:xfrm>
            <a:off x="6727680" y="6408720"/>
            <a:ext cx="191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250920" y="333360"/>
            <a:ext cx="8642160" cy="44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2360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8"/>
          <p:cNvSpPr/>
          <p:nvPr/>
        </p:nvSpPr>
        <p:spPr>
          <a:xfrm>
            <a:off x="324000" y="333360"/>
            <a:ext cx="842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остранством называют свойство предметов быть протяженными, занимать определенное положение, граничить друг с другом, иметь некоторые размеры.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СТРАН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убъективно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объектив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утренне ощущаемое                         на основ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ком на основе                общепринятого этало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го глазомер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1 метр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войства простран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рехмер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ратим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 любую точку пространства мож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вратиться вновь, НО в другое время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670320" y="90360"/>
            <a:ext cx="780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трудно догадаться, что первая модель соответствует восточной онтологии, а вторая – западно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7" name="Прямая со стрелкой 5"/>
          <p:cNvCxnSpPr/>
          <p:nvPr/>
        </p:nvCxnSpPr>
        <p:spPr>
          <a:xfrm flipH="1">
            <a:off x="2555640" y="2565360"/>
            <a:ext cx="151200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8" name="Прямая со стрелкой 7"/>
          <p:cNvCxnSpPr/>
          <p:nvPr/>
        </p:nvCxnSpPr>
        <p:spPr>
          <a:xfrm>
            <a:off x="4716000" y="2565360"/>
            <a:ext cx="129636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Прямая со стрелкой 10"/>
          <p:cNvCxnSpPr/>
          <p:nvPr/>
        </p:nvCxnSpPr>
        <p:spPr>
          <a:xfrm flipH="1">
            <a:off x="1834560" y="5157360"/>
            <a:ext cx="1081800" cy="35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0" name="Прямая со стрелкой 12"/>
          <p:cNvCxnSpPr/>
          <p:nvPr/>
        </p:nvCxnSpPr>
        <p:spPr>
          <a:xfrm>
            <a:off x="5148000" y="5157360"/>
            <a:ext cx="937080" cy="35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250920" y="333360"/>
            <a:ext cx="8642160" cy="44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2360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8"/>
          <p:cNvSpPr/>
          <p:nvPr/>
        </p:nvSpPr>
        <p:spPr>
          <a:xfrm>
            <a:off x="324000" y="333360"/>
            <a:ext cx="8424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Наше пространство трёхмер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днако квантовая физика утверждает факт многомерности простран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колько всего измерений пространств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озможно, 19 или даже больш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670320" y="90360"/>
            <a:ext cx="780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трудно догадаться, что первая модель соответствует восточной онтологии, а вторая – западно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9" descr="D:\Философия\Philosophy_lectures\8_Бытие\cube.png"/>
          <p:cNvPicPr/>
          <p:nvPr/>
        </p:nvPicPr>
        <p:blipFill>
          <a:blip r:embed="rId1"/>
          <a:stretch/>
        </p:blipFill>
        <p:spPr>
          <a:xfrm>
            <a:off x="539640" y="907920"/>
            <a:ext cx="3810240" cy="3810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D:\Философия\Philosophy_lectures\8_Бытие\0006-004-Sostavlen-iz-shesti-kvadratov.jpg"/>
          <p:cNvPicPr/>
          <p:nvPr/>
        </p:nvPicPr>
        <p:blipFill>
          <a:blip r:embed="rId2"/>
          <a:stretch/>
        </p:blipFill>
        <p:spPr>
          <a:xfrm>
            <a:off x="5076720" y="1125360"/>
            <a:ext cx="2919600" cy="28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250920" y="333360"/>
            <a:ext cx="8642160" cy="44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2360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8"/>
          <p:cNvSpPr/>
          <p:nvPr/>
        </p:nvSpPr>
        <p:spPr>
          <a:xfrm>
            <a:off x="324000" y="333360"/>
            <a:ext cx="842472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ремя – форма, с помощью которой измеряют длительность существования объектов, последовательность смены их состоя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убъективно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объектив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утренне ощущаемое                         на основ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ком на основе                общепринятого этало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ологических час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1 с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войства врем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дномер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ратимость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До начала ХХ века господствовало убеждение,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что пространство и время – констан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670320" y="90360"/>
            <a:ext cx="780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трудно догадаться, что первая модель соответствует восточной онтологии, а вторая – западно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9" name="Прямая со стрелкой 5"/>
          <p:cNvCxnSpPr/>
          <p:nvPr/>
        </p:nvCxnSpPr>
        <p:spPr>
          <a:xfrm flipH="1">
            <a:off x="2555640" y="2205000"/>
            <a:ext cx="151200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0" name="Прямая со стрелкой 7"/>
          <p:cNvCxnSpPr/>
          <p:nvPr/>
        </p:nvCxnSpPr>
        <p:spPr>
          <a:xfrm>
            <a:off x="4716000" y="2205000"/>
            <a:ext cx="129636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1" name="Прямая со стрелкой 10"/>
          <p:cNvCxnSpPr/>
          <p:nvPr/>
        </p:nvCxnSpPr>
        <p:spPr>
          <a:xfrm flipH="1">
            <a:off x="2410560" y="4797000"/>
            <a:ext cx="108180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2" name="Прямая со стрелкой 12"/>
          <p:cNvCxnSpPr/>
          <p:nvPr/>
        </p:nvCxnSpPr>
        <p:spPr>
          <a:xfrm>
            <a:off x="5003640" y="4797000"/>
            <a:ext cx="93744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Дата 1"/>
          <p:cNvSpPr/>
          <p:nvPr/>
        </p:nvSpPr>
        <p:spPr>
          <a:xfrm>
            <a:off x="6727680" y="6408720"/>
            <a:ext cx="191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468360" y="189000"/>
            <a:ext cx="8496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СОВРЕМЕННАЯ  НАУКА  ДОКАЗАЛ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ОТНОСИТЕЛЬНОСТЬ ПРОСТРАНСТВА И ВРЕМЕН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которые по-разному проявляют себя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неживой, живой и социальной мате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ЫДЕЛЯЮТ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ИЗИЧЕСКОЕ  ПРОСТРАНСТВО-ВРЕМ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истеме отсчета Земли пространство-время практически неизменны, т.к. малые скорости и массы. Пространство описывается геометрией Евклида (линейно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при скорости, стремящейся к скорости света, наблюдаются феномены ускоряющегося времени и нелинейного искривленного (неевклидового) простран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исследования Эйнштейна, Лобачевского, Римана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Дата 1"/>
          <p:cNvSpPr/>
          <p:nvPr/>
        </p:nvSpPr>
        <p:spPr>
          <a:xfrm>
            <a:off x="6727680" y="6408720"/>
            <a:ext cx="191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468360" y="189000"/>
            <a:ext cx="8496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) БИОЛОГИЧЕСКОЕ  ПРОСТРАНСТВО-ВРЕМ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симметрия левой и правой частей живой клетк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торая способствует лучшей адаптации организмов (в неживой материи наблюдается симметрия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биологические часы», которые отличаются ритмичностью, цикличностью и необратимостью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которыми можно  управлят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медляя или ускоряя время жизни живого существ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обходимо знать способы ускорения и замедления биологических ча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исследования Вернадского, Пастер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Дата 1"/>
          <p:cNvSpPr/>
          <p:nvPr/>
        </p:nvSpPr>
        <p:spPr>
          <a:xfrm>
            <a:off x="6727680" y="6408720"/>
            <a:ext cx="191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2"/>
          <p:cNvSpPr/>
          <p:nvPr/>
        </p:nvSpPr>
        <p:spPr>
          <a:xfrm>
            <a:off x="468360" y="189000"/>
            <a:ext cx="8496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) СОЦИАЛЬНОЕ  ПРОСТРАНСТВО-ВРЕМ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иальное пространство иерархично и многомерн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образ пирамиды), при этом можно описать несколько видов пирамид, которые создаются людьми в обществе – социальные, экономически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итические, образовательные, нравственные и 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иальное время изучается историе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еет этапы, период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коряется по мере развития цивилизаци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порождает конфликт биологических и социальных ча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гомерность социального врем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календари разных народ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250920" y="333360"/>
            <a:ext cx="8642160" cy="44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2360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670320" y="90360"/>
            <a:ext cx="780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трудно догадаться, что первая модель соответствует восточной онтологии, а вторая – западно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Прямоугольник 4"/>
          <p:cNvSpPr/>
          <p:nvPr/>
        </p:nvSpPr>
        <p:spPr>
          <a:xfrm>
            <a:off x="250920" y="189000"/>
            <a:ext cx="8713800" cy="72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ВАНТОВАЯ ФИЗИКА 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БЩАЯ ТЕОРИЯ ОТНОСИТЕЛЬНОСТИ СФОРМИРОВАЛИ НОВУЮ КАРТИНУ МИР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Ы  ЖИВЕМ   В   РЕЛЯЦИОННОМ  (от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lation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) МИР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) материя бесконечно делит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) материя не имеет твердост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) все атрибуты материи относитель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МОЖНО  ЛИ  ОПИРАТЬСЯ  НА  МАТЕРИЮ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если она ОТНОСИТЕЛЬНА??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Arial"/>
              </a:rPr>
              <a:t>ОСНОВНЫЕ      ВОПРОСЫ: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- что есть матер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- противоположна ли материя сознанию и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они  тесно взаимосвязан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Прямоугольник 4"/>
          <p:cNvSpPr/>
          <p:nvPr/>
        </p:nvSpPr>
        <p:spPr>
          <a:xfrm>
            <a:off x="1187280" y="3573360"/>
            <a:ext cx="6913800" cy="100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501480" y="404640"/>
            <a:ext cx="831852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ВНИ  МАТЕР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егами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роми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оспринимаем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ами чувств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кроми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-33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0  см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Ы  МАТЕРИИ        неживая (неорганическая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вая (органическая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иальн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АТЕГОРИЯ  «МИР»: -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овокупность всех форм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 матери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- Вселенн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547640" y="404640"/>
            <a:ext cx="64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Группа 13"/>
          <p:cNvGrpSpPr/>
          <p:nvPr/>
        </p:nvGrpSpPr>
        <p:grpSpPr>
          <a:xfrm>
            <a:off x="2195640" y="836640"/>
            <a:ext cx="3887640" cy="3743280"/>
            <a:chOff x="2195640" y="836640"/>
            <a:chExt cx="3887640" cy="3743280"/>
          </a:xfrm>
        </p:grpSpPr>
        <p:sp>
          <p:nvSpPr>
            <p:cNvPr id="146" name="Овал 12"/>
            <p:cNvSpPr/>
            <p:nvPr/>
          </p:nvSpPr>
          <p:spPr>
            <a:xfrm>
              <a:off x="2195640" y="836640"/>
              <a:ext cx="3887640" cy="3743280"/>
            </a:xfrm>
            <a:prstGeom prst="ellipse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7" name="Группа 10"/>
            <p:cNvGrpSpPr/>
            <p:nvPr/>
          </p:nvGrpSpPr>
          <p:grpSpPr>
            <a:xfrm>
              <a:off x="2699280" y="1321920"/>
              <a:ext cx="2915640" cy="2807640"/>
              <a:chOff x="2699280" y="1321920"/>
              <a:chExt cx="2915640" cy="2807640"/>
            </a:xfrm>
          </p:grpSpPr>
          <p:sp>
            <p:nvSpPr>
              <p:cNvPr id="148" name="Овал 9"/>
              <p:cNvSpPr/>
              <p:nvPr/>
            </p:nvSpPr>
            <p:spPr>
              <a:xfrm>
                <a:off x="2699280" y="1321920"/>
                <a:ext cx="2915640" cy="2807640"/>
              </a:xfrm>
              <a:prstGeom prst="ellipse">
                <a:avLst/>
              </a:prstGeom>
              <a:solidFill>
                <a:srgbClr val="ffc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Овал 7"/>
              <p:cNvSpPr/>
              <p:nvPr/>
            </p:nvSpPr>
            <p:spPr>
              <a:xfrm>
                <a:off x="3202920" y="1807200"/>
                <a:ext cx="1943640" cy="1871640"/>
              </a:xfrm>
              <a:prstGeom prst="ellipse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Овал 8"/>
              <p:cNvSpPr/>
              <p:nvPr/>
            </p:nvSpPr>
            <p:spPr>
              <a:xfrm>
                <a:off x="3706920" y="2292480"/>
                <a:ext cx="971640" cy="935640"/>
              </a:xfrm>
              <a:prstGeom prst="ellipse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1" name="Овал 11"/>
            <p:cNvSpPr/>
            <p:nvPr/>
          </p:nvSpPr>
          <p:spPr>
            <a:xfrm>
              <a:off x="4067280" y="2638800"/>
              <a:ext cx="242640" cy="233640"/>
            </a:xfrm>
            <a:prstGeom prst="ellipse">
              <a:avLst/>
            </a:prstGeom>
            <a:solidFill>
              <a:srgbClr val="7030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52" name="Прямая со стрелкой 14"/>
          <p:cNvCxnSpPr>
            <a:endCxn id="151" idx="2"/>
          </p:cNvCxnSpPr>
          <p:nvPr/>
        </p:nvCxnSpPr>
        <p:spPr>
          <a:xfrm>
            <a:off x="2050560" y="2708280"/>
            <a:ext cx="2017080" cy="48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3" name="Прямая со стрелкой 16"/>
          <p:cNvCxnSpPr/>
          <p:nvPr/>
        </p:nvCxnSpPr>
        <p:spPr>
          <a:xfrm flipH="1">
            <a:off x="4715640" y="1773360"/>
            <a:ext cx="1585080" cy="57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" name="Прямая со стрелкой 18"/>
          <p:cNvCxnSpPr/>
          <p:nvPr/>
        </p:nvCxnSpPr>
        <p:spPr>
          <a:xfrm flipH="1">
            <a:off x="4284360" y="836640"/>
            <a:ext cx="7200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250920" y="333360"/>
            <a:ext cx="8642160" cy="44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2360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Прямоугольник 8"/>
          <p:cNvSpPr/>
          <p:nvPr/>
        </p:nvSpPr>
        <p:spPr>
          <a:xfrm>
            <a:off x="324000" y="333360"/>
            <a:ext cx="8424720" cy="58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ИР (ВСЕЛЕННАЯ) 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это бесконечное и неисчерпаемое множество СИСТЕМНЫХ образований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собенное ЦЕЛОЕ, которое характеризуется наличием ЭЛЕМЕНТОВ и СТРУКТУРНЫХ связей между ни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 этом четко разграничиваю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неживые, живые и социаль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исте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250920" y="333360"/>
            <a:ext cx="8642160" cy="44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2360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Прямоугольник 8"/>
          <p:cNvSpPr/>
          <p:nvPr/>
        </p:nvSpPr>
        <p:spPr>
          <a:xfrm>
            <a:off x="324000" y="333360"/>
            <a:ext cx="8424720" cy="63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ИПОТЕЗА «Большого взрыв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селенная родилась 15 млрд. лет тому назад в результате взрыва физического вакуума, который получил название «большого взрыва». При этом выделилось колоссальное количество тепла, за счет которого Вселенная существует до сих пор. Взрыв произошел не сразу. Сначала 1 млн. лет происходила «инфляция» (раздувание) физического вакуум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24000" y="620640"/>
            <a:ext cx="85690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ЫТИЕ  ВКЛЮЧА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АЖЕ т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 чем мы еще не зна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ли не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хотим знать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1547640" y="404640"/>
            <a:ext cx="64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Овал 3"/>
          <p:cNvSpPr/>
          <p:nvPr/>
        </p:nvSpPr>
        <p:spPr>
          <a:xfrm>
            <a:off x="4932360" y="3284640"/>
            <a:ext cx="3456000" cy="3313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Овал 5"/>
          <p:cNvSpPr/>
          <p:nvPr/>
        </p:nvSpPr>
        <p:spPr>
          <a:xfrm>
            <a:off x="5867280" y="3573360"/>
            <a:ext cx="249876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Овал 4"/>
          <p:cNvSpPr/>
          <p:nvPr/>
        </p:nvSpPr>
        <p:spPr>
          <a:xfrm>
            <a:off x="7380360" y="4005360"/>
            <a:ext cx="914400" cy="9144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Прямоугольник 8"/>
          <p:cNvSpPr/>
          <p:nvPr/>
        </p:nvSpPr>
        <p:spPr>
          <a:xfrm>
            <a:off x="755640" y="260280"/>
            <a:ext cx="6985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2360" algn="ctr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НТОЛОГИЯ – учение о быт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ctr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ctr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ыт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нтральная категория философ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ctr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«бытие», «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утт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, 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ng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ctr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Бытие – всё, что существуе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ctr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Дата 1"/>
          <p:cNvSpPr/>
          <p:nvPr/>
        </p:nvSpPr>
        <p:spPr>
          <a:xfrm>
            <a:off x="6727680" y="6408720"/>
            <a:ext cx="191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Группа 13"/>
          <p:cNvGrpSpPr/>
          <p:nvPr/>
        </p:nvGrpSpPr>
        <p:grpSpPr>
          <a:xfrm>
            <a:off x="2484360" y="404640"/>
            <a:ext cx="3888000" cy="3743640"/>
            <a:chOff x="2484360" y="404640"/>
            <a:chExt cx="3888000" cy="3743640"/>
          </a:xfrm>
        </p:grpSpPr>
        <p:sp>
          <p:nvSpPr>
            <p:cNvPr id="161" name="Овал 12"/>
            <p:cNvSpPr/>
            <p:nvPr/>
          </p:nvSpPr>
          <p:spPr>
            <a:xfrm>
              <a:off x="2484360" y="404640"/>
              <a:ext cx="3888000" cy="374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2" name="Группа 10"/>
            <p:cNvGrpSpPr/>
            <p:nvPr/>
          </p:nvGrpSpPr>
          <p:grpSpPr>
            <a:xfrm>
              <a:off x="2988360" y="889920"/>
              <a:ext cx="2916000" cy="2807640"/>
              <a:chOff x="2988360" y="889920"/>
              <a:chExt cx="2916000" cy="2807640"/>
            </a:xfrm>
          </p:grpSpPr>
          <p:sp>
            <p:nvSpPr>
              <p:cNvPr id="163" name="Овал 9"/>
              <p:cNvSpPr/>
              <p:nvPr/>
            </p:nvSpPr>
            <p:spPr>
              <a:xfrm>
                <a:off x="2988360" y="889920"/>
                <a:ext cx="2916000" cy="280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Овал 7"/>
              <p:cNvSpPr/>
              <p:nvPr/>
            </p:nvSpPr>
            <p:spPr>
              <a:xfrm>
                <a:off x="3492360" y="1375200"/>
                <a:ext cx="1944000" cy="18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Овал 8"/>
              <p:cNvSpPr/>
              <p:nvPr/>
            </p:nvSpPr>
            <p:spPr>
              <a:xfrm>
                <a:off x="3996360" y="1860480"/>
                <a:ext cx="972000" cy="93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6" name="Овал 11"/>
            <p:cNvSpPr/>
            <p:nvPr/>
          </p:nvSpPr>
          <p:spPr>
            <a:xfrm>
              <a:off x="4356360" y="2207160"/>
              <a:ext cx="243000" cy="23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Прямоугольник 9"/>
          <p:cNvSpPr/>
          <p:nvPr/>
        </p:nvSpPr>
        <p:spPr>
          <a:xfrm>
            <a:off x="468360" y="26028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Ы    ЖИВЕМ   В   РАСШИРЯЮЩЕЙСЯ   ВСЕЛЕН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Прямоугольник 10"/>
          <p:cNvSpPr/>
          <p:nvPr/>
        </p:nvSpPr>
        <p:spPr>
          <a:xfrm>
            <a:off x="1547640" y="544500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акуум - потенциально самый «богатый», самый креативный вид  быт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рямоугольник 11"/>
          <p:cNvSpPr/>
          <p:nvPr/>
        </p:nvSpPr>
        <p:spPr>
          <a:xfrm>
            <a:off x="250920" y="4221000"/>
            <a:ext cx="87138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вакууме постоянно происходят сложные процессы, связанные с непрерывным появлением и исчезновением, так называемых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виртуальных» части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ри определенных условиях виртуальные (потенциальные) частицы становятся реальными (актуальным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250920" y="333360"/>
            <a:ext cx="8642160" cy="44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2360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рямоугольник 8"/>
          <p:cNvSpPr/>
          <p:nvPr/>
        </p:nvSpPr>
        <p:spPr>
          <a:xfrm>
            <a:off x="250920" y="260280"/>
            <a:ext cx="8642160" cy="102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ЖИВАЯ  (НЕОРГАНИЧЕСКАЯ)  МАТЕР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взрыва докварковое состояние вещества – струны и  др. объекты. Затем возникли субмикроэлементарные (СМЭ) частицы. Кварко-глюонная плазма – сверхплотное вещество. Далее – микроэлементарные (МЭ) частицы. Из них сформировались ядра атомов и электро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НИ  ОРГАНИЗ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Вакуум --------струны-------субмикроэлементарный --------- микроэлементарный ------- ядерный ---- атомарный ------ молекулярный (плазма-звезда,  газ, жидкость, кристалл-планета) ------ макроскопические тела ------- планеты ----------звездно-планетарные системы ----- галактики -------метагалактики (скопления галактик 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и сверхскопления галактик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Дата 1"/>
          <p:cNvSpPr/>
          <p:nvPr/>
        </p:nvSpPr>
        <p:spPr>
          <a:xfrm>
            <a:off x="6727680" y="6408720"/>
            <a:ext cx="191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D:\Философия\Philosophy_lectures\7_Диалектика\m74_baixauli_900.jpg"/>
          <p:cNvPicPr/>
          <p:nvPr/>
        </p:nvPicPr>
        <p:blipFill>
          <a:blip r:embed="rId1"/>
          <a:stretch/>
        </p:blipFill>
        <p:spPr>
          <a:xfrm>
            <a:off x="-1549440" y="907920"/>
            <a:ext cx="6696000" cy="5950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D:\Философия\Philosophy_lectures\7_Диалектика\Space_Color_stellar_spiral_065044_.jpg"/>
          <p:cNvPicPr/>
          <p:nvPr/>
        </p:nvPicPr>
        <p:blipFill>
          <a:blip r:embed="rId2"/>
          <a:stretch/>
        </p:blipFill>
        <p:spPr>
          <a:xfrm>
            <a:off x="4762440" y="0"/>
            <a:ext cx="8763120" cy="59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324000" y="260280"/>
            <a:ext cx="856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туальные проблем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облема №1 -  Почему физический вакуум взорвалс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и точки зр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зрыв вакуума – необъяснимая случай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зрыв вакуума – следствие закономерности. Роль Бога-Творца (христианство) или Духа-Творца (веданта, тантра, даосизм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рыв вакуума – один из этапов самоорганизации материи. «Самосогласованная модель развития Вселенной». Закономерность и случайн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1547640" y="404640"/>
            <a:ext cx="64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670320" y="-1080"/>
            <a:ext cx="780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и один из этих вариантов наука не в состоянии доказать или опровергнут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трудно догадаться, что первая модель соответствует восточной онтологии, а вторая – западно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324000" y="260280"/>
            <a:ext cx="856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Microsoft YaHei"/>
              </a:rPr>
              <a:t>Проблема №2 - Что ждет Вселенную в будущем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Microsoft YaHei"/>
              </a:rPr>
              <a:t>1. «Закрытая модель» развития Вселенн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Вселенная одновременно конечна и неограничена. Множество эволюционных циклов. Один полный цикл насчитывает 100 млрд. лет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Microsoft YaHei"/>
              </a:rPr>
              <a:t>2. «Открытая модель» развития Вселенно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Вселенная бесконечна. Постепенно звезд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остынут, т.к. закончится материал дл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термоядерных реакций. Звезды буду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покидать свои галактики, а планеты -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отрываться от звезд. Галактик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превратятся в массивные черные дыр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А в итоге вся Вселенная превратится в электронно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позитронную плазму малой плот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акая из них соответствует западной и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осточной онтологи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1547640" y="404640"/>
            <a:ext cx="64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олилиния 6"/>
          <p:cNvSpPr/>
          <p:nvPr/>
        </p:nvSpPr>
        <p:spPr>
          <a:xfrm>
            <a:off x="311040" y="981000"/>
            <a:ext cx="8832960" cy="1546200"/>
          </a:xfrm>
          <a:custGeom>
            <a:avLst/>
            <a:gdLst>
              <a:gd name="textAreaLeft" fmla="*/ 0 w 8832960"/>
              <a:gd name="textAreaRight" fmla="*/ 8832960 w 8832960"/>
              <a:gd name="textAreaTop" fmla="*/ 0 h 1546200"/>
              <a:gd name="textAreaBottom" fmla="*/ 1546560 h 1546200"/>
            </a:gdLst>
            <a:ahLst/>
            <a:rect l="textAreaLeft" t="textAreaTop" r="textAreaRight" b="textAreaBottom"/>
            <a:pathLst>
              <a:path w="8833262" h="1545771">
                <a:moveTo>
                  <a:pt x="0" y="1134094"/>
                </a:moveTo>
                <a:cubicBezTo>
                  <a:pt x="440376" y="701634"/>
                  <a:pt x="880753" y="269175"/>
                  <a:pt x="1425039" y="326572"/>
                </a:cubicBezTo>
                <a:cubicBezTo>
                  <a:pt x="1969325" y="383969"/>
                  <a:pt x="2656114" y="1476499"/>
                  <a:pt x="3265714" y="1478478"/>
                </a:cubicBezTo>
                <a:cubicBezTo>
                  <a:pt x="3875314" y="1480457"/>
                  <a:pt x="4512623" y="378031"/>
                  <a:pt x="5082639" y="338447"/>
                </a:cubicBezTo>
                <a:cubicBezTo>
                  <a:pt x="5652655" y="298863"/>
                  <a:pt x="6187044" y="1054925"/>
                  <a:pt x="6685808" y="1240972"/>
                </a:cubicBezTo>
                <a:cubicBezTo>
                  <a:pt x="7184572" y="1427019"/>
                  <a:pt x="7724899" y="1545771"/>
                  <a:pt x="8075221" y="1454727"/>
                </a:cubicBezTo>
                <a:cubicBezTo>
                  <a:pt x="8425543" y="1363683"/>
                  <a:pt x="8833262" y="914401"/>
                  <a:pt x="8787740" y="694707"/>
                </a:cubicBezTo>
                <a:cubicBezTo>
                  <a:pt x="8742218" y="475014"/>
                  <a:pt x="8389917" y="0"/>
                  <a:pt x="7802088" y="136566"/>
                </a:cubicBezTo>
                <a:cubicBezTo>
                  <a:pt x="7214260" y="273132"/>
                  <a:pt x="6012873" y="1492333"/>
                  <a:pt x="5260769" y="1514104"/>
                </a:cubicBezTo>
                <a:cubicBezTo>
                  <a:pt x="4508665" y="1535876"/>
                  <a:pt x="3879273" y="304800"/>
                  <a:pt x="3289465" y="267195"/>
                </a:cubicBezTo>
                <a:cubicBezTo>
                  <a:pt x="2699657" y="229590"/>
                  <a:pt x="2270166" y="1153886"/>
                  <a:pt x="1721922" y="1288473"/>
                </a:cubicBezTo>
                <a:cubicBezTo>
                  <a:pt x="1173678" y="1423060"/>
                  <a:pt x="0" y="1074717"/>
                  <a:pt x="0" y="1074717"/>
                </a:cubicBezTo>
                <a:lnTo>
                  <a:pt x="83127" y="1086592"/>
                </a:ln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Полилиния 9"/>
          <p:cNvSpPr/>
          <p:nvPr/>
        </p:nvSpPr>
        <p:spPr>
          <a:xfrm>
            <a:off x="539640" y="3573360"/>
            <a:ext cx="2940120" cy="1989360"/>
          </a:xfrm>
          <a:custGeom>
            <a:avLst/>
            <a:gdLst>
              <a:gd name="textAreaLeft" fmla="*/ 0 w 2940120"/>
              <a:gd name="textAreaRight" fmla="*/ 2940480 w 2940120"/>
              <a:gd name="textAreaTop" fmla="*/ 0 h 1989360"/>
              <a:gd name="textAreaBottom" fmla="*/ 1989720 h 1989360"/>
            </a:gdLst>
            <a:ahLst/>
            <a:rect l="textAreaLeft" t="textAreaTop" r="textAreaRight" b="textAreaBottom"/>
            <a:pathLst>
              <a:path w="2941121" h="1989117">
                <a:moveTo>
                  <a:pt x="2474026" y="0"/>
                </a:moveTo>
                <a:cubicBezTo>
                  <a:pt x="1237013" y="304800"/>
                  <a:pt x="0" y="609600"/>
                  <a:pt x="3958" y="914400"/>
                </a:cubicBezTo>
                <a:cubicBezTo>
                  <a:pt x="7916" y="1219200"/>
                  <a:pt x="2054431" y="1668483"/>
                  <a:pt x="2497776" y="1828800"/>
                </a:cubicBezTo>
                <a:cubicBezTo>
                  <a:pt x="2941121" y="1989117"/>
                  <a:pt x="2802576" y="1932709"/>
                  <a:pt x="2664031" y="1876302"/>
                </a:cubicBez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250920" y="333360"/>
            <a:ext cx="8642160" cy="44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2360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оугольник 8"/>
          <p:cNvSpPr/>
          <p:nvPr/>
        </p:nvSpPr>
        <p:spPr>
          <a:xfrm>
            <a:off x="324000" y="333360"/>
            <a:ext cx="842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ЖИВАЯ  (ОРГАНИЧЕСКАЯ)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Microsoft YaHei"/>
              </a:rPr>
              <a:t>МАТЕР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живая материя  предшествует появлению жизни. Имеют общую основу — микромир. Однако если в неживой материи на основе молекул формируются  плазменные, газовые, жидкие и кристаллические вещества, то в живой материи молекулы образуют такие загадочные соединения как ДНК и РН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Биомакромолекулы (ДНК, РНК, белки) ------- клетка ------- микроорганизмы ------ органы и ткани -------- организм в целом ------- популяция ---------- биоценоз ---------- биосф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670320" y="90360"/>
            <a:ext cx="780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трудно догадаться, что первая модель соответствует восточной онтологии, а вторая – западно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250920" y="333360"/>
            <a:ext cx="8642160" cy="44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2360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Прямоугольник 8"/>
          <p:cNvSpPr/>
          <p:nvPr/>
        </p:nvSpPr>
        <p:spPr>
          <a:xfrm>
            <a:off x="324000" y="333360"/>
            <a:ext cx="8424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НЕЖИВЫЕ  МОЛЕКУЛЫ                              ЖИВ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биомакромолеку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(плазма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газ, жидкость, кристалл)                  (ДНК, РНК, белк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     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МИКРОМИР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СМЭ частиц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атомы, молеку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БЩАЯ ОСНОВА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670320" y="90360"/>
            <a:ext cx="780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трудно догадаться, что первая модель соответствует восточной онтологии, а вторая – западно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Овал 4"/>
          <p:cNvSpPr/>
          <p:nvPr/>
        </p:nvSpPr>
        <p:spPr>
          <a:xfrm>
            <a:off x="3059280" y="3716280"/>
            <a:ext cx="4465440" cy="172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9" name="Прямая со стрелкой 10"/>
          <p:cNvCxnSpPr/>
          <p:nvPr/>
        </p:nvCxnSpPr>
        <p:spPr>
          <a:xfrm flipH="1" flipV="1">
            <a:off x="2124000" y="2420280"/>
            <a:ext cx="1440360" cy="158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0" name="Прямая со стрелкой 12"/>
          <p:cNvCxnSpPr/>
          <p:nvPr/>
        </p:nvCxnSpPr>
        <p:spPr>
          <a:xfrm flipV="1">
            <a:off x="6516360" y="2420280"/>
            <a:ext cx="577080" cy="144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"/>
          <p:cNvSpPr/>
          <p:nvPr/>
        </p:nvSpPr>
        <p:spPr>
          <a:xfrm>
            <a:off x="395280" y="19080"/>
            <a:ext cx="828036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войства живых сист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57200" algn="just"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 создавать порядок из хаотического теплового движения молекул и противодействовать возрастанию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нтроп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хаосу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57200" algn="just"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е высокий уровень упорядоченности 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симметр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пространстве и време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57200" algn="just"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к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мен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окружающей средой веществом, энергией и информацией. Живо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ссимилиру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лученные извне вещества, т.е. перестраивает и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57200" algn="just"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57200" algn="just"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к избыточному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амовоспроизводств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"/>
          <p:cNvSpPr/>
          <p:nvPr/>
        </p:nvSpPr>
        <p:spPr>
          <a:xfrm>
            <a:off x="250920" y="-261000"/>
            <a:ext cx="84247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туальные проблем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облема №1 -  Почему возникли ДНК, РН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облема №2 -  Есть ли жизнь за пределами Земл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и точки зр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Жизнь – результат эволюции, которая происходила путем мутаций 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лучайн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естественного отб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ариант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ономерная эволю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ариант 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нтиэволюциониз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возникновение жизни не было результатом длительного эволюционного процесса:  напротив, она возникла в течение очень короткого временного интервал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ак называемый „взрыв жизни» на Земле. Роль Духа-Творц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оорганизация матер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Жизнь рано или поздно, но обязательно возникает во Вселенной, однако может существовать в разных формах, в зависимости о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ившихся условий.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ономерность и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лучайность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"/>
          <p:cNvSpPr/>
          <p:nvPr/>
        </p:nvSpPr>
        <p:spPr>
          <a:xfrm>
            <a:off x="179280" y="220680"/>
            <a:ext cx="8280360" cy="65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Жизнь не может существовать безразлично где. Для ее появления необходим целый ряд услов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Например, на нашей планете Земля сложились следующие условия: а) температурный режим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б) углеводородная основа жиз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в) 21%  содержание кислорода в атмосфер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и наличие самой атмосфер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г) трехмерное пространств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На Земле возникла та форма жизн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которая обусловлена сложившими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на ней условиями.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!!! ФАКТОР  ТВОРЧ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2" descr="D:\Философия\Philosophy_lectures\8_Бытие\atmospheric-oxygen-197x300.jpg"/>
          <p:cNvPicPr/>
          <p:nvPr/>
        </p:nvPicPr>
        <p:blipFill>
          <a:blip r:embed="rId1"/>
          <a:stretch/>
        </p:blipFill>
        <p:spPr>
          <a:xfrm>
            <a:off x="6642000" y="3048120"/>
            <a:ext cx="25020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395280" y="765000"/>
            <a:ext cx="849780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АЖНЕЙШИЕ ВОПРОСЫ ОНТОЛОГ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 – ЧТО ЕСТЬ МАТЕР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2 – ЧТО ЕСТЬ ДУХ (СОЗНАНИЕ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3 – КАК СООТНОСЯТСЯ МАТЕРИЯ И ДУХ (СОЗНАНИЕ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или «Что первично?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4 – КАК ВОЗНИКЛО БЫТИ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1547640" y="404640"/>
            <a:ext cx="64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250920" y="333360"/>
            <a:ext cx="8642160" cy="44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2360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Прямоугольник 8"/>
          <p:cNvSpPr/>
          <p:nvPr/>
        </p:nvSpPr>
        <p:spPr>
          <a:xfrm>
            <a:off x="324000" y="260280"/>
            <a:ext cx="842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Microsoft YaHei"/>
              </a:rPr>
              <a:t>ОБЩЕСТВО  (СОЦИАЛЬНАЯ)  ПРИР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Microsoft YaHei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Индивид (личность) ------ семья ---------- коллектив --------- социальная группа (класс) ----------- нация ---------- государство --------- общество в целом ------- человече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туальные проблем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облема №1 - Случайно или закономерно возникновение человечества и сознан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облема №2 -  Есть ли определенная цель существования человечества, и в чем она заключаетс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670320" y="90360"/>
            <a:ext cx="780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трудно догадаться, что первая модель соответствует восточной онтологии, а вторая – западно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250920" y="333360"/>
            <a:ext cx="8642160" cy="44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2360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Прямоугольник 8"/>
          <p:cNvSpPr/>
          <p:nvPr/>
        </p:nvSpPr>
        <p:spPr>
          <a:xfrm>
            <a:off x="250920" y="260280"/>
            <a:ext cx="8642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Еще в античной философии возникла ТЕЛЕОЛОГИЯ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учение, согласно которому все в природе устроено целесообразн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о всяком развитии присутствует ЦЕЛЬ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оторая влияет на  процесс развит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первые об этом говорил еще Аристотель (каждый предмет имеет целевую причину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редние века - Фома Аквинск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Бог как Высшая Цель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овое время – Лейбни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идея предустановленной гармонии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еллинг (учение о мировой душе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гель (учение об Абсолютном Духе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670320" y="90360"/>
            <a:ext cx="780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трудно догадаться, что первая модель соответствует восточной онтологии, а вторая – западно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250920" y="333360"/>
            <a:ext cx="8642160" cy="44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2360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Прямоугольник 8"/>
          <p:cNvSpPr/>
          <p:nvPr/>
        </p:nvSpPr>
        <p:spPr>
          <a:xfrm>
            <a:off x="250920" y="189000"/>
            <a:ext cx="864216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овременная телеологическая проблем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еобходимость объяснения чрезвычайно высокой и тонкой взаимосогласованности ряда фундаментальных свойств и характеристик нашей Вселенной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Оказывается, что изменение некоторых из этих свойств (даже на сотые доли процента) при сохранении всех остальных связей и параметров привело бы к катастрофическим последствиям для всего мирового целого. Например, если уменьшить массу протона на 30%, то в нашем мире отсутствовали бы любые атомы, кроме 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атома водорода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670320" y="90360"/>
            <a:ext cx="780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трудно догадаться, что первая модель соответствует восточной онтологии, а вторая – западно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250920" y="333360"/>
            <a:ext cx="8642160" cy="44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2360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Прямоугольник 8"/>
          <p:cNvSpPr/>
          <p:nvPr/>
        </p:nvSpPr>
        <p:spPr>
          <a:xfrm>
            <a:off x="179280" y="189000"/>
            <a:ext cx="8785440" cy="81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 70-е гг. ХХ века Б. Картер сформулировал антропный принцип, предполагающий, чт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ленная обладает такими свойствами, что в ней на определенном этапе с необходимостью могла возникнуть жизнь и сознание (наблюдатель). Т.е. Вселенной необходим познающий субъект-наблюдател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связь человека и универсум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создан дл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орьбы с энтропие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витие Вселенной неизбежно вызывает появление и накопление хаотических процессов (энтропии).  Должны существовать существа, которые будут препятствовать дальнейшему развитию этих процес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МЫСЛ ЖИЗНИ ЧЕЛОВЕЧЕСТВА – преодоление  хао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ожет или выполнить свою миссию или н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670320" y="90360"/>
            <a:ext cx="780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трудно догадаться, что первая модель соответствует восточной онтологии, а вторая – западно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оугольник 4"/>
          <p:cNvSpPr/>
          <p:nvPr/>
        </p:nvSpPr>
        <p:spPr>
          <a:xfrm>
            <a:off x="250920" y="5229360"/>
            <a:ext cx="8569080" cy="9363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468360" y="476280"/>
            <a:ext cx="81360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Животное запрограммировано природо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родная программа реализовывается с помощью инстинктов. Смысл жизни животного – выжить и продолжить свой род. Животное не преобразовывает мир, но приспосабливается к нему. Если в программе происходит какой-то сбой, животное обычно погиба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еловек не только приспосабливается к миру, но активно его преобразовывает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В процессе развития человеческой цивилизации меняется облик планеты и самого человека.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АКТИКА – преобразование ми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чему так происходи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К ОБЛАДАЕТ СОЗНАНИЕМ, которое вырабатывает образы и идеи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К ЗАНИМАЕТСЯ ТВОРЧЕСТВОМ, т.е.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реализует образы и идеи на практи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1547640" y="404640"/>
            <a:ext cx="64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468360" y="476280"/>
            <a:ext cx="81360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ксперимент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инверсия зрения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» (Г. Страттон)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дям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безьянам надевали очки, которые создавали иллюзию перевернутого мир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ди осознавали, что это всего лишь ОБРАЗ БЫТИЯ и приспосабливались к не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р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знание  ------------------  мира,   ----------------------- Мир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деи                               быт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ТО  ЕСТЬ СОЗНАНИ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НАНИЕ – способность  человек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ражать мир в образах, переживать события окружающего мира, оценивать их и отвечать на н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ЗНАНИЕ – ЭТО СУБЪЕКТИВНОЕ  БЫТ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1547640" y="404640"/>
            <a:ext cx="64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Левая фигурная скобка 3"/>
          <p:cNvSpPr/>
          <p:nvPr/>
        </p:nvSpPr>
        <p:spPr>
          <a:xfrm>
            <a:off x="3851280" y="278136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авая фигурная скобка 4"/>
          <p:cNvSpPr/>
          <p:nvPr/>
        </p:nvSpPr>
        <p:spPr>
          <a:xfrm>
            <a:off x="5076720" y="2781360"/>
            <a:ext cx="155520" cy="914400"/>
          </a:xfrm>
          <a:custGeom>
            <a:avLst/>
            <a:gdLst>
              <a:gd name="textAreaLeft" fmla="*/ 0 w 155520"/>
              <a:gd name="textAreaRight" fmla="*/ 5616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16200" y="10800"/>
                  <a:pt x="21600" y="10800"/>
                </a:cubicBezTo>
                <a:cubicBezTo>
                  <a:pt x="162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5400" y="21600"/>
                  <a:pt x="0" y="21600"/>
                </a:cubicBez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468360" y="476280"/>
            <a:ext cx="81360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уществуют два основных знач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нятия «сознание»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узком смысле сло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способность человека отражать, окружающий мир, оценивать его, вырабатывать определенную программу поведения. Сознание как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озн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говорим: «потерял сознание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широком смысле сло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психическая жизнь (душа) человека, объединяющая как сознательные, так и бессознательные процес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1547640" y="404640"/>
            <a:ext cx="64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Дата 1"/>
          <p:cNvSpPr/>
          <p:nvPr/>
        </p:nvSpPr>
        <p:spPr>
          <a:xfrm>
            <a:off x="6727680" y="6408720"/>
            <a:ext cx="191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Равнобедренный треугольник 33"/>
          <p:cNvSpPr/>
          <p:nvPr/>
        </p:nvSpPr>
        <p:spPr>
          <a:xfrm>
            <a:off x="1476360" y="907920"/>
            <a:ext cx="6048360" cy="4969080"/>
          </a:xfrm>
          <a:prstGeom prst="triangle">
            <a:avLst>
              <a:gd name="adj" fmla="val 49222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ая соединительная линия 35"/>
          <p:cNvSpPr/>
          <p:nvPr/>
        </p:nvSpPr>
        <p:spPr>
          <a:xfrm>
            <a:off x="4452840" y="907920"/>
            <a:ext cx="3071880" cy="360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ая соединительная линия 56"/>
          <p:cNvSpPr/>
          <p:nvPr/>
        </p:nvSpPr>
        <p:spPr>
          <a:xfrm>
            <a:off x="7524720" y="4508640"/>
            <a:ext cx="43200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ая соединительная линия 58"/>
          <p:cNvSpPr/>
          <p:nvPr/>
        </p:nvSpPr>
        <p:spPr>
          <a:xfrm flipH="1">
            <a:off x="7524720" y="5084640"/>
            <a:ext cx="4320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ая соединительная линия 76"/>
          <p:cNvSpPr/>
          <p:nvPr/>
        </p:nvSpPr>
        <p:spPr>
          <a:xfrm>
            <a:off x="3924360" y="1773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Прямая соединительная линия 78"/>
          <p:cNvSpPr/>
          <p:nvPr/>
        </p:nvSpPr>
        <p:spPr>
          <a:xfrm flipV="1">
            <a:off x="4932360" y="169992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Прямоугольник 18"/>
          <p:cNvSpPr/>
          <p:nvPr/>
        </p:nvSpPr>
        <p:spPr>
          <a:xfrm>
            <a:off x="611280" y="33336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457200" algn="ctr">
              <a:spcBef>
                <a:spcPts val="4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РОВНИ      СОЗН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21"/>
          <p:cNvSpPr/>
          <p:nvPr/>
        </p:nvSpPr>
        <p:spPr>
          <a:xfrm>
            <a:off x="2556000" y="4005360"/>
            <a:ext cx="40320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ЕССОЗНАТЕЛЬ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Прямоугольник 22"/>
          <p:cNvSpPr/>
          <p:nvPr/>
        </p:nvSpPr>
        <p:spPr>
          <a:xfrm flipV="1" rot="10800000">
            <a:off x="3708360" y="3926520"/>
            <a:ext cx="17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Прямоугольник 24"/>
          <p:cNvSpPr/>
          <p:nvPr/>
        </p:nvSpPr>
        <p:spPr>
          <a:xfrm>
            <a:off x="3419640" y="1989000"/>
            <a:ext cx="2160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ОСОЗНА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Прямоугольник 25"/>
          <p:cNvSpPr/>
          <p:nvPr/>
        </p:nvSpPr>
        <p:spPr>
          <a:xfrm>
            <a:off x="2771640" y="2781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сознательно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Прямоугольник 28"/>
          <p:cNvSpPr/>
          <p:nvPr/>
        </p:nvSpPr>
        <p:spPr>
          <a:xfrm>
            <a:off x="3564000" y="119700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???    сверхсознательное  ??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Прямая соединительная линия 23"/>
          <p:cNvSpPr/>
          <p:nvPr/>
        </p:nvSpPr>
        <p:spPr>
          <a:xfrm>
            <a:off x="3348000" y="2781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Прямая соединительная линия 25"/>
          <p:cNvSpPr/>
          <p:nvPr/>
        </p:nvSpPr>
        <p:spPr>
          <a:xfrm flipV="1">
            <a:off x="5651640" y="256536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Прямая соединительная линия 27"/>
          <p:cNvSpPr/>
          <p:nvPr/>
        </p:nvSpPr>
        <p:spPr>
          <a:xfrm>
            <a:off x="3132000" y="314172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Прямая соединительная линия 35"/>
          <p:cNvSpPr/>
          <p:nvPr/>
        </p:nvSpPr>
        <p:spPr>
          <a:xfrm flipV="1">
            <a:off x="5796000" y="2852280"/>
            <a:ext cx="288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324000" y="260280"/>
            <a:ext cx="856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ЕССОЗНАТЕЛЬ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денческие автоматизмы и стереотипы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инстинкты как врождённые тенденции и стремления, выражающихся в форме сложного автоматического поведения; б) рефлексы как стереотипная реакция на раздражители (условные и безусловные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ческие действия (действующие в привычной ситуации, осознание которых излишне в силу их отработанност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сознаваемые мотивы (истинный смысл которых не осознается в силу их социальной неприемлемости или противоречия с другими мотивам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пороговое восприятие (или предсознательное). То, что было воспринято, но еще не дошло до сознания. Но при фокусировке внимания может быть осознан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1547640" y="404640"/>
            <a:ext cx="64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395280" y="343080"/>
            <a:ext cx="8569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Ошибочные действия (оговорки, описки, ошибки при прослушивании слов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 startAt="6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н и сновидения (2 фазы с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убокий сон – 2 часа. Полный отдых и восстановление организм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ый  сон – 20 мин. Снови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Процессы интуиции, не связанные с новым знанием. Ранее накопленный опы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  Коллективная память человечества и личная памя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ПОДСОЗНАТЕЛЬНОЕ»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раннего психоанализа З. Фрейда. Последователи Фрейда и современные  психологи в основном отказалась от всех терминов, где присутствует «над/под» (за редким исключением)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eriod" startAt="6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1547640" y="404640"/>
            <a:ext cx="64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24000" y="260280"/>
            <a:ext cx="8820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АК   ВОЗНИКЛО БЫТИ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осточная онтология      Западная онтолог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Бог-Творе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творение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ТИЕ         </a:t>
            </a: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Апокалипси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мир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«Дни» и «ночи» Брахмы        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бытие бесконечное                       бытие конечн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небытие в интервалах межд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отдельными циклами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                           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небытие ДО и ПОС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1547640" y="404640"/>
            <a:ext cx="64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Прямая соединительная линия 14"/>
          <p:cNvSpPr/>
          <p:nvPr/>
        </p:nvSpPr>
        <p:spPr>
          <a:xfrm>
            <a:off x="324000" y="2060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Прямая соединительная линия 22"/>
          <p:cNvSpPr/>
          <p:nvPr/>
        </p:nvSpPr>
        <p:spPr>
          <a:xfrm>
            <a:off x="6012000" y="278136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Прямая соединительная линия 24"/>
          <p:cNvSpPr/>
          <p:nvPr/>
        </p:nvSpPr>
        <p:spPr>
          <a:xfrm>
            <a:off x="7164360" y="27813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Прямая соединительная линия 26"/>
          <p:cNvSpPr/>
          <p:nvPr/>
        </p:nvSpPr>
        <p:spPr>
          <a:xfrm>
            <a:off x="7380360" y="278136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Прямая соединительная линия 30"/>
          <p:cNvSpPr/>
          <p:nvPr/>
        </p:nvSpPr>
        <p:spPr>
          <a:xfrm flipH="1">
            <a:off x="7093080" y="35733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Прямая соединительная линия 32"/>
          <p:cNvSpPr/>
          <p:nvPr/>
        </p:nvSpPr>
        <p:spPr>
          <a:xfrm>
            <a:off x="6012000" y="278136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Прямая соединительная линия 34"/>
          <p:cNvSpPr/>
          <p:nvPr/>
        </p:nvSpPr>
        <p:spPr>
          <a:xfrm>
            <a:off x="6012000" y="357336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Прямая соединительная линия 37"/>
          <p:cNvSpPr/>
          <p:nvPr/>
        </p:nvSpPr>
        <p:spPr>
          <a:xfrm>
            <a:off x="6300720" y="4941720"/>
            <a:ext cx="86508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Прямая соединительная линия 41"/>
          <p:cNvSpPr/>
          <p:nvPr/>
        </p:nvSpPr>
        <p:spPr>
          <a:xfrm flipH="1">
            <a:off x="6516720" y="4797360"/>
            <a:ext cx="504720" cy="7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Полилиния 6"/>
          <p:cNvSpPr/>
          <p:nvPr/>
        </p:nvSpPr>
        <p:spPr>
          <a:xfrm>
            <a:off x="1908000" y="4653000"/>
            <a:ext cx="1344960" cy="396720"/>
          </a:xfrm>
          <a:custGeom>
            <a:avLst/>
            <a:gdLst>
              <a:gd name="textAreaLeft" fmla="*/ 0 w 1344960"/>
              <a:gd name="textAreaRight" fmla="*/ 1345320 w 134496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1343741" h="397264">
                <a:moveTo>
                  <a:pt x="630612" y="71252"/>
                </a:moveTo>
                <a:cubicBezTo>
                  <a:pt x="539568" y="67293"/>
                  <a:pt x="448361" y="66108"/>
                  <a:pt x="357480" y="59376"/>
                </a:cubicBezTo>
                <a:cubicBezTo>
                  <a:pt x="341203" y="58170"/>
                  <a:pt x="326299" y="47501"/>
                  <a:pt x="309978" y="47501"/>
                </a:cubicBezTo>
                <a:cubicBezTo>
                  <a:pt x="254419" y="47501"/>
                  <a:pt x="199142" y="55418"/>
                  <a:pt x="143724" y="59376"/>
                </a:cubicBezTo>
                <a:cubicBezTo>
                  <a:pt x="108209" y="71215"/>
                  <a:pt x="88248" y="73696"/>
                  <a:pt x="60597" y="106878"/>
                </a:cubicBezTo>
                <a:cubicBezTo>
                  <a:pt x="54511" y="114181"/>
                  <a:pt x="37478" y="187475"/>
                  <a:pt x="36846" y="190005"/>
                </a:cubicBezTo>
                <a:cubicBezTo>
                  <a:pt x="40804" y="217714"/>
                  <a:pt x="36203" y="248097"/>
                  <a:pt x="48721" y="273132"/>
                </a:cubicBezTo>
                <a:cubicBezTo>
                  <a:pt x="54319" y="284328"/>
                  <a:pt x="73151" y="279410"/>
                  <a:pt x="84347" y="285008"/>
                </a:cubicBezTo>
                <a:cubicBezTo>
                  <a:pt x="176430" y="331050"/>
                  <a:pt x="66052" y="290783"/>
                  <a:pt x="155599" y="320634"/>
                </a:cubicBezTo>
                <a:cubicBezTo>
                  <a:pt x="187267" y="316675"/>
                  <a:pt x="219122" y="314005"/>
                  <a:pt x="250602" y="308758"/>
                </a:cubicBezTo>
                <a:cubicBezTo>
                  <a:pt x="295147" y="301334"/>
                  <a:pt x="294201" y="296302"/>
                  <a:pt x="333729" y="285008"/>
                </a:cubicBezTo>
                <a:cubicBezTo>
                  <a:pt x="349422" y="280524"/>
                  <a:pt x="365948" y="278863"/>
                  <a:pt x="381230" y="273132"/>
                </a:cubicBezTo>
                <a:cubicBezTo>
                  <a:pt x="464515" y="241900"/>
                  <a:pt x="395446" y="260088"/>
                  <a:pt x="464358" y="225631"/>
                </a:cubicBezTo>
                <a:cubicBezTo>
                  <a:pt x="566144" y="174737"/>
                  <a:pt x="483098" y="228494"/>
                  <a:pt x="571236" y="178130"/>
                </a:cubicBezTo>
                <a:cubicBezTo>
                  <a:pt x="688763" y="110973"/>
                  <a:pt x="510781" y="202420"/>
                  <a:pt x="654363" y="130628"/>
                </a:cubicBezTo>
                <a:cubicBezTo>
                  <a:pt x="695421" y="69042"/>
                  <a:pt x="654829" y="112621"/>
                  <a:pt x="725615" y="83127"/>
                </a:cubicBezTo>
                <a:cubicBezTo>
                  <a:pt x="758297" y="69510"/>
                  <a:pt x="787029" y="46823"/>
                  <a:pt x="820617" y="35626"/>
                </a:cubicBezTo>
                <a:cubicBezTo>
                  <a:pt x="871727" y="18588"/>
                  <a:pt x="844099" y="26786"/>
                  <a:pt x="903745" y="11875"/>
                </a:cubicBezTo>
                <a:cubicBezTo>
                  <a:pt x="955205" y="15833"/>
                  <a:pt x="1006911" y="17348"/>
                  <a:pt x="1058124" y="23750"/>
                </a:cubicBezTo>
                <a:cubicBezTo>
                  <a:pt x="1070545" y="25303"/>
                  <a:pt x="1081714" y="32187"/>
                  <a:pt x="1093750" y="35626"/>
                </a:cubicBezTo>
                <a:cubicBezTo>
                  <a:pt x="1109443" y="40110"/>
                  <a:pt x="1125417" y="43543"/>
                  <a:pt x="1141251" y="47501"/>
                </a:cubicBezTo>
                <a:cubicBezTo>
                  <a:pt x="1236258" y="110840"/>
                  <a:pt x="1121455" y="27706"/>
                  <a:pt x="1200628" y="106878"/>
                </a:cubicBezTo>
                <a:cubicBezTo>
                  <a:pt x="1210720" y="116970"/>
                  <a:pt x="1224379" y="122711"/>
                  <a:pt x="1236254" y="130628"/>
                </a:cubicBezTo>
                <a:cubicBezTo>
                  <a:pt x="1253846" y="201000"/>
                  <a:pt x="1250328" y="155260"/>
                  <a:pt x="1236254" y="225631"/>
                </a:cubicBezTo>
                <a:cubicBezTo>
                  <a:pt x="1231532" y="249242"/>
                  <a:pt x="1235146" y="275347"/>
                  <a:pt x="1224378" y="296883"/>
                </a:cubicBezTo>
                <a:cubicBezTo>
                  <a:pt x="1217995" y="309648"/>
                  <a:pt x="1200628" y="312717"/>
                  <a:pt x="1188753" y="320634"/>
                </a:cubicBezTo>
                <a:cubicBezTo>
                  <a:pt x="1093750" y="316675"/>
                  <a:pt x="998358" y="318219"/>
                  <a:pt x="903745" y="308758"/>
                </a:cubicBezTo>
                <a:cubicBezTo>
                  <a:pt x="878834" y="306267"/>
                  <a:pt x="832493" y="285008"/>
                  <a:pt x="832493" y="285008"/>
                </a:cubicBezTo>
                <a:cubicBezTo>
                  <a:pt x="816659" y="273133"/>
                  <a:pt x="802176" y="259202"/>
                  <a:pt x="784991" y="249382"/>
                </a:cubicBezTo>
                <a:cubicBezTo>
                  <a:pt x="774123" y="243172"/>
                  <a:pt x="760562" y="243104"/>
                  <a:pt x="749366" y="237506"/>
                </a:cubicBezTo>
                <a:cubicBezTo>
                  <a:pt x="736601" y="231123"/>
                  <a:pt x="725615" y="221673"/>
                  <a:pt x="713740" y="213756"/>
                </a:cubicBezTo>
                <a:cubicBezTo>
                  <a:pt x="705823" y="201881"/>
                  <a:pt x="701134" y="187046"/>
                  <a:pt x="689989" y="178130"/>
                </a:cubicBezTo>
                <a:cubicBezTo>
                  <a:pt x="680214" y="170310"/>
                  <a:pt x="665869" y="171185"/>
                  <a:pt x="654363" y="166254"/>
                </a:cubicBezTo>
                <a:cubicBezTo>
                  <a:pt x="638092" y="159281"/>
                  <a:pt x="622232" y="151287"/>
                  <a:pt x="606862" y="142504"/>
                </a:cubicBezTo>
                <a:cubicBezTo>
                  <a:pt x="594470" y="135423"/>
                  <a:pt x="584354" y="124375"/>
                  <a:pt x="571236" y="118753"/>
                </a:cubicBezTo>
                <a:cubicBezTo>
                  <a:pt x="556234" y="112324"/>
                  <a:pt x="539667" y="110419"/>
                  <a:pt x="523734" y="106878"/>
                </a:cubicBezTo>
                <a:cubicBezTo>
                  <a:pt x="453777" y="91332"/>
                  <a:pt x="451635" y="93412"/>
                  <a:pt x="369355" y="83127"/>
                </a:cubicBezTo>
                <a:cubicBezTo>
                  <a:pt x="248218" y="42749"/>
                  <a:pt x="279407" y="48476"/>
                  <a:pt x="36846" y="83127"/>
                </a:cubicBezTo>
                <a:cubicBezTo>
                  <a:pt x="20221" y="85502"/>
                  <a:pt x="13095" y="106878"/>
                  <a:pt x="1220" y="118753"/>
                </a:cubicBezTo>
                <a:cubicBezTo>
                  <a:pt x="5178" y="166254"/>
                  <a:pt x="0" y="215425"/>
                  <a:pt x="13095" y="261257"/>
                </a:cubicBezTo>
                <a:cubicBezTo>
                  <a:pt x="17016" y="274980"/>
                  <a:pt x="36329" y="277927"/>
                  <a:pt x="48721" y="285008"/>
                </a:cubicBezTo>
                <a:cubicBezTo>
                  <a:pt x="154189" y="345274"/>
                  <a:pt x="45052" y="274643"/>
                  <a:pt x="131849" y="332509"/>
                </a:cubicBezTo>
                <a:cubicBezTo>
                  <a:pt x="250602" y="328551"/>
                  <a:pt x="369777" y="331391"/>
                  <a:pt x="488108" y="320634"/>
                </a:cubicBezTo>
                <a:cubicBezTo>
                  <a:pt x="502322" y="319342"/>
                  <a:pt x="510616" y="302505"/>
                  <a:pt x="523734" y="296883"/>
                </a:cubicBezTo>
                <a:cubicBezTo>
                  <a:pt x="577027" y="274043"/>
                  <a:pt x="560625" y="296251"/>
                  <a:pt x="606862" y="273132"/>
                </a:cubicBezTo>
                <a:cubicBezTo>
                  <a:pt x="619627" y="266749"/>
                  <a:pt x="630613" y="257299"/>
                  <a:pt x="642488" y="249382"/>
                </a:cubicBezTo>
                <a:cubicBezTo>
                  <a:pt x="658322" y="225631"/>
                  <a:pt x="662909" y="187157"/>
                  <a:pt x="689989" y="178130"/>
                </a:cubicBezTo>
                <a:cubicBezTo>
                  <a:pt x="725693" y="166228"/>
                  <a:pt x="730548" y="168081"/>
                  <a:pt x="761241" y="142504"/>
                </a:cubicBezTo>
                <a:cubicBezTo>
                  <a:pt x="821885" y="91968"/>
                  <a:pt x="767476" y="114226"/>
                  <a:pt x="844368" y="95002"/>
                </a:cubicBezTo>
                <a:cubicBezTo>
                  <a:pt x="856243" y="87085"/>
                  <a:pt x="866876" y="76874"/>
                  <a:pt x="879994" y="71252"/>
                </a:cubicBezTo>
                <a:cubicBezTo>
                  <a:pt x="894995" y="64823"/>
                  <a:pt x="913915" y="68429"/>
                  <a:pt x="927495" y="59376"/>
                </a:cubicBezTo>
                <a:cubicBezTo>
                  <a:pt x="939370" y="51459"/>
                  <a:pt x="940282" y="32887"/>
                  <a:pt x="951246" y="23750"/>
                </a:cubicBezTo>
                <a:cubicBezTo>
                  <a:pt x="964846" y="12417"/>
                  <a:pt x="982913" y="7917"/>
                  <a:pt x="998747" y="0"/>
                </a:cubicBezTo>
                <a:cubicBezTo>
                  <a:pt x="1069999" y="3958"/>
                  <a:pt x="1141858" y="1783"/>
                  <a:pt x="1212503" y="11875"/>
                </a:cubicBezTo>
                <a:cubicBezTo>
                  <a:pt x="1245454" y="16582"/>
                  <a:pt x="1254763" y="50711"/>
                  <a:pt x="1271880" y="71252"/>
                </a:cubicBezTo>
                <a:cubicBezTo>
                  <a:pt x="1282631" y="84154"/>
                  <a:pt x="1295631" y="95003"/>
                  <a:pt x="1307506" y="106878"/>
                </a:cubicBezTo>
                <a:cubicBezTo>
                  <a:pt x="1337546" y="197001"/>
                  <a:pt x="1343741" y="183202"/>
                  <a:pt x="1319381" y="296883"/>
                </a:cubicBezTo>
                <a:cubicBezTo>
                  <a:pt x="1315672" y="314193"/>
                  <a:pt x="1308148" y="331866"/>
                  <a:pt x="1295630" y="344384"/>
                </a:cubicBezTo>
                <a:cubicBezTo>
                  <a:pt x="1286779" y="353235"/>
                  <a:pt x="1271200" y="350662"/>
                  <a:pt x="1260004" y="356260"/>
                </a:cubicBezTo>
                <a:cubicBezTo>
                  <a:pt x="1177996" y="397264"/>
                  <a:pt x="1275735" y="367170"/>
                  <a:pt x="1176877" y="391886"/>
                </a:cubicBezTo>
                <a:cubicBezTo>
                  <a:pt x="1125417" y="387927"/>
                  <a:pt x="1073794" y="385710"/>
                  <a:pt x="1022498" y="380010"/>
                </a:cubicBezTo>
                <a:cubicBezTo>
                  <a:pt x="963239" y="373426"/>
                  <a:pt x="974584" y="369714"/>
                  <a:pt x="927495" y="356260"/>
                </a:cubicBezTo>
                <a:cubicBezTo>
                  <a:pt x="911802" y="351776"/>
                  <a:pt x="895828" y="348343"/>
                  <a:pt x="879994" y="344384"/>
                </a:cubicBezTo>
                <a:cubicBezTo>
                  <a:pt x="756740" y="262217"/>
                  <a:pt x="947553" y="387295"/>
                  <a:pt x="796867" y="296883"/>
                </a:cubicBezTo>
                <a:cubicBezTo>
                  <a:pt x="653565" y="210901"/>
                  <a:pt x="786695" y="279923"/>
                  <a:pt x="678114" y="225631"/>
                </a:cubicBezTo>
                <a:cubicBezTo>
                  <a:pt x="619145" y="137178"/>
                  <a:pt x="694934" y="245815"/>
                  <a:pt x="618737" y="154379"/>
                </a:cubicBezTo>
                <a:cubicBezTo>
                  <a:pt x="609600" y="143415"/>
                  <a:pt x="605078" y="128845"/>
                  <a:pt x="594986" y="118753"/>
                </a:cubicBezTo>
                <a:cubicBezTo>
                  <a:pt x="574444" y="98211"/>
                  <a:pt x="535148" y="85225"/>
                  <a:pt x="511859" y="71252"/>
                </a:cubicBezTo>
                <a:cubicBezTo>
                  <a:pt x="487382" y="56566"/>
                  <a:pt x="468300" y="30673"/>
                  <a:pt x="440607" y="23750"/>
                </a:cubicBezTo>
                <a:cubicBezTo>
                  <a:pt x="346863" y="315"/>
                  <a:pt x="409371" y="13230"/>
                  <a:pt x="250602" y="0"/>
                </a:cubicBezTo>
                <a:cubicBezTo>
                  <a:pt x="211018" y="3958"/>
                  <a:pt x="171168" y="5826"/>
                  <a:pt x="131849" y="11875"/>
                </a:cubicBezTo>
                <a:cubicBezTo>
                  <a:pt x="119477" y="13778"/>
                  <a:pt x="105998" y="15930"/>
                  <a:pt x="96223" y="23750"/>
                </a:cubicBezTo>
                <a:cubicBezTo>
                  <a:pt x="85078" y="32666"/>
                  <a:pt x="81609" y="48412"/>
                  <a:pt x="72472" y="59376"/>
                </a:cubicBezTo>
                <a:cubicBezTo>
                  <a:pt x="34047" y="105486"/>
                  <a:pt x="36846" y="76396"/>
                  <a:pt x="36846" y="106878"/>
                </a:cubicBez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Прямая соединительная линия 20"/>
          <p:cNvSpPr/>
          <p:nvPr/>
        </p:nvSpPr>
        <p:spPr>
          <a:xfrm>
            <a:off x="4500720" y="148428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Полилиния 21"/>
          <p:cNvSpPr/>
          <p:nvPr/>
        </p:nvSpPr>
        <p:spPr>
          <a:xfrm>
            <a:off x="185760" y="2255760"/>
            <a:ext cx="3917880" cy="1001880"/>
          </a:xfrm>
          <a:custGeom>
            <a:avLst/>
            <a:gdLst>
              <a:gd name="textAreaLeft" fmla="*/ 0 w 3917880"/>
              <a:gd name="textAreaRight" fmla="*/ 3918240 w 3917880"/>
              <a:gd name="textAreaTop" fmla="*/ 0 h 1001880"/>
              <a:gd name="textAreaBottom" fmla="*/ 1002240 h 1001880"/>
            </a:gdLst>
            <a:ahLst/>
            <a:rect l="textAreaLeft" t="textAreaTop" r="textAreaRight" b="textAreaBottom"/>
            <a:pathLst>
              <a:path w="3916878" h="1001485">
                <a:moveTo>
                  <a:pt x="27709" y="451262"/>
                </a:moveTo>
                <a:cubicBezTo>
                  <a:pt x="55418" y="314696"/>
                  <a:pt x="605642" y="0"/>
                  <a:pt x="930234" y="47501"/>
                </a:cubicBezTo>
                <a:cubicBezTo>
                  <a:pt x="1254826" y="95002"/>
                  <a:pt x="1622961" y="736270"/>
                  <a:pt x="1975262" y="736270"/>
                </a:cubicBezTo>
                <a:cubicBezTo>
                  <a:pt x="2327563" y="736270"/>
                  <a:pt x="2721428" y="81148"/>
                  <a:pt x="3044041" y="47501"/>
                </a:cubicBezTo>
                <a:cubicBezTo>
                  <a:pt x="3366654" y="13854"/>
                  <a:pt x="3916878" y="387927"/>
                  <a:pt x="3910940" y="534389"/>
                </a:cubicBezTo>
                <a:cubicBezTo>
                  <a:pt x="3905002" y="680851"/>
                  <a:pt x="3299360" y="1001485"/>
                  <a:pt x="3008415" y="926275"/>
                </a:cubicBezTo>
                <a:cubicBezTo>
                  <a:pt x="2717470" y="851065"/>
                  <a:pt x="2539340" y="93023"/>
                  <a:pt x="2165267" y="83127"/>
                </a:cubicBezTo>
                <a:cubicBezTo>
                  <a:pt x="1791194" y="73231"/>
                  <a:pt x="1114301" y="809501"/>
                  <a:pt x="763979" y="866898"/>
                </a:cubicBezTo>
                <a:cubicBezTo>
                  <a:pt x="413657" y="924295"/>
                  <a:pt x="0" y="587828"/>
                  <a:pt x="27709" y="451262"/>
                </a:cubicBez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755640" y="765000"/>
            <a:ext cx="7920000" cy="40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СОЗНАННОС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кусирование на переживании настоящего момента, не вовлекаясь в мысли о прошлом и будуще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ность к самонаблюдению, осознанные действия, планирование (интроспекция собственной деятельности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ознание своего «Я», самоанализ, самосознани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иматель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1547640" y="404640"/>
            <a:ext cx="64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324000" y="549360"/>
            <a:ext cx="8569080" cy="42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ысший уровень осознанности (СВЕРХСОЗНАНИЕ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 познавательные процессы (интуиция, творческое озарение, вдохновение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.В. Симонов: «творческая интуиция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его теории  бессознательная (подсознательная) интуиция оперирует уже накопленным знанием, на уровне осознания информация передается от одного другому, а в сверхсознании работает механизм получения принципиально новой информации. Творческая интуиция - источник прогресса во всех сферах дея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 мистические состояния (в философско-религиозных учениях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1547640" y="404640"/>
            <a:ext cx="64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Дата 1"/>
          <p:cNvSpPr/>
          <p:nvPr/>
        </p:nvSpPr>
        <p:spPr>
          <a:xfrm>
            <a:off x="6727680" y="6408720"/>
            <a:ext cx="191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Прямоугольник 2"/>
          <p:cNvSpPr/>
          <p:nvPr/>
        </p:nvSpPr>
        <p:spPr>
          <a:xfrm>
            <a:off x="324000" y="260280"/>
            <a:ext cx="8640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ТРИБУТЫ     СОЗН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по К. К. Платонову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живани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не содержит образа отражаемого и проявляется в форме удовольствия или неудовольствия (страдания), напряжения или разрешения, возбуждения или успокоения. Проявляется в эмоциях, чувствах, потребностях,  волевом усилии, произвольном внимании и произвольной памя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знани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процесс создания образов, который проявляется в ощущениях, мышлении, восприятии и памяти. Продуктом познания являются знания как идеальное. Идеальное — это субъективное явление, существующее в форме образа, связанного с поняти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ношение личност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субъекта к миру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1"/>
          <p:cNvSpPr/>
          <p:nvPr/>
        </p:nvSpPr>
        <p:spPr>
          <a:xfrm>
            <a:off x="250920" y="378000"/>
            <a:ext cx="8424720" cy="53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342720" algn="ctr">
              <a:spcBef>
                <a:spcPts val="400"/>
              </a:spcBef>
              <a:tabLst>
                <a:tab algn="l" pos="0"/>
                <a:tab algn="l" pos="365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42720" algn="ctr">
              <a:spcBef>
                <a:spcPts val="400"/>
              </a:spcBef>
              <a:tabLst>
                <a:tab algn="l" pos="0"/>
                <a:tab algn="l" pos="365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ОСТОЧНАЯ   ФИЛОСОФ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42720">
              <a:spcBef>
                <a:spcPts val="400"/>
              </a:spcBef>
              <a:tabLst>
                <a:tab algn="l" pos="0"/>
                <a:tab algn="l" pos="365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42720">
              <a:spcBef>
                <a:spcPts val="400"/>
              </a:spcBef>
              <a:buClr>
                <a:srgbClr val="ff0000"/>
              </a:buClr>
              <a:buFont typeface="Arial"/>
              <a:buAutoNum type="arabicPeriod"/>
              <a:tabLst>
                <a:tab algn="l" pos="365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ЗНАНИЕ – высшая ценн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42720">
              <a:spcBef>
                <a:spcPts val="400"/>
              </a:spcBef>
              <a:tabLst>
                <a:tab algn="l" pos="0"/>
                <a:tab algn="l" pos="365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   Сознание формирует образ ми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-34272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365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раз мира зависит от чистоты сознания человека, от  уровня его развития. Сознание субъектив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-342720">
              <a:spcBef>
                <a:spcPts val="400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365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ЗНАНИЕ человека определяет БЫТИЕ челов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4272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365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ществуют два основных вида созн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42720">
              <a:spcBef>
                <a:spcPts val="400"/>
              </a:spcBef>
              <a:tabLst>
                <a:tab algn="l" pos="0"/>
                <a:tab algn="l" pos="365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-342720">
              <a:spcBef>
                <a:spcPts val="400"/>
              </a:spcBef>
              <a:tabLst>
                <a:tab algn="l" pos="0"/>
                <a:tab algn="l" pos="365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-342720">
              <a:spcBef>
                <a:spcPts val="400"/>
              </a:spcBef>
              <a:tabLst>
                <a:tab algn="l" pos="0"/>
                <a:tab algn="l" pos="365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-342720" algn="just">
              <a:spcBef>
                <a:spcPts val="400"/>
              </a:spcBef>
              <a:tabLst>
                <a:tab algn="l" pos="0"/>
                <a:tab algn="l" pos="365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-342720" algn="just">
              <a:spcBef>
                <a:spcPts val="400"/>
              </a:spcBef>
              <a:tabLst>
                <a:tab algn="l" pos="0"/>
                <a:tab algn="l" pos="365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42720" algn="just">
              <a:spcBef>
                <a:spcPts val="400"/>
              </a:spcBef>
              <a:tabLst>
                <a:tab algn="l" pos="0"/>
                <a:tab algn="l" pos="365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42720" algn="just">
              <a:spcBef>
                <a:spcPts val="400"/>
              </a:spcBef>
              <a:tabLst>
                <a:tab algn="l" pos="0"/>
                <a:tab algn="l" pos="365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2664000" y="360360"/>
            <a:ext cx="3958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icture 3"/>
          <p:cNvSpPr/>
          <p:nvPr/>
        </p:nvSpPr>
        <p:spPr>
          <a:xfrm>
            <a:off x="5219640" y="3716280"/>
            <a:ext cx="30243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324000" y="260280"/>
            <a:ext cx="856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    УРОВНЯ  СОЗНАНИЯ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созерцание-осознанность (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АТМАН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дрствова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н со сновидения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н без                                ТЕ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новиден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сновной метод просветления – созерц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утствие мыслей, суждений, оцено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стрение органов чувств – зрения, слуха, обоняния, вкуса, осязания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блюдение за реальностью с предельным вниманием – осознанност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лабленность, снятие напряж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1547640" y="404640"/>
            <a:ext cx="64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Прямая соединительная линия 14"/>
          <p:cNvSpPr/>
          <p:nvPr/>
        </p:nvSpPr>
        <p:spPr>
          <a:xfrm>
            <a:off x="755640" y="981000"/>
            <a:ext cx="70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ая соединительная линия 20"/>
          <p:cNvSpPr/>
          <p:nvPr/>
        </p:nvSpPr>
        <p:spPr>
          <a:xfrm>
            <a:off x="684360" y="981000"/>
            <a:ext cx="3671640" cy="37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Прямая соединительная линия 22"/>
          <p:cNvSpPr/>
          <p:nvPr/>
        </p:nvSpPr>
        <p:spPr>
          <a:xfrm flipH="1">
            <a:off x="4427280" y="981000"/>
            <a:ext cx="381636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Прямая соединительная линия 26"/>
          <p:cNvSpPr/>
          <p:nvPr/>
        </p:nvSpPr>
        <p:spPr>
          <a:xfrm>
            <a:off x="7885080" y="981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Прямая соединительная линия 28"/>
          <p:cNvSpPr/>
          <p:nvPr/>
        </p:nvSpPr>
        <p:spPr>
          <a:xfrm>
            <a:off x="2050920" y="234936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Прямая соединительная линия 30"/>
          <p:cNvSpPr/>
          <p:nvPr/>
        </p:nvSpPr>
        <p:spPr>
          <a:xfrm>
            <a:off x="2700360" y="299736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Прямая соединительная линия 32"/>
          <p:cNvSpPr/>
          <p:nvPr/>
        </p:nvSpPr>
        <p:spPr>
          <a:xfrm>
            <a:off x="1258920" y="155736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Правая фигурная скобка 10"/>
          <p:cNvSpPr/>
          <p:nvPr/>
        </p:nvSpPr>
        <p:spPr>
          <a:xfrm>
            <a:off x="7524720" y="1557360"/>
            <a:ext cx="287280" cy="324000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3240000"/>
              <a:gd name="textAreaBottom" fmla="*/ 3232800 h 32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0"/>
                  <a:pt x="10800" y="160"/>
                </a:cubicBezTo>
                <a:lnTo>
                  <a:pt x="10800" y="10640"/>
                </a:lnTo>
                <a:cubicBezTo>
                  <a:pt x="10800" y="10720"/>
                  <a:pt x="16200" y="10800"/>
                  <a:pt x="21600" y="10800"/>
                </a:cubicBezTo>
                <a:cubicBezTo>
                  <a:pt x="16200" y="10800"/>
                  <a:pt x="10800" y="10880"/>
                  <a:pt x="10800" y="10960"/>
                </a:cubicBezTo>
                <a:lnTo>
                  <a:pt x="10800" y="21440"/>
                </a:lnTo>
                <a:cubicBezTo>
                  <a:pt x="10800" y="21520"/>
                  <a:pt x="5400" y="21600"/>
                  <a:pt x="0" y="21600"/>
                </a:cubicBez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250920" y="404640"/>
            <a:ext cx="856908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ПАДНАЯ ФИЛОСОФ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снована на идее существования трёх частей чело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уш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чувственно-эмоциональное начал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у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разумно-волевое начало (образ и подобие Бога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ел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физическое начало, инстинктивно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УХ связывает человека с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рансцендент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ог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ело -------- ДУША -----------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ДУ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о воплощает подсознание (грех и страст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1547640" y="404640"/>
            <a:ext cx="64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Дата 1"/>
          <p:cNvSpPr/>
          <p:nvPr/>
        </p:nvSpPr>
        <p:spPr>
          <a:xfrm>
            <a:off x="6727680" y="6408720"/>
            <a:ext cx="191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Прямоугольник 3"/>
          <p:cNvSpPr/>
          <p:nvPr/>
        </p:nvSpPr>
        <p:spPr>
          <a:xfrm>
            <a:off x="324000" y="260280"/>
            <a:ext cx="8640720" cy="37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поху Нового времени под влиянием материализма  акцент переносится на тело человека (бессознательно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ух ------------------- ДУША ----------------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игмунд Фрейд (1856 - 1939) наиболее последовательно обосновал новую парадиг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оположник психоанализ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Прямоугольник 17"/>
          <p:cNvSpPr/>
          <p:nvPr/>
        </p:nvSpPr>
        <p:spPr>
          <a:xfrm>
            <a:off x="2843280" y="4653000"/>
            <a:ext cx="3889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ссознатель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Прямоугольник 20"/>
          <p:cNvSpPr/>
          <p:nvPr/>
        </p:nvSpPr>
        <p:spPr>
          <a:xfrm>
            <a:off x="3276720" y="400536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Прямоугольник 21"/>
          <p:cNvSpPr/>
          <p:nvPr/>
        </p:nvSpPr>
        <p:spPr>
          <a:xfrm>
            <a:off x="2124000" y="3429000"/>
            <a:ext cx="410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ВЕР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Прямая соединительная линия 15"/>
          <p:cNvSpPr/>
          <p:nvPr/>
        </p:nvSpPr>
        <p:spPr>
          <a:xfrm flipH="1">
            <a:off x="1763640" y="3141720"/>
            <a:ext cx="2376720" cy="371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Прямая соединительная линия 17"/>
          <p:cNvSpPr/>
          <p:nvPr/>
        </p:nvSpPr>
        <p:spPr>
          <a:xfrm>
            <a:off x="4140360" y="3141720"/>
            <a:ext cx="2663640" cy="371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Прямая соединительная линия 19"/>
          <p:cNvSpPr/>
          <p:nvPr/>
        </p:nvSpPr>
        <p:spPr>
          <a:xfrm>
            <a:off x="3564000" y="4005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Прямая соединительная линия 23"/>
          <p:cNvSpPr/>
          <p:nvPr/>
        </p:nvSpPr>
        <p:spPr>
          <a:xfrm>
            <a:off x="3348000" y="4437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Дата 1"/>
          <p:cNvSpPr/>
          <p:nvPr/>
        </p:nvSpPr>
        <p:spPr>
          <a:xfrm>
            <a:off x="6727680" y="6408720"/>
            <a:ext cx="191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Равнобедренный треугольник 33"/>
          <p:cNvSpPr/>
          <p:nvPr/>
        </p:nvSpPr>
        <p:spPr>
          <a:xfrm>
            <a:off x="1476360" y="907920"/>
            <a:ext cx="6048360" cy="4969080"/>
          </a:xfrm>
          <a:prstGeom prst="triangle">
            <a:avLst>
              <a:gd name="adj" fmla="val 49222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Прямая соединительная линия 35"/>
          <p:cNvSpPr/>
          <p:nvPr/>
        </p:nvSpPr>
        <p:spPr>
          <a:xfrm>
            <a:off x="4452840" y="907920"/>
            <a:ext cx="3071880" cy="360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ая соединительная линия 49"/>
          <p:cNvSpPr/>
          <p:nvPr/>
        </p:nvSpPr>
        <p:spPr>
          <a:xfrm>
            <a:off x="2771640" y="371628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Прямая соединительная линия 56"/>
          <p:cNvSpPr/>
          <p:nvPr/>
        </p:nvSpPr>
        <p:spPr>
          <a:xfrm>
            <a:off x="7524720" y="4508640"/>
            <a:ext cx="43200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Прямая соединительная линия 58"/>
          <p:cNvSpPr/>
          <p:nvPr/>
        </p:nvSpPr>
        <p:spPr>
          <a:xfrm flipH="1">
            <a:off x="7524720" y="5084640"/>
            <a:ext cx="4320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Прямая соединительная линия 66"/>
          <p:cNvSpPr/>
          <p:nvPr/>
        </p:nvSpPr>
        <p:spPr>
          <a:xfrm flipV="1">
            <a:off x="6156360" y="3357720"/>
            <a:ext cx="360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Прямая соединительная линия 68"/>
          <p:cNvSpPr/>
          <p:nvPr/>
        </p:nvSpPr>
        <p:spPr>
          <a:xfrm>
            <a:off x="3203640" y="3068640"/>
            <a:ext cx="25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Прямая соединительная линия 70"/>
          <p:cNvSpPr/>
          <p:nvPr/>
        </p:nvSpPr>
        <p:spPr>
          <a:xfrm flipV="1">
            <a:off x="5796000" y="2781360"/>
            <a:ext cx="288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Прямая соединительная линия 76"/>
          <p:cNvSpPr/>
          <p:nvPr/>
        </p:nvSpPr>
        <p:spPr>
          <a:xfrm>
            <a:off x="3924360" y="1773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Прямая соединительная линия 78"/>
          <p:cNvSpPr/>
          <p:nvPr/>
        </p:nvSpPr>
        <p:spPr>
          <a:xfrm flipV="1">
            <a:off x="4932360" y="169992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Прямоугольник 18"/>
          <p:cNvSpPr/>
          <p:nvPr/>
        </p:nvSpPr>
        <p:spPr>
          <a:xfrm>
            <a:off x="611280" y="33336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. Г. Юнг (1875 – 196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Прямоугольник 21"/>
          <p:cNvSpPr/>
          <p:nvPr/>
        </p:nvSpPr>
        <p:spPr>
          <a:xfrm>
            <a:off x="2484360" y="4508640"/>
            <a:ext cx="41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ллективн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БЕССОЗНАТЕЛЬ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Прямоугольник 22"/>
          <p:cNvSpPr/>
          <p:nvPr/>
        </p:nvSpPr>
        <p:spPr>
          <a:xfrm flipV="1" rot="10800000">
            <a:off x="3708360" y="3926520"/>
            <a:ext cx="17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Прямоугольник 24"/>
          <p:cNvSpPr/>
          <p:nvPr/>
        </p:nvSpPr>
        <p:spPr>
          <a:xfrm>
            <a:off x="3492360" y="234936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ОСОЗНАНН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Прямоугольник 25"/>
          <p:cNvSpPr/>
          <p:nvPr/>
        </p:nvSpPr>
        <p:spPr>
          <a:xfrm>
            <a:off x="2700360" y="3141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сознатель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Прямоугольник 28"/>
          <p:cNvSpPr/>
          <p:nvPr/>
        </p:nvSpPr>
        <p:spPr>
          <a:xfrm>
            <a:off x="2627280" y="134136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ерхсознатель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Прямая соединительная линия 19"/>
          <p:cNvSpPr/>
          <p:nvPr/>
        </p:nvSpPr>
        <p:spPr>
          <a:xfrm>
            <a:off x="2340000" y="4365720"/>
            <a:ext cx="42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Прямая соединительная линия 21"/>
          <p:cNvSpPr/>
          <p:nvPr/>
        </p:nvSpPr>
        <p:spPr>
          <a:xfrm flipV="1">
            <a:off x="6588000" y="3860280"/>
            <a:ext cx="36036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Прямоугольник 22"/>
          <p:cNvSpPr/>
          <p:nvPr/>
        </p:nvSpPr>
        <p:spPr>
          <a:xfrm>
            <a:off x="2556000" y="378936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чное бессознатель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Дата 1"/>
          <p:cNvSpPr/>
          <p:nvPr/>
        </p:nvSpPr>
        <p:spPr>
          <a:xfrm>
            <a:off x="6727680" y="6408720"/>
            <a:ext cx="191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1"/>
          <p:cNvSpPr/>
          <p:nvPr/>
        </p:nvSpPr>
        <p:spPr>
          <a:xfrm>
            <a:off x="250920" y="-364680"/>
            <a:ext cx="8642160" cy="114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Microsoft YaHei"/>
              </a:rPr>
              <a:t>Основным содержанием коллективного бессознательного являются инстинкты, безусловные рефлексы и архетипы.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Microsoft YaHei"/>
              </a:rPr>
              <a:t>АРХЕТИП - модель /стереотип поведения, базовый символ. Отличается универсальностью и всеобщност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  <a:ea typeface="Microsoft YaHei"/>
              </a:rPr>
              <a:t>Пример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  <a:ea typeface="Microsoft YaHei"/>
              </a:rPr>
              <a:t>Женщина-мать, Мужчина-отец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  <a:ea typeface="Microsoft YaHei"/>
              </a:rPr>
              <a:t>Дом,  Бог, Сам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Microsoft YaHei"/>
              </a:rPr>
              <a:t>Основным содержанием личного бессознательного являются: комплексы, условные рефлексы, личная память, бессознательные жел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468360" y="404640"/>
            <a:ext cx="81723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2360" algn="just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САМОСТЬ - универсальный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архетип, сущность чело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just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just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АНИМА/АНИМУС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just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женское и мужск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just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в каждом из на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just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just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                                    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ТЕНЬ – то, что 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just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скрываем от других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just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just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just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МАСКА –                                      ЭГО – то, какими м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just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то, какими мы                             представляем себ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just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хотим казать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just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другим      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ТРУКТУР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just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ИЧ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just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1258920" y="260280"/>
            <a:ext cx="6661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Группа 13" descr=""/>
          <p:cNvPicPr/>
          <p:nvPr/>
        </p:nvPicPr>
        <p:blipFill>
          <a:blip r:embed="rId1"/>
          <a:stretch/>
        </p:blipFill>
        <p:spPr>
          <a:xfrm>
            <a:off x="457200" y="463680"/>
            <a:ext cx="3906720" cy="3767040"/>
          </a:xfrm>
          <a:prstGeom prst="rect">
            <a:avLst/>
          </a:prstGeom>
          <a:ln w="0">
            <a:noFill/>
          </a:ln>
        </p:spPr>
      </p:pic>
      <p:cxnSp>
        <p:nvCxnSpPr>
          <p:cNvPr id="292" name="Прямая со стрелкой 22"/>
          <p:cNvCxnSpPr/>
          <p:nvPr/>
        </p:nvCxnSpPr>
        <p:spPr>
          <a:xfrm>
            <a:off x="2916000" y="2276640"/>
            <a:ext cx="1080" cy="7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3" name="Прямая со стрелкой 26"/>
          <p:cNvCxnSpPr/>
          <p:nvPr/>
        </p:nvCxnSpPr>
        <p:spPr>
          <a:xfrm flipH="1" flipV="1">
            <a:off x="3202920" y="3789000"/>
            <a:ext cx="1873800" cy="72000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294" name="Прямая со стрелкой 30"/>
          <p:cNvCxnSpPr/>
          <p:nvPr/>
        </p:nvCxnSpPr>
        <p:spPr>
          <a:xfrm flipH="1">
            <a:off x="2545560" y="692280"/>
            <a:ext cx="1810440" cy="162144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295" name="Прямая со стрелкой 32"/>
          <p:cNvCxnSpPr/>
          <p:nvPr/>
        </p:nvCxnSpPr>
        <p:spPr>
          <a:xfrm flipV="1">
            <a:off x="1116000" y="3933000"/>
            <a:ext cx="216720" cy="35964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296" name="Прямая со стрелкой 38"/>
          <p:cNvCxnSpPr/>
          <p:nvPr/>
        </p:nvCxnSpPr>
        <p:spPr>
          <a:xfrm flipH="1">
            <a:off x="3202920" y="2133360"/>
            <a:ext cx="1440360" cy="21636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297" name="Прямая со стрелкой 40"/>
          <p:cNvCxnSpPr/>
          <p:nvPr/>
        </p:nvCxnSpPr>
        <p:spPr>
          <a:xfrm flipH="1" flipV="1">
            <a:off x="3491640" y="2923920"/>
            <a:ext cx="1367640" cy="43416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250920" y="333360"/>
            <a:ext cx="8642160" cy="44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 философской точки зрения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атерия – объективная реальность, которая существует независимо от наших желаний и знаний о ней, и которая может быть зафиксирована с помощью органов чувст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атерию обычно отличают от сознания – субъективной реа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just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 физической точки зрения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атерия – множество всего содержимого пространства-време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Материя изучается науками о природе – физикой, химией, биологией и пр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just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just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just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just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just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547640" y="404640"/>
            <a:ext cx="64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Дата 1"/>
          <p:cNvSpPr/>
          <p:nvPr/>
        </p:nvSpPr>
        <p:spPr>
          <a:xfrm>
            <a:off x="6727680" y="6408720"/>
            <a:ext cx="191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1"/>
          <p:cNvSpPr/>
          <p:nvPr/>
        </p:nvSpPr>
        <p:spPr>
          <a:xfrm>
            <a:off x="539640" y="367560"/>
            <a:ext cx="8425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уманистическая психолог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брахам Гарольд Маслоу (1908 - 197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здатель иерархии (пирамиды) потребностей челове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требности есть первичные (базовые) и высшие. Необходимо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довлетворения всех уровней потребностей, начиная с базов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5" descr="D:\Философия\Philosophy_lectures\9_Сознание\piramida-maslou.jpg"/>
          <p:cNvPicPr/>
          <p:nvPr/>
        </p:nvPicPr>
        <p:blipFill>
          <a:blip r:embed="rId1"/>
          <a:stretch/>
        </p:blipFill>
        <p:spPr>
          <a:xfrm>
            <a:off x="0" y="1989000"/>
            <a:ext cx="79581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Дата 1"/>
          <p:cNvSpPr/>
          <p:nvPr/>
        </p:nvSpPr>
        <p:spPr>
          <a:xfrm>
            <a:off x="6727680" y="6408720"/>
            <a:ext cx="191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3" descr="D:\Философия\Philosophy_lectures\9_Сознание\maslou5.jpg"/>
          <p:cNvPicPr/>
          <p:nvPr/>
        </p:nvPicPr>
        <p:blipFill>
          <a:blip r:embed="rId1"/>
          <a:stretch/>
        </p:blipFill>
        <p:spPr>
          <a:xfrm>
            <a:off x="539640" y="0"/>
            <a:ext cx="8340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250920" y="260280"/>
            <a:ext cx="8642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Виды матер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ЩЕСТВО                         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ПОЛ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. обладает внутренними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1. не обладает внутренними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устотами                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пустотами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. состоит из фермионов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2. много разновидносте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 бозонов            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гравитационное (Х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VII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в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. имеет сложную структуру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электромагнитное (Х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Х в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 мельчайших частиц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квантовое (ХХ-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ХХ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в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кварков, лептонов и др.)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о атомов и молекул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. Только на молекулярн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ровне приобретает ви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лазмы, газа, жидкост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ристалла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1547640" y="404640"/>
            <a:ext cx="64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5" name="Прямая со стрелкой 7"/>
          <p:cNvCxnSpPr/>
          <p:nvPr/>
        </p:nvCxnSpPr>
        <p:spPr>
          <a:xfrm flipH="1">
            <a:off x="1762920" y="691920"/>
            <a:ext cx="1369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Прямая со стрелкой 9"/>
          <p:cNvCxnSpPr/>
          <p:nvPr/>
        </p:nvCxnSpPr>
        <p:spPr>
          <a:xfrm>
            <a:off x="6011640" y="691920"/>
            <a:ext cx="115164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250920" y="260280"/>
            <a:ext cx="8642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ВАНТОВОЕ  ПОЛЕ – универсальная форма матер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ЩЕСТВЕННЫЕ                      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ПОЛЯ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кварково-лептонные    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ВЗАИМОДЕЙСТВ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ермионной природы)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-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сильные глюо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- бозонные слаб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-  фотонное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                                              электромагнит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- поле гравитон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- поле Хигг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рия неясной прир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темная матер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темная энергия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547640" y="404640"/>
            <a:ext cx="64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9" name="Прямая со стрелкой 7"/>
          <p:cNvCxnSpPr/>
          <p:nvPr/>
        </p:nvCxnSpPr>
        <p:spPr>
          <a:xfrm flipH="1">
            <a:off x="1547280" y="836280"/>
            <a:ext cx="136944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Прямая со стрелкой 9"/>
          <p:cNvCxnSpPr/>
          <p:nvPr/>
        </p:nvCxnSpPr>
        <p:spPr>
          <a:xfrm>
            <a:off x="6372000" y="907560"/>
            <a:ext cx="115164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Дата 1"/>
          <p:cNvSpPr/>
          <p:nvPr/>
        </p:nvSpPr>
        <p:spPr>
          <a:xfrm>
            <a:off x="6727680" y="6408720"/>
            <a:ext cx="191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971640" y="45813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Прямоугольник 3"/>
          <p:cNvSpPr/>
          <p:nvPr/>
        </p:nvSpPr>
        <p:spPr>
          <a:xfrm>
            <a:off x="539640" y="620640"/>
            <a:ext cx="8353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льное поле удерживает частицы внут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дра атома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абое поле удерживает электроны на орбита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оже время позволяя 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гко вращаться вокруг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дра атом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 что будет с наше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селенно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если исчезну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ильное и слабое пол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Группа 13"/>
          <p:cNvGrpSpPr/>
          <p:nvPr/>
        </p:nvGrpSpPr>
        <p:grpSpPr>
          <a:xfrm>
            <a:off x="4572000" y="2924280"/>
            <a:ext cx="3887640" cy="3743280"/>
            <a:chOff x="4572000" y="2924280"/>
            <a:chExt cx="3887640" cy="3743280"/>
          </a:xfrm>
        </p:grpSpPr>
        <p:sp>
          <p:nvSpPr>
            <p:cNvPr id="95" name="Овал 12"/>
            <p:cNvSpPr/>
            <p:nvPr/>
          </p:nvSpPr>
          <p:spPr>
            <a:xfrm>
              <a:off x="4572000" y="2924280"/>
              <a:ext cx="3887640" cy="37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Группа 10"/>
            <p:cNvGrpSpPr/>
            <p:nvPr/>
          </p:nvGrpSpPr>
          <p:grpSpPr>
            <a:xfrm>
              <a:off x="5075640" y="3409560"/>
              <a:ext cx="2915640" cy="2807640"/>
              <a:chOff x="5075640" y="3409560"/>
              <a:chExt cx="2915640" cy="2807640"/>
            </a:xfrm>
          </p:grpSpPr>
          <p:sp>
            <p:nvSpPr>
              <p:cNvPr id="97" name="Овал 9"/>
              <p:cNvSpPr/>
              <p:nvPr/>
            </p:nvSpPr>
            <p:spPr>
              <a:xfrm>
                <a:off x="5075640" y="3409560"/>
                <a:ext cx="2915640" cy="280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Овал 7"/>
              <p:cNvSpPr/>
              <p:nvPr/>
            </p:nvSpPr>
            <p:spPr>
              <a:xfrm>
                <a:off x="5579280" y="3894840"/>
                <a:ext cx="1943640" cy="18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Овал 8"/>
              <p:cNvSpPr/>
              <p:nvPr/>
            </p:nvSpPr>
            <p:spPr>
              <a:xfrm>
                <a:off x="6083280" y="4380120"/>
                <a:ext cx="971640" cy="935640"/>
              </a:xfrm>
              <a:prstGeom prst="ellipse">
                <a:avLst/>
              </a:prstGeom>
              <a:solidFill>
                <a:srgbClr val="7030a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" name="Овал 11"/>
            <p:cNvSpPr/>
            <p:nvPr/>
          </p:nvSpPr>
          <p:spPr>
            <a:xfrm>
              <a:off x="6443640" y="4726440"/>
              <a:ext cx="242640" cy="233640"/>
            </a:xfrm>
            <a:prstGeom prst="ellipse">
              <a:avLst/>
            </a:prstGeom>
            <a:solidFill>
              <a:srgbClr val="7030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Овал 11"/>
          <p:cNvSpPr/>
          <p:nvPr/>
        </p:nvSpPr>
        <p:spPr>
          <a:xfrm>
            <a:off x="7020000" y="4005360"/>
            <a:ext cx="242640" cy="233280"/>
          </a:xfrm>
          <a:prstGeom prst="ellipse">
            <a:avLst/>
          </a:prstGeom>
          <a:solidFill>
            <a:srgbClr val="703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Овал 11"/>
          <p:cNvSpPr/>
          <p:nvPr/>
        </p:nvSpPr>
        <p:spPr>
          <a:xfrm>
            <a:off x="4500720" y="5084640"/>
            <a:ext cx="242640" cy="235080"/>
          </a:xfrm>
          <a:prstGeom prst="ellipse">
            <a:avLst/>
          </a:prstGeom>
          <a:solidFill>
            <a:srgbClr val="703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Овал 11"/>
          <p:cNvSpPr/>
          <p:nvPr/>
        </p:nvSpPr>
        <p:spPr>
          <a:xfrm>
            <a:off x="7308720" y="5805360"/>
            <a:ext cx="243000" cy="233640"/>
          </a:xfrm>
          <a:prstGeom prst="ellipse">
            <a:avLst/>
          </a:prstGeom>
          <a:solidFill>
            <a:srgbClr val="703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50920" y="333360"/>
            <a:ext cx="8713800" cy="44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ТРИБУТЫ   МАТЕР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. ДВИЖЕНИЕ 2. ПРОСТРАНСТВО 3. ВРЕМ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вижение – любое изменение, происходящее в ми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вижение абсолютно, а покой - относителе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иды дви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ческое              химическое                      биологическ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ическое                                       социаль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НЕРГИЯ – мера различных форм движения и взаимодействия материи, мера перехода движения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атерии из одних форм в друг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1547640" y="404640"/>
            <a:ext cx="64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6" name="Прямая со стрелкой 4"/>
          <p:cNvCxnSpPr/>
          <p:nvPr/>
        </p:nvCxnSpPr>
        <p:spPr>
          <a:xfrm flipH="1">
            <a:off x="1402560" y="3357360"/>
            <a:ext cx="180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" name="Прямая со стрелкой 6"/>
          <p:cNvCxnSpPr/>
          <p:nvPr/>
        </p:nvCxnSpPr>
        <p:spPr>
          <a:xfrm flipH="1">
            <a:off x="4210920" y="3573360"/>
            <a:ext cx="7380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8" name="Прямая со стрелкой 8"/>
          <p:cNvCxnSpPr/>
          <p:nvPr/>
        </p:nvCxnSpPr>
        <p:spPr>
          <a:xfrm>
            <a:off x="5940360" y="3284640"/>
            <a:ext cx="1440360" cy="57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9" name="Прямая со стрелкой 12"/>
          <p:cNvCxnSpPr/>
          <p:nvPr/>
        </p:nvCxnSpPr>
        <p:spPr>
          <a:xfrm flipH="1">
            <a:off x="2410920" y="3499920"/>
            <a:ext cx="1008720" cy="108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Прямая со стрелкой 14"/>
          <p:cNvCxnSpPr/>
          <p:nvPr/>
        </p:nvCxnSpPr>
        <p:spPr>
          <a:xfrm>
            <a:off x="5003640" y="3499920"/>
            <a:ext cx="115344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Прямая со стрелкой 9"/>
          <p:cNvCxnSpPr/>
          <p:nvPr/>
        </p:nvCxnSpPr>
        <p:spPr>
          <a:xfrm flipH="1">
            <a:off x="2484000" y="836280"/>
            <a:ext cx="43272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Прямая со стрелкой 11"/>
          <p:cNvCxnSpPr/>
          <p:nvPr/>
        </p:nvCxnSpPr>
        <p:spPr>
          <a:xfrm>
            <a:off x="4571640" y="836280"/>
            <a:ext cx="14472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Прямая со стрелкой 13"/>
          <p:cNvCxnSpPr/>
          <p:nvPr/>
        </p:nvCxnSpPr>
        <p:spPr>
          <a:xfrm>
            <a:off x="6012000" y="836280"/>
            <a:ext cx="122472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6T06:40:22Z</dcterms:created>
  <dc:creator>Наталья</dc:creator>
  <dc:description/>
  <dc:language>en-US</dc:language>
  <cp:lastModifiedBy>Наталья</cp:lastModifiedBy>
  <dcterms:modified xsi:type="dcterms:W3CDTF">2020-04-29T16:49:18Z</dcterms:modified>
  <cp:revision>109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71239990</vt:lpwstr>
  </property>
</Properties>
</file>