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F1B-07B3-48EF-BFAB-8C34319E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B48-440A-4CE1-8E12-3223FEB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D15-9EED-4C6B-B50F-CC6E8FCA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DB8-CAAA-4747-A0C1-9765345C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5AAB-47F7-48F1-82CF-F10D789B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8EF-9EDF-4A8C-9C79-829F8D72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152E-4C08-4881-88D6-68EFD06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5C7A-FFFC-4631-95B9-BF57916D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E620-DDA1-41C2-A25A-D92F6C4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8B4-410A-4A8B-BE00-C1A5CBF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CBA-DB44-4B5A-9D12-24A5C29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530-6588-4051-98AE-32F6F6CD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BF5F-0764-4405-86A9-A73D203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6D0-33AD-4EC1-B848-423F7FA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E8C5-B19D-4B34-8DD6-73FEDA63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0A3-5096-4F8E-976C-C7AE2648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DC7F-F81E-4792-879A-38DBA0F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DA-92A6-4FA1-8144-90B2E22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38C-3319-42EC-A101-721381F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575-56A2-481E-8600-403740EA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52B-8C5E-4B73-8DC7-C87642F3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574-C4F3-4171-B501-D09086C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BD2-2468-4C88-BF45-465E805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B19-00B0-4586-BC82-6203D3A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5DD710-B1C6-433A-8E98-6432354DF0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5104BC-174A-405E-A275-EB419C0CE0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еудо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inconven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доб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nvenie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comp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00040" y="1959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5000760" y="195948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500040" y="2745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5020920" y="27712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50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5020920" y="3628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500040" y="453132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опоставим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5020920" y="453132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compar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5000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428760" y="1361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5286240" y="1361520"/>
            <a:ext cx="34239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428760" y="2147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5306760" y="2173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5306760" y="303084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428760" y="3835800"/>
            <a:ext cx="49287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разочаров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306760" y="383580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i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428760" y="462168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знач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5306760" y="4621680"/>
            <a:ext cx="34081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407200"/>
            <a:ext cx="4428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встреч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5306760" y="5407200"/>
            <a:ext cx="3765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appoint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fri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один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55192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78620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люб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478620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500040" y="3933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551920" y="3929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786200" y="393336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500040" y="4959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друж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4786200" y="495972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friend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7488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428760" y="86076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5286240" y="860760"/>
            <a:ext cx="34239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428760" y="150372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5306760" y="15300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28760" y="2146680"/>
            <a:ext cx="384768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5306760" y="217296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2860920"/>
            <a:ext cx="4928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ст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5306760" y="28609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428760" y="364680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местонахо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5306760" y="364680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428760" y="44326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5306760" y="43614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428760" y="5153760"/>
            <a:ext cx="5214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мещ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5306760" y="5082120"/>
            <a:ext cx="34081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428760" y="5939280"/>
            <a:ext cx="4428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споло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5306760" y="5868000"/>
            <a:ext cx="3765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c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500040" y="432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28760" y="1334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4786200" y="1334880"/>
            <a:ext cx="45003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t - me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428760" y="2120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4806720" y="2147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428760" y="2977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4806720" y="300420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428760" y="39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чение, смыс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4806720" y="390672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428760" y="4790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4806720" y="479016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д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4806720" y="5576040"/>
            <a:ext cx="4479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ean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42876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507204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428760" y="1647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5092560" y="16732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28760" y="2504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5092560" y="2530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428760" y="3432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форм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092560" y="3432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428760" y="4316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ыв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092560" y="4316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428760" y="5190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форм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5092560" y="5190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формирова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428760" y="78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6072120" y="789840"/>
            <a:ext cx="284976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6092640" y="145908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6092640" y="21733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фициа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6092640" y="29329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сведомл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092640" y="364716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428760" y="4433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6092640" y="443304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428760" y="5347800"/>
            <a:ext cx="53575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вводить в забл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6092640" y="523512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i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428760" y="6020280"/>
            <a:ext cx="557172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ообщать ложную инф-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6092640" y="6021000"/>
            <a:ext cx="28368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n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500040" y="153000"/>
            <a:ext cx="86436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428760" y="86724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5572080" y="867240"/>
            <a:ext cx="2849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428760" y="15102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5592600" y="15364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8760" y="2224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5592600" y="22510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428760" y="30103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знач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5592600" y="30103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"/>
          <p:cNvSpPr/>
          <p:nvPr/>
        </p:nvSpPr>
        <p:spPr>
          <a:xfrm>
            <a:off x="428760" y="37249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кти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592600" y="372492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428760" y="451080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иты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5592600" y="451080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428760" y="5266800"/>
            <a:ext cx="53575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ересматри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5592600" y="515376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428760" y="5939280"/>
            <a:ext cx="557172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дума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5592600" y="5939280"/>
            <a:ext cx="283680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sid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500040" y="47772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"/>
          <p:cNvSpPr/>
          <p:nvPr/>
        </p:nvSpPr>
        <p:spPr>
          <a:xfrm>
            <a:off x="428760" y="1263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5072040" y="12636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428760" y="2049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5092560" y="20757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28760" y="2906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5092560" y="2932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428760" y="3835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дназнач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5092560" y="38354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изайн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5092560" y="4718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428760" y="55926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5092560" y="55926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w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64296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64296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4296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наш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64296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3724200" y="1290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724200" y="21024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724200" y="28166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3724200" y="36738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u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n - w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б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571320" y="12186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th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92880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92880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92880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92880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401004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4010040" y="28879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4010040" y="3602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4010040" y="44596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irsel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au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500040" y="200448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краси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5194440" y="200016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429080" y="200448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500040" y="303084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украш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"/>
          <p:cNvSpPr/>
          <p:nvPr/>
        </p:nvSpPr>
        <p:spPr>
          <a:xfrm>
            <a:off x="4429080" y="303084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aut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pec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ециализировать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87640" y="52189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собе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5643720" y="52189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35712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85840" y="861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4929120" y="8611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285840" y="157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949640" y="160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285840" y="2289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4949640" y="23162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28584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4949640" y="3075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285840" y="3790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структи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4949640" y="3790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285840" y="4504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4949640" y="4504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8584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4949640" y="5235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28584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остро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494964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stru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, до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по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rgu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57348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иролюб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555372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500076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57348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покой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500076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8764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равнитель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28764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wo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287640" y="36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ло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6196680" y="36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5643720" y="36208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287640" y="44784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егод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a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85716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64476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формы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643720" y="2007360"/>
            <a:ext cx="3642840" cy="143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as/w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644760" y="36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астояще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643720" y="364716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m/ is/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44760" y="452088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ущество, б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6196680" y="451692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5643720" y="44784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00040" y="79020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1357200" y="20041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ер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6196680" y="2000160"/>
            <a:ext cx="1803960" cy="76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"/>
          <p:cNvSpPr/>
          <p:nvPr/>
        </p:nvSpPr>
        <p:spPr>
          <a:xfrm>
            <a:off x="5643720" y="200412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1357200" y="279000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о-пер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5643720" y="279000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irs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1357200" y="3663720"/>
            <a:ext cx="57862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5643720" y="3592080"/>
            <a:ext cx="3642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ou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ove -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"/>
          <p:cNvSpPr/>
          <p:nvPr/>
        </p:nvSpPr>
        <p:spPr>
          <a:xfrm>
            <a:off x="428760" y="4949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правляе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5092560" y="4949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428760" y="57355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5092560" y="57355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nt - 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действ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478620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ew - 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80672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480672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извес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480672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(un)kn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428760" y="4878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4806720" y="4878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им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у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ззащи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ащи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ef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nte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428760" y="39330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влек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5072040" y="39330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t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428760" y="4718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азв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092560" y="4745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428760" y="5576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феранс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5092560" y="5602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nter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428760" y="1779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нау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4714920" y="17798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un)scient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428760" y="2565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че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735080" y="2592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428760" y="3423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у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4735080" y="3449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cientif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ar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ыдающи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emar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л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e – m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озд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"/>
          <p:cNvSpPr/>
          <p:nvPr/>
        </p:nvSpPr>
        <p:spPr>
          <a:xfrm>
            <a:off x="428760" y="1075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5072040" y="107568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t - bu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428760" y="1861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5092560" y="18874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428760" y="2718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5092560" y="27450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"/>
          <p:cNvSpPr/>
          <p:nvPr/>
        </p:nvSpPr>
        <p:spPr>
          <a:xfrm>
            <a:off x="428760" y="3647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5092560" y="3647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428760" y="4459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5092560" y="44593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428760" y="522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адстра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5092560" y="5228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428760" y="5949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зруш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5092560" y="5949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85840" y="1647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3071880" y="1647360"/>
            <a:ext cx="25714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3071880" y="25308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3071880" y="3388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85840" y="42192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092040" y="42454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285840" y="50763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3092040" y="5102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st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450072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"/>
          <p:cNvSpPr/>
          <p:nvPr/>
        </p:nvSpPr>
        <p:spPr>
          <a:xfrm>
            <a:off x="452088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452088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428760" y="4004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4520880" y="4004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42920" y="4718520"/>
            <a:ext cx="478584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участник диску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"/>
          <p:cNvSpPr/>
          <p:nvPr/>
        </p:nvSpPr>
        <p:spPr>
          <a:xfrm>
            <a:off x="4806720" y="4734720"/>
            <a:ext cx="4622760" cy="70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scusser, discuss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214200" y="5561640"/>
            <a:ext cx="6000480" cy="578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дающийся обсужд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5235480" y="5459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iscuss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428760" y="43066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5092560" y="42804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428760" y="5163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опы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5092560" y="51638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428760" y="1494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5072040" y="14943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e -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428760" y="22802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5092560" y="23061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428760" y="31374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5092560" y="3163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"/>
          <p:cNvSpPr/>
          <p:nvPr/>
        </p:nvSpPr>
        <p:spPr>
          <a:xfrm>
            <a:off x="428760" y="40662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5092560" y="4066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428760" y="48067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еодоле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500040" y="13514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p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428760" y="21373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(не)дорог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"/>
          <p:cNvSpPr/>
          <p:nvPr/>
        </p:nvSpPr>
        <p:spPr>
          <a:xfrm>
            <a:off x="4714920" y="213732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n)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428760" y="2922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рас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4735080" y="29491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p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428760" y="47804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бессиль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5092560" y="48067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500040" y="28980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428760" y="21470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давать с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5072040" y="214704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428760" y="29329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ир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"/>
          <p:cNvSpPr/>
          <p:nvPr/>
        </p:nvSpPr>
        <p:spPr>
          <a:xfrm>
            <a:off x="5092560" y="2959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u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428760" y="37803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воодушевл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5092560" y="380664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n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"/>
          <p:cNvSpPr/>
          <p:nvPr/>
        </p:nvSpPr>
        <p:spPr>
          <a:xfrm>
            <a:off x="428760" y="12898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нерв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5092560" y="12898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500040" y="70848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xt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"/>
          <p:cNvSpPr/>
          <p:nvPr/>
        </p:nvSpPr>
        <p:spPr>
          <a:xfrm>
            <a:off x="428760" y="19227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резвыч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5072040" y="192276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e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"/>
          <p:cNvSpPr/>
          <p:nvPr/>
        </p:nvSpPr>
        <p:spPr>
          <a:xfrm>
            <a:off x="428760" y="27086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ра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5092560" y="273492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428760" y="3565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оне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5092560" y="35920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extre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500040" y="75240"/>
            <a:ext cx="8643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428760" y="7084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5286240" y="718200"/>
            <a:ext cx="3782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428760" y="143280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5306760" y="1468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428760" y="23061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5306760" y="23259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428760" y="307584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"/>
          <p:cNvSpPr/>
          <p:nvPr/>
        </p:nvSpPr>
        <p:spPr>
          <a:xfrm>
            <a:off x="5306760" y="308556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428760" y="374508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5306760" y="37548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428760" y="453096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5306760" y="454068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428760" y="5235120"/>
            <a:ext cx="478584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обрете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5306760" y="5245200"/>
            <a:ext cx="37656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v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8584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64736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сравните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623200" y="1643040"/>
            <a:ext cx="1803960" cy="83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357880" y="164736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l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285840" y="2673720"/>
            <a:ext cx="5786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превосход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5357880" y="2673720"/>
            <a:ext cx="31428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the la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500040" y="60192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500040" y="15044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4643280" y="1504440"/>
            <a:ext cx="450036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500040" y="22903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4663800" y="23166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00040" y="3147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63800" y="31737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500040" y="4076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663800" y="40762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00040" y="49597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бесполе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4663800" y="4959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usel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14200" y="43308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bre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14200" y="13352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786120" y="1334880"/>
            <a:ext cx="535752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 – broke - bro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14200" y="2121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4268520" y="214740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4200" y="29782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4268520" y="30045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214200" y="3907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хруп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268520" y="390708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eak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214200" y="4790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олом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4268520" y="4790160"/>
            <a:ext cx="473220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breakage, br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214200" y="5648040"/>
            <a:ext cx="4071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выключ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4286160" y="5621760"/>
            <a:ext cx="47322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rea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428760" y="36144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428760" y="12639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428760" y="3647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4449600" y="371916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428760" y="450504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4449600" y="45763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428760" y="53884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станов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449600" y="53359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449600" y="12902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4449600" y="20761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4449600" y="28616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be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28760" y="290160"/>
            <a:ext cx="864360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Calibri"/>
              </a:rPr>
              <a:t>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428760" y="121860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2, 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4449600" y="1218600"/>
            <a:ext cx="3642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428760" y="20761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-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469760" y="210240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28760" y="300456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3 л.ед.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4469760" y="303084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428760" y="386208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28760" y="4745520"/>
            <a:ext cx="38476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населе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428760" y="5648040"/>
            <a:ext cx="42145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перенасел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469760" y="38167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4449600" y="474552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popul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520880" y="5602680"/>
            <a:ext cx="44798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verpopu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04</Words>
  <Paragraphs>4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10:28:53Z</dcterms:created>
  <dc:creator>О Боже что со мной</dc:creator>
  <dc:description/>
  <dc:language>en-US</dc:language>
  <cp:lastModifiedBy>О Боже что со мной</cp:lastModifiedBy>
  <dcterms:modified xsi:type="dcterms:W3CDTF">2020-08-25T12:52:23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6</vt:r8>
  </property>
</Properties>
</file>