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9-10-09T23:00:03.476000000" idx="1">
    <p:pos x="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6E5-0053-440A-AFE8-2A6EE847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356-E63F-4B62-8527-AF5E2635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5C0-02E3-46D9-9BD5-1BF5CF03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FB1-BA0B-46DE-A280-390FC6AB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D8A-FCA0-4DC8-9A87-A612EEA4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2C1-37F6-40A2-9C65-33BC19C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DC3E-A3CB-4883-83C3-3416565E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A059-AE44-4596-A9A2-B58310B1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8EC7-6E5A-44AB-B14E-B4A53D7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678-5D30-4FCF-9017-24E5677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166-88F5-4ED7-9886-B50F36B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587-13CD-40F7-A552-82E03724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30E9-24E7-41A2-813F-D9484765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F3C-D378-4C47-89E1-97CB934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CB95-35F1-4859-B17A-4B365D6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CA00-812D-4FD0-B3CF-5FAFF807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507F-DC5B-4869-8BAF-062F23B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DC2-4BE0-470A-9E34-0992A19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84B-145C-4D30-AEBB-AC28BA8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2DE-4785-421C-9C52-54035EC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C60-3C30-4D93-93FC-4D5BC9D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3A4-A27D-4984-9C08-F3549B70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583-0F66-4C09-A035-BF6477E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780-D33F-430D-8137-88DFF7C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AC2EF-D659-4BDD-A87E-A57302EAB52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BA8C25-FD12-47CE-BD2E-849AC12649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987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3">
                    <a:lumMod val="50000"/>
                  </a:schemeClr>
                </a:solidFill>
                <a:latin typeface="Adventure"/>
              </a:rPr>
              <a:t>План работы экологического отряда «Кислород»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748800" y="45817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школа №3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ск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исунок 3"/>
          <p:cNvSpPr/>
          <p:nvPr/>
        </p:nvSpPr>
        <p:spPr>
          <a:xfrm>
            <a:off x="5652000" y="3501000"/>
            <a:ext cx="2808000" cy="28267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3640" y="1772640"/>
            <a:ext cx="8064360" cy="28800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ПАСИБО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60000" y="-315360"/>
            <a:ext cx="5904360" cy="17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8229240" cy="26640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бор макулатуры «Бумаж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уск акции «Крышечки Доброты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95640" y="3658320"/>
            <a:ext cx="822924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 rot="20829000">
            <a:off x="6243840" y="4018320"/>
            <a:ext cx="2325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64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ктя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7640" y="692640"/>
            <a:ext cx="8229240" cy="18720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т акции «Экофиниш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ест-игра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то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75920" y="2637000"/>
            <a:ext cx="82209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 rot="20562600">
            <a:off x="5772600" y="3452400"/>
            <a:ext cx="301536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я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Братья наши меньшие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1-я возраст.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ещение зоопарка-в рамках экоурока «Братья наши меньшие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Ленинградский зоопарк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Загрязнение воздуха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6" descr=""/>
          <p:cNvPicPr/>
          <p:nvPr/>
        </p:nvPicPr>
        <p:blipFill>
          <a:blip r:embed="rId1"/>
          <a:stretch/>
        </p:blipFill>
        <p:spPr>
          <a:xfrm rot="20643600">
            <a:off x="5977080" y="347508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373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Лесные пожары»(3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Ба по теме «Лесные пожары» (3-я возрастная группа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кции «Экофиниш» (1-я и 2-я возрастны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ция «Меняй пакет на НЕпакет»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 rot="20874000">
            <a:off x="5707080" y="348444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нварь-февра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Антарктида» (2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т акц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челлендж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Greentim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2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макулатуры «Бумаж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 rot="342000">
            <a:off x="6012000" y="3141000"/>
            <a:ext cx="2376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т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Жизнь в капле воды» (1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воды, почвы и воздуха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ест-игра «Чистые игры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 rot="762600">
            <a:off x="5942520" y="3516480"/>
            <a:ext cx="23439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пре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2280" y="96120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6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«Крышечки доброты» и оформление инсталляции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ещение ГУП «Водоканала» СПБ (2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челлендж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Greentime36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бор макулатуры «Бумаж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rcRect l="37611" t="406" r="0" b="-406"/>
          <a:stretch/>
        </p:blipFill>
        <p:spPr>
          <a:xfrm rot="4602600">
            <a:off x="5673240" y="3227040"/>
            <a:ext cx="2924640" cy="30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64000"/>
          </a:bodyPr>
          <a:p>
            <a:pPr marL="470160" indent="-47016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за весь год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ётная конференция, награждение (2-я и 3-я возрастны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еленение Московского района (3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арт летней акции в рамках проекта РДШ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познаю Россию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rcRect l="6016" t="11049" r="0" b="0"/>
          <a:stretch/>
        </p:blipFill>
        <p:spPr>
          <a:xfrm rot="21104400">
            <a:off x="5297400" y="3500640"/>
            <a:ext cx="35406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  <Words>419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06:33:08Z</dcterms:created>
  <dc:creator>sbelova</dc:creator>
  <dc:description/>
  <dc:language>en-US</dc:language>
  <cp:lastModifiedBy>Admin</cp:lastModifiedBy>
  <dcterms:modified xsi:type="dcterms:W3CDTF">2019-10-09T21:19:33Z</dcterms:modified>
  <cp:revision>41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