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9-10-09T23:00:03.476000000" idx="1">
    <p:pos x="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3A25-278A-415D-B3FF-A3D2EA0C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5954-6D7E-4191-91AB-42F664A0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7EF-0233-4BED-B320-09D56DEB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519-845D-457A-B684-A904ECCA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ED55-C57A-494C-8161-1204114B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2927-9846-41D5-9E8D-089C6F5B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AE41-7074-4B6F-B0FA-2262881E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81BA-2445-4E58-BD2E-D474318B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7E49-9974-4F63-8126-D09AF8EC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EF95-2C22-4AF7-BCDB-F5F20800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97C6-9379-4DFF-AF7C-5E11846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CF5-C9F3-4842-B83C-85D61FF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A5D9-1711-4F76-A13D-283E0361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8FC7-45D5-4F08-A590-806A71CF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0259-2A5A-4B71-9C1E-1F2E3D89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C83D-C079-4088-8C65-1AB4060C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A583-5C52-42B9-AA58-F97784E8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EA22-20CF-481B-A72D-CECF615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E84-2FD1-44A6-BA67-455C7833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4BC-297D-4CE6-9B49-8A90404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EDE-2996-4C7E-83CC-E4ED1390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FF8-5D37-46A7-ABE3-AFC4A8C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0819-007D-4F86-A5ED-46A997CC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50D-EA3F-475E-8F41-B6ACD96A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2CB1E-A005-456D-AE55-EB3629BDF1C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BE538F-DD48-4021-802D-E84501B043C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59876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chemeClr val="accent3">
                    <a:lumMod val="50000"/>
                  </a:schemeClr>
                </a:solidFill>
                <a:latin typeface="Adventure"/>
              </a:rPr>
              <a:t>План работы экологического отряда «Кислород» </a:t>
            </a: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-748800" y="458172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БОУ школа №3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сковского райо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исунок 3"/>
          <p:cNvSpPr/>
          <p:nvPr/>
        </p:nvSpPr>
        <p:spPr>
          <a:xfrm>
            <a:off x="5652000" y="3501000"/>
            <a:ext cx="2808000" cy="28267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190500">
            <a:solidFill>
              <a:srgbClr val="c8c6bd"/>
            </a:solidFill>
            <a:round/>
          </a:ln>
          <a:effectLst>
            <a:outerShdw algn="bl" blurRad="127080" rotWithShape="0">
              <a:srgbClr val="000000"/>
            </a:outerShdw>
          </a:effectLst>
          <a:scene3d>
            <a:camera fov="5400000" prst="perspectiveFront"/>
            <a:lightRig dir="t" rig="threePt">
              <a:rot lat="0" lon="0" rev="19200000"/>
            </a:lightRig>
          </a:scene3d>
          <a:sp3d extrusionH="25400">
            <a:bevelT prst="hardEdge" w="304800" h="152400"/>
            <a:extrusionClr>
              <a:srgbClr val="000000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3640" y="1772640"/>
            <a:ext cx="8064360" cy="2880000"/>
          </a:xfrm>
          <a:prstGeom prst="rect">
            <a:avLst/>
          </a:prstGeom>
          <a:solidFill>
            <a:schemeClr val="accent3">
              <a:lumMod val="60000"/>
              <a:lumOff val="40000"/>
            </a:scheme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СПАСИБО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НИМАНИЕ!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60000" y="-315360"/>
            <a:ext cx="5904360" cy="172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нт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640" y="980640"/>
            <a:ext cx="8229240" cy="26640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пуск акции «Крышечки Доброты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95640" y="3658320"/>
            <a:ext cx="822924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4" descr=""/>
          <p:cNvPicPr/>
          <p:nvPr/>
        </p:nvPicPr>
        <p:blipFill>
          <a:blip r:embed="rId1"/>
          <a:stretch/>
        </p:blipFill>
        <p:spPr>
          <a:xfrm rot="20829000">
            <a:off x="6243840" y="4018320"/>
            <a:ext cx="232560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640" y="-243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кт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7640" y="692640"/>
            <a:ext cx="8229240" cy="187200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т акции «Экофиниш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ест-игра 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n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75920" y="2637000"/>
            <a:ext cx="82209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1"/>
          <a:stretch/>
        </p:blipFill>
        <p:spPr>
          <a:xfrm rot="20562600">
            <a:off x="5772600" y="3452400"/>
            <a:ext cx="3015360" cy="28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я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Братья наши меньшие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1-я возраст.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ещение зоопарка-в рамках экоурока «Братья наши меньшие»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Ленинградский зоопарк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Загрязнение воздуха»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6" descr=""/>
          <p:cNvPicPr/>
          <p:nvPr/>
        </p:nvPicPr>
        <p:blipFill>
          <a:blip r:embed="rId1"/>
          <a:stretch/>
        </p:blipFill>
        <p:spPr>
          <a:xfrm rot="20643600">
            <a:off x="5977080" y="347508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3732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7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Лесные пожары»(3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уБа по теме «Лесные пожары» (3-я возрастная группа)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кции «Экофиниш» (1-я и 2-я возрастны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ция «Меняй пакет на НЕпакет»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 rot="20874000">
            <a:off x="5707080" y="348444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Январь-февра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Антарктида» (2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арт акци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челлендж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Greentim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62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 rot="342000">
            <a:off x="6012000" y="3141000"/>
            <a:ext cx="23760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т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урок «Жизнь в капле воды» (1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следование воды, почвы и воздуха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ест-игра «Чистые игры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 rot="762600">
            <a:off x="5942520" y="3516480"/>
            <a:ext cx="234396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прель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12280" y="96120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6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«Крышечки доброты» и оформление инсталляции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ещение ГУП «Водоканала» СПБ (2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челлендж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#Greentime36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бор макулатуры «Бумаж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3" descr=""/>
          <p:cNvPicPr/>
          <p:nvPr/>
        </p:nvPicPr>
        <p:blipFill>
          <a:blip r:embed="rId1"/>
          <a:srcRect l="37611" t="406" r="0" b="-406"/>
          <a:stretch/>
        </p:blipFill>
        <p:spPr>
          <a:xfrm rot="4602600">
            <a:off x="5673240" y="3227040"/>
            <a:ext cx="2924640" cy="30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640" y="19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7640" y="1162080"/>
            <a:ext cx="8064360" cy="2194560"/>
          </a:xfrm>
          <a:prstGeom prst="rect">
            <a:avLst/>
          </a:prstGeom>
          <a:solidFill>
            <a:schemeClr val="accent3">
              <a:lumMod val="20000"/>
              <a:lumOff val="80000"/>
            </a:schemeClr>
          </a:solidFill>
          <a:ln w="0">
            <a:noFill/>
          </a:ln>
        </p:spPr>
        <p:txBody>
          <a:bodyPr anchor="t">
            <a:normAutofit fontScale="64000"/>
          </a:bodyPr>
          <a:p>
            <a:pPr marL="470160" indent="-47016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за весь год (Вс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чётная конференция, награждение (2-я и 3-я возрастные группы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зеленение Московского района (3-я возрастная группа)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арт летней акции в рамках проекта РДШ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познаю Россию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467640" y="3299760"/>
            <a:ext cx="8064360" cy="1186920"/>
          </a:xfrm>
          <a:prstGeom prst="rect">
            <a:avLst/>
          </a:prstGeom>
          <a:solidFill>
            <a:schemeClr val="accent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тоянные действ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дение инф. платформ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стие в конкурсах РД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явление промежуточных рейтингов ш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rcRect l="6016" t="11049" r="0" b="0"/>
          <a:stretch/>
        </p:blipFill>
        <p:spPr>
          <a:xfrm rot="21104400">
            <a:off x="5297400" y="3500640"/>
            <a:ext cx="354060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325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  <Words>419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31T06:33:08Z</dcterms:created>
  <dc:creator>sbelova</dc:creator>
  <dc:description/>
  <dc:language>en-US</dc:language>
  <cp:lastModifiedBy>Admin</cp:lastModifiedBy>
  <dcterms:modified xsi:type="dcterms:W3CDTF">2019-10-09T21:19:33Z</dcterms:modified>
  <cp:revision>41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0</vt:r8>
  </property>
</Properties>
</file>