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gif" ContentType="image/gif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EA8-7027-4BAA-B6D7-7F33A988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05E-3111-43BB-AC77-DFF661E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850-5D88-4731-B280-663B80E8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1F8-3135-4B62-B7BF-592C9F8D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F093-A8E1-4799-8C45-300A4EEF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FED-31D1-4715-A5B8-9E33DE46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FBD0-D93F-4BA1-AD13-B4CDF43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F236-D3CA-4EEB-A9CF-8FA096D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F023-F4FE-46EB-84AC-82E5891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DCDC-5A36-473B-99CF-6BA53033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93CD-18AA-429F-BB4F-B454809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A68-FA7C-4EAC-92D4-0E1C924D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C6E-DDF1-48DB-B092-59F7875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2B22-2124-48A2-847A-6DFF801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D91-9718-4255-8FBE-E7CB67D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01DC-7669-4E8E-940D-D438509E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CDC-540F-42CF-B7E4-77057772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781-EFAF-4703-B275-44A16016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02A-4891-49C6-AC9B-D88F81B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77C-CFA0-4A6D-B058-C4EF8B3F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3A4-8871-4F5B-B8E8-517AAD1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920-B6C7-4558-BA2E-A4E2D878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3C5-1CE3-4A0F-8953-5F4B744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C20-7D68-4D70-898C-9A4B826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0156BE-F0D7-4321-9C64-E18B20CB1F58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B7FCC2-5423-4F28-AE3C-63F5CE251B8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5.xml"/><Relationship Id="rId33" Type="http://schemas.openxmlformats.org/officeDocument/2006/relationships/slide" Target="slide36.xml"/><Relationship Id="rId34" Type="http://schemas.openxmlformats.org/officeDocument/2006/relationships/slide" Target="slide37.xml"/><Relationship Id="rId35" Type="http://schemas.openxmlformats.org/officeDocument/2006/relationships/slide" Target="slide38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3.xm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566280" y="476640"/>
            <a:ext cx="79700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Всякая пти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свои песе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по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icture 2"/>
          <p:cNvSpPr/>
          <p:nvPr/>
        </p:nvSpPr>
        <p:spPr>
          <a:xfrm>
            <a:off x="7092360" y="4149000"/>
            <a:ext cx="1738800" cy="26402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902880" y="4437000"/>
            <a:ext cx="5828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гра-викторина, посвященная Международному дню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89440" y="620640"/>
            <a:ext cx="7225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Видит ли сова дне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235120" y="1484640"/>
            <a:ext cx="3081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да, види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мой 3">
            <a:hlinkClick r:id="rId1" action="ppaction://hlinksldjump"/>
          </p:cNvPr>
          <p:cNvSpPr/>
          <p:nvPr/>
        </p:nvSpPr>
        <p:spPr>
          <a:xfrm>
            <a:off x="8331840" y="6381360"/>
            <a:ext cx="416160" cy="2728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0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1475640" y="2421000"/>
            <a:ext cx="49204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476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ие птицы спят на волнах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000320" y="5909400"/>
            <a:ext cx="433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буревестни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4" name="Picture 2" descr="C:\Users\Елена\Desktop\буревестник.jpg"/>
          <p:cNvPicPr/>
          <p:nvPr/>
        </p:nvPicPr>
        <p:blipFill>
          <a:blip r:embed="rId2"/>
          <a:stretch/>
        </p:blipFill>
        <p:spPr>
          <a:xfrm>
            <a:off x="2581920" y="2061000"/>
            <a:ext cx="544644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395640" y="404640"/>
            <a:ext cx="8568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ая птица может передвигаться по дереву вверх и вниз головой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406400" y="5877360"/>
            <a:ext cx="349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пополз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309360"/>
            <a:ext cx="43380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8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4860000" y="2493000"/>
            <a:ext cx="357408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1640" y="404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Греки первыми назвали её птицей мудрости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5510160" y="5949360"/>
            <a:ext cx="1758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сов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2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2278080" y="2061000"/>
            <a:ext cx="44038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23640" y="40464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Эти птицы изображены на гербе Новой Зеландии, а фруктами с таким же названием мы охотно лакомимся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5791680" y="6021360"/>
            <a:ext cx="1697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(кив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6" name="Picture 2" descr="C:\Users\Елена\Desktop\киви.jpg"/>
          <p:cNvPicPr/>
          <p:nvPr/>
        </p:nvPicPr>
        <p:blipFill>
          <a:blip r:embed="rId2"/>
          <a:stretch/>
        </p:blipFill>
        <p:spPr>
          <a:xfrm>
            <a:off x="1656720" y="2421000"/>
            <a:ext cx="50270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23640" y="260640"/>
            <a:ext cx="8568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Птица кайра откладывает свои яйца на голой ска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чему яй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е скаты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 скалы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79640" y="6381360"/>
            <a:ext cx="76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 они имеют грушевидную форму, центр тяжести смещен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омой 3">
            <a:hlinkClick r:id="rId1" action="ppaction://hlinksldjump"/>
          </p:cNvPr>
          <p:cNvSpPr/>
          <p:nvPr/>
        </p:nvSpPr>
        <p:spPr>
          <a:xfrm>
            <a:off x="8437680" y="6195600"/>
            <a:ext cx="454680" cy="385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0" name="Picture 2" descr="C:\Users\Елена\Desktop\кайра.jpg"/>
          <p:cNvPicPr/>
          <p:nvPr/>
        </p:nvPicPr>
        <p:blipFill>
          <a:blip r:embed="rId2"/>
          <a:stretch/>
        </p:blipFill>
        <p:spPr>
          <a:xfrm>
            <a:off x="5364000" y="1196640"/>
            <a:ext cx="29682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23640" y="404640"/>
            <a:ext cx="8568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Это самые маленькие в мире птицы, они очень похожи на бабочек- бражников. Они могут летать задом наперед, опыляют разные тропические растения. Кто эти крохотульк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399200" y="6165360"/>
            <a:ext cx="213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колиб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9360"/>
            <a:ext cx="503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4" name="Picture 2" descr="C:\Users\Елена\Desktop\колибри.jpg"/>
          <p:cNvPicPr/>
          <p:nvPr/>
        </p:nvPicPr>
        <p:blipFill>
          <a:blip r:embed="rId2"/>
          <a:stretch/>
        </p:blipFill>
        <p:spPr>
          <a:xfrm>
            <a:off x="3420000" y="2709000"/>
            <a:ext cx="4458240" cy="33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51640" y="260640"/>
            <a:ext cx="8712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Эта птица обитает в сибирской тайге, в хвойных лесах. Она отличается от всех других птиц тем, что делает запасы на зиму – кедровые орешки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3812400" y="6021360"/>
            <a:ext cx="21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 кед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862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8" name="Picture 2" descr="C:\Users\Елена\Desktop\кедровка.jpg"/>
          <p:cNvPicPr/>
          <p:nvPr/>
        </p:nvPicPr>
        <p:blipFill>
          <a:blip r:embed="rId2"/>
          <a:stretch/>
        </p:blipFill>
        <p:spPr>
          <a:xfrm>
            <a:off x="1691640" y="2421000"/>
            <a:ext cx="5135400" cy="3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323640" y="260640"/>
            <a:ext cx="8568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0 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вно известно, что эта птица приносит человеку большую пользу. Весной прилетает одной из первых, ходит по полям, собирает насекомых и их личинок, зимовавших в земле. Летом поедает различных гусениц, жуков. А ещё эта птица прекрасный звукоподражатель – часто распевает песни зябликов, дроздов, малиновок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3421080" y="6309360"/>
            <a:ext cx="158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квор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2" name="Picture 2" descr="C:\Users\Елена\Desktop\скворец.jpg"/>
          <p:cNvPicPr/>
          <p:nvPr/>
        </p:nvPicPr>
        <p:blipFill>
          <a:blip r:embed="rId2"/>
          <a:stretch/>
        </p:blipFill>
        <p:spPr>
          <a:xfrm>
            <a:off x="2740320" y="2637000"/>
            <a:ext cx="2655000" cy="34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251640" y="188640"/>
            <a:ext cx="8640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Один из исследователей Антарктиды, увидев этих птиц, писал: Мы увидели птиц, они были больше гусей, а крик их напоминал крик ослов. Летать они не могли. Держались вертикально»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2853360" y="6165360"/>
            <a:ext cx="27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(пингви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6" name="Picture 2" descr="C:\Users\Елена\Desktop\пингвины.jpg"/>
          <p:cNvPicPr/>
          <p:nvPr/>
        </p:nvPicPr>
        <p:blipFill>
          <a:blip r:embed="rId2"/>
          <a:stretch/>
        </p:blipFill>
        <p:spPr>
          <a:xfrm>
            <a:off x="1763640" y="2899800"/>
            <a:ext cx="4784400" cy="31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50080" y="188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Журавль – птица года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Елена\Desktop\журавли.jpg"/>
          <p:cNvPicPr/>
          <p:nvPr/>
        </p:nvPicPr>
        <p:blipFill>
          <a:blip r:embed="rId1"/>
          <a:stretch/>
        </p:blipFill>
        <p:spPr>
          <a:xfrm>
            <a:off x="2195640" y="908640"/>
            <a:ext cx="4678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51640" y="188640"/>
            <a:ext cx="871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В странах Юго-Восточной Азии эта птица помогает местным рыбакам в их нелегком труде. После соответствующего обучения, конечно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261240" y="6180120"/>
            <a:ext cx="1833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бак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801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0" name="Picture 2" descr="C:\Users\Елена\Desktop\баклан.jpg"/>
          <p:cNvPicPr/>
          <p:nvPr/>
        </p:nvPicPr>
        <p:blipFill>
          <a:blip r:embed="rId2"/>
          <a:stretch/>
        </p:blipFill>
        <p:spPr>
          <a:xfrm>
            <a:off x="1835640" y="2421000"/>
            <a:ext cx="50328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79640" y="188640"/>
            <a:ext cx="878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Свое название эта небольшая птичка получила за умение имитировать голоса более 30 видов птиц, а также других животных и даже машин. Кто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962800" y="6093360"/>
            <a:ext cx="3218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ересмеш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4" name="Picture 2" descr="C:\Users\Елена\Desktop\пересмешник.jpg"/>
          <p:cNvPicPr/>
          <p:nvPr/>
        </p:nvPicPr>
        <p:blipFill>
          <a:blip r:embed="rId2"/>
          <a:stretch/>
        </p:blipFill>
        <p:spPr>
          <a:xfrm>
            <a:off x="1493640" y="2421000"/>
            <a:ext cx="5493240" cy="35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56920" y="69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2852280" y="6030000"/>
            <a:ext cx="4847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деревенская ласто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1\Desktop\ласточка.jpg"/>
          <p:cNvPicPr/>
          <p:nvPr/>
        </p:nvPicPr>
        <p:blipFill>
          <a:blip r:embed="rId1"/>
          <a:stretch/>
        </p:blipFill>
        <p:spPr>
          <a:xfrm>
            <a:off x="2555640" y="270000"/>
            <a:ext cx="5616360" cy="561636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3223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268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4419360" y="5970240"/>
            <a:ext cx="17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голуб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1\Desktop\голубь.jpg"/>
          <p:cNvPicPr/>
          <p:nvPr/>
        </p:nvPicPr>
        <p:blipFill>
          <a:blip r:embed="rId1"/>
          <a:stretch/>
        </p:blipFill>
        <p:spPr>
          <a:xfrm>
            <a:off x="2483640" y="91440"/>
            <a:ext cx="5857560" cy="58575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262560"/>
            <a:ext cx="431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412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1\Desktop\ворона.png"/>
          <p:cNvPicPr/>
          <p:nvPr/>
        </p:nvPicPr>
        <p:blipFill>
          <a:blip r:embed="rId1"/>
          <a:stretch/>
        </p:blipFill>
        <p:spPr>
          <a:xfrm>
            <a:off x="3564000" y="611280"/>
            <a:ext cx="5476680" cy="5044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4142880" y="5949360"/>
            <a:ext cx="164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41680"/>
            <a:ext cx="359640" cy="3553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412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619440" y="6021360"/>
            <a:ext cx="2855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орел-берку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1\Desktop\орел-беркут.GIF"/>
          <p:cNvPicPr/>
          <p:nvPr/>
        </p:nvPicPr>
        <p:blipFill>
          <a:blip r:embed="rId1"/>
          <a:stretch/>
        </p:blipFill>
        <p:spPr>
          <a:xfrm>
            <a:off x="3224160" y="604800"/>
            <a:ext cx="4587840" cy="486324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84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4485600" y="6102000"/>
            <a:ext cx="144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1\Desktop\страус.gif"/>
          <p:cNvPicPr/>
          <p:nvPr/>
        </p:nvPicPr>
        <p:blipFill>
          <a:blip r:embed="rId1"/>
          <a:stretch/>
        </p:blipFill>
        <p:spPr>
          <a:xfrm>
            <a:off x="3204000" y="258840"/>
            <a:ext cx="4348800" cy="5627520"/>
          </a:xfrm>
          <a:prstGeom prst="rect">
            <a:avLst/>
          </a:prstGeom>
          <a:ln w="0">
            <a:noFill/>
          </a:ln>
        </p:spPr>
      </p:pic>
      <p:sp>
        <p:nvSpPr>
          <p:cNvPr id="194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021360"/>
            <a:ext cx="431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467640" y="404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- № 6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355640" y="6165360"/>
            <a:ext cx="149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фи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1\Desktop\филин.jpg"/>
          <p:cNvPicPr/>
          <p:nvPr/>
        </p:nvPicPr>
        <p:blipFill>
          <a:blip r:embed="rId1"/>
          <a:stretch/>
        </p:blipFill>
        <p:spPr>
          <a:xfrm>
            <a:off x="2915640" y="160200"/>
            <a:ext cx="4372920" cy="5788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640" y="332640"/>
            <a:ext cx="84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Буревес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766880" y="6021360"/>
            <a:ext cx="575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редвещает бурю на мор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домой 3">
            <a:hlinkClick r:id="rId1" action="ppaction://hlinksldjump"/>
          </p:cNvPr>
          <p:cNvSpPr/>
          <p:nvPr/>
        </p:nvSpPr>
        <p:spPr>
          <a:xfrm>
            <a:off x="8319960" y="6313680"/>
            <a:ext cx="3560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2" name="Picture 2" descr="C:\Users\Елена\Desktop\буревестник1.jpg"/>
          <p:cNvPicPr/>
          <p:nvPr/>
        </p:nvPicPr>
        <p:blipFill>
          <a:blip r:embed="rId2"/>
          <a:stretch/>
        </p:blipFill>
        <p:spPr>
          <a:xfrm>
            <a:off x="1691640" y="1268640"/>
            <a:ext cx="60483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49000" y="476640"/>
            <a:ext cx="6456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Змееяд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597400" y="6021360"/>
            <a:ext cx="419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оедает зм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6" name="Picture 2" descr="C:\Users\Елена\Desktop\змееяд.jpg"/>
          <p:cNvPicPr/>
          <p:nvPr/>
        </p:nvPicPr>
        <p:blipFill>
          <a:blip r:embed="rId2"/>
          <a:stretch/>
        </p:blipFill>
        <p:spPr>
          <a:xfrm>
            <a:off x="1907640" y="1395000"/>
            <a:ext cx="5963760" cy="455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9640" y="332640"/>
            <a:ext cx="8712720" cy="78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говорки            </a:t>
            </a:r>
            <a:r>
              <a:rPr b="0" lang="ru-RU" sz="3600" spc="-1" strike="noStrike" u="sng">
                <a:solidFill>
                  <a:srgbClr val="35a185"/>
                </a:solidFill>
                <a:uFillTx/>
                <a:latin typeface="Trebuchet MS"/>
                <a:hlinkClick r:id="rId1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4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я жизнь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7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8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9" action="ppaction://hlinksldjump"/>
              </a:rPr>
              <a:t>3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0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1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и портреты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3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4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5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6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7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8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идна пт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полёту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9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0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1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2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3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4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Что в и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воём?     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5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6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7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8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9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0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амые, самые…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1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4" action="ppaction://hlinksldjump"/>
              </a:rPr>
              <a:t>4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омой 3">
            <a:hlinkClick r:id="rId37" action="ppaction://hlinksldjump"/>
          </p:cNvPr>
          <p:cNvSpPr/>
          <p:nvPr/>
        </p:nvSpPr>
        <p:spPr>
          <a:xfrm>
            <a:off x="53964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30840" y="476640"/>
            <a:ext cx="31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Лир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3223440" y="6093360"/>
            <a:ext cx="408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хвост в виде ли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0" name="Picture 2" descr="C:\Users\Елена\Desktop\лирохвост.jpg"/>
          <p:cNvPicPr/>
          <p:nvPr/>
        </p:nvPicPr>
        <p:blipFill>
          <a:blip r:embed="rId2"/>
          <a:stretch/>
        </p:blipFill>
        <p:spPr>
          <a:xfrm>
            <a:off x="1793160" y="1340640"/>
            <a:ext cx="6226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23640" y="33264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–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пол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565560" y="6165360"/>
            <a:ext cx="691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ползает по стволу дерева вверх-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правляющая кнопка: домой 4">
            <a:hlinkClick r:id="rId1" action="ppaction://hlinksldjump"/>
          </p:cNvPr>
          <p:cNvSpPr/>
          <p:nvPr/>
        </p:nvSpPr>
        <p:spPr>
          <a:xfrm>
            <a:off x="8532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4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2019960" y="1124640"/>
            <a:ext cx="534312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тица-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79640" y="5733360"/>
            <a:ext cx="806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на голове – большое перо, что делает ее похожей на писца-секретаря с пером за ух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237360"/>
            <a:ext cx="431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8" name="Picture 2" descr="C:\Users\Елена\Desktop\секретарь.jpg"/>
          <p:cNvPicPr/>
          <p:nvPr/>
        </p:nvPicPr>
        <p:blipFill>
          <a:blip r:embed="rId2"/>
          <a:stretch/>
        </p:blipFill>
        <p:spPr>
          <a:xfrm>
            <a:off x="1142280" y="1124640"/>
            <a:ext cx="6669720" cy="44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ав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323640" y="5805360"/>
            <a:ext cx="705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  фр. «павильон» - палатка, шатер; хвост в виде шат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309360"/>
            <a:ext cx="359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2" name="Picture 2" descr="C:\Users\Елена\Desktop\павлин.jpg"/>
          <p:cNvPicPr/>
          <p:nvPr/>
        </p:nvPicPr>
        <p:blipFill>
          <a:blip r:embed="rId2"/>
          <a:stretch/>
        </p:blipFill>
        <p:spPr>
          <a:xfrm>
            <a:off x="3924000" y="188640"/>
            <a:ext cx="43200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53360" y="302040"/>
            <a:ext cx="9035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ая птица нашей страны самая маленькая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3218400" y="60213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королек – 5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139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6" name="Picture 2" descr="C:\Users\Елена\Desktop\королек.jpg"/>
          <p:cNvPicPr/>
          <p:nvPr/>
        </p:nvPicPr>
        <p:blipFill>
          <a:blip r:embed="rId2"/>
          <a:stretch/>
        </p:blipFill>
        <p:spPr>
          <a:xfrm>
            <a:off x="1248120" y="980640"/>
            <a:ext cx="635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51560" y="168120"/>
            <a:ext cx="8366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то откладывает самые большие яйца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937520" y="6165360"/>
            <a:ext cx="6086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Африканский страус – 1,6 – 1,8 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домой 3">
            <a:hlinkClick r:id="rId1" action="ppaction://hlinksldjump"/>
          </p:cNvPr>
          <p:cNvSpPr/>
          <p:nvPr/>
        </p:nvSpPr>
        <p:spPr>
          <a:xfrm>
            <a:off x="8562240" y="6381360"/>
            <a:ext cx="401760" cy="3067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0" name="Picture 2" descr="C:\Users\Елена\Desktop\страус.jpg"/>
          <p:cNvPicPr/>
          <p:nvPr/>
        </p:nvPicPr>
        <p:blipFill>
          <a:blip r:embed="rId2"/>
          <a:stretch/>
        </p:blipFill>
        <p:spPr>
          <a:xfrm>
            <a:off x="798120" y="1196640"/>
            <a:ext cx="7301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69480" y="334440"/>
            <a:ext cx="758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тицы летают быстрее других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23640" y="5733360"/>
            <a:ext cx="4536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стриж – 200 км/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– 350 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1\Desktop\стриж.jpg"/>
          <p:cNvPicPr/>
          <p:nvPr/>
        </p:nvPicPr>
        <p:blipFill>
          <a:blip r:embed="rId1"/>
          <a:stretch/>
        </p:blipFill>
        <p:spPr>
          <a:xfrm>
            <a:off x="513720" y="1124640"/>
            <a:ext cx="3600000" cy="360000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омой 3">
            <a:hlinkClick r:id="rId2" action="ppaction://hlinksldjump"/>
          </p:cNvPr>
          <p:cNvSpPr/>
          <p:nvPr/>
        </p:nvSpPr>
        <p:spPr>
          <a:xfrm>
            <a:off x="8532360" y="6309360"/>
            <a:ext cx="359640" cy="37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5" name="Picture 2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212000" y="2349000"/>
            <a:ext cx="4727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69120" y="119160"/>
            <a:ext cx="6465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ие птицы летают выш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7640" y="5949360"/>
            <a:ext cx="828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лы – 3000 км, грифы, кондоры  до 7000 к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1\Documents\папки с фото из инета\птицы\орел2.jpg"/>
          <p:cNvPicPr/>
          <p:nvPr/>
        </p:nvPicPr>
        <p:blipFill>
          <a:blip r:embed="rId1"/>
          <a:stretch/>
        </p:blipFill>
        <p:spPr>
          <a:xfrm>
            <a:off x="323640" y="764640"/>
            <a:ext cx="4416120" cy="331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1\Desktop\Andean Condor.jpg"/>
          <p:cNvPicPr/>
          <p:nvPr/>
        </p:nvPicPr>
        <p:blipFill>
          <a:blip r:embed="rId2"/>
          <a:stretch/>
        </p:blipFill>
        <p:spPr>
          <a:xfrm>
            <a:off x="4168440" y="2714400"/>
            <a:ext cx="4801320" cy="320076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омой 3">
            <a:hlinkClick r:id="rId3" action="ppaction://hlinksldjump"/>
          </p:cNvPr>
          <p:cNvSpPr/>
          <p:nvPr/>
        </p:nvSpPr>
        <p:spPr>
          <a:xfrm>
            <a:off x="8604360" y="6472440"/>
            <a:ext cx="365400" cy="268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144360" y="226800"/>
            <a:ext cx="742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У какой птицы самое острое зрение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251640" y="5805360"/>
            <a:ext cx="676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ел-беркут видит зайца на расст. 4,2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замечает голубя на расст. 8 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омой 3">
            <a:hlinkClick r:id="rId1" action="ppaction://hlinksldjump"/>
          </p:cNvPr>
          <p:cNvSpPr/>
          <p:nvPr/>
        </p:nvSpPr>
        <p:spPr>
          <a:xfrm>
            <a:off x="8604360" y="6381360"/>
            <a:ext cx="287640" cy="254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4" name="Picture 2" descr="C:\Users\Елена\Desktop\беркут.jpg"/>
          <p:cNvPicPr/>
          <p:nvPr/>
        </p:nvPicPr>
        <p:blipFill>
          <a:blip r:embed="rId2"/>
          <a:stretch/>
        </p:blipFill>
        <p:spPr>
          <a:xfrm>
            <a:off x="251640" y="980640"/>
            <a:ext cx="4501800" cy="338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896000" y="2349000"/>
            <a:ext cx="42476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47240" y="217080"/>
            <a:ext cx="735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аких птиц самые большие гнезд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51640" y="5949360"/>
            <a:ext cx="712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белоголовый орлан, обитающий в США, ширина – 2,6 м, высота – 6 м, вес – 2 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3240"/>
            <a:ext cx="359640" cy="353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9" name="Picture 2" descr="C:\Users\Елена\Desktop\орлан.jpg"/>
          <p:cNvPicPr/>
          <p:nvPr/>
        </p:nvPicPr>
        <p:blipFill>
          <a:blip r:embed="rId2"/>
          <a:stretch/>
        </p:blipFill>
        <p:spPr>
          <a:xfrm>
            <a:off x="2470320" y="908640"/>
            <a:ext cx="402228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980640"/>
            <a:ext cx="756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10 –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Гусь свинь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151160" y="2421000"/>
            <a:ext cx="3733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не товар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4" name="Picture 2" descr="C:\Users\Елена\Desktop\гусь.jpg"/>
          <p:cNvPicPr/>
          <p:nvPr/>
        </p:nvPicPr>
        <p:blipFill>
          <a:blip r:embed="rId2"/>
          <a:stretch/>
        </p:blipFill>
        <p:spPr>
          <a:xfrm>
            <a:off x="827640" y="2565000"/>
            <a:ext cx="283212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Елена\Desktop\свинья.jpg"/>
          <p:cNvPicPr/>
          <p:nvPr/>
        </p:nvPicPr>
        <p:blipFill>
          <a:blip r:embed="rId3"/>
          <a:stretch/>
        </p:blipFill>
        <p:spPr>
          <a:xfrm>
            <a:off x="4345920" y="3501000"/>
            <a:ext cx="3337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107720" y="2853000"/>
            <a:ext cx="65055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500" spc="-1" strike="noStrike">
                <a:solidFill>
                  <a:srgbClr val="ff5143"/>
                </a:solidFill>
                <a:latin typeface="Trebuchet MS"/>
              </a:rPr>
              <a:t>Берегите птиц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1\Documents\анимашки и рисунки\анимашки\птицы1.gif"/>
          <p:cNvPicPr/>
          <p:nvPr/>
        </p:nvPicPr>
        <p:blipFill>
          <a:blip r:embed="rId1"/>
          <a:stretch/>
        </p:blipFill>
        <p:spPr>
          <a:xfrm>
            <a:off x="755640" y="980640"/>
            <a:ext cx="1728000" cy="1462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1\Documents\анимашки и рисунки\анимашки\птицы4.gif"/>
          <p:cNvPicPr/>
          <p:nvPr/>
        </p:nvPicPr>
        <p:blipFill>
          <a:blip r:embed="rId2"/>
          <a:stretch/>
        </p:blipFill>
        <p:spPr>
          <a:xfrm>
            <a:off x="6948360" y="1124640"/>
            <a:ext cx="1222560" cy="1426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1\Documents\анимашки и рисунки\анимашки\птицы9.gif"/>
          <p:cNvPicPr/>
          <p:nvPr/>
        </p:nvPicPr>
        <p:blipFill>
          <a:blip r:embed="rId3"/>
          <a:stretch/>
        </p:blipFill>
        <p:spPr>
          <a:xfrm>
            <a:off x="3217680" y="3945600"/>
            <a:ext cx="20739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81640" y="1052640"/>
            <a:ext cx="7281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Цыплят по осени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5781600" y="2149560"/>
            <a:ext cx="26607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чит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9" name="Picture 2" descr="C:\Users\Елена\Desktop\цыпленок.jpg"/>
          <p:cNvPicPr/>
          <p:nvPr/>
        </p:nvPicPr>
        <p:blipFill>
          <a:blip r:embed="rId2"/>
          <a:stretch/>
        </p:blipFill>
        <p:spPr>
          <a:xfrm>
            <a:off x="635400" y="2709000"/>
            <a:ext cx="4872240" cy="36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827640" y="764640"/>
            <a:ext cx="76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– Старого воробья на мякин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3997440" y="2106360"/>
            <a:ext cx="414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е провед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3" name="Picture 2" descr="C:\Users\Елена\Desktop\воробей.jpg"/>
          <p:cNvPicPr/>
          <p:nvPr/>
        </p:nvPicPr>
        <p:blipFill>
          <a:blip r:embed="rId2"/>
          <a:stretch/>
        </p:blipFill>
        <p:spPr>
          <a:xfrm>
            <a:off x="539640" y="2925000"/>
            <a:ext cx="422352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3640" y="692640"/>
            <a:ext cx="882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На чужой сторонушк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198520" y="1845000"/>
            <a:ext cx="6143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д своей воронуш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093360"/>
            <a:ext cx="503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7" name="Picture 2" descr="C:\Users\Елена\Desktop\ворона.jpg"/>
          <p:cNvPicPr/>
          <p:nvPr/>
        </p:nvPicPr>
        <p:blipFill>
          <a:blip r:embed="rId2"/>
          <a:stretch/>
        </p:blipFill>
        <p:spPr>
          <a:xfrm>
            <a:off x="539640" y="3357000"/>
            <a:ext cx="4295520" cy="32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640" y="836640"/>
            <a:ext cx="8208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Всякий кулик своё болот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35880" y="1512360"/>
            <a:ext cx="222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хвал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1" name="Picture 2" descr="C:\Users\Елена\Desktop\кулик.jpg"/>
          <p:cNvPicPr/>
          <p:nvPr/>
        </p:nvPicPr>
        <p:blipFill>
          <a:blip r:embed="rId2"/>
          <a:stretch/>
        </p:blipFill>
        <p:spPr>
          <a:xfrm>
            <a:off x="1907640" y="2797560"/>
            <a:ext cx="49593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539640" y="620640"/>
            <a:ext cx="8280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6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Рано пташечка запела, …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823680" y="1556640"/>
            <a:ext cx="711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ак бы кошечка не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5" name="Picture 2" descr="C:\Users\Елена\Desktop\кошка.jpg"/>
          <p:cNvPicPr/>
          <p:nvPr/>
        </p:nvPicPr>
        <p:blipFill>
          <a:blip r:embed="rId2"/>
          <a:stretch/>
        </p:blipFill>
        <p:spPr>
          <a:xfrm>
            <a:off x="4140000" y="2709000"/>
            <a:ext cx="4161240" cy="332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Елена\Desktop\соловей.jpg"/>
          <p:cNvPicPr/>
          <p:nvPr/>
        </p:nvPicPr>
        <p:blipFill>
          <a:blip r:embed="rId3"/>
          <a:stretch/>
        </p:blipFill>
        <p:spPr>
          <a:xfrm>
            <a:off x="611640" y="234900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401</TotalTime>
  <Application>LibreOffice/7.4.7.2$Linux_X86_64 LibreOffice_project/40$Build-2</Application>
  <AppVersion>15.0000</AppVersion>
  <Words>70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09:07:12Z</dcterms:created>
  <dc:creator>1</dc:creator>
  <dc:description/>
  <dc:language>en-US</dc:language>
  <cp:lastModifiedBy>Елена</cp:lastModifiedBy>
  <dcterms:modified xsi:type="dcterms:W3CDTF">2020-04-06T15:16:33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</Properties>
</file>