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gif" ContentType="image/gif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828-ADCE-4FCB-806C-C55BDD9A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005-95FC-4624-893C-539C50D8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110-5F44-44A6-BB3D-28AEBADA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19E-D3CB-4EE6-B944-0D59F319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8366-720C-4415-9B6B-C1E2519B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AD84-1568-462D-96A8-527C0026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6978-A3F0-465B-823C-0F85FE63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A0A0-BD1F-4C0F-9A0A-486081B6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0398-192B-46BC-99F6-8EBE2056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2FB6-5D62-4883-A58C-3EE3C9C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28C6-2691-4F89-B4FA-C48BF30B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7E7-8545-4A84-AEE2-BCFEF785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13F8-12FF-41B6-867F-BB6937F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B0F-9C52-4741-B1AA-88EEB11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8BC-0BAC-48D5-BD63-D1327D1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77A-17F6-4D21-B8F7-66383BB4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8510-8D5B-4BA0-990C-E41AD6F5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0B1A-35AA-4030-8A84-6AB446A8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E2B-33FC-42B6-90E1-C10FFE3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7F1-1920-478A-80B7-85090834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A3BC-DAA6-4DD7-9343-FEAB9C9B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5D2-1087-4F78-AC15-8DB5277E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13E-BAFD-4B1B-9EEF-914E620A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C87-C334-4B20-BE00-F1B66FC4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06E3DA5-0F7F-4C6B-BB01-8D1C90CAC142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C8C0F5D-9CB1-4C8F-87CF-A2A914A9F8BF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4.xml"/><Relationship Id="rId32" Type="http://schemas.openxmlformats.org/officeDocument/2006/relationships/slide" Target="slide35.xml"/><Relationship Id="rId33" Type="http://schemas.openxmlformats.org/officeDocument/2006/relationships/slide" Target="slide36.xml"/><Relationship Id="rId34" Type="http://schemas.openxmlformats.org/officeDocument/2006/relationships/slide" Target="slide37.xml"/><Relationship Id="rId35" Type="http://schemas.openxmlformats.org/officeDocument/2006/relationships/slide" Target="slide38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3.xm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566280" y="476640"/>
            <a:ext cx="79700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Всякая пти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свои песен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поё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icture 2"/>
          <p:cNvSpPr/>
          <p:nvPr/>
        </p:nvSpPr>
        <p:spPr>
          <a:xfrm>
            <a:off x="7092360" y="4149000"/>
            <a:ext cx="1738800" cy="26402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902880" y="4437000"/>
            <a:ext cx="5828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гра-викторина, посвященная Международному дню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289440" y="620640"/>
            <a:ext cx="7225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1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Видит ли сова дне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235120" y="1484640"/>
            <a:ext cx="3081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да, види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домой 3">
            <a:hlinkClick r:id="rId1" action="ppaction://hlinksldjump"/>
          </p:cNvPr>
          <p:cNvSpPr/>
          <p:nvPr/>
        </p:nvSpPr>
        <p:spPr>
          <a:xfrm>
            <a:off x="8331840" y="6381360"/>
            <a:ext cx="416160" cy="27288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0" name="Picture 2" descr="C:\Users\Елена\Desktop\сова.jpg"/>
          <p:cNvPicPr/>
          <p:nvPr/>
        </p:nvPicPr>
        <p:blipFill>
          <a:blip r:embed="rId2"/>
          <a:stretch/>
        </p:blipFill>
        <p:spPr>
          <a:xfrm>
            <a:off x="1475640" y="2421000"/>
            <a:ext cx="49204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7640" y="476640"/>
            <a:ext cx="8424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Какие птицы спят на волнах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000320" y="5909400"/>
            <a:ext cx="433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буревестни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093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4" name="Picture 2" descr="C:\Users\Елена\Desktop\буревестник.jpg"/>
          <p:cNvPicPr/>
          <p:nvPr/>
        </p:nvPicPr>
        <p:blipFill>
          <a:blip r:embed="rId2"/>
          <a:stretch/>
        </p:blipFill>
        <p:spPr>
          <a:xfrm>
            <a:off x="2581920" y="2061000"/>
            <a:ext cx="544644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395640" y="404640"/>
            <a:ext cx="85687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3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Какая птица может передвигаться по дереву вверх и вниз головой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4406400" y="5877360"/>
            <a:ext cx="349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пополз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309360"/>
            <a:ext cx="43380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8" name="Picture 2" descr="C:\Users\Елена\Desktop\поползень.jpg"/>
          <p:cNvPicPr/>
          <p:nvPr/>
        </p:nvPicPr>
        <p:blipFill>
          <a:blip r:embed="rId2"/>
          <a:stretch/>
        </p:blipFill>
        <p:spPr>
          <a:xfrm>
            <a:off x="4860000" y="2493000"/>
            <a:ext cx="3574080" cy="32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251640" y="404640"/>
            <a:ext cx="8424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Греки первыми назвали её птицей мудрости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5510160" y="5949360"/>
            <a:ext cx="1758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сов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омой 4">
            <a:hlinkClick r:id="rId1" action="ppaction://hlinksldjump"/>
          </p:cNvPr>
          <p:cNvSpPr/>
          <p:nvPr/>
        </p:nvSpPr>
        <p:spPr>
          <a:xfrm>
            <a:off x="8388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2" name="Picture 2" descr="C:\Users\Елена\Desktop\сова.jpg"/>
          <p:cNvPicPr/>
          <p:nvPr/>
        </p:nvPicPr>
        <p:blipFill>
          <a:blip r:embed="rId2"/>
          <a:stretch/>
        </p:blipFill>
        <p:spPr>
          <a:xfrm>
            <a:off x="2278080" y="2061000"/>
            <a:ext cx="440388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323640" y="404640"/>
            <a:ext cx="85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Эти птицы изображены на гербе Новой Зеландии, а фруктами с таким же названием мы охотно лакомимся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5791680" y="6021360"/>
            <a:ext cx="1697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(кив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6" name="Picture 2" descr="C:\Users\Елена\Desktop\киви.jpg"/>
          <p:cNvPicPr/>
          <p:nvPr/>
        </p:nvPicPr>
        <p:blipFill>
          <a:blip r:embed="rId2"/>
          <a:stretch/>
        </p:blipFill>
        <p:spPr>
          <a:xfrm>
            <a:off x="1656720" y="2421000"/>
            <a:ext cx="50270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323640" y="260640"/>
            <a:ext cx="8568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Птица кайра откладывает свои яйца на голой ска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чему яй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е скатыв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 скалы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79640" y="6381360"/>
            <a:ext cx="763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 они имеют грушевидную форму, центр тяжести смещен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домой 3">
            <a:hlinkClick r:id="rId1" action="ppaction://hlinksldjump"/>
          </p:cNvPr>
          <p:cNvSpPr/>
          <p:nvPr/>
        </p:nvSpPr>
        <p:spPr>
          <a:xfrm>
            <a:off x="8437680" y="6195600"/>
            <a:ext cx="454680" cy="3855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0" name="Picture 2" descr="C:\Users\Елена\Desktop\кайра.jpg"/>
          <p:cNvPicPr/>
          <p:nvPr/>
        </p:nvPicPr>
        <p:blipFill>
          <a:blip r:embed="rId2"/>
          <a:stretch/>
        </p:blipFill>
        <p:spPr>
          <a:xfrm>
            <a:off x="5364000" y="1196640"/>
            <a:ext cx="29682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23640" y="404640"/>
            <a:ext cx="8568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Это самые маленькие в мире птицы, они очень похожи на бабочек- бражников. Они могут летать задом наперед, опыляют разные тропические растения. Кто эти крохотульк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399200" y="6165360"/>
            <a:ext cx="213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колиб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309360"/>
            <a:ext cx="503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4" name="Picture 2" descr="C:\Users\Елена\Desktop\колибри.jpg"/>
          <p:cNvPicPr/>
          <p:nvPr/>
        </p:nvPicPr>
        <p:blipFill>
          <a:blip r:embed="rId2"/>
          <a:stretch/>
        </p:blipFill>
        <p:spPr>
          <a:xfrm>
            <a:off x="3420000" y="2709000"/>
            <a:ext cx="4458240" cy="33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51640" y="260640"/>
            <a:ext cx="8712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Эта птица обитает в сибирской тайге, в хвойных лесах. Она отличается от всех других птиц тем, что делает запасы на зиму – кедровые орешки. Что это за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3812400" y="6021360"/>
            <a:ext cx="21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 кедров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82720"/>
            <a:ext cx="431640" cy="38628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8" name="Picture 2" descr="C:\Users\Елена\Desktop\кедровка.jpg"/>
          <p:cNvPicPr/>
          <p:nvPr/>
        </p:nvPicPr>
        <p:blipFill>
          <a:blip r:embed="rId2"/>
          <a:stretch/>
        </p:blipFill>
        <p:spPr>
          <a:xfrm>
            <a:off x="1691640" y="2421000"/>
            <a:ext cx="5135400" cy="3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323640" y="260640"/>
            <a:ext cx="85687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0 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вно известно, что эта птица приносит человеку большую пользу. Весной прилетает одной из первых, ходит по полям, собирает насекомых и их личинок, зимовавших в земле. Летом поедает различных гусениц, жуков. А ещё эта птица прекрасный звукоподражатель – часто распевает песни зябликов, дроздов, малиновок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3421080" y="6309360"/>
            <a:ext cx="158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скворе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домой 3">
            <a:hlinkClick r:id="rId1" action="ppaction://hlinksldjump"/>
          </p:cNvPr>
          <p:cNvSpPr/>
          <p:nvPr/>
        </p:nvSpPr>
        <p:spPr>
          <a:xfrm>
            <a:off x="8172360" y="6093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2" name="Picture 2" descr="C:\Users\Елена\Desktop\скворец.jpg"/>
          <p:cNvPicPr/>
          <p:nvPr/>
        </p:nvPicPr>
        <p:blipFill>
          <a:blip r:embed="rId2"/>
          <a:stretch/>
        </p:blipFill>
        <p:spPr>
          <a:xfrm>
            <a:off x="2740320" y="2637000"/>
            <a:ext cx="2655000" cy="34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251640" y="188640"/>
            <a:ext cx="8640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Один из исследователей Антарктиды, увидев этих птиц, писал: Мы увидели птиц, они были больше гусей, а крик их напоминал крик ослов. Летать они не могли. Держались вертикально»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2853360" y="6165360"/>
            <a:ext cx="272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(пингви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6" name="Picture 2" descr="C:\Users\Елена\Desktop\пингвины.jpg"/>
          <p:cNvPicPr/>
          <p:nvPr/>
        </p:nvPicPr>
        <p:blipFill>
          <a:blip r:embed="rId2"/>
          <a:stretch/>
        </p:blipFill>
        <p:spPr>
          <a:xfrm>
            <a:off x="1763640" y="2899800"/>
            <a:ext cx="4784400" cy="31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450080" y="188640"/>
            <a:ext cx="66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Журавль – птица года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Елена\Desktop\журавли.jpg"/>
          <p:cNvPicPr/>
          <p:nvPr/>
        </p:nvPicPr>
        <p:blipFill>
          <a:blip r:embed="rId1"/>
          <a:stretch/>
        </p:blipFill>
        <p:spPr>
          <a:xfrm>
            <a:off x="2195640" y="908640"/>
            <a:ext cx="4678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251640" y="188640"/>
            <a:ext cx="871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В странах Юго-Восточной Азии эта птица помогает местным рыбакам в их нелегком труде. После соответствующего обучения, конечно. Что это за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3261240" y="6180120"/>
            <a:ext cx="1833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бакл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180120"/>
            <a:ext cx="503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0" name="Picture 2" descr="C:\Users\Елена\Desktop\баклан.jpg"/>
          <p:cNvPicPr/>
          <p:nvPr/>
        </p:nvPicPr>
        <p:blipFill>
          <a:blip r:embed="rId2"/>
          <a:stretch/>
        </p:blipFill>
        <p:spPr>
          <a:xfrm>
            <a:off x="1835640" y="2421000"/>
            <a:ext cx="50328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179640" y="188640"/>
            <a:ext cx="878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Свое название эта небольшая птичка получила за умение имитировать голоса более 30 видов птиц, а также других животных и даже машин. Кто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962800" y="6093360"/>
            <a:ext cx="3218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ересмеш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4" name="Picture 2" descr="C:\Users\Елена\Desktop\пересмешник.jpg"/>
          <p:cNvPicPr/>
          <p:nvPr/>
        </p:nvPicPr>
        <p:blipFill>
          <a:blip r:embed="rId2"/>
          <a:stretch/>
        </p:blipFill>
        <p:spPr>
          <a:xfrm>
            <a:off x="1493640" y="2421000"/>
            <a:ext cx="5493240" cy="354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556920" y="69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2852280" y="6030000"/>
            <a:ext cx="4847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деревенская ласточ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1\Desktop\ласточка.jpg"/>
          <p:cNvPicPr/>
          <p:nvPr/>
        </p:nvPicPr>
        <p:blipFill>
          <a:blip r:embed="rId1"/>
          <a:stretch/>
        </p:blipFill>
        <p:spPr>
          <a:xfrm>
            <a:off x="2555640" y="270000"/>
            <a:ext cx="5616360" cy="5616360"/>
          </a:xfrm>
          <a:prstGeom prst="rect">
            <a:avLst/>
          </a:prstGeom>
          <a:ln w="0">
            <a:noFill/>
          </a:ln>
        </p:spPr>
      </p:pic>
      <p:sp>
        <p:nvSpPr>
          <p:cNvPr id="178" name="Управляющая кнопка: домой 3">
            <a:hlinkClick r:id="rId2" action="ppaction://hlinksldjump"/>
          </p:cNvPr>
          <p:cNvSpPr/>
          <p:nvPr/>
        </p:nvSpPr>
        <p:spPr>
          <a:xfrm>
            <a:off x="8388360" y="6322320"/>
            <a:ext cx="503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268920" y="33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4419360" y="5970240"/>
            <a:ext cx="1770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голуб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1\Desktop\голубь.jpg"/>
          <p:cNvPicPr/>
          <p:nvPr/>
        </p:nvPicPr>
        <p:blipFill>
          <a:blip r:embed="rId1"/>
          <a:stretch/>
        </p:blipFill>
        <p:spPr>
          <a:xfrm>
            <a:off x="2483640" y="91440"/>
            <a:ext cx="5857560" cy="58575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3">
            <a:hlinkClick r:id="rId2" action="ppaction://hlinksldjump"/>
          </p:cNvPr>
          <p:cNvSpPr/>
          <p:nvPr/>
        </p:nvSpPr>
        <p:spPr>
          <a:xfrm>
            <a:off x="8388360" y="6262560"/>
            <a:ext cx="431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412920" y="33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1\Desktop\ворона.png"/>
          <p:cNvPicPr/>
          <p:nvPr/>
        </p:nvPicPr>
        <p:blipFill>
          <a:blip r:embed="rId1"/>
          <a:stretch/>
        </p:blipFill>
        <p:spPr>
          <a:xfrm>
            <a:off x="3564000" y="611280"/>
            <a:ext cx="5476680" cy="50446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4142880" y="5949360"/>
            <a:ext cx="164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домой 3">
            <a:hlinkClick r:id="rId2" action="ppaction://hlinksldjump"/>
          </p:cNvPr>
          <p:cNvSpPr/>
          <p:nvPr/>
        </p:nvSpPr>
        <p:spPr>
          <a:xfrm>
            <a:off x="8460360" y="6241680"/>
            <a:ext cx="359640" cy="3553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412920" y="476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 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3619440" y="6021360"/>
            <a:ext cx="2855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орел-берку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1\Desktop\орел-беркут.GIF"/>
          <p:cNvPicPr/>
          <p:nvPr/>
        </p:nvPicPr>
        <p:blipFill>
          <a:blip r:embed="rId1"/>
          <a:stretch/>
        </p:blipFill>
        <p:spPr>
          <a:xfrm>
            <a:off x="3224160" y="604800"/>
            <a:ext cx="4587840" cy="486324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домой 3">
            <a:hlinkClick r:id="rId2" action="ppaction://hlinksldjump"/>
          </p:cNvPr>
          <p:cNvSpPr/>
          <p:nvPr/>
        </p:nvSpPr>
        <p:spPr>
          <a:xfrm>
            <a:off x="8316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484920" y="476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4485600" y="6102000"/>
            <a:ext cx="144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1\Desktop\страус.gif"/>
          <p:cNvPicPr/>
          <p:nvPr/>
        </p:nvPicPr>
        <p:blipFill>
          <a:blip r:embed="rId1"/>
          <a:stretch/>
        </p:blipFill>
        <p:spPr>
          <a:xfrm>
            <a:off x="3204000" y="258840"/>
            <a:ext cx="4348800" cy="5627520"/>
          </a:xfrm>
          <a:prstGeom prst="rect">
            <a:avLst/>
          </a:prstGeom>
          <a:ln w="0">
            <a:noFill/>
          </a:ln>
        </p:spPr>
      </p:pic>
      <p:sp>
        <p:nvSpPr>
          <p:cNvPr id="194" name="Управляющая кнопка: домой 3">
            <a:hlinkClick r:id="rId2" action="ppaction://hlinksldjump"/>
          </p:cNvPr>
          <p:cNvSpPr/>
          <p:nvPr/>
        </p:nvSpPr>
        <p:spPr>
          <a:xfrm>
            <a:off x="8316360" y="6021360"/>
            <a:ext cx="431640" cy="431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467640" y="404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- № 6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355640" y="6165360"/>
            <a:ext cx="149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фи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1\Desktop\филин.jpg"/>
          <p:cNvPicPr/>
          <p:nvPr/>
        </p:nvPicPr>
        <p:blipFill>
          <a:blip r:embed="rId1"/>
          <a:stretch/>
        </p:blipFill>
        <p:spPr>
          <a:xfrm>
            <a:off x="2915640" y="160200"/>
            <a:ext cx="4372920" cy="578844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домой 3">
            <a:hlinkClick r:id="rId2" action="ppaction://hlinksldjump"/>
          </p:cNvPr>
          <p:cNvSpPr/>
          <p:nvPr/>
        </p:nvSpPr>
        <p:spPr>
          <a:xfrm>
            <a:off x="8460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95640" y="332640"/>
            <a:ext cx="84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Буревес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766880" y="6021360"/>
            <a:ext cx="575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редвещает бурю на мор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правляющая кнопка: домой 3">
            <a:hlinkClick r:id="rId1" action="ppaction://hlinksldjump"/>
          </p:cNvPr>
          <p:cNvSpPr/>
          <p:nvPr/>
        </p:nvSpPr>
        <p:spPr>
          <a:xfrm>
            <a:off x="8319960" y="6313680"/>
            <a:ext cx="3560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2" name="Picture 2" descr="C:\Users\Елена\Desktop\буревестник1.jpg"/>
          <p:cNvPicPr/>
          <p:nvPr/>
        </p:nvPicPr>
        <p:blipFill>
          <a:blip r:embed="rId2"/>
          <a:stretch/>
        </p:blipFill>
        <p:spPr>
          <a:xfrm>
            <a:off x="1691640" y="1268640"/>
            <a:ext cx="60483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49000" y="476640"/>
            <a:ext cx="6456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Змееяд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597400" y="6021360"/>
            <a:ext cx="419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оедает зм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37360"/>
            <a:ext cx="287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6" name="Picture 2" descr="C:\Users\Елена\Desktop\змееяд.jpg"/>
          <p:cNvPicPr/>
          <p:nvPr/>
        </p:nvPicPr>
        <p:blipFill>
          <a:blip r:embed="rId2"/>
          <a:stretch/>
        </p:blipFill>
        <p:spPr>
          <a:xfrm>
            <a:off x="1907640" y="1395000"/>
            <a:ext cx="5963760" cy="455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9640" y="332640"/>
            <a:ext cx="8712720" cy="78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говорки            </a:t>
            </a:r>
            <a:r>
              <a:rPr b="0" lang="ru-RU" sz="3600" spc="-1" strike="noStrike" u="sng">
                <a:solidFill>
                  <a:srgbClr val="35a185"/>
                </a:solidFill>
                <a:uFillTx/>
                <a:latin typeface="Trebuchet MS"/>
                <a:hlinkClick r:id="rId1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4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5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6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тичья жизнь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7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8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9" action="ppaction://hlinksldjump"/>
              </a:rPr>
              <a:t>3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0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1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тичьи портреты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3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4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5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6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7" action="ppaction://hlinksldjump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8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идна пт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полёту      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9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0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1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2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3" action="ppaction://hlinksldjump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4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Что в и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воём?           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5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6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7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8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9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0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амые, самые…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1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2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3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4" action="ppaction://hlinksldjump"/>
              </a:rPr>
              <a:t>4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5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6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омой 3">
            <a:hlinkClick r:id="rId37" action="ppaction://hlinksldjump"/>
          </p:cNvPr>
          <p:cNvSpPr/>
          <p:nvPr/>
        </p:nvSpPr>
        <p:spPr>
          <a:xfrm>
            <a:off x="539640" y="6309360"/>
            <a:ext cx="359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30840" y="476640"/>
            <a:ext cx="31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0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Лир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3223440" y="6093360"/>
            <a:ext cx="408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хвост в виде ли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309360"/>
            <a:ext cx="359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0" name="Picture 2" descr="C:\Users\Елена\Desktop\лирохвост.jpg"/>
          <p:cNvPicPr/>
          <p:nvPr/>
        </p:nvPicPr>
        <p:blipFill>
          <a:blip r:embed="rId2"/>
          <a:stretch/>
        </p:blipFill>
        <p:spPr>
          <a:xfrm>
            <a:off x="1793160" y="1340640"/>
            <a:ext cx="6226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23640" y="332640"/>
            <a:ext cx="828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 –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полз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565560" y="6165360"/>
            <a:ext cx="691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ползает по стволу дерева вверх-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правляющая кнопка: домой 4">
            <a:hlinkClick r:id="rId1" action="ppaction://hlinksldjump"/>
          </p:cNvPr>
          <p:cNvSpPr/>
          <p:nvPr/>
        </p:nvSpPr>
        <p:spPr>
          <a:xfrm>
            <a:off x="8532360" y="6237360"/>
            <a:ext cx="287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4" name="Picture 2" descr="C:\Users\Елена\Desktop\поползень.jpg"/>
          <p:cNvPicPr/>
          <p:nvPr/>
        </p:nvPicPr>
        <p:blipFill>
          <a:blip r:embed="rId2"/>
          <a:stretch/>
        </p:blipFill>
        <p:spPr>
          <a:xfrm>
            <a:off x="2019960" y="1124640"/>
            <a:ext cx="534312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467640" y="332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Птица-секре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79640" y="5733360"/>
            <a:ext cx="806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на голове – большое перо, что делает ее похожей на писца-секретаря с пером за ух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237360"/>
            <a:ext cx="431640" cy="326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8" name="Picture 2" descr="C:\Users\Елена\Desktop\секретарь.jpg"/>
          <p:cNvPicPr/>
          <p:nvPr/>
        </p:nvPicPr>
        <p:blipFill>
          <a:blip r:embed="rId2"/>
          <a:stretch/>
        </p:blipFill>
        <p:spPr>
          <a:xfrm>
            <a:off x="1142280" y="1124640"/>
            <a:ext cx="6669720" cy="44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467640" y="332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Пав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323640" y="5805360"/>
            <a:ext cx="705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с  фр. «павильон» - палатка, шатер; хвост в виде шат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Управляющая кнопка: домой 4">
            <a:hlinkClick r:id="rId1" action="ppaction://hlinksldjump"/>
          </p:cNvPr>
          <p:cNvSpPr/>
          <p:nvPr/>
        </p:nvSpPr>
        <p:spPr>
          <a:xfrm>
            <a:off x="8388360" y="6309360"/>
            <a:ext cx="359640" cy="326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22" name="Picture 2" descr="C:\Users\Елена\Desktop\павлин.jpg"/>
          <p:cNvPicPr/>
          <p:nvPr/>
        </p:nvPicPr>
        <p:blipFill>
          <a:blip r:embed="rId2"/>
          <a:stretch/>
        </p:blipFill>
        <p:spPr>
          <a:xfrm>
            <a:off x="3924000" y="188640"/>
            <a:ext cx="432000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53360" y="302040"/>
            <a:ext cx="9035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акая птица нашей страны самая маленькая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3218400" y="6021360"/>
            <a:ext cx="254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королек – 5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82720"/>
            <a:ext cx="431640" cy="3139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26" name="Picture 2" descr="C:\Users\Елена\Desktop\королек.jpg"/>
          <p:cNvPicPr/>
          <p:nvPr/>
        </p:nvPicPr>
        <p:blipFill>
          <a:blip r:embed="rId2"/>
          <a:stretch/>
        </p:blipFill>
        <p:spPr>
          <a:xfrm>
            <a:off x="1248120" y="980640"/>
            <a:ext cx="635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151560" y="168120"/>
            <a:ext cx="8366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то откладывает самые большие яйца?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1937520" y="6165360"/>
            <a:ext cx="6086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Африканский страус – 1,6 – 1,8 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правляющая кнопка: домой 3">
            <a:hlinkClick r:id="rId1" action="ppaction://hlinksldjump"/>
          </p:cNvPr>
          <p:cNvSpPr/>
          <p:nvPr/>
        </p:nvSpPr>
        <p:spPr>
          <a:xfrm>
            <a:off x="8562240" y="6381360"/>
            <a:ext cx="401760" cy="3067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30" name="Picture 2" descr="C:\Users\Елена\Desktop\страус.jpg"/>
          <p:cNvPicPr/>
          <p:nvPr/>
        </p:nvPicPr>
        <p:blipFill>
          <a:blip r:embed="rId2"/>
          <a:stretch/>
        </p:blipFill>
        <p:spPr>
          <a:xfrm>
            <a:off x="798120" y="1196640"/>
            <a:ext cx="73018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69480" y="334440"/>
            <a:ext cx="7584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птицы летают быстрее других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323640" y="5733360"/>
            <a:ext cx="4536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стриж – 200 км/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кол-сапсан – 350 км/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Users\1\Desktop\стриж.jpg"/>
          <p:cNvPicPr/>
          <p:nvPr/>
        </p:nvPicPr>
        <p:blipFill>
          <a:blip r:embed="rId1"/>
          <a:stretch/>
        </p:blipFill>
        <p:spPr>
          <a:xfrm>
            <a:off x="513720" y="1124640"/>
            <a:ext cx="3600000" cy="360000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домой 3">
            <a:hlinkClick r:id="rId2" action="ppaction://hlinksldjump"/>
          </p:cNvPr>
          <p:cNvSpPr/>
          <p:nvPr/>
        </p:nvSpPr>
        <p:spPr>
          <a:xfrm>
            <a:off x="8532360" y="6309360"/>
            <a:ext cx="359640" cy="37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35" name="Picture 2" descr="C:\Users\Елена\Desktop\сокол.jpg"/>
          <p:cNvPicPr/>
          <p:nvPr/>
        </p:nvPicPr>
        <p:blipFill>
          <a:blip r:embed="rId3"/>
          <a:stretch/>
        </p:blipFill>
        <p:spPr>
          <a:xfrm>
            <a:off x="4212000" y="2349000"/>
            <a:ext cx="47275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69120" y="119160"/>
            <a:ext cx="6465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акие птицы летают выше все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07640" y="5949360"/>
            <a:ext cx="828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орлы – 3000 км, грифы, кондоры  до 7000 к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Users\1\Documents\папки с фото из инета\птицы\орел2.jpg"/>
          <p:cNvPicPr/>
          <p:nvPr/>
        </p:nvPicPr>
        <p:blipFill>
          <a:blip r:embed="rId1"/>
          <a:stretch/>
        </p:blipFill>
        <p:spPr>
          <a:xfrm>
            <a:off x="323640" y="764640"/>
            <a:ext cx="4416120" cy="3312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1\Desktop\Andean Condor.jpg"/>
          <p:cNvPicPr/>
          <p:nvPr/>
        </p:nvPicPr>
        <p:blipFill>
          <a:blip r:embed="rId2"/>
          <a:stretch/>
        </p:blipFill>
        <p:spPr>
          <a:xfrm>
            <a:off x="4168440" y="2714400"/>
            <a:ext cx="4801320" cy="320076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домой 3">
            <a:hlinkClick r:id="rId3" action="ppaction://hlinksldjump"/>
          </p:cNvPr>
          <p:cNvSpPr/>
          <p:nvPr/>
        </p:nvSpPr>
        <p:spPr>
          <a:xfrm>
            <a:off x="8604360" y="6472440"/>
            <a:ext cx="365400" cy="2685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144360" y="226800"/>
            <a:ext cx="742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У какой птицы самое острое зрение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251640" y="5805360"/>
            <a:ext cx="676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рел-беркут видит зайца на расст. 4,2 к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кол-сапсан замечает голубя на расст. 8 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домой 3">
            <a:hlinkClick r:id="rId1" action="ppaction://hlinksldjump"/>
          </p:cNvPr>
          <p:cNvSpPr/>
          <p:nvPr/>
        </p:nvSpPr>
        <p:spPr>
          <a:xfrm>
            <a:off x="8604360" y="6381360"/>
            <a:ext cx="287640" cy="254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44" name="Picture 2" descr="C:\Users\Елена\Desktop\беркут.jpg"/>
          <p:cNvPicPr/>
          <p:nvPr/>
        </p:nvPicPr>
        <p:blipFill>
          <a:blip r:embed="rId2"/>
          <a:stretch/>
        </p:blipFill>
        <p:spPr>
          <a:xfrm>
            <a:off x="251640" y="980640"/>
            <a:ext cx="4501800" cy="338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Елена\Desktop\сокол.jpg"/>
          <p:cNvPicPr/>
          <p:nvPr/>
        </p:nvPicPr>
        <p:blipFill>
          <a:blip r:embed="rId3"/>
          <a:stretch/>
        </p:blipFill>
        <p:spPr>
          <a:xfrm>
            <a:off x="4896000" y="2349000"/>
            <a:ext cx="42476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147240" y="217080"/>
            <a:ext cx="735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аких птиц самые большие гнезд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251640" y="5949360"/>
            <a:ext cx="712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белоголовый орлан, обитающий в США, ширина – 2,6 м, высота – 6 м, вес – 2 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303240"/>
            <a:ext cx="359640" cy="353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49" name="Picture 2" descr="C:\Users\Елена\Desktop\орлан.jpg"/>
          <p:cNvPicPr/>
          <p:nvPr/>
        </p:nvPicPr>
        <p:blipFill>
          <a:blip r:embed="rId2"/>
          <a:stretch/>
        </p:blipFill>
        <p:spPr>
          <a:xfrm>
            <a:off x="2470320" y="908640"/>
            <a:ext cx="402228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980640"/>
            <a:ext cx="756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10 –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Гусь свинь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4151160" y="2421000"/>
            <a:ext cx="3733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не товари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165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04" name="Picture 2" descr="C:\Users\Елена\Desktop\гусь.jpg"/>
          <p:cNvPicPr/>
          <p:nvPr/>
        </p:nvPicPr>
        <p:blipFill>
          <a:blip r:embed="rId2"/>
          <a:stretch/>
        </p:blipFill>
        <p:spPr>
          <a:xfrm>
            <a:off x="827640" y="2565000"/>
            <a:ext cx="283212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Елена\Desktop\свинья.jpg"/>
          <p:cNvPicPr/>
          <p:nvPr/>
        </p:nvPicPr>
        <p:blipFill>
          <a:blip r:embed="rId3"/>
          <a:stretch/>
        </p:blipFill>
        <p:spPr>
          <a:xfrm>
            <a:off x="4345920" y="3501000"/>
            <a:ext cx="3337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107720" y="2853000"/>
            <a:ext cx="65055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500" spc="-1" strike="noStrike">
                <a:solidFill>
                  <a:srgbClr val="ff5143"/>
                </a:solidFill>
                <a:latin typeface="Trebuchet MS"/>
              </a:rPr>
              <a:t>Берегите птиц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Users\1\Documents\анимашки и рисунки\анимашки\птицы1.gif"/>
          <p:cNvPicPr/>
          <p:nvPr/>
        </p:nvPicPr>
        <p:blipFill>
          <a:blip r:embed="rId1"/>
          <a:stretch/>
        </p:blipFill>
        <p:spPr>
          <a:xfrm>
            <a:off x="755640" y="980640"/>
            <a:ext cx="1728000" cy="1462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1\Documents\анимашки и рисунки\анимашки\птицы4.gif"/>
          <p:cNvPicPr/>
          <p:nvPr/>
        </p:nvPicPr>
        <p:blipFill>
          <a:blip r:embed="rId2"/>
          <a:stretch/>
        </p:blipFill>
        <p:spPr>
          <a:xfrm>
            <a:off x="6948360" y="1124640"/>
            <a:ext cx="1222560" cy="1426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1\Documents\анимашки и рисунки\анимашки\птицы9.gif"/>
          <p:cNvPicPr/>
          <p:nvPr/>
        </p:nvPicPr>
        <p:blipFill>
          <a:blip r:embed="rId3"/>
          <a:stretch/>
        </p:blipFill>
        <p:spPr>
          <a:xfrm>
            <a:off x="3217680" y="3945600"/>
            <a:ext cx="20739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81640" y="1052640"/>
            <a:ext cx="7281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Цыплят по осени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5781600" y="2149560"/>
            <a:ext cx="26607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чит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омой 3">
            <a:hlinkClick r:id="rId1" action="ppaction://hlinksldjump"/>
          </p:cNvPr>
          <p:cNvSpPr/>
          <p:nvPr/>
        </p:nvSpPr>
        <p:spPr>
          <a:xfrm>
            <a:off x="8172360" y="6093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09" name="Picture 2" descr="C:\Users\Елена\Desktop\цыпленок.jpg"/>
          <p:cNvPicPr/>
          <p:nvPr/>
        </p:nvPicPr>
        <p:blipFill>
          <a:blip r:embed="rId2"/>
          <a:stretch/>
        </p:blipFill>
        <p:spPr>
          <a:xfrm>
            <a:off x="635400" y="2709000"/>
            <a:ext cx="4872240" cy="36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827640" y="764640"/>
            <a:ext cx="763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– Старого воробья на мякин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3997440" y="2106360"/>
            <a:ext cx="414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не проведе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13" name="Picture 2" descr="C:\Users\Елена\Desktop\воробей.jpg"/>
          <p:cNvPicPr/>
          <p:nvPr/>
        </p:nvPicPr>
        <p:blipFill>
          <a:blip r:embed="rId2"/>
          <a:stretch/>
        </p:blipFill>
        <p:spPr>
          <a:xfrm>
            <a:off x="539640" y="2925000"/>
            <a:ext cx="422352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23640" y="692640"/>
            <a:ext cx="882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4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На чужой сторонушк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198520" y="1845000"/>
            <a:ext cx="6143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д своей воронуш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093360"/>
            <a:ext cx="503640" cy="431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17" name="Picture 2" descr="C:\Users\Елена\Desktop\ворона.jpg"/>
          <p:cNvPicPr/>
          <p:nvPr/>
        </p:nvPicPr>
        <p:blipFill>
          <a:blip r:embed="rId2"/>
          <a:stretch/>
        </p:blipFill>
        <p:spPr>
          <a:xfrm>
            <a:off x="539640" y="3357000"/>
            <a:ext cx="4295520" cy="32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640" y="836640"/>
            <a:ext cx="8208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5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Всякий кулик своё болот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935880" y="1512360"/>
            <a:ext cx="222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хвал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165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21" name="Picture 2" descr="C:\Users\Елена\Desktop\кулик.jpg"/>
          <p:cNvPicPr/>
          <p:nvPr/>
        </p:nvPicPr>
        <p:blipFill>
          <a:blip r:embed="rId2"/>
          <a:stretch/>
        </p:blipFill>
        <p:spPr>
          <a:xfrm>
            <a:off x="1907640" y="2797560"/>
            <a:ext cx="49593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539640" y="620640"/>
            <a:ext cx="8280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6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Рано пташечка запела, …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823680" y="1556640"/>
            <a:ext cx="711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как бы кошечка не съ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165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25" name="Picture 2" descr="C:\Users\Елена\Desktop\кошка.jpg"/>
          <p:cNvPicPr/>
          <p:nvPr/>
        </p:nvPicPr>
        <p:blipFill>
          <a:blip r:embed="rId2"/>
          <a:stretch/>
        </p:blipFill>
        <p:spPr>
          <a:xfrm>
            <a:off x="4140000" y="2709000"/>
            <a:ext cx="4161240" cy="332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Елена\Desktop\соловей.jpg"/>
          <p:cNvPicPr/>
          <p:nvPr/>
        </p:nvPicPr>
        <p:blipFill>
          <a:blip r:embed="rId3"/>
          <a:stretch/>
        </p:blipFill>
        <p:spPr>
          <a:xfrm>
            <a:off x="611640" y="2349000"/>
            <a:ext cx="280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401</TotalTime>
  <Application>LibreOffice/7.4.7.2$Linux_X86_64 LibreOffice_project/40$Build-2</Application>
  <AppVersion>15.0000</AppVersion>
  <Words>707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09:07:12Z</dcterms:created>
  <dc:creator>1</dc:creator>
  <dc:description/>
  <dc:language>en-US</dc:language>
  <cp:lastModifiedBy>Елена</cp:lastModifiedBy>
  <dcterms:modified xsi:type="dcterms:W3CDTF">2020-04-06T15:16:33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0</vt:r8>
  </property>
</Properties>
</file>