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42.gif" ContentType="image/gif"/>
  <Override PartName="/ppt/media/image25.gif" ContentType="image/gif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43.gif" ContentType="image/gif"/>
  <Override PartName="/ppt/media/image41.gif" ContentType="image/gif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CA2-C5BB-4CE6-AF20-8BD54A6C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804-9FAD-4426-B429-94520A44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15B-CBA8-444F-9CB8-88707322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82E-BB30-4549-A1EA-DAACB2D4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0538-F905-431D-BDD1-FA84AE98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A21D-9B4E-4DD5-A072-716A1FFF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3C95-BA65-41DE-BAC1-54128953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FDC3-3818-48B3-80C8-42CA93E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260D-27F6-4E84-8239-A3E1C3BF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B796-B2B0-400C-94D1-D396048C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2005-4C65-4A44-8B7E-EB2EFB3F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E9AA-C02F-4CD9-9517-EFA74373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C91A-E19E-42A7-B8C2-5D5BC89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8B12-EB20-4763-BBAC-63E36A0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8FAD-DD63-47F2-99B8-436B4402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1FD1-B353-4DE4-8EA7-2B8C9D62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0002-E990-4C1D-BA1E-D3CA6EF0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7DD-22A4-42DD-8D33-946802E8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62F-97D8-4021-A501-114D74E8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968-06D5-4A2C-8BB3-B56E5AA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8DA-F15C-432D-9CDE-D77E9324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957-962E-44F0-A2A9-F5F3E5F8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97A-07E3-4AE3-ACB7-9C8A3B8E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937-1640-43EC-8D7F-1CF5A756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Rectangle 8" hidden="1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3" name="Oval 9" hidden="1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3866760"/>
            <a:ext cx="9143640" cy="299088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0"/>
            <a:ext cx="9143640" cy="386640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0" y="2652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7" name="Oval 13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dt" idx="1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2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2F5832-1818-4A1E-9A32-BEC1ED3E7452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817560" y="3132360"/>
            <a:ext cx="7175160" cy="17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40080" indent="-457200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</a:pPr>
            <a:r>
              <a:rPr b="1" lang="ru-RU" sz="5400" spc="-1" strike="noStrike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d4ff"/>
            </a:gs>
            <a:gs pos="100000">
              <a:srgbClr val="5bb9ff"/>
            </a:gs>
          </a:gsLst>
          <a:path path="circle">
            <a:fillToRect l="50000" t="25000" r="50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5105520"/>
            <a:ext cx="9143640" cy="1752120"/>
          </a:xfrm>
          <a:prstGeom prst="rect">
            <a:avLst/>
          </a:prstGeom>
          <a:gradFill rotWithShape="0">
            <a:gsLst>
              <a:gs pos="0">
                <a:srgbClr val="ffffff">
                  <a:alpha val="91372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9143640" cy="5105160"/>
          </a:xfrm>
          <a:prstGeom prst="rect">
            <a:avLst/>
          </a:prstGeom>
          <a:gradFill rotWithShape="0">
            <a:gsLst>
              <a:gs pos="0">
                <a:srgbClr val="ffffff">
                  <a:alpha val="89019"/>
                </a:srgbClr>
              </a:gs>
              <a:gs pos="100000">
                <a:srgbClr val="b4dcfa">
                  <a:alpha val="79215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3768480"/>
            <a:ext cx="9143640" cy="2285640"/>
          </a:xfrm>
          <a:prstGeom prst="rect">
            <a:avLst/>
          </a:prstGeom>
          <a:gradFill rotWithShape="0">
            <a:gsLst>
              <a:gs pos="0">
                <a:srgbClr val="b4dcfa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2" name="Oval 9"/>
          <p:cNvSpPr/>
          <p:nvPr/>
        </p:nvSpPr>
        <p:spPr>
          <a:xfrm>
            <a:off x="0" y="1600200"/>
            <a:ext cx="9143640" cy="5105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6172200" y="6172200"/>
            <a:ext cx="25142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ru-RU" sz="1100" spc="-1" strike="noStrike">
                <a:solidFill>
                  <a:srgbClr val="808080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457200" y="617220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2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6C2A3C-2597-412B-BFCB-11702AF7A038}" type="slidenum">
              <a:rPr b="1" lang="ru-RU" sz="12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ru-RU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ru-RU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3.xml"/><Relationship Id="rId31" Type="http://schemas.openxmlformats.org/officeDocument/2006/relationships/slide" Target="slide34.xml"/><Relationship Id="rId32" Type="http://schemas.openxmlformats.org/officeDocument/2006/relationships/slide" Target="slide35.xml"/><Relationship Id="rId33" Type="http://schemas.openxmlformats.org/officeDocument/2006/relationships/slide" Target="slide36.xml"/><Relationship Id="rId34" Type="http://schemas.openxmlformats.org/officeDocument/2006/relationships/slide" Target="slide37.xml"/><Relationship Id="rId35" Type="http://schemas.openxmlformats.org/officeDocument/2006/relationships/slide" Target="slide38.xml"/><Relationship Id="rId36" Type="http://schemas.openxmlformats.org/officeDocument/2006/relationships/slide" Target="slide39.xml"/><Relationship Id="rId37" Type="http://schemas.openxmlformats.org/officeDocument/2006/relationships/slide" Target="slide40.xml"/><Relationship Id="rId38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3.xm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566280" y="476640"/>
            <a:ext cx="797004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5143"/>
                </a:solidFill>
                <a:latin typeface="Trebuchet MS"/>
              </a:rPr>
              <a:t>Всякая пти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5143"/>
                </a:solidFill>
                <a:latin typeface="Trebuchet MS"/>
              </a:rPr>
              <a:t>свои песен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8000" spc="-1" strike="noStrike">
                <a:solidFill>
                  <a:srgbClr val="ff5143"/>
                </a:solidFill>
                <a:latin typeface="Trebuchet MS"/>
              </a:rPr>
              <a:t>поё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icture 2"/>
          <p:cNvSpPr/>
          <p:nvPr/>
        </p:nvSpPr>
        <p:spPr>
          <a:xfrm>
            <a:off x="7092360" y="4149000"/>
            <a:ext cx="1738800" cy="2640240"/>
          </a:xfrm>
          <a:prstGeom prst="round2DiagRect">
            <a:avLst>
              <a:gd name="adj1" fmla="val 16667"/>
              <a:gd name="adj2" fmla="val 0"/>
            </a:avLst>
          </a:prstGeom>
          <a:blipFill rotWithShape="0">
            <a:blip r:embed="rId1"/>
            <a:srcRect/>
            <a:stretch/>
          </a:blipFill>
          <a:ln cap="sq" w="88900">
            <a:solidFill>
              <a:srgbClr val="ffffff"/>
            </a:solidFill>
            <a:miter/>
          </a:ln>
          <a:effectLst>
            <a:outerShdw algn="tl" blurRad="25416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902880" y="4437000"/>
            <a:ext cx="5828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гра-викторина, посвященная Международному дню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289440" y="620640"/>
            <a:ext cx="7225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1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Видит ли сова днем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5235120" y="1484640"/>
            <a:ext cx="3081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да, види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Управляющая кнопка: домой 3">
            <a:hlinkClick r:id="rId1" action="ppaction://hlinksldjump"/>
          </p:cNvPr>
          <p:cNvSpPr/>
          <p:nvPr/>
        </p:nvSpPr>
        <p:spPr>
          <a:xfrm>
            <a:off x="8331840" y="6381360"/>
            <a:ext cx="416160" cy="27288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0" name="Picture 2" descr="C:\Users\Елена\Desktop\сова.jpg"/>
          <p:cNvPicPr/>
          <p:nvPr/>
        </p:nvPicPr>
        <p:blipFill>
          <a:blip r:embed="rId2"/>
          <a:stretch/>
        </p:blipFill>
        <p:spPr>
          <a:xfrm>
            <a:off x="1475640" y="2421000"/>
            <a:ext cx="4920480" cy="40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467640" y="476640"/>
            <a:ext cx="8424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2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Какие птицы спят на волнах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4000320" y="5909400"/>
            <a:ext cx="433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буревестники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093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4" name="Picture 2" descr="C:\Users\Елена\Desktop\буревестник.jpg"/>
          <p:cNvPicPr/>
          <p:nvPr/>
        </p:nvPicPr>
        <p:blipFill>
          <a:blip r:embed="rId2"/>
          <a:stretch/>
        </p:blipFill>
        <p:spPr>
          <a:xfrm>
            <a:off x="2581920" y="2061000"/>
            <a:ext cx="544644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395640" y="404640"/>
            <a:ext cx="85687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3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Какая птица может передвигаться по дереву вверх и вниз головой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4406400" y="5877360"/>
            <a:ext cx="34912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поползень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309360"/>
            <a:ext cx="43380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38" name="Picture 2" descr="C:\Users\Елена\Desktop\поползень.jpg"/>
          <p:cNvPicPr/>
          <p:nvPr/>
        </p:nvPicPr>
        <p:blipFill>
          <a:blip r:embed="rId2"/>
          <a:stretch/>
        </p:blipFill>
        <p:spPr>
          <a:xfrm>
            <a:off x="4860000" y="2493000"/>
            <a:ext cx="3574080" cy="32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251640" y="404640"/>
            <a:ext cx="8424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Греки первыми назвали её птицей мудрости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5510160" y="5949360"/>
            <a:ext cx="17586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(сов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Управляющая кнопка: домой 4">
            <a:hlinkClick r:id="rId1" action="ppaction://hlinksldjump"/>
          </p:cNvPr>
          <p:cNvSpPr/>
          <p:nvPr/>
        </p:nvSpPr>
        <p:spPr>
          <a:xfrm>
            <a:off x="8388360" y="6237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42" name="Picture 2" descr="C:\Users\Елена\Desktop\сова.jpg"/>
          <p:cNvPicPr/>
          <p:nvPr/>
        </p:nvPicPr>
        <p:blipFill>
          <a:blip r:embed="rId2"/>
          <a:stretch/>
        </p:blipFill>
        <p:spPr>
          <a:xfrm>
            <a:off x="2278080" y="2061000"/>
            <a:ext cx="4403880" cy="36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1"/>
          <p:cNvSpPr/>
          <p:nvPr/>
        </p:nvSpPr>
        <p:spPr>
          <a:xfrm>
            <a:off x="323640" y="404640"/>
            <a:ext cx="8568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– Эти птицы изображены на гербе Новой Зеландии, а фруктами с таким же названием мы охотно лакомимся.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5791680" y="6021360"/>
            <a:ext cx="1697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(кив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46" name="Picture 2" descr="C:\Users\Елена\Desktop\киви.jpg"/>
          <p:cNvPicPr/>
          <p:nvPr/>
        </p:nvPicPr>
        <p:blipFill>
          <a:blip r:embed="rId2"/>
          <a:stretch/>
        </p:blipFill>
        <p:spPr>
          <a:xfrm>
            <a:off x="1656720" y="2421000"/>
            <a:ext cx="50270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323640" y="260640"/>
            <a:ext cx="85687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– Птица кайра откладывает свои яйца на голой скал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чему яйц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не скатываю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о скалы?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2"/>
          <p:cNvSpPr/>
          <p:nvPr/>
        </p:nvSpPr>
        <p:spPr>
          <a:xfrm>
            <a:off x="179640" y="6381360"/>
            <a:ext cx="763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( они имеют грушевидную форму, центр тяжести смещен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Управляющая кнопка: домой 3">
            <a:hlinkClick r:id="rId1" action="ppaction://hlinksldjump"/>
          </p:cNvPr>
          <p:cNvSpPr/>
          <p:nvPr/>
        </p:nvSpPr>
        <p:spPr>
          <a:xfrm>
            <a:off x="8437680" y="6195600"/>
            <a:ext cx="454680" cy="3855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0" name="Picture 2" descr="C:\Users\Елена\Desktop\кайра.jpg"/>
          <p:cNvPicPr/>
          <p:nvPr/>
        </p:nvPicPr>
        <p:blipFill>
          <a:blip r:embed="rId2"/>
          <a:stretch/>
        </p:blipFill>
        <p:spPr>
          <a:xfrm>
            <a:off x="5364000" y="1196640"/>
            <a:ext cx="29682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323640" y="404640"/>
            <a:ext cx="8568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0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Это самые маленькие в мире птицы, они очень похожи на бабочек- бражников. Они могут летать задом наперед, опыляют разные тропические растения. Кто эти крохотульки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4399200" y="6165360"/>
            <a:ext cx="213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колибр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309360"/>
            <a:ext cx="503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4" name="Picture 2" descr="C:\Users\Елена\Desktop\колибри.jpg"/>
          <p:cNvPicPr/>
          <p:nvPr/>
        </p:nvPicPr>
        <p:blipFill>
          <a:blip r:embed="rId2"/>
          <a:stretch/>
        </p:blipFill>
        <p:spPr>
          <a:xfrm>
            <a:off x="3420000" y="2709000"/>
            <a:ext cx="4458240" cy="33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251640" y="260640"/>
            <a:ext cx="8712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Эта птица обитает в сибирской тайге, в хвойных лесах. Она отличается от всех других птиц тем, что делает запасы на зиму – кедровые орешки. Что это за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3812400" y="6021360"/>
            <a:ext cx="215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 кедров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282720"/>
            <a:ext cx="431640" cy="38628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58" name="Picture 2" descr="C:\Users\Елена\Desktop\кедровка.jpg"/>
          <p:cNvPicPr/>
          <p:nvPr/>
        </p:nvPicPr>
        <p:blipFill>
          <a:blip r:embed="rId2"/>
          <a:stretch/>
        </p:blipFill>
        <p:spPr>
          <a:xfrm>
            <a:off x="1691640" y="2421000"/>
            <a:ext cx="5135400" cy="33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323640" y="260640"/>
            <a:ext cx="85687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0 –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вно известно, что эта птица приносит человеку большую пользу. Весной прилетает одной из первых, ходит по полям, собирает насекомых и их личинок, зимовавших в земле. Летом поедает различных гусениц, жуков. А ещё эта птица прекрасный звукоподражатель – часто распевает песни зябликов, дроздов, малиновок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3421080" y="6309360"/>
            <a:ext cx="1581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скворе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Управляющая кнопка: домой 3">
            <a:hlinkClick r:id="rId1" action="ppaction://hlinksldjump"/>
          </p:cNvPr>
          <p:cNvSpPr/>
          <p:nvPr/>
        </p:nvSpPr>
        <p:spPr>
          <a:xfrm>
            <a:off x="8172360" y="6093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62" name="Picture 2" descr="C:\Users\Елена\Desktop\скворец.jpg"/>
          <p:cNvPicPr/>
          <p:nvPr/>
        </p:nvPicPr>
        <p:blipFill>
          <a:blip r:embed="rId2"/>
          <a:stretch/>
        </p:blipFill>
        <p:spPr>
          <a:xfrm>
            <a:off x="2740320" y="2637000"/>
            <a:ext cx="2655000" cy="34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251640" y="188640"/>
            <a:ext cx="86407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Один из исследователей Антарктиды, увидев этих птиц, писал: Мы увидели птиц, они были больше гусей, а крик их напоминал крик ослов. Летать они не могли. Держались вертикально»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2"/>
          <p:cNvSpPr/>
          <p:nvPr/>
        </p:nvSpPr>
        <p:spPr>
          <a:xfrm>
            <a:off x="2853360" y="6165360"/>
            <a:ext cx="272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(пингвины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66" name="Picture 2" descr="C:\Users\Елена\Desktop\пингвины.jpg"/>
          <p:cNvPicPr/>
          <p:nvPr/>
        </p:nvPicPr>
        <p:blipFill>
          <a:blip r:embed="rId2"/>
          <a:stretch/>
        </p:blipFill>
        <p:spPr>
          <a:xfrm>
            <a:off x="1763640" y="2899800"/>
            <a:ext cx="4784400" cy="319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450080" y="188640"/>
            <a:ext cx="6696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Журавль – птица года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Елена\Desktop\журавли.jpg"/>
          <p:cNvPicPr/>
          <p:nvPr/>
        </p:nvPicPr>
        <p:blipFill>
          <a:blip r:embed="rId1"/>
          <a:stretch/>
        </p:blipFill>
        <p:spPr>
          <a:xfrm>
            <a:off x="2195640" y="908640"/>
            <a:ext cx="4678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251640" y="188640"/>
            <a:ext cx="8712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В странах Юго-Восточной Азии эта птица помогает местным рыбакам в их нелегком труде. После соответствующего обучения, конечно. Что это за птиц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3261240" y="6180120"/>
            <a:ext cx="1833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бакла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180120"/>
            <a:ext cx="5036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0" name="Picture 2" descr="C:\Users\Елена\Desktop\баклан.jpg"/>
          <p:cNvPicPr/>
          <p:nvPr/>
        </p:nvPicPr>
        <p:blipFill>
          <a:blip r:embed="rId2"/>
          <a:stretch/>
        </p:blipFill>
        <p:spPr>
          <a:xfrm>
            <a:off x="1835640" y="2421000"/>
            <a:ext cx="503280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179640" y="188640"/>
            <a:ext cx="878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Свое название эта небольшая птичка получила за умение имитировать голоса более 30 видов птиц, а также других животных и даже машин. Кто эт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2962800" y="6093360"/>
            <a:ext cx="3218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пересмешн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431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74" name="Picture 2" descr="C:\Users\Елена\Desktop\пересмешник.jpg"/>
          <p:cNvPicPr/>
          <p:nvPr/>
        </p:nvPicPr>
        <p:blipFill>
          <a:blip r:embed="rId2"/>
          <a:stretch/>
        </p:blipFill>
        <p:spPr>
          <a:xfrm>
            <a:off x="1493640" y="2421000"/>
            <a:ext cx="5493240" cy="354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556920" y="692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2"/>
          <p:cNvSpPr/>
          <p:nvPr/>
        </p:nvSpPr>
        <p:spPr>
          <a:xfrm>
            <a:off x="2852280" y="6030000"/>
            <a:ext cx="4847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деревенская ласточ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C:\Users\1\Desktop\ласточка.jpg"/>
          <p:cNvPicPr/>
          <p:nvPr/>
        </p:nvPicPr>
        <p:blipFill>
          <a:blip r:embed="rId1"/>
          <a:stretch/>
        </p:blipFill>
        <p:spPr>
          <a:xfrm>
            <a:off x="2555640" y="270000"/>
            <a:ext cx="5616360" cy="5616360"/>
          </a:xfrm>
          <a:prstGeom prst="rect">
            <a:avLst/>
          </a:prstGeom>
          <a:ln w="0">
            <a:noFill/>
          </a:ln>
        </p:spPr>
      </p:pic>
      <p:sp>
        <p:nvSpPr>
          <p:cNvPr id="178" name="Управляющая кнопка: домой 3">
            <a:hlinkClick r:id="rId2" action="ppaction://hlinksldjump"/>
          </p:cNvPr>
          <p:cNvSpPr/>
          <p:nvPr/>
        </p:nvSpPr>
        <p:spPr>
          <a:xfrm>
            <a:off x="8388360" y="6322320"/>
            <a:ext cx="5036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1"/>
          <p:cNvSpPr/>
          <p:nvPr/>
        </p:nvSpPr>
        <p:spPr>
          <a:xfrm>
            <a:off x="268920" y="332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2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"/>
          <p:cNvSpPr/>
          <p:nvPr/>
        </p:nvSpPr>
        <p:spPr>
          <a:xfrm>
            <a:off x="4419360" y="5970240"/>
            <a:ext cx="1770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голуб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1\Desktop\голубь.jpg"/>
          <p:cNvPicPr/>
          <p:nvPr/>
        </p:nvPicPr>
        <p:blipFill>
          <a:blip r:embed="rId1"/>
          <a:stretch/>
        </p:blipFill>
        <p:spPr>
          <a:xfrm>
            <a:off x="2483640" y="91440"/>
            <a:ext cx="5857560" cy="5857560"/>
          </a:xfrm>
          <a:prstGeom prst="rect">
            <a:avLst/>
          </a:prstGeom>
          <a:ln w="0">
            <a:noFill/>
          </a:ln>
        </p:spPr>
      </p:pic>
      <p:sp>
        <p:nvSpPr>
          <p:cNvPr id="182" name="Управляющая кнопка: домой 3">
            <a:hlinkClick r:id="rId2" action="ppaction://hlinksldjump"/>
          </p:cNvPr>
          <p:cNvSpPr/>
          <p:nvPr/>
        </p:nvSpPr>
        <p:spPr>
          <a:xfrm>
            <a:off x="8388360" y="6262560"/>
            <a:ext cx="4316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412920" y="332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1\Desktop\ворона.png"/>
          <p:cNvPicPr/>
          <p:nvPr/>
        </p:nvPicPr>
        <p:blipFill>
          <a:blip r:embed="rId1"/>
          <a:stretch/>
        </p:blipFill>
        <p:spPr>
          <a:xfrm>
            <a:off x="3564000" y="611280"/>
            <a:ext cx="5476680" cy="504468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"/>
          <p:cNvSpPr/>
          <p:nvPr/>
        </p:nvSpPr>
        <p:spPr>
          <a:xfrm>
            <a:off x="4142880" y="5949360"/>
            <a:ext cx="1645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в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Управляющая кнопка: домой 3">
            <a:hlinkClick r:id="rId2" action="ppaction://hlinksldjump"/>
          </p:cNvPr>
          <p:cNvSpPr/>
          <p:nvPr/>
        </p:nvSpPr>
        <p:spPr>
          <a:xfrm>
            <a:off x="8460360" y="6241680"/>
            <a:ext cx="359640" cy="3553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412920" y="476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0 -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№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"/>
          <p:cNvSpPr/>
          <p:nvPr/>
        </p:nvSpPr>
        <p:spPr>
          <a:xfrm>
            <a:off x="3619440" y="6021360"/>
            <a:ext cx="2855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орел-берку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Users\1\Desktop\орел-беркут.GIF"/>
          <p:cNvPicPr/>
          <p:nvPr/>
        </p:nvPicPr>
        <p:blipFill>
          <a:blip r:embed="rId1"/>
          <a:stretch/>
        </p:blipFill>
        <p:spPr>
          <a:xfrm>
            <a:off x="3224160" y="604800"/>
            <a:ext cx="4587840" cy="4863240"/>
          </a:xfrm>
          <a:prstGeom prst="rect">
            <a:avLst/>
          </a:prstGeom>
          <a:ln w="0">
            <a:noFill/>
          </a:ln>
        </p:spPr>
      </p:pic>
      <p:sp>
        <p:nvSpPr>
          <p:cNvPr id="190" name="Управляющая кнопка: домой 3">
            <a:hlinkClick r:id="rId2" action="ppaction://hlinksldjump"/>
          </p:cNvPr>
          <p:cNvSpPr/>
          <p:nvPr/>
        </p:nvSpPr>
        <p:spPr>
          <a:xfrm>
            <a:off x="8316360" y="6237360"/>
            <a:ext cx="431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Прямоугольник 1"/>
          <p:cNvSpPr/>
          <p:nvPr/>
        </p:nvSpPr>
        <p:spPr>
          <a:xfrm>
            <a:off x="484920" y="476640"/>
            <a:ext cx="1741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- №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"/>
          <p:cNvSpPr/>
          <p:nvPr/>
        </p:nvSpPr>
        <p:spPr>
          <a:xfrm>
            <a:off x="4485600" y="6102000"/>
            <a:ext cx="1449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стра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1\Desktop\страус.gif"/>
          <p:cNvPicPr/>
          <p:nvPr/>
        </p:nvPicPr>
        <p:blipFill>
          <a:blip r:embed="rId1"/>
          <a:stretch/>
        </p:blipFill>
        <p:spPr>
          <a:xfrm>
            <a:off x="3204000" y="258840"/>
            <a:ext cx="4348800" cy="5627520"/>
          </a:xfrm>
          <a:prstGeom prst="rect">
            <a:avLst/>
          </a:prstGeom>
          <a:ln w="0">
            <a:noFill/>
          </a:ln>
        </p:spPr>
      </p:pic>
      <p:sp>
        <p:nvSpPr>
          <p:cNvPr id="194" name="Управляющая кнопка: домой 3">
            <a:hlinkClick r:id="rId2" action="ppaction://hlinksldjump"/>
          </p:cNvPr>
          <p:cNvSpPr/>
          <p:nvPr/>
        </p:nvSpPr>
        <p:spPr>
          <a:xfrm>
            <a:off x="8316360" y="6021360"/>
            <a:ext cx="431640" cy="431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467640" y="4046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- № 6  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4355640" y="6165360"/>
            <a:ext cx="149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фи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C:\Users\1\Desktop\филин.jpg"/>
          <p:cNvPicPr/>
          <p:nvPr/>
        </p:nvPicPr>
        <p:blipFill>
          <a:blip r:embed="rId1"/>
          <a:stretch/>
        </p:blipFill>
        <p:spPr>
          <a:xfrm>
            <a:off x="2915640" y="160200"/>
            <a:ext cx="4372920" cy="5788440"/>
          </a:xfrm>
          <a:prstGeom prst="rect">
            <a:avLst/>
          </a:prstGeom>
          <a:ln w="0">
            <a:noFill/>
          </a:ln>
        </p:spPr>
      </p:pic>
      <p:sp>
        <p:nvSpPr>
          <p:cNvPr id="198" name="Управляющая кнопка: домой 3">
            <a:hlinkClick r:id="rId2" action="ppaction://hlinksldjump"/>
          </p:cNvPr>
          <p:cNvSpPr/>
          <p:nvPr/>
        </p:nvSpPr>
        <p:spPr>
          <a:xfrm>
            <a:off x="8460360" y="6237360"/>
            <a:ext cx="431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95640" y="332640"/>
            <a:ext cx="8496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– Буревест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2"/>
          <p:cNvSpPr/>
          <p:nvPr/>
        </p:nvSpPr>
        <p:spPr>
          <a:xfrm>
            <a:off x="1766880" y="6021360"/>
            <a:ext cx="575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предвещает бурю на мор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Управляющая кнопка: домой 3">
            <a:hlinkClick r:id="rId1" action="ppaction://hlinksldjump"/>
          </p:cNvPr>
          <p:cNvSpPr/>
          <p:nvPr/>
        </p:nvSpPr>
        <p:spPr>
          <a:xfrm>
            <a:off x="8319960" y="6313680"/>
            <a:ext cx="356040" cy="2919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2" name="Picture 2" descr="C:\Users\Елена\Desktop\буревестник1.jpg"/>
          <p:cNvPicPr/>
          <p:nvPr/>
        </p:nvPicPr>
        <p:blipFill>
          <a:blip r:embed="rId2"/>
          <a:stretch/>
        </p:blipFill>
        <p:spPr>
          <a:xfrm>
            <a:off x="1691640" y="1268640"/>
            <a:ext cx="60483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549000" y="476640"/>
            <a:ext cx="6456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2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– Змееяд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597400" y="6021360"/>
            <a:ext cx="419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поедает зм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237360"/>
            <a:ext cx="287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06" name="Picture 2" descr="C:\Users\Елена\Desktop\змееяд.jpg"/>
          <p:cNvPicPr/>
          <p:nvPr/>
        </p:nvPicPr>
        <p:blipFill>
          <a:blip r:embed="rId2"/>
          <a:stretch/>
        </p:blipFill>
        <p:spPr>
          <a:xfrm>
            <a:off x="1907640" y="1395000"/>
            <a:ext cx="5963760" cy="455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9640" y="332640"/>
            <a:ext cx="8712720" cy="78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говорки            </a:t>
            </a:r>
            <a:r>
              <a:rPr b="0" lang="ru-RU" sz="3600" spc="-1" strike="noStrike" u="sng">
                <a:solidFill>
                  <a:srgbClr val="35a185"/>
                </a:solidFill>
                <a:uFillTx/>
                <a:latin typeface="Trebuchet MS"/>
                <a:hlinkClick r:id="rId1" action="ppaction://hlinksldjump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4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5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6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тичья жизнь   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7" action="ppaction://hlinksldjump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8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9" action="ppaction://hlinksldjump"/>
              </a:rPr>
              <a:t>3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0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1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2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тичьи портреты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3" action="ppaction://hlinksldjump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4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5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6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7" action="ppaction://hlinksldjump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8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Видна пт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 полёту         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19" action="ppaction://hlinksldjump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0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1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2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3" action="ppaction://hlinksldjump"/>
              </a:rPr>
              <a:t>5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4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Что в име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твоём?              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5" action="ppaction://hlinksldjump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6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7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8" action="ppaction://hlinksldjump"/>
              </a:rPr>
              <a:t>4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29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0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Самые, самые…  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1" action="ppaction://hlinksldjump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2" action="ppaction://hlinksldjump"/>
              </a:rPr>
              <a:t>2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3" action="ppaction://hlinksldjump"/>
              </a:rPr>
              <a:t>3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4" action="ppaction://hlinksldjump"/>
              </a:rPr>
              <a:t>40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5" action="ppaction://hlinksldjump"/>
              </a:rPr>
              <a:t>50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3600" spc="-1" strike="noStrike" u="sng">
                <a:solidFill>
                  <a:srgbClr val="56c7aa"/>
                </a:solidFill>
                <a:uFillTx/>
                <a:latin typeface="Trebuchet MS"/>
                <a:hlinkClick r:id="rId36" action="ppaction://hlinksldjump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омой 3">
            <a:hlinkClick r:id="rId37" action="ppaction://hlinksldjump"/>
          </p:cNvPr>
          <p:cNvSpPr/>
          <p:nvPr/>
        </p:nvSpPr>
        <p:spPr>
          <a:xfrm>
            <a:off x="539640" y="6309360"/>
            <a:ext cx="359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330840" y="476640"/>
            <a:ext cx="318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30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Лиро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3223440" y="6093360"/>
            <a:ext cx="4085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(хвост в виде ли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309360"/>
            <a:ext cx="359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0" name="Picture 2" descr="C:\Users\Елена\Desktop\лирохвост.jpg"/>
          <p:cNvPicPr/>
          <p:nvPr/>
        </p:nvPicPr>
        <p:blipFill>
          <a:blip r:embed="rId2"/>
          <a:stretch/>
        </p:blipFill>
        <p:spPr>
          <a:xfrm>
            <a:off x="1793160" y="1340640"/>
            <a:ext cx="6226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23640" y="332640"/>
            <a:ext cx="828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40 –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ополз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"/>
          <p:cNvSpPr/>
          <p:nvPr/>
        </p:nvSpPr>
        <p:spPr>
          <a:xfrm>
            <a:off x="565560" y="6165360"/>
            <a:ext cx="6911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ползает по стволу дерева вверх-вни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Управляющая кнопка: домой 4">
            <a:hlinkClick r:id="rId1" action="ppaction://hlinksldjump"/>
          </p:cNvPr>
          <p:cNvSpPr/>
          <p:nvPr/>
        </p:nvSpPr>
        <p:spPr>
          <a:xfrm>
            <a:off x="8532360" y="6237360"/>
            <a:ext cx="287640" cy="28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4" name="Picture 2" descr="C:\Users\Елена\Desktop\поползень.jpg"/>
          <p:cNvPicPr/>
          <p:nvPr/>
        </p:nvPicPr>
        <p:blipFill>
          <a:blip r:embed="rId2"/>
          <a:stretch/>
        </p:blipFill>
        <p:spPr>
          <a:xfrm>
            <a:off x="2019960" y="1124640"/>
            <a:ext cx="534312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1"/>
          <p:cNvSpPr/>
          <p:nvPr/>
        </p:nvSpPr>
        <p:spPr>
          <a:xfrm>
            <a:off x="467640" y="33264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5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Птица-секрета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79640" y="5733360"/>
            <a:ext cx="8064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на голове – большое перо, что делает ее похожей на писца-секретаря с пером за ух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237360"/>
            <a:ext cx="431640" cy="326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18" name="Picture 2" descr="C:\Users\Елена\Desktop\секретарь.jpg"/>
          <p:cNvPicPr/>
          <p:nvPr/>
        </p:nvPicPr>
        <p:blipFill>
          <a:blip r:embed="rId2"/>
          <a:stretch/>
        </p:blipFill>
        <p:spPr>
          <a:xfrm>
            <a:off x="1142280" y="1124640"/>
            <a:ext cx="6669720" cy="44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467640" y="332640"/>
            <a:ext cx="4571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60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 – Пав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"/>
          <p:cNvSpPr/>
          <p:nvPr/>
        </p:nvSpPr>
        <p:spPr>
          <a:xfrm>
            <a:off x="323640" y="5805360"/>
            <a:ext cx="7056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(с  фр. «павильон» - палатка, шатер; хвост в виде шатр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Управляющая кнопка: домой 4">
            <a:hlinkClick r:id="rId1" action="ppaction://hlinksldjump"/>
          </p:cNvPr>
          <p:cNvSpPr/>
          <p:nvPr/>
        </p:nvSpPr>
        <p:spPr>
          <a:xfrm>
            <a:off x="8388360" y="6309360"/>
            <a:ext cx="359640" cy="326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22" name="Picture 2" descr="C:\Users\Елена\Desktop\павлин.jpg"/>
          <p:cNvPicPr/>
          <p:nvPr/>
        </p:nvPicPr>
        <p:blipFill>
          <a:blip r:embed="rId2"/>
          <a:stretch/>
        </p:blipFill>
        <p:spPr>
          <a:xfrm>
            <a:off x="3924000" y="188640"/>
            <a:ext cx="432000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153360" y="302040"/>
            <a:ext cx="9035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акая птица нашей страны самая маленькая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3218400" y="6021360"/>
            <a:ext cx="254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королек – 5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Управляющая кнопка: домой 3">
            <a:hlinkClick r:id="rId1" action="ppaction://hlinksldjump"/>
          </p:cNvPr>
          <p:cNvSpPr/>
          <p:nvPr/>
        </p:nvSpPr>
        <p:spPr>
          <a:xfrm>
            <a:off x="8460360" y="6282720"/>
            <a:ext cx="431640" cy="3139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26" name="Picture 2" descr="C:\Users\Елена\Desktop\королек.jpg"/>
          <p:cNvPicPr/>
          <p:nvPr/>
        </p:nvPicPr>
        <p:blipFill>
          <a:blip r:embed="rId2"/>
          <a:stretch/>
        </p:blipFill>
        <p:spPr>
          <a:xfrm>
            <a:off x="1248120" y="980640"/>
            <a:ext cx="635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151560" y="168120"/>
            <a:ext cx="8366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то откладывает самые большие яйца?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1937520" y="6165360"/>
            <a:ext cx="6086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Африканский страус – 1,6 – 1,8 к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Управляющая кнопка: домой 3">
            <a:hlinkClick r:id="rId1" action="ppaction://hlinksldjump"/>
          </p:cNvPr>
          <p:cNvSpPr/>
          <p:nvPr/>
        </p:nvSpPr>
        <p:spPr>
          <a:xfrm>
            <a:off x="8562240" y="6381360"/>
            <a:ext cx="401760" cy="3067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30" name="Picture 2" descr="C:\Users\Елена\Desktop\страус.jpg"/>
          <p:cNvPicPr/>
          <p:nvPr/>
        </p:nvPicPr>
        <p:blipFill>
          <a:blip r:embed="rId2"/>
          <a:stretch/>
        </p:blipFill>
        <p:spPr>
          <a:xfrm>
            <a:off x="798120" y="1196640"/>
            <a:ext cx="730188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"/>
          <p:cNvSpPr/>
          <p:nvPr/>
        </p:nvSpPr>
        <p:spPr>
          <a:xfrm>
            <a:off x="69480" y="334440"/>
            <a:ext cx="7584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0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птицы летают быстрее других?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323640" y="5733360"/>
            <a:ext cx="45360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 стриж – 200 км/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кол-сапсан – 350 км/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C:\Users\1\Desktop\стриж.jpg"/>
          <p:cNvPicPr/>
          <p:nvPr/>
        </p:nvPicPr>
        <p:blipFill>
          <a:blip r:embed="rId1"/>
          <a:stretch/>
        </p:blipFill>
        <p:spPr>
          <a:xfrm>
            <a:off x="513720" y="1124640"/>
            <a:ext cx="3600000" cy="3600000"/>
          </a:xfrm>
          <a:prstGeom prst="rect">
            <a:avLst/>
          </a:prstGeom>
          <a:ln w="0">
            <a:noFill/>
          </a:ln>
        </p:spPr>
      </p:pic>
      <p:sp>
        <p:nvSpPr>
          <p:cNvPr id="234" name="Управляющая кнопка: домой 3">
            <a:hlinkClick r:id="rId2" action="ppaction://hlinksldjump"/>
          </p:cNvPr>
          <p:cNvSpPr/>
          <p:nvPr/>
        </p:nvSpPr>
        <p:spPr>
          <a:xfrm>
            <a:off x="8532360" y="6309360"/>
            <a:ext cx="359640" cy="377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35" name="Picture 2" descr="C:\Users\Елена\Desktop\сокол.jpg"/>
          <p:cNvPicPr/>
          <p:nvPr/>
        </p:nvPicPr>
        <p:blipFill>
          <a:blip r:embed="rId3"/>
          <a:stretch/>
        </p:blipFill>
        <p:spPr>
          <a:xfrm>
            <a:off x="4212000" y="2349000"/>
            <a:ext cx="472752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69120" y="119160"/>
            <a:ext cx="6465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акие птицы летают выше всех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"/>
          <p:cNvSpPr/>
          <p:nvPr/>
        </p:nvSpPr>
        <p:spPr>
          <a:xfrm>
            <a:off x="107640" y="5949360"/>
            <a:ext cx="8280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орлы – 3000 км, грифы, кондоры  до 7000 к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C:\Users\1\Documents\папки с фото из инета\птицы\орел2.jpg"/>
          <p:cNvPicPr/>
          <p:nvPr/>
        </p:nvPicPr>
        <p:blipFill>
          <a:blip r:embed="rId1"/>
          <a:stretch/>
        </p:blipFill>
        <p:spPr>
          <a:xfrm>
            <a:off x="323640" y="764640"/>
            <a:ext cx="4416120" cy="3312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C:\Users\1\Desktop\Andean Condor.jpg"/>
          <p:cNvPicPr/>
          <p:nvPr/>
        </p:nvPicPr>
        <p:blipFill>
          <a:blip r:embed="rId2"/>
          <a:stretch/>
        </p:blipFill>
        <p:spPr>
          <a:xfrm>
            <a:off x="4168440" y="2714400"/>
            <a:ext cx="4801320" cy="3200760"/>
          </a:xfrm>
          <a:prstGeom prst="rect">
            <a:avLst/>
          </a:prstGeom>
          <a:ln w="0">
            <a:noFill/>
          </a:ln>
        </p:spPr>
      </p:pic>
      <p:sp>
        <p:nvSpPr>
          <p:cNvPr id="240" name="Управляющая кнопка: домой 3">
            <a:hlinkClick r:id="rId3" action="ppaction://hlinksldjump"/>
          </p:cNvPr>
          <p:cNvSpPr/>
          <p:nvPr/>
        </p:nvSpPr>
        <p:spPr>
          <a:xfrm>
            <a:off x="8604360" y="6472440"/>
            <a:ext cx="365400" cy="26856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144360" y="226800"/>
            <a:ext cx="742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0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У какой птицы самое острое зрение?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2"/>
          <p:cNvSpPr/>
          <p:nvPr/>
        </p:nvSpPr>
        <p:spPr>
          <a:xfrm>
            <a:off x="251640" y="5805360"/>
            <a:ext cx="6768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рел-беркут видит зайца на расст. 4,2 к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кол-сапсан замечает голубя на расст. 8 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Управляющая кнопка: домой 3">
            <a:hlinkClick r:id="rId1" action="ppaction://hlinksldjump"/>
          </p:cNvPr>
          <p:cNvSpPr/>
          <p:nvPr/>
        </p:nvSpPr>
        <p:spPr>
          <a:xfrm>
            <a:off x="8604360" y="6381360"/>
            <a:ext cx="287640" cy="254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44" name="Picture 2" descr="C:\Users\Елена\Desktop\беркут.jpg"/>
          <p:cNvPicPr/>
          <p:nvPr/>
        </p:nvPicPr>
        <p:blipFill>
          <a:blip r:embed="rId2"/>
          <a:stretch/>
        </p:blipFill>
        <p:spPr>
          <a:xfrm>
            <a:off x="251640" y="980640"/>
            <a:ext cx="4501800" cy="3384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C:\Users\Елена\Desktop\сокол.jpg"/>
          <p:cNvPicPr/>
          <p:nvPr/>
        </p:nvPicPr>
        <p:blipFill>
          <a:blip r:embed="rId3"/>
          <a:stretch/>
        </p:blipFill>
        <p:spPr>
          <a:xfrm>
            <a:off x="4896000" y="2349000"/>
            <a:ext cx="424764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147240" y="217080"/>
            <a:ext cx="7355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аких птиц самые большие гнезда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251640" y="5949360"/>
            <a:ext cx="7128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белоголовый орлан, обитающий в США, ширина – 2,6 м, высота – 6 м, вес – 2 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303240"/>
            <a:ext cx="359640" cy="35352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249" name="Picture 2" descr="C:\Users\Елена\Desktop\орлан.jpg"/>
          <p:cNvPicPr/>
          <p:nvPr/>
        </p:nvPicPr>
        <p:blipFill>
          <a:blip r:embed="rId2"/>
          <a:stretch/>
        </p:blipFill>
        <p:spPr>
          <a:xfrm>
            <a:off x="2470320" y="908640"/>
            <a:ext cx="4022280" cy="48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980640"/>
            <a:ext cx="7560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10 –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Гусь свинь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4151160" y="2421000"/>
            <a:ext cx="3733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не товари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165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04" name="Picture 2" descr="C:\Users\Елена\Desktop\гусь.jpg"/>
          <p:cNvPicPr/>
          <p:nvPr/>
        </p:nvPicPr>
        <p:blipFill>
          <a:blip r:embed="rId2"/>
          <a:stretch/>
        </p:blipFill>
        <p:spPr>
          <a:xfrm>
            <a:off x="827640" y="2565000"/>
            <a:ext cx="2832120" cy="3456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Users\Елена\Desktop\свинья.jpg"/>
          <p:cNvPicPr/>
          <p:nvPr/>
        </p:nvPicPr>
        <p:blipFill>
          <a:blip r:embed="rId3"/>
          <a:stretch/>
        </p:blipFill>
        <p:spPr>
          <a:xfrm>
            <a:off x="4345920" y="3501000"/>
            <a:ext cx="33372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1107720" y="2853000"/>
            <a:ext cx="65055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500" spc="-1" strike="noStrike">
                <a:solidFill>
                  <a:srgbClr val="ff5143"/>
                </a:solidFill>
                <a:latin typeface="Trebuchet MS"/>
              </a:rPr>
              <a:t>Берегите птиц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Users\1\Documents\анимашки и рисунки\анимашки\птицы1.gif"/>
          <p:cNvPicPr/>
          <p:nvPr/>
        </p:nvPicPr>
        <p:blipFill>
          <a:blip r:embed="rId1"/>
          <a:stretch/>
        </p:blipFill>
        <p:spPr>
          <a:xfrm>
            <a:off x="755640" y="980640"/>
            <a:ext cx="1728000" cy="1462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1\Documents\анимашки и рисунки\анимашки\птицы4.gif"/>
          <p:cNvPicPr/>
          <p:nvPr/>
        </p:nvPicPr>
        <p:blipFill>
          <a:blip r:embed="rId2"/>
          <a:stretch/>
        </p:blipFill>
        <p:spPr>
          <a:xfrm>
            <a:off x="6948360" y="1124640"/>
            <a:ext cx="1222560" cy="1426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1\Documents\анимашки и рисунки\анимашки\птицы9.gif"/>
          <p:cNvPicPr/>
          <p:nvPr/>
        </p:nvPicPr>
        <p:blipFill>
          <a:blip r:embed="rId3"/>
          <a:stretch/>
        </p:blipFill>
        <p:spPr>
          <a:xfrm>
            <a:off x="3217680" y="3945600"/>
            <a:ext cx="207396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881640" y="1052640"/>
            <a:ext cx="72813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20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– Цыплят по осени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5781600" y="2149560"/>
            <a:ext cx="26607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счит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домой 3">
            <a:hlinkClick r:id="rId1" action="ppaction://hlinksldjump"/>
          </p:cNvPr>
          <p:cNvSpPr/>
          <p:nvPr/>
        </p:nvSpPr>
        <p:spPr>
          <a:xfrm>
            <a:off x="8172360" y="6093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09" name="Picture 2" descr="C:\Users\Елена\Desktop\цыпленок.jpg"/>
          <p:cNvPicPr/>
          <p:nvPr/>
        </p:nvPicPr>
        <p:blipFill>
          <a:blip r:embed="rId2"/>
          <a:stretch/>
        </p:blipFill>
        <p:spPr>
          <a:xfrm>
            <a:off x="635400" y="2709000"/>
            <a:ext cx="4872240" cy="36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1"/>
          <p:cNvSpPr/>
          <p:nvPr/>
        </p:nvSpPr>
        <p:spPr>
          <a:xfrm>
            <a:off x="827640" y="764640"/>
            <a:ext cx="76323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 – Старого воробья на мякине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3997440" y="2106360"/>
            <a:ext cx="4140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не проведе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237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13" name="Picture 2" descr="C:\Users\Елена\Desktop\воробей.jpg"/>
          <p:cNvPicPr/>
          <p:nvPr/>
        </p:nvPicPr>
        <p:blipFill>
          <a:blip r:embed="rId2"/>
          <a:stretch/>
        </p:blipFill>
        <p:spPr>
          <a:xfrm>
            <a:off x="539640" y="2925000"/>
            <a:ext cx="4223520" cy="35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323640" y="692640"/>
            <a:ext cx="88200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40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– На чужой сторонушке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198520" y="1845000"/>
            <a:ext cx="61430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рад своей воронуш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домой 3">
            <a:hlinkClick r:id="rId1" action="ppaction://hlinksldjump"/>
          </p:cNvPr>
          <p:cNvSpPr/>
          <p:nvPr/>
        </p:nvSpPr>
        <p:spPr>
          <a:xfrm>
            <a:off x="8316360" y="6093360"/>
            <a:ext cx="503640" cy="431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17" name="Picture 2" descr="C:\Users\Елена\Desktop\ворона.jpg"/>
          <p:cNvPicPr/>
          <p:nvPr/>
        </p:nvPicPr>
        <p:blipFill>
          <a:blip r:embed="rId2"/>
          <a:stretch/>
        </p:blipFill>
        <p:spPr>
          <a:xfrm>
            <a:off x="539640" y="3357000"/>
            <a:ext cx="4295520" cy="32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395640" y="836640"/>
            <a:ext cx="8208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50 </a:t>
            </a: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– Всякий кулик своё болото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935880" y="1512360"/>
            <a:ext cx="2228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000000"/>
                </a:solidFill>
                <a:latin typeface="Trebuchet MS"/>
              </a:rPr>
              <a:t>хвал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165360"/>
            <a:ext cx="431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21" name="Picture 2" descr="C:\Users\Елена\Desktop\кулик.jpg"/>
          <p:cNvPicPr/>
          <p:nvPr/>
        </p:nvPicPr>
        <p:blipFill>
          <a:blip r:embed="rId2"/>
          <a:stretch/>
        </p:blipFill>
        <p:spPr>
          <a:xfrm>
            <a:off x="1907640" y="2797560"/>
            <a:ext cx="49593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539640" y="620640"/>
            <a:ext cx="8280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60 </a:t>
            </a: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– Рано пташечка запела, … 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823680" y="1556640"/>
            <a:ext cx="711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как бы кошечка не съе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омой 3">
            <a:hlinkClick r:id="rId1" action="ppaction://hlinksldjump"/>
          </p:cNvPr>
          <p:cNvSpPr/>
          <p:nvPr/>
        </p:nvSpPr>
        <p:spPr>
          <a:xfrm>
            <a:off x="8388360" y="6165360"/>
            <a:ext cx="503640" cy="359640"/>
          </a:xfrm>
          <a:prstGeom prst="actionButtonHome">
            <a:avLst/>
          </a:prstGeom>
          <a:solidFill>
            <a:srgbClr val="4e67c8"/>
          </a:solidFill>
          <a:ln>
            <a:solidFill>
              <a:srgbClr val="1e2e68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pic>
        <p:nvPicPr>
          <p:cNvPr id="125" name="Picture 2" descr="C:\Users\Елена\Desktop\кошка.jpg"/>
          <p:cNvPicPr/>
          <p:nvPr/>
        </p:nvPicPr>
        <p:blipFill>
          <a:blip r:embed="rId2"/>
          <a:stretch/>
        </p:blipFill>
        <p:spPr>
          <a:xfrm>
            <a:off x="4140000" y="2709000"/>
            <a:ext cx="4161240" cy="332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C:\Users\Елена\Desktop\соловей.jpg"/>
          <p:cNvPicPr/>
          <p:nvPr/>
        </p:nvPicPr>
        <p:blipFill>
          <a:blip r:embed="rId3"/>
          <a:stretch/>
        </p:blipFill>
        <p:spPr>
          <a:xfrm>
            <a:off x="611640" y="2349000"/>
            <a:ext cx="280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здушный поток">
  <a:themeElements>
    <a:clrScheme name="Воздушный поток">
      <a:dk1>
        <a:srgbClr val="000000"/>
      </a:dk1>
      <a:lt1>
        <a:srgbClr val="ffffff"/>
      </a:lt1>
      <a:dk2>
        <a:srgbClr val="212745"/>
      </a:dk2>
      <a:lt2>
        <a:srgbClr val="b4dcfa"/>
      </a:lt2>
      <a:accent1>
        <a:srgbClr val="4e67c8"/>
      </a:accent1>
      <a:accent2>
        <a:srgbClr val="5eccf3"/>
      </a:accent2>
      <a:accent3>
        <a:srgbClr val="a7ea52"/>
      </a:accent3>
      <a:accent4>
        <a:srgbClr val="5dceaf"/>
      </a:accent4>
      <a:accent5>
        <a:srgbClr val="ff8021"/>
      </a:accent5>
      <a:accent6>
        <a:srgbClr val="f14124"/>
      </a:accent6>
      <a:hlink>
        <a:srgbClr val="56c7aa"/>
      </a:hlink>
      <a:folHlink>
        <a:srgbClr val="59a8d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lipstream</Template>
  <TotalTime>401</TotalTime>
  <Application>LibreOffice/7.4.7.2$Linux_X86_64 LibreOffice_project/40$Build-2</Application>
  <AppVersion>15.0000</AppVersion>
  <Words>707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7T09:07:12Z</dcterms:created>
  <dc:creator>1</dc:creator>
  <dc:description/>
  <dc:language>en-US</dc:language>
  <cp:lastModifiedBy>Елена</cp:lastModifiedBy>
  <dcterms:modified xsi:type="dcterms:W3CDTF">2020-04-06T15:16:33Z</dcterms:modified>
  <cp:revision>3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40</vt:r8>
  </property>
</Properties>
</file>