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3761-8DE8-475E-B036-AFF9CD46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8264-C768-4BBE-87E7-C705B196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368C-426B-44D9-8CAE-00D60F49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E4B5-942F-4386-A4C0-CE185CBA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40F1-C462-4C21-B221-606DA90B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558B-EE03-44CB-B4F0-CF08D7ED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0D7B-BF24-417E-8F19-F47B3F23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6F14-3AF4-4CA6-A60E-F7D2879E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D296-2FDA-48A4-9480-1EC0C400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1EEE-733D-4ED4-BE34-74ACE943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3A74-8758-4E5A-B2F8-0922BE0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9F70-ED3E-4756-A344-3ED78822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3169-4F0C-4EC2-873C-61BE6927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F3AD-4BD9-4C58-8601-E93553BA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964A-4316-4058-BF0B-0E5A5A62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E347-B31F-439F-A3CF-40558CF4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AC1B-962E-432A-88A8-161163D3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3FE9-C735-41C8-8096-12DEE416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64AB-D50E-498C-B5FD-286B342F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3015-EDA4-46A4-B937-EFEF5FD2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E4BF-EC4A-4323-BB75-3B436DA3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B53E-77E6-4BCF-AC3C-1B22CC85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6F71-DB08-4F1E-A1E8-81653D1A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BBFE-A2F3-41DC-847C-4F3320C7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AD24-471C-4EF2-8A03-B49495E334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2FC6-AB56-47C4-B28E-BEDA742FFE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Парентеральные способы введения лекарственных средств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818240"/>
            <a:ext cx="601992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ведения подкожной инъе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мыть руки, надеть перчат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ать место инъекции последовательно двумя ватными шариками со спиртом (вначале большую зону, затем - непосредственно место инъекци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ть в правую руку шпри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"уложить" его в руку (2-м пальцем правой руки держать канюлю иглы, 3-4-ми пальцами держать цилиндр снизу, а 1-м пальцем - сверху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рать левой рукой кожу в скла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ой формы, основанием вни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сти иглу под углом 45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ание кожной складки на глубину 2/3 длины иглы, придерживайте указательным пальцем канюлю игл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нести левую руку на поршень и ввести лекарственное средство (не перекладывая  шприц из  одной руки в другую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ить к месту укола чистый ватный шарик со спи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имышечные инъ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7920"/>
            <a:ext cx="8928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быстрый эффект, чем при подкожном вве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ая переносимость (некоторые лекарственные средства при подкожном введении вызывают боли и плохо рассасываются, что приводит к образованию инфильтра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ая всасываемость (мышцы обладают более широкой сетью кровеносных и лимфатических сосудов, что создает условия для быстрого и полного всасывания лекар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нутримышечной инъекции создается депо, из которого лекарственное средство медленно всасывается в кровеносное русло, это поддерживает необходимую его концентрацию в органи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а для внутримышечных инъекций: где имеется значительный слой мышечной ткани и не подходят близко крупные сосуды и нервные стволы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шцы ягодицы – верхненаружный квадра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ина игл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от толщины слоя подкожно-жировой клетчатки, т.к. необходимо, чтобы при введении игла прошла подкожную клетчатку и попала в толщу мышц (при чрезмерном подкожно-жировом слое - длина иглы 60 мм, при умеренном – 40 м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действий при внутримышечной инъе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ожить больного, он может лежать: на животе - пальцы ног повернуты внутрь, либо на боку - нога, которая окажется сверху, согнута в бедре и колене, чтобы расслабить ягодичную мыш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щупать следующие анатомические образования: верхнюю заднюю подвздошную ость и большой вертел бедренной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одну линию перпендикулярно вниз от середины ости к середине подколенной ямки, другую - от вертела к позвоночнику (проекция седалищного нерва проходит несколько ниже горизонтальной линии вдоль перпендикуля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место инъекции, которое локализуется в верхненаружном квадранте в верхненаружной части, приблизительно на 5-8 см ниже гребня подвздошной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вторных инъекциях надо чередовать правую и левую стороны, менять места инъекций: это уменьшает болезненность процедуры и является профилактикой осло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утривенные инъ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34136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лекарственного вещества непосредственно в кровяное рус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нутривенных инъекций чаще всего используют вены локтевой ямки, поскольку они имеют большой диаметр, лежат поверхностно и сравнительно мало смещаются, а также поверхностные вены кисти, предплечья, реже вены нижних конечностей.  Подкожные вены верхней конечности - лучевая и локтевая подкожные в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непункц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проводить в два приё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раздельного прокалывания кожи, а затем передней стенки в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моментным прокалыванием кожи и стенок в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введения иглы в просвет вены поступление крови из иглы свидетельствует о правильном её положении в вене. Если кровь отсутствует, т.е. игла не попала в вену, следует продвинуть иглу и повторно проколоть ве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извлечения иглы из вены к месту венепункции прикладывают ватный шарик, смоченный спиртом, прижимают пальцем на 1 – 2 минуты, сгибают руку больного в локтевом суставе или накладывают стерильную давящую повяз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утривенные капельные вли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5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емы одноразового применения изготавливаются из пластмассы, стерилизуются заводом-изготовителем и выпускаются в стерильной упаковке с указанием серии и даты стерил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ы для одноразового вливания из флаконов, закрытых резиновой пробкой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остоят из короткой трубки с игл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ступления во флакон воздух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линной труб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пельницей. На одном конце короткой трубки имеется игла, на другом — фильтр для задержки пыли. На конце длинной трубки есть игла для прокалывания резиновой пробки флакона,  на другом — канюля, идущая к игле, вводимой в вену. Иглы находятся в особых колпач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5788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утривенное капельное вли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вводить медленно большие количества жидкости (до несколько литров в сут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 метод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лучшая перенос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водимая жидкость медленно всасывается и дольше задерживается в организме, не вызывает больших колебаний артериального давления и не усложняет работу серд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вливания надо следить з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ьностью рабо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й системы: не промокает ли повязка раствором, не образовался ли инфильтрат или отечность в области вливания вследствие поступления жидкости мимо вены, наружу или в окружающую клетчатку, не прекратился ли ток жидкости из-за перегиба трубок системы или закупорки в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лучае прекращения тока жидк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это вызвано тромбированием вены, нельзя повышать давление в системе и пытаться прочистить канюлю, а необходимо переменить место вливания, производя новую пункцию вены в другом мес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ериферических катетеров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2060640"/>
          <a:ext cx="7559640" cy="4017960"/>
        </p:xfrm>
        <a:graphic>
          <a:graphicData uri="http://schemas.openxmlformats.org/drawingml/2006/table">
            <a:tbl>
              <a:tblPr/>
              <a:tblGrid>
                <a:gridCol w="1219320"/>
                <a:gridCol w="1274760"/>
                <a:gridCol w="1143000"/>
                <a:gridCol w="3922560"/>
              </a:tblGrid>
              <a:tr h="577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 ПВ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ласть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Оранже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0 х 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ое переливание больших объемов жидкости или препаратов кров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5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5b5b98"/>
                          </a:solidFill>
                          <a:latin typeface="Arial"/>
                        </a:rPr>
                        <a:t>Серый</a:t>
                      </a:r>
                      <a:r>
                        <a:rPr b="1" lang="ru-RU" sz="1100" spc="-1" strike="noStrike">
                          <a:solidFill>
                            <a:srgbClr val="5b5b98"/>
                          </a:solidFill>
                          <a:latin typeface="Arial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7 х 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ое переливание больших объемов жидкости или препаратов кров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ый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 х 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ливание больших объемов жидкости и препаратов кров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3980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Зеле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 х 32-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циенты которым проводится переливание препаратов крови (эритроцитарной массы) в плановом порядк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5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Розо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 х 32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циенты на длительной внутривенной терапии (от 2-3 литров в сутки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Голуб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8 х 2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циенты на длительной внутривенной терапии, педиатрия, онколог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5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елт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7 х 19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кология, педиатрия, тонкие склерозированные вен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Фиолето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,6 х 19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кология, педиатрия, тонкие склерозированные вен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типа и размера кате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8000" y="1412640"/>
            <a:ext cx="8928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при выборе катет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 в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ая скорость введения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ьное время нахождения катетера в 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йства вводимого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юля ни в коем случае не должна полностью закупоривать в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й принцип выбора катетера: использовать наименьший из размеров, обеспечивающий необходимую скорость введения в самой крупной из доступных периферических в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В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рт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наличием дополнительного инъекционного порта - для введения препаратов без дополнительной пункции) - возможно безигольное болюсное (прерывистое) введение препаратов без прерывания внутривенной инфу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портирова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без пор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ые осложнения при парантеральном  применении лекар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2421000"/>
          <a:ext cx="7488360" cy="4187880"/>
        </p:xfrm>
        <a:graphic>
          <a:graphicData uri="http://schemas.openxmlformats.org/drawingml/2006/table">
            <a:tbl>
              <a:tblPr/>
              <a:tblGrid>
                <a:gridCol w="2592360"/>
                <a:gridCol w="4896000"/>
              </a:tblGrid>
              <a:tr h="1380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ия правил асеп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фильтрат, абсцесс, сепсис, сывороточный гепатит, СП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40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равильный выбор места инъе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хо рассасывающиеся инфильтраты, повреждения надкостницы (периостит), сосудов (некроз, эмболия), нервов (паралич, неври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40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равильная техника выполнения инъе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мка иглы, воздушная или медикаментозная эмболия, аллергические реакции, некроз тканей, гемато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развитии гематомы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ункцию вены следует прекратить и прижать ее на несколько минут ватой со спиртом. Необходимую внутривенную инъекцию в этом случае делают в другую вену, а на область гематомы кладут местный согревающий компр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некроз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каней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ложить жгут выше места инъекции, затем ввести в место инъекции и вокруг него 0,9 % раствор натрия хлорида, всего 50-80 мл (снизит концентрацию препара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Виды применения лекарственных средст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50752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ная терапия (мази, кремы, гель, настой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оральная терапия (таблетки, суспензии, сиропы, капсу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ентеральная 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ивенные инъекции и вл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имышечные инъ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ожные инъ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галяционная 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йствия при анафилактическом шок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тить введение препа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дленно вызвать вр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ожить больного на спину на ровную твердую поверх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поднять ножной конец крова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у повернуть на бок, вынуть зубные протезы (если они имеютс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озволяет локализация, наложить жгут выше места введения аллерг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ь холод на место в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егнуть стесняющую одеж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ентеральное введ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еч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рядом, вблизи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enter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кишечник) - способ введения лекарственных веществ в организм, минуя пищеварительный тра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ентеральное  введение  лекарств осуществляют посредством инъекции (лат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inject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вбрасывать, впрыскивать) - введения в организм жидкости с помощью шпр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78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ентеральные пути введения лекарственных вещест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 тка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к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мышеч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ко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вен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артериа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имфатические сосу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ол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левральную пол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рюшную пол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сердеч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уставную пол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субарахноидальное простр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имущества инъекционного пути введ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строта наступления терапевтического эфф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утствие на пути всасывания препаратов ферментных систем, инактивирующие лекарственные вещ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утствие контакта препарата с кишечной микрофлорой, соответственно, снижается риск развития дисбиотических нарушен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имышечное введ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корость и степень всасывания лекарственных веществ  оказывают влия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ток в месте инъекции (он снижается при сердечной недостаточности и респираторном дистресс-синдроме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ечная масса и активность (всасывание замедляется у пациентов, находящихся в неподвижном состояни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и полнее всасываются лекарственные средства при введении их в бедро, чем в ягодичную мыш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ПР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483920"/>
            <a:ext cx="84358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едназначены для подкожного, внутримышечного и внутривенного введения жидких лекарственных средств, а также для отсасывания различных жидкостей из организма при кратковременном контакте с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ровью и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имфой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зависимости от структуры шприцы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вухкомпонентные - состоят из цилиндра и поршн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рехкомпонентные – состоят из цилиндра, поршня и уплотнителя, с помощью которого обеспечивается большая плавность ход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объему шприц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ообъемные (0,3, 0,5 и 1,0 мл)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ют для точного введения лекарственного средства в эндокринологии (инсулиновый шприц), фтизиатрии (туберкулиновый шприц), неонатологии, а также для вакцинации и проведения аллергологических внутрикожных про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ндартного объема (2, 5, 10 и 20 мл)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повсеместно для всех видов инъекций (подкожных, внутримышечных, внутривен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го объ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30, 50, 100 и 150 м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предназначены для промывания полостей, введения питательных сред, отсасывания гноя и других жидк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кожные инъек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7640" y="1052640"/>
            <a:ext cx="90010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учшая всасываемость лекарственного вещества по сравнению с пероральным введением (подкожно-жировой слой хорошо снабжен кровеносными сосудами, подкожно введенные лекарственные вещества оказывают действие быстрее, так как быстро всасываютс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е инъекции производят иглой самого малого диаметра на глубину до 15 мм и вводят до 2 мл лекарственных препаратов, которые быстро всасываются в рыхлой подкожной клетчатке и не оказывают на нее вредн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4:39:18Z</dcterms:created>
  <dc:creator>pc-01</dc:creator>
  <dc:description/>
  <dc:language>en-US</dc:language>
  <cp:lastModifiedBy>marinakozlovskaya@outlook.com</cp:lastModifiedBy>
  <dcterms:modified xsi:type="dcterms:W3CDTF">2020-09-24T04:41:37Z</dcterms:modified>
  <cp:revision>68</cp:revision>
  <dc:subject/>
  <dc:title>Общий уход в терапии: предмет и задачи курса</dc:title>
</cp:coreProperties>
</file>