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ECCA-7F8F-4F4A-98E1-9928E1DE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CF6-6662-4D67-B177-8E0CBCCE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07EE3-E62F-4019-9BF8-005A558D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039BB-EDC7-43B5-A780-6DF4C9F8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B1FDB-032F-4065-8196-64D4E44F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2C59F-636D-4895-BEBA-3F0C223A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490C1-68EC-4DD9-88A2-99B4A6D5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00E8C-6033-4931-9E44-48418ADF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40D71-8753-44D8-A94E-1861AF27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DBDB1-B4CD-47A2-B751-0EBB5AFE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00FF7-E18B-4E0F-9033-25D18417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1E10-F9E2-4F25-A678-5E5E65A7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4550-0C8D-4594-8543-B8E3D51D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63E7-E283-4266-8151-D12A13E9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96E5-961F-4B2B-B6F1-C825794F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E094-A78D-4FBF-BC98-6B12EEA6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B186-2213-4DC7-8A15-478E780A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3AC9-B523-4DD1-9775-A56B7554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EDF1-F8BA-4468-BF4A-BA031B35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4BD7-5B30-4E0E-AE26-4B736B9B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D8D1-B54B-47AD-9589-2FDB5EC3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409F-2123-444A-BE12-3E976BB0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E89B-FBB7-45F4-B6B9-A9ED4AAE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1373-2E32-443E-9CBD-6A23884D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05B8-7AD4-414C-B98C-9C0F6EF6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4F4D-522C-48D1-ABF8-8AC2C7C6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CBEBD-E678-4A79-BD4C-4CFC3E54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A9718-6F4F-4820-B3AF-178D14D8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D1AF9-E58F-49EE-8732-CCEFCDE6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3B5FB-9B21-4B7E-B84C-7726E11B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47D84-B110-49F6-817E-7B4DFC4B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04C1-86FA-47CB-8AD0-5A47CED0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EA67C-00D1-49E9-9003-6CFD54B2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DD686-FC74-4B2D-B0A7-5A3C1D38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0E69F-29C5-4309-8C3A-AB9265B4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2C4EF-DAE6-4EA1-844C-D697AFD1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0B1BA-6290-4136-B6EC-665E1C9D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41EFC-9795-44CE-8869-E3CA464C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EA388-7149-41C6-8316-F920AA8D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0F773-2434-4C4F-B811-F52C8031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98A6A-8D23-46BB-A58B-3BDB5096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F0B88-2DC0-4812-9DDC-1D1D5AD1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5BE-A693-4D98-9F03-9615A98C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2B9C1-7D3B-4A5A-8395-9C270EE8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5B1FC-04AC-4CE6-97C3-102EDFF8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FA522-2E67-43CB-9F77-DC055190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F4DA9-4B02-45A0-B97C-C1E73D7A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51578-42BA-46E5-B462-0EFC3D5E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6E9C7-F4D2-4BC3-91AE-06BFC7D6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EE0B3-615D-46F5-B2C0-9AF92651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68BC2-CB71-4C4F-B6CD-A2C5BA38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EC5B3-1F6D-47F9-AC97-7C116632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E3C10-7138-477E-BF27-4259F13A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FC0F-65E6-445A-A910-D373B50A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01D00-5B6C-4C02-B7F5-7C179099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5E7D8-80C5-478C-9E67-CC7DD8B4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57AC2-999B-4EB7-B986-61094AE8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398FB-E4E9-4062-A880-6C725116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C7432-EDBD-430F-906A-361095DE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61D2F-AE9C-437B-9393-11539310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BF474-B189-4D5A-8B15-73A43F23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B81EF-AB62-47E6-B41A-ABB83AEB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35EAA-51D1-4E39-A6F4-D96612FA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C3573-2FF9-4820-919B-C899A3F0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BD3-F678-4C7D-81AF-FF91F1F0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77898-854B-4239-BBEB-CF47E93D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E199A-668B-4C83-86E8-43C87387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75740-04E8-4C15-9E45-C868E05A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EFE79-DF38-49C7-89ED-B9D4E1F2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BFF42-70FE-468C-91EC-7AC70D3C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329B6-1F4B-42A3-9088-A7097E95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16D9E-CEB5-4387-83AE-0052226C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C7F53-7DC3-4F09-BFF6-3E3F966E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04ABB-3ABD-4AD0-941A-823A85CF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DB619-C47F-42F2-8C17-B67B0C26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C15-5B91-4915-8C37-256A3E6A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81D02-D975-4F6A-B7A5-FA0408A7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682F3-8300-4125-84CD-8817B37E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890CF-DD63-45E8-9F5C-48569852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BE730-CEB4-4D3E-A68E-7F84A194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A301C-F82B-4C42-BB78-B8669A00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F9242-FDDD-43DC-B11D-24A05142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E82DF-501D-4F37-A130-A23F3CE5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5E76E-5D04-4AAB-9817-E27138B6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E91A1-4659-4D11-A00D-1BC1D8EC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F9335-29BC-4CA8-9C36-6F5A6551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405-5D86-4EA8-911C-9F80F8B7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BA8D1-DC0C-42BD-BCDC-705A55DC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FF387-5D01-4477-A157-E3E27FAD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A2EC6-08BB-41A2-9CD4-052BE0E6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ACC8B-5024-4FDE-B66B-DC9458C6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73D2F-9969-46ED-ADE3-C5D6A6E1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93D34-005A-4C44-BFC7-4DD172EB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EABB3-AB6C-4FD3-AC58-374984A9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3F8E4-FA5E-4B3B-828F-E6E97935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5051D-BAA7-4827-A0C4-AF461760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EFC2C-ECCF-4B93-A351-974CEF9C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F69-31B7-465A-B2CE-6CAADDAB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6CB0B-8A8D-4B65-9658-0AE4CE7A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009BE-5884-40DF-8300-065F2CF5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9AD3F-3A01-4EF9-ACAB-35D3304E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66960-BEBD-458C-9068-900AC8AE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3C4A5-914E-4F31-989C-39ADF553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FEFBC-3CB9-4D7A-9E91-29F2B066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3E7AA-DFA9-4C18-84D6-AAD5AB4B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96DB4-7F25-4BC8-9A6A-14A95737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32F91-0599-4869-A2CA-E8D1515D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07EE4-8D11-4C2E-985F-0850EBD2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38C1-56F4-40A3-A150-67B8EEC4170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2A3C-2D39-4222-A5E6-23BA4572B09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F3AB-AE8C-4A79-90B8-2AE63F7666F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3480-B3B6-48CB-A6DC-C36270B564F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91C6-ED0A-4940-9EC6-A11F0F7737C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3802-F8A4-499C-898A-6C2DC7E3C7E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C5E7-AA86-4136-9FFC-43D7D55C84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8A2B-7D43-47EE-A993-6CC6FDD7C30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A12C-311B-498E-84D4-8355788C25B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469800" y="633240"/>
            <a:ext cx="828360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262080" y="133200"/>
            <a:ext cx="8503920" cy="2281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95280" y="256500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Это вопрос с вопросительным слово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Специальные вопросы адресуются к подлежащему и к другим членам предложения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Вопросы к подлежащему имеют особую структур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304920" y="139680"/>
            <a:ext cx="8504280" cy="15606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Вопросительное слово</a:t>
            </a:r>
            <a:r>
              <a:rPr b="0" lang="ru-RU" sz="2800" spc="-1" strike="noStrike">
                <a:solidFill>
                  <a:srgbClr val="695008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695008"/>
                </a:solidFill>
                <a:latin typeface="Century Gothic"/>
              </a:rPr>
              <a:t>Who </a:t>
            </a:r>
            <a:r>
              <a:rPr b="0" lang="en-US" sz="2800" spc="-1" strike="noStrike">
                <a:solidFill>
                  <a:srgbClr val="4e3b30"/>
                </a:solidFill>
                <a:latin typeface="Century Gothic"/>
              </a:rPr>
              <a:t>(</a:t>
            </a: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или </a:t>
            </a:r>
            <a:r>
              <a:rPr b="0" lang="en-US" sz="2800" spc="-1" strike="noStrike">
                <a:solidFill>
                  <a:srgbClr val="4e3b30"/>
                </a:solidFill>
                <a:latin typeface="Century Gothic"/>
              </a:rPr>
              <a:t>What</a:t>
            </a: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, если подлежащее выражено неодушевленным существительным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Глагол в форме, употребляемой в повествовательном предложени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Второстепенные члены предложени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008"/>
                </a:solidFill>
                <a:latin typeface="Century Gothic"/>
              </a:rPr>
              <a:t>Например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Century Gothic"/>
              </a:rPr>
              <a:t>Who goes to the swimming-pool twice a week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165240" y="281160"/>
            <a:ext cx="8521560" cy="15048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24000" y="1773360"/>
            <a:ext cx="85802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Вопросительное слово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Вспомогательный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или модальный глагол в нужной форм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Подлежаще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Основная форма глагол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Второстепенные члены предложен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008"/>
                </a:solidFill>
                <a:latin typeface="Century Gothic"/>
              </a:rPr>
              <a:t>Например: </a:t>
            </a:r>
            <a:r>
              <a:rPr b="0" lang="en-US" sz="2400" spc="-1" strike="noStrike">
                <a:solidFill>
                  <a:srgbClr val="695008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Where </a:t>
            </a:r>
            <a:r>
              <a:rPr b="0" lang="en-US" sz="2400" spc="-1" strike="noStrike" u="sng">
                <a:solidFill>
                  <a:srgbClr val="4e3b30"/>
                </a:solidFill>
                <a:uFillTx/>
                <a:latin typeface="Century Gothic"/>
              </a:rPr>
              <a:t>did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 you </a:t>
            </a:r>
            <a:r>
              <a:rPr b="0" lang="en-US" sz="2400" spc="-1" strike="noStrike" u="sng">
                <a:solidFill>
                  <a:srgbClr val="4e3b30"/>
                </a:solidFill>
                <a:uFillTx/>
                <a:latin typeface="Century Gothic"/>
              </a:rPr>
              <a:t>go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 yesterday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What </a:t>
            </a:r>
            <a:r>
              <a:rPr b="0" lang="en-US" sz="2400" spc="-1" strike="noStrike" u="sng">
                <a:solidFill>
                  <a:srgbClr val="4e3b30"/>
                </a:solidFill>
                <a:uFillTx/>
                <a:latin typeface="Century Gothic"/>
              </a:rPr>
              <a:t>can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 I </a:t>
            </a:r>
            <a:r>
              <a:rPr b="0" lang="en-US" sz="2400" spc="-1" strike="noStrike" u="sng">
                <a:solidFill>
                  <a:srgbClr val="4e3b30"/>
                </a:solidFill>
                <a:uFillTx/>
                <a:latin typeface="Century Gothic"/>
              </a:rPr>
              <a:t>do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 for you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Why </a:t>
            </a:r>
            <a:r>
              <a:rPr b="0" lang="en-US" sz="2400" spc="-1" strike="noStrike" u="sng">
                <a:solidFill>
                  <a:srgbClr val="4e3b30"/>
                </a:solidFill>
                <a:uFillTx/>
                <a:latin typeface="Century Gothic"/>
              </a:rPr>
              <a:t>have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 you </a:t>
            </a:r>
            <a:r>
              <a:rPr b="0" lang="en-US" sz="2400" spc="-1" strike="noStrike" u="sng">
                <a:solidFill>
                  <a:srgbClr val="4e3b30"/>
                </a:solidFill>
                <a:uFillTx/>
                <a:latin typeface="Century Gothic"/>
              </a:rPr>
              <a:t>broken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 the vase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109440" y="115920"/>
            <a:ext cx="8961480" cy="17366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В своей основной части это утвердительное (или отрицательное) предложение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После запятой к предложению присоединяется </a:t>
            </a:r>
            <a:r>
              <a:rPr b="0" lang="ru-RU" sz="2400" spc="-1" strike="noStrike">
                <a:solidFill>
                  <a:srgbClr val="695008"/>
                </a:solidFill>
                <a:latin typeface="Century Gothic"/>
              </a:rPr>
              <a:t>«хвост», состоящий 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из соответствующего вспомогательного глагола, отрицания (если его не было в основной части) и подлежащего, выраженного местоимение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На русский язык «хвост» разделительного вопроса переводится</a:t>
            </a:r>
            <a:r>
              <a:rPr b="0" lang="ru-RU" sz="2400" spc="-1" strike="noStrike">
                <a:solidFill>
                  <a:srgbClr val="695008"/>
                </a:solidFill>
                <a:latin typeface="Century Gothic"/>
              </a:rPr>
              <a:t> «не так ли?», «не правда ли?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Например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You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are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a student,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aren’t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you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Ann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was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at the theatre yesterday,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wasn’t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she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John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will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be an engineer,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won’t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he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ey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have not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done their homework,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have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they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He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can’t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speak English,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can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he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Прямоугольник 2"/>
          <p:cNvSpPr/>
          <p:nvPr/>
        </p:nvSpPr>
        <p:spPr>
          <a:xfrm>
            <a:off x="1071720" y="285840"/>
            <a:ext cx="764352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n-CL" sz="2800" spc="-1" strike="noStrike">
                <a:solidFill>
                  <a:srgbClr val="000000"/>
                </a:solidFill>
                <a:latin typeface="Century Gothic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зор я смотрю редко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лице темно, и я скоро пойду спать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что-то очень шумно обсуждают в спальне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медленно шел вдоль рек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ах мы часто поем песн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ихо закрыла дверь и сразу же пошла в ванн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дядя очень любит рыбалк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а умеет хорошо играть в теннис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все время кричит на дете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и книги я положу на стол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достаточно хорошо его знаю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левизору много хороших фильмов сегодня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рке есть красивый фонтан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шлый вторник было очень ветрено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туфли я купила в Итали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165240" y="457200"/>
            <a:ext cx="882648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1"/>
          <p:cNvSpPr/>
          <p:nvPr/>
        </p:nvSpPr>
        <p:spPr>
          <a:xfrm>
            <a:off x="179280" y="189000"/>
            <a:ext cx="871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Gill Sans Ultra Bold"/>
              </a:rPr>
              <a:t>4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Gill Sans Ultra Bold"/>
              </a:rPr>
              <a:t>Поставьте слова в правильном порядке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 does / he / train / how / often? – How often does he trai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Ultra Bold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Gill Sans Ultra Bold"/>
              </a:rPr>
              <a:t>summer / Paris / to / went / last/ who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Ultra Bold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Gill Sans Ultra Bold"/>
              </a:rPr>
              <a:t>flowers / Mike’s / grow / in / what / garde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Ultra Bold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Gill Sans Ultra Bold"/>
              </a:rPr>
              <a:t>now / where / they / walking / are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Ultra Bold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Gill Sans Ultra Bold"/>
              </a:rPr>
              <a:t>charge / denied / why / has / a / Lola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Ultra Bold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Gill Sans Ultra Bold"/>
              </a:rPr>
              <a:t>When / visit / grandmother / will / we / our?  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108000" y="115920"/>
            <a:ext cx="8856720" cy="69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Поставьте предложение в вопросительную форму (общий вопрос)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ritannic Bold"/>
              </a:rPr>
              <a:t>Пример: Michael and Samantha live together. – Do Michael and Samantha live together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They are at home now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James played chess with his friend yesterday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He has been waiting for me all day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Mary is speaking on the phone now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Usually I wake up at 6 o’clock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В отличие от русского языка, английский язык имеет фиксированный порядок слов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Все члены предложения имеют свое строго установленное место в предложени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46160" y="189000"/>
            <a:ext cx="8985240" cy="15606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539640" y="1628280"/>
            <a:ext cx="8353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1)Подлежаще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2) Сказуемо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3) Второстепенные члены предложения (дополнение, обстоятельство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695008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695008"/>
                </a:solidFill>
                <a:latin typeface="Century Gothic"/>
              </a:rPr>
              <a:t>We go to the park every day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Иногда обстоятельство (как правило, если оно состоит из одного слова) может стоять перед сказуемы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695008"/>
                </a:solidFill>
                <a:latin typeface="Century Gothic"/>
              </a:rPr>
              <a:t>We </a:t>
            </a:r>
            <a:r>
              <a:rPr b="0" lang="en-US" sz="2400" spc="-1" strike="noStrike" u="sng">
                <a:solidFill>
                  <a:srgbClr val="695008"/>
                </a:solidFill>
                <a:uFillTx/>
                <a:latin typeface="Century Gothic"/>
              </a:rPr>
              <a:t>usually</a:t>
            </a:r>
            <a:r>
              <a:rPr b="0" lang="en-US" sz="2400" spc="-1" strike="noStrike">
                <a:solidFill>
                  <a:srgbClr val="695008"/>
                </a:solidFill>
                <a:latin typeface="Century Gothic"/>
              </a:rPr>
              <a:t> go to the park every morning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109440" y="115920"/>
            <a:ext cx="8961480" cy="17319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entury Gothic"/>
              </a:rPr>
              <a:t>1)Подлежащее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entury Gothic"/>
              </a:rPr>
              <a:t>2) Сказуемое: вспомогательный глагол в нужной временной форме + частица </a:t>
            </a:r>
            <a:r>
              <a:rPr b="0" lang="en-US" sz="2000" spc="-1" strike="noStrike">
                <a:solidFill>
                  <a:srgbClr val="4e3b30"/>
                </a:solidFill>
                <a:latin typeface="Century Gothic"/>
              </a:rPr>
              <a:t>not</a:t>
            </a:r>
            <a:r>
              <a:rPr b="0" lang="ru-RU" sz="2000" spc="-1" strike="noStrike">
                <a:solidFill>
                  <a:srgbClr val="4e3b30"/>
                </a:solidFill>
                <a:latin typeface="Century Gothic"/>
              </a:rPr>
              <a:t> + основной глаго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entury Gothic"/>
              </a:rPr>
              <a:t>3) Второстепенные члены предложения (дополнение, обстоятельство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We </a:t>
            </a:r>
            <a:r>
              <a:rPr b="0" lang="en-US" sz="2000" spc="-1" strike="noStrike" u="sng">
                <a:solidFill>
                  <a:srgbClr val="695008"/>
                </a:solidFill>
                <a:uFillTx/>
                <a:latin typeface="Century Gothic"/>
              </a:rPr>
              <a:t>do not go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 to the park every day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My mother </a:t>
            </a:r>
            <a:r>
              <a:rPr b="0" lang="en-US" sz="2000" spc="-1" strike="noStrike" u="sng">
                <a:solidFill>
                  <a:srgbClr val="695008"/>
                </a:solidFill>
                <a:uFillTx/>
                <a:latin typeface="Century Gothic"/>
              </a:rPr>
              <a:t>will not read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 this book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entury Gothic"/>
              </a:rPr>
              <a:t>Обстоятельство времени/ образа действия может стоять после </a:t>
            </a:r>
            <a:r>
              <a:rPr b="0" lang="en-US" sz="2000" spc="-1" strike="noStrike">
                <a:solidFill>
                  <a:srgbClr val="4e3b30"/>
                </a:solidFill>
                <a:latin typeface="Century Gothic"/>
              </a:rPr>
              <a:t>not </a:t>
            </a:r>
            <a:r>
              <a:rPr b="0" lang="ru-RU" sz="2000" spc="-1" strike="noStrike">
                <a:solidFill>
                  <a:srgbClr val="4e3b30"/>
                </a:solidFill>
                <a:latin typeface="Century Gothic"/>
              </a:rPr>
              <a:t>перед основным глаголо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I don’t </a:t>
            </a:r>
            <a:r>
              <a:rPr b="0" lang="en-US" sz="2000" spc="-1" strike="noStrike" u="sng">
                <a:solidFill>
                  <a:srgbClr val="695008"/>
                </a:solidFill>
                <a:uFillTx/>
                <a:latin typeface="Century Gothic"/>
              </a:rPr>
              <a:t>often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 play computer games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146160" y="189000"/>
            <a:ext cx="8924760" cy="15606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 английском языке существует 4 типа вопросов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бщий вопрос (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Yes/No question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Специальный вопрос (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-question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Альтернативный вопрос (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lternative question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Разделительный вопрос (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ag Question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8778600" cy="16765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250560" y="162828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Вспомогательный глагол в нужной временной форм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Подлежаще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Основной глаго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Второстепенные члены предложе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5008"/>
                </a:solidFill>
                <a:latin typeface="Century Gothic"/>
              </a:rPr>
              <a:t>Например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Did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you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sleep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well at night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Will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Ann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become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a teacher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109440" y="195120"/>
            <a:ext cx="8961480" cy="17305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Общий вопрос обычно требует краткого ответ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Структура краткого ответа такова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Yes 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или 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No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Соответствующее местоимение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Вспомогательный или модальный глагол в той временной форме, которая использовалась в вопрос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Частица 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not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, если ответ начинается с 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No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109440" y="195120"/>
            <a:ext cx="8961480" cy="17305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5008"/>
                </a:solidFill>
                <a:latin typeface="Franklin Gothic Book"/>
              </a:rPr>
              <a:t>Например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Did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you go to the library yesterday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Yes, I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did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ли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o, I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didn't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Ar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they students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Yes, they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ar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 / No, they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aren't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a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you drive a car? – Yes, I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a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 / No, I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an’t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Doe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she live here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Yes, she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doe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 / No, she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doesn’t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109440" y="115920"/>
            <a:ext cx="8961480" cy="17319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Структура такая же, как у общего вопроса, но после </a:t>
            </a:r>
            <a:r>
              <a:rPr b="0" lang="ru-RU" sz="3200" spc="-1" strike="noStrike">
                <a:solidFill>
                  <a:srgbClr val="695008"/>
                </a:solidFill>
                <a:latin typeface="Century Gothic"/>
              </a:rPr>
              <a:t>союза </a:t>
            </a:r>
            <a:r>
              <a:rPr b="0" lang="en-US" sz="3200" spc="-1" strike="noStrike">
                <a:solidFill>
                  <a:srgbClr val="695008"/>
                </a:solidFill>
                <a:latin typeface="Century Gothic"/>
              </a:rPr>
              <a:t>or</a:t>
            </a:r>
            <a:r>
              <a:rPr b="0" lang="ru-RU" sz="3200" spc="-1" strike="noStrike">
                <a:solidFill>
                  <a:srgbClr val="695008"/>
                </a:solidFill>
                <a:latin typeface="Century Gothic"/>
              </a:rPr>
              <a:t> (</a:t>
            </a: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или) добавляется однородный член предложения, альтернативный тому, к которому задается вопрос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5008"/>
                </a:solidFill>
                <a:latin typeface="Century Gothic"/>
              </a:rPr>
              <a:t>Например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Did you go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to the </a:t>
            </a:r>
            <a:r>
              <a:rPr b="0" lang="en-US" sz="3200" spc="-1" strike="noStrike" u="sng">
                <a:solidFill>
                  <a:srgbClr val="695008"/>
                </a:solidFill>
                <a:uFillTx/>
                <a:latin typeface="Century Gothic"/>
              </a:rPr>
              <a:t>club</a:t>
            </a:r>
            <a:r>
              <a:rPr b="0" lang="en-US" sz="3200" spc="-1" strike="noStrike">
                <a:solidFill>
                  <a:srgbClr val="695008"/>
                </a:solidFill>
                <a:latin typeface="Century Gothic"/>
              </a:rPr>
              <a:t> or </a:t>
            </a:r>
            <a:r>
              <a:rPr b="0" lang="en-US" sz="3200" spc="-1" strike="noStrike" u="sng">
                <a:solidFill>
                  <a:srgbClr val="695008"/>
                </a:solidFill>
                <a:uFillTx/>
                <a:latin typeface="Century Gothic"/>
              </a:rPr>
              <a:t>to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the cinema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yesterday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Will you be a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singer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695008"/>
                </a:solidFill>
                <a:latin typeface="Century Gothic"/>
              </a:rPr>
              <a:t>or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an actress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09:59:15Z</dcterms:created>
  <dc:creator>Zver</dc:creator>
  <dc:description/>
  <dc:language>en-US</dc:language>
  <cp:lastModifiedBy>Admin</cp:lastModifiedBy>
  <dcterms:modified xsi:type="dcterms:W3CDTF">2020-09-24T10:34:42Z</dcterms:modified>
  <cp:revision>38</cp:revision>
  <dc:subject/>
  <dc:title>Порядок слов в английском предложении</dc:title>
</cp:coreProperties>
</file>