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2DA-CC7E-4F3F-BBA0-66AF3E35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C89-10E7-4E26-BD59-3AB51214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24A10-AD78-4083-B18D-F0A69CB3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147E3-4FC0-49DC-932F-7F3E82B4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B6098-5837-4C32-A855-9DDF6857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E010C-71EE-4E7F-8AB4-AC5D28BA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F270F-EFBD-4192-B0F6-282EBC78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9735B-3021-451B-A3E5-DB8E8132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B879F-167A-410B-91BE-3483C192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38F81-BE79-4025-A2DD-B5BCF9D83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E9B5B-4C9C-4AEF-9293-489BC07E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9E4F-251C-4161-AE22-7D15D3B5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2859-8B45-40C0-B71A-8C5EC1B0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0E7A-4A2F-48DD-ABAF-A7F7E074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3A6D-803C-4A15-8427-1FC988F7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4EAF-0B5F-4129-9997-528F8B02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8F7E-359D-4CD3-9F98-050FFB14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EDFD-4302-4731-86D2-10B488B2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3F08-A1DA-4A36-B259-DFEE1E0E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9FEB-7756-4974-A722-58B701AC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7E1D-82BD-4F87-9E4B-E2AAE59B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2CC1-7A87-44A5-84FE-00F12225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FD89-576A-46F5-AE2E-4235D9E3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571D-816C-4E81-AF4E-87AF086D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628A-191B-4937-9393-C46CD56A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4FE1-BF74-4C5C-A8D1-9DF51D7C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163EE-5DBD-4A77-B2EE-23D0EE98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ED9C9-5E6B-4E78-9971-1098F3B3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0E826-6B20-4867-9A2E-EAB8BBE5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58DDD-5606-49D4-8099-10F727DE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C6C91-6DDF-43E9-80A1-4F27B7C6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3143-5614-4A8B-8034-BD750DBB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0E6DD-7261-4308-A958-A5AC819F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96F50-A410-46C3-A0AE-1958CACB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CD7A2-2E28-4FBA-8F3B-B93CF0C7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1D2A6-6FD2-419B-AB5F-EF3A9E18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4AF46-CCCD-44A9-B18C-54074169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17ABA-A1CF-406B-8DC5-CA3234C5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6B72E-D558-45AE-AF05-06CB9B0B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BD0D9-D778-4B87-886A-3FE0812B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0DE2E-3CD1-4AB4-9D28-4C47046A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57E13-5D1E-4360-8175-9B561BCE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CB7E-256D-4193-A2DF-F7B7263D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E2713-CE26-4C57-995E-482C46AF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2DB74-50CB-407D-9D20-AF718022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68B4F-CCAF-40DF-B5E8-FA893A1B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4B547-DCB3-454D-B307-520A57E6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70EEC-FA6E-4039-BC90-ED30FFF9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555BC-28BF-43C1-978C-75783920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66948-9264-4909-8761-BF3FB46D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6380E-3791-4C34-A1E4-4CB12ACF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68D51-8894-479B-83C1-F6FA3F9A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B1C7F-58EF-43C0-8A88-28635FC3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6E3F-63B4-4837-AFB0-8BA821C4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2BCAE-3F17-4552-94F2-12D8F40E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5D5D8-64E3-4F4A-B1C3-8180B377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21BB1-291E-4506-9AD8-75638794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9058E-683C-4F33-8FCA-075F2299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8E3A2-F40D-49F4-8D1E-FC5CFA93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21AA0-3E03-4FB8-8771-E3A97B6C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6AECA-84A1-4935-A594-9699E614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4BD8D-EE59-4203-B315-2477B993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56910-4DD8-4F4D-B07B-119869AB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F45FE-EE9C-4033-8C69-B3950809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AFD1-5CB7-4505-8C3E-9A114F72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1A1F0-80A2-4A9E-A23C-318BC494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F75E0-209F-4406-9EC2-F73ABC14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AFE24-5455-41BB-BD00-02B7E875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00C86-D02A-42B2-A06F-9E9E988A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F3150-D25E-4B1D-B654-D6D3AFB0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9EECD-ECAA-4703-85A3-07EEC1BC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40401-9183-4B4A-82A7-69CBE754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76965-8291-44FF-A520-9EEA9E7F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A0F13-7D96-4E83-8FAF-DCE4662C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B2987-DB2D-4EEE-BA59-49D71DC4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CEB-6593-46CF-B6A6-43447D8E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F8712-0DF0-4E96-8136-AB68FD06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B259A-BE10-4950-9D0B-6F7D6C26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4C7B3-0D3D-43D3-B075-3DADC583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5045E-66C3-4C31-9BDF-872F6825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3F477-0D76-435C-BB5C-45A520CE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A3275-49FD-4174-8235-671BF58B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01E0E-3460-4E8C-9015-BD83ECFB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ED5CB-568A-4419-A429-CAC5397C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9E720-035F-4342-A605-4FEB89EB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7629A-D024-412A-92B5-298A3615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A6EE-03D9-4D00-AC33-7BFC478E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12141-61D3-4B35-88A2-1CC80D1D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17501-D2E7-479E-801F-90E57402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1CEAC-21A8-4A16-A575-CCBC7D1E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6476F-591A-4489-B6B4-8A069F17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B1B39-C766-4D8C-8CE7-22E0C510D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41725-AD9F-4B1E-A357-D116C37C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A5245-E388-4D4A-9A5C-31F29875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B229E-6842-467F-823F-483BA566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6897C-416A-4CDB-A506-A89F2E39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7FF4F-F436-4476-9261-E0A3DD59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4646-613D-412E-83CD-4B9DF4BC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3DC0C-7810-4DA2-AC04-193232A8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3529E-97F6-4C00-B4C9-BE5210AA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3561C-DB09-448D-9D62-75BD8B40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09DA5-6BED-4B26-A535-4D798A68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A2C6F-9B9A-466A-9F80-2635191D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8C4C8-BFFA-4D38-8230-149A2BB8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E008F-B451-41AE-B30F-B97544B9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11339-75C5-4326-B5D3-625EC421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7CA5A-AFF7-4CBB-9F60-098585AD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652F7-6C5D-4104-BECC-5A8301C7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32D9-BF6B-4E03-BFA0-857A5042AEC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E759-FAE2-4F40-B2E7-46AF8DC1D09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B586-79CD-42BB-A7CA-E0DB6FB607E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E49E-7C3D-4FE4-8DEA-8749CCE8153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85B0-F18F-4D79-A981-9C3ED4C1157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A463-A7D5-4DD1-9F2A-05C05D5ADF8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6BF8-874D-4195-AD9C-6F0E39656E7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41D2-2543-48FC-8428-99685E2C4F4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65F2-56B0-4E94-B8B1-31F3CDB79A9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469800" y="633240"/>
            <a:ext cx="828360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262080" y="133200"/>
            <a:ext cx="8503920" cy="2281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95280" y="256500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Century Gothic"/>
              </a:rPr>
              <a:t>Это вопрос с вопросительным словом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Century Gothic"/>
              </a:rPr>
              <a:t>Специальные вопросы адресуются к подлежащему и к другим членам предложения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Century Gothic"/>
              </a:rPr>
              <a:t>Вопросы к подлежащему имеют особую структур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304920" y="139680"/>
            <a:ext cx="8504280" cy="15606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Century Gothic"/>
              </a:rPr>
              <a:t>Вопросительное слово</a:t>
            </a:r>
            <a:r>
              <a:rPr b="0" lang="ru-RU" sz="2800" spc="-1" strike="noStrike">
                <a:solidFill>
                  <a:srgbClr val="695008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695008"/>
                </a:solidFill>
                <a:latin typeface="Century Gothic"/>
              </a:rPr>
              <a:t>Who </a:t>
            </a:r>
            <a:r>
              <a:rPr b="0" lang="en-US" sz="2800" spc="-1" strike="noStrike">
                <a:solidFill>
                  <a:srgbClr val="4e3b30"/>
                </a:solidFill>
                <a:latin typeface="Century Gothic"/>
              </a:rPr>
              <a:t>(</a:t>
            </a:r>
            <a:r>
              <a:rPr b="0" lang="ru-RU" sz="2800" spc="-1" strike="noStrike">
                <a:solidFill>
                  <a:srgbClr val="4e3b30"/>
                </a:solidFill>
                <a:latin typeface="Century Gothic"/>
              </a:rPr>
              <a:t>или </a:t>
            </a:r>
            <a:r>
              <a:rPr b="0" lang="en-US" sz="2800" spc="-1" strike="noStrike">
                <a:solidFill>
                  <a:srgbClr val="4e3b30"/>
                </a:solidFill>
                <a:latin typeface="Century Gothic"/>
              </a:rPr>
              <a:t>What</a:t>
            </a:r>
            <a:r>
              <a:rPr b="0" lang="ru-RU" sz="2800" spc="-1" strike="noStrike">
                <a:solidFill>
                  <a:srgbClr val="4e3b30"/>
                </a:solidFill>
                <a:latin typeface="Century Gothic"/>
              </a:rPr>
              <a:t>, если подлежащее выражено неодушевленным существительным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Century Gothic"/>
              </a:rPr>
              <a:t>Глагол в форме, употребляемой в повествовательном предложени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Century Gothic"/>
              </a:rPr>
              <a:t>Второстепенные члены предложени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95008"/>
                </a:solidFill>
                <a:latin typeface="Century Gothic"/>
              </a:rPr>
              <a:t>Например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Century Gothic"/>
              </a:rPr>
              <a:t>Who goes to the swimming-pool twice a week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165240" y="281160"/>
            <a:ext cx="8521560" cy="15048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24000" y="1773360"/>
            <a:ext cx="85802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5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Вопросительное слово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Вспомогательный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или модальный глагол в нужной форм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Подлежаще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Основная форма глагола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Второстепенные члены предложен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5008"/>
                </a:solidFill>
                <a:latin typeface="Century Gothic"/>
              </a:rPr>
              <a:t>Например: </a:t>
            </a:r>
            <a:r>
              <a:rPr b="0" lang="en-US" sz="2400" spc="-1" strike="noStrike">
                <a:solidFill>
                  <a:srgbClr val="695008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Where </a:t>
            </a:r>
            <a:r>
              <a:rPr b="0" lang="en-US" sz="2400" spc="-1" strike="noStrike" u="sng">
                <a:solidFill>
                  <a:srgbClr val="4e3b30"/>
                </a:solidFill>
                <a:uFillTx/>
                <a:latin typeface="Century Gothic"/>
              </a:rPr>
              <a:t>did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 you </a:t>
            </a:r>
            <a:r>
              <a:rPr b="0" lang="en-US" sz="2400" spc="-1" strike="noStrike" u="sng">
                <a:solidFill>
                  <a:srgbClr val="4e3b30"/>
                </a:solidFill>
                <a:uFillTx/>
                <a:latin typeface="Century Gothic"/>
              </a:rPr>
              <a:t>go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 yesterday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What </a:t>
            </a:r>
            <a:r>
              <a:rPr b="0" lang="en-US" sz="2400" spc="-1" strike="noStrike" u="sng">
                <a:solidFill>
                  <a:srgbClr val="4e3b30"/>
                </a:solidFill>
                <a:uFillTx/>
                <a:latin typeface="Century Gothic"/>
              </a:rPr>
              <a:t>can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 I </a:t>
            </a:r>
            <a:r>
              <a:rPr b="0" lang="en-US" sz="2400" spc="-1" strike="noStrike" u="sng">
                <a:solidFill>
                  <a:srgbClr val="4e3b30"/>
                </a:solidFill>
                <a:uFillTx/>
                <a:latin typeface="Century Gothic"/>
              </a:rPr>
              <a:t>do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 for you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Why </a:t>
            </a:r>
            <a:r>
              <a:rPr b="0" lang="en-US" sz="2400" spc="-1" strike="noStrike" u="sng">
                <a:solidFill>
                  <a:srgbClr val="4e3b30"/>
                </a:solidFill>
                <a:uFillTx/>
                <a:latin typeface="Century Gothic"/>
              </a:rPr>
              <a:t>have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 you </a:t>
            </a:r>
            <a:r>
              <a:rPr b="0" lang="en-US" sz="2400" spc="-1" strike="noStrike" u="sng">
                <a:solidFill>
                  <a:srgbClr val="4e3b30"/>
                </a:solidFill>
                <a:uFillTx/>
                <a:latin typeface="Century Gothic"/>
              </a:rPr>
              <a:t>broken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 the vase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109440" y="115920"/>
            <a:ext cx="8961480" cy="173664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В своей основной части это утвердительное (или отрицательное) предложение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После запятой к предложению присоединяется </a:t>
            </a:r>
            <a:r>
              <a:rPr b="0" lang="ru-RU" sz="2400" spc="-1" strike="noStrike">
                <a:solidFill>
                  <a:srgbClr val="695008"/>
                </a:solidFill>
                <a:latin typeface="Century Gothic"/>
              </a:rPr>
              <a:t>«хвост», состоящий </a:t>
            </a: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из соответствующего вспомогательного глагола, отрицания (если его не было в основной части) и подлежащего, выраженного местоимением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На русский язык «хвост» разделительного вопроса переводится</a:t>
            </a:r>
            <a:r>
              <a:rPr b="0" lang="ru-RU" sz="2400" spc="-1" strike="noStrike">
                <a:solidFill>
                  <a:srgbClr val="695008"/>
                </a:solidFill>
                <a:latin typeface="Century Gothic"/>
              </a:rPr>
              <a:t> «не так ли?», «не правда ли?»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Например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You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are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a student,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aren’t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you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Ann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was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at the theatre yesterday,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wasn’t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she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John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will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be an engineer,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won’t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he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They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have not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done their homework,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have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they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He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can’t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speak English,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can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he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Прямоугольник 2"/>
          <p:cNvSpPr/>
          <p:nvPr/>
        </p:nvSpPr>
        <p:spPr>
          <a:xfrm>
            <a:off x="1071720" y="285840"/>
            <a:ext cx="764352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n-CL" sz="2800" spc="-1" strike="noStrike">
                <a:solidFill>
                  <a:srgbClr val="000000"/>
                </a:solidFill>
                <a:latin typeface="Century Gothic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еди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зор я смотрю редко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лице темно, и я скоро пойду спать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что-то очень шумно обсуждают в спальне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медленно шел вдоль реки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ах мы часто поем песни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тихо закрыла дверь и сразу же пошла в ванну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дядя очень любит рыбалку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а умеет хорошо играть в теннис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все время кричит на детей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и книги я положу на стол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достаточно хорошо его знаю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левизору много хороших фильмов сегодня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рке есть красивый фонтан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шлый вторник было очень ветрено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туфли я купила в Италии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165240" y="457200"/>
            <a:ext cx="882648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Прямоугольник 1"/>
          <p:cNvSpPr/>
          <p:nvPr/>
        </p:nvSpPr>
        <p:spPr>
          <a:xfrm>
            <a:off x="179280" y="189000"/>
            <a:ext cx="871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Gill Sans Ultra Bold"/>
              </a:rPr>
              <a:t>4.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Gill Sans Ultra Bold"/>
              </a:rPr>
              <a:t>Поставьте слова в правильном порядке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 does / he / train / how / often? – How often does he trai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Ultra Bold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Gill Sans Ultra Bold"/>
              </a:rPr>
              <a:t>summer / Paris / to / went / last/ who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Ultra Bold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Gill Sans Ultra Bold"/>
              </a:rPr>
              <a:t>flowers / Mike’s / grow / in / what / garde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Ultra Bold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Gill Sans Ultra Bold"/>
              </a:rPr>
              <a:t>now / where / they / walking / are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Ultra Bold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Gill Sans Ultra Bold"/>
              </a:rPr>
              <a:t>charge / denied / why / has / a / Lola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Ultra Bold"/>
              </a:rPr>
              <a:t>5. </a:t>
            </a:r>
            <a:r>
              <a:rPr b="0" lang="en-US" sz="2800" spc="-1" strike="noStrike">
                <a:solidFill>
                  <a:srgbClr val="000000"/>
                </a:solidFill>
                <a:latin typeface="Gill Sans Ultra Bold"/>
              </a:rPr>
              <a:t>When / visit / grandmother / will / we / our?  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1"/>
          <p:cNvSpPr/>
          <p:nvPr/>
        </p:nvSpPr>
        <p:spPr>
          <a:xfrm>
            <a:off x="108000" y="115920"/>
            <a:ext cx="8856720" cy="69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5.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Поставьте предложение в вопросительную форму (общий вопрос)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ritannic Bold"/>
              </a:rPr>
              <a:t>Пример: Michael and Samantha live together. – Do Michael and Samantha live together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They are at home now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James played chess with his friend yesterday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He has been waiting for me all day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4.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Mary is speaking on the phone now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5.</a:t>
            </a: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Usually I wake up at 6 o’clock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В отличие от русского языка, английский язык имеет фиксированный порядок слов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Все члены предложения имеют свое строго установленное место в предложени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146160" y="189000"/>
            <a:ext cx="8985240" cy="15606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539640" y="1628280"/>
            <a:ext cx="8353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1)Подлежащее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2) Сказуемое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3) Второстепенные члены предложения (дополнение, обстоятельство)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695008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695008"/>
                </a:solidFill>
                <a:latin typeface="Century Gothic"/>
              </a:rPr>
              <a:t>We go to the park every day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Иногда обстоятельство (как правило, если оно состоит из одного слова) может стоять перед сказуемым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695008"/>
                </a:solidFill>
                <a:latin typeface="Century Gothic"/>
              </a:rPr>
              <a:t>We </a:t>
            </a:r>
            <a:r>
              <a:rPr b="0" lang="en-US" sz="2400" spc="-1" strike="noStrike" u="sng">
                <a:solidFill>
                  <a:srgbClr val="695008"/>
                </a:solidFill>
                <a:uFillTx/>
                <a:latin typeface="Century Gothic"/>
              </a:rPr>
              <a:t>usually</a:t>
            </a:r>
            <a:r>
              <a:rPr b="0" lang="en-US" sz="2400" spc="-1" strike="noStrike">
                <a:solidFill>
                  <a:srgbClr val="695008"/>
                </a:solidFill>
                <a:latin typeface="Century Gothic"/>
              </a:rPr>
              <a:t> go to the park every morning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109440" y="115920"/>
            <a:ext cx="8961480" cy="17319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entury Gothic"/>
              </a:rPr>
              <a:t>1)Подлежащее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entury Gothic"/>
              </a:rPr>
              <a:t>2) Сказуемое: вспомогательный глагол в нужной временной форме + частица </a:t>
            </a:r>
            <a:r>
              <a:rPr b="0" lang="en-US" sz="2000" spc="-1" strike="noStrike">
                <a:solidFill>
                  <a:srgbClr val="4e3b30"/>
                </a:solidFill>
                <a:latin typeface="Century Gothic"/>
              </a:rPr>
              <a:t>not</a:t>
            </a:r>
            <a:r>
              <a:rPr b="0" lang="ru-RU" sz="2000" spc="-1" strike="noStrike">
                <a:solidFill>
                  <a:srgbClr val="4e3b30"/>
                </a:solidFill>
                <a:latin typeface="Century Gothic"/>
              </a:rPr>
              <a:t> + основной глаго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entury Gothic"/>
              </a:rPr>
              <a:t>3) Второстепенные члены предложения (дополнение, обстоятельство)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695008"/>
                </a:solidFill>
                <a:latin typeface="Century Gothic"/>
              </a:rPr>
              <a:t>We </a:t>
            </a:r>
            <a:r>
              <a:rPr b="0" lang="en-US" sz="2000" spc="-1" strike="noStrike" u="sng">
                <a:solidFill>
                  <a:srgbClr val="695008"/>
                </a:solidFill>
                <a:uFillTx/>
                <a:latin typeface="Century Gothic"/>
              </a:rPr>
              <a:t>do not go</a:t>
            </a:r>
            <a:r>
              <a:rPr b="0" lang="en-US" sz="2000" spc="-1" strike="noStrike">
                <a:solidFill>
                  <a:srgbClr val="695008"/>
                </a:solidFill>
                <a:latin typeface="Century Gothic"/>
              </a:rPr>
              <a:t> to the park every day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5008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695008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695008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695008"/>
                </a:solidFill>
                <a:latin typeface="Century Gothic"/>
              </a:rPr>
              <a:t>My mother </a:t>
            </a:r>
            <a:r>
              <a:rPr b="0" lang="en-US" sz="2000" spc="-1" strike="noStrike" u="sng">
                <a:solidFill>
                  <a:srgbClr val="695008"/>
                </a:solidFill>
                <a:uFillTx/>
                <a:latin typeface="Century Gothic"/>
              </a:rPr>
              <a:t>will not read</a:t>
            </a:r>
            <a:r>
              <a:rPr b="0" lang="en-US" sz="2000" spc="-1" strike="noStrike">
                <a:solidFill>
                  <a:srgbClr val="695008"/>
                </a:solidFill>
                <a:latin typeface="Century Gothic"/>
              </a:rPr>
              <a:t> this book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entury Gothic"/>
              </a:rPr>
              <a:t>Обстоятельство времени/ образа действия может стоять после </a:t>
            </a:r>
            <a:r>
              <a:rPr b="0" lang="en-US" sz="2000" spc="-1" strike="noStrike">
                <a:solidFill>
                  <a:srgbClr val="4e3b30"/>
                </a:solidFill>
                <a:latin typeface="Century Gothic"/>
              </a:rPr>
              <a:t>not </a:t>
            </a:r>
            <a:r>
              <a:rPr b="0" lang="ru-RU" sz="2000" spc="-1" strike="noStrike">
                <a:solidFill>
                  <a:srgbClr val="4e3b30"/>
                </a:solidFill>
                <a:latin typeface="Century Gothic"/>
              </a:rPr>
              <a:t>перед основным глаголом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695008"/>
                </a:solidFill>
                <a:latin typeface="Century Gothic"/>
              </a:rPr>
              <a:t>I don’t </a:t>
            </a:r>
            <a:r>
              <a:rPr b="0" lang="en-US" sz="2000" spc="-1" strike="noStrike" u="sng">
                <a:solidFill>
                  <a:srgbClr val="695008"/>
                </a:solidFill>
                <a:uFillTx/>
                <a:latin typeface="Century Gothic"/>
              </a:rPr>
              <a:t>often</a:t>
            </a:r>
            <a:r>
              <a:rPr b="0" lang="en-US" sz="2000" spc="-1" strike="noStrike">
                <a:solidFill>
                  <a:srgbClr val="695008"/>
                </a:solidFill>
                <a:latin typeface="Century Gothic"/>
              </a:rPr>
              <a:t> play computer games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146160" y="189000"/>
            <a:ext cx="8924760" cy="15606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В английском языке существует 4 типа вопросов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Общий вопрос (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Yes/No question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Специальный вопрос (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h-question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Альтернативный вопрос (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lternative question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Разделительный вопрос (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ag Question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-12600" y="201600"/>
            <a:ext cx="8778600" cy="16765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250560" y="162828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Вспомогательный глагол в нужной временной форм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Подлежаще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Основной глаго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Второстепенные члены предложен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5008"/>
                </a:solidFill>
                <a:latin typeface="Century Gothic"/>
              </a:rPr>
              <a:t>Например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Did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you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sleep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well at night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Will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Ann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become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a teacher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109440" y="195120"/>
            <a:ext cx="8961480" cy="17305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Общий вопрос обычно требует краткого ответ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3360" indent="-603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Структура краткого ответа такова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3360" indent="-603360">
              <a:lnSpc>
                <a:spcPct val="15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Yes </a:t>
            </a: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или 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No</a:t>
            </a: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3360" indent="-603360">
              <a:lnSpc>
                <a:spcPct val="15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Соответствующее местоимение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3360" indent="-603360">
              <a:lnSpc>
                <a:spcPct val="15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Вспомогательный или модальный глагол в той временной форме, которая использовалась в вопрос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603360" indent="-603360">
              <a:lnSpc>
                <a:spcPct val="15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Частица 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not</a:t>
            </a:r>
            <a:r>
              <a:rPr b="0" lang="ru-RU" sz="2400" spc="-1" strike="noStrike">
                <a:solidFill>
                  <a:srgbClr val="4e3b30"/>
                </a:solidFill>
                <a:latin typeface="Century Gothic"/>
              </a:rPr>
              <a:t>, если ответ начинается с </a:t>
            </a:r>
            <a:r>
              <a:rPr b="0" lang="en-US" sz="2400" spc="-1" strike="noStrike">
                <a:solidFill>
                  <a:srgbClr val="4e3b30"/>
                </a:solidFill>
                <a:latin typeface="Century Gothic"/>
              </a:rPr>
              <a:t>No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109440" y="195120"/>
            <a:ext cx="8961480" cy="17305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5008"/>
                </a:solidFill>
                <a:latin typeface="Franklin Gothic Book"/>
              </a:rPr>
              <a:t>Например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Did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you go to the library yesterday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Yes, I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did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или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o, I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didn't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Are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they students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Yes, they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are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. / No, they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aren't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Can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you drive a car? – Yes, I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can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. / No, I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can’t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Doe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she live here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Yes, she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doe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. / No, she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doesn’t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109440" y="115920"/>
            <a:ext cx="8961480" cy="173196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Структура такая же, как у общего вопроса, но после </a:t>
            </a:r>
            <a:r>
              <a:rPr b="0" lang="ru-RU" sz="3200" spc="-1" strike="noStrike">
                <a:solidFill>
                  <a:srgbClr val="695008"/>
                </a:solidFill>
                <a:latin typeface="Century Gothic"/>
              </a:rPr>
              <a:t>союза </a:t>
            </a:r>
            <a:r>
              <a:rPr b="0" lang="en-US" sz="3200" spc="-1" strike="noStrike">
                <a:solidFill>
                  <a:srgbClr val="695008"/>
                </a:solidFill>
                <a:latin typeface="Century Gothic"/>
              </a:rPr>
              <a:t>or</a:t>
            </a:r>
            <a:r>
              <a:rPr b="0" lang="ru-RU" sz="3200" spc="-1" strike="noStrike">
                <a:solidFill>
                  <a:srgbClr val="695008"/>
                </a:solidFill>
                <a:latin typeface="Century Gothic"/>
              </a:rPr>
              <a:t> (</a:t>
            </a:r>
            <a:r>
              <a:rPr b="0" lang="ru-RU" sz="3200" spc="-1" strike="noStrike">
                <a:solidFill>
                  <a:srgbClr val="4e3b30"/>
                </a:solidFill>
                <a:latin typeface="Century Gothic"/>
              </a:rPr>
              <a:t>или) добавляется однородный член предложения, альтернативный тому, к которому задается вопрос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5008"/>
                </a:solidFill>
                <a:latin typeface="Century Gothic"/>
              </a:rPr>
              <a:t>Например: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Did you go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to the </a:t>
            </a:r>
            <a:r>
              <a:rPr b="0" lang="en-US" sz="3200" spc="-1" strike="noStrike" u="sng">
                <a:solidFill>
                  <a:srgbClr val="695008"/>
                </a:solidFill>
                <a:uFillTx/>
                <a:latin typeface="Century Gothic"/>
              </a:rPr>
              <a:t>club</a:t>
            </a:r>
            <a:r>
              <a:rPr b="0" lang="en-US" sz="3200" spc="-1" strike="noStrike">
                <a:solidFill>
                  <a:srgbClr val="695008"/>
                </a:solidFill>
                <a:latin typeface="Century Gothic"/>
              </a:rPr>
              <a:t> or </a:t>
            </a:r>
            <a:r>
              <a:rPr b="0" lang="en-US" sz="3200" spc="-1" strike="noStrike" u="sng">
                <a:solidFill>
                  <a:srgbClr val="695008"/>
                </a:solidFill>
                <a:uFillTx/>
                <a:latin typeface="Century Gothic"/>
              </a:rPr>
              <a:t>to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the cinema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yesterday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Will you be a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singer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695008"/>
                </a:solidFill>
                <a:latin typeface="Century Gothic"/>
              </a:rPr>
              <a:t>or 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Century Gothic"/>
              </a:rPr>
              <a:t>an actress</a:t>
            </a: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09:59:15Z</dcterms:created>
  <dc:creator>Zver</dc:creator>
  <dc:description/>
  <dc:language>en-US</dc:language>
  <cp:lastModifiedBy>Admin</cp:lastModifiedBy>
  <dcterms:modified xsi:type="dcterms:W3CDTF">2020-09-24T10:34:42Z</dcterms:modified>
  <cp:revision>38</cp:revision>
  <dc:subject/>
  <dc:title>Порядок слов в английском предложении</dc:title>
</cp:coreProperties>
</file>