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543-B8F8-4498-93E7-8FD4C640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EC2-6866-4E72-A6C4-5B02AC46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0E3F-EF57-4064-BB14-8371C0A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D4405-2F80-43BD-AC51-D826F72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E246C-6FB4-4476-85D6-A99D5836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9222-986A-49BE-A40A-DD29714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29B0-7D38-4070-B11D-FFE5165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7CD2-A528-485E-80C9-C001C89B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D92C-4EBD-4C9A-8B0B-4D5014EF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69D63-7C30-4B0D-B687-CB8353B1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E55DD-6F60-4CA3-BA98-673CA20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251-D614-46CF-86BE-E231F1A0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D20-FC8C-48DE-915D-A8364FBE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E91-DEB3-44AA-911D-35AD91CE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35CC-59DE-4CE5-9B70-50F482F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3F7C-725B-4F7A-8D17-B3A52260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7FC1-C403-4D36-B47B-151B417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59A-A3D1-441A-92E6-65182BF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414-EFD5-4854-9018-D069A42F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47D-B304-49D7-868B-2C1A030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38B-9AF9-4533-8636-053D525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F23-D56B-4C96-9AAB-00FAEB0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4FF-4AE7-47DB-B30E-77A830C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3EA2-4F1E-47D2-9FD2-723603CA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662-07AB-44A6-9F15-B868CF65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115-AA0B-48A1-B404-5AECE7D5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5CCE-64A0-4E99-82E9-7E5C0CA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C8CE-ADFF-4F9F-A012-78AA4FC7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E53C-211C-47D7-9952-351CEA4D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111F-07D0-4510-9981-FD9F8E4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A245-C994-4529-9942-90A57E67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2AB-3A22-4761-A463-B0C5D9D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890A-A767-4609-A944-150AF2E8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39DA-0BBB-4FF6-8096-455CD99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327F-3936-4ECF-B7AA-F0C2F03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E107-452B-42C8-97C7-0E7B9F8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2538-6726-4A99-8496-ECC3EF9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AFB9-D143-4AFB-9353-CEDA720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C117-465C-4EBD-A4C7-AA7BFAB0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A425-B688-4D69-8631-23B90364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01B7-C9CF-4143-8BA3-F2C5C57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831F-AAA2-403D-87A4-ED66E0D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1BC-6714-4534-BEAB-5DDAC689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CCB3-AB29-457F-B7BD-408EA36A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D1D6-8981-4C92-AB5E-6B0FFB0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7CB4-D9C1-4CC8-93C8-E5CCC1C4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3AA4-670F-45B3-90E1-9B2CF19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62A2-81BD-4174-B837-241B056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D520-691E-4D4F-9DBF-094AFF6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8A77-F48D-4F2E-956D-A63DF52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FE6F-A1B8-4F2E-84F4-3D232C2C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F8BB-6408-4EC7-B52C-4E2E5CAD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1CE0-9DA6-4F99-9C4E-F58DFA25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BBC-D3AB-4822-95B5-D712C38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B618-8E35-425F-BA41-CA6E931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89B8-0DF5-431C-A77D-951AA2A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DF67-3036-4D6D-B389-ED34B33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2A06-415F-42A4-9A87-B26192C1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03DF-1707-47AC-B564-D97EFF7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4951-D62E-40B8-B382-D1B11F8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E55A-CE2C-48BB-94C8-9E19912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B603-8BF8-4CF0-B66B-D77632D9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BF9C-C293-4462-84D5-29C4EB5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7DEC-3DAD-440F-9C1F-FB088BE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3B1-6BE5-42B0-B4A5-B3F748F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6AF9-ACEC-415B-80EE-32307286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852D-0069-43F8-B7AB-42761193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3617-C4C1-42FD-828A-887089FF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912F-24D0-4D9A-AB3E-8A017FEE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9A70-899E-43D6-BC98-84E28C6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7AF72-7BBD-4633-B0E4-52E334A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5962-670D-4214-8413-48EFA3B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9EE6-F62B-49F3-AF78-8A95A63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7478F-138C-4706-B544-5898B54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5DF33-C6FD-4C30-9121-7993E11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449-2AEE-4EDF-BD21-8E35959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2CBF-4887-4320-9994-3683F17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8156-2D95-4107-B9E7-4D7529E2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18F2-7656-4325-B400-69FA7C97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9BA0E-65F2-4D0D-9BEB-2C59DF4F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9C88-58B0-49AC-ADFE-D59253D6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5699-3F4C-4933-A94D-90A202F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4579-8CD5-4133-8461-554F902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5A57-56F2-4661-BE0F-5E698D5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A0EA3-2D02-4B88-BB01-FF766BD8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56F9-6A4E-4250-B56B-4EC4FAA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D04-A4C1-4ED4-9521-53BCB83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D909-A732-4A64-9303-1DC5D39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CD442-D308-472F-ADAE-63035CC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AA12B-6A31-4009-B115-FC96FF1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5462-6950-4A85-910F-6A1E5A21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B8D5-B757-420B-ABB5-0D8F8D1B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00D8-EB01-4E76-B31D-DD493F88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DC162-A986-4ED6-A2B6-F82071F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EA005-692D-4DA1-9EC1-67CE91B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285A-1E37-4609-90D9-E6E0E13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9A83-1879-4702-AEA1-EA9EF787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280-B4AC-4490-AA94-2551453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4D04-C82E-4F68-93A2-005B6FC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465F1-1D72-4332-80BC-E7BAB00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3964-266F-4628-9361-516CFF8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4B7B-14CB-4D55-A7E1-5962D41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A0CE-0CCB-48C2-BBF5-EBE8362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E4DE-ECE1-4917-BAC8-A6F9DC9A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57A5A-A42C-4FA9-919A-A30039DF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8BDD2-B19C-4EC1-9923-C5E57C93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76A0D-FECA-4C6F-B368-5D9A5B8F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85F58-C484-4B25-95E2-974A9EF4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90D-7A77-4463-8BF0-24FEFEDFF5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7B00-02B6-4F41-8AE9-098B152544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3A9-D449-491A-83DB-20C58BCD94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01C-151F-4E3E-8D0A-3311CEAC43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5620-8DE7-4F3B-9FE4-F5C5E3AF13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BDA-0AA0-4F0C-84C8-6187F66EA6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1D0-7408-4890-9595-D5DE3E32F5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107-D1ED-4DA4-A353-45930DC2F6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0616-E46B-4670-BEFE-41F81314C2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69800" y="633240"/>
            <a:ext cx="82836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62080" y="133200"/>
            <a:ext cx="8503920" cy="228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04920" y="139680"/>
            <a:ext cx="8504280" cy="1560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ительное слово</a:t>
            </a: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695008"/>
                </a:solidFill>
                <a:latin typeface="Century Gothic"/>
              </a:rPr>
              <a:t>Who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65240" y="281160"/>
            <a:ext cx="8521560" cy="1504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6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«хвост», состоящий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На русский язык «хвост» разделительного вопроса переводится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 «не так ли?», «не правда ли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071720" y="285840"/>
            <a:ext cx="76435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n-CL" sz="28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 я смотрю редк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темно, и я скоро пойду спат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что-то очень шумно обсуждают в спальн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дленно шел вдоль ре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ы часто поем пес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ихо закрыла дверь и сразу же пошла в ванн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ядя очень любит рыбалк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умеет хорошо играть в тенни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се время кричит на дет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книги я положу на сто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достаточно хорошо его знаю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левизору много хороших фильмов сегодн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есть красивый фонтан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шлый вторник было очень ветрен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туфли я купила в Итали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65240" y="457200"/>
            <a:ext cx="88264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79280" y="189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4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Поставьте слова в правильном порядк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does / he / train / how / often? – How often does he trai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summer / Paris / to / went / last/ wh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flowers / Mike’s / grow / in / what / gard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now / where / they / walking / ar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charge / denied / why / has / a / Lol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When / visit / grandmother / will / we / our?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8000" y="115920"/>
            <a:ext cx="885672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Поставьте предложение в вопросительную форму (общий вопрос)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Пример: Michael and Samantha live together. – Do Michael and Samantha live togethe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hey are at hom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James played chess with his friend yester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He has been waiting for me all 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Mary is speaking on the phon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Usually I wake up at 6 o’clock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8524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695008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24760" cy="15606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бщи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es/No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ециа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-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льтернатив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lternative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зделите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ag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78600" cy="1676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go to the library yesterday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they students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drive a car? – 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he live here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Структура такая же, как у общего вопроса, но после 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союза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 (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o the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club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 or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t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he cinema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Admin</cp:lastModifiedBy>
  <dcterms:modified xsi:type="dcterms:W3CDTF">2020-09-24T10:34:42Z</dcterms:modified>
  <cp:revision>38</cp:revision>
  <dc:subject/>
  <dc:title>Порядок слов в английском предложении</dc:title>
</cp:coreProperties>
</file>