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8724-D69B-467C-A173-DE19A360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5DFF-BA71-40DC-A5C3-3A8837E7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4A65-E075-4359-8E9F-C5A9744E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F746-C822-4804-B0DF-C63C46E2B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3A3-89F3-4B62-B23D-90EC7909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35F-D4B1-49B3-90BA-CCCF0D2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B73-6BC0-4E1D-96ED-24325BA5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96B-CB73-4246-B4AD-22857B91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6A9-1D40-4BA3-A9BA-DFACC56A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C60-E334-4829-A1C0-C037E69D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FC2-1026-4274-87E6-1B0366BC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B22-7BE2-43C7-A63C-97D48B5C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9EB-7AE5-40CC-B7A8-947F592F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9FA-3446-4B05-9705-B137890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3AB-C76C-4D33-ABE7-210E586C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EC0-A486-4683-8817-8D7C7A7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EE77-98F5-48C4-BD1D-E7933FD5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dportal.ru/enc/gastroenterology/gastritis/" TargetMode="External"/><Relationship Id="rId2" Type="http://schemas.openxmlformats.org/officeDocument/2006/relationships/hyperlink" Target="http://medportal.ru/enc/gastroenterology/gastritis/5/" TargetMode="External"/><Relationship Id="rId3" Type="http://schemas.openxmlformats.org/officeDocument/2006/relationships/hyperlink" Target="http://medportal.ru/enc/gynaecology/erosion/" TargetMode="External"/><Relationship Id="rId4" Type="http://schemas.openxmlformats.org/officeDocument/2006/relationships/hyperlink" Target="http://medportal.ru/terms/11127/" TargetMode="Externa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edportal.ru/enc/cardiology/infarction/" TargetMode="External"/><Relationship Id="rId2" Type="http://schemas.openxmlformats.org/officeDocument/2006/relationships/hyperlink" Target="http://medportal.ru/enc/neurology/stroke/6/" TargetMode="External"/><Relationship Id="rId3" Type="http://schemas.openxmlformats.org/officeDocument/2006/relationships/hyperlink" Target="http://medportal.ru/enc/urology/renalfailure/" TargetMode="External"/><Relationship Id="rId4" Type="http://schemas.openxmlformats.org/officeDocument/2006/relationships/hyperlink" Target="http://medportal.ru/enc/aid/burn/" TargetMode="External"/><Relationship Id="rId5" Type="http://schemas.openxmlformats.org/officeDocument/2006/relationships/hyperlink" Target="http://medportal.ru/enc/venerology/aids/10/" TargetMode="Externa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edportal.ru/terms/11308/" TargetMode="External"/><Relationship Id="rId2" Type="http://schemas.openxmlformats.org/officeDocument/2006/relationships/hyperlink" Target="http://medportal.ru/terms/11479/" TargetMode="External"/><Relationship Id="rId3" Type="http://schemas.openxmlformats.org/officeDocument/2006/relationships/hyperlink" Target="http://medportal.ru/terms/11479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работать лекцию ответить на вопр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острого гастрита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пия острого гастрита зависит от состояния больного, формы и распространенности воспалительного процесса, В случае острого (катарального) гастрита достаточно удалить содержимое желудка, вызвав рвоту, предварительно дав больному выпить несколько стаканов теплой воды или раствора питьевой соды. В некоторых случаях приходится промывать желудок теплой водой, 0,5 % раствором питьевой соды или изотоническим раствором хлорида натрия, используя толстый зонд. Первые 1 - 2 дня рекомендуется голод; разрешается небольшими порциями пить крепкий чай (теплый или остывший), теплое щелочное питье (боржом или славяновская минеральная вода), настой шиповника.На 2 - 3-й день болезни можно добавить жидкую пищу (слизистые супы, нежирный куриный бульон, кефир, в случае переносимости - молоко с яичным белком). Затем включают в рацион жидкую манную, овсяную или протертую рисовую каши, кисели, фруктовые желе, мясное суфле, мясные и рыбные кнели, яйца всмятку, сухари из белой муки. Через 5-7 дней - стол № 1. Постельный или полупостельный режим в течение нескольких дней, лечебное питание, в случае необходимости - обволакивающие средства (соединения висмута 0,5-1 г 3 раза в день), при болях - препараты белладонны сравнительно быстро нормализуют состояние больного с острым "банальным" гастри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бные: хеликобактер пилори и другие микр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кробные: аутоиммунные, алкогольные, после операции желудка, обусловленные воздействием противоспалитеьных препаратов (например, индометацина, ибупрофена, аспирина и др.), обусловленные воздействием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известные факторы, в т.ч. микроорган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еский неатрофический гастрит в 85-90% случаев обусловлен микробом хеликобактер пил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гастрит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хронического атрофического (аутоиммунного) гастрита связано с генетически обусловленной выработкой аутоантител к клеткам слизистой оболочки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ые причины химического (реактивного) гастрита - заброс желчи из кишечника в желудок и длительный прием некоторых лекарственных препа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эозинофильного гастрита неизвестны, у части больных выявляютбронхиальную астму,экземуи другие аллергически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улематозный гастрит обнаруживают у 10% больныхсаркоидозом, 7% пациентов сболезнью Крона, при туберкулезе,микозах, инородных телах в желу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а гигантского гипертрофического гастрита неизвес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086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томы хронического гастри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31640" y="1371600"/>
            <a:ext cx="82296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одложечной области, возникающие натощак. Боли могут быть острыми схваткообразными или ноющими неинтенсивными; иногда возникают вскоре после еды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жога, отрыжка кислым, реже тошнота, рвота желудочным содержи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частые проявления гастритов в хроническом течении - тяжесть в подложечной области после еды, чувство переедания, переполнения желудка, отрыжка пищей и воздухом, неприятный привкус во рту, снижение аппетита, возможныметеоризм, неустойчивый стул.Возможны рвота идиарея; аппетит часто сни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ка Х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ий анализ крови и мочи поможет обнаружить признаки воспалительного процесса в организме при обострении хронического гастрита (в ремиссию анализы будут в норме), гиперхромную анемию при хроническом аутоиммунном гастр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кала: возможно наличие скрытой крови, а также непереваренных остатков пищи при пониженной секреторной активности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ГДСи взятие биоптатов для гистологического исследования. При невозможности выполнения ФГДС можно провести рентгенологическое исследование желудка с контрастированием барием, однако это менее информатив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ледование секреторной функции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микроба хеликобактер пилори. «Золотым стандартом» является гистологическое исследование биоптатов с их окраской по определенным схемам и последующее микроскопическое исследование. Также используется биологический метод (посев микроорганизма на питательную сред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фференциальная диагностика проводится сязвенной болезнью желудка и двенадцатиперстной кишки, грыжей диафрагмы, эзофагитом, опухо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ающее значение для уточнения диагноза имеет ФГД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Х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гастрите, вызванном микробом хеликобактер пилори, применяют противомикробную терап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сколько стандартных схем лечения, включ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био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П (омез, нольпаза, париет, эманера – вещества, использующиеся при лечении заболеваний ЖКТ, связанных с выделением соляной кислоты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 висмута (де-нол, вентрисо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чение рефлюкс-гастри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ние направлено на нормализацию моторики желудка и связывание желчных кислот, что, в первую очередь достигается диетой (питание 5-6 раз в день небольшими порциями, исключение жареной, острой, жирной пищ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едотвращения заброса в желудок дуоденального содержимого назначают домперидон, метоклопрамид короткими курсами. Длительное использование этих препаратов не рекомендуется по причине серьезных побочных эффектов со стороны сердечно-сосудист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новым препаратом из группы прокинетиков является итоприд (ганатон), он нормализует моторику желудочно-кишечного тракта и уменьшает заброс желчи в желуд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нейтрализация желчных кислот, оказывающих повреждающее действие на слизистую оболочку желудка, применяют хенодеоксихолевую и урсодеоксихолевую  кислоты,например, урсос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щита слизистой оболочки от желчных кислот - препараты, снижающие кислотность в обычной суточной дозе (алюминийсодержащие антациды, например, альмагель, обладают способностью связывать желчные кислоты, поэтому они более эффектив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пониженной кислотности назначают диету №2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ы из круп и овощные, протертые супы на мясных, грибных, рыбных бульон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рное мясо (рубленое, жареное), курица вареная, паровые, тушеные, обжаренные котлеты без грубой корки, нежирная ветчина, рыба нежирная отварная, хорошо вымоченная нежирная сельдь рубленая, черная ик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око (если не вызывает поноса), масло сливочное, кефир, простокваша, сливки, сметана некислая, творог свежий некислый, сыр неострый протерт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йца всмятку, омлет жаре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ши, хорошо разваренные или протертые (гречневая, манная, рисова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чные блюда, (кроме сдобы), хлеб черствый белый, серый, несдобные сухар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ощи, фрукты вареные, сырые в натертом виде; фруктовые, овощные соки (также кисл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й, кофе, какао на воде с молоком, мармелад, сахар. Поваренной соли до 12-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авляют витамины С, В1, B2, Р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 повышенной кислот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ертые молочные и овощные (кроме капусты), крупяные слизистые супы (но не мясные и не рыбны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вощи в вареном измельченном (пюрированном) виде или в виде паровых пудинг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ертые каши с маслом, моло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арное тощее мясо, отварная рыба нежирных сортов (треска, окунь, щука), мясные, рыбные паровые котлеты, курица отварная без кожиц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ивочное, оливковое, подсолнечное ма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 простокваша некислая, сливки, свежий нежирный, лучше протертый творог, некислая смет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йца всмятку или в виде паровых омл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й черствый хлеб, белые несдобные суха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дкие сорта ягод и фруктов, овощные, фруктовые, ягодные соки, настой шиповника, кисели, компоты из сладких ягод, фруктов в протертом виде, сахар, варенье, чай, какао - слабые, с моло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мере улучшения общего состояния пищу дают в вареном, но не протертом вид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аренную соль ограничивают до 8 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авляют витамины А, С, витамины группы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щу принимают часто 5-6 раз в сутки, хорошо ее пережевывая; следует избегать слишком горячей или слишком холодной пищи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болевания ЖКТ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венная болез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венной болезнь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азумевается хроническое рецидивирующее заболевание, характеризующееся общей морфологической особенностью - потерей участков слизистой обол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я язв) в тех областях пищеварительного тракта, которые контактируют с активным желудочным соком(желудок,проксимальная часть двенадцатиперстной киш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ровоцирует / Причины Язвенной болезн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вно-псих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иментарный фа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ледственно-конституциональ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дные привы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арственные воз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овременной точки зрения, патогенез язвенной болезни представляется как результат нарушения равновесия между факторами агрессии желудочного сока и защиты слизистой оболочки желудка и двенадцати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генез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агрессивным факторам относят соляную кислоту, пепсин, нарушение эвакуации из желудка и дуоденогастральный рефлю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ный барьер слизистой оболочки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о выделять два компонента защитного слизистого барьера: слой видимой, нерастворимой слизи ("первая линия защиты") и слой эпителиальных клеток слизистой оболочки ("вторая линия защиты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ническая карт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одложечной области, могут иррадиировать  в левую половину грудной клетки и левую лопа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сразу после приема пищи ( при язвах кардиального и субкардиального отдела ж-ка), через полчаса-час после еды (через 2-3 часа после еды).При язвах пилорического канала и луковицы 12п. К-ки обычно наблюдаются поздние боли ( через 2-3ч.после еды) .голодные боли, возникающие натощак и проходящие после приема пищи , а так жн ночные боли . Боли купируются антисекреторными и спазмолитическими препаратам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пептические расстройства: отрыжка ксилым,изжога, тошнота,запоры.Возможна рвота на высоте болей,приносящая облег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ость обострения –весна,ос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ость при пальпации в эпигастральной области,умеренно выраженная резистентность мышц передней брюшной ст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К-норма или  анемия- признак скрытого кровотечения. Лейкоцитоз, повышение СОЭ- пенетрация яз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ДС , рентгеноскопия желудк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геликобакт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язвенной болезни появляются разнообразные осложне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венно-деструктивные (кровотечение, прободение, пене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алительные (гастрит, дуоденит, перигастрит, перидуодени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венно-рубцовые (сужение входного и выходного отделов желудка, деформация желудка, сужение просвета двенадцатиперстной кишки, деформация ее луковиц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игнизация язвы (развитие рака из язв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бинированные ослож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венное кровот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при локализации язв в желу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ота типа кофейной гущи ,черный дегтеобразный стул типа ме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жение АД, потереря сознания, тахикар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форация ( пробод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располагают –прием алкоголя, физическое напряжение, перее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ейшие(кинжальные боли)в подложечной области, коллаптоидное с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кообразное напряжение мышц  передней брюшной стенки, выраженная болезненность  при пальпации живота,симптомы раздражения брюшин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одная язва желу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1714680" y="2209680"/>
            <a:ext cx="57150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Ordinatorskaya\Рабочий стол\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ет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никновение язвы желудка или двенадцатиперстной кишки в окружающие органы : поджелудочную железу,малый сальник, желчный пуз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упорные,теряют связь в приемом пищи,повышается температура тела, в крови- лейкоцитоз, повышение СОЭ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етрация яз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1554120" y="156996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ноз привратн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сле рубцевания язв пилорического канала или начальной части 12п.к-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ота пищей, съеденной накануне. отрыжка воздухом с запахом тухлых яиц при пальпации живота « шум плеска» .прогрессирует истощение, электролитные нару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иг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рата периодичности и сезонности обострений, потеря связи болей с приемом пищи, анемия , увеличение С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ГДС. гистологическое исследоваие  биоптатов участков яз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14400"/>
            <a:ext cx="9220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ета №1 (частое дробное механически и химически щадящее питан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каторы протонной помпы (омез,гастрозол, пириет, лансопрозо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ациды: маалокс, гевис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геликобактере-эрадикационная терапия.АБ,Де-н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а- режим питания, исключение вредных привыч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ративное лечение при осложне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гастрорезикционные расстр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рея всл.ускоренного опорожнения желудка и быстрым транзитом содержимого по к-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дром мальабсорбции: анемия ( нарушение всасывания железа и витамина В12) снижение массы тела, гипопротеинемия, отек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- частое дробное питание энпиты, лоперам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стростаз-рвота через 2-3ч.после еды(нарушение моторики, наличие механического препятствия) .лечение- прокинетики(мотилиум),хирургическое леч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гастрорезекционный расстр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мпинг –синдром обусловлен быстрым поступлением гиперосмолярного содержимого желудка в тонкую кишку с последующим нарушением регуляции пищеварения Клиника:слабость, головокружение,потливость, сердцебиение, необходимость принять горизонтальное положение через 10-120 минут  после еды. Лечение- дробный прием пищи ,большое количество пищевых волокон, раздельный прием пищи и жидкости, спазмоли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ний демпинг-синдром –гипогликемия через 2-3ч. После приема пищи ,связанная с выделением инсулина в ответ на гипергликемию: слабость, головокружение.сердцебиение, чувство голода, потливость ,прием пищи уменьшает симптомы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пациента: боли в животе, нарушение аппетита, изжога, тошнота, рвота , необходимость соблюдения диеты, необходимость прекращения курения, приема алкоголя, необходимость систематического приема лекарственных препарат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йствия м\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я бесед о режиме питания и диеты, о прекращении курения и приема алкоголя, о необходимости приема лекарственных средств по распис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диетой,приемом медика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передач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весом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ние первой помощи при Ж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к обследованиям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к желу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качественная опухоль, развивающаяся из эпителиальной тк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ология: канцерогенные факторы-курение, злоупотребление алкоголем, геликобакте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бор информ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- связь с приемом пищи, локализация, связь с дефекац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аппе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жка: внезапное попадание в полость рта  содержимого желудка ,сопров. характерным звуком выходящего через 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а, обусловлена сокращением  желудка при открытом кардиальном отверст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жога: ощущение жжения в подложечной области и за грудиной . ( забрасывание кислого содержимого желудка в нижнюю часть пище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шнота:  неприятное ощущение в подложечной области в сочетании с ощущением д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вота-  непроизвольно выбрасывается содержимое желудка  через пищевод, глотку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еоризм – вздутие. Распиранием живота в сочетании с усиленным отхождением га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осы: жидкий стул с частым опоржнением кишечника( усил.перистальтика. Нарушение всасы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ры- задержка кала в к-ке более 48 ч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нческая ка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ачале заболевания- малые признаки: желудочный дискомфорт, слабость,утомляемость, снижение апетита, отвращение к мясной пищ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-от слабовыраженных до морфи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ем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е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АК,БАК, ФГДС,УЗИ ОБП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пациента: диспептические расстройства( тошнота, рвота,тяжесть в эпигастрии) ,боли, потеря веса, сознание необходимости проведения опер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 медсестры: помощь при рвоте, контроль веса, беседы о необходимости операции, своевременное обезболи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панкре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еское воспаление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, постоянное снижение функции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ология:  болезни ЖВП,злоупотребление алкоголем,язвенная болезнь 12п. К-ки, повреждение железы во время опе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алительно-дистрофические изменения вжелезе, утрата  внутри и внешнесекреторной функци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панкре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: боли в животе слева от пупка. В левом подреберье, опоясывающий характер,  провоцируются  острой. жареной пищей .снижение аппетита, тошнота, рвота, склонность к поносам,желтуха при сдавлении желчных протоков. Снижение веса,сухость кожи, при пальпации- болезненность  в проекции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К-лейкоцитоз, пов. СОЭ, БАК:  повышение амилазы, сахара крови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ОБ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ронический панкреатит. Ле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: исключить жирные,жареные блюда, достаточно белка, питание 4-5 р\д,витам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ирвание болей: анальг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воспаления: ферменты +ингибиторы соляной кислоты ( омез+ антациды) , инфузионная терапия с электролитами,спазмолитиками, анальгетикам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едостаточности внешнесекреторной ф-ции- панкреатические ферменты( мезим, панкреатин, крео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эндокринной – функции- СД вторичный панкреатогенный- инсулинотера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од за больным в период обост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ы пациента: боли в животе, диспепсические явления, необходимость соблюдения ди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я м\с: беседы о диета, режиме питания, запрещения приема алкоголя, контроль за приемом медикаментов, подготовка к исследования, помощь при рвоте,уход за тяжелобольны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логия печени и ЖВ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ень-самая крупная железа организма( 1,5 к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:1) барьерная.дезинтоксикационная ( по воротной вене в печень поступает кровь из  толстой к-ки, желудка, тонкой кишки, поджелудочной железы, селезенки) 2) синтез желчи( желчные кислоты эмульгируют жиры), 3) синтез факторов свертывания крови. 4) Депо гликоген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ирубин –образуется из гемоглобина( непрямой, свободный),в клетках печени связывается с глюкуроновой кислотой- савязынный, прямой, поступает в  12п. к-ку , под вл. Кишечных ферментов  переходит в стеркобилин( окрашивает кал)и уробилиноген( в виде уробилина попадает в мочу)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Ordinatorskaya\Мои документы\Downloads\dekompensirovannyy-cirroz-pecheni-634x50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 информа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равом подребе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уха ( механическая- ЖКБ, нарушение оттока желчи , паренхиматозная- воспаление печени –билирубин поступает в кровь,затем в мочу  , гемолитическая- разрушение эритроцитов 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ц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птомы общей интокс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C:\Documents and Settings\Ordinatorskaya\Мои документы\Downloads\20313c4d7b2579143016bd2b8c34274d.jpg"/>
          <p:cNvPicPr/>
          <p:nvPr/>
        </p:nvPicPr>
        <p:blipFill>
          <a:blip r:embed="rId1"/>
          <a:stretch/>
        </p:blipFill>
        <p:spPr>
          <a:xfrm>
            <a:off x="99072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стрит. воспаление слизистой (внутренней) оболочки желуд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астр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Различают острые и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хронические гастр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гастрит – это острое воспаление слизистой оболочки желудка, которое возникает при непродолжительном воздействии сильных раздражителей. Острые гастриты возникают внезапно и протекают тяжело, нередко сопровождаясь образованием так называемых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эроз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небольших дефектов слизистой оболочки) желудка и развитием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ровот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т острого гастрита следует отличать обострение хронического (уже существующего гастри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е гепат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а хронических заболеваний, хар. Воспалением ткани печени более 6-ти м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ология: вирусные ХГ. Аутоимунные, токсические, лекарственные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ническая картина:  тяжесть в право подреберье, желтуха,  увеличение печени,тошнота, слабость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: отказ от алкоголя, инфузионная терапия, гепатопротекторы. ( карсил,эссенциале, фосфоглиф, гептрал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-ка: ОАК, ОАМ, БАК, УЗИОБП, ФГД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 : ограничение жиров, богатая белками, витаминами ,углеводами( молочно-растительная пища) ,ограничение с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ое прогрессирущее заболевание .характеризующееся постепенной гибелью гепатоцитов , дистрофией, некрозом печеночной ткани, разрастанием соединительной ткани, перестройкой  архитектоники печени с образованием регенераторных узлов с развитием печеночной недостаточности, портальной гипертензи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Ordinatorskaya\Мои документы\Downloads\slid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Ordinatorskaya\Мои документы\Downloads\22455104341_fibroz-pecheni-4-stepeni-prognoz-leche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тр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еночная недостаточность: энцефалопатия, кровоточивость, кожные стигмы(малиновый язык, гинекомастия, гиперемия ладоней, выпадение волос «сосудистые звездочки», нарушение питания( кахекс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цит, желт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льная гипертензия: спленомегалия, кровотечение из расширенных вен пище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онность к инфекци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альпации- бугристый край печ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К-анемия, БАК: повышение аЛТ,АСТ, ЩФ, билируб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ГДС- варикозно-расширенные вены пищев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И ОБП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Ordinatorskaya\Мои документы\Downloads\slide_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:\Documents and Settings\Ordinatorskaya\Мои документы\Downloads\vsegda-li-pri-tsirroze-gepatit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ета с исключением жиров, богатая белками. Углево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ие соли, 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патопротект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: боли, зуд, тошнота, снижение аппетита,слаб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 диуреза, взвешивание, контроль за приемом медикаментов, подготовка к исследованиям. Уход за тяжелоболь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ание доврачебной помощи при кровотечении из варикозно-расширенных вен пищевода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чины острого гастр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резмерный прием алког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ение (случайно или намеренно) кислот, щелочей и других токсически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ение некоторых лекарств, в частности, больших доз так называемых нестероидных противовоспалительных средств (например, аспирин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ожнение тяжелых заболеваний (например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фаркта миокар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нсуль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еченочной или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чечной недостато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равм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ожог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пераций, угрожающих жизни состояний — так называемый острый стрессорный гастр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инфекции (цитомегаловирус (особенно у больных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ИЧ-инфе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яжелая стафилококковая инфекция и 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желое радиационное по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дких случаях острый гастрит связан с заражением бактерией Helicobacter pylori (хеликобак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ить на вопро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ислите потенциальные проблемы пациента с язвенной болезн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Перечислите симптомы цирроза 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еречислите жалобы пациента с язвенной болезн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Опишите проблемы пациента с цирозом печени и составьте план ухода за больным с декомпенсированным циррозом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Составьте беседу с пауиентом хроническим гастри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 лечится в гастроэнтерологическом отделении с диагнозом язвенная болезнь желудка. Обратился к медсестре с жалобами на слабость, сердцебиение,одышку, черный стул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ши действ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 поступил в  гастро-энтерологическое отделение с жалобами на увеличение живота, желтуху, тошноту, рвоту, отеки 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уйте предварительный диаг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 обслед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ьте больного к обслед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 лечения и у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мптомы острого гастри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о, возникает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трыж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яжесть и резкие боли в подложечной области,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ошн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в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абость, головокружение. У некоторых больных возникает рвота содержимым бурого цвета или с примесью крови. Через 1-2 суток присоединяется жидкий ст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больных ранее не страдали болезнями желудка и кише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ностика острого гастри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иагностики острого гастрита проводят гастроскопию, которую правильнее называть                                                      эзофагогастродуоденоскопией (ФГД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К ,О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К. УЗИ ОБ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 всего, должна быть установлена, и по возможности, устранена, причина, которая привела к острому повреждению желудка. Иногда необходимо промывание желудка. В течение первых суток болезни рекомендуется воздерживаться от приема пищи. Следует придерживаться диеты при остром гастрите – слизистые супы, кисели, жел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9:38:39Z</dcterms:created>
  <dc:creator>Viorica Andrei</dc:creator>
  <dc:description/>
  <dc:language>en-US</dc:language>
  <cp:lastModifiedBy>Елена</cp:lastModifiedBy>
  <dcterms:modified xsi:type="dcterms:W3CDTF">2020-11-26T10:01:20Z</dcterms:modified>
  <cp:revision>544</cp:revision>
  <dc:subject/>
  <dc:title>Slide 1</dc:title>
</cp:coreProperties>
</file>