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DED-C472-487C-83BF-272E7752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0D6-E3BF-4AA0-A8B8-2E1EEFF8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955-4A41-4D05-B7FA-F121A98F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2737-F0EC-4192-BEAE-E5382890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7B9-20E5-4B05-BD8D-69AF9E10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99D-0CBB-4651-9671-7AF6BB87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856-83B0-4AF5-AE9F-4EF400FE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92E-45F6-4DE6-8DED-A98A950E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5EC-076A-4B27-B1BC-2ED81363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7BA-9A4D-40E7-A4DC-307CA7E5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DC94-3430-402D-BC30-4D6F6473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7358-37ED-4485-848A-1D20D400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469A-628D-4DBC-8719-CE203585C2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a0000"/>
                </a:solidFill>
                <a:latin typeface="Times New Roman"/>
              </a:rPr>
              <a:t>Past Ten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lready              never           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never                   just             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s soon as      by the time            till/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81320" y="2565360"/>
            <a:ext cx="225036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216240" y="2565360"/>
            <a:ext cx="254304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no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529680" y="2565360"/>
            <a:ext cx="240264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I/you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he/she/i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ve we/you/they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700"/>
                            </p:stCondLst>
                            <p:childTnLst>
                              <p:par>
                                <p:cTn id="4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ast Perfect Continuous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One action in the past lasted for some time before another pas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had been teaching at that school for some time before I me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One action that lasted for some time in the past had an effect on a following action o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knew the city very well because he had been working as a taxi driver for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040d"/>
                </a:solidFill>
                <a:latin typeface="Times New Roman"/>
              </a:rPr>
              <a:t>Time expressions with the </a:t>
            </a:r>
            <a:br>
              <a:rPr sz="4000"/>
            </a:br>
            <a:r>
              <a:rPr b="0" lang="en-US" sz="4000" spc="-1" strike="noStrike">
                <a:solidFill>
                  <a:srgbClr val="4e040d"/>
                </a:solidFill>
                <a:latin typeface="Times New Roman"/>
              </a:rPr>
              <a:t>Past Perfect Continu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548000" y="30211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125080" y="508464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786920" y="2276640"/>
            <a:ext cx="17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how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779640" y="393372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660000" y="41497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82040" y="2565360"/>
            <a:ext cx="198216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216240" y="2565360"/>
            <a:ext cx="246672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530040" y="2565360"/>
            <a:ext cx="226872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I/you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he/she/it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we/you/they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7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resen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started and finished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sent the e-mail yester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Did they do the job las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happened one after the other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She opened the door, picked up the telefone and made a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were repeated or were habits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caught the early train every 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how long ago...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a month a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a year a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every summ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in 195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in Janu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last summ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last y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the day before yester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th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yester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34920" y="2708280"/>
            <a:ext cx="49690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Time expressions usually come at the end of a sent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6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2600" y="2565360"/>
            <a:ext cx="256104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 wa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you were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wa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were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006000" y="2565360"/>
            <a:ext cx="310968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I was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you were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he/she/it was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we/you/they were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312960" y="2565360"/>
            <a:ext cx="277920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s I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re you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s he/she/it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re we/you/they waitit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427640" y="1197000"/>
            <a:ext cx="0" cy="122400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443640" y="1268280"/>
            <a:ext cx="86508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700"/>
                            </p:stCondLst>
                            <p:childTnLst>
                              <p:par>
                                <p:cTn id="1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We use the Past Continuous to talk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ctions that were in progress at a specific tim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I was having lunch at one o’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Was he listening to the radio when you le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Two or more actions that were in progress at the same tim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My brother was putting the tools away and I was cleaning the ga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The background events in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The wind was blowing and the clouds were moving across the blue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n action in progress in the past that was interrupted by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I was reading when the telephone r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050920" y="249228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at </a:t>
            </a:r>
            <a:r>
              <a:rPr b="0" lang="en-US" sz="2800" spc="-1" strike="noStrike">
                <a:solidFill>
                  <a:srgbClr val="4e040d"/>
                </a:solidFill>
                <a:latin typeface="Times New Roman"/>
              </a:rPr>
              <a:t>ten</a:t>
            </a: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 o’c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70520" y="42926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Arial"/>
              </a:rPr>
              <a:t>all 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5580720" y="3357720"/>
            <a:ext cx="177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at tha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4213080" y="515772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81680" y="2565360"/>
            <a:ext cx="237060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16240" y="2565360"/>
            <a:ext cx="272124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313680" y="2565360"/>
            <a:ext cx="252324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I/you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he/she/it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we/you/they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700"/>
                            </p:stCondLst>
                            <p:childTnLst>
                              <p:par>
                                <p:cTn id="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36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ast Perfec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before another action in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We had seen a programm about India, so we went to the places they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before a specific time in the 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Walter has finished the project by lunch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in the past and had an effect on a following action o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have known him for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s jus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has jus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They’ve just told me th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9:07:09Z</dcterms:created>
  <dc:creator>Татьяна</dc:creator>
  <dc:description/>
  <dc:language>en-US</dc:language>
  <cp:lastModifiedBy>Yolgina</cp:lastModifiedBy>
  <dcterms:modified xsi:type="dcterms:W3CDTF">2020-11-29T06:33:48Z</dcterms:modified>
  <cp:revision>30</cp:revision>
  <dc:subject/>
  <dc:title>Present Tenses</dc:title>
</cp:coreProperties>
</file>