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57A-8DD8-45C6-8500-59A1F772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5DA-D502-40FA-BC64-FFB2D227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EA3-F3C9-4A3A-8A60-6F15DCAC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B06-D0FE-4515-88B5-A870F5DC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381-11F5-49D6-B511-1359FA08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B4B-305B-47E2-8301-C9D12578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C2B-2BA6-4021-87FB-8E212DA9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6C5-FA21-453C-B6B4-5F208D2E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76F-F586-458A-AF4D-B4A19F5E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A23-6ACA-4E0A-837F-03F646EE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01A-5A31-4CAD-8909-6F557658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7E0-93DE-49F1-9223-A0C72E41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44E6-1AD5-420D-B890-2B82070A62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a0000"/>
                </a:solidFill>
                <a:latin typeface="Times New Roman"/>
              </a:rPr>
              <a:t>Past Ten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lready              never           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never                   just             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s soon as      by the time            till/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81320" y="2565360"/>
            <a:ext cx="225036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216240" y="2565360"/>
            <a:ext cx="25430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529680" y="2565360"/>
            <a:ext cx="24026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ve we/you/the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70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Continuous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in the past lasted for some time before another pas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d been teaching at that school for some time before I me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that lasted for some time in the past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knew the city very well because he had been working as a taxi driver for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Time expressions with the </a:t>
            </a:r>
            <a:br>
              <a:rPr sz="4000"/>
            </a:b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Past Perfec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548000" y="30211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25080" y="508464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786920" y="227664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how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779640" y="393372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660000" y="41497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82040" y="2565360"/>
            <a:ext cx="198216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16240" y="2565360"/>
            <a:ext cx="2466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30040" y="2565360"/>
            <a:ext cx="2268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I/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he/she/it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we/you/they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7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resen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started and finished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sent the e-mail yeste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Did they do the job las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happened one after the other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She opened the door, picked up the telefone and made a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were repeated or were habit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caught the early train every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how long ago...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month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year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every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195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Janu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y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 day before 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34920" y="2708280"/>
            <a:ext cx="49690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Time expressions usually come at the end of a sent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6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2600" y="2565360"/>
            <a:ext cx="256104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you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06000" y="2565360"/>
            <a:ext cx="310968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I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you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he/she/it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we/you/they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312960" y="2565360"/>
            <a:ext cx="277920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I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you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he/she/it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we/you/they waitit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427640" y="1197000"/>
            <a:ext cx="0" cy="122400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443640" y="1268280"/>
            <a:ext cx="86508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700"/>
                            </p:stCondLst>
                            <p:childTnLst>
                              <p:par>
                                <p:cTn id="1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We use the Past Continuous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ctions that were in progress at a specific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having lunch at one o’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Was he listening to the radio when you le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wo or more actions that were in progress at the same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My brother was putting the tools away and I was cleaning the ga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he background events in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The wind was blowing and the clouds were moving across the blu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n action in progress in the past that was interrupted by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reading when the telephone 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050920" y="249228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</a:rPr>
              <a:t>ten</a:t>
            </a: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 o’c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70520" y="42926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Arial"/>
              </a:rPr>
              <a:t>all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5580720" y="3357720"/>
            <a:ext cx="17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at tha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213080" y="51577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81680" y="2565360"/>
            <a:ext cx="237060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16240" y="2565360"/>
            <a:ext cx="2721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313680" y="2565360"/>
            <a:ext cx="2523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we/you/they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7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nother action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e had seen a programm about India, so we went to the places they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 specific time in the 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alter has finished the project by lunch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in the past and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ve known him fo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s jus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has jus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They’ve just told me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Yolgina</cp:lastModifiedBy>
  <dcterms:modified xsi:type="dcterms:W3CDTF">2020-11-29T06:33:48Z</dcterms:modified>
  <cp:revision>30</cp:revision>
  <dc:subject/>
  <dc:title>Present Tenses</dc:title>
</cp:coreProperties>
</file>