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0167-8860-430E-BD4D-A1874F6931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93CC-EE3A-4130-9A9A-6CFE318B6F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FCB9-104A-4DD7-9664-E4470BF3E4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54877-36D9-4CF6-B312-FE7D5224C2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9B8F2-A438-4576-AF80-A883516EA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EC5C5-98A4-4471-ABA6-B23EC72FE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856DC-78EF-4877-970F-512CCB3789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1BC3D-50D5-449F-98FA-2086D4C642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8D296-5EB9-43B8-9D1E-54CB98AFF0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A21A9-8B15-43AB-8242-91A48390F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B0DD2-61C1-4DF5-9EE1-27F850AE01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6656F-B48E-483B-A577-00B4F421E0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7AD04-C53B-4D5D-8C96-0B8AE11259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F4A81-CB99-44FB-87FF-61A6A693E6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7946F-E020-40E9-A287-AA9BE1B904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077320" y="6432480"/>
            <a:ext cx="83808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888A-D8C0-4219-B3EE-CB7CC3F5AF8A}" type="slidenum">
              <a:rPr b="0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8" descr="S1.pdf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S1.pdf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rcRect l="0" t="0" r="16493" b="0"/>
          <a:stretch/>
        </p:blipFill>
        <p:spPr>
          <a:xfrm>
            <a:off x="685800" y="2286000"/>
            <a:ext cx="3013200" cy="40147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Habitual Present vs. Future Time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6" name="Rounded Rectangular Callout 5"/>
          <p:cNvSpPr/>
          <p:nvPr/>
        </p:nvSpPr>
        <p:spPr>
          <a:xfrm>
            <a:off x="5257800" y="2286000"/>
            <a:ext cx="3048120" cy="1447920"/>
          </a:xfrm>
          <a:prstGeom prst="wedgeRoundRectCallout">
            <a:avLst>
              <a:gd name="adj1" fmla="val -127273"/>
              <a:gd name="adj2" fmla="val 2346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we get out of school, we meet at the fount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8077320" y="6432480"/>
            <a:ext cx="838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C52C-6625-4143-8821-8FA0359E7349}" type="slidenum">
              <a:rPr b="0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ounded Rectangle 7"/>
          <p:cNvSpPr/>
          <p:nvPr/>
        </p:nvSpPr>
        <p:spPr>
          <a:xfrm>
            <a:off x="838080" y="679320"/>
            <a:ext cx="4267440" cy="692280"/>
          </a:xfrm>
          <a:prstGeom prst="roundRect">
            <a:avLst>
              <a:gd name="adj" fmla="val 16667"/>
            </a:avLst>
          </a:prstGeom>
          <a:solidFill>
            <a:srgbClr val="cc0066">
              <a:alpha val="25000"/>
            </a:srgbClr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bitual Present vs.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ound Diagonal Corner Rectangle 9"/>
          <p:cNvSpPr/>
          <p:nvPr/>
        </p:nvSpPr>
        <p:spPr>
          <a:xfrm>
            <a:off x="152280" y="1752480"/>
            <a:ext cx="8305920" cy="4038840"/>
          </a:xfrm>
          <a:custGeom>
            <a:avLst/>
            <a:gdLst/>
            <a:ahLst/>
            <a:rect l="l" t="t" r="r" b="b"/>
            <a:pathLst>
              <a:path w="8305800" h="4038600">
                <a:moveTo>
                  <a:pt x="673113" y="0"/>
                </a:moveTo>
                <a:lnTo>
                  <a:pt x="8305800" y="0"/>
                </a:lnTo>
                <a:lnTo>
                  <a:pt x="8305800" y="0"/>
                </a:lnTo>
                <a:lnTo>
                  <a:pt x="8305800" y="3365487"/>
                </a:lnTo>
                <a:cubicBezTo>
                  <a:pt x="8305800" y="3737237"/>
                  <a:pt x="8004437" y="4038600"/>
                  <a:pt x="7632687" y="4038600"/>
                </a:cubicBezTo>
                <a:lnTo>
                  <a:pt x="0" y="4038600"/>
                </a:lnTo>
                <a:lnTo>
                  <a:pt x="0" y="4038600"/>
                </a:lnTo>
                <a:lnTo>
                  <a:pt x="0" y="673113"/>
                </a:lnTo>
                <a:cubicBezTo>
                  <a:pt x="0" y="301363"/>
                  <a:pt x="301363" y="0"/>
                  <a:pt x="673113" y="0"/>
                </a:cubicBezTo>
                <a:close/>
              </a:path>
            </a:pathLst>
          </a:custGeom>
          <a:solidFill>
            <a:srgbClr val="005878">
              <a:alpha val="25000"/>
            </a:srgbClr>
          </a:solidFill>
          <a:ln w="25560">
            <a:solidFill>
              <a:srgbClr val="0058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187200" y="1752480"/>
            <a:ext cx="7835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 we have a big test, I study all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 our next big test, I am going to study all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I go to Miami, I stay with B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I go to Miami tomorrow, I will stay with B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I finish my homework, I will go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I finish my homework tonight, I will go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3"/>
          <p:cNvSpPr/>
          <p:nvPr/>
        </p:nvSpPr>
        <p:spPr>
          <a:xfrm>
            <a:off x="257400" y="5105520"/>
            <a:ext cx="56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 I get home, I will buy bana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1"/>
          <p:cNvSpPr/>
          <p:nvPr/>
        </p:nvSpPr>
        <p:spPr>
          <a:xfrm>
            <a:off x="324360" y="1092240"/>
            <a:ext cx="45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on the correct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240840" y="1752480"/>
            <a:ext cx="48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I get home tonight, I stu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250560" y="3591000"/>
            <a:ext cx="595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people see her, they always sm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6983280" y="1814400"/>
            <a:ext cx="15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6982200" y="354816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9"/>
          <p:cNvSpPr/>
          <p:nvPr/>
        </p:nvSpPr>
        <p:spPr>
          <a:xfrm>
            <a:off x="6982200" y="510552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248760" y="2362320"/>
            <a:ext cx="66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I get home tonight, I will study. 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I get home tonight, I am going to stu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6982200" y="251460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8077320" y="6432480"/>
            <a:ext cx="838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19A8-D5EC-4D40-929C-05317F54B4EE}" type="slidenum">
              <a:rPr b="0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4267080" y="36180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Rockwell"/>
              </a:rPr>
              <a:t> </a:t>
            </a:r>
            <a:r>
              <a:rPr b="1" lang="en-US" sz="2000" spc="-1" strike="noStrike">
                <a:solidFill>
                  <a:srgbClr val="7030a0"/>
                </a:solidFill>
                <a:latin typeface="Rockwell"/>
              </a:rPr>
              <a:t>Habitual Present vs. Futur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47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52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3"/>
          <p:cNvSpPr/>
          <p:nvPr/>
        </p:nvSpPr>
        <p:spPr>
          <a:xfrm>
            <a:off x="255960" y="5105520"/>
            <a:ext cx="564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it rains, she carries an umbr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1"/>
          <p:cNvSpPr/>
          <p:nvPr/>
        </p:nvSpPr>
        <p:spPr>
          <a:xfrm>
            <a:off x="248400" y="1092240"/>
            <a:ext cx="45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on the correct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241920" y="3160800"/>
            <a:ext cx="46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I get home early, I show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242640" y="1720800"/>
            <a:ext cx="54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I think about you, I am hap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7177680" y="3222720"/>
            <a:ext cx="15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7175880" y="167652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7175880" y="510552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242640" y="3770280"/>
            <a:ext cx="691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I get home early, I will take a shower. 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I get home early, I’m going to take a sh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6939360" y="697068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8077320" y="6432480"/>
            <a:ext cx="838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EC20-E0E7-4CDC-B9E7-0D4C0EDAE93E}" type="slidenum">
              <a:rPr b="0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4"/>
          <p:cNvSpPr/>
          <p:nvPr/>
        </p:nvSpPr>
        <p:spPr>
          <a:xfrm>
            <a:off x="4267080" y="36180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Rockwell"/>
              </a:rPr>
              <a:t> </a:t>
            </a:r>
            <a:r>
              <a:rPr b="1" lang="en-US" sz="2000" spc="-1" strike="noStrike">
                <a:solidFill>
                  <a:srgbClr val="7030a0"/>
                </a:solidFill>
                <a:latin typeface="Rockwell"/>
              </a:rPr>
              <a:t>Habitual Present vs. Futur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5"/>
          <p:cNvSpPr/>
          <p:nvPr/>
        </p:nvSpPr>
        <p:spPr>
          <a:xfrm>
            <a:off x="7175880" y="380988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58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69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8077320" y="6432480"/>
            <a:ext cx="838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5C29-961D-477E-8FB8-A4A5218669A8}" type="slidenum">
              <a:rPr b="0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228600" y="2209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4351680" y="5791320"/>
            <a:ext cx="3669120" cy="3682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reated by Laurette Poulos Simm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itle 1"/>
          <p:cNvSpPr/>
          <p:nvPr/>
        </p:nvSpPr>
        <p:spPr>
          <a:xfrm>
            <a:off x="30492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Habitual Present vs. Future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1"/>
          <p:cNvSpPr/>
          <p:nvPr/>
        </p:nvSpPr>
        <p:spPr>
          <a:xfrm>
            <a:off x="8077320" y="6432480"/>
            <a:ext cx="838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9425-D2A6-4B9C-84C1-7BCBAE241CEC}" type="slidenum">
              <a:rPr b="0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2"/>
          <p:cNvSpPr/>
          <p:nvPr/>
        </p:nvSpPr>
        <p:spPr>
          <a:xfrm>
            <a:off x="685800" y="609480"/>
            <a:ext cx="7772400" cy="1447920"/>
          </a:xfrm>
          <a:prstGeom prst="roundRect">
            <a:avLst>
              <a:gd name="adj" fmla="val 16667"/>
            </a:avLst>
          </a:prstGeom>
          <a:solidFill>
            <a:srgbClr val="cc0066">
              <a:alpha val="25000"/>
            </a:srgbClr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mple pres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sometimes called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abitu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es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cause every time one event happens, the other event also happe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rcRect l="0" t="0" r="16493" b="0"/>
          <a:stretch/>
        </p:blipFill>
        <p:spPr>
          <a:xfrm>
            <a:off x="685800" y="2286000"/>
            <a:ext cx="3013200" cy="4014720"/>
          </a:xfrm>
          <a:prstGeom prst="rect">
            <a:avLst/>
          </a:prstGeom>
          <a:ln w="0">
            <a:noFill/>
          </a:ln>
        </p:spPr>
      </p:pic>
      <p:sp>
        <p:nvSpPr>
          <p:cNvPr id="90" name="Rounded Rectangular Callout 4"/>
          <p:cNvSpPr/>
          <p:nvPr/>
        </p:nvSpPr>
        <p:spPr>
          <a:xfrm>
            <a:off x="4876920" y="2590920"/>
            <a:ext cx="3200400" cy="1447560"/>
          </a:xfrm>
          <a:prstGeom prst="wedgeRoundRectCallout">
            <a:avLst>
              <a:gd name="adj1" fmla="val -112009"/>
              <a:gd name="adj2" fmla="val -35365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w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ut of school, w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the fount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ounded Rectangle 6"/>
          <p:cNvSpPr/>
          <p:nvPr/>
        </p:nvSpPr>
        <p:spPr>
          <a:xfrm>
            <a:off x="641520" y="533520"/>
            <a:ext cx="7816680" cy="1447560"/>
          </a:xfrm>
          <a:prstGeom prst="roundRect">
            <a:avLst>
              <a:gd name="adj" fmla="val 16667"/>
            </a:avLst>
          </a:prstGeom>
          <a:solidFill>
            <a:srgbClr val="cc0066">
              <a:alpha val="25000"/>
            </a:srgbClr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ime claus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f-claus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how the relationship between two events. They can be used to show events that happe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abitual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utu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1"/>
          <p:cNvSpPr/>
          <p:nvPr/>
        </p:nvSpPr>
        <p:spPr>
          <a:xfrm>
            <a:off x="8077320" y="6432480"/>
            <a:ext cx="838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51E3-A612-40DB-8B97-A44328CD0380}" type="slidenum">
              <a:rPr b="0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3532320" y="3657600"/>
            <a:ext cx="14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f-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eft Brace 10"/>
          <p:cNvSpPr/>
          <p:nvPr/>
        </p:nvSpPr>
        <p:spPr>
          <a:xfrm rot="16200000">
            <a:off x="3771720" y="-38160"/>
            <a:ext cx="685800" cy="6705360"/>
          </a:xfrm>
          <a:custGeom>
            <a:avLst/>
            <a:gdLst>
              <a:gd name="textAreaLeft" fmla="*/ 438120 w 685800"/>
              <a:gd name="textAreaRight" fmla="*/ 686160 w 685800"/>
              <a:gd name="textAreaTop" fmla="*/ 17640 h 6705360"/>
              <a:gd name="textAreaBottom" fmla="*/ 6687720 h 670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2"/>
                  <a:pt x="10800" y="184"/>
                </a:cubicBezTo>
                <a:lnTo>
                  <a:pt x="10800" y="10616"/>
                </a:lnTo>
                <a:cubicBezTo>
                  <a:pt x="10800" y="10708"/>
                  <a:pt x="5400" y="10800"/>
                  <a:pt x="0" y="10800"/>
                </a:cubicBezTo>
                <a:cubicBezTo>
                  <a:pt x="5400" y="10800"/>
                  <a:pt x="10800" y="10892"/>
                  <a:pt x="10800" y="10984"/>
                </a:cubicBezTo>
                <a:lnTo>
                  <a:pt x="10800" y="21416"/>
                </a:lnTo>
                <a:cubicBezTo>
                  <a:pt x="10800" y="2150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762120" y="243828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’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is assignmen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1871640" y="5010120"/>
            <a:ext cx="4681440" cy="139068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1981080" y="464832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we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schoo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1"/>
          <p:cNvSpPr/>
          <p:nvPr/>
        </p:nvSpPr>
        <p:spPr>
          <a:xfrm>
            <a:off x="8077320" y="6432480"/>
            <a:ext cx="838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5FC4-C4A9-4428-8109-D1E8125DB284}" type="slidenum">
              <a:rPr b="0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2"/>
          <p:cNvSpPr/>
          <p:nvPr/>
        </p:nvSpPr>
        <p:spPr>
          <a:xfrm>
            <a:off x="685800" y="609480"/>
            <a:ext cx="7924680" cy="1447920"/>
          </a:xfrm>
          <a:prstGeom prst="roundRect">
            <a:avLst>
              <a:gd name="adj" fmla="val 16667"/>
            </a:avLst>
          </a:prstGeom>
          <a:solidFill>
            <a:srgbClr val="cc0066">
              <a:alpha val="25000"/>
            </a:srgbClr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bitual present with time clauses: If the events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ime clau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n cau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both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abitu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mple pres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used i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o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u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rcRect l="0" t="0" r="16493" b="0"/>
          <a:stretch/>
        </p:blipFill>
        <p:spPr>
          <a:xfrm>
            <a:off x="685800" y="2286000"/>
            <a:ext cx="3013200" cy="4014720"/>
          </a:xfrm>
          <a:prstGeom prst="rect">
            <a:avLst/>
          </a:prstGeom>
          <a:ln w="0">
            <a:noFill/>
          </a:ln>
        </p:spPr>
      </p:pic>
      <p:sp>
        <p:nvSpPr>
          <p:cNvPr id="101" name="Rounded Rectangular Callout 3"/>
          <p:cNvSpPr/>
          <p:nvPr/>
        </p:nvSpPr>
        <p:spPr>
          <a:xfrm>
            <a:off x="5257800" y="2286000"/>
            <a:ext cx="3048120" cy="1447920"/>
          </a:xfrm>
          <a:prstGeom prst="wedgeRoundRectCallout">
            <a:avLst>
              <a:gd name="adj1" fmla="val -127273"/>
              <a:gd name="adj2" fmla="val 2346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we get out of school, w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the fount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8" descr=""/>
          <p:cNvPicPr/>
          <p:nvPr/>
        </p:nvPicPr>
        <p:blipFill>
          <a:blip r:embed="rId1"/>
          <a:srcRect l="0" t="0" r="14871" b="0"/>
          <a:stretch/>
        </p:blipFill>
        <p:spPr>
          <a:xfrm>
            <a:off x="277920" y="2979720"/>
            <a:ext cx="2617560" cy="342108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4305240" y="2666880"/>
            <a:ext cx="4000680" cy="1447920"/>
          </a:xfrm>
          <a:prstGeom prst="wedgeRoundRectCallout">
            <a:avLst>
              <a:gd name="adj1" fmla="val -97611"/>
              <a:gd name="adj2" fmla="val 14828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school tomorrow, w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going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fount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6"/>
          <p:cNvSpPr/>
          <p:nvPr/>
        </p:nvSpPr>
        <p:spPr>
          <a:xfrm>
            <a:off x="609480" y="533520"/>
            <a:ext cx="7848720" cy="1981080"/>
          </a:xfrm>
          <a:prstGeom prst="roundRect">
            <a:avLst>
              <a:gd name="adj" fmla="val 16667"/>
            </a:avLst>
          </a:prstGeom>
          <a:solidFill>
            <a:srgbClr val="cc0066">
              <a:alpha val="25000"/>
            </a:srgbClr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ture with time clauses: If the events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ime cl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n clau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about the future,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mple pres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used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ime clau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 going to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used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n cl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1"/>
          <p:cNvSpPr/>
          <p:nvPr/>
        </p:nvSpPr>
        <p:spPr>
          <a:xfrm>
            <a:off x="8077320" y="6432480"/>
            <a:ext cx="838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134D-6AE9-4BA1-92A7-303901454840}" type="slidenum">
              <a:rPr b="0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3416400" cy="2286000"/>
          </a:xfrm>
          <a:prstGeom prst="rect">
            <a:avLst/>
          </a:prstGeom>
          <a:ln w="0">
            <a:noFill/>
          </a:ln>
        </p:spPr>
      </p:pic>
      <p:sp>
        <p:nvSpPr>
          <p:cNvPr id="107" name="Rounded Rectangular Callout 5"/>
          <p:cNvSpPr/>
          <p:nvPr/>
        </p:nvSpPr>
        <p:spPr>
          <a:xfrm>
            <a:off x="4626000" y="2286000"/>
            <a:ext cx="3679920" cy="1676520"/>
          </a:xfrm>
          <a:prstGeom prst="wedgeRoundRectCallout">
            <a:avLst>
              <a:gd name="adj1" fmla="val -80337"/>
              <a:gd name="adj2" fmla="val -25768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I can’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assignment, I alway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hel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7"/>
          <p:cNvSpPr/>
          <p:nvPr/>
        </p:nvSpPr>
        <p:spPr>
          <a:xfrm>
            <a:off x="762120" y="609480"/>
            <a:ext cx="7848360" cy="1447920"/>
          </a:xfrm>
          <a:prstGeom prst="roundRect">
            <a:avLst>
              <a:gd name="adj" fmla="val 16667"/>
            </a:avLst>
          </a:prstGeom>
          <a:solidFill>
            <a:srgbClr val="cc0066">
              <a:alpha val="25000"/>
            </a:srgbClr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bitual present with if-clauses: If the events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f-cl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n cau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both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abitu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mple pres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used in both clau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1"/>
          <p:cNvSpPr/>
          <p:nvPr/>
        </p:nvSpPr>
        <p:spPr>
          <a:xfrm>
            <a:off x="8077320" y="6432480"/>
            <a:ext cx="838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AA76-D5FA-435F-BA8A-D70DBFB2BCCB}" type="slidenum">
              <a:rPr b="0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8077320" y="6432480"/>
            <a:ext cx="838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C715-0460-413B-B182-64E3E5DC7240}" type="slidenum">
              <a:rPr b="0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6"/>
          <p:cNvSpPr/>
          <p:nvPr/>
        </p:nvSpPr>
        <p:spPr>
          <a:xfrm>
            <a:off x="457200" y="533520"/>
            <a:ext cx="8153280" cy="1676160"/>
          </a:xfrm>
          <a:prstGeom prst="roundRect">
            <a:avLst>
              <a:gd name="adj" fmla="val 16667"/>
            </a:avLst>
          </a:prstGeom>
          <a:solidFill>
            <a:srgbClr val="cc0066">
              <a:alpha val="25000"/>
            </a:srgbClr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ture with if-clauses: If the events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f-cl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n clau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about the future,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mple pres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used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f clau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 going to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used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n cl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762120" y="2590920"/>
            <a:ext cx="7010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’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assignmen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m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ing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for hel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3532320" y="3657600"/>
            <a:ext cx="14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f-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eft Brace 10"/>
          <p:cNvSpPr/>
          <p:nvPr/>
        </p:nvSpPr>
        <p:spPr>
          <a:xfrm rot="16200000">
            <a:off x="3771720" y="-38160"/>
            <a:ext cx="685800" cy="6705360"/>
          </a:xfrm>
          <a:custGeom>
            <a:avLst/>
            <a:gdLst>
              <a:gd name="textAreaLeft" fmla="*/ 438120 w 685800"/>
              <a:gd name="textAreaRight" fmla="*/ 686160 w 685800"/>
              <a:gd name="textAreaTop" fmla="*/ 17640 h 6705360"/>
              <a:gd name="textAreaBottom" fmla="*/ 6687720 h 670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2"/>
                  <a:pt x="10800" y="184"/>
                </a:cubicBezTo>
                <a:lnTo>
                  <a:pt x="10800" y="10616"/>
                </a:lnTo>
                <a:cubicBezTo>
                  <a:pt x="10800" y="10708"/>
                  <a:pt x="5400" y="10800"/>
                  <a:pt x="0" y="10800"/>
                </a:cubicBezTo>
                <a:cubicBezTo>
                  <a:pt x="5400" y="10800"/>
                  <a:pt x="10800" y="10892"/>
                  <a:pt x="10800" y="10984"/>
                </a:cubicBezTo>
                <a:lnTo>
                  <a:pt x="10800" y="21416"/>
                </a:lnTo>
                <a:cubicBezTo>
                  <a:pt x="10800" y="2150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eft Brace 11"/>
          <p:cNvSpPr/>
          <p:nvPr/>
        </p:nvSpPr>
        <p:spPr>
          <a:xfrm rot="5400000">
            <a:off x="3809880" y="3200400"/>
            <a:ext cx="685800" cy="4495680"/>
          </a:xfrm>
          <a:custGeom>
            <a:avLst/>
            <a:gdLst>
              <a:gd name="textAreaLeft" fmla="*/ 438120 w 685800"/>
              <a:gd name="textAreaRight" fmla="*/ 686160 w 685800"/>
              <a:gd name="textAreaTop" fmla="*/ 17640 h 4495680"/>
              <a:gd name="textAreaBottom" fmla="*/ 4478040 h 449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8"/>
                  <a:pt x="10800" y="275"/>
                </a:cubicBezTo>
                <a:lnTo>
                  <a:pt x="10800" y="10525"/>
                </a:lnTo>
                <a:cubicBezTo>
                  <a:pt x="10800" y="10663"/>
                  <a:pt x="5400" y="10800"/>
                  <a:pt x="0" y="10800"/>
                </a:cubicBezTo>
                <a:cubicBezTo>
                  <a:pt x="5400" y="10800"/>
                  <a:pt x="10800" y="10938"/>
                  <a:pt x="10800" y="11075"/>
                </a:cubicBezTo>
                <a:lnTo>
                  <a:pt x="10800" y="21325"/>
                </a:lnTo>
                <a:cubicBezTo>
                  <a:pt x="10800" y="2146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2"/>
          <p:cNvSpPr/>
          <p:nvPr/>
        </p:nvSpPr>
        <p:spPr>
          <a:xfrm>
            <a:off x="3168000" y="4581360"/>
            <a:ext cx="19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n 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304920" y="2286000"/>
            <a:ext cx="7772400" cy="426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"/>
          <p:cNvPicPr/>
          <p:nvPr/>
        </p:nvPicPr>
        <p:blipFill>
          <a:blip r:embed="rId1"/>
          <a:stretch/>
        </p:blipFill>
        <p:spPr>
          <a:xfrm>
            <a:off x="230040" y="2532240"/>
            <a:ext cx="3275280" cy="2192040"/>
          </a:xfrm>
          <a:prstGeom prst="rect">
            <a:avLst/>
          </a:prstGeom>
          <a:ln w="0">
            <a:noFill/>
          </a:ln>
        </p:spPr>
      </p:pic>
      <p:sp>
        <p:nvSpPr>
          <p:cNvPr id="119" name="Rounded Rectangular Callout 5"/>
          <p:cNvSpPr/>
          <p:nvPr/>
        </p:nvSpPr>
        <p:spPr>
          <a:xfrm>
            <a:off x="5257800" y="2514600"/>
            <a:ext cx="2971800" cy="1905120"/>
          </a:xfrm>
          <a:prstGeom prst="wedgeRoundRectCallout">
            <a:avLst>
              <a:gd name="adj1" fmla="val -124550"/>
              <a:gd name="adj2" fmla="val -3275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I can’t understand this assignment, 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k for hel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ounded Rectangle 7"/>
          <p:cNvSpPr/>
          <p:nvPr/>
        </p:nvSpPr>
        <p:spPr>
          <a:xfrm>
            <a:off x="641520" y="533520"/>
            <a:ext cx="7816680" cy="1752480"/>
          </a:xfrm>
          <a:prstGeom prst="roundRect">
            <a:avLst>
              <a:gd name="adj" fmla="val 16667"/>
            </a:avLst>
          </a:prstGeom>
          <a:solidFill>
            <a:srgbClr val="cc0066">
              <a:alpha val="25000"/>
            </a:srgbClr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ture with if-clauses: If the events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f-cl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n clau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about the future,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mple pres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used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ime clau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 going t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used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n cl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1"/>
          <p:cNvSpPr/>
          <p:nvPr/>
        </p:nvSpPr>
        <p:spPr>
          <a:xfrm>
            <a:off x="8077320" y="6432480"/>
            <a:ext cx="838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2E18-3EED-4E41-9AAB-AF115C44FA75}" type="slidenum">
              <a:rPr b="0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8077320" y="6432480"/>
            <a:ext cx="838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8E48-E1E4-4F24-95E5-4C569DD7620D}" type="slidenum">
              <a:rPr b="0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ounded Rectangle 6"/>
          <p:cNvSpPr/>
          <p:nvPr/>
        </p:nvSpPr>
        <p:spPr>
          <a:xfrm>
            <a:off x="380880" y="533520"/>
            <a:ext cx="8229600" cy="1752480"/>
          </a:xfrm>
          <a:prstGeom prst="roundRect">
            <a:avLst>
              <a:gd name="adj" fmla="val 16667"/>
            </a:avLst>
          </a:prstGeom>
          <a:solidFill>
            <a:srgbClr val="cc0066">
              <a:alpha val="25000"/>
            </a:srgbClr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ture with time clauses: If the events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ime cl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n clau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about the future,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mple pres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used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ime clau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 going t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used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n cl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762120" y="2556000"/>
            <a:ext cx="7010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we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scho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 at the fount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3138120" y="3591000"/>
            <a:ext cx="18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ime-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eft Brace 10"/>
          <p:cNvSpPr/>
          <p:nvPr/>
        </p:nvSpPr>
        <p:spPr>
          <a:xfrm rot="16200000">
            <a:off x="3733560" y="913680"/>
            <a:ext cx="685800" cy="4648320"/>
          </a:xfrm>
          <a:custGeom>
            <a:avLst/>
            <a:gdLst>
              <a:gd name="textAreaLeft" fmla="*/ 438120 w 685800"/>
              <a:gd name="textAreaRight" fmla="*/ 686160 w 685800"/>
              <a:gd name="textAreaTop" fmla="*/ 17640 h 4648320"/>
              <a:gd name="textAreaBottom" fmla="*/ 463068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3"/>
                  <a:pt x="10800" y="266"/>
                </a:cubicBezTo>
                <a:lnTo>
                  <a:pt x="10800" y="10534"/>
                </a:lnTo>
                <a:cubicBezTo>
                  <a:pt x="10800" y="10667"/>
                  <a:pt x="5400" y="10800"/>
                  <a:pt x="0" y="10800"/>
                </a:cubicBezTo>
                <a:cubicBezTo>
                  <a:pt x="5400" y="10800"/>
                  <a:pt x="10800" y="10933"/>
                  <a:pt x="10800" y="11066"/>
                </a:cubicBezTo>
                <a:lnTo>
                  <a:pt x="10800" y="21334"/>
                </a:lnTo>
                <a:cubicBezTo>
                  <a:pt x="10800" y="2146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3168000" y="4429080"/>
            <a:ext cx="19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n 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143000" y="2438280"/>
            <a:ext cx="6095880" cy="388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eft Brace 13"/>
          <p:cNvSpPr/>
          <p:nvPr/>
        </p:nvSpPr>
        <p:spPr>
          <a:xfrm flipH="1" rot="16200000">
            <a:off x="3767040" y="3004920"/>
            <a:ext cx="771480" cy="4648320"/>
          </a:xfrm>
          <a:custGeom>
            <a:avLst/>
            <a:gdLst>
              <a:gd name="textAreaLeft" fmla="*/ 492840 w 771480"/>
              <a:gd name="textAreaRight" fmla="*/ 771840 w 771480"/>
              <a:gd name="textAreaTop" fmla="*/ 19800 h 4648320"/>
              <a:gd name="textAreaBottom" fmla="*/ 462852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0"/>
                  <a:pt x="10800" y="299"/>
                </a:cubicBezTo>
                <a:lnTo>
                  <a:pt x="10800" y="10501"/>
                </a:lnTo>
                <a:cubicBezTo>
                  <a:pt x="10800" y="10651"/>
                  <a:pt x="5400" y="10800"/>
                  <a:pt x="0" y="10800"/>
                </a:cubicBezTo>
                <a:cubicBezTo>
                  <a:pt x="5400" y="10800"/>
                  <a:pt x="10800" y="10950"/>
                  <a:pt x="10800" y="11099"/>
                </a:cubicBezTo>
                <a:lnTo>
                  <a:pt x="10800" y="21301"/>
                </a:lnTo>
                <a:cubicBezTo>
                  <a:pt x="10800" y="2145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8:41:59Z</dcterms:created>
  <dc:creator>Laurette P. Simmons</dc:creator>
  <dc:description/>
  <dc:language>en-US</dc:language>
  <cp:lastModifiedBy>Paula Heuser</cp:lastModifiedBy>
  <dcterms:modified xsi:type="dcterms:W3CDTF">2012-05-25T07:07:36Z</dcterms:modified>
  <cp:revision>56</cp:revision>
  <dc:subject/>
  <dc:title>Contra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466077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D5.0.6</vt:lpwstr>
  </property>
</Properties>
</file>