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FA80-AA7D-4AE9-B2E0-1291A38AC0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95A9-A957-4C73-A465-B81C72DC4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6BB1-80C4-464C-8D9B-4330D8EB1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84A9-E08D-4F05-B785-97187D021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FCBA3-3785-4673-8CC3-47D3B2AAD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6D03-D0AC-4DE7-8A5E-7CF030CA5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5A90-6D23-4B62-BC6C-8AA68AA29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D288-A102-40F7-B3FA-3CCFA376B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B000-961F-409F-A25C-FB6563911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D7AD-C80E-4835-8B46-389365A31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FADC-3D1C-417D-9D28-B3D7D435C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D30E-5B03-434B-9BA9-99F65BA47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47790-234D-406F-A344-4455C8259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BA8F-251A-4F9C-A947-115B01593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371A-072C-4B6E-9427-FB69B6896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39C6-F468-42E3-8FEE-2448FBEC6383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S1.pdf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S1.pdf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rcRect l="0" t="0" r="16493" b="0"/>
          <a:stretch/>
        </p:blipFill>
        <p:spPr>
          <a:xfrm>
            <a:off x="685800" y="2286000"/>
            <a:ext cx="3013200" cy="4014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Habitual Present vs. Future Time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Rounded Rectangular Callout 5"/>
          <p:cNvSpPr/>
          <p:nvPr/>
        </p:nvSpPr>
        <p:spPr>
          <a:xfrm>
            <a:off x="5257800" y="2286000"/>
            <a:ext cx="3048120" cy="1447920"/>
          </a:xfrm>
          <a:prstGeom prst="wedgeRoundRectCallout">
            <a:avLst>
              <a:gd name="adj1" fmla="val -127273"/>
              <a:gd name="adj2" fmla="val 2346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 get out of school, we meet 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E1E1-96F8-4609-B816-C7815E29A280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7"/>
          <p:cNvSpPr/>
          <p:nvPr/>
        </p:nvSpPr>
        <p:spPr>
          <a:xfrm>
            <a:off x="838080" y="679320"/>
            <a:ext cx="4267440" cy="6922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bitual Present vs.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 Diagonal Corner Rectangle 9"/>
          <p:cNvSpPr/>
          <p:nvPr/>
        </p:nvSpPr>
        <p:spPr>
          <a:xfrm>
            <a:off x="152280" y="1752480"/>
            <a:ext cx="8305920" cy="4038840"/>
          </a:xfrm>
          <a:custGeom>
            <a:avLst/>
            <a:gdLst/>
            <a:ahLst/>
            <a:rect l="l" t="t" r="r" b="b"/>
            <a:pathLst>
              <a:path w="8305800" h="4038600">
                <a:moveTo>
                  <a:pt x="673113" y="0"/>
                </a:moveTo>
                <a:lnTo>
                  <a:pt x="8305800" y="0"/>
                </a:lnTo>
                <a:lnTo>
                  <a:pt x="8305800" y="0"/>
                </a:lnTo>
                <a:lnTo>
                  <a:pt x="8305800" y="3365487"/>
                </a:lnTo>
                <a:cubicBezTo>
                  <a:pt x="8305800" y="3737237"/>
                  <a:pt x="8004437" y="4038600"/>
                  <a:pt x="7632687" y="4038600"/>
                </a:cubicBezTo>
                <a:lnTo>
                  <a:pt x="0" y="4038600"/>
                </a:lnTo>
                <a:lnTo>
                  <a:pt x="0" y="4038600"/>
                </a:lnTo>
                <a:lnTo>
                  <a:pt x="0" y="673113"/>
                </a:lnTo>
                <a:cubicBezTo>
                  <a:pt x="0" y="301363"/>
                  <a:pt x="301363" y="0"/>
                  <a:pt x="673113" y="0"/>
                </a:cubicBezTo>
                <a:close/>
              </a:path>
            </a:pathLst>
          </a:custGeom>
          <a:solidFill>
            <a:srgbClr val="005878">
              <a:alpha val="25000"/>
            </a:srgbClr>
          </a:solidFill>
          <a:ln w="25560">
            <a:solidFill>
              <a:srgbClr val="0058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87200" y="1752480"/>
            <a:ext cx="7835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we have a big test, I study all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our next big test, I am going to study all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go to Miami, I stay with B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go to Miami tomorrow, I will stay with B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finish my homework, I will go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finish my homework tonight, I will go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257400" y="5105520"/>
            <a:ext cx="56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I get home, I will buy ban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24360" y="109224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the correct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40840" y="1752480"/>
            <a:ext cx="48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 get home tonight, I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250560" y="3591000"/>
            <a:ext cx="59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people see her, they always sm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983280" y="181440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6982200" y="354816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6982200" y="51055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48760" y="236232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 get home tonight, I will study. 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I get home tonight, I am going to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982200" y="251460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3825-84B2-4580-99A3-041022707C42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3618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Habitual Present vs. Fut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255960" y="5105520"/>
            <a:ext cx="56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t rains, she carries an umbr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248400" y="1092240"/>
            <a:ext cx="45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on the correct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41920" y="3160800"/>
            <a:ext cx="46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get home early, I sho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242640" y="172080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I think about you, I am hap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7177680" y="322272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7175880" y="16765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7175880" y="510552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42640" y="3770280"/>
            <a:ext cx="69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get home early, I will take a shower. 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get home early, I’m going to take a sh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939360" y="697068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13A0-B1FD-4ECC-8AEC-1F2EE4CCBC85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4267080" y="36180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Rockwell"/>
              </a:rPr>
              <a:t>Habitual Present vs. Futur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5"/>
          <p:cNvSpPr/>
          <p:nvPr/>
        </p:nvSpPr>
        <p:spPr>
          <a:xfrm>
            <a:off x="7175880" y="380988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6AB2-4A48-478B-8304-A595CEE1984F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228600" y="2209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351680" y="5791320"/>
            <a:ext cx="3669120" cy="3682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reated by Laurette Poulos Sim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30492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Habitual Present vs. Futur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3A27-AF41-49EB-9DE0-BA65478E1D12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2"/>
          <p:cNvSpPr/>
          <p:nvPr/>
        </p:nvSpPr>
        <p:spPr>
          <a:xfrm>
            <a:off x="685800" y="609480"/>
            <a:ext cx="7772400" cy="144792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ometimes calle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cause every time one event happens, the other event also happ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rcRect l="0" t="0" r="16493" b="0"/>
          <a:stretch/>
        </p:blipFill>
        <p:spPr>
          <a:xfrm>
            <a:off x="685800" y="2286000"/>
            <a:ext cx="3013200" cy="401472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ular Callout 4"/>
          <p:cNvSpPr/>
          <p:nvPr/>
        </p:nvSpPr>
        <p:spPr>
          <a:xfrm>
            <a:off x="4876920" y="2590920"/>
            <a:ext cx="3200400" cy="1447560"/>
          </a:xfrm>
          <a:prstGeom prst="wedgeRoundRectCallout">
            <a:avLst>
              <a:gd name="adj1" fmla="val -112009"/>
              <a:gd name="adj2" fmla="val -35365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t of school,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6"/>
          <p:cNvSpPr/>
          <p:nvPr/>
        </p:nvSpPr>
        <p:spPr>
          <a:xfrm>
            <a:off x="641520" y="533520"/>
            <a:ext cx="7816680" cy="144756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w the relationship between two events. They can be used to show events that happ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9075-9337-4BCE-A91D-A00E021C41E6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3532320" y="365760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eft Brace 10"/>
          <p:cNvSpPr/>
          <p:nvPr/>
        </p:nvSpPr>
        <p:spPr>
          <a:xfrm rot="16200000">
            <a:off x="3771720" y="-38160"/>
            <a:ext cx="685800" cy="67053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6705360"/>
              <a:gd name="textAreaBottom" fmla="*/ 6687720 h 670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762120" y="24382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is assign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871640" y="5010120"/>
            <a:ext cx="4681440" cy="139068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1981080" y="46483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choo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9A23-E504-45D5-9984-0671D3CBFEB3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2"/>
          <p:cNvSpPr/>
          <p:nvPr/>
        </p:nvSpPr>
        <p:spPr>
          <a:xfrm>
            <a:off x="685800" y="609480"/>
            <a:ext cx="7924680" cy="144792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bitual present with time 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bo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0" t="0" r="16493" b="0"/>
          <a:stretch/>
        </p:blipFill>
        <p:spPr>
          <a:xfrm>
            <a:off x="685800" y="2286000"/>
            <a:ext cx="3013200" cy="401472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3"/>
          <p:cNvSpPr/>
          <p:nvPr/>
        </p:nvSpPr>
        <p:spPr>
          <a:xfrm>
            <a:off x="5257800" y="2286000"/>
            <a:ext cx="3048120" cy="1447920"/>
          </a:xfrm>
          <a:prstGeom prst="wedgeRoundRectCallout">
            <a:avLst>
              <a:gd name="adj1" fmla="val -127273"/>
              <a:gd name="adj2" fmla="val 2346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 get out of school,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"/>
          <p:cNvPicPr/>
          <p:nvPr/>
        </p:nvPicPr>
        <p:blipFill>
          <a:blip r:embed="rId1"/>
          <a:srcRect l="0" t="0" r="14871" b="0"/>
          <a:stretch/>
        </p:blipFill>
        <p:spPr>
          <a:xfrm>
            <a:off x="277920" y="2979720"/>
            <a:ext cx="2617560" cy="342108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4305240" y="2666880"/>
            <a:ext cx="4000680" cy="1447920"/>
          </a:xfrm>
          <a:prstGeom prst="wedgeRoundRectCallout">
            <a:avLst>
              <a:gd name="adj1" fmla="val -97611"/>
              <a:gd name="adj2" fmla="val 1482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school tomorrow, w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oing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f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609480" y="533520"/>
            <a:ext cx="7848720" cy="19810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time 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38B-13B9-4DC8-AE78-C0A793920AE7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41640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Rounded Rectangular Callout 5"/>
          <p:cNvSpPr/>
          <p:nvPr/>
        </p:nvSpPr>
        <p:spPr>
          <a:xfrm>
            <a:off x="4626000" y="2286000"/>
            <a:ext cx="3679920" cy="1676520"/>
          </a:xfrm>
          <a:prstGeom prst="wedgeRoundRectCallout">
            <a:avLst>
              <a:gd name="adj1" fmla="val -80337"/>
              <a:gd name="adj2" fmla="val -25768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can’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assignment, I alway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7"/>
          <p:cNvSpPr/>
          <p:nvPr/>
        </p:nvSpPr>
        <p:spPr>
          <a:xfrm>
            <a:off x="762120" y="609480"/>
            <a:ext cx="7848360" cy="144792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bitual present with if-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bo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bitu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both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09EA-6DE3-4956-8D99-7EACEAF5DFFA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4CC9-8AE9-461F-BCEF-A1D46DBC4745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6"/>
          <p:cNvSpPr/>
          <p:nvPr/>
        </p:nvSpPr>
        <p:spPr>
          <a:xfrm>
            <a:off x="457200" y="533520"/>
            <a:ext cx="8153280" cy="167616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if-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762120" y="2590920"/>
            <a:ext cx="701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ssignm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m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ing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for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532320" y="365760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eft Brace 10"/>
          <p:cNvSpPr/>
          <p:nvPr/>
        </p:nvSpPr>
        <p:spPr>
          <a:xfrm rot="16200000">
            <a:off x="3771720" y="-38160"/>
            <a:ext cx="685800" cy="67053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6705360"/>
              <a:gd name="textAreaBottom" fmla="*/ 6687720 h 670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eft Brace 11"/>
          <p:cNvSpPr/>
          <p:nvPr/>
        </p:nvSpPr>
        <p:spPr>
          <a:xfrm rot="5400000">
            <a:off x="3809880" y="3200400"/>
            <a:ext cx="685800" cy="449568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4495680"/>
              <a:gd name="textAreaBottom" fmla="*/ 447804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8"/>
                  <a:pt x="10800" y="275"/>
                </a:cubicBezTo>
                <a:lnTo>
                  <a:pt x="10800" y="10525"/>
                </a:lnTo>
                <a:cubicBezTo>
                  <a:pt x="10800" y="10663"/>
                  <a:pt x="5400" y="10800"/>
                  <a:pt x="0" y="10800"/>
                </a:cubicBezTo>
                <a:cubicBezTo>
                  <a:pt x="5400" y="10800"/>
                  <a:pt x="10800" y="10938"/>
                  <a:pt x="10800" y="11075"/>
                </a:cubicBezTo>
                <a:lnTo>
                  <a:pt x="10800" y="21325"/>
                </a:lnTo>
                <a:cubicBezTo>
                  <a:pt x="10800" y="214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3168000" y="458136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304920" y="2286000"/>
            <a:ext cx="7772400" cy="426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230040" y="2532240"/>
            <a:ext cx="3275280" cy="2192040"/>
          </a:xfrm>
          <a:prstGeom prst="rect">
            <a:avLst/>
          </a:prstGeom>
          <a:ln w="0">
            <a:noFill/>
          </a:ln>
        </p:spPr>
      </p:pic>
      <p:sp>
        <p:nvSpPr>
          <p:cNvPr id="119" name="Rounded Rectangular Callout 5"/>
          <p:cNvSpPr/>
          <p:nvPr/>
        </p:nvSpPr>
        <p:spPr>
          <a:xfrm>
            <a:off x="5257800" y="2514600"/>
            <a:ext cx="2971800" cy="1905120"/>
          </a:xfrm>
          <a:prstGeom prst="wedgeRoundRectCallout">
            <a:avLst>
              <a:gd name="adj1" fmla="val -124550"/>
              <a:gd name="adj2" fmla="val -32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can’t understand this assignment, 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k for he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ounded Rectangle 7"/>
          <p:cNvSpPr/>
          <p:nvPr/>
        </p:nvSpPr>
        <p:spPr>
          <a:xfrm>
            <a:off x="641520" y="533520"/>
            <a:ext cx="7816680" cy="17524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if-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-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1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48FE-B220-48C5-BBF2-45ABEA860C75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8077320" y="6432480"/>
            <a:ext cx="838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AB44-5020-4984-9FD5-C37E6BFD2FEB}" type="slidenum">
              <a:rPr b="0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6"/>
          <p:cNvSpPr/>
          <p:nvPr/>
        </p:nvSpPr>
        <p:spPr>
          <a:xfrm>
            <a:off x="380880" y="533520"/>
            <a:ext cx="8229600" cy="1752480"/>
          </a:xfrm>
          <a:prstGeom prst="roundRect">
            <a:avLst>
              <a:gd name="adj" fmla="val 16667"/>
            </a:avLst>
          </a:prstGeom>
          <a:solidFill>
            <a:srgbClr val="cc0066">
              <a:alpha val="25000"/>
            </a:srgbClr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with time clauses: If the events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bout the future,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mple pres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 clau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going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i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62120" y="2556000"/>
            <a:ext cx="701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we</a:t>
            </a: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cho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 at the foun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3138120" y="3591000"/>
            <a:ext cx="18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ime-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eft Brace 10"/>
          <p:cNvSpPr/>
          <p:nvPr/>
        </p:nvSpPr>
        <p:spPr>
          <a:xfrm rot="16200000">
            <a:off x="3733560" y="913680"/>
            <a:ext cx="685800" cy="4648320"/>
          </a:xfrm>
          <a:custGeom>
            <a:avLst/>
            <a:gdLst>
              <a:gd name="textAreaLeft" fmla="*/ 438120 w 685800"/>
              <a:gd name="textAreaRight" fmla="*/ 686160 w 685800"/>
              <a:gd name="textAreaTop" fmla="*/ 17640 h 4648320"/>
              <a:gd name="textAreaBottom" fmla="*/ 463068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"/>
                  <a:pt x="10800" y="266"/>
                </a:cubicBezTo>
                <a:lnTo>
                  <a:pt x="10800" y="10534"/>
                </a:lnTo>
                <a:cubicBezTo>
                  <a:pt x="10800" y="10667"/>
                  <a:pt x="5400" y="10800"/>
                  <a:pt x="0" y="10800"/>
                </a:cubicBezTo>
                <a:cubicBezTo>
                  <a:pt x="5400" y="10800"/>
                  <a:pt x="10800" y="10933"/>
                  <a:pt x="10800" y="11066"/>
                </a:cubicBezTo>
                <a:lnTo>
                  <a:pt x="10800" y="21334"/>
                </a:lnTo>
                <a:cubicBezTo>
                  <a:pt x="10800" y="2146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3168000" y="442908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n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143000" y="2438280"/>
            <a:ext cx="6095880" cy="388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eft Brace 13"/>
          <p:cNvSpPr/>
          <p:nvPr/>
        </p:nvSpPr>
        <p:spPr>
          <a:xfrm flipH="1" rot="16200000">
            <a:off x="3767040" y="3004920"/>
            <a:ext cx="771480" cy="4648320"/>
          </a:xfrm>
          <a:custGeom>
            <a:avLst/>
            <a:gdLst>
              <a:gd name="textAreaLeft" fmla="*/ 492840 w 771480"/>
              <a:gd name="textAreaRight" fmla="*/ 771840 w 771480"/>
              <a:gd name="textAreaTop" fmla="*/ 19800 h 4648320"/>
              <a:gd name="textAreaBottom" fmla="*/ 462852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299"/>
                </a:cubicBezTo>
                <a:lnTo>
                  <a:pt x="10800" y="10501"/>
                </a:lnTo>
                <a:cubicBezTo>
                  <a:pt x="10800" y="10651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099"/>
                </a:cubicBezTo>
                <a:lnTo>
                  <a:pt x="10800" y="21301"/>
                </a:lnTo>
                <a:cubicBezTo>
                  <a:pt x="10800" y="2145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8:41:59Z</dcterms:created>
  <dc:creator>Laurette P. Simmons</dc:creator>
  <dc:description/>
  <dc:language>en-US</dc:language>
  <cp:lastModifiedBy>Paula Heuser</cp:lastModifiedBy>
  <dcterms:modified xsi:type="dcterms:W3CDTF">2012-05-25T07:07:36Z</dcterms:modified>
  <cp:revision>56</cp:revision>
  <dc:subject/>
  <dc:title>Contra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466077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6</vt:lpwstr>
  </property>
</Properties>
</file>