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DF2F-18C6-43B8-A36A-2C2B6A625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97BA-3BF6-4D35-B236-413F2EEB3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B4F3-2139-463D-8BCE-ECE048E9B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0503-7872-46E1-A7FB-F2067895C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A541-62BA-4831-9456-EA47F91E6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DE2D-6908-4EF7-9B5A-7AC22B8CA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B4D4-E2CC-4B16-B3DB-498C6B894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2959-58B1-4559-A9BC-3E57060B8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28C2-8157-4084-B045-BF4A11A44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B151-3DF8-4704-A427-3102AB0CE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6965-3229-4D27-BF26-8C3A694EC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B528-67F4-4148-B0F2-1B101E25F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C36F-DC35-4080-B31E-CDBCFC09A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E9CB-8922-4A4A-A5A5-A2AA79D35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8E43-8051-46B9-B40D-FFB7DA3DF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13C-5378-4242-989E-2634DB29A877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S1.pdf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S1.pdf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abitual Present vs. Future Time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Rounded Rectangular Callout 5"/>
          <p:cNvSpPr/>
          <p:nvPr/>
        </p:nvSpPr>
        <p:spPr>
          <a:xfrm>
            <a:off x="5257800" y="2286000"/>
            <a:ext cx="3048120" cy="1447920"/>
          </a:xfrm>
          <a:prstGeom prst="wedgeRoundRectCallout">
            <a:avLst>
              <a:gd name="adj1" fmla="val -127273"/>
              <a:gd name="adj2" fmla="val 23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get out of school, we meet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BFBE-4EC0-446B-B914-761EFEA3B301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838080" y="679320"/>
            <a:ext cx="4267440" cy="6922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vs.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 Diagonal Corner Rectangle 9"/>
          <p:cNvSpPr/>
          <p:nvPr/>
        </p:nvSpPr>
        <p:spPr>
          <a:xfrm>
            <a:off x="152280" y="1752480"/>
            <a:ext cx="8305920" cy="4038840"/>
          </a:xfrm>
          <a:custGeom>
            <a:avLst/>
            <a:gdLst/>
            <a:ahLst/>
            <a:rect l="l" t="t" r="r" b="b"/>
            <a:pathLst>
              <a:path w="8305800" h="4038600">
                <a:moveTo>
                  <a:pt x="673113" y="0"/>
                </a:moveTo>
                <a:lnTo>
                  <a:pt x="8305800" y="0"/>
                </a:lnTo>
                <a:lnTo>
                  <a:pt x="8305800" y="0"/>
                </a:lnTo>
                <a:lnTo>
                  <a:pt x="8305800" y="3365487"/>
                </a:lnTo>
                <a:cubicBezTo>
                  <a:pt x="8305800" y="3737237"/>
                  <a:pt x="8004437" y="4038600"/>
                  <a:pt x="7632687" y="4038600"/>
                </a:cubicBezTo>
                <a:lnTo>
                  <a:pt x="0" y="4038600"/>
                </a:lnTo>
                <a:lnTo>
                  <a:pt x="0" y="4038600"/>
                </a:lnTo>
                <a:lnTo>
                  <a:pt x="0" y="673113"/>
                </a:lnTo>
                <a:cubicBezTo>
                  <a:pt x="0" y="301363"/>
                  <a:pt x="301363" y="0"/>
                  <a:pt x="673113" y="0"/>
                </a:cubicBezTo>
                <a:close/>
              </a:path>
            </a:pathLst>
          </a:custGeom>
          <a:solidFill>
            <a:srgbClr val="005878">
              <a:alpha val="25000"/>
            </a:srgbClr>
          </a:solidFill>
          <a:ln w="25560">
            <a:solidFill>
              <a:srgbClr val="005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87200" y="1752480"/>
            <a:ext cx="7835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we have a big test, I study all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ur next big test, I am going to study all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go to Miami, I stay with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go to Miami tomorrow, I will stay with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finish my homework, I will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finish my homework tonight, I will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257400" y="510552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I get home, I will buy ban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24360" y="109224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correct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40840" y="1752480"/>
            <a:ext cx="48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50560" y="359100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eople see her, they always sm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983280" y="181440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6982200" y="3548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982200" y="5105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8760" y="236232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will study.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am going to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982200" y="2514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A12-0B2D-4851-A879-6B4EB319B902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36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Habitual Present vs. Fut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55960" y="5105520"/>
            <a:ext cx="56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t rains, she carries an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48400" y="109224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correct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41920" y="316080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 sho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42640" y="172080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think about you, I am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177680" y="32227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7175880" y="1676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7175880" y="5105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42640" y="377028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 will take a shower.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’m going to take a sh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939360" y="69706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0DC-D4C0-433A-A845-297F73BD82CB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4267080" y="36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Habitual Present vs. Fut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7175880" y="38098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3828-266A-4DBB-8D93-31D945F6361A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22860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351680" y="5791320"/>
            <a:ext cx="3669120" cy="368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reated by Laurette Poulos Si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3049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abitual Present vs. Futur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742-5480-44C0-AED3-2F3E4A437967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"/>
          <p:cNvSpPr/>
          <p:nvPr/>
        </p:nvSpPr>
        <p:spPr>
          <a:xfrm>
            <a:off x="685800" y="609480"/>
            <a:ext cx="777240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ometime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ause every time one event happens, the other event also happ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ular Callout 4"/>
          <p:cNvSpPr/>
          <p:nvPr/>
        </p:nvSpPr>
        <p:spPr>
          <a:xfrm>
            <a:off x="4876920" y="2590920"/>
            <a:ext cx="3200400" cy="1447560"/>
          </a:xfrm>
          <a:prstGeom prst="wedgeRoundRectCallout">
            <a:avLst>
              <a:gd name="adj1" fmla="val -112009"/>
              <a:gd name="adj2" fmla="val -3536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 of school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6"/>
          <p:cNvSpPr/>
          <p:nvPr/>
        </p:nvSpPr>
        <p:spPr>
          <a:xfrm>
            <a:off x="641520" y="533520"/>
            <a:ext cx="7816680" cy="144756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 the relationship between two events. They can be used to show events that happ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E5BA-6D97-4E0E-9A55-D86B431C2A07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532320" y="36576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 Brace 10"/>
          <p:cNvSpPr/>
          <p:nvPr/>
        </p:nvSpPr>
        <p:spPr>
          <a:xfrm rot="16200000">
            <a:off x="3771720" y="-38160"/>
            <a:ext cx="685800" cy="6705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6705360"/>
              <a:gd name="textAreaBottom" fmla="*/ 668772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762120" y="2438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assign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871640" y="5010120"/>
            <a:ext cx="468144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981080" y="46483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ch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DA1B-9FB5-40CF-8111-9689AD77AE30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"/>
          <p:cNvSpPr/>
          <p:nvPr/>
        </p:nvSpPr>
        <p:spPr>
          <a:xfrm>
            <a:off x="685800" y="609480"/>
            <a:ext cx="792468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3"/>
          <p:cNvSpPr/>
          <p:nvPr/>
        </p:nvSpPr>
        <p:spPr>
          <a:xfrm>
            <a:off x="5257800" y="2286000"/>
            <a:ext cx="3048120" cy="1447920"/>
          </a:xfrm>
          <a:prstGeom prst="wedgeRoundRectCallout">
            <a:avLst>
              <a:gd name="adj1" fmla="val -127273"/>
              <a:gd name="adj2" fmla="val 23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get out of school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"/>
          <p:cNvPicPr/>
          <p:nvPr/>
        </p:nvPicPr>
        <p:blipFill>
          <a:blip r:embed="rId1"/>
          <a:srcRect l="0" t="0" r="14871" b="0"/>
          <a:stretch/>
        </p:blipFill>
        <p:spPr>
          <a:xfrm>
            <a:off x="277920" y="2979720"/>
            <a:ext cx="2617560" cy="342108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4305240" y="2666880"/>
            <a:ext cx="4000680" cy="1447920"/>
          </a:xfrm>
          <a:prstGeom prst="wedgeRoundRectCallout">
            <a:avLst>
              <a:gd name="adj1" fmla="val -97611"/>
              <a:gd name="adj2" fmla="val 1482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chool tomorrow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oing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609480" y="533520"/>
            <a:ext cx="7848720" cy="19810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A284-3FA6-4063-960A-498C1477276F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1640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ular Callout 5"/>
          <p:cNvSpPr/>
          <p:nvPr/>
        </p:nvSpPr>
        <p:spPr>
          <a:xfrm>
            <a:off x="4626000" y="2286000"/>
            <a:ext cx="3679920" cy="1676520"/>
          </a:xfrm>
          <a:prstGeom prst="wedgeRoundRectCallout">
            <a:avLst>
              <a:gd name="adj1" fmla="val -80337"/>
              <a:gd name="adj2" fmla="val -25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assignment, I alway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762120" y="609480"/>
            <a:ext cx="784836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both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751-0B21-4360-B306-2878BCE10439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9F5A-D07D-450F-8900-5CA0534C4DBD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457200" y="533520"/>
            <a:ext cx="8153280" cy="167616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762120" y="259092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ssign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m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ng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532320" y="36576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eft Brace 10"/>
          <p:cNvSpPr/>
          <p:nvPr/>
        </p:nvSpPr>
        <p:spPr>
          <a:xfrm rot="16200000">
            <a:off x="3771720" y="-38160"/>
            <a:ext cx="685800" cy="6705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6705360"/>
              <a:gd name="textAreaBottom" fmla="*/ 668772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e 11"/>
          <p:cNvSpPr/>
          <p:nvPr/>
        </p:nvSpPr>
        <p:spPr>
          <a:xfrm rot="5400000">
            <a:off x="3809880" y="3200400"/>
            <a:ext cx="685800" cy="4495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4495680"/>
              <a:gd name="textAreaBottom" fmla="*/ 447804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168000" y="4581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04920" y="2286000"/>
            <a:ext cx="7772400" cy="426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30040" y="2532240"/>
            <a:ext cx="3275280" cy="219204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ular Callout 5"/>
          <p:cNvSpPr/>
          <p:nvPr/>
        </p:nvSpPr>
        <p:spPr>
          <a:xfrm>
            <a:off x="5257800" y="2514600"/>
            <a:ext cx="2971800" cy="1905120"/>
          </a:xfrm>
          <a:prstGeom prst="wedgeRoundRectCallout">
            <a:avLst>
              <a:gd name="adj1" fmla="val -124550"/>
              <a:gd name="adj2" fmla="val -32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can’t understand this assignment,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k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7"/>
          <p:cNvSpPr/>
          <p:nvPr/>
        </p:nvSpPr>
        <p:spPr>
          <a:xfrm>
            <a:off x="641520" y="533520"/>
            <a:ext cx="7816680" cy="17524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F2C-FBE7-4D75-BB1A-9F9CD5141A1C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23D-F672-4553-87CC-6B3F92FE3C2F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6"/>
          <p:cNvSpPr/>
          <p:nvPr/>
        </p:nvSpPr>
        <p:spPr>
          <a:xfrm>
            <a:off x="380880" y="533520"/>
            <a:ext cx="8229600" cy="17524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62120" y="255600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cho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at the f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3138120" y="35910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e 10"/>
          <p:cNvSpPr/>
          <p:nvPr/>
        </p:nvSpPr>
        <p:spPr>
          <a:xfrm rot="16200000">
            <a:off x="3733560" y="913680"/>
            <a:ext cx="685800" cy="4648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4648320"/>
              <a:gd name="textAreaBottom" fmla="*/ 463068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3168000" y="44290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143000" y="2438280"/>
            <a:ext cx="609588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Brace 13"/>
          <p:cNvSpPr/>
          <p:nvPr/>
        </p:nvSpPr>
        <p:spPr>
          <a:xfrm flipH="1" rot="16200000">
            <a:off x="3767040" y="3004920"/>
            <a:ext cx="771480" cy="4648320"/>
          </a:xfrm>
          <a:custGeom>
            <a:avLst/>
            <a:gdLst>
              <a:gd name="textAreaLeft" fmla="*/ 492840 w 771480"/>
              <a:gd name="textAreaRight" fmla="*/ 771840 w 771480"/>
              <a:gd name="textAreaTop" fmla="*/ 19800 h 4648320"/>
              <a:gd name="textAreaBottom" fmla="*/ 462852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41:59Z</dcterms:created>
  <dc:creator>Laurette P. Simmons</dc:creator>
  <dc:description/>
  <dc:language>en-US</dc:language>
  <cp:lastModifiedBy>Paula Heuser</cp:lastModifiedBy>
  <dcterms:modified xsi:type="dcterms:W3CDTF">2012-05-25T07:07:36Z</dcterms:modified>
  <cp:revision>56</cp:revision>
  <dc:subject/>
  <dc:title>Contr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66077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</Properties>
</file>