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E7B2-9DC4-40B6-902E-5AD85BEE7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D69-747C-464B-83B2-99606220B5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B65-5204-46E0-B047-F972141F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777-8F93-4E2E-9C34-EE89B20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3F3-ECF5-4E99-99FD-05506681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969-6FD5-4816-A866-88684B9C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778F-AFA9-44F7-80D0-550D56A1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932A-9807-40EA-81C7-F2C4DC7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51E-0834-41AB-91B9-9602421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8898-8602-4A41-98E8-21B19F49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0CC-2722-4D73-A205-B0A1C84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7B2-CF48-4514-A23F-2880C57A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F216-78A0-4408-B07F-17727C1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55A-8F5A-4948-BB93-562BCE7F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812F-27E1-40DD-9694-1642FDF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C8CE-9B04-42FF-81BE-4C17BCFF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4D8-F80D-454A-819F-0FF027E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AFA-8D2C-4510-910B-E43F21E9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86C0-7EC6-4474-B1E0-D8312FDB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7A9-BCD6-4370-B687-F8259A5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0D3-522A-4B25-A81E-2BD28356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99F-D51F-48CB-ADD5-DA4319D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25-129E-4FC4-9E43-5D93B8D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636-EFCA-482E-96F0-3046C22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55E-9F4D-4D01-A2EE-F1C3AA4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525-6543-4DA5-8E52-38BFBC3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7A05-F42D-4292-BAF2-A8E64DADC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1CB-15DC-4833-B3F8-9652FF6E0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D:\Фотографии\Рисунок2.png"/>
          <p:cNvPicPr/>
          <p:nvPr/>
        </p:nvPicPr>
        <p:blipFill>
          <a:blip r:embed="rId1"/>
          <a:stretch/>
        </p:blipFill>
        <p:spPr>
          <a:xfrm>
            <a:off x="-333360" y="-252360"/>
            <a:ext cx="9810720" cy="7362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395280" y="907920"/>
            <a:ext cx="849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5.02.2022 г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sova"/>
          <p:cNvPicPr/>
          <p:nvPr/>
        </p:nvPicPr>
        <p:blipFill>
          <a:blip r:embed="rId1"/>
          <a:stretch/>
        </p:blipFill>
        <p:spPr>
          <a:xfrm>
            <a:off x="6235560" y="4330800"/>
            <a:ext cx="2760840" cy="23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1332000" y="404640"/>
          <a:ext cx="6418080" cy="1016280"/>
        </p:xfrm>
        <a:graphic>
          <a:graphicData uri="http://schemas.openxmlformats.org/drawingml/2006/table">
            <a:tbl>
              <a:tblPr/>
              <a:tblGrid>
                <a:gridCol w="6418080"/>
              </a:tblGrid>
              <a:tr h="101628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но: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е умно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971640" y="1557360"/>
                <a:ext cx="16761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2771640" y="155736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643280" y="155736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6516720" y="1484280"/>
                <a:ext cx="163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268360" y="292428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4716360" y="292428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Ну-ка делайте со мно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Упражнение так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Раз – поднялись, потянулис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Два – нагнулись, разогнулис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Три – в ладоши три хло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Пять, шесть, тихо се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Семь, восемь лень отброс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" descr=""/>
          <p:cNvPicPr/>
          <p:nvPr/>
        </p:nvPicPr>
        <p:blipFill>
          <a:blip r:embed="rId2"/>
          <a:stretch/>
        </p:blipFill>
        <p:spPr>
          <a:xfrm>
            <a:off x="1468440" y="328680"/>
            <a:ext cx="61642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.  198  №89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http://gimn1.of.by/userfiles/69490747_04(2).png"/>
          <p:cNvPicPr/>
          <p:nvPr/>
        </p:nvPicPr>
        <p:blipFill>
          <a:blip r:embed="rId1"/>
          <a:stretch/>
        </p:blipFill>
        <p:spPr>
          <a:xfrm>
            <a:off x="6804000" y="1773360"/>
            <a:ext cx="1655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897200" y="276120"/>
            <a:ext cx="4673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шите 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882800" y="2852640"/>
                <a:ext cx="1287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2009880" y="1268280"/>
                <a:ext cx="12268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964040" y="1197000"/>
                <a:ext cx="1374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4913280" y="2781360"/>
                <a:ext cx="165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1974960" y="4437000"/>
                <a:ext cx="1842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4905360" y="4437000"/>
                <a:ext cx="2109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4"/>
              <p:cNvSpPr txBox="1"/>
              <p:nvPr/>
            </p:nvSpPr>
            <p:spPr>
              <a:xfrm>
                <a:off x="1979640" y="1341360"/>
                <a:ext cx="12510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932360" y="1341360"/>
                <a:ext cx="12492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908000" y="2637000"/>
                <a:ext cx="1249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932360" y="2852640"/>
                <a:ext cx="1285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908000" y="4005360"/>
                <a:ext cx="1143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932360" y="4076640"/>
                <a:ext cx="1371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220464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стигнута ли цель уро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2" descr="http://static4.depositphotos.com/1000792/331/v/950/depositphotos_3314419-Summer-Sun-thinking.jpg"/>
          <p:cNvPicPr/>
          <p:nvPr/>
        </p:nvPicPr>
        <p:blipFill>
          <a:blip r:embed="rId1"/>
          <a:stretch/>
        </p:blipFill>
        <p:spPr>
          <a:xfrm>
            <a:off x="6516720" y="476280"/>
            <a:ext cx="1749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99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1403280" y="134136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был полезен для меня, я понимал все, о чем говорилось и что делалось на ур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Урок был интересен, в определенной   степени полезен для меня, мне было на уроке достаточно комфор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Я понял о чем шла речь на уроке, но мне следует получить консультацию у уч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24000" y="1341360"/>
            <a:ext cx="914400" cy="838440"/>
          </a:xfrm>
          <a:prstGeom prst="rect">
            <a:avLst/>
          </a:prstGeom>
          <a:solidFill>
            <a:srgbClr val="ff0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24000" y="2852640"/>
            <a:ext cx="914400" cy="838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95280" y="4724280"/>
            <a:ext cx="914400" cy="83844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7"/>
          <p:cNvSpPr txBox="1"/>
          <p:nvPr/>
        </p:nvSpPr>
        <p:spPr>
          <a:xfrm>
            <a:off x="1619280" y="1844640"/>
            <a:ext cx="6769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2"/>
          <p:cNvSpPr txBox="1"/>
          <p:nvPr/>
        </p:nvSpPr>
        <p:spPr>
          <a:xfrm>
            <a:off x="1752480" y="6094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1" name="Прямоугольник 11" descr=""/>
          <p:cNvPicPr/>
          <p:nvPr/>
        </p:nvPicPr>
        <p:blipFill>
          <a:blip r:embed="rId1"/>
          <a:stretch/>
        </p:blipFill>
        <p:spPr>
          <a:xfrm>
            <a:off x="890640" y="1944720"/>
            <a:ext cx="7888320" cy="267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278604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0647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кратите дроб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390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1763640" y="1844640"/>
                <a:ext cx="64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643280" y="1844640"/>
                <a:ext cx="762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6012000" y="1844640"/>
                <a:ext cx="64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3276720" y="1844640"/>
                <a:ext cx="72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2124000" y="4365720"/>
                <a:ext cx="1143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3708360" y="4437000"/>
                <a:ext cx="14511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2"/>
          <p:cNvSpPr/>
          <p:nvPr/>
        </p:nvSpPr>
        <p:spPr>
          <a:xfrm>
            <a:off x="755640" y="3429000"/>
            <a:ext cx="8064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5580000" y="4437000"/>
                <a:ext cx="1268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7236000" y="4437000"/>
                <a:ext cx="1231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6"/>
          <p:cNvSpPr/>
          <p:nvPr/>
        </p:nvSpPr>
        <p:spPr>
          <a:xfrm>
            <a:off x="2340000" y="3860640"/>
            <a:ext cx="2303280" cy="151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03280" y="83664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                                                            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0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476360" y="1557360"/>
            <a:ext cx="2305080" cy="15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580000" y="1413000"/>
            <a:ext cx="2305080" cy="15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867280" y="1916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= 25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556000" y="4365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25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97164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ите 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2286000" y="2274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692360" y="4869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?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1203704376_teacher"/>
          <p:cNvPicPr/>
          <p:nvPr/>
        </p:nvPicPr>
        <p:blipFill>
          <a:blip r:embed="rId1"/>
          <a:stretch/>
        </p:blipFill>
        <p:spPr>
          <a:xfrm>
            <a:off x="6588000" y="3716280"/>
            <a:ext cx="185436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а с проблем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или-были лиса да заяц. У лисицы была избёнка ледяная, а у зайчика лубяная; пришла весна красна - у лисицы избушка растаяла, а у зайчика стоит по-старому. Лиса попросилась у зайчика погреться, да зайчика-то и выгнала.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ла лиса сделать евроремон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ложить лам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для этого ей надо  найти площадь по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известно, что ширина пола       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длина        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5148360" y="5373720"/>
                <a:ext cx="360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164360" y="4869000"/>
                <a:ext cx="546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8533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44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Умножение обыкновенных дробей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124000" y="1484280"/>
          <a:ext cx="4681440" cy="4768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  <a:gridCol w="936360"/>
              </a:tblGrid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2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Box 11"/>
          <p:cNvSpPr/>
          <p:nvPr/>
        </p:nvSpPr>
        <p:spPr>
          <a:xfrm>
            <a:off x="1608120" y="10555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87564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728720" y="60199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10"/>
          <p:cNvSpPr/>
          <p:nvPr/>
        </p:nvSpPr>
        <p:spPr>
          <a:xfrm>
            <a:off x="2124000" y="242100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13"/>
          <p:cNvSpPr/>
          <p:nvPr/>
        </p:nvSpPr>
        <p:spPr>
          <a:xfrm>
            <a:off x="2124000" y="3357720"/>
            <a:ext cx="46814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20"/>
          <p:cNvSpPr/>
          <p:nvPr/>
        </p:nvSpPr>
        <p:spPr>
          <a:xfrm>
            <a:off x="2124000" y="436572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22"/>
          <p:cNvSpPr/>
          <p:nvPr/>
        </p:nvSpPr>
        <p:spPr>
          <a:xfrm>
            <a:off x="2124000" y="530064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24"/>
          <p:cNvSpPr/>
          <p:nvPr/>
        </p:nvSpPr>
        <p:spPr>
          <a:xfrm>
            <a:off x="305928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29"/>
          <p:cNvSpPr/>
          <p:nvPr/>
        </p:nvSpPr>
        <p:spPr>
          <a:xfrm>
            <a:off x="399564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37"/>
          <p:cNvSpPr/>
          <p:nvPr/>
        </p:nvSpPr>
        <p:spPr>
          <a:xfrm>
            <a:off x="493236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ая соединительная линия 42"/>
          <p:cNvSpPr/>
          <p:nvPr/>
        </p:nvSpPr>
        <p:spPr>
          <a:xfrm>
            <a:off x="586728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ая соединительная линия 45"/>
          <p:cNvSpPr/>
          <p:nvPr/>
        </p:nvSpPr>
        <p:spPr>
          <a:xfrm>
            <a:off x="2124000" y="335772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47"/>
          <p:cNvSpPr/>
          <p:nvPr/>
        </p:nvSpPr>
        <p:spPr>
          <a:xfrm>
            <a:off x="5867280" y="3357720"/>
            <a:ext cx="0" cy="2955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2124000" y="335772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7"/>
          <p:cNvSpPr/>
          <p:nvPr/>
        </p:nvSpPr>
        <p:spPr>
          <a:xfrm>
            <a:off x="307980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403560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9"/>
          <p:cNvSpPr/>
          <p:nvPr/>
        </p:nvSpPr>
        <p:spPr>
          <a:xfrm>
            <a:off x="493236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23"/>
          <p:cNvSpPr/>
          <p:nvPr/>
        </p:nvSpPr>
        <p:spPr>
          <a:xfrm>
            <a:off x="2124000" y="436572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2124000" y="436572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307980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7"/>
          <p:cNvSpPr/>
          <p:nvPr/>
        </p:nvSpPr>
        <p:spPr>
          <a:xfrm>
            <a:off x="403560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28"/>
          <p:cNvSpPr/>
          <p:nvPr/>
        </p:nvSpPr>
        <p:spPr>
          <a:xfrm>
            <a:off x="493236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30"/>
          <p:cNvSpPr/>
          <p:nvPr/>
        </p:nvSpPr>
        <p:spPr>
          <a:xfrm>
            <a:off x="2124000" y="522936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31"/>
          <p:cNvSpPr/>
          <p:nvPr/>
        </p:nvSpPr>
        <p:spPr>
          <a:xfrm>
            <a:off x="2124000" y="522936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32"/>
          <p:cNvSpPr/>
          <p:nvPr/>
        </p:nvSpPr>
        <p:spPr>
          <a:xfrm>
            <a:off x="307980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3"/>
          <p:cNvSpPr/>
          <p:nvPr/>
        </p:nvSpPr>
        <p:spPr>
          <a:xfrm>
            <a:off x="403560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34"/>
          <p:cNvSpPr/>
          <p:nvPr/>
        </p:nvSpPr>
        <p:spPr>
          <a:xfrm>
            <a:off x="493236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35"/>
          <p:cNvSpPr/>
          <p:nvPr/>
        </p:nvSpPr>
        <p:spPr>
          <a:xfrm>
            <a:off x="2124000" y="623736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1" descr=""/>
          <p:cNvPicPr/>
          <p:nvPr/>
        </p:nvPicPr>
        <p:blipFill>
          <a:blip r:embed="rId1"/>
          <a:stretch/>
        </p:blipFill>
        <p:spPr>
          <a:xfrm>
            <a:off x="5675400" y="6242040"/>
            <a:ext cx="384120" cy="6224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902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2627280" y="2637000"/>
                <a:ext cx="5156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714240" y="1428840"/>
                <a:ext cx="2889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2"/>
          <p:cNvSpPr/>
          <p:nvPr/>
        </p:nvSpPr>
        <p:spPr>
          <a:xfrm>
            <a:off x="684360" y="1557360"/>
            <a:ext cx="81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124000" y="189000"/>
            <a:ext cx="424836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тор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6"/>
          <p:cNvSpPr/>
          <p:nvPr/>
        </p:nvSpPr>
        <p:spPr>
          <a:xfrm>
            <a:off x="539640" y="1052640"/>
            <a:ext cx="8097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лгорит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множения обыкновенных дроб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35280" y="2565360"/>
          <a:ext cx="7740360" cy="3791160"/>
        </p:xfrm>
        <a:graphic>
          <a:graphicData uri="http://schemas.openxmlformats.org/drawingml/2006/table">
            <a:tbl>
              <a:tblPr/>
              <a:tblGrid>
                <a:gridCol w="7740360"/>
              </a:tblGrid>
              <a:tr h="3791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еремножить их числител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оизведение записать в их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ител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еремножить их знаменател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Произведение записать в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менателе.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73" descr="i?id=481056193-63-72"/>
          <p:cNvPicPr/>
          <p:nvPr/>
        </p:nvPicPr>
        <p:blipFill>
          <a:blip r:embed="rId2"/>
          <a:stretch/>
        </p:blipFill>
        <p:spPr>
          <a:xfrm>
            <a:off x="7577280" y="-176040"/>
            <a:ext cx="1573200" cy="16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2268360" y="1700280"/>
                <a:ext cx="48960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9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Наталья</dc:creator>
  <dc:description/>
  <dc:language>en-US</dc:language>
  <cp:lastModifiedBy>Анна</cp:lastModifiedBy>
  <dcterms:modified xsi:type="dcterms:W3CDTF">2022-02-13T09:44:04Z</dcterms:modified>
  <cp:revision>117</cp:revision>
  <dc:subject/>
  <dc:title>Слайд 1</dc:title>
</cp:coreProperties>
</file>