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D23B-B06D-4A59-8753-5E439A9170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9E99-F0AD-411D-B48C-8D7FD0440B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0FD-003A-4672-8891-F703C964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617-CBCA-4550-BA9D-6471E1F4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E84-433B-438D-812E-929829CA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F69-8E5E-41B7-9BF2-3134FC53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E746-D2EC-4A21-B59D-D4D132E1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83B4-659B-4CD0-A43D-498E49B0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FC52-4392-4D09-A1F9-01CDDC0D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C7C4-6A22-44A0-A60D-68B87D5A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DE7C-17BF-4804-BF8D-60E64734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1790-3142-413E-BC56-AE897F54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821D-DE39-4561-BF5D-DA5317D6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B02-8CB2-46A1-A384-25C20266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FF76-85B1-423D-8BC3-A8AB5222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EBBB-CDDA-402C-87A3-32D2A8DB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C7B5-D450-4273-A21A-F7818196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28F8-98BB-4CC8-8651-52D5EDCD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979A-9B05-4BC3-95CA-BC860CA1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648-FCF6-452E-99B7-35922C35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185-215C-44B6-B7F3-DED6ADBE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634-1401-432D-AF54-36C9B2AD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5DE-DE92-4F09-B20C-D541C50D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7D5-E0BF-4636-9AAF-E0A0C49C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CDC-887F-46AE-AD3E-6BEDFDCB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F10-C366-4C73-B147-093207C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DAF7-C611-491B-9FE4-92CDF9DD70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031A-1FB3-4B42-AA47-2A8C86504F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D:\Фотографии\Рисунок2.png"/>
          <p:cNvPicPr/>
          <p:nvPr/>
        </p:nvPicPr>
        <p:blipFill>
          <a:blip r:embed="rId1"/>
          <a:stretch/>
        </p:blipFill>
        <p:spPr>
          <a:xfrm>
            <a:off x="-333360" y="-252360"/>
            <a:ext cx="9810720" cy="736272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395280" y="907920"/>
            <a:ext cx="8497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15.02.2022 г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лассная работ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sova"/>
          <p:cNvPicPr/>
          <p:nvPr/>
        </p:nvPicPr>
        <p:blipFill>
          <a:blip r:embed="rId1"/>
          <a:stretch/>
        </p:blipFill>
        <p:spPr>
          <a:xfrm>
            <a:off x="6235560" y="4330800"/>
            <a:ext cx="2760840" cy="23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1332000" y="404640"/>
          <a:ext cx="6418080" cy="1016280"/>
        </p:xfrm>
        <a:graphic>
          <a:graphicData uri="http://schemas.openxmlformats.org/drawingml/2006/table">
            <a:tbl>
              <a:tblPr/>
              <a:tblGrid>
                <a:gridCol w="6418080"/>
              </a:tblGrid>
              <a:tr h="101628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но:</a:t>
                      </a:r>
                      <a:br>
                        <a:rPr sz="3600"/>
                      </a:b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ите умнож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4120" marR="11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3" name="Object 14"/>
              <p:cNvSpPr txBox="1"/>
              <p:nvPr/>
            </p:nvSpPr>
            <p:spPr>
              <a:xfrm>
                <a:off x="971640" y="1557360"/>
                <a:ext cx="16761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2771640" y="1557360"/>
                <a:ext cx="1676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4643280" y="1557360"/>
                <a:ext cx="1676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6516720" y="1484280"/>
                <a:ext cx="1638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2268360" y="2924280"/>
                <a:ext cx="1676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7"/>
              <p:cNvSpPr txBox="1"/>
              <p:nvPr/>
            </p:nvSpPr>
            <p:spPr>
              <a:xfrm>
                <a:off x="4716360" y="2924280"/>
                <a:ext cx="1676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Ну-ка делайте со мно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Упражнение так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Раз – поднялись, потянулис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Два – нагнулись, разогнулис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Три – в ладоши три хлоп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Головою три кив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На четыре – руки шир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Пять, шесть, тихо се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1287000" algn="just">
              <a:spcBef>
                <a:spcPts val="799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Times New Roman"/>
              </a:rPr>
              <a:t>Семь, восемь лень отброси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73" descr="i?id=481056193-63-72"/>
          <p:cNvPicPr/>
          <p:nvPr/>
        </p:nvPicPr>
        <p:blipFill>
          <a:blip r:embed="rId1"/>
          <a:stretch/>
        </p:blipFill>
        <p:spPr>
          <a:xfrm>
            <a:off x="7601040" y="-115920"/>
            <a:ext cx="1573200" cy="16826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4" descr=""/>
          <p:cNvPicPr/>
          <p:nvPr/>
        </p:nvPicPr>
        <p:blipFill>
          <a:blip r:embed="rId2"/>
          <a:stretch/>
        </p:blipFill>
        <p:spPr>
          <a:xfrm>
            <a:off x="1468440" y="328680"/>
            <a:ext cx="61642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р.  198  №89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http://gimn1.of.by/userfiles/69490747_04(2).png"/>
          <p:cNvPicPr/>
          <p:nvPr/>
        </p:nvPicPr>
        <p:blipFill>
          <a:blip r:embed="rId1"/>
          <a:stretch/>
        </p:blipFill>
        <p:spPr>
          <a:xfrm>
            <a:off x="6804000" y="1773360"/>
            <a:ext cx="1655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897200" y="276120"/>
            <a:ext cx="4673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шите 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1882800" y="2852640"/>
                <a:ext cx="1287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2009880" y="1268280"/>
                <a:ext cx="122688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4964040" y="1197000"/>
                <a:ext cx="13748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4913280" y="2781360"/>
                <a:ext cx="1652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1974960" y="4437000"/>
                <a:ext cx="1842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4905360" y="4437000"/>
                <a:ext cx="21099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4"/>
              <p:cNvSpPr txBox="1"/>
              <p:nvPr/>
            </p:nvSpPr>
            <p:spPr>
              <a:xfrm>
                <a:off x="1979640" y="1341360"/>
                <a:ext cx="125100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932360" y="1341360"/>
                <a:ext cx="124920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908000" y="2637000"/>
                <a:ext cx="12495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4932360" y="2852640"/>
                <a:ext cx="1285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1908000" y="4005360"/>
                <a:ext cx="11430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7"/>
              <p:cNvSpPr txBox="1"/>
              <p:nvPr/>
            </p:nvSpPr>
            <p:spPr>
              <a:xfrm>
                <a:off x="4932360" y="4076640"/>
                <a:ext cx="13716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40" y="220464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стигнута ли цель урок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Рисунок 2" descr="http://static4.depositphotos.com/1000792/331/v/950/depositphotos_3314419-Summer-Sun-thinking.jpg"/>
          <p:cNvPicPr/>
          <p:nvPr/>
        </p:nvPicPr>
        <p:blipFill>
          <a:blip r:embed="rId1"/>
          <a:stretch/>
        </p:blipFill>
        <p:spPr>
          <a:xfrm>
            <a:off x="6516720" y="476280"/>
            <a:ext cx="1749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99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Рефлекс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3"/>
          <p:cNvSpPr/>
          <p:nvPr/>
        </p:nvSpPr>
        <p:spPr>
          <a:xfrm>
            <a:off x="1403280" y="1341360"/>
            <a:ext cx="72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 был полезен для меня, я понимал все, о чем говорилось и что делалось на уро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Урок был интересен, в определенной   степени полезен для меня, мне было на уроке достаточно комфорт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Я понял о чем шла речь на уроке, но мне следует получить консультацию у уч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24000" y="1341360"/>
            <a:ext cx="914400" cy="838440"/>
          </a:xfrm>
          <a:prstGeom prst="rect">
            <a:avLst/>
          </a:prstGeom>
          <a:solidFill>
            <a:srgbClr val="ff0000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24000" y="2852640"/>
            <a:ext cx="914400" cy="838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395280" y="4724280"/>
            <a:ext cx="914400" cy="838440"/>
          </a:xfrm>
          <a:prstGeom prst="rect">
            <a:avLst/>
          </a:prstGeom>
          <a:solidFill>
            <a:srgbClr val="92d050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7"/>
          <p:cNvSpPr txBox="1"/>
          <p:nvPr/>
        </p:nvSpPr>
        <p:spPr>
          <a:xfrm>
            <a:off x="1619280" y="1844640"/>
            <a:ext cx="67690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00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9080">
                <a:solidFill>
                  <a:srgbClr val="cc00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WordArt 12"/>
          <p:cNvSpPr txBox="1"/>
          <p:nvPr/>
        </p:nvSpPr>
        <p:spPr>
          <a:xfrm>
            <a:off x="1752480" y="60948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машнее за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01" name="Прямоугольник 11" descr=""/>
          <p:cNvPicPr/>
          <p:nvPr/>
        </p:nvPicPr>
        <p:blipFill>
          <a:blip r:embed="rId1"/>
          <a:stretch/>
        </p:blipFill>
        <p:spPr>
          <a:xfrm>
            <a:off x="890640" y="1944720"/>
            <a:ext cx="7888320" cy="2676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Прямоугольник 3" descr=""/>
          <p:cNvPicPr/>
          <p:nvPr/>
        </p:nvPicPr>
        <p:blipFill>
          <a:blip r:embed="rId1"/>
          <a:stretch/>
        </p:blipFill>
        <p:spPr>
          <a:xfrm>
            <a:off x="457200" y="2786040"/>
            <a:ext cx="8229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0647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кратите дроб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390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1763640" y="1844640"/>
                <a:ext cx="647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4643280" y="1844640"/>
                <a:ext cx="762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6012000" y="1844640"/>
                <a:ext cx="647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2"/>
              <p:cNvSpPr txBox="1"/>
              <p:nvPr/>
            </p:nvSpPr>
            <p:spPr>
              <a:xfrm>
                <a:off x="3276720" y="1844640"/>
                <a:ext cx="723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2124000" y="4365720"/>
                <a:ext cx="11430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3708360" y="4437000"/>
                <a:ext cx="14511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2"/>
          <p:cNvSpPr/>
          <p:nvPr/>
        </p:nvSpPr>
        <p:spPr>
          <a:xfrm>
            <a:off x="755640" y="3429000"/>
            <a:ext cx="80643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равнит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5580000" y="4437000"/>
                <a:ext cx="1268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9"/>
              <p:cNvSpPr txBox="1"/>
              <p:nvPr/>
            </p:nvSpPr>
            <p:spPr>
              <a:xfrm>
                <a:off x="7236000" y="4437000"/>
                <a:ext cx="12315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6"/>
          <p:cNvSpPr/>
          <p:nvPr/>
        </p:nvSpPr>
        <p:spPr>
          <a:xfrm>
            <a:off x="2340000" y="3860640"/>
            <a:ext cx="2303280" cy="151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03280" y="83664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                                                             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0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5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5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1476360" y="1557360"/>
            <a:ext cx="2305080" cy="151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5580000" y="1413000"/>
            <a:ext cx="2305080" cy="151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867280" y="1916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= 250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556000" y="4365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=250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971640" y="2602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Решите 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2286000" y="2274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1692360" y="4869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?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0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1203704376_teacher"/>
          <p:cNvPicPr/>
          <p:nvPr/>
        </p:nvPicPr>
        <p:blipFill>
          <a:blip r:embed="rId1"/>
          <a:stretch/>
        </p:blipFill>
        <p:spPr>
          <a:xfrm>
            <a:off x="6588000" y="3716280"/>
            <a:ext cx="1854360" cy="25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ча с проблем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Жили-были лиса да заяц. У лисицы была избёнка ледяная, а у зайчика лубяная; пришла весна красна - у лисицы избушка растаяла, а у зайчика стоит по-старому. Лиса попросилась у зайчика погреться, да зайчика-то и выгнала.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ла лиса сделать евроремон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ложить ламин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для этого ей надо  найти площадь пол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сли известно, что ширина пола       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длина        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8"/>
              <p:cNvSpPr txBox="1"/>
              <p:nvPr/>
            </p:nvSpPr>
            <p:spPr>
              <a:xfrm>
                <a:off x="5148360" y="5373720"/>
                <a:ext cx="3603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7164360" y="4869000"/>
                <a:ext cx="5461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1628280"/>
            <a:ext cx="853308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br>
              <a:rPr sz="4400"/>
            </a:b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«Умножение обыкновенных дробей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124000" y="1484280"/>
          <a:ext cx="4681440" cy="4768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  <a:gridCol w="936360"/>
              </a:tblGrid>
              <a:tr h="95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5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2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Box 11"/>
          <p:cNvSpPr/>
          <p:nvPr/>
        </p:nvSpPr>
        <p:spPr>
          <a:xfrm>
            <a:off x="1608120" y="105552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6875640" y="609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1728720" y="601992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ая соединительная линия 10"/>
          <p:cNvSpPr/>
          <p:nvPr/>
        </p:nvSpPr>
        <p:spPr>
          <a:xfrm>
            <a:off x="2124000" y="2421000"/>
            <a:ext cx="4680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ая соединительная линия 13"/>
          <p:cNvSpPr/>
          <p:nvPr/>
        </p:nvSpPr>
        <p:spPr>
          <a:xfrm>
            <a:off x="2124000" y="3357720"/>
            <a:ext cx="46814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ая соединительная линия 20"/>
          <p:cNvSpPr/>
          <p:nvPr/>
        </p:nvSpPr>
        <p:spPr>
          <a:xfrm>
            <a:off x="2124000" y="4365720"/>
            <a:ext cx="4680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ая соединительная линия 22"/>
          <p:cNvSpPr/>
          <p:nvPr/>
        </p:nvSpPr>
        <p:spPr>
          <a:xfrm>
            <a:off x="2124000" y="5300640"/>
            <a:ext cx="4680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ая соединительная линия 24"/>
          <p:cNvSpPr/>
          <p:nvPr/>
        </p:nvSpPr>
        <p:spPr>
          <a:xfrm>
            <a:off x="3059280" y="1484280"/>
            <a:ext cx="0" cy="48290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29"/>
          <p:cNvSpPr/>
          <p:nvPr/>
        </p:nvSpPr>
        <p:spPr>
          <a:xfrm>
            <a:off x="3995640" y="1484280"/>
            <a:ext cx="0" cy="48290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ая соединительная линия 37"/>
          <p:cNvSpPr/>
          <p:nvPr/>
        </p:nvSpPr>
        <p:spPr>
          <a:xfrm>
            <a:off x="4932360" y="1484280"/>
            <a:ext cx="0" cy="48290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ая соединительная линия 42"/>
          <p:cNvSpPr/>
          <p:nvPr/>
        </p:nvSpPr>
        <p:spPr>
          <a:xfrm>
            <a:off x="5867280" y="1484280"/>
            <a:ext cx="0" cy="48290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ая соединительная линия 45"/>
          <p:cNvSpPr/>
          <p:nvPr/>
        </p:nvSpPr>
        <p:spPr>
          <a:xfrm>
            <a:off x="2124000" y="3357720"/>
            <a:ext cx="3743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ая соединительная линия 47"/>
          <p:cNvSpPr/>
          <p:nvPr/>
        </p:nvSpPr>
        <p:spPr>
          <a:xfrm>
            <a:off x="5867280" y="3357720"/>
            <a:ext cx="0" cy="2955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2124000" y="3357720"/>
            <a:ext cx="93528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17"/>
          <p:cNvSpPr/>
          <p:nvPr/>
        </p:nvSpPr>
        <p:spPr>
          <a:xfrm>
            <a:off x="3079800" y="335772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18"/>
          <p:cNvSpPr/>
          <p:nvPr/>
        </p:nvSpPr>
        <p:spPr>
          <a:xfrm>
            <a:off x="4035600" y="335772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19"/>
          <p:cNvSpPr/>
          <p:nvPr/>
        </p:nvSpPr>
        <p:spPr>
          <a:xfrm>
            <a:off x="4932360" y="335772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ая соединительная линия 23"/>
          <p:cNvSpPr/>
          <p:nvPr/>
        </p:nvSpPr>
        <p:spPr>
          <a:xfrm>
            <a:off x="2124000" y="4365720"/>
            <a:ext cx="3743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25"/>
          <p:cNvSpPr/>
          <p:nvPr/>
        </p:nvSpPr>
        <p:spPr>
          <a:xfrm>
            <a:off x="2124000" y="4365720"/>
            <a:ext cx="93528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26"/>
          <p:cNvSpPr/>
          <p:nvPr/>
        </p:nvSpPr>
        <p:spPr>
          <a:xfrm>
            <a:off x="3079800" y="436572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27"/>
          <p:cNvSpPr/>
          <p:nvPr/>
        </p:nvSpPr>
        <p:spPr>
          <a:xfrm>
            <a:off x="4035600" y="436572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28"/>
          <p:cNvSpPr/>
          <p:nvPr/>
        </p:nvSpPr>
        <p:spPr>
          <a:xfrm>
            <a:off x="4932360" y="436572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ая соединительная линия 30"/>
          <p:cNvSpPr/>
          <p:nvPr/>
        </p:nvSpPr>
        <p:spPr>
          <a:xfrm>
            <a:off x="2124000" y="5229360"/>
            <a:ext cx="3743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31"/>
          <p:cNvSpPr/>
          <p:nvPr/>
        </p:nvSpPr>
        <p:spPr>
          <a:xfrm>
            <a:off x="2124000" y="5229360"/>
            <a:ext cx="93528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32"/>
          <p:cNvSpPr/>
          <p:nvPr/>
        </p:nvSpPr>
        <p:spPr>
          <a:xfrm>
            <a:off x="3079800" y="522936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33"/>
          <p:cNvSpPr/>
          <p:nvPr/>
        </p:nvSpPr>
        <p:spPr>
          <a:xfrm>
            <a:off x="4035600" y="522936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34"/>
          <p:cNvSpPr/>
          <p:nvPr/>
        </p:nvSpPr>
        <p:spPr>
          <a:xfrm>
            <a:off x="4932360" y="5229360"/>
            <a:ext cx="934920" cy="100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ая соединительная линия 35"/>
          <p:cNvSpPr/>
          <p:nvPr/>
        </p:nvSpPr>
        <p:spPr>
          <a:xfrm>
            <a:off x="2124000" y="6237360"/>
            <a:ext cx="374328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Прямоугольник 1" descr=""/>
          <p:cNvPicPr/>
          <p:nvPr/>
        </p:nvPicPr>
        <p:blipFill>
          <a:blip r:embed="rId1"/>
          <a:stretch/>
        </p:blipFill>
        <p:spPr>
          <a:xfrm>
            <a:off x="5675400" y="6242040"/>
            <a:ext cx="384120" cy="62244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39024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2627280" y="2637000"/>
                <a:ext cx="5156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714240" y="1428840"/>
                <a:ext cx="28893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2"/>
          <p:cNvSpPr/>
          <p:nvPr/>
        </p:nvSpPr>
        <p:spPr>
          <a:xfrm>
            <a:off x="684360" y="1557360"/>
            <a:ext cx="81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2124000" y="189000"/>
            <a:ext cx="424836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втор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4" name="Picture 73" descr="i?id=481056193-63-72"/>
          <p:cNvPicPr/>
          <p:nvPr/>
        </p:nvPicPr>
        <p:blipFill>
          <a:blip r:embed="rId1"/>
          <a:stretch/>
        </p:blipFill>
        <p:spPr>
          <a:xfrm>
            <a:off x="7601040" y="-115920"/>
            <a:ext cx="1573200" cy="168264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26"/>
          <p:cNvSpPr/>
          <p:nvPr/>
        </p:nvSpPr>
        <p:spPr>
          <a:xfrm>
            <a:off x="539640" y="1052640"/>
            <a:ext cx="80978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Алгорит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умножения обыкновенных дробей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35280" y="2565360"/>
          <a:ext cx="7740360" cy="3791160"/>
        </p:xfrm>
        <a:graphic>
          <a:graphicData uri="http://schemas.openxmlformats.org/drawingml/2006/table">
            <a:tbl>
              <a:tblPr/>
              <a:tblGrid>
                <a:gridCol w="7740360"/>
              </a:tblGrid>
              <a:tr h="379116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еремножить их числител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оизведение записать в их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ителе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Перемножить их знаменател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Произведение записать в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8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менателе.           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4120" marR="11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73" descr="i?id=481056193-63-72"/>
          <p:cNvPicPr/>
          <p:nvPr/>
        </p:nvPicPr>
        <p:blipFill>
          <a:blip r:embed="rId2"/>
          <a:stretch/>
        </p:blipFill>
        <p:spPr>
          <a:xfrm>
            <a:off x="7577280" y="-176040"/>
            <a:ext cx="1573200" cy="16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2268360" y="1700280"/>
                <a:ext cx="489600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9" name="Picture 73" descr="i?id=481056193-63-72"/>
          <p:cNvPicPr/>
          <p:nvPr/>
        </p:nvPicPr>
        <p:blipFill>
          <a:blip r:embed="rId1"/>
          <a:stretch/>
        </p:blipFill>
        <p:spPr>
          <a:xfrm>
            <a:off x="7601040" y="-115920"/>
            <a:ext cx="1573200" cy="1682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52360"/>
          </a:xfrm>
          <a:prstGeom prst="rect">
            <a:avLst/>
          </a:prstGeom>
          <a:gradFill rotWithShape="0">
            <a:gsLst>
              <a:gs pos="0">
                <a:srgbClr val="ffe701"/>
              </a:gs>
              <a:gs pos="100000">
                <a:srgbClr val="fe3e0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Наталья</dc:creator>
  <dc:description/>
  <dc:language>en-US</dc:language>
  <cp:lastModifiedBy>Анна</cp:lastModifiedBy>
  <dcterms:modified xsi:type="dcterms:W3CDTF">2022-02-13T09:44:04Z</dcterms:modified>
  <cp:revision>117</cp:revision>
  <dc:subject/>
  <dc:title>Слайд 1</dc:title>
</cp:coreProperties>
</file>