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4.gif" ContentType="image/gif"/>
  <Override PartName="/ppt/media/image16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F40-D310-45F2-855D-D313E3B8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AD4-3630-4929-84B3-5FEBA749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CF4-0E61-47C6-8D3F-4D5364C0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774-3A12-47B8-AE8B-958BB6D7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A024-18D1-4E6A-A071-8D1B6BF0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CF88-6673-4E2A-B0ED-18818AE0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9779-900D-4351-86C4-2CA7D641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0D67-DC73-4EE2-8DBF-3268C446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176D-4B09-4F6E-8DE2-B60D9208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3039-3216-4879-A117-4903AB73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4C53-C5EE-4B69-BA3C-E3DF98A5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441-C374-4A9B-BF0C-496E5A62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4DE9-1E0C-4888-99AA-51BD30EC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390D-5139-4738-8399-55351B9A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8607-DD7C-429C-8369-66AABBD3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A3FE-66EB-4890-99E4-85108695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4116-4385-4F20-B1E4-36619829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F39A0-65D8-4F7E-AB0B-361A8212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267F6-A53C-4F2E-836A-7CE489CE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71D36-B1AE-47B3-952A-B3A8C59D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B26B-273F-4B3E-A71B-D008F3E2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DF5E-40C2-4078-8E3A-FA5ED6D7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1C81-3D7B-45A2-AE75-A470D8A2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8A2F5-C663-4D4C-86AA-37FB1AE7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1F8C4-1EE5-4593-A1AF-9D246AF5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C456-E52E-43F8-A5F9-40B00288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46FAF-62E8-436C-BE5B-2B57775A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FE943-BCDF-4454-B18B-AC6D918B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D058-9E43-49A4-A218-96556527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02C95-6C3D-4131-9B2A-0E0EF9A0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0449A-82EC-49DB-A4D8-308C78B5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8AF9C-162E-44F8-A9CD-44E355C2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BFDF6-2C20-40FB-902C-7AA6B709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541-ACC4-4E97-A3DF-4D35CF5A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C68FB-C219-4817-A729-0E2BE796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DC6E0-194B-470B-9E43-6E40CE51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DBA7F-C826-4A42-B0EC-1A8DABE0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86DD7-3F9D-4380-8BF3-EF0FA034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3CF1F-35E0-476E-B6F2-E41A9AD7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A48D3-FC8B-4D38-9B50-CDA986B9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2760F-ED91-426C-9F83-D7880A56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0E897-29D1-4A5F-88F9-6DDA2444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1CB14-AEB7-4B39-95A2-308357B8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4FD2D-87FC-43F7-A88F-670BA8B9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E42-22B5-4C43-B139-101E6437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D4BB6-A48E-4F6F-9114-060DFC9D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01A6F-271F-467C-B7E5-B9CDEE66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9596B-1007-4182-A009-0762AF56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F099F-E612-47AC-A3E4-88C4AFA4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34586-8F9C-49BD-98E9-9333C43D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651AF-2AC2-48A2-A054-3CB8F4DB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83F42-139D-4FC0-9D74-9302C582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EB1CE-6C79-4A2F-BD04-1A4884BA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9E3D5-5D21-4975-B3C1-42125432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74CE3-E731-4A0B-A222-63E06FA5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B0B-CB47-48F8-8A96-8A013B80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F5110-BEEF-4B48-8D0A-3F647256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EBCF2-FDBC-4245-8680-66F9A903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94CEB-229E-4C61-A2B4-B846CBAB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EFD63-2E9D-4FA1-8080-FCD615AD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53001-3C46-4F39-A357-5594FA07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3657B-67F0-4D0B-BCEA-11D2363C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A9769-5BBF-4829-992F-1DB03527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A118-F515-4744-B2BF-3050BDFB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6D781-7185-464B-8700-AA05CFDB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47E8F-4910-48E3-946A-651660A4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99D-37CA-4591-9796-77026781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FEF4F-A5F8-44F4-A567-5AB77D37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FAD48-BCF1-499A-A9A9-3C93DF11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460DB-2C49-41B8-9506-252E9FA0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1C0BD-FCEB-4025-B83E-875650A2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E19C9-3A41-4E04-8E45-D4966C4C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5C4FB-167E-4768-ADB6-62978A3F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7FE02-56E6-47F3-A8E2-5FA00625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056F7-6955-4928-ACE5-C29C9E33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DEB9B-A669-4471-8529-E0310300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F221A-92EB-4921-8B77-3188F071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722-6E4B-4AFE-A36D-7D3623A8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D5AE8-0C28-4580-832E-6696C4B4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60A2B-5975-4753-BF0D-BEB2FF2B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A7BF4-FF30-4BE5-AA5A-7E60A8A0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B2740-64A5-470A-A94A-3B7C802C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1CE8E-CCEF-4395-968E-DF371CE9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D31-39C9-4EC8-B789-2655505A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227F53-55EB-4DCC-827D-A8EA2F6C8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756361-481A-4343-8FFF-AB4053025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F0CAC5-E61F-4B84-88DA-F767B697B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850243-EFA4-4231-A024-0C62BAD70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19BEA4-A5A8-444F-B6B0-C53F823EC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81DCDF-1084-40A2-9287-5084567A2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D35335-4226-43FA-8711-16C376433B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4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8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4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C:/Users/&#1044;&#1088;&#1091;&#1079;&#1080;&#1085;&#1072;/Documents/&#1074;&#1080;&#1076;&#1077;&#1086;%20&#1076;&#1083;&#1103;%20&#1091;&#1088;&#1086;&#1082;&#1086;&#1074;/&#1079;&#1072;&#1088;&#1103;&#1076;&#1082;&#1072;/Wag%20Your%20Tail%20-%20Animal%20Action%20Verb%20Song%20-%20Super%20Simple%20Songs.mp4" TargetMode="External"/><Relationship Id="rId2" Type="http://schemas.microsoft.com/office/2007/relationships/media" Target="file:///C:/Users/&#1044;&#1088;&#1091;&#1079;&#1080;&#1085;&#1072;/Documents/&#1074;&#1080;&#1076;&#1077;&#1086;%20&#1076;&#1083;&#1103;%20&#1091;&#1088;&#1086;&#1082;&#1086;&#1074;/&#1079;&#1072;&#1088;&#1103;&#1076;&#1082;&#1072;/Wag%20Your%20Tail%20-%20Animal%20Action%20Verb%20Song%20-%20Super%20Simple%20Songs.mp4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t is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… .</a:t>
            </a:r>
            <a:endParaRPr b="0" lang="ru-RU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http://media.tumblr.com/4e3dfa79f21e8e7d7d37c6a0b941608a/tumblr_inline_mkamr7am4r1qz4rgp.jpg"/>
          <p:cNvPicPr/>
          <p:nvPr/>
        </p:nvPicPr>
        <p:blipFill>
          <a:blip r:embed="rId1"/>
          <a:stretch/>
        </p:blipFill>
        <p:spPr>
          <a:xfrm>
            <a:off x="1905120" y="1447920"/>
            <a:ext cx="4723920" cy="5414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323640" y="4293720"/>
            <a:ext cx="1762920" cy="2563920"/>
          </a:xfrm>
          <a:prstGeom prst="rect">
            <a:avLst/>
          </a:prstGeom>
          <a:ln w="9525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3640" cy="685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chemeClr val="accent2"/>
                </a:solidFill>
                <a:latin typeface="Comic Sans MS"/>
              </a:rPr>
              <a:t>skat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n the park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ka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n the park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chemeClr val="accent2"/>
                </a:solidFill>
                <a:latin typeface="Comic Sans MS"/>
              </a:rPr>
              <a:t>is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unny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1" lang="en-US" sz="32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unny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chemeClr val="accent2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n the park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alk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n the park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chemeClr val="accent2"/>
                </a:solidFill>
                <a:latin typeface="Comic Sans MS"/>
              </a:rPr>
              <a:t>pho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y friend toda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hon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y friend a day ago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6" descr="лист 1"/>
          <p:cNvPicPr/>
          <p:nvPr/>
        </p:nvPicPr>
        <p:blipFill>
          <a:blip r:embed="rId2"/>
          <a:stretch/>
        </p:blipFill>
        <p:spPr>
          <a:xfrm>
            <a:off x="7740720" y="3357720"/>
            <a:ext cx="987120" cy="842760"/>
          </a:xfrm>
          <a:prstGeom prst="rect">
            <a:avLst/>
          </a:prstGeom>
          <a:ln w="9525">
            <a:noFill/>
          </a:ln>
        </p:spPr>
      </p:pic>
      <p:pic>
        <p:nvPicPr>
          <p:cNvPr id="372" name="Picture 17" descr="лист 1"/>
          <p:cNvPicPr/>
          <p:nvPr/>
        </p:nvPicPr>
        <p:blipFill>
          <a:blip r:embed="rId3"/>
          <a:stretch/>
        </p:blipFill>
        <p:spPr>
          <a:xfrm>
            <a:off x="7380360" y="4149720"/>
            <a:ext cx="987120" cy="842760"/>
          </a:xfrm>
          <a:prstGeom prst="rect">
            <a:avLst/>
          </a:prstGeom>
          <a:ln w="9525">
            <a:noFill/>
          </a:ln>
        </p:spPr>
      </p:pic>
      <p:pic>
        <p:nvPicPr>
          <p:cNvPr id="373" name="Picture 18" descr="лист 1"/>
          <p:cNvPicPr/>
          <p:nvPr/>
        </p:nvPicPr>
        <p:blipFill>
          <a:blip r:embed="rId4"/>
          <a:stretch/>
        </p:blipFill>
        <p:spPr>
          <a:xfrm>
            <a:off x="6588000" y="3141720"/>
            <a:ext cx="987120" cy="842760"/>
          </a:xfrm>
          <a:prstGeom prst="rect">
            <a:avLst/>
          </a:prstGeom>
          <a:ln w="9525">
            <a:noFill/>
          </a:ln>
        </p:spPr>
      </p:pic>
      <p:pic>
        <p:nvPicPr>
          <p:cNvPr id="374" name="Picture 1" descr=""/>
          <p:cNvPicPr/>
          <p:nvPr/>
        </p:nvPicPr>
        <p:blipFill>
          <a:blip r:embed="rId5"/>
          <a:stretch/>
        </p:blipFill>
        <p:spPr>
          <a:xfrm>
            <a:off x="6911640" y="0"/>
            <a:ext cx="2232000" cy="3699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9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2485800" cy="33048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643520" cy="18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en-US" sz="9600" spc="-1" strike="noStrike">
                <a:solidFill>
                  <a:schemeClr val="accent2"/>
                </a:solidFill>
                <a:latin typeface="Comic Sans MS"/>
              </a:rPr>
              <a:t>Thank you!</a:t>
            </a:r>
            <a:endParaRPr b="0" lang="ru-RU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en-US" sz="9600" spc="-1" strike="noStrike">
                <a:solidFill>
                  <a:schemeClr val="accent2"/>
                </a:solidFill>
                <a:latin typeface="Comic Sans MS"/>
              </a:rPr>
              <a:t>Good Bye!</a:t>
            </a:r>
            <a:endParaRPr b="0" lang="ru-RU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" descr="Похожее изображение"/>
          <p:cNvPicPr/>
          <p:nvPr/>
        </p:nvPicPr>
        <p:blipFill>
          <a:blip r:embed="rId2"/>
          <a:stretch/>
        </p:blipFill>
        <p:spPr>
          <a:xfrm>
            <a:off x="7164360" y="18864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Похожее изображение"/>
          <p:cNvPicPr/>
          <p:nvPr/>
        </p:nvPicPr>
        <p:blipFill>
          <a:blip r:embed="rId3"/>
          <a:stretch/>
        </p:blipFill>
        <p:spPr>
          <a:xfrm>
            <a:off x="6876360" y="4653000"/>
            <a:ext cx="1800000" cy="2016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Картинки по запросу скачать картинки эльфы"/>
          <p:cNvPicPr/>
          <p:nvPr/>
        </p:nvPicPr>
        <p:blipFill>
          <a:blip r:embed="rId4"/>
          <a:stretch/>
        </p:blipFill>
        <p:spPr>
          <a:xfrm>
            <a:off x="395640" y="4509000"/>
            <a:ext cx="18000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908000" y="5867280"/>
            <a:ext cx="70070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 is the 17th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 M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F:\kalendar март.jpg"/>
          <p:cNvPicPr/>
          <p:nvPr/>
        </p:nvPicPr>
        <p:blipFill>
          <a:blip r:embed="rId1"/>
          <a:stretch/>
        </p:blipFill>
        <p:spPr>
          <a:xfrm>
            <a:off x="1332000" y="942840"/>
            <a:ext cx="6571800" cy="4924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alibri"/>
              </a:rPr>
              <a:t>The weather is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352400" cy="2685600"/>
          </a:xfrm>
          <a:prstGeom prst="rect">
            <a:avLst/>
          </a:prstGeom>
          <a:ln w="9525">
            <a:noFill/>
          </a:ln>
        </p:spPr>
      </p:pic>
      <p:sp>
        <p:nvSpPr>
          <p:cNvPr id="298" name="Text Box 3"/>
          <p:cNvSpPr/>
          <p:nvPr/>
        </p:nvSpPr>
        <p:spPr>
          <a:xfrm>
            <a:off x="647640" y="1584360"/>
            <a:ext cx="1871280" cy="100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4657680" y="1511280"/>
            <a:ext cx="4127040" cy="2436480"/>
          </a:xfrm>
          <a:prstGeom prst="rect">
            <a:avLst/>
          </a:prstGeom>
          <a:blipFill rotWithShape="0">
            <a:blip r:embed="rId2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572000" y="3962520"/>
            <a:ext cx="4419360" cy="2739600"/>
          </a:xfrm>
          <a:prstGeom prst="rect">
            <a:avLst/>
          </a:prstGeom>
          <a:blipFill rotWithShape="0">
            <a:blip r:embed="rId3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un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4"/>
          <a:stretch/>
        </p:blipFill>
        <p:spPr>
          <a:xfrm>
            <a:off x="71280" y="3816360"/>
            <a:ext cx="4463640" cy="2952360"/>
          </a:xfrm>
          <a:prstGeom prst="rect">
            <a:avLst/>
          </a:prstGeom>
          <a:ln w="9525">
            <a:noFill/>
          </a:ln>
        </p:spPr>
      </p:pic>
      <p:sp>
        <p:nvSpPr>
          <p:cNvPr id="302" name="Text Box 7"/>
          <p:cNvSpPr/>
          <p:nvPr/>
        </p:nvSpPr>
        <p:spPr>
          <a:xfrm>
            <a:off x="1828800" y="5850000"/>
            <a:ext cx="2582640" cy="100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wa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04" name="WordArt 5"/>
          <p:cNvSpPr txBox="1"/>
          <p:nvPr/>
        </p:nvSpPr>
        <p:spPr>
          <a:xfrm>
            <a:off x="1403280" y="692280"/>
            <a:ext cx="6697440" cy="1512360"/>
          </a:xfrm>
          <a:prstGeom prst="rect">
            <a:avLst/>
          </a:prstGeom>
        </p:spPr>
        <p:txBody>
          <a:bodyPr wrap="none" fromWordArt="1" lIns="90000" rIns="90000" tIns="45000" bIns="45000" anchor="b" anchorCtr="1">
            <a:prstTxWarp prst="textArchUp">
              <a:avLst>
                <a:gd name="adj" fmla="val 1080000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0" lang="en-US" sz="3600" spc="-1" strike="noStrike">
              <a:ln w="0">
                <a:noFill/>
              </a:ln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2" descr="лист 1"/>
          <p:cNvPicPr/>
          <p:nvPr/>
        </p:nvPicPr>
        <p:blipFill>
          <a:blip r:embed="rId1"/>
          <a:stretch/>
        </p:blipFill>
        <p:spPr>
          <a:xfrm>
            <a:off x="5940360" y="2565360"/>
            <a:ext cx="1079280" cy="920520"/>
          </a:xfrm>
          <a:prstGeom prst="rect">
            <a:avLst/>
          </a:prstGeom>
          <a:ln w="9525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68360" y="1413000"/>
            <a:ext cx="4968360" cy="4825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6"/>
          <p:cNvSpPr/>
          <p:nvPr/>
        </p:nvSpPr>
        <p:spPr>
          <a:xfrm>
            <a:off x="324000" y="2924280"/>
            <a:ext cx="1510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7"/>
          <p:cNvSpPr/>
          <p:nvPr/>
        </p:nvSpPr>
        <p:spPr>
          <a:xfrm>
            <a:off x="6948360" y="2708280"/>
            <a:ext cx="1944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8"/>
          <p:cNvSpPr/>
          <p:nvPr/>
        </p:nvSpPr>
        <p:spPr>
          <a:xfrm>
            <a:off x="1187280" y="6093000"/>
            <a:ext cx="201564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9"/>
          <p:cNvSpPr/>
          <p:nvPr/>
        </p:nvSpPr>
        <p:spPr>
          <a:xfrm>
            <a:off x="250920" y="6165720"/>
            <a:ext cx="1728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1"/>
          <p:cNvSpPr/>
          <p:nvPr/>
        </p:nvSpPr>
        <p:spPr>
          <a:xfrm>
            <a:off x="7308720" y="6165720"/>
            <a:ext cx="1368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8" descr="лист 1"/>
          <p:cNvPicPr/>
          <p:nvPr/>
        </p:nvPicPr>
        <p:blipFill>
          <a:blip r:embed="rId2"/>
          <a:stretch/>
        </p:blipFill>
        <p:spPr>
          <a:xfrm>
            <a:off x="2124000" y="189000"/>
            <a:ext cx="1079280" cy="920520"/>
          </a:xfrm>
          <a:prstGeom prst="rect">
            <a:avLst/>
          </a:prstGeom>
          <a:ln w="9525">
            <a:noFill/>
          </a:ln>
        </p:spPr>
      </p:pic>
      <p:pic>
        <p:nvPicPr>
          <p:cNvPr id="313" name="Picture 39" descr="лист 1"/>
          <p:cNvPicPr/>
          <p:nvPr/>
        </p:nvPicPr>
        <p:blipFill>
          <a:blip r:embed="rId3"/>
          <a:stretch/>
        </p:blipFill>
        <p:spPr>
          <a:xfrm>
            <a:off x="5940000" y="620640"/>
            <a:ext cx="791640" cy="676080"/>
          </a:xfrm>
          <a:prstGeom prst="rect">
            <a:avLst/>
          </a:prstGeom>
          <a:ln w="9525">
            <a:noFill/>
          </a:ln>
        </p:spPr>
      </p:pic>
      <p:pic>
        <p:nvPicPr>
          <p:cNvPr id="314" name="Picture 40" descr="лист 1"/>
          <p:cNvPicPr/>
          <p:nvPr/>
        </p:nvPicPr>
        <p:blipFill>
          <a:blip r:embed="rId4"/>
          <a:stretch/>
        </p:blipFill>
        <p:spPr>
          <a:xfrm>
            <a:off x="1979640" y="2421000"/>
            <a:ext cx="790200" cy="674280"/>
          </a:xfrm>
          <a:prstGeom prst="rect">
            <a:avLst/>
          </a:prstGeom>
          <a:ln w="9525">
            <a:noFill/>
          </a:ln>
        </p:spPr>
      </p:pic>
      <p:pic>
        <p:nvPicPr>
          <p:cNvPr id="315" name="Picture 43" descr="лист 1"/>
          <p:cNvPicPr/>
          <p:nvPr/>
        </p:nvPicPr>
        <p:blipFill>
          <a:blip r:embed="rId5"/>
          <a:stretch/>
        </p:blipFill>
        <p:spPr>
          <a:xfrm>
            <a:off x="2124000" y="5516640"/>
            <a:ext cx="936360" cy="799920"/>
          </a:xfrm>
          <a:prstGeom prst="rect">
            <a:avLst/>
          </a:prstGeom>
          <a:ln w="9525">
            <a:noFill/>
          </a:ln>
        </p:spPr>
      </p:pic>
      <p:pic>
        <p:nvPicPr>
          <p:cNvPr id="316" name="Picture 41" descr="лист 1"/>
          <p:cNvPicPr/>
          <p:nvPr/>
        </p:nvPicPr>
        <p:blipFill>
          <a:blip r:embed="rId6"/>
          <a:stretch/>
        </p:blipFill>
        <p:spPr>
          <a:xfrm>
            <a:off x="5580000" y="5733360"/>
            <a:ext cx="1079280" cy="920520"/>
          </a:xfrm>
          <a:prstGeom prst="rect">
            <a:avLst/>
          </a:prstGeom>
          <a:ln w="9525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7"/>
          <a:stretch/>
        </p:blipFill>
        <p:spPr>
          <a:xfrm>
            <a:off x="6660360" y="3429000"/>
            <a:ext cx="2195280" cy="2708280"/>
          </a:xfrm>
          <a:prstGeom prst="rect">
            <a:avLst/>
          </a:prstGeom>
          <a:ln w="9525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8"/>
          <a:stretch/>
        </p:blipFill>
        <p:spPr>
          <a:xfrm>
            <a:off x="6876720" y="0"/>
            <a:ext cx="1943280" cy="2636640"/>
          </a:xfrm>
          <a:prstGeom prst="rect">
            <a:avLst/>
          </a:prstGeom>
          <a:ln w="9525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9"/>
          <a:stretch/>
        </p:blipFill>
        <p:spPr>
          <a:xfrm>
            <a:off x="323640" y="3501000"/>
            <a:ext cx="1762920" cy="2563920"/>
          </a:xfrm>
          <a:prstGeom prst="rect">
            <a:avLst/>
          </a:prstGeom>
          <a:ln w="9525">
            <a:noFill/>
          </a:ln>
        </p:spPr>
      </p:pic>
      <p:pic>
        <p:nvPicPr>
          <p:cNvPr id="320" name="Picture 5" descr=""/>
          <p:cNvPicPr/>
          <p:nvPr/>
        </p:nvPicPr>
        <p:blipFill>
          <a:blip r:embed="rId10"/>
          <a:stretch/>
        </p:blipFill>
        <p:spPr>
          <a:xfrm>
            <a:off x="144360" y="144360"/>
            <a:ext cx="1978920" cy="2563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5"/>
          <p:cNvSpPr/>
          <p:nvPr/>
        </p:nvSpPr>
        <p:spPr>
          <a:xfrm>
            <a:off x="3924360" y="2852640"/>
            <a:ext cx="4895640" cy="431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9"/>
          <p:cNvSpPr/>
          <p:nvPr/>
        </p:nvSpPr>
        <p:spPr>
          <a:xfrm>
            <a:off x="2556000" y="5445000"/>
            <a:ext cx="4608000" cy="431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3348000" y="2421000"/>
            <a:ext cx="4895640" cy="3600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3924360" y="3357720"/>
            <a:ext cx="4895640" cy="431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32000" y="4005360"/>
            <a:ext cx="4895640" cy="431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2050920" y="4941720"/>
            <a:ext cx="4968360" cy="431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120" cy="481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179280" y="765000"/>
            <a:ext cx="3384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9280" y="189000"/>
            <a:ext cx="2879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2556000" y="189000"/>
            <a:ext cx="2808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5580000" y="260280"/>
            <a:ext cx="3312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3708360" y="765000"/>
            <a:ext cx="28080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7164360" y="836640"/>
            <a:ext cx="1439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411280" y="1341360"/>
            <a:ext cx="352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7452360" y="4509000"/>
            <a:ext cx="1691280" cy="2120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9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4243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chemeClr val="accent2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chemeClr val="accent2"/>
                </a:solidFill>
                <a:latin typeface="Comic Sans MS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697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[t]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76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[id]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3419640" y="1557360"/>
            <a:ext cx="2015640" cy="471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8" descr="лист"/>
          <p:cNvPicPr/>
          <p:nvPr/>
        </p:nvPicPr>
        <p:blipFill>
          <a:blip r:embed="rId1"/>
          <a:stretch/>
        </p:blipFill>
        <p:spPr>
          <a:xfrm>
            <a:off x="468360" y="189000"/>
            <a:ext cx="1499760" cy="1296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Картинки по запросу скачать картинки эльфы"/>
          <p:cNvPicPr/>
          <p:nvPr/>
        </p:nvPicPr>
        <p:blipFill>
          <a:blip r:embed="rId2"/>
          <a:stretch/>
        </p:blipFill>
        <p:spPr>
          <a:xfrm>
            <a:off x="6228360" y="5085360"/>
            <a:ext cx="2520000" cy="1484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Картинки по запросу скачать картинки эльфы"/>
          <p:cNvPicPr/>
          <p:nvPr/>
        </p:nvPicPr>
        <p:blipFill>
          <a:blip r:embed="rId3"/>
          <a:stretch/>
        </p:blipFill>
        <p:spPr>
          <a:xfrm>
            <a:off x="755640" y="5085360"/>
            <a:ext cx="2520000" cy="17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корзина"/>
          <p:cNvPicPr/>
          <p:nvPr/>
        </p:nvPicPr>
        <p:blipFill>
          <a:blip r:embed="rId1"/>
          <a:stretch/>
        </p:blipFill>
        <p:spPr>
          <a:xfrm>
            <a:off x="179280" y="3860640"/>
            <a:ext cx="2115720" cy="2447640"/>
          </a:xfrm>
          <a:prstGeom prst="rect">
            <a:avLst/>
          </a:prstGeom>
          <a:ln w="9525">
            <a:noFill/>
          </a:ln>
        </p:spPr>
      </p:pic>
      <p:pic>
        <p:nvPicPr>
          <p:cNvPr id="346" name="Picture 9" descr="корзина"/>
          <p:cNvPicPr/>
          <p:nvPr/>
        </p:nvPicPr>
        <p:blipFill>
          <a:blip r:embed="rId2"/>
          <a:stretch/>
        </p:blipFill>
        <p:spPr>
          <a:xfrm>
            <a:off x="3132000" y="3429000"/>
            <a:ext cx="2177640" cy="2518920"/>
          </a:xfrm>
          <a:prstGeom prst="rect">
            <a:avLst/>
          </a:prstGeom>
          <a:ln w="9525">
            <a:noFill/>
          </a:ln>
        </p:spPr>
      </p:pic>
      <p:pic>
        <p:nvPicPr>
          <p:cNvPr id="347" name="Picture 6" descr="корзина"/>
          <p:cNvPicPr/>
          <p:nvPr/>
        </p:nvPicPr>
        <p:blipFill>
          <a:blip r:embed="rId3"/>
          <a:stretch/>
        </p:blipFill>
        <p:spPr>
          <a:xfrm>
            <a:off x="6588000" y="3933720"/>
            <a:ext cx="2115720" cy="2447640"/>
          </a:xfrm>
          <a:prstGeom prst="rect">
            <a:avLst/>
          </a:prstGeom>
          <a:ln w="9525">
            <a:noFill/>
          </a:ln>
        </p:spPr>
      </p:pic>
      <p:sp>
        <p:nvSpPr>
          <p:cNvPr id="348" name="Text Box 14"/>
          <p:cNvSpPr/>
          <p:nvPr/>
        </p:nvSpPr>
        <p:spPr>
          <a:xfrm>
            <a:off x="826920" y="5445000"/>
            <a:ext cx="7189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3780000" y="5084640"/>
            <a:ext cx="8632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7093080" y="5516640"/>
            <a:ext cx="1007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1"/>
          <p:cNvSpPr/>
          <p:nvPr/>
        </p:nvSpPr>
        <p:spPr>
          <a:xfrm>
            <a:off x="250920" y="333360"/>
            <a:ext cx="1512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2"/>
          <p:cNvSpPr/>
          <p:nvPr/>
        </p:nvSpPr>
        <p:spPr>
          <a:xfrm>
            <a:off x="2484360" y="981000"/>
            <a:ext cx="1294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3"/>
          <p:cNvSpPr/>
          <p:nvPr/>
        </p:nvSpPr>
        <p:spPr>
          <a:xfrm>
            <a:off x="324000" y="1125360"/>
            <a:ext cx="1510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skat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4"/>
          <p:cNvSpPr/>
          <p:nvPr/>
        </p:nvSpPr>
        <p:spPr>
          <a:xfrm>
            <a:off x="1403280" y="1628640"/>
            <a:ext cx="1584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walk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5"/>
          <p:cNvSpPr/>
          <p:nvPr/>
        </p:nvSpPr>
        <p:spPr>
          <a:xfrm>
            <a:off x="2411280" y="260280"/>
            <a:ext cx="1655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learn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6"/>
          <p:cNvSpPr/>
          <p:nvPr/>
        </p:nvSpPr>
        <p:spPr>
          <a:xfrm>
            <a:off x="3492360" y="1700280"/>
            <a:ext cx="1584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want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>
            <a:off x="395280" y="2349360"/>
            <a:ext cx="1439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talk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8"/>
          <p:cNvSpPr/>
          <p:nvPr/>
        </p:nvSpPr>
        <p:spPr>
          <a:xfrm>
            <a:off x="2195640" y="2276640"/>
            <a:ext cx="1223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tri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9"/>
          <p:cNvSpPr/>
          <p:nvPr/>
        </p:nvSpPr>
        <p:spPr>
          <a:xfrm>
            <a:off x="4572000" y="404640"/>
            <a:ext cx="2087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collect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0"/>
          <p:cNvSpPr/>
          <p:nvPr/>
        </p:nvSpPr>
        <p:spPr>
          <a:xfrm>
            <a:off x="4932360" y="1197000"/>
            <a:ext cx="1655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finish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1"/>
          <p:cNvSpPr/>
          <p:nvPr/>
        </p:nvSpPr>
        <p:spPr>
          <a:xfrm>
            <a:off x="7020000" y="333360"/>
            <a:ext cx="1079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cri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2"/>
          <p:cNvSpPr/>
          <p:nvPr/>
        </p:nvSpPr>
        <p:spPr>
          <a:xfrm>
            <a:off x="7164360" y="981000"/>
            <a:ext cx="1800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paint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3"/>
          <p:cNvSpPr/>
          <p:nvPr/>
        </p:nvSpPr>
        <p:spPr>
          <a:xfrm>
            <a:off x="6804000" y="1773360"/>
            <a:ext cx="1584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look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4"/>
          <p:cNvSpPr/>
          <p:nvPr/>
        </p:nvSpPr>
        <p:spPr>
          <a:xfrm>
            <a:off x="4067280" y="2276640"/>
            <a:ext cx="1512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smi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5"/>
          <p:cNvSpPr/>
          <p:nvPr/>
        </p:nvSpPr>
        <p:spPr>
          <a:xfrm>
            <a:off x="6372360" y="2492280"/>
            <a:ext cx="1512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need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2"/>
          <p:cNvSpPr/>
          <p:nvPr/>
        </p:nvSpPr>
        <p:spPr>
          <a:xfrm>
            <a:off x="2123640" y="5980680"/>
            <a:ext cx="47559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/>
                </a:solidFill>
                <a:latin typeface="Comic Sans MS"/>
              </a:rPr>
              <a:t>Regular verb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18066E-006 L 0.09861 0.57529 E">
                                      <p:cBhvr>
                                        <p:cTn id="12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42193E-006 L -0.35035 0.56465 E">
                                      <p:cBhvr>
                                        <p:cTn id="1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51839E-006 L 0.12605 0.45986 E">
                                      <p:cBhvr>
                                        <p:cTn id="1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17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18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1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95258E-006 L 0.0474 0.31274 E">
                                      <p:cBhvr>
                                        <p:cTn id="2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28869E-006 L 0.14584 0.28152 E">
                                      <p:cBhvr>
                                        <p:cTn id="2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2195E-006 L -0.06684 0.27296 E">
                                      <p:cBhvr>
                                        <p:cTn id="2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delay="0" evt="onClick">
                    <p:tgtEl>
                      <p:spTgt spid="368"/>
                    </p:tgtEl>
                  </p:cond>
                </p:stCondLst>
                <p:childTnLst>
                  <p:par>
                    <p:cTn id="254" fill="hold">
                      <p:stCondLst>
                        <p:cond delay="0"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7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368"/>
                </p:tgtEl>
              </p:cMediaNode>
            </p:video>
          </p:childTnLst>
        </p:cTn>
      </p:par>
    </p:tnLst>
  </p:timing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  <Words>208</Words>
  <Paragraphs>9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Пользователь</cp:lastModifiedBy>
  <dcterms:modified xsi:type="dcterms:W3CDTF">2020-04-12T13:07:54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11</vt:r8>
  </property>
</Properties>
</file>