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gif" ContentType="image/gif"/>
  <Override PartName="/ppt/media/image16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C97-581C-4DEB-B3A9-D40DFFA9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D38-685E-43B4-80E7-9A8E3DCF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1BB-ADC5-49E8-A9E5-A93CB372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F84-76C4-441A-BD13-FC8C8B88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C92B-B20C-4E4B-9919-683724BC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8950-C5C8-4DA6-9499-7D4D7CA9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7251-3E21-4E77-9026-AC6828E5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FB9A-A319-49D0-9764-664B5F68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EFD6-56B4-41CB-86E4-023D51EA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3947-47B4-4F59-8DAF-1E92BC4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EE26-BB4E-416C-AA3F-3E0A38CA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59B-BFDF-4313-8AB1-9DD6BBDC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3B7C-FBC8-4E46-BC53-C306721E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C868-9A14-4219-BFFB-FBCCD13F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1F0B-C1F7-4A5E-8119-1B70B5DA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87B8-683C-4AA2-B037-C5B1579F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0F28-0867-4317-AFF9-8DACCDBC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71C3-0E86-49B2-9FC6-11B2CD52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52CA-9D7E-4377-86BD-6D0F6978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4E93-80BD-4977-912D-338D9C2C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8ED15-FAF9-462C-B357-8F17ACB5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238C-06A5-428A-9E6C-516B4A2F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8C5-B428-46C9-BA9F-853DFADB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2A34-8BA6-4642-AAAF-700D03D4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CCF0-0707-4FC5-BED8-CA9D97F5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5F18-D7EE-451C-9EA3-DE25EAB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3B5D-04A2-4BFA-887B-1D8C739C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22A4-8A6A-4F77-80C6-50EE0A87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07AD8-1BF3-454A-B47A-1025ED41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220C-F24D-4658-B894-3F5F2619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64FD-6D74-4DAB-86CD-28F8AC25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91457-929B-4796-9EDC-93D8FDBF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7947E-3467-4CEC-B85C-5B984695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B7C-BC80-4D41-8ED0-28FF6017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C42AB-563B-4A88-896D-D731E4C0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123E-57CE-41E9-8581-A20F38C4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AAA2-BBF1-4A42-9F66-D6DDBDD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CC46-775A-4915-BCC0-C7B8A6AF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4D3B1-3894-4115-A02F-D184F53E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6363F-765E-4D33-8C2C-3976A7AC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25132-F09A-43A2-9858-150E165A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3975-0ED6-40D9-AE71-9F84B3D8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9F34C-84F2-4BE6-AFDF-CF3C7888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CE0B0-CFC4-42D1-8C31-CA6D0A39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E72-5F55-4B06-BCD2-B98CCF34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4FE58-76DE-4D83-8572-5258A9F8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CABCF-E873-4722-BAE6-7CFD55E7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9E3EB-76C0-46E0-ACB9-99E4AAC2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B7CB0-0710-44AE-B7B9-74F68AAA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36588-5583-4E79-8C8E-DD063FD6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55289-A364-44F5-9299-C99592E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659AB-4F5E-4BEB-B0DB-C169523D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1624E-8108-4E61-9B17-BC3CE60E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BF5C7-99A1-4AE0-A798-3DCA5C5A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933A5-663C-44F8-971E-9E37528C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EBC-D7BB-449F-A05C-30ACF91F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7237B-1583-4765-8A7D-FCF335F4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EE13C-E0DB-4F7B-8722-FC7D79CF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0616-C948-4769-B65C-67D69A92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B4A9A-9505-423D-879C-F31F668E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FF345-E9A0-42B8-A600-D05E3740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EABF9-1F95-49BE-8176-45F12C67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2634F-A12B-47DA-8739-9343CCB3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66759-A730-442C-8AE0-6ABC8A50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EC7BF-DF1D-4A01-AE5E-AD5000A0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DBC80-5054-48D8-8A7D-24155D1C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B23-5FC6-4F9A-A83B-C7E21FB4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84DEC-42A8-48CF-9D97-867F1007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A0C0E-032E-4F51-A448-C21E4E1F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6EBD3-FAAB-4F03-ACE4-64CFB658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A29D-C1A5-4D3F-A379-BD3CBE58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FFBBF-944D-43F4-9F29-A070AF32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5AD94-2669-4E37-A4BC-C9014694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0FA73-14BB-4D34-8130-B7E1D6C2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248E7-85B4-4E37-99FA-691EE2D7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951D5-E43C-4911-BDC4-A60D28A9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FEA08-6517-4804-8B21-D34470EA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63C-3D60-4197-B8B4-101A7BC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0F523-ED4C-4BC0-B4F0-BED47645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204C7-440D-419F-9BA3-65A7AD61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3D1AF-8D4E-418D-BD7B-23A2FAF0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1C55F-90B8-4DF6-AB6D-DAA7311B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00480-5476-4F78-8796-F071F708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EC3-8DA3-4362-A1B4-F5606F04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50DC7C-58DE-4921-B881-E391F7A68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CEB9EC-E495-4E82-9401-F673702A3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FD66D8-7342-4211-8FB4-F2CCB1FFF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165C63-A2B8-4884-8956-DEEEBAC38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6CF34A-D39B-49E5-8AE4-A78929678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07DC41-DE95-4275-993B-C0746997F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D563AA-5E22-49BD-8D65-B750A38DD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4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4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C:/Users/&#1044;&#1088;&#1091;&#1079;&#1080;&#1085;&#1072;/Documents/&#1074;&#1080;&#1076;&#1077;&#1086;%20&#1076;&#1083;&#1103;%20&#1091;&#1088;&#1086;&#1082;&#1086;&#1074;/&#1079;&#1072;&#1088;&#1103;&#1076;&#1082;&#1072;/Wag%20Your%20Tail%20-%20Animal%20Action%20Verb%20Song%20-%20Super%20Simple%20Songs.mp4" TargetMode="External"/><Relationship Id="rId2" Type="http://schemas.microsoft.com/office/2007/relationships/media" Target="file:///C:/Users/&#1044;&#1088;&#1091;&#1079;&#1080;&#1085;&#1072;/Documents/&#1074;&#1080;&#1076;&#1077;&#1086;%20&#1076;&#1083;&#1103;%20&#1091;&#1088;&#1086;&#1082;&#1086;&#1074;/&#1079;&#1072;&#1088;&#1103;&#1076;&#1082;&#1072;/Wag%20Your%20Tail%20-%20Animal%20Action%20Verb%20Song%20-%20Super%20Simple%20Songs.mp4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… .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http://media.tumblr.com/4e3dfa79f21e8e7d7d37c6a0b941608a/tumblr_inline_mkamr7am4r1qz4rgp.jpg"/>
          <p:cNvPicPr/>
          <p:nvPr/>
        </p:nvPicPr>
        <p:blipFill>
          <a:blip r:embed="rId1"/>
          <a:stretch/>
        </p:blipFill>
        <p:spPr>
          <a:xfrm>
            <a:off x="1905120" y="1447920"/>
            <a:ext cx="4723920" cy="5414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323640" y="4293720"/>
            <a:ext cx="1762920" cy="2563920"/>
          </a:xfrm>
          <a:prstGeom prst="rect">
            <a:avLst/>
          </a:prstGeom>
          <a:ln w="9525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3640" cy="685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skat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ka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i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unny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1" lang="en-US" sz="32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unny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lk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pho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y friend toda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hon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y friend a day ago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6" descr="лист 1"/>
          <p:cNvPicPr/>
          <p:nvPr/>
        </p:nvPicPr>
        <p:blipFill>
          <a:blip r:embed="rId2"/>
          <a:stretch/>
        </p:blipFill>
        <p:spPr>
          <a:xfrm>
            <a:off x="7740720" y="3357720"/>
            <a:ext cx="987120" cy="84276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17" descr="лист 1"/>
          <p:cNvPicPr/>
          <p:nvPr/>
        </p:nvPicPr>
        <p:blipFill>
          <a:blip r:embed="rId3"/>
          <a:stretch/>
        </p:blipFill>
        <p:spPr>
          <a:xfrm>
            <a:off x="7380360" y="4149720"/>
            <a:ext cx="987120" cy="842760"/>
          </a:xfrm>
          <a:prstGeom prst="rect">
            <a:avLst/>
          </a:prstGeom>
          <a:ln w="9525">
            <a:noFill/>
          </a:ln>
        </p:spPr>
      </p:pic>
      <p:pic>
        <p:nvPicPr>
          <p:cNvPr id="373" name="Picture 18" descr="лист 1"/>
          <p:cNvPicPr/>
          <p:nvPr/>
        </p:nvPicPr>
        <p:blipFill>
          <a:blip r:embed="rId4"/>
          <a:stretch/>
        </p:blipFill>
        <p:spPr>
          <a:xfrm>
            <a:off x="6588000" y="3141720"/>
            <a:ext cx="987120" cy="842760"/>
          </a:xfrm>
          <a:prstGeom prst="rect">
            <a:avLst/>
          </a:prstGeom>
          <a:ln w="9525">
            <a:noFill/>
          </a:ln>
        </p:spPr>
      </p:pic>
      <p:pic>
        <p:nvPicPr>
          <p:cNvPr id="374" name="Picture 1" descr=""/>
          <p:cNvPicPr/>
          <p:nvPr/>
        </p:nvPicPr>
        <p:blipFill>
          <a:blip r:embed="rId5"/>
          <a:stretch/>
        </p:blipFill>
        <p:spPr>
          <a:xfrm>
            <a:off x="6911640" y="0"/>
            <a:ext cx="2232000" cy="369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9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2485800" cy="33048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643520" cy="18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en-US" sz="9600" spc="-1" strike="noStrike">
                <a:solidFill>
                  <a:schemeClr val="accent2"/>
                </a:solidFill>
                <a:latin typeface="Comic Sans MS"/>
              </a:rPr>
              <a:t>Thank you!</a:t>
            </a:r>
            <a:endParaRPr b="0" lang="ru-RU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en-US" sz="9600" spc="-1" strike="noStrike">
                <a:solidFill>
                  <a:schemeClr val="accent2"/>
                </a:solidFill>
                <a:latin typeface="Comic Sans MS"/>
              </a:rPr>
              <a:t>Good Bye!</a:t>
            </a:r>
            <a:endParaRPr b="0" lang="ru-RU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Похожее изображение"/>
          <p:cNvPicPr/>
          <p:nvPr/>
        </p:nvPicPr>
        <p:blipFill>
          <a:blip r:embed="rId2"/>
          <a:stretch/>
        </p:blipFill>
        <p:spPr>
          <a:xfrm>
            <a:off x="7164360" y="18864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Похожее изображение"/>
          <p:cNvPicPr/>
          <p:nvPr/>
        </p:nvPicPr>
        <p:blipFill>
          <a:blip r:embed="rId3"/>
          <a:stretch/>
        </p:blipFill>
        <p:spPr>
          <a:xfrm>
            <a:off x="6876360" y="4653000"/>
            <a:ext cx="1800000" cy="2016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Картинки по запросу скачать картинки эльфы"/>
          <p:cNvPicPr/>
          <p:nvPr/>
        </p:nvPicPr>
        <p:blipFill>
          <a:blip r:embed="rId4"/>
          <a:stretch/>
        </p:blipFill>
        <p:spPr>
          <a:xfrm>
            <a:off x="395640" y="4509000"/>
            <a:ext cx="1800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908000" y="5867280"/>
            <a:ext cx="70070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 is the 17th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 M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F:\kalendar март.jpg"/>
          <p:cNvPicPr/>
          <p:nvPr/>
        </p:nvPicPr>
        <p:blipFill>
          <a:blip r:embed="rId1"/>
          <a:stretch/>
        </p:blipFill>
        <p:spPr>
          <a:xfrm>
            <a:off x="1332000" y="942840"/>
            <a:ext cx="6571800" cy="4924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alibri"/>
              </a:rPr>
              <a:t>The weather is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352400" cy="2685600"/>
          </a:xfrm>
          <a:prstGeom prst="rect">
            <a:avLst/>
          </a:prstGeom>
          <a:ln w="9525">
            <a:noFill/>
          </a:ln>
        </p:spPr>
      </p:pic>
      <p:sp>
        <p:nvSpPr>
          <p:cNvPr id="298" name="Text Box 3"/>
          <p:cNvSpPr/>
          <p:nvPr/>
        </p:nvSpPr>
        <p:spPr>
          <a:xfrm>
            <a:off x="647640" y="1584360"/>
            <a:ext cx="187128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657680" y="1511280"/>
            <a:ext cx="4127040" cy="2436480"/>
          </a:xfrm>
          <a:prstGeom prst="rect">
            <a:avLst/>
          </a:prstGeom>
          <a:blipFill rotWithShape="0">
            <a:blip r:embed="rId2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572000" y="3962520"/>
            <a:ext cx="4419360" cy="2739600"/>
          </a:xfrm>
          <a:prstGeom prst="rect">
            <a:avLst/>
          </a:pr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un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4"/>
          <a:stretch/>
        </p:blipFill>
        <p:spPr>
          <a:xfrm>
            <a:off x="71280" y="3816360"/>
            <a:ext cx="4463640" cy="2952360"/>
          </a:xfrm>
          <a:prstGeom prst="rect">
            <a:avLst/>
          </a:prstGeom>
          <a:ln w="9525">
            <a:noFill/>
          </a:ln>
        </p:spPr>
      </p:pic>
      <p:sp>
        <p:nvSpPr>
          <p:cNvPr id="302" name="Text Box 7"/>
          <p:cNvSpPr/>
          <p:nvPr/>
        </p:nvSpPr>
        <p:spPr>
          <a:xfrm>
            <a:off x="1828800" y="5850000"/>
            <a:ext cx="2582640" cy="100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wa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04" name="WordArt 5"/>
          <p:cNvSpPr txBox="1"/>
          <p:nvPr/>
        </p:nvSpPr>
        <p:spPr>
          <a:xfrm>
            <a:off x="1403280" y="692280"/>
            <a:ext cx="6697440" cy="151236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0" lang="en-US" sz="3600" spc="-1" strike="noStrike">
              <a:ln w="0">
                <a:noFill/>
              </a:ln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лист 1"/>
          <p:cNvPicPr/>
          <p:nvPr/>
        </p:nvPicPr>
        <p:blipFill>
          <a:blip r:embed="rId1"/>
          <a:stretch/>
        </p:blipFill>
        <p:spPr>
          <a:xfrm>
            <a:off x="5940360" y="2565360"/>
            <a:ext cx="1079280" cy="920520"/>
          </a:xfrm>
          <a:prstGeom prst="rect">
            <a:avLst/>
          </a:prstGeom>
          <a:ln w="9525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68360" y="1413000"/>
            <a:ext cx="4968360" cy="4825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324000" y="2924280"/>
            <a:ext cx="1510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6948360" y="2708280"/>
            <a:ext cx="194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8"/>
          <p:cNvSpPr/>
          <p:nvPr/>
        </p:nvSpPr>
        <p:spPr>
          <a:xfrm>
            <a:off x="1187280" y="6093000"/>
            <a:ext cx="20156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9"/>
          <p:cNvSpPr/>
          <p:nvPr/>
        </p:nvSpPr>
        <p:spPr>
          <a:xfrm>
            <a:off x="250920" y="6165720"/>
            <a:ext cx="1728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1"/>
          <p:cNvSpPr/>
          <p:nvPr/>
        </p:nvSpPr>
        <p:spPr>
          <a:xfrm>
            <a:off x="7308720" y="6165720"/>
            <a:ext cx="1368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8" descr="лист 1"/>
          <p:cNvPicPr/>
          <p:nvPr/>
        </p:nvPicPr>
        <p:blipFill>
          <a:blip r:embed="rId2"/>
          <a:stretch/>
        </p:blipFill>
        <p:spPr>
          <a:xfrm>
            <a:off x="2124000" y="189000"/>
            <a:ext cx="1079280" cy="920520"/>
          </a:xfrm>
          <a:prstGeom prst="rect">
            <a:avLst/>
          </a:prstGeom>
          <a:ln w="9525">
            <a:noFill/>
          </a:ln>
        </p:spPr>
      </p:pic>
      <p:pic>
        <p:nvPicPr>
          <p:cNvPr id="313" name="Picture 39" descr="лист 1"/>
          <p:cNvPicPr/>
          <p:nvPr/>
        </p:nvPicPr>
        <p:blipFill>
          <a:blip r:embed="rId3"/>
          <a:stretch/>
        </p:blipFill>
        <p:spPr>
          <a:xfrm>
            <a:off x="5940000" y="620640"/>
            <a:ext cx="791640" cy="676080"/>
          </a:xfrm>
          <a:prstGeom prst="rect">
            <a:avLst/>
          </a:prstGeom>
          <a:ln w="9525">
            <a:noFill/>
          </a:ln>
        </p:spPr>
      </p:pic>
      <p:pic>
        <p:nvPicPr>
          <p:cNvPr id="314" name="Picture 40" descr="лист 1"/>
          <p:cNvPicPr/>
          <p:nvPr/>
        </p:nvPicPr>
        <p:blipFill>
          <a:blip r:embed="rId4"/>
          <a:stretch/>
        </p:blipFill>
        <p:spPr>
          <a:xfrm>
            <a:off x="1979640" y="2421000"/>
            <a:ext cx="790200" cy="674280"/>
          </a:xfrm>
          <a:prstGeom prst="rect">
            <a:avLst/>
          </a:prstGeom>
          <a:ln w="9525">
            <a:noFill/>
          </a:ln>
        </p:spPr>
      </p:pic>
      <p:pic>
        <p:nvPicPr>
          <p:cNvPr id="315" name="Picture 43" descr="лист 1"/>
          <p:cNvPicPr/>
          <p:nvPr/>
        </p:nvPicPr>
        <p:blipFill>
          <a:blip r:embed="rId5"/>
          <a:stretch/>
        </p:blipFill>
        <p:spPr>
          <a:xfrm>
            <a:off x="2124000" y="5516640"/>
            <a:ext cx="936360" cy="799920"/>
          </a:xfrm>
          <a:prstGeom prst="rect">
            <a:avLst/>
          </a:prstGeom>
          <a:ln w="9525">
            <a:noFill/>
          </a:ln>
        </p:spPr>
      </p:pic>
      <p:pic>
        <p:nvPicPr>
          <p:cNvPr id="316" name="Picture 41" descr="лист 1"/>
          <p:cNvPicPr/>
          <p:nvPr/>
        </p:nvPicPr>
        <p:blipFill>
          <a:blip r:embed="rId6"/>
          <a:stretch/>
        </p:blipFill>
        <p:spPr>
          <a:xfrm>
            <a:off x="5580000" y="5733360"/>
            <a:ext cx="1079280" cy="920520"/>
          </a:xfrm>
          <a:prstGeom prst="rect">
            <a:avLst/>
          </a:prstGeom>
          <a:ln w="9525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7"/>
          <a:stretch/>
        </p:blipFill>
        <p:spPr>
          <a:xfrm>
            <a:off x="6660360" y="3429000"/>
            <a:ext cx="2195280" cy="2708280"/>
          </a:xfrm>
          <a:prstGeom prst="rect">
            <a:avLst/>
          </a:prstGeom>
          <a:ln w="9525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8"/>
          <a:stretch/>
        </p:blipFill>
        <p:spPr>
          <a:xfrm>
            <a:off x="6876720" y="0"/>
            <a:ext cx="1943280" cy="2636640"/>
          </a:xfrm>
          <a:prstGeom prst="rect">
            <a:avLst/>
          </a:prstGeom>
          <a:ln w="9525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9"/>
          <a:stretch/>
        </p:blipFill>
        <p:spPr>
          <a:xfrm>
            <a:off x="323640" y="3501000"/>
            <a:ext cx="1762920" cy="2563920"/>
          </a:xfrm>
          <a:prstGeom prst="rect">
            <a:avLst/>
          </a:prstGeom>
          <a:ln w="9525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10"/>
          <a:stretch/>
        </p:blipFill>
        <p:spPr>
          <a:xfrm>
            <a:off x="144360" y="144360"/>
            <a:ext cx="1978920" cy="2563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5"/>
          <p:cNvSpPr/>
          <p:nvPr/>
        </p:nvSpPr>
        <p:spPr>
          <a:xfrm>
            <a:off x="3924360" y="2852640"/>
            <a:ext cx="489564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2556000" y="5445000"/>
            <a:ext cx="460800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3348000" y="2421000"/>
            <a:ext cx="4895640" cy="360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3924360" y="3357720"/>
            <a:ext cx="489564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32000" y="4005360"/>
            <a:ext cx="489564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2050920" y="4941720"/>
            <a:ext cx="496836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120" cy="48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79280" y="765000"/>
            <a:ext cx="338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9280" y="189000"/>
            <a:ext cx="287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556000" y="189000"/>
            <a:ext cx="2808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5580000" y="260280"/>
            <a:ext cx="3312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3708360" y="765000"/>
            <a:ext cx="28080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7164360" y="836640"/>
            <a:ext cx="1439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411280" y="1341360"/>
            <a:ext cx="352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7452360" y="4509000"/>
            <a:ext cx="1691280" cy="2120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9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4243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chemeClr val="accent2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chemeClr val="accent2"/>
                </a:solidFill>
                <a:latin typeface="Comic Sans MS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697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t]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7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id]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3419640" y="1557360"/>
            <a:ext cx="2015640" cy="471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8" descr="лист"/>
          <p:cNvPicPr/>
          <p:nvPr/>
        </p:nvPicPr>
        <p:blipFill>
          <a:blip r:embed="rId1"/>
          <a:stretch/>
        </p:blipFill>
        <p:spPr>
          <a:xfrm>
            <a:off x="468360" y="189000"/>
            <a:ext cx="1499760" cy="1296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Картинки по запросу скачать картинки эльфы"/>
          <p:cNvPicPr/>
          <p:nvPr/>
        </p:nvPicPr>
        <p:blipFill>
          <a:blip r:embed="rId2"/>
          <a:stretch/>
        </p:blipFill>
        <p:spPr>
          <a:xfrm>
            <a:off x="6228360" y="5085360"/>
            <a:ext cx="2520000" cy="1484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Картинки по запросу скачать картинки эльфы"/>
          <p:cNvPicPr/>
          <p:nvPr/>
        </p:nvPicPr>
        <p:blipFill>
          <a:blip r:embed="rId3"/>
          <a:stretch/>
        </p:blipFill>
        <p:spPr>
          <a:xfrm>
            <a:off x="755640" y="5085360"/>
            <a:ext cx="2520000" cy="17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корзина"/>
          <p:cNvPicPr/>
          <p:nvPr/>
        </p:nvPicPr>
        <p:blipFill>
          <a:blip r:embed="rId1"/>
          <a:stretch/>
        </p:blipFill>
        <p:spPr>
          <a:xfrm>
            <a:off x="179280" y="3860640"/>
            <a:ext cx="2115720" cy="2447640"/>
          </a:xfrm>
          <a:prstGeom prst="rect">
            <a:avLst/>
          </a:prstGeom>
          <a:ln w="9525">
            <a:noFill/>
          </a:ln>
        </p:spPr>
      </p:pic>
      <p:pic>
        <p:nvPicPr>
          <p:cNvPr id="346" name="Picture 9" descr="корзина"/>
          <p:cNvPicPr/>
          <p:nvPr/>
        </p:nvPicPr>
        <p:blipFill>
          <a:blip r:embed="rId2"/>
          <a:stretch/>
        </p:blipFill>
        <p:spPr>
          <a:xfrm>
            <a:off x="3132000" y="3429000"/>
            <a:ext cx="2177640" cy="2518920"/>
          </a:xfrm>
          <a:prstGeom prst="rect">
            <a:avLst/>
          </a:prstGeom>
          <a:ln w="9525">
            <a:noFill/>
          </a:ln>
        </p:spPr>
      </p:pic>
      <p:pic>
        <p:nvPicPr>
          <p:cNvPr id="347" name="Picture 6" descr="корзина"/>
          <p:cNvPicPr/>
          <p:nvPr/>
        </p:nvPicPr>
        <p:blipFill>
          <a:blip r:embed="rId3"/>
          <a:stretch/>
        </p:blipFill>
        <p:spPr>
          <a:xfrm>
            <a:off x="6588000" y="3933720"/>
            <a:ext cx="2115720" cy="2447640"/>
          </a:xfrm>
          <a:prstGeom prst="rect">
            <a:avLst/>
          </a:prstGeom>
          <a:ln w="9525">
            <a:noFill/>
          </a:ln>
        </p:spPr>
      </p:pic>
      <p:sp>
        <p:nvSpPr>
          <p:cNvPr id="348" name="Text Box 14"/>
          <p:cNvSpPr/>
          <p:nvPr/>
        </p:nvSpPr>
        <p:spPr>
          <a:xfrm>
            <a:off x="826920" y="5445000"/>
            <a:ext cx="718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3780000" y="5084640"/>
            <a:ext cx="863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7093080" y="5516640"/>
            <a:ext cx="1007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250920" y="333360"/>
            <a:ext cx="151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2"/>
          <p:cNvSpPr/>
          <p:nvPr/>
        </p:nvSpPr>
        <p:spPr>
          <a:xfrm>
            <a:off x="2484360" y="981000"/>
            <a:ext cx="1294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324000" y="1125360"/>
            <a:ext cx="1510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ska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4"/>
          <p:cNvSpPr/>
          <p:nvPr/>
        </p:nvSpPr>
        <p:spPr>
          <a:xfrm>
            <a:off x="1403280" y="1628640"/>
            <a:ext cx="158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walk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5"/>
          <p:cNvSpPr/>
          <p:nvPr/>
        </p:nvSpPr>
        <p:spPr>
          <a:xfrm>
            <a:off x="2411280" y="260280"/>
            <a:ext cx="1655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learn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6"/>
          <p:cNvSpPr/>
          <p:nvPr/>
        </p:nvSpPr>
        <p:spPr>
          <a:xfrm>
            <a:off x="3492360" y="1700280"/>
            <a:ext cx="158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wan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>
            <a:off x="395280" y="2349360"/>
            <a:ext cx="1439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talk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2195640" y="2276640"/>
            <a:ext cx="1223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tri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4572000" y="404640"/>
            <a:ext cx="2087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collec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4932360" y="1197000"/>
            <a:ext cx="1655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finish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7020000" y="333360"/>
            <a:ext cx="107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cri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2"/>
          <p:cNvSpPr/>
          <p:nvPr/>
        </p:nvSpPr>
        <p:spPr>
          <a:xfrm>
            <a:off x="7164360" y="981000"/>
            <a:ext cx="1800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pain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3"/>
          <p:cNvSpPr/>
          <p:nvPr/>
        </p:nvSpPr>
        <p:spPr>
          <a:xfrm>
            <a:off x="6804000" y="1773360"/>
            <a:ext cx="158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look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4"/>
          <p:cNvSpPr/>
          <p:nvPr/>
        </p:nvSpPr>
        <p:spPr>
          <a:xfrm>
            <a:off x="4067280" y="2276640"/>
            <a:ext cx="151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smi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5"/>
          <p:cNvSpPr/>
          <p:nvPr/>
        </p:nvSpPr>
        <p:spPr>
          <a:xfrm>
            <a:off x="6372360" y="2492280"/>
            <a:ext cx="151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nee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2"/>
          <p:cNvSpPr/>
          <p:nvPr/>
        </p:nvSpPr>
        <p:spPr>
          <a:xfrm>
            <a:off x="2123640" y="5980680"/>
            <a:ext cx="47559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/>
                </a:solidFill>
                <a:latin typeface="Comic Sans MS"/>
              </a:rPr>
              <a:t>Regular verb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8066E-006 L 0.09861 0.57529 E">
                                      <p:cBhvr>
                                        <p:cTn id="12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42193E-006 L -0.35035 0.56465 E">
                                      <p:cBhvr>
                                        <p:cTn id="1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51839E-006 L 0.12605 0.45986 E">
                                      <p:cBhvr>
                                        <p:cTn id="1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1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18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1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95258E-006 L 0.0474 0.31274 E">
                                      <p:cBhvr>
                                        <p:cTn id="2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28869E-006 L 0.14584 0.28152 E">
                                      <p:cBhvr>
                                        <p:cTn id="2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2195E-006 L -0.06684 0.27296 E">
                                      <p:cBhvr>
                                        <p:cTn id="2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delay="0" evt="onClick">
                    <p:tgtEl>
                      <p:spTgt spid="368"/>
                    </p:tgtEl>
                  </p:cond>
                </p:stCondLst>
                <p:childTnLst>
                  <p:par>
                    <p:cTn id="254" fill="hold">
                      <p:stCondLst>
                        <p:cond delay="0"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7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368"/>
                </p:tgtEl>
              </p:cMediaNode>
            </p:video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  <Words>208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Пользователь</cp:lastModifiedBy>
  <dcterms:modified xsi:type="dcterms:W3CDTF">2020-04-12T13:07:54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11</vt:r8>
  </property>
</Properties>
</file>