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B8A-3DE6-48F3-B0C4-D290F268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B30-F7E9-46C4-9F46-6B3CFCF8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657-F0F7-4DB5-BBB5-7196D718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E07-4DB8-42F2-A661-1CD3F0A7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0E7B-C35A-4DD1-BA3D-9DC5BE25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F11A-3C1F-4B61-8895-F0BE696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F889-EA95-4079-8CE7-73A46368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DEC4-5190-4490-B576-0D016605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20C0-593B-43D2-A535-CB3D8ED5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0872-6817-4A5A-87E5-985249BA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505B-D389-47B9-9783-AB57D46D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9D1-F260-4081-9649-20B3555F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AAAD-4EB1-4BF0-9EFB-A6B36535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3D92-9A10-4DE3-BD72-54A4E8AC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2D03-E9DB-4FE6-897A-FC764899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8C0B-A529-40FC-ACAF-6DD52C8F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7327-3E1C-4B2C-B93A-2980C420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2DB-BBC4-4EA6-A832-E53AB938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0FC-ED16-4A67-BACA-972F462D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EC2-A40F-4CEB-8281-53739178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293-191B-41FF-AC85-4CF8B99B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C44-BC64-4388-8278-8AB39042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BF7-F562-473F-BD33-14105FD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ED1-102C-44BE-80F6-098825B6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3BBDEB-F00C-4751-A4D3-FB3CE17E143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63D5E9-DA46-41B6-8395-8004AB1FF82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3440" y="221040"/>
            <a:ext cx="7955280" cy="176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АЗВИТИЕ БЫСТРОТЫ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C:\Users\Завкаф\Desktop\документы\спорт\004_.jpg"/>
          <p:cNvPicPr/>
          <p:nvPr/>
        </p:nvPicPr>
        <p:blipFill>
          <a:blip r:embed="rId1"/>
          <a:stretch/>
        </p:blipFill>
        <p:spPr>
          <a:xfrm>
            <a:off x="343440" y="3573000"/>
            <a:ext cx="4320000" cy="2880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4716000" y="3789000"/>
            <a:ext cx="3600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нитель: Лукина Анна Павл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ПСО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одические правила  развития сложных двигательных реакци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7354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владение технико-тактическими действиям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владение умением прекращать начатое действие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Взаимосочетание моторного компонента и сигнального раздражител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Изменение скорости движения объекта  от умеренной до максимально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Овладение умением реагировать на объект, появляющийся неожиданно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едства развития быстрот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882800"/>
            <a:ext cx="8064360" cy="464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Подвижные и спортивные игры по упрощенным правила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Эстафеты;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Бег с утяжелителям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Силовые упражнен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d0d0d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Упражнения на растягивание мышц и связок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г, плавание с максимальной или вариативной частотой движен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Завкаф\Desktop\документы\Новая папка (2)\sport5.gif"/>
          <p:cNvPicPr/>
          <p:nvPr/>
        </p:nvPicPr>
        <p:blipFill>
          <a:blip r:embed="rId1"/>
          <a:stretch/>
        </p:blipFill>
        <p:spPr>
          <a:xfrm>
            <a:off x="5724000" y="3285000"/>
            <a:ext cx="288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редства развития быстрот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640" y="2061000"/>
            <a:ext cx="8434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нировка «стартового разгона»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ения с резким изменением темпа, длины шага и направления движен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г, плавание с ускорением или  преодоление короткого отрезка с максимальной скоростью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Завкаф\Desktop\Новая папка (2)\документы\картинки к лекции\sport014.gif"/>
          <p:cNvPicPr/>
          <p:nvPr/>
        </p:nvPicPr>
        <p:blipFill>
          <a:blip r:embed="rId1"/>
          <a:stretch/>
        </p:blipFill>
        <p:spPr>
          <a:xfrm>
            <a:off x="4420440" y="4509000"/>
            <a:ext cx="2161800" cy="2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640" y="267480"/>
            <a:ext cx="84348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етодические ошибки при развитии быстроты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640" y="1556640"/>
            <a:ext cx="705636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ение скоростных упражнений в холодную погоду, на скользкой или неровной поверхност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кое увеличение объема скоростных упражнени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достаточное усвоение техники скоростных упражнени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грузка отдельных звеньев опорно-двигательного аппарат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ачественная разминк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ение скоростных упражнений на фоне физической или координационной усталости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Завкаф\Desktop\документы\Новая папка (2)\7.gif"/>
          <p:cNvPicPr/>
          <p:nvPr/>
        </p:nvPicPr>
        <p:blipFill>
          <a:blip r:embed="rId1"/>
          <a:stretch/>
        </p:blipFill>
        <p:spPr>
          <a:xfrm>
            <a:off x="7524360" y="4869000"/>
            <a:ext cx="1223640" cy="165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7640" y="213300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7640" y="1268640"/>
            <a:ext cx="8229240" cy="33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ля обозначения скоростных возможностей человека используется термин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быстрота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C:\Users\Завкаф\Desktop\документы\Новая папка (2)\30.gif"/>
          <p:cNvPicPr/>
          <p:nvPr/>
        </p:nvPicPr>
        <p:blipFill>
          <a:blip r:embed="rId1"/>
          <a:stretch/>
        </p:blipFill>
        <p:spPr>
          <a:xfrm>
            <a:off x="4272120" y="3087000"/>
            <a:ext cx="5997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418644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ЫСТРОТ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95640" y="1556640"/>
            <a:ext cx="5976360" cy="46080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64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Способность человека к срочному реагированию на раздражители и к высокой скорости движений, которые выполняются при отсутствии значительного внешнего сопроти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Завкаф\Desktop\документы\Новая папка (2)\CHOCKS.GIF"/>
          <p:cNvPicPr/>
          <p:nvPr/>
        </p:nvPicPr>
        <p:blipFill>
          <a:blip r:embed="rId1"/>
          <a:stretch/>
        </p:blipFill>
        <p:spPr>
          <a:xfrm>
            <a:off x="624960" y="4725000"/>
            <a:ext cx="20026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акторы, обуславливающие проявление быстр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7642800" cy="46800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уктура мышц,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имышечная и межмышечная координац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ижность нервных процесс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щность креатинфосфатного источника энергии и буферной системы мышц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вень развития скоростной и взрывной силы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ация волевых усили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растная динамика развития быстрот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2133000"/>
            <a:ext cx="7704360" cy="4320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аиболее благоприятный период для развития быстроты двигательных реакций  – с 7-8 лет до 11-12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грессивное развитие быстроты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евушки  до 14-15 лет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Юноши до 15-16 лет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Завкаф\Desktop\документы\Новая папка (2)\sport077.gif"/>
          <p:cNvPicPr/>
          <p:nvPr/>
        </p:nvPicPr>
        <p:blipFill>
          <a:blip r:embed="rId1"/>
          <a:stretch/>
        </p:blipFill>
        <p:spPr>
          <a:xfrm>
            <a:off x="6224760" y="5085360"/>
            <a:ext cx="273960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ика развития быстр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7210800" cy="33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ростых двигательных реакци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сложных двигательных реакц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Завкаф\Desktop\документы\Новая папка (2)\sport102.gif"/>
          <p:cNvPicPr/>
          <p:nvPr/>
        </p:nvPicPr>
        <p:blipFill>
          <a:blip r:embed="rId1"/>
          <a:stretch/>
        </p:blipFill>
        <p:spPr>
          <a:xfrm>
            <a:off x="5148000" y="5301360"/>
            <a:ext cx="20664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7138800" cy="547236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стая двигательная реакция – способность максимально быстро отвечать двигательным действием на стандартный сигнал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24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етодические правила развития простых двигательных реакций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7272360" cy="4608000"/>
          </a:xfrm>
          <a:prstGeom prst="rect">
            <a:avLst/>
          </a:prstGeom>
          <a:solidFill>
            <a:schemeClr val="accent2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Реагирование выполнять с максимально возможной быстрото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онцентрировать внимание на быстром начале движения-ответ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ыполнять реагирования из разных исходных положений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зменять характер сигнального раздражителя и силу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(зрительный, слуховой)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Завкаф\Desktop\Новая папка (2)\документы\картинки к лекции\20.gif"/>
          <p:cNvPicPr/>
          <p:nvPr/>
        </p:nvPicPr>
        <p:blipFill>
          <a:blip r:embed="rId1"/>
          <a:stretch/>
        </p:blipFill>
        <p:spPr>
          <a:xfrm>
            <a:off x="6804360" y="5343480"/>
            <a:ext cx="330480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7480"/>
            <a:ext cx="8229240" cy="11448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жные двигательные реак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1640" y="1628640"/>
            <a:ext cx="403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мплексная согласованная деятельность нервной системы и опорно-двигательного аппарата на основе информации отдельных анализаторов, которая позволяет эффективно реагировать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Завкаф\Desktop\Новая папка (2)\Б картинки физиология\1309578477.jpg"/>
          <p:cNvPicPr/>
          <p:nvPr/>
        </p:nvPicPr>
        <p:blipFill>
          <a:blip r:embed="rId1"/>
          <a:stretch/>
        </p:blipFill>
        <p:spPr>
          <a:xfrm>
            <a:off x="4391640" y="2349000"/>
            <a:ext cx="475200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  <Words>357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7:57:01Z</dcterms:created>
  <dc:creator>Завкаф</dc:creator>
  <dc:description/>
  <dc:language>en-US</dc:language>
  <cp:lastModifiedBy>лукина</cp:lastModifiedBy>
  <dcterms:modified xsi:type="dcterms:W3CDTF">2020-04-18T20:37:38Z</dcterms:modified>
  <cp:revision>94</cp:revision>
  <dc:subject/>
  <dc:title>ФИЗИЧЕСКИЕ КА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