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388-E1E1-4C85-9C99-FBF63D31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E79-492C-49FE-A998-38626D57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6C7-00C9-4608-A631-469E4A7C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A18-E28B-42F0-94F5-48DFE979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ED81-D6EB-4CFE-836E-CCA28A32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E160-3B1E-4205-8D20-B545E829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94BE-D6CE-4BB7-BBEF-D8C3B6D3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899C-4566-4D40-98B2-8B38C9F5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71BC-801D-43AF-946B-549E2748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72E0-B67F-4366-A211-E39EDA7B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3791-C0A4-4C7A-B26D-D3AF62A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B88-3CA1-4B63-8841-530FAD85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FB47-7D03-4C32-AB0D-0F9964E6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46E4-1946-4258-AD16-53E4AA92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98D5-31B8-48E1-97AA-FA44A2F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7450-D397-41AC-8ED7-1FEAA222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0563-7CF7-400D-AC78-1237A47E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E49-D4C7-4141-9467-36795E5A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6F1-2522-4052-BF9B-FE9E8B7D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8FF-A0F4-41FF-A6BD-4A84E78A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ADE-377B-419A-B5CE-E102EACE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8FA-BAEB-4F55-8016-2709AFE3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E2E-DCDA-4A7E-BF8C-513F71D9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F12-AA15-4295-B6B3-72DF3806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82FBE3-E4F2-4198-AE97-7ABD6BDC6D8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67DC3B-D7A3-44B5-9E22-DEB38B5C524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3440" y="221040"/>
            <a:ext cx="7955280" cy="176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АЗВИТИЕ БЫСТРОТЫ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C:\Users\Завкаф\Desktop\документы\спорт\004_.jpg"/>
          <p:cNvPicPr/>
          <p:nvPr/>
        </p:nvPicPr>
        <p:blipFill>
          <a:blip r:embed="rId1"/>
          <a:stretch/>
        </p:blipFill>
        <p:spPr>
          <a:xfrm>
            <a:off x="343440" y="3573000"/>
            <a:ext cx="4320000" cy="2880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4716000" y="3789000"/>
            <a:ext cx="3600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нитель: Лукина Анна Павл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ПСО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одические правила  развития сложных двигательных реакци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7354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владение технико-тактическими действиям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владение умением прекращать начатое действие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заимосочетание моторного компонента и сигнального раздражител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Изменение скорости движения объекта  от умеренной до максимально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владение умением реагировать на объект, появляющийся неожиданно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едства развития быстрот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882800"/>
            <a:ext cx="8064360" cy="464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Подвижные и спортивные игры по упрощенным правила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Эстафеты;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ег с утяжелителям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Силовые упражнен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Упражнения на растягивание мышц и связок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г, плавание с максимальной или вариативной частотой движен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Завкаф\Desktop\документы\Новая папка (2)\sport5.gif"/>
          <p:cNvPicPr/>
          <p:nvPr/>
        </p:nvPicPr>
        <p:blipFill>
          <a:blip r:embed="rId1"/>
          <a:stretch/>
        </p:blipFill>
        <p:spPr>
          <a:xfrm>
            <a:off x="5724000" y="3285000"/>
            <a:ext cx="288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едства развития быстрот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640" y="2061000"/>
            <a:ext cx="843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нировка «стартового разгона»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с резким изменением темпа, длины шага и направления движен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г, плавание с ускорением или  преодоление короткого отрезка с максимальной скоростью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Завкаф\Desktop\Новая папка (2)\документы\картинки к лекции\sport014.gif"/>
          <p:cNvPicPr/>
          <p:nvPr/>
        </p:nvPicPr>
        <p:blipFill>
          <a:blip r:embed="rId1"/>
          <a:stretch/>
        </p:blipFill>
        <p:spPr>
          <a:xfrm>
            <a:off x="4420440" y="4509000"/>
            <a:ext cx="2161800" cy="2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640" y="267480"/>
            <a:ext cx="84348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етодические ошибки при развитии быстроты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640" y="1556640"/>
            <a:ext cx="705636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ение скоростных упражнений в холодную погоду, на скользкой или неровной поверхно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кое увеличение объема скоростных упражнени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очное усвоение техники скоростных упражнени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грузка отдельных звеньев опорно-двигательного аппарат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ачественная разминк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ение скоростных упражнений на фоне физической или координационной усталости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Завкаф\Desktop\документы\Новая папка (2)\7.gif"/>
          <p:cNvPicPr/>
          <p:nvPr/>
        </p:nvPicPr>
        <p:blipFill>
          <a:blip r:embed="rId1"/>
          <a:stretch/>
        </p:blipFill>
        <p:spPr>
          <a:xfrm>
            <a:off x="7524360" y="4869000"/>
            <a:ext cx="1223640" cy="16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7640" y="213300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7640" y="1268640"/>
            <a:ext cx="8229240" cy="33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ля обозначения скоростных возможностей человека используется термин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быстрот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C:\Users\Завкаф\Desktop\документы\Новая папка (2)\30.gif"/>
          <p:cNvPicPr/>
          <p:nvPr/>
        </p:nvPicPr>
        <p:blipFill>
          <a:blip r:embed="rId1"/>
          <a:stretch/>
        </p:blipFill>
        <p:spPr>
          <a:xfrm>
            <a:off x="4272120" y="3087000"/>
            <a:ext cx="5997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418644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ЫСТРОТ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95640" y="1556640"/>
            <a:ext cx="5976360" cy="46080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64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Способность человека к срочному реагированию на раздражители и к высокой скорости движений, которые выполняются при отсутствии значительного внешнего сопроти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Завкаф\Desktop\документы\Новая папка (2)\CHOCKS.GIF"/>
          <p:cNvPicPr/>
          <p:nvPr/>
        </p:nvPicPr>
        <p:blipFill>
          <a:blip r:embed="rId1"/>
          <a:stretch/>
        </p:blipFill>
        <p:spPr>
          <a:xfrm>
            <a:off x="624960" y="4725000"/>
            <a:ext cx="20026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акторы, обуславливающие проявление быстр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7642800" cy="46800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уктура мышц,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имышечная и межмышечная координац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ижность нервных процесс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щность креатинфосфатного источника энергии и буферной системы мышц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вень развития скоростной и взрывной сил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ация волевых усили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растная динамика развития быстрот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2133000"/>
            <a:ext cx="7704360" cy="4320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аиболее благоприятный период для развития быстроты двигательных реакций  – с 7-8 лет до 11-12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грессивное развитие быстроты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евушки  до 14-15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Юноши до 15-16 лет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Завкаф\Desktop\документы\Новая папка (2)\sport077.gif"/>
          <p:cNvPicPr/>
          <p:nvPr/>
        </p:nvPicPr>
        <p:blipFill>
          <a:blip r:embed="rId1"/>
          <a:stretch/>
        </p:blipFill>
        <p:spPr>
          <a:xfrm>
            <a:off x="6224760" y="5085360"/>
            <a:ext cx="273960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ика развития быстр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7210800" cy="33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ростых двигательных реакци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сложных двигательных реакц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Завкаф\Desktop\документы\Новая папка (2)\sport102.gif"/>
          <p:cNvPicPr/>
          <p:nvPr/>
        </p:nvPicPr>
        <p:blipFill>
          <a:blip r:embed="rId1"/>
          <a:stretch/>
        </p:blipFill>
        <p:spPr>
          <a:xfrm>
            <a:off x="5148000" y="5301360"/>
            <a:ext cx="20664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7138800" cy="547236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стая двигательная реакция – способность максимально быстро отвечать двигательным действием на стандартный сигнал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24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етодические правила развития простых двигательных реакций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7272360" cy="46080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Реагирование выполнять с максимально возможной быстрото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онцентрировать внимание на быстром начале движения-ответ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ыполнять реагирования из разных исходных положени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зменять характер сигнального раздражителя и силу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(зрительный, слуховой)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Завкаф\Desktop\Новая папка (2)\документы\картинки к лекции\20.gif"/>
          <p:cNvPicPr/>
          <p:nvPr/>
        </p:nvPicPr>
        <p:blipFill>
          <a:blip r:embed="rId1"/>
          <a:stretch/>
        </p:blipFill>
        <p:spPr>
          <a:xfrm>
            <a:off x="6804360" y="5343480"/>
            <a:ext cx="330480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1448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жные двигательные реак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1640" y="1628640"/>
            <a:ext cx="403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мплексная согласованная деятельность нервной системы и опорно-двигательного аппарата на основе информации отдельных анализаторов, которая позволяет эффективно реагировать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Завкаф\Desktop\Новая папка (2)\Б картинки физиология\1309578477.jpg"/>
          <p:cNvPicPr/>
          <p:nvPr/>
        </p:nvPicPr>
        <p:blipFill>
          <a:blip r:embed="rId1"/>
          <a:stretch/>
        </p:blipFill>
        <p:spPr>
          <a:xfrm>
            <a:off x="4391640" y="2349000"/>
            <a:ext cx="475200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  <Words>357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7:57:01Z</dcterms:created>
  <dc:creator>Завкаф</dc:creator>
  <dc:description/>
  <dc:language>en-US</dc:language>
  <cp:lastModifiedBy>лукина</cp:lastModifiedBy>
  <dcterms:modified xsi:type="dcterms:W3CDTF">2020-04-18T20:37:38Z</dcterms:modified>
  <cp:revision>94</cp:revision>
  <dc:subject/>
  <dc:title>ФИЗИЧЕСКИЕ КА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