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1A2-6203-44B1-83C8-EFA5A371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E62-3FC5-406E-9EAE-9D019CBA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206-BC2B-4AD4-A4D6-B1C976E9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D74-1346-4D91-9807-002185AA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B397-29DC-4CFA-B9F8-34182EDA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2DB3-51CC-4EEB-A536-E64ECBFA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98C0-2D06-482D-A988-F32C8239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A174-4632-4C81-9B39-B3D3E64B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9C7A-8AE8-4C69-AD19-29BA3E00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F000-3180-4F36-BFA2-15407038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A7C3-D062-4082-8B62-711E0A1E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A11-5891-4D4A-8FF6-93939FDF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1C63-FCAE-4A52-A00D-7B6A0070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607C-40C7-4F31-9B12-AAF2364D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8648-251F-4BB1-BFBA-52E42118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AB43-D870-4A5E-9D6A-36204DB1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AEE3-7678-421D-A428-0C68568D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D86-D67F-4572-A595-AE890E6C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482-F919-4DC4-84DB-037C5849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50A-5683-48C3-9A57-2020420E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AB0-1CC1-48F7-BB2F-5D02E06D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C72-E8B4-4529-8EDB-F6106CF5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383-2830-4E49-A08F-5269F9CE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AF7-A680-4A5C-A292-D32C5C9D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20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6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2" name="Rectangle 8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4880" y="2099880"/>
            <a:ext cx="8825400" cy="267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 rot="5400000">
            <a:off x="10159200" y="179208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 rot="5400000">
            <a:off x="8952120" y="322776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14B2FB8-E6CF-4C16-AF80-C95C7B85A4C8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57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2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10653120" y="639180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chemeClr val="accent1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61240" y="639180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13CBA5A-ADFC-4E5C-A444-CCA17D1E420F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448200" y="469080"/>
            <a:ext cx="11270160" cy="5902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46720" y="282960"/>
            <a:ext cx="8031240" cy="137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Развитие</a:t>
            </a:r>
            <a:r>
              <a:rPr b="0" lang="ru-RU" sz="5400" spc="-1" strike="noStrike">
                <a:solidFill>
                  <a:srgbClr val="ebebeb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быстроты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21800" y="5306760"/>
            <a:ext cx="882540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 cap="all">
                <a:solidFill>
                  <a:srgbClr val="ffffff"/>
                </a:solidFill>
                <a:latin typeface="Century Gothic"/>
              </a:rPr>
              <a:t>Руководитель: Крестьянинов А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 cap="all">
                <a:solidFill>
                  <a:srgbClr val="ffffff"/>
                </a:solidFill>
                <a:latin typeface="Century Gothic"/>
              </a:rPr>
              <a:t>Исполнитель: Николина е.в., 4псо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Средства для развития быстроты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560" y="2270160"/>
            <a:ext cx="5678640" cy="44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8480" indent="-3484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редства для развития быстроты могут быть самыми разнообразными. Для многих профессий созданы специальные электронные тренажерные системы, работа на которых одновременно совершенствует и специфические формы проявления быстроты. В процессе прикладной физической подготовки, для развития быстроты и скорости движений, могут быть использованы разнообразные упражнения. Отличные результаты достигаются при занятиях борьбой (вольной, классической, дзю-до, самбо), боксом, восточными видами единоборств, спортивными играми (теннис, настольный теннис, бадминтон, волейбол, баскетбол, ручной мяч, хоккей), легкой атлетикой, фехтованием и многими другими видами спорт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5812560" y="2418480"/>
            <a:ext cx="6262200" cy="41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7" name="Picture 2" descr="https://avatars.mds.yandex.net/get-pdb/1751404/3779ecf5-f296-4fbc-b6a8-48731b66f0b9/s1200?webp=false"/>
          <p:cNvPicPr/>
          <p:nvPr/>
        </p:nvPicPr>
        <p:blipFill>
          <a:blip r:embed="rId1"/>
          <a:stretch/>
        </p:blipFill>
        <p:spPr>
          <a:xfrm>
            <a:off x="0" y="0"/>
            <a:ext cx="12191760" cy="73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Скоростные способности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720" y="2410920"/>
            <a:ext cx="46317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д скоростными способностями понимают возможности человека, обеспечивающие ему выполнение двигательных действий в минимальный для данных условий промежуток времени. Различают элементарные и комплексные формы проявления скоростных способностей. К элементарным формам относятся быстрота реакции, скорость одиночного движения, частота (темп) движений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6417000" y="2274120"/>
            <a:ext cx="4210560" cy="42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Сложные двигательные реакции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5080" y="2591640"/>
            <a:ext cx="747144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ложные двигательные реакции встречаются в видах спорта, характеризующихся постоянной и внезапной сменой ситуации действий (спортивные игры, единоборства, горнолыжный спорт и т.д.). Большинство сложных двигательных реакций в физическом воспитании и спорте — это реакции «выбора» (когда из нескольких возможных действий требуется мгновенно выбрать одно, адекватное данной ситуации). В ряде видов спорта такие реакции одновременно являются реакциями на движущийся объект (мяч, шайба и т.п.). Временной интервал, затраченный на выполнение одиночного движения (например, удар в боксе), тоже характеризует скоростные способности. Частота, или темп, движений — это число движений в единицу времени (например, число беговых шагов за 10 с) 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7846920" y="2591640"/>
            <a:ext cx="41385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Проявление форм быстроты и скорости движений зависит от целого ряда факторов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200" y="2399040"/>
            <a:ext cx="70858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стояния центральной нервной системы и нервно-мышечного аппарата человек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рфологических особенностей мышечной ткани, ее композиции (т.е. от соотношения быстрых и медленных волокон)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илы мышц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особности мышц быстро переходить из напряженного состояния в расслабленное; э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ергетических запасов в мышце амплитуды движений, т.е. от степени подвижности в суставах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особности к координации движений при скоростной работе; биологического ритма жизнедеятельности организм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раста и пол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коростных природных способностей человека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" name="Picture 2" descr="https://avatars.mds.yandex.net/get-zen_doc/50129/pub_5bf7bf874c5b6c00a9e273aa_5bf7c2355184cc00a9904a42/scale_1200"/>
          <p:cNvPicPr/>
          <p:nvPr/>
        </p:nvPicPr>
        <p:blipFill>
          <a:blip r:embed="rId1"/>
          <a:stretch/>
        </p:blipFill>
        <p:spPr>
          <a:xfrm>
            <a:off x="7722720" y="2399040"/>
            <a:ext cx="4280760" cy="42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34640" y="937440"/>
            <a:ext cx="99619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Быстрота реакции зависит от скорости протекания следующих пяти фаз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120" y="2302560"/>
            <a:ext cx="709848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никновения возбуждения в рецепторе (зрительном, слуховом, тактильном и др.), участвующем в восприятии сигнал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дачи возбуждения в центральную нервную систему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хода сигнальной информации по нервным путям, ее анализа и формирования эфферентного сигнал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оведения эфферентного сигнала от центральной нервной системы к мышце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буждения мышцы и появления в ней механизма активности. Максимальная частота движений зависит от скорости перехода двигательных нервных центров из состояния возбуждения в состояние торможения и обратно, т.е. она зависит от лабильности нервных процессов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 быстроту, проявляемую в целостных двигательных действиях, влияют: частота нервно-мышечной импульсации, скорость перехода мышц из фазы напряжения в фазу расслабления, темп чередования этих фаз, степень включения в процесс движения быстро сокращающихся мышечных волокон и их синхронная работа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7194960" y="2446920"/>
            <a:ext cx="47415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09920" y="4287960"/>
            <a:ext cx="1008864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соответствии с современными представлениями, под быстротой понимается специфическая двигательная способность человека к экстренным двигательным реакциям и высокой скорости движений, выполняемых при отсутствии значительного внешнего сопротивления, сложной координации работы мышц, и не требующих больших энерготрат. Физиологический механизм проявления быстроты, связанный, прежде всего, со скоростными характеристиками нервных процессов, представляется как многофункциональное свойство центральной нервной системы (ЦНС) и периферического нервно-мышечного аппарата (НМА)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2630880" y="661680"/>
            <a:ext cx="6729480" cy="347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Различают несколько элементарных форм проявления быстрот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2960" y="226656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. Быстроту простой и сложной двигательных реакций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. Быстроту одиночного движения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. Быстроту сложного (многосуставного) движения, связанного с изменением положения тела в пространстве или с переключением с одного действия на другое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. Частоту ненагруженных движений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7702560" y="3735720"/>
            <a:ext cx="346248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Упражнения для развития быстрот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1680" y="2250000"/>
            <a:ext cx="11140920" cy="460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. Бег со старта из различных положений, в том числе из положения сидя, лежа лицом вниз или вверх, в упоре лежа, лежа головой в противоположную сторону (относительно направления движения). Дозировка: [5-6 раз по 10-15 метров с интервалом в 1,0-1,5 минуты] х 3-4 серии через 2-3 минуты отдыха. Эти упражнения рекомендуется выполнять по сигналу, в группе или самостоятельно, но, желательно, с контролем времен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. Бег с максимальной скоростью на 30-60 метров. Дозировка: 3-5 раз х 1-3 серии. Отдых до полного восстановления дыхания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. Бег с предельной скоростью с «ходу»: 10-30 метров с 30-метрового разбега. Выполнять, как и предыдущее упражнение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. Быстрый бег под уклон (до 15 градусов) с установкой на достижение максимальной скорости и частоты движений на дистанции 10-30 метров с 30-метрового разбега. Дозировка: 3-5 раз х 1-2 сери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5. Передвижения в различных стойках вперед-назад, или вправо-влево или вверх-вниз. Дозировка: 2-3 серии через 1-2 минуты отдыха, который заполняется упражнениями на гибкость и расслабление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6. Передвижение на четвереньках с максимально возможной скоростью. Стараться выполнять в соревновательной форме, в эстафетах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7. Выполнение отдельных ударов рукой или ногой с максимальной скоростью в воздух или на снарядах. Для проверки своей быстроты можно использовать следующий прием: подвесить газетный лист и наносить по нему удары. Если скорость в финальной части удара достаточно высока, то газетный лист легко «протыкается» ударной частью руки или ноги. Дозировка: 3-5 серий по 5-10 одиночных ударов. При снижении скорости ударов выполнение упражнения следует прекратить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Упражнения для развития быстрот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7440" y="2370240"/>
            <a:ext cx="88254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нократные прыжки в длину с места, с подхода или с разбега. Дозировка: [5-6 прыжков] х 2-4 сери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ногократные прыжки (тройной, пятикратный, десятикратный) одной или двумя ногами. Дозировка: [3-4 прыжка] х 2-3 сери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ыжки через равномерно расставленные легкоатлетические барьеры: [5-6 барьеров высотой 76-100 см] х 5-10 раз. Выполнять с установкой на «мгновенное» отталкивани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рыгивание с подставки высотой 30-60 см с последующим «мгновенным» отталкиванием в прыжке вверх или вперед. Это упражнение требует достаточно хорошей скоростно-силовой подготовленности. Поэтому, выполнять его надо после предварительной тренировки в прыжковых и спринтерских упражнениях. Дозировка: [5-8 прыжков] х 1-3 сери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теннисного мяча в цель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теннисного мяча на дальность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набивного мяча вверх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мелких камешков в море (озеро, реку, поле и т. п.) попеременно правой и левой рукой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Ион (конференц-зал)">
  <a:themeElements>
    <a:clrScheme name="Ион (конференц-зал)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 (конференц-зал)">
  <a:themeElements>
    <a:clrScheme name="Ион (конференц-зал)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 Boardroom</Template>
  <TotalTime>23</TotalTime>
  <Application>LibreOffice/7.4.7.2$Linux_X86_64 LibreOffice_project/40$Build-2</Application>
  <AppVersion>15.0000</AppVersion>
  <Words>1100</Words>
  <Paragraphs>48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8T09:44:10Z</dcterms:created>
  <dc:creator>Виталя</dc:creator>
  <dc:description/>
  <dc:language>en-US</dc:language>
  <cp:lastModifiedBy>Катя</cp:lastModifiedBy>
  <dcterms:modified xsi:type="dcterms:W3CDTF">2020-04-18T10:21:46Z</dcterms:modified>
  <cp:revision>10</cp:revision>
  <dc:subject/>
  <dc:title>Развитие быстр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