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1B0-57B2-44F9-BCA3-2404766D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971-D7AA-473E-806C-4328369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3F7-804B-4E6F-B665-8035E492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D34-5D63-4ECF-91F2-1DA61DA2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DE14-AAC9-4CE3-84DD-5B7FBBD9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C64-D8BF-49F1-9683-D247AB6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8416-B486-43D1-BC66-B68E6811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89B4-85E2-4664-A865-BE7426D5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2D5-841A-4A38-AD62-A48ABE2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A30-F885-485B-ADB1-7356D27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5F89-2568-4F9D-9DC1-66523BB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43E-E8A4-44C2-B37E-D567B4E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CC7-92B8-4A3E-84D5-8E4E8C50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E93-8182-4B9B-BD0D-7949AF50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BF7B-5CA7-48F7-8EA7-AE93C1DD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24B-54C2-4E84-8592-DB7DBA04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EAE-9760-4750-B017-043C225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1ED-D449-4526-879E-C81BBAD0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135-EAED-4577-B155-8BFB2F5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1EE-52DF-4C47-A174-1A1821F2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DCF-D216-4E55-99D4-A9F86F1E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F13-3919-4B70-81FC-00C0EF2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484-C708-4370-AF40-08C0AFE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1AA-4547-4F3F-A954-7EBA613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F2118B-9C22-4762-959F-17804D2DE2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2D58AA-04F7-4BBB-816E-708F7D850B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760" y="0"/>
            <a:ext cx="11848680" cy="66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Типы вопросов в английском языке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General (Yes/No-question)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бщий вопрос, который требует ответа «да/нет»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lternative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альтернативный , когда нужно выбрать вариант ответа)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Special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специальный; нужно дать конкретный ответ на вопрос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Who-question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</a:t>
            </a:r>
            <a:br>
              <a:rPr sz="3600"/>
            </a:b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Tag-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question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разделительный вопрос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( не так ли/не правда ли?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391400" y="5785560"/>
            <a:ext cx="1562400" cy="73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1048760" cy="23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-question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/what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rcRect l="0" t="20650" r="0" b="0"/>
          <a:stretch/>
        </p:blipFill>
        <p:spPr>
          <a:xfrm>
            <a:off x="0" y="1733400"/>
            <a:ext cx="5801400" cy="3452400"/>
          </a:xfrm>
          <a:prstGeom prst="rect">
            <a:avLst/>
          </a:prstGeom>
          <a:ln w="0">
            <a:noFill/>
          </a:ln>
        </p:spPr>
      </p:pic>
      <p:pic>
        <p:nvPicPr>
          <p:cNvPr id="108" name="Объект 3" descr=""/>
          <p:cNvPicPr/>
          <p:nvPr/>
        </p:nvPicPr>
        <p:blipFill>
          <a:blip r:embed="rId2"/>
          <a:stretch/>
        </p:blipFill>
        <p:spPr>
          <a:xfrm>
            <a:off x="6085440" y="2506680"/>
            <a:ext cx="5801400" cy="435096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право 7"/>
          <p:cNvSpPr/>
          <p:nvPr/>
        </p:nvSpPr>
        <p:spPr>
          <a:xfrm rot="19804800">
            <a:off x="4962240" y="3323520"/>
            <a:ext cx="1186200" cy="48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7d31"/>
          </a:solidFill>
          <a:ln>
            <a:solidFill>
              <a:srgbClr val="af5c24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960" y="365040"/>
            <a:ext cx="1095336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4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«хвостики» 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так ли?/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правда ли?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меняются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в зависимости от времени глагола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rcRect l="14394" t="0" r="0" b="27454"/>
          <a:stretch/>
        </p:blipFill>
        <p:spPr>
          <a:xfrm>
            <a:off x="5324400" y="501840"/>
            <a:ext cx="5894280" cy="374580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3" descr=""/>
          <p:cNvPicPr/>
          <p:nvPr/>
        </p:nvPicPr>
        <p:blipFill>
          <a:blip r:embed="rId2"/>
          <a:srcRect l="0" t="27686" r="23811" b="4181"/>
          <a:stretch/>
        </p:blipFill>
        <p:spPr>
          <a:xfrm>
            <a:off x="236160" y="3219480"/>
            <a:ext cx="5183280" cy="347616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5"/>
          <p:cNvSpPr/>
          <p:nvPr/>
        </p:nvSpPr>
        <p:spPr>
          <a:xfrm>
            <a:off x="2638440" y="2647800"/>
            <a:ext cx="399600" cy="752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847800"/>
            <a:ext cx="4990680" cy="42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При построении таких вопросов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ВАЖНО соблюдать правил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rcRect l="6006" t="83027" r="31221" b="3602"/>
          <a:stretch/>
        </p:blipFill>
        <p:spPr>
          <a:xfrm>
            <a:off x="5191200" y="480960"/>
            <a:ext cx="6294600" cy="120924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7"/>
          <p:cNvCxnSpPr/>
          <p:nvPr/>
        </p:nvCxnSpPr>
        <p:spPr>
          <a:xfrm flipV="1">
            <a:off x="4562280" y="1618920"/>
            <a:ext cx="1514880" cy="600480"/>
          </a:xfrm>
          <a:prstGeom prst="straightConnector1">
            <a:avLst/>
          </a:prstGeom>
          <a:ln w="57150">
            <a:solidFill>
              <a:srgbClr val="ffc000"/>
            </a:solidFill>
            <a:tailEnd len="med" type="triangle" w="med"/>
          </a:ln>
        </p:spPr>
      </p:cxnSp>
      <p:sp>
        <p:nvSpPr>
          <p:cNvPr id="117" name="Прямоугольник 11"/>
          <p:cNvSpPr/>
          <p:nvPr/>
        </p:nvSpPr>
        <p:spPr>
          <a:xfrm>
            <a:off x="5972040" y="2219400"/>
            <a:ext cx="5324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ЗАПОМНИТЕ: В «хвостиках» пишем тольк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СТОИМЕНИЯ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Sacha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asha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s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y parents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doctor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they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his c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nice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228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оварство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мотрите в оба, когда будете на следующей неделе выполнять тесты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Если вы строите предложение с местоимением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то  в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«хвостике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ем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rcRect l="5618" t="22619" r="-1551" b="6362"/>
          <a:stretch/>
        </p:blipFill>
        <p:spPr>
          <a:xfrm>
            <a:off x="1200240" y="2247480"/>
            <a:ext cx="8097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181080"/>
            <a:ext cx="10515240" cy="18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Смотрите, какая чудесная шпаргал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rcRect l="5915" t="12015" r="5830" b="9329"/>
          <a:stretch/>
        </p:blipFill>
        <p:spPr>
          <a:xfrm>
            <a:off x="838080" y="1380960"/>
            <a:ext cx="8578440" cy="5552640"/>
          </a:xfrm>
          <a:prstGeom prst="rect">
            <a:avLst/>
          </a:prstGeom>
          <a:ln w="0">
            <a:noFill/>
          </a:ln>
        </p:spPr>
      </p:pic>
      <p:sp>
        <p:nvSpPr>
          <p:cNvPr id="122" name="Рисунок 2"/>
          <p:cNvSpPr/>
          <p:nvPr/>
        </p:nvSpPr>
        <p:spPr>
          <a:xfrm>
            <a:off x="739800" y="906120"/>
            <a:ext cx="1371240" cy="12880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533520" y="149760"/>
            <a:ext cx="9932040" cy="65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General (Yes/No-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rcRect l="5394" t="32472" r="5059" b="18352"/>
          <a:stretch/>
        </p:blipFill>
        <p:spPr>
          <a:xfrm>
            <a:off x="93600" y="4524480"/>
            <a:ext cx="5195160" cy="226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4960" y="4524480"/>
            <a:ext cx="6472800" cy="22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будешь читать текст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2"/>
          <a:srcRect l="0" t="22619" r="0" b="13459"/>
          <a:stretch/>
        </p:blipFill>
        <p:spPr>
          <a:xfrm>
            <a:off x="4585680" y="466560"/>
            <a:ext cx="5801400" cy="278100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3" descr=""/>
          <p:cNvPicPr/>
          <p:nvPr/>
        </p:nvPicPr>
        <p:blipFill>
          <a:blip r:embed="rId3"/>
          <a:srcRect l="0" t="75154" r="0" b="9740"/>
          <a:stretch/>
        </p:blipFill>
        <p:spPr>
          <a:xfrm>
            <a:off x="4820040" y="3349800"/>
            <a:ext cx="58089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2692080" cy="279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186120" y="69840"/>
            <a:ext cx="9062280" cy="67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 Alternative 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4996" t="24588" r="8480" b="28346"/>
          <a:stretch/>
        </p:blipFill>
        <p:spPr>
          <a:xfrm>
            <a:off x="7172280" y="666720"/>
            <a:ext cx="5019480" cy="2047680"/>
          </a:xfrm>
          <a:prstGeom prst="rect">
            <a:avLst/>
          </a:prstGeom>
          <a:ln w="0">
            <a:noFill/>
          </a:ln>
        </p:spPr>
      </p:pic>
      <p:pic>
        <p:nvPicPr>
          <p:cNvPr id="95" name="Объект 3" descr=""/>
          <p:cNvPicPr/>
          <p:nvPr/>
        </p:nvPicPr>
        <p:blipFill>
          <a:blip r:embed="rId2"/>
          <a:stretch/>
        </p:blipFill>
        <p:spPr>
          <a:xfrm>
            <a:off x="147240" y="1660680"/>
            <a:ext cx="6929640" cy="51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11886840" cy="80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Alternative  q-n 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rcRect l="653" t="0" r="5405" b="25885"/>
          <a:stretch/>
        </p:blipFill>
        <p:spPr>
          <a:xfrm>
            <a:off x="1152360" y="979560"/>
            <a:ext cx="9718200" cy="57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5200" y="365040"/>
            <a:ext cx="110581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rcRect l="9335" t="21034" r="7850" b="30257"/>
          <a:stretch/>
        </p:blipFill>
        <p:spPr>
          <a:xfrm>
            <a:off x="4167000" y="695160"/>
            <a:ext cx="6683040" cy="294732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rcRect l="0" t="6625" r="4000" b="9591"/>
          <a:stretch/>
        </p:blipFill>
        <p:spPr>
          <a:xfrm>
            <a:off x="2808720" y="2514600"/>
            <a:ext cx="637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"/>
            <a:ext cx="1112472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труктура 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rcRect l="0" t="0" r="1234" b="10178"/>
          <a:stretch/>
        </p:blipFill>
        <p:spPr>
          <a:xfrm>
            <a:off x="1037880" y="1445040"/>
            <a:ext cx="9248760" cy="523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5"/>
          <p:cNvGraphicFramePr/>
          <p:nvPr/>
        </p:nvGraphicFramePr>
        <p:xfrm>
          <a:off x="1037880" y="719640"/>
          <a:ext cx="9248760" cy="794520"/>
        </p:xfrm>
        <a:graphic>
          <a:graphicData uri="http://schemas.openxmlformats.org/drawingml/2006/table">
            <a:tbl>
              <a:tblPr/>
              <a:tblGrid>
                <a:gridCol w="1305360"/>
                <a:gridCol w="1885680"/>
                <a:gridCol w="2885760"/>
                <a:gridCol w="2571480"/>
                <a:gridCol w="599760"/>
              </a:tblGrid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Вопросительное с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помогательный глаг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длещ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мысловой глагол/составное сказу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0"/>
            <a:ext cx="12106080" cy="169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 q-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rcRect l="134" t="0" r="4586" b="17282"/>
          <a:stretch/>
        </p:blipFill>
        <p:spPr>
          <a:xfrm>
            <a:off x="2219400" y="996840"/>
            <a:ext cx="87339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  <Words>16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5T05:20:28Z</dcterms:created>
  <dc:creator>Константин</dc:creator>
  <dc:description/>
  <dc:language>en-US</dc:language>
  <cp:lastModifiedBy>Константин</cp:lastModifiedBy>
  <dcterms:modified xsi:type="dcterms:W3CDTF">2020-04-25T13:11:5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