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E61-AE74-4440-976A-00AE1A56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212-45C4-40B6-8E95-2D8FC4D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162-FE5F-4089-907C-3254E8C0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98-C458-4B55-933F-DA46EDAB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EF0C-EC80-4417-BC65-D1D18C92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6A78-2423-4F5A-B651-8C22556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9AE0-BC0B-4C25-987F-46800E4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6DB3-AA9F-45DD-AEE0-6BCEAF4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24D-E9A8-45EE-BF61-329F651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853E-25F6-4464-A744-C417649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D6CB-3B76-4F01-893A-AC788722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297-3455-46B5-8106-3C33264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88F0-618F-4432-B8E6-F4095AC5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3C77-D823-4BA1-8366-127A829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F3F9-ABE6-4C51-9431-EDE6EDBC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3C20-8A24-4FA6-B511-43FD4BBF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922-4978-4FE3-BC1D-3E9C2CB1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9EE-118D-4DE5-9D13-F0C3601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D91-7A44-414F-B946-B16EA47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2C9-55DC-4767-B5A2-378A8DEF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D50-4E57-4675-941A-395AA41C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8AC-5986-4DA4-9326-4305BE89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9D2-ECCA-4DC7-ACF4-04DA8219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C2E-B90E-4F8F-83B9-F1067C1A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5ACD03-53CE-4BC0-BBF9-CF8AABBD947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9F9253-9B09-4769-8658-8F087F8FA1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760" y="0"/>
            <a:ext cx="11848680" cy="66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Типы вопросов в английском языке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General (Yes/No-question)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общий вопрос, который требует ответа «да/нет»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lternative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-альтернативный , когда нужно выбрать вариант ответа)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Special</a:t>
            </a:r>
            <a:r>
              <a:rPr b="0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специальный; нужно дать конкретный ответ на вопрос</a:t>
            </a:r>
            <a:br>
              <a:rPr sz="3600"/>
            </a:b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Who-question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</a:t>
            </a:r>
            <a:br>
              <a:rPr sz="3600"/>
            </a:b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) </a:t>
            </a:r>
            <a:r>
              <a:rPr b="1" lang="en-US" sz="36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Tag-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question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разделительный вопрос</a:t>
            </a:r>
            <a:r>
              <a:rPr b="0" lang="en-US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( не так ли/не правда ли?)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391400" y="5785560"/>
            <a:ext cx="1562400" cy="73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1048760" cy="23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4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-question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–это  специальный вопрос,  но  задаем вопрос к подлежащему –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who/which of/what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rcRect l="0" t="20650" r="0" b="0"/>
          <a:stretch/>
        </p:blipFill>
        <p:spPr>
          <a:xfrm>
            <a:off x="0" y="1733400"/>
            <a:ext cx="5801400" cy="3452400"/>
          </a:xfrm>
          <a:prstGeom prst="rect">
            <a:avLst/>
          </a:prstGeom>
          <a:ln w="0">
            <a:noFill/>
          </a:ln>
        </p:spPr>
      </p:pic>
      <p:pic>
        <p:nvPicPr>
          <p:cNvPr id="108" name="Объект 3" descr=""/>
          <p:cNvPicPr/>
          <p:nvPr/>
        </p:nvPicPr>
        <p:blipFill>
          <a:blip r:embed="rId2"/>
          <a:stretch/>
        </p:blipFill>
        <p:spPr>
          <a:xfrm>
            <a:off x="6085440" y="2506680"/>
            <a:ext cx="5801400" cy="4350960"/>
          </a:xfrm>
          <a:prstGeom prst="rect">
            <a:avLst/>
          </a:prstGeom>
          <a:ln w="0">
            <a:noFill/>
          </a:ln>
        </p:spPr>
      </p:pic>
      <p:sp>
        <p:nvSpPr>
          <p:cNvPr id="109" name="Стрелка вправо 7"/>
          <p:cNvSpPr/>
          <p:nvPr/>
        </p:nvSpPr>
        <p:spPr>
          <a:xfrm rot="19804800">
            <a:off x="4962240" y="3323520"/>
            <a:ext cx="1186200" cy="48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d7d31"/>
          </a:solidFill>
          <a:ln>
            <a:solidFill>
              <a:srgbClr val="af5c24"/>
            </a:solidFill>
          </a:ln>
        </p:spPr>
        <p:style>
          <a:lnRef idx="2">
            <a:schemeClr val="accent2">
              <a:shade val="50000"/>
            </a:schemeClr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960" y="365040"/>
            <a:ext cx="10953360" cy="26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4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«хвостики» 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так ли?/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не правда ли?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меняются</a:t>
            </a:r>
            <a:br>
              <a:rPr sz="2400"/>
            </a:b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в зависимости от времени глагола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rcRect l="14394" t="0" r="0" b="27454"/>
          <a:stretch/>
        </p:blipFill>
        <p:spPr>
          <a:xfrm>
            <a:off x="5324400" y="501840"/>
            <a:ext cx="5894280" cy="3745800"/>
          </a:xfrm>
          <a:prstGeom prst="rect">
            <a:avLst/>
          </a:prstGeom>
          <a:ln w="0">
            <a:noFill/>
          </a:ln>
        </p:spPr>
      </p:pic>
      <p:pic>
        <p:nvPicPr>
          <p:cNvPr id="112" name="Объект 3" descr=""/>
          <p:cNvPicPr/>
          <p:nvPr/>
        </p:nvPicPr>
        <p:blipFill>
          <a:blip r:embed="rId2"/>
          <a:srcRect l="0" t="27686" r="23811" b="4181"/>
          <a:stretch/>
        </p:blipFill>
        <p:spPr>
          <a:xfrm>
            <a:off x="236160" y="3219480"/>
            <a:ext cx="5183280" cy="3476160"/>
          </a:xfrm>
          <a:prstGeom prst="rect">
            <a:avLst/>
          </a:prstGeom>
          <a:ln w="0">
            <a:noFill/>
          </a:ln>
        </p:spPr>
      </p:pic>
      <p:sp>
        <p:nvSpPr>
          <p:cNvPr id="113" name="Стрелка вниз 5"/>
          <p:cNvSpPr/>
          <p:nvPr/>
        </p:nvSpPr>
        <p:spPr>
          <a:xfrm>
            <a:off x="2638440" y="2647800"/>
            <a:ext cx="399600" cy="752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>
            <a:solidFill>
              <a:srgbClr val="bc8e00"/>
            </a:solidFill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847800"/>
            <a:ext cx="4990680" cy="42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5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 </a:t>
            </a:r>
            <a:r>
              <a:rPr b="1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При построении таких вопросов</a:t>
            </a: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ВАЖНО соблюдать правил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o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 </a:t>
            </a:r>
            <a:br>
              <a:rPr sz="4400"/>
            </a:b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he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3" descr=""/>
          <p:cNvPicPr/>
          <p:nvPr/>
        </p:nvPicPr>
        <p:blipFill>
          <a:blip r:embed="rId1"/>
          <a:srcRect l="6006" t="83027" r="31221" b="3602"/>
          <a:stretch/>
        </p:blipFill>
        <p:spPr>
          <a:xfrm>
            <a:off x="5191200" y="480960"/>
            <a:ext cx="6294600" cy="1209240"/>
          </a:xfrm>
          <a:prstGeom prst="rect">
            <a:avLst/>
          </a:prstGeom>
          <a:ln w="0">
            <a:noFill/>
          </a:ln>
        </p:spPr>
      </p:pic>
      <p:cxnSp>
        <p:nvCxnSpPr>
          <p:cNvPr id="116" name="Прямая со стрелкой 7"/>
          <p:cNvCxnSpPr/>
          <p:nvPr/>
        </p:nvCxnSpPr>
        <p:spPr>
          <a:xfrm flipV="1">
            <a:off x="4562280" y="1618920"/>
            <a:ext cx="1514880" cy="600480"/>
          </a:xfrm>
          <a:prstGeom prst="straightConnector1">
            <a:avLst/>
          </a:prstGeom>
          <a:ln w="57150">
            <a:solidFill>
              <a:srgbClr val="ffc000"/>
            </a:solidFill>
            <a:tailEnd len="med" type="triangle" w="med"/>
          </a:ln>
        </p:spPr>
      </p:cxnSp>
      <p:sp>
        <p:nvSpPr>
          <p:cNvPr id="117" name="Прямоугольник 11"/>
          <p:cNvSpPr/>
          <p:nvPr/>
        </p:nvSpPr>
        <p:spPr>
          <a:xfrm>
            <a:off x="5972040" y="2219400"/>
            <a:ext cx="5324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ЗАПОМНИТЕ: В «хвостиках» пишем только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МЕСТОИМЕНИЯ</a:t>
            </a:r>
            <a:r>
              <a:rPr b="0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Sacha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asha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a doctor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s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h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My parents</a:t>
            </a:r>
            <a:r>
              <a:rPr b="0" lang="en-US" sz="32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doctors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Times New Roman"/>
              </a:rPr>
              <a:t>they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his ca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n’t 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nice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228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оварство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Tag-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мотрите в оба, когда будете на следующей неделе выполнять тесты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Если вы строите предложение с местоимением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то  в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«хвостике»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шем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student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n’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rcRect l="5618" t="22619" r="-1551" b="6362"/>
          <a:stretch/>
        </p:blipFill>
        <p:spPr>
          <a:xfrm>
            <a:off x="1200240" y="2247480"/>
            <a:ext cx="8097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181080"/>
            <a:ext cx="10515240" cy="18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Смотрите, какая чудесная шпаргал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Объект 3" descr=""/>
          <p:cNvPicPr/>
          <p:nvPr/>
        </p:nvPicPr>
        <p:blipFill>
          <a:blip r:embed="rId1"/>
          <a:srcRect l="5915" t="12015" r="5830" b="9329"/>
          <a:stretch/>
        </p:blipFill>
        <p:spPr>
          <a:xfrm>
            <a:off x="838080" y="1380960"/>
            <a:ext cx="8578440" cy="5552640"/>
          </a:xfrm>
          <a:prstGeom prst="rect">
            <a:avLst/>
          </a:prstGeom>
          <a:ln w="0">
            <a:noFill/>
          </a:ln>
        </p:spPr>
      </p:pic>
      <p:sp>
        <p:nvSpPr>
          <p:cNvPr id="122" name="Рисунок 2"/>
          <p:cNvSpPr/>
          <p:nvPr/>
        </p:nvSpPr>
        <p:spPr>
          <a:xfrm>
            <a:off x="739800" y="906120"/>
            <a:ext cx="1371240" cy="128808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533520" y="149760"/>
            <a:ext cx="9932040" cy="65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1)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General (Yes/No-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rcRect l="5394" t="32472" r="5059" b="18352"/>
          <a:stretch/>
        </p:blipFill>
        <p:spPr>
          <a:xfrm>
            <a:off x="93600" y="4524480"/>
            <a:ext cx="5195160" cy="226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4960" y="4524480"/>
            <a:ext cx="6472800" cy="22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будешь читать текст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ы идешь в школу? –Да/Н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Объект 3" descr=""/>
          <p:cNvPicPr/>
          <p:nvPr/>
        </p:nvPicPr>
        <p:blipFill>
          <a:blip r:embed="rId2"/>
          <a:srcRect l="0" t="22619" r="0" b="13459"/>
          <a:stretch/>
        </p:blipFill>
        <p:spPr>
          <a:xfrm>
            <a:off x="4585680" y="466560"/>
            <a:ext cx="5801400" cy="278100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3" descr=""/>
          <p:cNvPicPr/>
          <p:nvPr/>
        </p:nvPicPr>
        <p:blipFill>
          <a:blip r:embed="rId3"/>
          <a:srcRect l="0" t="75154" r="0" b="9740"/>
          <a:stretch/>
        </p:blipFill>
        <p:spPr>
          <a:xfrm>
            <a:off x="4820040" y="3349800"/>
            <a:ext cx="58089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2692080" cy="279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tretch/>
        </p:blipFill>
        <p:spPr>
          <a:xfrm>
            <a:off x="186120" y="69840"/>
            <a:ext cx="9062280" cy="67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17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2) Alternative questio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Объект 3" descr=""/>
          <p:cNvPicPr/>
          <p:nvPr/>
        </p:nvPicPr>
        <p:blipFill>
          <a:blip r:embed="rId1"/>
          <a:srcRect l="4996" t="24588" r="8480" b="28346"/>
          <a:stretch/>
        </p:blipFill>
        <p:spPr>
          <a:xfrm>
            <a:off x="7172280" y="666720"/>
            <a:ext cx="5019480" cy="2047680"/>
          </a:xfrm>
          <a:prstGeom prst="rect">
            <a:avLst/>
          </a:prstGeom>
          <a:ln w="0">
            <a:noFill/>
          </a:ln>
        </p:spPr>
      </p:pic>
      <p:pic>
        <p:nvPicPr>
          <p:cNvPr id="95" name="Объект 3" descr=""/>
          <p:cNvPicPr/>
          <p:nvPr/>
        </p:nvPicPr>
        <p:blipFill>
          <a:blip r:embed="rId2"/>
          <a:stretch/>
        </p:blipFill>
        <p:spPr>
          <a:xfrm>
            <a:off x="147240" y="1660680"/>
            <a:ext cx="6929640" cy="51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0"/>
            <a:ext cx="11886840" cy="80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7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Alternative  q-n 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rcRect l="653" t="0" r="5405" b="25885"/>
          <a:stretch/>
        </p:blipFill>
        <p:spPr>
          <a:xfrm>
            <a:off x="1152360" y="979560"/>
            <a:ext cx="9718200" cy="57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5200" y="365040"/>
            <a:ext cx="110581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rcRect l="9335" t="21034" r="7850" b="30257"/>
          <a:stretch/>
        </p:blipFill>
        <p:spPr>
          <a:xfrm>
            <a:off x="4167000" y="695160"/>
            <a:ext cx="6683040" cy="294732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rcRect l="0" t="6625" r="4000" b="9591"/>
          <a:stretch/>
        </p:blipFill>
        <p:spPr>
          <a:xfrm>
            <a:off x="2808720" y="2514600"/>
            <a:ext cx="637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5680"/>
            <a:ext cx="11124720" cy="82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questions</a:t>
            </a:r>
            <a:r>
              <a:rPr b="1" lang="ru-RU" sz="2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 (структура 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3" descr=""/>
          <p:cNvPicPr/>
          <p:nvPr/>
        </p:nvPicPr>
        <p:blipFill>
          <a:blip r:embed="rId1"/>
          <a:srcRect l="0" t="0" r="1234" b="10178"/>
          <a:stretch/>
        </p:blipFill>
        <p:spPr>
          <a:xfrm>
            <a:off x="1037880" y="1445040"/>
            <a:ext cx="9248760" cy="523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Таблица 5"/>
          <p:cNvGraphicFramePr/>
          <p:nvPr/>
        </p:nvGraphicFramePr>
        <p:xfrm>
          <a:off x="1037880" y="719640"/>
          <a:ext cx="9248760" cy="794520"/>
        </p:xfrm>
        <a:graphic>
          <a:graphicData uri="http://schemas.openxmlformats.org/drawingml/2006/table">
            <a:tbl>
              <a:tblPr/>
              <a:tblGrid>
                <a:gridCol w="1305360"/>
                <a:gridCol w="1885680"/>
                <a:gridCol w="2885760"/>
                <a:gridCol w="2571480"/>
                <a:gridCol w="599760"/>
              </a:tblGrid>
              <a:tr h="79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Вопросительное с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спомогательный глаг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длещ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мысловой глагол/составное сказу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0"/>
            <a:ext cx="12106080" cy="169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К одному и тому же предложению можно задать несколько вопросов типа  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Special  q-n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rcRect l="134" t="0" r="4586" b="17282"/>
          <a:stretch/>
        </p:blipFill>
        <p:spPr>
          <a:xfrm>
            <a:off x="2219400" y="996840"/>
            <a:ext cx="87339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  <Words>16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5T05:20:28Z</dcterms:created>
  <dc:creator>Константин</dc:creator>
  <dc:description/>
  <dc:language>en-US</dc:language>
  <cp:lastModifiedBy>Константин</cp:lastModifiedBy>
  <dcterms:modified xsi:type="dcterms:W3CDTF">2020-04-25T13:11:5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