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СО фактического потребления</c:v>
                </c:pt>
              </c:strCache>
            </c:strRef>
          </c:tx>
          <c:spPr>
            <a:gradFill>
              <a:gsLst>
                <a:gs pos="0">
                  <a:srgbClr val="71a6da"/>
                </a:gs>
                <a:gs pos="100000">
                  <a:srgbClr val="549ada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00.1</c:v>
                </c:pt>
                <c:pt idx="1">
                  <c:v>84</c:v>
                </c:pt>
                <c:pt idx="2">
                  <c:v>97.4</c:v>
                </c:pt>
                <c:pt idx="3">
                  <c:v>89.2</c:v>
                </c:pt>
                <c:pt idx="4">
                  <c:v>86.3</c:v>
                </c:pt>
                <c:pt idx="5">
                  <c:v>4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СО по медицинским нормам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104.2</c:v>
                </c:pt>
                <c:pt idx="1">
                  <c:v>62</c:v>
                </c:pt>
                <c:pt idx="2">
                  <c:v>106</c:v>
                </c:pt>
                <c:pt idx="3">
                  <c:v>85.2</c:v>
                </c:pt>
                <c:pt idx="4">
                  <c:v>66</c:v>
                </c:pt>
                <c:pt idx="5">
                  <c:v>25.9</c:v>
                </c:pt>
              </c:numCache>
            </c:numRef>
          </c:val>
        </c:ser>
        <c:gapWidth val="100"/>
        <c:overlap val="-24"/>
        <c:axId val="45965140"/>
        <c:axId val="80591158"/>
      </c:barChart>
      <c:catAx>
        <c:axId val="4596514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e0e5eb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0591158"/>
        <c:crosses val="autoZero"/>
        <c:auto val="1"/>
        <c:lblAlgn val="ctr"/>
        <c:lblOffset val="100"/>
        <c:noMultiLvlLbl val="0"/>
      </c:catAx>
      <c:valAx>
        <c:axId val="80591158"/>
        <c:scaling>
          <c:orientation val="minMax"/>
        </c:scaling>
        <c:delete val="0"/>
        <c:axPos val="l"/>
        <c:majorGridlines>
          <c:spPr>
            <a:ln w="9360">
              <a:solidFill>
                <a:srgbClr val="e0e5eb"/>
              </a:solidFill>
              <a:round/>
            </a:ln>
          </c:spPr>
        </c:majorGridlines>
        <c:numFmt formatCode="#,##0.00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44546a"/>
                </a:solidFill>
                <a:latin typeface="Times New Roman"/>
              </a:defRPr>
            </a:pPr>
          </a:p>
        </c:txPr>
        <c:crossAx val="45965140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58501341773894"/>
          <c:y val="0.0444381142287423"/>
          <c:w val="0.852886534094819"/>
          <c:h val="0.445663010967099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\ ##0.0" sourceLinked="0"/>
            <c:txPr>
              <a:bodyPr wrap="square"/>
              <a:lstStyle/>
              <a:p>
                <a:pPr>
                  <a:defRPr b="1" sz="133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78.1</c:v>
                </c:pt>
                <c:pt idx="1">
                  <c:v>57.4335384615385</c:v>
                </c:pt>
                <c:pt idx="2">
                  <c:v>79.9</c:v>
                </c:pt>
                <c:pt idx="3">
                  <c:v>57.2821538461539</c:v>
                </c:pt>
                <c:pt idx="4">
                  <c:v>80.7</c:v>
                </c:pt>
                <c:pt idx="5">
                  <c:v>57.3590769230769</c:v>
                </c:pt>
                <c:pt idx="6">
                  <c:v>82.3</c:v>
                </c:pt>
                <c:pt idx="7">
                  <c:v>58.2430769230769</c:v>
                </c:pt>
                <c:pt idx="8">
                  <c:v>83.9</c:v>
                </c:pt>
                <c:pt idx="9">
                  <c:v>59.1172307692308</c:v>
                </c:pt>
                <c:pt idx="10">
                  <c:v>83.9</c:v>
                </c:pt>
                <c:pt idx="11">
                  <c:v>60.408</c:v>
                </c:pt>
                <c:pt idx="12">
                  <c:v>84</c:v>
                </c:pt>
                <c:pt idx="13">
                  <c:v>62.0307692307692</c:v>
                </c:pt>
              </c:numCache>
            </c:numRef>
          </c:val>
        </c:ser>
        <c:gapWidth val="41"/>
        <c:overlap val="0"/>
        <c:axId val="42768327"/>
        <c:axId val="48042295"/>
      </c:barChart>
      <c:catAx>
        <c:axId val="42768327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48042295"/>
        <c:crosses val="autoZero"/>
        <c:auto val="1"/>
        <c:lblAlgn val="ctr"/>
        <c:lblOffset val="100"/>
        <c:noMultiLvlLbl val="0"/>
      </c:catAx>
      <c:valAx>
        <c:axId val="48042295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768327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82.8</c:v>
                </c:pt>
                <c:pt idx="1">
                  <c:v>83.9342465753425</c:v>
                </c:pt>
                <c:pt idx="2">
                  <c:v>88.7</c:v>
                </c:pt>
                <c:pt idx="3">
                  <c:v>88.7</c:v>
                </c:pt>
                <c:pt idx="4">
                  <c:v>90.6</c:v>
                </c:pt>
                <c:pt idx="5">
                  <c:v>91.841095890411</c:v>
                </c:pt>
                <c:pt idx="6">
                  <c:v>93.5</c:v>
                </c:pt>
                <c:pt idx="7">
                  <c:v>96.0616438356164</c:v>
                </c:pt>
                <c:pt idx="8">
                  <c:v>95.7</c:v>
                </c:pt>
                <c:pt idx="9">
                  <c:v>98.3219178082192</c:v>
                </c:pt>
                <c:pt idx="10">
                  <c:v>97.4</c:v>
                </c:pt>
                <c:pt idx="11">
                  <c:v>101.402739726027</c:v>
                </c:pt>
                <c:pt idx="12">
                  <c:v>100.1</c:v>
                </c:pt>
                <c:pt idx="13">
                  <c:v>104.213698630137</c:v>
                </c:pt>
              </c:numCache>
            </c:numRef>
          </c:val>
        </c:ser>
        <c:gapWidth val="41"/>
        <c:overlap val="0"/>
        <c:axId val="41713318"/>
        <c:axId val="10824146"/>
      </c:barChart>
      <c:catAx>
        <c:axId val="4171331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0824146"/>
        <c:crosses val="autoZero"/>
        <c:auto val="1"/>
        <c:lblAlgn val="ctr"/>
        <c:lblOffset val="100"/>
        <c:noMultiLvlLbl val="0"/>
      </c:catAx>
      <c:valAx>
        <c:axId val="10824146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713318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20609884332282"/>
          <c:y val="0.261071277941797"/>
          <c:w val="0.957906151419558"/>
          <c:h val="0.65700126528890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аловой сбор зерновых, т </c:v>
                </c:pt>
              </c:strCache>
            </c:strRef>
          </c:tx>
          <c:spPr>
            <a:solidFill>
              <a:srgbClr val="5b9bd5"/>
            </a:solidFill>
            <a:ln cap="rnd" w="28440">
              <a:solidFill>
                <a:srgbClr val="5b9bd5"/>
              </a:solidFill>
              <a:round/>
            </a:ln>
          </c:spPr>
          <c:marker>
            <c:symbol val="circle"/>
            <c:size val="5"/>
            <c:spPr>
              <a:solidFill>
                <a:srgbClr val="5b9bd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73</c:v>
                </c:pt>
                <c:pt idx="1">
                  <c:v>0.72</c:v>
                </c:pt>
                <c:pt idx="2">
                  <c:v>0.82</c:v>
                </c:pt>
                <c:pt idx="3">
                  <c:v>0.92</c:v>
                </c:pt>
                <c:pt idx="4">
                  <c:v>0.77</c:v>
                </c:pt>
                <c:pt idx="5">
                  <c:v>0.83</c:v>
                </c:pt>
                <c:pt idx="6">
                  <c:v>0.9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оизводственное потребление зерна и переработано на муку, крупу, комбикорма и другие цели, т  </c:v>
                </c:pt>
              </c:strCache>
            </c:strRef>
          </c:tx>
          <c:spPr>
            <a:solidFill>
              <a:srgbClr val="ff0000"/>
            </a:solidFill>
            <a:ln cap="rnd" w="28440">
              <a:solidFill>
                <a:srgbClr val="ff0000"/>
              </a:solidFill>
              <a:round/>
            </a:ln>
          </c:spPr>
          <c:marker>
            <c:symbol val="circle"/>
            <c:size val="5"/>
            <c:spPr>
              <a:solidFill>
                <a:srgbClr val="ff0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0.47</c:v>
                </c:pt>
                <c:pt idx="1">
                  <c:v>0.47</c:v>
                </c:pt>
                <c:pt idx="2">
                  <c:v>0.51</c:v>
                </c:pt>
                <c:pt idx="3">
                  <c:v>0.53</c:v>
                </c:pt>
                <c:pt idx="4">
                  <c:v>0.52</c:v>
                </c:pt>
                <c:pt idx="5">
                  <c:v>0.52</c:v>
                </c:pt>
                <c:pt idx="6">
                  <c:v>0.54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56606447"/>
        <c:axId val="62760740"/>
      </c:lineChart>
      <c:catAx>
        <c:axId val="56606447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1" sz="105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2760740"/>
        <c:crosses val="autoZero"/>
        <c:auto val="1"/>
        <c:lblAlgn val="ctr"/>
        <c:lblOffset val="100"/>
        <c:noMultiLvlLbl val="0"/>
      </c:catAx>
      <c:valAx>
        <c:axId val="62760740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56606447"/>
        <c:crosses val="autoZero"/>
        <c:crossBetween val="between"/>
      </c:valAx>
      <c:spPr>
        <a:solidFill>
          <a:srgbClr val="ffffff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125013203740992"/>
          <c:y val="0.685247347551424"/>
          <c:w val="0.73120179594471"/>
          <c:h val="0.19227134159785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73821138211382"/>
          <c:y val="0.0224436047177373"/>
          <c:w val="0.953951219512195"/>
          <c:h val="0.667010191228673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Мясо и мясопродукты в пересчете на мясо, кг  </c:v>
                </c:pt>
              </c:strCache>
            </c:strRef>
          </c:tx>
          <c:spPr>
            <a:solidFill>
              <a:srgbClr val="7030a0"/>
            </a:solidFill>
            <a:ln cap="rnd" w="28440">
              <a:solidFill>
                <a:srgbClr val="7030a0"/>
              </a:solidFill>
              <a:round/>
            </a:ln>
          </c:spPr>
          <c:marker>
            <c:symbol val="circle"/>
            <c:size val="5"/>
            <c:spPr>
              <a:solidFill>
                <a:srgbClr val="7030a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74</c:v>
                </c:pt>
                <c:pt idx="1">
                  <c:v>73</c:v>
                </c:pt>
                <c:pt idx="2">
                  <c:v>74</c:v>
                </c:pt>
                <c:pt idx="3">
                  <c:v>75</c:v>
                </c:pt>
                <c:pt idx="4">
                  <c:v>75</c:v>
                </c:pt>
                <c:pt idx="5">
                  <c:v>76</c:v>
                </c:pt>
                <c:pt idx="6">
                  <c:v>7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олоко и молочные продукты в пересчете на молоко, кг  </c:v>
                </c:pt>
              </c:strCache>
            </c:strRef>
          </c:tx>
          <c:spPr>
            <a:solidFill>
              <a:srgbClr val="00b050"/>
            </a:solidFill>
            <a:ln cap="rnd" w="28440">
              <a:solidFill>
                <a:srgbClr val="00b050"/>
              </a:solidFill>
              <a:round/>
            </a:ln>
          </c:spPr>
          <c:marker>
            <c:symbol val="circle"/>
            <c:size val="5"/>
            <c:spPr>
              <a:solidFill>
                <a:srgbClr val="00b05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39</c:v>
                </c:pt>
                <c:pt idx="1">
                  <c:v>233</c:v>
                </c:pt>
                <c:pt idx="2">
                  <c:v>231</c:v>
                </c:pt>
                <c:pt idx="3">
                  <c:v>230</c:v>
                </c:pt>
                <c:pt idx="4">
                  <c:v>229</c:v>
                </c:pt>
                <c:pt idx="5">
                  <c:v>234</c:v>
                </c:pt>
                <c:pt idx="6">
                  <c:v>240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Яйца и яйцепродукты, шт.  </c:v>
                </c:pt>
              </c:strCache>
            </c:strRef>
          </c:tx>
          <c:spPr>
            <a:solidFill>
              <a:srgbClr val="a5a5a5"/>
            </a:solidFill>
            <a:ln cap="rnd" w="28440">
              <a:solidFill>
                <a:srgbClr val="a5a5a5"/>
              </a:solidFill>
              <a:round/>
            </a:ln>
          </c:spPr>
          <c:marker>
            <c:symbol val="circle"/>
            <c:size val="5"/>
            <c:spPr>
              <a:solidFill>
                <a:srgbClr val="a5a5a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7"/>
                <c:pt idx="0">
                  <c:v>267</c:v>
                </c:pt>
                <c:pt idx="1">
                  <c:v>268</c:v>
                </c:pt>
                <c:pt idx="2">
                  <c:v>277</c:v>
                </c:pt>
                <c:pt idx="3">
                  <c:v>282</c:v>
                </c:pt>
                <c:pt idx="4">
                  <c:v>284</c:v>
                </c:pt>
                <c:pt idx="5">
                  <c:v>285</c:v>
                </c:pt>
                <c:pt idx="6">
                  <c:v>28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74849340"/>
        <c:axId val="93588543"/>
      </c:lineChart>
      <c:catAx>
        <c:axId val="74849340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93588543"/>
        <c:crosses val="autoZero"/>
        <c:auto val="1"/>
        <c:lblAlgn val="ctr"/>
        <c:lblOffset val="100"/>
        <c:noMultiLvlLbl val="0"/>
      </c:catAx>
      <c:valAx>
        <c:axId val="9358854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74849340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0420401811152877"/>
          <c:y val="0.764889362768736"/>
          <c:w val="0.842496474278948"/>
          <c:h val="0.166435523006004"/>
        </c:manualLayout>
      </c:layout>
      <c:overlay val="0"/>
      <c:spPr>
        <a:noFill/>
        <a:ln w="0">
          <a:solidFill>
            <a:srgbClr val="5b9bd5">
              <a:alpha val="99000"/>
            </a:srgbClr>
          </a:solidFill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BC3-CE36-4CCB-97CF-20221B2E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CE1-76D6-4DA4-AE47-1B5AC95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5A3-973F-43B5-A250-F7378834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EEA-37DD-4DE2-8924-DED2688C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480-4353-4B4D-AE2D-C9B159A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3EA-BD85-4BD2-BE47-FDCF5608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79F-6BE6-490E-B86E-BC917774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C68-53BE-43D9-AC7A-F64AC4A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412-8FA1-4879-A267-2737D3F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F6A-C709-4741-82D4-1B8353F0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1F5-414A-4C52-AEC0-77416DE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78E-DD14-4B96-8309-D358B8FC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EF8020-87F1-45D9-B8AD-E25BC7BB18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50640" y="2361600"/>
            <a:ext cx="11490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0000"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менты цифровизации в аспекте продовольственной безопасности и развития зернопродуктового под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рина Трушкина, Сергей Широков, Вардан Алексанян, Хабас Бекулов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.Petersburg State Agrarian University (SPbS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enian National Agrarian University (AN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bardino-Balkarian State Agrarian University named after V.M. Kokov (Kabardino-Balkarian SAU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350640" y="688680"/>
            <a:ext cx="1162728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Международная конференция по цифровизации сельского хозяйства и органическому производств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8 июня 2022 г.,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809280" y="5685120"/>
            <a:ext cx="10771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International Conference on Agriculture Digitalization and Organic Production (ADOP 2022), June 6-8, 20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842800" y="362520"/>
            <a:ext cx="60955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w, here, you see, it takes all the running you can do, to keep in the sam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wis Car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7400" y="1440720"/>
            <a:ext cx="115012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Цифровизация – это процесс перехода к цифровому региону, трансформация процессов кросс-регионального, межотраслевого, межличностного взаимодействия в регионе за счет проникновения цифровых технологий, направленная на повышение качества жизни населения, конкурентоспособности экономики РФ, обеспечение национальной безопасности и суверенитета страны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Лапидус Л.В. Стратегии цифрового лидерства и запрос на новые компетенции цифровой экономики: основа для сотрудничества Россия – Болгария // Теория и практика проектного образования. 20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No 3 (11). С. 51–57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-  анализ возможностей и задач по применению инструментов цифровизации как фактора устойчивого развития зернового под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задача и цель «проникновения» цифровых инструментов в технологические цепочки – полноценное и достаточное обеспечение населения продовольствием. Это выступает базовым элементом экономической, социальной и политической безопасности государства, стабильности и развития реального сектора национальной эконом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1138680" y="1126440"/>
            <a:ext cx="1039464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самообеспечения отдельными видами сельскохозяйственной продукции, сырья и продовольствия, коэффициент сам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docs.cntd.ru/document/566006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267920" y="1880280"/>
            <a:ext cx="10719360" cy="595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38680" y="146520"/>
            <a:ext cx="9859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самообеспеченности основными продуктами питания при фактическом потреблении и по рекомендуемых нормах, 2020 г.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Диаграмма 6"/>
          <p:cNvGraphicFramePr/>
          <p:nvPr/>
        </p:nvGraphicFramePr>
        <p:xfrm>
          <a:off x="1138680" y="2958840"/>
          <a:ext cx="10299600" cy="375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Диаграмма 4"/>
          <p:cNvGraphicFramePr/>
          <p:nvPr/>
        </p:nvGraphicFramePr>
        <p:xfrm>
          <a:off x="992160" y="1091520"/>
          <a:ext cx="10463400" cy="2527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" name="Прямоугольник 5"/>
          <p:cNvSpPr/>
          <p:nvPr/>
        </p:nvSpPr>
        <p:spPr>
          <a:xfrm>
            <a:off x="879840" y="319320"/>
            <a:ext cx="1068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, молоко и молочные продукты в пересчете на молок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Диаграмма 6"/>
          <p:cNvGraphicFramePr/>
          <p:nvPr/>
        </p:nvGraphicFramePr>
        <p:xfrm>
          <a:off x="992160" y="4330440"/>
          <a:ext cx="10463400" cy="2277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53" name="Прямоугольник 7"/>
          <p:cNvSpPr/>
          <p:nvPr/>
        </p:nvSpPr>
        <p:spPr>
          <a:xfrm>
            <a:off x="992160" y="3636000"/>
            <a:ext cx="10213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 по мясо и мясопродукты в пересчете на мяс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474480" y="85680"/>
            <a:ext cx="10840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амика валового сбора зерна, объемов его производственного потребления и производства животноводческой продукции в расчете на душу населения в целом п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Диаграмма 4"/>
          <p:cNvGraphicFramePr/>
          <p:nvPr/>
        </p:nvGraphicFramePr>
        <p:xfrm>
          <a:off x="474480" y="3229560"/>
          <a:ext cx="10955160" cy="3413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" name="Диаграмма 5"/>
          <p:cNvGraphicFramePr/>
          <p:nvPr/>
        </p:nvGraphicFramePr>
        <p:xfrm>
          <a:off x="651600" y="834840"/>
          <a:ext cx="11069640" cy="3143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99440" y="1074600"/>
            <a:ext cx="3355920" cy="499320"/>
          </a:xfrm>
          <a:prstGeom prst="rect">
            <a:avLst/>
          </a:prstGeom>
          <a:noFill/>
          <a:ln w="12700">
            <a:solidFill>
              <a:srgbClr val="1f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ение зерновым подкомплек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4699440" y="2114280"/>
            <a:ext cx="3363120" cy="813960"/>
          </a:xfrm>
          <a:prstGeom prst="rect">
            <a:avLst/>
          </a:prstGeom>
          <a:noFill/>
          <a:ln w="127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 управления (зерновой подкомплек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= (g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ġ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n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"/>
          <p:cNvSpPr/>
          <p:nvPr/>
        </p:nvSpPr>
        <p:spPr>
          <a:xfrm>
            <a:off x="6125040" y="1616400"/>
            <a:ext cx="298800" cy="492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Стрелка: изогнутая влево 6"/>
          <p:cNvSpPr/>
          <p:nvPr/>
        </p:nvSpPr>
        <p:spPr>
          <a:xfrm>
            <a:off x="8062920" y="1281960"/>
            <a:ext cx="709200" cy="11944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ff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Стрелка: вправо 10"/>
          <p:cNvSpPr/>
          <p:nvPr/>
        </p:nvSpPr>
        <p:spPr>
          <a:xfrm>
            <a:off x="8055720" y="2427480"/>
            <a:ext cx="1535040" cy="39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738520" y="323280"/>
            <a:ext cx="6846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механизма формирования зернового под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7"/>
          <p:cNvSpPr/>
          <p:nvPr/>
        </p:nvSpPr>
        <p:spPr>
          <a:xfrm>
            <a:off x="6156000" y="92520"/>
            <a:ext cx="1839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право 10"/>
          <p:cNvSpPr/>
          <p:nvPr/>
        </p:nvSpPr>
        <p:spPr>
          <a:xfrm>
            <a:off x="3459240" y="2427480"/>
            <a:ext cx="1239840" cy="36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39"/>
          <p:cNvSpPr/>
          <p:nvPr/>
        </p:nvSpPr>
        <p:spPr>
          <a:xfrm>
            <a:off x="3520080" y="2070360"/>
            <a:ext cx="610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ход                                                                                   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0"/>
          <p:cNvSpPr/>
          <p:nvPr/>
        </p:nvSpPr>
        <p:spPr>
          <a:xfrm>
            <a:off x="2629080" y="2937960"/>
            <a:ext cx="72381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урсы                                                                   объём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менты мех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рнового подкомплекса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1"/>
          <p:cNvSpPr/>
          <p:nvPr/>
        </p:nvSpPr>
        <p:spPr>
          <a:xfrm>
            <a:off x="272520" y="3617640"/>
            <a:ext cx="11731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𝓛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функция, описывающая механизм функционирования   зернового подкомплекса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енность населения, тыс. чел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 элементы первого порядка: используемые ресурсы – площадь пашни и посевов зерновых, обеспеченность трудовыми ресурсами, техническая оснащенность отрасли, объемы внесенных минеральных удобрений и др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лементы второго порядка: элементы механиз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ово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комплекса – уровень господдержки хозяйствующих субъектов, размер инвестиций в основной капитал, цена продукции и рентабельность производства, инструменты стимулирования развития инфраструктуры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менты време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ризонты планирования) подкомплекс занимает определенные равновесные положения, характеризуемые двумя наборами значений элементов первого и второго порядка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2-мя этими равновесными положениями система «движется» по принципу наименьшего действия: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интеграла функции должно иметь наименьшее возможное значение, при «движении» подкомплекса в направлении, при котором возникает положительный потенциал дальнейшего развития отрас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вопросы моделирования механизма развития зернопродуктового подкомплекса международная научно-практическая конференция "Никоновские чтения 2021" 25-26 октября 2021 г. в г. Москве в ВИАПИ имени А.А. Никонова – филиал ФГБНУ ФНЦ ВНИИЭСХ состоялось научная конференция «ВЗАИМОДЕЙСТВИЕ ГОРОДА И СЕЛА В СОВРЕМЕННОМ ОБЩЕСТВЕ: ТЕНДЕНЦИИ, ПРОБЛЕМЫ, ПЕРСПЕКТИВЫ» На секционном заседании научной конференции 26 октября 2021 г</a:t>
            </a: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4"/>
          <p:cNvSpPr/>
          <p:nvPr/>
        </p:nvSpPr>
        <p:spPr>
          <a:xfrm>
            <a:off x="1525680" y="1618920"/>
            <a:ext cx="1926000" cy="16412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ЕДИНОЕ ИНФОРМАЦИОННОЕ УПРАВЛЯЮЩЕЕ ПРОСТРАН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6"/>
          <p:cNvSpPr/>
          <p:nvPr/>
        </p:nvSpPr>
        <p:spPr>
          <a:xfrm>
            <a:off x="9699120" y="1380600"/>
            <a:ext cx="2226600" cy="216972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25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МЕЖОТРАСЛЕВ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ЛАНС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83560" y="534960"/>
            <a:ext cx="11225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Понятие «больших данных» и наука о сетях находятся за гранью обычных подходов к проектированию социальных структур»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entland 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ocial Physic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Good Ideas Spre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Lessons from a New Scienc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ущий уровень конкуренции на мировом рынке зерна и продуктов его переработки, а также другие глобальные факторы вызывают необходимость постоянного изучения причинно-следственных взаимосвязей в функционировании зернов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ельно к  дальнейшему развитию зернопродуктового подкомплекса АПК требуется четкое понимание, в каком направлении будет происходить его цифровая трансформация. Как показали исследования, масштаб и сложность данных процессов заставляют прогнозировать в перспективе тесное взаимодействие государства и бизнеса  в сочетании с  повышением роли экономической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  <Words>717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8T08:58:11Z</dcterms:created>
  <dc:creator>Преподаватель 2219</dc:creator>
  <dc:description/>
  <dc:language>en-US</dc:language>
  <cp:lastModifiedBy>Irina Trushkina</cp:lastModifiedBy>
  <dcterms:modified xsi:type="dcterms:W3CDTF">2022-05-29T19:47:0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