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КСО фактического потребления</c:v>
                </c:pt>
              </c:strCache>
            </c:strRef>
          </c:tx>
          <c:spPr>
            <a:gradFill>
              <a:gsLst>
                <a:gs pos="0">
                  <a:srgbClr val="71a6da"/>
                </a:gs>
                <a:gs pos="100000">
                  <a:srgbClr val="549ada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00.1</c:v>
                </c:pt>
                <c:pt idx="1">
                  <c:v>84</c:v>
                </c:pt>
                <c:pt idx="2">
                  <c:v>97.4</c:v>
                </c:pt>
                <c:pt idx="3">
                  <c:v>89.2</c:v>
                </c:pt>
                <c:pt idx="4">
                  <c:v>86.3</c:v>
                </c:pt>
                <c:pt idx="5">
                  <c:v>42.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КСО по медицинским нормам</c:v>
                </c:pt>
              </c:strCache>
            </c:strRef>
          </c:tx>
          <c:spPr>
            <a:solidFill>
              <a:srgbClr val="ffff00"/>
            </a:soli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Мясо и мясопродукты в пересчете на мясо</c:v>
                </c:pt>
                <c:pt idx="1">
                  <c:v>Молоко и молочные продукты в пересчете на молоко</c:v>
                </c:pt>
                <c:pt idx="2">
                  <c:v>Яйца и яйцепродукты, шт.</c:v>
                </c:pt>
                <c:pt idx="3">
                  <c:v>Картофель</c:v>
                </c:pt>
                <c:pt idx="4">
                  <c:v>Овощи и продовольственные бахчевые культуры</c:v>
                </c:pt>
                <c:pt idx="5">
                  <c:v>Фрукты и ягоды, кг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104.2</c:v>
                </c:pt>
                <c:pt idx="1">
                  <c:v>62</c:v>
                </c:pt>
                <c:pt idx="2">
                  <c:v>106</c:v>
                </c:pt>
                <c:pt idx="3">
                  <c:v>85.2</c:v>
                </c:pt>
                <c:pt idx="4">
                  <c:v>66</c:v>
                </c:pt>
                <c:pt idx="5">
                  <c:v>25.9</c:v>
                </c:pt>
              </c:numCache>
            </c:numRef>
          </c:val>
        </c:ser>
        <c:gapWidth val="100"/>
        <c:overlap val="-24"/>
        <c:axId val="35222673"/>
        <c:axId val="89209393"/>
      </c:barChart>
      <c:catAx>
        <c:axId val="3522267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e0e5eb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9209393"/>
        <c:crosses val="autoZero"/>
        <c:auto val="1"/>
        <c:lblAlgn val="ctr"/>
        <c:lblOffset val="100"/>
        <c:noMultiLvlLbl val="0"/>
      </c:catAx>
      <c:valAx>
        <c:axId val="89209393"/>
        <c:scaling>
          <c:orientation val="minMax"/>
        </c:scaling>
        <c:delete val="0"/>
        <c:axPos val="l"/>
        <c:majorGridlines>
          <c:spPr>
            <a:ln w="9360">
              <a:solidFill>
                <a:srgbClr val="e0e5eb"/>
              </a:solidFill>
              <a:round/>
            </a:ln>
          </c:spPr>
        </c:majorGridlines>
        <c:numFmt formatCode="#,##0.00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200" spc="-1" strike="noStrike">
                <a:solidFill>
                  <a:srgbClr val="44546a"/>
                </a:solidFill>
                <a:latin typeface="Times New Roman"/>
              </a:defRPr>
            </a:pPr>
          </a:p>
        </c:txPr>
        <c:crossAx val="35222673"/>
        <c:crosses val="autoZero"/>
        <c:crossBetween val="between"/>
      </c:valAx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658501341773894"/>
          <c:y val="0.0444381142287423"/>
          <c:w val="0.852886534094819"/>
          <c:h val="0.445663010967099"/>
        </c:manualLayout>
      </c:layout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\ ##0.0" sourceLinked="0"/>
            <c:txPr>
              <a:bodyPr wrap="square"/>
              <a:lstStyle/>
              <a:p>
                <a:pPr>
                  <a:defRPr b="1" sz="133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78.1</c:v>
                </c:pt>
                <c:pt idx="1">
                  <c:v>57.4335384615385</c:v>
                </c:pt>
                <c:pt idx="2">
                  <c:v>79.9</c:v>
                </c:pt>
                <c:pt idx="3">
                  <c:v>57.2821538461539</c:v>
                </c:pt>
                <c:pt idx="4">
                  <c:v>80.7</c:v>
                </c:pt>
                <c:pt idx="5">
                  <c:v>57.3590769230769</c:v>
                </c:pt>
                <c:pt idx="6">
                  <c:v>82.3</c:v>
                </c:pt>
                <c:pt idx="7">
                  <c:v>58.2430769230769</c:v>
                </c:pt>
                <c:pt idx="8">
                  <c:v>83.9</c:v>
                </c:pt>
                <c:pt idx="9">
                  <c:v>59.1172307692308</c:v>
                </c:pt>
                <c:pt idx="10">
                  <c:v>83.9</c:v>
                </c:pt>
                <c:pt idx="11">
                  <c:v>60.408</c:v>
                </c:pt>
                <c:pt idx="12">
                  <c:v>84</c:v>
                </c:pt>
                <c:pt idx="13">
                  <c:v>62.0307692307692</c:v>
                </c:pt>
              </c:numCache>
            </c:numRef>
          </c:val>
        </c:ser>
        <c:gapWidth val="41"/>
        <c:overlap val="0"/>
        <c:axId val="51223714"/>
        <c:axId val="10921684"/>
      </c:barChart>
      <c:catAx>
        <c:axId val="5122371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0921684"/>
        <c:crosses val="autoZero"/>
        <c:auto val="1"/>
        <c:lblAlgn val="ctr"/>
        <c:lblOffset val="100"/>
        <c:noMultiLvlLbl val="0"/>
      </c:catAx>
      <c:valAx>
        <c:axId val="10921684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22371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spPr>
            <a:gradFill>
              <a:gsLst>
                <a:gs pos="0">
                  <a:srgbClr val="5b9bd5"/>
                </a:gs>
                <a:gs pos="100000">
                  <a:srgbClr val="3483cb"/>
                </a:gs>
              </a:gsLst>
              <a:lin ang="5400000"/>
            </a:gradFill>
            <a:ln w="0">
              <a:noFill/>
            </a:ln>
          </c:spPr>
          <c:invertIfNegative val="0"/>
          <c:dLbls>
            <c:numFmt formatCode="#,##0.00" sourceLinked="0"/>
            <c:txPr>
              <a:bodyPr wrap="square"/>
              <a:lstStyle/>
              <a:p>
                <a:pPr>
                  <a:defRPr b="1" sz="105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inEnd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multiLvlStrRef>
              <c:f>categories</c:f>
              <c:multiLvlStrCache>
                <c:ptCount val="14"/>
                <c:lvl>
                  <c:pt idx="0">
                    <c:v>КСО</c:v>
                  </c:pt>
                  <c:pt idx="1">
                    <c:v>КСО в пересчете на нормы потребления</c:v>
                  </c:pt>
                  <c:pt idx="2">
                    <c:v>КСО</c:v>
                  </c:pt>
                  <c:pt idx="3">
                    <c:v>КСО в пересчете на нормы потребления</c:v>
                  </c:pt>
                  <c:pt idx="4">
                    <c:v>КСО</c:v>
                  </c:pt>
                  <c:pt idx="5">
                    <c:v>КСО в пересчете на нормы потребления</c:v>
                  </c:pt>
                  <c:pt idx="6">
                    <c:v>КСО</c:v>
                  </c:pt>
                  <c:pt idx="7">
                    <c:v>КСО в пересчете на нормы потребления</c:v>
                  </c:pt>
                  <c:pt idx="8">
                    <c:v>КСО</c:v>
                  </c:pt>
                  <c:pt idx="9">
                    <c:v>КСО в пересчете на нормы потребления</c:v>
                  </c:pt>
                  <c:pt idx="10">
                    <c:v>КСО</c:v>
                  </c:pt>
                  <c:pt idx="11">
                    <c:v>КСО в пересчете на нормы потребления</c:v>
                  </c:pt>
                  <c:pt idx="12">
                    <c:v>КСО</c:v>
                  </c:pt>
                  <c:pt idx="13">
                    <c:v>КСО в пересчете на нормы потребления</c:v>
                  </c:pt>
                </c:lvl>
                <c:lvl>
                  <c:pt idx="0">
                    <c:v>2014 г</c:v>
                  </c:pt>
                  <c:pt idx="2">
                    <c:v>2015 г</c:v>
                  </c:pt>
                  <c:pt idx="4">
                    <c:v>2016 г</c:v>
                  </c:pt>
                  <c:pt idx="6">
                    <c:v>2017 г</c:v>
                  </c:pt>
                  <c:pt idx="8">
                    <c:v>2018 г</c:v>
                  </c:pt>
                  <c:pt idx="10">
                    <c:v>2019 г</c:v>
                  </c:pt>
                  <c:pt idx="12">
                    <c:v>2020 г</c:v>
                  </c:pt>
                </c:lvl>
              </c:multiLvlStrCache>
            </c:multiLvlStrRef>
          </c:cat>
          <c:val>
            <c:numRef>
              <c:f>0</c:f>
              <c:numCache>
                <c:formatCode>General</c:formatCode>
                <c:ptCount val="14"/>
                <c:pt idx="0">
                  <c:v>82.8</c:v>
                </c:pt>
                <c:pt idx="1">
                  <c:v>83.9342465753425</c:v>
                </c:pt>
                <c:pt idx="2">
                  <c:v>88.7</c:v>
                </c:pt>
                <c:pt idx="3">
                  <c:v>88.7</c:v>
                </c:pt>
                <c:pt idx="4">
                  <c:v>90.6</c:v>
                </c:pt>
                <c:pt idx="5">
                  <c:v>91.841095890411</c:v>
                </c:pt>
                <c:pt idx="6">
                  <c:v>93.5</c:v>
                </c:pt>
                <c:pt idx="7">
                  <c:v>96.0616438356164</c:v>
                </c:pt>
                <c:pt idx="8">
                  <c:v>95.7</c:v>
                </c:pt>
                <c:pt idx="9">
                  <c:v>98.3219178082192</c:v>
                </c:pt>
                <c:pt idx="10">
                  <c:v>97.4</c:v>
                </c:pt>
                <c:pt idx="11">
                  <c:v>101.402739726027</c:v>
                </c:pt>
                <c:pt idx="12">
                  <c:v>100.1</c:v>
                </c:pt>
                <c:pt idx="13">
                  <c:v>104.213698630137</c:v>
                </c:pt>
              </c:numCache>
            </c:numRef>
          </c:val>
        </c:ser>
        <c:gapWidth val="41"/>
        <c:overlap val="0"/>
        <c:axId val="71453874"/>
        <c:axId val="17414053"/>
      </c:barChart>
      <c:catAx>
        <c:axId val="71453874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7414053"/>
        <c:crosses val="autoZero"/>
        <c:auto val="1"/>
        <c:lblAlgn val="ctr"/>
        <c:lblOffset val="100"/>
        <c:noMultiLvlLbl val="0"/>
      </c:catAx>
      <c:valAx>
        <c:axId val="17414053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453874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d9d9d9"/>
        </a:gs>
      </a:gsLst>
      <a:lin ang="5400000"/>
    </a:gradFill>
    <a:ln w="9360">
      <a:solidFill>
        <a:srgbClr val="d9d9d9"/>
      </a:solidFill>
      <a:round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420609884332282"/>
          <c:y val="0.261071277941797"/>
          <c:w val="0.957906151419558"/>
          <c:h val="0.657001265288908"/>
        </c:manualLayout>
      </c:layout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Валовой сбор зерновых, т </c:v>
                </c:pt>
              </c:strCache>
            </c:strRef>
          </c:tx>
          <c:spPr>
            <a:solidFill>
              <a:srgbClr val="5b9bd5"/>
            </a:solidFill>
            <a:ln cap="rnd" w="28440">
              <a:solidFill>
                <a:srgbClr val="5b9bd5"/>
              </a:solidFill>
              <a:round/>
            </a:ln>
          </c:spPr>
          <c:marker>
            <c:symbol val="circle"/>
            <c:size val="5"/>
            <c:spPr>
              <a:solidFill>
                <a:srgbClr val="5b9bd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0.73</c:v>
                </c:pt>
                <c:pt idx="1">
                  <c:v>0.72</c:v>
                </c:pt>
                <c:pt idx="2">
                  <c:v>0.82</c:v>
                </c:pt>
                <c:pt idx="3">
                  <c:v>0.92</c:v>
                </c:pt>
                <c:pt idx="4">
                  <c:v>0.77</c:v>
                </c:pt>
                <c:pt idx="5">
                  <c:v>0.83</c:v>
                </c:pt>
                <c:pt idx="6">
                  <c:v>0.91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Производственное потребление зерна и переработано на муку, крупу, комбикорма и другие цели, т  </c:v>
                </c:pt>
              </c:strCache>
            </c:strRef>
          </c:tx>
          <c:spPr>
            <a:solidFill>
              <a:srgbClr val="ff0000"/>
            </a:solidFill>
            <a:ln cap="rnd" w="28440">
              <a:solidFill>
                <a:srgbClr val="ff0000"/>
              </a:solidFill>
              <a:round/>
            </a:ln>
          </c:spPr>
          <c:marker>
            <c:symbol val="circle"/>
            <c:size val="5"/>
            <c:spPr>
              <a:solidFill>
                <a:srgbClr val="ff0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2014 г.</c:v>
                </c:pt>
                <c:pt idx="1">
                  <c:v>2015 г.</c:v>
                </c:pt>
                <c:pt idx="2">
                  <c:v>2016 г.</c:v>
                </c:pt>
                <c:pt idx="3">
                  <c:v>2017 г.</c:v>
                </c:pt>
                <c:pt idx="4">
                  <c:v>2018 г.</c:v>
                </c:pt>
                <c:pt idx="5">
                  <c:v>2019 г.</c:v>
                </c:pt>
                <c:pt idx="6">
                  <c:v>2020 г.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0.47</c:v>
                </c:pt>
                <c:pt idx="1">
                  <c:v>0.47</c:v>
                </c:pt>
                <c:pt idx="2">
                  <c:v>0.51</c:v>
                </c:pt>
                <c:pt idx="3">
                  <c:v>0.53</c:v>
                </c:pt>
                <c:pt idx="4">
                  <c:v>0.52</c:v>
                </c:pt>
                <c:pt idx="5">
                  <c:v>0.52</c:v>
                </c:pt>
                <c:pt idx="6">
                  <c:v>0.54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8329249"/>
        <c:axId val="49834057"/>
      </c:lineChart>
      <c:catAx>
        <c:axId val="18329249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1" sz="105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49834057"/>
        <c:crosses val="autoZero"/>
        <c:auto val="1"/>
        <c:lblAlgn val="ctr"/>
        <c:lblOffset val="100"/>
        <c:noMultiLvlLbl val="0"/>
      </c:catAx>
      <c:valAx>
        <c:axId val="4983405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18329249"/>
        <c:crosses val="autoZero"/>
        <c:crossBetween val="between"/>
      </c:valAx>
      <c:spPr>
        <a:solidFill>
          <a:srgbClr val="ffffff"/>
        </a:solidFill>
        <a:ln w="0">
          <a:noFill/>
        </a:ln>
      </c:spPr>
    </c:plotArea>
    <c:legend>
      <c:legendPos val="b"/>
      <c:layout>
        <c:manualLayout>
          <c:xMode val="edge"/>
          <c:yMode val="edge"/>
          <c:x val="0.125013203740992"/>
          <c:y val="0.685247347551424"/>
          <c:w val="0.73120179594471"/>
          <c:h val="0.192271341597853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73821138211382"/>
          <c:y val="0.0224436047177373"/>
          <c:w val="0.953951219512195"/>
          <c:h val="0.667010191228673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Мясо и мясопродукты в пересчете на мясо, кг  </c:v>
                </c:pt>
              </c:strCache>
            </c:strRef>
          </c:tx>
          <c:spPr>
            <a:solidFill>
              <a:srgbClr val="7030a0"/>
            </a:solidFill>
            <a:ln cap="rnd" w="28440">
              <a:solidFill>
                <a:srgbClr val="7030a0"/>
              </a:solidFill>
              <a:round/>
            </a:ln>
          </c:spPr>
          <c:marker>
            <c:symbol val="circle"/>
            <c:size val="5"/>
            <c:spPr>
              <a:solidFill>
                <a:srgbClr val="7030a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74</c:v>
                </c:pt>
                <c:pt idx="1">
                  <c:v>73</c:v>
                </c:pt>
                <c:pt idx="2">
                  <c:v>74</c:v>
                </c:pt>
                <c:pt idx="3">
                  <c:v>75</c:v>
                </c:pt>
                <c:pt idx="4">
                  <c:v>75</c:v>
                </c:pt>
                <c:pt idx="5">
                  <c:v>76</c:v>
                </c:pt>
                <c:pt idx="6">
                  <c:v>76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Молоко и молочные продукты в пересчете на молоко, кг  </c:v>
                </c:pt>
              </c:strCache>
            </c:strRef>
          </c:tx>
          <c:spPr>
            <a:solidFill>
              <a:srgbClr val="00b050"/>
            </a:solidFill>
            <a:ln cap="rnd" w="28440">
              <a:solidFill>
                <a:srgbClr val="00b050"/>
              </a:solidFill>
              <a:round/>
            </a:ln>
          </c:spPr>
          <c:marker>
            <c:symbol val="circle"/>
            <c:size val="5"/>
            <c:spPr>
              <a:solidFill>
                <a:srgbClr val="00b05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7"/>
                <c:pt idx="0">
                  <c:v>239</c:v>
                </c:pt>
                <c:pt idx="1">
                  <c:v>233</c:v>
                </c:pt>
                <c:pt idx="2">
                  <c:v>231</c:v>
                </c:pt>
                <c:pt idx="3">
                  <c:v>230</c:v>
                </c:pt>
                <c:pt idx="4">
                  <c:v>229</c:v>
                </c:pt>
                <c:pt idx="5">
                  <c:v>234</c:v>
                </c:pt>
                <c:pt idx="6">
                  <c:v>240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Яйца и яйцепродукты, шт.  </c:v>
                </c:pt>
              </c:strCache>
            </c:strRef>
          </c:tx>
          <c:spPr>
            <a:solidFill>
              <a:srgbClr val="a5a5a5"/>
            </a:solidFill>
            <a:ln cap="rnd" w="28440">
              <a:solidFill>
                <a:srgbClr val="a5a5a5"/>
              </a:solidFill>
              <a:round/>
            </a:ln>
          </c:spPr>
          <c:marker>
            <c:symbol val="circle"/>
            <c:size val="5"/>
            <c:spPr>
              <a:solidFill>
                <a:srgbClr val="a5a5a5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  <c:pt idx="4">
                  <c:v>5</c:v>
                </c:pt>
                <c:pt idx="5">
                  <c:v>6</c:v>
                </c:pt>
                <c:pt idx="6">
                  <c:v>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7"/>
                <c:pt idx="0">
                  <c:v>267</c:v>
                </c:pt>
                <c:pt idx="1">
                  <c:v>268</c:v>
                </c:pt>
                <c:pt idx="2">
                  <c:v>277</c:v>
                </c:pt>
                <c:pt idx="3">
                  <c:v>282</c:v>
                </c:pt>
                <c:pt idx="4">
                  <c:v>284</c:v>
                </c:pt>
                <c:pt idx="5">
                  <c:v>285</c:v>
                </c:pt>
                <c:pt idx="6">
                  <c:v>283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92346048"/>
        <c:axId val="54690981"/>
      </c:lineChart>
      <c:catAx>
        <c:axId val="92346048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54690981"/>
        <c:crosses val="autoZero"/>
        <c:auto val="1"/>
        <c:lblAlgn val="ctr"/>
        <c:lblOffset val="100"/>
        <c:noMultiLvlLbl val="0"/>
      </c:catAx>
      <c:valAx>
        <c:axId val="54690981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900" spc="-1" strike="noStrike">
                <a:solidFill>
                  <a:srgbClr val="595959"/>
                </a:solidFill>
                <a:latin typeface="Calibri"/>
              </a:defRPr>
            </a:pPr>
          </a:p>
        </c:txPr>
        <c:crossAx val="92346048"/>
        <c:crosses val="autoZero"/>
        <c:crossBetween val="between"/>
      </c:valAx>
      <c:spPr>
        <a:noFill/>
        <a:ln w="0">
          <a:noFill/>
        </a:ln>
      </c:spPr>
    </c:plotArea>
    <c:legend>
      <c:legendPos val="b"/>
      <c:layout>
        <c:manualLayout>
          <c:xMode val="edge"/>
          <c:yMode val="edge"/>
          <c:x val="0.0420401811152877"/>
          <c:y val="0.764889362768736"/>
          <c:w val="0.842496474278948"/>
          <c:h val="0.166435523006004"/>
        </c:manualLayout>
      </c:layout>
      <c:overlay val="0"/>
      <c:spPr>
        <a:noFill/>
        <a:ln w="0">
          <a:solidFill>
            <a:srgbClr val="5b9bd5">
              <a:alpha val="99000"/>
            </a:srgbClr>
          </a:solidFill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01C-CB09-45D1-9757-8099ED3B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D8D-18DC-4B43-B8D4-EB3191A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FBD-E377-49D9-BD2A-56A85808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087-4ECA-4CFF-994D-740C0FF2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A52-3D82-41E4-99FC-1C5CB27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56EF-1CEB-4D02-A0BC-74F586A0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3E4-16F3-4E86-ACF8-02DAE404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C6C-6713-4E83-85EC-0D0D5FB2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6D4C-CFCA-45AB-81CB-C4BE1558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D600-B0CB-40FB-A273-47764802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20C5-3B10-451B-9E0E-33D2006E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433C-C64B-4E05-9F77-D7D7514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208250-AE2D-4BD1-B210-EFCD2D9100A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350640" y="2361600"/>
            <a:ext cx="1149012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80000"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струменты цифровизации в аспекте продовольственной безопасности и развития зернопродуктового под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Ирина Трушкина, Сергей Широков, Вардан Алексанян, Хабас Бекулов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.Petersburg State Agrarian University (SPbS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menian National Agrarian University (ANAU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abardino-Balkarian State Agrarian University named after V.M. Kokov (Kabardino-Balkarian SAU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дзаголовок 2"/>
          <p:cNvSpPr/>
          <p:nvPr/>
        </p:nvSpPr>
        <p:spPr>
          <a:xfrm>
            <a:off x="350640" y="688680"/>
            <a:ext cx="11627280" cy="13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Международная конференция по цифровизации сельского хозяйства и органическому производств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8 июня 2022 г., Санкт-Петербур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809280" y="5685120"/>
            <a:ext cx="10771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International Conference on Agriculture Digitalization and Organic Production (ADOP 2022), June 6-8, 202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5842800" y="362520"/>
            <a:ext cx="60955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Now, here, you see, it takes all the running you can do, to keep in the same 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wis Car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37400" y="1440720"/>
            <a:ext cx="1150128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Цифровизация – это процесс перехода к цифровому региону, трансформация процессов кросс-регионального, межотраслевого, межличностного взаимодействия в регионе за счет проникновения цифровых технологий, направленная на повышение качества жизни населения, конкурентоспособности экономики РФ, обеспечение национальной безопасности и суверенитета страны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Лапидус Л.В. Стратегии цифрового лидерства и запрос на новые компетенции цифровой экономики: основа для сотрудничества Россия – Болгария // Теория и практика проектного образования. 201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No 3 (11). С. 51–57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исследования -  анализ возможностей и задач по применению инструментов цифровизации как фактора устойчивого развития зернового под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ая задача и цель «проникновения» цифровых инструментов в технологические цепочки – полноценное и достаточное обеспечение населения продовольствием. Это выступает базовым элементом экономической, социальной и политической безопасности государства, стабильности и развития реального сектора национальной эконом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1138680" y="1126440"/>
            <a:ext cx="1039464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самообеспечения отдельными видами сельскохозяйственной продукции, сырья и продовольствия, коэффициент самообеспе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s://docs.cntd.ru/document/5660064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"/>
          <p:cNvPicPr/>
          <p:nvPr/>
        </p:nvPicPr>
        <p:blipFill>
          <a:blip r:embed="rId1"/>
          <a:stretch/>
        </p:blipFill>
        <p:spPr>
          <a:xfrm>
            <a:off x="1267920" y="1880280"/>
            <a:ext cx="10719360" cy="5950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1138680" y="146520"/>
            <a:ext cx="9859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овень самообеспеченности основными продуктами питания при фактическом потреблении и по рекомендуемых нормах, 2020 г.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Диаграмма 6"/>
          <p:cNvGraphicFramePr/>
          <p:nvPr/>
        </p:nvGraphicFramePr>
        <p:xfrm>
          <a:off x="1138680" y="2958840"/>
          <a:ext cx="10299600" cy="375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Диаграмма 4"/>
          <p:cNvGraphicFramePr/>
          <p:nvPr/>
        </p:nvGraphicFramePr>
        <p:xfrm>
          <a:off x="992160" y="1091520"/>
          <a:ext cx="10463400" cy="2527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1" name="Прямоугольник 5"/>
          <p:cNvSpPr/>
          <p:nvPr/>
        </p:nvSpPr>
        <p:spPr>
          <a:xfrm>
            <a:off x="879840" y="319320"/>
            <a:ext cx="106876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, молоко и молочные продукты в пересчете на молок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Диаграмма 6"/>
          <p:cNvGraphicFramePr/>
          <p:nvPr/>
        </p:nvGraphicFramePr>
        <p:xfrm>
          <a:off x="992160" y="4330440"/>
          <a:ext cx="10463400" cy="2277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53" name="Прямоугольник 7"/>
          <p:cNvSpPr/>
          <p:nvPr/>
        </p:nvSpPr>
        <p:spPr>
          <a:xfrm>
            <a:off x="992160" y="3636000"/>
            <a:ext cx="102132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эффициенты самообеспечения по фактическому потреблению и рекомендуемым нормам потребления по мясо и мясопродукты в пересчете на мясо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474480" y="85680"/>
            <a:ext cx="10840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намика валового сбора зерна, объемов его производственного потребления и производства животноводческой продукции в расчете на душу населения в целом п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Диаграмма 4"/>
          <p:cNvGraphicFramePr/>
          <p:nvPr/>
        </p:nvGraphicFramePr>
        <p:xfrm>
          <a:off x="474480" y="3229560"/>
          <a:ext cx="10955160" cy="34138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56" name="Диаграмма 5"/>
          <p:cNvGraphicFramePr/>
          <p:nvPr/>
        </p:nvGraphicFramePr>
        <p:xfrm>
          <a:off x="651600" y="834840"/>
          <a:ext cx="11069640" cy="31435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4699440" y="1074600"/>
            <a:ext cx="3355920" cy="499320"/>
          </a:xfrm>
          <a:prstGeom prst="rect">
            <a:avLst/>
          </a:prstGeom>
          <a:noFill/>
          <a:ln w="12700">
            <a:solidFill>
              <a:srgbClr val="1f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Управление зерновым подкомплекс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4699440" y="2114280"/>
            <a:ext cx="3363120" cy="813960"/>
          </a:xfrm>
          <a:prstGeom prst="rect">
            <a:avLst/>
          </a:prstGeom>
          <a:noFill/>
          <a:ln w="127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 управления (зерновой подкомплек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𝓛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= (g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ġ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, n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: вниз 2"/>
          <p:cNvSpPr/>
          <p:nvPr/>
        </p:nvSpPr>
        <p:spPr>
          <a:xfrm>
            <a:off x="6125040" y="1616400"/>
            <a:ext cx="298800" cy="492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Стрелка: изогнутая влево 6"/>
          <p:cNvSpPr/>
          <p:nvPr/>
        </p:nvSpPr>
        <p:spPr>
          <a:xfrm>
            <a:off x="8062920" y="1281960"/>
            <a:ext cx="709200" cy="1194480"/>
          </a:xfrm>
          <a:prstGeom prst="curvedLeftArrow">
            <a:avLst>
              <a:gd name="adj1" fmla="val 25000"/>
              <a:gd name="adj2" fmla="val 50000"/>
              <a:gd name="adj3" fmla="val 25000"/>
            </a:avLst>
          </a:prstGeom>
          <a:solidFill>
            <a:srgbClr val="ffff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Стрелка: вправо 10"/>
          <p:cNvSpPr/>
          <p:nvPr/>
        </p:nvSpPr>
        <p:spPr>
          <a:xfrm>
            <a:off x="8055720" y="2427480"/>
            <a:ext cx="1535040" cy="394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738520" y="323280"/>
            <a:ext cx="6846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хема механизма формирования зернового под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7"/>
          <p:cNvSpPr/>
          <p:nvPr/>
        </p:nvSpPr>
        <p:spPr>
          <a:xfrm>
            <a:off x="6156000" y="92520"/>
            <a:ext cx="18396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: вправо 10"/>
          <p:cNvSpPr/>
          <p:nvPr/>
        </p:nvSpPr>
        <p:spPr>
          <a:xfrm>
            <a:off x="3459240" y="2427480"/>
            <a:ext cx="1239840" cy="36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Прямоугольник 39"/>
          <p:cNvSpPr/>
          <p:nvPr/>
        </p:nvSpPr>
        <p:spPr>
          <a:xfrm>
            <a:off x="3520080" y="2070360"/>
            <a:ext cx="610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ход                                                                                   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0"/>
          <p:cNvSpPr/>
          <p:nvPr/>
        </p:nvSpPr>
        <p:spPr>
          <a:xfrm>
            <a:off x="2629080" y="2937960"/>
            <a:ext cx="723816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урсы                                                                   объём произ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лементы механ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ернового подкомплекса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ġ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1"/>
          <p:cNvSpPr/>
          <p:nvPr/>
        </p:nvSpPr>
        <p:spPr>
          <a:xfrm>
            <a:off x="272520" y="3617640"/>
            <a:ext cx="11731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𝓛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енная функция, описывающая механизм функционирования   зернового подкомплекса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д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численность населения, тыс. чел.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 элементы первого порядка: используемые ресурсы – площадь пашни и посевов зерновых, обеспеченность трудовыми ресурсами, техническая оснащенность отрасли, объемы внесенных минеральных удобрений и др.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ġ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i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 элементы второго порядка: элементы механизм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овог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комплекса – уровень господдержки хозяйствующих субъектов, размер инвестиций в основной капитал, цена продукции и рентабельность производства, инструменты стимулирования развития инфраструктуры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менты времен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оризонты планирования) подкомплекс занимает определенные равновесные положения, характеризуемые двумя наборами значений элементов первого и второго порядка.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 2-мя этими равновесными положениями система «движется» по принципу наименьшего действия: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интеграла функции должно иметь наименьшее возможное значение, при «движении» подкомплекса в направлении, при котором возникает положительный потенциал дальнейшего развития отрас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которые вопросы моделирования механизма развития зернопродуктового подкомплекса международная научно-практическая конференция "Никоновские чтения 2021" 25-26 октября 2021 г. в г. Москве в ВИАПИ имени А.А. Никонова – филиал ФГБНУ ФНЦ ВНИИЭСХ состоялось научная конференция «ВЗАИМОДЕЙСТВИЕ ГОРОДА И СЕЛА В СОВРЕМЕННОМ ОБЩЕСТВЕ: ТЕНДЕНЦИИ, ПРОБЛЕМЫ, ПЕРСПЕКТИВЫ» На секционном заседании научной конференции 26 октября 2021 г</a:t>
            </a:r>
            <a:r>
              <a:rPr b="0" lang="ru-RU" sz="105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44"/>
          <p:cNvSpPr/>
          <p:nvPr/>
        </p:nvSpPr>
        <p:spPr>
          <a:xfrm>
            <a:off x="1525680" y="1618920"/>
            <a:ext cx="1926000" cy="16412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ЕДИНОЕ ИНФОРМАЦИОННОЕ УПРАВЛЯЮЩЕЕ ПРОСТРАНСТ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46"/>
          <p:cNvSpPr/>
          <p:nvPr/>
        </p:nvSpPr>
        <p:spPr>
          <a:xfrm>
            <a:off x="9699120" y="1380600"/>
            <a:ext cx="2226600" cy="216972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25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МЕЖОТРАСЛЕВЫ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ЛАНС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583560" y="534960"/>
            <a:ext cx="112255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Понятие «больших данных» и наука о сетях находятся за гранью обычных подходов к проектированию социальных структур» [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entland A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ocial Physic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Good Ideas Spread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he Lessons from a New Science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]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ущий уровень конкуренции на мировом рынке зерна и продуктов его переработки, а также другие глобальные факторы вызывают необходимость постоянного изучения причинно-следственных взаимосвязей в функционировании зернового компл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менительно к  дальнейшему развитию зернопродуктового подкомплекса АПК требуется четкое понимание, в каком направлении будет происходить его цифровая трансформация. Как показали исследования, масштаб и сложность данных процессов заставляют прогнозировать в перспективе тесное взаимодействие государства и бизнеса  в сочетании с  повышением роли экономической на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  <Words>717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28T08:58:11Z</dcterms:created>
  <dc:creator>Преподаватель 2219</dc:creator>
  <dc:description/>
  <dc:language>en-US</dc:language>
  <cp:lastModifiedBy>Irina Trushkina</cp:lastModifiedBy>
  <dcterms:modified xsi:type="dcterms:W3CDTF">2022-05-29T19:47:08Z</dcterms:modified>
  <cp:revision>1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