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F01B005-39F6-4057-B3AA-7B44DD88442B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3D30FDF-397E-4866-A2ED-1076BF9B010B}">
      <dgm:prSet phldrT="[Текст]" custT="1"/>
      <dgm:spPr/>
      <dgm:t>
        <a:bodyPr/>
        <a:lstStyle/>
        <a:p>
          <a:r>
            <a:rPr lang="ru-RU" sz="2400" b="1" dirty="0" smtClean="0"/>
            <a:t>Упражнение является обязательной частью любого изучаемого материала.</a:t>
          </a:r>
          <a:endParaRPr lang="ru-RU" sz="2400" b="1" dirty="0"/>
        </a:p>
      </dgm:t>
    </dgm:pt>
    <dgm:pt modelId="{552566B7-65A6-4ADE-AAE8-586A8A44B434}" type="parTrans" cxnId="{A382AE3C-CE64-4E5F-AE64-839964D8EBD7}">
      <dgm:prSet/>
      <dgm:spPr/>
      <dgm:t>
        <a:bodyPr/>
        <a:lstStyle/>
        <a:p>
          <a:endParaRPr lang="ru-RU"/>
        </a:p>
      </dgm:t>
    </dgm:pt>
    <dgm:pt modelId="{DDB86A05-36C3-42B6-9540-426AA45A2296}" type="sibTrans" cxnId="{A382AE3C-CE64-4E5F-AE64-839964D8EBD7}">
      <dgm:prSet/>
      <dgm:spPr/>
      <dgm:t>
        <a:bodyPr/>
        <a:lstStyle/>
        <a:p>
          <a:endParaRPr lang="ru-RU"/>
        </a:p>
      </dgm:t>
    </dgm:pt>
    <dgm:pt modelId="{F80DC6AD-943A-4DB1-AEFC-2E87D924321D}">
      <dgm:prSet phldrT="[Текст]" custT="1"/>
      <dgm:spPr/>
      <dgm:t>
        <a:bodyPr/>
        <a:lstStyle/>
        <a:p>
          <a:r>
            <a:rPr lang="ru-RU" sz="1800" b="1" dirty="0" smtClean="0"/>
            <a:t>Функция метода упражнения заключается в том, чтобы трансформировать часть знаний учащегося в умения и навыки, обеспечить ему возможность умелого практического действия, воспроизводящей и творческой деятельности. </a:t>
          </a:r>
          <a:endParaRPr lang="ru-RU" sz="1800" b="1" dirty="0"/>
        </a:p>
      </dgm:t>
    </dgm:pt>
    <dgm:pt modelId="{00DC22B4-9B4F-46EC-BC5D-FCAEAFB964D4}" type="parTrans" cxnId="{830892EC-13DF-4EF5-AEC3-D1594B34EFC6}">
      <dgm:prSet/>
      <dgm:spPr/>
      <dgm:t>
        <a:bodyPr/>
        <a:lstStyle/>
        <a:p>
          <a:endParaRPr lang="ru-RU"/>
        </a:p>
      </dgm:t>
    </dgm:pt>
    <dgm:pt modelId="{46C546C2-1FEC-4217-88C0-1FD1A3347D58}" type="sibTrans" cxnId="{830892EC-13DF-4EF5-AEC3-D1594B34EFC6}">
      <dgm:prSet/>
      <dgm:spPr/>
      <dgm:t>
        <a:bodyPr/>
        <a:lstStyle/>
        <a:p>
          <a:endParaRPr lang="ru-RU"/>
        </a:p>
      </dgm:t>
    </dgm:pt>
    <dgm:pt modelId="{8D8E020F-F5B2-4CED-8BAA-731BD71153D7}">
      <dgm:prSet phldrT="[Текст]" custT="1"/>
      <dgm:spPr/>
      <dgm:t>
        <a:bodyPr/>
        <a:lstStyle/>
        <a:p>
          <a:r>
            <a:rPr lang="ru-RU" sz="1800" b="1" dirty="0" smtClean="0"/>
            <a:t>Диагностическое значение упражнения состоит в том, что только глубокое понимание учащимися приобретенных знаний обеспечивает возможность овладения прочными умениями и навыками. </a:t>
          </a:r>
          <a:endParaRPr lang="ru-RU" sz="1800" b="1" dirty="0"/>
        </a:p>
      </dgm:t>
    </dgm:pt>
    <dgm:pt modelId="{288F04D5-BE99-4206-BC5A-5E2BBC980AB3}" type="parTrans" cxnId="{21817B26-8D82-40E0-9BD2-EC59AEB21C0D}">
      <dgm:prSet/>
      <dgm:spPr/>
      <dgm:t>
        <a:bodyPr/>
        <a:lstStyle/>
        <a:p>
          <a:endParaRPr lang="ru-RU"/>
        </a:p>
      </dgm:t>
    </dgm:pt>
    <dgm:pt modelId="{2ED7F872-68E7-4D1F-A4EA-F62DE16078BA}" type="sibTrans" cxnId="{21817B26-8D82-40E0-9BD2-EC59AEB21C0D}">
      <dgm:prSet/>
      <dgm:spPr/>
      <dgm:t>
        <a:bodyPr/>
        <a:lstStyle/>
        <a:p>
          <a:endParaRPr lang="ru-RU"/>
        </a:p>
      </dgm:t>
    </dgm:pt>
    <dgm:pt modelId="{30AB1F6A-AE25-46CC-BBB6-42DF0400AB50}" type="pres">
      <dgm:prSet presAssocID="{1F01B005-39F6-4057-B3AA-7B44DD88442B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8BB9BA4-2736-4EA0-9CFA-4716A4F811FC}" type="pres">
      <dgm:prSet presAssocID="{93D30FDF-397E-4866-A2ED-1076BF9B010B}" presName="parentLin" presStyleCnt="0"/>
      <dgm:spPr/>
    </dgm:pt>
    <dgm:pt modelId="{A125AA37-EF6F-4590-9A23-D248641602A9}" type="pres">
      <dgm:prSet presAssocID="{93D30FDF-397E-4866-A2ED-1076BF9B010B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0413B974-6BE0-4540-9B90-B54C803D4E7A}" type="pres">
      <dgm:prSet presAssocID="{93D30FDF-397E-4866-A2ED-1076BF9B010B}" presName="parentText" presStyleLbl="node1" presStyleIdx="0" presStyleCnt="3" custScaleX="108387" custScaleY="147955" custLinFactNeighborX="-19737" custLinFactNeighborY="-199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73460F-81F1-4003-81BF-F48D51698522}" type="pres">
      <dgm:prSet presAssocID="{93D30FDF-397E-4866-A2ED-1076BF9B010B}" presName="negativeSpace" presStyleCnt="0"/>
      <dgm:spPr/>
    </dgm:pt>
    <dgm:pt modelId="{3E876B20-E0C0-40C5-B031-7FB55A44FF55}" type="pres">
      <dgm:prSet presAssocID="{93D30FDF-397E-4866-A2ED-1076BF9B010B}" presName="childText" presStyleLbl="conFgAcc1" presStyleIdx="0" presStyleCnt="3">
        <dgm:presLayoutVars>
          <dgm:bulletEnabled val="1"/>
        </dgm:presLayoutVars>
      </dgm:prSet>
      <dgm:spPr/>
    </dgm:pt>
    <dgm:pt modelId="{9DF0D79D-C20B-436A-9A13-DBBABD63DC0B}" type="pres">
      <dgm:prSet presAssocID="{DDB86A05-36C3-42B6-9540-426AA45A2296}" presName="spaceBetweenRectangles" presStyleCnt="0"/>
      <dgm:spPr/>
    </dgm:pt>
    <dgm:pt modelId="{A13584A8-4558-4F4F-88F2-A294EC69975E}" type="pres">
      <dgm:prSet presAssocID="{F80DC6AD-943A-4DB1-AEFC-2E87D924321D}" presName="parentLin" presStyleCnt="0"/>
      <dgm:spPr/>
    </dgm:pt>
    <dgm:pt modelId="{2D2DEA75-8B3A-40F5-B13F-9590513267A6}" type="pres">
      <dgm:prSet presAssocID="{F80DC6AD-943A-4DB1-AEFC-2E87D924321D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67D95DC6-9E0D-4DA9-B0E6-AC20403B42A2}" type="pres">
      <dgm:prSet presAssocID="{F80DC6AD-943A-4DB1-AEFC-2E87D924321D}" presName="parentText" presStyleLbl="node1" presStyleIdx="1" presStyleCnt="3" custScaleX="108387" custScaleY="14380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667C6A-DC9E-44E6-8237-C692F98642EE}" type="pres">
      <dgm:prSet presAssocID="{F80DC6AD-943A-4DB1-AEFC-2E87D924321D}" presName="negativeSpace" presStyleCnt="0"/>
      <dgm:spPr/>
    </dgm:pt>
    <dgm:pt modelId="{99104C98-DDA8-47EF-8F59-24CD5B673360}" type="pres">
      <dgm:prSet presAssocID="{F80DC6AD-943A-4DB1-AEFC-2E87D924321D}" presName="childText" presStyleLbl="conFgAcc1" presStyleIdx="1" presStyleCnt="3">
        <dgm:presLayoutVars>
          <dgm:bulletEnabled val="1"/>
        </dgm:presLayoutVars>
      </dgm:prSet>
      <dgm:spPr/>
    </dgm:pt>
    <dgm:pt modelId="{6362F285-1982-4454-8251-DB6D2D8EBFCA}" type="pres">
      <dgm:prSet presAssocID="{46C546C2-1FEC-4217-88C0-1FD1A3347D58}" presName="spaceBetweenRectangles" presStyleCnt="0"/>
      <dgm:spPr/>
    </dgm:pt>
    <dgm:pt modelId="{8F59FD5A-8C8B-489A-A23C-B3DD02E6C975}" type="pres">
      <dgm:prSet presAssocID="{8D8E020F-F5B2-4CED-8BAA-731BD71153D7}" presName="parentLin" presStyleCnt="0"/>
      <dgm:spPr/>
    </dgm:pt>
    <dgm:pt modelId="{92DD01A6-4FCA-421F-96BD-332BB3F1D935}" type="pres">
      <dgm:prSet presAssocID="{8D8E020F-F5B2-4CED-8BAA-731BD71153D7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EB57344D-DC91-4A98-A710-C15D8F9BEF20}" type="pres">
      <dgm:prSet presAssocID="{8D8E020F-F5B2-4CED-8BAA-731BD71153D7}" presName="parentText" presStyleLbl="node1" presStyleIdx="2" presStyleCnt="3" custScaleX="110788" custScaleY="16729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4A92D5-FC45-476C-BB08-53513A13E6DA}" type="pres">
      <dgm:prSet presAssocID="{8D8E020F-F5B2-4CED-8BAA-731BD71153D7}" presName="negativeSpace" presStyleCnt="0"/>
      <dgm:spPr/>
    </dgm:pt>
    <dgm:pt modelId="{DEACC5F2-0BC9-4480-A8DC-0CE7B53D84CE}" type="pres">
      <dgm:prSet presAssocID="{8D8E020F-F5B2-4CED-8BAA-731BD71153D7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3AFA1D63-5B95-43B1-B0F1-22C5BCA023BA}" type="presOf" srcId="{8D8E020F-F5B2-4CED-8BAA-731BD71153D7}" destId="{92DD01A6-4FCA-421F-96BD-332BB3F1D935}" srcOrd="0" destOrd="0" presId="urn:microsoft.com/office/officeart/2005/8/layout/list1"/>
    <dgm:cxn modelId="{830892EC-13DF-4EF5-AEC3-D1594B34EFC6}" srcId="{1F01B005-39F6-4057-B3AA-7B44DD88442B}" destId="{F80DC6AD-943A-4DB1-AEFC-2E87D924321D}" srcOrd="1" destOrd="0" parTransId="{00DC22B4-9B4F-46EC-BC5D-FCAEAFB964D4}" sibTransId="{46C546C2-1FEC-4217-88C0-1FD1A3347D58}"/>
    <dgm:cxn modelId="{8BEB91D4-20B3-4D5B-A72A-4F44F20BED5B}" type="presOf" srcId="{F80DC6AD-943A-4DB1-AEFC-2E87D924321D}" destId="{67D95DC6-9E0D-4DA9-B0E6-AC20403B42A2}" srcOrd="1" destOrd="0" presId="urn:microsoft.com/office/officeart/2005/8/layout/list1"/>
    <dgm:cxn modelId="{792168FB-D657-43BF-BC92-C484BF1D4CD2}" type="presOf" srcId="{1F01B005-39F6-4057-B3AA-7B44DD88442B}" destId="{30AB1F6A-AE25-46CC-BBB6-42DF0400AB50}" srcOrd="0" destOrd="0" presId="urn:microsoft.com/office/officeart/2005/8/layout/list1"/>
    <dgm:cxn modelId="{4C57C7D6-DF64-46AD-9D01-B3CDBDC07F23}" type="presOf" srcId="{8D8E020F-F5B2-4CED-8BAA-731BD71153D7}" destId="{EB57344D-DC91-4A98-A710-C15D8F9BEF20}" srcOrd="1" destOrd="0" presId="urn:microsoft.com/office/officeart/2005/8/layout/list1"/>
    <dgm:cxn modelId="{A382AE3C-CE64-4E5F-AE64-839964D8EBD7}" srcId="{1F01B005-39F6-4057-B3AA-7B44DD88442B}" destId="{93D30FDF-397E-4866-A2ED-1076BF9B010B}" srcOrd="0" destOrd="0" parTransId="{552566B7-65A6-4ADE-AAE8-586A8A44B434}" sibTransId="{DDB86A05-36C3-42B6-9540-426AA45A2296}"/>
    <dgm:cxn modelId="{7CDCB6A6-C51A-4578-9115-C4B04A5DA6CB}" type="presOf" srcId="{F80DC6AD-943A-4DB1-AEFC-2E87D924321D}" destId="{2D2DEA75-8B3A-40F5-B13F-9590513267A6}" srcOrd="0" destOrd="0" presId="urn:microsoft.com/office/officeart/2005/8/layout/list1"/>
    <dgm:cxn modelId="{98680A4B-E7B0-4829-8C90-BFD6F6E40899}" type="presOf" srcId="{93D30FDF-397E-4866-A2ED-1076BF9B010B}" destId="{A125AA37-EF6F-4590-9A23-D248641602A9}" srcOrd="0" destOrd="0" presId="urn:microsoft.com/office/officeart/2005/8/layout/list1"/>
    <dgm:cxn modelId="{F8D380F1-47FD-422E-AAF4-02F903F10BB1}" type="presOf" srcId="{93D30FDF-397E-4866-A2ED-1076BF9B010B}" destId="{0413B974-6BE0-4540-9B90-B54C803D4E7A}" srcOrd="1" destOrd="0" presId="urn:microsoft.com/office/officeart/2005/8/layout/list1"/>
    <dgm:cxn modelId="{21817B26-8D82-40E0-9BD2-EC59AEB21C0D}" srcId="{1F01B005-39F6-4057-B3AA-7B44DD88442B}" destId="{8D8E020F-F5B2-4CED-8BAA-731BD71153D7}" srcOrd="2" destOrd="0" parTransId="{288F04D5-BE99-4206-BC5A-5E2BBC980AB3}" sibTransId="{2ED7F872-68E7-4D1F-A4EA-F62DE16078BA}"/>
    <dgm:cxn modelId="{4392354B-CE45-4168-B85E-12761C584908}" type="presParOf" srcId="{30AB1F6A-AE25-46CC-BBB6-42DF0400AB50}" destId="{48BB9BA4-2736-4EA0-9CFA-4716A4F811FC}" srcOrd="0" destOrd="0" presId="urn:microsoft.com/office/officeart/2005/8/layout/list1"/>
    <dgm:cxn modelId="{33B0CA3F-01CB-4735-97AA-25002A0C8F81}" type="presParOf" srcId="{48BB9BA4-2736-4EA0-9CFA-4716A4F811FC}" destId="{A125AA37-EF6F-4590-9A23-D248641602A9}" srcOrd="0" destOrd="0" presId="urn:microsoft.com/office/officeart/2005/8/layout/list1"/>
    <dgm:cxn modelId="{8174F17B-9630-4838-92AC-7D436DDBB64D}" type="presParOf" srcId="{48BB9BA4-2736-4EA0-9CFA-4716A4F811FC}" destId="{0413B974-6BE0-4540-9B90-B54C803D4E7A}" srcOrd="1" destOrd="0" presId="urn:microsoft.com/office/officeart/2005/8/layout/list1"/>
    <dgm:cxn modelId="{2C172EA4-98D6-427C-AB61-1C44D2395BBB}" type="presParOf" srcId="{30AB1F6A-AE25-46CC-BBB6-42DF0400AB50}" destId="{3C73460F-81F1-4003-81BF-F48D51698522}" srcOrd="1" destOrd="0" presId="urn:microsoft.com/office/officeart/2005/8/layout/list1"/>
    <dgm:cxn modelId="{6F28CC74-2E11-4560-9545-62572C822A17}" type="presParOf" srcId="{30AB1F6A-AE25-46CC-BBB6-42DF0400AB50}" destId="{3E876B20-E0C0-40C5-B031-7FB55A44FF55}" srcOrd="2" destOrd="0" presId="urn:microsoft.com/office/officeart/2005/8/layout/list1"/>
    <dgm:cxn modelId="{2F52E296-B6FC-40F7-8691-CAF470A842B6}" type="presParOf" srcId="{30AB1F6A-AE25-46CC-BBB6-42DF0400AB50}" destId="{9DF0D79D-C20B-436A-9A13-DBBABD63DC0B}" srcOrd="3" destOrd="0" presId="urn:microsoft.com/office/officeart/2005/8/layout/list1"/>
    <dgm:cxn modelId="{4EAE5661-AF61-4216-BE59-F316256150D9}" type="presParOf" srcId="{30AB1F6A-AE25-46CC-BBB6-42DF0400AB50}" destId="{A13584A8-4558-4F4F-88F2-A294EC69975E}" srcOrd="4" destOrd="0" presId="urn:microsoft.com/office/officeart/2005/8/layout/list1"/>
    <dgm:cxn modelId="{3B3658A8-A83F-435F-BC3E-128030A66089}" type="presParOf" srcId="{A13584A8-4558-4F4F-88F2-A294EC69975E}" destId="{2D2DEA75-8B3A-40F5-B13F-9590513267A6}" srcOrd="0" destOrd="0" presId="urn:microsoft.com/office/officeart/2005/8/layout/list1"/>
    <dgm:cxn modelId="{329F8B07-FAFC-4371-B356-4748E0717F1F}" type="presParOf" srcId="{A13584A8-4558-4F4F-88F2-A294EC69975E}" destId="{67D95DC6-9E0D-4DA9-B0E6-AC20403B42A2}" srcOrd="1" destOrd="0" presId="urn:microsoft.com/office/officeart/2005/8/layout/list1"/>
    <dgm:cxn modelId="{AD5C5694-F988-480B-A005-BFB1C9CCE4BE}" type="presParOf" srcId="{30AB1F6A-AE25-46CC-BBB6-42DF0400AB50}" destId="{AB667C6A-DC9E-44E6-8237-C692F98642EE}" srcOrd="5" destOrd="0" presId="urn:microsoft.com/office/officeart/2005/8/layout/list1"/>
    <dgm:cxn modelId="{78E370A9-74C1-48CF-A63A-B741564C651E}" type="presParOf" srcId="{30AB1F6A-AE25-46CC-BBB6-42DF0400AB50}" destId="{99104C98-DDA8-47EF-8F59-24CD5B673360}" srcOrd="6" destOrd="0" presId="urn:microsoft.com/office/officeart/2005/8/layout/list1"/>
    <dgm:cxn modelId="{57EF680C-2056-40E4-80E1-A66B696064C3}" type="presParOf" srcId="{30AB1F6A-AE25-46CC-BBB6-42DF0400AB50}" destId="{6362F285-1982-4454-8251-DB6D2D8EBFCA}" srcOrd="7" destOrd="0" presId="urn:microsoft.com/office/officeart/2005/8/layout/list1"/>
    <dgm:cxn modelId="{9639C438-D5D3-4738-A55F-B9C57898DB49}" type="presParOf" srcId="{30AB1F6A-AE25-46CC-BBB6-42DF0400AB50}" destId="{8F59FD5A-8C8B-489A-A23C-B3DD02E6C975}" srcOrd="8" destOrd="0" presId="urn:microsoft.com/office/officeart/2005/8/layout/list1"/>
    <dgm:cxn modelId="{2D0B0078-0053-46BE-B9FB-5557B4BF0D18}" type="presParOf" srcId="{8F59FD5A-8C8B-489A-A23C-B3DD02E6C975}" destId="{92DD01A6-4FCA-421F-96BD-332BB3F1D935}" srcOrd="0" destOrd="0" presId="urn:microsoft.com/office/officeart/2005/8/layout/list1"/>
    <dgm:cxn modelId="{6882EF2C-5440-42D8-AB8E-363F7679E6AB}" type="presParOf" srcId="{8F59FD5A-8C8B-489A-A23C-B3DD02E6C975}" destId="{EB57344D-DC91-4A98-A710-C15D8F9BEF20}" srcOrd="1" destOrd="0" presId="urn:microsoft.com/office/officeart/2005/8/layout/list1"/>
    <dgm:cxn modelId="{E00BEDB7-033E-4436-A5E4-EB6BEAEFFAD7}" type="presParOf" srcId="{30AB1F6A-AE25-46CC-BBB6-42DF0400AB50}" destId="{5E4A92D5-FC45-476C-BB08-53513A13E6DA}" srcOrd="9" destOrd="0" presId="urn:microsoft.com/office/officeart/2005/8/layout/list1"/>
    <dgm:cxn modelId="{B8670861-277F-4603-AE4C-0453C58C5864}" type="presParOf" srcId="{30AB1F6A-AE25-46CC-BBB6-42DF0400AB50}" destId="{DEACC5F2-0BC9-4480-A8DC-0CE7B53D84CE}" srcOrd="10" destOrd="0" presId="urn:microsoft.com/office/officeart/2005/8/layout/lis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BD19786-B20D-4F4F-B221-2F5F12B2569A}" type="doc">
      <dgm:prSet loTypeId="urn:microsoft.com/office/officeart/2005/8/layout/chevron2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8CB40D19-D184-4A01-B73C-824D305E34F8}">
      <dgm:prSet phldrT="[Текст]" custT="1"/>
      <dgm:spPr/>
      <dgm:t>
        <a:bodyPr/>
        <a:lstStyle/>
        <a:p>
          <a:r>
            <a:rPr lang="ru-RU" sz="1600" b="1" i="1" dirty="0" smtClean="0"/>
            <a:t>первый этап </a:t>
          </a:r>
          <a:endParaRPr lang="ru-RU" sz="1600" b="1" dirty="0"/>
        </a:p>
      </dgm:t>
    </dgm:pt>
    <dgm:pt modelId="{CDF4466B-F05F-48BF-9ED6-8E92B73A944C}" type="parTrans" cxnId="{C0AD342A-1808-4807-B74B-8CB05CEED7B7}">
      <dgm:prSet/>
      <dgm:spPr/>
      <dgm:t>
        <a:bodyPr/>
        <a:lstStyle/>
        <a:p>
          <a:endParaRPr lang="ru-RU"/>
        </a:p>
      </dgm:t>
    </dgm:pt>
    <dgm:pt modelId="{3AD85546-EC8A-448E-9C7B-F2EE2F102413}" type="sibTrans" cxnId="{C0AD342A-1808-4807-B74B-8CB05CEED7B7}">
      <dgm:prSet/>
      <dgm:spPr/>
      <dgm:t>
        <a:bodyPr/>
        <a:lstStyle/>
        <a:p>
          <a:endParaRPr lang="ru-RU"/>
        </a:p>
      </dgm:t>
    </dgm:pt>
    <dgm:pt modelId="{1EDA27E0-79C9-4F7B-971B-A723C931D99D}">
      <dgm:prSet phldrT="[Текст]" custT="1"/>
      <dgm:spPr/>
      <dgm:t>
        <a:bodyPr/>
        <a:lstStyle/>
        <a:p>
          <a:pPr algn="just"/>
          <a:r>
            <a:rPr lang="ru-RU" sz="2000" b="1" i="1" dirty="0" smtClean="0">
              <a:solidFill>
                <a:srgbClr val="C00000"/>
              </a:solidFill>
            </a:rPr>
            <a:t> </a:t>
          </a:r>
          <a:r>
            <a:rPr lang="ru-RU" sz="2000" b="1" dirty="0" smtClean="0">
              <a:solidFill>
                <a:srgbClr val="C00000"/>
              </a:solidFill>
            </a:rPr>
            <a:t>педагог, опираясь на воспринятые и осмысленные учащимися знания, объясняет им цель и задачи предстоящей тренировочной деятельности;</a:t>
          </a:r>
          <a:endParaRPr lang="ru-RU" sz="2000" b="1" dirty="0">
            <a:solidFill>
              <a:srgbClr val="C00000"/>
            </a:solidFill>
          </a:endParaRPr>
        </a:p>
      </dgm:t>
    </dgm:pt>
    <dgm:pt modelId="{D1A78FB8-6DE8-4036-99EF-D0AE2E22CB2F}" type="parTrans" cxnId="{84FD6195-D885-4259-BCBE-E1A7CF2E1C94}">
      <dgm:prSet/>
      <dgm:spPr/>
      <dgm:t>
        <a:bodyPr/>
        <a:lstStyle/>
        <a:p>
          <a:endParaRPr lang="ru-RU"/>
        </a:p>
      </dgm:t>
    </dgm:pt>
    <dgm:pt modelId="{B3CEC16A-FE56-4875-9AB2-722C33F84458}" type="sibTrans" cxnId="{84FD6195-D885-4259-BCBE-E1A7CF2E1C94}">
      <dgm:prSet/>
      <dgm:spPr/>
      <dgm:t>
        <a:bodyPr/>
        <a:lstStyle/>
        <a:p>
          <a:endParaRPr lang="ru-RU"/>
        </a:p>
      </dgm:t>
    </dgm:pt>
    <dgm:pt modelId="{DA5FC76D-0838-4D79-ABE8-1DD3D4122C80}">
      <dgm:prSet phldrT="[Текст]" custT="1"/>
      <dgm:spPr/>
      <dgm:t>
        <a:bodyPr/>
        <a:lstStyle/>
        <a:p>
          <a:r>
            <a:rPr lang="ru-RU" sz="1800" b="1" i="1" dirty="0" smtClean="0"/>
            <a:t>второй этап </a:t>
          </a:r>
          <a:endParaRPr lang="ru-RU" b="1" dirty="0"/>
        </a:p>
      </dgm:t>
    </dgm:pt>
    <dgm:pt modelId="{C9EF7F53-FA26-41CE-AE04-1E729D8E78A0}" type="parTrans" cxnId="{B9B13B81-0460-4973-83B3-63A873DBEB88}">
      <dgm:prSet/>
      <dgm:spPr/>
      <dgm:t>
        <a:bodyPr/>
        <a:lstStyle/>
        <a:p>
          <a:endParaRPr lang="ru-RU"/>
        </a:p>
      </dgm:t>
    </dgm:pt>
    <dgm:pt modelId="{AEB52260-E8E8-46F3-9416-C76F9DB6A356}" type="sibTrans" cxnId="{B9B13B81-0460-4973-83B3-63A873DBEB88}">
      <dgm:prSet/>
      <dgm:spPr/>
      <dgm:t>
        <a:bodyPr/>
        <a:lstStyle/>
        <a:p>
          <a:endParaRPr lang="ru-RU"/>
        </a:p>
      </dgm:t>
    </dgm:pt>
    <dgm:pt modelId="{963B0051-637B-4383-A4FA-65C448AD1073}">
      <dgm:prSet phldrT="[Текст]" custT="1"/>
      <dgm:spPr/>
      <dgm:t>
        <a:bodyPr/>
        <a:lstStyle/>
        <a:p>
          <a:r>
            <a:rPr lang="ru-RU" sz="2400" b="1" dirty="0" smtClean="0">
              <a:solidFill>
                <a:srgbClr val="C00000"/>
              </a:solidFill>
            </a:rPr>
            <a:t>показ педагогом, как нужно выполнять то или иное упражнение</a:t>
          </a:r>
          <a:endParaRPr lang="ru-RU" sz="2400" b="1" dirty="0">
            <a:solidFill>
              <a:srgbClr val="C00000"/>
            </a:solidFill>
          </a:endParaRPr>
        </a:p>
      </dgm:t>
    </dgm:pt>
    <dgm:pt modelId="{B8B3C72F-5B30-4896-BDFC-BEF2C37F4C1F}" type="parTrans" cxnId="{9C951B33-9034-48C5-9B8D-87607679C5B8}">
      <dgm:prSet/>
      <dgm:spPr/>
      <dgm:t>
        <a:bodyPr/>
        <a:lstStyle/>
        <a:p>
          <a:endParaRPr lang="ru-RU"/>
        </a:p>
      </dgm:t>
    </dgm:pt>
    <dgm:pt modelId="{C9BCD465-8887-4959-8AA4-036EFDF1AAF4}" type="sibTrans" cxnId="{9C951B33-9034-48C5-9B8D-87607679C5B8}">
      <dgm:prSet/>
      <dgm:spPr/>
      <dgm:t>
        <a:bodyPr/>
        <a:lstStyle/>
        <a:p>
          <a:endParaRPr lang="ru-RU"/>
        </a:p>
      </dgm:t>
    </dgm:pt>
    <dgm:pt modelId="{E63A4707-8B0A-4092-AD52-8579B56C0E60}">
      <dgm:prSet phldrT="[Текст]" custT="1"/>
      <dgm:spPr/>
      <dgm:t>
        <a:bodyPr/>
        <a:lstStyle/>
        <a:p>
          <a:r>
            <a:rPr lang="ru-RU" sz="1800" b="1" i="1" dirty="0" smtClean="0"/>
            <a:t>третий этап </a:t>
          </a:r>
          <a:endParaRPr lang="ru-RU" sz="1800" b="1" dirty="0"/>
        </a:p>
      </dgm:t>
    </dgm:pt>
    <dgm:pt modelId="{F05A4B3C-6C39-49FE-B891-9B012C89DAF4}" type="parTrans" cxnId="{835CCFDE-38C0-4E39-954A-9E3471B72A93}">
      <dgm:prSet/>
      <dgm:spPr/>
      <dgm:t>
        <a:bodyPr/>
        <a:lstStyle/>
        <a:p>
          <a:endParaRPr lang="ru-RU"/>
        </a:p>
      </dgm:t>
    </dgm:pt>
    <dgm:pt modelId="{DF94F7F8-389F-4407-B33F-850EA482D1C3}" type="sibTrans" cxnId="{835CCFDE-38C0-4E39-954A-9E3471B72A93}">
      <dgm:prSet/>
      <dgm:spPr/>
      <dgm:t>
        <a:bodyPr/>
        <a:lstStyle/>
        <a:p>
          <a:endParaRPr lang="ru-RU"/>
        </a:p>
      </dgm:t>
    </dgm:pt>
    <dgm:pt modelId="{E99EDA7D-9408-4EDF-8BE0-A0DF42FDB688}">
      <dgm:prSet phldrT="[Текст]" custT="1"/>
      <dgm:spPr/>
      <dgm:t>
        <a:bodyPr/>
        <a:lstStyle/>
        <a:p>
          <a:pPr>
            <a:lnSpc>
              <a:spcPct val="100000"/>
            </a:lnSpc>
            <a:spcAft>
              <a:spcPts val="0"/>
            </a:spcAft>
          </a:pPr>
          <a:r>
            <a:rPr lang="ru-RU" sz="1600" b="1" i="1" dirty="0" err="1" smtClean="0"/>
            <a:t>Четвер</a:t>
          </a:r>
          <a:endParaRPr lang="ru-RU" sz="1600" b="1" i="1" dirty="0" smtClean="0"/>
        </a:p>
        <a:p>
          <a:pPr>
            <a:lnSpc>
              <a:spcPct val="100000"/>
            </a:lnSpc>
            <a:spcAft>
              <a:spcPts val="0"/>
            </a:spcAft>
          </a:pPr>
          <a:r>
            <a:rPr lang="ru-RU" sz="1600" b="1" i="1" dirty="0" err="1" smtClean="0"/>
            <a:t>тый</a:t>
          </a:r>
          <a:r>
            <a:rPr lang="ru-RU" sz="1600" b="1" i="1" dirty="0" smtClean="0"/>
            <a:t> этап </a:t>
          </a:r>
          <a:endParaRPr lang="ru-RU" sz="1600" b="1" dirty="0"/>
        </a:p>
      </dgm:t>
    </dgm:pt>
    <dgm:pt modelId="{92134EAC-48E8-453D-AE84-29932BFDBC40}" type="parTrans" cxnId="{914EB8D3-E5DB-4B17-A762-D708EE742972}">
      <dgm:prSet/>
      <dgm:spPr/>
      <dgm:t>
        <a:bodyPr/>
        <a:lstStyle/>
        <a:p>
          <a:endParaRPr lang="ru-RU"/>
        </a:p>
      </dgm:t>
    </dgm:pt>
    <dgm:pt modelId="{2006B811-19EA-4042-9886-0F4B6CC27EEF}" type="sibTrans" cxnId="{914EB8D3-E5DB-4B17-A762-D708EE742972}">
      <dgm:prSet/>
      <dgm:spPr/>
      <dgm:t>
        <a:bodyPr/>
        <a:lstStyle/>
        <a:p>
          <a:endParaRPr lang="ru-RU"/>
        </a:p>
      </dgm:t>
    </dgm:pt>
    <dgm:pt modelId="{FD2D2E42-80EB-4FB0-9EB1-6BA75BAE0BB0}">
      <dgm:prSet/>
      <dgm:spPr/>
      <dgm:t>
        <a:bodyPr/>
        <a:lstStyle/>
        <a:p>
          <a:r>
            <a:rPr lang="ru-RU" dirty="0" smtClean="0"/>
            <a:t> </a:t>
          </a:r>
          <a:r>
            <a:rPr lang="ru-RU" b="1" dirty="0" smtClean="0">
              <a:solidFill>
                <a:srgbClr val="C00000"/>
              </a:solidFill>
            </a:rPr>
            <a:t>первоначальное воспроизведение учащимися действий по применению знаний на практике</a:t>
          </a:r>
          <a:endParaRPr lang="ru-RU" b="1" dirty="0">
            <a:solidFill>
              <a:srgbClr val="C00000"/>
            </a:solidFill>
          </a:endParaRPr>
        </a:p>
      </dgm:t>
    </dgm:pt>
    <dgm:pt modelId="{33ECD112-284E-4C03-A463-6F7AA7889E55}" type="parTrans" cxnId="{D7FAB3C9-9968-4FC8-B969-9523F6E6D552}">
      <dgm:prSet/>
      <dgm:spPr/>
      <dgm:t>
        <a:bodyPr/>
        <a:lstStyle/>
        <a:p>
          <a:endParaRPr lang="ru-RU"/>
        </a:p>
      </dgm:t>
    </dgm:pt>
    <dgm:pt modelId="{C6BA4D31-325B-424B-882B-E260D0B63398}" type="sibTrans" cxnId="{D7FAB3C9-9968-4FC8-B969-9523F6E6D552}">
      <dgm:prSet/>
      <dgm:spPr/>
      <dgm:t>
        <a:bodyPr/>
        <a:lstStyle/>
        <a:p>
          <a:endParaRPr lang="ru-RU"/>
        </a:p>
      </dgm:t>
    </dgm:pt>
    <dgm:pt modelId="{0DF1B2A7-5053-4085-B1A6-7A72BC55277B}">
      <dgm:prSet/>
      <dgm:spPr/>
      <dgm:t>
        <a:bodyPr/>
        <a:lstStyle/>
        <a:p>
          <a:r>
            <a:rPr lang="ru-RU" b="1" dirty="0" smtClean="0">
              <a:solidFill>
                <a:srgbClr val="C00000"/>
              </a:solidFill>
            </a:rPr>
            <a:t>последующая тренировочная деятельность учащихся, направленная на приобретение практических навыков</a:t>
          </a:r>
          <a:endParaRPr lang="ru-RU" b="1" dirty="0">
            <a:solidFill>
              <a:srgbClr val="C00000"/>
            </a:solidFill>
          </a:endParaRPr>
        </a:p>
      </dgm:t>
    </dgm:pt>
    <dgm:pt modelId="{F180B722-E5F3-415E-9C58-65C115C2CB80}" type="parTrans" cxnId="{3CADEC90-DC36-4F72-B891-0FA7E34F7164}">
      <dgm:prSet/>
      <dgm:spPr/>
      <dgm:t>
        <a:bodyPr/>
        <a:lstStyle/>
        <a:p>
          <a:endParaRPr lang="ru-RU"/>
        </a:p>
      </dgm:t>
    </dgm:pt>
    <dgm:pt modelId="{66610EF1-12C7-4654-BF09-1CB849890099}" type="sibTrans" cxnId="{3CADEC90-DC36-4F72-B891-0FA7E34F7164}">
      <dgm:prSet/>
      <dgm:spPr/>
      <dgm:t>
        <a:bodyPr/>
        <a:lstStyle/>
        <a:p>
          <a:endParaRPr lang="ru-RU"/>
        </a:p>
      </dgm:t>
    </dgm:pt>
    <dgm:pt modelId="{52109C8F-4B5F-4B9D-BE43-86E950CD8A4A}" type="pres">
      <dgm:prSet presAssocID="{CBD19786-B20D-4F4F-B221-2F5F12B2569A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FE776C8-394E-4F51-96AF-72A56E069403}" type="pres">
      <dgm:prSet presAssocID="{8CB40D19-D184-4A01-B73C-824D305E34F8}" presName="composite" presStyleCnt="0"/>
      <dgm:spPr/>
    </dgm:pt>
    <dgm:pt modelId="{86F3B35B-4428-40A6-92C1-F415F3028141}" type="pres">
      <dgm:prSet presAssocID="{8CB40D19-D184-4A01-B73C-824D305E34F8}" presName="parentText" presStyleLbl="alignNode1" presStyleIdx="0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6425074-1AB0-4B09-95C1-D873706688B4}" type="pres">
      <dgm:prSet presAssocID="{8CB40D19-D184-4A01-B73C-824D305E34F8}" presName="descendantText" presStyleLbl="alignAcc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A87E435-15A0-4A5C-A978-C8FE4C9812B9}" type="pres">
      <dgm:prSet presAssocID="{3AD85546-EC8A-448E-9C7B-F2EE2F102413}" presName="sp" presStyleCnt="0"/>
      <dgm:spPr/>
    </dgm:pt>
    <dgm:pt modelId="{0A040E97-DF81-4336-93C8-C95494C302AF}" type="pres">
      <dgm:prSet presAssocID="{DA5FC76D-0838-4D79-ABE8-1DD3D4122C80}" presName="composite" presStyleCnt="0"/>
      <dgm:spPr/>
    </dgm:pt>
    <dgm:pt modelId="{8E02A17F-FAF6-4C67-B87A-6BFA27C5441C}" type="pres">
      <dgm:prSet presAssocID="{DA5FC76D-0838-4D79-ABE8-1DD3D4122C80}" presName="parentText" presStyleLbl="alignNode1" presStyleIdx="1" presStyleCnt="4" custScaleX="124527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ADDEDA-BB3A-4903-A324-7A70712DC46D}" type="pres">
      <dgm:prSet presAssocID="{DA5FC76D-0838-4D79-ABE8-1DD3D4122C80}" presName="descendantText" presStyleLbl="alignAcc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F0C0BB-5E25-4C9B-AE0D-98BDC9BA3BE1}" type="pres">
      <dgm:prSet presAssocID="{AEB52260-E8E8-46F3-9416-C76F9DB6A356}" presName="sp" presStyleCnt="0"/>
      <dgm:spPr/>
    </dgm:pt>
    <dgm:pt modelId="{21EEC9C5-78D6-4430-A138-297EB4C7581B}" type="pres">
      <dgm:prSet presAssocID="{E63A4707-8B0A-4092-AD52-8579B56C0E60}" presName="composite" presStyleCnt="0"/>
      <dgm:spPr/>
    </dgm:pt>
    <dgm:pt modelId="{83193301-8870-4C88-997D-5804F9D4B4CF}" type="pres">
      <dgm:prSet presAssocID="{E63A4707-8B0A-4092-AD52-8579B56C0E60}" presName="parentText" presStyleLbl="alignNode1" presStyleIdx="2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25E7048-D309-4FC0-8887-4914E46FE978}" type="pres">
      <dgm:prSet presAssocID="{E63A4707-8B0A-4092-AD52-8579B56C0E60}" presName="descendantText" presStyleLbl="alignAcc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6E72437-E9E0-404E-83E5-9E3EA7A395B0}" type="pres">
      <dgm:prSet presAssocID="{DF94F7F8-389F-4407-B33F-850EA482D1C3}" presName="sp" presStyleCnt="0"/>
      <dgm:spPr/>
    </dgm:pt>
    <dgm:pt modelId="{F3683B00-88F9-4C74-952F-6777377E5362}" type="pres">
      <dgm:prSet presAssocID="{E99EDA7D-9408-4EDF-8BE0-A0DF42FDB688}" presName="composite" presStyleCnt="0"/>
      <dgm:spPr/>
    </dgm:pt>
    <dgm:pt modelId="{B09B24C4-72BD-4F5D-8899-AE37FD157DFC}" type="pres">
      <dgm:prSet presAssocID="{E99EDA7D-9408-4EDF-8BE0-A0DF42FDB688}" presName="parentText" presStyleLbl="alignNode1" presStyleIdx="3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3989BA-57E4-46DD-87B6-9663B8AD39FE}" type="pres">
      <dgm:prSet presAssocID="{E99EDA7D-9408-4EDF-8BE0-A0DF42FDB688}" presName="descendantText" presStyleLbl="alignAcc1" presStyleIdx="3" presStyleCnt="4" custLinFactNeighborY="-182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93A652F-5386-4E71-8088-61F1045B6D23}" type="presOf" srcId="{CBD19786-B20D-4F4F-B221-2F5F12B2569A}" destId="{52109C8F-4B5F-4B9D-BE43-86E950CD8A4A}" srcOrd="0" destOrd="0" presId="urn:microsoft.com/office/officeart/2005/8/layout/chevron2"/>
    <dgm:cxn modelId="{2D8D6C83-9DC7-424A-9D54-8B3BA3D4E054}" type="presOf" srcId="{E63A4707-8B0A-4092-AD52-8579B56C0E60}" destId="{83193301-8870-4C88-997D-5804F9D4B4CF}" srcOrd="0" destOrd="0" presId="urn:microsoft.com/office/officeart/2005/8/layout/chevron2"/>
    <dgm:cxn modelId="{9C951B33-9034-48C5-9B8D-87607679C5B8}" srcId="{DA5FC76D-0838-4D79-ABE8-1DD3D4122C80}" destId="{963B0051-637B-4383-A4FA-65C448AD1073}" srcOrd="0" destOrd="0" parTransId="{B8B3C72F-5B30-4896-BDFC-BEF2C37F4C1F}" sibTransId="{C9BCD465-8887-4959-8AA4-036EFDF1AAF4}"/>
    <dgm:cxn modelId="{DE83BBB5-10E2-4932-BC2B-19D54F6B3A8A}" type="presOf" srcId="{DA5FC76D-0838-4D79-ABE8-1DD3D4122C80}" destId="{8E02A17F-FAF6-4C67-B87A-6BFA27C5441C}" srcOrd="0" destOrd="0" presId="urn:microsoft.com/office/officeart/2005/8/layout/chevron2"/>
    <dgm:cxn modelId="{D7FAB3C9-9968-4FC8-B969-9523F6E6D552}" srcId="{E63A4707-8B0A-4092-AD52-8579B56C0E60}" destId="{FD2D2E42-80EB-4FB0-9EB1-6BA75BAE0BB0}" srcOrd="0" destOrd="0" parTransId="{33ECD112-284E-4C03-A463-6F7AA7889E55}" sibTransId="{C6BA4D31-325B-424B-882B-E260D0B63398}"/>
    <dgm:cxn modelId="{F77263E7-4789-4F57-A020-0DCEB2A6066B}" type="presOf" srcId="{E99EDA7D-9408-4EDF-8BE0-A0DF42FDB688}" destId="{B09B24C4-72BD-4F5D-8899-AE37FD157DFC}" srcOrd="0" destOrd="0" presId="urn:microsoft.com/office/officeart/2005/8/layout/chevron2"/>
    <dgm:cxn modelId="{B1991DA2-AADC-4E76-80DB-A6EB757CE95E}" type="presOf" srcId="{FD2D2E42-80EB-4FB0-9EB1-6BA75BAE0BB0}" destId="{D25E7048-D309-4FC0-8887-4914E46FE978}" srcOrd="0" destOrd="0" presId="urn:microsoft.com/office/officeart/2005/8/layout/chevron2"/>
    <dgm:cxn modelId="{6C553248-8142-411B-8F5A-B8D3E9927E47}" type="presOf" srcId="{0DF1B2A7-5053-4085-B1A6-7A72BC55277B}" destId="{143989BA-57E4-46DD-87B6-9663B8AD39FE}" srcOrd="0" destOrd="0" presId="urn:microsoft.com/office/officeart/2005/8/layout/chevron2"/>
    <dgm:cxn modelId="{835CCFDE-38C0-4E39-954A-9E3471B72A93}" srcId="{CBD19786-B20D-4F4F-B221-2F5F12B2569A}" destId="{E63A4707-8B0A-4092-AD52-8579B56C0E60}" srcOrd="2" destOrd="0" parTransId="{F05A4B3C-6C39-49FE-B891-9B012C89DAF4}" sibTransId="{DF94F7F8-389F-4407-B33F-850EA482D1C3}"/>
    <dgm:cxn modelId="{3CADEC90-DC36-4F72-B891-0FA7E34F7164}" srcId="{E99EDA7D-9408-4EDF-8BE0-A0DF42FDB688}" destId="{0DF1B2A7-5053-4085-B1A6-7A72BC55277B}" srcOrd="0" destOrd="0" parTransId="{F180B722-E5F3-415E-9C58-65C115C2CB80}" sibTransId="{66610EF1-12C7-4654-BF09-1CB849890099}"/>
    <dgm:cxn modelId="{B9B13B81-0460-4973-83B3-63A873DBEB88}" srcId="{CBD19786-B20D-4F4F-B221-2F5F12B2569A}" destId="{DA5FC76D-0838-4D79-ABE8-1DD3D4122C80}" srcOrd="1" destOrd="0" parTransId="{C9EF7F53-FA26-41CE-AE04-1E729D8E78A0}" sibTransId="{AEB52260-E8E8-46F3-9416-C76F9DB6A356}"/>
    <dgm:cxn modelId="{F53BB0F7-0570-41E6-A75E-D67FD2C9D086}" type="presOf" srcId="{8CB40D19-D184-4A01-B73C-824D305E34F8}" destId="{86F3B35B-4428-40A6-92C1-F415F3028141}" srcOrd="0" destOrd="0" presId="urn:microsoft.com/office/officeart/2005/8/layout/chevron2"/>
    <dgm:cxn modelId="{C0AD342A-1808-4807-B74B-8CB05CEED7B7}" srcId="{CBD19786-B20D-4F4F-B221-2F5F12B2569A}" destId="{8CB40D19-D184-4A01-B73C-824D305E34F8}" srcOrd="0" destOrd="0" parTransId="{CDF4466B-F05F-48BF-9ED6-8E92B73A944C}" sibTransId="{3AD85546-EC8A-448E-9C7B-F2EE2F102413}"/>
    <dgm:cxn modelId="{2C7804C6-99B0-449A-B9FD-428AAF893AE6}" type="presOf" srcId="{963B0051-637B-4383-A4FA-65C448AD1073}" destId="{9DADDEDA-BB3A-4903-A324-7A70712DC46D}" srcOrd="0" destOrd="0" presId="urn:microsoft.com/office/officeart/2005/8/layout/chevron2"/>
    <dgm:cxn modelId="{7B8114D6-463D-4C9B-9D3D-D901FD40ED7A}" type="presOf" srcId="{1EDA27E0-79C9-4F7B-971B-A723C931D99D}" destId="{26425074-1AB0-4B09-95C1-D873706688B4}" srcOrd="0" destOrd="0" presId="urn:microsoft.com/office/officeart/2005/8/layout/chevron2"/>
    <dgm:cxn modelId="{914EB8D3-E5DB-4B17-A762-D708EE742972}" srcId="{CBD19786-B20D-4F4F-B221-2F5F12B2569A}" destId="{E99EDA7D-9408-4EDF-8BE0-A0DF42FDB688}" srcOrd="3" destOrd="0" parTransId="{92134EAC-48E8-453D-AE84-29932BFDBC40}" sibTransId="{2006B811-19EA-4042-9886-0F4B6CC27EEF}"/>
    <dgm:cxn modelId="{84FD6195-D885-4259-BCBE-E1A7CF2E1C94}" srcId="{8CB40D19-D184-4A01-B73C-824D305E34F8}" destId="{1EDA27E0-79C9-4F7B-971B-A723C931D99D}" srcOrd="0" destOrd="0" parTransId="{D1A78FB8-6DE8-4036-99EF-D0AE2E22CB2F}" sibTransId="{B3CEC16A-FE56-4875-9AB2-722C33F84458}"/>
    <dgm:cxn modelId="{BCE0D758-4DB8-484C-A808-6248A6AF22DF}" type="presParOf" srcId="{52109C8F-4B5F-4B9D-BE43-86E950CD8A4A}" destId="{7FE776C8-394E-4F51-96AF-72A56E069403}" srcOrd="0" destOrd="0" presId="urn:microsoft.com/office/officeart/2005/8/layout/chevron2"/>
    <dgm:cxn modelId="{54DF3736-BDB5-4250-95C9-8B426F97F420}" type="presParOf" srcId="{7FE776C8-394E-4F51-96AF-72A56E069403}" destId="{86F3B35B-4428-40A6-92C1-F415F3028141}" srcOrd="0" destOrd="0" presId="urn:microsoft.com/office/officeart/2005/8/layout/chevron2"/>
    <dgm:cxn modelId="{7B9A1870-7437-4ED4-BE00-42A25BA3945C}" type="presParOf" srcId="{7FE776C8-394E-4F51-96AF-72A56E069403}" destId="{26425074-1AB0-4B09-95C1-D873706688B4}" srcOrd="1" destOrd="0" presId="urn:microsoft.com/office/officeart/2005/8/layout/chevron2"/>
    <dgm:cxn modelId="{0F274AA6-7396-40D3-AA99-B86BA7B6F896}" type="presParOf" srcId="{52109C8F-4B5F-4B9D-BE43-86E950CD8A4A}" destId="{6A87E435-15A0-4A5C-A978-C8FE4C9812B9}" srcOrd="1" destOrd="0" presId="urn:microsoft.com/office/officeart/2005/8/layout/chevron2"/>
    <dgm:cxn modelId="{246E0B9E-68A1-462F-8CF7-7CFA040E49D5}" type="presParOf" srcId="{52109C8F-4B5F-4B9D-BE43-86E950CD8A4A}" destId="{0A040E97-DF81-4336-93C8-C95494C302AF}" srcOrd="2" destOrd="0" presId="urn:microsoft.com/office/officeart/2005/8/layout/chevron2"/>
    <dgm:cxn modelId="{18DC2E44-2611-48F4-93A2-C374ABCFF996}" type="presParOf" srcId="{0A040E97-DF81-4336-93C8-C95494C302AF}" destId="{8E02A17F-FAF6-4C67-B87A-6BFA27C5441C}" srcOrd="0" destOrd="0" presId="urn:microsoft.com/office/officeart/2005/8/layout/chevron2"/>
    <dgm:cxn modelId="{3E550834-7D75-4CB5-AF60-479266977FCB}" type="presParOf" srcId="{0A040E97-DF81-4336-93C8-C95494C302AF}" destId="{9DADDEDA-BB3A-4903-A324-7A70712DC46D}" srcOrd="1" destOrd="0" presId="urn:microsoft.com/office/officeart/2005/8/layout/chevron2"/>
    <dgm:cxn modelId="{7980CAEE-8207-473D-9DEC-D1384EA032FC}" type="presParOf" srcId="{52109C8F-4B5F-4B9D-BE43-86E950CD8A4A}" destId="{14F0C0BB-5E25-4C9B-AE0D-98BDC9BA3BE1}" srcOrd="3" destOrd="0" presId="urn:microsoft.com/office/officeart/2005/8/layout/chevron2"/>
    <dgm:cxn modelId="{727EE842-2C5E-4BA8-A395-E9EC918B433E}" type="presParOf" srcId="{52109C8F-4B5F-4B9D-BE43-86E950CD8A4A}" destId="{21EEC9C5-78D6-4430-A138-297EB4C7581B}" srcOrd="4" destOrd="0" presId="urn:microsoft.com/office/officeart/2005/8/layout/chevron2"/>
    <dgm:cxn modelId="{72F3C754-BCA8-4A70-9C71-D12118366510}" type="presParOf" srcId="{21EEC9C5-78D6-4430-A138-297EB4C7581B}" destId="{83193301-8870-4C88-997D-5804F9D4B4CF}" srcOrd="0" destOrd="0" presId="urn:microsoft.com/office/officeart/2005/8/layout/chevron2"/>
    <dgm:cxn modelId="{91900B99-F5AB-47DA-BE78-B9F35361FDD5}" type="presParOf" srcId="{21EEC9C5-78D6-4430-A138-297EB4C7581B}" destId="{D25E7048-D309-4FC0-8887-4914E46FE978}" srcOrd="1" destOrd="0" presId="urn:microsoft.com/office/officeart/2005/8/layout/chevron2"/>
    <dgm:cxn modelId="{753417B2-4689-400A-935E-1F125C05775F}" type="presParOf" srcId="{52109C8F-4B5F-4B9D-BE43-86E950CD8A4A}" destId="{26E72437-E9E0-404E-83E5-9E3EA7A395B0}" srcOrd="5" destOrd="0" presId="urn:microsoft.com/office/officeart/2005/8/layout/chevron2"/>
    <dgm:cxn modelId="{C85172C2-C06D-41EE-948F-B88420FA44DA}" type="presParOf" srcId="{52109C8F-4B5F-4B9D-BE43-86E950CD8A4A}" destId="{F3683B00-88F9-4C74-952F-6777377E5362}" srcOrd="6" destOrd="0" presId="urn:microsoft.com/office/officeart/2005/8/layout/chevron2"/>
    <dgm:cxn modelId="{F96C6412-8FE4-4571-9E7B-28504E23B72F}" type="presParOf" srcId="{F3683B00-88F9-4C74-952F-6777377E5362}" destId="{B09B24C4-72BD-4F5D-8899-AE37FD157DFC}" srcOrd="0" destOrd="0" presId="urn:microsoft.com/office/officeart/2005/8/layout/chevron2"/>
    <dgm:cxn modelId="{FD88C3AA-AB55-4AD8-882E-353A3EA6A386}" type="presParOf" srcId="{F3683B00-88F9-4C74-952F-6777377E5362}" destId="{143989BA-57E4-46DD-87B6-9663B8AD39FE}" srcOrd="1" destOrd="0" presId="urn:microsoft.com/office/officeart/2005/8/layout/chevron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A99CD189-8591-4732-9E60-C1A43D32507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DCBC116-938F-4989-9019-BB42C63281B2}">
      <dgm:prSet phldrT="[Текст]" custT="1"/>
      <dgm:spPr/>
      <dgm:t>
        <a:bodyPr/>
        <a:lstStyle/>
        <a:p>
          <a:r>
            <a:rPr lang="ru-RU" sz="2400" b="1" i="0" dirty="0" smtClean="0"/>
            <a:t>Репродуктивные (воспроизводящие) </a:t>
          </a:r>
          <a:endParaRPr lang="ru-RU" sz="2400" b="1" i="0" dirty="0"/>
        </a:p>
      </dgm:t>
    </dgm:pt>
    <dgm:pt modelId="{35EF738F-4CB6-437F-A333-1EAABCB45F4A}" type="parTrans" cxnId="{5E6CB83E-2219-49A0-A7AE-243033D34F47}">
      <dgm:prSet/>
      <dgm:spPr/>
      <dgm:t>
        <a:bodyPr/>
        <a:lstStyle/>
        <a:p>
          <a:endParaRPr lang="ru-RU"/>
        </a:p>
      </dgm:t>
    </dgm:pt>
    <dgm:pt modelId="{F0032712-D9DE-442F-829B-95BCE3812635}" type="sibTrans" cxnId="{5E6CB83E-2219-49A0-A7AE-243033D34F47}">
      <dgm:prSet/>
      <dgm:spPr/>
      <dgm:t>
        <a:bodyPr/>
        <a:lstStyle/>
        <a:p>
          <a:endParaRPr lang="ru-RU"/>
        </a:p>
      </dgm:t>
    </dgm:pt>
    <dgm:pt modelId="{B28EC2FF-9A93-4152-BA46-C4BA13456AC3}">
      <dgm:prSet phldrT="[Текст]" custT="1"/>
      <dgm:spPr/>
      <dgm:t>
        <a:bodyPr/>
        <a:lstStyle/>
        <a:p>
          <a:r>
            <a:rPr lang="ru-RU" sz="2400" b="1" dirty="0" smtClean="0">
              <a:solidFill>
                <a:schemeClr val="accent6">
                  <a:lumMod val="75000"/>
                </a:schemeClr>
              </a:solidFill>
            </a:rPr>
            <a:t>содействуют отработке практических умений и навыков</a:t>
          </a:r>
          <a:endParaRPr lang="ru-RU" sz="2400" b="1" dirty="0">
            <a:solidFill>
              <a:schemeClr val="accent6">
                <a:lumMod val="75000"/>
              </a:schemeClr>
            </a:solidFill>
          </a:endParaRPr>
        </a:p>
      </dgm:t>
    </dgm:pt>
    <dgm:pt modelId="{FB79525A-F196-49B8-9DE2-610A62DD67BB}" type="parTrans" cxnId="{414E918D-1151-4558-B5DA-B1FD9645CDA3}">
      <dgm:prSet/>
      <dgm:spPr/>
      <dgm:t>
        <a:bodyPr/>
        <a:lstStyle/>
        <a:p>
          <a:endParaRPr lang="ru-RU"/>
        </a:p>
      </dgm:t>
    </dgm:pt>
    <dgm:pt modelId="{4582F904-15FE-44BE-80D9-1400DDAE4E44}" type="sibTrans" cxnId="{414E918D-1151-4558-B5DA-B1FD9645CDA3}">
      <dgm:prSet/>
      <dgm:spPr/>
      <dgm:t>
        <a:bodyPr/>
        <a:lstStyle/>
        <a:p>
          <a:endParaRPr lang="ru-RU"/>
        </a:p>
      </dgm:t>
    </dgm:pt>
    <dgm:pt modelId="{3D7797BD-5D56-4B36-86D7-6175A1DBD368}">
      <dgm:prSet phldrT="[Текст]" custT="1"/>
      <dgm:spPr/>
      <dgm:t>
        <a:bodyPr/>
        <a:lstStyle/>
        <a:p>
          <a:r>
            <a:rPr lang="ru-RU" sz="2400" b="1" i="0" dirty="0" smtClean="0">
              <a:solidFill>
                <a:schemeClr val="accent2">
                  <a:lumMod val="40000"/>
                  <a:lumOff val="60000"/>
                </a:schemeClr>
              </a:solidFill>
            </a:rPr>
            <a:t>Творческие (проблемно-поисковые)</a:t>
          </a:r>
          <a:endParaRPr lang="ru-RU" sz="2400" b="1" i="0" dirty="0">
            <a:solidFill>
              <a:schemeClr val="accent2">
                <a:lumMod val="40000"/>
                <a:lumOff val="60000"/>
              </a:schemeClr>
            </a:solidFill>
          </a:endParaRPr>
        </a:p>
      </dgm:t>
    </dgm:pt>
    <dgm:pt modelId="{5ED2B28A-D80C-460F-8778-D545F8055CF1}" type="parTrans" cxnId="{9F0FFCE5-B59B-453A-9C7C-468EA9DAD259}">
      <dgm:prSet/>
      <dgm:spPr/>
      <dgm:t>
        <a:bodyPr/>
        <a:lstStyle/>
        <a:p>
          <a:endParaRPr lang="ru-RU"/>
        </a:p>
      </dgm:t>
    </dgm:pt>
    <dgm:pt modelId="{632E8338-F64A-4B9B-8803-9E3034BC1E47}" type="sibTrans" cxnId="{9F0FFCE5-B59B-453A-9C7C-468EA9DAD259}">
      <dgm:prSet/>
      <dgm:spPr/>
      <dgm:t>
        <a:bodyPr/>
        <a:lstStyle/>
        <a:p>
          <a:endParaRPr lang="ru-RU"/>
        </a:p>
      </dgm:t>
    </dgm:pt>
    <dgm:pt modelId="{59493C5A-934A-446F-8FA7-03F216C45CD4}">
      <dgm:prSet phldrT="[Текст]" custT="1"/>
      <dgm:spPr/>
      <dgm:t>
        <a:bodyPr/>
        <a:lstStyle/>
        <a:p>
          <a:pPr algn="just"/>
          <a:r>
            <a:rPr lang="ru-RU" sz="2400" b="1" dirty="0" smtClean="0">
              <a:solidFill>
                <a:schemeClr val="accent4">
                  <a:lumMod val="75000"/>
                </a:schemeClr>
              </a:solidFill>
            </a:rPr>
            <a:t>применяют в тех случаях, когда учащиеся могут самостоятельно по заданию учителя выполнять определенные виды действий, которые подводят их к усвоению новых знаний.</a:t>
          </a:r>
          <a:endParaRPr lang="ru-RU" sz="2400" b="1" dirty="0">
            <a:solidFill>
              <a:schemeClr val="accent4">
                <a:lumMod val="75000"/>
              </a:schemeClr>
            </a:solidFill>
          </a:endParaRPr>
        </a:p>
      </dgm:t>
    </dgm:pt>
    <dgm:pt modelId="{FFA011C9-4C22-497C-8606-0E4522270D6C}" type="parTrans" cxnId="{7EF0FEA8-C711-4E8E-9350-3DA189EC3827}">
      <dgm:prSet/>
      <dgm:spPr/>
      <dgm:t>
        <a:bodyPr/>
        <a:lstStyle/>
        <a:p>
          <a:endParaRPr lang="ru-RU"/>
        </a:p>
      </dgm:t>
    </dgm:pt>
    <dgm:pt modelId="{B801572F-950E-47DA-95EA-2012667322D6}" type="sibTrans" cxnId="{7EF0FEA8-C711-4E8E-9350-3DA189EC3827}">
      <dgm:prSet/>
      <dgm:spPr/>
      <dgm:t>
        <a:bodyPr/>
        <a:lstStyle/>
        <a:p>
          <a:endParaRPr lang="ru-RU"/>
        </a:p>
      </dgm:t>
    </dgm:pt>
    <dgm:pt modelId="{CC2DC1A1-FAE3-419C-AFDB-C0AABADE2F9B}" type="pres">
      <dgm:prSet presAssocID="{A99CD189-8591-4732-9E60-C1A43D32507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FE1765E-B41C-4028-93CF-E95F88282D7C}" type="pres">
      <dgm:prSet presAssocID="{BDCBC116-938F-4989-9019-BB42C63281B2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F94305B-199B-4928-82A2-E39F31CD3DC1}" type="pres">
      <dgm:prSet presAssocID="{BDCBC116-938F-4989-9019-BB42C63281B2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DA3EAAA-7751-4645-BFE4-714F5560DE5E}" type="pres">
      <dgm:prSet presAssocID="{3D7797BD-5D56-4B36-86D7-6175A1DBD368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76E8815-780A-41AE-8B22-78987E4B6259}" type="pres">
      <dgm:prSet presAssocID="{3D7797BD-5D56-4B36-86D7-6175A1DBD368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55C9AA7-DCDF-4963-9D54-370DDE4572D3}" type="presOf" srcId="{B28EC2FF-9A93-4152-BA46-C4BA13456AC3}" destId="{CF94305B-199B-4928-82A2-E39F31CD3DC1}" srcOrd="0" destOrd="0" presId="urn:microsoft.com/office/officeart/2005/8/layout/vList2"/>
    <dgm:cxn modelId="{7EF0FEA8-C711-4E8E-9350-3DA189EC3827}" srcId="{3D7797BD-5D56-4B36-86D7-6175A1DBD368}" destId="{59493C5A-934A-446F-8FA7-03F216C45CD4}" srcOrd="0" destOrd="0" parTransId="{FFA011C9-4C22-497C-8606-0E4522270D6C}" sibTransId="{B801572F-950E-47DA-95EA-2012667322D6}"/>
    <dgm:cxn modelId="{5E6CB83E-2219-49A0-A7AE-243033D34F47}" srcId="{A99CD189-8591-4732-9E60-C1A43D325072}" destId="{BDCBC116-938F-4989-9019-BB42C63281B2}" srcOrd="0" destOrd="0" parTransId="{35EF738F-4CB6-437F-A333-1EAABCB45F4A}" sibTransId="{F0032712-D9DE-442F-829B-95BCE3812635}"/>
    <dgm:cxn modelId="{E027FE45-03FE-4623-BD90-949C9C0A6AF0}" type="presOf" srcId="{59493C5A-934A-446F-8FA7-03F216C45CD4}" destId="{E76E8815-780A-41AE-8B22-78987E4B6259}" srcOrd="0" destOrd="0" presId="urn:microsoft.com/office/officeart/2005/8/layout/vList2"/>
    <dgm:cxn modelId="{9F0FFCE5-B59B-453A-9C7C-468EA9DAD259}" srcId="{A99CD189-8591-4732-9E60-C1A43D325072}" destId="{3D7797BD-5D56-4B36-86D7-6175A1DBD368}" srcOrd="1" destOrd="0" parTransId="{5ED2B28A-D80C-460F-8778-D545F8055CF1}" sibTransId="{632E8338-F64A-4B9B-8803-9E3034BC1E47}"/>
    <dgm:cxn modelId="{10A3611F-F168-427D-8813-1A0F48647610}" type="presOf" srcId="{3D7797BD-5D56-4B36-86D7-6175A1DBD368}" destId="{8DA3EAAA-7751-4645-BFE4-714F5560DE5E}" srcOrd="0" destOrd="0" presId="urn:microsoft.com/office/officeart/2005/8/layout/vList2"/>
    <dgm:cxn modelId="{BB59433B-95D4-4438-8DE1-FBBE3ED5CC61}" type="presOf" srcId="{A99CD189-8591-4732-9E60-C1A43D325072}" destId="{CC2DC1A1-FAE3-419C-AFDB-C0AABADE2F9B}" srcOrd="0" destOrd="0" presId="urn:microsoft.com/office/officeart/2005/8/layout/vList2"/>
    <dgm:cxn modelId="{B87887D4-34B0-47F4-8EDE-E94C22DFF63D}" type="presOf" srcId="{BDCBC116-938F-4989-9019-BB42C63281B2}" destId="{2FE1765E-B41C-4028-93CF-E95F88282D7C}" srcOrd="0" destOrd="0" presId="urn:microsoft.com/office/officeart/2005/8/layout/vList2"/>
    <dgm:cxn modelId="{414E918D-1151-4558-B5DA-B1FD9645CDA3}" srcId="{BDCBC116-938F-4989-9019-BB42C63281B2}" destId="{B28EC2FF-9A93-4152-BA46-C4BA13456AC3}" srcOrd="0" destOrd="0" parTransId="{FB79525A-F196-49B8-9DE2-610A62DD67BB}" sibTransId="{4582F904-15FE-44BE-80D9-1400DDAE4E44}"/>
    <dgm:cxn modelId="{9872F663-BC9A-45A6-947C-9C0B7E7FAE58}" type="presParOf" srcId="{CC2DC1A1-FAE3-419C-AFDB-C0AABADE2F9B}" destId="{2FE1765E-B41C-4028-93CF-E95F88282D7C}" srcOrd="0" destOrd="0" presId="urn:microsoft.com/office/officeart/2005/8/layout/vList2"/>
    <dgm:cxn modelId="{61DE871E-C39A-428B-9DFF-D099D539FB3C}" type="presParOf" srcId="{CC2DC1A1-FAE3-419C-AFDB-C0AABADE2F9B}" destId="{CF94305B-199B-4928-82A2-E39F31CD3DC1}" srcOrd="1" destOrd="0" presId="urn:microsoft.com/office/officeart/2005/8/layout/vList2"/>
    <dgm:cxn modelId="{7B5890CC-3433-4E1B-953E-ACAFADBB6271}" type="presParOf" srcId="{CC2DC1A1-FAE3-419C-AFDB-C0AABADE2F9B}" destId="{8DA3EAAA-7751-4645-BFE4-714F5560DE5E}" srcOrd="2" destOrd="0" presId="urn:microsoft.com/office/officeart/2005/8/layout/vList2"/>
    <dgm:cxn modelId="{4E492504-B86A-44CF-9689-6FB679134126}" type="presParOf" srcId="{CC2DC1A1-FAE3-419C-AFDB-C0AABADE2F9B}" destId="{E76E8815-780A-41AE-8B22-78987E4B6259}" srcOrd="3" destOrd="0" presId="urn:microsoft.com/office/officeart/2005/8/layout/vList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AE6-990B-48A2-9067-1D75A126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25A-AB98-4D7A-8B0A-487F99CB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728-CF9A-459C-ACE5-EC1E153F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D83-85E7-4B58-A3EB-460897EA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550-C140-4366-975C-6AB46E61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F7B-7CA6-4994-88DF-1B9A15E2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37E-F907-4F30-8F7C-0C349681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D1D-D933-4DA6-B129-AEAE1E1B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20B-0FCF-411D-82C4-3B69A1EF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1EE-ED2B-484C-9D17-BDB646C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064-C1D3-4790-9886-307C9915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AC5-A189-40B8-9A8E-416CCA90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BC955D-1385-49F4-B22E-477701D2761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ема 8. Методы  педагогического процесса. Методы стимулирования и упражнения.</a:t>
            </a:r>
            <a:br>
              <a:rPr sz="2800"/>
            </a:br>
            <a:r>
              <a:rPr b="1" lang="ru-RU" sz="2800" spc="-1" strike="noStrike">
                <a:solidFill>
                  <a:srgbClr val="323543"/>
                </a:solidFill>
                <a:latin typeface="Georgia"/>
              </a:rPr>
              <a:t>План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Классификация методов обуче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Упражнение как метод формирования умений, навыков и привычек поведения. Типы упражнений, их  характеристик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Основные приемы стимулирования. Условия использования метода стимулирования в практической деятельности врач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Роль и значение педагогический методов воздействия на личность в практической деятельности врач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357720" y="5380560"/>
            <a:ext cx="5500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Лек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Муханова Ирина Фед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кандидат психол.нау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доцент кафедры философии и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Picture 2" descr="https://pptcloud3.ams3.digitaloceanspaces.com/slides/pics/003/525/296/original/Slide11.jpg?1494883321"/>
          <p:cNvPicPr/>
          <p:nvPr/>
        </p:nvPicPr>
        <p:blipFill>
          <a:blip r:embed="rId1"/>
          <a:stretch/>
        </p:blipFill>
        <p:spPr>
          <a:xfrm>
            <a:off x="285840" y="89280"/>
            <a:ext cx="8643600" cy="65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" name="Picture 2" descr="ÐÐµÑÐ¾Ð´Ñ Ð²Ð¾ÑÐ¿Ð¸ÑÐ°Ð½Ð¸Ñ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Picture 2" descr="https://cf.ppt-online.org/files1/slide/6/6abVETNIlJzZvFXsOSBg3ARenyD1Lm29hjCkxqf7Kd/slide-2.jpg"/>
          <p:cNvPicPr/>
          <p:nvPr/>
        </p:nvPicPr>
        <p:blipFill>
          <a:blip r:embed="rId1"/>
          <a:stretch/>
        </p:blipFill>
        <p:spPr>
          <a:xfrm>
            <a:off x="190440" y="160920"/>
            <a:ext cx="87390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3" name="Picture 2" descr="https://cf.ppt-online.org/files/slide/b/BsYqVgrLMdel5R1pTDC2F9yXj87EWGcmbKUON4/slide-38.jpg"/>
          <p:cNvPicPr/>
          <p:nvPr/>
        </p:nvPicPr>
        <p:blipFill>
          <a:blip r:embed="rId1"/>
          <a:stretch/>
        </p:blipFill>
        <p:spPr>
          <a:xfrm>
            <a:off x="109440" y="189360"/>
            <a:ext cx="8891280" cy="66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" name="Picture 2" descr="https://pptcloud3.ams3.digitaloceanspaces.com/slides/pics/003/525/302/original/Slide17.jpg?1494883322"/>
          <p:cNvPicPr/>
          <p:nvPr/>
        </p:nvPicPr>
        <p:blipFill>
          <a:blip r:embed="rId1"/>
          <a:stretch/>
        </p:blipFill>
        <p:spPr>
          <a:xfrm>
            <a:off x="357120" y="285840"/>
            <a:ext cx="8524800" cy="6393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377640" y="500040"/>
            <a:ext cx="577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" name="Picture 2" descr="https://pptcloud3.ams3.digitaloceanspaces.com/slides/pics/004/370/062/original/Slide14.jpg?1513273620"/>
          <p:cNvPicPr/>
          <p:nvPr/>
        </p:nvPicPr>
        <p:blipFill>
          <a:blip r:embed="rId1"/>
          <a:srcRect l="0" t="3373" r="562" b="0"/>
          <a:stretch/>
        </p:blipFill>
        <p:spPr>
          <a:xfrm>
            <a:off x="0" y="0"/>
            <a:ext cx="8429400" cy="6143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s://pptcloud3.ams3.digitaloceanspaces.com/slides/pics/003/846/676/original/Slide39.jpg?1496918142"/>
          <p:cNvPicPr/>
          <p:nvPr/>
        </p:nvPicPr>
        <p:blipFill>
          <a:blip r:embed="rId2"/>
          <a:srcRect l="-2084" t="40279" r="3123" b="43057"/>
          <a:stretch/>
        </p:blipFill>
        <p:spPr>
          <a:xfrm>
            <a:off x="2357280" y="5786280"/>
            <a:ext cx="6786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4">
                    <a:lumMod val="75000"/>
                  </a:schemeClr>
                </a:solidFill>
                <a:latin typeface="Georgia"/>
              </a:rPr>
              <a:t>Это важно: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00162251"/>
              </p:ext>
            </p:extLst>
          </p:nvPr>
        </p:nvGraphicFramePr>
        <p:xfrm>
          <a:off x="301680" y="1071720"/>
          <a:ext cx="8503920" cy="502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Этапы процесса формирования умений и навыков (упражнений)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99109214"/>
              </p:ext>
            </p:extLst>
          </p:nvPr>
        </p:nvGraphicFramePr>
        <p:xfrm>
          <a:off x="214200" y="1285920"/>
          <a:ext cx="8715240" cy="5357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chemeClr val="accent2">
                    <a:lumMod val="50000"/>
                  </a:schemeClr>
                </a:solidFill>
                <a:latin typeface="Georgia"/>
              </a:rPr>
              <a:t>ВИДЫ  УПРАЖНЕНИЙ: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444377530"/>
              </p:ext>
            </p:extLst>
          </p:nvPr>
        </p:nvGraphicFramePr>
        <p:xfrm>
          <a:off x="301680" y="1527120"/>
          <a:ext cx="8503920" cy="4571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МЕТОДЫ СТИМУЛИРОВАНИЯ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357200"/>
            <a:ext cx="85035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Стимулировать</a:t>
            </a: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 - значит побуждать, давать импульс, толчок мысли чувству и действию, определенное стимулирующее воздействие уже заключено внутри каждого метод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В деятельности врача методы стимулирования используются для повышения качества работы медицинского персонала. Например, проведение конкурсов «Лучший в профессии» способствует достижению высоких результатов, творческому росту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Методы поощрения и наказания используются в организационной деятельности врач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" name="Picture 4" descr="&gt;ÐÐ°ÑÐµÐ³Ð¾ÑÐ¸Ð¸ Ð¿ÐµÐ´Ð°Ð³Ð¾Ð³Ð¸ÐºÐ¸. ÐÐ±ÑÑÐµÐ½Ð¸Ðµ â Ð¿ÑÐ¾ÑÐµÑÑ Ð²Ð·Ð°Ð¸Ð¼Ð¾Ð´ÐµÐ¹ÑÑÐ²Ð¸Ñ ÑÑÐ¸ÑÐµÐ»Ñ Ð¸ ÑÑÐ°ÑÐ¸ÑÑÑ, Ð² ÑÐµÐ·ÑÐ»ÑÑÐ°ÑÐµ ÐºÐ¾ÑÐ¾ÑÐ¾Ð³Ð¾ Ð¾Ð±ÐµÑÐ¿ÐµÑÐ¸Ð²Ð°ÐµÑÑÑ ÑÐ°Ð·Ð²Ð¸ÑÐ¸Ðµ"/>
          <p:cNvPicPr/>
          <p:nvPr/>
        </p:nvPicPr>
        <p:blipFill>
          <a:blip r:embed="rId1"/>
          <a:stretch/>
        </p:blipFill>
        <p:spPr>
          <a:xfrm>
            <a:off x="404640" y="267840"/>
            <a:ext cx="83102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Picture 2" descr="https://pptcloud3.ams3.digitaloceanspaces.com/slides/pics/003/525/304/original/Slide19.jpg?1494883322"/>
          <p:cNvPicPr/>
          <p:nvPr/>
        </p:nvPicPr>
        <p:blipFill>
          <a:blip r:embed="rId1"/>
          <a:stretch/>
        </p:blipFill>
        <p:spPr>
          <a:xfrm>
            <a:off x="0" y="0"/>
            <a:ext cx="8786520" cy="64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outfund.ru/wp-content/uploads/2013/07/reinforcementwork.jpg"/>
          <p:cNvPicPr/>
          <p:nvPr/>
        </p:nvPicPr>
        <p:blipFill>
          <a:blip r:embed="rId2"/>
          <a:stretch/>
        </p:blipFill>
        <p:spPr>
          <a:xfrm>
            <a:off x="6786720" y="5695200"/>
            <a:ext cx="1856880" cy="11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" name="Picture 2" descr="https://pptcloud3.ams3.digitaloceanspaces.com/slides/pics/003/525/305/original/Slide20.jpg?1494883322"/>
          <p:cNvPicPr/>
          <p:nvPr/>
        </p:nvPicPr>
        <p:blipFill>
          <a:blip r:embed="rId1"/>
          <a:stretch/>
        </p:blipFill>
        <p:spPr>
          <a:xfrm>
            <a:off x="285840" y="142920"/>
            <a:ext cx="8667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Picture 2" descr="https://pptcloud3.ams3.digitaloceanspaces.com/slides/pics/003/525/306/original/Slide21.jpg?1494883322"/>
          <p:cNvPicPr/>
          <p:nvPr/>
        </p:nvPicPr>
        <p:blipFill>
          <a:blip r:embed="rId1"/>
          <a:stretch/>
        </p:blipFill>
        <p:spPr>
          <a:xfrm>
            <a:off x="142920" y="0"/>
            <a:ext cx="8643600" cy="648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mamotvet.ru/wp-content/uploads/2015/08/2015-08-27_134203.jpg"/>
          <p:cNvPicPr/>
          <p:nvPr/>
        </p:nvPicPr>
        <p:blipFill>
          <a:blip r:embed="rId2"/>
          <a:stretch/>
        </p:blipFill>
        <p:spPr>
          <a:xfrm>
            <a:off x="6286680" y="5162400"/>
            <a:ext cx="2856960" cy="152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voindao.ru/media/cache/c5/1f/c51f5e114cb3e03764c2e7deeed8706a.jpg"/>
          <p:cNvPicPr/>
          <p:nvPr/>
        </p:nvPicPr>
        <p:blipFill>
          <a:blip r:embed="rId3"/>
          <a:stretch/>
        </p:blipFill>
        <p:spPr>
          <a:xfrm>
            <a:off x="714240" y="5393160"/>
            <a:ext cx="2071440" cy="14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едагогические  требования  к применению мер наказания следующие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4360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1.  Наказание не должно вредить здоровью - ни физическому, ни психологическом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2. Нельзя наказывать за неумышленные поступки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3. Нельзя наказывать наспех, без достаточных оснований, по подозрению. Никакой «профилактики», никаких наказаний «на всякий случай»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4. Можно сочетать наказание с убеждением и другими методами воспита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5. За один проступок наказывать один раз. Наказан - прощен. Не мешать человеку начинать жизнь сначал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6. За проступки которые совершены давно, не наказывать (срок давности). Особенно при воспитании детей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7. Соблюдать неприкосновенность личности. Какова бы ни была вина, наказание не должно восприниматься как торжество силы над слабостью, как унижение. Если воспитуемый посчитает наказание несправедливым, оно подействует в обратную сторон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8. Необходимо учитывать возрастные и индивидуальные особенности воспитуемых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" name="Picture 2" descr="https://pptcloud3.ams3.digitaloceanspaces.com/slides/pics/004/370/065/original/Slide17.jpg?1513273627"/>
          <p:cNvPicPr/>
          <p:nvPr/>
        </p:nvPicPr>
        <p:blipFill>
          <a:blip r:embed="rId1"/>
          <a:stretch/>
        </p:blipFill>
        <p:spPr>
          <a:xfrm>
            <a:off x="214200" y="160560"/>
            <a:ext cx="8929440" cy="66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Picture 2" descr="https://pptcloud3.ams3.digitaloceanspaces.com/slides/pics/003/525/307/original/Slide22.jpg?1494883322"/>
          <p:cNvPicPr/>
          <p:nvPr/>
        </p:nvPicPr>
        <p:blipFill>
          <a:blip r:embed="rId1"/>
          <a:stretch/>
        </p:blipFill>
        <p:spPr>
          <a:xfrm>
            <a:off x="357120" y="107280"/>
            <a:ext cx="8619840" cy="64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9" name="Picture 2" descr="https://pptcloud3.ams3.digitaloceanspaces.com/slides/pics/003/525/308/original/Slide23.jpg?1494883322"/>
          <p:cNvPicPr/>
          <p:nvPr/>
        </p:nvPicPr>
        <p:blipFill>
          <a:blip r:embed="rId1"/>
          <a:stretch/>
        </p:blipFill>
        <p:spPr>
          <a:xfrm>
            <a:off x="166680" y="0"/>
            <a:ext cx="86911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2" name="Picture 2" descr="&gt;Ð¡ÑÐ±ÑÐµÐºÑÑ Ð¿ÐµÐ´Ð°Ð³Ð¾Ð³Ð¸ÑÐµÑÐºÐ¾Ð³Ð¾ Ð¿ÑÐ¾ÑÐµÑÑÐ° ÐÐµÐ´Ð°Ð³Ð¾Ð³Ð¸ÑÐµÑÐºÐ¸Ð¹ Ð¿ÑÐ¾ÑÐµÑÑ â ÑÑÐ¾ ÑÐ¿ÐµÑÐ¸Ð°Ð»ÑÐ½Ð¾ Ð¾ÑÐ³Ð°Ð½Ð¸Ð·Ð¾Ð²Ð°Ð½Ð½Ð¾Ðµ,  ÑÐµÐ»ÐµÐ½Ð°Ð¿ÑÐ°Ð²Ð»ÐµÐ½Ð½Ð¾Ðµ Ð²Ð·Ð°Ð¸Ð¼Ð¾Ð´ÐµÐ¹ÑÑÐ²Ð¸Ðµ Ð¿ÐµÐ´Ð°Ð³Ð¾Ð³Ð¾Ð² Ð¸"/>
          <p:cNvPicPr/>
          <p:nvPr/>
        </p:nvPicPr>
        <p:blipFill>
          <a:blip r:embed="rId1"/>
          <a:stretch/>
        </p:blipFill>
        <p:spPr>
          <a:xfrm>
            <a:off x="285840" y="142920"/>
            <a:ext cx="8667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5" name="Picture 2" descr="&gt;ÐÑÐ¿Ð¾Ð»ÑÐ·Ð¾Ð²Ð°Ð½Ð¸Ðµ Ð¿ÐµÐ´Ð°Ð³Ð¾Ð³Ð¸ÑÐµÑÐºÐ¸Ñ Ð¿ÑÐ¸ÐµÐ¼Ð¾Ð² Ð² ÑÐ°Ð±Ð¾ÑÐµ Ð¼ÐµÐ´Ð¸ÑÐ¸Ð½ÑÐºÐ¸Ñ ÑÐ°Ð±Ð¾ÑÐ½Ð¸ÐºÐ¾Ð²    ÐÐ±ÑÑÐµÐ½Ð¸Ðµ Ð¼ÐµÐ´. ÑÐ°Ð±Ð¾ÑÐ½Ð¸ÐºÐ¾Ð² "/>
          <p:cNvPicPr/>
          <p:nvPr/>
        </p:nvPicPr>
        <p:blipFill>
          <a:blip r:embed="rId1"/>
          <a:srcRect l="1333" t="0" r="2997" b="7559"/>
          <a:stretch/>
        </p:blipFill>
        <p:spPr>
          <a:xfrm>
            <a:off x="159840" y="160560"/>
            <a:ext cx="8847000" cy="64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2" descr="&gt;ÐÑÐ½Ð¾Ð²Ð½ÑÐµ Ð²Ð¸Ð´Ñ Ð¿ÐµÐ´Ð°Ð³Ð¾Ð³Ð¸ÑÐµÑÐºÐ¾Ð¹ Ð´ÐµÑÑÐµÐ»ÑÐ½Ð¾ÑÑÐ¸ â¢ ÐÐµÑÐ¾Ð´Ð¸ÑÐµÑÐºÐ°Ñ Ð´ÐµÑÑÐµÐ»ÑÐ½Ð¾ÑÑÑ Ð¿Ð¾ Ð¾Ð·Ð½Ð°ÐºÐ¾Ð¼Ð»ÐµÐ½Ð¸Ñ Ð¿Ð°ÑÐ¸ÐµÐ½ÑÐ¾Ð² ÑÐ°Ð·Ð½Ð¾Ð³Ð¾ Ð²Ð¾Ð·ÑÐ°ÑÑÐ°, Ð½Ð°ÑÐ¸Ð¾Ð½Ð°Ð»ÑÐ½Ð¾Ð¹ "/>
          <p:cNvPicPr/>
          <p:nvPr/>
        </p:nvPicPr>
        <p:blipFill>
          <a:blip r:embed="rId1"/>
          <a:srcRect l="0" t="0" r="1118" b="5025"/>
          <a:stretch/>
        </p:blipFill>
        <p:spPr>
          <a:xfrm>
            <a:off x="285840" y="285840"/>
            <a:ext cx="8528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" name="Picture 2" descr="https://ds04.infourok.ru/uploads/ex/1131/00061828-bb86c2be/1/img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1" name="Picture 2" descr="&gt;Ð ÐµÐ·ÑÐ»ÑÑÐ°ÑÑ Ð¿ÐµÐ´Ð°Ð³Ð¾Ð³Ð¸ÑÐµÑÐºÐ¾Ð¹ Ð´ÐµÑÑÐµÐ»ÑÐ½Ð¾ÑÑÐ¸ Ð¼ÐµÐ´Ð¸ÑÐ¸Ð½ÑÐºÐ¾Ð³Ð¾ ÑÐ°Ð±Ð¾ÑÐ½Ð¸ÐºÐ° ÐÑÐ½Ð¾Ð²Ð½ÑÐ¼ Ð¿ÐµÐ´Ð°Ð³Ð¾Ð³Ð¸ÑÐµÑÐºÐ¸Ð¼ ÑÐµÐ·ÑÐ»ÑÑÐ°ÑÐ¾Ð¼ Ð´ÐµÑÑÐµÐ»ÑÐ½Ð¾ÑÑÐ¸ Ð¼ÐµÐ´Ð¸ÐºÐ° ÑÐ²Ð»ÑÐµÑÑÑ ÑÑÐ¸Ð»ÐµÐ½Ð¸Ðµ ÐºÐ¾Ð½ÑÑÐ¾Ð»Ñ Ð¿Ð°ÑÐ¸ÐµÐ½ÑÐ¾Ð²"/>
          <p:cNvPicPr/>
          <p:nvPr/>
        </p:nvPicPr>
        <p:blipFill>
          <a:blip r:embed="rId1"/>
          <a:srcRect l="0" t="0" r="1160" b="9749"/>
          <a:stretch/>
        </p:blipFill>
        <p:spPr>
          <a:xfrm>
            <a:off x="142920" y="285840"/>
            <a:ext cx="878652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4" name="Picture 2" descr="&gt;Ð¤Ð¾ÑÐ¼Ð¸ÑÐ¾Ð²Ð°Ð½Ð¸Ðµ Ð¾ÑÐ½Ð¾Ð² ÑÐ°Ð¼Ð¾ÑÐ¾ÑÑÐ°Ð½ÐµÐ½Ð¸Ñ Ñ Ð¿Ð°ÑÐ¸ÐµÐ½ÑÐ¾Ð² Ð¢ÐµÑÐ½Ð¾Ð»Ð¾Ð³Ð¸Ñ ÑÐ¾ÑÐ¼Ð¸ÑÐ¾Ð²Ð°Ð½Ð¸Ñ Ð¾ÑÐ½Ð¾Ð² ÑÐ°Ð¼Ð¾ÑÐ¾ÑÑÐ°Ð½Ð¸ÑÐµÐ»ÑÐ½Ð¾Ð¹ Ð´ÐµÑÑÐµÐ»ÑÐ½Ð¾ÑÑÐ¸ Ñ Ð¿Ð°ÑÐ¸ÐµÐ½ÑÐ¾Ð² Ð² Ð¿ÑÐ¾ÑÐµÑÑÐµ"/>
          <p:cNvPicPr/>
          <p:nvPr/>
        </p:nvPicPr>
        <p:blipFill>
          <a:blip r:embed="rId1"/>
          <a:srcRect l="0" t="0" r="0" b="6264"/>
          <a:stretch/>
        </p:blipFill>
        <p:spPr>
          <a:xfrm>
            <a:off x="192600" y="129600"/>
            <a:ext cx="873684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&gt;ÐÐµÑÐ¾Ð´Ñ ÑÐ¾ÑÐ¼Ð¸ÑÐ¾Ð²Ð°Ð½Ð¸Ñ Ð¾ÑÐ½Ð¾Ð² ÑÐ°Ð¼Ð¾ÑÐ¾ÑÑÐ°Ð½ÐµÐ½Ð¸Ñ Ñ Ð¿Ð°ÑÐ¸ÐµÐ½ÑÐ¾Ð²   â¢ ÐÐµÑÐ¾Ð´Ñ ÑÐ¾ÑÐ¼Ð¸ÑÐ¾Ð²Ð°Ð½Ð¸Ñ Ð¸ ÑÐ°Ð·Ð²Ð¸ÑÐ¸Ñ Ð¾ÑÐ½Ð¾Ð²"/>
          <p:cNvPicPr/>
          <p:nvPr/>
        </p:nvPicPr>
        <p:blipFill>
          <a:blip r:embed="rId1"/>
          <a:srcRect l="0" t="0" r="0" b="4164"/>
          <a:stretch/>
        </p:blipFill>
        <p:spPr>
          <a:xfrm>
            <a:off x="214200" y="98280"/>
            <a:ext cx="872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49" name="Picture 2" descr="&gt;ÐÐµÑÐ¾Ð´Ñ ÑÐ¾ÑÐ¼Ð¸ÑÐ¾Ð²Ð°Ð½Ð¸Ñ Ð¾ÑÐ½Ð¾Ð² ÑÐ°Ð¼Ð¾ÑÐ¾ÑÑÐ°Ð½ÐµÐ½Ð¸Ñ Ñ Ð¿Ð°ÑÐ¸ÐµÐ½ÑÐ¾Ð²   â¢ ÐÐµÑÐ¾Ð´Ñ Ð¾ÑÐ³Ð°Ð½Ð¸Ð·Ð°ÑÐ¸Ð¸ Ð¸ ÑÐ°Ð·Ð²Ð¸ÑÐ¸Ñ Ð¾Ð¿ÑÑÐ°"/>
          <p:cNvPicPr/>
          <p:nvPr/>
        </p:nvPicPr>
        <p:blipFill>
          <a:blip r:embed="rId1"/>
          <a:stretch/>
        </p:blipFill>
        <p:spPr>
          <a:xfrm>
            <a:off x="285840" y="214200"/>
            <a:ext cx="8619840" cy="64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2" name="Picture 2" descr="&gt;ÐÐµÑÐ¾Ð´Ñ ÑÐ¾ÑÐ¼Ð¸ÑÐ¾Ð²Ð°Ð½Ð¸Ñ Ð¾ÑÐ½Ð¾Ð² ÑÐ°Ð¼Ð¾ÑÐ¾ÑÑÐ°Ð½ÐµÐ½Ð¸Ñ Ñ Ð¿Ð°ÑÐ¸ÐµÐ½ÑÐ¾Ð²   â¢ ÐÐµÑÐ¾Ð´Ñ ÑÑÐ¸Ð¼ÑÐ»Ð¸ÑÐ¾Ð²Ð°Ð½Ð¸Ñ Ð¼Ð¾ÑÐ¸Ð²Ð°ÑÐ¸Ð¸, ÐºÐ¾Ð½ÑÑÐ¾Ð»Ñ, "/>
          <p:cNvPicPr/>
          <p:nvPr/>
        </p:nvPicPr>
        <p:blipFill>
          <a:blip r:embed="rId1"/>
          <a:srcRect l="0" t="0" r="1937" b="7244"/>
          <a:stretch/>
        </p:blipFill>
        <p:spPr>
          <a:xfrm>
            <a:off x="81000" y="214200"/>
            <a:ext cx="9062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5" name="Picture 2" descr="&gt;ÐÐ¾Ð²ÑÑÐµÐ½Ð¸Ðµ ÑÑÑÐµÐºÑÐ¸Ð²Ð½Ð¾ÑÑÐ¸ Ð¿ÑÐ¾ÑÐµÑÑÐ° Ð¾Ð±ÑÑÐµÐ½Ð¸Ñ Ð¿Ð°ÑÐ¸ÐµÐ½ÑÐ¾Ð² ÐÑÐ¾Ð±ÐµÐ½Ð½Ð¾ÑÑÑ Ð»ÐµÑÐµÐ½Ð¸Ñ Ð¼Ð½Ð¾Ð³Ð¸Ñ ÑÑÐ¾Ð½Ð¸ÑÐµÑÐºÐ¸Ñ Ð·Ð°Ð±Ð¾Ð»ÐµÐ²Ð°Ð½Ð¸Ð¹ ÑÐ¾ÑÑÐ¾Ð¸Ñ Ð² ÑÐ¾Ð¼, ÑÑÐ¾"/>
          <p:cNvPicPr/>
          <p:nvPr/>
        </p:nvPicPr>
        <p:blipFill>
          <a:blip r:embed="rId1"/>
          <a:srcRect l="0" t="0" r="0" b="11107"/>
          <a:stretch/>
        </p:blipFill>
        <p:spPr>
          <a:xfrm>
            <a:off x="142920" y="357120"/>
            <a:ext cx="8786520" cy="62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Picture 2" descr="&gt;ÐÐ¾Ð²ÑÑÐµÐ½Ð¸Ðµ ÑÑÑÐµÐºÑÐ¸Ð²Ð½Ð¾ÑÑÐ¸ Ð¿ÑÐ¾ÑÐµÑÑÐ° Ð¾Ð±ÑÑÐµÐ½Ð¸Ñ Ð¿Ð°ÑÐ¸ÐµÐ½ÑÐ¾Ð² Ð£ÑÐ¿ÐµÑ Ð¾Ð±ÑÑÐµÐ½Ð¸Ñ Ð·Ð°Ð²Ð¸ÑÐ¸Ñ Ð¾Ñ ÑÐ¼ÐµÐ½Ð¸Ñ ÑÑÐ¾ÑÐ¼Ð¸ÑÐ¾Ð²Ð°ÑÑ Ñ Ð¿Ð°ÑÐ¸ÐµÐ½ÑÐ° ÑÑÐµÐ±Ð½ÑÑ"/>
          <p:cNvPicPr/>
          <p:nvPr/>
        </p:nvPicPr>
        <p:blipFill>
          <a:blip r:embed="rId1"/>
          <a:srcRect l="0" t="0" r="0" b="4164"/>
          <a:stretch/>
        </p:blipFill>
        <p:spPr>
          <a:xfrm>
            <a:off x="248400" y="214200"/>
            <a:ext cx="8895240" cy="639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&gt;ÐÐ¾Ð²ÑÑÐµÐ½Ð¸Ðµ ÑÑÑÐµÐºÑÐ¸Ð²Ð½Ð¾ÑÑÐ¸ Ð¿ÑÐ¾ÑÐµÑÑÐ° Ð¾Ð±ÑÑÐµÐ½Ð¸Ñ Ð¿Ð°ÑÐ¸ÐµÐ½ÑÐ¾Ð² q ÐÑÐ¾ÑÐµÑÑ Ð¾Ð±ÑÑÐµÐ½Ð¸Ñ ÑÐ¾ÑÐµÑÐ°ÐµÑÑÑ Ñ ÑÐ°Ð¼Ð¾Ð½Ð°Ð±Ð»ÑÐ´ÐµÐ½Ð¸ÐµÐ¼, ÑÐ°Ð¼Ð¾ÐºÐ¾Ð½ÑÑÐ¾Ð»ÐµÐ¼, Ð¾ÑÐ¾Ð·Ð½Ð°Ð½Ð¸ÐµÐ¼ Ð¾ÑÐ²ÐµÑÑÑÐ²ÐµÐ½Ð½Ð¾ÑÑÐ¸"/>
          <p:cNvPicPr/>
          <p:nvPr/>
        </p:nvPicPr>
        <p:blipFill>
          <a:blip r:embed="rId1"/>
          <a:srcRect l="0" t="0" r="0" b="18050"/>
          <a:stretch/>
        </p:blipFill>
        <p:spPr>
          <a:xfrm>
            <a:off x="214200" y="785880"/>
            <a:ext cx="8832600" cy="59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4" name="Picture 2" descr="&gt;ÐÐ¾Ð²ÑÑÐµÐ½Ð¸Ðµ ÑÑÑÐµÐºÑÐ¸Ð²Ð½Ð¾ÑÑÐ¸ Ð¿ÑÐ¾ÑÐµÑÑÐ° Ð¾Ð±ÑÑÐµÐ½Ð¸Ñ Ð¿Ð°ÑÐ¸ÐµÐ½ÑÐ¾Ð² q ÐÑÐµÐ´Ð¿Ð¾ÑÑÐ¸ÑÐµÐ»ÑÐ½Ð¾Ð¹ ÑÑÑÐ°ÑÐµÐ³Ð¸ÐµÐ¹ Ð¿ÑÐµÐ¿Ð¾Ð´Ð°Ð²Ð°ÑÐµÐ»Ñ  ÑÐ²Ð»ÑÐµÑÑÑ Ð·Ð°Ð¾ÑÑÑÐµÐ½Ð¸Ðµ Ð²Ð½Ð¸Ð¼Ð°Ð½Ð¸Ñ Ð½Ð°"/>
          <p:cNvPicPr/>
          <p:nvPr/>
        </p:nvPicPr>
        <p:blipFill>
          <a:blip r:embed="rId1"/>
          <a:srcRect l="0" t="0" r="0" b="18050"/>
          <a:stretch/>
        </p:blipFill>
        <p:spPr>
          <a:xfrm>
            <a:off x="239760" y="428760"/>
            <a:ext cx="883368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ДЕТИ СМОТРЯТ И КОПИРУЮТ НАС!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071720"/>
            <a:ext cx="8627760" cy="57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критикой – учится обвинят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ддержкой – учится защищать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насмешками – учится быть недоверчивым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хвалами – учится быть уверенным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враждебностью – учится видеть врагов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безопасностью – учится доверию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злостью – учится причинять бол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любовью – учится любить и дарить любовь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непониманием – учится не слышать других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свободой выбора – учится быть ответственным за свои реше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обманом – учится врат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честностью – учится быть справедливым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зором – учится чувствовать вину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одобрением – учится уважать себя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Сделайте свой выбор в общении с ребёнком. 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 помните: критика - медленный способ убийства через душ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" name="Picture 2" descr="https://myslide.ru/documents_3/28bbbe6c0ba966785a7aed2d6c83e729/img5.jpg"/>
          <p:cNvPicPr/>
          <p:nvPr/>
        </p:nvPicPr>
        <p:blipFill>
          <a:blip r:embed="rId1"/>
          <a:stretch/>
        </p:blipFill>
        <p:spPr>
          <a:xfrm>
            <a:off x="4286160" y="0"/>
            <a:ext cx="4857480" cy="364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s://www.metod-kopilka.ru/images/doc/70/71129/img0.jpg"/>
          <p:cNvPicPr/>
          <p:nvPr/>
        </p:nvPicPr>
        <p:blipFill>
          <a:blip r:embed="rId2"/>
          <a:stretch/>
        </p:blipFill>
        <p:spPr>
          <a:xfrm>
            <a:off x="0" y="3455640"/>
            <a:ext cx="6048000" cy="340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fs3.ppt4web.ru/images/132073/179766/640/img20.jpg"/>
          <p:cNvPicPr/>
          <p:nvPr/>
        </p:nvPicPr>
        <p:blipFill>
          <a:blip r:embed="rId3"/>
          <a:stretch/>
        </p:blipFill>
        <p:spPr>
          <a:xfrm>
            <a:off x="0" y="214200"/>
            <a:ext cx="4381200" cy="328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s://myslide.ru/documents_2/1d9cc0f3b1dfb08bc84458324d45f933/img11.jpg"/>
          <p:cNvPicPr/>
          <p:nvPr/>
        </p:nvPicPr>
        <p:blipFill>
          <a:blip r:embed="rId4"/>
          <a:stretch/>
        </p:blipFill>
        <p:spPr>
          <a:xfrm>
            <a:off x="5524560" y="3857760"/>
            <a:ext cx="3619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534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1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r>
              <a:rPr b="0" i="1" lang="ru-RU" sz="3300" spc="-1" strike="noStrike">
                <a:solidFill>
                  <a:srgbClr val="c00000"/>
                </a:solidFill>
                <a:latin typeface="Georgia"/>
              </a:rPr>
              <a:t>Письмо к учителю сына.</a:t>
            </a:r>
            <a:br>
              <a:rPr sz="3300"/>
            </a:b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503560" cy="49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440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Если можете, научите его интересоваться книгами... И дайте ему также свободное время, чтобы он мог поразмыслить над извечными тайнами: птицами в небе, пчелами в лучах солнца и цветами на зеленых склонах холма. Когда он будет в школе, научите его тому, что намного почетнее потерпеть неудачу, чем смошенничать...  Постарайтесь дать моему сыну силу не следовать за толпой, когда все примыкают к победившей стороне... Научите его выслушивать всех людей, однако научите его также все то, что он слышит, рассматривать под углом истины и отбирать только хорошее. Научите его не слушать воющую толпу, но встать и сражаться, если он считает себя правым. Обращайтесь с ним мягко, но без излишней нежности, потому что только испытание огнем дает стали высокое качество. Научите его всегда иметь высокую веру в себя, потому что тогда он всегда будет иметь высокую веру в человечество. 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408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Авраам Линкольн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228600"/>
            <a:ext cx="804996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ритча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ять качеств карандаша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5035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marL="239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700"/>
            </a:b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</a:t>
            </a: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Малыш смотрит, как бабушка пишет письмо, и спрашивает: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Ты пишешь о том, что происходило с нами? А может, ты пишешь обо мне?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Бабушка перестает писать, улыбается и говорит внуку: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Ты угадал, я пишу о тебе. Но важнее не то, что я пишу, а то, чем я пишу. Я хотела бы, чтобы ты, когда вырастешь, стал таким, как этот карандаш…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Малыш смотрит на карандаш с любопытством, но не замечает ничего особенного.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Он точно такой же, как все карандаши, которые я видел!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Все зависит от того, как смотреть на вещи. Этот карандаш обладает пятью качествами, которые необходимы тебе, если ты хочешь прожить жизнь в ладу со всем миром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о-первых: ты можешь быть гением, но никогда не должен забывать о существовании Направляющей Руки. Мы называем эту руку Богом. Всегда вверяй себя Его воле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о-вторых: чтобы писать, мне приходится затачивать карандаш. Эта операция немного болезненна для него, но зато после этого карандаш пишет более тонко. Следовательно, умей терпеть боль, помня, что она облагораживает тебя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-третьих: если пользоваться карандашом, всегда можно стереть резинкой то, что считаешь ошибочным. Запомни, что исправлять себя - не всегда плохо. Часто это единственный способ удержаться на верном пути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-четвёртых: в карандаше значение имеет не дерево, из которого он сделан и не его форма, а графит, находящийся внутри. Поэтому всегда думай о том, что происходит внутри тебя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И наконец, в-пятых: карандаш всегда оставляет за собой след. Так же и ты оставляешь после себя следы своими поступками и поэтому обдумывай каждый свой шаг. </a:t>
            </a: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Picture 2" descr="https://go4.imgsmail.ru/imgpreview?key=384348262dcbd016&amp;mb=imgdb_preview_765"/>
          <p:cNvPicPr/>
          <p:nvPr/>
        </p:nvPicPr>
        <p:blipFill>
          <a:blip r:embed="rId1"/>
          <a:stretch/>
        </p:blipFill>
        <p:spPr>
          <a:xfrm>
            <a:off x="0" y="0"/>
            <a:ext cx="2400120" cy="150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prostokoshka.ru/wp-content/uploads/2015/08/Karandash.png"/>
          <p:cNvPicPr/>
          <p:nvPr/>
        </p:nvPicPr>
        <p:blipFill>
          <a:blip r:embed="rId2"/>
          <a:stretch/>
        </p:blipFill>
        <p:spPr>
          <a:xfrm>
            <a:off x="7300800" y="0"/>
            <a:ext cx="1842840" cy="12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5" name="Picture 2" descr="&gt;Ð¡Ð¿Ð°ÑÐ¸Ð±Ð¾ Ð·Ð° Ð²Ð½Ð¸Ð¼Ð°Ð½Ð¸Ðµ! "/>
          <p:cNvPicPr/>
          <p:nvPr/>
        </p:nvPicPr>
        <p:blipFill>
          <a:blip r:embed="rId1"/>
          <a:srcRect l="7465" t="6313" r="9087" b="7370"/>
          <a:stretch/>
        </p:blipFill>
        <p:spPr>
          <a:xfrm>
            <a:off x="505440" y="142920"/>
            <a:ext cx="813852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Picture 2" descr="http://900igr.net/up/datas/128537/013.jpg"/>
          <p:cNvPicPr/>
          <p:nvPr/>
        </p:nvPicPr>
        <p:blipFill>
          <a:blip r:embed="rId1"/>
          <a:stretch/>
        </p:blipFill>
        <p:spPr>
          <a:xfrm>
            <a:off x="0" y="0"/>
            <a:ext cx="8929440" cy="685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s://cf.ppt-online.org/files/slide/u/uypwIP1W7nA5JSOGoYTQLgldksq6jrFKz2fD0R/slide-56.jpg"/>
          <p:cNvPicPr/>
          <p:nvPr/>
        </p:nvPicPr>
        <p:blipFill>
          <a:blip r:embed="rId2"/>
          <a:srcRect l="732" t="0" r="77295" b="51173"/>
          <a:stretch/>
        </p:blipFill>
        <p:spPr>
          <a:xfrm>
            <a:off x="7172280" y="3571920"/>
            <a:ext cx="197136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Picture 2" descr="https://ds03.infourok.ru/uploads/ex/0b02/00053b21-78d37534/img13.jpg"/>
          <p:cNvPicPr/>
          <p:nvPr/>
        </p:nvPicPr>
        <p:blipFill>
          <a:blip r:embed="rId1"/>
          <a:stretch/>
        </p:blipFill>
        <p:spPr>
          <a:xfrm>
            <a:off x="190440" y="142920"/>
            <a:ext cx="8953200" cy="67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Picture 2" descr="https://ds03.infourok.ru/uploads/ex/0b02/00053b21-78d37534/img14.jpg"/>
          <p:cNvPicPr/>
          <p:nvPr/>
        </p:nvPicPr>
        <p:blipFill>
          <a:blip r:embed="rId1"/>
          <a:stretch/>
        </p:blipFill>
        <p:spPr>
          <a:xfrm>
            <a:off x="190440" y="142920"/>
            <a:ext cx="8953200" cy="67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" name="Picture 2" descr="https://fs03.metod-kopilka.ru/images/doc/43/38148/img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" name="Picture 2" descr="https://pptcloud3.ams3.digitaloceanspaces.com/slides/pics/003/525/288/original/Slide3.jpg?1494883320"/>
          <p:cNvPicPr/>
          <p:nvPr/>
        </p:nvPicPr>
        <p:blipFill>
          <a:blip r:embed="rId1"/>
          <a:stretch/>
        </p:blipFill>
        <p:spPr>
          <a:xfrm>
            <a:off x="285840" y="0"/>
            <a:ext cx="8643600" cy="6482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428760" y="5934600"/>
            <a:ext cx="8714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 воспитание, и образование нераздельны. Нельзя воспитывать, не передавая знания, всякое же знание действует воспитательно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43</TotalTime>
  <Application>LibreOffice/7.4.7.2$Linux_X86_64 LibreOffice_project/40$Build-2</Application>
  <AppVersion>15.0000</AppVersion>
  <Words>546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23T19:01:39Z</dcterms:modified>
  <cp:revision>44</cp:revision>
  <dc:subject/>
  <dc:title> Тема 8. Методы  педагогического процесса. Методы стимулирования и упражнения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2</vt:r8>
  </property>
</Properties>
</file>