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03A7-3CC6-48B8-A691-BCAB244B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C05-867D-4947-B83B-B9A6973B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8E9-2341-4C3A-925E-7D267785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624-E395-472A-B930-8E6E2B6E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30E2-C7DB-4C7F-BEF8-92C51B2F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210F-C8F5-4DBD-903C-F9319C54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88C0-74B9-4BAB-8799-FCC9F842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9FDB-8A99-4530-9AE8-9B115AD1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DD6E-7BD8-48CE-B4FC-C222ED73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C99C-F224-476F-873A-C928534E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3096-9B83-4A7C-8FB4-00FC3BCC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4ECB-9B7F-412D-A12B-47F853D3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BB6A-0F06-43A3-A81F-C9DB88C1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54E0-8540-4D3C-8811-73A958DD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EF08-EFB0-4516-8137-31AB0849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CECB-0A4C-48CE-AD52-E7748473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D010-4B8D-41F7-B6E7-6A043FE3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71F-E44B-47B6-9553-9E9D3A1D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ADF-68CE-4FEB-AE38-68843DE9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8DB-1D30-4998-8BC5-DE19F497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DDF-0D9A-4061-BD9E-2070A8D6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104-4EF5-4EB9-9DC2-842FAFCA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EE0-EBF6-430A-A6E5-C6D8E056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A4A-B67C-4C3D-97C7-67535396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6193B1-F53B-46C1-9E49-0A5608C8B88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37569B-A181-4D7D-B0A4-C1E6C564B6A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кция</a:t>
            </a:r>
            <a:br>
              <a:rPr sz="4400"/>
            </a:br>
            <a:r>
              <a:rPr b="1" lang="ru-RU" sz="49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Calibri"/>
              </a:rPr>
              <a:t>Противоаллергические средства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одаватель Чернова И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типов аллергических реакций (АР) в зависимости от иммунологических механизм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99640" y="1628640"/>
            <a:ext cx="735444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адии аллергических реакц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мунная (формируется от начала контакта организма с аллергеном, при этом происходит усиленное образование аллергических антител)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тохимическая (проявляется образованием в гуморальных средах и тканях организма комплексов антиген—антитело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тофизиологическая –клиническая (представляет собой результат действия медиаторов аллергии на клетки, ткани, органы и физиологические системы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Механизм анафилактической реак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051640" y="1484640"/>
            <a:ext cx="463428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иперчувствительность немедленного типа (ГНТ) или 1 тип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НТ возникает при взаимодействии антигенов с антителами (IgE) на поверхности тучных клеток или базофилов. Это взаимодействие приводит к высвобождению из указанных клеток медиаторов аллергии и воспале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стам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отон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адикин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, активирующий тромбоци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йкотриен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аглиндины ид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адии патогенеза гиперчувствительности немедленного тип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Объект 3" descr=""/>
          <p:cNvPicPr/>
          <p:nvPr/>
        </p:nvPicPr>
        <p:blipFill>
          <a:blip r:embed="rId1"/>
          <a:stretch/>
        </p:blipFill>
        <p:spPr>
          <a:xfrm>
            <a:off x="827640" y="1600200"/>
            <a:ext cx="763236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Иммунологическая стад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tretch/>
        </p:blipFill>
        <p:spPr>
          <a:xfrm>
            <a:off x="827640" y="1600200"/>
            <a:ext cx="741636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атохимическая стад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39640" y="1340640"/>
            <a:ext cx="7848360" cy="466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инические проявления ГНТ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55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пия – наследственная предрасположенность к развитию ГНТ, обусловленная повышенной выработкой IgE-антите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филактический шок – протекает остро с развитием коллапса, отеков, спазма гладкой мускулатуры; часто заканчивается смертью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пивница – увеличивается проницаемость сосудов, кожа краснеет, появляются пузыри, зу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гиоэдема – отек подкожных и субмукозных тканей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й ринит или рино-конъюнктиви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линоз (сенная лихорадка) – аллергия к пыльце растен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пическая бронхиальная астма – воспаление, бронхоспазм, усиление секреции слизи в бронх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щевая аллергия – развиваются тошнота, диарея, зуд, сыпь, анафилакс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нафилактический шо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640" y="1600200"/>
            <a:ext cx="82908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95640" y="1556640"/>
            <a:ext cx="8352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иперчувствительность замедленного типа (ГЗТ) или 4 тип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ЗТ возникает при взаимодействии Т-лимфоцитов с антигенами, расположенными на поверхности макрофагов или других антиген-представляющих клето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иаторы ГЗ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Интерлейкин-2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Лимфоток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Фактор некроза опухол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Фактор, угнетающий миграци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сновные пон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я - это патологическая форма иммуногеной реактивности организма, проявляющаяся повышенной чувствительностью к повторному воздействию аллерген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е реакции - реакции гиперчувствительности иммунной системы, не имеющие защитного значения для организма и развивающиеся в ответ на воздействие антигенов, называемых аллерген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филаксия - остро развивающееся и часто угрожающее жизни состояние гиперчувствительности 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иперчувствительность замедленного типа (ГЗТ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7640" y="155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ГЗТ относят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кцию на туберкул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тактный дермати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кция отторжения транспланта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утоиммунные реакции 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противоаллергических средст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. Средства, применяемые при АР немедленного тип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Глюкокортикостероид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табилизаторы мембран тучных клето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ротивогистаминные средств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Антагонисты лейкотриеновых рецептор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Адреномиметик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. Средства, применяемые при АР замедленного тип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Имуносупрессан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Глюкокортикостероид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ПВ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азисные противоревматические препарат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бщие принципы лечения аллергических состоян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Объект 3" descr=""/>
          <p:cNvPicPr/>
          <p:nvPr/>
        </p:nvPicPr>
        <p:blipFill>
          <a:blip r:embed="rId1"/>
          <a:stretch/>
        </p:blipFill>
        <p:spPr>
          <a:xfrm>
            <a:off x="683640" y="1628640"/>
            <a:ext cx="7488360" cy="48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Лечение аллергических реакц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лечения аллергических реакций применяются следующие лекарственные средств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глюкокортикоиды, подавляющие развитие всех трех фаз течения гипериммунных реакций немедленного тип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стабилизаторы мембран тучных клеток, которые снижают выброс содержимого из гранул тучных клеток, ограничивая тем самым развитие патофизиологической фазы аллерги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антигистаминные средства (блокаторы H1-гистаминовых рецепторов конкурентного типа действия), уменьшающие реакцию организма н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юкокортикоиды обладают противоаллергическим, противовоспалительным и иммуносупрессивным действие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воспалительный эффект глюкокортикоидов неспецифичен и развивается в ответ на любые повреждающие стимулы (физические, химические, бактериальные или патологические иммунные, такие как гиперчувствительность или аутоиммунные реакции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юкокортикоиды путём пассивной диффузии проникают через клеточную мембрану в цитоплазму клетки, где связываются глюкокортикоидными рецептор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вшийся комплекс гормон-рецептор перемещается в клеточное ядро, где связывается с коактивирующими молекулами и чувствительным элементом генов, обусловливая геномный эффект глюкокортикоид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езультате в клетке активируются процессы транскрипции (трансактивации) генов и образование белков, обладающих противовоспалительным эффект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-механизм действ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подавляют антигенпрезентующую функцию макрофаг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подавляют пролиферацию В-лимфоцитов, снижают плазматизацию ткане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оказывают слабое угнетающее действие на антителопродукцию и образование ЦИ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стабилизируют мембраны тучных клеток и базофилов (отчасти за счет угнетения фосфолипавзы А2), а также уменьшают дегрануляци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оказывают противошоковое действ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оказывают противовоспалительное действ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истемные 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таметаз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дрокортиз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ксаметаз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илпреднизол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низол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амциноло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опические глюкокортикоиды (местного действия)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местного использования глюкокортикоидов коренным образом изменила тактику ведения больных аллергическими заболевания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аляционный, интраназаль-ный, конъюнктивальный, чрескожный пути введения обеспечивают доставку глюкокортикоидов непосредственно к месту их действия, а именно к слизистым оболочкам бронхов, носовой полости, конъюнктивы глаза и к кож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имущества топических глюкокортикоидов - высокое сродство к рецепторам, выраженная местная противовоспалительная активность, более низкие (примерно в 100 раз) терапевтические дозы, низкая биодоступност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опические глюкокортикоиды (местного действия)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ее широко используемые в аллергологии топические глюкокортикоиды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аляционные: беклометазона дипропионат, будесонид, мометазона фуроат, флутиказона пропионат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раназальные: беклометазона дипропионат, будесонид, мометазона фуроат, флутиказона пропионат, флутиказона фуроат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лечения аллергической крапивницы: гидрокортизон, десонид, дексаметазон, преднизолон в виде глазных суспензий или мази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ужные формы глюкокортикоид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сновные пон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е реакции лежат в основе патогенеза аллергических заболеван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м, ткани и клетки, способные отвечать реакциями гиперчувствительности, принято называть сенсибилизированными, т.е. имеющими повышенную чувствительность к данному агент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кольку в основе аллергической реакции лежит иммунологический механизм, то она является высокоспецифично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ой сенсибилизированный организм отвечает аллергической реакцией на антигенные структуры (детерминанты), использованные для иммунизации (сенсибилизации), или же на родственные им молекул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висимости от длительности лечения различают 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тковременную 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ительную глюкокортикоидную терапию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тковременную терапию глюкокортикоидами (в течение 1-10 сут) применяют в экстренных случаях (шоковые состояния, тяжёлые аллергические реакции, обострение БА, астматический статус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ск развития побочных эффектов при кратковременном применении глюкокортикоидов ниже, возможна быстрая их отмен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необходимости длительного приёма внутрь препаратами выбора являются преднизолон или метилпреднизолон, так как они имеют короткий период полувыведения, наиболее близки по химической структуре к кортизолу и оказывают наименьшее (после гидрокортизона) угнетающее действие на функцию надпочечник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пределённых ситуациях требуется введение пролонгированных форм глюкокортикоидов (триамцинолона ацетонид, метилпреднизолона ацетат и комбинация бетаметазона натрия фосфата и бетаметазона дипропионата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Глюкокортикои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бронхиальная астм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кожные заболевания с аллергическим компонентом (тяжелые аллергические дерматиты, экзема, псориаз, нейродермит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аллергические риноконъюктивит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анафилактический шок, сывороточная болезн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бочное действие глюкокортикоид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Экзогенный синдром Иценко-Кушинг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Надпочечниковая недостаточност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нижение резистентности к инфекция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Развити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ы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з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К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Риск развития тромбоз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Тератогенный эффек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бочное действие глюкокортикоид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инство осложнений поддаются лечению и проходят после отмены препара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необратимым эффектам относя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Задержка роста у детей (возникает при применении кортикоидов более 1,5 лет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тероидный диабет ( при длительном лечении у больных с преддиабетом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убкапсулярная катарак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ДНИ3ОЛОН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Prednisolonum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акологическое дейст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Дегидрированный аналог гидрокортизон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Острые и хронические аллергические заболева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етки по 0,005 г, в упаковке 100 штук; раствор для инъекций, содержащий 30 мг преднизолона в ампулах по 1мл, мазь 0,5% по 10 и 15 г в туб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ДНИ3ОЛОН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Prednisolonum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.: Tab. Prednisoloni 0,005 №10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S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имать по схем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.:  Sol. Prednisoloni 30mg/ml – 1ml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t.d. N. 30 in amp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ить внутривенно по 1 мл на 20 мл 0,9%  натрия хлорид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Бетаметазон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Betamethasone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оним: Целестон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.дейст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интетический глюкокортикоидный препарат для системного применения. Обладает выраженным противовоспалительным и противоаллергическим действие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 к применен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Недостаточность коры надпочечников; ревматические заболевания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лергические болез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заболевания кроветворной системы, язвенный колит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пособ применения и доз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Для приема внутрь назначают целестон от 0,5 мг до 8 мг в сутк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бочное дейст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овышение АД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Таблетки, р-р для инъекций, маз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ксаметазон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Dexamethasone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.действие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интетический глюкокортикоидный препарат, в состав которого входит атом фтора. Оказывает выраженное противовоспалительное, противоаллергическое и десенсибилизирующее действие, обладает иммунодепрессивной активност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 к применен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Надпочечниковая недостаточность, тиреоидит, гипотиреоз, прогрессирующая офтальмопатия, гемобластозы, бронхиальная астм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аллергические заболе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ревматизм, ревматоидный артрит, системные заболевания соединительной ткани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Таблетки по 0,5 мг, раствор для инъекций по 4 мг, суспензия глазная 0,1%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иамциналон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Triamcinolone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амциноло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Кеналог, Полькортолон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 к применен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противовоспалительное, противозудное, антиаллергическое сред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пособ применения и доз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нутрь по 0,004—0,016 г в день в 2—4 приема. По получении лечебного эффекта дозу препарата постепенно уменьшают до 0,001 г в ден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Таблетки по 0,002; 0,004 и 0,008 г, мазь 0,1%  в тубах по 10 и 15г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ллерген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ены - вещества белковой и полисахаридной природы с определенной молекулярной массой: 10-70 кД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которых контекстах термины «аллерген» и «антиген» употребляют как синонимы, однако следует иметь в виду, что не всякий антиген может вызвать аллергическу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Будесонид (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Budesonide</a:t>
            </a: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есонид (Пульмикорт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акологическое действ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ротивовоспалительное, противоаллергическое, глюкокортикоидное. Угнетает синтез лейкотриенов и простагландинов, тормозит продукцию цитокинов, предупреждает миграцию и активацию воспалительных клето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нгаляционно: бронхиальная астма, хроническая обструктивная болезнь легки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Раствор для ингаляций  250 мкг или 500 мкг в 1 мл, флаконы 2,2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ошок для ингаляций  дозированный 200 мкг/1 доза, ингалятор 200 до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лутиказон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(</a:t>
            </a: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Fluticasone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лутиказон (Фликсотид, Фликсоназе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акологическое действ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воспалительное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аллергическое, противоотечно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ибирует пролиферацию тучных клеток, эозинофилов, лимфоцитов, макрофагов, нейтрофилов, снижает продукцию и высвобождение медиаторов воспаления и других биологически активных веществ (гистамина, простагландинов, лейкотриенов, цитокино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лутиказон ( </a:t>
            </a:r>
            <a:r>
              <a:rPr b="0" lang="en-US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Fluticasone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11400" indent="-311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Бронхиальная астма, лечение и профилактика аллергического ринита (для интраназального спрея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пособ применения и дозиров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аляционно и интраназально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аэрозоль для ингаляций дозированный ( 50 мкг/доза, 125 мкг/доза,250 мкг/доза) —по 60 и 120 доз в аэрозольном баллоне, спрей интраназальный, содержащий флутиказона пропионат 50 мкг/1доза, флаконы 12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абилизаторы мембран тучных клето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Для местного применения – препараты кромоглициевой кислоты ( Интал, Тайлед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Для системного применения – Кетотифен ( Задитен, Катифен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оизводные кромоглициевой кислот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ханизм 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табилизируют мембраны тучных клеток и подавляют и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грануляцию вследствие снижения поступления ионизированного кальция в цитоплазму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оказывают специфическое антибрадикининовое действие, что ведет к развитию местного противовоспалительного эффек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атопическая бронхиальная астма (профилактика приступов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аллергические риноконьюктиви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желательные побочные 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локальные проявления раздражающего действия (кашель, чувство жжения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ромогликат натрия (Интал) и Недокромил натрия ( Тайлед)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армакологическое дейст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репятствует высвобождению гистамина из тучных клеток, предупреждает спазмы бронх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 к применен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Бронхиальная аст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рименения и дозы. Для ингаляций(1 капсула 3—4 раза в день) с помощью специального ингалятор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бочное дейст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 отдельных случаях раздражение гортани и горла, особенно в период респираторных заболеваний; в редких случаях бронхоспаз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Капсулы по 0,02 г, в упаковке 30 штук, и ингалято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йлед действует быстрее, в несколько раз сильне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етотифе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ханизм 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ингибирование фосфодиэстеразы, снижение биодеградации 3,5-цАМФ и ее накопление в клетк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слабо выраженное блокирование Н1-гистаминовых рецептор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снижает содержание эозинофилов в дыхательных путя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ингибирует фактор активации тромбоци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каза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бронхиальная астма (профилактика приступов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поллинозы (профилактика астматических осложнений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аллергические дерматоз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аллергические риноконьюктиви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етотифе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желательные побочные 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угнетение ЦН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сухость слизистых оболочек (чувство сухостиво рту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тромбоцитоп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отивопоказа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для лиц, профессиональная деятельность которых требует внимания и высокой скорости сенсомоторных реакц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беременность и лактац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таблетки по 1 мг, сироп 1 мг/5 мл, флаконы 100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нтигистаминные средств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гистаминные средства —группа лекарственных препаратов, осуществляющих конкурентную блокаду рецепторов гистамина в организме, что приводит к торможению опосредуемых им эффект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160" indent="-3261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ует несколько поколений антигистаминных препаратов. С каждым поколением уменьшается количество и сила побочных эффектов и вероятность привыкания, увеличивается продолжительность действ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Механизм действия антигистаминных средст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2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войства аллерген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сительно невысокая молекулярная масс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сорбироваться или агрегироваться в мелкие частицы и в таком виде проникать (диффундировать) в секреты слизистых оболочек и покровные ткани, без видимого травмирования покровных ткан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окая растворимость и способность легко проникать в жидкие среды организ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ческая стабильность in vivo (аллергены не метаболизируются, по крайней мере быстро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и белков аллергенами чаще всего становятся ферменты протеаз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белковые вещества сами по себе не являются аллергенами, однако они способны образовывать химические соединения с собственными белками организма, приобретая тем самым свойства полноценных аллергенов. Такие вещества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птен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ены проявляют своё действие в крайне малых доза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Н1- гистаминовых блокаторов</a:t>
            </a:r>
            <a:br>
              <a:rPr sz="3600"/>
            </a:b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 длительности действия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ороткой  продолжительности действ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4-6 часов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имедро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ипраз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упраст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редней продолжительности действ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6-12 часов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Фенкаро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Тавеги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лительно действующ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12-48 час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Лоратадин, деслоратад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Терфенадин, фексофенад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Ципрогептад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Астемизо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Цетириз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гистаминные средства 1 поколения: наряду с основными свойствами обладают выраженным седативным эффект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гистаминные средства 2 поколения: характеризуются большей длительностью действия (до 24 часов), плохим проникновением через гематоэнцефалический барьер. Они являются пролекарствами, т.е. после прохождение через печень образуют активную форм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гистаминные средства 3 поколения: являются активными формами 2-го поколения. Лишены их побочных реакц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395640" y="90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Н1- гистаминовых блокаторов</a:t>
            </a:r>
            <a:br>
              <a:rPr sz="3600"/>
            </a:b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Эффекты Н1- гистаминовых блокатор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ротивоаллергическ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едативны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Антихолинергическ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Противорвотны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Противопаркинсонические эффек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Адреноблокирующ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Антисеротониновы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Местноанестезирующ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казания к применению Н1- гистаминовых блокатор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й рини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ъюктивит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пивниц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лино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жный зуд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ёк Квинк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онхиальная аст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тибулярные наруш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шнота и рвота при беременност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тенцирования  действия ненаркотических 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котических аналгетиков и средств для наркоз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циноидный синдр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бочные эффектыН1- гистаминовых блокаторов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нливость, вялость, заторможенность мыслительных и моторных процесс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хость во рту, снижение перистальтики ЖКТ, задержка мочеиспускании, сердечная аритм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уральная гипотенз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буждение ЦНС, судороги у детей на фоне высокой темпера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е реакции - при повышенной чувствительности к препаратам данной групп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диотоксические эффекты (удлиннение интервала Q-T, летальные желудочковые аритмии) - терфенадин или астемизол в сочетании с кетоконазолом или эритромицин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1 поколения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араты 1 поколения жирорастворимые, могут преодолевать гематоэнцефалический барьер и связываться с Н1-рецепторами мозга, чем объясняется седативное воздействие данных лекарств, которое усиливается после принятия алкоголя или психотропных средст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армакологические эффекты антигистаминных препаратов I поколе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ервое покол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игистаминное действие (блокада рецепторов гистамин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ижают мышечный тонус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азывают седативное, снотворное и холинолитическоедействи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руют воздействие алкоголя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азывают местноанестезирующеедействие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ют быстрый и сильный, но кратковременный (4-8 часов) лечебный эффект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-327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гий приём снижает антигистаминную активность, поэтому каждые 2-3 недели средства меняю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1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фенгидрамин (Димедрол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дроксизин(атаракс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бгидролин (диазолин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метазин (пипольфени др.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вегил(бравегил, фумарат, ривтагил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фенадин (фенкарол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ропирамин (супрастин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ифенгидрамин (Димедрол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медрол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medrolum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имуществ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ысокая антигистаминная активность, снижение выраженности аллергических, псевдоаллергических реакци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медрол оказывает противорвотное и противокашлевое воздействие, обладает местноанестезирующим эффектом, благодаря чему является альтернативой Новокаину и Лидокаину при их непереносим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нусы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едсказуемость последствий приема препарата, его воздействия на ЦНС. Он может вызывать задержку мочеиспускания и сухость слизистых. К побочным эффектам относят седативное и снотворное воздейств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ифенгидрамин (Димедрол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етки  по 50 мг и раствор 1%  в ампулах по 1 мл димедрола для в/в и в/м для инъекц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.: Sol. Dimedroli 1%-1,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t.d. N 3 in amp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ить в/м по 1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ллерген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. По способу попадания в орган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аляционные аллергены (бытовая пыль, клещи домашней пыли, пыльца растений, частицы эпидермиса и шерсть животных, эпидермис и волосы человека, частицы тел насекомых, споры непатогенных микроскопических грибов, продукты химического производства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щевые аллергены (белки куриного яйца и коровьего молока, пищевые злаки, рыба и т.д.), некоторые пищевые добавки - консерванты, красители, эмульгаторы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ентеральные (лекарственные средства, сыворотки, вакцины, яд перепончатокрылых насекомых, слюна кровососущих насекомых - комаров, клопов, мошек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иазолин (мебгидролин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14640" indent="-314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имуществ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лабо выраженный седативный эффект позволяет применять его там, где нежелательно оказывать на ЦНС угнетающее воздейств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4640" indent="-314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нусы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аздражает слизистые ЖКТ, вызывает головокружение, нарушение мочеиспускания, сонливость, замедляет психические и двигательные реак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4640" indent="-314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етки 100 мг и драже по 50 и 100 мг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4640" indent="-314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Rp.: Dragee Diazolini 0,025 N 1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D.S. По 1 драже 2-3 раза в ден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упрастин (хлоропирамин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имуществ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ыворотке крови не накапливается, следовательно, даже при длительном применении не вызывает передозировки. Благодаря высокой антигистаминной активности, наблюдается быстрый лечебный эффек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инусы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бочные эффекты –сонливость, головокружение, заторможенность реакций и др. –присутствуют, хотя и выражены слабе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чебный эффект кратковременный, чтобы его продлить, Супрастин комбинируют с Н1-блокаторами, не обладающими седативными свойств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упрастин (хлоропирамин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Форма выпус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Таблетки  по 25 мг и раствор 2% в ампулах по 1 мл для  в/в и в/м для инъекц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рпирамин (супрастин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.: Tab. Suprastin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,025 N1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S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1таб. 2 р/д во время ед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: Sol. Suprastini 2% -1,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t.d. N 10 in amp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. 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л в/м 1 раз в сут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казания для назначения антигистаминных средств I поколения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Аллергический ринит (сезонный и круглогодичный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Аллергический конъюнктивит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Кожные аллергические заболевания (атопический дерматит, острая и хроническая крапивница, отек Квинке и др.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Аллергические реакции на укусы и ужаления насекомых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Бессонниц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Паркинсонизм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 Рвота беременных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) Вестибулярные расстройств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) Премедикац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бочные действия антигистаминных средств I поколения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едативный и снотворный эффекты: сонливость, чувство усталости или возбуждения, дрожь, нарушение сн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Нарушение координации движений, концентрации внимания и атаксия (эффекты потенцируются алкоголем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Головокружение, головные боли, понижение давле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Сухость во рту, онемение слизистой полости рт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Боли в желудке, запоры, тошнота, задержка мочи (атропиноподобные эффекты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Кожные высыпа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 Бронхоспазм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) Кардиоваскулярные эффекты, тахикард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) При парентеральном введении – транзиторное падение артериального давления, периферическая вазодилатац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отивопоказания к применению антигистаминных средств I поколения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Работа, требующая психической и двигательной активности, внима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Заболевания: бронхиальная астма, язвенная болезнь желудка и двенадцатиперстной кишки с пилородуоденальным стенозом, гиперплазия предстательной железы, задержка мочеиспускания, сердечно–сосудистые заболевания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Фармакологическая несовместимость со следующими препаратами: холинолитиками, противосудорожными препаратами, нейролептиками, трициклическими антидепрессантами, ингибиторами МАО, средствами для лечения паркинсонизма и диабет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Эффекты антигистаминных препаратов второго поколения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меют преимущества по сравнению с первым поколением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сутствует седативный и холинолитический эффект, т.к. они не преодолевают гематоэнцефалический барьер, только некоторые лица испытывают умеренную сонливость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мственная деятельность, физическая активность не страдают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йствие достигает 24 часов, поэтому их принимают раз в сутки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и не вызывают привыкания, что позволяет назначать их длительное время (3-12 месяцев)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 прекращении приема, эффект длится около недели;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адсорбируются с продуктами питания в ЖКТ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2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ратадин (кларитин, алерприв, клаллергин, кларготил, кларидол, кларотадин, кларфаст, ломилан, лорагексал, лорано, лотарен, эролин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тиризин(цетрин, зетринал, зинцет, зиртек, зодак,летизен, парлазин, цетиринакс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2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РАТАДИН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RATADIN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етки по 10 мг, сироп 1 мг/мл, флаконы по 50, 100, 125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ТИРИЗИН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TIRIZINE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етки покрытые оболочкой 10 мг, Сироп 5 мг/5 мл флаконы по 60 мл, капли для приема внутрь 10 мг/1 мл флаконы –капельницы по 20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3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ье поколение —являются пролекарствами, это значит, что, попадая в организм, они из исходной формы преобразуются в фармакологически активные метаболи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антигистаминные препараты 3 поколения не имеют кардиотоксического и седативного эффекта, поэтому их могут применять лица, чья деятельность связана с высокой концентрацией внима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ллерген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. По происхождению аллерген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ены неинфекционного происхождения (бытовые, эпидермальные, пыльцевые, инсектные, пищевые, промышленные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ены инфекционного происхожде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бактериальные (непатогенные и патогенные бактерии, а также продукты их жизнедеятельности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грибковые (непатогенные и патогенные грибы, а также продукты их жизнедеятельности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ирусные (различные виды риновирусов и продукты их взаимодействия с тканями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аразитарные (экзогенные и эндогенные антигены гельминто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3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и лекарственные средства блокируют Н1-рецепторы, а также оказывают дополнительное влияние на аллергические проявлен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и обладают высокой селективностью, не преодолевают гематоэнцефалический барьер, поэтому им не свойственны негативные последствия со стороны ЦНС, отсутствует побочное влияние на сердц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казания для назначения антигистаминных средств II и III поколен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езонный (поллиноз) и круглогодичный аллергические ринит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Зудящие дерматозы (атопический дерматит, экзема, хроническая рецидивирующая крапивница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Хроническая идиопатическая крапивниц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епараты 3 поко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воцетиризин(ксизал, супрастинекс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evocetirizin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аблетки, покрытые пленочной оболочкой 5 мг, капли для приема внутрь 5 мг/1 мл: флаконы по 20 мл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злоратадин (эриус, эдем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esloratadin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аблетки, покрытые оболочкой по 5 мг, Сироп 500 мкг/1 мл флаконы по 60 мл или 120 м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800" indent="-334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ксофенадин (телфаст, фексадин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Fexofenadin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аблетки, покрытые оболочкой по 120 и 180 мг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нтагонисты лейкотриеновых рецептор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йкотриены—это специфические биоактивные вещества липидной природы, образующиеся из арахидоновой кислоты в лейкоцитах и тучных клетках как ответ на иммунную реакцию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лейкотриенам существуют специфические рецепторы. Лейкотриены играют важную роль в возникновении бронхиальной астмы. Под их воздействием в организме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сходит спазм гладкой мускулатур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ается секреция слизистого отделяемого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личивается проницаемость сосудов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 отечност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нтагонисты лейкотриеновых рецептор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ыхательных путях они блокируют действие лейкотриенов, предупреждая избыточное образование секрета в бронхах, отек слизистой оболочки, ослабляя гиперреактивность бронхов и бронхоспаз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нтагонисты лейкотриеновых рецептор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фирлукаст (Zafirlukast) син. Акола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рмакологическое действи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авляет сократительную активность гладкой мускулатуры дыхательных пут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отвращает вызываемые лейкотриенами эффекты: повышение проницаемости сосудов, что приводит к развитию отека дыхательных путей, и проникновение эозинофилов в дыхательные пу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ижает содержание клеточных и внеклеточных факторов воспалительной реакции в дыхательных путях, индуцированной антителам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ьшает степень выраженности ее ранней и поздней фаз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ания к применению. Профилактика приступов и поддерживающая терапия при бронхиальной астм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 применения и дозы:Внутрь (таблетки),за 1 ч до еды или через 2 ч после ед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за: 20 мг 2 раза в сутки, макс. 80 мг в сут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дреномиметики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реналина гидрохлорид (эпинефрин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α и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дреномимети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ргические реакции немедленного типа (в т. ч. крапивница, ангионевротический шок, анафилактический шок), развивающиеся при применении лекарственных средств, сывороток, переливании крови, употреблении пищевых продуктов, укусах насекомых или введении других аллерген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дреномиметики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ханизм противоаллергического действия реализуетс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муляцией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адренорецепторов, сужением сосудов органов брюшной полости, кожи, слизистых оболочек, повышением артериального давл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ительным инотропным действием (увеличивается сила сердечных сокращений за счет стимуляции b 1 –адренорецепторов сердц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муляцией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2 –адренорецепторов бронхов (купирование бронхоспазм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6240" indent="-336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авлением дегрануляции тучных клеток и базофилов (за счет стимуляции внутриклеточной цАМФ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дреномимети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renaline hydrochlorid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или эпинефрин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nephrine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твор для инъекций 1 мг/1 м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нилэфрин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henylephri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ется в составе комбинированных местных средств для лечения аллергического рини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ее подробная информация  в лекции – адренергические сред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640" y="1124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асибо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1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 внимание!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ллерген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 химическим группам 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  Бел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омпоненты пищи (яйца, молоко, орехи, ракообразные, моллюски, бобовые и т.д.) - Яд пчёл, ос, шершней и других перепончатокрылых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омпоненты вакцин (против кори, гриппа; столбнячный анатоксин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Гормоны (инсулин, адренокортикотропный гормон, тиреотропный гормон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омпоненты сывороток и препаратов кров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Ферментные препараты (стрептокиназа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Латекс (хирургические перчатки, эндотрахеальные трубки, презервативы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Белковые компоненты клещей домашней пыли, тараканов, пыльцы растений, эпидермиса и выделений животных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 Гаптен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Антибиотики (пенициллины, цефалоспорины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иорелаксан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итамины (тиамин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Цитостатики (циклофосфамид, цисплатин, цитарабин и др.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пиаты и т.д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 Полисахарид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кстран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форм аллергических реакц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. В зависимости от типа иммуните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– лимфоцитозависим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 – лимфоцитозависим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. В зависимости от скорости развития клинических проявлен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ерчувствительность немедленного типа (ГНТ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ерчувствительность замедленного типа (ГЗТ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  <Words>4385</Words>
  <Paragraphs>45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3T06:02:44Z</dcterms:created>
  <dc:creator>Пользователь</dc:creator>
  <dc:description/>
  <dc:language>en-US</dc:language>
  <cp:lastModifiedBy>Пользователь</cp:lastModifiedBy>
  <dcterms:modified xsi:type="dcterms:W3CDTF">2022-04-09T09:51:09Z</dcterms:modified>
  <cp:revision>39</cp:revision>
  <dc:subject/>
  <dc:title>Лекция Противоаллергические сред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9</vt:r8>
  </property>
</Properties>
</file>