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png" ContentType="image/png"/>
  <Override PartName="/ppt/media/image18.jpeg" ContentType="image/jpeg"/>
  <Override PartName="/ppt/media/image27.jpeg" ContentType="image/jpeg"/>
  <Override PartName="/ppt/media/image10.png" ContentType="image/png"/>
  <Override PartName="/ppt/media/image6.jpeg" ContentType="image/jpeg"/>
  <Override PartName="/ppt/media/image5.png" ContentType="image/png"/>
  <Override PartName="/ppt/media/image29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2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45AF-0088-40A6-BFD1-419EAC43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AF05-57F2-447C-B001-D934010B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FE06-7DD9-494B-A467-697364EC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F990-4C3A-4CA3-989A-C74E71B2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3028-9DF4-4BA3-8185-6C839C18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B7DA-FBE0-4928-9063-D0F72CD2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8FAC-DB35-43B1-929D-A3D15386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2A46-A969-4587-A324-F50609C4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35C1-34FD-4648-A11B-A8065A8C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75F5-19FF-4281-BA6F-F432343A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C750-E598-4136-AD22-9DDC159C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EA26-C9ED-4312-8E7F-FED9A37E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E725-B76B-415E-B7EC-620E66A4C9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50920" y="2349360"/>
            <a:ext cx="864216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улучшения качества технической подготовленности спортсменов разрабатываются  программно-аппаратные комплексы, позволяющие автоматизировать ввод информации, ее обработку и вычисление необходимых биомеханических пара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дает возможность повысить эффективность обучения двигательным действиям и избежать ошиб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паратурой для сбора информации о спортсмене может служить видеомагнитофон; тензоплатформа, и электромагнитограф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6696000" y="0"/>
            <a:ext cx="2448000" cy="19242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24000" y="333360"/>
            <a:ext cx="6335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спользования информационных технологий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офессиональной деятельности специалистов по физической культуре и спор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нформационные технологии в биомеханическом анализе двигательных действий и в моделировании тренировоч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новейших информационных технологий позволяет создавать и реализовывать в виде компьютерных программ системы моделирования техники конкретных двигательных действий на уровне необходимом и достаточном для решений задач спортивной педагог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3640" y="4220640"/>
            <a:ext cx="8569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Аппарат биомеханика. Компьютерная программа, моделирующая полетную фазу при выполнении гимнастических упражнений, позволяет на основе данных ведущих спортсменов мира задать основные биомеханические характеристики движения, после этого оценить, возможно ли в принципе его выполн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%D0%A0%D0%B8%D1%81_1_5"/>
          <p:cNvPicPr/>
          <p:nvPr/>
        </p:nvPicPr>
        <p:blipFill>
          <a:blip r:embed="rId1"/>
          <a:stretch/>
        </p:blipFill>
        <p:spPr>
          <a:xfrm>
            <a:off x="1403280" y="0"/>
            <a:ext cx="572472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4292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 Программа Spine (позвоночник) позволяет оценить давление на межпозвонковые диски при выполнении силовых упраж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ие программы Spine позволяет оценить технику выполнения силового упражнения с этих позиций и установить предельное значение массы штанги, превышение которого может привести к травмам позвоночника (например, грыже межпозвонкового дис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%D0%A0%D0%B8%D1%81_1_9"/>
          <p:cNvPicPr/>
          <p:nvPr/>
        </p:nvPicPr>
        <p:blipFill>
          <a:blip r:embed="rId1"/>
          <a:stretch/>
        </p:blipFill>
        <p:spPr>
          <a:xfrm>
            <a:off x="0" y="0"/>
            <a:ext cx="7667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. Биомеханический тренажер «Виброплатформ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3132000" y="1484280"/>
            <a:ext cx="2022480" cy="2089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2303640" cy="2808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395280" y="4437000"/>
            <a:ext cx="76312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ловая тренировка, растяжка, масса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ьютер дает подсказки на дисплее, показывает положение тела во время тренировки, отображается, выполняемое упражнение и то, какие именно мышцы трениру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94171_w640_h640_vibra"/>
          <p:cNvPicPr/>
          <p:nvPr/>
        </p:nvPicPr>
        <p:blipFill>
          <a:blip r:embed="rId3"/>
          <a:stretch/>
        </p:blipFill>
        <p:spPr>
          <a:xfrm>
            <a:off x="6659640" y="1413000"/>
            <a:ext cx="21780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50560" y="2997360"/>
            <a:ext cx="60498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Тензоплатформа для измерений усилий отталкивания при спортивных исследова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ройство может найти основное применение при измерении усилий отталкивания ног легкоатлета при прыжках в длину, высоту, при бе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ы исследования этих усилий могут быть использованы тренером для совершенствования методики трениров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stabilograf"/>
          <p:cNvPicPr/>
          <p:nvPr/>
        </p:nvPicPr>
        <p:blipFill>
          <a:blip r:embed="rId1"/>
          <a:stretch/>
        </p:blipFill>
        <p:spPr>
          <a:xfrm>
            <a:off x="155520" y="46080"/>
            <a:ext cx="3048120" cy="2319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744560" cy="3848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9"/>
          <p:cNvSpPr/>
          <p:nvPr/>
        </p:nvSpPr>
        <p:spPr>
          <a:xfrm>
            <a:off x="7020000" y="4365720"/>
            <a:ext cx="180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рафик характеристик движения общего центра м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DARTFISH — это система для видео анализа тактико-техниче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й спортсмена или коман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ное обеспечение Dartfish зарекомендовало себя во всё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эффекты SimulCam"' и StroMotion"' использовались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ующих спортивных событиях мирового масштаб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ыре последних чемпионата мира по горным лыжа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ыре последние летние и зимние Олимпиад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ыре последние Чемпионата Мира по фигурному катанию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пионат мира по футбол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button_pic_01"/>
          <p:cNvPicPr/>
          <p:nvPr/>
        </p:nvPicPr>
        <p:blipFill>
          <a:blip r:embed="rId1"/>
          <a:stretch/>
        </p:blipFill>
        <p:spPr>
          <a:xfrm>
            <a:off x="0" y="0"/>
            <a:ext cx="27511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м техническим отличием систем фотофиниша является используемый ими принцип щелевой съёмки, при которой фиксируется только линия шириной в один пиксель, а получаемое в итоге статическое изображение «набирается» из этих полос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аличии совмещенного с фотофинишем таймера он также позволяет получить временной результат участников, пересекших финишную чер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имущественно порядок прихода определяется по первой поверхности участника коснувшейся вертикальной плоскости финишной ли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059440" cy="28875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5076720" y="0"/>
            <a:ext cx="406728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тофини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программно-аппаратная система для фиксации порядка пересечения финишной черты участниками соревнований, обеспечивающая получение изображения, которое можно в дальнейшем неоднократно просмотре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формационные технологии в оздоровительной физической куль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ACTIVIO SPORT — это беспроводная система измерения частоты сердечных сокращений спортсменов или команды в режиме реально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activio-pic02"/>
          <p:cNvPicPr/>
          <p:nvPr/>
        </p:nvPicPr>
        <p:blipFill>
          <a:blip r:embed="rId1"/>
          <a:stretch/>
        </p:blipFill>
        <p:spPr>
          <a:xfrm>
            <a:off x="971640" y="2924280"/>
            <a:ext cx="3336840" cy="1066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button_pic_04"/>
          <p:cNvPicPr/>
          <p:nvPr/>
        </p:nvPicPr>
        <p:blipFill>
          <a:blip r:embed="rId2"/>
          <a:stretch/>
        </p:blipFill>
        <p:spPr>
          <a:xfrm>
            <a:off x="4716360" y="3789360"/>
            <a:ext cx="2087640" cy="720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activio-pic01"/>
          <p:cNvPicPr/>
          <p:nvPr/>
        </p:nvPicPr>
        <p:blipFill>
          <a:blip r:embed="rId3"/>
          <a:stretch/>
        </p:blipFill>
        <p:spPr>
          <a:xfrm>
            <a:off x="611280" y="4508640"/>
            <a:ext cx="6264360" cy="19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Activio Sport позволяет получать и анализировать данные по ЧСС игроков в режиме реальног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позволяет мгновенно корректировать упражнения и тренировочные сессии исходя из индивидуальных особенностей спортсме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ые 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ратная связь со всеми игроками в режиме реального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льшой радиус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добный интерфейс ПО для анализа показателей игроков и коман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ыстрое составление отч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ргономичный диз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томатическое сохранение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добная система отч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начала работы игрокам необходимо надеть только эргономичные и легкие нагрудные поя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может с легкостью использоваться во время тренировки, реабилитации, тестирования или во время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5338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13. Компьютерная программа "Атлет"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назначена для автоматизации ведения записей и последующего анализа тренировочных программ культурист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роенный дневник позволяет регистрировать и хранить антропометрические (размеры, вес) и мультимедиа-данные (фото, видео и др.), а самое главное — тренировочные программы и расписание атл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ограмме также присутствуют справочник продуктов питания и "конструктор блюд", позволяющие составлять меню для последующего анализа рациона питания атлет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5056235"/>
          <p:cNvPicPr/>
          <p:nvPr/>
        </p:nvPicPr>
        <p:blipFill>
          <a:blip r:embed="rId1"/>
          <a:stretch/>
        </p:blipFill>
        <p:spPr>
          <a:xfrm>
            <a:off x="6012000" y="2565360"/>
            <a:ext cx="2987640" cy="1868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7bd63abdbf79"/>
          <p:cNvPicPr/>
          <p:nvPr/>
        </p:nvPicPr>
        <p:blipFill>
          <a:blip r:embed="rId2"/>
          <a:stretch/>
        </p:blipFill>
        <p:spPr>
          <a:xfrm>
            <a:off x="6012000" y="4548240"/>
            <a:ext cx="3132000" cy="2309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19_2_2009"/>
          <p:cNvPicPr/>
          <p:nvPr/>
        </p:nvPicPr>
        <p:blipFill>
          <a:blip r:embed="rId3"/>
          <a:stretch/>
        </p:blipFill>
        <p:spPr>
          <a:xfrm>
            <a:off x="5940360" y="0"/>
            <a:ext cx="29527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560" y="3141720"/>
            <a:ext cx="8893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Dartfish 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(Dart-быстрое движение, fish -ловить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легкое в использова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ное обеспечение для видео анализа тактико-технических 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ртсмена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ное обеспечение использует цифровую видео графи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мгновенной обратной визуальной связи, не прерыв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ниров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Dartfish может использоваться тренерами, спортсмен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ями, студентами, спортивными докторами и физиотерапев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http://innosport.ru/images/dartfish-pic000.jpg"/>
          <p:cNvPicPr/>
          <p:nvPr/>
        </p:nvPicPr>
        <p:blipFill>
          <a:blip r:embed="rId1"/>
          <a:stretch/>
        </p:blipFill>
        <p:spPr>
          <a:xfrm>
            <a:off x="2700360" y="0"/>
            <a:ext cx="2857320" cy="1989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7885080" y="0"/>
            <a:ext cx="988920" cy="3429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dartfish-pic02"/>
          <p:cNvPicPr/>
          <p:nvPr/>
        </p:nvPicPr>
        <p:blipFill>
          <a:blip r:embed="rId3"/>
          <a:stretch/>
        </p:blipFill>
        <p:spPr>
          <a:xfrm>
            <a:off x="5724360" y="0"/>
            <a:ext cx="2019600" cy="2019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68000" y="292428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нформационные технологии в спортивной тренировке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0" y="0"/>
            <a:ext cx="2411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новационные технологии 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ля профессионального спор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http://innosport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button_pic_02"/>
          <p:cNvPicPr/>
          <p:nvPr/>
        </p:nvPicPr>
        <p:blipFill>
          <a:blip r:embed="rId1"/>
          <a:stretch/>
        </p:blipFill>
        <p:spPr>
          <a:xfrm>
            <a:off x="0" y="0"/>
            <a:ext cx="1528920" cy="720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24000" y="4869000"/>
            <a:ext cx="85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ффективный, легкий в использовании, выдающий результаты в реальном времени непосредственно на спортивной площад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стрый и удобный способ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змерения показател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yotest PRO, закрепленный на талии спортсмена или на грифе штанги собирает всю необходимую вам информ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myo-pic01"/>
          <p:cNvPicPr/>
          <p:nvPr/>
        </p:nvPicPr>
        <p:blipFill>
          <a:blip r:embed="rId2"/>
          <a:stretch/>
        </p:blipFill>
        <p:spPr>
          <a:xfrm>
            <a:off x="5940360" y="189000"/>
            <a:ext cx="2671920" cy="259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myo-pic02"/>
          <p:cNvPicPr/>
          <p:nvPr/>
        </p:nvPicPr>
        <p:blipFill>
          <a:blip r:embed="rId3"/>
          <a:stretch/>
        </p:blipFill>
        <p:spPr>
          <a:xfrm>
            <a:off x="2268360" y="1125360"/>
            <a:ext cx="1600200" cy="1151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324000" y="3284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MYOTEST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мышца)— это мобильный комплекс, позволяющий определять и анализировать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иловые показатели спортсмен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а также определять оптимальные нагрузки во время тренировочного процес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птимизация тренировочного процесс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Myotest PRO обеспечивает точной и необходимой для планирования тренировочного процесса информац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ческий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нализ результат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Благодаря программному обеспечению, дающему возможность проводить анализ результатов биомеханики спортсмена, можно изучать и сравнивать показатели за определенный период времени между несколькими спортсме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button_pic_03"/>
          <p:cNvPicPr/>
          <p:nvPr/>
        </p:nvPicPr>
        <p:blipFill>
          <a:blip r:embed="rId1"/>
          <a:stretch/>
        </p:blipFill>
        <p:spPr>
          <a:xfrm>
            <a:off x="4859280" y="0"/>
            <a:ext cx="1960560" cy="792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357120" y="2857680"/>
            <a:ext cx="835344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проводные ворота устанавливаются на поле, корте или ледовой площадке и удаленно контролируются планшетным компьют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данные автоматически сохраняются и затем могут быть сброшены на PC, либо загружены в интер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и системы от обычного замера времени до моделирования тактических упражнений, включающих 30-40 спортсме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 системой SMARTSPEED вы можете тестировать, тренировать и исследовать все аспекты скорости и реакции, начиная от основ и заканчивая их проявлениями во время иг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81k"/>
          <p:cNvPicPr/>
          <p:nvPr/>
        </p:nvPicPr>
        <p:blipFill>
          <a:blip r:embed="rId2"/>
          <a:stretch/>
        </p:blipFill>
        <p:spPr>
          <a:xfrm>
            <a:off x="7054920" y="0"/>
            <a:ext cx="2089080" cy="1800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395280" y="1413000"/>
            <a:ext cx="64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SMARTSPEED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(SMART- интенсивный, SPEED-скорость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это система тренировки, тестирования и развития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3992400" y="0"/>
            <a:ext cx="5151600" cy="2781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920" y="3212640"/>
            <a:ext cx="64929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позволяет спортсменам, тренерам, физиотерапевтам, спортивным врачам контролировать физическую активность, оптимизировать ежедневные тренировки и повышать их продуктивность для достижения лучших результатов в соревнова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button_pic_06"/>
          <p:cNvPicPr/>
          <p:nvPr/>
        </p:nvPicPr>
        <p:blipFill>
          <a:blip r:embed="rId2"/>
          <a:stretch/>
        </p:blipFill>
        <p:spPr>
          <a:xfrm>
            <a:off x="0" y="0"/>
            <a:ext cx="2751120" cy="10288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9"/>
          <p:cNvSpPr/>
          <p:nvPr/>
        </p:nvSpPr>
        <p:spPr>
          <a:xfrm>
            <a:off x="0" y="1268280"/>
            <a:ext cx="37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WIMU — контроль физической активности в режиме реальног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"/>
          <p:cNvPicPr/>
          <p:nvPr/>
        </p:nvPicPr>
        <p:blipFill>
          <a:blip r:embed="rId3"/>
          <a:stretch/>
        </p:blipFill>
        <p:spPr>
          <a:xfrm>
            <a:off x="6948360" y="3068640"/>
            <a:ext cx="1760760" cy="22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"/>
          <p:cNvPicPr/>
          <p:nvPr/>
        </p:nvPicPr>
        <p:blipFill>
          <a:blip r:embed="rId4"/>
          <a:stretch/>
        </p:blipFill>
        <p:spPr>
          <a:xfrm>
            <a:off x="4067280" y="5127480"/>
            <a:ext cx="273528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IMU контролирует физическую активность непрерывно предоставляя точные данные в режиме реального вре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нематические переменные, такие как ускоре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йденная дистанц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физиологические, такие как частота сердечных сокращений, измеряются сенсором WIMU и затем анализиру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4076640"/>
            <a:ext cx="864216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ниверсальность эллиптического тренажера в возможности сочетать при занятиях элементы ходьбы, бега, езды на велосип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роенные программы тренировок эллиптического тренажера, а их максимальное количество достигает 12, позволяют выбирать и распределять нагрузку на любые группы мыш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ор программы позволит пользователю в зависимости от цели, самостоятельно регулировать процесс тренировки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3kw_enl"/>
          <p:cNvPicPr/>
          <p:nvPr/>
        </p:nvPicPr>
        <p:blipFill>
          <a:blip r:embed="rId1"/>
          <a:stretch/>
        </p:blipFill>
        <p:spPr>
          <a:xfrm>
            <a:off x="4500720" y="1152360"/>
            <a:ext cx="3527280" cy="2822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22_P_1343361238652"/>
          <p:cNvPicPr/>
          <p:nvPr/>
        </p:nvPicPr>
        <p:blipFill>
          <a:blip r:embed="rId2"/>
          <a:stretch/>
        </p:blipFill>
        <p:spPr>
          <a:xfrm>
            <a:off x="395280" y="122076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539640" y="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Эллиптический тренаж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итор отображает основные параметры тренировк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станцию, скорость, время, расход калорий, частоту пуль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ичество шагов/мин., уровень нагрузки, фитнес-контро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64072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Системы «виртуальной реальности» для формирования у спортсменов двигательных навыков и ум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представляет собой целую лабораторию виртуальной реальности (CHIL  Collaborative Human Immersive Laboratory), каждый участник надевает специальные очки, перчатки и массив сенсоров по всему тел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ьютерные аватары участников процесса движутся в виртуальном пространстве синхронно со своими живыми прототип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этом они могут поднимать, перекладывать и видоизменять предметы, как будто они настоящие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85a3734dd8d7dcdae60ad9e11c3dd5b8"/>
          <p:cNvPicPr/>
          <p:nvPr/>
        </p:nvPicPr>
        <p:blipFill>
          <a:blip r:embed="rId1"/>
          <a:stretch/>
        </p:blipFill>
        <p:spPr>
          <a:xfrm>
            <a:off x="0" y="4352760"/>
            <a:ext cx="5715000" cy="2505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HIL_LM02"/>
          <p:cNvPicPr/>
          <p:nvPr/>
        </p:nvPicPr>
        <p:blipFill>
          <a:blip r:embed="rId2"/>
          <a:stretch/>
        </p:blipFill>
        <p:spPr>
          <a:xfrm>
            <a:off x="6084720" y="4410000"/>
            <a:ext cx="3059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2:32:12Z</dcterms:created>
  <dc:creator>Гена</dc:creator>
  <dc:description/>
  <dc:language>en-US</dc:language>
  <cp:lastModifiedBy>Федоровы</cp:lastModifiedBy>
  <dcterms:modified xsi:type="dcterms:W3CDTF">2020-03-24T01:22:47Z</dcterms:modified>
  <cp:revision>139</cp:revision>
  <dc:subject/>
  <dc:title>Слайд 1</dc:title>
</cp:coreProperties>
</file>