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18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25B-D7C4-4C8F-99AE-6D51A7FA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AB7-9AB0-4D96-AC04-C03864D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966-F651-43A0-8350-703F04A8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306-D24F-440A-9E04-0E746B8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71E-6D12-4DF2-9270-8F1579B0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549-8297-4910-8BDC-93C670B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7CC-FC3C-4468-883E-67AA510D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84C-86AD-4604-800A-8974CE44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FDE-9D79-48C9-9809-8619B4CD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CCD-408B-4C9F-BE33-E74F976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696-C3FD-40A9-8E5C-B7F1CF2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741-5444-4305-893E-8F1648F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0990-7570-43C4-865B-1F30F42A5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8642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лучшения качества технической подготовленности спортсменов разрабатываются  программно-аппаратные комплексы, позволяющие автоматизировать ввод информации, ее обработку и вычисление необходимых биомеханических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ает возможность повысить эффективность обучения двигательным действиям и избежать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урой для сбора информации о спортсмене может служить видеомагнитофон; тензоплатформа, и электромагнитогра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1924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333360"/>
            <a:ext cx="633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спользования информационных технологий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фессиональной деятельности специалистов по физической культуре и спо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биомеханическом анализе двигательных действий и в моделировании тренировоч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новейших информационных технологий позволяет создавать и реализовывать в виде компьютерных программ системы моделирования техники конкретных двигательных действий на уровне необходимом и достаточном для решений задач спортивной педагог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4220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Аппарат биомеханика. Компьютерная программа, моделирующая полетную фазу при выполнении гимнастических упражнений, позволяет на основе данных ведущих спортсменов мира задать основные биомеханические характеристики движения, после этого оценить, возможно ли в принципе его выполн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%D0%A0%D0%B8%D1%81_1_5"/>
          <p:cNvPicPr/>
          <p:nvPr/>
        </p:nvPicPr>
        <p:blipFill>
          <a:blip r:embed="rId1"/>
          <a:stretch/>
        </p:blipFill>
        <p:spPr>
          <a:xfrm>
            <a:off x="1403280" y="0"/>
            <a:ext cx="572472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рограмма Spine (позвоночник) позволяет оценить давление на межпозвонковые диски при выполнении силов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Spine позволяет оценить технику выполнения силового упражнения с этих позиций и установить предельное значение массы штанги, превышение которого может привести к травмам позвоночника (например, грыже межпозвонкового дис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%D0%A0%D0%B8%D1%81_1_9"/>
          <p:cNvPicPr/>
          <p:nvPr/>
        </p:nvPicPr>
        <p:blipFill>
          <a:blip r:embed="rId1"/>
          <a:stretch/>
        </p:blipFill>
        <p:spPr>
          <a:xfrm>
            <a:off x="0" y="0"/>
            <a:ext cx="7667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Биомеханический тренажер «Виброплатфор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202248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303640" cy="280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4437000"/>
            <a:ext cx="763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овая тренировка, растяжка, масса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 дает подсказки на дисплее, показывает положение тела во время тренировки, отображается, выполняемое упражнение и то, какие именно мышцы трен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94171_w640_h640_vibra"/>
          <p:cNvPicPr/>
          <p:nvPr/>
        </p:nvPicPr>
        <p:blipFill>
          <a:blip r:embed="rId3"/>
          <a:stretch/>
        </p:blipFill>
        <p:spPr>
          <a:xfrm>
            <a:off x="6659640" y="1413000"/>
            <a:ext cx="217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2997360"/>
            <a:ext cx="6049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Тензоплатформа для измерений усилий отталкивания при спортивных исслед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ройство может найти основное применение при измерении усилий отталкивания ног легкоатлета при прыжках в длину, высоту, при бе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исследования этих усилий могут быть использованы тренером для совершенствования методики трениров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tabilograf"/>
          <p:cNvPicPr/>
          <p:nvPr/>
        </p:nvPicPr>
        <p:blipFill>
          <a:blip r:embed="rId1"/>
          <a:stretch/>
        </p:blipFill>
        <p:spPr>
          <a:xfrm>
            <a:off x="155520" y="46080"/>
            <a:ext cx="3048120" cy="2319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44560" cy="3848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7020000" y="436572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фик характеристик движения общего центра м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DARTFISH — это система для видео анализа тактико-тех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й спортсмена или коман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Dartfish зарекомендовало себя во всё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эффекты SimulCam"' и StroMotion"' использова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х спортивных событиях мирового масштаб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х чемпионата мира по горным лыж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летние и зимние Олимпиа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последние Чемпионата Мира по фигурному катани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пионат мира по футбол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utton_pic_01"/>
          <p:cNvPicPr/>
          <p:nvPr/>
        </p:nvPicPr>
        <p:blipFill>
          <a:blip r:embed="rId1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техническим отличием систем фотофиниша является используемый ими принцип щелевой съёмки, при которой фиксируется только линия шириной в один пиксель, а получаемое в итоге статическое изображение «набирается» из этих полос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личии совмещенного с фотофинишем таймера он также позволяет получить временной результат участников, пересекших финишную чер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имущественно порядок прихода определяется по первой поверхности участника коснувшейся вертикальной плоскости финишной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5944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076720" y="0"/>
            <a:ext cx="40672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тофини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рограммно-аппаратная система для фиксации порядка пересечения финишной черты участниками соревнований, обеспечивающая получение изображения, которое можно в дальнейшем неоднократно просмотр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формационные технологии в оздоровительной физ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ACTIVIO SPORT — это беспроводная система измерения частоты сердечных сокращений спортсменов или команды в режиме реальн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ctivio-pic02"/>
          <p:cNvPicPr/>
          <p:nvPr/>
        </p:nvPicPr>
        <p:blipFill>
          <a:blip r:embed="rId1"/>
          <a:stretch/>
        </p:blipFill>
        <p:spPr>
          <a:xfrm>
            <a:off x="971640" y="2924280"/>
            <a:ext cx="33368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button_pic_04"/>
          <p:cNvPicPr/>
          <p:nvPr/>
        </p:nvPicPr>
        <p:blipFill>
          <a:blip r:embed="rId2"/>
          <a:stretch/>
        </p:blipFill>
        <p:spPr>
          <a:xfrm>
            <a:off x="4716360" y="378936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ctivio-pic01"/>
          <p:cNvPicPr/>
          <p:nvPr/>
        </p:nvPicPr>
        <p:blipFill>
          <a:blip r:embed="rId3"/>
          <a:stretch/>
        </p:blipFill>
        <p:spPr>
          <a:xfrm>
            <a:off x="611280" y="4508640"/>
            <a:ext cx="626436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Activio Sport позволяет получать и анализировать данные по ЧСС игроков в режиме реаль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мгновенно корректировать упражнения и тренировочные сессии исходя из индивидуальных особенностей спортсм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ые 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тная связь со всеми игроками в режиме реальног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ой радиус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ый интерфейс ПО для анализа показателей игроков и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строе составление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ргономичный диз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матическое сохран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добная система отч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ачала работы игрокам необходимо надеть только эргономичные и легкие нагрудные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может с легкостью использоваться во время тренировки, реабилитации, тестирования или во время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5338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3. Компьютерная программа "Атлет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назначена для автоматизации ведения записей и последующего анализа тренировочных программ культурис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й дневник позволяет регистрировать и хранить антропометрические (размеры, вес) и мультимедиа-данные (фото, видео и др.), а самое главное — тренировочные программы и расписание ат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е также присутствуют справочник продуктов питания и "конструктор блюд", позволяющие составлять меню для последующего анализа рациона питания атл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5056235"/>
          <p:cNvPicPr/>
          <p:nvPr/>
        </p:nvPicPr>
        <p:blipFill>
          <a:blip r:embed="rId1"/>
          <a:stretch/>
        </p:blipFill>
        <p:spPr>
          <a:xfrm>
            <a:off x="6012000" y="2565360"/>
            <a:ext cx="2987640" cy="186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7bd63abdbf79"/>
          <p:cNvPicPr/>
          <p:nvPr/>
        </p:nvPicPr>
        <p:blipFill>
          <a:blip r:embed="rId2"/>
          <a:stretch/>
        </p:blipFill>
        <p:spPr>
          <a:xfrm>
            <a:off x="6012000" y="4548240"/>
            <a:ext cx="3132000" cy="23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9_2_2009"/>
          <p:cNvPicPr/>
          <p:nvPr/>
        </p:nvPicPr>
        <p:blipFill>
          <a:blip r:embed="rId3"/>
          <a:stretch/>
        </p:blipFill>
        <p:spPr>
          <a:xfrm>
            <a:off x="5940360" y="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314172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Dartfish 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Dart-быстрое движение, fish -лов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егкое в исполь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для видео анализа тактико-технически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использует цифровую видео графи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гновенной обратной визуальной связи, не преры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artfish может использоваться тренерами, спортсме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и, студентами, спортивными докторами и физиотерапев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innosport.ru/images/dartfish-pic000.jpg"/>
          <p:cNvPicPr/>
          <p:nvPr/>
        </p:nvPicPr>
        <p:blipFill>
          <a:blip r:embed="rId1"/>
          <a:stretch/>
        </p:blipFill>
        <p:spPr>
          <a:xfrm>
            <a:off x="2700360" y="0"/>
            <a:ext cx="2857320" cy="198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885080" y="0"/>
            <a:ext cx="98892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dartfish-pic02"/>
          <p:cNvPicPr/>
          <p:nvPr/>
        </p:nvPicPr>
        <p:blipFill>
          <a:blip r:embed="rId3"/>
          <a:stretch/>
        </p:blipFill>
        <p:spPr>
          <a:xfrm>
            <a:off x="5724360" y="0"/>
            <a:ext cx="2019600" cy="201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292428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ционные технологии в спортивной тренировке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2411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новационные технологии 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я профессионального спор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innospor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utton_pic_02"/>
          <p:cNvPicPr/>
          <p:nvPr/>
        </p:nvPicPr>
        <p:blipFill>
          <a:blip r:embed="rId1"/>
          <a:stretch/>
        </p:blipFill>
        <p:spPr>
          <a:xfrm>
            <a:off x="0" y="0"/>
            <a:ext cx="152892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ый, легкий в использовании, выдающий результаты в реальном времени непосредственно на спортивной площа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ый и удобный способ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змерения показа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yotest PRO, закрепленный на талии спортсмена или на грифе штанги собирает всю необходимую вам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yo-pic01"/>
          <p:cNvPicPr/>
          <p:nvPr/>
        </p:nvPicPr>
        <p:blipFill>
          <a:blip r:embed="rId2"/>
          <a:stretch/>
        </p:blipFill>
        <p:spPr>
          <a:xfrm>
            <a:off x="5940360" y="189000"/>
            <a:ext cx="26719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yo-pic02"/>
          <p:cNvPicPr/>
          <p:nvPr/>
        </p:nvPicPr>
        <p:blipFill>
          <a:blip r:embed="rId3"/>
          <a:stretch/>
        </p:blipFill>
        <p:spPr>
          <a:xfrm>
            <a:off x="2268360" y="1125360"/>
            <a:ext cx="1600200" cy="115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24000" y="3284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MYOTES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мышца)— это мобильный комплекс, позволяющий определять и анализирова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иловые показатели спортсмен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определять оптимальные нагрузки во время тренировочн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птимизация тренировочного процес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Myotest PRO обеспечивает точной и необходимой для планирования тренировочного процесса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й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нализ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Благодаря программному обеспечению, дающему возможность проводить анализ результатов биомеханики спортсмена, можно изучать и сравнивать показатели за определенный период времени между несколькими спортсм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utton_pic_03"/>
          <p:cNvPicPr/>
          <p:nvPr/>
        </p:nvPicPr>
        <p:blipFill>
          <a:blip r:embed="rId1"/>
          <a:stretch/>
        </p:blipFill>
        <p:spPr>
          <a:xfrm>
            <a:off x="4859280" y="0"/>
            <a:ext cx="196056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57120" y="2857680"/>
            <a:ext cx="83534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роводные ворота устанавливаются на поле, корте или ледовой площадке и удаленно контролируются планшетным компью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анные автоматически сохраняются и затем могут быть сброшены на PC, либо загружены 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истемы от обычного замера времени до моделирования тактических упражнений, включающих 30-40 спортсм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системой SMARTSPEED вы можете тестировать, тренировать и исследовать все аспекты скорости и реакции, начиная от основ и заканчивая их проявлениями во время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81k"/>
          <p:cNvPicPr/>
          <p:nvPr/>
        </p:nvPicPr>
        <p:blipFill>
          <a:blip r:embed="rId2"/>
          <a:stretch/>
        </p:blipFill>
        <p:spPr>
          <a:xfrm>
            <a:off x="7054920" y="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95280" y="1413000"/>
            <a:ext cx="64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SMARTSPEED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(SMART- интенсивный, SPEED-скорость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система тренировки, тестирования и развит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3992400" y="0"/>
            <a:ext cx="5151600" cy="2781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3212640"/>
            <a:ext cx="64929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озволяет спортсменам, тренерам, физиотерапевтам, спортивным врачам контролировать физическую активность, оптимизировать ежедневные тренировки и повышать их продуктивность для достижения лучших результатов в соревнов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utton_pic_06"/>
          <p:cNvPicPr/>
          <p:nvPr/>
        </p:nvPicPr>
        <p:blipFill>
          <a:blip r:embed="rId2"/>
          <a:stretch/>
        </p:blipFill>
        <p:spPr>
          <a:xfrm>
            <a:off x="0" y="0"/>
            <a:ext cx="2751120" cy="1028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0" y="126828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WIMU — контроль физической активности 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6948360" y="3068640"/>
            <a:ext cx="176076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4067280" y="5127480"/>
            <a:ext cx="2735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IMU контролирует физическую активность непрерывно предоставляя точные данные в режиме реальн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ческие переменные, такие как ускор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йденная дистан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физиологические, такие как частота сердечных сокращений, измеряются сенсором WIMU и затем анализиру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иверсальность эллиптического тренажера в возможности сочетать при занятиях элементы ходьбы, бега, езды на велосип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 тренировок эллиптического тренажера, а их максимальное количество достигает 12, позволяют выбирать и распределять нагрузку на любые группы мыш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программы позволит пользователю в зависимости от цели, самостоятельно регулировать процесс тренировк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3kw_enl"/>
          <p:cNvPicPr/>
          <p:nvPr/>
        </p:nvPicPr>
        <p:blipFill>
          <a:blip r:embed="rId1"/>
          <a:stretch/>
        </p:blipFill>
        <p:spPr>
          <a:xfrm>
            <a:off x="4500720" y="1152360"/>
            <a:ext cx="3527280" cy="282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2_P_1343361238652"/>
          <p:cNvPicPr/>
          <p:nvPr/>
        </p:nvPicPr>
        <p:blipFill>
          <a:blip r:embed="rId2"/>
          <a:stretch/>
        </p:blipFill>
        <p:spPr>
          <a:xfrm>
            <a:off x="395280" y="12207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39640" y="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Эллиптический трена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 отображает основные параметры трениров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анцию, скорость, время, расход калорий, частоту пуль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шагов/мин., уровень нагрузки, фитнес-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Системы «виртуальной реальности» для формирования у спортсменов двигательных навыков и ум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едставляет собой целую лабораторию виртуальной реальности (CHIL  Collaborative Human Immersive Laboratory), каждый участник надевает специальные очки, перчатки и массив сенсоров по всему те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аватары участников процесса движутся в виртуальном пространстве синхронно со своими живыми прототип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они могут поднимать, перекладывать и видоизменять предметы, как будто они настоящи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85a3734dd8d7dcdae60ad9e11c3dd5b8"/>
          <p:cNvPicPr/>
          <p:nvPr/>
        </p:nvPicPr>
        <p:blipFill>
          <a:blip r:embed="rId1"/>
          <a:stretch/>
        </p:blipFill>
        <p:spPr>
          <a:xfrm>
            <a:off x="0" y="4352760"/>
            <a:ext cx="5715000" cy="250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HIL_LM02"/>
          <p:cNvPicPr/>
          <p:nvPr/>
        </p:nvPicPr>
        <p:blipFill>
          <a:blip r:embed="rId2"/>
          <a:stretch/>
        </p:blipFill>
        <p:spPr>
          <a:xfrm>
            <a:off x="6084720" y="4410000"/>
            <a:ext cx="3059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2:32:12Z</dcterms:created>
  <dc:creator>Гена</dc:creator>
  <dc:description/>
  <dc:language>en-US</dc:language>
  <cp:lastModifiedBy>Федоровы</cp:lastModifiedBy>
  <dcterms:modified xsi:type="dcterms:W3CDTF">2020-03-24T01:22:47Z</dcterms:modified>
  <cp:revision>139</cp:revision>
  <dc:subject/>
  <dc:title>Слайд 1</dc:title>
</cp:coreProperties>
</file>