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8288000" cy="10287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1A6-0F4B-4A5B-A0DB-0DF2ABE6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06960"/>
            <a:ext cx="164588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5523120"/>
            <a:ext cx="164588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6B1-D5A5-469D-81D6-DF2939F4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696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48120" y="240696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552312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48120" y="552312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388-3C24-4258-A124-DCE978EB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2406960"/>
            <a:ext cx="52995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79280" y="2406960"/>
            <a:ext cx="52995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044160" y="2406960"/>
            <a:ext cx="52995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5523120"/>
            <a:ext cx="52995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479280" y="5523120"/>
            <a:ext cx="52995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044160" y="5523120"/>
            <a:ext cx="52995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2C8-9969-47A4-AF0A-209752EC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2406960"/>
            <a:ext cx="164588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62F-89FC-46F1-B84F-5E54A1A0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2406960"/>
            <a:ext cx="164588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D85-A166-410D-9368-F9692233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6960"/>
            <a:ext cx="803160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8120" y="2406960"/>
            <a:ext cx="803160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DEA-FA32-43BA-BAB2-FDE260DA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DFE-D92A-4DAB-8CC0-F96D9FF9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C40-E2C1-4571-992E-4A89BB84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240696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48120" y="2406960"/>
            <a:ext cx="803160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552312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16B-5F3F-48EF-A0C0-5319D514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406960"/>
            <a:ext cx="803160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120" y="240696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48120" y="552312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2F9-B619-48E5-A4A3-AA14BE4C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40696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120" y="2406960"/>
            <a:ext cx="80316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5523120"/>
            <a:ext cx="164588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C1A-5C5C-4AE5-8F48-F21D0059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739FDB-562A-41E0-8F8E-E4BF18B6650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14400" y="2406960"/>
            <a:ext cx="164588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744560" y="221400"/>
            <a:ext cx="1479816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031"/>
              </a:lnSpc>
            </a:pPr>
            <a:r>
              <a:rPr b="0" lang="en-US" sz="6450" spc="-1" strike="noStrike">
                <a:solidFill>
                  <a:srgbClr val="000000"/>
                </a:solidFill>
                <a:latin typeface="Open Sans Extra Bold"/>
              </a:rPr>
              <a:t>Электрический ток в жидкостях</a:t>
            </a:r>
            <a:endParaRPr b="0" lang="en-US" sz="64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0" y="1946520"/>
            <a:ext cx="1660788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Масса вещ-ва, выделяющегося на электроде за время          при прохождении электрического тока, пропорциональна силе тока и времен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1896560" y="2013120"/>
            <a:ext cx="790200" cy="64728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4826880" y="405720"/>
            <a:ext cx="863388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031"/>
              </a:lnSpc>
            </a:pPr>
            <a:r>
              <a:rPr b="0" lang="en-US" sz="6450" spc="-1" strike="noStrike">
                <a:solidFill>
                  <a:srgbClr val="000000"/>
                </a:solidFill>
                <a:latin typeface="Open Sans Extra Bold"/>
              </a:rPr>
              <a:t>Вывод из формулы</a:t>
            </a:r>
            <a:endParaRPr b="0" lang="en-US" sz="64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728280" y="3962880"/>
            <a:ext cx="1717272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Данное утверждение, полученное нами теоретически, впервые было установлено экспериментально Фарадеем и носит название </a:t>
            </a:r>
            <a:r>
              <a:rPr b="0" lang="en-US" sz="3400" spc="-1" strike="noStrike">
                <a:solidFill>
                  <a:srgbClr val="000000"/>
                </a:solidFill>
                <a:latin typeface="Open Sans Light Bold"/>
              </a:rPr>
              <a:t>закона электролиза Фарадея</a:t>
            </a: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2"/>
          <p:cNvSpPr/>
          <p:nvPr/>
        </p:nvSpPr>
        <p:spPr>
          <a:xfrm>
            <a:off x="2271600" y="866880"/>
            <a:ext cx="1374480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2600"/>
              </a:lnSpc>
            </a:pPr>
            <a:r>
              <a:rPr b="0" lang="en-US" sz="9000" spc="-1" strike="noStrike">
                <a:solidFill>
                  <a:srgbClr val="000000"/>
                </a:solidFill>
                <a:latin typeface="Open Sans Extra Bold"/>
              </a:rPr>
              <a:t>Спасибо за внимание!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100320" y="5006160"/>
            <a:ext cx="1470600" cy="3564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7251480" y="4542840"/>
            <a:ext cx="3979440" cy="40269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453240" y="961920"/>
            <a:ext cx="1738080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Жидкости, как и твердые тела, могут быть диэлектриками, проводниками и полупроводникам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59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К числу диэлектриков относится дистиллированная вода, к проводникам - растворы и расплавы электролитов, а полупроводниками являются расплавленный селен, расплавы сульфидов и тд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13925520" y="5006160"/>
            <a:ext cx="1261800" cy="3564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2693880" y="8634600"/>
            <a:ext cx="22838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(вод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диэлектри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6901200" y="8634600"/>
            <a:ext cx="448488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(раствор электролит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проводни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2179160" y="8634600"/>
            <a:ext cx="475452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(расплавленный селен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полупроводни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0" y="1460160"/>
            <a:ext cx="16488720" cy="84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При растворении электролитов под влиянием электрического поля полярных молекул воды происходит распад молекул электролитов на ионы. Этот процесс получил название - </a:t>
            </a:r>
            <a:r>
              <a:rPr b="0" lang="en-US" sz="3400" spc="-1" strike="noStrike">
                <a:solidFill>
                  <a:srgbClr val="000000"/>
                </a:solidFill>
                <a:latin typeface="Open Sans Light Italics"/>
              </a:rPr>
              <a:t>электролитическая диссоциация</a:t>
            </a: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59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 Italics"/>
              </a:rPr>
              <a:t>Степень диссоциации</a:t>
            </a: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 - доля в растворенном веществе молекул, распавшихся на ионы, зависит от температуры, концентрации раствора и электрических свойств растворителя. С увеличением температуры степень диссоциации возрастает и, увеличивается концентрация положительно и отрицательно заряженных ионов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59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При неизменных условиях в растворе устанавливается динамическое равновесие, при котором число молекул, распадающихся за секунду на ионы, равно числу пар ионов, которые за то же время объединяются в нейтральные молекулы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505880" y="-133200"/>
            <a:ext cx="1527588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031"/>
              </a:lnSpc>
            </a:pPr>
            <a:r>
              <a:rPr b="0" lang="en-US" sz="6450" spc="-1" strike="noStrike">
                <a:solidFill>
                  <a:srgbClr val="000000"/>
                </a:solidFill>
                <a:latin typeface="Open Sans Extra Bold"/>
              </a:rPr>
              <a:t>Электролитическая диссоциация</a:t>
            </a:r>
            <a:endParaRPr b="0" lang="en-US" sz="64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195960" y="4668480"/>
            <a:ext cx="5895720" cy="4733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0" y="961920"/>
            <a:ext cx="1828764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Носителями заряда в водных растворах или расплавах электролитов являются положительно и отрицательно заряженные ионы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59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Если сосуд с раствором электролита включить в электрическую цепь, то отрицательные ионы начнут двигаться к положительному электроду - аноду, а положительные к отрицательному - катоду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803200" y="2576520"/>
            <a:ext cx="6681240" cy="6681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1705680" y="405720"/>
            <a:ext cx="1487592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9031"/>
              </a:lnSpc>
            </a:pPr>
            <a:r>
              <a:rPr b="0" lang="en-US" sz="6450" spc="-1" strike="noStrike">
                <a:solidFill>
                  <a:srgbClr val="000000"/>
                </a:solidFill>
                <a:latin typeface="Open Sans Extra Bold"/>
              </a:rPr>
              <a:t>Электролиз и закон электролиза</a:t>
            </a:r>
            <a:endParaRPr b="0" lang="en-US" sz="64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0" y="961920"/>
            <a:ext cx="18287640" cy="54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 Italics"/>
              </a:rPr>
              <a:t>Электролиз</a:t>
            </a: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 - процесс выделения на электроде вещества, связанный с окислительно-восстановительными реакциям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59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Электролиз широко применяют в промышленности и технике для различных целей. Например, именно электролиз служит одним из эффективнейших способов промышленного получения водорода, пероксида водорода, диоксида марганца, алюминия, натрия, магния, кальция и прочих веществ. Так же его применяют для очистки сточных вод, в гальваностегии, в гальванопластике и в химических источниках ток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0" y="1978200"/>
            <a:ext cx="1663596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 algn="ctr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Масса выделившегося вещ-ва равна произведению массы одного иона            на число          , достигших электрода за врем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5582600" y="2125440"/>
            <a:ext cx="866520" cy="47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5938200" y="2501280"/>
            <a:ext cx="8476920" cy="65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5410080" y="2629800"/>
            <a:ext cx="3200040" cy="180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804240" y="5537880"/>
            <a:ext cx="2704680" cy="1437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0" y="4563000"/>
            <a:ext cx="966600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 algn="ctr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Масса иона            согласно формуле, равн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5"/>
          <a:stretch/>
        </p:blipFill>
        <p:spPr>
          <a:xfrm>
            <a:off x="3328560" y="4667400"/>
            <a:ext cx="866520" cy="47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6"/>
          <a:stretch/>
        </p:blipFill>
        <p:spPr>
          <a:xfrm>
            <a:off x="804240" y="8246160"/>
            <a:ext cx="2523600" cy="142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7"/>
          <a:stretch/>
        </p:blipFill>
        <p:spPr>
          <a:xfrm>
            <a:off x="13125600" y="7943760"/>
            <a:ext cx="4695480" cy="1761840"/>
          </a:xfrm>
          <a:prstGeom prst="rect">
            <a:avLst/>
          </a:prstGeom>
          <a:ln w="0">
            <a:noFill/>
          </a:ln>
        </p:spPr>
      </p:pic>
      <p:sp>
        <p:nvSpPr>
          <p:cNvPr id="65" name="TextBox 11"/>
          <p:cNvSpPr/>
          <p:nvPr/>
        </p:nvSpPr>
        <p:spPr>
          <a:xfrm>
            <a:off x="0" y="405000"/>
            <a:ext cx="1828764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 Bold"/>
              </a:rPr>
              <a:t>При изучении этой темы, возникает вопрос. От чего зависит масса вещества, выделяющегося за определенное врем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3712320" y="5284440"/>
            <a:ext cx="874368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963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- молярная масса вещ-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63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- постоянная Авогадро (число ионов в одном моле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0" y="7451280"/>
            <a:ext cx="945108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 algn="ctr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Число ионов, достигших электрода, равно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3599280" y="8150760"/>
            <a:ext cx="12236400" cy="19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ts val="5066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- заряд, протекший через электролит за врем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066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- заряд иона, который определяется валентностью     атом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 rot="486000">
            <a:off x="1100880" y="1568520"/>
            <a:ext cx="4114440" cy="132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3009960" y="5076720"/>
            <a:ext cx="7057800" cy="179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7629480" y="6419880"/>
            <a:ext cx="237600" cy="371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4"/>
          <a:stretch/>
        </p:blipFill>
        <p:spPr>
          <a:xfrm>
            <a:off x="3600360" y="7753320"/>
            <a:ext cx="2885760" cy="818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0" y="705240"/>
            <a:ext cx="1052856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4040" indent="-367200">
              <a:lnSpc>
                <a:spcPts val="4759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Подставляя все написанные формулы, получим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721080" y="3526560"/>
            <a:ext cx="34369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 Bold"/>
              </a:rPr>
              <a:t>Закон Фараде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721080" y="4344120"/>
            <a:ext cx="1653804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"/>
              </a:rPr>
              <a:t>Обозначим через k коэффициент пропорциональности между массой вещ-ва m и зарядом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721080" y="7287840"/>
            <a:ext cx="23994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59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Open Sans Light Bold"/>
              </a:rPr>
              <a:t>Получаем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identifier>DAFABnCr72Y</dc:identifier>
  <dc:language>en-US</dc:language>
  <cp:lastModifiedBy/>
  <dcterms:modified xsi:type="dcterms:W3CDTF">2011-08-01T06:04:30Z</dcterms:modified>
  <cp:revision>1</cp:revision>
  <dc:subject/>
  <dc:title>Электрический ток в жидкостях и закон электролиз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</Properties>
</file>