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729C-FF1C-45B5-B291-E9BD84E7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4DCE-D498-4FD7-A089-329E80BC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63B7-086E-4EA9-9A9A-A5A266A7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4CBD-AB89-4817-9600-3FA707B1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9493-837C-42A0-B39A-F79CDC37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574E-5050-4B09-96B5-D7F54493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E815-7AE9-4B3E-84F0-315883CF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0B26-086A-4CEE-B5C9-9F61C5F9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E10E-8492-4B17-A340-3AE21336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83DC-CEC2-473B-AA81-0A471674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E097-179F-4827-9D30-02333AC8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8769-90B4-4ADB-8F2D-FD3BD7F5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5412-11A2-4D80-B0A5-E4AF6D9B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9F03-477A-4B78-AC9D-64E417F0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D622-5BCE-4A78-BE79-9474D264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2277-AB17-4E9D-B303-03A28B2A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FA46-35C7-41A6-BBFF-9E3AE5D3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7A61B-FD0A-4F48-A178-B56A8C87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F9FD5-7835-46D7-9C08-087F800C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C2C22-3459-4BF9-81D6-846639AC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A02AE-D476-4092-8797-23C5BBF1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9A49F-CA8A-4AEF-B371-09015049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09F0-2AE3-4442-9D95-5035B515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08F1F-D4FD-4B08-A48B-7E9D0F43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65EEF-BD1B-4299-B25A-45E6A7C1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6A660-B643-45DC-8042-86D60A42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7277B-F161-4DF4-ABB3-3CF9DF02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3DEAE-295C-446E-ADCB-5C5D5682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F32EB-ABC6-4B06-A472-363F148D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00084-27D5-4BAB-8D86-3B654E85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A9C9B-ABA1-4B8A-83A5-7127B794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78173-F0EE-4FB4-917F-8889F645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BCB07-98C3-4D95-B074-7147B38F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2D79-888B-407A-85AC-8AB05CFA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C32E7-DFCF-4C7A-B6BA-27706500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7C429-CD23-4447-B931-5A3295BB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2DE39-D40B-4F3E-8DDD-34B2CF61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6DD53-D2DD-4367-9A4D-772AA177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81EDF-77DB-4A91-BCC8-F948F123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344DD-1BDF-4325-9408-B6E43068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23D11-52BB-414D-BECA-9C573AFA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8D813-7896-48A8-8FA8-E3B1E53F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229A3-F2F2-4DD4-8DAE-9D0E3F40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D2F5-5B00-498E-86ED-921E4346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E5F1-718D-49D5-A3FF-5369B2F8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278E-8C9E-4264-B1F6-478F598F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E68E-64E3-461F-9CB0-7C0ED3CD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5986-F26A-4FCF-8745-7DEA472B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6"/>
          <p:cNvGrpSpPr/>
          <p:nvPr/>
        </p:nvGrpSpPr>
        <p:grpSpPr>
          <a:xfrm>
            <a:off x="360" y="-8640"/>
            <a:ext cx="12191400" cy="6866640"/>
            <a:chOff x="360" y="-8640"/>
            <a:chExt cx="12191400" cy="6866640"/>
          </a:xfrm>
        </p:grpSpPr>
        <p:cxnSp>
          <p:nvCxnSpPr>
            <p:cNvPr id="12" name="Straight Connector 31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3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4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Isosceles Triangle 26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Isosceles Triangle 30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Isosceles Triangle 18"/>
            <p:cNvSpPr/>
            <p:nvPr/>
          </p:nvSpPr>
          <p:spPr>
            <a:xfrm rot="10800000">
              <a:off x="36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8F6767-4CF1-41E9-A042-A6EE9E1870FA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64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430A5C-1BBC-45E2-91FF-AB71AFDA4260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16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17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18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9E1B45-1AC9-4A17-970C-D8EDEB5DCA4B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68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69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70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dt" idx="10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ftr" idx="11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2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5D5310-DFDB-41A6-AB61-451B2A447666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 txBox="1"/>
          <p:nvPr/>
        </p:nvSpPr>
        <p:spPr>
          <a:xfrm>
            <a:off x="903960" y="2743200"/>
            <a:ext cx="8849520" cy="842400"/>
          </a:xfrm>
          <a:prstGeom prst="rect">
            <a:avLst/>
          </a:prstGeom>
        </p:spPr>
        <p:txBody>
          <a:bodyPr wrap="none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ln w="0">
                  <a:noFill/>
                </a:ln>
                <a:solidFill>
                  <a:srgbClr val="b7e996"/>
                </a:solidFill>
                <a:effectLst>
                  <a:reflection algn="bl" blurRad="6350" dir="5400000" endA="300" endPos="55000" rotWithShape="0" stA="50000" sy="-100000"/>
                </a:effectLst>
                <a:latin typeface="Trebuchet MS"/>
              </a:rPr>
              <a:t>Развитие силы и мышц</a:t>
            </a:r>
            <a:endParaRPr b="0" lang="en-US" sz="5400" spc="-1" strike="noStrike">
              <a:ln w="0">
                <a:noFill/>
              </a:ln>
              <a:solidFill>
                <a:srgbClr val="b7e996"/>
              </a:solidFill>
              <a:effectLst>
                <a:reflection algn="bl" blurRad="6350" dir="5400000" endA="300" endPos="55000" rotWithShape="0" stA="50000" sy="-100000"/>
              </a:effectLst>
              <a:latin typeface="Arial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9207360" y="5816520"/>
            <a:ext cx="3085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езентация выполнена студенткой группы 23к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анкратовой Е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5" descr=""/>
          <p:cNvPicPr/>
          <p:nvPr/>
        </p:nvPicPr>
        <p:blipFill>
          <a:blip r:embed="rId1"/>
          <a:stretch/>
        </p:blipFill>
        <p:spPr>
          <a:xfrm>
            <a:off x="3789000" y="88920"/>
            <a:ext cx="20145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70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Факторы, влияющие на развитие силовых способностей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Мышечны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Центрально-нервны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Личностно-психологическ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Биомеханическ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Биохимическ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Физиологические факторы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азличные условия внешней среды, в которых осуществляется двигательная деятельность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4" name="Рисунок 3" descr=""/>
          <p:cNvPicPr/>
          <p:nvPr/>
        </p:nvPicPr>
        <p:blipFill>
          <a:blip r:embed="rId1"/>
          <a:stretch/>
        </p:blipFill>
        <p:spPr>
          <a:xfrm>
            <a:off x="5181480" y="2160720"/>
            <a:ext cx="3809520" cy="22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7160" y="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Задачи развития силовых способностей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77160" y="1411200"/>
            <a:ext cx="5710320" cy="47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бщее гармонические развитие всех мышечных групп опорно-двигательного аппарата челове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азностороннее развитие силовых способностей в единстве с освоением жизненно важных двигательных действ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оздание условий и возможностей для дальнейшего совершенствования силовых способностей в рамках занят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Рисунок 3" descr=""/>
          <p:cNvPicPr/>
          <p:nvPr/>
        </p:nvPicPr>
        <p:blipFill>
          <a:blip r:embed="rId1"/>
          <a:stretch/>
        </p:blipFill>
        <p:spPr>
          <a:xfrm>
            <a:off x="6388200" y="1523880"/>
            <a:ext cx="5308200" cy="38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04240" y="482760"/>
            <a:ext cx="85964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1"/>
                </a:solidFill>
                <a:latin typeface="Trebuchet MS"/>
              </a:rPr>
              <a:t>Развитие силы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558720" y="1486080"/>
            <a:ext cx="103248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Сил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— способность преодолевать внешнее сопротивление или противодействовать ему посредством мышечных напря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азличают следующие виды силовых способностей: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собственно-силовы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скоростно-силовы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и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силовую выносливость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Собственно-силовые 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пособности характеризуются тем, что доминирующую роль в их проявлении играет активизация процессов мышечного напряжения, стимулируемая внешним предметом либо иным отяго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Скоростно-силовые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способности являются соединением силовых и скоростных спосо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Силовая выносливость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— способность противостоять утомлению, вызываемому относительно продолжительными мышечными напряжениями значительной величины. В зависимости от режима мышечных напряжений выделяют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статическую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и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динамическую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силовую выносл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5841720" cy="68461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3" descr=""/>
          <p:cNvPicPr/>
          <p:nvPr/>
        </p:nvPicPr>
        <p:blipFill>
          <a:blip r:embed="rId2"/>
          <a:stretch/>
        </p:blipFill>
        <p:spPr>
          <a:xfrm>
            <a:off x="5842080" y="0"/>
            <a:ext cx="6349680" cy="68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19920" y="-288000"/>
            <a:ext cx="7766640" cy="198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5400"/>
            </a:br>
            <a:r>
              <a:rPr b="1" i="1" lang="ru-RU" sz="2400" spc="-1" strike="noStrike">
                <a:solidFill>
                  <a:schemeClr val="accent1"/>
                </a:solidFill>
                <a:latin typeface="Trebuchet MS"/>
              </a:rPr>
              <a:t>Средства и методы развития силовых способностей</a:t>
            </a:r>
            <a:br>
              <a:rPr sz="5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88920" y="863640"/>
            <a:ext cx="12001320" cy="59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Средствами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развития силы мышц являются различные силовые упражнения, среди которых выделяются три основные вид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1) Упражнения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с внешним сопротивлением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, которые подразделяются на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 упражнения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с партнером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, которые можно эффективно использовать не только на учебных занятиях в спортивных залах, но и в домашних условиях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 упражнения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с тяжестями,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способствующие преимущественному воздействию не только на отдельные мышцы, но и на отдельные части мышц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 упражнения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в преодолении сопротивления внешней среды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используются для развития силовой выносливости (бег по воде, снегу, против ветра и т.п.), специальной силовой подготовки (в воде, песке, на льду и т.п.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2) Упражнения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с преодолением собственного веса тела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, которые подразделяются на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гимнастические силовые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упражнения (подтягивание на перекладине, отжимание на руках в упоре лежа и на брусьях и т.п.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 л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егкоатлетические прыжковые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упражнения (прыжки через легкоатлетические барьеры, гимнастическую скамейку и т.п.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3)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Изометрические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упражнения, способствующие одновременному напряжению максимально возможного количества двигательных единиц работающих мышц. Различают упражнения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в пассивном напряжении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(удержание груза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в активном напряжении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(в течение 5—10 секунд в определенной позе)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Наибольшее внимание необходимо уделять развитию силы в процессе общефизической подготовки, применяя специально подобранные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силовые локальные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упражнения в сочетании с упражнениями более широкого воздействи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По характеру все упражнения подразделяются на три основные групп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общего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воздействия (когда в работе участвует не менее 2/3 общего объема мышц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регионального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воздействия (от 1/3 до 2/3 всех мышц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- </a:t>
            </a:r>
            <a:r>
              <a:rPr b="0" i="1" lang="ru-RU" sz="1300" spc="-1" strike="noStrike">
                <a:solidFill>
                  <a:srgbClr val="000000"/>
                </a:solidFill>
                <a:latin typeface="Trebuchet MS"/>
              </a:rPr>
              <a:t>локального</a:t>
            </a:r>
            <a:r>
              <a:rPr b="0" lang="ru-RU" sz="1300" spc="-1" strike="noStrike">
                <a:solidFill>
                  <a:srgbClr val="000000"/>
                </a:solidFill>
                <a:latin typeface="Trebuchet MS"/>
              </a:rPr>
              <a:t> воздействия (менее 1/3 всех мышц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4" descr=""/>
          <p:cNvPicPr/>
          <p:nvPr/>
        </p:nvPicPr>
        <p:blipFill>
          <a:blip r:embed="rId1"/>
          <a:stretch/>
        </p:blipFill>
        <p:spPr>
          <a:xfrm>
            <a:off x="851040" y="21240"/>
            <a:ext cx="4723920" cy="68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0880" y="127080"/>
            <a:ext cx="8596440" cy="90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1"/>
                </a:solidFill>
                <a:latin typeface="Trebuchet MS"/>
              </a:rPr>
              <a:t>При развитии силовых способностей различают следующие методы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380880" y="1028880"/>
            <a:ext cx="1132812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)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максимальных усилий,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включающий упражнения с субмаксимальными, максимальными и сверхмаксимальными отягощениями или сопротивлениями, направленными на развитие способности мышц к сильным сокращениям, проявлению максимальной силы без существенного увеличения мышечной мас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)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повторных усилий,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для которого основным тренирующим фактором является количество повторений упражнения с оптимальным или субмаксимальным сопротивле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)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«ударный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метод направлен на развитие «взрывной» силы различных мышечных груп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) р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азвития динамической (скоростной) силы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проявляется при быстрых движениях против небольшого внешнего сопротивления. Для развития скоростной силы применяются упражнения с отягощением, прыжки (в высоту, длин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) р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азвития силовой выносливости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заключается в способности длительное время проявлять оптимальные мышечные усилия. Основным методом развития силовой выносливости является метод повторных усилий. Кроме этого, тренировка для развития и совершенствования силовой выносливости может быть организована в форме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«круговой тренировки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(последовательное применение серий каждого избранного упражнения). Наиболее эффективна 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«круговая тренировка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при использовании общеразвивающих упражнений в профессионально-прикладной подготов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) и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зометрический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метод характеризуется кратковременным напряжением мышц без изменения их длины. Выполняемые данным методом упражнения применяются в основном как дополнительные средства развития силы. Рекомендуется сочетание изометрических напряжений с упражнениями динамического характера, на растягивание и расслабление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90120" y="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1"/>
                </a:solidFill>
                <a:latin typeface="Trebuchet MS"/>
              </a:rPr>
              <a:t>10 лучших упражнений для развития силы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431640" y="1219320"/>
            <a:ext cx="103755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тановая тя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риседания со штанг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Жим штанги или ган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Турецкий подъем с ги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Толчок штан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Мертвая тя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Махи с ги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одтяг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Отжимания на брусь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Жим гантелей сид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3" descr=""/>
          <p:cNvPicPr/>
          <p:nvPr/>
        </p:nvPicPr>
        <p:blipFill>
          <a:blip r:embed="rId1"/>
          <a:stretch/>
        </p:blipFill>
        <p:spPr>
          <a:xfrm>
            <a:off x="5001480" y="1981080"/>
            <a:ext cx="4696560" cy="283356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4" descr=""/>
          <p:cNvPicPr/>
          <p:nvPr/>
        </p:nvPicPr>
        <p:blipFill>
          <a:blip r:embed="rId2"/>
          <a:stretch/>
        </p:blipFill>
        <p:spPr>
          <a:xfrm>
            <a:off x="690120" y="4081680"/>
            <a:ext cx="4311000" cy="27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theme/theme1.xml><?xml version="1.0" encoding="utf-8"?>
<a:theme xmlns:a="http://schemas.openxmlformats.org/drawingml/2006/main" name="Аспект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спект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Аспект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186</TotalTime>
  <Application>LibreOffice/7.4.7.2$Linux_X86_64 LibreOffice_project/40$Build-2</Application>
  <AppVersion>15.0000</AppVersion>
  <Words>124</Words>
  <Paragraphs>62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8T08:46:02Z</dcterms:created>
  <dc:creator>норд</dc:creator>
  <dc:description/>
  <dc:language>en-US</dc:language>
  <cp:lastModifiedBy>норд</cp:lastModifiedBy>
  <dcterms:modified xsi:type="dcterms:W3CDTF">2020-04-10T10:11:04Z</dcterms:modified>
  <cp:revision>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0</vt:r8>
  </property>
</Properties>
</file>