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50E-9116-48DE-9515-1064EE02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61D-5497-43DA-85EE-7618F264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353-6B5D-4A97-AB55-349F7782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E07-63EA-475E-9129-1AB917B7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F32-7C72-4E9A-AE62-077F138C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8F75-9290-4754-B527-CFDB5E39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25C4-4576-4531-BF30-B3F102EF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1A95-9904-443B-9952-CAEB4D75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A7BB-C5ED-4D42-A083-7ABAF81B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FBE2-6542-4D51-90C4-05388FAA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0E54-1AB0-47C1-A6DF-7EDB05D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071-3367-4417-8D58-27AA45FF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65EC-3A48-4B26-9ACE-8B758EE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EF8-16D5-4D27-8B53-5F670B2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7BA-8ACF-4181-9E46-9B5304DE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6EF7-2F94-46F9-B250-5FA622F6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01F8-A583-4574-9148-0967B941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00F9-5CD2-48E3-9ED4-11C822C1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4BFB-CD9F-4F39-B99E-BF4687B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C028-E507-4303-BE2C-E27D89C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FD03-850F-4C6E-9C0A-983CFC10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9C68-B358-4705-B4A9-37F2F448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7AA-635D-444C-A4D9-9708907F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0191-9BDF-4B3E-9683-6901D5B5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226C-9941-45E0-B796-1384D28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C402-E5DD-4D0F-AEAD-EA25746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DDD1-D667-4E50-86C5-79567E3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6C20-AA79-4FD8-8174-99417A0D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825F-7E5B-4C7D-9DF8-D83D738F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6197-3F53-4106-ADD5-A4FAEDE9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80E1-AA44-498D-BC1C-0893FC11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CFACD-0537-4A4F-8AD9-91C2E3F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3CC4-3B05-4A96-827B-2F69A7AB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888-ED8F-4CCE-8271-0695A0F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F007-7C91-4E9F-95C7-BA9FF572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9D17-F417-40D3-B32D-5598655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1DD4-7101-4360-8608-C3E6D6A3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DD8B-5D34-4309-B71C-A7B2A7FD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90834-8CCB-497E-A5E6-52EA056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3683-13A4-4284-91C8-612EBEE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60E7-6215-4E51-9ACB-D63C80C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9A65-847F-42E4-820C-E4B2E216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841E-FD88-4C74-9045-DAA6E4C0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42F-61ED-4A61-AD1E-25171C8F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E50-723A-4401-867B-06952B4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6A6-1BFE-41BE-B484-9F8F425C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A77-3B38-4497-88B2-03AB8FC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811-DC64-4468-B8BB-DBC841A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BB527B-EAD3-44C1-83CA-A3F7C0A6C5F0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74DCD4-39E0-4A90-A699-C7B10CF8F5DC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DD1815-B138-4D52-A0AA-E6363B53FE2F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68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69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0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7E274-B013-414D-9D21-AB6682A4AA75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 txBox="1"/>
          <p:nvPr/>
        </p:nvSpPr>
        <p:spPr>
          <a:xfrm>
            <a:off x="903960" y="2743200"/>
            <a:ext cx="8849520" cy="84240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b7e996"/>
                </a:solidFill>
                <a:effectLst>
                  <a:reflection algn="bl" blurRad="6350" dir="5400000" endA="300" endPos="55000" rotWithShape="0" stA="50000" sy="-100000"/>
                </a:effectLst>
                <a:latin typeface="Trebuchet MS"/>
              </a:rPr>
              <a:t>Развитие силы и мышц</a:t>
            </a:r>
            <a:endParaRPr b="0" lang="en-US" sz="5400" spc="-1" strike="noStrike">
              <a:ln w="0">
                <a:noFill/>
              </a:ln>
              <a:solidFill>
                <a:srgbClr val="b7e996"/>
              </a:solidFill>
              <a:effectLst>
                <a:reflection algn="bl" blurRad="6350" dir="5400000" endA="300" endPos="55000" rotWithShape="0" stA="50000" sy="-100000"/>
              </a:effectLst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9207360" y="5816520"/>
            <a:ext cx="3085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зентация выполнена студенткой группы 23к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анкратовой 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3789000" y="88920"/>
            <a:ext cx="2014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70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Факторы, влияющие на развитие силовых способносте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шечны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трально-нервны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Личностно-психолог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иомехан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иохим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Физиологические фактор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зличные условия внешней среды, в которых осуществляется двигательная деятельность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5181480" y="2160720"/>
            <a:ext cx="38095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160" y="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Задачи развития силовых способносте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7160" y="1411200"/>
            <a:ext cx="5710320" cy="47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щее гармонические развитие всех мышечных групп опорно-двигательного аппарата челове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ностороннее развитие силовых способностей в единстве с освоением жизненно важных двигательных действ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здание условий и возможностей для дальнейшего совершенствования силовых способностей в рамках занят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Рисунок 3" descr=""/>
          <p:cNvPicPr/>
          <p:nvPr/>
        </p:nvPicPr>
        <p:blipFill>
          <a:blip r:embed="rId1"/>
          <a:stretch/>
        </p:blipFill>
        <p:spPr>
          <a:xfrm>
            <a:off x="6388200" y="1523880"/>
            <a:ext cx="5308200" cy="38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4240" y="482760"/>
            <a:ext cx="85964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Развитие сил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58720" y="1486080"/>
            <a:ext cx="10324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— способность преодолевать внешнее сопротивление или противодействовать ему посредством мышечных напря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личают следующие виды силовых способностей: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обствен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корост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овую выносливос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обственно-силовые 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ности характеризуются тем, что доминирующую роль в их проявлении играет активизация процессов мышечного напряжения, стимулируемая внешним предметом либо иным отяго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корост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способности являются соединением силовых и скоростны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овая выносливос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— способность противостоять утомлению, вызываемому относительно продолжительными мышечными напряжениями значительной величины. В зависимости от режима мышечных напряжений выделяют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татическую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инамическую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силовую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5841720" cy="6846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"/>
          <p:cNvPicPr/>
          <p:nvPr/>
        </p:nvPicPr>
        <p:blipFill>
          <a:blip r:embed="rId2"/>
          <a:stretch/>
        </p:blipFill>
        <p:spPr>
          <a:xfrm>
            <a:off x="5842080" y="0"/>
            <a:ext cx="6349680" cy="68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920" y="-288000"/>
            <a:ext cx="7766640" cy="198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r>
              <a:rPr b="1" i="1" lang="ru-RU" sz="2400" spc="-1" strike="noStrike">
                <a:solidFill>
                  <a:schemeClr val="accent1"/>
                </a:solidFill>
                <a:latin typeface="Trebuchet MS"/>
              </a:rPr>
              <a:t>Средства и методы развития силовых способностей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8920" y="863640"/>
            <a:ext cx="12001320" cy="59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редствам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развития силы мышц являются различные силовые упражнения, среди которых выделяются три основные ви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1)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внешним сопротивлением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подразделяются н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партнером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можно эффективно использовать не только на учебных занятиях в спортивных залах, но и в домашних условиях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тяжестями,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способствующие преимущественному воздействию не только на отдельные мышцы, но и на отдельные части мышц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преодолении сопротивления внешней среды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используются для развития силовой выносливости (бег по воде, снегу, против ветра и т.п.), специальной силовой подготовки (в воде, песке, на льду и т.п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2)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преодолением собственного веса тела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подразделяются н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гимнастические силов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(подтягивание на перекладине, отжимание на руках в упоре лежа и на брусьях и т.п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л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егкоатлетические прыжков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(прыжки через легкоатлетические барьеры, гимнастическую скамейку и т.п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3)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Изометрически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, способствующие одновременному напряжению максимально возможного количества двигательных единиц работающих мышц. Различают упражн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пассивном напряжени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(удержание груза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активном напряжени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(в течение 5—10 секунд в определенной позе)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Наибольшее внимание необходимо уделять развитию силы в процессе общефизической подготовки, применяя специально подобранные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иловые локальн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в сочетании с упражнениями более широкого воздейств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По характеру все упражнения подразделяются на три основные групп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обще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когда в работе участвует не менее 2/3 общего объема мышц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регионально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от 1/3 до 2/3 всех мышц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локально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менее 1/3 всех мышц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851040" y="21240"/>
            <a:ext cx="472392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127080"/>
            <a:ext cx="859644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1"/>
                </a:solidFill>
                <a:latin typeface="Trebuchet MS"/>
              </a:rPr>
              <a:t>При развитии силовых способностей различают следующие метод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380880" y="1028880"/>
            <a:ext cx="113281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максимальных усилий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включающий упражнения с субмаксимальными, максимальными и сверхмаксимальными отягощениями или сопротивлениями, направленными на развитие способности мышц к сильным сокращениям, проявлению максимальной силы без существенного увеличения мышечной ма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овторных усилий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для которого основным тренирующим фактором является количество повторений упражнения с оптимальным или субмаксимальным сопротив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ударны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метод направлен на развитие «взрывной» силы различных мышечных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р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азвития динамической (скоростной) сил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проявляется при быстрых движениях против небольшого внешнего сопротивления. Для развития скоростной силы применяются упражнения с отягощением, прыжки (в высоту, дл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) р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азвития силовой выносливост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заключается в способности длительное время проявлять оптимальные мышечные усилия. Основным методом развития силовой выносливости является метод повторных усилий. Кроме этого, тренировка для развития и совершенствования силовой выносливости может быть организована в форме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круговой тренировк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(последовательное применение серий каждого избранного упражнения). Наиболее эффективна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круговая трениров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при использовании общеразвивающих упражнений в профессионально-прикладной подготов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) и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зометрический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метод характеризуется кратковременным напряжением мышц без изменения их длины. Выполняемые данным методом упражнения применяются в основном как дополнительные средства развития силы. Рекомендуется сочетание изометрических напряжений с упражнениями динамического характера, на растягивание и расслаблен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90120" y="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10 лучших упражнений для развития сил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431640" y="1219320"/>
            <a:ext cx="103755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новая т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седания со штан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Жим штанги или ган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урецкий подъем с 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олчок шта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ертвая т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ахи с 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дтяг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тжимания на брус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Жим гантелей с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"/>
          <p:cNvPicPr/>
          <p:nvPr/>
        </p:nvPicPr>
        <p:blipFill>
          <a:blip r:embed="rId1"/>
          <a:stretch/>
        </p:blipFill>
        <p:spPr>
          <a:xfrm>
            <a:off x="5001480" y="1981080"/>
            <a:ext cx="4696560" cy="28335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2"/>
          <a:stretch/>
        </p:blipFill>
        <p:spPr>
          <a:xfrm>
            <a:off x="690120" y="4081680"/>
            <a:ext cx="4311000" cy="27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86</TotalTime>
  <Application>LibreOffice/7.4.7.2$Linux_X86_64 LibreOffice_project/40$Build-2</Application>
  <AppVersion>15.0000</AppVersion>
  <Words>124</Words>
  <Paragraphs>6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08:46:02Z</dcterms:created>
  <dc:creator>норд</dc:creator>
  <dc:description/>
  <dc:language>en-US</dc:language>
  <cp:lastModifiedBy>норд</cp:lastModifiedBy>
  <dcterms:modified xsi:type="dcterms:W3CDTF">2020-04-10T10:11:04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