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7EF-7EDC-4587-ADF9-9E3C09FD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253-072A-4675-A136-12BBE56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50B-C658-465B-BE93-B09E79FD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09F-E933-434E-BC69-CF628466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84D0-279F-4616-9688-8F671A75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5185-5526-4503-88E5-4002C824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7851-77B2-4118-966B-50304DBF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746B-BDDE-4F29-B615-6AD266A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D7CD-5B5D-4B01-B7CB-84E32E4F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047A-0926-4B9D-9D9C-3F9F1B1B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36E4-D0C2-4874-A9B6-7E33F0FC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49E-2723-4184-8C36-0D2BF0A3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A009-2159-4FFB-9C1D-81A3C40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5AE7-3834-4C73-A7B4-E8C8C472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B3FC-1FE8-43F3-920A-D789FE41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6E93-A1DB-48F6-85A6-7BD6DC74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E363-E7C9-4EC2-9FA1-3B480CF2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86F1-4104-44F8-9A85-70288F74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EC66-1277-46F9-8615-F73440C3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DA21-875E-42FB-BA1A-4478B75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BA2D-F3BD-4272-8DA4-8C61A17B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E5AB-1BF8-4163-8798-F6CDD5A3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E99-612B-4778-BFFE-73CBF3C2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94B5-0F5F-4069-98CD-FF7EBAB9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8BA4-0BC3-4831-9798-15F2B6D7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A589-AF15-4946-A1AD-9CB424A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FB98-6528-44AB-B7BE-3B28EFA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520E-3EA3-4588-ABCC-5B4DCBD5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793B-BF71-4D2C-889D-D5657447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6A8A-5B64-40F9-9E65-4A2AFE61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8F09-DFE0-4244-86E9-DC64194F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DFE8-1429-49B2-AA44-23A26BF8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55E2E-B75A-44AC-887C-56083AB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92A-4705-41A0-896F-34D893EE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860B-E1E5-44F7-A9E8-B0EFED4F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D706-6003-4790-A4BF-6EA2AF0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317E-EEEB-499C-95AE-476752E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A387-BA11-4421-88D7-B9105C4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CA67-B275-482A-AE39-9157BCC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6666-AF49-4895-8BA3-53255FD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4151-9070-4052-B9DD-B4DB91C2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D96A-96B6-4FF5-AA08-77BE1D57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7CBC-F466-4F37-BE49-B5B39EAB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9B1-EB4F-4A04-8218-04E6B9D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6F0-DA9B-4BE8-87B2-E7A13A2D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C69-50F3-4E64-A74F-1BDF656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AC4-C398-4439-976E-186D773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C54-CC95-440A-A07D-5C31112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4DA20D-91B6-4BCC-9E79-CB69079C195D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6E3B42-F9B8-4E84-9820-5EBD97CDAFB9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83DE22-C2BD-4095-8478-F81FB6558C72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68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69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0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F312BF-0DF4-4583-BBE4-0B5758BD0B66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 txBox="1"/>
          <p:nvPr/>
        </p:nvSpPr>
        <p:spPr>
          <a:xfrm>
            <a:off x="903960" y="2743200"/>
            <a:ext cx="8849520" cy="84240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b7e996"/>
                </a:solidFill>
                <a:effectLst>
                  <a:reflection algn="bl" blurRad="6350" dir="5400000" endA="300" endPos="55000" rotWithShape="0" stA="50000" sy="-100000"/>
                </a:effectLst>
                <a:latin typeface="Trebuchet MS"/>
              </a:rPr>
              <a:t>Развитие силы и мышц</a:t>
            </a:r>
            <a:endParaRPr b="0" lang="en-US" sz="5400" spc="-1" strike="noStrike">
              <a:ln w="0">
                <a:noFill/>
              </a:ln>
              <a:solidFill>
                <a:srgbClr val="b7e996"/>
              </a:solidFill>
              <a:effectLst>
                <a:reflection algn="bl" blurRad="6350" dir="5400000" endA="300" endPos="55000" rotWithShape="0" stA="50000" sy="-100000"/>
              </a:effectLst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9207360" y="5816520"/>
            <a:ext cx="3085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зентация выполнена студенткой группы 23к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анкратовой 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3789000" y="88920"/>
            <a:ext cx="2014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70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Факторы, влияющие на развитие силовых способносте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шечны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трально-нервны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Личностно-психолог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иомехан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иохим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Физиологические фактор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зличные условия внешней среды, в которых осуществляется двигательная деятельность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5181480" y="2160720"/>
            <a:ext cx="38095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160" y="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Задачи развития силовых способносте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7160" y="1411200"/>
            <a:ext cx="5710320" cy="47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щее гармонические развитие всех мышечных групп опорно-двигательного аппарата челове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ностороннее развитие силовых способностей в единстве с освоением жизненно важных двигательных действ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здание условий и возможностей для дальнейшего совершенствования силовых способностей в рамках занят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Рисунок 3" descr=""/>
          <p:cNvPicPr/>
          <p:nvPr/>
        </p:nvPicPr>
        <p:blipFill>
          <a:blip r:embed="rId1"/>
          <a:stretch/>
        </p:blipFill>
        <p:spPr>
          <a:xfrm>
            <a:off x="6388200" y="1523880"/>
            <a:ext cx="5308200" cy="38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4240" y="482760"/>
            <a:ext cx="85964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Развитие сил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58720" y="1486080"/>
            <a:ext cx="10324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— способность преодолевать внешнее сопротивление или противодействовать ему посредством мышечных напря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личают следующие виды силовых способностей: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обствен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корост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овую выносливос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обственно-силовые 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ности характеризуются тем, что доминирующую роль в их проявлении играет активизация процессов мышечного напряжения, стимулируемая внешним предметом либо иным отяго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корост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способности являются соединением силовых и скоростны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овая выносливос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— способность противостоять утомлению, вызываемому относительно продолжительными мышечными напряжениями значительной величины. В зависимости от режима мышечных напряжений выделяют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татическую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инамическую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силовую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5841720" cy="6846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"/>
          <p:cNvPicPr/>
          <p:nvPr/>
        </p:nvPicPr>
        <p:blipFill>
          <a:blip r:embed="rId2"/>
          <a:stretch/>
        </p:blipFill>
        <p:spPr>
          <a:xfrm>
            <a:off x="5842080" y="0"/>
            <a:ext cx="6349680" cy="68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920" y="-288000"/>
            <a:ext cx="7766640" cy="198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r>
              <a:rPr b="1" i="1" lang="ru-RU" sz="2400" spc="-1" strike="noStrike">
                <a:solidFill>
                  <a:schemeClr val="accent1"/>
                </a:solidFill>
                <a:latin typeface="Trebuchet MS"/>
              </a:rPr>
              <a:t>Средства и методы развития силовых способностей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8920" y="863640"/>
            <a:ext cx="12001320" cy="59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редствам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развития силы мышц являются различные силовые упражнения, среди которых выделяются три основные ви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1)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внешним сопротивлением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подразделяются н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партнером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можно эффективно использовать не только на учебных занятиях в спортивных залах, но и в домашних условиях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тяжестями,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способствующие преимущественному воздействию не только на отдельные мышцы, но и на отдельные части мышц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преодолении сопротивления внешней среды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используются для развития силовой выносливости (бег по воде, снегу, против ветра и т.п.), специальной силовой подготовки (в воде, песке, на льду и т.п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2)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преодолением собственного веса тела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подразделяются н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гимнастические силов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(подтягивание на перекладине, отжимание на руках в упоре лежа и на брусьях и т.п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л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егкоатлетические прыжков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(прыжки через легкоатлетические барьеры, гимнастическую скамейку и т.п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3)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Изометрически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, способствующие одновременному напряжению максимально возможного количества двигательных единиц работающих мышц. Различают упражн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пассивном напряжени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(удержание груза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активном напряжени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(в течение 5—10 секунд в определенной позе)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Наибольшее внимание необходимо уделять развитию силы в процессе общефизической подготовки, применяя специально подобранные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иловые локальн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в сочетании с упражнениями более широкого воздейств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По характеру все упражнения подразделяются на три основные групп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обще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когда в работе участвует не менее 2/3 общего объема мышц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регионально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от 1/3 до 2/3 всех мышц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локально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менее 1/3 всех мышц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851040" y="21240"/>
            <a:ext cx="472392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127080"/>
            <a:ext cx="859644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1"/>
                </a:solidFill>
                <a:latin typeface="Trebuchet MS"/>
              </a:rPr>
              <a:t>При развитии силовых способностей различают следующие метод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380880" y="1028880"/>
            <a:ext cx="113281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максимальных усилий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включающий упражнения с субмаксимальными, максимальными и сверхмаксимальными отягощениями или сопротивлениями, направленными на развитие способности мышц к сильным сокращениям, проявлению максимальной силы без существенного увеличения мышечной ма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овторных усилий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для которого основным тренирующим фактором является количество повторений упражнения с оптимальным или субмаксимальным сопротив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ударны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метод направлен на развитие «взрывной» силы различных мышечных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р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азвития динамической (скоростной) сил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проявляется при быстрых движениях против небольшого внешнего сопротивления. Для развития скоростной силы применяются упражнения с отягощением, прыжки (в высоту, дл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) р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азвития силовой выносливост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заключается в способности длительное время проявлять оптимальные мышечные усилия. Основным методом развития силовой выносливости является метод повторных усилий. Кроме этого, тренировка для развития и совершенствования силовой выносливости может быть организована в форме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круговой тренировк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(последовательное применение серий каждого избранного упражнения). Наиболее эффективна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круговая трениров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при использовании общеразвивающих упражнений в профессионально-прикладной подготов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) и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зометрический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метод характеризуется кратковременным напряжением мышц без изменения их длины. Выполняемые данным методом упражнения применяются в основном как дополнительные средства развития силы. Рекомендуется сочетание изометрических напряжений с упражнениями динамического характера, на растягивание и расслаблен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90120" y="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10 лучших упражнений для развития сил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431640" y="1219320"/>
            <a:ext cx="103755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новая т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седания со штан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Жим штанги или ган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урецкий подъем с 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олчок шта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ертвая т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ахи с 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дтяг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тжимания на брус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Жим гантелей с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"/>
          <p:cNvPicPr/>
          <p:nvPr/>
        </p:nvPicPr>
        <p:blipFill>
          <a:blip r:embed="rId1"/>
          <a:stretch/>
        </p:blipFill>
        <p:spPr>
          <a:xfrm>
            <a:off x="5001480" y="1981080"/>
            <a:ext cx="4696560" cy="28335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2"/>
          <a:stretch/>
        </p:blipFill>
        <p:spPr>
          <a:xfrm>
            <a:off x="690120" y="4081680"/>
            <a:ext cx="4311000" cy="27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86</TotalTime>
  <Application>LibreOffice/7.4.7.2$Linux_X86_64 LibreOffice_project/40$Build-2</Application>
  <AppVersion>15.0000</AppVersion>
  <Words>124</Words>
  <Paragraphs>6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08:46:02Z</dcterms:created>
  <dc:creator>норд</dc:creator>
  <dc:description/>
  <dc:language>en-US</dc:language>
  <cp:lastModifiedBy>норд</cp:lastModifiedBy>
  <dcterms:modified xsi:type="dcterms:W3CDTF">2020-04-10T10:11:04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