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12192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8F3A-D1CB-4BE2-83BD-E8A8F1827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435EC-BEAA-4CA3-A931-455044A9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1386-F921-4CBA-8CAD-A8966F50B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27118-37BA-47CB-B809-9A002810A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D360-C50F-442B-A909-29FD57D56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3B9E6-1AA8-4C4A-BD0C-2D88194C4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98639-247D-4B2A-BE4E-E78C62258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EE5CC-68EE-492F-969D-1CAACEF41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D8C8-3751-46D4-8E6D-DD69EF3E2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9358-A666-4076-B0C9-88DD91F00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10BC8-9736-4D26-8818-AE850270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ECEA-CE57-489B-A478-F98212F8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E0AE-5AE5-4A28-998D-DB61A13F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A0659-E0F4-4498-A3CB-FB803981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1F00D-CBAD-457A-AA71-2A10B310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2F6EA-7570-49A4-A805-316E98391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7D975-946A-4CBE-83A8-D940DFF68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4968E-6435-4D8F-883C-A73ADFA55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454E2-4BB3-4F2D-85CF-9435782B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300579-96B8-4D2E-9634-91BC5E23F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9DE907-A01D-4F46-B2A7-A94D4CDB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6D8040-69A2-4B3D-990E-1AF5EA373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CC79-9255-45AC-AD5E-DF8BF45A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83410-1380-4397-AAA8-D1B2A8B1B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A7526-260A-4C22-9CF7-7CE2CFE8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AB6DF2-BC5A-49B9-8EA0-21DF7CD85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80478C-73F3-4BC9-9F27-CD291FEA6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7D9A97-94B1-49B9-B379-569D65A1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65945-3D29-4443-BE6A-8280A31DC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B8BDC-0716-44AC-8A18-218E16FA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C64F1-01DA-4D41-B503-9FCEC1689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CBA206-F951-439F-BAE0-3A3605C1B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949791-73F7-4B46-AF61-0B8D8CE3D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4F56-AF6A-45E8-BE68-3A77DF187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A46E4-A66C-4813-831C-11528391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87823F-798B-4962-A50D-42232871E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C4FAD4-7564-4960-BB3F-2F3AC43A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22EBED-06C5-48A0-9CE7-148A4F315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E87B30-B8E6-4E10-B454-1D214CBE5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64BFE-5E18-4325-A243-9FAE3352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F3C32-0780-40E4-9BF3-9405F7F9E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AB65E-F3EE-4778-8F57-3F8BCF074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83C60-2562-4833-8FC8-3DEF8945E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A5F29B-D166-49F2-ACBC-1E77D7D4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664-5226-4015-A3DF-3F6865F17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6FFEE-4ED8-49B3-9474-8D37ADB76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3422CC-E792-44F9-8786-FFD1DCDE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9462C-C83B-4AE4-88FF-32B3D79E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F17E8-AB52-44BC-BEC6-6340D9FBC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771D4C-C774-4079-B79C-AEC1DA52E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6BC8D-EF14-4025-AA1D-5530D6F0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EC09AE-906C-4E8E-A0DD-8BBC9977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95BD00-9724-4A0D-A471-7DD10D8F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13F49-2C59-4C72-A15E-360BE5744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7ACB6-8B86-46DC-B762-5E18ABE30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B825-94DC-48F7-B868-A0B9B24F5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3785E8-DB8D-4458-B8C9-AD5166738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58D6-19E7-4089-9FA0-4189A58FF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46C8-2925-4668-B744-F7D5D9888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8EE-907E-4A74-8C4C-2EE986208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2130480"/>
            <a:ext cx="1036296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D9AE91-E083-4DAC-BEA4-27EFCBFC4C6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4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20FE2C-70FC-44C2-B4D4-1F01727AF5F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7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8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5663656-A615-4D36-B3B2-85762D059DC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109724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2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ftr" idx="10"/>
          </p:nvPr>
        </p:nvSpPr>
        <p:spPr>
          <a:xfrm>
            <a:off x="4165560" y="6356520"/>
            <a:ext cx="386028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1"/>
          </p:nvPr>
        </p:nvSpPr>
        <p:spPr>
          <a:xfrm>
            <a:off x="60948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360" cy="36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46E2718-9690-496F-8A31-A6669F6559A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разец текста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торой уровень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ретий уровень</a:t>
            </a:r>
            <a:endParaRPr b="0" lang="ru-RU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вер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ятый уровень</a:t>
            </a: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D7B5303-9269-4291-924A-DB85E2CC7A19}" type="slidenum">
              <a:rPr b="0" lang="ru-RU" sz="1200" spc="-1" strike="noStrike">
                <a:solidFill>
                  <a:srgbClr val="8b8b8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Рисунок 6" descr=""/>
          <p:cNvPicPr/>
          <p:nvPr/>
        </p:nvPicPr>
        <p:blipFill>
          <a:blip r:embed="rId1"/>
          <a:stretch/>
        </p:blipFill>
        <p:spPr>
          <a:xfrm>
            <a:off x="335520" y="142920"/>
            <a:ext cx="1247760" cy="116748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8" descr=""/>
          <p:cNvPicPr/>
          <p:nvPr/>
        </p:nvPicPr>
        <p:blipFill>
          <a:blip r:embed="rId2"/>
          <a:stretch/>
        </p:blipFill>
        <p:spPr>
          <a:xfrm>
            <a:off x="10383840" y="142920"/>
            <a:ext cx="1159200" cy="11674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4" descr=""/>
          <p:cNvPicPr/>
          <p:nvPr/>
        </p:nvPicPr>
        <p:blipFill>
          <a:blip r:embed="rId3"/>
          <a:stretch/>
        </p:blipFill>
        <p:spPr>
          <a:xfrm>
            <a:off x="2952720" y="3655440"/>
            <a:ext cx="6251400" cy="2804760"/>
          </a:xfrm>
          <a:prstGeom prst="rect">
            <a:avLst/>
          </a:prstGeom>
          <a:ln w="0">
            <a:noFill/>
          </a:ln>
        </p:spPr>
      </p:pic>
      <p:sp>
        <p:nvSpPr>
          <p:cNvPr id="208" name="Прямоугольник 2"/>
          <p:cNvSpPr/>
          <p:nvPr/>
        </p:nvSpPr>
        <p:spPr>
          <a:xfrm>
            <a:off x="2159640" y="295200"/>
            <a:ext cx="7776360" cy="100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</a:rPr>
              <a:t>Министерство обороны Российской Федер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Филиал Федерального государственного казенного военного образовательного учреждения высшего образования «Военная академия материально-технического обеспечения имени генерала армии А.В. Хрулева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инистерства обороны Российской Федерации в г. Воль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оугольник 3"/>
          <p:cNvSpPr/>
          <p:nvPr/>
        </p:nvSpPr>
        <p:spPr>
          <a:xfrm>
            <a:off x="3048120" y="6509520"/>
            <a:ext cx="60955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ольск 20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5"/>
          <p:cNvSpPr/>
          <p:nvPr/>
        </p:nvSpPr>
        <p:spPr>
          <a:xfrm>
            <a:off x="0" y="1549440"/>
            <a:ext cx="121917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cc"/>
                </a:solidFill>
                <a:latin typeface="Arial"/>
              </a:rPr>
              <a:t>Тема 6 Безопасность военной службы на объектах служб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анятие № 1 Противопожарная защита объектов склада горюч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лекци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2" descr="D:\знак-1.png"/>
          <p:cNvPicPr/>
          <p:nvPr/>
        </p:nvPicPr>
        <p:blipFill>
          <a:blip r:embed="rId4"/>
          <a:srcRect l="23096" t="9238" r="20647" b="9238"/>
          <a:stretch/>
        </p:blipFill>
        <p:spPr>
          <a:xfrm>
            <a:off x="11067120" y="5857920"/>
            <a:ext cx="95220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ff0000"/>
                </a:solidFill>
                <a:latin typeface="Arial"/>
              </a:rPr>
              <a:t>К плану прилагаются следующие документы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табель пожарным постам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схема расположения дорог, пожарных водоисточников и средств пожаротушения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расчет нормативной потребности запасов воды, пенообразователя и аппаратов для получения и подачи пен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лист отметок о практической отработке плана противопожарной защит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инструкция по мерам пожарной безопасности в резервуарном парке, насосных станциях, хранилищах и других объектах с учетом их особенностей и пожарной безопасности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инструкция по проведению мероприятий на период грозы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09520" indent="-209520" algn="just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выписка из приказа о назначении нештатной пожарной команды с перечнем объектов и пунктов работ, где назначаются пожарные посты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В подразделениях, сооружениях, хранилищах, мастерских, на пунктах работы с техническими средствами назначаются пожарные расчеты  из постоянно или временно работающего личного состава. На пожарные расчеты возлагается контроль за соблюдением мер пожарной безопасности в подразделениях, в местах производства работ , а также тушение пожаров и эвакуация имуществ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ожарные расчеты выполняются на специальной доске, вывешиваемой в каждом хранилище, мастерской, лаборатории на видном месте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На доске располагаютс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181440" indent="3517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схема эвакуации техники (имущества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181440" indent="35172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инструкция по мерам пожарной безопасност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000" spc="-1" strike="noStrike">
                <a:solidFill>
                  <a:srgbClr val="ff0000"/>
                </a:solidFill>
                <a:latin typeface="Arial"/>
              </a:rPr>
              <a:t>Пожарная профилактика на складах горючего. 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Пожарная профилактика представляет собой единый комплекс заблаговременно предусмотренных организационных и технических мероприятий, направленных на предупреждение и локализацию пожаров и взрывов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К этим мероприятиям относятся: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меры пожарной безопасности, предусматриваемые при проектировании и строительстве склада;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000" spc="-1" strike="noStrike">
                <a:solidFill>
                  <a:srgbClr val="000000"/>
                </a:solidFill>
                <a:latin typeface="Arial"/>
              </a:rPr>
              <a:t>меры пожарной безопасности, принимаемые в период эксплуатации склада.</a:t>
            </a: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7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3000"/>
          </a:bodyPr>
          <a:p>
            <a:pPr indent="0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ожарно-профилактическая работа на складе осуществляется путем: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изучения пожарной опасности технологических процессов, веществ и материалов, хранимых на складе, конструктивных особенностей зданий и сооружений, систем водоснабжения, средств связи, сигнализации и других особенностей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систематической проверки противопожарного состояния территории, резервуаров, трубопроводов, насосных станций и других сооружений, а также пунктов производства работ для своевременного выявления и устранения недостатков в организации пожарной защиты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рки организации службы и боевой подготовки пожарных команд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0240" indent="-21024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дения начальником службы противопожарной защиты (начальником пожарной команды) инструктажа личного состава пожарной команды о порядке выполнения работ по предупреждению пожаров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7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рки исправности и правильного содержания стационарных пожарных систем, установок, оборудования, средств связи и сигнализации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роведения массово-разъяснительной работы и обучения военнослужащих, рабочих и служащих правилам пожарной безопасности  и тушения пожаров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подготовки личного состава внештатных пожарных команд и пожарных расчетов к предупреждению и тушению пожаров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установления контроля за выполнением приказов по противопожарной защите и предложений инспектирующих лиц;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120000"/>
              </a:lnSpc>
              <a:buClr>
                <a:srgbClr val="000000"/>
              </a:buClr>
              <a:buFont typeface="Arial"/>
              <a:buChar char="•"/>
            </a:pPr>
            <a:r>
              <a:rPr b="1" lang="x-none" sz="11200" spc="-1" strike="noStrike">
                <a:solidFill>
                  <a:srgbClr val="000000"/>
                </a:solidFill>
                <a:latin typeface="Times New Roman"/>
              </a:rPr>
              <a:t>усиления пожарно-постовой и дозорной службы во время проведения на складе массовой выдачи горючего, производства работ с горючим, а также во время грозы; проверки противопожарного состояния всех вскрытых хранилищ, лабораторий и других помещений по окончании в них работы.</a:t>
            </a:r>
            <a:endParaRPr b="0" lang="ru-RU" sz="1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45" name="Рисунок 13" descr=""/>
          <p:cNvPicPr/>
          <p:nvPr/>
        </p:nvPicPr>
        <p:blipFill>
          <a:blip r:embed="rId2"/>
          <a:stretch/>
        </p:blipFill>
        <p:spPr>
          <a:xfrm>
            <a:off x="288000" y="7128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46" name="Рисунок 14" descr=""/>
          <p:cNvPicPr/>
          <p:nvPr/>
        </p:nvPicPr>
        <p:blipFill>
          <a:blip r:embed="rId3"/>
          <a:stretch/>
        </p:blipFill>
        <p:spPr>
          <a:xfrm>
            <a:off x="10800720" y="7128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47" name="TextBox 15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8" name="Прямоугольник 16"/>
          <p:cNvSpPr/>
          <p:nvPr/>
        </p:nvSpPr>
        <p:spPr>
          <a:xfrm>
            <a:off x="0" y="188640"/>
            <a:ext cx="121917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-й учеб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ниезащита складов горюче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4"/>
          <a:stretch/>
        </p:blipFill>
        <p:spPr>
          <a:xfrm>
            <a:off x="10759680" y="5733360"/>
            <a:ext cx="958320" cy="8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69920" y="182880"/>
            <a:ext cx="11860560" cy="66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Большую опасность для объектов склада горючего представляет молния, которая может проявляться в форме прямого удара, а также ее вторичное проявление. При прямом ударе молнии происходят разрушения с большой вероятностью взрыва и возгорания. Это наиболее опасный вид проявления молнии, называемый первичным. Вторичные проявления молнии – электростатическая и электромагнитная индукция и занос высоких потенциалов через наземные и подземные коммуникации. Электростатическая индукция может быть причиной взрыва паров горючего при взрывоопасной концентрации, так как на незаземленных предметах находятся электростатические заряды, вызывающие искрение между металлическими элементами конструкций и оборудования. Надежной защитой от электростатической индукции является заземление всех металлических протяженных предметов (трубопроводов, арматуры, железной кровли и т.д.) или устройство экрана в виде металлической сетки на кровл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/>
          </p:nvPr>
        </p:nvSpPr>
        <p:spPr>
          <a:xfrm>
            <a:off x="156600" y="169920"/>
            <a:ext cx="11860560" cy="66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ания и сооружения складов горючего по своему функциональному предназначению делятся на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специальн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щевойсковы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1" i="1" lang="ru-RU" sz="2800" spc="-1" strike="noStrike">
                <a:solidFill>
                  <a:srgbClr val="00b050"/>
                </a:solidFill>
                <a:latin typeface="Arial"/>
              </a:rPr>
              <a:t>специальным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ятся такие объекты, которые при поражении молнией могут оказать  вредное химическое, биологическое  воздействие на окружающую среду (техническая территория; хранилища для боеприпасов, карбида кальция, сжиженных газов, химических веществ; лаборатория)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дания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общевойсковог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b050"/>
                </a:solidFill>
                <a:latin typeface="Arial"/>
              </a:rPr>
              <a:t>назн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жилые и административные строения, хранилища продовольствия и вещевого имущества и т.д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185040" y="193680"/>
            <a:ext cx="11766960" cy="63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К категории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тносятся здания и сооружения специального назначения, где хранятся взрывчатые вещества в открытом виде, а также здания и сооружения, внутри которых могут возникать взрывоопасные смеси паров горючего с воздухом, способные взорваться от электрической искры. Кроме того, к этой категории относятся здания и сооружения, в которых имеются негерметично закрытые аппараты и оборудование с ЛВЖ с температурой вспышки до 61 </a:t>
            </a:r>
            <a:r>
              <a:rPr b="1" lang="ru-RU" sz="36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. К таким зданиям на складе горючего относятся: хранилища РТ и насосные станции для ЛВЖ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0" y="0"/>
            <a:ext cx="1203048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К категории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носятся здания и сооружения, где взрывчатые вещества и легковоспламеняющиеся жидкости хранятся в металлической укупорке; помещения, где эти вещества перерабатываются или хранятся в открытом виде, но в таких условиях, при которых электрическая искра не может вызвать пожара или взрыва сооружения, а также помещения, где имеются негерметично закрытые аппараты и оборудование с жидкостями, температура вспышки которых выше 61 </a:t>
            </a:r>
            <a:r>
              <a:rPr b="1" lang="ru-RU" sz="2800" spc="-1" strike="noStrike" baseline="30000">
                <a:solidFill>
                  <a:srgbClr val="000000"/>
                </a:solidFill>
                <a:latin typeface="Arial"/>
              </a:rPr>
              <a:t>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, при условии, что жидкости могут образовать взрывоопасные смеси в объеме, не превышающем 5 % объема помещения и др. К таким зданиям и сооружениям относятся  резервуарный парк и хранилища для ЛВЖ, сливно-наливные сооружения и устройства, площадки налива ЛВЖ в автомобильные цистерны, хранилища и площадки для хранения ЛВЖ в таре, хранилища для хранения технических средств перекачки и автомобильных цистерн, лаборатория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14" name="Рисунок 21" descr=""/>
          <p:cNvPicPr/>
          <p:nvPr/>
        </p:nvPicPr>
        <p:blipFill>
          <a:blip r:embed="rId2"/>
          <a:stretch/>
        </p:blipFill>
        <p:spPr>
          <a:xfrm>
            <a:off x="288000" y="14292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15" name="Рисунок 22" descr=""/>
          <p:cNvPicPr/>
          <p:nvPr/>
        </p:nvPicPr>
        <p:blipFill>
          <a:blip r:embed="rId3"/>
          <a:stretch/>
        </p:blipFill>
        <p:spPr>
          <a:xfrm>
            <a:off x="10800720" y="14292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4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17" name="Прямоугольник 5"/>
          <p:cNvSpPr/>
          <p:nvPr/>
        </p:nvSpPr>
        <p:spPr>
          <a:xfrm>
            <a:off x="0" y="348840"/>
            <a:ext cx="1219176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imes New Roman"/>
              </a:rPr>
              <a:t>Учебные вопрос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6960" indent="-5144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ероприятия противопожарн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-5144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Молниезащита складов горюч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96960" indent="-51444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Защита от статического электрич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D:\знак-1.png"/>
          <p:cNvPicPr/>
          <p:nvPr/>
        </p:nvPicPr>
        <p:blipFill>
          <a:blip r:embed="rId4"/>
          <a:srcRect l="23096" t="9238" r="20647" b="9238"/>
          <a:stretch/>
        </p:blipFill>
        <p:spPr>
          <a:xfrm>
            <a:off x="10951200" y="5877360"/>
            <a:ext cx="952200" cy="8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0" y="299160"/>
            <a:ext cx="12191760" cy="655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 категории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носятся здания и сооружения, в которых прямой удар молнии может вызвать пожар, механические разрушения, поражение личного состава. К таким зданиям относятся: резервуарный парк и насосная станция для ГЖ, сливно-наливные сооружения и устройства для ГЖ,  открытые и закрытые раздаточные для ГЖ, хранилища и площадки для хранения ГЖ, наземные хранилища для хранения технических средств. Здания и сооружения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тегории, при возгорании которых пожар может распространиться на объекты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и, должны иметь защиту от ударов молнии по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и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0" y="245160"/>
            <a:ext cx="12004560" cy="661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Молниеотвод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бывают стержневыми и тросовыми; отдельно стоящими, изолированными и не изолированными от защищаемого здания. Наиболее часто применяются стержневые молниеотводы в виде мачт, возвышающихся над защищаемыми сооружениями. Они могут быть однократными и двукратными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оны защиты в зависимости от требуемой надежности защиты от ударов молни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делятся на зоны с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ru-RU" sz="2800" spc="-1" strike="noStrike" baseline="-25000">
                <a:solidFill>
                  <a:srgbClr val="000000"/>
                </a:solidFill>
                <a:latin typeface="Arial"/>
              </a:rPr>
              <a:t>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равной 0,9999; 0,999; 0,99; 0,9 соответственно. Надежность зоны защиты определяется в зависимости от ожидаемого числа поражений объекта молнией в год, которое, в свою очередь, взаимосвязано с интенсивностью грозовой деятельности в различных районах России, а также класса взрывоопасной и пожароопасной зон согласно требованиям Правил устройства электроустановок (ПУЭ). 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0" y="0"/>
            <a:ext cx="12191760" cy="64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Для зданий и сооружений, отнесенных к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ям молниезащиты, сопротивление заземлителей молниезащитных устройств не должно превышать 10 </a:t>
            </a:r>
            <a:r>
              <a:rPr b="1" lang="ru-RU" sz="3200" spc="-1" strike="noStrike" baseline="30000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м, а к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категории – не нормируется. Заземлитель с токоотводом соединяется сваркой. Длина сварного шва должна быть не менее двойной ширины проводника прямоугольного и не менее шести диаметров круглого сечения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олниезащитные устройства за время эксплуатации подвергаются ежегодному осмотру и проверке исправности всех элементов, периодическому контролю и внеочередному осмотру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59" name="Рисунок 13" descr=""/>
          <p:cNvPicPr/>
          <p:nvPr/>
        </p:nvPicPr>
        <p:blipFill>
          <a:blip r:embed="rId2"/>
          <a:stretch/>
        </p:blipFill>
        <p:spPr>
          <a:xfrm>
            <a:off x="288000" y="7128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14" descr=""/>
          <p:cNvPicPr/>
          <p:nvPr/>
        </p:nvPicPr>
        <p:blipFill>
          <a:blip r:embed="rId3"/>
          <a:stretch/>
        </p:blipFill>
        <p:spPr>
          <a:xfrm>
            <a:off x="10800720" y="7128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61" name="TextBox 15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2" name="Прямоугольник 16"/>
          <p:cNvSpPr/>
          <p:nvPr/>
        </p:nvSpPr>
        <p:spPr>
          <a:xfrm>
            <a:off x="0" y="188640"/>
            <a:ext cx="121917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3-й учеб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щита от статического электрич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2" descr=""/>
          <p:cNvPicPr/>
          <p:nvPr/>
        </p:nvPicPr>
        <p:blipFill>
          <a:blip r:embed="rId4"/>
          <a:stretch/>
        </p:blipFill>
        <p:spPr>
          <a:xfrm>
            <a:off x="10759680" y="5733360"/>
            <a:ext cx="958320" cy="8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198000" y="179640"/>
            <a:ext cx="11895840" cy="642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 перекачке слои горючего в результате трения между собой, со стенками резервуара или трубопровода в определенных условиях накапливают статическое электричество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татическим электричеством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азываются электрические заряды, появляющиеся на поверхности диэлектриков и удерживающиеся на них в течение длительного времени. 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195840" y="192960"/>
            <a:ext cx="11756160" cy="64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щите от проявления статического электричества подлежат все здания и сооружения, где могут образоваться взрывоопасные или пожароопасные концентрации паров горючего. Защита осуществляется путем заземления всех металлических трубопроводов, резервуаров, автоцистерн, автотопливозаправщиков, насосов, конструкций и деталей оборудования, на которых могут образоваться статические заряды. Заземляющие устройства для защиты от статического электричества, как правило, устраивают совместно с заземляющими устройствами для электрооборудования. 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195840" y="192960"/>
            <a:ext cx="11756160" cy="64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 качестве заземлителей от статического электричества можно использовать заземлители по защите от вторичных проявлений молнии. В тех случаях, когда защите от статического электричества подлежат здания и сооружения, для которых молниезащита и заземление электрооборудования не осуществляются, устанавливается заземлитель любого профиля с сопротивлением растекания тока промышленной частоты не более 100 Ом.</a:t>
            </a:r>
            <a:endParaRPr b="0" lang="ru-RU" sz="3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0" y="0"/>
            <a:ext cx="12191760" cy="68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 целях защиты от проявлений статического электричества заземлению подлежат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е, полузаглубленные и заглубленные резервуары для ЛВЖ, ГЖ и других жидкостей, являющихся диэлектриками и способных при испарении создавать горючие смеси паров с воздухом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емные и подземные трубопроводы через каждые 200 м их длины и дополнительно на каждом ответвлении с присоединением каждого ответвления к заземлителю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езнодорожные рельсы сливно-наливных участков, электрически соединенные между собой, а также металлические конструкции сливно-наливных эстакад с двух сторон по длине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 конструкции автоналивных устройств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е механизмы и оборудование насосных станций для перекачки ЛВЖ и ГЖ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 конструкции морских и речных причалов в местах производства слива (налива) ЛВЖ и ГЖ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аллические воздуховоды и кожухи термоизоляции во взрывоопасных помещениях через каждые 40…50 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0" y="182880"/>
            <a:ext cx="12191760" cy="66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лезнодорожные цистерны, корпуса морских и речных судов, автоцистерны и автотопливозаправщики при сливе (наливе) ЛВЖ и ГЖ заземляются путем присоединения их к заземлителям с помощью гибких многожильных стальных или медных проводников поперечным сечением не менее 35 м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для корпусов наливных морских и речных судов и не менее 6 мм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– для железнодорожных цистерн, автоцистерн и автотопливозаправщик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зинотканевые рукава спиральные (РБС) заземляются путем присоединения (пайкой) медного многожильного провода сечением более 6 мм2 к ершу и металлической обмотке, а гладкие рукава (РБГ) – путем пропуска внутри рукава такого же провода с присоединением его к ершам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ивные устройства на участке выдачи горючего в автомобильный транспорт и тару должны оборудоваться инвентарными клеммами или болтовыми соединениями с гибкими проводниками для присоединения их к автоцистернам. Присоединение заземляющих проводников необходимо производить при закрытых задвижках и крышке колпачка цистерны.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20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1" name="Рисунок 7" descr=""/>
          <p:cNvPicPr/>
          <p:nvPr/>
        </p:nvPicPr>
        <p:blipFill>
          <a:blip r:embed="rId2"/>
          <a:stretch/>
        </p:blipFill>
        <p:spPr>
          <a:xfrm>
            <a:off x="288000" y="14292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22" name="Рисунок 9" descr=""/>
          <p:cNvPicPr/>
          <p:nvPr/>
        </p:nvPicPr>
        <p:blipFill>
          <a:blip r:embed="rId3"/>
          <a:stretch/>
        </p:blipFill>
        <p:spPr>
          <a:xfrm>
            <a:off x="10800720" y="14292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0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4" name="Прямоугольник 11"/>
          <p:cNvSpPr/>
          <p:nvPr/>
        </p:nvSpPr>
        <p:spPr>
          <a:xfrm>
            <a:off x="15480" y="20520"/>
            <a:ext cx="12191760" cy="81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Основ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StarSymbol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ады службы горючего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лектронное учебное. пособие.  ̶  Вольск: ВВИМО, 201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Дополнительна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струкция по проектированию, устройству и эксплуатации молниезащиты и защиты от статического электричества сооружений Министерства обороны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СН-58-87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1" i="1" lang="ru-RU" sz="2300" spc="-1" strike="noStrike">
                <a:solidFill>
                  <a:srgbClr val="000099"/>
                </a:solidFill>
                <a:latin typeface="Arial"/>
              </a:rPr>
              <a:t>Официальные документы</a:t>
            </a:r>
            <a:r>
              <a:rPr b="0" i="1" lang="ru-RU" sz="2300" spc="-1" strike="noStrike">
                <a:solidFill>
                  <a:srgbClr val="000099"/>
                </a:solidFill>
                <a:latin typeface="Arial"/>
              </a:rPr>
              <a:t>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иказ МО РФ 2015 г. № 444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«Руководстве по обеспечению безопасности военной службы»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О РФ 2019 г. № 88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б утверждении положения о ведомственной пожарной охране ВС Р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иказ МО РФ 2018 г. № 69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О введении в действии Инструкции по обеспечению ВС РФ пожарно-технической продукцией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2020 г. № 147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«Об утверждении Правил противопожарного режима в РФ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4000"/>
              </a:lnSpc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Рисунок 1" descr=""/>
          <p:cNvPicPr/>
          <p:nvPr/>
        </p:nvPicPr>
        <p:blipFill>
          <a:blip r:embed="rId1"/>
          <a:stretch/>
        </p:blipFill>
        <p:spPr>
          <a:xfrm>
            <a:off x="-1080" y="5400"/>
            <a:ext cx="12192840" cy="6852240"/>
          </a:xfrm>
          <a:prstGeom prst="rect">
            <a:avLst/>
          </a:prstGeom>
          <a:ln w="0">
            <a:noFill/>
          </a:ln>
        </p:spPr>
      </p:pic>
      <p:sp>
        <p:nvSpPr>
          <p:cNvPr id="226" name="Прямоугольник 8"/>
          <p:cNvSpPr/>
          <p:nvPr/>
        </p:nvSpPr>
        <p:spPr>
          <a:xfrm>
            <a:off x="0" y="0"/>
            <a:ext cx="12191760" cy="6857640"/>
          </a:xfrm>
          <a:prstGeom prst="rect">
            <a:avLst/>
          </a:prstGeom>
          <a:solidFill>
            <a:schemeClr val="bg1"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227" name="Рисунок 13" descr=""/>
          <p:cNvPicPr/>
          <p:nvPr/>
        </p:nvPicPr>
        <p:blipFill>
          <a:blip r:embed="rId2"/>
          <a:stretch/>
        </p:blipFill>
        <p:spPr>
          <a:xfrm>
            <a:off x="288000" y="71280"/>
            <a:ext cx="1187280" cy="111096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14" descr=""/>
          <p:cNvPicPr/>
          <p:nvPr/>
        </p:nvPicPr>
        <p:blipFill>
          <a:blip r:embed="rId3"/>
          <a:stretch/>
        </p:blipFill>
        <p:spPr>
          <a:xfrm>
            <a:off x="10800720" y="71280"/>
            <a:ext cx="1102680" cy="1110960"/>
          </a:xfrm>
          <a:prstGeom prst="rect">
            <a:avLst/>
          </a:prstGeom>
          <a:ln w="0">
            <a:noFill/>
          </a:ln>
        </p:spPr>
      </p:pic>
      <p:sp>
        <p:nvSpPr>
          <p:cNvPr id="229" name="TextBox 15"/>
          <p:cNvSpPr/>
          <p:nvPr/>
        </p:nvSpPr>
        <p:spPr>
          <a:xfrm>
            <a:off x="1432080" y="666360"/>
            <a:ext cx="93272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1" lang="ru-RU" sz="20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30" name="Прямоугольник 16"/>
          <p:cNvSpPr/>
          <p:nvPr/>
        </p:nvSpPr>
        <p:spPr>
          <a:xfrm>
            <a:off x="0" y="188640"/>
            <a:ext cx="12191760" cy="21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1-й учебный вопро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90000"/>
              </a:lnSpc>
              <a:tabLst>
                <a:tab algn="l" pos="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роприятия противопожарной защи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Прямоугольник 17"/>
          <p:cNvSpPr/>
          <p:nvPr/>
        </p:nvSpPr>
        <p:spPr>
          <a:xfrm>
            <a:off x="2952720" y="1928880"/>
            <a:ext cx="704808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"/>
          <p:cNvPicPr/>
          <p:nvPr/>
        </p:nvPicPr>
        <p:blipFill>
          <a:blip r:embed="rId4"/>
          <a:stretch/>
        </p:blipFill>
        <p:spPr>
          <a:xfrm>
            <a:off x="10759680" y="5733360"/>
            <a:ext cx="958320" cy="8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0" y="216000"/>
            <a:ext cx="12191760" cy="66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2400" spc="-1" strike="noStrike">
                <a:solidFill>
                  <a:srgbClr val="ff0000"/>
                </a:solidFill>
                <a:latin typeface="Arial"/>
              </a:rPr>
              <a:t>Выполнение задач, возлагаемых на службу пожарно-спасательной и местной обороны, осуществляется: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Министерстве обороны РФ – службой пожарно-спасательной и местной обороны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видах Вооруженных Сил Российской Федерации, в округах, группах войск, армиях, родах войск, на флотах и флотилиях, в главных и центральных управлениях Министерства обороны РФ – органами управления службами видов ВС РФ, округов, армий, флотов, флотилий, главных и центральных управлений Министерства обороны РФ;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гарнизонах, соединениях, воинских частях, учреждениях, военно-учебных заведениях, на предприятиях и в организациях Министерства обороны РФ – начальниками службы противопожарной защиты и спасательных работ, а там, где они штатами не предусмотрены, одним из офицеров, назначенным приказом командира (начальника);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400" spc="-1" strike="noStrike">
                <a:solidFill>
                  <a:srgbClr val="000000"/>
                </a:solidFill>
                <a:latin typeface="Arial"/>
              </a:rPr>
              <a:t>в районах при наличии 70 и более воинских частей, закрепленных за органами противопожарной защиты и спасательных работ, – службой противопожарной защиты и спасательных работ; в других случаях – инспекторами противопожарной защиты районов.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0" y="216000"/>
            <a:ext cx="1219176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ff0000"/>
                </a:solidFill>
                <a:latin typeface="Arial"/>
              </a:rPr>
              <a:t>Основными задачами службы противопожарной защиты и спасательных работ на складе горючего являются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редупреждение пожаров путем осуществления контроля за выполнением противопожарных мероприятий и установленных требований пожарной безопасности на складе горючего, а также при проектировании, реконструкции и строительстве зданий (сооружений)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обучение личного состава правилам пожарной безопасности и действиям при тушении пожаров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редотвращение гибели и травмирования людей при пожарах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содержание в исправности и постоянной готовности к действию пожарной техники и оборудования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надзор за содержанием в исправности противопожарного водоснабжения, средств связи и пожарной сигнализации, дорог и подъездов к объектам склада, пожарным водоемам и гидрантам;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214920" indent="-21492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тушение пожаров и оказание помощи при стихийных бедствиях (наводнения, землетрясения, ураганы, обвалы и т.п.)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174960" y="201600"/>
            <a:ext cx="12016800" cy="647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Arial"/>
              </a:rPr>
              <a:t>Противопожарная защита на складах горючего осуществляется штатными пожарными командами. Численность личного состава штатных пожарных команд, а также количество пожарных автомобилей (мотопомп) определяется штатами в зависимости от пожарной опасности объекта и места дислокации склада. Во всех случаях численность команд противопожарной защиты и спасательных работ должна быть не менее 12 человек, а пожарных расчетов – 4 человека. Личный состав штатной пожарной команды размещается в специальном здании (пожарном депо), которое на складе горючего располагается  вблизи технической территории, совместно с табельной противопожарной техникой с таким расчетом, чтобы расстояние до складских объектов, отнесенных по пожарной опасности  к категориям  А, Б и В, не превышало 1,5 км  и к категориям Г и Д – 3 км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2800" spc="-1" strike="noStrike">
                <a:solidFill>
                  <a:srgbClr val="ff0000"/>
                </a:solidFill>
                <a:latin typeface="Arial"/>
              </a:rPr>
              <a:t>При возникновении пожара за пределами склада выезд пожарной команды склада горючего для оказания помощи производится в следующих случаях</a:t>
            </a: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если возникший пожар непосредственно угрожает безопасности склада;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при возникновении пожара на объектах, расположенных от склада в радиусе до 5 км; выезд на пожары в радиусе свыше 5 км разрешается в каждом отдельном случае начальником склада в зависимости от численности личного состава пожарной команды, наличия пожарных автомобилей и местных условий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</a:tabLst>
            </a:pPr>
            <a:r>
              <a:rPr b="1" lang="x-none" sz="2800" spc="-1" strike="noStrike">
                <a:solidFill>
                  <a:srgbClr val="000000"/>
                </a:solidFill>
                <a:latin typeface="Arial"/>
              </a:rPr>
              <a:t>В случае выезда пожарной команды на соседние объекты на складе оставляется боеспособный пожарный резерв личного состава команды и пожарной техники. Для несения службы на территории склада по предупреждению и тушению пожаров из состава пожарной команды ежедневно начальником пожарной команды назначается пожарный наряд. Свободный от наряда личный состав пожарной команды составляет резерв на случай усиления пожарного наряда при возникновении пожара.</a:t>
            </a: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0" y="149760"/>
            <a:ext cx="12191760" cy="65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x-none" sz="3200" spc="-1" strike="noStrike">
                <a:solidFill>
                  <a:srgbClr val="ff0000"/>
                </a:solidFill>
                <a:latin typeface="Times New Roman"/>
              </a:rPr>
              <a:t>Для правильной организации службы противопожарной защиты и спасательных работ составляется план противопожарной защиты склада, состоящий из следующих разделов: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imes New Roman"/>
              </a:rPr>
              <a:t>Общая инструкция по мерам пожарной безопасности. В ней указываются противопожарные мероприятия на территории склада, организация проведения огнеопасных работ и соблюдения режима курения на объектах склада, организация проверки объектов склада перед закрытием по окончании рабочего дня, сигналы пожарной тревоги, обязанности дежурного по складу при пожаре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x-none" sz="3200" spc="-1" strike="noStrike">
                <a:solidFill>
                  <a:srgbClr val="000000"/>
                </a:solidFill>
                <a:latin typeface="Times New Roman"/>
              </a:rPr>
              <a:t>Расчет сил и средств, привлекаемых для тушения пожара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 algn="just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ядок эвакуации горючего, технических средств и имуществ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1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2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3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4_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  <Words>2419</Words>
  <Paragraphs>122</Paragraphs>
  <Company>SPecialiST RePack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7T04:29:31Z</dcterms:created>
  <dc:creator>Комп</dc:creator>
  <dc:description/>
  <dc:language>en-US</dc:language>
  <cp:lastModifiedBy>АРМ 34</cp:lastModifiedBy>
  <dcterms:modified xsi:type="dcterms:W3CDTF">2022-03-15T07:25:58Z</dcterms:modified>
  <cp:revision>33</cp:revision>
  <dc:subject/>
  <dc:title>Лекция 21/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Произвольный</vt:lpwstr>
  </property>
  <property fmtid="{D5CDD505-2E9C-101B-9397-08002B2CF9AE}" pid="4" name="Slides">
    <vt:r8>28</vt:r8>
  </property>
</Properties>
</file>