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D095-2DE9-4BE1-AC99-212C6631A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1C70-A664-4F15-A340-683B947B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BB96-2F9F-41D4-B1B6-EF44C9BD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8C6D-0D84-4527-A482-A3A2BC08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075F-8552-4C16-9809-6D9175DEF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FB095-8C5E-4164-94A3-134737EC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6405-457A-404C-A9FF-7201E0AB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115D-448F-4F20-BA37-1CA376C3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E89A-CC25-4B00-9D44-708B646E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C794-B445-4D4D-B008-F9B3E75F3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A73E-A082-452D-98E2-5C205C33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EA01-2205-4C99-83AE-F5BB9B65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1A51-9632-46C0-85FE-97CCF9F4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B1A8-4834-49ED-8FCF-463871A9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5AF7-53F9-4629-9404-AF7EB2C8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FAF0B-30D1-42FD-BDA5-5BF43174A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EEBAC-7036-42D4-928C-30AD99FF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5EFE7-9D20-417A-AC4A-76D07D55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69FF5-A692-4BD0-8D0A-F5455DC0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EB332-FFBA-4339-8A45-50101C07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F666D-CC34-4692-B6BE-1EB35D9D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E57DB-07C8-4377-962A-21370621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B668-EC6D-4C55-8802-09E1029D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52BFF-1609-4323-B889-E7EF224DA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620A0-0F1F-44A9-9ACA-EA5FAACA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C5633-DFFC-4D1C-804C-48E286B9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A7389-A92A-4240-96F6-167A27CBF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75AA5-87C2-44FA-8E41-00D16374B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B41B1-8DDE-4250-B682-E5E1E27E9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83AD6-0E4C-48BA-92E2-B3DFEF70B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CAD49-72F0-4178-9C9E-634E0B02D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F386F-E83A-4088-9E96-297B9471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F948E-4977-4BCA-A794-6A8499835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72CF-951A-409F-AE1D-6257AB58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3CAB8-C8D0-4B94-B874-8B1C806F4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E7381-B71F-4DE6-BDBE-C8DD1336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6219C-1F6D-4563-87CC-4F124928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6795B-2416-4248-8E53-709B4F4F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65908-E97F-4340-8AF7-138B42DF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BC897-CD03-41DB-BEF4-F8478CBD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83300-7F6A-464B-85FB-C0E631E5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33FF0-44E4-4221-8AC2-2532678EC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A5CB8-C7B7-4EED-9F93-9D3BA3DBB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4C954-CC90-4ACC-8F59-FC92A939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3143-D001-4C84-9A10-DE74A642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65D05-4FA6-42CE-8FC7-740D8079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A6F02-C5E1-4C42-B3A1-20542B76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9A58D7-76DB-43A5-91F3-759B11D1D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44070-B6AB-4EF9-8E6B-64649971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095CCF-7CBE-4568-81B3-4ECDD2B5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84386-07FA-44C4-86C7-AF310314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F29E9-16A1-4872-8845-3085C9CA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48B42-B207-49CA-92E0-70C61B2A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848BC-1764-47D1-9DEC-1953B8CF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50ACB-8E66-47C9-B4D8-A0548812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C9C5-8621-4410-9F32-4C938532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78B0E-A584-47E3-8882-C97E52353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E5C1-EE9D-46A8-99CD-3FE522DE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CC33-D175-4755-A890-1BE830E6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386B-D034-4A80-8624-3E090089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130480"/>
            <a:ext cx="1036296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237D4F-1F1D-4E52-80F0-7E155613A1B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4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D73A12-1063-431D-8C3D-E62B8EF10E4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7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8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803AD2-EA0B-4941-B10D-A67A891E372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0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1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4B32F0-3C97-4E12-BD24-A2815531EC0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F2F7CC-968F-4EE7-84F5-DE2B7D1078C5}" type="slidenum">
              <a:rPr b="0" lang="ru-RU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6" descr=""/>
          <p:cNvPicPr/>
          <p:nvPr/>
        </p:nvPicPr>
        <p:blipFill>
          <a:blip r:embed="rId1"/>
          <a:stretch/>
        </p:blipFill>
        <p:spPr>
          <a:xfrm>
            <a:off x="335520" y="142920"/>
            <a:ext cx="1247760" cy="11674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8" descr=""/>
          <p:cNvPicPr/>
          <p:nvPr/>
        </p:nvPicPr>
        <p:blipFill>
          <a:blip r:embed="rId2"/>
          <a:stretch/>
        </p:blipFill>
        <p:spPr>
          <a:xfrm>
            <a:off x="10383840" y="142920"/>
            <a:ext cx="1159200" cy="1167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3"/>
          <a:stretch/>
        </p:blipFill>
        <p:spPr>
          <a:xfrm>
            <a:off x="2952720" y="3655440"/>
            <a:ext cx="6251400" cy="280476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2"/>
          <p:cNvSpPr/>
          <p:nvPr/>
        </p:nvSpPr>
        <p:spPr>
          <a:xfrm>
            <a:off x="2159640" y="295200"/>
            <a:ext cx="777636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Министерство обороны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лиал Федерального государственного казенного военного образовательного учреждения высшего образования «Военная академия материально-технического обеспечения имени генерала армии А.В. Хрулев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истерства обороны Российской Федерации в г. Воль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3048120" y="6509520"/>
            <a:ext cx="60955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льск 20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5"/>
          <p:cNvSpPr/>
          <p:nvPr/>
        </p:nvSpPr>
        <p:spPr>
          <a:xfrm>
            <a:off x="0" y="1549440"/>
            <a:ext cx="12191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Тема 6 Безопасность военной службы на объектах служ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нятие № 1 Противопожарная защита объектов склада горюч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лек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D:\знак-1.png"/>
          <p:cNvPicPr/>
          <p:nvPr/>
        </p:nvPicPr>
        <p:blipFill>
          <a:blip r:embed="rId4"/>
          <a:srcRect l="23096" t="9238" r="20647" b="9238"/>
          <a:stretch/>
        </p:blipFill>
        <p:spPr>
          <a:xfrm>
            <a:off x="11067120" y="5857920"/>
            <a:ext cx="952200" cy="8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0" y="149760"/>
            <a:ext cx="12191760" cy="65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x-none" sz="3200" spc="-1" strike="noStrike">
                <a:solidFill>
                  <a:srgbClr val="ff0000"/>
                </a:solidFill>
                <a:latin typeface="Arial"/>
              </a:rPr>
              <a:t>К плану прилагаются следующие документы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табель пожарным постам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схема расположения дорог, пожарных водоисточников и средств пожаротушения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расчет нормативной потребности запасов воды, пенообразователя и аппаратов для получения и подачи пены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лист отметок о практической отработке плана противопожарной защиты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инструкция по мерам пожарной безопасности в резервуарном парке, насосных станциях, хранилищах и других объектах с учетом их особенностей и пожарной безопасности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инструкция по проведению мероприятий на период грозы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выписка из приказа о назначении нештатной пожарной команды с перечнем объектов и пунктов работ, где назначаются пожарные посты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0" y="149760"/>
            <a:ext cx="12191760" cy="65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В подразделениях, сооружениях, хранилищах, мастерских, на пунктах работы с техническими средствами назначаются пожарные расчеты  из постоянно или временно работающего личного состава. На пожарные расчеты возлагается контроль за соблюдением мер пожарной безопасности в подразделениях, в местах производства работ , а также тушение пожаров и эвакуация имущества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Пожарные расчеты выполняются на специальной доске, вывешиваемой в каждом хранилище, мастерской, лаборатории на видном месте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На доске располагаются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181440" indent="3517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схема эвакуации техники (имущества)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181440" indent="3517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инструкция по мерам пожарной безопасности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0" y="149760"/>
            <a:ext cx="12191760" cy="65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x-none" sz="3000" spc="-1" strike="noStrike">
                <a:solidFill>
                  <a:srgbClr val="ff0000"/>
                </a:solidFill>
                <a:latin typeface="Arial"/>
              </a:rPr>
              <a:t>Пожарная профилактика на складах горючего. 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x-none" sz="3000" spc="-1" strike="noStrike">
                <a:solidFill>
                  <a:srgbClr val="000000"/>
                </a:solidFill>
                <a:latin typeface="Arial"/>
              </a:rPr>
              <a:t>Пожарная профилактика представляет собой единый комплекс заблаговременно предусмотренных организационных и технических мероприятий, направленных на предупреждение и локализацию пожаров и взрывов.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x-none" sz="3000" spc="-1" strike="noStrike">
                <a:solidFill>
                  <a:srgbClr val="000000"/>
                </a:solidFill>
                <a:latin typeface="Arial"/>
              </a:rPr>
              <a:t>К этим мероприятиям относятся: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000" spc="-1" strike="noStrike">
                <a:solidFill>
                  <a:srgbClr val="000000"/>
                </a:solidFill>
                <a:latin typeface="Arial"/>
              </a:rPr>
              <a:t>меры пожарной безопасности, предусматриваемые при проектировании и строительстве склада;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000" spc="-1" strike="noStrike">
                <a:solidFill>
                  <a:srgbClr val="000000"/>
                </a:solidFill>
                <a:latin typeface="Arial"/>
              </a:rPr>
              <a:t>меры пожарной безопасности, принимаемые в период эксплуатации склада.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0" y="149760"/>
            <a:ext cx="12191760" cy="67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3000"/>
          </a:bodyPr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Пожарно-профилактическая работа на складе осуществляется путем: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изучения пожарной опасности технологических процессов, веществ и материалов, хранимых на складе, конструктивных особенностей зданий и сооружений, систем водоснабжения, средств связи, сигнализации и других особенностей;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систематической проверки противопожарного состояния территории, резервуаров, трубопроводов, насосных станций и других сооружений, а также пунктов производства работ для своевременного выявления и устранения недостатков в организации пожарной защиты;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проверки организации службы и боевой подготовки пожарных команд;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проведения начальником службы противопожарной защиты (начальником пожарной команды) инструктажа личного состава пожарной команды о порядке выполнения работ по предупреждению пожаров;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0" y="149760"/>
            <a:ext cx="12191760" cy="67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219240" indent="-2192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проверки исправности и правильного содержания стационарных пожарных систем, установок, оборудования, средств связи и сигнализации;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проведения массово-разъяснительной работы и обучения военнослужащих, рабочих и служащих правилам пожарной безопасности  и тушения пожаров;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подготовки личного состава внештатных пожарных команд и пожарных расчетов к предупреждению и тушению пожаров;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установления контроля за выполнением приказов по противопожарной защите и предложений инспектирующих лиц;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усиления пожарно-постовой и дозорной службы во время проведения на складе массовой выдачи горючего, производства работ с горючим, а также во время грозы; проверки противопожарного состояния всех вскрытых хранилищ, лабораторий и других помещений по окончании в них работы.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1" descr=""/>
          <p:cNvPicPr/>
          <p:nvPr/>
        </p:nvPicPr>
        <p:blipFill>
          <a:blip r:embed="rId1"/>
          <a:stretch/>
        </p:blipFill>
        <p:spPr>
          <a:xfrm>
            <a:off x="-1080" y="5400"/>
            <a:ext cx="12192840" cy="685224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8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Рисунок 13" descr=""/>
          <p:cNvPicPr/>
          <p:nvPr/>
        </p:nvPicPr>
        <p:blipFill>
          <a:blip r:embed="rId2"/>
          <a:stretch/>
        </p:blipFill>
        <p:spPr>
          <a:xfrm>
            <a:off x="288000" y="71280"/>
            <a:ext cx="1187280" cy="11109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4" descr=""/>
          <p:cNvPicPr/>
          <p:nvPr/>
        </p:nvPicPr>
        <p:blipFill>
          <a:blip r:embed="rId3"/>
          <a:stretch/>
        </p:blipFill>
        <p:spPr>
          <a:xfrm>
            <a:off x="10800720" y="71280"/>
            <a:ext cx="1102680" cy="1110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5"/>
          <p:cNvSpPr/>
          <p:nvPr/>
        </p:nvSpPr>
        <p:spPr>
          <a:xfrm>
            <a:off x="1432080" y="666360"/>
            <a:ext cx="93272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8" name="Прямоугольник 16"/>
          <p:cNvSpPr/>
          <p:nvPr/>
        </p:nvSpPr>
        <p:spPr>
          <a:xfrm>
            <a:off x="0" y="188640"/>
            <a:ext cx="12191760" cy="21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-й учебный 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ниезащита складов горюч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4"/>
          <a:stretch/>
        </p:blipFill>
        <p:spPr>
          <a:xfrm>
            <a:off x="10759680" y="5733360"/>
            <a:ext cx="958320" cy="82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69920" y="182880"/>
            <a:ext cx="11860560" cy="66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Большую опасность для объектов склада горючего представляет молния, которая может проявляться в форме прямого удара, а также ее вторичное проявление. При прямом ударе молнии происходят разрушения с большой вероятностью взрыва и возгорания. Это наиболее опасный вид проявления молнии, называемый первичным. Вторичные проявления молнии – электростатическая и электромагнитная индукция и занос высоких потенциалов через наземные и подземные коммуникации. Электростатическая индукция может быть причиной взрыва паров горючего при взрывоопасной концентрации, так как на незаземленных предметах находятся электростатические заряды, вызывающие искрение между металлическими элементами конструкций и оборудования. Надежной защитой от электростатической индукции является заземление всех металлических протяженных предметов (трубопроводов, арматуры, железной кровли и т.д.) или устройство экрана в виде металлической сетки на кровле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56600" y="169920"/>
            <a:ext cx="11860560" cy="66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ания и сооружения складов горючего по своему функциональному предназначению делятся на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специальн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общевойсков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специальным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сятся такие объекты, которые при поражении молнией могут оказать  вредное химическое, биологическое  воздействие на окружающую среду (техническая территория; хранилища для боеприпасов, карбида кальция, сжиженных газов, химических веществ; лаборатория)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ания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общевойсковог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назна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это жилые и административные строения, хранилища продовольствия и вещевого имущества и т.д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85040" y="193680"/>
            <a:ext cx="11766960" cy="63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 категории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носятся здания и сооружения специального назначения, где хранятся взрывчатые вещества в открытом виде, а также здания и сооружения, внутри которых могут возникать взрывоопасные смеси паров горючего с воздухом, способные взорваться от электрической искры. Кроме того, к этой категории относятся здания и сооружения, в которых имеются негерметично закрытые аппараты и оборудование с ЛВЖ с температурой вспышки до 61 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. К таким зданиям на складе горючего относятся: хранилища РТ и насосные станции для ЛВЖ. 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0" y="0"/>
            <a:ext cx="1203048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 категори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сятся здания и сооружения, где взрывчатые вещества и легковоспламеняющиеся жидкости хранятся в металлической укупорке; помещения, где эти вещества перерабатываются или хранятся в открытом виде, но в таких условиях, при которых электрическая искра не может вызвать пожара или взрыва сооружения, а также помещения, где имеются негерметично закрытые аппараты и оборудование с жидкостями, температура вспышки которых выше 61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, при условии, что жидкости могут образовать взрывоопасные смеси в объеме, не превышающем 5 % объема помещения и др. К таким зданиям и сооружениям относятся  резервуарный парк и хранилища для ЛВЖ, сливно-наливные сооружения и устройства, площадки налива ЛВЖ в автомобильные цистерны, хранилища и площадки для хранения ЛВЖ в таре, хранилища для хранения технических средств перекачки и автомобильных цистерн, лаборатория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1" descr=""/>
          <p:cNvPicPr/>
          <p:nvPr/>
        </p:nvPicPr>
        <p:blipFill>
          <a:blip r:embed="rId1"/>
          <a:stretch/>
        </p:blipFill>
        <p:spPr>
          <a:xfrm>
            <a:off x="-1080" y="5400"/>
            <a:ext cx="12192840" cy="685224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8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4" name="Рисунок 21" descr=""/>
          <p:cNvPicPr/>
          <p:nvPr/>
        </p:nvPicPr>
        <p:blipFill>
          <a:blip r:embed="rId2"/>
          <a:stretch/>
        </p:blipFill>
        <p:spPr>
          <a:xfrm>
            <a:off x="288000" y="142920"/>
            <a:ext cx="1187280" cy="11109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22" descr=""/>
          <p:cNvPicPr/>
          <p:nvPr/>
        </p:nvPicPr>
        <p:blipFill>
          <a:blip r:embed="rId3"/>
          <a:stretch/>
        </p:blipFill>
        <p:spPr>
          <a:xfrm>
            <a:off x="10800720" y="142920"/>
            <a:ext cx="1102680" cy="11109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4"/>
          <p:cNvSpPr/>
          <p:nvPr/>
        </p:nvSpPr>
        <p:spPr>
          <a:xfrm>
            <a:off x="1432080" y="666360"/>
            <a:ext cx="93272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7" name="Прямоугольник 5"/>
          <p:cNvSpPr/>
          <p:nvPr/>
        </p:nvSpPr>
        <p:spPr>
          <a:xfrm>
            <a:off x="0" y="348840"/>
            <a:ext cx="1219176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Учебн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51444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роприятия противопожарной защ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6960" indent="-51444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лниезащита складов горюч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6960" indent="-51444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щита от статического электри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D:\знак-1.png"/>
          <p:cNvPicPr/>
          <p:nvPr/>
        </p:nvPicPr>
        <p:blipFill>
          <a:blip r:embed="rId4"/>
          <a:srcRect l="23096" t="9238" r="20647" b="9238"/>
          <a:stretch/>
        </p:blipFill>
        <p:spPr>
          <a:xfrm>
            <a:off x="10951200" y="5877360"/>
            <a:ext cx="952200" cy="8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0" y="299160"/>
            <a:ext cx="12191760" cy="655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 категори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сятся здания и сооружения, в которых прямой удар молнии может вызвать пожар, механические разрушения, поражение личного состава. К таким зданиям относятся: резервуарный парк и насосная станция для ГЖ, сливно-наливные сооружения и устройства для ГЖ,  открытые и закрытые раздаточные для ГЖ, хранилища и площадки для хранения ГЖ, наземные хранилища для хранения технических средств. Здания и сооруж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атегории, при возгорании которых пожар может распространиться на объект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тегории, должны иметь защиту от ударов молнии по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тегории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0" y="245160"/>
            <a:ext cx="12004560" cy="661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олниеотвод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бывают стержневыми и тросовыми; отдельно стоящими, изолированными и не изолированными от защищаемого здания. Наиболее часто применяются стержневые молниеотводы в виде мачт, возвышающихся над защищаемыми сооружениями. Они могут быть однократными и двукратными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оны защиты в зависимости от требуемой надежности защиты от ударов молни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елятся на зоны с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равной 0,9999; 0,999; 0,99; 0,9 соответственно. Надежность зоны защиты определяется в зависимости от ожидаемого числа поражений объекта молнией в год, которое, в свою очередь, взаимосвязано с интенсивностью грозовой деятельности в различных районах России, а также класса взрывоопасной и пожароопасной зон согласно требованиям Правил устройства электроустановок (ПУЭ)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0" y="0"/>
            <a:ext cx="12191760" cy="64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зданий и сооружений, отнесенных к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тегориям молниезащиты, сопротивление заземлителей молниезащитных устройств не должно превышать 10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м, а к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атегории – не нормируется. Заземлитель с токоотводом соединяется сваркой. Длина сварного шва должна быть не менее двойной ширины проводника прямоугольного и не менее шести диаметров круглого сечения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ниезащитные устройства за время эксплуатации подвергаются ежегодному осмотру и проверке исправности всех элементов, периодическому контролю и внеочередному осмотру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1" descr=""/>
          <p:cNvPicPr/>
          <p:nvPr/>
        </p:nvPicPr>
        <p:blipFill>
          <a:blip r:embed="rId1"/>
          <a:stretch/>
        </p:blipFill>
        <p:spPr>
          <a:xfrm>
            <a:off x="-1080" y="5400"/>
            <a:ext cx="12192840" cy="68522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8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9" name="Рисунок 13" descr=""/>
          <p:cNvPicPr/>
          <p:nvPr/>
        </p:nvPicPr>
        <p:blipFill>
          <a:blip r:embed="rId2"/>
          <a:stretch/>
        </p:blipFill>
        <p:spPr>
          <a:xfrm>
            <a:off x="288000" y="71280"/>
            <a:ext cx="1187280" cy="111096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14" descr=""/>
          <p:cNvPicPr/>
          <p:nvPr/>
        </p:nvPicPr>
        <p:blipFill>
          <a:blip r:embed="rId3"/>
          <a:stretch/>
        </p:blipFill>
        <p:spPr>
          <a:xfrm>
            <a:off x="10800720" y="71280"/>
            <a:ext cx="1102680" cy="1110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5"/>
          <p:cNvSpPr/>
          <p:nvPr/>
        </p:nvSpPr>
        <p:spPr>
          <a:xfrm>
            <a:off x="1432080" y="666360"/>
            <a:ext cx="93272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2" name="Прямоугольник 16"/>
          <p:cNvSpPr/>
          <p:nvPr/>
        </p:nvSpPr>
        <p:spPr>
          <a:xfrm>
            <a:off x="0" y="188640"/>
            <a:ext cx="12191760" cy="21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-й учебный 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щита от статического электри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4"/>
          <a:stretch/>
        </p:blipFill>
        <p:spPr>
          <a:xfrm>
            <a:off x="10759680" y="5733360"/>
            <a:ext cx="958320" cy="82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98000" y="179640"/>
            <a:ext cx="11895840" cy="64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перекачке слои горючего в результате трения между собой, со стенками резервуара или трубопровода в определенных условиях накапливают статическое электричество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татическим электричество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ываются электрические заряды, появляющиеся на поверхности диэлектриков и удерживающиеся на них в течение длительного времени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95840" y="192960"/>
            <a:ext cx="11756160" cy="64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щите от проявления статического электричества подлежат все здания и сооружения, где могут образоваться взрывоопасные или пожароопасные концентрации паров горючего. Защита осуществляется путем заземления всех металлических трубопроводов, резервуаров, автоцистерн, автотопливозаправщиков, насосов, конструкций и деталей оборудования, на которых могут образоваться статические заряды. Заземляющие устройства для защиты от статического электричества, как правило, устраивают совместно с заземляющими устройствами для электрооборудования. 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95840" y="192960"/>
            <a:ext cx="11756160" cy="64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качестве заземлителей от статического электричества можно использовать заземлители по защите от вторичных проявлений молнии. В тех случаях, когда защите от статического электричества подлежат здания и сооружения, для которых молниезащита и заземление электрооборудования не осуществляются, устанавливается заземлитель любого профиля с сопротивлением растекания тока промышленной частоты не более 100 Ом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0" y="0"/>
            <a:ext cx="1219176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целях защиты от проявлений статического электричества заземлению подлежат: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емные, полузаглубленные и заглубленные резервуары для ЛВЖ, ГЖ и других жидкостей, являющихся диэлектриками и способных при испарении создавать горючие смеси паров с воздухом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емные и подземные трубопроводы через каждые 200 м их длины и дополнительно на каждом ответвлении с присоединением каждого ответвления к заземлителю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лезнодорожные рельсы сливно-наливных участков, электрически соединенные между собой, а также металлические конструкции сливно-наливных эстакад с двух сторон по длине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ллические конструкции автоналивных устройств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механизмы и оборудование насосных станций для перекачки ЛВЖ и ГЖ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ллические конструкции морских и речных причалов в местах производства слива (налива) ЛВЖ и ГЖ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ллические воздуховоды и кожухи термоизоляции во взрывоопасных помещениях через каждые 40…50 м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0" y="182880"/>
            <a:ext cx="12191760" cy="66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лезнодорожные цистерны, корпуса морских и речных судов, автоцистерны и автотопливозаправщики при сливе (наливе) ЛВЖ и ГЖ заземляются путем присоединения их к заземлителям с помощью гибких многожильных стальных или медных проводников поперечным сечением не менее 35 м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ля корпусов наливных морских и речных судов и не менее 6 м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для железнодорожных цистерн, автоцистерн и автотопливозаправщиков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инотканевые рукава спиральные (РБС) заземляются путем присоединения (пайкой) медного многожильного провода сечением более 6 мм2 к ершу и металлической обмотке, а гладкие рукава (РБГ) – путем пропуска внутри рукава такого же провода с присоединением его к ершам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ивные устройства на участке выдачи горючего в автомобильный транспорт и тару должны оборудоваться инвентарными клеммами или болтовыми соединениями с гибкими проводниками для присоединения их к автоцистернам. Присоединение заземляющих проводников необходимо производить при закрытых задвижках и крышке колпачка цистерны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1" descr=""/>
          <p:cNvPicPr/>
          <p:nvPr/>
        </p:nvPicPr>
        <p:blipFill>
          <a:blip r:embed="rId1"/>
          <a:stretch/>
        </p:blipFill>
        <p:spPr>
          <a:xfrm>
            <a:off x="-1080" y="5400"/>
            <a:ext cx="12192840" cy="685224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8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Рисунок 7" descr=""/>
          <p:cNvPicPr/>
          <p:nvPr/>
        </p:nvPicPr>
        <p:blipFill>
          <a:blip r:embed="rId2"/>
          <a:stretch/>
        </p:blipFill>
        <p:spPr>
          <a:xfrm>
            <a:off x="288000" y="142920"/>
            <a:ext cx="1187280" cy="11109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9" descr=""/>
          <p:cNvPicPr/>
          <p:nvPr/>
        </p:nvPicPr>
        <p:blipFill>
          <a:blip r:embed="rId3"/>
          <a:stretch/>
        </p:blipFill>
        <p:spPr>
          <a:xfrm>
            <a:off x="10800720" y="142920"/>
            <a:ext cx="1102680" cy="1110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0"/>
          <p:cNvSpPr/>
          <p:nvPr/>
        </p:nvSpPr>
        <p:spPr>
          <a:xfrm>
            <a:off x="1432080" y="666360"/>
            <a:ext cx="93272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4" name="Прямоугольник 11"/>
          <p:cNvSpPr/>
          <p:nvPr/>
        </p:nvSpPr>
        <p:spPr>
          <a:xfrm>
            <a:off x="15480" y="20520"/>
            <a:ext cx="12191760" cy="81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сновн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лады службы горючего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нное учебное. пособие.  ̶  Вольск: ВВИМО, 20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ополнительн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кция по проектированию, устройству и эксплуатации молниезащиты и защиты от статического электричества сооружений Министерства обороны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Н-58-8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i="1" lang="ru-RU" sz="2300" spc="-1" strike="noStrike">
                <a:solidFill>
                  <a:srgbClr val="000099"/>
                </a:solidFill>
                <a:latin typeface="Arial"/>
              </a:rPr>
              <a:t>Официальные документы</a:t>
            </a:r>
            <a:r>
              <a:rPr b="0" i="1" lang="ru-RU" sz="23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иказ МО РФ 2015 г. № 444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«Руководстве по обеспечению безопасности военной службы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каз МО РФ 2019 г. № 88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 утверждении положения о ведомственной пожарной охране ВС РФ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каз МО РФ 2018 г. № 69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 введении в действии Инструкции по обеспечению ВС РФ пожарно-технической продукци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2020 г. № 147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Об утверждении Правил противопожарного режима в РФ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"/>
          <p:cNvPicPr/>
          <p:nvPr/>
        </p:nvPicPr>
        <p:blipFill>
          <a:blip r:embed="rId1"/>
          <a:stretch/>
        </p:blipFill>
        <p:spPr>
          <a:xfrm>
            <a:off x="-1080" y="5400"/>
            <a:ext cx="12192840" cy="685224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8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7" name="Рисунок 13" descr=""/>
          <p:cNvPicPr/>
          <p:nvPr/>
        </p:nvPicPr>
        <p:blipFill>
          <a:blip r:embed="rId2"/>
          <a:stretch/>
        </p:blipFill>
        <p:spPr>
          <a:xfrm>
            <a:off x="288000" y="71280"/>
            <a:ext cx="1187280" cy="11109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4" descr=""/>
          <p:cNvPicPr/>
          <p:nvPr/>
        </p:nvPicPr>
        <p:blipFill>
          <a:blip r:embed="rId3"/>
          <a:stretch/>
        </p:blipFill>
        <p:spPr>
          <a:xfrm>
            <a:off x="10800720" y="71280"/>
            <a:ext cx="1102680" cy="11109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5"/>
          <p:cNvSpPr/>
          <p:nvPr/>
        </p:nvSpPr>
        <p:spPr>
          <a:xfrm>
            <a:off x="1432080" y="666360"/>
            <a:ext cx="93272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0" name="Прямоугольник 16"/>
          <p:cNvSpPr/>
          <p:nvPr/>
        </p:nvSpPr>
        <p:spPr>
          <a:xfrm>
            <a:off x="0" y="188640"/>
            <a:ext cx="12191760" cy="21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-й учебный 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роприятия противопожарной защ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7"/>
          <p:cNvSpPr/>
          <p:nvPr/>
        </p:nvSpPr>
        <p:spPr>
          <a:xfrm>
            <a:off x="2952720" y="1928880"/>
            <a:ext cx="70480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10759680" y="5733360"/>
            <a:ext cx="958320" cy="82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0" y="216000"/>
            <a:ext cx="12191760" cy="66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x-none" sz="2400" spc="-1" strike="noStrike">
                <a:solidFill>
                  <a:srgbClr val="ff0000"/>
                </a:solidFill>
                <a:latin typeface="Arial"/>
              </a:rPr>
              <a:t>Выполнение задач, возлагаемых на службу пожарно-спасательной и местной обороны, осуществляется: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2400" spc="-1" strike="noStrike">
                <a:solidFill>
                  <a:srgbClr val="000000"/>
                </a:solidFill>
                <a:latin typeface="Arial"/>
              </a:rPr>
              <a:t>в Министерстве обороны РФ – службой пожарно-спасательной и местной обороны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2400" spc="-1" strike="noStrike">
                <a:solidFill>
                  <a:srgbClr val="000000"/>
                </a:solidFill>
                <a:latin typeface="Arial"/>
              </a:rPr>
              <a:t>в видах Вооруженных Сил Российской Федерации, в округах, группах войск, армиях, родах войск, на флотах и флотилиях, в главных и центральных управлениях Министерства обороны РФ – органами управления службами видов ВС РФ, округов, армий, флотов, флотилий, главных и центральных управлений Министерства обороны РФ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2400" spc="-1" strike="noStrike">
                <a:solidFill>
                  <a:srgbClr val="000000"/>
                </a:solidFill>
                <a:latin typeface="Arial"/>
              </a:rPr>
              <a:t>в гарнизонах, соединениях, воинских частях, учреждениях, военно-учебных заведениях, на предприятиях и в организациях Министерства обороны РФ – начальниками службы противопожарной защиты и спасательных работ, а там, где они штатами не предусмотрены, одним из офицеров, назначенным приказом командира (начальника);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2400" spc="-1" strike="noStrike">
                <a:solidFill>
                  <a:srgbClr val="000000"/>
                </a:solidFill>
                <a:latin typeface="Arial"/>
              </a:rPr>
              <a:t>в районах при наличии 70 и более воинских частей, закрепленных за органами противопожарной защиты и спасательных работ, – службой противопожарной защиты и спасательных работ; в других случаях – инспекторами противопожарной защиты районов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0" y="216000"/>
            <a:ext cx="1219176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x-none" sz="3200" spc="-1" strike="noStrike">
                <a:solidFill>
                  <a:srgbClr val="ff0000"/>
                </a:solidFill>
                <a:latin typeface="Arial"/>
              </a:rPr>
              <a:t>Основными задачами службы противопожарной защиты и спасательных работ на складе горючего являются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предупреждение пожаров путем осуществления контроля за выполнением противопожарных мероприятий и установленных требований пожарной безопасности на складе горючего, а также при проектировании, реконструкции и строительстве зданий (сооружений)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обучение личного состава правилам пожарной безопасности и действиям при тушении пожаров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предотвращение гибели и травмирования людей при пожарах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содержание в исправности и постоянной готовности к действию пожарной техники и оборудования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надзор за содержанием в исправности противопожарного водоснабжения, средств связи и пожарной сигнализации, дорог и подъездов к объектам склада, пожарным водоемам и гидрантам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тушение пожаров и оказание помощи при стихийных бедствиях (наводнения, землетрясения, ураганы, обвалы и т.п.)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74960" y="201600"/>
            <a:ext cx="12016800" cy="64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Противопожарная защита на складах горючего осуществляется штатными пожарными командами. Численность личного состава штатных пожарных команд, а также количество пожарных автомобилей (мотопомп) определяется штатами в зависимости от пожарной опасности объекта и места дислокации склада. Во всех случаях численность команд противопожарной защиты и спасательных работ должна быть не менее 12 человек, а пожарных расчетов – 4 человека. Личный состав штатной пожарной команды размещается в специальном здании (пожарном депо), которое на складе горючего располагается  вблизи технической территории, совместно с табельной противопожарной техникой с таким расчетом, чтобы расстояние до складских объектов, отнесенных по пожарной опасности  к категориям  А, Б и В, не превышало 1,5 км  и к категориям Г и Д – 3 км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0" y="149760"/>
            <a:ext cx="12191760" cy="65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x-none" sz="2800" spc="-1" strike="noStrike">
                <a:solidFill>
                  <a:srgbClr val="ff0000"/>
                </a:solidFill>
                <a:latin typeface="Arial"/>
              </a:rPr>
              <a:t>При возникновении пожара за пределами склада выезд пожарной команды склада горючего для оказания помощи производится в следующих случаях</a:t>
            </a:r>
            <a:r>
              <a:rPr b="1" lang="x-none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2800" spc="-1" strike="noStrike">
                <a:solidFill>
                  <a:srgbClr val="000000"/>
                </a:solidFill>
                <a:latin typeface="Arial"/>
              </a:rPr>
              <a:t>если возникший пожар непосредственно угрожает безопасности склада;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2800" spc="-1" strike="noStrike">
                <a:solidFill>
                  <a:srgbClr val="000000"/>
                </a:solidFill>
                <a:latin typeface="Arial"/>
              </a:rPr>
              <a:t>при возникновении пожара на объектах, расположенных от склада в радиусе до 5 км; выезд на пожары в радиусе свыше 5 км разрешается в каждом отдельном случае начальником склада в зависимости от численности личного состава пожарной команды, наличия пожарных автомобилей и местных условий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x-none" sz="2800" spc="-1" strike="noStrike">
                <a:solidFill>
                  <a:srgbClr val="000000"/>
                </a:solidFill>
                <a:latin typeface="Arial"/>
              </a:rPr>
              <a:t>В случае выезда пожарной команды на соседние объекты на складе оставляется боеспособный пожарный резерв личного состава команды и пожарной техники. Для несения службы на территории склада по предупреждению и тушению пожаров из состава пожарной команды ежедневно начальником пожарной команды назначается пожарный наряд. Свободный от наряда личный состав пожарной команды составляет резерв на случай усиления пожарного наряда при возникновении пожара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0" y="149760"/>
            <a:ext cx="12191760" cy="65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x-none" sz="3200" spc="-1" strike="noStrike">
                <a:solidFill>
                  <a:srgbClr val="ff0000"/>
                </a:solidFill>
                <a:latin typeface="Times New Roman"/>
              </a:rPr>
              <a:t>Для правильной организации службы противопожарной защиты и спасательных работ составляется план противопожарной защиты склада, состоящий из следующих разделов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Times New Roman"/>
              </a:rPr>
              <a:t>Общая инструкция по мерам пожарной безопасности. В ней указываются противопожарные мероприятия на территории склада, организация проведения огнеопасных работ и соблюдения режима курения на объектах склада, организация проверки объектов склада перед закрытием по окончании рабочего дня, сигналы пожарной тревоги, обязанности дежурного по складу при пожаре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Times New Roman"/>
              </a:rPr>
              <a:t>Расчет сил и средств, привлекаемых для тушения пожара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рядок эвакуации горючего, технических средств и имущест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3_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4_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  <Words>2419</Words>
  <Paragraphs>122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7T04:29:31Z</dcterms:created>
  <dc:creator>Комп</dc:creator>
  <dc:description/>
  <dc:language>en-US</dc:language>
  <cp:lastModifiedBy>АРМ 34</cp:lastModifiedBy>
  <dcterms:modified xsi:type="dcterms:W3CDTF">2022-03-15T07:25:58Z</dcterms:modified>
  <cp:revision>33</cp:revision>
  <dc:subject/>
  <dc:title>Лекция 21/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Произвольный</vt:lpwstr>
  </property>
  <property fmtid="{D5CDD505-2E9C-101B-9397-08002B2CF9AE}" pid="4" name="Slides">
    <vt:r8>28</vt:r8>
  </property>
</Properties>
</file>