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BFB-F819-4B7C-915C-807F420C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AD2-6DB5-49EB-AAA7-70EF5D0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E10-96EE-4286-A962-C5C03B6F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D9D-CD55-4F82-A6A1-535403A2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375B-6F58-4E16-B6AC-AAB1265B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442D-0A89-4FC1-9527-ABC6910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0438-8C37-4DFE-B6DA-1ED6B21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C7DA-D4C7-4AA5-B3D4-ECC6A1A5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5751-BD94-4112-9717-FA2B3A0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02E5-845F-4CA9-9FB9-C800A68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900-3BAA-4B9E-92AC-56064AA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A46-E9EC-4170-B249-1C76F98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B5DC-BA38-4ECF-B2CC-3A5E6BE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E23F-B629-4DA7-8746-E378A166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927E-EF7A-4A07-B7B8-AD1CB9B9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431A-B006-4025-B935-E6ED3FDF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FC3C-8A54-4F90-A945-01C8C931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5F09-740C-4D15-BA98-256F0811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59FE-58AB-44CB-8003-663DC296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522C-A303-437F-9536-7BE98E1C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4395-8F72-4E33-BFB5-EF5AC99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0724-F619-4C01-A003-103B42F7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544-6C0D-4272-B90A-9C86B378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782D-4D33-4DB5-885C-CF39BAF6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9BB2-CCF9-464A-924C-292ECC2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7557-40CB-469C-B28E-9E1E11E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8480-6FA3-46A3-B163-4B112C92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A9C1-C3D1-449A-A77D-2F6E7B6D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630F-E33A-46E9-A067-3A783910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BEAE-53BB-4FCF-9C38-697E7AD7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237C-C60C-4BF5-970D-11AD5BAB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38DA-42ED-497E-991A-B81A102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1DCB-CD80-4759-8056-F4232A5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F4A-B451-4889-9988-973B6FE4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9763-777D-4368-B13F-04D5060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336E-5DC5-40E8-9ABD-2D410D6B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9715-9FA9-47B2-A482-B5A3701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5742-B4EC-4709-9264-1991B16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2E6B-EFB2-4CE8-B76A-57A349D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4BC1-D9C6-4E8D-A6FF-F4B3B4B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99BF-A0B7-4811-9F2D-D7D533A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F432-9364-4341-B774-F977E460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D665-30CE-42B1-8F90-F1682C67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2B58-470F-412A-A8EF-44FF69B7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D9A-A6A2-439B-9759-ABED939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5D8D-BAEE-4590-9D76-04B3BAF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302E-852A-4C5F-9E30-6985A93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D62F-DD0B-489E-916E-20C224C2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9B06-4F2B-4939-8578-1353A55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FC84-0FF8-4EC9-B541-2806940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0BA56-FA3D-41CB-8448-9888C43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5F9D-C5A2-4E75-AD3C-CA48874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3B66-2007-42B1-B0DA-0B9B560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7757-B955-4858-8A85-62ED128A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8D34-C16B-4559-869D-85A25824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402-81D1-438D-BB6E-6038826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98DF-165B-45CD-831F-3EA1E8FA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A82-94EC-4D6E-A593-8259366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12A-96A7-4D7E-BD54-C9B489A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8B6-5185-4C2E-A593-D62292D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741866-98E8-4538-8900-44E86C35B7D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87B43-142B-4EBC-8988-913E39B2012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7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8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C95B81-2639-4D7B-A4FD-501F7D55335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106DC-4983-4F7A-82CF-8EE82455147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F82BD3-30CE-44D8-A11E-26A139CCB3B2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"/>
          <p:cNvPicPr/>
          <p:nvPr/>
        </p:nvPicPr>
        <p:blipFill>
          <a:blip r:embed="rId1"/>
          <a:stretch/>
        </p:blipFill>
        <p:spPr>
          <a:xfrm>
            <a:off x="335520" y="142920"/>
            <a:ext cx="1247760" cy="1167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"/>
          <p:cNvPicPr/>
          <p:nvPr/>
        </p:nvPicPr>
        <p:blipFill>
          <a:blip r:embed="rId2"/>
          <a:stretch/>
        </p:blipFill>
        <p:spPr>
          <a:xfrm>
            <a:off x="10383840" y="142920"/>
            <a:ext cx="1159200" cy="116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2952720" y="3655440"/>
            <a:ext cx="6251400" cy="28047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2159640" y="295200"/>
            <a:ext cx="77763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инистерство обороны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лиал Федерального государственного казенного военного образовательного учреждения высшего образования «Военная академия материально-технического обеспечения имени генерала армии А.В. Хрулев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истерства обороны Российской Федерации в г. Воль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3048120" y="6509520"/>
            <a:ext cx="6095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льск 2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0" y="154944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ема 6 Безопасность военной службы на объектах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нятие № 1 Противопожарная защита объектов склада горю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лек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:\знак-1.png"/>
          <p:cNvPicPr/>
          <p:nvPr/>
        </p:nvPicPr>
        <p:blipFill>
          <a:blip r:embed="rId4"/>
          <a:srcRect l="23096" t="9238" r="20647" b="9238"/>
          <a:stretch/>
        </p:blipFill>
        <p:spPr>
          <a:xfrm>
            <a:off x="11067120" y="5857920"/>
            <a:ext cx="95220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Arial"/>
              </a:rPr>
              <a:t>К плану прилагаются следующие документ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табель пожарным постам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хема расположения дорог, пожарных водоисточников и средств пожаротушения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расчет нормативной потребности запасов воды, пенообразователя и аппаратов для получения и подачи пен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лист отметок о практической отработке плана противопожарной защит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мерам пожарной безопасности в резервуарном парке, насосных станциях, хранилищах и других объектах с учетом их особенностей и пожарной безопасност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проведению мероприятий на период гроз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выписка из приказа о назначении нештатной пожарной команды с перечнем объектов и пунктов работ, где назначаются пожарные посты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В подразделениях, сооружениях, хранилищах, мастерских, на пунктах работы с техническими средствами назначаются пожарные расчеты  из постоянно или временно работающего личного состава. На пожарные расчеты возлагается контроль за соблюдением мер пожарной безопасности в подразделениях, в местах производства работ , а также тушение пожаров и эвакуация имуществ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ожарные расчеты выполняются на специальной доске, вывешиваемой в каждом хранилище, мастерской, лаборатории на видном мест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На доске располагаю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181440" indent="3517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хема эвакуации техники (имущества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181440" indent="3517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мерам пожарной безопасност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ff0000"/>
                </a:solidFill>
                <a:latin typeface="Arial"/>
              </a:rPr>
              <a:t>Пожарная профилактика на складах горючего.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Пожарная профилактика представляет собой единый комплекс заблаговременно предусмотренных организационных и технических мероприятий, направленных на предупреждение и локализацию пожаров и взрывов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К этим мероприятиям относятс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меры пожарной безопасности, предусматриваемые при проектировании и строительстве склада;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меры пожарной безопасности, принимаемые в период эксплуатации склада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7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ожарно-профилактическая работа на складе осуществляется путем: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изучения пожарной опасности технологических процессов, веществ и материалов, хранимых на складе, конструктивных особенностей зданий и сооружений, систем водоснабжения, средств связи, сигнализации и других особенностей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систематической проверки противопожарного состояния территории, резервуаров, трубопроводов, насосных станций и других сооружений, а также пунктов производства работ для своевременного выявления и устранения недостатков в организации пожарной защиты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рки организации службы и боевой подготовки пожарных команд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дения начальником службы противопожарной защиты (начальником пожарной команды) инструктажа личного состава пожарной команды о порядке выполнения работ по предупреждению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7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рки исправности и правильного содержания стационарных пожарных систем, установок, оборудования, средств связи и сигнализации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дения массово-разъяснительной работы и обучения военнослужащих, рабочих и служащих правилам пожарной безопасности  и тушения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одготовки личного состава внештатных пожарных команд и пожарных расчетов к предупреждению и тушению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установления контроля за выполнением приказов по противопожарной защите и предложений инспектирующих лиц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усиления пожарно-постовой и дозорной службы во время проведения на складе массовой выдачи горючего, производства работ с горючим, а также во время грозы; проверки противопожарного состояния всех вскрытых хранилищ, лабораторий и других помещений по окончании в них работы.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ниезащита складов горю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69920" y="182880"/>
            <a:ext cx="11860560" cy="66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Большую опасность для объектов склада горючего представляет молния, которая может проявляться в форме прямого удара, а также ее вторичное проявление. При прямом ударе молнии происходят разрушения с большой вероятностью взрыва и возгорания. Это наиболее опасный вид проявления молнии, называемый первичным. Вторичные проявления молнии – электростатическая и электромагнитная индукция и занос высоких потенциалов через наземные и подземные коммуникации. Электростатическая индукция может быть причиной взрыва паров горючего при взрывоопасной концентрации, так как на незаземленных предметах находятся электростатические заряды, вызывающие искрение между металлическими элементами конструкций и оборудования. Надежной защитой от электростатической индукции является заземление всех металлических протяженных предметов (трубопроводов, арматуры, железной кровли и т.д.) или устройство экрана в виде металлической сетки на кровл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6600" y="169920"/>
            <a:ext cx="11860560" cy="66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ания и сооружения складов горючего по своему функциональному предназначению делятся на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пециаль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щевойск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специаль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такие объекты, которые при поражении молнией могут оказать  вредное химическое, биологическое  воздействие на окружающую среду (техническая территория; хранилища для боеприпасов, карбида кальция, сжиженных газов, химических веществ; лаборатория)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ания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щевойсков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азн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жилые и административные строения, хранилища продовольствия и вещевого имущества и т.д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85040" y="193680"/>
            <a:ext cx="11766960" cy="63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носятся здания и сооружения специального назначения, где хранятся взрывчатые вещества в открытом виде, а также здания и сооружения, внутри которых могут возникать взрывоопасные смеси паров горючего с воздухом, способные взорваться от электрической искры. Кроме того, к этой категории относятся здания и сооружения, в которых имеются негерметично закрытые аппараты и оборудование с ЛВЖ с температурой вспышки до 61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К таким зданиям на складе горючего относятся: хранилища РТ и насосные станции для ЛВЖ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1203048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здания и сооружения, где взрывчатые вещества и легковоспламеняющиеся жидкости хранятся в металлической укупорке; помещения, где эти вещества перерабатываются или хранятся в открытом виде, но в таких условиях, при которых электрическая искра не может вызвать пожара или взрыва сооружения, а также помещения, где имеются негерметично закрытые аппараты и оборудование с жидкостями, температура вспышки которых выше 61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, при условии, что жидкости могут образовать взрывоопасные смеси в объеме, не превышающем 5 % объема помещения и др. К таким зданиям и сооружениям относятся  резервуарный парк и хранилища для ЛВЖ, сливно-наливные сооружения и устройства, площадки налива ЛВЖ в автомобильные цистерны, хранилища и площадки для хранения ЛВЖ в таре, хранилища для хранения технических средств перекачки и автомобильных цистерн, лаборатори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Рисунок 21" descr=""/>
          <p:cNvPicPr/>
          <p:nvPr/>
        </p:nvPicPr>
        <p:blipFill>
          <a:blip r:embed="rId2"/>
          <a:stretch/>
        </p:blipFill>
        <p:spPr>
          <a:xfrm>
            <a:off x="288000" y="14292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2" descr=""/>
          <p:cNvPicPr/>
          <p:nvPr/>
        </p:nvPicPr>
        <p:blipFill>
          <a:blip r:embed="rId3"/>
          <a:stretch/>
        </p:blipFill>
        <p:spPr>
          <a:xfrm>
            <a:off x="10800720" y="14292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4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0" y="348840"/>
            <a:ext cx="1219176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оприятия противопожарн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ниезащита складов горю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щита от статического электр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D:\знак-1.png"/>
          <p:cNvPicPr/>
          <p:nvPr/>
        </p:nvPicPr>
        <p:blipFill>
          <a:blip r:embed="rId4"/>
          <a:srcRect l="23096" t="9238" r="20647" b="9238"/>
          <a:stretch/>
        </p:blipFill>
        <p:spPr>
          <a:xfrm>
            <a:off x="10951200" y="5877360"/>
            <a:ext cx="95220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99160"/>
            <a:ext cx="12191760" cy="655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ятся здания и сооружения, в которых прямой удар молнии может вызвать пожар, механические разрушения, поражение личного состава. К таким зданиям относятся: резервуарный парк и насосная станция для ГЖ, сливно-наливные сооружения и устройства для ГЖ,  открытые и закрытые раздаточные для ГЖ, хранилища и площадки для хранения ГЖ, наземные хранилища для хранения технических средств. Здания и сооруж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тегории, при возгорании которых пожар может распространиться на объек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, должны иметь защиту от ударов молнии п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245160"/>
            <a:ext cx="12004560" cy="66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лниеотво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ывают стержневыми и тросовыми; отдельно стоящими, изолированными и не изолированными от защищаемого здания. Наиболее часто применяются стержневые молниеотводы в виде мачт, возвышающихся над защищаемыми сооружениями. Они могут быть однократными и двукратным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ы защиты в зависимости от требуемой надежности защиты от ударов молни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лятся на зоны 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равной 0,9999; 0,999; 0,99; 0,9 соответственно. Надежность зоны защиты определяется в зависимости от ожидаемого числа поражений объекта молнией в год, которое, в свою очередь, взаимосвязано с интенсивностью грозовой деятельности в различных районах России, а также класса взрывоопасной и пожароопасной зон согласно требованиям Правил устройства электроустановок (ПУЭ)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0"/>
            <a:ext cx="12191760" cy="64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зданий и сооружений, отнесенных 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м молниезащиты, сопротивление заземлителей молниезащитных устройств не должно превышать 10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м, а к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тегории – не нормируется. Заземлитель с токоотводом соединяется сваркой. Длина сварного шва должна быть не менее двойной ширины проводника прямоугольного и не менее шести диаметров круглого сечен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ниезащитные устройства за время эксплуатации подвергаются ежегодному осмотру и проверке исправности всех элементов, периодическому контролю и внеочередному осмотру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от статического электр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98000" y="179640"/>
            <a:ext cx="11895840" cy="64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ерекачке слои горючего в результате трения между собой, со стенками резервуара или трубопровода в определенных условиях накапливают статическое электричество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атическим электричеств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ются электрические заряды, появляющиеся на поверхности диэлектриков и удерживающиеся на них в течение длительного времени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95840" y="192960"/>
            <a:ext cx="11756160" cy="64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е от проявления статического электричества подлежат все здания и сооружения, где могут образоваться взрывоопасные или пожароопасные концентрации паров горючего. Защита осуществляется путем заземления всех металлических трубопроводов, резервуаров, автоцистерн, автотопливозаправщиков, насосов, конструкций и деталей оборудования, на которых могут образоваться статические заряды. Заземляющие устройства для защиты от статического электричества, как правило, устраивают совместно с заземляющими устройствами для электрооборудования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5840" y="192960"/>
            <a:ext cx="11756160" cy="64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честве заземлителей от статического электричества можно использовать заземлители по защите от вторичных проявлений молнии. В тех случаях, когда защите от статического электричества подлежат здания и сооружения, для которых молниезащита и заземление электрооборудования не осуществляются, устанавливается заземлитель любого профиля с сопротивлением растекания тока промышленной частоты не более 100 Ом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0"/>
            <a:ext cx="1219176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целях защиты от проявлений статического электричества заземлению подлежат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, полузаглубленные и заглубленные резервуары для ЛВЖ, ГЖ и других жидкостей, являющихся диэлектриками и способных при испарении создавать горючие смеси паров с воздухом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 и подземные трубопроводы через каждые 200 м их длины и дополнительно на каждом ответвлении с присоединением каждого ответвления к заземлителю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е рельсы сливно-наливных участков, электрически соединенные между собой, а также металлические конструкции сливно-наливных эстакад с двух сторон по длине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конструкции автоналивных устройств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механизмы и оборудование насосных станций для перекачки ЛВЖ и ГЖ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конструкции морских и речных причалов в местах производства слива (налива) ЛВЖ и ГЖ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воздуховоды и кожухи термоизоляции во взрывоопасных помещениях через каждые 40…50 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182880"/>
            <a:ext cx="12191760" cy="66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е цистерны, корпуса морских и речных судов, автоцистерны и автотопливозаправщики при сливе (наливе) ЛВЖ и ГЖ заземляются путем присоединения их к заземлителям с помощью гибких многожильных стальных или медных проводников поперечным сечением не менее 35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корпусов наливных морских и речных судов и не менее 6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ля железнодорожных цистерн, автоцистерн и автотопливозаправщик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инотканевые рукава спиральные (РБС) заземляются путем присоединения (пайкой) медного многожильного провода сечением более 6 мм2 к ершу и металлической обмотке, а гладкие рукава (РБГ) – путем пропуска внутри рукава такого же провода с присоединением его к ерша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вные устройства на участке выдачи горючего в автомобильный транспорт и тару должны оборудоваться инвентарными клеммами или болтовыми соединениями с гибкими проводниками для присоединения их к автоцистернам. Присоединение заземляющих проводников необходимо производить при закрытых задвижках и крышке колпачка цистерн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Рисунок 7" descr=""/>
          <p:cNvPicPr/>
          <p:nvPr/>
        </p:nvPicPr>
        <p:blipFill>
          <a:blip r:embed="rId2"/>
          <a:stretch/>
        </p:blipFill>
        <p:spPr>
          <a:xfrm>
            <a:off x="288000" y="14292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9" descr=""/>
          <p:cNvPicPr/>
          <p:nvPr/>
        </p:nvPicPr>
        <p:blipFill>
          <a:blip r:embed="rId3"/>
          <a:stretch/>
        </p:blipFill>
        <p:spPr>
          <a:xfrm>
            <a:off x="10800720" y="14292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15480" y="20520"/>
            <a:ext cx="12191760" cy="81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ады службы горючег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ое учебное. пособие.  ̶  Вольск: ВВИМО, 20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полни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по проектированию, устройству и эксплуатации молниезащиты и защиты от статического электричества сооружений Министерства обороны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Н-58-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300" spc="-1" strike="noStrike">
                <a:solidFill>
                  <a:srgbClr val="000099"/>
                </a:solidFill>
                <a:latin typeface="Arial"/>
              </a:rPr>
              <a:t>Официальные документы</a:t>
            </a:r>
            <a:r>
              <a:rPr b="0" i="1" lang="ru-RU" sz="23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иказ МО РФ 2015 г. № 444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Руководстве по обеспечению безопасности военной службы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О РФ 2019 г. № 8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ложения о ведомственной пожарной охране ВС Р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О РФ 2018 г. № 6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 введении в действии Инструкции по обеспечению ВС РФ пожарно-технической продукци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2020 г. № 147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б утверждении Правил противопожарного режима в Р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приятия противопожарной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2952720" y="1928880"/>
            <a:ext cx="7048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12191760" cy="66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2400" spc="-1" strike="noStrike">
                <a:solidFill>
                  <a:srgbClr val="ff0000"/>
                </a:solidFill>
                <a:latin typeface="Arial"/>
              </a:rPr>
              <a:t>Выполнение задач, возлагаемых на службу пожарно-спасательной и местной обороны, осуществляется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Министерстве обороны РФ – службой пожарно-спасательной и местной обороны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видах Вооруженных Сил Российской Федерации, в округах, группах войск, армиях, родах войск, на флотах и флотилиях, в главных и центральных управлениях Министерства обороны РФ – органами управления службами видов ВС РФ, округов, армий, флотов, флотилий, главных и центральных управлений Министерства обороны РФ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гарнизонах, соединениях, воинских частях, учреждениях, военно-учебных заведениях, на предприятиях и в организациях Министерства обороны РФ – начальниками службы противопожарной защиты и спасательных работ, а там, где они штатами не предусмотрены, одним из офицеров, назначенным приказом командира (начальника)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районах при наличии 70 и более воинских частей, закрепленных за органами противопожарной защиты и спасательных работ, – службой противопожарной защиты и спасательных работ; в других случаях – инспекторами противопожарной защиты район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121917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Arial"/>
              </a:rPr>
              <a:t>Основными задачами службы противопожарной защиты и спасательных работ на складе горючего являю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едупреждение пожаров путем осуществления контроля за выполнением противопожарных мероприятий и установленных требований пожарной безопасности на складе горючего, а также при проектировании, реконструкции и строительстве зданий (сооружений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обучение личного состава правилам пожарной безопасности и действиям при тушении пожаров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едотвращение гибели и травмирования людей при пожарах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одержание в исправности и постоянной готовности к действию пожарной техники и оборудования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надзор за содержанием в исправности противопожарного водоснабжения, средств связи и пожарной сигнализации, дорог и подъездов к объектам склада, пожарным водоемам и гидрантам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тушение пожаров и оказание помощи при стихийных бедствиях (наводнения, землетрясения, ураганы, обвалы и т.п.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4960" y="201600"/>
            <a:ext cx="12016800" cy="64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отивопожарная защита на складах горючего осуществляется штатными пожарными командами. Численность личного состава штатных пожарных команд, а также количество пожарных автомобилей (мотопомп) определяется штатами в зависимости от пожарной опасности объекта и места дислокации склада. Во всех случаях численность команд противопожарной защиты и спасательных работ должна быть не менее 12 человек, а пожарных расчетов – 4 человека. Личный состав штатной пожарной команды размещается в специальном здании (пожарном депо), которое на складе горючего располагается  вблизи технической территории, совместно с табельной противопожарной техникой с таким расчетом, чтобы расстояние до складских объектов, отнесенных по пожарной опасности  к категориям  А, Б и В, не превышало 1,5 км  и к категориям Г и Д – 3 к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2800" spc="-1" strike="noStrike">
                <a:solidFill>
                  <a:srgbClr val="ff0000"/>
                </a:solidFill>
                <a:latin typeface="Arial"/>
              </a:rPr>
              <a:t>При возникновении пожара за пределами склада выезд пожарной команды склада горючего для оказания помощи производится в следующих случаях</a:t>
            </a: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если возникший пожар непосредственно угрожает безопасности склада;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при возникновении пожара на объектах, расположенных от склада в радиусе до 5 км; выезд на пожары в радиусе свыше 5 км разрешается в каждом отдельном случае начальником склада в зависимости от численности личного состава пожарной команды, наличия пожарных автомобилей и местных услови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В случае выезда пожарной команды на соседние объекты на складе оставляется боеспособный пожарный резерв личного состава команды и пожарной техники. Для несения службы на территории склада по предупреждению и тушению пожаров из состава пожарной команды ежедневно начальником пожарной команды назначается пожарный наряд. Свободный от наряда личный состав пожарной команды составляет резерв на случай усиления пожарного наряда при возникновении пожар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Times New Roman"/>
              </a:rPr>
              <a:t>Для правильной организации службы противопожарной защиты и спасательных работ составляется план противопожарной защиты склада, состоящий из следующих разделов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imes New Roman"/>
              </a:rPr>
              <a:t>Общая инструкция по мерам пожарной безопасности. В ней указываются противопожарные мероприятия на территории склада, организация проведения огнеопасных работ и соблюдения режима курения на объектах склада, организация проверки объектов склада перед закрытием по окончании рабочего дня, сигналы пожарной тревоги, обязанности дежурного по складу при пожар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imes New Roman"/>
              </a:rPr>
              <a:t>Расчет сил и средств, привлекаемых для тушения пожар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ядок эвакуации горючего, технических средств и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  <Words>2419</Words>
  <Paragraphs>12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04:29:31Z</dcterms:created>
  <dc:creator>Комп</dc:creator>
  <dc:description/>
  <dc:language>en-US</dc:language>
  <cp:lastModifiedBy>АРМ 34</cp:lastModifiedBy>
  <dcterms:modified xsi:type="dcterms:W3CDTF">2022-03-15T07:25:58Z</dcterms:modified>
  <cp:revision>33</cp:revision>
  <dc:subject/>
  <dc:title>Лекция 21/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Произвольный</vt:lpwstr>
  </property>
  <property fmtid="{D5CDD505-2E9C-101B-9397-08002B2CF9AE}" pid="4" name="Slides">
    <vt:r8>28</vt:r8>
  </property>
</Properties>
</file>