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647-93AA-4BA1-B2D8-BF759461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B4F-98CE-4D6B-A9DA-11F40CB1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BC7-4DED-4953-BFD9-8F06E961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207-086A-4FAA-AD16-ACE65DD3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AD46-3E4E-4872-B681-7C1A260D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F23B-A68B-4769-9B28-A25B9B44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A1A3-294C-4FA2-8FE3-AAE484E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047F-2570-40CE-BABD-CDB26C78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CF7B-4201-41B0-A5AF-7160986D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BB17-0E5A-4B21-A234-35EE8FD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30A6-222C-4FE1-8CFA-C4D8E32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B42-89B2-42F3-A7D4-E4E820F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222F-896C-44ED-81A9-78DEB1A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DA1A-153D-4ECC-A3DF-C45177B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21D0-93EF-4038-B50B-5C869223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34E-1974-4E75-8F4E-12508AEA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6405-2EA0-44D4-B2C1-A8628A41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AE2-E0C6-4DFB-9889-EA0268A4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5C7-535C-4066-9447-BCBB1F49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4C5-311E-4DCA-8251-1EB2A7BE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A35-DED6-490F-BAAC-D2C00DB1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966-F0C0-4C62-B7CA-B76DEC8B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730-9E5C-409A-AAF3-4BCFB49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26E-F6EC-4F6E-864F-7FDE63B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6520" y="1447920"/>
            <a:ext cx="662076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21A7627-BA4A-4F31-A387-561773146168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1"/>
          <p:cNvSpPr/>
          <p:nvPr/>
        </p:nvSpPr>
        <p:spPr>
          <a:xfrm>
            <a:off x="629928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50b9c1">
                  <a:alpha val="7058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2"/>
          <p:cNvSpPr/>
          <p:nvPr/>
        </p:nvSpPr>
        <p:spPr>
          <a:xfrm>
            <a:off x="5689800" y="-457200"/>
            <a:ext cx="1599840" cy="1599840"/>
          </a:xfrm>
          <a:prstGeom prst="ellipse">
            <a:avLst/>
          </a:prstGeom>
          <a:gradFill rotWithShape="0">
            <a:gsLst>
              <a:gs pos="0">
                <a:srgbClr val="50b9c1">
                  <a:alpha val="14117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3"/>
          <p:cNvSpPr/>
          <p:nvPr/>
        </p:nvSpPr>
        <p:spPr>
          <a:xfrm>
            <a:off x="6299280" y="6095880"/>
            <a:ext cx="990360" cy="990360"/>
          </a:xfrm>
          <a:prstGeom prst="ellipse">
            <a:avLst/>
          </a:prstGeom>
          <a:gradFill rotWithShape="0">
            <a:gsLst>
              <a:gs pos="0">
                <a:srgbClr val="50b9c1">
                  <a:alpha val="9019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9"/>
          <p:cNvSpPr/>
          <p:nvPr/>
        </p:nvSpPr>
        <p:spPr>
          <a:xfrm>
            <a:off x="-154080" y="2666880"/>
            <a:ext cx="4190760" cy="4190760"/>
          </a:xfrm>
          <a:prstGeom prst="ellipse">
            <a:avLst/>
          </a:prstGeom>
          <a:gradFill rotWithShape="0">
            <a:gsLst>
              <a:gs pos="0">
                <a:srgbClr val="50b9c1">
                  <a:alpha val="11372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0"/>
          <p:cNvSpPr/>
          <p:nvPr/>
        </p:nvSpPr>
        <p:spPr>
          <a:xfrm>
            <a:off x="-839880" y="2895480"/>
            <a:ext cx="2361960" cy="2361960"/>
          </a:xfrm>
          <a:prstGeom prst="ellipse">
            <a:avLst/>
          </a:prstGeom>
          <a:gradFill rotWithShape="0">
            <a:gsLst>
              <a:gs pos="0">
                <a:srgbClr val="50b9c1">
                  <a:alpha val="8235"/>
                </a:srgbClr>
              </a:gs>
              <a:gs pos="100000">
                <a:srgbClr val="50b9c1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7745760" y="0"/>
            <a:ext cx="685440" cy="109908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 rot="5400000">
            <a:off x="7495200" y="1828800"/>
            <a:ext cx="990360" cy="22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 rot="5400000">
            <a:off x="6233400" y="3263400"/>
            <a:ext cx="3859560" cy="22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7766280" y="295560"/>
            <a:ext cx="62856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AC8522-DD47-4973-8978-F05770E81CC6}" type="slidenum"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3800" y="1692720"/>
            <a:ext cx="77720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5000"/>
          </a:bodyPr>
          <a:p>
            <a:pPr indent="0">
              <a:lnSpc>
                <a:spcPct val="100000"/>
              </a:lnSpc>
              <a:buNone/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ebebeb"/>
                </a:solidFill>
                <a:latin typeface="Times New Roman"/>
              </a:rPr>
              <a:t>Тазовые предлежания плод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4500000" y="400536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4428000" y="5589360"/>
            <a:ext cx="417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дент 163-А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абак Д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23640" y="1052640"/>
            <a:ext cx="849672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гноз тазового предлежания ставят в 35–36 нед. беременности, т. к. после 36 нед. положение плода, как правило, окончательно фиксиру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нные наружного акушерского исследования. Позиция и ее виды определяются по спинке (как при головном предлежан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дцебиение плода при тазовых предлежаниях выслушивается выше, иногда на уровне пупка, справа или слева (в зависимости от позици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агалищное исследование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 время беременности через своды прощупывается объемистая мягковатая часть.В родах при раскрытии шейки матки, особенно при разрыве плодного пузыря, диагноз уточ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ое значение имеет ультразвуковое сканирование, которое позволяет определить не только предлежание, но и пол, вид, массу плода, положение головки (согнута, разогнута), обвитие пуповины, локализацию плаценты, размеры и степень ее зрелости, количество вод, аномалии развития плод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пплерромет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Т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51640" y="0"/>
            <a:ext cx="84967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323640" y="836640"/>
            <a:ext cx="7992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арианты положения головки плода при тазовом предлеж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А - головка согну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Б -I степень разгибания (поза военног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- II степень разгиб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Г - III степень разгибания ("смотрит на звезды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"/>
          <p:cNvPicPr/>
          <p:nvPr/>
        </p:nvPicPr>
        <p:blipFill>
          <a:blip r:embed="rId1"/>
          <a:stretch/>
        </p:blipFill>
        <p:spPr>
          <a:xfrm>
            <a:off x="5169240" y="1603440"/>
            <a:ext cx="3498120" cy="3650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7" name="Прямоугольник 3"/>
          <p:cNvSpPr/>
          <p:nvPr/>
        </p:nvSpPr>
        <p:spPr>
          <a:xfrm>
            <a:off x="144000" y="188640"/>
            <a:ext cx="4571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ружное акушерское исслед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м прием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яется более высокое стояние дна матки; в дне матки пальпируется округлая, плотная, баллотирующая головка, нередко смещенная от средней линии живота вправо или вле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ым прием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яют спинку и мелкие части плода (по положению спинки судят о позиции и вид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треть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еме над входом или во входе в таз прощупывается крупная, неправильной формы предлежащая часть мягковатой консистенции, неспособная к баллотирова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четверто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еме предлежащая часть обычно до конца беременности находится над входом в малый т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467640" y="1700640"/>
            <a:ext cx="626436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 второй половине беременности отмечаются следующие ослож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ждевременные роды (20–40 % случае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эклампсия различной степени тяжести (35,6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витие пуповины (40,8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оводие, многоводие (25,3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потрофия плода (4,9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лежание плаценты в 7 раз чащ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П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ждевременная отслойка плаценты в 3 раза ча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23640" y="692640"/>
            <a:ext cx="741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ервой половине беременности наиболее часто возника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гроза прерывания беременности (45 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ксикоз (27,5 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984240" y="116640"/>
            <a:ext cx="711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Осложнения  при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395640" y="692640"/>
            <a:ext cx="82807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оки госпитализации беременных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еременность протекает физиологично и отсутствуют экстрагенитальные патологии, то в таком случае госпитализация осуществляется в 38-39 недель беременности для полного обследования, определения срока родов, выбора оптимального метода родоразрешения и подготовки к родам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течение беременности осложнено экстрагенитальной патологией, имеется отягощенный акушерский анамнез, узкий таз, крупный плод, то в таком случае госпитализация проводиться на 37 неделе беременности, это позволит провести ряд диагностических, профилактических и лечебных мероприятий, определив план наиболее рационального ведения р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179640" y="764640"/>
            <a:ext cx="215640" cy="207360"/>
          </a:xfrm>
          <a:prstGeom prst="rect">
            <a:avLst/>
          </a:prstGeom>
          <a:solidFill>
            <a:srgbClr val="b01513"/>
          </a:solidFill>
          <a:ln cap="rnd">
            <a:solidFill>
              <a:srgbClr val="820f0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4"/>
          <p:cNvSpPr/>
          <p:nvPr/>
        </p:nvSpPr>
        <p:spPr>
          <a:xfrm>
            <a:off x="326880" y="188640"/>
            <a:ext cx="850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Факторы, определяющие тактику родораз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683640" y="764640"/>
            <a:ext cx="72003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раст женщ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тет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рок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меры малого т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ость плодного пузы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ложнения беременности и сопутствующая экстрагенитальная па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новидность тазового предле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плода и его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епень разогнутости гол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«Зрелость» шейки м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444600" y="476640"/>
            <a:ext cx="8246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тика родоразрешения при тазовом предлежани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683640" y="764640"/>
            <a:ext cx="7200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899640" y="1268640"/>
            <a:ext cx="6912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лжна быть определена до 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а может быть следующ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онтанное начало родов и родоразрешение через естественные родовые пу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овозбуждение в срок или до срока р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есарево сечение в плановом поряд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4"/>
          <p:cNvSpPr/>
          <p:nvPr/>
        </p:nvSpPr>
        <p:spPr>
          <a:xfrm>
            <a:off x="284040" y="116640"/>
            <a:ext cx="844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казания для планового кесарева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683640" y="764640"/>
            <a:ext cx="7200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23640" y="1052640"/>
            <a:ext cx="8208720" cy="55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ысокий перинатальный риск у беременных (более 25 балл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раст первородящей старше 30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полагаемая масса плода более 3600 г и менее 1500 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ожное предле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одготовленность родовых путей при доношенной берем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номалии развития половых 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натомически узкий т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поксия плода, ЗРП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епени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гибание головки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епени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еременность после ЭК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благоприятный перинатальных                                                                                    исход предыдущих р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Экстрагенитальные заболевания,                                                                         требующие выключения пот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войня при тазовом предлежании первого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формированное согласие пациен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88360" y="188640"/>
            <a:ext cx="885528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ловия для провед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одов через естественные родовые пут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тазовых предлеж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оношенная береме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полагаемая масса плода  2000 – 3600 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Чисто ягодичное предлеж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готовленные родовые пу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ормальные размеры т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ловка плода согнута или незначительно разогну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нформированное согласие пациен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79640" y="116640"/>
            <a:ext cx="8964000" cy="67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едение родов через естественные родовые пу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 период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Строгий постельный режим до полного или почти полного раскрытия  (профилактика несвоевременного разрыва плодного пузыря и выпадение мелких частей и пуповины плода). Укладывание на тот бок, куда обращена спинка, т. е. соответствующий позиции плода. Мочеиспускание на суд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осле излития околоплодных вод – проводится влагалищное исследования для исключения выпадения петель пуповины или мелких частей плода. Если произошло выпадение петель пуповины, то при чисто ягодичном предлежании можно попытаться заправить е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Установить мониторный контроль за сердцебиением плода и характером сократительной деятельности матки, ведение партограммы с целью своевременной диагностики осложнений и определения дальнейшей тактики ведения родов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менение аналгетиков и спазмолитиков (при развившейся регулярной родовой деятельности и открытии шейки матки на 3–4 см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оводить профилактику слабости родовой деятельности: внутривенное введение окситоцина в конце первого – начале второго периода родов, что вызывает сокращение матки и уменьшение ее полости способствует сохранению правильного членорасположения плода, которое может нарушатся при слабости родовой дея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 возникновении слабости родовой деятельности – родостимуляция при раскрытии маточного зева на 5 см и более, при меньшем раскрытии -К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12.jpeg"/>
          <p:cNvPicPr/>
          <p:nvPr/>
        </p:nvPicPr>
        <p:blipFill>
          <a:blip r:embed="rId1"/>
          <a:stretch/>
        </p:blipFill>
        <p:spPr>
          <a:xfrm>
            <a:off x="971640" y="2709000"/>
            <a:ext cx="5168880" cy="3322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8" name="Прямоугольник 1"/>
          <p:cNvSpPr/>
          <p:nvPr/>
        </p:nvSpPr>
        <p:spPr>
          <a:xfrm>
            <a:off x="4500000" y="400536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634680" y="1026360"/>
            <a:ext cx="8208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зовым предлежание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ывается такое, при котором ко входу в малый таз предлежит тазовый конец плода, а у дна матки — головка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179640" y="116640"/>
            <a:ext cx="8964000" cy="76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едение родов через естественные родовые пу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Во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 период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КТГ(нередко наблюдается тахикардия, вследствие раздражения внутренностного нерва в результате сдавления животика плода ножкам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ыделение мекония является физиологически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 конце периода роженице рекомендуют прижимать руками бедра  к животу (уменьшается угол наклонения таза, что способствует хорошему продвижению головк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и прорезывании ягодиц оказывают пособие по Цовьянов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осле прорезывания ягодиц для оказания пособия целесообразно различать четыре этапа рождения плода: до пупка; от пупка до нижнего угла лопаток; плечевого пояса и ручек; головк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-"/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Ответственный момент наступает после рождения плода до пупка. С этого времени, во-первых, происходят натяжение и прижатие пуповины головкой, вступившей в таз, поэтому изгнание плечевого пояса и головки должно произойти в ближайшие 3-5 мин. Задержка рождения плода более 5-6 мин чревата развитием острой гипоксии и антенатальной гибелью плода. Во-вторых, при вступлении головки в полость таза и уменьшении объема матки возможны преждевременная отслойка плаценты и острая гипоксия пл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- В конце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периода с целью профилактики спазма шейки матки и ущемления в ней головки внутривенно вводят 1,0 мл 0,1% раствора сульфата атропина  или другие  спазмолити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- Эпизиотомия по показани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2"/>
          <p:cNvSpPr/>
          <p:nvPr/>
        </p:nvSpPr>
        <p:spPr>
          <a:xfrm>
            <a:off x="179640" y="18864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 оказанию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учного пособия при чисто ягодичном предлежании по методу Цовьянова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ступают в момент прорезывания ягодиц, их поддерживают без каких-либо попыток извлечения пл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сновная цель — способствовать нормальному членорасположению плода, не дать ножкам преждевременно родиться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дупреждает развитие таких серьёзных осложнений, как  запрокидывание ручек и разгибание  головки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чего большими пальцами их удерживают прижатыми к туловищу плода. Остальные пальцы обеих рук располагают на крестце плода. По мере рождения плода руки передвигают по туловищу к задней спайке роженицы. Направляют туловище вверх до появления нижних углов лопаток. В косом размере туловище рождается до нижнего угла передней лопатки, плечевой пояс устанавливается в прямом разм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79640" y="116640"/>
            <a:ext cx="89640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, рожденные в тазовом предлежании, требуют особого внимания со стороны неонатологов, так как относятся к группе высокого риска по возникновению различных осложнений и, в первую очередь, невролог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ождения ребенка при осмотре следует исключить признаки внутричерепной травмы, нарушения мозгового кровообращения, повреждения позвоночника, дисплазии тазобедренных су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95640" y="476640"/>
            <a:ext cx="874800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Частота родов при тазовых предлежаниях — 3–5 % от общего количества род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еждевременных родах и многоплодии частота тазовых предлежаний плода увеличивается в 2 – 10 раз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еринатальная смертность в 3-5 раз выше, чем при родах в головном предлежан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Общая частота заболеваемости новорожденных при родах в тазовом предлежании составляет 15-16% (неблагоприятные отдаленные результаты у детей в виде центральных парезов, гидроцефалии, отставания в умственном развитии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2436120" y="5316840"/>
            <a:ext cx="228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64120" y="5316840"/>
            <a:ext cx="1368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4956840" y="5241960"/>
            <a:ext cx="4106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3007080" y="116640"/>
            <a:ext cx="313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11640" y="476640"/>
            <a:ext cx="77763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436120" y="5316840"/>
            <a:ext cx="228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64120" y="5316840"/>
            <a:ext cx="1368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4956840" y="5241960"/>
            <a:ext cx="4106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3564000" y="260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755640" y="476640"/>
            <a:ext cx="73443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Century Gothic"/>
              </a:rPr>
              <a:t>Роды в тазовом предлежании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вследствие повышенной частоты осложнений для матери и ребенка по сравнению с головным предлежанием, </a:t>
            </a:r>
            <a:r>
              <a:rPr b="1" i="1" lang="ru-RU" sz="4000" spc="-1" strike="noStrike">
                <a:solidFill>
                  <a:srgbClr val="ffffff"/>
                </a:solidFill>
                <a:latin typeface="Century Gothic"/>
              </a:rPr>
              <a:t>относят к патологическ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611640" y="548640"/>
            <a:ext cx="77763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2483640" y="4581000"/>
            <a:ext cx="228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мешанное ягодичное предле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2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467640" y="4581000"/>
            <a:ext cx="180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исто ягодичное предле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6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4860000" y="4509000"/>
            <a:ext cx="41065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ножное предлежание : полное, непол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(10 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оленное (0,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"/>
          <p:cNvPicPr/>
          <p:nvPr/>
        </p:nvPicPr>
        <p:blipFill>
          <a:blip r:embed="rId1"/>
          <a:stretch/>
        </p:blipFill>
        <p:spPr>
          <a:xfrm>
            <a:off x="827640" y="1073160"/>
            <a:ext cx="7704360" cy="3291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2817720" y="116640"/>
            <a:ext cx="3603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2"/>
          <p:cNvSpPr/>
          <p:nvPr/>
        </p:nvSpPr>
        <p:spPr>
          <a:xfrm>
            <a:off x="286920" y="116640"/>
            <a:ext cx="88567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Ягодичные предлежа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гибатель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сто ягодичные (неполные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— ко входу в таз обращены ягодицы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жки вытянуты вдоль туловища, т. е. согнуты в тазобедренных и разогн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в коленных суставах, стопы расположены в области подбородка и 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мешанные ягодичные (полные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ко входу в таз обращ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годицы вместе с ножками, согнутыми в тазобедренных и коленных суставах, несколько разогнутыми в голеностопных суставах, плод в п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идит по-турец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1640" y="116640"/>
            <a:ext cx="831600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ожные предлежа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азгибательные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ны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— ко входу в таз предлежат обе ножки плода, слегка разогнутые в тазобедренных и согнутые в коленных сустав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пол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предлежит одна ножка, разогнутая в тазобедренном и коленном суставах, а другая, согнутая в тазобедренном и коленном суставах, располагается выше; встречаются чаще, чем полны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л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ножки разогнуты в тазобедренных суставах и согнуты в коленных, а коленки предлежат ко входу в т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1640" y="927720"/>
            <a:ext cx="457164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нские прич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омалии развития ма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холи матки (миом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ий та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холи таз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ижение или повышение тонуса ма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ий парит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бец на матке после оп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перстеническая конститу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ая предрасполо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762920" y="188640"/>
            <a:ext cx="2460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Эт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323640" y="116640"/>
            <a:ext cx="5118120" cy="60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лодовые прич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доноше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ногоплод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енькая масса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ниженная или повышенная активность пл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адержка внутриутробного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рожденные аномалии плода (анэнцефалия, гидроцефал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равильное членорасположение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зрелость вестибулярного аппарата        у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ромосомные патоло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ибель пл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251640" y="5229360"/>
            <a:ext cx="4571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Плацентарные причи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лежание плац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аловодие или многовод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ороткая пупов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1e5155"/>
      </a:dk2>
      <a:lt2>
        <a:srgbClr val="ebebeb"/>
      </a:lt2>
      <a:accent1>
        <a:srgbClr val="b01513"/>
      </a:accent1>
      <a:accent2>
        <a:srgbClr val="ea6312"/>
      </a:accent2>
      <a:accent3>
        <a:srgbClr val="e6b729"/>
      </a:accent3>
      <a:accent4>
        <a:srgbClr val="6aac90"/>
      </a:accent4>
      <a:accent5>
        <a:srgbClr val="5f9c9d"/>
      </a:accent5>
      <a:accent6>
        <a:srgbClr val="9e5e9b"/>
      </a:accent6>
      <a:hlink>
        <a:srgbClr val="58c1ba"/>
      </a:hlink>
      <a:folHlink>
        <a:srgbClr val="9dd0c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1635</TotalTime>
  <Application>LibreOffice/7.4.7.2$Linux_X86_64 LibreOffice_project/40$Build-2</Application>
  <AppVersion>15.0000</AppVersion>
  <Words>1695</Words>
  <Paragraphs>176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14:36:32Z</dcterms:created>
  <dc:creator>Julia</dc:creator>
  <dc:description/>
  <dc:language>en-US</dc:language>
  <cp:lastModifiedBy>Пользователь</cp:lastModifiedBy>
  <dcterms:modified xsi:type="dcterms:W3CDTF">2020-10-19T12:30:04Z</dcterms:modified>
  <cp:revision>132</cp:revision>
  <dc:subject/>
  <dc:title>Тазовые предлежания пл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