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268-B017-458C-A43B-D9C53AF6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E33-041C-4413-9E0C-37C65CD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247-E70C-47EF-867A-9622440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628-C152-49DA-8082-E60BE960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48AC-3AD8-44E8-AFF4-B031F39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7FC-4018-4131-BB4E-236590A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599-AF5C-4BF0-BE4A-F0DE5A5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720-208B-42FB-82E7-A4624BD0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8BD4-8389-4BF0-8B04-0F012DD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259E-CE30-4CBE-8DD9-DD01473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D562-D21A-4A33-A0D0-240FB67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580-833B-4C19-AF1C-AED27AC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4DA-E946-4D18-997D-5F523DE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0B5D-5A0D-4D6F-BB30-2C93E85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F84-2CC7-495A-B4F3-DEEFAFF6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CAF6-5965-4E0D-B92A-C792FC93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D49-F452-4AA3-B00D-3D70BE63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E5F-36E1-49B0-A52C-78AFBC65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0E4-8D8D-4235-8271-F55EE15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E47-737B-43F6-9E14-5031F4B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A59-6FF1-4B2F-AAC4-76804077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73F-4FA6-46CB-B3E8-9965DF7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525-D538-496F-AFC6-0C024F0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307-EC50-4CD6-B0C3-2301F160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094B5B-E464-4F23-947C-2FDB58DA9A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D7E4F3-8826-4F2B-B1AB-2F425DD6BC8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e.crimea.be/images/com_sobi2/gallery/877/877_image_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тематический экспрес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5517360"/>
            <a:ext cx="91436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Городской конкурс юных математиков среди 6-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D:\мое\МОЕ\неделя математики\Rebus_50\rebus_32.png"/>
          <p:cNvPicPr/>
          <p:nvPr/>
        </p:nvPicPr>
        <p:blipFill>
          <a:blip r:embed="rId1"/>
          <a:stretch/>
        </p:blipFill>
        <p:spPr>
          <a:xfrm>
            <a:off x="0" y="332640"/>
            <a:ext cx="9143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D:\мое\МОЕ\неделя математики\Rebus_50\rebus_34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5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D:\мое\МОЕ\неделя математики\Rebus_50\rebus_33.png"/>
          <p:cNvPicPr/>
          <p:nvPr/>
        </p:nvPicPr>
        <p:blipFill>
          <a:blip r:embed="rId1"/>
          <a:stretch/>
        </p:blipFill>
        <p:spPr>
          <a:xfrm>
            <a:off x="323640" y="260640"/>
            <a:ext cx="8820000" cy="65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D:\мое\МОЕ\неделя математики\Rebus_50\rebus_31.png"/>
          <p:cNvPicPr/>
          <p:nvPr/>
        </p:nvPicPr>
        <p:blipFill>
          <a:blip r:embed="rId1"/>
          <a:stretch/>
        </p:blipFill>
        <p:spPr>
          <a:xfrm>
            <a:off x="0" y="476640"/>
            <a:ext cx="9468360" cy="63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D:\мое\МОЕ\неделя математики\Rebus_50\rebus_30.png"/>
          <p:cNvPicPr/>
          <p:nvPr/>
        </p:nvPicPr>
        <p:blipFill>
          <a:blip r:embed="rId1"/>
          <a:stretch/>
        </p:blipFill>
        <p:spPr>
          <a:xfrm>
            <a:off x="0" y="620640"/>
            <a:ext cx="9143640" cy="62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Кроссворд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 “</a:t>
            </a: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пичеч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1187640" y="2637000"/>
            <a:ext cx="6336360" cy="20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Шифрова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Форму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Сообразите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Поздравитель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 “Логическ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Станция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 “</a:t>
            </a:r>
            <a:r>
              <a:rPr b="1" lang="ru-RU" sz="6600" spc="-1" strike="noStrike">
                <a:solidFill>
                  <a:schemeClr val="accent1"/>
                </a:solidFill>
                <a:latin typeface="Calibri"/>
              </a:rPr>
              <a:t>РЕБУСНАЯ”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D:\мое\МОЕ\неделя математики\Rebus_50\rebus_29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D:\мое\МОЕ\неделя математики\Rebus_50\rebus_28.png"/>
          <p:cNvPicPr/>
          <p:nvPr/>
        </p:nvPicPr>
        <p:blipFill>
          <a:blip r:embed="rId1"/>
          <a:stretch/>
        </p:blipFill>
        <p:spPr>
          <a:xfrm>
            <a:off x="395640" y="548640"/>
            <a:ext cx="8748000" cy="55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D:\мое\МОЕ\неделя математики\Rebus_50\rebus_27.png"/>
          <p:cNvPicPr/>
          <p:nvPr/>
        </p:nvPicPr>
        <p:blipFill>
          <a:blip r:embed="rId1"/>
          <a:stretch/>
        </p:blipFill>
        <p:spPr>
          <a:xfrm>
            <a:off x="0" y="332640"/>
            <a:ext cx="9143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D:\мое\МОЕ\неделя математики\Rebus_50\rebus_26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D:\мое\МОЕ\неделя математики\Rebus_50\rebus_25.png"/>
          <p:cNvPicPr/>
          <p:nvPr/>
        </p:nvPicPr>
        <p:blipFill>
          <a:blip r:embed="rId1"/>
          <a:stretch/>
        </p:blipFill>
        <p:spPr>
          <a:xfrm>
            <a:off x="0" y="260640"/>
            <a:ext cx="9143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4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6:52:12Z</dcterms:created>
  <dc:creator>Ginuyatova</dc:creator>
  <dc:description/>
  <dc:language>en-US</dc:language>
  <cp:lastModifiedBy>Ginuyatova</cp:lastModifiedBy>
  <dcterms:modified xsi:type="dcterms:W3CDTF">2014-02-05T17:38:57Z</dcterms:modified>
  <cp:revision>7</cp:revision>
  <dc:subject/>
  <dc:title>Математический экспре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