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306-D6D2-4AF8-A93C-E8B025E3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710-3B97-4D46-B2F2-A46A531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34B-0B5C-426E-B34E-E21F109A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2B1-B0AC-486D-B36E-C19D1C7E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1BC-1B7C-4CBA-AA8B-105ECCDD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F204-A847-4F54-8A08-3984C52A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0AB1-FEFD-4A4A-AE7E-C55EC777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4FB4-3617-4583-9297-39A97AF1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FBEF-8FDB-419B-ACDB-188D3314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0C27-C762-4501-9C85-FD85D06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1DE2-B612-4D41-B8AD-B526607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FF5-D468-4468-B8F1-99DEB86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E26-80A7-4CCB-84B8-5C6C3EE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3543-C125-42F4-8941-576735B5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DCA5-78D0-48A6-B257-46B8D7CE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D466-F65E-442D-BA4B-E5815610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105A-EE9B-4D87-9258-E3C324A5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EEF-C094-410C-B597-6B788D6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AC3-F336-4E45-BF4C-744077D0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DFF-A23A-4923-9876-027E6075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CE8-9FBC-460C-ADE5-7A3DF82E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AE6-BD14-4C44-BA00-4548323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B17-F2C3-464F-858C-08A63261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F1A-C9C3-46D7-A3C6-C56D900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457485-563A-4AEF-AF2F-AB8D811474F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8130DD-31BF-4B2A-A9C9-9360191D32F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e.crimea.be/images/com_sobi2/gallery/877/877_image_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тематический экспрес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5517360"/>
            <a:ext cx="91436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Городской конкурс юных математиков среди 6-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D:\мое\МОЕ\неделя математики\Rebus_50\rebus_32.png"/>
          <p:cNvPicPr/>
          <p:nvPr/>
        </p:nvPicPr>
        <p:blipFill>
          <a:blip r:embed="rId1"/>
          <a:stretch/>
        </p:blipFill>
        <p:spPr>
          <a:xfrm>
            <a:off x="0" y="332640"/>
            <a:ext cx="9143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D:\мое\МОЕ\неделя математики\Rebus_50\rebus_34.png"/>
          <p:cNvPicPr/>
          <p:nvPr/>
        </p:nvPicPr>
        <p:blipFill>
          <a:blip r:embed="rId1"/>
          <a:stretch/>
        </p:blipFill>
        <p:spPr>
          <a:xfrm>
            <a:off x="0" y="260640"/>
            <a:ext cx="9143640" cy="65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D:\мое\МОЕ\неделя математики\Rebus_50\rebus_33.png"/>
          <p:cNvPicPr/>
          <p:nvPr/>
        </p:nvPicPr>
        <p:blipFill>
          <a:blip r:embed="rId1"/>
          <a:stretch/>
        </p:blipFill>
        <p:spPr>
          <a:xfrm>
            <a:off x="323640" y="260640"/>
            <a:ext cx="8820000" cy="65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D:\мое\МОЕ\неделя математики\Rebus_50\rebus_31.png"/>
          <p:cNvPicPr/>
          <p:nvPr/>
        </p:nvPicPr>
        <p:blipFill>
          <a:blip r:embed="rId1"/>
          <a:stretch/>
        </p:blipFill>
        <p:spPr>
          <a:xfrm>
            <a:off x="0" y="476640"/>
            <a:ext cx="9468360" cy="63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D:\мое\МОЕ\неделя математики\Rebus_50\rebus_30.png"/>
          <p:cNvPicPr/>
          <p:nvPr/>
        </p:nvPicPr>
        <p:blipFill>
          <a:blip r:embed="rId1"/>
          <a:stretch/>
        </p:blipFill>
        <p:spPr>
          <a:xfrm>
            <a:off x="0" y="620640"/>
            <a:ext cx="9143640" cy="62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Кроссворд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 “</a:t>
            </a: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пичеч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1187640" y="2637000"/>
            <a:ext cx="6336360" cy="20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Шифрова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Форму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Сообразите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Поздравите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Логическ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 “</a:t>
            </a: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РЕБУС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D:\мое\МОЕ\неделя математики\Rebus_50\rebus_29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D:\мое\МОЕ\неделя математики\Rebus_50\rebus_28.png"/>
          <p:cNvPicPr/>
          <p:nvPr/>
        </p:nvPicPr>
        <p:blipFill>
          <a:blip r:embed="rId1"/>
          <a:stretch/>
        </p:blipFill>
        <p:spPr>
          <a:xfrm>
            <a:off x="395640" y="548640"/>
            <a:ext cx="8748000" cy="55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D:\мое\МОЕ\неделя математики\Rebus_50\rebus_27.png"/>
          <p:cNvPicPr/>
          <p:nvPr/>
        </p:nvPicPr>
        <p:blipFill>
          <a:blip r:embed="rId1"/>
          <a:stretch/>
        </p:blipFill>
        <p:spPr>
          <a:xfrm>
            <a:off x="0" y="332640"/>
            <a:ext cx="9143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D:\мое\МОЕ\неделя математики\Rebus_50\rebus_26.png"/>
          <p:cNvPicPr/>
          <p:nvPr/>
        </p:nvPicPr>
        <p:blipFill>
          <a:blip r:embed="rId1"/>
          <a:stretch/>
        </p:blipFill>
        <p:spPr>
          <a:xfrm>
            <a:off x="0" y="260640"/>
            <a:ext cx="9143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D:\мое\МОЕ\неделя математики\Rebus_50\rebus_25.png"/>
          <p:cNvPicPr/>
          <p:nvPr/>
        </p:nvPicPr>
        <p:blipFill>
          <a:blip r:embed="rId1"/>
          <a:stretch/>
        </p:blipFill>
        <p:spPr>
          <a:xfrm>
            <a:off x="0" y="260640"/>
            <a:ext cx="9143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  <Words>43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6:52:12Z</dcterms:created>
  <dc:creator>Ginuyatova</dc:creator>
  <dc:description/>
  <dc:language>en-US</dc:language>
  <cp:lastModifiedBy>Ginuyatova</cp:lastModifiedBy>
  <dcterms:modified xsi:type="dcterms:W3CDTF">2014-02-05T17:38:57Z</dcterms:modified>
  <cp:revision>7</cp:revision>
  <dc:subject/>
  <dc:title>Математический экспре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