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2C0-E7E0-4B21-9196-0F171F2A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DE0-6AB6-4C9E-A057-D2DEE650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BF6-B5DB-442E-9085-1B0F1787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76B-00D2-4C18-A084-ED5ED884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60D5-53F6-4EDF-B5AA-322E6F54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1008-8AD9-4DFF-8D1D-9B445F8F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03B5-B3FD-47AE-B304-57629DB2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32CE-6D3E-4321-877B-406CAC5E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7258-0651-49BF-A0EA-236B7B6C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74E0-327C-445F-8F23-BF4ECC3F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1831-DDE3-4389-B6BF-217ABE9C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662-E941-4BB5-9D96-1F06A5E9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37FD-814D-4DD9-BB8B-46D70CAC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79E1-F5D8-46E9-9600-F310D40C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9A82-6B8F-4207-81C2-766F07C7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8F8B-D970-46C5-9B24-80817DC2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F4F2-3BDD-4C9D-BD44-44F98885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801-134A-497B-BEF2-1EB89DBB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4D20-ACB4-44DD-A45F-2B0BD8A3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434-9EC3-469E-902B-F92C829D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7A0-5BBD-4590-B22B-CDFE8CB9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446-FCD8-4A25-BDF1-ED039C84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CEF-4EB1-428A-8F9C-FF35C8A0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B78-46F4-4C00-9C90-79ACC7B5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0A98AA-B1C8-4F57-AF5E-2D42A64D86F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931002-4CEF-4ED1-A4DB-5522D5D7DF9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Тема 8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Picture 2" descr="Письмо Минздрава России от 18.05.2017 N 15-4/10/2-3299"/>
          <p:cNvPicPr/>
          <p:nvPr/>
        </p:nvPicPr>
        <p:blipFill>
          <a:blip r:embed="rId1"/>
          <a:stretch/>
        </p:blipFill>
        <p:spPr>
          <a:xfrm>
            <a:off x="1323000" y="2087280"/>
            <a:ext cx="87534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88640"/>
            <a:ext cx="1030536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Биомеханизм родов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131920" y="1268280"/>
            <a:ext cx="2126880" cy="1757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5016600" y="1268280"/>
            <a:ext cx="2004480" cy="1757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7802640" y="1268280"/>
            <a:ext cx="2015640" cy="1757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2131920" y="3801960"/>
            <a:ext cx="2126880" cy="1714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5"/>
          <a:stretch/>
        </p:blipFill>
        <p:spPr>
          <a:xfrm>
            <a:off x="5016600" y="3797280"/>
            <a:ext cx="2004480" cy="1719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6"/>
          <a:stretch/>
        </p:blipFill>
        <p:spPr>
          <a:xfrm>
            <a:off x="7802640" y="3801960"/>
            <a:ext cx="2015640" cy="17143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5"/>
          <p:cNvSpPr/>
          <p:nvPr/>
        </p:nvSpPr>
        <p:spPr>
          <a:xfrm>
            <a:off x="1536840" y="3017880"/>
            <a:ext cx="3317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ставление, опускание и крестцовая ротация ягоди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4919760" y="3027240"/>
            <a:ext cx="2198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нутренний поворот ягод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7703280" y="3059280"/>
            <a:ext cx="221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ождение ягоди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1581120" y="5445000"/>
            <a:ext cx="3228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ождение туловища до пупочного ко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4583160" y="5445000"/>
            <a:ext cx="3025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ождение туловища до нижнего угла передней лопа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0"/>
          <p:cNvSpPr/>
          <p:nvPr/>
        </p:nvSpPr>
        <p:spPr>
          <a:xfrm>
            <a:off x="7674480" y="5537160"/>
            <a:ext cx="227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ождение гол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9040" y="188640"/>
            <a:ext cx="102049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родов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Группа 5"/>
          <p:cNvGrpSpPr/>
          <p:nvPr/>
        </p:nvGrpSpPr>
        <p:grpSpPr>
          <a:xfrm>
            <a:off x="3926160" y="1907280"/>
            <a:ext cx="6634080" cy="2753280"/>
            <a:chOff x="3926160" y="1907280"/>
            <a:chExt cx="6634080" cy="2753280"/>
          </a:xfrm>
        </p:grpSpPr>
        <p:sp>
          <p:nvSpPr>
            <p:cNvPr id="117" name="Прямоугольник с двумя скругленными соседними углами 7"/>
            <p:cNvSpPr/>
            <p:nvPr/>
          </p:nvSpPr>
          <p:spPr>
            <a:xfrm rot="5400000">
              <a:off x="5851080" y="-17640"/>
              <a:ext cx="2753280" cy="660348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rgbClr val="ffe8cc"/>
            </a:solidFill>
            <a:ln>
              <a:solidFill>
                <a:srgbClr val="ffe8cc"/>
              </a:solidFill>
            </a:ln>
            <a:scene3d>
              <a:camera prst="orthographicFront"/>
              <a:lightRig rig="threePt" dir="t"/>
            </a:scene3d>
            <a:sp3d extrusionH="190500" prstMaterial="dkEdge">
              <a:bevelT prst="relaxedInset" w="120650" h="38100"/>
              <a:bevelB prst="relaxedInset" w="120650" h="57150"/>
              <a:contourClr>
                <a:schemeClr val="bg1"/>
              </a:contourClr>
            </a:sp3d>
          </p:spPr>
          <p:style>
            <a:lnRef idx="1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оугольник 8"/>
            <p:cNvSpPr/>
            <p:nvPr/>
          </p:nvSpPr>
          <p:spPr>
            <a:xfrm>
              <a:off x="4076640" y="2041560"/>
              <a:ext cx="6483600" cy="24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мониторный контроль состояния плода, сократительной деятельности матк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ведение партограммы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своевременное обезболивание и введение спазмолитических препаратов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своевременная диагностика осложнений, их коррекция и определение дальнейшей такти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9"/>
          <p:cNvGrpSpPr/>
          <p:nvPr/>
        </p:nvGrpSpPr>
        <p:grpSpPr>
          <a:xfrm>
            <a:off x="1749240" y="2360880"/>
            <a:ext cx="2099520" cy="2165400"/>
            <a:chOff x="1749240" y="2360880"/>
            <a:chExt cx="2099520" cy="2165400"/>
          </a:xfrm>
        </p:grpSpPr>
        <p:sp>
          <p:nvSpPr>
            <p:cNvPr id="120" name="Скругленный прямоугольник 10"/>
            <p:cNvSpPr/>
            <p:nvPr/>
          </p:nvSpPr>
          <p:spPr>
            <a:xfrm>
              <a:off x="1749240" y="2360880"/>
              <a:ext cx="2099520" cy="2165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54b"/>
                </a:gs>
                <a:gs pos="100000">
                  <a:srgbClr val="ffbf00"/>
                </a:gs>
              </a:gsLst>
              <a:lin ang="5400000"/>
            </a:gradFill>
            <a:ln w="0">
              <a:noFill/>
            </a:ln>
            <a:scene3d>
              <a:camera prst="orthographicFront"/>
              <a:lightRig rig="threePt" dir="t"/>
            </a:scene3d>
            <a:sp3d prstMaterial="plastic">
              <a:bevelT prst="relaxedInset" w="127000" h="2540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4">
                <a:hueOff val="0"/>
                <a:satOff val="0"/>
                <a:lumOff val="0"/>
                <a:alphaOff val="0"/>
              </a:schemeClr>
            </a:fillRef>
            <a:effectRef idx="2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Скругленный прямоугольник 6"/>
            <p:cNvSpPr/>
            <p:nvPr/>
          </p:nvSpPr>
          <p:spPr>
            <a:xfrm>
              <a:off x="1851840" y="2445120"/>
              <a:ext cx="1894320" cy="19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en-US" sz="2000" spc="-1" strike="noStrike">
                  <a:solidFill>
                    <a:schemeClr val="lt1"/>
                  </a:solidFill>
                  <a:latin typeface="Calibri"/>
                </a:rPr>
                <a:t>I</a:t>
              </a:r>
              <a:r>
                <a:rPr b="0" lang="ru-RU" sz="2000" spc="-1" strike="noStrike">
                  <a:solidFill>
                    <a:schemeClr val="lt1"/>
                  </a:solidFill>
                  <a:latin typeface="Calibri"/>
                </a:rPr>
                <a:t> период 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2680" y="188640"/>
            <a:ext cx="1029096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родов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Группа 3"/>
          <p:cNvGrpSpPr/>
          <p:nvPr/>
        </p:nvGrpSpPr>
        <p:grpSpPr>
          <a:xfrm>
            <a:off x="4007880" y="2225880"/>
            <a:ext cx="6469200" cy="2405520"/>
            <a:chOff x="4007880" y="2225880"/>
            <a:chExt cx="6469200" cy="2405520"/>
          </a:xfrm>
        </p:grpSpPr>
        <p:sp>
          <p:nvSpPr>
            <p:cNvPr id="125" name="Прямоугольник с двумя скругленными соседними углами 7"/>
            <p:cNvSpPr/>
            <p:nvPr/>
          </p:nvSpPr>
          <p:spPr>
            <a:xfrm rot="5400000">
              <a:off x="6039720" y="194040"/>
              <a:ext cx="2405520" cy="646884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rgbClr val="ffe8cc"/>
            </a:solidFill>
            <a:ln>
              <a:solidFill>
                <a:srgbClr val="ffe8cc"/>
              </a:solidFill>
            </a:ln>
            <a:scene3d>
              <a:camera prst="orthographicFront"/>
              <a:lightRig rig="threePt" dir="t"/>
            </a:scene3d>
            <a:sp3d extrusionH="190500" prstMaterial="dkEdge">
              <a:bevelT prst="relaxedInset" w="120650" h="38100"/>
              <a:bevelB prst="relaxedInset" w="120650" h="57150"/>
              <a:contourClr>
                <a:schemeClr val="bg1"/>
              </a:contourClr>
            </a:sp3d>
          </p:spPr>
          <p:style>
            <a:lnRef idx="1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рямоугольник 8"/>
            <p:cNvSpPr/>
            <p:nvPr/>
          </p:nvSpPr>
          <p:spPr>
            <a:xfrm>
              <a:off x="4007880" y="2343600"/>
              <a:ext cx="6351480" cy="21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мониторный контроль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вутривенное введение утеротонических средств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внутривенное введение спазмолитиков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рассечение промежност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оказание ручного пособ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Группа 4"/>
          <p:cNvGrpSpPr/>
          <p:nvPr/>
        </p:nvGrpSpPr>
        <p:grpSpPr>
          <a:xfrm>
            <a:off x="1811520" y="2343600"/>
            <a:ext cx="2099520" cy="2180880"/>
            <a:chOff x="1811520" y="2343600"/>
            <a:chExt cx="2099520" cy="2180880"/>
          </a:xfrm>
        </p:grpSpPr>
        <p:sp>
          <p:nvSpPr>
            <p:cNvPr id="128" name="Скругленный прямоугольник 5"/>
            <p:cNvSpPr/>
            <p:nvPr/>
          </p:nvSpPr>
          <p:spPr>
            <a:xfrm>
              <a:off x="1811520" y="2343600"/>
              <a:ext cx="2099520" cy="218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54b"/>
                </a:gs>
                <a:gs pos="100000">
                  <a:srgbClr val="ffbf00"/>
                </a:gs>
              </a:gsLst>
              <a:lin ang="5400000"/>
            </a:gradFill>
            <a:ln w="0">
              <a:noFill/>
            </a:ln>
            <a:scene3d>
              <a:camera prst="orthographicFront"/>
              <a:lightRig rig="threePt" dir="t"/>
            </a:scene3d>
            <a:sp3d prstMaterial="plastic">
              <a:bevelT prst="relaxedInset" w="127000" h="2540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4">
                <a:hueOff val="0"/>
                <a:satOff val="0"/>
                <a:lumOff val="0"/>
                <a:alphaOff val="0"/>
              </a:schemeClr>
            </a:fillRef>
            <a:effectRef idx="2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Скругленный прямоугольник 6"/>
            <p:cNvSpPr/>
            <p:nvPr/>
          </p:nvSpPr>
          <p:spPr>
            <a:xfrm>
              <a:off x="1914120" y="2428200"/>
              <a:ext cx="189432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ru-RU" sz="2000" spc="-1" strike="noStrike">
                  <a:solidFill>
                    <a:schemeClr val="lt1"/>
                  </a:solidFill>
                  <a:latin typeface="Calibri"/>
                </a:rPr>
                <a:t>I</a:t>
              </a:r>
              <a:r>
                <a:rPr b="0" lang="en-US" sz="2000" spc="-1" strike="noStrike">
                  <a:solidFill>
                    <a:schemeClr val="lt1"/>
                  </a:solidFill>
                  <a:latin typeface="Calibri"/>
                </a:rPr>
                <a:t>I</a:t>
              </a:r>
              <a:r>
                <a:rPr b="0" lang="ru-RU" sz="2000" spc="-1" strike="noStrike">
                  <a:solidFill>
                    <a:schemeClr val="lt1"/>
                  </a:solidFill>
                  <a:latin typeface="Calibri"/>
                </a:rPr>
                <a:t> период 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Прямоугольник 9"/>
          <p:cNvSpPr/>
          <p:nvPr/>
        </p:nvSpPr>
        <p:spPr>
          <a:xfrm>
            <a:off x="1523880" y="6603840"/>
            <a:ext cx="6048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05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800" y="188640"/>
            <a:ext cx="104101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родов при тазовом предлежании плода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4656240" y="1157400"/>
            <a:ext cx="3531960" cy="45032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2279520" y="5661000"/>
            <a:ext cx="7919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Оказание пособия по Цовьянову Н. А. при чистом ягодичном предлеж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1240" y="188640"/>
            <a:ext cx="103327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родов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4325760" y="1700280"/>
            <a:ext cx="3828600" cy="28810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5"/>
          <p:cNvSpPr/>
          <p:nvPr/>
        </p:nvSpPr>
        <p:spPr>
          <a:xfrm>
            <a:off x="1992240" y="4581360"/>
            <a:ext cx="849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Оказание пособия по Цовьянову Н. А. при ножном предлеж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1581840" y="6603840"/>
            <a:ext cx="22903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Акушерство - Айламазян Э.К. - 2014 г.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5320" y="188640"/>
            <a:ext cx="102686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родов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7104240" y="3141720"/>
            <a:ext cx="2908080" cy="2877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703520" y="1125360"/>
            <a:ext cx="2676240" cy="2990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4159080" y="2060640"/>
            <a:ext cx="3101760" cy="29905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1703520" y="4116240"/>
            <a:ext cx="2952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свобождение задней ру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3925800" y="5048280"/>
            <a:ext cx="3335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свобождение второй  ручки после поворота туловища на 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Термины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зов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praesentatio pelvic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- предлежание, при котором ягодицы и/или ножки/ножка плода являются предлежащей частью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амопроизвольные роды в тазовом предлежании неосложненн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- это роды одним плодом в тазовом предлежании, которые начались спонтанно, прошли без осложнений, при которых ребенок родился в тазовом предлежании. После родов родильница и новорожденный находятся в удовлетворительном состоян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лассификация тазовых предлежаний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80" y="1487160"/>
            <a:ext cx="1194156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99080" indent="-199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годичные предлежания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Чистое ягодич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неполное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(встречается в 63,2-68% случаев) - ножки согнуты в тазобедренных суставах и разогнуты в коленных; предлежат только ягодицы плод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мешанное ягодич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олное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(встречается в 20,6-23,4% случаев) - ножки согнуты в тазобедренных и коленных суставах; предлежат стопы и ягодиц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99080" indent="-199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ж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(встречается в 11,4-13,4% случаев)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еполное нож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- предлежат ягодицы и одна из ножек (стоп) плода. При этом одна ножка разогнута в тазобедренном и коленном суставе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лное нож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- предлежат обе ножки (стопы) плода, при этом обе ножки разогнуты в тазобедренных суставах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лен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- предлежат колени (одно или оба) плода (редкая разновидность ножного предлежания)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дах возможен переход одного вида тазового предлежания в друго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зиция плода при Т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определяется традиционно - по отношению спинки плода к левому (I) или правому (II) рёбрам матки, а вид - по отношению спинки к передней/задней стенке матки (соответственно передний или задний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15240" cy="8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Этиология Т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896040"/>
            <a:ext cx="12191760" cy="596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Сужение таза, аномальная форма таз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Пороки развития матки (двурогая, седловидная, с перегородкой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Чрезмерная или ограниченная подвижность плода (первобеременные, многорожавшие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Многоводие или маловод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Многоплодная беременнос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Новообразования внутренних половых органов (миоматозные узлы, опухоли придатков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 Патология плацентации (полное или неполное предлежание плаценты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. Пороки развития мат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. ВПР плода (анэнцефалия, гидроцефалия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. Короткая пуповин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1. Синдром задержки роста пл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етоды диагност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ружное акушерское исследование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лагалищное исследование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УЗ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МРТ, КТ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ризнаки тазовых предлежаний при наружном и влагалищном исследования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25520"/>
            <a:ext cx="119142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93320" indent="-193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ое стояние дна матки, так как тазовый конец плода высоко расположен над входом в таз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головка плода (округлое плотное баллотирующее образование) расположена в дне матки, а ягодицы (крупная, неправильной формы, не баллотирующая предлежащая часть) - над входом в таз, что определяют при пальпации живота беременной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ердцебиение плода выслушивают на уровне пупка или выше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о время родов данные влагалищного исследования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 ягодичном предлежании предлежащая часть мягкая, можно прощупать щель между ягодицами, крестец, половые органы плода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 чистом ягодичном предлежании можно найти паховый сгиб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 смешанном ягодичном предлежании рядом с ягодицами прощупывают стопу, по локализации крестца уточняют позицию и вид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 ножных предлежаниях определяется ножка или ножки плод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беременности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834640"/>
            <a:ext cx="10515240" cy="16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линически важно подтверждение тазового предлежания в 36 недель. Однако около 8% плодов совершают самопроизвольный поворот на головку и после 36 недель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ри подтверждении тазового предлежания в 36 недель необходимо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07360" indent="-20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сти консультирование в консультативно-диагностическом отделении перинатального центр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 отсутствии противопоказаний пациентке должен быть предложен наружный акушерский поворот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ледует ознакомить пациентку с рисками, связанными с родами в тазовом предлежании, и медицинскими вмешательствами, позволяющими снизить этот риск, о методах родоразрешения и их рисках в плане материнской заболеваемости, о потенциальных учреждениях родовспоможения, на базе которых возможно родоразрешение пациенток с тазовым предлежанием пл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15240" cy="76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Наружный поворот плода на головк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1040" y="768240"/>
            <a:ext cx="11420640" cy="59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158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58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еревод тазового предлежания плода в головное. </a:t>
            </a:r>
            <a:br>
              <a:rPr sz="1580"/>
            </a:br>
            <a:r>
              <a:rPr b="1" lang="ru-RU" sz="158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для наружного акушерского поворота: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Срок гестации не менее 36 недель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тсутствие противопоказаний к родоразрешению через естественные родовые пути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Удовлетворительное состояние плода (кардиотокография - нестрессовый тест, допплерометрическое исследование кровотока в артерии пуповины и средней мозговой артерии плода, маточных артериях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Адекватное количество амниотической жидкости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озможность экстренного абдоминального оперативного родоразрешения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i="1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Абсолютные противопоказания к проведению наружного акушерского поворота: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 </a:t>
            </a: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ланируемое оперативное родоразрешение путем кесарева сечения по другим показаниям (предлежание плаценты, анатомическое сужение таза, тяжелая экстрагенитальная патология и т.д.)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Кровотечения второй половины беременности или последние 7 дней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отивопоказания к приему бета-адреномиметиков (тиреотоксикоз, аритмия, болезни </a:t>
            </a:r>
            <a:br>
              <a:rPr sz="1580"/>
            </a:b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сердца, при которых использование препаратов этой группы противопоказано)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атологическая/пограничная КТГ, нарушение кровотока в системе мать-плацента-плода по данным допплерометрического исследования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Маловесный к сроку гестации с аномальными показателями допплерометрии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Аномалии матки, опухоли матки или ее придатков, препятствующие повороту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Многоплодие (кроме поворота второго плода)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Рубец на матке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Грубые пороки развития плода, мертвый плод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Разгибание головки плода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бвитие пуповины вокруг шеи плода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Тяжелая преэклампсия или высокая артериальная гипертензия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Разрыв плодных оболочек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  <Words>268</Words>
  <Paragraphs>75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9T04:44:58Z</dcterms:created>
  <dc:creator>Учетная запись Майкрософт</dc:creator>
  <dc:description/>
  <dc:language>en-US</dc:language>
  <cp:lastModifiedBy>Учетная запись Майкрософт</cp:lastModifiedBy>
  <dcterms:modified xsi:type="dcterms:W3CDTF">2020-10-19T07:24:42Z</dcterms:modified>
  <cp:revision>1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6</vt:r8>
  </property>
</Properties>
</file>