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ata2.xml" ContentType="application/vnd.openxmlformats-officedocument.drawingml.diagramData+xml"/>
  <Override PartName="/ppt/diagrams/layout3.xml" ContentType="application/vnd.openxmlformats-officedocument.drawingml.diagramLayout+xml"/>
  <Override PartName="/ppt/diagrams/quickStyle2.xml" ContentType="application/vnd.openxmlformats-officedocument.drawingml.diagramStyle+xml"/>
  <Override PartName="/ppt/diagrams/colors2.xml" ContentType="application/vnd.openxmlformats-officedocument.drawingml.diagramColors+xml"/>
  <Override PartName="/ppt/diagrams/data3.xml" ContentType="application/vnd.openxmlformats-officedocument.drawingml.diagramData+xml"/>
  <Override PartName="/ppt/diagrams/quickStyle3.xml" ContentType="application/vnd.openxmlformats-officedocument.drawingml.diagramStyle+xml"/>
  <Override PartName="/ppt/diagrams/colors3.xml" ContentType="application/vnd.openxmlformats-officedocument.drawingml.diagramColors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98D03E92-49E6-4AF5-BB08-72917DBA2112}" type="doc">
      <dgm:prSet loTypeId="urn:microsoft.com/office/officeart/2005/8/layout/vList2" loCatId="list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73CFD669-2620-48C7-A159-FF844CA5DD94}">
      <dgm:prSet>
        <dgm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>
            <a:schemeClr val="dk1"/>
          </a:fontRef>
        </dgm:style>
      </dgm:prSet>
      <dgm:spPr/>
      <dgm:t>
        <a:bodyPr/>
        <a:lstStyle/>
        <a:p>
          <a:pPr algn="ctr" rtl="0"/>
          <a:r>
            <a:rPr lang="ru-RU" b="1" dirty="0" smtClean="0"/>
            <a:t>УЧЕТ НА ПРЕДПРИЯТИЯХ МАЛОГО БИЗНЕСА </a:t>
          </a:r>
          <a:endParaRPr lang="ru-RU" b="1" dirty="0"/>
        </a:p>
      </dgm:t>
    </dgm:pt>
    <dgm:pt modelId="{3DC1EBB8-5B61-4E0E-97F1-6927C1FB2F19}" type="parTrans" cxnId="{9D412386-58A2-4B2F-B9BE-595CFD16E956}">
      <dgm:prSet/>
      <dgm:spPr/>
      <dgm:t>
        <a:bodyPr/>
        <a:lstStyle/>
        <a:p>
          <a:endParaRPr lang="ru-RU"/>
        </a:p>
      </dgm:t>
    </dgm:pt>
    <dgm:pt modelId="{D9E355B7-476F-4FA2-9BBB-81D5819673F9}" type="sibTrans" cxnId="{9D412386-58A2-4B2F-B9BE-595CFD16E956}">
      <dgm:prSet/>
      <dgm:spPr/>
      <dgm:t>
        <a:bodyPr/>
        <a:lstStyle/>
        <a:p>
          <a:endParaRPr lang="ru-RU"/>
        </a:p>
      </dgm:t>
    </dgm:pt>
    <dgm:pt modelId="{E549D496-169D-498F-B2EB-8A6D91D0D24C}" type="pres">
      <dgm:prSet presAssocID="{98D03E92-49E6-4AF5-BB08-72917DBA2112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288A78AB-7891-46EC-ACE8-30E68E6192FD}" type="pres">
      <dgm:prSet presAssocID="{73CFD669-2620-48C7-A159-FF844CA5DD94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9D412386-58A2-4B2F-B9BE-595CFD16E956}" srcId="{98D03E92-49E6-4AF5-BB08-72917DBA2112}" destId="{73CFD669-2620-48C7-A159-FF844CA5DD94}" srcOrd="0" destOrd="0" parTransId="{3DC1EBB8-5B61-4E0E-97F1-6927C1FB2F19}" sibTransId="{D9E355B7-476F-4FA2-9BBB-81D5819673F9}"/>
    <dgm:cxn modelId="{D5B814AD-2030-4FEF-8109-D2B6BC60954C}" type="presOf" srcId="{98D03E92-49E6-4AF5-BB08-72917DBA2112}" destId="{E549D496-169D-498F-B2EB-8A6D91D0D24C}" srcOrd="0" destOrd="0" presId="urn:microsoft.com/office/officeart/2005/8/layout/vList2"/>
    <dgm:cxn modelId="{E8E82C05-429D-4C0B-8077-6160591E81DF}" type="presOf" srcId="{73CFD669-2620-48C7-A159-FF844CA5DD94}" destId="{288A78AB-7891-46EC-ACE8-30E68E6192FD}" srcOrd="0" destOrd="0" presId="urn:microsoft.com/office/officeart/2005/8/layout/vList2"/>
    <dgm:cxn modelId="{D29656C8-08B3-4012-A1FE-15C29BD591CB}" type="presParOf" srcId="{E549D496-169D-498F-B2EB-8A6D91D0D24C}" destId="{288A78AB-7891-46EC-ACE8-30E68E6192FD}" srcOrd="0" destOrd="0" presId="urn:microsoft.com/office/officeart/2005/8/layout/vList2"/>
  </dgm:cxnLst>
  <dgm:bg/>
  <dgm:whole/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B3A98DB2-C4DC-45DD-9651-9C73489BE374}" type="doc">
      <dgm:prSet loTypeId="urn:microsoft.com/office/officeart/2005/8/layout/vList2" loCatId="list" qsTypeId="urn:microsoft.com/office/officeart/2005/8/quickstyle/simple3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A9799829-DE08-446B-A081-50B1D48DE255}">
      <dgm:prSet/>
      <dgm:spPr/>
      <dgm:t>
        <a:bodyPr/>
        <a:lstStyle/>
        <a:p>
          <a:pPr rtl="0"/>
          <a:r>
            <a:rPr lang="ru-RU" b="1" dirty="0" smtClean="0"/>
            <a:t>Рекомендуемая литература</a:t>
          </a:r>
          <a:endParaRPr lang="ru-RU" dirty="0"/>
        </a:p>
      </dgm:t>
    </dgm:pt>
    <dgm:pt modelId="{16BEF240-D4C0-49D7-B35B-01305DEBBAD5}" type="parTrans" cxnId="{904AD30F-70F5-424F-AADA-5A55B702017E}">
      <dgm:prSet/>
      <dgm:spPr/>
      <dgm:t>
        <a:bodyPr/>
        <a:lstStyle/>
        <a:p>
          <a:endParaRPr lang="ru-RU"/>
        </a:p>
      </dgm:t>
    </dgm:pt>
    <dgm:pt modelId="{A160F352-A5CE-42C5-B238-39490DF9004A}" type="sibTrans" cxnId="{904AD30F-70F5-424F-AADA-5A55B702017E}">
      <dgm:prSet/>
      <dgm:spPr/>
      <dgm:t>
        <a:bodyPr/>
        <a:lstStyle/>
        <a:p>
          <a:endParaRPr lang="ru-RU"/>
        </a:p>
      </dgm:t>
    </dgm:pt>
    <dgm:pt modelId="{9F2D8571-54BA-4CBF-9CC2-1BC6E978B9AB}" type="pres">
      <dgm:prSet presAssocID="{B3A98DB2-C4DC-45DD-9651-9C73489BE374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82E222AD-3F9F-42FE-8477-0195AEB29CA2}" type="pres">
      <dgm:prSet presAssocID="{A9799829-DE08-446B-A081-50B1D48DE255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2D7E0F4D-2A0A-40F7-BDBD-4FDDB670311A}" type="presOf" srcId="{B3A98DB2-C4DC-45DD-9651-9C73489BE374}" destId="{9F2D8571-54BA-4CBF-9CC2-1BC6E978B9AB}" srcOrd="0" destOrd="0" presId="urn:microsoft.com/office/officeart/2005/8/layout/vList2"/>
    <dgm:cxn modelId="{904AD30F-70F5-424F-AADA-5A55B702017E}" srcId="{B3A98DB2-C4DC-45DD-9651-9C73489BE374}" destId="{A9799829-DE08-446B-A081-50B1D48DE255}" srcOrd="0" destOrd="0" parTransId="{16BEF240-D4C0-49D7-B35B-01305DEBBAD5}" sibTransId="{A160F352-A5CE-42C5-B238-39490DF9004A}"/>
    <dgm:cxn modelId="{B0E08360-57CD-4B3C-8CF8-7851C15D6617}" type="presOf" srcId="{A9799829-DE08-446B-A081-50B1D48DE255}" destId="{82E222AD-3F9F-42FE-8477-0195AEB29CA2}" srcOrd="0" destOrd="0" presId="urn:microsoft.com/office/officeart/2005/8/layout/vList2"/>
    <dgm:cxn modelId="{33D22B7A-223F-43F1-A06B-ED5A6CEF6B09}" type="presParOf" srcId="{9F2D8571-54BA-4CBF-9CC2-1BC6E978B9AB}" destId="{82E222AD-3F9F-42FE-8477-0195AEB29CA2}" srcOrd="0" destOrd="0" presId="urn:microsoft.com/office/officeart/2005/8/layout/vList2"/>
  </dgm:cxnLst>
  <dgm:bg/>
  <dgm:whole/>
</dgm:dataModel>
</file>

<file path=ppt/diagrams/data3.xml><?xml version="1.0" encoding="utf-8"?>
<dgm:dataModel xmlns:dgm="http://schemas.openxmlformats.org/drawingml/2006/diagram" xmlns:a="http://schemas.openxmlformats.org/drawingml/2006/main">
  <dgm:ptLst>
    <dgm:pt modelId="{6AA4BD86-A652-40C8-9042-E8A9042C4035}" type="doc">
      <dgm:prSet loTypeId="urn:microsoft.com/office/officeart/2005/8/layout/vList2" loCatId="list" qsTypeId="urn:microsoft.com/office/officeart/2005/8/quickstyle/simple3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E57363F5-84AC-4738-850F-72502477B76D}">
      <dgm:prSet custT="1"/>
      <dgm:spPr/>
      <dgm:t>
        <a:bodyPr/>
        <a:lstStyle/>
        <a:p>
          <a:pPr algn="ctr" rtl="0"/>
          <a:r>
            <a:rPr lang="ru-RU" sz="2400" b="1" dirty="0" smtClean="0"/>
            <a:t>Содержание дисциплины </a:t>
          </a:r>
          <a:br>
            <a:rPr lang="ru-RU" sz="2400" b="1" dirty="0" smtClean="0"/>
          </a:br>
          <a:r>
            <a:rPr lang="ru-RU" sz="2400" b="1" dirty="0" smtClean="0"/>
            <a:t>«</a:t>
          </a:r>
          <a:r>
            <a:rPr lang="ru-RU" sz="2400" b="1" dirty="0" smtClean="0">
              <a:solidFill>
                <a:srgbClr val="3333CC"/>
              </a:solidFill>
            </a:rPr>
            <a:t>Учет на предприятиях малого бизнеса</a:t>
          </a:r>
          <a:r>
            <a:rPr lang="ru-RU" sz="2400" b="1" dirty="0" smtClean="0"/>
            <a:t>» (8 модуль)</a:t>
          </a:r>
          <a:endParaRPr lang="ru-RU" sz="2400" dirty="0"/>
        </a:p>
      </dgm:t>
    </dgm:pt>
    <dgm:pt modelId="{3983A055-5CB5-4206-A880-083AF4E5D0D5}" type="parTrans" cxnId="{979A0D15-F24A-4D7A-965D-E999FCF1B01D}">
      <dgm:prSet/>
      <dgm:spPr/>
      <dgm:t>
        <a:bodyPr/>
        <a:lstStyle/>
        <a:p>
          <a:endParaRPr lang="ru-RU"/>
        </a:p>
      </dgm:t>
    </dgm:pt>
    <dgm:pt modelId="{34065787-B39E-40C2-9980-ED3C3A0CDF63}" type="sibTrans" cxnId="{979A0D15-F24A-4D7A-965D-E999FCF1B01D}">
      <dgm:prSet/>
      <dgm:spPr/>
      <dgm:t>
        <a:bodyPr/>
        <a:lstStyle/>
        <a:p>
          <a:endParaRPr lang="ru-RU"/>
        </a:p>
      </dgm:t>
    </dgm:pt>
    <dgm:pt modelId="{B060FBD4-7536-474B-B56B-EE38B423CFA2}" type="pres">
      <dgm:prSet presAssocID="{6AA4BD86-A652-40C8-9042-E8A9042C4035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2D1D7BC0-FE3A-4826-A946-39A3C96382AD}" type="pres">
      <dgm:prSet presAssocID="{E57363F5-84AC-4738-850F-72502477B76D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979A0D15-F24A-4D7A-965D-E999FCF1B01D}" srcId="{6AA4BD86-A652-40C8-9042-E8A9042C4035}" destId="{E57363F5-84AC-4738-850F-72502477B76D}" srcOrd="0" destOrd="0" parTransId="{3983A055-5CB5-4206-A880-083AF4E5D0D5}" sibTransId="{34065787-B39E-40C2-9980-ED3C3A0CDF63}"/>
    <dgm:cxn modelId="{4E6EE7C7-818D-479A-ADE0-BC64A7E80DC4}" type="presOf" srcId="{6AA4BD86-A652-40C8-9042-E8A9042C4035}" destId="{B060FBD4-7536-474B-B56B-EE38B423CFA2}" srcOrd="0" destOrd="0" presId="urn:microsoft.com/office/officeart/2005/8/layout/vList2"/>
    <dgm:cxn modelId="{B4EA81A9-01A2-4C6F-BE8F-7D7482058B65}" type="presOf" srcId="{E57363F5-84AC-4738-850F-72502477B76D}" destId="{2D1D7BC0-FE3A-4826-A946-39A3C96382AD}" srcOrd="0" destOrd="0" presId="urn:microsoft.com/office/officeart/2005/8/layout/vList2"/>
    <dgm:cxn modelId="{595BB2D7-BD05-43E2-BC68-462017C5D7FD}" type="presParOf" srcId="{B060FBD4-7536-474B-B56B-EE38B423CFA2}" destId="{2D1D7BC0-FE3A-4826-A946-39A3C96382AD}" srcOrd="0" destOrd="0" presId="urn:microsoft.com/office/officeart/2005/8/layout/vList2"/>
  </dgm:cxnLst>
  <dgm:bg/>
  <dgm:whole/>
</dgm:dataModel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3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B361-B586-4B4C-A7E5-0E12ECCD7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3B6F-DCBD-42A0-A347-4DB7D8307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9AA1-6904-4C74-9F43-B39E9B884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241D-0BF5-4968-B497-C17B0CCD0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954F7-3112-4BB5-AA3C-1AC8F84E9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EDB08-C425-44D0-AB28-F8757B5BF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42A0A-7B41-4DC7-BECB-D07080EA1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F87AF-22B1-48CB-A1C9-F65EEDE30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54FC1-23FC-4B9E-A0A6-060E7AD08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FCA35-A941-4F7E-9911-BE63642F2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E1783-AA77-4D3F-A41C-EF0928D0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CEFD-BB9D-4622-8AB4-8F61AF224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CB088-B490-42AE-83B8-119769A5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DA7CF-B324-4BEA-8B2D-F317CE30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A3F27-23CB-4042-8551-0DE9ECD67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D34DC-1963-44F6-BD24-6B3DFF4AE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085AD-5AF1-418D-AFAA-710CC1026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EC355-49E8-4659-A82F-D43D3CC15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29724-5E25-4CB2-9ED9-6B6D73AE9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16170-0A61-47D2-883D-8F35229CD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41350-A039-49BB-95A2-34936F3EA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2395D-CE87-4308-AA07-363C948EA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3FE0-DF54-44F7-BF39-FBED301BD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BCED3-CE2A-462D-BF14-02F91B2E9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0E3E4-ECA1-4C03-B6F4-173D4470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08942-D020-4CE6-B522-D91C13DA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20E59-7F44-4C72-8D8C-D091D771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23309-2DA6-45B0-9A9A-7AD7E7C98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212D3-1866-4E06-A21F-741299F21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E4413-2B28-49BF-996A-B940AED8B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BFE57-5FF3-487E-A3F5-89B8C9A35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9DFE3-5919-4781-9475-2258365FF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95E65-0B3B-44C5-8FE9-EB190311A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0156-B51C-4355-A52C-DAFC8EB1F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8ED4E-A44E-4EE3-9DD9-E3D4A2FB2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EF20C-D335-4D13-A4C9-E8DC69DED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F451F-8D62-4126-9B6A-AF71C6D7B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BB024-F9F7-4F8D-9BE4-F6305670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B1E7A-D34E-404D-8F96-BB965FEE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3795E-81EE-4894-AC30-8408FA67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BA6E3-B8D9-44F3-94A7-DE1D6CD6E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C0BD9-BCD0-4D86-9BD3-D1EC653B9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2E7AA-DA17-47A7-AE58-562A18D27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B525-E3B1-4A83-8521-A2A28FA28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AA53-92B2-4123-A9E8-80DC88A6C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E864-6D4F-4C25-8C4E-EBF170732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2AEC-19EA-4F8B-BC7E-364BBD00B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97FA-15CB-4F97-B9EC-02E9CC474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803D3B9-E358-4C61-9A87-F06D7B6F79FB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4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BBC6BE5-8C7E-47BD-9EC0-C50A1D94785E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D76983A-0EDB-479F-84D6-D2E3780A237A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4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4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2B618F1-E186-49A2-AC9D-37EB4CAF2DA8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s://ofd.nalog.ru/index.html" TargetMode="External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diagramData" Target="../diagrams/data3.xml"/><Relationship Id="rId2" Type="http://schemas.openxmlformats.org/officeDocument/2006/relationships/diagramLayout" Target="../diagrams/layout3.xml"/><Relationship Id="rId3" Type="http://schemas.openxmlformats.org/officeDocument/2006/relationships/diagramQuickStyle" Target="../diagrams/quickStyle3.xml"/><Relationship Id="rId4" Type="http://schemas.openxmlformats.org/officeDocument/2006/relationships/diagramColors" Target="../diagrams/colors3.xml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162559579"/>
              </p:ext>
            </p:extLst>
          </p:nvPr>
        </p:nvGraphicFramePr>
        <p:xfrm>
          <a:off x="685800" y="1214280"/>
          <a:ext cx="7772040" cy="20714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/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5EDF-10D5-419E-BE57-2A3B4F48693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3640" cy="114264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 w="9360">
            <a:solidFill>
              <a:srgbClr val="46aac4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chemeClr val="dk1"/>
                </a:solidFill>
                <a:latin typeface="Calibri"/>
              </a:rPr>
              <a:t>По сравнению с аналогичными данными годичной давности </a:t>
            </a:r>
            <a:r>
              <a:rPr b="0" lang="ru-RU" sz="2800" spc="-1" strike="noStrike">
                <a:solidFill>
                  <a:schemeClr val="dk1"/>
                </a:solidFill>
                <a:latin typeface="Arial Black"/>
              </a:rPr>
              <a:t>наблюдается резкая отрицательная динамика: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3640" cy="4525560"/>
          </a:xfrm>
          <a:prstGeom prst="rect">
            <a:avLst/>
          </a:prstGeom>
          <a:solidFill>
            <a:schemeClr val="accent6">
              <a:lumMod val="20000"/>
              <a:lumOff val="80000"/>
            </a:schemeClr>
          </a:solidFill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меньшилось количество субъектов малого бизнеса. 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кратилось общее количество работников, занятых в малом бизнесе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клад МСП сектора в ВВП России (примерно 21%) относительно развитых европейских стран минимальный. Преобладающая часть американского и европейского бизнеса относится именно к категориям «малого» и «среднего»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.е. роль малого бизнеса в экономике РФ остается довольно незначительной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2BB4D-6E62-4FBC-B00C-0C229C459D4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3640" cy="1142640"/>
          </a:xfrm>
          <a:prstGeom prst="rect">
            <a:avLst/>
          </a:prstGeom>
          <a:gradFill rotWithShape="0">
            <a:gsLst>
              <a:gs pos="0">
                <a:srgbClr val="2988a1"/>
              </a:gs>
              <a:gs pos="100000">
                <a:srgbClr val="36b0d1"/>
              </a:gs>
            </a:gsLst>
            <a:lin ang="16200000"/>
          </a:gradFill>
          <a:ln w="9360">
            <a:solidFill>
              <a:srgbClr val="46aac4"/>
            </a:solidFill>
            <a:round/>
          </a:ln>
          <a:effectLst>
            <a:outerShdw dist="23040" dir="5400000" blurRad="3996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lt1"/>
                </a:solidFill>
                <a:latin typeface="Calibri"/>
              </a:rPr>
              <a:t>Отраслевая структура МСП в 2019 г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3640" cy="4525560"/>
          </a:xfrm>
          <a:prstGeom prst="rect">
            <a:avLst/>
          </a:prstGeom>
          <a:solidFill>
            <a:schemeClr val="accent6">
              <a:lumMod val="20000"/>
              <a:lumOff val="80000"/>
            </a:schemeClr>
          </a:solidFill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товая и розничная торговля - 37% от общей доли МСП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ерации с недвижимым имуществом  - 22%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роительство – 12%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батывающее производство – 9%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анспорт и связь – 8%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чие виды деятельности – 12%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FB914-3FD5-41DF-AFFF-D96B2A5AE58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3640" cy="1142640"/>
          </a:xfrm>
          <a:prstGeom prst="rect">
            <a:avLst/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dist="23040" dir="5400000" blurRad="3996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chemeClr val="lt1"/>
                </a:solidFill>
                <a:latin typeface="Calibri"/>
              </a:rPr>
              <a:t>Сложившееся положение требует реорганизации структуры МСП посредством разработки и реализации программ, направленных на увеличение доли малого и среднего бизнеса в различных отраслях экономики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3640" cy="452556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 w="9360">
            <a:solidFill>
              <a:srgbClr val="46aac4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64000"/>
          </a:bodyPr>
          <a:p>
            <a:pPr marL="3135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Основные направления повышения эффективности функционирования МСП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3560" indent="-3135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3200" spc="-1" strike="noStrike">
                <a:solidFill>
                  <a:schemeClr val="dk1"/>
                </a:solidFill>
                <a:latin typeface="Calibri"/>
              </a:rPr>
              <a:t>улучшение условий кредитования</a:t>
            </a: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. Понижение ставок и решение проблем залогового обеспечения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3560" indent="-3135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3200" spc="-1" strike="noStrike">
                <a:solidFill>
                  <a:schemeClr val="dk1"/>
                </a:solidFill>
                <a:latin typeface="Calibri"/>
              </a:rPr>
              <a:t>Выработка новых кредитных программ</a:t>
            </a: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. Долгосрочные займы для инновационных компаний с высокопроизводительными рабочими местам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3560" indent="-3135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3200" spc="-1" strike="noStrike">
                <a:solidFill>
                  <a:schemeClr val="dk1"/>
                </a:solidFill>
                <a:latin typeface="Calibri"/>
              </a:rPr>
              <a:t>Предоставление грантов</a:t>
            </a: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. Прежде всего для предприятий в сфере сельского хозяйства, промышленности, товарного производства, высоких технологий, социальных услуг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3560" indent="-3135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3200" spc="-1" strike="noStrike">
                <a:solidFill>
                  <a:schemeClr val="dk1"/>
                </a:solidFill>
                <a:latin typeface="Calibri"/>
              </a:rPr>
              <a:t>Создание комплексной инфраструктуры объектов</a:t>
            </a: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, </a:t>
            </a:r>
            <a:r>
              <a:rPr b="1" lang="ru-RU" sz="3200" spc="-1" strike="noStrike">
                <a:solidFill>
                  <a:schemeClr val="dk1"/>
                </a:solidFill>
                <a:latin typeface="Calibri"/>
              </a:rPr>
              <a:t>оказывающих помощь предпринимателям</a:t>
            </a: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3560" indent="-3135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3200" spc="-1" strike="noStrike">
                <a:solidFill>
                  <a:schemeClr val="dk1"/>
                </a:solidFill>
                <a:latin typeface="Calibri"/>
              </a:rPr>
              <a:t>Постоянный мониторинг эффективности предпринимаемых мер и их совершенствование</a:t>
            </a: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F90D6-E7DF-4CD3-A46B-322CBA8D160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3640" cy="2542680"/>
          </a:xfrm>
          <a:prstGeom prst="rect">
            <a:avLst/>
          </a:prstGeom>
          <a:gradFill rotWithShape="0">
            <a:gsLst>
              <a:gs pos="0">
                <a:srgbClr val="e3fbc2"/>
              </a:gs>
              <a:gs pos="100000">
                <a:srgbClr val="f4ffe6"/>
              </a:gs>
            </a:gsLst>
            <a:lin ang="16200000"/>
          </a:gradFill>
          <a:ln w="9360">
            <a:solidFill>
              <a:srgbClr val="98b855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marL="51444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dk1"/>
                </a:solidFill>
                <a:latin typeface="Calibri"/>
              </a:rPr>
              <a:t>     </a:t>
            </a:r>
            <a:r>
              <a:rPr b="1" lang="ru-RU" sz="3200" spc="-1" strike="noStrike">
                <a:solidFill>
                  <a:schemeClr val="dk1"/>
                </a:solidFill>
                <a:latin typeface="Arial Black"/>
              </a:rPr>
              <a:t>Вопрос 2. </a:t>
            </a:r>
            <a:r>
              <a:rPr b="1" lang="ru-RU" sz="3200" spc="-1" strike="noStrike">
                <a:solidFill>
                  <a:srgbClr val="990099"/>
                </a:solidFill>
                <a:latin typeface="Arial Black"/>
              </a:rPr>
              <a:t>Нормативно-правовое регулирование развития малого предпринимательства в Российской Федерации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Прямоугольник 5"/>
          <p:cNvSpPr/>
          <p:nvPr/>
        </p:nvSpPr>
        <p:spPr>
          <a:xfrm>
            <a:off x="142920" y="4143240"/>
            <a:ext cx="878652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ru-RU" sz="3600" spc="-1" strike="noStrike">
              <a:solidFill>
                <a:srgbClr val="9900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41C40-7F61-42E2-94E7-BBC36D42719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3640" cy="1142640"/>
          </a:xfrm>
          <a:prstGeom prst="rect">
            <a:avLst/>
          </a:prstGeom>
          <a:solidFill>
            <a:schemeClr val="accent2">
              <a:lumMod val="60000"/>
              <a:lumOff val="40000"/>
            </a:schemeClr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Законодательное и нормативно-правовое регулирование малого предпринимательств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3640" cy="4525560"/>
          </a:xfrm>
          <a:prstGeom prst="rect">
            <a:avLst/>
          </a:prstGeom>
          <a:solidFill>
            <a:schemeClr val="accent5">
              <a:lumMod val="20000"/>
              <a:lumOff val="80000"/>
            </a:scheme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ражданский Кодекс РФ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едеральный закон "О развитии малого и среднего предпринимательства в Российской Федерации"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т 24.07.2007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N 209-Ф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редакции от 01.04.2020 №83-ФЗ)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едеральный закон от 06.12.2011 N 402-ФЗ "О бухгалтерском учете "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ред. от 26.07.2019)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CB84A-97F0-4A87-B8F6-549A018FA79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3640" cy="1142640"/>
          </a:xfrm>
          <a:prstGeom prst="rect">
            <a:avLst/>
          </a:prstGeom>
          <a:gradFill rotWithShape="0">
            <a:gsLst>
              <a:gs pos="0">
                <a:srgbClr val="2988a1"/>
              </a:gs>
              <a:gs pos="100000">
                <a:srgbClr val="36b0d1"/>
              </a:gs>
            </a:gsLst>
            <a:lin ang="16200000"/>
          </a:gradFill>
          <a:ln w="0">
            <a:noFill/>
          </a:ln>
          <a:effectLst>
            <a:outerShdw dist="23040" dir="5400000" blurRad="3996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chemeClr val="lt1"/>
                </a:solidFill>
                <a:latin typeface="Calibri"/>
              </a:rPr>
              <a:t>Особенности нормативно-правового регулирования развития малого и среднего предпринимательства в Российской Федерации  (</a:t>
            </a:r>
            <a:r>
              <a:rPr b="0" lang="ru-RU" sz="2000" spc="-1" strike="noStrike">
                <a:solidFill>
                  <a:schemeClr val="lt1"/>
                </a:solidFill>
                <a:latin typeface="Calibri"/>
              </a:rPr>
              <a:t>N 209-ФЗ, статья 7)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3640" cy="4525560"/>
          </a:xfrm>
          <a:prstGeom prst="rect">
            <a:avLst/>
          </a:prstGeom>
          <a:solidFill>
            <a:schemeClr val="accent6">
              <a:lumMod val="20000"/>
              <a:lumOff val="80000"/>
            </a:schemeClr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3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пециальные налоговые режимы, упрощенные правила ведения налогового учета, упрощенные формы налоговых деклараций по отдельным налогам и сборам для малых предприятий;</a:t>
            </a:r>
            <a:endParaRPr b="0" lang="ru-RU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3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прощенные способы ведения бухгалтерского учета, включая упрощенную бухгалтерскую (финансовую) отчетность, и упрощенный порядок ведения кассовых операций для малых предприятий;</a:t>
            </a:r>
            <a:endParaRPr b="0" lang="ru-RU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3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прощенный порядок составления субъектами малого и среднего предпринимательства статистической отчетности;</a:t>
            </a:r>
            <a:endParaRPr b="0" lang="ru-RU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39"/>
              </a:spcBef>
              <a:buClr>
                <a:srgbClr val="333333"/>
              </a:buClr>
              <a:buFont typeface="Arial"/>
              <a:buChar char="•"/>
            </a:pPr>
            <a:r>
              <a:rPr b="0" lang="ru-RU" sz="2200" spc="-1" strike="noStrike">
                <a:solidFill>
                  <a:srgbClr val="333333"/>
                </a:solidFill>
                <a:latin typeface="Arial"/>
              </a:rPr>
              <a:t>меры по обеспечению финансовой поддержки субъектов малого и среднего предпринимательства, организаций, образующих инфраструктуру поддержки субъектов малого и среднего предпринимательства;</a:t>
            </a:r>
            <a:endParaRPr b="0" lang="ru-RU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ые меры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5EDDF-B1B4-4E3C-8A5D-0839577ABF1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3640" cy="2542680"/>
          </a:xfrm>
          <a:prstGeom prst="rect">
            <a:avLst/>
          </a:prstGeom>
          <a:gradFill rotWithShape="0">
            <a:gsLst>
              <a:gs pos="0">
                <a:srgbClr val="e3fbc2"/>
              </a:gs>
              <a:gs pos="100000">
                <a:srgbClr val="f4ffe6"/>
              </a:gs>
            </a:gsLst>
            <a:lin ang="16200000"/>
          </a:gradFill>
          <a:ln w="9360">
            <a:solidFill>
              <a:srgbClr val="98b855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51444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dk1"/>
                </a:solidFill>
                <a:latin typeface="Calibri"/>
              </a:rPr>
              <a:t>     </a:t>
            </a:r>
            <a:r>
              <a:rPr b="1" lang="ru-RU" sz="3200" spc="-1" strike="noStrike">
                <a:solidFill>
                  <a:schemeClr val="dk1"/>
                </a:solidFill>
                <a:latin typeface="Arial Black"/>
              </a:rPr>
              <a:t>Вопрос 3. </a:t>
            </a:r>
            <a:r>
              <a:rPr b="1" lang="ru-RU" sz="3200" spc="-1" strike="noStrike">
                <a:solidFill>
                  <a:srgbClr val="990099"/>
                </a:solidFill>
                <a:latin typeface="Arial Black"/>
              </a:rPr>
              <a:t>Понятие «субъект малого предпринимательства» и  критерии отнесения хозяйствующих субъектов к предприятиям малого бизнес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Прямоугольник 5"/>
          <p:cNvSpPr/>
          <p:nvPr/>
        </p:nvSpPr>
        <p:spPr>
          <a:xfrm>
            <a:off x="142920" y="4143240"/>
            <a:ext cx="878652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ru-RU" sz="3600" spc="-1" strike="noStrike">
              <a:solidFill>
                <a:srgbClr val="9900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3BE9B-88E9-4BC2-B297-DA6709EE313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3640" cy="114264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 w="9360">
            <a:solidFill>
              <a:srgbClr val="46aac4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990099"/>
                </a:solidFill>
                <a:latin typeface="Arial Black"/>
              </a:rPr>
              <a:t>Понятие «субъект малого предпринимательства»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3640" cy="3971520"/>
          </a:xfrm>
          <a:prstGeom prst="rect">
            <a:avLst/>
          </a:prstGeom>
          <a:solidFill>
            <a:schemeClr val="accent6">
              <a:lumMod val="40000"/>
              <a:lumOff val="60000"/>
            </a:schemeClr>
          </a:solidFill>
          <a:ln w="0">
            <a:noFill/>
          </a:ln>
        </p:spPr>
        <p:txBody>
          <a:bodyPr anchor="t">
            <a:normAutofit fontScale="75000"/>
          </a:bodyPr>
          <a:p>
            <a:pPr marL="3315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бъекты малого и среднего предпринимательства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СМП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–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 юридические лица и индивидуальные предприниматели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оторые в соответствии с определенными условиями относятся к малым и средним предприятиям и сведения о которых указываются в едином реестре таких субъектов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(ст. 3 Федерального закона от 24.07.2007 № 209-ФЗ). (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йт 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rsmp.nalog.ru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15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15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Субъекты малого предпринимательства (СМП)– это средние, малые и микропредприятия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FD44D-E7C6-402F-BE25-20B9D51DABD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92844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  <a:effectLst>
            <a:outerShdw dist="23040" dir="5400000" blurRad="39960" rotWithShape="0">
              <a:srgbClr val="000000">
                <a:alpha val="35000"/>
              </a:srgbClr>
            </a:outerShdw>
          </a:effectLst>
        </p:spPr>
        <p:txBody>
          <a:bodyPr anchor="ctr">
            <a:normAutofit fontScale="57000"/>
          </a:bodyPr>
          <a:p>
            <a:pPr indent="0" algn="ctr">
              <a:lnSpc>
                <a:spcPct val="100000"/>
              </a:lnSpc>
              <a:buNone/>
            </a:pPr>
            <a:br>
              <a:rPr sz="3200"/>
            </a:br>
            <a:r>
              <a:rPr b="1" lang="ru-RU" sz="3100" spc="-1" strike="noStrike" cap="all">
                <a:solidFill>
                  <a:srgbClr val="000000"/>
                </a:solidFill>
                <a:latin typeface="Arial Black"/>
              </a:rPr>
              <a:t>КРИТЕРИИ МАЛОГО И СРЕДНЕГО БИЗНЕСА  </a:t>
            </a:r>
            <a:r>
              <a:rPr b="1" lang="ru-RU" sz="1600" spc="-1" strike="noStrike" cap="all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т. 4 Закона N 209-ФЗ</a:t>
            </a:r>
            <a:r>
              <a:rPr b="1" lang="ru-RU" sz="1600" spc="-1" strike="noStrike" cap="all">
                <a:solidFill>
                  <a:srgbClr val="000000"/>
                </a:solidFill>
                <a:latin typeface="Arial"/>
              </a:rPr>
              <a:t>)</a:t>
            </a:r>
            <a:br>
              <a:rPr sz="3200"/>
            </a:b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0" y="1214280"/>
            <a:ext cx="9143640" cy="4911480"/>
          </a:xfrm>
          <a:prstGeom prst="rect">
            <a:avLst/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6200000"/>
          </a:gradFill>
          <a:ln w="9360">
            <a:solidFill>
              <a:srgbClr val="f5924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6000"/>
          </a:bodyPr>
          <a:p>
            <a:pPr marL="355680" indent="-3556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400" spc="-1" strike="noStrike">
                <a:solidFill>
                  <a:schemeClr val="dk1"/>
                </a:solidFill>
                <a:latin typeface="Calibri"/>
              </a:rPr>
              <a:t>Критерии </a:t>
            </a:r>
            <a:r>
              <a:rPr b="1" lang="ru-RU" sz="24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малого предприятия</a:t>
            </a:r>
            <a:r>
              <a:rPr b="0" lang="ru-RU" sz="2400" spc="-1" strike="noStrike">
                <a:solidFill>
                  <a:schemeClr val="dk1"/>
                </a:solidFill>
                <a:latin typeface="Calibri"/>
              </a:rPr>
              <a:t> – среднесписочная численность не более </a:t>
            </a:r>
            <a:r>
              <a:rPr b="1" lang="ru-RU" sz="2400" spc="-1" strike="noStrike">
                <a:solidFill>
                  <a:schemeClr val="dk1"/>
                </a:solidFill>
                <a:latin typeface="Calibri"/>
              </a:rPr>
              <a:t>100</a:t>
            </a:r>
            <a:r>
              <a:rPr b="0" lang="ru-RU" sz="2400" spc="-1" strike="noStrike">
                <a:solidFill>
                  <a:schemeClr val="dk1"/>
                </a:solidFill>
                <a:latin typeface="Calibri"/>
              </a:rPr>
              <a:t> человек и доход не более </a:t>
            </a:r>
            <a:r>
              <a:rPr b="1" lang="ru-RU" sz="2400" spc="-1" strike="noStrike">
                <a:solidFill>
                  <a:schemeClr val="dk1"/>
                </a:solidFill>
                <a:latin typeface="Calibri"/>
              </a:rPr>
              <a:t>800 </a:t>
            </a:r>
            <a:r>
              <a:rPr b="0" lang="ru-RU" sz="2400" spc="-1" strike="noStrike">
                <a:solidFill>
                  <a:schemeClr val="dk1"/>
                </a:solidFill>
                <a:latin typeface="Calibri"/>
              </a:rPr>
              <a:t>млн руб. Минимум 51% уставного капитала ООО должно принадлежать физлицам или организациям – СМП. Доля организаций, не относящихся к СМП, не должна превышать 49%, доля государства, регионов или НКО – 25%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400" spc="-1" strike="noStrike">
                <a:solidFill>
                  <a:schemeClr val="dk1"/>
                </a:solidFill>
                <a:latin typeface="Calibri"/>
              </a:rPr>
              <a:t>Критерии </a:t>
            </a:r>
            <a:r>
              <a:rPr b="1" lang="ru-RU" sz="24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микропредприятия</a:t>
            </a:r>
            <a:r>
              <a:rPr b="0" lang="ru-RU" sz="2400" spc="-1" strike="noStrike">
                <a:solidFill>
                  <a:schemeClr val="dk1"/>
                </a:solidFill>
                <a:latin typeface="Calibri"/>
              </a:rPr>
              <a:t> – среднесписочная численность не более </a:t>
            </a:r>
            <a:r>
              <a:rPr b="1" lang="ru-RU" sz="2400" spc="-1" strike="noStrike">
                <a:solidFill>
                  <a:schemeClr val="dk1"/>
                </a:solidFill>
                <a:latin typeface="Calibri"/>
              </a:rPr>
              <a:t>15</a:t>
            </a:r>
            <a:r>
              <a:rPr b="0" lang="ru-RU" sz="2400" spc="-1" strike="noStrike">
                <a:solidFill>
                  <a:schemeClr val="dk1"/>
                </a:solidFill>
                <a:latin typeface="Calibri"/>
              </a:rPr>
              <a:t> человек и доход не более </a:t>
            </a:r>
            <a:r>
              <a:rPr b="1" lang="ru-RU" sz="2400" spc="-1" strike="noStrike">
                <a:solidFill>
                  <a:schemeClr val="dk1"/>
                </a:solidFill>
                <a:latin typeface="Calibri"/>
              </a:rPr>
              <a:t>120</a:t>
            </a:r>
            <a:r>
              <a:rPr b="0" lang="ru-RU" sz="2400" spc="-1" strike="noStrike">
                <a:solidFill>
                  <a:schemeClr val="dk1"/>
                </a:solidFill>
                <a:latin typeface="Calibri"/>
              </a:rPr>
              <a:t> млн руб. Ограничения по структуре уставного капитала – те же, что и для малых предприятий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400" spc="-1" strike="noStrike">
                <a:solidFill>
                  <a:schemeClr val="dk1"/>
                </a:solidFill>
                <a:latin typeface="Calibri"/>
              </a:rPr>
              <a:t>Критерии </a:t>
            </a:r>
            <a:r>
              <a:rPr b="1" lang="ru-RU" sz="24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среднего предприятия</a:t>
            </a:r>
            <a:r>
              <a:rPr b="0" lang="ru-RU" sz="2400" spc="-1" strike="noStrike">
                <a:solidFill>
                  <a:schemeClr val="dk1"/>
                </a:solidFill>
                <a:latin typeface="Calibri"/>
              </a:rPr>
              <a:t> – среднесписочная численность не более </a:t>
            </a:r>
            <a:r>
              <a:rPr b="1" lang="ru-RU" sz="2400" spc="-1" strike="noStrike">
                <a:solidFill>
                  <a:schemeClr val="dk1"/>
                </a:solidFill>
                <a:latin typeface="Calibri"/>
              </a:rPr>
              <a:t>250</a:t>
            </a:r>
            <a:r>
              <a:rPr b="0" lang="ru-RU" sz="2400" spc="-1" strike="noStrike">
                <a:solidFill>
                  <a:schemeClr val="dk1"/>
                </a:solidFill>
                <a:latin typeface="Calibri"/>
              </a:rPr>
              <a:t> человек и доход не более </a:t>
            </a:r>
            <a:r>
              <a:rPr b="1" lang="ru-RU" sz="2400" spc="-1" strike="noStrike">
                <a:solidFill>
                  <a:schemeClr val="dk1"/>
                </a:solidFill>
                <a:latin typeface="Calibri"/>
              </a:rPr>
              <a:t>2 </a:t>
            </a:r>
            <a:r>
              <a:rPr b="0" lang="ru-RU" sz="2400" spc="-1" strike="noStrike">
                <a:solidFill>
                  <a:schemeClr val="dk1"/>
                </a:solidFill>
                <a:latin typeface="Calibri"/>
              </a:rPr>
              <a:t>млрд руб. Ограничения по структуре уставного капитала – те же, что и для малых предприятий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chemeClr val="dk1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chemeClr val="dk1"/>
                </a:solidFill>
                <a:latin typeface="Calibri"/>
              </a:rPr>
              <a:t>Среднесписочную численность и доход оценивают за предыдущий год, доход считают по данным налогового учета без НДС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D88B1-EBCC-474B-BFDA-6225725114C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142920"/>
            <a:ext cx="9143640" cy="1142640"/>
          </a:xfrm>
          <a:prstGeom prst="rect">
            <a:avLst/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dist="23040" dir="5400000" blurRad="39960" rotWithShape="0">
              <a:srgbClr val="000000">
                <a:alpha val="35000"/>
              </a:srgbClr>
            </a:outerShdw>
          </a:effectLst>
        </p:spPr>
        <p:txBody>
          <a:bodyPr anchor="ctr">
            <a:normAutofit fontScale="82000"/>
          </a:bodyPr>
          <a:p>
            <a:pPr indent="0" algn="ctr">
              <a:lnSpc>
                <a:spcPct val="100000"/>
              </a:lnSpc>
              <a:buNone/>
            </a:pPr>
            <a:br>
              <a:rPr sz="2200"/>
            </a:br>
            <a:r>
              <a:rPr b="0" lang="ru-RU" sz="2200" spc="-1" strike="noStrike">
                <a:solidFill>
                  <a:schemeClr val="lt1"/>
                </a:solidFill>
                <a:latin typeface="Calibri"/>
              </a:rPr>
              <a:t> </a:t>
            </a:r>
            <a:br>
              <a:rPr sz="2200"/>
            </a:br>
            <a:r>
              <a:rPr b="0" lang="ru-RU" sz="2000" spc="-1" strike="noStrike">
                <a:solidFill>
                  <a:schemeClr val="lt1"/>
                </a:solidFill>
                <a:latin typeface="Arial Black"/>
              </a:rPr>
              <a:t>Т.е. КРИТЕРИИ МАЛОГО И СРЕДНЕГО БИЗНЕСА делят на 3 группы:</a:t>
            </a:r>
            <a:br>
              <a:rPr sz="2000"/>
            </a:b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3640" cy="4525560"/>
          </a:xfrm>
          <a:prstGeom prst="rect">
            <a:avLst/>
          </a:prstGeom>
          <a:solidFill>
            <a:schemeClr val="accent6">
              <a:lumMod val="20000"/>
              <a:lumOff val="80000"/>
            </a:schemeClr>
          </a:solidFill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Wingdings" charset="2"/>
              <a:buChar char=""/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юридические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форма (особенности) организации - ООО, АО, организации, занимающиеся интеллектуальной деятельностью, подробнее см. в Законе)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"/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по численности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Тип СМП: микропредприятия – до 15 чел. включительно; Малое предприятие - от 16 до 100 человек включительно; Среднее предприятие - от 101 до 250 человек включительно)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Wingdings" charset="2"/>
              <a:buChar char=""/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критерии по доходу (предельное значение дохода за 2020 год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Тип СМП: микропредприятия – 120 млн. рублей; Малое предприятие - 800 млн. рублей; Среднее предприятие - 2 млрд. рублей)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A196F-8C82-446E-B526-8E57A4154BC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Num" idx="1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FA5D6E9-CB87-414D-B2A9-81015599B54E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0" y="28584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Выписка из учебного плана 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на 2018-2021 учебные годы</a:t>
            </a:r>
            <a:br>
              <a:rPr sz="2800"/>
            </a:br>
            <a:r>
              <a:rPr b="1" lang="ru-RU" sz="1600" spc="-1" strike="noStrike">
                <a:solidFill>
                  <a:srgbClr val="0070c0"/>
                </a:solidFill>
                <a:latin typeface="Calibri"/>
              </a:rPr>
              <a:t>направление подготовки: 38.04.01 - Экономика , магистерская программа "Учет, анализ, аудит" </a:t>
            </a:r>
            <a:br>
              <a:rPr sz="2800"/>
            </a:br>
            <a:r>
              <a:rPr b="1" lang="ru-RU" sz="2400" spc="-1" strike="noStrike">
                <a:solidFill>
                  <a:srgbClr val="3333cc"/>
                </a:solidFill>
                <a:latin typeface="Calibri"/>
              </a:rPr>
              <a:t>по дисциплине «Учет на предприятиях малого бизнеса»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8" name="Group 53"/>
          <p:cNvGraphicFramePr/>
          <p:nvPr/>
        </p:nvGraphicFramePr>
        <p:xfrm>
          <a:off x="0" y="1571760"/>
          <a:ext cx="8929440" cy="2618280"/>
        </p:xfrm>
        <a:graphic>
          <a:graphicData uri="http://schemas.openxmlformats.org/drawingml/2006/table">
            <a:tbl>
              <a:tblPr/>
              <a:tblGrid>
                <a:gridCol w="1015200"/>
                <a:gridCol w="1413000"/>
                <a:gridCol w="1071360"/>
                <a:gridCol w="1428480"/>
                <a:gridCol w="1617840"/>
                <a:gridCol w="2382120"/>
              </a:tblGrid>
              <a:tr h="148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оду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нтрольн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бо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екции (час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актические заня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час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Р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час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1"/>
                        </a:spcBef>
                        <a:tabLst>
                          <a:tab algn="l" pos="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омежуточная аттестация по модулям / Рубежный контро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</a:tr>
              <a:tr h="1027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ач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3640" cy="1142640"/>
          </a:xfrm>
          <a:prstGeom prst="rect">
            <a:avLst/>
          </a:prstGeom>
          <a:gradFill rotWithShape="0">
            <a:gsLst>
              <a:gs pos="0">
                <a:srgbClr val="5e437f"/>
              </a:gs>
              <a:gs pos="100000">
                <a:srgbClr val="7b57a5"/>
              </a:gs>
            </a:gsLst>
            <a:lin ang="16200000"/>
          </a:gradFill>
          <a:ln w="0">
            <a:noFill/>
          </a:ln>
          <a:effectLst>
            <a:outerShdw dist="23040" dir="5400000" blurRad="3996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chemeClr val="lt1"/>
                </a:solidFill>
                <a:latin typeface="Calibri"/>
              </a:rPr>
              <a:t>Категория СМП определяется в соответствии с наибольшим по значению условием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3640" cy="4114440"/>
          </a:xfrm>
          <a:prstGeom prst="rect">
            <a:avLst/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6200000"/>
          </a:gradFill>
          <a:ln w="9360">
            <a:solidFill>
              <a:srgbClr val="f5924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Если, к примеру, по численности ООО, соответствующее юридическому критерию, может считаться микропредприятием, но выручка у него за прошлый год находится в диапазоне свыше 800 млн. рублей до 2 млрд. рублей включительно, такое ООО будет считаться средним предприятием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F700E-A814-4772-8C30-0F417E59A51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3640" cy="1142640"/>
          </a:xfrm>
          <a:prstGeom prst="rect">
            <a:avLst/>
          </a:prstGeom>
          <a:gradFill rotWithShape="0">
            <a:gsLst>
              <a:gs pos="0">
                <a:srgbClr val="2988a1"/>
              </a:gs>
              <a:gs pos="100000">
                <a:srgbClr val="36b0d1"/>
              </a:gs>
            </a:gsLst>
            <a:lin ang="16200000"/>
          </a:gradFill>
          <a:ln w="0">
            <a:noFill/>
          </a:ln>
          <a:effectLst>
            <a:outerShdw dist="23040" dir="5400000" blurRad="3996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chemeClr val="lt1"/>
                </a:solidFill>
                <a:latin typeface="Arial Black"/>
              </a:rPr>
              <a:t>Малому бизнесу не нужно подтверждать свой статус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3640" cy="4525560"/>
          </a:xfrm>
          <a:prstGeom prst="rect">
            <a:avLst/>
          </a:prstGeom>
          <a:solidFill>
            <a:schemeClr val="accent5">
              <a:lumMod val="20000"/>
              <a:lumOff val="80000"/>
            </a:scheme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ю необходимую информацию о соответствии критериям, налоговики получают из отчетности. Данные о доходах подтверждают налоговые регистры. У компаний на УСН есть книга учета доходов и расходов. Подтвердить состав учредителей можно с помощью решения об учреждении ООО или выписки из ЕГРЮЛ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ст. 11 Федерального закона от 08.02.1998 № 14-ФЗ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0ECAB-1BE5-4510-958D-6241FA9349A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3640" cy="2542680"/>
          </a:xfrm>
          <a:prstGeom prst="rect">
            <a:avLst/>
          </a:prstGeom>
          <a:gradFill rotWithShape="0">
            <a:gsLst>
              <a:gs pos="0">
                <a:srgbClr val="e3fbc2"/>
              </a:gs>
              <a:gs pos="100000">
                <a:srgbClr val="f4ffe6"/>
              </a:gs>
            </a:gsLst>
            <a:lin ang="16200000"/>
          </a:gradFill>
          <a:ln w="9360">
            <a:solidFill>
              <a:srgbClr val="98b855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55584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dk1"/>
                </a:solidFill>
                <a:latin typeface="Calibri"/>
              </a:rPr>
              <a:t>     </a:t>
            </a:r>
            <a:r>
              <a:rPr b="1" lang="ru-RU" sz="3200" spc="-1" strike="noStrike">
                <a:solidFill>
                  <a:schemeClr val="dk1"/>
                </a:solidFill>
                <a:latin typeface="Arial Black"/>
              </a:rPr>
              <a:t>Вопрос 4. </a:t>
            </a:r>
            <a:r>
              <a:rPr b="1" lang="ru-RU" sz="3200" spc="-1" strike="noStrike">
                <a:solidFill>
                  <a:srgbClr val="990099"/>
                </a:solidFill>
                <a:latin typeface="Arial Black"/>
              </a:rPr>
              <a:t>Организационные и правовые особенности деятельности субъектов малого предпринимательства, влияющие на организацию бухгалтерского уче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55584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55584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Прямоугольник 5"/>
          <p:cNvSpPr/>
          <p:nvPr/>
        </p:nvSpPr>
        <p:spPr>
          <a:xfrm>
            <a:off x="142920" y="4143240"/>
            <a:ext cx="878652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ru-RU" sz="3600" spc="-1" strike="noStrike">
              <a:solidFill>
                <a:srgbClr val="9900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9E6C3-EF5D-4CED-ACFC-AE0288235F6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3640" cy="114264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 w="9360">
            <a:solidFill>
              <a:srgbClr val="46aac4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</a:rPr>
              <a:t>Особенности бухгалтерского учета на малых предприятиях</a:t>
            </a:r>
            <a:endParaRPr b="0" lang="ru-RU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3640" cy="4525560"/>
          </a:xfrm>
          <a:prstGeom prst="rect">
            <a:avLst/>
          </a:prstGeom>
          <a:solidFill>
            <a:schemeClr val="accent3">
              <a:lumMod val="40000"/>
              <a:lumOff val="60000"/>
            </a:schemeClr>
          </a:solidFill>
          <a:ln w="0">
            <a:noFill/>
          </a:ln>
        </p:spPr>
        <p:txBody>
          <a:bodyPr anchor="t">
            <a:normAutofit fontScale="72000"/>
          </a:bodyPr>
          <a:p>
            <a:pPr marL="3182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обенности бухгалтерского учета на малых предприятиях связаны с возможностью применения данными субъектами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прощенных алгоритмов учета и отчетности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закон «О бухгалтерском учете» от 06.12.2011 № 402-ФЗ (ст. 6)).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прощенный бухгалтерский учет —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то прав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предоставленное субъектам малого предпринимательства (СМП).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.е. СМП имеют право выбора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1. вести БУ в общеустановленном порядке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2. или применять упрощенные алгоритмы учета и отчетност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F1076-E023-4F37-8AFC-AF8CE2F7593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3640" cy="867960"/>
          </a:xfrm>
          <a:prstGeom prst="rect">
            <a:avLst/>
          </a:prstGeom>
          <a:gradFill rotWithShape="0">
            <a:gsLst>
              <a:gs pos="0">
                <a:srgbClr val="779637"/>
              </a:gs>
              <a:gs pos="100000">
                <a:srgbClr val="9bc348"/>
              </a:gs>
            </a:gsLst>
            <a:lin ang="16200000"/>
          </a:gradFill>
          <a:ln w="0">
            <a:noFill/>
          </a:ln>
          <a:effectLst>
            <a:outerShdw dist="23040" dir="5400000" blurRad="39960" rotWithShape="0">
              <a:srgbClr val="000000">
                <a:alpha val="35000"/>
              </a:srgbClr>
            </a:outerShdw>
          </a:effectLst>
        </p:spPr>
        <p:txBody>
          <a:bodyPr anchor="ctr">
            <a:normAutofit fontScale="59000"/>
          </a:bodyPr>
          <a:p>
            <a:pPr indent="0" algn="ctr">
              <a:lnSpc>
                <a:spcPct val="100000"/>
              </a:lnSpc>
              <a:buNone/>
            </a:pPr>
            <a:br>
              <a:rPr sz="2800"/>
            </a:br>
            <a:r>
              <a:rPr b="1" lang="ru-RU" sz="2800" spc="-1" strike="noStrike">
                <a:solidFill>
                  <a:schemeClr val="lt1"/>
                </a:solidFill>
                <a:latin typeface="Calibri"/>
              </a:rPr>
              <a:t>Применение упрощенного бухгалтерского учета для субъектов малого бизнеса недоступно, если: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0" y="1357200"/>
            <a:ext cx="9143640" cy="4768560"/>
          </a:xfrm>
          <a:prstGeom prst="rect">
            <a:avLst/>
          </a:prstGeom>
          <a:solidFill>
            <a:schemeClr val="accent6">
              <a:lumMod val="20000"/>
              <a:lumOff val="80000"/>
            </a:schemeClr>
          </a:solidFill>
          <a:ln w="0">
            <a:noFill/>
          </a:ln>
        </p:spPr>
        <p:txBody>
          <a:bodyPr anchor="t">
            <a:normAutofit fontScale="85000"/>
          </a:bodyPr>
          <a:p>
            <a:pPr marL="419760" indent="-419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АО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ООО и хозяйственном товариществе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 соблюдается правило «25 и 49»: суммарная доля участия государства, благотворительных и иных фондов в уставном капитале ООО не может превышать 25%, а суммарная доля участия иностранных юридических лиц и (или) не являющихся СМП юридических лиц не может превышать 49%;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419760" indent="-419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П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ревышен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показатель среднесписочной численности работников за предыдущий год :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15000" indent="-3150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средних фирм и ИП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 101 до 250 чел.;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15000" indent="-3150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малых компаний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 100 чел.;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15000" indent="-3150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микрофирм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 15 чел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419760" indent="-419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 startAt="3"/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Превышены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едельные значения предпринимательского дохода: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15000" indent="-3150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икрофирмы — 120 млн руб.;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15000" indent="-3150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алые компании — 800 млн руб.;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15000" indent="-3150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редние предприятия — 2 млрд руб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15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15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ход от предпринимательской включает в себя не только выручку, но и остальные полученные СМП доходы (н-р, проценты  по депозитам, полученные штрафы и др.)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15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233A5-943E-4411-B7D0-44F1B9ADAE1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286560" cy="1510920"/>
          </a:xfrm>
          <a:prstGeom prst="rect">
            <a:avLst/>
          </a:prstGeom>
          <a:gradFill rotWithShape="0">
            <a:gsLst>
              <a:gs pos="0">
                <a:srgbClr val="2988a1"/>
              </a:gs>
              <a:gs pos="100000">
                <a:srgbClr val="36b0d1"/>
              </a:gs>
            </a:gsLst>
            <a:lin ang="16200000"/>
          </a:gradFill>
          <a:ln w="0">
            <a:noFill/>
          </a:ln>
          <a:effectLst>
            <a:outerShdw dist="23040" dir="5400000" blurRad="3996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3600" spc="-1" strike="noStrike">
                <a:solidFill>
                  <a:schemeClr val="lt1"/>
                </a:solidFill>
                <a:latin typeface="Calibri"/>
              </a:rPr>
              <a:t>Упрощенный бухучет имеют право применять организации на УСН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0" y="2143080"/>
            <a:ext cx="9143640" cy="3982680"/>
          </a:xfrm>
          <a:prstGeom prst="rect">
            <a:avLst/>
          </a:prstGeom>
          <a:solidFill>
            <a:schemeClr val="accent6">
              <a:lumMod val="20000"/>
              <a:lumOff val="80000"/>
            </a:scheme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дение бухгалтерского учета при УСН обязательно только для юридических лиц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ли юрлицо, применяющее УСН, является субъектом малого предпринимательства, оно имеет возможность применять упрощенный способ ведения учета и формировать отчетность по упрощенной форме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893E7-90EF-45EA-B9E7-4209909FA71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3640" cy="725040"/>
          </a:xfrm>
          <a:prstGeom prst="rect">
            <a:avLst/>
          </a:prstGeom>
          <a:solidFill>
            <a:schemeClr val="accent5">
              <a:lumMod val="75000"/>
            </a:schemeClr>
          </a:solidFill>
          <a:ln w="0">
            <a:noFill/>
          </a:ln>
          <a:effectLst>
            <a:outerShdw dist="23040" dir="5400000" blurRad="39960" rotWithShape="0">
              <a:srgbClr val="000000">
                <a:alpha val="35000"/>
              </a:srgbClr>
            </a:outerShdw>
          </a:effectLst>
        </p:spPr>
        <p:txBody>
          <a:bodyPr anchor="ctr">
            <a:normAutofit fontScale="80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chemeClr val="lt1"/>
                </a:solidFill>
                <a:latin typeface="Times New Roman"/>
              </a:rPr>
              <a:t>Учет у индивидуальных предпринимателей (ИП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0" y="1357200"/>
            <a:ext cx="9143640" cy="500040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0000"/>
          </a:bodyPr>
          <a:p>
            <a:pPr marL="333720" indent="-3337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ИП могут применять в своей деятельности следующие налоговые режимы: УСН;ОСНО;ЕСХН;ЕНВД;ПСН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3720" indent="-3337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Независимо от выбранного режима налогообложения, ИП имеет </a:t>
            </a:r>
            <a:r>
              <a:rPr b="1" lang="ru-RU" sz="3200" spc="-1" strike="noStrike">
                <a:solidFill>
                  <a:schemeClr val="dk1"/>
                </a:solidFill>
                <a:latin typeface="Calibri"/>
              </a:rPr>
              <a:t>право отказаться от ведения бухгалтерского учета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(подп. 1 п. 2 закона № 402-ФЗ)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Для них обязателен только налоговый учет.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3720" indent="-3337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В то же время закон не запрещает ИП вести бухгалтерский учет и сдавать бухгалтерскую отчетность в контролирующие органы в общем порядке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217F0-550C-40E0-8497-FB1E7B0BE5D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1341138589"/>
              </p:ext>
            </p:extLst>
          </p:nvPr>
        </p:nvGraphicFramePr>
        <p:xfrm>
          <a:off x="457200" y="274680"/>
          <a:ext cx="8229240" cy="11426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42920" y="1600200"/>
            <a:ext cx="8857800" cy="4525560"/>
          </a:xfrm>
          <a:prstGeom prst="rect">
            <a:avLst/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6200000"/>
          </a:gradFill>
          <a:ln w="9360">
            <a:solidFill>
              <a:srgbClr val="f5924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1000"/>
          </a:bodyPr>
          <a:p>
            <a:pPr indent="0">
              <a:lnSpc>
                <a:spcPct val="120000"/>
              </a:lnSpc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dk1"/>
                </a:solidFill>
                <a:latin typeface="Calibri"/>
              </a:rPr>
              <a:t>1) </a:t>
            </a:r>
            <a:r>
              <a:rPr b="1" lang="ru-RU" sz="2400" spc="-1" strike="noStrike">
                <a:solidFill>
                  <a:schemeClr val="dk1"/>
                </a:solidFill>
                <a:latin typeface="Calibri"/>
              </a:rPr>
              <a:t>Бухгалтерский учет и контроль деятельности малого бизнеса : учебное пособие / М.Ф. Овсийчук, А.В. Шохнех. — Москва: КноРус, 2016. — 293 с. (ЭБС BOOK.ru)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373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dk1"/>
                </a:solidFill>
                <a:latin typeface="Calibri"/>
              </a:rPr>
              <a:t>2) </a:t>
            </a:r>
            <a:r>
              <a:rPr b="1" lang="ru-RU" sz="2400" spc="-1" strike="noStrike">
                <a:solidFill>
                  <a:schemeClr val="dk1"/>
                </a:solidFill>
                <a:latin typeface="Calibri"/>
              </a:rPr>
              <a:t>Вахрушина М.А. Бюджетирование в системе управленческого учета малого бизнеса: методика и организация постановки: Монография / Вахрушина М.А., Пашкова Л.В. - М.: Вузовский учебник, НИЦ ИНФРА-М, 2017. - 114 с. (ЭБС znanium.com)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373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373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dk1"/>
                </a:solidFill>
                <a:latin typeface="Calibri"/>
              </a:rPr>
              <a:t>3)</a:t>
            </a:r>
            <a:r>
              <a:rPr b="1" lang="ru-RU" sz="2400" spc="-1" strike="noStrike">
                <a:solidFill>
                  <a:schemeClr val="dk1"/>
                </a:solidFill>
                <a:latin typeface="Calibri"/>
              </a:rPr>
              <a:t> Корнеева Т.А., Татаровская Т.Е. Учет и контроль в субъектах малого бизнеса: риск-ориентированный подход: монография - М.:НИЦ ИНФРА-М, 2016. - 118 с. (ЭБС znanium.com)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373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373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EC3C1-279F-4B77-8CC3-F6B4F8BAF51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Num" idx="1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548A93C-4241-4BB6-8E5F-BDE4361243B2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3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" name="Diagram3"/>
          <p:cNvGraphicFramePr/>
          <p:nvPr>
            <p:extLst>
              <p:ext uri="{D42A27DB-BD31-4B8C-83A1-F6EECF244321}">
                <p14:modId xmlns:p14="http://schemas.microsoft.com/office/powerpoint/2010/main" val="1811042435"/>
              </p:ext>
            </p:extLst>
          </p:nvPr>
        </p:nvGraphicFramePr>
        <p:xfrm>
          <a:off x="0" y="214200"/>
          <a:ext cx="9143640" cy="57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4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2" name="Group 184"/>
          <p:cNvGraphicFramePr/>
          <p:nvPr/>
        </p:nvGraphicFramePr>
        <p:xfrm>
          <a:off x="142920" y="1000080"/>
          <a:ext cx="8857800" cy="5371200"/>
        </p:xfrm>
        <a:graphic>
          <a:graphicData uri="http://schemas.openxmlformats.org/drawingml/2006/table">
            <a:tbl>
              <a:tblPr/>
              <a:tblGrid>
                <a:gridCol w="5116320"/>
                <a:gridCol w="1527120"/>
                <a:gridCol w="2214360"/>
              </a:tblGrid>
              <a:tr h="513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звание тем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81"/>
                        </a:spcBef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ек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1600" algn="just">
                        <a:lnSpc>
                          <a:spcPct val="107000"/>
                        </a:lnSpc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актические   занят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  <a:tr h="883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Тема 1.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бъекты малого предпринимательства: понятие, категории,  организационно-правовые фор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  <a:tr h="625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Тема 2.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обенности организации учета на предприятиях малого бизне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  <a:tr h="883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Тема 3.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Общий и специальные режимы налогообложения малых предприятий. Учет расчетов по налогам и сбора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  <a:tr h="883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Тема 4.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Особенности ведения бухгалтерского и налогового учета на предприятиях малого бизнес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  <a:tr h="892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Тема 5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Методические основы формирования отчетности субъектами малого предприниматель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  <a:tr h="600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т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4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4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4">
                        <a:lumMod val="20000"/>
                        <a:lumOff val="80000"/>
                      </a:scheme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57120" y="1600200"/>
            <a:ext cx="8500680" cy="254268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 w="9360">
            <a:solidFill>
              <a:srgbClr val="46aac4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marL="51444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dk1"/>
                </a:solidFill>
                <a:latin typeface="Calibri"/>
              </a:rPr>
              <a:t>     </a:t>
            </a:r>
            <a:r>
              <a:rPr b="1" lang="ru-RU" sz="3200" spc="-1" strike="noStrike">
                <a:solidFill>
                  <a:schemeClr val="dk1"/>
                </a:solidFill>
                <a:latin typeface="Arial Black"/>
              </a:rPr>
              <a:t>Тема 1. </a:t>
            </a:r>
            <a:r>
              <a:rPr b="1" lang="ru-RU" sz="3200" spc="-1" strike="noStrike">
                <a:solidFill>
                  <a:srgbClr val="990099"/>
                </a:solidFill>
                <a:latin typeface="Arial Black"/>
              </a:rPr>
              <a:t>Субъекты малого предпринимательства: понятие, категории,  организационно-правовые формы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Прямоугольник 5"/>
          <p:cNvSpPr/>
          <p:nvPr/>
        </p:nvSpPr>
        <p:spPr>
          <a:xfrm>
            <a:off x="142920" y="4143240"/>
            <a:ext cx="878652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ru-RU" sz="3600" spc="-1" strike="noStrike">
              <a:solidFill>
                <a:srgbClr val="9900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47EB1-C692-405F-9D4D-C36663DAB0A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3640" cy="72504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 w="9360">
            <a:solidFill>
              <a:srgbClr val="46aac4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rmAutofit fontScale="94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chemeClr val="dk1"/>
                </a:solidFill>
                <a:latin typeface="Calibri"/>
              </a:rPr>
              <a:t>ВОПРОСЫ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1214280"/>
            <a:ext cx="9143640" cy="4911480"/>
          </a:xfrm>
          <a:prstGeom prst="rect">
            <a:avLst/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6200000"/>
          </a:gradFill>
          <a:ln w="9360">
            <a:solidFill>
              <a:srgbClr val="f5924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1000"/>
          </a:bodyPr>
          <a:p>
            <a:pPr marL="505800" indent="-5058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AutoNum type="arabicPeriod"/>
            </a:pPr>
            <a:r>
              <a:rPr b="1" lang="ru-RU" sz="2800" spc="-1" strike="noStrike">
                <a:solidFill>
                  <a:schemeClr val="dk1"/>
                </a:solidFill>
                <a:latin typeface="Times New Roman"/>
              </a:rPr>
              <a:t>Место и роль малого бизнеса в рыночной экономике государств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505800" indent="-5058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AutoNum type="arabicPeriod"/>
            </a:pPr>
            <a:r>
              <a:rPr b="1" lang="ru-RU" sz="2800" spc="-1" strike="noStrike">
                <a:solidFill>
                  <a:schemeClr val="dk1"/>
                </a:solidFill>
                <a:latin typeface="Times New Roman"/>
              </a:rPr>
              <a:t>Нормативно-правовое регулирование развития малого предпринимательства в Российской Федерации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505800" indent="-5058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AutoNum type="arabicPeriod"/>
            </a:pPr>
            <a:r>
              <a:rPr b="1" lang="ru-RU" sz="2800" spc="-1" strike="noStrike">
                <a:solidFill>
                  <a:schemeClr val="dk1"/>
                </a:solidFill>
                <a:latin typeface="Times New Roman"/>
              </a:rPr>
              <a:t>Понятие «субъект малого предпринимательства» и  критерии отнесения хозяйствующих субъектов к предприятиям малого бизнеса.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505800" indent="-5058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AutoNum type="arabicPeriod"/>
            </a:pPr>
            <a:r>
              <a:rPr b="1" lang="ru-RU" sz="2800" spc="-1" strike="noStrike">
                <a:solidFill>
                  <a:schemeClr val="dk1"/>
                </a:solidFill>
                <a:latin typeface="Times New Roman"/>
              </a:rPr>
              <a:t>Организационные и правовые особенности деятельности субъектов малого предпринимательства, влияющие на организацию бухгалтерского учета. Особенности учета у индивидуальных предпринимателей.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722E5-892E-444A-9BC2-67F1217E9C7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3640" cy="2542680"/>
          </a:xfrm>
          <a:prstGeom prst="rect">
            <a:avLst/>
          </a:prstGeom>
          <a:gradFill rotWithShape="0">
            <a:gsLst>
              <a:gs pos="0">
                <a:srgbClr val="e3fbc2"/>
              </a:gs>
              <a:gs pos="100000">
                <a:srgbClr val="f4ffe6"/>
              </a:gs>
            </a:gsLst>
            <a:lin ang="16200000"/>
          </a:gradFill>
          <a:ln w="9360">
            <a:solidFill>
              <a:srgbClr val="98b855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marL="51444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dk1"/>
                </a:solidFill>
                <a:latin typeface="Calibri"/>
              </a:rPr>
              <a:t>     </a:t>
            </a:r>
            <a:r>
              <a:rPr b="1" lang="ru-RU" sz="3200" spc="-1" strike="noStrike">
                <a:solidFill>
                  <a:schemeClr val="dk1"/>
                </a:solidFill>
                <a:latin typeface="Arial Black"/>
              </a:rPr>
              <a:t>Вопрос 1. </a:t>
            </a:r>
            <a:r>
              <a:rPr b="1" lang="ru-RU" sz="3200" spc="-1" strike="noStrike">
                <a:solidFill>
                  <a:srgbClr val="990099"/>
                </a:solidFill>
                <a:latin typeface="Arial Black"/>
              </a:rPr>
              <a:t>Место и роль малого бизнеса в рыночной экономике государств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Прямоугольник 5"/>
          <p:cNvSpPr/>
          <p:nvPr/>
        </p:nvSpPr>
        <p:spPr>
          <a:xfrm>
            <a:off x="142920" y="4143240"/>
            <a:ext cx="878652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ru-RU" sz="3600" spc="-1" strike="noStrike">
              <a:solidFill>
                <a:srgbClr val="9900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3630B-808F-468D-B180-5582697822E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3640" cy="114264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 w="9360">
            <a:solidFill>
              <a:srgbClr val="46aac4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333333"/>
                </a:solidFill>
                <a:latin typeface="Arial Black"/>
                <a:ea typeface="Calibri"/>
              </a:rPr>
              <a:t>Малое предпринимательство 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  <a:ea typeface="Calibri"/>
              </a:rPr>
              <a:t>— это совокупность независимых мелких и средних предприятий, выступающих как экономические субъекты рынка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3640" cy="4525560"/>
          </a:xfrm>
          <a:prstGeom prst="rect">
            <a:avLst/>
          </a:prstGeom>
          <a:solidFill>
            <a:schemeClr val="accent6">
              <a:lumMod val="20000"/>
              <a:lumOff val="80000"/>
            </a:schemeClr>
          </a:solidFill>
          <a:ln w="0">
            <a:noFill/>
          </a:ln>
        </p:spPr>
        <p:txBody>
          <a:bodyPr anchor="t">
            <a:normAutofit fontScale="85000"/>
          </a:bodyPr>
          <a:p>
            <a:pPr marL="315000" indent="-3150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лый бизнес является одним из основных элементов рыночного хозяйства. 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5000" indent="-3150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н способен оживить экономику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5000" indent="-3150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падные страны отводят ведущее место именно малому бизнесу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5000" indent="-3150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витие малого бизнеса способствует сокращению числа безработных, росту уровня доходов населения, развитию конкуренции, увеличению налоговых поступлений в бюджет, обеспечению благоприятных условий формирования потенциала в науке и производстве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3A93E-D8B1-4FC5-B48C-2E4966DFCB0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3640" cy="114264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 w="9360">
            <a:solidFill>
              <a:srgbClr val="46aac4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000000"/>
                </a:solidFill>
                <a:latin typeface="Roboto"/>
              </a:rPr>
              <a:t>Согласно Единому реестру субъектов малого и среднего предпринимательства в РФ по состоянию на 10.04.2020 действовало (</a:t>
            </a:r>
            <a:r>
              <a:rPr b="0" lang="en-US" sz="2400" spc="-1" strike="noStrike">
                <a:solidFill>
                  <a:srgbClr val="000000"/>
                </a:solidFill>
                <a:latin typeface="Roboto"/>
              </a:rPr>
              <a:t>https://ofd.nalog.ru</a:t>
            </a:r>
            <a:r>
              <a:rPr b="0" lang="ru-RU" sz="2400" spc="-1" strike="noStrike">
                <a:solidFill>
                  <a:srgbClr val="000000"/>
                </a:solidFill>
                <a:latin typeface="Roboto"/>
              </a:rPr>
              <a:t>):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3640" cy="4525560"/>
          </a:xfrm>
          <a:prstGeom prst="rect">
            <a:avLst/>
          </a:prstGeom>
          <a:solidFill>
            <a:schemeClr val="accent3">
              <a:lumMod val="20000"/>
              <a:lumOff val="80000"/>
            </a:scheme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реднесписочная численность работников, занятых в данных субъектах составляла более  15 млн. человек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3" name="Таблица 4"/>
          <p:cNvGraphicFramePr/>
          <p:nvPr/>
        </p:nvGraphicFramePr>
        <p:xfrm>
          <a:off x="0" y="1785960"/>
          <a:ext cx="9143640" cy="2409120"/>
        </p:xfrm>
        <a:graphic>
          <a:graphicData uri="http://schemas.openxmlformats.org/drawingml/2006/table">
            <a:tbl>
              <a:tblPr/>
              <a:tblGrid>
                <a:gridCol w="4143240"/>
                <a:gridCol w="5000400"/>
              </a:tblGrid>
              <a:tr h="357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СУБЪЕКТОВ – всего   </a:t>
                      </a:r>
                      <a:r>
                        <a:rPr b="0" lang="ru-RU" sz="1800" spc="-1" strike="noStrike" cap="all">
                          <a:solidFill>
                            <a:schemeClr val="dk1"/>
                          </a:solidFill>
                          <a:latin typeface="Arial Black"/>
                        </a:rPr>
                        <a:t>5 979 899, </a:t>
                      </a:r>
                      <a:r>
                        <a:rPr b="0" lang="ru-RU" sz="1400" spc="-1" strike="noStrike" cap="all">
                          <a:solidFill>
                            <a:schemeClr val="dk1"/>
                          </a:solidFill>
                          <a:latin typeface="Arial Black"/>
                        </a:rPr>
                        <a:t>в.т.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СУБЪЕКТОВ – всего   </a:t>
                      </a:r>
                      <a:r>
                        <a:rPr b="0" lang="ru-RU" sz="1800" spc="-1" strike="noStrike" cap="all">
                          <a:solidFill>
                            <a:schemeClr val="dk1"/>
                          </a:solidFill>
                          <a:latin typeface="Arial Black"/>
                        </a:rPr>
                        <a:t>5 979 899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400" spc="-1" strike="noStrike" cap="all">
                          <a:solidFill>
                            <a:schemeClr val="dk1"/>
                          </a:solidFill>
                          <a:latin typeface="Arial Black"/>
                        </a:rPr>
                        <a:t>в.т.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91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малых предприятий </a:t>
                      </a: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– 222 1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Индивидуальных предпринимателей  - </a:t>
                      </a:r>
                      <a:r>
                        <a:rPr b="0" lang="ru-RU" sz="1800" spc="-1" strike="noStrike" cap="all">
                          <a:solidFill>
                            <a:schemeClr val="dk1"/>
                          </a:solidFill>
                          <a:latin typeface="Calibri"/>
                        </a:rPr>
                        <a:t>3 421 7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521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микропредприятий </a:t>
                      </a: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– 5 740 7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Юридических лиц  - 2 558 15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521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средних предприятий </a:t>
                      </a: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– 16 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81284-773E-406B-8FDE-F864086F10A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1</TotalTime>
  <Application>LibreOffice/7.4.7.2$Linux_X86_64 LibreOffice_project/40$Build-2</Application>
  <AppVersion>15.0000</AppVersion>
  <Words>1190</Words>
  <Paragraphs>18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11T16:32:26Z</dcterms:created>
  <dc:creator>Пономарева Людмила Валентиновна</dc:creator>
  <dc:description/>
  <dc:language>en-US</dc:language>
  <cp:lastModifiedBy>user</cp:lastModifiedBy>
  <dcterms:modified xsi:type="dcterms:W3CDTF">2020-05-15T12:31:13Z</dcterms:modified>
  <cp:revision>10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6</vt:r8>
  </property>
</Properties>
</file>