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quickStyle3.xml" ContentType="application/vnd.openxmlformats-officedocument.drawingml.diagramStyle+xml"/>
  <Override PartName="/ppt/diagrams/colors3.xml" ContentType="application/vnd.openxmlformats-officedocument.drawingml.diagramColors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8D03E92-49E6-4AF5-BB08-72917DBA2112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73CFD669-2620-48C7-A159-FF844CA5DD94}">
      <dgm:prSet>
        <dgm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algn="ctr" rtl="0"/>
          <a:r>
            <a:rPr lang="ru-RU" b="1" dirty="0" smtClean="0"/>
            <a:t>УЧЕТ НА ПРЕДПРИЯТИЯХ МАЛОГО БИЗНЕСА </a:t>
          </a:r>
          <a:endParaRPr lang="ru-RU" b="1" dirty="0"/>
        </a:p>
      </dgm:t>
    </dgm:pt>
    <dgm:pt modelId="{3DC1EBB8-5B61-4E0E-97F1-6927C1FB2F19}" type="parTrans" cxnId="{9D412386-58A2-4B2F-B9BE-595CFD16E956}">
      <dgm:prSet/>
      <dgm:spPr/>
      <dgm:t>
        <a:bodyPr/>
        <a:lstStyle/>
        <a:p>
          <a:endParaRPr lang="ru-RU"/>
        </a:p>
      </dgm:t>
    </dgm:pt>
    <dgm:pt modelId="{D9E355B7-476F-4FA2-9BBB-81D5819673F9}" type="sibTrans" cxnId="{9D412386-58A2-4B2F-B9BE-595CFD16E956}">
      <dgm:prSet/>
      <dgm:spPr/>
      <dgm:t>
        <a:bodyPr/>
        <a:lstStyle/>
        <a:p>
          <a:endParaRPr lang="ru-RU"/>
        </a:p>
      </dgm:t>
    </dgm:pt>
    <dgm:pt modelId="{E549D496-169D-498F-B2EB-8A6D91D0D24C}" type="pres">
      <dgm:prSet presAssocID="{98D03E92-49E6-4AF5-BB08-72917DBA2112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88A78AB-7891-46EC-ACE8-30E68E6192FD}" type="pres">
      <dgm:prSet presAssocID="{73CFD669-2620-48C7-A159-FF844CA5DD94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9D412386-58A2-4B2F-B9BE-595CFD16E956}" srcId="{98D03E92-49E6-4AF5-BB08-72917DBA2112}" destId="{73CFD669-2620-48C7-A159-FF844CA5DD94}" srcOrd="0" destOrd="0" parTransId="{3DC1EBB8-5B61-4E0E-97F1-6927C1FB2F19}" sibTransId="{D9E355B7-476F-4FA2-9BBB-81D5819673F9}"/>
    <dgm:cxn modelId="{D5B814AD-2030-4FEF-8109-D2B6BC60954C}" type="presOf" srcId="{98D03E92-49E6-4AF5-BB08-72917DBA2112}" destId="{E549D496-169D-498F-B2EB-8A6D91D0D24C}" srcOrd="0" destOrd="0" presId="urn:microsoft.com/office/officeart/2005/8/layout/vList2"/>
    <dgm:cxn modelId="{E8E82C05-429D-4C0B-8077-6160591E81DF}" type="presOf" srcId="{73CFD669-2620-48C7-A159-FF844CA5DD94}" destId="{288A78AB-7891-46EC-ACE8-30E68E6192FD}" srcOrd="0" destOrd="0" presId="urn:microsoft.com/office/officeart/2005/8/layout/vList2"/>
    <dgm:cxn modelId="{D29656C8-08B3-4012-A1FE-15C29BD591CB}" type="presParOf" srcId="{E549D496-169D-498F-B2EB-8A6D91D0D24C}" destId="{288A78AB-7891-46EC-ACE8-30E68E6192FD}" srcOrd="0" destOrd="0" presId="urn:microsoft.com/office/officeart/2005/8/layout/vList2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B3A98DB2-C4DC-45DD-9651-9C73489BE374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9799829-DE08-446B-A081-50B1D48DE255}">
      <dgm:prSet/>
      <dgm:spPr/>
      <dgm:t>
        <a:bodyPr/>
        <a:lstStyle/>
        <a:p>
          <a:pPr rtl="0"/>
          <a:r>
            <a:rPr lang="ru-RU" b="1" dirty="0" smtClean="0"/>
            <a:t>Рекомендуемая литература</a:t>
          </a:r>
          <a:endParaRPr lang="ru-RU" dirty="0"/>
        </a:p>
      </dgm:t>
    </dgm:pt>
    <dgm:pt modelId="{16BEF240-D4C0-49D7-B35B-01305DEBBAD5}" type="parTrans" cxnId="{904AD30F-70F5-424F-AADA-5A55B702017E}">
      <dgm:prSet/>
      <dgm:spPr/>
      <dgm:t>
        <a:bodyPr/>
        <a:lstStyle/>
        <a:p>
          <a:endParaRPr lang="ru-RU"/>
        </a:p>
      </dgm:t>
    </dgm:pt>
    <dgm:pt modelId="{A160F352-A5CE-42C5-B238-39490DF9004A}" type="sibTrans" cxnId="{904AD30F-70F5-424F-AADA-5A55B702017E}">
      <dgm:prSet/>
      <dgm:spPr/>
      <dgm:t>
        <a:bodyPr/>
        <a:lstStyle/>
        <a:p>
          <a:endParaRPr lang="ru-RU"/>
        </a:p>
      </dgm:t>
    </dgm:pt>
    <dgm:pt modelId="{9F2D8571-54BA-4CBF-9CC2-1BC6E978B9AB}" type="pres">
      <dgm:prSet presAssocID="{B3A98DB2-C4DC-45DD-9651-9C73489BE374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82E222AD-3F9F-42FE-8477-0195AEB29CA2}" type="pres">
      <dgm:prSet presAssocID="{A9799829-DE08-446B-A081-50B1D48DE255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2D7E0F4D-2A0A-40F7-BDBD-4FDDB670311A}" type="presOf" srcId="{B3A98DB2-C4DC-45DD-9651-9C73489BE374}" destId="{9F2D8571-54BA-4CBF-9CC2-1BC6E978B9AB}" srcOrd="0" destOrd="0" presId="urn:microsoft.com/office/officeart/2005/8/layout/vList2"/>
    <dgm:cxn modelId="{904AD30F-70F5-424F-AADA-5A55B702017E}" srcId="{B3A98DB2-C4DC-45DD-9651-9C73489BE374}" destId="{A9799829-DE08-446B-A081-50B1D48DE255}" srcOrd="0" destOrd="0" parTransId="{16BEF240-D4C0-49D7-B35B-01305DEBBAD5}" sibTransId="{A160F352-A5CE-42C5-B238-39490DF9004A}"/>
    <dgm:cxn modelId="{B0E08360-57CD-4B3C-8CF8-7851C15D6617}" type="presOf" srcId="{A9799829-DE08-446B-A081-50B1D48DE255}" destId="{82E222AD-3F9F-42FE-8477-0195AEB29CA2}" srcOrd="0" destOrd="0" presId="urn:microsoft.com/office/officeart/2005/8/layout/vList2"/>
    <dgm:cxn modelId="{33D22B7A-223F-43F1-A06B-ED5A6CEF6B09}" type="presParOf" srcId="{9F2D8571-54BA-4CBF-9CC2-1BC6E978B9AB}" destId="{82E222AD-3F9F-42FE-8477-0195AEB29CA2}" srcOrd="0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6AA4BD86-A652-40C8-9042-E8A9042C403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57363F5-84AC-4738-850F-72502477B76D}">
      <dgm:prSet custT="1"/>
      <dgm:spPr/>
      <dgm:t>
        <a:bodyPr/>
        <a:lstStyle/>
        <a:p>
          <a:pPr algn="ctr" rtl="0"/>
          <a:r>
            <a:rPr lang="ru-RU" sz="2400" b="1" dirty="0" smtClean="0"/>
            <a:t>Содержание дисциплины </a:t>
          </a:r>
          <a:br>
            <a:rPr lang="ru-RU" sz="2400" b="1" dirty="0" smtClean="0"/>
          </a:br>
          <a:r>
            <a:rPr lang="ru-RU" sz="2400" b="1" dirty="0" smtClean="0"/>
            <a:t>«</a:t>
          </a:r>
          <a:r>
            <a:rPr lang="ru-RU" sz="2400" b="1" dirty="0" smtClean="0">
              <a:solidFill>
                <a:srgbClr val="3333CC"/>
              </a:solidFill>
            </a:rPr>
            <a:t>Учет на предприятиях малого бизнеса</a:t>
          </a:r>
          <a:r>
            <a:rPr lang="ru-RU" sz="2400" b="1" dirty="0" smtClean="0"/>
            <a:t>» (8 модуль)</a:t>
          </a:r>
          <a:endParaRPr lang="ru-RU" sz="2400" dirty="0"/>
        </a:p>
      </dgm:t>
    </dgm:pt>
    <dgm:pt modelId="{3983A055-5CB5-4206-A880-083AF4E5D0D5}" type="parTrans" cxnId="{979A0D15-F24A-4D7A-965D-E999FCF1B01D}">
      <dgm:prSet/>
      <dgm:spPr/>
      <dgm:t>
        <a:bodyPr/>
        <a:lstStyle/>
        <a:p>
          <a:endParaRPr lang="ru-RU"/>
        </a:p>
      </dgm:t>
    </dgm:pt>
    <dgm:pt modelId="{34065787-B39E-40C2-9980-ED3C3A0CDF63}" type="sibTrans" cxnId="{979A0D15-F24A-4D7A-965D-E999FCF1B01D}">
      <dgm:prSet/>
      <dgm:spPr/>
      <dgm:t>
        <a:bodyPr/>
        <a:lstStyle/>
        <a:p>
          <a:endParaRPr lang="ru-RU"/>
        </a:p>
      </dgm:t>
    </dgm:pt>
    <dgm:pt modelId="{B060FBD4-7536-474B-B56B-EE38B423CFA2}" type="pres">
      <dgm:prSet presAssocID="{6AA4BD86-A652-40C8-9042-E8A9042C403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D1D7BC0-FE3A-4826-A946-39A3C96382AD}" type="pres">
      <dgm:prSet presAssocID="{E57363F5-84AC-4738-850F-72502477B76D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979A0D15-F24A-4D7A-965D-E999FCF1B01D}" srcId="{6AA4BD86-A652-40C8-9042-E8A9042C4035}" destId="{E57363F5-84AC-4738-850F-72502477B76D}" srcOrd="0" destOrd="0" parTransId="{3983A055-5CB5-4206-A880-083AF4E5D0D5}" sibTransId="{34065787-B39E-40C2-9980-ED3C3A0CDF63}"/>
    <dgm:cxn modelId="{4E6EE7C7-818D-479A-ADE0-BC64A7E80DC4}" type="presOf" srcId="{6AA4BD86-A652-40C8-9042-E8A9042C4035}" destId="{B060FBD4-7536-474B-B56B-EE38B423CFA2}" srcOrd="0" destOrd="0" presId="urn:microsoft.com/office/officeart/2005/8/layout/vList2"/>
    <dgm:cxn modelId="{B4EA81A9-01A2-4C6F-BE8F-7D7482058B65}" type="presOf" srcId="{E57363F5-84AC-4738-850F-72502477B76D}" destId="{2D1D7BC0-FE3A-4826-A946-39A3C96382AD}" srcOrd="0" destOrd="0" presId="urn:microsoft.com/office/officeart/2005/8/layout/vList2"/>
    <dgm:cxn modelId="{595BB2D7-BD05-43E2-BC68-462017C5D7FD}" type="presParOf" srcId="{B060FBD4-7536-474B-B56B-EE38B423CFA2}" destId="{2D1D7BC0-FE3A-4826-A946-39A3C96382AD}" srcOrd="0" destOrd="0" presId="urn:microsoft.com/office/officeart/2005/8/layout/vList2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3C8-9169-4869-A6DB-705839D5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EE9-A6DB-4570-9AED-BF474743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5ED-72B6-42CC-89B1-6D1272DF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8E2-7C8A-4972-919E-F6FE9CC4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2AF9-C834-4141-941D-FE73FEB6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666C-1EA9-4EA3-A876-F17CD008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67D3-8F90-4222-9A94-06C2B886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110D-F601-4C27-B56D-DB02D4FF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5EA4-1335-4FA2-9662-18C320E6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C5AC-8353-4ED6-A732-C044A9D0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66A4-CD7D-45F2-BCA8-B49A7A19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511-29F5-4AC6-A19D-500E23C7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B6F7-68DA-49B4-9BF1-004680D7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D7A4-E674-445A-A800-3A0A4B12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D3B8-FED3-4303-BD9D-9B470ED2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9E26-5BA1-4931-B7E4-ABD490FC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FBF2-2FD3-4B68-9D5F-466736A4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395A5-E525-4285-B305-E9EBA722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8C111-BB11-4E1B-AD29-F2298ADF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2C6F1-EE7F-460E-9785-A3B58346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F8664-BBF1-42F3-97E4-43D0153D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BEBE3-225B-47EA-A16D-2F2FFE37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1E7B-8DC8-4301-A032-643254CD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586F0-9C10-46DB-973D-4A0F8E08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96206-E76F-4D30-B96F-2DDE16F1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2B4E6-27BD-4867-AE15-7D466E61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5BDE8-9A8F-4141-8363-F2509C08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B9C9C-1423-4118-939B-71C4150D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47A52-41D9-45EB-911D-DF733F93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F2BDC-8515-469B-93C8-89B7A6FA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E94AF-9DAA-4458-B920-7F4A0605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DDA98-114B-4D5C-B6AA-F09BB598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194F7-2600-4D5B-87C3-BB165776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B50-C320-407D-BA9B-B7450FB9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D31E8-DDF2-44D7-A172-DE7AC136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CD9EF-4D81-40A1-BF02-81087FF4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82AEE-C85D-4131-828F-8E85416A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91A20-7A40-4EBD-A677-DCCA3145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3F9CF-084C-46CA-A097-D6269018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B0EA7-AAF4-484C-AFBD-A776FC5A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4FB00-9682-4C9F-A940-F2BC53A4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B1AD4-319E-42F4-B631-DCAEDB07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DA915-BB4C-4E3D-8313-F77B50BA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7DE-2DA5-4FAF-A685-9048440D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B4E-5794-4C00-917C-491A62A5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D75-D865-4BCC-8644-B6D463FD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5FE-5C91-4F9A-8D68-E67827DD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53D-166F-4DB7-B64C-5CA1287D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EDAF47-9EF4-4806-923C-CD2EAD53ECD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43C245-53A1-45E7-81DA-6CD8012B573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85C2F3-8745-4745-A7BA-3F15451337F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520979-E49D-4D06-9D28-97D549AD737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ofd.nalog.ru/index.html" TargetMode="Externa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963506992"/>
              </p:ext>
            </p:extLst>
          </p:nvPr>
        </p:nvGraphicFramePr>
        <p:xfrm>
          <a:off x="685800" y="1214280"/>
          <a:ext cx="7772040" cy="2071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/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DC3-A1A9-4F22-AD85-DEDA4BBC20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По сравнению с аналогичными данными годичной давности </a:t>
            </a:r>
            <a:r>
              <a:rPr b="0" lang="ru-RU" sz="2800" spc="-1" strike="noStrike">
                <a:solidFill>
                  <a:schemeClr val="dk1"/>
                </a:solidFill>
                <a:latin typeface="Arial Black"/>
              </a:rPr>
              <a:t>наблюдается резкая отрицательная динамик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ньшилось количество субъектов малого бизнеса. 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кратилось общее количество работников, занятых в малом бизнесе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ад МСП сектора в ВВП России (примерно 21%) относительно развитых европейских стран минимальный. Преобладающая часть американского и европейского бизнеса относится именно к категориям «малого» и «среднего»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.е. роль малого бизнеса в экономике РФ остается довольно незначительно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45357-D715-4012-B152-4C2BCF5CE2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Отраслевая структура МСП в 2019 г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товая и розничная торговля - 37% от общей доли МСП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ерации с недвижимым имуществом  - 22%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оительство – 12%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батывающее производство – 9%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нспорт и связь – 8%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е виды деятельности – 12%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78C74-87D8-4335-A774-8DB9DBCA44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Сложившееся положение требует реорганизации структуры МСП посредством разработки и реализации программ, направленных на увеличение доли малого и среднего бизнеса в различных отраслях экономик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4000"/>
          </a:bodyPr>
          <a:p>
            <a:pPr marL="31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Основные направления повышения эффективности функционирования МСП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улучшение условий кредитования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. Понижение ставок и решение проблем залогового обеспечен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Выработка новых кредитных программ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. Долгосрочные займы для инновационных компаний с высокопроизводительными рабочими места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Предоставление грантов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. Прежде всего для предприятий в сфере сельского хозяйства, промышленности, товарного производства, высоких технологий, социальных услу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Создание комплексной инфраструктуры объектов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, </a:t>
            </a: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оказывающих помощь предпринимателям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Постоянный мониторинг эффективности предпринимаемых мер и их совершенствование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63600-397F-4431-9472-9F9762F555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3640" cy="254268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chemeClr val="dk1"/>
                </a:solidFill>
                <a:latin typeface="Arial Black"/>
              </a:rPr>
              <a:t>Вопрос 2. </a:t>
            </a:r>
            <a:r>
              <a:rPr b="1" lang="ru-RU" sz="3200" spc="-1" strike="noStrike">
                <a:solidFill>
                  <a:srgbClr val="990099"/>
                </a:solidFill>
                <a:latin typeface="Arial Black"/>
              </a:rPr>
              <a:t>Нормативно-правовое регулирование развития малого предпринимательства в Российской Федерац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5"/>
          <p:cNvSpPr/>
          <p:nvPr/>
        </p:nvSpPr>
        <p:spPr>
          <a:xfrm>
            <a:off x="142920" y="4143240"/>
            <a:ext cx="87865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76AEE-F1AB-4777-B4C4-BE2F4F81EE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аконодательное и нормативно-правовое регулирование малого предпринимательств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жданский Кодекс РФ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деральный закон "О развитии малого и среднего предпринимательства в Российской Федерации"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 24.07.2007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N 209-Ф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редакции от 01.04.2020 №83-ФЗ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деральный закон от 06.12.2011 N 402-ФЗ "О бухгалтерском учете "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ред. от 26.07.2019)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86EBC-ED42-4991-BA7A-DD98D2545C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lt1"/>
                </a:solidFill>
                <a:latin typeface="Calibri"/>
              </a:rPr>
              <a:t>Особенности нормативно-правового регулирования развития малого и среднего предпринимательства в Российской Федерации  (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N 209-ФЗ, статья 7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ециальные налоговые режимы, упрощенные правила ведения налогового учета, упрощенные формы налоговых деклараций по отдельным налогам и сборам для малых предприятий;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ощенные способы ведения бухгалтерского учета, включая упрощенную бухгалтерскую (финансовую) отчетность, и упрощенный порядок ведения кассовых операций для малых предприятий;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ощенный порядок составления субъектами малого и среднего предпринимательства статистической отчетности;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39"/>
              </a:spcBef>
              <a:buClr>
                <a:srgbClr val="333333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333333"/>
                </a:solidFill>
                <a:latin typeface="Arial"/>
              </a:rPr>
              <a:t>меры по обеспечению финансовой поддержки субъектов малого и среднего предпринимательства, организаций, образующих инфраструктуру поддержки субъектов малого и среднего предпринимательства;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ые меры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BEBD2-327C-4197-917B-17B06DA7AD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3640" cy="254268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chemeClr val="dk1"/>
                </a:solidFill>
                <a:latin typeface="Arial Black"/>
              </a:rPr>
              <a:t>Вопрос 3. </a:t>
            </a:r>
            <a:r>
              <a:rPr b="1" lang="ru-RU" sz="3200" spc="-1" strike="noStrike">
                <a:solidFill>
                  <a:srgbClr val="990099"/>
                </a:solidFill>
                <a:latin typeface="Arial Black"/>
              </a:rPr>
              <a:t>Понятие «субъект малого предпринимательства» и  критерии отнесения хозяйствующих субъектов к предприятиям малого бизнес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5"/>
          <p:cNvSpPr/>
          <p:nvPr/>
        </p:nvSpPr>
        <p:spPr>
          <a:xfrm>
            <a:off x="142920" y="4143240"/>
            <a:ext cx="87865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47FCB-4D58-43A3-8B36-865B36B263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990099"/>
                </a:solidFill>
                <a:latin typeface="Arial Black"/>
              </a:rPr>
              <a:t>Понятие «субъект малого предпринимательства»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397152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0">
            <a:noFill/>
          </a:ln>
        </p:spPr>
        <p:txBody>
          <a:bodyPr anchor="t">
            <a:normAutofit fontScale="75000"/>
          </a:bodyPr>
          <a:p>
            <a:pPr marL="331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ъекты малого и среднего предпринимательств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СМП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юридические лица и индивидуальные предприниматели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торые в соответствии с определенными условиями относятся к малым и средним предприятиям и сведения о которых указываются в едином реестре таких субъектов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ст. 3 Федерального закона от 24.07.2007 № 209-ФЗ).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йт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smp.nalog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1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1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убъекты малого предпринимательства (СМП)– это средние, малые и микропредприят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DA97A-7DA2-4AF5-A816-F84B165839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2844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57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r>
              <a:rPr b="1" lang="ru-RU" sz="3100" spc="-1" strike="noStrike" cap="all">
                <a:solidFill>
                  <a:srgbClr val="000000"/>
                </a:solidFill>
                <a:latin typeface="Arial Black"/>
              </a:rPr>
              <a:t>КРИТЕРИИ МАЛОГО И СРЕДНЕГО БИЗНЕСА  </a:t>
            </a:r>
            <a:r>
              <a:rPr b="1" lang="ru-RU" sz="1600" spc="-1" strike="noStrike" cap="all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. 4 Закона N 209-ФЗ</a:t>
            </a:r>
            <a:r>
              <a:rPr b="1" lang="ru-RU" sz="1600" spc="-1" strike="noStrike" cap="all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3640" cy="491148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6000"/>
          </a:bodyPr>
          <a:p>
            <a:pPr marL="355680" indent="-355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Критерии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алого предприятия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 – среднесписочная численность не более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100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человек и доход не более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800 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млн руб. Минимум 51% уставного капитала ООО должно принадлежать физлицам или организациям – СМП. Доля организаций, не относящихся к СМП, не должна превышать 49%, доля государства, регионов или НКО – 25%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Критерии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икропредприятия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 – среднесписочная численность не более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15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человек и доход не более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120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млн руб. Ограничения по структуре уставного капитала – те же, что и для малых предприятий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Критерии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среднего предприятия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 – среднесписочная численность не более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250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человек и доход не более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2 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млрд руб. Ограничения по структуре уставного капитала – те же, что и для малых предприятий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Среднесписочную численность и доход оценивают за предыдущий год, доход считают по данным налогового учета без НДС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FCFAF-371A-42D6-9D30-2C6D635442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3640" cy="1142640"/>
          </a:xfrm>
          <a:prstGeom prst="rect">
            <a:avLst/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br>
              <a:rPr sz="2200"/>
            </a:br>
            <a:r>
              <a:rPr b="0" lang="ru-RU" sz="2200" spc="-1" strike="noStrike">
                <a:solidFill>
                  <a:schemeClr val="lt1"/>
                </a:solidFill>
                <a:latin typeface="Calibri"/>
              </a:rPr>
              <a:t> </a:t>
            </a:r>
            <a:br>
              <a:rPr sz="2200"/>
            </a:br>
            <a:r>
              <a:rPr b="0" lang="ru-RU" sz="2000" spc="-1" strike="noStrike">
                <a:solidFill>
                  <a:schemeClr val="lt1"/>
                </a:solidFill>
                <a:latin typeface="Arial Black"/>
              </a:rPr>
              <a:t>Т.е. КРИТЕРИИ МАЛОГО И СРЕДНЕГО БИЗНЕСА делят на 3 группы: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юридические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орма (особенности) организации - ООО, АО, организации, занимающиеся интеллектуальной деятельностью, подробнее см. в Законе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 численнос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Тип СМП: микропредприятия – до 15 чел. включительно; Малое предприятие - от 16 до 100 человек включительно; Среднее предприятие - от 101 до 250 человек включительно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критерии по доходу (предельное значение дохода за 2020 год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Тип СМП: микропредприятия – 120 млн. рублей; Малое предприятие - 800 млн. рублей; Среднее предприятие - 2 млрд. рублей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D9C4E-4B8F-4B4C-8BF4-CEECBC25EB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913A45-26B0-4944-805B-E9A6081B08A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0" y="285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ыписка из учебного плана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а 2018-2021 учебные годы</a:t>
            </a:r>
            <a:br>
              <a:rPr sz="2800"/>
            </a:b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направление подготовки: 38.04.01 - Экономика , магистерская программа "Учет, анализ, аудит" </a:t>
            </a:r>
            <a:br>
              <a:rPr sz="2800"/>
            </a:br>
            <a:r>
              <a:rPr b="1" lang="ru-RU" sz="2400" spc="-1" strike="noStrike">
                <a:solidFill>
                  <a:srgbClr val="3333cc"/>
                </a:solidFill>
                <a:latin typeface="Calibri"/>
              </a:rPr>
              <a:t>по дисциплине «Учет на предприятиях малого бизнеса»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Group 53"/>
          <p:cNvGraphicFramePr/>
          <p:nvPr/>
        </p:nvGraphicFramePr>
        <p:xfrm>
          <a:off x="0" y="1571760"/>
          <a:ext cx="8929440" cy="2618280"/>
        </p:xfrm>
        <a:graphic>
          <a:graphicData uri="http://schemas.openxmlformats.org/drawingml/2006/table">
            <a:tbl>
              <a:tblPr/>
              <a:tblGrid>
                <a:gridCol w="1015200"/>
                <a:gridCol w="1413000"/>
                <a:gridCol w="1071360"/>
                <a:gridCol w="1428480"/>
                <a:gridCol w="1617840"/>
                <a:gridCol w="2382120"/>
              </a:tblGrid>
              <a:tr h="148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ду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троль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кции (час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актические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час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час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межуточная аттестация по модулям / Рубежный 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ч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chemeClr val="lt1"/>
                </a:solidFill>
                <a:latin typeface="Calibri"/>
              </a:rPr>
              <a:t>Категория СМП определяется в соответствии с наибольшим по значению условием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1144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Если, к примеру, по численности ООО, соответствующее юридическому критерию, может считаться микропредприятием, но выручка у него за прошлый год находится в диапазоне свыше 800 млн. рублей до 2 млрд. рублей включительно, такое ООО будет считаться средним предприятие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A2BEA-8C18-4099-98FB-132C32053D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chemeClr val="lt1"/>
                </a:solidFill>
                <a:latin typeface="Arial Black"/>
              </a:rPr>
              <a:t>Малому бизнесу не нужно подтверждать свой статус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ю необходимую информацию о соответствии критериям, налоговики получают из отчетности. Данные о доходах подтверждают налоговые регистры. У компаний на УСН есть книга учета доходов и расходов. Подтвердить состав учредителей можно с помощью решения об учреждении ООО или выписки из ЕГРЮ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т. 11 Федерального закона от 08.02.1998 № 14-ФЗ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C5E25-7E09-44B3-94DE-AEA5FF3737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3640" cy="254268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558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chemeClr val="dk1"/>
                </a:solidFill>
                <a:latin typeface="Arial Black"/>
              </a:rPr>
              <a:t>Вопрос 4. </a:t>
            </a:r>
            <a:r>
              <a:rPr b="1" lang="ru-RU" sz="3200" spc="-1" strike="noStrike">
                <a:solidFill>
                  <a:srgbClr val="990099"/>
                </a:solidFill>
                <a:latin typeface="Arial Black"/>
              </a:rPr>
              <a:t>Организационные и правовые особенности деятельности субъектов малого предпринимательства, влияющие на организацию бухгалтерского уче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558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558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5"/>
          <p:cNvSpPr/>
          <p:nvPr/>
        </p:nvSpPr>
        <p:spPr>
          <a:xfrm>
            <a:off x="142920" y="4143240"/>
            <a:ext cx="87865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2B954-B39D-484C-B352-73CBA099EE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Особенности бухгалтерского учета на малых предприятиях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0">
            <a:noFill/>
          </a:ln>
        </p:spPr>
        <p:txBody>
          <a:bodyPr anchor="t">
            <a:normAutofit fontScale="72000"/>
          </a:bodyPr>
          <a:p>
            <a:pPr marL="318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бухгалтерского учета на малых предприятиях связаны с возможностью применения данными субъектам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ощенных алгоритмов учета и отчетност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закон «О бухгалтерском учете» от 06.12.2011 № 402-ФЗ (ст. 6))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ощенный бухгалтерский учет —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пра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едоставленное субъектам малого предпринимательства (СМП)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е. СМП имеют право выбора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. вести БУ в общеустановленном порядк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. или применять упрощенные алгоритмы учета и отчетнос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3AD34-8018-469E-A0D6-2B4AC8094A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867960"/>
          </a:xfrm>
          <a:prstGeom prst="rect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r>
              <a:rPr b="1" lang="ru-RU" sz="2800" spc="-1" strike="noStrike">
                <a:solidFill>
                  <a:schemeClr val="lt1"/>
                </a:solidFill>
                <a:latin typeface="Calibri"/>
              </a:rPr>
              <a:t>Применение упрощенного бухгалтерского учета для субъектов малого бизнеса недоступно, если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143640" cy="47685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 fontScale="85000"/>
          </a:bodyPr>
          <a:p>
            <a:pPr marL="419760" indent="-419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АО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ОО и хозяйственном товариществ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соблюдается правило «25 и 49»: суммарная доля участия государства, благотворительных и иных фондов в уставном капитале ООО не может превышать 25%, а суммарная доля участия иностранных юридических лиц и (или) не являющихся СМП юридических лиц не может превышать 49%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19760" indent="-419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евыше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казатель среднесписочной численности работников за предыдущий год 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редних фирм и ИП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101 до 250 чел.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алых компани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 100 чел.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икрофир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 15 чел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19760" indent="-419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евыш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ельные значения предпринимательского дохода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крофирмы — 120 млн руб.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лые компании — 800 млн руб.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ие предприятия — 2 млрд руб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ход от предпринимательской включает в себя не только выручку, но и остальные полученные СМП доходы (н-р, проценты  по депозитам, полученные штрафы и др.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55EDB-515B-4E15-9B23-E15900712F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286560" cy="151092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chemeClr val="lt1"/>
                </a:solidFill>
                <a:latin typeface="Calibri"/>
              </a:rPr>
              <a:t>Упрощенный бухучет имеют право применять организации на УСН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2143080"/>
            <a:ext cx="9143640" cy="398268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ение бухгалтерского учета при УСН обязательно только для юридических лиц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юрлицо, применяющее УСН, является субъектом малого предпринимательства, оно имеет возможность применять упрощенный способ ведения учета и формировать отчетность по упрощенной форм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C2257-04DA-4201-AA4A-989E98053D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72504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lt1"/>
                </a:solidFill>
                <a:latin typeface="Times New Roman"/>
              </a:rPr>
              <a:t>Учет у индивидуальных предпринимателей (ИП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143640" cy="500040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0000"/>
          </a:bodyPr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ИП могут применять в своей деятельности следующие налоговые режимы: УСН;ОСНО;ЕСХН;ЕНВД;ПСН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Независимо от выбранного режима налогообложения, ИП имеет </a:t>
            </a: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право отказаться от ведения бухгалтерского учет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подп. 1 п. 2 закона № 402-ФЗ)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ля них обязателен только налоговый учет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В то же время закон не запрещает ИП вести бухгалтерский учет и сдавать бухгалтерскую отчетность в контролирующие органы в общем порядк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81F10-F05C-4699-A18E-FAECEC74D1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246751193"/>
              </p:ext>
            </p:extLst>
          </p:nvPr>
        </p:nvGraphicFramePr>
        <p:xfrm>
          <a:off x="457200" y="274680"/>
          <a:ext cx="8229240" cy="1142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42920" y="1600200"/>
            <a:ext cx="8857800" cy="452556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1000"/>
          </a:bodyPr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1)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Бухгалтерский учет и контроль деятельности малого бизнеса : учебное пособие / М.Ф. Овсийчук, А.В. Шохнех. — Москва: КноРус, 2016. — 293 с. (ЭБС BOOK.ru)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2)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Вахрушина М.А. Бюджетирование в системе управленческого учета малого бизнеса: методика и организация постановки: Монография / Вахрушина М.А., Пашкова Л.В. - М.: Вузовский учебник, НИЦ ИНФРА-М, 2017. - 114 с. (ЭБС znanium.com)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3)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 Корнеева Т.А., Татаровская Т.Е. Учет и контроль в субъектах малого бизнеса: риск-ориентированный подход: монография - М.:НИЦ ИНФРА-М, 2016. - 118 с. (ЭБС znanium.com)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6227E-3938-4C1C-A0EE-42305525E2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Num" idx="1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56127C-7B4E-46EF-AA88-35B4726AF40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4280945583"/>
              </p:ext>
            </p:extLst>
          </p:nvPr>
        </p:nvGraphicFramePr>
        <p:xfrm>
          <a:off x="0" y="214200"/>
          <a:ext cx="914364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Group 184"/>
          <p:cNvGraphicFramePr/>
          <p:nvPr/>
        </p:nvGraphicFramePr>
        <p:xfrm>
          <a:off x="142920" y="1000080"/>
          <a:ext cx="8857800" cy="5371200"/>
        </p:xfrm>
        <a:graphic>
          <a:graphicData uri="http://schemas.openxmlformats.org/drawingml/2006/table">
            <a:tbl>
              <a:tblPr/>
              <a:tblGrid>
                <a:gridCol w="5116320"/>
                <a:gridCol w="1527120"/>
                <a:gridCol w="2214360"/>
              </a:tblGrid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звание тем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1600" algn="just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ктические   занят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88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ма 1.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ъекты малого предпринимательства: понятие, категории,  организационно-правовые 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ма 2.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организации учета на предприятиях малого бизне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88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ма 3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щий и специальные режимы налогообложения малых предприятий. Учет расчетов по налогам и сбо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88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ма 4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собенности ведения бухгалтерского и налогового учета на предприятиях малого бизнес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89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ма 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Методические основы формирования отчетности субъектами малого предприниматель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60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57120" y="1600200"/>
            <a:ext cx="8500680" cy="25426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chemeClr val="dk1"/>
                </a:solidFill>
                <a:latin typeface="Arial Black"/>
              </a:rPr>
              <a:t>Тема 1. </a:t>
            </a:r>
            <a:r>
              <a:rPr b="1" lang="ru-RU" sz="3200" spc="-1" strike="noStrike">
                <a:solidFill>
                  <a:srgbClr val="990099"/>
                </a:solidFill>
                <a:latin typeface="Arial Black"/>
              </a:rPr>
              <a:t>Субъекты малого предпринимательства: понятие, категории,  организационно-правовые форм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5"/>
          <p:cNvSpPr/>
          <p:nvPr/>
        </p:nvSpPr>
        <p:spPr>
          <a:xfrm>
            <a:off x="142920" y="4143240"/>
            <a:ext cx="87865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726EB-93B6-4843-BAB2-ABAF67DF93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7250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dk1"/>
                </a:solidFill>
                <a:latin typeface="Calibri"/>
              </a:rPr>
              <a:t>ВОПРОС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3640" cy="491148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1000"/>
          </a:bodyPr>
          <a:p>
            <a:pPr marL="505800" indent="-505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ru-RU" sz="2800" spc="-1" strike="noStrike">
                <a:solidFill>
                  <a:schemeClr val="dk1"/>
                </a:solidFill>
                <a:latin typeface="Times New Roman"/>
              </a:rPr>
              <a:t>Место и роль малого бизнеса в рыночной экономике государств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ru-RU" sz="2800" spc="-1" strike="noStrike">
                <a:solidFill>
                  <a:schemeClr val="dk1"/>
                </a:solidFill>
                <a:latin typeface="Times New Roman"/>
              </a:rPr>
              <a:t>Нормативно-правовое регулирование развития малого предпринимательства в Российской Федераци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ru-RU" sz="2800" spc="-1" strike="noStrike">
                <a:solidFill>
                  <a:schemeClr val="dk1"/>
                </a:solidFill>
                <a:latin typeface="Times New Roman"/>
              </a:rPr>
              <a:t>Понятие «субъект малого предпринимательства» и  критерии отнесения хозяйствующих субъектов к предприятиям малого бизнеса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ru-RU" sz="2800" spc="-1" strike="noStrike">
                <a:solidFill>
                  <a:schemeClr val="dk1"/>
                </a:solidFill>
                <a:latin typeface="Times New Roman"/>
              </a:rPr>
              <a:t>Организационные и правовые особенности деятельности субъектов малого предпринимательства, влияющие на организацию бухгалтерского учета. Особенности учета у индивидуальных предпринимателей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0F934-13E8-4558-835E-02CA6BEFDA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3640" cy="254268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chemeClr val="dk1"/>
                </a:solidFill>
                <a:latin typeface="Arial Black"/>
              </a:rPr>
              <a:t>Вопрос 1. </a:t>
            </a:r>
            <a:r>
              <a:rPr b="1" lang="ru-RU" sz="3200" spc="-1" strike="noStrike">
                <a:solidFill>
                  <a:srgbClr val="990099"/>
                </a:solidFill>
                <a:latin typeface="Arial Black"/>
              </a:rPr>
              <a:t>Место и роль малого бизнеса в рыночной экономике государств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5"/>
          <p:cNvSpPr/>
          <p:nvPr/>
        </p:nvSpPr>
        <p:spPr>
          <a:xfrm>
            <a:off x="142920" y="4143240"/>
            <a:ext cx="87865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D7939-114A-4E9B-845A-84251D0570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333333"/>
                </a:solidFill>
                <a:latin typeface="Arial Black"/>
                <a:ea typeface="Calibri"/>
              </a:rPr>
              <a:t>Малое предпринимательство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Calibri"/>
              </a:rPr>
              <a:t>— это совокупность независимых мелких и средних предприятий, выступающих как экономические субъекты рын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 fontScale="85000"/>
          </a:bodyPr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ый бизнес является одним из основных элементов рыночного хозяйства.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способен оживить экономику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адные страны отводят ведущее место именно малому бизнесу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малого бизнеса способствует сокращению числа безработных, росту уровня доходов населения, развитию конкуренции, увеличению налоговых поступлений в бюджет, обеспечению благоприятных условий формирования потенциала в науке и производств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75958-1BE8-4514-8729-C4FD3616B6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Roboto"/>
              </a:rPr>
              <a:t>Согласно Единому реестру субъектов малого и среднего предпринимательства в РФ по состоянию на 10.04.2020 действовало (</a:t>
            </a:r>
            <a:r>
              <a:rPr b="0" lang="en-US" sz="2400" spc="-1" strike="noStrike">
                <a:solidFill>
                  <a:srgbClr val="000000"/>
                </a:solidFill>
                <a:latin typeface="Roboto"/>
              </a:rPr>
              <a:t>https://ofd.nalog.ru</a:t>
            </a:r>
            <a:r>
              <a:rPr b="0" lang="ru-RU" sz="2400" spc="-1" strike="noStrike">
                <a:solidFill>
                  <a:srgbClr val="000000"/>
                </a:solidFill>
                <a:latin typeface="Roboto"/>
              </a:rPr>
              <a:t>)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несписочная численность работников, занятых в данных субъектах составляла более  15 млн. челове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3" name="Таблица 4"/>
          <p:cNvGraphicFramePr/>
          <p:nvPr/>
        </p:nvGraphicFramePr>
        <p:xfrm>
          <a:off x="0" y="1785960"/>
          <a:ext cx="9143640" cy="2409120"/>
        </p:xfrm>
        <a:graphic>
          <a:graphicData uri="http://schemas.openxmlformats.org/drawingml/2006/table">
            <a:tbl>
              <a:tblPr/>
              <a:tblGrid>
                <a:gridCol w="4143240"/>
                <a:gridCol w="5000400"/>
              </a:tblGrid>
              <a:tr h="357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УБЪЕКТОВ – всего   </a:t>
                      </a:r>
                      <a:r>
                        <a:rPr b="0" lang="ru-RU" sz="1800" spc="-1" strike="noStrike" cap="all">
                          <a:solidFill>
                            <a:schemeClr val="dk1"/>
                          </a:solidFill>
                          <a:latin typeface="Arial Black"/>
                        </a:rPr>
                        <a:t>5 979 899, </a:t>
                      </a:r>
                      <a:r>
                        <a:rPr b="0" lang="ru-RU" sz="1400" spc="-1" strike="noStrike" cap="all">
                          <a:solidFill>
                            <a:schemeClr val="dk1"/>
                          </a:solidFill>
                          <a:latin typeface="Arial Black"/>
                        </a:rPr>
                        <a:t>в.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УБЪЕКТОВ – всего   </a:t>
                      </a:r>
                      <a:r>
                        <a:rPr b="0" lang="ru-RU" sz="1800" spc="-1" strike="noStrike" cap="all">
                          <a:solidFill>
                            <a:schemeClr val="dk1"/>
                          </a:solidFill>
                          <a:latin typeface="Arial Black"/>
                        </a:rPr>
                        <a:t>5 979 899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 cap="all">
                          <a:solidFill>
                            <a:schemeClr val="dk1"/>
                          </a:solidFill>
                          <a:latin typeface="Arial Black"/>
                        </a:rPr>
                        <a:t>в.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91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алых предприятий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– 222 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ндивидуальных предпринимателей  - </a:t>
                      </a:r>
                      <a:r>
                        <a:rPr b="0" lang="ru-RU" sz="1800" spc="-1" strike="noStrike" cap="all">
                          <a:solidFill>
                            <a:schemeClr val="dk1"/>
                          </a:solidFill>
                          <a:latin typeface="Calibri"/>
                        </a:rPr>
                        <a:t>3 421 7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52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икропредприятий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– 5 740 7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Юридических лиц  - 2 558 15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2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редних предприятий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– 16 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739AE-9080-42B0-B5AF-F46ABC8AE4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  <Words>1190</Words>
  <Paragraphs>18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1T16:32:26Z</dcterms:created>
  <dc:creator>Пономарева Людмила Валентиновна</dc:creator>
  <dc:description/>
  <dc:language>en-US</dc:language>
  <cp:lastModifiedBy>user</cp:lastModifiedBy>
  <dcterms:modified xsi:type="dcterms:W3CDTF">2020-05-15T12:31:13Z</dcterms:modified>
  <cp:revision>10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6</vt:r8>
  </property>
</Properties>
</file>