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3EB-A729-4452-BF72-13194BA8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754-2DB2-4CAB-86FC-C03628D0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481-E2BF-4CC3-95FB-6EBD7024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035-E856-4A51-AEAB-D7F71306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02B3-B1B3-48B3-AA5B-EEFB272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DBB-584B-4443-8661-3A997B0D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6EF-A33E-4201-8759-7C90EA02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3CD-CFEF-4C66-B86E-F61C931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9463-E75F-434D-8C05-6D28A987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AC00-4914-4477-A646-011F204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8F83-5532-49D6-AFC9-7B6D03AB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799-E7E5-413F-B118-1AE5553B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0B85-CE28-4546-9D31-04F404D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3CCE-3D8E-4812-92D5-CC3D451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04B-CEDC-47F6-BAE8-1FEF1072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FDA4-A1DD-4751-AB04-80FFC223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6FB0-A02C-4A23-81C1-1A759179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6AC-653B-4532-AEE3-F3B12B0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6AD-B8EC-48EF-94CB-5E9BA92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124-3ADB-4A62-9300-C333F0E4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57A-2A55-4B7D-B354-2AB7C1E5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E3D-2B23-4DE8-874C-96AA1C5D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06D-08DF-40CD-8DC1-5B76C467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A8C-2B88-49C4-8C89-E292632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28A663-15AE-43F1-9BAD-2B91BD4AC7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6D1C2B-30AD-4E2C-8911-FF3BAFD1800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-663120" y="108000"/>
            <a:ext cx="1307556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СЛЕДОВАТЕЛЬСКИЙ ПРОЕКТ ПО ФИЗ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«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Ы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ВОЙСТВА ОБЫЧНОЙ ВОДЫ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137960" y="3610800"/>
            <a:ext cx="10542240" cy="3107160"/>
          </a:xfrm>
          <a:prstGeom prst="rect">
            <a:avLst/>
          </a:prstGeom>
          <a:blipFill rotWithShape="0">
            <a:blip r:embed="rId2">
              <a:alphaModFix amt="6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алый Данил Ю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9 класса МКОУ СОШ №13 имени Федора Ивановича Фом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Князев Олег Анатольевич, учитель физики и информатики  МКОУ СОШ №13 имени Федора Ивановича Фом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913200" y="765000"/>
            <a:ext cx="3737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пыт - таяние от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4399200" y="1288440"/>
            <a:ext cx="70509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температура льда может быть от 0 градусов (по Цельсию) и ниже, при 0 градусов лед начинает таять. Когда мы добавляем соль, то снижаем температуру замерзания, и лед начинает таять. Нитка в этот момент погружается в образовавшуюся воду. Но чем больше образуется воды, тем ниже концентрация соли и тем выше температура замерзания. Постепенно нитка вмораживается в кусочек ль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"/>
          <p:cNvPicPr/>
          <p:nvPr/>
        </p:nvPicPr>
        <p:blipFill>
          <a:blip r:embed="rId1"/>
          <a:stretch/>
        </p:blipFill>
        <p:spPr>
          <a:xfrm>
            <a:off x="625320" y="1956600"/>
            <a:ext cx="3659760" cy="26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606040" y="765000"/>
            <a:ext cx="588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indent="3780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Опыты с неньютоновской  жид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2972520" cy="3963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4221720" y="1967760"/>
            <a:ext cx="60955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язкость неньютоновской жидкости зависит от механических воздействий, в том числе и от вибрационных (звуковых). Чем выше скорость воздействия, тем больше вязкость. С обычной жидкостью такие опыты провести не получи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234360" y="655920"/>
            <a:ext cx="117230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исследования я расширил свои знания о воде. Провел собственные наблю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ым путем доказал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это жидкость, которая имеет св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существует в трех состояниях: твердое, жидкое, газообраз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переходит из твердого состояния в жидкое, из жидкого газообразное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воды: меняет свою структуру под влиянием разнообразных воздействий (мыслей, слов, музы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- величайшее богатство человека. Природой постоянно поддерживается ее естественный круговорот: она испаряется с поверхности водоемов, а затем выпадает в виде осадков: дождя или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95640" y="637560"/>
            <a:ext cx="1121796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имеет свои уникальные и тонкие черты. Она бесцветна, без вкуса, без запаха, прозрачна, не имеет формы, текуча, обладает теплоемкостью и хороший растворитель. Без нее не обходятся ни в одном уголке нашей планеты. Ее влияние поистине огромно. Люди должны сохранить присутствие воды в нашей жизни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 подводит нас к пониманию того, что вода - уникальное вещество, несущее информацию 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литературу, я пришел к выводу, что вода обладает многими удивительными свойствами, резко отличающими её от всех других жидкостей.   Вода дана нам природой, запасы воды не бесконечны и каждая ее капля – драгоценна, ведь жизнь человека невозможна без воды.  Берегите во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60" indent="450360" algn="just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415320" y="1538280"/>
            <a:ext cx="489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4359240" y="2061720"/>
            <a:ext cx="3472920" cy="34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75280" y="407880"/>
            <a:ext cx="11041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работы состоит в том, что исследование свойств воды необычайно важно для человечества. Данная работа позволит узнать немного больше об этом невероятном веществе - воде. В данной работе исследуются интересные факты, связанные с использованием воды, свойства воды и множество любопытных опытов, которые можно выполнить в домашних усло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интересными фактами о воде, основными известными свойствами воды, ее химическими качествами, функциями, а также со значением воды в жизни человек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ытным путем раскрыть свойства обычн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804200" y="282600"/>
            <a:ext cx="3256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23000" y="744480"/>
            <a:ext cx="1160028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— главный регулятор температуры тела. Вода является важнейшим компонентом крови, слизи и пищеварительных соков. Она находится даже в костях (22 %). Мышцы состоят из воды почти на 75 %. Мозг с его миллиардами клеток на 70 - 85 % состоит из воды. Нормальная жизнедеятельность человека находится в прямой зависимости от количества выпиваемой им воды. Наш организм будет плохо работать при наличии малого количества воды. Ваш организм находится даже в большей зависимости от воды, чем аккумулятор. Обезвоживание приводит к нарушению функционирования клеток и тканей. Когда дело касается высохшей батареи, ее работу можно восстановить, добавив воды. Когда же организм человека теряет около 20 процентов воды, прекращается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729240" y="195840"/>
            <a:ext cx="611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СВОЙСТВА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123560" y="456480"/>
            <a:ext cx="10476720" cy="83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реагирует со многими металлами с выделением вод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а + 2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2NаОН (бу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ода реагирует со многими оксидами не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=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ер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екоторые оксиды металлов также могут вступать в реакции соединения с водой СаО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= Са(ОН) 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идроксид кальция (гашеная изв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ода образует многочисленные соединения, в которых ее молекула полностью сохраняется. Это так называемые гид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(гидрат серной кисл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Фотосинтез. Особая реакция воды - синтез растениями крахм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5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(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ри действии с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29040" y="241920"/>
            <a:ext cx="7970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3909600" y="703440"/>
            <a:ext cx="355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ыт с водой и сол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941760" y="1724040"/>
            <a:ext cx="2742840" cy="3543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4235400" y="1477080"/>
            <a:ext cx="7014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Когда вода находится в жидком состоянии, между ее молекулами остается свободное пространство, которое и заполняется молекулами соли. Когда все свободные участки заполнятся молекулами соли, она перестанет растворяться в воде (раствор достигнет насыщения) и жидкость перельется через край ста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588400" y="241920"/>
            <a:ext cx="7824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905640" y="703440"/>
            <a:ext cx="383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ыт с водой и бумаг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4713120" y="2031120"/>
            <a:ext cx="6095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: Распускаться бумажные цветы начинают от того, что волокна бумаги напитываются водой, бумага становится тяжелее и распрямляется под собственной тяже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952560" y="1487880"/>
            <a:ext cx="327132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88400" y="241920"/>
            <a:ext cx="7756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705120" y="703440"/>
            <a:ext cx="3907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ыт с шариком и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005840" y="1654560"/>
            <a:ext cx="3164760" cy="421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4535640" y="1415880"/>
            <a:ext cx="67644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После того как стенки банки нагрелись и из нее была выпита вода, они начинают отдавать тепло находящемуся внутри банки воздуху. Воздух, соответственно, начинает нагреваться и его молекулы движутся быстрее. Когда мы перекрываем шариком горлышко банки, мы создаем разницу давления внутри и извне нее. За счет этого шарик и втягивается в б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411000" y="765000"/>
            <a:ext cx="5642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пыт - скрепка на поверхности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878040" y="1503720"/>
            <a:ext cx="3134160" cy="4177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4480920" y="1815120"/>
            <a:ext cx="609552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2360"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Скрепка может плавать по поверхности воды благодаря особому свойству воды – поверхностному натяжению, которого достаточно для того, чтобы выдержать вес скре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588400" y="241920"/>
            <a:ext cx="772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Ы ПО  ИЗУЧЕНИЮ СВОЙСТВ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3593880" y="765000"/>
            <a:ext cx="500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2360" algn="ctr">
              <a:lnSpc>
                <a:spcPct val="15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Опыт с перевернутым стак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951120" y="1509840"/>
            <a:ext cx="3238560" cy="4317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4440240" y="1868400"/>
            <a:ext cx="66553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2360"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Вода заполняет всё пространство между волокнами бумаги и из-за силы поверхностного натяжения не может вытечь из перевёрнутого стакана. Если механически нарушить поверхность, то вода так же начнет т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735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7T09:21:54Z</dcterms:created>
  <dc:creator>Пользователь</dc:creator>
  <dc:description/>
  <dc:language>en-US</dc:language>
  <cp:lastModifiedBy>Пользователь</cp:lastModifiedBy>
  <dcterms:modified xsi:type="dcterms:W3CDTF">2019-08-10T12:03:29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