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F9B-CDB8-427D-A361-98E04313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C92-AA25-4582-8B9D-AAC24FC7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6F1-704B-4534-87CF-18CE71E7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076-4096-4010-BF30-6B3A0281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8204-26E0-46B2-90BA-E39B441B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13F3-6CC5-4117-A2A9-9742B12E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974D-FDE5-492A-82DD-34DE962C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5882-7ED4-4D18-82A9-3CE72F0C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D496-6DCC-4521-A738-A3EDC2A2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6BCD-FF76-4688-AF9D-0EEC2F49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CF8F-00FE-4547-A891-36ED7D0B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E0C-6502-42AA-99E4-41D6E9BE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6938-476A-4370-8542-48457E8C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21EE-4AD9-40FA-9CCF-1A0CAC9D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BD85-63A3-48D6-9E4B-1F0F25BB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0DE5-9FDF-42FA-B470-30179745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0CF8-DFDC-498C-8F76-FC85EA5D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BDBE5-BD77-4647-B136-1FD0DF31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839D-2D85-413A-9240-51F2A8F3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02E50-AF2E-45AF-8484-78770AB8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8D4E-851E-41E6-B0E0-CF5CEDA9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139B-46F3-46A6-A2F2-02937943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F09-AA1E-4F1B-BCBA-F1B02773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1568-98DB-4271-B4AD-120E4023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8E319-F94F-4726-B4AC-25DA8A8C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F776-7706-47FF-9C1E-4EA7A9D6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266B-53F3-4137-90E4-69E32C9A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FD281-F1D9-44AC-BB03-8E891F6F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A3FF-B92C-4F49-AAC7-E2990460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221E-1646-485E-9C58-E4741D92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BEB1-3850-4DB1-9A47-D332CCAA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F6899-F7EC-42BA-8C8A-FE8F8776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530E8-A1A2-4EB4-B985-7701ABF6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A06-DC4F-4768-8BC5-996109EF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4514-2480-4F9F-9362-BB2BB657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CDBC4-5AD1-490C-A5D9-8C1395E7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5F92C-798C-4F57-8BF6-A9771B4B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0F08-A6D7-41F4-BEA5-1683747E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8DCF-8F12-4095-8267-EA11633A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C28AB-A109-4361-92BD-E92FAE8F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79DC6-AF6F-467C-AAD0-CF0B9FBB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EE57C-2656-47BD-8B8C-9B6AD4AF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00E17-150C-448D-A28C-20BDEFEC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746-E5D2-46E3-9227-3F811050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158-8C8D-45DB-90B6-C2F26F9A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79D-6135-49D5-91E1-0965FCB6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402-464D-4C68-B983-E51E3553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F10-5C8B-48B1-B144-FE6C700D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2B84F3-4566-4E0F-8239-5C0F4A75322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770364-8F1B-4280-AE3E-608490BBAE6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15B3EE-9C99-462C-A6D7-4939376996A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C0D2EC-113E-4581-9935-8F4342FA941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хокардиографические пози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липова И.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1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иже всего к датчику находится передняя стенка правого желудочка, за ней — часть выносящего тракта правого желудочка. Ниже и правее расположены корень аорты и аортальный клапан. Передняя стенка аорты переходит в мембранозную часть межжелудочковой перегородки, задняя стенка аорты — в переднюю створку митрального клапана. Кзади от корня аорты и восходящего отдела аорты находится левое предсердие. Задняя стенка левого предсердия — это в норме самая удаленная от датчика структура сердца в данной позици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1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зади от левого предсердия часто обнаруживается эхо-негативное пространство овальной формы. Это — нисходящая аорта; овальная ее форма обусловлена тем, что срез проходит под острым углом как к длинной, так и к короткой ее оси. Задняя стенка левого предсердия переходит в атриовентрикулярный бугорок и затем в заднюю стенку левого желудочка. В области атриовентрикулярного бугорка часто видна эхо-негативная структура округлой формы; это — коронарный синус. При расширении коронарного синуса его можно ошибочно принять за нисходящую аорту. Впрочем различить эти структуры нетрудно: коронарный синус движется вместе с митральным кольцом, а нисходящая аорта, будучи структурой внесердечной, вместе с сердцем не движетс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няя стенка левого желудочка визуализируется от уровня митрального кольца до папиллярных мышц; направив центральный ультразвуковой луч книзу, можно расширить область визуализации задней стенки левого желудочка. Верхушка левого желудочка находится на одно или несколько межреберий ниже датчика, установленного парастернально, и в срез не попадает, так что не следует пытаться судить о локальной сократимости верхушечных сегментов левого желудочка из этой позиции. Кпереди от задней стенки левого желудочка находится полость левого желудочка, в норме самая большая из всех структур в этой эхокардиографической позиции. В полости левого желудочка визуализируются передняя и задняя створки митрального клапана. Межжелудочковая перегородка, ограничивающая полость левого желудочка спереди, видна от мембранозной части до области, прилежащей к верхушке левого желудоч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ы, представляющие в этой позиции наибольший интерес, — межжелудочковая перегородка, аортальный и митральный клапаны — обычно не могут быть идеально видны на одном изображен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5480" y="0"/>
            <a:ext cx="9128160" cy="652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Поэтому требуется оптимизация изображений отдельных структур. Для оптимальной визуализации митрального клапана плоскость датчика отклоняют вперед-назад до тех пор, пока не будет получена позиция, в которой створки митрального клапана раскрываются максимально (рис. 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). Плоскость сечения левого желудочка должна при этом проходить между папиллярными мышцами, так чтобы ни они, ни хорды не попадали в изображение. Эта позиция соответствует максимальному переднезаднему размеру левого желудочка на уровне его основания.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линная ось восходящей аорты обычно находится под углом 30° к длинной оси левого желудочка, поэтому для оптимальной визуализации восходящей аорты, корня аорты и аортального клапана нужно слегка повернуть датчик.  На рис. 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Calibri"/>
              </a:rPr>
              <a:t>B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представлена позиция парастернальной длинной оси левого желудочка, оптимизированная для наилучшей визуализации аортального клапана. Плоскость датчика повернута таким образом, чтобы диаметр корня аорты и восходящего ее отдела был максимальным. Это позволяет исследовать размеры аорты и максимальное раскрытие створок аортального клапана.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90800" cy="70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астернальная позиция длинной оси левого желудочка с оптимальной визуализацией аортального клапан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34960"/>
            <a:ext cx="255528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RCC — правая коронарная створка аортального клапана, NCC — некоронарная створка аортального клапана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ML — передняя створка аортального клапана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CC — некоронарная створка аортального клапана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ML — передняя створка митрального клапана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ML — задняя створка митрального клапан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Алтынай\Desktop\П-2.png"/>
          <p:cNvPicPr/>
          <p:nvPr/>
        </p:nvPicPr>
        <p:blipFill>
          <a:blip r:embed="rId1"/>
          <a:stretch/>
        </p:blipFill>
        <p:spPr>
          <a:xfrm>
            <a:off x="2915640" y="1067040"/>
            <a:ext cx="604836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стернальная позиция по длинной ос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3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жение датчика: по левому краю грудины в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жреберном промежутке. Направление маркера датчика: указывает на правое плечо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ступные для анализа структуры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ходящая аорт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ортальный клапан (АК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вое предсердие (ЛП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тральный клапан (МК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вый желудочек (ЛЖ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желудочковая перегородка (МЖП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няя стенка ЛЖ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ый желудочек (ПЖ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икард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эхокардиографических исследований начинают с этой позиции, она служит основой для получения последующих изображений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 по длинной ос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C:\Users\Алтынай\Desktop\П-1.png"/>
          <p:cNvPicPr/>
          <p:nvPr/>
        </p:nvPicPr>
        <p:blipFill>
          <a:blip r:embed="rId1"/>
          <a:stretch/>
        </p:blipFill>
        <p:spPr>
          <a:xfrm>
            <a:off x="0" y="1196640"/>
            <a:ext cx="9143640" cy="50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, длинная ось правого желудоч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скость датчика поворачивается на 15—30° по часовой стрелке от положения парастернальной длинной оси левого желудоч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хстворчатый клапан находится в центре изображения. Вверху и слева от него — проксимальная часть приносящего тракта правого желудочка. Внизу изображения — правое предсердие. Часто визуализируется евстахиев клапан, расположенный в правом предсердии в месте впадения нижней полой вен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этой позиции не следует допускать попадания в изображение структур, относящихся к левым отделам сердца. Позиция парастернальной длинной оси приносящего тракта правого желудочка получена правильно, если трехстворчатый клапан находится в центре ее, хорошо видны его передняя и задняя створки и диаметр приносящего тракта правого желудочка максимален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, длинная ось правого желудоч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C:\Users\Алтынай\Desktop\П-2.png"/>
          <p:cNvPicPr/>
          <p:nvPr/>
        </p:nvPicPr>
        <p:blipFill>
          <a:blip r:embed="rId1"/>
          <a:stretch/>
        </p:blipFill>
        <p:spPr>
          <a:xfrm>
            <a:off x="395640" y="1513800"/>
            <a:ext cx="8208720" cy="457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астернальная позиция длинной оси приносящего тракта правого желудочка </a:t>
            </a: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C:\Users\Алтынай\Desktop\П-3.png"/>
          <p:cNvPicPr/>
          <p:nvPr/>
        </p:nvPicPr>
        <p:blipFill>
          <a:blip r:embed="rId1"/>
          <a:stretch/>
        </p:blipFill>
        <p:spPr>
          <a:xfrm>
            <a:off x="1187640" y="1196640"/>
            <a:ext cx="6768360" cy="54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сторакальная ЭхоКГ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ндартная трансторакальная ЭхоКГ выполняется с использованием различных доступов на передней поверхности грудной клетк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оведения трансторакальной  ЭхоКГ  пациента укладывают полулежа на левом боку с приподнятым головным концом. Левую руку сгибают в локте и укладывают под голову, правая рука свободно лежит вдоль туловища. При таком положении пациента раскрываются межреберные промежутки, что обеспечивает оптимальную визуализацию сердца, тогда как области сердца скрытые за ребрами и легкими остаются недоступными для ультразвука. Запись изображений в конце выдоха позволяет улучшить качество визуализации вследствие уменьшения потери информации на границе сред воздух-тка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036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ожение датчика: по левому краю грудины в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ежреберном промежутке. Направление маркера датчика: на 90° по часовой стрелке от парастернальной позиции по длинной оси, указывает на левое плечо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отклонении датчика по линии, соединяющей левое бедро и правое плечо, возможно получение сечений по короткой оси на разных уровнях от аорты до верхушки ЛЖ. Сечения по короткой оси анализируются на следующих уровнях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легочной артерии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аортального клапан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митрального клапан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папиллярных мышц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верхушки ЛЖ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903600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легочной артерии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ава расположен ствол и бифуркация легочной артерии (левая и правая ее ветвь) . Невоз­можно визуализировать одновременно все три створки клапана легочной артерии. В области про­екции комиссуры правой коронарной и левой коро­нарной створок аортального клапана расположена задняя створка клапана легочной артерии. У детей и молодых людей можно увидеть и правую створку клапана. Ниже бифуркации легочной артерии визу­ализируется грудная аорта. Ниже аортального кла­пана можно видеть левое предсердие, отделенное от правого предсердия межпредсердной перего­родкой. Правое предсердие отделено от правого желудочка створками трикуспидального клапана, на экране расположено слева. В данной позиции можно видеть, как правило, септальную створку трикуспидального клапана, в области проекции ко­миссуры правой коронарной и некоронарной ство­рок аортального клапана, и переднюю створку три­куспидального клапана. Данная позиция яв­ляется обязательной для работы, так как кровоток в выносящем тракте правого желудочка и в легочной артерии важно исследовать у всех пациент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легочной артер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C:\Users\Алтынай\Desktop\П-7.png"/>
          <p:cNvPicPr/>
          <p:nvPr/>
        </p:nvPicPr>
        <p:blipFill>
          <a:blip r:embed="rId1"/>
          <a:stretch/>
        </p:blipFill>
        <p:spPr>
          <a:xfrm>
            <a:off x="1440" y="1989000"/>
            <a:ext cx="860364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074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8000"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аортального клапана, ориентированная для оптимальной визуализации легочной артери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C:\Users\Алтынай\Desktop\П=1.png"/>
          <p:cNvPicPr/>
          <p:nvPr/>
        </p:nvPicPr>
        <p:blipFill>
          <a:blip r:embed="rId1"/>
          <a:stretch/>
        </p:blipFill>
        <p:spPr>
          <a:xfrm>
            <a:off x="4068000" y="1412640"/>
            <a:ext cx="4896360" cy="4968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322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огда эту позицию называют парастернальной позицией длинной оси легочной артерии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o — корень аорты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dAo — нисходящий отдел аорты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RVOT — выносящий тракт правого желудочка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A — ствол легочной артерии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V — клапан легочной артерии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LPA — левая легочная артерия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RPA — правая легочная артерия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8964000" cy="14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из левого парастернального доступа по короткой оси ЛЖ на уровне аортального клапана. Небольшой сдвиг плоскости сканирования позволяет хорошо визуализировать легочную артерию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C:\Users\Алтынай\Desktop\1.png"/>
          <p:cNvPicPr/>
          <p:nvPr/>
        </p:nvPicPr>
        <p:blipFill>
          <a:blip r:embed="rId1"/>
          <a:stretch/>
        </p:blipFill>
        <p:spPr>
          <a:xfrm>
            <a:off x="467640" y="116640"/>
            <a:ext cx="84967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146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легочной артер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C:\Users\Алтынай\Desktop\П-8.png"/>
          <p:cNvPicPr/>
          <p:nvPr/>
        </p:nvPicPr>
        <p:blipFill>
          <a:blip r:embed="rId1"/>
          <a:stretch/>
        </p:blipFill>
        <p:spPr>
          <a:xfrm>
            <a:off x="3908880" y="1628640"/>
            <a:ext cx="4834800" cy="3960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72640"/>
            <a:ext cx="3007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упны для анализа следующие структуры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гочная артерия (ЛА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пан легочной артерии (КЛА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носящий тракт правого желудочка (ВТПЖ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створок аортального клапан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268640"/>
            <a:ext cx="9143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лучения этой позиции датчик устанавливается в третьем-четвертом межреберье слева от грудины. Центральный ультразвуковой луч направляется перпендикулярно поверхности грудной клетки или отклоняется немного вправо и вверх. Датчик должен быть повернут на 90° по отношению к плоскости, в которой регистрируется парастернальная длинная ось левого желудочка. Вверху изображения оказывается выносящий тракт правого желудочка, справа и книзу от него — клапан легочной артерии и ствол легочной артери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640" y="0"/>
            <a:ext cx="8856720" cy="61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центре изображения — аортальный клапан с тремя створками (левая коронарная — справа, правая коронарная — слева вверху, некоронарная — слева внизу). Для описа­ния их локализации корень аорты представляют в виде циферблата часов. Наиболее часто комиссуры располагаются на уровне "10 ч", "3 ч", "6 ч"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датчика должно быть оптимизировано для получения четкого изображения створок аортального клапана. Корень аорты должен иметь строго округлую форму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створок аортального клапан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C:\Users\Алтынай\Desktop\П-5.png"/>
          <p:cNvPicPr/>
          <p:nvPr/>
        </p:nvPicPr>
        <p:blipFill>
          <a:blip r:embed="rId1"/>
          <a:stretch/>
        </p:blipFill>
        <p:spPr>
          <a:xfrm>
            <a:off x="107640" y="1556640"/>
            <a:ext cx="8856720" cy="44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002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аортального клапана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C:\Users\Алтынай\Desktop\П-4.png"/>
          <p:cNvPicPr/>
          <p:nvPr/>
        </p:nvPicPr>
        <p:blipFill>
          <a:blip r:embed="rId1"/>
          <a:stretch/>
        </p:blipFill>
        <p:spPr>
          <a:xfrm>
            <a:off x="3348000" y="1700640"/>
            <a:ext cx="5400360" cy="5012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484640"/>
            <a:ext cx="32036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RVOT — выносящий тракт правого желудочка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LA — левое предсердие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RA — правое предсердие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IAS — межпредсердная перегородка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L — левая коронарная створка аортального клапана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R — правая коронарная створка аортального клапана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N — некоронарная створка аортального клапана,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LCA — ствол левой коронарной артерии,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TV — трехстворчатый клапан, PV — клапан легочной артери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1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проведении трансторакальной ЭхоКГ у взрослых используются датчики с частотой 2,5-3,5 МГц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ный диапазон частот позволяет изучать глубоко расположенные структуры вследствие высокой проникающей способности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едиатрической практике используют датчики частотой 5 МГц, так как у детей сердце расположено ближе к передней грудной стенке. На датчик наносят ультразвуковой гель и устанавливают его на грудную клетку в области ультразвукового окна. Наиболее часто используют левый парастернальный и апикальный доступ. С одной стороны на датчике имеется отметка, позволяющая ориентироваться при выведении различных эхокардиографических позиций. Для получения эхокардиографических изображений необходимо устанавливать датчик в определенные точки доступа под необходимым углом. Для оптимального выведения той или иной структуры датчик бывает необходимо отклонить (кверху или книзу) или повернуть по оси (по часовой или  против часовой стрелки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3640" y="5517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из левого парастернального доступа по короткой оси ЛЖ на уровне аортального клапан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C:\Users\Алтынай\Desktop\9.png"/>
          <p:cNvPicPr/>
          <p:nvPr/>
        </p:nvPicPr>
        <p:blipFill>
          <a:blip r:embed="rId1"/>
          <a:stretch/>
        </p:blipFill>
        <p:spPr>
          <a:xfrm>
            <a:off x="539640" y="476640"/>
            <a:ext cx="853632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880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аортального клапана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C:\Users\Алтынай\Desktop\П-6.png"/>
          <p:cNvPicPr/>
          <p:nvPr/>
        </p:nvPicPr>
        <p:blipFill>
          <a:blip r:embed="rId1"/>
          <a:stretch/>
        </p:blipFill>
        <p:spPr>
          <a:xfrm>
            <a:off x="3852000" y="1124640"/>
            <a:ext cx="4824000" cy="388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упны для анализа следующие структуры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ворки АК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вое предсердие (ЛП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предсердная перегородка (МПП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хстворчатый клапан (ТК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93400" indent="-2934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носящий тракт правого желудочка (ВТПЖ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3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начительные изменения положения датчика часто позволяют визуализировать ствол левой коронарной артерии и иногда правую коронарную артерию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0" y="1434960"/>
            <a:ext cx="3059640" cy="539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астернальная позиция короткой оси аортального клапана. Плоскость сканирования проходит через проксимальный отдел восходящей аорты и проксимальные отделы обеих коронарных артерий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o — проксимальный отдел восходящей аорты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LCA — ствол левой коронарной артерии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RCA — правая коронарная артерия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C:\Users\Алтынай\Desktop\П-22.png"/>
          <p:cNvPicPr/>
          <p:nvPr/>
        </p:nvPicPr>
        <p:blipFill>
          <a:blip r:embed="rId1"/>
          <a:stretch/>
        </p:blipFill>
        <p:spPr>
          <a:xfrm>
            <a:off x="3564000" y="1268640"/>
            <a:ext cx="5175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, короткая ось на уровне конца створок митрального клапан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лучения этой позиции датчик необходимо немного отклонить вверх. На экране появляется срез левого желудочка по короткой оси; сверху и, как правило, слева на экране расположен правый желудочек, в виде полумесяца прилежащий к ле­вому желудочку. Положение сердца в груд­ной клетке может быть различно, поэтому и пра­вый желудочек может располагаться на экране у разных людей по-разному. Именно с этим связана небольшая информативность измерения размера правого желудочка в парастернальной позиции. Правый желудочек отделен от левого межжелудоч­ковой перегородкой, которая в норме является как бы стенкой левого желудочка. Левый желудочек делят на ряд отделов по отношению к позиции пра­вого желудочка: переднюю стенку, передне-боко­вую, задне-боковую и заднюю стенки. Межжелу­дочковую перегородку принято делить на перед­ний и задний отделы. Створки митрального клапа­на расположены по короткой оси с комиссурами в области "3 ч" и "9 ч", Передняя створка митрально­го клапана более длинная, подвижная, задняя створка короче передней. По краям створок хоро­шо видны хорды митрального клапана. В реальном времени открытие створок митрального клапана напоминает движение "рта рыбы"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, короткая ось на уровне конца створок митрального клапан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C:\Users\Алтынай\Desktop\П-9.png"/>
          <p:cNvPicPr/>
          <p:nvPr/>
        </p:nvPicPr>
        <p:blipFill>
          <a:blip r:embed="rId1"/>
          <a:stretch/>
        </p:blipFill>
        <p:spPr>
          <a:xfrm>
            <a:off x="179640" y="1412640"/>
            <a:ext cx="8752680" cy="47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362800" cy="85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, короткая ось на уровне конца створок митрального клапан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C:\Users\Алтынай\Desktop\П-10.png"/>
          <p:cNvPicPr/>
          <p:nvPr/>
        </p:nvPicPr>
        <p:blipFill>
          <a:blip r:embed="rId1"/>
          <a:stretch/>
        </p:blipFill>
        <p:spPr>
          <a:xfrm>
            <a:off x="2771640" y="1628640"/>
            <a:ext cx="6161040" cy="3384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700640"/>
            <a:ext cx="2771280" cy="442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упны для анализа следующие структуры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рстие МК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ворки МК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желудочковая перегородка (МЖП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, короткая ось на уровне конца створок митрального клапан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C:\Users\Алтынай\Desktop\П=3.png"/>
          <p:cNvPicPr/>
          <p:nvPr/>
        </p:nvPicPr>
        <p:blipFill>
          <a:blip r:embed="rId1"/>
          <a:stretch/>
        </p:blipFill>
        <p:spPr>
          <a:xfrm>
            <a:off x="1475640" y="1516320"/>
            <a:ext cx="5256360" cy="53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7640" y="5445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из левого парастернального доступа на уровне митрального клапан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C:\Users\Алтынай\Desktop\2.png"/>
          <p:cNvPicPr/>
          <p:nvPr/>
        </p:nvPicPr>
        <p:blipFill>
          <a:blip r:embed="rId1"/>
          <a:stretch/>
        </p:blipFill>
        <p:spPr>
          <a:xfrm>
            <a:off x="0" y="87480"/>
            <a:ext cx="8676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на уровне папиллярных мышц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340640"/>
            <a:ext cx="91436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откло­нить датчик выше на несколько градусов, можно получить срез левого и правого желудочков на уровне концов папиллярных мышц по короткой оси. В норме в полости левого желудочка может быть различное количество папиллярных мышц. Как правило, их две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дне-боковая папиллярная, располо­женная на уровне "3", "4" или "5"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заднемедиальная папиллярная, распложенная на уровне "7", "8" или "9"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немедиальная папиллярная мышца часто имеет две головки. Данная позиция важна для оценки сократимости миокарда левого и пра­вого желудочка в области средней его трети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той позиции доступны для анализа следующие структуры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Ж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днебоковая папиллярная мышца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немедиальная папиллярная мышц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90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, короткая ось на уровне концов папиллярных мышц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C:\Users\Алтынай\Desktop\П-3.png"/>
          <p:cNvPicPr/>
          <p:nvPr/>
        </p:nvPicPr>
        <p:blipFill>
          <a:blip r:embed="rId1"/>
          <a:stretch/>
        </p:blipFill>
        <p:spPr>
          <a:xfrm>
            <a:off x="4650840" y="1670760"/>
            <a:ext cx="3161160" cy="44222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00640"/>
            <a:ext cx="3538440" cy="442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– эхограмма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 – схем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- схема наиболее частых вариантов положения папиллярных мышц в полости ЛЖ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хокардиографические позиц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и стандартных эхокардиографических окон на передней грудной клетке выделяют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вое парастернально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икально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бкостально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ое парастернально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прастернально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из левого парастернального доступа на уровне папиллярных мышц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C:\Users\Алтынай\Desktop\4.png"/>
          <p:cNvPicPr/>
          <p:nvPr/>
        </p:nvPicPr>
        <p:blipFill>
          <a:blip r:embed="rId1"/>
          <a:stretch/>
        </p:blipFill>
        <p:spPr>
          <a:xfrm>
            <a:off x="251640" y="188640"/>
            <a:ext cx="8875800" cy="54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90800" cy="70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, короткая ось на уровне концов папиллярных мышц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1434960"/>
            <a:ext cx="4114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упны для анализа следующие структуры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днебоковая папиллярная мышца (на 3 ч по воображаемому циферблату - ПБПМ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немедиальная папиллярная мышца (7 ч – ЗМПМ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ковая стенка (от 3 до 6 ч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жняя стенка (от 6 до 9 ч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ЖП (от 9 до 12 ч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C:\Users\Алтынай\Desktop\П-4.png"/>
          <p:cNvPicPr/>
          <p:nvPr/>
        </p:nvPicPr>
        <p:blipFill>
          <a:blip r:embed="rId1"/>
          <a:stretch/>
        </p:blipFill>
        <p:spPr>
          <a:xfrm>
            <a:off x="4280760" y="1700640"/>
            <a:ext cx="4323600" cy="33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434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астернальная позиция по короткой оси левого желудочка на уровне папиллярных мышц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2" descr="C:\Users\Алтынай\Desktop\П=5.png"/>
          <p:cNvPicPr/>
          <p:nvPr/>
        </p:nvPicPr>
        <p:blipFill>
          <a:blip r:embed="rId1"/>
          <a:stretch/>
        </p:blipFill>
        <p:spPr>
          <a:xfrm>
            <a:off x="4428000" y="1412640"/>
            <a:ext cx="4392000" cy="4545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RV — правый желудочек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V — левый желудочек,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L — передне-латеральная папиллярная мышца, PM — задне-медиальная папиллярная мышца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пикальный доступ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ет четыре стандартные эхокардиографические позиции, регистрируемые с верхушки сердца: четырехкамерная, двухкамерная, пятикамерная и позиция апикальной длинной оси левого желудочк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760" indent="-329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лучения этих позиций датчик устанавливают над областью верхушечного толчка, а центральный ультразвуковой луч направляются вверх, в сторону основания сердц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60640"/>
            <a:ext cx="291528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пикальная четырехкамерная позици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C:\Users\Алтынай\Desktop\П-1.png"/>
          <p:cNvPicPr/>
          <p:nvPr/>
        </p:nvPicPr>
        <p:blipFill>
          <a:blip r:embed="rId1"/>
          <a:stretch/>
        </p:blipFill>
        <p:spPr>
          <a:xfrm>
            <a:off x="3204000" y="620640"/>
            <a:ext cx="4498920" cy="5832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7640" y="1434960"/>
            <a:ext cx="28080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ожение датчика: верхушка ЛЖ. Направление маркера датчика: на левое плечо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тупные для анализа  структуры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Ж и ЛЖ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П и Л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К и ТК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рхушка ЛЖ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ковая стенка ЛЖ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ободная стенка ПЖ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3640" y="5589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в апикальной позиции четырехкамерного сердц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C:\Users\Алтынай\Desktop\6.png"/>
          <p:cNvPicPr/>
          <p:nvPr/>
        </p:nvPicPr>
        <p:blipFill>
          <a:blip r:embed="rId1"/>
          <a:stretch/>
        </p:blipFill>
        <p:spPr>
          <a:xfrm>
            <a:off x="467640" y="188640"/>
            <a:ext cx="809244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пикальная четырехкамерная пози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C:\Users\Алтынай\Desktop\П-18.png"/>
          <p:cNvPicPr/>
          <p:nvPr/>
        </p:nvPicPr>
        <p:blipFill>
          <a:blip r:embed="rId1"/>
          <a:stretch/>
        </p:blipFill>
        <p:spPr>
          <a:xfrm>
            <a:off x="323640" y="1340640"/>
            <a:ext cx="869040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ятикамерная пози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V — левый желудочек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A — левое предсердие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RV — правый желудочек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RA — правое предсердие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VOT — выносящий тракт левого желудочк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C:\Users\Алтынай\Desktop\П-6.png"/>
          <p:cNvPicPr/>
          <p:nvPr/>
        </p:nvPicPr>
        <p:blipFill>
          <a:blip r:embed="rId1"/>
          <a:stretch/>
        </p:blipFill>
        <p:spPr>
          <a:xfrm>
            <a:off x="4356000" y="332640"/>
            <a:ext cx="410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9143640" cy="60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лучения этой позиции центральный ультразвуковой луч датчика, установленный для получения четырехкамерной позиции, должен быть отклонен вверх. В этом случае в центре изображения появится выносящий тракт левого желудочка, аортальный клапан и проксимальная часть восходящего отдела аорты, находящаяся на изображении между предсердиями. Расположение структур сердца в этой позиции аналогично тому, что наблюдается в четырехкамерной позици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носящий тракт левого желудочка на изображении сверху и слева ограничен межжелудочковой перегородкой, переходящей в медиальную стенку аорты, снизу и справа — передней створкой митрального клапана, переходящей в латеральную стенку аорты. Апикальная пятикамерная позиция применяется главным образом для двумерного и допплеровского исследования выносящего тракта левого желудочка и для исследования аортального кровото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537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в апикальной позиции четырехкамерного и пятикамерного сердца и двухмерная ЭхоКГ в апикальной позиции «пятикамерного» сердц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C:\Users\Алтынай\Desktop\1.png"/>
          <p:cNvPicPr/>
          <p:nvPr/>
        </p:nvPicPr>
        <p:blipFill>
          <a:blip r:embed="rId1"/>
          <a:stretch/>
        </p:blipFill>
        <p:spPr>
          <a:xfrm>
            <a:off x="899640" y="116640"/>
            <a:ext cx="770436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C:\Users\Алтынай\Desktop\2.png"/>
          <p:cNvPicPr/>
          <p:nvPr/>
        </p:nvPicPr>
        <p:blipFill>
          <a:blip r:embed="rId1"/>
          <a:stretch/>
        </p:blipFill>
        <p:spPr>
          <a:xfrm>
            <a:off x="0" y="548640"/>
            <a:ext cx="908388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8800" cy="49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пикальная пятикамерная позици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C:\Users\Алтынай\Desktop\П-9.png"/>
          <p:cNvPicPr/>
          <p:nvPr/>
        </p:nvPicPr>
        <p:blipFill>
          <a:blip r:embed="rId1"/>
          <a:stretch/>
        </p:blipFill>
        <p:spPr>
          <a:xfrm>
            <a:off x="3789000" y="1412640"/>
            <a:ext cx="5284800" cy="4032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08640"/>
            <a:ext cx="3007800" cy="521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чается из четырехкамерной путем незначительного отклонения датчика книзу. Так называемая пятая камера формируется ВТЛЖ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ожение датчика: как для четырехкамерной позиции. Направление маркера датчика: как для четырехкамерной позици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ступные для анализа структу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 структуры четырехкамерной позиции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ТЛЖ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ортальный клапан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ксимальный отдел аорты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пикальная двухкамерная позиция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640" y="90864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позиция предназначена для исследования только левых отделов сердца: левого желудочка, левого предсердия и митрального клапана. Для получения этой позиции необходимо сначала получить апикальную четырехкамерную позицию, отклонить центральный ультразвуковой луч немного влево, затем начать поворачивать датчик против часовой стрелки до исчезновения правых отделов сердца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изображении верхушка левого желудочка находится вверху слева, в правой части изображения — передняя стенка левого желудочка, в левой части изображения — задняя стенка левого желудочка. Передняя створка митрального клапана — справа на изображении, задняя — слева. Внизу на изображении — левое предсердие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икальная двухкамерная позиция получена правильно, если диаметр левого желудочка на уровне митрального клапана максимален, срез проходит через верхушку левого желудочка и в изображение не попадают правые отделы сердц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640" y="6093360"/>
            <a:ext cx="822924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пикальная двухкамерная позиция. LV — левый желудочек, LA — левое предсердие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C:\Users\Алтынай\Desktop\П-19.png"/>
          <p:cNvPicPr/>
          <p:nvPr/>
        </p:nvPicPr>
        <p:blipFill>
          <a:blip r:embed="rId1"/>
          <a:stretch/>
        </p:blipFill>
        <p:spPr>
          <a:xfrm>
            <a:off x="1907640" y="0"/>
            <a:ext cx="4536000" cy="58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7640" y="5517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ьтразвуковое сканирование и двухмерная ЭхоКГ в апикальной позиции двухкамерного сердц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C:\Users\Алтынай\Desktop\3.png"/>
          <p:cNvPicPr/>
          <p:nvPr/>
        </p:nvPicPr>
        <p:blipFill>
          <a:blip r:embed="rId1"/>
          <a:stretch/>
        </p:blipFill>
        <p:spPr>
          <a:xfrm>
            <a:off x="539640" y="332640"/>
            <a:ext cx="8625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пикальная позиция по длинной оси левого желудочк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ерехода из двухкамерной позиции к позиции длинной оси левого желудочка плоскость датчика поворачивают приблизительно на 30° против часовой стрелки до положения, пока не будут одновременно видны аортальный и митральный клапан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этом в верхней части изображения — верхушка левого желудочка, ниже и правее — часть правого желудочка; аортальный клапан и проксимальный отдел аорты — в правой нижней части изображения, левое предсердие — внизу сле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икальная позиция длинной оси левого желудочка получена правильно, если визуализируется верхушка левого желудочка, максимальное открытие створок митрального клапана и максимальное открытие створок аортального клапан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6000" y="573336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пикальная позиция по длинной оси левого желудочка. LV — левый желудочек, LA — левое предсердие, Ao — проксимальный отдел восходящей аорты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C:\Users\Алтынай\Desktop\П-20.png"/>
          <p:cNvPicPr/>
          <p:nvPr/>
        </p:nvPicPr>
        <p:blipFill>
          <a:blip r:embed="rId1"/>
          <a:stretch/>
        </p:blipFill>
        <p:spPr>
          <a:xfrm>
            <a:off x="2555640" y="0"/>
            <a:ext cx="418500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3640" y="5589360"/>
            <a:ext cx="8229240" cy="92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сканирования и двухмерная ЭхоКГ в апикальной позиции  длинной оси ЛЖ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C:\Users\Алтынай\Desktop\4.png"/>
          <p:cNvPicPr/>
          <p:nvPr/>
        </p:nvPicPr>
        <p:blipFill>
          <a:blip r:embed="rId1"/>
          <a:stretch/>
        </p:blipFill>
        <p:spPr>
          <a:xfrm>
            <a:off x="107640" y="0"/>
            <a:ext cx="871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бкостальный доступ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следования из субкостального доступа применяют в качестве альтернативы парастернальным исследованиям у детей и пациентов с эмфиземой легких. Кроме того, нижняя полая вена, печеночные вены, брюшная аорта могут быть изучены только при субкостальном исследовании. Поэтому  субкостальное исследование проводят всем обследуемы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7640" y="332640"/>
            <a:ext cx="892872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лучения субкостальной позиции пациента укладывают на спину, ровно с низким изголовьем (без подушки). Ноги пациента при этом немного сгибаются в коленях (можно подложить валик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ображения наилучшего качества получаются на вдохе при расслабленной передней брюшной стенке. Положение датчика: под мечевидным отростком. Направление маркера датчика: на левое плеч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ступные для анализа структуры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для четырехкамерной позици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640" y="5301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бкостальная позиция длинной оси сердца. LV — левый желудочек, RV — правый желудочек, LA — левое предсердие, RA — правое предсердие, a — асцит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C:\Users\Алтынай\Desktop\П-21.png"/>
          <p:cNvPicPr/>
          <p:nvPr/>
        </p:nvPicPr>
        <p:blipFill>
          <a:blip r:embed="rId1"/>
          <a:stretch/>
        </p:blipFill>
        <p:spPr>
          <a:xfrm>
            <a:off x="1907640" y="260640"/>
            <a:ext cx="43200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36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эхокардиографических окон важно по двум причина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-первых, обеспечивается оптимальная проникающая способность ультразвуковых волн без потери качества за счет поглощения ультразвука ребрами и легкими. Во-вторых, стандартные эхокардиографические позиции позволяют проводить сравнение нескольких исследований, выполненных в различное врем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трансторакальной ЭхоКГ может быть технически сложным в следующих ситуациях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раженное ожир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формация грудной клет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мфизема легких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11640" y="5589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сканирования и двухмерная ЭхоКГ, зарегистрированная в субкостальной позиции по длинной ос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C:\Users\Алтынай\Desktop\3.png"/>
          <p:cNvPicPr/>
          <p:nvPr/>
        </p:nvPicPr>
        <p:blipFill>
          <a:blip r:embed="rId1"/>
          <a:stretch/>
        </p:blipFill>
        <p:spPr>
          <a:xfrm>
            <a:off x="179640" y="0"/>
            <a:ext cx="849672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0" y="116640"/>
            <a:ext cx="9143640" cy="60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изображении правые отделы сердца оказываются ближе к датчику, — правое предсердие слева, правый желудочек справа. Правее и ниже находятся левый желудочек и левое предсердие. Субкостальная позиция длинной оси сердца получена правильно, если регистрируется максимальное открытие створок митрального и трехстворчатого клапанов. Субкостальная позиция длинной оси сердца — единственная из эхокардиографических позиций, в которой межжелудочковая и межпредсердная перегородки расположены почти перпендикулярно ультразвуковому лучу. Поэтому эта позиция оптимальна для диагностики дефектов межжелудочковой и особенно межпредсердной перегород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бкостальная позиция короткой оси основания сердц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и позиции получают, повернув датчик 90° по часовой стрелке из положения субкостальной длинной оси сердца. Исследования из субкостальной позиции короткой оси основания сердца служат альтернативой парастернального исследования структур правых отделов сердца: трикуспидального клапана, выносящего тракта правого желудочка, легочной артерии и ее клапан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640" y="580536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костальная позиция короткой оси основания сердца. RV — правый желудочек, PA — легочная артерия, LA — левое предсердие, RA — правое предсердие, Ao — корень аорты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Picture 2" descr="C:\Users\Алтынай\Desktop\П-23.png"/>
          <p:cNvPicPr/>
          <p:nvPr/>
        </p:nvPicPr>
        <p:blipFill>
          <a:blip r:embed="rId1"/>
          <a:stretch/>
        </p:blipFill>
        <p:spPr>
          <a:xfrm>
            <a:off x="2410200" y="0"/>
            <a:ext cx="4753800" cy="581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бкостальная позиция короткой оси левого желудочка на уровне митрального клапан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ерехода к субкостальной позиции короткой оси левого желудочка на уровне митрального клапана ультразвуковой луч нужно слегка отклонить книз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640" y="580536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костальная позиция короткой оси левого желудочка на уровне митрального клапана. LV — левый желудочек, RV — правый желудочек, MV — митральный клапан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C:\Users\Алтынай\Desktop\п-24.png"/>
          <p:cNvPicPr/>
          <p:nvPr/>
        </p:nvPicPr>
        <p:blipFill>
          <a:blip r:embed="rId1"/>
          <a:stretch/>
        </p:blipFill>
        <p:spPr>
          <a:xfrm>
            <a:off x="2051640" y="0"/>
            <a:ext cx="5040360" cy="55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бкостальная позиция длинной оси нижней полой вены, длинной оси брюшной аорты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олучения этих позиций датчик устанавливают под мечевидным отростком, плоскость датчика должна быть направлена параллельно сагитальной оси тела. Для оптимальной визуализации нижней полой вены и печеночных вен датчик обычно приходится отклонять или смещать несколько вправо, для получения длинной оси брюшной аорты — вниз и влево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7640" y="587736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костальная позиция длинной оси нижней полой вены. IVC — нижняя полая вена, RA — правое предсердие, HV — медиальная печеночная вена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C:\Users\Алтынай\Desktop\п-25.png"/>
          <p:cNvPicPr/>
          <p:nvPr/>
        </p:nvPicPr>
        <p:blipFill>
          <a:blip r:embed="rId1"/>
          <a:stretch/>
        </p:blipFill>
        <p:spPr>
          <a:xfrm>
            <a:off x="1907640" y="38160"/>
            <a:ext cx="5256360" cy="56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7640" y="594936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костальная позиция длинной оси брюшной аорты. В просвете аорты видны плотные, яркие образования — атеросклеротические бляшки. AA — брюшная аорта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2" descr="C:\Users\Алтынай\Desktop\П-26.png"/>
          <p:cNvPicPr/>
          <p:nvPr/>
        </p:nvPicPr>
        <p:blipFill>
          <a:blip r:embed="rId1"/>
          <a:stretch/>
        </p:blipFill>
        <p:spPr>
          <a:xfrm>
            <a:off x="2339640" y="2520"/>
            <a:ext cx="4887360" cy="55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3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прастернальный доступ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прастернальная позиция длинной оси дуги аорты, супрастернальная позиция короткой оси дуги аорты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340640"/>
            <a:ext cx="903600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прастернальный доступ позволяет исследовать крупные сосуды: грудную аорту и ее ветви, легочную артерию, верхнюю полую вену. У взрослых пациентов эта позиция используется главным образом для допплеровских исследований.  Пациента укладывают на спину. Под плечи укладывают подушку, что позволяет достичь максимального выгибания шеи. Голова немного поворачивается влево. Положение рук и ног, а также фазы дыхания не влияют на качество изображения из этого доступа. Положение датчика: надгрудинная ямка. Направление маркера датчика: на левый височно-нижнечелюстной суста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02800" cy="155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растернальная позиция длинной оси левого желудочка с оптимальной визуализацией митрального клапана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Классический вид сердца из парастернальной позиции датчика по длинной ос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Алтынай\Desktop\П-1.png"/>
          <p:cNvPicPr/>
          <p:nvPr/>
        </p:nvPicPr>
        <p:blipFill>
          <a:blip r:embed="rId1"/>
          <a:stretch/>
        </p:blipFill>
        <p:spPr>
          <a:xfrm>
            <a:off x="2411640" y="1665720"/>
            <a:ext cx="6732000" cy="50752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845000"/>
            <a:ext cx="2339280" cy="42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LV — левый желудочек, RV — правый желудочек, Ao — корень аорты и восходящий отдел аорты, LA — левое предсердие, IVS — межжелудочковая перегородка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PW — задняя стенка левого желудочка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dAo — нисходящий отдел аорты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S — коронарный синус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1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изображении дуга аорты находится вверху, нисходящий отдел аорты занимает правый край изображения, восходящий — левый. У многих пациентов нисходящий и восходящий отделы аорты не помещаются на изображении одновременно, в таких случаях следует переместить датчик вправо для визуализации восходящей аорты или влево для визуализации нисходящей аорты. Справа вверху на изображении можно видеть левую сонную артерию, ниже — левую подключичную артерию. Под дугой аорты, в середине изображения находится правая легочная артерия. Повернув датчик на 90°, можно получить супрастернальную позицию короткой оси дуги аорты. В этой позиции в изображение попадают дуга аорты по короткой ее оси и правая легочная артерия по ее длинной ос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7640" y="551736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прастернальная позиция длинной оси дуги аорт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rch — дуга аорты, dAo — нисходящий отдел аорты, RPA — правая легочная артери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LCA — левая сонная артерия, LSA — левая подключичная артерия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2" descr="C:\Users\Алтынай\Desktop\П1.png"/>
          <p:cNvPicPr/>
          <p:nvPr/>
        </p:nvPicPr>
        <p:blipFill>
          <a:blip r:embed="rId1"/>
          <a:stretch/>
        </p:blipFill>
        <p:spPr>
          <a:xfrm>
            <a:off x="2627640" y="23760"/>
            <a:ext cx="4536000" cy="542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18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из супрастернального доступа по длинной оси дуги аорты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2" descr="C:\Users\Алтынай\Desktop\6.png"/>
          <p:cNvPicPr/>
          <p:nvPr/>
        </p:nvPicPr>
        <p:blipFill>
          <a:blip r:embed="rId1"/>
          <a:stretch/>
        </p:blipFill>
        <p:spPr>
          <a:xfrm>
            <a:off x="2246040" y="1484640"/>
            <a:ext cx="6850800" cy="4464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434960"/>
            <a:ext cx="219528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ch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дуга аорты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ствол ЛА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P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правая ветвь ЛА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P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левая ветвь ЛА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ₒ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 нисходящая аорта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C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левая сонная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терия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S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левая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ключичная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терия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1640" y="580536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прастернальная позиция короткой оси дуги аорт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rch — дуга аорты, RPA — правая легочная артерия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C:\Users\Алтынай\Desktop\П2.png"/>
          <p:cNvPicPr/>
          <p:nvPr/>
        </p:nvPicPr>
        <p:blipFill>
          <a:blip r:embed="rId1"/>
          <a:stretch/>
        </p:blipFill>
        <p:spPr>
          <a:xfrm>
            <a:off x="2339640" y="0"/>
            <a:ext cx="4927320" cy="530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7640" y="5517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хмерная ЭхоКГ из супрастернального доступа по короткой оси дуги аорт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C:\Users\Алтынай\Desktop\7.png"/>
          <p:cNvPicPr/>
          <p:nvPr/>
        </p:nvPicPr>
        <p:blipFill>
          <a:blip r:embed="rId1"/>
          <a:stretch/>
        </p:blipFill>
        <p:spPr>
          <a:xfrm>
            <a:off x="323640" y="0"/>
            <a:ext cx="8496720" cy="52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640" y="5445360"/>
            <a:ext cx="858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хема ультразвукового исследования и двумерная ЭхоКГ из левого парастернального доступа по длинной оси левого желудочк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Users\Алтынай\Desktop\8.png"/>
          <p:cNvPicPr/>
          <p:nvPr/>
        </p:nvPicPr>
        <p:blipFill>
          <a:blip r:embed="rId1"/>
          <a:stretch/>
        </p:blipFill>
        <p:spPr>
          <a:xfrm>
            <a:off x="899640" y="548640"/>
            <a:ext cx="714780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1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тчик устанавливается слева от грудины в третьем, четвертом или пятом межреберье. Центральный ультразвуковой луч (продолжение длинной оси датчика) направляется перпендикулярно поверхности грудной клетки. Датчик поворачивается таким образом, чтобы его плоскость была параллельна воображаемой линии, соединяющей левое плечо с правой подвздошной областью. Для получения оптимального изображения длинной оси левого желудочка часто требуется отклонение плоскости датчика примерно на 30° (центральный луч направлен в сторону левого плеча). Эта позиция рассекает левый желудочек от верхушки до основания. Аорта должна находиться в правой части изображения, область верхушки левого желудочка — в лев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  <Words>2561</Words>
  <Paragraphs>2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04:28:29Z</dcterms:created>
  <dc:creator>Талипова Илиада</dc:creator>
  <dc:description/>
  <dc:language>en-US</dc:language>
  <cp:lastModifiedBy>Алтынай</cp:lastModifiedBy>
  <dcterms:modified xsi:type="dcterms:W3CDTF">2015-11-25T08:27:54Z</dcterms:modified>
  <cp:revision>62</cp:revision>
  <dc:subject/>
  <dc:title>Эхокардиографические пози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4</vt:r8>
  </property>
</Properties>
</file>