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FE4-B6C9-4BFE-AAE9-CE895330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BDF-C53B-4768-856F-3577D30D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E2A-A4E6-4AE4-AE55-DBDEB323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41E-4D75-4BD1-A25C-20C0F01C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87F4-174E-4C1A-B676-D93C4BB4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E354-A636-42FF-BBC5-C5F75416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B2FE-718F-47C6-9273-CDC5DC48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E68E-13E8-4ED6-8F96-1CB9A40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C0DB-32A1-44C0-8228-75F9FEF0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3F91-B09E-4CF7-A7FF-3E06E8E3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8AE6-15B7-4463-A119-7DBE6CD1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A9C-4DB7-488F-8F87-C0929A72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8943-6303-4EDC-BBCF-AE22FCED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E0FB-B60A-44DB-A854-3F8E3943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48CA-CEBD-4B41-AB01-86221697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35B-E0FE-4AA6-A06A-5F53E020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D6E2-FE8D-4A46-A898-78EB56AC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9484-7FB8-4E1A-922C-4D16DAE9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7409-71F0-4253-B192-A2A61FC4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2708-33AB-4F1E-8402-32955A80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F62E-A4B7-40F5-824B-34E4C86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8321-6D18-44B7-8915-73BA6915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693-8C29-43DC-BF80-5BA91467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7C88-B17E-4674-AB3F-8904A7EA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651A-58D0-4B31-9FA4-092A6DC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4EF8-09E8-4584-BB44-A0C1A72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1932-DF89-4283-97C6-AA89FCD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80E7-B123-410E-8F2A-36DB6582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18D2-6548-4596-B5EB-12B2FFF0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057A-52F1-466F-A5CF-DF19AA6E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CE06-D874-4D68-9862-304FBF4B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47A3-E491-42D1-890A-87F4EE5B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256B-D3F7-4D97-A09D-DEB01966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B36-CE55-4152-8F7A-76FE45AA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67E95-CEA4-48EB-880F-E774C793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9331-9296-4C7E-B781-42CDE00B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B257-91DA-4354-B476-4742799B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EF55-7AC5-4C8D-BDB2-408A87DD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CA7C-6C94-4482-8FCA-34752F2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BEBB-0605-4905-93C1-10CC9F6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6DB4-8C54-45AC-9017-49C0B336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3054-07B3-48C7-B539-39A3E16C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F418-323B-419A-974F-649C3F07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3CD-003D-4A69-A5D7-88DC1A97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F22-169C-425F-B739-8FA8E4D4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71D-750D-4D90-9045-97D8854B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F26-EEFE-4032-B615-0F28DD62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CA3-8062-4039-8DCF-3E53FDA3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6520" y="1447920"/>
            <a:ext cx="662076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ru-RU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4F0C16DD-6814-4AEF-B135-C18785E8CC5B}" type="slidenum">
              <a:rPr b="0" lang="ru-RU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1200" spc="-26" strike="noStrike">
                <a:solidFill>
                  <a:srgbClr val="b0b0b0"/>
                </a:solidFill>
                <a:latin typeface="Calibri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2E11C72E-1E32-416E-BE8B-60758AFFA8A3}" type="slidenum">
              <a:rPr b="0" lang="en-US" sz="1200" spc="-26" strike="noStrike">
                <a:solidFill>
                  <a:srgbClr val="b0b0b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27640" y="2053080"/>
            <a:ext cx="671112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ru-RU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CFEDD049-1F77-4360-91AE-8B6D9455FC4B}" type="slidenum">
              <a:rPr b="0" lang="ru-RU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ru-RU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7E308B02-D746-4C81-B3FD-6A3E5C4F1FF1}" type="slidenum">
              <a:rPr b="0" lang="ru-RU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19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5.png"/><Relationship Id="rId16" Type="http://schemas.openxmlformats.org/officeDocument/2006/relationships/image" Target="../media/image1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8.png"/><Relationship Id="rId20" Type="http://schemas.openxmlformats.org/officeDocument/2006/relationships/image" Target="../media/image5.png"/><Relationship Id="rId21" Type="http://schemas.openxmlformats.org/officeDocument/2006/relationships/image" Target="../media/image8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66520" y="0"/>
            <a:ext cx="6620760" cy="205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Самарский государственный экономический университет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Кафедра региональной экономики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66520" y="2286000"/>
            <a:ext cx="827712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8ad0d6"/>
                </a:solidFill>
                <a:latin typeface="Century Gothic"/>
              </a:rPr>
              <a:t>                   </a:t>
            </a:r>
            <a:r>
              <a:rPr b="1" lang="ru-RU" sz="2000" spc="-1" strike="noStrike" cap="all">
                <a:solidFill>
                  <a:schemeClr val="accent2"/>
                </a:solidFill>
                <a:latin typeface="Century Gothic"/>
              </a:rPr>
              <a:t>Презентация на тему</a:t>
            </a:r>
            <a:r>
              <a:rPr b="0" lang="en-US" sz="2000" spc="-1" strike="noStrike" cap="all">
                <a:solidFill>
                  <a:srgbClr val="8ad0d6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Маркетинговый анализ российского рынка пропилена , полиэтилена и полимерных пле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                                                                   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подготовил</a:t>
            </a:r>
            <a:r>
              <a:rPr b="0" lang="uz-Latn-UZ" sz="2000" spc="-1" strike="noStrike" cap="all">
                <a:solidFill>
                  <a:srgbClr val="8ad0d6"/>
                </a:solidFill>
                <a:latin typeface="Century Gothic"/>
              </a:rPr>
              <a:t>: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мэ-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                                                                    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Кудиев Файзул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                                                                   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принял</a:t>
            </a:r>
            <a:r>
              <a:rPr b="0" lang="uz-Latn-UZ" sz="2000" spc="-1" strike="noStrike" cap="all">
                <a:solidFill>
                  <a:srgbClr val="8ad0d6"/>
                </a:solidFill>
                <a:latin typeface="Century Gothic"/>
              </a:rPr>
              <a:t>: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к.э.н.,доц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                                                                    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Евдокимов Никол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51160" y="103320"/>
            <a:ext cx="29970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требление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ПВХ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6" name="object 3"/>
          <p:cNvSpPr/>
          <p:nvPr/>
        </p:nvSpPr>
        <p:spPr>
          <a:xfrm>
            <a:off x="8427240" y="6426720"/>
            <a:ext cx="180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200" spc="-26" strike="noStrike">
                <a:solidFill>
                  <a:srgbClr val="888888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object 4"/>
          <p:cNvGrpSpPr/>
          <p:nvPr/>
        </p:nvGrpSpPr>
        <p:grpSpPr>
          <a:xfrm>
            <a:off x="897480" y="1280160"/>
            <a:ext cx="3940920" cy="1740240"/>
            <a:chOff x="897480" y="1280160"/>
            <a:chExt cx="3940920" cy="1740240"/>
          </a:xfrm>
        </p:grpSpPr>
        <p:sp>
          <p:nvSpPr>
            <p:cNvPr id="1028" name="object 5"/>
            <p:cNvSpPr/>
            <p:nvPr/>
          </p:nvSpPr>
          <p:spPr>
            <a:xfrm>
              <a:off x="938880" y="1847160"/>
              <a:ext cx="723600" cy="85068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723900" h="850900">
                  <a:moveTo>
                    <a:pt x="0" y="850391"/>
                  </a:moveTo>
                  <a:lnTo>
                    <a:pt x="166115" y="850391"/>
                  </a:lnTo>
                </a:path>
                <a:path w="723900" h="850900">
                  <a:moveTo>
                    <a:pt x="390144" y="850391"/>
                  </a:moveTo>
                  <a:lnTo>
                    <a:pt x="723899" y="850391"/>
                  </a:lnTo>
                </a:path>
                <a:path w="723900" h="850900">
                  <a:moveTo>
                    <a:pt x="0" y="566927"/>
                  </a:moveTo>
                  <a:lnTo>
                    <a:pt x="166115" y="566927"/>
                  </a:lnTo>
                </a:path>
                <a:path w="723900" h="850900">
                  <a:moveTo>
                    <a:pt x="390144" y="566927"/>
                  </a:moveTo>
                  <a:lnTo>
                    <a:pt x="723899" y="566927"/>
                  </a:lnTo>
                </a:path>
                <a:path w="723900" h="850900">
                  <a:moveTo>
                    <a:pt x="0" y="283463"/>
                  </a:moveTo>
                  <a:lnTo>
                    <a:pt x="166115" y="283463"/>
                  </a:lnTo>
                </a:path>
                <a:path w="723900" h="850900">
                  <a:moveTo>
                    <a:pt x="390144" y="283463"/>
                  </a:moveTo>
                  <a:lnTo>
                    <a:pt x="723899" y="283463"/>
                  </a:lnTo>
                </a:path>
                <a:path w="723900" h="850900">
                  <a:moveTo>
                    <a:pt x="0" y="0"/>
                  </a:moveTo>
                  <a:lnTo>
                    <a:pt x="166115" y="0"/>
                  </a:lnTo>
                </a:path>
                <a:path w="723900" h="850900">
                  <a:moveTo>
                    <a:pt x="390144" y="0"/>
                  </a:moveTo>
                  <a:lnTo>
                    <a:pt x="72389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bject 6"/>
            <p:cNvSpPr/>
            <p:nvPr/>
          </p:nvSpPr>
          <p:spPr>
            <a:xfrm>
              <a:off x="1104840" y="1738800"/>
              <a:ext cx="223920" cy="12416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41640"/>
                <a:gd name="textAreaBottom" fmla="*/ 1242000 h 1241640"/>
              </a:gdLst>
              <a:ahLst/>
              <a:rect l="textAreaLeft" t="textAreaTop" r="textAreaRight" b="textAreaBottom"/>
              <a:pathLst>
                <a:path w="224155" h="1242060">
                  <a:moveTo>
                    <a:pt x="224028" y="0"/>
                  </a:moveTo>
                  <a:lnTo>
                    <a:pt x="0" y="0"/>
                  </a:lnTo>
                  <a:lnTo>
                    <a:pt x="0" y="1242060"/>
                  </a:lnTo>
                  <a:lnTo>
                    <a:pt x="224028" y="1242060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bject 7"/>
            <p:cNvSpPr/>
            <p:nvPr/>
          </p:nvSpPr>
          <p:spPr>
            <a:xfrm>
              <a:off x="938880" y="1563480"/>
              <a:ext cx="1281600" cy="1133640"/>
            </a:xfrm>
            <a:custGeom>
              <a:avLst/>
              <a:gdLst>
                <a:gd name="textAreaLeft" fmla="*/ 0 w 1281600"/>
                <a:gd name="textAreaRight" fmla="*/ 1281960 w 128160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1282064" h="1134110">
                  <a:moveTo>
                    <a:pt x="946404" y="1133855"/>
                  </a:moveTo>
                  <a:lnTo>
                    <a:pt x="1281684" y="1133855"/>
                  </a:lnTo>
                </a:path>
                <a:path w="1282064" h="1134110">
                  <a:moveTo>
                    <a:pt x="946404" y="850391"/>
                  </a:moveTo>
                  <a:lnTo>
                    <a:pt x="1281684" y="850391"/>
                  </a:lnTo>
                </a:path>
                <a:path w="1282064" h="1134110">
                  <a:moveTo>
                    <a:pt x="946404" y="566927"/>
                  </a:moveTo>
                  <a:lnTo>
                    <a:pt x="1281684" y="566927"/>
                  </a:lnTo>
                </a:path>
                <a:path w="1282064" h="1134110">
                  <a:moveTo>
                    <a:pt x="946404" y="283463"/>
                  </a:moveTo>
                  <a:lnTo>
                    <a:pt x="1281684" y="283463"/>
                  </a:lnTo>
                </a:path>
                <a:path w="1282064" h="1134110">
                  <a:moveTo>
                    <a:pt x="0" y="0"/>
                  </a:moveTo>
                  <a:lnTo>
                    <a:pt x="723899" y="0"/>
                  </a:lnTo>
                </a:path>
                <a:path w="1282064" h="1134110">
                  <a:moveTo>
                    <a:pt x="946404" y="0"/>
                  </a:moveTo>
                  <a:lnTo>
                    <a:pt x="12816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bject 8"/>
            <p:cNvSpPr/>
            <p:nvPr/>
          </p:nvSpPr>
          <p:spPr>
            <a:xfrm>
              <a:off x="1662840" y="1548360"/>
              <a:ext cx="222480" cy="14320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432080"/>
                <a:gd name="textAreaBottom" fmla="*/ 1432440 h 1432080"/>
              </a:gdLst>
              <a:ahLst/>
              <a:rect l="textAreaLeft" t="textAreaTop" r="textAreaRight" b="textAreaBottom"/>
              <a:pathLst>
                <a:path w="222885" h="1432560">
                  <a:moveTo>
                    <a:pt x="222504" y="0"/>
                  </a:moveTo>
                  <a:lnTo>
                    <a:pt x="0" y="0"/>
                  </a:lnTo>
                  <a:lnTo>
                    <a:pt x="0" y="1432560"/>
                  </a:lnTo>
                  <a:lnTo>
                    <a:pt x="222504" y="1432560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bject 9"/>
            <p:cNvSpPr/>
            <p:nvPr/>
          </p:nvSpPr>
          <p:spPr>
            <a:xfrm>
              <a:off x="2442960" y="1563480"/>
              <a:ext cx="333720" cy="113364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334010" h="1134110">
                  <a:moveTo>
                    <a:pt x="0" y="1133855"/>
                  </a:moveTo>
                  <a:lnTo>
                    <a:pt x="333755" y="1133855"/>
                  </a:lnTo>
                </a:path>
                <a:path w="334010" h="1134110">
                  <a:moveTo>
                    <a:pt x="0" y="850391"/>
                  </a:moveTo>
                  <a:lnTo>
                    <a:pt x="333755" y="850391"/>
                  </a:lnTo>
                </a:path>
                <a:path w="334010" h="1134110">
                  <a:moveTo>
                    <a:pt x="0" y="566927"/>
                  </a:moveTo>
                  <a:lnTo>
                    <a:pt x="333755" y="566927"/>
                  </a:lnTo>
                </a:path>
                <a:path w="334010" h="1134110">
                  <a:moveTo>
                    <a:pt x="0" y="283463"/>
                  </a:moveTo>
                  <a:lnTo>
                    <a:pt x="333755" y="283463"/>
                  </a:lnTo>
                </a:path>
                <a:path w="334010" h="1134110">
                  <a:moveTo>
                    <a:pt x="0" y="0"/>
                  </a:moveTo>
                  <a:lnTo>
                    <a:pt x="33375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bject 10"/>
            <p:cNvSpPr/>
            <p:nvPr/>
          </p:nvSpPr>
          <p:spPr>
            <a:xfrm>
              <a:off x="2220480" y="1569600"/>
              <a:ext cx="222480" cy="1411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222885" h="1411605">
                  <a:moveTo>
                    <a:pt x="222504" y="0"/>
                  </a:moveTo>
                  <a:lnTo>
                    <a:pt x="0" y="0"/>
                  </a:lnTo>
                  <a:lnTo>
                    <a:pt x="0" y="1411224"/>
                  </a:lnTo>
                  <a:lnTo>
                    <a:pt x="222504" y="1411224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bject 11"/>
            <p:cNvSpPr/>
            <p:nvPr/>
          </p:nvSpPr>
          <p:spPr>
            <a:xfrm>
              <a:off x="3000600" y="1847160"/>
              <a:ext cx="333720" cy="8506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34010" h="850900">
                  <a:moveTo>
                    <a:pt x="0" y="850391"/>
                  </a:moveTo>
                  <a:lnTo>
                    <a:pt x="333756" y="850391"/>
                  </a:lnTo>
                </a:path>
                <a:path w="334010" h="850900">
                  <a:moveTo>
                    <a:pt x="0" y="566927"/>
                  </a:moveTo>
                  <a:lnTo>
                    <a:pt x="333756" y="566927"/>
                  </a:lnTo>
                </a:path>
                <a:path w="334010" h="850900">
                  <a:moveTo>
                    <a:pt x="0" y="283463"/>
                  </a:moveTo>
                  <a:lnTo>
                    <a:pt x="333756" y="283463"/>
                  </a:lnTo>
                </a:path>
                <a:path w="334010" h="850900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bject 12"/>
            <p:cNvSpPr/>
            <p:nvPr/>
          </p:nvSpPr>
          <p:spPr>
            <a:xfrm>
              <a:off x="2776680" y="1636920"/>
              <a:ext cx="223920" cy="13438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343880"/>
                <a:gd name="textAreaBottom" fmla="*/ 1344240 h 1343880"/>
              </a:gdLst>
              <a:ahLst/>
              <a:rect l="textAreaLeft" t="textAreaTop" r="textAreaRight" b="textAreaBottom"/>
              <a:pathLst>
                <a:path w="224155" h="1344295">
                  <a:moveTo>
                    <a:pt x="224028" y="0"/>
                  </a:moveTo>
                  <a:lnTo>
                    <a:pt x="0" y="0"/>
                  </a:lnTo>
                  <a:lnTo>
                    <a:pt x="0" y="1344168"/>
                  </a:lnTo>
                  <a:lnTo>
                    <a:pt x="224028" y="134416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bject 13"/>
            <p:cNvSpPr/>
            <p:nvPr/>
          </p:nvSpPr>
          <p:spPr>
            <a:xfrm>
              <a:off x="3000600" y="1563480"/>
              <a:ext cx="1837800" cy="113364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1838325" h="1134110">
                  <a:moveTo>
                    <a:pt x="556259" y="1133855"/>
                  </a:moveTo>
                  <a:lnTo>
                    <a:pt x="891540" y="1133855"/>
                  </a:lnTo>
                </a:path>
                <a:path w="1838325" h="1134110">
                  <a:moveTo>
                    <a:pt x="556259" y="850391"/>
                  </a:moveTo>
                  <a:lnTo>
                    <a:pt x="891540" y="850391"/>
                  </a:lnTo>
                </a:path>
                <a:path w="1838325" h="1134110">
                  <a:moveTo>
                    <a:pt x="556259" y="566927"/>
                  </a:moveTo>
                  <a:lnTo>
                    <a:pt x="891540" y="566927"/>
                  </a:lnTo>
                </a:path>
                <a:path w="1838325" h="1134110">
                  <a:moveTo>
                    <a:pt x="556259" y="283463"/>
                  </a:moveTo>
                  <a:lnTo>
                    <a:pt x="891540" y="283463"/>
                  </a:lnTo>
                </a:path>
                <a:path w="1838325" h="1134110">
                  <a:moveTo>
                    <a:pt x="0" y="0"/>
                  </a:moveTo>
                  <a:lnTo>
                    <a:pt x="333756" y="0"/>
                  </a:lnTo>
                </a:path>
                <a:path w="1838325" h="1134110">
                  <a:moveTo>
                    <a:pt x="556259" y="0"/>
                  </a:moveTo>
                  <a:lnTo>
                    <a:pt x="18379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bject 14"/>
            <p:cNvSpPr/>
            <p:nvPr/>
          </p:nvSpPr>
          <p:spPr>
            <a:xfrm>
              <a:off x="3334680" y="1603080"/>
              <a:ext cx="222480" cy="13777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377720"/>
                <a:gd name="textAreaBottom" fmla="*/ 1378080 h 1377720"/>
              </a:gdLst>
              <a:ahLst/>
              <a:rect l="textAreaLeft" t="textAreaTop" r="textAreaRight" b="textAreaBottom"/>
              <a:pathLst>
                <a:path w="222885" h="1377950">
                  <a:moveTo>
                    <a:pt x="222503" y="0"/>
                  </a:moveTo>
                  <a:lnTo>
                    <a:pt x="0" y="0"/>
                  </a:lnTo>
                  <a:lnTo>
                    <a:pt x="0" y="1377696"/>
                  </a:lnTo>
                  <a:lnTo>
                    <a:pt x="222503" y="1377696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bject 15"/>
            <p:cNvSpPr/>
            <p:nvPr/>
          </p:nvSpPr>
          <p:spPr>
            <a:xfrm>
              <a:off x="4114800" y="1847160"/>
              <a:ext cx="333720" cy="8506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34010" h="850900">
                  <a:moveTo>
                    <a:pt x="0" y="850391"/>
                  </a:moveTo>
                  <a:lnTo>
                    <a:pt x="333755" y="850391"/>
                  </a:lnTo>
                </a:path>
                <a:path w="334010" h="850900">
                  <a:moveTo>
                    <a:pt x="0" y="566927"/>
                  </a:moveTo>
                  <a:lnTo>
                    <a:pt x="333755" y="566927"/>
                  </a:lnTo>
                </a:path>
                <a:path w="334010" h="850900">
                  <a:moveTo>
                    <a:pt x="0" y="283463"/>
                  </a:moveTo>
                  <a:lnTo>
                    <a:pt x="333755" y="283463"/>
                  </a:lnTo>
                </a:path>
                <a:path w="334010" h="850900">
                  <a:moveTo>
                    <a:pt x="0" y="0"/>
                  </a:moveTo>
                  <a:lnTo>
                    <a:pt x="33375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bject 16"/>
            <p:cNvSpPr/>
            <p:nvPr/>
          </p:nvSpPr>
          <p:spPr>
            <a:xfrm>
              <a:off x="3892320" y="1802880"/>
              <a:ext cx="222480" cy="11782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178280"/>
                <a:gd name="textAreaBottom" fmla="*/ 1178640 h 1178280"/>
              </a:gdLst>
              <a:ahLst/>
              <a:rect l="textAreaLeft" t="textAreaTop" r="textAreaRight" b="textAreaBottom"/>
              <a:pathLst>
                <a:path w="222885" h="1178560">
                  <a:moveTo>
                    <a:pt x="222503" y="0"/>
                  </a:moveTo>
                  <a:lnTo>
                    <a:pt x="0" y="0"/>
                  </a:lnTo>
                  <a:lnTo>
                    <a:pt x="0" y="1178052"/>
                  </a:lnTo>
                  <a:lnTo>
                    <a:pt x="222503" y="1178052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bject 17"/>
            <p:cNvSpPr/>
            <p:nvPr/>
          </p:nvSpPr>
          <p:spPr>
            <a:xfrm>
              <a:off x="4671000" y="1847160"/>
              <a:ext cx="167400" cy="8506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167639" h="850900">
                  <a:moveTo>
                    <a:pt x="0" y="850391"/>
                  </a:moveTo>
                  <a:lnTo>
                    <a:pt x="167639" y="850391"/>
                  </a:lnTo>
                </a:path>
                <a:path w="167639" h="850900">
                  <a:moveTo>
                    <a:pt x="0" y="566927"/>
                  </a:moveTo>
                  <a:lnTo>
                    <a:pt x="167639" y="566927"/>
                  </a:lnTo>
                </a:path>
                <a:path w="167639" h="850900">
                  <a:moveTo>
                    <a:pt x="0" y="283463"/>
                  </a:moveTo>
                  <a:lnTo>
                    <a:pt x="167639" y="283463"/>
                  </a:lnTo>
                </a:path>
                <a:path w="167639" h="850900">
                  <a:moveTo>
                    <a:pt x="0" y="0"/>
                  </a:moveTo>
                  <a:lnTo>
                    <a:pt x="1676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bject 18"/>
            <p:cNvSpPr/>
            <p:nvPr/>
          </p:nvSpPr>
          <p:spPr>
            <a:xfrm>
              <a:off x="4448520" y="1804320"/>
              <a:ext cx="222480" cy="11761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22885" h="1176655">
                  <a:moveTo>
                    <a:pt x="222504" y="0"/>
                  </a:moveTo>
                  <a:lnTo>
                    <a:pt x="0" y="0"/>
                  </a:lnTo>
                  <a:lnTo>
                    <a:pt x="0" y="1176528"/>
                  </a:lnTo>
                  <a:lnTo>
                    <a:pt x="222504" y="1176528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bject 19"/>
            <p:cNvSpPr/>
            <p:nvPr/>
          </p:nvSpPr>
          <p:spPr>
            <a:xfrm>
              <a:off x="1104840" y="1548360"/>
              <a:ext cx="3565800" cy="1432080"/>
            </a:xfrm>
            <a:custGeom>
              <a:avLst/>
              <a:gdLst>
                <a:gd name="textAreaLeft" fmla="*/ 0 w 3565800"/>
                <a:gd name="textAreaRight" fmla="*/ 3566160 w 3565800"/>
                <a:gd name="textAreaTop" fmla="*/ 0 h 1432080"/>
                <a:gd name="textAreaBottom" fmla="*/ 1432440 h 1432080"/>
              </a:gdLst>
              <a:ahLst/>
              <a:rect l="textAreaLeft" t="textAreaTop" r="textAreaRight" b="textAreaBottom"/>
              <a:pathLst>
                <a:path w="3566160" h="1432560">
                  <a:moveTo>
                    <a:pt x="0" y="190500"/>
                  </a:moveTo>
                  <a:lnTo>
                    <a:pt x="224028" y="190500"/>
                  </a:lnTo>
                  <a:lnTo>
                    <a:pt x="224028" y="1432560"/>
                  </a:lnTo>
                  <a:lnTo>
                    <a:pt x="0" y="1432560"/>
                  </a:lnTo>
                  <a:lnTo>
                    <a:pt x="0" y="190500"/>
                  </a:lnTo>
                  <a:close/>
                </a:path>
                <a:path w="3566160" h="1432560">
                  <a:moveTo>
                    <a:pt x="557783" y="0"/>
                  </a:moveTo>
                  <a:lnTo>
                    <a:pt x="780288" y="0"/>
                  </a:lnTo>
                  <a:lnTo>
                    <a:pt x="780288" y="1432560"/>
                  </a:lnTo>
                  <a:lnTo>
                    <a:pt x="557783" y="1432560"/>
                  </a:lnTo>
                  <a:lnTo>
                    <a:pt x="557783" y="0"/>
                  </a:lnTo>
                  <a:close/>
                </a:path>
                <a:path w="3566160" h="1432560">
                  <a:moveTo>
                    <a:pt x="1115568" y="21336"/>
                  </a:moveTo>
                  <a:lnTo>
                    <a:pt x="1338072" y="21336"/>
                  </a:lnTo>
                  <a:lnTo>
                    <a:pt x="1338072" y="1432560"/>
                  </a:lnTo>
                  <a:lnTo>
                    <a:pt x="1115568" y="1432560"/>
                  </a:lnTo>
                  <a:lnTo>
                    <a:pt x="1115568" y="21336"/>
                  </a:lnTo>
                  <a:close/>
                </a:path>
                <a:path w="3566160" h="1432560">
                  <a:moveTo>
                    <a:pt x="1671827" y="88391"/>
                  </a:moveTo>
                  <a:lnTo>
                    <a:pt x="1895856" y="88391"/>
                  </a:lnTo>
                  <a:lnTo>
                    <a:pt x="1895856" y="1432560"/>
                  </a:lnTo>
                  <a:lnTo>
                    <a:pt x="1671827" y="1432560"/>
                  </a:lnTo>
                  <a:lnTo>
                    <a:pt x="1671827" y="88391"/>
                  </a:lnTo>
                  <a:close/>
                </a:path>
                <a:path w="3566160" h="1432560">
                  <a:moveTo>
                    <a:pt x="2229612" y="54863"/>
                  </a:moveTo>
                  <a:lnTo>
                    <a:pt x="2452116" y="54863"/>
                  </a:lnTo>
                  <a:lnTo>
                    <a:pt x="2452116" y="1432560"/>
                  </a:lnTo>
                  <a:lnTo>
                    <a:pt x="2229612" y="1432560"/>
                  </a:lnTo>
                  <a:lnTo>
                    <a:pt x="2229612" y="54863"/>
                  </a:lnTo>
                  <a:close/>
                </a:path>
                <a:path w="3566160" h="1432560">
                  <a:moveTo>
                    <a:pt x="2787396" y="254507"/>
                  </a:moveTo>
                  <a:lnTo>
                    <a:pt x="3009900" y="254507"/>
                  </a:lnTo>
                  <a:lnTo>
                    <a:pt x="3009900" y="1432560"/>
                  </a:lnTo>
                  <a:lnTo>
                    <a:pt x="2787396" y="1432560"/>
                  </a:lnTo>
                  <a:lnTo>
                    <a:pt x="2787396" y="254507"/>
                  </a:lnTo>
                  <a:close/>
                </a:path>
                <a:path w="3566160" h="1432560">
                  <a:moveTo>
                    <a:pt x="3343655" y="256031"/>
                  </a:moveTo>
                  <a:lnTo>
                    <a:pt x="3566160" y="256031"/>
                  </a:lnTo>
                  <a:lnTo>
                    <a:pt x="3566160" y="1432560"/>
                  </a:lnTo>
                  <a:lnTo>
                    <a:pt x="3343655" y="1432560"/>
                  </a:lnTo>
                  <a:lnTo>
                    <a:pt x="3343655" y="256031"/>
                  </a:lnTo>
                  <a:close/>
                </a:path>
              </a:pathLst>
            </a:custGeom>
            <a:noFill/>
            <a:ln w="9144">
              <a:solidFill>
                <a:srgbClr val="00a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bject 20"/>
            <p:cNvSpPr/>
            <p:nvPr/>
          </p:nvSpPr>
          <p:spPr>
            <a:xfrm>
              <a:off x="1104840" y="1368720"/>
              <a:ext cx="3565800" cy="435960"/>
            </a:xfrm>
            <a:custGeom>
              <a:avLst/>
              <a:gdLst>
                <a:gd name="textAreaLeft" fmla="*/ 0 w 3565800"/>
                <a:gd name="textAreaRight" fmla="*/ 3566160 w 356580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3566160" h="436244">
                  <a:moveTo>
                    <a:pt x="224028" y="208788"/>
                  </a:moveTo>
                  <a:lnTo>
                    <a:pt x="0" y="208788"/>
                  </a:lnTo>
                  <a:lnTo>
                    <a:pt x="0" y="370332"/>
                  </a:lnTo>
                  <a:lnTo>
                    <a:pt x="224028" y="370332"/>
                  </a:lnTo>
                  <a:lnTo>
                    <a:pt x="224028" y="208788"/>
                  </a:lnTo>
                  <a:close/>
                </a:path>
                <a:path w="3566160" h="436244">
                  <a:moveTo>
                    <a:pt x="780288" y="1524"/>
                  </a:moveTo>
                  <a:lnTo>
                    <a:pt x="557771" y="1524"/>
                  </a:lnTo>
                  <a:lnTo>
                    <a:pt x="557771" y="179832"/>
                  </a:lnTo>
                  <a:lnTo>
                    <a:pt x="780288" y="179832"/>
                  </a:lnTo>
                  <a:lnTo>
                    <a:pt x="780288" y="1524"/>
                  </a:lnTo>
                  <a:close/>
                </a:path>
                <a:path w="3566160" h="436244">
                  <a:moveTo>
                    <a:pt x="1338072" y="0"/>
                  </a:moveTo>
                  <a:lnTo>
                    <a:pt x="1115568" y="0"/>
                  </a:lnTo>
                  <a:lnTo>
                    <a:pt x="1115568" y="201168"/>
                  </a:lnTo>
                  <a:lnTo>
                    <a:pt x="1338072" y="201168"/>
                  </a:lnTo>
                  <a:lnTo>
                    <a:pt x="1338072" y="0"/>
                  </a:lnTo>
                  <a:close/>
                </a:path>
                <a:path w="3566160" h="436244">
                  <a:moveTo>
                    <a:pt x="1895856" y="68580"/>
                  </a:moveTo>
                  <a:lnTo>
                    <a:pt x="1671828" y="68580"/>
                  </a:lnTo>
                  <a:lnTo>
                    <a:pt x="1671828" y="268224"/>
                  </a:lnTo>
                  <a:lnTo>
                    <a:pt x="1895856" y="268224"/>
                  </a:lnTo>
                  <a:lnTo>
                    <a:pt x="1895856" y="68580"/>
                  </a:lnTo>
                  <a:close/>
                </a:path>
                <a:path w="3566160" h="436244">
                  <a:moveTo>
                    <a:pt x="2452116" y="53340"/>
                  </a:moveTo>
                  <a:lnTo>
                    <a:pt x="2229612" y="53340"/>
                  </a:lnTo>
                  <a:lnTo>
                    <a:pt x="2229612" y="234696"/>
                  </a:lnTo>
                  <a:lnTo>
                    <a:pt x="2452116" y="234696"/>
                  </a:lnTo>
                  <a:lnTo>
                    <a:pt x="2452116" y="53340"/>
                  </a:lnTo>
                  <a:close/>
                </a:path>
                <a:path w="3566160" h="436244">
                  <a:moveTo>
                    <a:pt x="3009900" y="260604"/>
                  </a:moveTo>
                  <a:lnTo>
                    <a:pt x="2787396" y="260604"/>
                  </a:lnTo>
                  <a:lnTo>
                    <a:pt x="2787396" y="434340"/>
                  </a:lnTo>
                  <a:lnTo>
                    <a:pt x="3009900" y="434340"/>
                  </a:lnTo>
                  <a:lnTo>
                    <a:pt x="3009900" y="260604"/>
                  </a:lnTo>
                  <a:close/>
                </a:path>
                <a:path w="3566160" h="436244">
                  <a:moveTo>
                    <a:pt x="3566160" y="272796"/>
                  </a:moveTo>
                  <a:lnTo>
                    <a:pt x="3343656" y="272796"/>
                  </a:lnTo>
                  <a:lnTo>
                    <a:pt x="3343656" y="435864"/>
                  </a:lnTo>
                  <a:lnTo>
                    <a:pt x="3566160" y="435864"/>
                  </a:lnTo>
                  <a:lnTo>
                    <a:pt x="3566160" y="272796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object 21"/>
            <p:cNvSpPr/>
            <p:nvPr/>
          </p:nvSpPr>
          <p:spPr>
            <a:xfrm>
              <a:off x="897480" y="1280160"/>
              <a:ext cx="3940920" cy="1740240"/>
            </a:xfrm>
            <a:custGeom>
              <a:avLst/>
              <a:gdLst>
                <a:gd name="textAreaLeft" fmla="*/ 0 w 3940920"/>
                <a:gd name="textAreaRight" fmla="*/ 3941280 w 3940920"/>
                <a:gd name="textAreaTop" fmla="*/ 0 h 1740240"/>
                <a:gd name="textAreaBottom" fmla="*/ 1740600 h 1740240"/>
              </a:gdLst>
              <a:ahLst/>
              <a:rect l="textAreaLeft" t="textAreaTop" r="textAreaRight" b="textAreaBottom"/>
              <a:pathLst>
                <a:path w="3941445" h="1740535">
                  <a:moveTo>
                    <a:pt x="41147" y="0"/>
                  </a:moveTo>
                  <a:lnTo>
                    <a:pt x="3941064" y="0"/>
                  </a:lnTo>
                </a:path>
                <a:path w="3941445" h="1740535">
                  <a:moveTo>
                    <a:pt x="41147" y="1700784"/>
                  </a:moveTo>
                  <a:lnTo>
                    <a:pt x="41147" y="0"/>
                  </a:lnTo>
                </a:path>
                <a:path w="3941445" h="1740535">
                  <a:moveTo>
                    <a:pt x="0" y="1700784"/>
                  </a:moveTo>
                  <a:lnTo>
                    <a:pt x="41147" y="1700784"/>
                  </a:lnTo>
                </a:path>
                <a:path w="3941445" h="1740535">
                  <a:moveTo>
                    <a:pt x="0" y="1417319"/>
                  </a:moveTo>
                  <a:lnTo>
                    <a:pt x="41147" y="1417319"/>
                  </a:lnTo>
                </a:path>
                <a:path w="3941445" h="1740535">
                  <a:moveTo>
                    <a:pt x="0" y="1133855"/>
                  </a:moveTo>
                  <a:lnTo>
                    <a:pt x="41147" y="1133855"/>
                  </a:lnTo>
                </a:path>
                <a:path w="3941445" h="1740535">
                  <a:moveTo>
                    <a:pt x="0" y="850391"/>
                  </a:moveTo>
                  <a:lnTo>
                    <a:pt x="41147" y="850391"/>
                  </a:lnTo>
                </a:path>
                <a:path w="3941445" h="1740535">
                  <a:moveTo>
                    <a:pt x="0" y="566927"/>
                  </a:moveTo>
                  <a:lnTo>
                    <a:pt x="41147" y="566927"/>
                  </a:lnTo>
                </a:path>
                <a:path w="3941445" h="1740535">
                  <a:moveTo>
                    <a:pt x="0" y="283463"/>
                  </a:moveTo>
                  <a:lnTo>
                    <a:pt x="41147" y="283463"/>
                  </a:lnTo>
                </a:path>
                <a:path w="3941445" h="1740535">
                  <a:moveTo>
                    <a:pt x="0" y="0"/>
                  </a:moveTo>
                  <a:lnTo>
                    <a:pt x="41147" y="0"/>
                  </a:lnTo>
                </a:path>
                <a:path w="3941445" h="1740535">
                  <a:moveTo>
                    <a:pt x="41147" y="1700784"/>
                  </a:moveTo>
                  <a:lnTo>
                    <a:pt x="3941064" y="1700784"/>
                  </a:lnTo>
                </a:path>
                <a:path w="3941445" h="1740535">
                  <a:moveTo>
                    <a:pt x="41147" y="1700784"/>
                  </a:moveTo>
                  <a:lnTo>
                    <a:pt x="41147" y="1740407"/>
                  </a:lnTo>
                </a:path>
                <a:path w="3941445" h="1740535">
                  <a:moveTo>
                    <a:pt x="597407" y="1700784"/>
                  </a:moveTo>
                  <a:lnTo>
                    <a:pt x="597407" y="1740407"/>
                  </a:lnTo>
                </a:path>
                <a:path w="3941445" h="1740535">
                  <a:moveTo>
                    <a:pt x="1155191" y="1700784"/>
                  </a:moveTo>
                  <a:lnTo>
                    <a:pt x="1155191" y="1740407"/>
                  </a:lnTo>
                </a:path>
                <a:path w="3941445" h="1740535">
                  <a:moveTo>
                    <a:pt x="1712976" y="1700784"/>
                  </a:moveTo>
                  <a:lnTo>
                    <a:pt x="1712976" y="1740407"/>
                  </a:lnTo>
                </a:path>
                <a:path w="3941445" h="1740535">
                  <a:moveTo>
                    <a:pt x="2269236" y="1700784"/>
                  </a:moveTo>
                  <a:lnTo>
                    <a:pt x="2269236" y="1740407"/>
                  </a:lnTo>
                </a:path>
                <a:path w="3941445" h="1740535">
                  <a:moveTo>
                    <a:pt x="2827019" y="1700784"/>
                  </a:moveTo>
                  <a:lnTo>
                    <a:pt x="2827019" y="1740407"/>
                  </a:lnTo>
                </a:path>
                <a:path w="3941445" h="1740535">
                  <a:moveTo>
                    <a:pt x="3383279" y="1700784"/>
                  </a:moveTo>
                  <a:lnTo>
                    <a:pt x="3383279" y="1740407"/>
                  </a:lnTo>
                </a:path>
                <a:path w="3941445" h="1740535">
                  <a:moveTo>
                    <a:pt x="3941064" y="1700784"/>
                  </a:moveTo>
                  <a:lnTo>
                    <a:pt x="3941064" y="1740407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object 22"/>
          <p:cNvSpPr/>
          <p:nvPr/>
        </p:nvSpPr>
        <p:spPr>
          <a:xfrm>
            <a:off x="1060560" y="22640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876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bject 23"/>
          <p:cNvSpPr/>
          <p:nvPr/>
        </p:nvSpPr>
        <p:spPr>
          <a:xfrm>
            <a:off x="1585800" y="216900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01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bject 24"/>
          <p:cNvSpPr/>
          <p:nvPr/>
        </p:nvSpPr>
        <p:spPr>
          <a:xfrm>
            <a:off x="2111040" y="2179080"/>
            <a:ext cx="441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95,3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bject 25"/>
          <p:cNvSpPr/>
          <p:nvPr/>
        </p:nvSpPr>
        <p:spPr>
          <a:xfrm>
            <a:off x="2732400" y="22125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48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bject 26"/>
          <p:cNvSpPr/>
          <p:nvPr/>
        </p:nvSpPr>
        <p:spPr>
          <a:xfrm>
            <a:off x="3289680" y="21963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71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bject 27"/>
          <p:cNvSpPr/>
          <p:nvPr/>
        </p:nvSpPr>
        <p:spPr>
          <a:xfrm>
            <a:off x="3846960" y="229572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83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bject 28"/>
          <p:cNvSpPr/>
          <p:nvPr/>
        </p:nvSpPr>
        <p:spPr>
          <a:xfrm>
            <a:off x="4451760" y="22968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bject 29"/>
          <p:cNvSpPr/>
          <p:nvPr/>
        </p:nvSpPr>
        <p:spPr>
          <a:xfrm>
            <a:off x="1060560" y="1562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1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bject 30"/>
          <p:cNvSpPr/>
          <p:nvPr/>
        </p:nvSpPr>
        <p:spPr>
          <a:xfrm>
            <a:off x="1665000" y="13633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bject 31"/>
          <p:cNvSpPr/>
          <p:nvPr/>
        </p:nvSpPr>
        <p:spPr>
          <a:xfrm>
            <a:off x="2222280" y="1373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bject 32"/>
          <p:cNvSpPr/>
          <p:nvPr/>
        </p:nvSpPr>
        <p:spPr>
          <a:xfrm>
            <a:off x="2732400" y="1441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4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bject 33"/>
          <p:cNvSpPr/>
          <p:nvPr/>
        </p:nvSpPr>
        <p:spPr>
          <a:xfrm>
            <a:off x="3289680" y="14169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27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bject 34"/>
          <p:cNvSpPr/>
          <p:nvPr/>
        </p:nvSpPr>
        <p:spPr>
          <a:xfrm>
            <a:off x="3846960" y="16200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22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bject 35"/>
          <p:cNvSpPr/>
          <p:nvPr/>
        </p:nvSpPr>
        <p:spPr>
          <a:xfrm>
            <a:off x="4451760" y="1626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bject 36"/>
          <p:cNvSpPr/>
          <p:nvPr/>
        </p:nvSpPr>
        <p:spPr>
          <a:xfrm>
            <a:off x="743400" y="28782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bject 37"/>
          <p:cNvSpPr/>
          <p:nvPr/>
        </p:nvSpPr>
        <p:spPr>
          <a:xfrm>
            <a:off x="614520" y="25945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bject 38"/>
          <p:cNvSpPr/>
          <p:nvPr/>
        </p:nvSpPr>
        <p:spPr>
          <a:xfrm>
            <a:off x="614520" y="23112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bject 39"/>
          <p:cNvSpPr/>
          <p:nvPr/>
        </p:nvSpPr>
        <p:spPr>
          <a:xfrm>
            <a:off x="614520" y="20271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bject 40"/>
          <p:cNvSpPr/>
          <p:nvPr/>
        </p:nvSpPr>
        <p:spPr>
          <a:xfrm>
            <a:off x="614520" y="1743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bject 41"/>
          <p:cNvSpPr/>
          <p:nvPr/>
        </p:nvSpPr>
        <p:spPr>
          <a:xfrm>
            <a:off x="550440" y="14605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bject 42"/>
          <p:cNvSpPr/>
          <p:nvPr/>
        </p:nvSpPr>
        <p:spPr>
          <a:xfrm>
            <a:off x="550440" y="1176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bject 43"/>
          <p:cNvSpPr/>
          <p:nvPr/>
        </p:nvSpPr>
        <p:spPr>
          <a:xfrm>
            <a:off x="5041440" y="206964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7" name="object 44"/>
          <p:cNvGrpSpPr/>
          <p:nvPr/>
        </p:nvGrpSpPr>
        <p:grpSpPr>
          <a:xfrm>
            <a:off x="5041440" y="2298240"/>
            <a:ext cx="70200" cy="70200"/>
            <a:chOff x="5041440" y="2298240"/>
            <a:chExt cx="70200" cy="70200"/>
          </a:xfrm>
        </p:grpSpPr>
        <p:sp>
          <p:nvSpPr>
            <p:cNvPr id="1068" name="object 45"/>
            <p:cNvSpPr/>
            <p:nvPr/>
          </p:nvSpPr>
          <p:spPr>
            <a:xfrm>
              <a:off x="5041440" y="22982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3"/>
                  </a:lnTo>
                  <a:lnTo>
                    <a:pt x="70103" y="70103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bject 46"/>
            <p:cNvSpPr/>
            <p:nvPr/>
          </p:nvSpPr>
          <p:spPr>
            <a:xfrm>
              <a:off x="5041440" y="22982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3"/>
                  </a:moveTo>
                  <a:lnTo>
                    <a:pt x="70103" y="70103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3"/>
                  </a:lnTo>
                  <a:close/>
                </a:path>
              </a:pathLst>
            </a:custGeom>
            <a:noFill/>
            <a:ln w="9144">
              <a:solidFill>
                <a:srgbClr val="00a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object 47"/>
          <p:cNvSpPr/>
          <p:nvPr/>
        </p:nvSpPr>
        <p:spPr>
          <a:xfrm>
            <a:off x="5130000" y="1923120"/>
            <a:ext cx="3463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ВХ-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 ПВЗ-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bject 48"/>
          <p:cNvSpPr/>
          <p:nvPr/>
        </p:nvSpPr>
        <p:spPr>
          <a:xfrm>
            <a:off x="559080" y="777240"/>
            <a:ext cx="4898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object 49"/>
          <p:cNvGrpSpPr/>
          <p:nvPr/>
        </p:nvGrpSpPr>
        <p:grpSpPr>
          <a:xfrm>
            <a:off x="6162120" y="1350360"/>
            <a:ext cx="1932120" cy="1932120"/>
            <a:chOff x="6162120" y="1350360"/>
            <a:chExt cx="1932120" cy="1932120"/>
          </a:xfrm>
        </p:grpSpPr>
        <p:sp>
          <p:nvSpPr>
            <p:cNvPr id="1073" name="object 50"/>
            <p:cNvSpPr/>
            <p:nvPr/>
          </p:nvSpPr>
          <p:spPr>
            <a:xfrm>
              <a:off x="6162120" y="1350360"/>
              <a:ext cx="1932120" cy="1932120"/>
            </a:xfrm>
            <a:custGeom>
              <a:avLst/>
              <a:gdLst>
                <a:gd name="textAreaLeft" fmla="*/ 0 w 1932120"/>
                <a:gd name="textAreaRight" fmla="*/ 1932480 w 193212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1932304" h="1932304">
                  <a:moveTo>
                    <a:pt x="965961" y="0"/>
                  </a:moveTo>
                  <a:lnTo>
                    <a:pt x="965961" y="482981"/>
                  </a:lnTo>
                  <a:lnTo>
                    <a:pt x="1014882" y="485463"/>
                  </a:lnTo>
                  <a:lnTo>
                    <a:pt x="1062928" y="492813"/>
                  </a:lnTo>
                  <a:lnTo>
                    <a:pt x="1109763" y="504887"/>
                  </a:lnTo>
                  <a:lnTo>
                    <a:pt x="1155049" y="521541"/>
                  </a:lnTo>
                  <a:lnTo>
                    <a:pt x="1198447" y="542630"/>
                  </a:lnTo>
                  <a:lnTo>
                    <a:pt x="1239621" y="568009"/>
                  </a:lnTo>
                  <a:lnTo>
                    <a:pt x="1278231" y="597535"/>
                  </a:lnTo>
                  <a:lnTo>
                    <a:pt x="1313941" y="631063"/>
                  </a:lnTo>
                  <a:lnTo>
                    <a:pt x="1344615" y="666102"/>
                  </a:lnTo>
                  <a:lnTo>
                    <a:pt x="1371331" y="703214"/>
                  </a:lnTo>
                  <a:lnTo>
                    <a:pt x="1394095" y="742110"/>
                  </a:lnTo>
                  <a:lnTo>
                    <a:pt x="1412912" y="782505"/>
                  </a:lnTo>
                  <a:lnTo>
                    <a:pt x="1427788" y="824114"/>
                  </a:lnTo>
                  <a:lnTo>
                    <a:pt x="1438728" y="866650"/>
                  </a:lnTo>
                  <a:lnTo>
                    <a:pt x="1445738" y="909827"/>
                  </a:lnTo>
                  <a:lnTo>
                    <a:pt x="1448823" y="953359"/>
                  </a:lnTo>
                  <a:lnTo>
                    <a:pt x="1447988" y="996960"/>
                  </a:lnTo>
                  <a:lnTo>
                    <a:pt x="1443239" y="1040345"/>
                  </a:lnTo>
                  <a:lnTo>
                    <a:pt x="1434582" y="1083227"/>
                  </a:lnTo>
                  <a:lnTo>
                    <a:pt x="1422021" y="1125320"/>
                  </a:lnTo>
                  <a:lnTo>
                    <a:pt x="1405563" y="1166338"/>
                  </a:lnTo>
                  <a:lnTo>
                    <a:pt x="1385212" y="1205995"/>
                  </a:lnTo>
                  <a:lnTo>
                    <a:pt x="1360975" y="1244005"/>
                  </a:lnTo>
                  <a:lnTo>
                    <a:pt x="1332856" y="1280083"/>
                  </a:lnTo>
                  <a:lnTo>
                    <a:pt x="1300860" y="1313942"/>
                  </a:lnTo>
                  <a:lnTo>
                    <a:pt x="1265821" y="1344594"/>
                  </a:lnTo>
                  <a:lnTo>
                    <a:pt x="1228709" y="1371291"/>
                  </a:lnTo>
                  <a:lnTo>
                    <a:pt x="1189813" y="1394039"/>
                  </a:lnTo>
                  <a:lnTo>
                    <a:pt x="1149418" y="1412843"/>
                  </a:lnTo>
                  <a:lnTo>
                    <a:pt x="1107809" y="1427709"/>
                  </a:lnTo>
                  <a:lnTo>
                    <a:pt x="1065273" y="1438641"/>
                  </a:lnTo>
                  <a:lnTo>
                    <a:pt x="1022096" y="1445645"/>
                  </a:lnTo>
                  <a:lnTo>
                    <a:pt x="978564" y="1448728"/>
                  </a:lnTo>
                  <a:lnTo>
                    <a:pt x="934963" y="1447893"/>
                  </a:lnTo>
                  <a:lnTo>
                    <a:pt x="891578" y="1443147"/>
                  </a:lnTo>
                  <a:lnTo>
                    <a:pt x="848696" y="1434495"/>
                  </a:lnTo>
                  <a:lnTo>
                    <a:pt x="806603" y="1421942"/>
                  </a:lnTo>
                  <a:lnTo>
                    <a:pt x="765585" y="1405495"/>
                  </a:lnTo>
                  <a:lnTo>
                    <a:pt x="725928" y="1385157"/>
                  </a:lnTo>
                  <a:lnTo>
                    <a:pt x="687918" y="1360935"/>
                  </a:lnTo>
                  <a:lnTo>
                    <a:pt x="651840" y="1332835"/>
                  </a:lnTo>
                  <a:lnTo>
                    <a:pt x="617981" y="1300861"/>
                  </a:lnTo>
                  <a:lnTo>
                    <a:pt x="587329" y="1265819"/>
                  </a:lnTo>
                  <a:lnTo>
                    <a:pt x="560632" y="1228705"/>
                  </a:lnTo>
                  <a:lnTo>
                    <a:pt x="537884" y="1189803"/>
                  </a:lnTo>
                  <a:lnTo>
                    <a:pt x="519080" y="1149402"/>
                  </a:lnTo>
                  <a:lnTo>
                    <a:pt x="504214" y="1107786"/>
                  </a:lnTo>
                  <a:lnTo>
                    <a:pt x="493282" y="1065242"/>
                  </a:lnTo>
                  <a:lnTo>
                    <a:pt x="486278" y="1022058"/>
                  </a:lnTo>
                  <a:lnTo>
                    <a:pt x="483195" y="978519"/>
                  </a:lnTo>
                  <a:lnTo>
                    <a:pt x="484030" y="934912"/>
                  </a:lnTo>
                  <a:lnTo>
                    <a:pt x="488776" y="891524"/>
                  </a:lnTo>
                  <a:lnTo>
                    <a:pt x="497428" y="848640"/>
                  </a:lnTo>
                  <a:lnTo>
                    <a:pt x="509981" y="806548"/>
                  </a:lnTo>
                  <a:lnTo>
                    <a:pt x="526428" y="765533"/>
                  </a:lnTo>
                  <a:lnTo>
                    <a:pt x="546766" y="725883"/>
                  </a:lnTo>
                  <a:lnTo>
                    <a:pt x="570988" y="687883"/>
                  </a:lnTo>
                  <a:lnTo>
                    <a:pt x="599088" y="651820"/>
                  </a:lnTo>
                  <a:lnTo>
                    <a:pt x="631062" y="617982"/>
                  </a:lnTo>
                  <a:lnTo>
                    <a:pt x="296163" y="270001"/>
                  </a:lnTo>
                  <a:lnTo>
                    <a:pt x="261653" y="304923"/>
                  </a:lnTo>
                  <a:lnTo>
                    <a:pt x="229108" y="341385"/>
                  </a:lnTo>
                  <a:lnTo>
                    <a:pt x="198564" y="379302"/>
                  </a:lnTo>
                  <a:lnTo>
                    <a:pt x="170056" y="418590"/>
                  </a:lnTo>
                  <a:lnTo>
                    <a:pt x="143622" y="459162"/>
                  </a:lnTo>
                  <a:lnTo>
                    <a:pt x="119298" y="500934"/>
                  </a:lnTo>
                  <a:lnTo>
                    <a:pt x="97118" y="543822"/>
                  </a:lnTo>
                  <a:lnTo>
                    <a:pt x="77120" y="587740"/>
                  </a:lnTo>
                  <a:lnTo>
                    <a:pt x="59340" y="632602"/>
                  </a:lnTo>
                  <a:lnTo>
                    <a:pt x="43813" y="678325"/>
                  </a:lnTo>
                  <a:lnTo>
                    <a:pt x="30576" y="724823"/>
                  </a:lnTo>
                  <a:lnTo>
                    <a:pt x="19665" y="772011"/>
                  </a:lnTo>
                  <a:lnTo>
                    <a:pt x="11115" y="819803"/>
                  </a:lnTo>
                  <a:lnTo>
                    <a:pt x="4964" y="868116"/>
                  </a:lnTo>
                  <a:lnTo>
                    <a:pt x="1247" y="916864"/>
                  </a:lnTo>
                  <a:lnTo>
                    <a:pt x="0" y="965962"/>
                  </a:lnTo>
                  <a:lnTo>
                    <a:pt x="1182" y="1014165"/>
                  </a:lnTo>
                  <a:lnTo>
                    <a:pt x="4692" y="1061758"/>
                  </a:lnTo>
                  <a:lnTo>
                    <a:pt x="10475" y="1108685"/>
                  </a:lnTo>
                  <a:lnTo>
                    <a:pt x="18475" y="1154890"/>
                  </a:lnTo>
                  <a:lnTo>
                    <a:pt x="28636" y="1200317"/>
                  </a:lnTo>
                  <a:lnTo>
                    <a:pt x="40904" y="1244913"/>
                  </a:lnTo>
                  <a:lnTo>
                    <a:pt x="55223" y="1288620"/>
                  </a:lnTo>
                  <a:lnTo>
                    <a:pt x="71538" y="1331384"/>
                  </a:lnTo>
                  <a:lnTo>
                    <a:pt x="89792" y="1373149"/>
                  </a:lnTo>
                  <a:lnTo>
                    <a:pt x="109932" y="1413861"/>
                  </a:lnTo>
                  <a:lnTo>
                    <a:pt x="131901" y="1453463"/>
                  </a:lnTo>
                  <a:lnTo>
                    <a:pt x="155644" y="1491900"/>
                  </a:lnTo>
                  <a:lnTo>
                    <a:pt x="181105" y="1529117"/>
                  </a:lnTo>
                  <a:lnTo>
                    <a:pt x="208230" y="1565058"/>
                  </a:lnTo>
                  <a:lnTo>
                    <a:pt x="236963" y="1599669"/>
                  </a:lnTo>
                  <a:lnTo>
                    <a:pt x="267248" y="1632893"/>
                  </a:lnTo>
                  <a:lnTo>
                    <a:pt x="299030" y="1664675"/>
                  </a:lnTo>
                  <a:lnTo>
                    <a:pt x="332254" y="1694960"/>
                  </a:lnTo>
                  <a:lnTo>
                    <a:pt x="366865" y="1723693"/>
                  </a:lnTo>
                  <a:lnTo>
                    <a:pt x="402806" y="1750818"/>
                  </a:lnTo>
                  <a:lnTo>
                    <a:pt x="440023" y="1776279"/>
                  </a:lnTo>
                  <a:lnTo>
                    <a:pt x="478460" y="1800022"/>
                  </a:lnTo>
                  <a:lnTo>
                    <a:pt x="518062" y="1821991"/>
                  </a:lnTo>
                  <a:lnTo>
                    <a:pt x="558774" y="1842131"/>
                  </a:lnTo>
                  <a:lnTo>
                    <a:pt x="600539" y="1860385"/>
                  </a:lnTo>
                  <a:lnTo>
                    <a:pt x="643303" y="1876700"/>
                  </a:lnTo>
                  <a:lnTo>
                    <a:pt x="687010" y="1891019"/>
                  </a:lnTo>
                  <a:lnTo>
                    <a:pt x="731606" y="1903287"/>
                  </a:lnTo>
                  <a:lnTo>
                    <a:pt x="777033" y="1913448"/>
                  </a:lnTo>
                  <a:lnTo>
                    <a:pt x="823238" y="1921448"/>
                  </a:lnTo>
                  <a:lnTo>
                    <a:pt x="870165" y="1927231"/>
                  </a:lnTo>
                  <a:lnTo>
                    <a:pt x="917758" y="1930741"/>
                  </a:lnTo>
                  <a:lnTo>
                    <a:pt x="965961" y="1931924"/>
                  </a:lnTo>
                  <a:lnTo>
                    <a:pt x="1014176" y="1930741"/>
                  </a:lnTo>
                  <a:lnTo>
                    <a:pt x="1061779" y="1927231"/>
                  </a:lnTo>
                  <a:lnTo>
                    <a:pt x="1108714" y="1921448"/>
                  </a:lnTo>
                  <a:lnTo>
                    <a:pt x="1154925" y="1913448"/>
                  </a:lnTo>
                  <a:lnTo>
                    <a:pt x="1200359" y="1903287"/>
                  </a:lnTo>
                  <a:lnTo>
                    <a:pt x="1244959" y="1891019"/>
                  </a:lnTo>
                  <a:lnTo>
                    <a:pt x="1288670" y="1876700"/>
                  </a:lnTo>
                  <a:lnTo>
                    <a:pt x="1331437" y="1860385"/>
                  </a:lnTo>
                  <a:lnTo>
                    <a:pt x="1373204" y="1842131"/>
                  </a:lnTo>
                  <a:lnTo>
                    <a:pt x="1413917" y="1821991"/>
                  </a:lnTo>
                  <a:lnTo>
                    <a:pt x="1453519" y="1800022"/>
                  </a:lnTo>
                  <a:lnTo>
                    <a:pt x="1491956" y="1776279"/>
                  </a:lnTo>
                  <a:lnTo>
                    <a:pt x="1529172" y="1750818"/>
                  </a:lnTo>
                  <a:lnTo>
                    <a:pt x="1565112" y="1723693"/>
                  </a:lnTo>
                  <a:lnTo>
                    <a:pt x="1599720" y="1694960"/>
                  </a:lnTo>
                  <a:lnTo>
                    <a:pt x="1632942" y="1664675"/>
                  </a:lnTo>
                  <a:lnTo>
                    <a:pt x="1664721" y="1632893"/>
                  </a:lnTo>
                  <a:lnTo>
                    <a:pt x="1695003" y="1599669"/>
                  </a:lnTo>
                  <a:lnTo>
                    <a:pt x="1723732" y="1565058"/>
                  </a:lnTo>
                  <a:lnTo>
                    <a:pt x="1750854" y="1529117"/>
                  </a:lnTo>
                  <a:lnTo>
                    <a:pt x="1776311" y="1491900"/>
                  </a:lnTo>
                  <a:lnTo>
                    <a:pt x="1800050" y="1453463"/>
                  </a:lnTo>
                  <a:lnTo>
                    <a:pt x="1822016" y="1413861"/>
                  </a:lnTo>
                  <a:lnTo>
                    <a:pt x="1842151" y="1373149"/>
                  </a:lnTo>
                  <a:lnTo>
                    <a:pt x="1860402" y="1331384"/>
                  </a:lnTo>
                  <a:lnTo>
                    <a:pt x="1876713" y="1288620"/>
                  </a:lnTo>
                  <a:lnTo>
                    <a:pt x="1891029" y="1244913"/>
                  </a:lnTo>
                  <a:lnTo>
                    <a:pt x="1903294" y="1200317"/>
                  </a:lnTo>
                  <a:lnTo>
                    <a:pt x="1913453" y="1154890"/>
                  </a:lnTo>
                  <a:lnTo>
                    <a:pt x="1921451" y="1108685"/>
                  </a:lnTo>
                  <a:lnTo>
                    <a:pt x="1927232" y="1061758"/>
                  </a:lnTo>
                  <a:lnTo>
                    <a:pt x="1930741" y="1014165"/>
                  </a:lnTo>
                  <a:lnTo>
                    <a:pt x="1931924" y="965962"/>
                  </a:lnTo>
                  <a:lnTo>
                    <a:pt x="1930741" y="917747"/>
                  </a:lnTo>
                  <a:lnTo>
                    <a:pt x="1927232" y="870144"/>
                  </a:lnTo>
                  <a:lnTo>
                    <a:pt x="1921451" y="823209"/>
                  </a:lnTo>
                  <a:lnTo>
                    <a:pt x="1913453" y="776998"/>
                  </a:lnTo>
                  <a:lnTo>
                    <a:pt x="1903294" y="731564"/>
                  </a:lnTo>
                  <a:lnTo>
                    <a:pt x="1891029" y="686964"/>
                  </a:lnTo>
                  <a:lnTo>
                    <a:pt x="1876713" y="643253"/>
                  </a:lnTo>
                  <a:lnTo>
                    <a:pt x="1860402" y="600486"/>
                  </a:lnTo>
                  <a:lnTo>
                    <a:pt x="1842151" y="558719"/>
                  </a:lnTo>
                  <a:lnTo>
                    <a:pt x="1822016" y="518006"/>
                  </a:lnTo>
                  <a:lnTo>
                    <a:pt x="1800050" y="478404"/>
                  </a:lnTo>
                  <a:lnTo>
                    <a:pt x="1776311" y="439967"/>
                  </a:lnTo>
                  <a:lnTo>
                    <a:pt x="1750854" y="402751"/>
                  </a:lnTo>
                  <a:lnTo>
                    <a:pt x="1723732" y="366811"/>
                  </a:lnTo>
                  <a:lnTo>
                    <a:pt x="1695003" y="332203"/>
                  </a:lnTo>
                  <a:lnTo>
                    <a:pt x="1664721" y="298981"/>
                  </a:lnTo>
                  <a:lnTo>
                    <a:pt x="1632942" y="267202"/>
                  </a:lnTo>
                  <a:lnTo>
                    <a:pt x="1599720" y="236920"/>
                  </a:lnTo>
                  <a:lnTo>
                    <a:pt x="1565112" y="208191"/>
                  </a:lnTo>
                  <a:lnTo>
                    <a:pt x="1529172" y="181069"/>
                  </a:lnTo>
                  <a:lnTo>
                    <a:pt x="1491956" y="155612"/>
                  </a:lnTo>
                  <a:lnTo>
                    <a:pt x="1453519" y="131873"/>
                  </a:lnTo>
                  <a:lnTo>
                    <a:pt x="1413917" y="109907"/>
                  </a:lnTo>
                  <a:lnTo>
                    <a:pt x="1373204" y="89772"/>
                  </a:lnTo>
                  <a:lnTo>
                    <a:pt x="1331437" y="71521"/>
                  </a:lnTo>
                  <a:lnTo>
                    <a:pt x="1288670" y="55210"/>
                  </a:lnTo>
                  <a:lnTo>
                    <a:pt x="1244959" y="40894"/>
                  </a:lnTo>
                  <a:lnTo>
                    <a:pt x="1200359" y="28629"/>
                  </a:lnTo>
                  <a:lnTo>
                    <a:pt x="1154925" y="18470"/>
                  </a:lnTo>
                  <a:lnTo>
                    <a:pt x="1108714" y="10472"/>
                  </a:lnTo>
                  <a:lnTo>
                    <a:pt x="1061779" y="4691"/>
                  </a:lnTo>
                  <a:lnTo>
                    <a:pt x="1014176" y="1182"/>
                  </a:lnTo>
                  <a:lnTo>
                    <a:pt x="96596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bject 51"/>
            <p:cNvSpPr/>
            <p:nvPr/>
          </p:nvSpPr>
          <p:spPr>
            <a:xfrm>
              <a:off x="6458400" y="1350360"/>
              <a:ext cx="669600" cy="61812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69925" h="618489">
                  <a:moveTo>
                    <a:pt x="669797" y="0"/>
                  </a:moveTo>
                  <a:lnTo>
                    <a:pt x="619981" y="1284"/>
                  </a:lnTo>
                  <a:lnTo>
                    <a:pt x="570515" y="5113"/>
                  </a:lnTo>
                  <a:lnTo>
                    <a:pt x="521488" y="11450"/>
                  </a:lnTo>
                  <a:lnTo>
                    <a:pt x="472990" y="20259"/>
                  </a:lnTo>
                  <a:lnTo>
                    <a:pt x="425111" y="31505"/>
                  </a:lnTo>
                  <a:lnTo>
                    <a:pt x="377939" y="45151"/>
                  </a:lnTo>
                  <a:lnTo>
                    <a:pt x="331565" y="61160"/>
                  </a:lnTo>
                  <a:lnTo>
                    <a:pt x="286077" y="79497"/>
                  </a:lnTo>
                  <a:lnTo>
                    <a:pt x="241566" y="100126"/>
                  </a:lnTo>
                  <a:lnTo>
                    <a:pt x="198119" y="123011"/>
                  </a:lnTo>
                  <a:lnTo>
                    <a:pt x="155828" y="148115"/>
                  </a:lnTo>
                  <a:lnTo>
                    <a:pt x="114781" y="175402"/>
                  </a:lnTo>
                  <a:lnTo>
                    <a:pt x="75068" y="204836"/>
                  </a:lnTo>
                  <a:lnTo>
                    <a:pt x="36777" y="236381"/>
                  </a:lnTo>
                  <a:lnTo>
                    <a:pt x="0" y="270001"/>
                  </a:lnTo>
                  <a:lnTo>
                    <a:pt x="334898" y="617982"/>
                  </a:lnTo>
                  <a:lnTo>
                    <a:pt x="375250" y="583231"/>
                  </a:lnTo>
                  <a:lnTo>
                    <a:pt x="418832" y="553340"/>
                  </a:lnTo>
                  <a:lnTo>
                    <a:pt x="465204" y="528484"/>
                  </a:lnTo>
                  <a:lnTo>
                    <a:pt x="513926" y="508843"/>
                  </a:lnTo>
                  <a:lnTo>
                    <a:pt x="564559" y="494593"/>
                  </a:lnTo>
                  <a:lnTo>
                    <a:pt x="616663" y="485913"/>
                  </a:lnTo>
                  <a:lnTo>
                    <a:pt x="669797" y="482981"/>
                  </a:lnTo>
                  <a:lnTo>
                    <a:pt x="66979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5" name="object 52"/>
          <p:cNvSpPr/>
          <p:nvPr/>
        </p:nvSpPr>
        <p:spPr>
          <a:xfrm>
            <a:off x="7150680" y="2791080"/>
            <a:ext cx="599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ВЗ-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;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bject 53"/>
          <p:cNvSpPr/>
          <p:nvPr/>
        </p:nvSpPr>
        <p:spPr>
          <a:xfrm>
            <a:off x="6502680" y="1548360"/>
            <a:ext cx="60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ВХ-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Э;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object 54" descr=""/>
          <p:cNvPicPr/>
          <p:nvPr/>
        </p:nvPicPr>
        <p:blipFill>
          <a:blip r:embed="rId1"/>
          <a:stretch/>
        </p:blipFill>
        <p:spPr>
          <a:xfrm>
            <a:off x="7707600" y="1198800"/>
            <a:ext cx="1151640" cy="822600"/>
          </a:xfrm>
          <a:prstGeom prst="rect">
            <a:avLst/>
          </a:prstGeom>
          <a:ln w="0">
            <a:noFill/>
          </a:ln>
        </p:spPr>
      </p:pic>
      <p:sp>
        <p:nvSpPr>
          <p:cNvPr id="1078" name="object 55"/>
          <p:cNvSpPr/>
          <p:nvPr/>
        </p:nvSpPr>
        <p:spPr>
          <a:xfrm>
            <a:off x="7707600" y="1198800"/>
            <a:ext cx="1152000" cy="70632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t">
            <a:spAutoFit/>
          </a:bodyPr>
          <a:p>
            <a:pPr marL="92160">
              <a:lnSpc>
                <a:spcPct val="100000"/>
              </a:lnSpc>
              <a:spcBef>
                <a:spcPts val="286"/>
              </a:spcBef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52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потреблении: ПВХ-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1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1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1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"/>
              </a:spcBef>
            </a:pPr>
            <a:r>
              <a:rPr b="0" lang="en-US" sz="1100" spc="-12" strike="noStrike">
                <a:solidFill>
                  <a:srgbClr val="ff0000"/>
                </a:solidFill>
                <a:latin typeface="Calibri"/>
              </a:rPr>
              <a:t>ПВХ-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Э</a:t>
            </a:r>
            <a:r>
              <a:rPr b="0" lang="en-US" sz="11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0" lang="en-US" sz="1100" spc="24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100" spc="-26" strike="noStrike">
                <a:solidFill>
                  <a:srgbClr val="ff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bject 56"/>
          <p:cNvSpPr/>
          <p:nvPr/>
        </p:nvSpPr>
        <p:spPr>
          <a:xfrm>
            <a:off x="5655600" y="772920"/>
            <a:ext cx="32418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bject 57"/>
          <p:cNvSpPr/>
          <p:nvPr/>
        </p:nvSpPr>
        <p:spPr>
          <a:xfrm>
            <a:off x="6643800" y="2151360"/>
            <a:ext cx="9748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45</a:t>
            </a:r>
            <a:r>
              <a:rPr b="1" lang="en-US" sz="18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8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object 58"/>
          <p:cNvGrpSpPr/>
          <p:nvPr/>
        </p:nvGrpSpPr>
        <p:grpSpPr>
          <a:xfrm>
            <a:off x="6082200" y="3929040"/>
            <a:ext cx="2216880" cy="2204280"/>
            <a:chOff x="6082200" y="3929040"/>
            <a:chExt cx="2216880" cy="2204280"/>
          </a:xfrm>
        </p:grpSpPr>
        <p:sp>
          <p:nvSpPr>
            <p:cNvPr id="1082" name="object 59"/>
            <p:cNvSpPr/>
            <p:nvPr/>
          </p:nvSpPr>
          <p:spPr>
            <a:xfrm>
              <a:off x="7266240" y="4067640"/>
              <a:ext cx="1032840" cy="120060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0 h 1200600"/>
                <a:gd name="textAreaBottom" fmla="*/ 1200960 h 1200600"/>
              </a:gdLst>
              <a:ahLst/>
              <a:rect l="textAreaLeft" t="textAreaTop" r="textAreaRight" b="textAreaBottom"/>
              <a:pathLst>
                <a:path w="1033145" h="1200785">
                  <a:moveTo>
                    <a:pt x="0" y="0"/>
                  </a:moveTo>
                  <a:lnTo>
                    <a:pt x="0" y="1032637"/>
                  </a:lnTo>
                  <a:lnTo>
                    <a:pt x="1018921" y="1200658"/>
                  </a:lnTo>
                  <a:lnTo>
                    <a:pt x="1024921" y="1158902"/>
                  </a:lnTo>
                  <a:lnTo>
                    <a:pt x="1029208" y="1116933"/>
                  </a:lnTo>
                  <a:lnTo>
                    <a:pt x="1031779" y="1074820"/>
                  </a:lnTo>
                  <a:lnTo>
                    <a:pt x="1032637" y="1032637"/>
                  </a:lnTo>
                  <a:lnTo>
                    <a:pt x="1031513" y="984032"/>
                  </a:lnTo>
                  <a:lnTo>
                    <a:pt x="1028174" y="936005"/>
                  </a:lnTo>
                  <a:lnTo>
                    <a:pt x="1022671" y="888606"/>
                  </a:lnTo>
                  <a:lnTo>
                    <a:pt x="1015051" y="841883"/>
                  </a:lnTo>
                  <a:lnTo>
                    <a:pt x="1005366" y="795887"/>
                  </a:lnTo>
                  <a:lnTo>
                    <a:pt x="993665" y="750668"/>
                  </a:lnTo>
                  <a:lnTo>
                    <a:pt x="979997" y="706274"/>
                  </a:lnTo>
                  <a:lnTo>
                    <a:pt x="964411" y="662756"/>
                  </a:lnTo>
                  <a:lnTo>
                    <a:pt x="946958" y="620162"/>
                  </a:lnTo>
                  <a:lnTo>
                    <a:pt x="927686" y="578544"/>
                  </a:lnTo>
                  <a:lnTo>
                    <a:pt x="906646" y="537949"/>
                  </a:lnTo>
                  <a:lnTo>
                    <a:pt x="883888" y="498429"/>
                  </a:lnTo>
                  <a:lnTo>
                    <a:pt x="859459" y="460032"/>
                  </a:lnTo>
                  <a:lnTo>
                    <a:pt x="833411" y="422809"/>
                  </a:lnTo>
                  <a:lnTo>
                    <a:pt x="805793" y="386808"/>
                  </a:lnTo>
                  <a:lnTo>
                    <a:pt x="776654" y="352080"/>
                  </a:lnTo>
                  <a:lnTo>
                    <a:pt x="746043" y="318674"/>
                  </a:lnTo>
                  <a:lnTo>
                    <a:pt x="714011" y="286639"/>
                  </a:lnTo>
                  <a:lnTo>
                    <a:pt x="680607" y="256026"/>
                  </a:lnTo>
                  <a:lnTo>
                    <a:pt x="645881" y="226883"/>
                  </a:lnTo>
                  <a:lnTo>
                    <a:pt x="609882" y="199261"/>
                  </a:lnTo>
                  <a:lnTo>
                    <a:pt x="572659" y="173210"/>
                  </a:lnTo>
                  <a:lnTo>
                    <a:pt x="534263" y="148778"/>
                  </a:lnTo>
                  <a:lnTo>
                    <a:pt x="494743" y="126015"/>
                  </a:lnTo>
                  <a:lnTo>
                    <a:pt x="454148" y="104972"/>
                  </a:lnTo>
                  <a:lnTo>
                    <a:pt x="412528" y="85697"/>
                  </a:lnTo>
                  <a:lnTo>
                    <a:pt x="369932" y="68240"/>
                  </a:lnTo>
                  <a:lnTo>
                    <a:pt x="326411" y="52652"/>
                  </a:lnTo>
                  <a:lnTo>
                    <a:pt x="282013" y="38980"/>
                  </a:lnTo>
                  <a:lnTo>
                    <a:pt x="236789" y="27276"/>
                  </a:lnTo>
                  <a:lnTo>
                    <a:pt x="190787" y="17589"/>
                  </a:lnTo>
                  <a:lnTo>
                    <a:pt x="144058" y="9968"/>
                  </a:lnTo>
                  <a:lnTo>
                    <a:pt x="96650" y="4463"/>
                  </a:lnTo>
                  <a:lnTo>
                    <a:pt x="48614" y="1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bject 60"/>
            <p:cNvSpPr/>
            <p:nvPr/>
          </p:nvSpPr>
          <p:spPr>
            <a:xfrm>
              <a:off x="7266240" y="5100480"/>
              <a:ext cx="1018800" cy="708840"/>
            </a:xfrm>
            <a:custGeom>
              <a:avLst/>
              <a:gdLst>
                <a:gd name="textAreaLeft" fmla="*/ 0 w 1018800"/>
                <a:gd name="textAreaRight" fmla="*/ 1019160 w 1018800"/>
                <a:gd name="textAreaTop" fmla="*/ 0 h 708840"/>
                <a:gd name="textAreaBottom" fmla="*/ 709200 h 708840"/>
              </a:gdLst>
              <a:ahLst/>
              <a:rect l="textAreaLeft" t="textAreaTop" r="textAreaRight" b="textAreaBottom"/>
              <a:pathLst>
                <a:path w="1019175" h="709295">
                  <a:moveTo>
                    <a:pt x="0" y="0"/>
                  </a:moveTo>
                  <a:lnTo>
                    <a:pt x="750570" y="709206"/>
                  </a:lnTo>
                  <a:lnTo>
                    <a:pt x="784903" y="671005"/>
                  </a:lnTo>
                  <a:lnTo>
                    <a:pt x="817199" y="631269"/>
                  </a:lnTo>
                  <a:lnTo>
                    <a:pt x="847417" y="590082"/>
                  </a:lnTo>
                  <a:lnTo>
                    <a:pt x="875514" y="547528"/>
                  </a:lnTo>
                  <a:lnTo>
                    <a:pt x="901449" y="503692"/>
                  </a:lnTo>
                  <a:lnTo>
                    <a:pt x="925179" y="458658"/>
                  </a:lnTo>
                  <a:lnTo>
                    <a:pt x="946662" y="412511"/>
                  </a:lnTo>
                  <a:lnTo>
                    <a:pt x="965858" y="365334"/>
                  </a:lnTo>
                  <a:lnTo>
                    <a:pt x="982724" y="317212"/>
                  </a:lnTo>
                  <a:lnTo>
                    <a:pt x="997217" y="268230"/>
                  </a:lnTo>
                  <a:lnTo>
                    <a:pt x="1009297" y="218471"/>
                  </a:lnTo>
                  <a:lnTo>
                    <a:pt x="1018921" y="168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bject 61"/>
            <p:cNvSpPr/>
            <p:nvPr/>
          </p:nvSpPr>
          <p:spPr>
            <a:xfrm>
              <a:off x="6752880" y="5100480"/>
              <a:ext cx="1263960" cy="103284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1032840"/>
                <a:gd name="textAreaBottom" fmla="*/ 1033200 h 1032840"/>
              </a:gdLst>
              <a:ahLst/>
              <a:rect l="textAreaLeft" t="textAreaTop" r="textAreaRight" b="textAreaBottom"/>
              <a:pathLst>
                <a:path w="1264284" h="1033145">
                  <a:moveTo>
                    <a:pt x="513333" y="0"/>
                  </a:moveTo>
                  <a:lnTo>
                    <a:pt x="0" y="896010"/>
                  </a:lnTo>
                  <a:lnTo>
                    <a:pt x="43191" y="919420"/>
                  </a:lnTo>
                  <a:lnTo>
                    <a:pt x="87082" y="940599"/>
                  </a:lnTo>
                  <a:lnTo>
                    <a:pt x="131599" y="959557"/>
                  </a:lnTo>
                  <a:lnTo>
                    <a:pt x="176667" y="976306"/>
                  </a:lnTo>
                  <a:lnTo>
                    <a:pt x="222210" y="990856"/>
                  </a:lnTo>
                  <a:lnTo>
                    <a:pt x="268155" y="1003219"/>
                  </a:lnTo>
                  <a:lnTo>
                    <a:pt x="314426" y="1013406"/>
                  </a:lnTo>
                  <a:lnTo>
                    <a:pt x="360950" y="1021427"/>
                  </a:lnTo>
                  <a:lnTo>
                    <a:pt x="407650" y="1027294"/>
                  </a:lnTo>
                  <a:lnTo>
                    <a:pt x="454454" y="1031017"/>
                  </a:lnTo>
                  <a:lnTo>
                    <a:pt x="501285" y="1032608"/>
                  </a:lnTo>
                  <a:lnTo>
                    <a:pt x="548069" y="1032078"/>
                  </a:lnTo>
                  <a:lnTo>
                    <a:pt x="594733" y="1029438"/>
                  </a:lnTo>
                  <a:lnTo>
                    <a:pt x="641200" y="1024698"/>
                  </a:lnTo>
                  <a:lnTo>
                    <a:pt x="687396" y="1017870"/>
                  </a:lnTo>
                  <a:lnTo>
                    <a:pt x="733247" y="1008966"/>
                  </a:lnTo>
                  <a:lnTo>
                    <a:pt x="778678" y="997995"/>
                  </a:lnTo>
                  <a:lnTo>
                    <a:pt x="823614" y="984969"/>
                  </a:lnTo>
                  <a:lnTo>
                    <a:pt x="867981" y="969899"/>
                  </a:lnTo>
                  <a:lnTo>
                    <a:pt x="911704" y="952796"/>
                  </a:lnTo>
                  <a:lnTo>
                    <a:pt x="954708" y="933671"/>
                  </a:lnTo>
                  <a:lnTo>
                    <a:pt x="996918" y="912535"/>
                  </a:lnTo>
                  <a:lnTo>
                    <a:pt x="1038261" y="889400"/>
                  </a:lnTo>
                  <a:lnTo>
                    <a:pt x="1078660" y="864275"/>
                  </a:lnTo>
                  <a:lnTo>
                    <a:pt x="1118043" y="837173"/>
                  </a:lnTo>
                  <a:lnTo>
                    <a:pt x="1156333" y="808104"/>
                  </a:lnTo>
                  <a:lnTo>
                    <a:pt x="1193456" y="777079"/>
                  </a:lnTo>
                  <a:lnTo>
                    <a:pt x="1229338" y="744109"/>
                  </a:lnTo>
                  <a:lnTo>
                    <a:pt x="1263903" y="709206"/>
                  </a:lnTo>
                  <a:lnTo>
                    <a:pt x="51333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object 62"/>
            <p:cNvSpPr/>
            <p:nvPr/>
          </p:nvSpPr>
          <p:spPr>
            <a:xfrm>
              <a:off x="6234480" y="5100480"/>
              <a:ext cx="1031400" cy="89640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031875" h="896620">
                  <a:moveTo>
                    <a:pt x="1031875" y="0"/>
                  </a:moveTo>
                  <a:lnTo>
                    <a:pt x="0" y="37845"/>
                  </a:lnTo>
                  <a:lnTo>
                    <a:pt x="2911" y="86248"/>
                  </a:lnTo>
                  <a:lnTo>
                    <a:pt x="8052" y="134187"/>
                  </a:lnTo>
                  <a:lnTo>
                    <a:pt x="15383" y="181599"/>
                  </a:lnTo>
                  <a:lnTo>
                    <a:pt x="24865" y="228419"/>
                  </a:lnTo>
                  <a:lnTo>
                    <a:pt x="36458" y="274581"/>
                  </a:lnTo>
                  <a:lnTo>
                    <a:pt x="50124" y="320022"/>
                  </a:lnTo>
                  <a:lnTo>
                    <a:pt x="65823" y="364675"/>
                  </a:lnTo>
                  <a:lnTo>
                    <a:pt x="83515" y="408477"/>
                  </a:lnTo>
                  <a:lnTo>
                    <a:pt x="103162" y="451363"/>
                  </a:lnTo>
                  <a:lnTo>
                    <a:pt x="124723" y="493268"/>
                  </a:lnTo>
                  <a:lnTo>
                    <a:pt x="148161" y="534127"/>
                  </a:lnTo>
                  <a:lnTo>
                    <a:pt x="173435" y="573875"/>
                  </a:lnTo>
                  <a:lnTo>
                    <a:pt x="200506" y="612447"/>
                  </a:lnTo>
                  <a:lnTo>
                    <a:pt x="229335" y="649779"/>
                  </a:lnTo>
                  <a:lnTo>
                    <a:pt x="259883" y="685806"/>
                  </a:lnTo>
                  <a:lnTo>
                    <a:pt x="292111" y="720463"/>
                  </a:lnTo>
                  <a:lnTo>
                    <a:pt x="325978" y="753686"/>
                  </a:lnTo>
                  <a:lnTo>
                    <a:pt x="361446" y="785409"/>
                  </a:lnTo>
                  <a:lnTo>
                    <a:pt x="398476" y="815567"/>
                  </a:lnTo>
                  <a:lnTo>
                    <a:pt x="437027" y="844097"/>
                  </a:lnTo>
                  <a:lnTo>
                    <a:pt x="477062" y="870933"/>
                  </a:lnTo>
                  <a:lnTo>
                    <a:pt x="518541" y="896010"/>
                  </a:lnTo>
                  <a:lnTo>
                    <a:pt x="1031875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bject 63"/>
            <p:cNvSpPr/>
            <p:nvPr/>
          </p:nvSpPr>
          <p:spPr>
            <a:xfrm>
              <a:off x="6233760" y="4932360"/>
              <a:ext cx="1032120" cy="205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032509" h="206375">
                  <a:moveTo>
                    <a:pt x="13698" y="0"/>
                  </a:moveTo>
                  <a:lnTo>
                    <a:pt x="6528" y="51204"/>
                  </a:lnTo>
                  <a:lnTo>
                    <a:pt x="1966" y="102647"/>
                  </a:lnTo>
                  <a:lnTo>
                    <a:pt x="0" y="154233"/>
                  </a:lnTo>
                  <a:lnTo>
                    <a:pt x="617" y="205867"/>
                  </a:lnTo>
                  <a:lnTo>
                    <a:pt x="1032492" y="168020"/>
                  </a:lnTo>
                  <a:lnTo>
                    <a:pt x="1369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bject 64"/>
            <p:cNvSpPr/>
            <p:nvPr/>
          </p:nvSpPr>
          <p:spPr>
            <a:xfrm>
              <a:off x="6247440" y="4632480"/>
              <a:ext cx="1018800" cy="467640"/>
            </a:xfrm>
            <a:custGeom>
              <a:avLst/>
              <a:gdLst>
                <a:gd name="textAreaLeft" fmla="*/ 0 w 1018800"/>
                <a:gd name="textAreaRight" fmla="*/ 1019160 w 101880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1019175" h="467995">
                  <a:moveTo>
                    <a:pt x="98298" y="0"/>
                  </a:moveTo>
                  <a:lnTo>
                    <a:pt x="75538" y="47725"/>
                  </a:lnTo>
                  <a:lnTo>
                    <a:pt x="55287" y="96477"/>
                  </a:lnTo>
                  <a:lnTo>
                    <a:pt x="37576" y="146161"/>
                  </a:lnTo>
                  <a:lnTo>
                    <a:pt x="22436" y="196680"/>
                  </a:lnTo>
                  <a:lnTo>
                    <a:pt x="9900" y="247941"/>
                  </a:lnTo>
                  <a:lnTo>
                    <a:pt x="0" y="299847"/>
                  </a:lnTo>
                  <a:lnTo>
                    <a:pt x="1018793" y="467868"/>
                  </a:lnTo>
                  <a:lnTo>
                    <a:pt x="98298" y="0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bject 65"/>
            <p:cNvSpPr/>
            <p:nvPr/>
          </p:nvSpPr>
          <p:spPr>
            <a:xfrm>
              <a:off x="6345720" y="4469760"/>
              <a:ext cx="920520" cy="63072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920750" h="631189">
                  <a:moveTo>
                    <a:pt x="102869" y="0"/>
                  </a:moveTo>
                  <a:lnTo>
                    <a:pt x="74330" y="38869"/>
                  </a:lnTo>
                  <a:lnTo>
                    <a:pt x="47625" y="79025"/>
                  </a:lnTo>
                  <a:lnTo>
                    <a:pt x="22824" y="120372"/>
                  </a:lnTo>
                  <a:lnTo>
                    <a:pt x="0" y="162813"/>
                  </a:lnTo>
                  <a:lnTo>
                    <a:pt x="920495" y="630682"/>
                  </a:lnTo>
                  <a:lnTo>
                    <a:pt x="10286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bject 66"/>
            <p:cNvSpPr/>
            <p:nvPr/>
          </p:nvSpPr>
          <p:spPr>
            <a:xfrm>
              <a:off x="6448680" y="4114080"/>
              <a:ext cx="817560" cy="98640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986400"/>
                <a:gd name="textAreaBottom" fmla="*/ 986760 h 986400"/>
              </a:gdLst>
              <a:ahLst/>
              <a:rect l="textAreaLeft" t="textAreaTop" r="textAreaRight" b="textAreaBottom"/>
              <a:pathLst>
                <a:path w="817879" h="986789">
                  <a:moveTo>
                    <a:pt x="512318" y="0"/>
                  </a:moveTo>
                  <a:lnTo>
                    <a:pt x="465840" y="15615"/>
                  </a:lnTo>
                  <a:lnTo>
                    <a:pt x="420295" y="33358"/>
                  </a:lnTo>
                  <a:lnTo>
                    <a:pt x="375750" y="53182"/>
                  </a:lnTo>
                  <a:lnTo>
                    <a:pt x="332271" y="75040"/>
                  </a:lnTo>
                  <a:lnTo>
                    <a:pt x="289925" y="98888"/>
                  </a:lnTo>
                  <a:lnTo>
                    <a:pt x="248780" y="124678"/>
                  </a:lnTo>
                  <a:lnTo>
                    <a:pt x="208903" y="152364"/>
                  </a:lnTo>
                  <a:lnTo>
                    <a:pt x="170359" y="181901"/>
                  </a:lnTo>
                  <a:lnTo>
                    <a:pt x="133217" y="213242"/>
                  </a:lnTo>
                  <a:lnTo>
                    <a:pt x="97543" y="246341"/>
                  </a:lnTo>
                  <a:lnTo>
                    <a:pt x="63404" y="281153"/>
                  </a:lnTo>
                  <a:lnTo>
                    <a:pt x="30867" y="317630"/>
                  </a:lnTo>
                  <a:lnTo>
                    <a:pt x="0" y="355726"/>
                  </a:lnTo>
                  <a:lnTo>
                    <a:pt x="817626" y="986408"/>
                  </a:lnTo>
                  <a:lnTo>
                    <a:pt x="512318" y="0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bject 67"/>
            <p:cNvSpPr/>
            <p:nvPr/>
          </p:nvSpPr>
          <p:spPr>
            <a:xfrm>
              <a:off x="6960960" y="4067640"/>
              <a:ext cx="304920" cy="103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032840"/>
                <a:gd name="textAreaBottom" fmla="*/ 1033200 h 1032840"/>
              </a:gdLst>
              <a:ahLst/>
              <a:rect l="textAreaLeft" t="textAreaTop" r="textAreaRight" b="textAreaBottom"/>
              <a:pathLst>
                <a:path w="305434" h="1033145">
                  <a:moveTo>
                    <a:pt x="305307" y="0"/>
                  </a:moveTo>
                  <a:lnTo>
                    <a:pt x="253623" y="1298"/>
                  </a:lnTo>
                  <a:lnTo>
                    <a:pt x="202136" y="5183"/>
                  </a:lnTo>
                  <a:lnTo>
                    <a:pt x="150939" y="11636"/>
                  </a:lnTo>
                  <a:lnTo>
                    <a:pt x="100123" y="20639"/>
                  </a:lnTo>
                  <a:lnTo>
                    <a:pt x="49779" y="32176"/>
                  </a:lnTo>
                  <a:lnTo>
                    <a:pt x="0" y="46228"/>
                  </a:lnTo>
                  <a:lnTo>
                    <a:pt x="305307" y="1032637"/>
                  </a:lnTo>
                  <a:lnTo>
                    <a:pt x="305307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bject 68"/>
            <p:cNvSpPr/>
            <p:nvPr/>
          </p:nvSpPr>
          <p:spPr>
            <a:xfrm>
              <a:off x="6082200" y="3929040"/>
              <a:ext cx="1790280" cy="11095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1790700" h="1109979">
                  <a:moveTo>
                    <a:pt x="153924" y="1106423"/>
                  </a:moveTo>
                  <a:lnTo>
                    <a:pt x="86867" y="1109471"/>
                  </a:lnTo>
                  <a:lnTo>
                    <a:pt x="28955" y="1109471"/>
                  </a:lnTo>
                </a:path>
                <a:path w="1790700" h="1109979">
                  <a:moveTo>
                    <a:pt x="310895" y="620267"/>
                  </a:moveTo>
                  <a:lnTo>
                    <a:pt x="234695" y="569976"/>
                  </a:lnTo>
                  <a:lnTo>
                    <a:pt x="178307" y="569976"/>
                  </a:lnTo>
                </a:path>
                <a:path w="1790700" h="1109979">
                  <a:moveTo>
                    <a:pt x="594360" y="323088"/>
                  </a:moveTo>
                  <a:lnTo>
                    <a:pt x="56387" y="155447"/>
                  </a:lnTo>
                  <a:lnTo>
                    <a:pt x="0" y="155447"/>
                  </a:lnTo>
                </a:path>
                <a:path w="1790700" h="1109979">
                  <a:moveTo>
                    <a:pt x="1030223" y="150875"/>
                  </a:moveTo>
                  <a:lnTo>
                    <a:pt x="1732788" y="0"/>
                  </a:lnTo>
                  <a:lnTo>
                    <a:pt x="1790699" y="0"/>
                  </a:lnTo>
                </a:path>
              </a:pathLst>
            </a:custGeom>
            <a:noFill/>
            <a:ln w="9144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object 69"/>
          <p:cNvSpPr/>
          <p:nvPr/>
        </p:nvSpPr>
        <p:spPr>
          <a:xfrm>
            <a:off x="7487280" y="4447800"/>
            <a:ext cx="5392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конный профиль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bject 70"/>
          <p:cNvSpPr/>
          <p:nvPr/>
        </p:nvSpPr>
        <p:spPr>
          <a:xfrm>
            <a:off x="7771320" y="5295600"/>
            <a:ext cx="4194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bject 71"/>
          <p:cNvSpPr/>
          <p:nvPr/>
        </p:nvSpPr>
        <p:spPr>
          <a:xfrm>
            <a:off x="7238160" y="5734080"/>
            <a:ext cx="2656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ПП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4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bject 72"/>
          <p:cNvSpPr/>
          <p:nvPr/>
        </p:nvSpPr>
        <p:spPr>
          <a:xfrm>
            <a:off x="6351840" y="5162040"/>
            <a:ext cx="644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абель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bject 73"/>
          <p:cNvSpPr/>
          <p:nvPr/>
        </p:nvSpPr>
        <p:spPr>
          <a:xfrm>
            <a:off x="6344280" y="5317200"/>
            <a:ext cx="65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астик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bject 74"/>
          <p:cNvSpPr/>
          <p:nvPr/>
        </p:nvSpPr>
        <p:spPr>
          <a:xfrm>
            <a:off x="5685120" y="5216040"/>
            <a:ext cx="181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bject 75"/>
          <p:cNvSpPr/>
          <p:nvPr/>
        </p:nvSpPr>
        <p:spPr>
          <a:xfrm>
            <a:off x="5447520" y="3790440"/>
            <a:ext cx="93168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230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Напольные покрытия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ctr">
              <a:lnSpc>
                <a:spcPts val="856"/>
              </a:lnSpc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r">
              <a:lnSpc>
                <a:spcPct val="100000"/>
              </a:lnSpc>
              <a:spcBef>
                <a:spcPts val="349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r">
              <a:lnSpc>
                <a:spcPct val="100000"/>
              </a:lnSpc>
              <a:spcBef>
                <a:spcPts val="275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омпозиц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ПП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bject 76"/>
          <p:cNvSpPr/>
          <p:nvPr/>
        </p:nvSpPr>
        <p:spPr>
          <a:xfrm>
            <a:off x="7876440" y="3790440"/>
            <a:ext cx="606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кладские запа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0" name="object 77"/>
          <p:cNvGraphicFramePr/>
          <p:nvPr/>
        </p:nvGraphicFramePr>
        <p:xfrm>
          <a:off x="365760" y="3882960"/>
          <a:ext cx="5046120" cy="2231640"/>
        </p:xfrm>
        <a:graphic>
          <a:graphicData uri="http://schemas.openxmlformats.org/drawingml/2006/table">
            <a:tbl>
              <a:tblPr/>
              <a:tblGrid>
                <a:gridCol w="2266920"/>
                <a:gridCol w="925560"/>
                <a:gridCol w="925560"/>
                <a:gridCol w="92772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2014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2015/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2016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бельные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ст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4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1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+0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есткие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з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6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ПИ,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онного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9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л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1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6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Тру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оле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1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онный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кабельные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ст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1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8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13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1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1" name="object 78"/>
          <p:cNvSpPr/>
          <p:nvPr/>
        </p:nvSpPr>
        <p:spPr>
          <a:xfrm>
            <a:off x="672480" y="2964960"/>
            <a:ext cx="4241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marL="415440">
              <a:lnSpc>
                <a:spcPct val="100000"/>
              </a:lnSpc>
              <a:spcBef>
                <a:spcPts val="709"/>
              </a:spcBef>
              <a:tabLst>
                <a:tab algn="l" pos="972720"/>
                <a:tab algn="l" pos="1529640"/>
                <a:tab algn="l" pos="2087280"/>
                <a:tab algn="l" pos="2644920"/>
                <a:tab algn="l" pos="3202200"/>
                <a:tab algn="l" pos="375912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15440">
              <a:lnSpc>
                <a:spcPct val="100000"/>
              </a:lnSpc>
              <a:spcBef>
                <a:spcPts val="11"/>
              </a:spcBef>
              <a:tabLst>
                <a:tab algn="l" pos="972720"/>
                <a:tab algn="l" pos="1529640"/>
                <a:tab algn="l" pos="2087280"/>
                <a:tab algn="l" pos="2644920"/>
                <a:tab algn="l" pos="3202200"/>
                <a:tab algn="l" pos="375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6600" indent="-59436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относительно предыдущего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ода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3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bject 79"/>
          <p:cNvSpPr/>
          <p:nvPr/>
        </p:nvSpPr>
        <p:spPr>
          <a:xfrm>
            <a:off x="5371560" y="3443760"/>
            <a:ext cx="37530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bject 80"/>
          <p:cNvSpPr/>
          <p:nvPr/>
        </p:nvSpPr>
        <p:spPr>
          <a:xfrm>
            <a:off x="334800" y="6262920"/>
            <a:ext cx="52581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1600" indent="-27936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200" spc="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незначительно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увеличилось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кабельных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ластикатов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стальные</a:t>
            </a:r>
            <a:r>
              <a:rPr b="1" lang="en-US" sz="12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егменты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«мину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60760" y="153360"/>
            <a:ext cx="233388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ПЭТФ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5" name="object 3"/>
          <p:cNvSpPr/>
          <p:nvPr/>
        </p:nvSpPr>
        <p:spPr>
          <a:xfrm>
            <a:off x="8427240" y="6426720"/>
            <a:ext cx="180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200" spc="-26" strike="noStrike">
                <a:solidFill>
                  <a:srgbClr val="888888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object 4"/>
          <p:cNvGrpSpPr/>
          <p:nvPr/>
        </p:nvGrpSpPr>
        <p:grpSpPr>
          <a:xfrm>
            <a:off x="946440" y="1338120"/>
            <a:ext cx="3200400" cy="1797120"/>
            <a:chOff x="946440" y="1338120"/>
            <a:chExt cx="3200400" cy="1797120"/>
          </a:xfrm>
        </p:grpSpPr>
        <p:sp>
          <p:nvSpPr>
            <p:cNvPr id="1107" name="object 5"/>
            <p:cNvSpPr/>
            <p:nvPr/>
          </p:nvSpPr>
          <p:spPr>
            <a:xfrm>
              <a:off x="986040" y="2352960"/>
              <a:ext cx="97560" cy="5076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97790" h="508000">
                  <a:moveTo>
                    <a:pt x="0" y="507492"/>
                  </a:moveTo>
                  <a:lnTo>
                    <a:pt x="97535" y="507492"/>
                  </a:lnTo>
                </a:path>
                <a:path w="97790" h="508000">
                  <a:moveTo>
                    <a:pt x="0" y="252984"/>
                  </a:moveTo>
                  <a:lnTo>
                    <a:pt x="97535" y="252984"/>
                  </a:lnTo>
                </a:path>
                <a:path w="97790" h="508000">
                  <a:moveTo>
                    <a:pt x="0" y="0"/>
                  </a:moveTo>
                  <a:lnTo>
                    <a:pt x="9753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bject 6"/>
            <p:cNvSpPr/>
            <p:nvPr/>
          </p:nvSpPr>
          <p:spPr>
            <a:xfrm>
              <a:off x="1083600" y="2327040"/>
              <a:ext cx="127800" cy="78624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128269" h="786764">
                  <a:moveTo>
                    <a:pt x="128016" y="0"/>
                  </a:moveTo>
                  <a:lnTo>
                    <a:pt x="0" y="0"/>
                  </a:lnTo>
                  <a:lnTo>
                    <a:pt x="0" y="719709"/>
                  </a:lnTo>
                  <a:lnTo>
                    <a:pt x="0" y="786384"/>
                  </a:lnTo>
                  <a:lnTo>
                    <a:pt x="128016" y="786384"/>
                  </a:lnTo>
                  <a:lnTo>
                    <a:pt x="128016" y="719709"/>
                  </a:lnTo>
                  <a:lnTo>
                    <a:pt x="1280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bject 7"/>
            <p:cNvSpPr/>
            <p:nvPr/>
          </p:nvSpPr>
          <p:spPr>
            <a:xfrm>
              <a:off x="1341000" y="2098440"/>
              <a:ext cx="322920" cy="7617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23214" h="762000">
                  <a:moveTo>
                    <a:pt x="0" y="762000"/>
                  </a:moveTo>
                  <a:lnTo>
                    <a:pt x="193548" y="762000"/>
                  </a:lnTo>
                </a:path>
                <a:path w="323214" h="762000">
                  <a:moveTo>
                    <a:pt x="0" y="507491"/>
                  </a:moveTo>
                  <a:lnTo>
                    <a:pt x="193548" y="507491"/>
                  </a:lnTo>
                </a:path>
                <a:path w="323214" h="762000">
                  <a:moveTo>
                    <a:pt x="0" y="254507"/>
                  </a:moveTo>
                  <a:lnTo>
                    <a:pt x="193548" y="254507"/>
                  </a:lnTo>
                </a:path>
                <a:path w="323214" h="762000">
                  <a:moveTo>
                    <a:pt x="0" y="0"/>
                  </a:moveTo>
                  <a:lnTo>
                    <a:pt x="3230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bject 8"/>
            <p:cNvSpPr/>
            <p:nvPr/>
          </p:nvSpPr>
          <p:spPr>
            <a:xfrm>
              <a:off x="1534680" y="2109240"/>
              <a:ext cx="129240" cy="10040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129539" h="1004569">
                  <a:moveTo>
                    <a:pt x="129539" y="0"/>
                  </a:moveTo>
                  <a:lnTo>
                    <a:pt x="0" y="0"/>
                  </a:lnTo>
                  <a:lnTo>
                    <a:pt x="0" y="1004316"/>
                  </a:lnTo>
                  <a:lnTo>
                    <a:pt x="129539" y="1004316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bject 9"/>
            <p:cNvSpPr/>
            <p:nvPr/>
          </p:nvSpPr>
          <p:spPr>
            <a:xfrm>
              <a:off x="1211400" y="3046680"/>
              <a:ext cx="129240" cy="66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29540" h="66675">
                  <a:moveTo>
                    <a:pt x="0" y="66675"/>
                  </a:moveTo>
                  <a:lnTo>
                    <a:pt x="129539" y="66675"/>
                  </a:lnTo>
                  <a:lnTo>
                    <a:pt x="129539" y="0"/>
                  </a:lnTo>
                  <a:lnTo>
                    <a:pt x="0" y="0"/>
                  </a:lnTo>
                  <a:lnTo>
                    <a:pt x="0" y="66675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object 10"/>
            <p:cNvSpPr/>
            <p:nvPr/>
          </p:nvSpPr>
          <p:spPr>
            <a:xfrm>
              <a:off x="986040" y="1845720"/>
              <a:ext cx="677880" cy="25308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678180" h="253364">
                  <a:moveTo>
                    <a:pt x="0" y="252984"/>
                  </a:moveTo>
                  <a:lnTo>
                    <a:pt x="225552" y="252984"/>
                  </a:lnTo>
                </a:path>
                <a:path w="678180" h="253364">
                  <a:moveTo>
                    <a:pt x="0" y="0"/>
                  </a:moveTo>
                  <a:lnTo>
                    <a:pt x="225552" y="0"/>
                  </a:lnTo>
                </a:path>
                <a:path w="678180" h="253364">
                  <a:moveTo>
                    <a:pt x="355091" y="0"/>
                  </a:moveTo>
                  <a:lnTo>
                    <a:pt x="67817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bject 11"/>
            <p:cNvSpPr/>
            <p:nvPr/>
          </p:nvSpPr>
          <p:spPr>
            <a:xfrm>
              <a:off x="1211400" y="1659600"/>
              <a:ext cx="129240" cy="13870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87080"/>
                <a:gd name="textAreaBottom" fmla="*/ 1387440 h 1387080"/>
              </a:gdLst>
              <a:ahLst/>
              <a:rect l="textAreaLeft" t="textAreaTop" r="textAreaRight" b="textAreaBottom"/>
              <a:pathLst>
                <a:path w="129540" h="1387475">
                  <a:moveTo>
                    <a:pt x="0" y="1387221"/>
                  </a:moveTo>
                  <a:lnTo>
                    <a:pt x="129539" y="1387221"/>
                  </a:lnTo>
                  <a:lnTo>
                    <a:pt x="129539" y="0"/>
                  </a:lnTo>
                  <a:lnTo>
                    <a:pt x="0" y="0"/>
                  </a:lnTo>
                  <a:lnTo>
                    <a:pt x="0" y="1387221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object 12"/>
            <p:cNvSpPr/>
            <p:nvPr/>
          </p:nvSpPr>
          <p:spPr>
            <a:xfrm>
              <a:off x="1792080" y="2098440"/>
              <a:ext cx="193320" cy="761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93675" h="762000">
                  <a:moveTo>
                    <a:pt x="0" y="762000"/>
                  </a:moveTo>
                  <a:lnTo>
                    <a:pt x="193548" y="762000"/>
                  </a:lnTo>
                </a:path>
                <a:path w="193675" h="762000">
                  <a:moveTo>
                    <a:pt x="0" y="507491"/>
                  </a:moveTo>
                  <a:lnTo>
                    <a:pt x="193548" y="507491"/>
                  </a:lnTo>
                </a:path>
                <a:path w="193675" h="762000">
                  <a:moveTo>
                    <a:pt x="0" y="254507"/>
                  </a:moveTo>
                  <a:lnTo>
                    <a:pt x="193548" y="254507"/>
                  </a:lnTo>
                </a:path>
                <a:path w="193675" h="762000">
                  <a:moveTo>
                    <a:pt x="0" y="0"/>
                  </a:moveTo>
                  <a:lnTo>
                    <a:pt x="1935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bject 13"/>
            <p:cNvSpPr/>
            <p:nvPr/>
          </p:nvSpPr>
          <p:spPr>
            <a:xfrm>
              <a:off x="1985760" y="1965960"/>
              <a:ext cx="129240" cy="1147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147680"/>
                <a:gd name="textAreaBottom" fmla="*/ 1148040 h 1147680"/>
              </a:gdLst>
              <a:ahLst/>
              <a:rect l="textAreaLeft" t="textAreaTop" r="textAreaRight" b="textAreaBottom"/>
              <a:pathLst>
                <a:path w="129539" h="1148080">
                  <a:moveTo>
                    <a:pt x="129539" y="0"/>
                  </a:moveTo>
                  <a:lnTo>
                    <a:pt x="0" y="0"/>
                  </a:lnTo>
                  <a:lnTo>
                    <a:pt x="0" y="1147572"/>
                  </a:lnTo>
                  <a:lnTo>
                    <a:pt x="129539" y="1147572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bject 14"/>
            <p:cNvSpPr/>
            <p:nvPr/>
          </p:nvSpPr>
          <p:spPr>
            <a:xfrm>
              <a:off x="1792080" y="1845720"/>
              <a:ext cx="322920" cy="3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3214" h="0">
                  <a:moveTo>
                    <a:pt x="0" y="0"/>
                  </a:moveTo>
                  <a:lnTo>
                    <a:pt x="3230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bject 15"/>
            <p:cNvSpPr/>
            <p:nvPr/>
          </p:nvSpPr>
          <p:spPr>
            <a:xfrm>
              <a:off x="1664280" y="1648800"/>
              <a:ext cx="127800" cy="14644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64480"/>
                <a:gd name="textAreaBottom" fmla="*/ 1464840 h 1464480"/>
              </a:gdLst>
              <a:ahLst/>
              <a:rect l="textAreaLeft" t="textAreaTop" r="textAreaRight" b="textAreaBottom"/>
              <a:pathLst>
                <a:path w="128269" h="1464945">
                  <a:moveTo>
                    <a:pt x="128016" y="0"/>
                  </a:moveTo>
                  <a:lnTo>
                    <a:pt x="0" y="0"/>
                  </a:lnTo>
                  <a:lnTo>
                    <a:pt x="0" y="1464564"/>
                  </a:lnTo>
                  <a:lnTo>
                    <a:pt x="128016" y="1464564"/>
                  </a:lnTo>
                  <a:lnTo>
                    <a:pt x="1280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object 16"/>
            <p:cNvSpPr/>
            <p:nvPr/>
          </p:nvSpPr>
          <p:spPr>
            <a:xfrm>
              <a:off x="2243160" y="2098440"/>
              <a:ext cx="193320" cy="761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93675" h="762000">
                  <a:moveTo>
                    <a:pt x="0" y="762000"/>
                  </a:moveTo>
                  <a:lnTo>
                    <a:pt x="193548" y="762000"/>
                  </a:lnTo>
                </a:path>
                <a:path w="193675" h="762000">
                  <a:moveTo>
                    <a:pt x="0" y="507491"/>
                  </a:moveTo>
                  <a:lnTo>
                    <a:pt x="193548" y="507491"/>
                  </a:lnTo>
                </a:path>
                <a:path w="193675" h="762000">
                  <a:moveTo>
                    <a:pt x="0" y="254507"/>
                  </a:moveTo>
                  <a:lnTo>
                    <a:pt x="193548" y="254507"/>
                  </a:lnTo>
                </a:path>
                <a:path w="193675" h="762000">
                  <a:moveTo>
                    <a:pt x="0" y="0"/>
                  </a:moveTo>
                  <a:lnTo>
                    <a:pt x="1935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bject 17"/>
            <p:cNvSpPr/>
            <p:nvPr/>
          </p:nvSpPr>
          <p:spPr>
            <a:xfrm>
              <a:off x="2436840" y="2036160"/>
              <a:ext cx="129240" cy="1077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077120"/>
                <a:gd name="textAreaBottom" fmla="*/ 1077480 h 1077120"/>
              </a:gdLst>
              <a:ahLst/>
              <a:rect l="textAreaLeft" t="textAreaTop" r="textAreaRight" b="textAreaBottom"/>
              <a:pathLst>
                <a:path w="129539" h="1077595">
                  <a:moveTo>
                    <a:pt x="129540" y="0"/>
                  </a:moveTo>
                  <a:lnTo>
                    <a:pt x="0" y="0"/>
                  </a:lnTo>
                  <a:lnTo>
                    <a:pt x="0" y="1077468"/>
                  </a:lnTo>
                  <a:lnTo>
                    <a:pt x="129540" y="1077468"/>
                  </a:lnTo>
                  <a:lnTo>
                    <a:pt x="1295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bject 18"/>
            <p:cNvSpPr/>
            <p:nvPr/>
          </p:nvSpPr>
          <p:spPr>
            <a:xfrm>
              <a:off x="2243160" y="1845720"/>
              <a:ext cx="322920" cy="3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3214" h="0">
                  <a:moveTo>
                    <a:pt x="0" y="0"/>
                  </a:moveTo>
                  <a:lnTo>
                    <a:pt x="3230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bject 19"/>
            <p:cNvSpPr/>
            <p:nvPr/>
          </p:nvSpPr>
          <p:spPr>
            <a:xfrm>
              <a:off x="2115360" y="1677960"/>
              <a:ext cx="127800" cy="14353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35320"/>
                <a:gd name="textAreaBottom" fmla="*/ 1435680 h 1435320"/>
              </a:gdLst>
              <a:ahLst/>
              <a:rect l="textAreaLeft" t="textAreaTop" r="textAreaRight" b="textAreaBottom"/>
              <a:pathLst>
                <a:path w="128269" h="1435735">
                  <a:moveTo>
                    <a:pt x="128015" y="0"/>
                  </a:moveTo>
                  <a:lnTo>
                    <a:pt x="0" y="0"/>
                  </a:lnTo>
                  <a:lnTo>
                    <a:pt x="0" y="1435608"/>
                  </a:lnTo>
                  <a:lnTo>
                    <a:pt x="128015" y="1435608"/>
                  </a:lnTo>
                  <a:lnTo>
                    <a:pt x="1280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object 20"/>
            <p:cNvSpPr/>
            <p:nvPr/>
          </p:nvSpPr>
          <p:spPr>
            <a:xfrm>
              <a:off x="2696040" y="2098440"/>
              <a:ext cx="193320" cy="761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93675" h="762000">
                  <a:moveTo>
                    <a:pt x="0" y="762000"/>
                  </a:moveTo>
                  <a:lnTo>
                    <a:pt x="193548" y="762000"/>
                  </a:lnTo>
                </a:path>
                <a:path w="193675" h="762000">
                  <a:moveTo>
                    <a:pt x="0" y="507491"/>
                  </a:moveTo>
                  <a:lnTo>
                    <a:pt x="193548" y="507491"/>
                  </a:lnTo>
                </a:path>
                <a:path w="193675" h="762000">
                  <a:moveTo>
                    <a:pt x="0" y="254507"/>
                  </a:moveTo>
                  <a:lnTo>
                    <a:pt x="193548" y="254507"/>
                  </a:lnTo>
                </a:path>
                <a:path w="193675" h="762000">
                  <a:moveTo>
                    <a:pt x="0" y="0"/>
                  </a:moveTo>
                  <a:lnTo>
                    <a:pt x="1935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bject 21"/>
            <p:cNvSpPr/>
            <p:nvPr/>
          </p:nvSpPr>
          <p:spPr>
            <a:xfrm>
              <a:off x="2889360" y="2017800"/>
              <a:ext cx="127800" cy="10954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095480"/>
                <a:gd name="textAreaBottom" fmla="*/ 1095840 h 1095480"/>
              </a:gdLst>
              <a:ahLst/>
              <a:rect l="textAreaLeft" t="textAreaTop" r="textAreaRight" b="textAreaBottom"/>
              <a:pathLst>
                <a:path w="128269" h="1096010">
                  <a:moveTo>
                    <a:pt x="128015" y="0"/>
                  </a:moveTo>
                  <a:lnTo>
                    <a:pt x="0" y="0"/>
                  </a:lnTo>
                  <a:lnTo>
                    <a:pt x="0" y="1095756"/>
                  </a:lnTo>
                  <a:lnTo>
                    <a:pt x="128015" y="1095756"/>
                  </a:lnTo>
                  <a:lnTo>
                    <a:pt x="128015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bject 22"/>
            <p:cNvSpPr/>
            <p:nvPr/>
          </p:nvSpPr>
          <p:spPr>
            <a:xfrm>
              <a:off x="2696040" y="1845720"/>
              <a:ext cx="321480" cy="3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1944" h="0">
                  <a:moveTo>
                    <a:pt x="0" y="0"/>
                  </a:moveTo>
                  <a:lnTo>
                    <a:pt x="3215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bject 23"/>
            <p:cNvSpPr/>
            <p:nvPr/>
          </p:nvSpPr>
          <p:spPr>
            <a:xfrm>
              <a:off x="2566440" y="1670400"/>
              <a:ext cx="129240" cy="14428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42880"/>
                <a:gd name="textAreaBottom" fmla="*/ 1443240 h 1442880"/>
              </a:gdLst>
              <a:ahLst/>
              <a:rect l="textAreaLeft" t="textAreaTop" r="textAreaRight" b="textAreaBottom"/>
              <a:pathLst>
                <a:path w="129539" h="1443355">
                  <a:moveTo>
                    <a:pt x="129539" y="0"/>
                  </a:moveTo>
                  <a:lnTo>
                    <a:pt x="0" y="0"/>
                  </a:lnTo>
                  <a:lnTo>
                    <a:pt x="0" y="1443228"/>
                  </a:lnTo>
                  <a:lnTo>
                    <a:pt x="129539" y="1443228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object 24"/>
            <p:cNvSpPr/>
            <p:nvPr/>
          </p:nvSpPr>
          <p:spPr>
            <a:xfrm>
              <a:off x="3147120" y="1845720"/>
              <a:ext cx="322920" cy="101484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323214" h="1015364">
                  <a:moveTo>
                    <a:pt x="0" y="1014984"/>
                  </a:moveTo>
                  <a:lnTo>
                    <a:pt x="193548" y="1014984"/>
                  </a:lnTo>
                </a:path>
                <a:path w="323214" h="1015364">
                  <a:moveTo>
                    <a:pt x="0" y="760476"/>
                  </a:moveTo>
                  <a:lnTo>
                    <a:pt x="193548" y="760476"/>
                  </a:lnTo>
                </a:path>
                <a:path w="323214" h="1015364">
                  <a:moveTo>
                    <a:pt x="0" y="507491"/>
                  </a:moveTo>
                  <a:lnTo>
                    <a:pt x="193548" y="507491"/>
                  </a:lnTo>
                </a:path>
                <a:path w="323214" h="1015364">
                  <a:moveTo>
                    <a:pt x="0" y="252984"/>
                  </a:moveTo>
                  <a:lnTo>
                    <a:pt x="193548" y="252984"/>
                  </a:lnTo>
                </a:path>
                <a:path w="323214" h="1015364">
                  <a:moveTo>
                    <a:pt x="0" y="0"/>
                  </a:moveTo>
                  <a:lnTo>
                    <a:pt x="3230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bject 25"/>
            <p:cNvSpPr/>
            <p:nvPr/>
          </p:nvSpPr>
          <p:spPr>
            <a:xfrm>
              <a:off x="3340440" y="1853280"/>
              <a:ext cx="129240" cy="12600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260000"/>
                <a:gd name="textAreaBottom" fmla="*/ 1260360 h 1260000"/>
              </a:gdLst>
              <a:ahLst/>
              <a:rect l="textAreaLeft" t="textAreaTop" r="textAreaRight" b="textAreaBottom"/>
              <a:pathLst>
                <a:path w="129539" h="1260475">
                  <a:moveTo>
                    <a:pt x="129539" y="0"/>
                  </a:moveTo>
                  <a:lnTo>
                    <a:pt x="0" y="0"/>
                  </a:lnTo>
                  <a:lnTo>
                    <a:pt x="0" y="1260348"/>
                  </a:lnTo>
                  <a:lnTo>
                    <a:pt x="129539" y="1260348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bject 26"/>
            <p:cNvSpPr/>
            <p:nvPr/>
          </p:nvSpPr>
          <p:spPr>
            <a:xfrm>
              <a:off x="3017520" y="1673280"/>
              <a:ext cx="129240" cy="14400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29539" h="1440180">
                  <a:moveTo>
                    <a:pt x="129540" y="0"/>
                  </a:moveTo>
                  <a:lnTo>
                    <a:pt x="0" y="0"/>
                  </a:lnTo>
                  <a:lnTo>
                    <a:pt x="0" y="1440180"/>
                  </a:lnTo>
                  <a:lnTo>
                    <a:pt x="129540" y="1440180"/>
                  </a:lnTo>
                  <a:lnTo>
                    <a:pt x="12954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object 27"/>
            <p:cNvSpPr/>
            <p:nvPr/>
          </p:nvSpPr>
          <p:spPr>
            <a:xfrm>
              <a:off x="3598200" y="1845720"/>
              <a:ext cx="193320" cy="10148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193675" h="1015364">
                  <a:moveTo>
                    <a:pt x="0" y="1014984"/>
                  </a:moveTo>
                  <a:lnTo>
                    <a:pt x="193548" y="1014984"/>
                  </a:lnTo>
                </a:path>
                <a:path w="193675" h="1015364">
                  <a:moveTo>
                    <a:pt x="0" y="760476"/>
                  </a:moveTo>
                  <a:lnTo>
                    <a:pt x="193548" y="760476"/>
                  </a:lnTo>
                </a:path>
                <a:path w="193675" h="1015364">
                  <a:moveTo>
                    <a:pt x="0" y="507491"/>
                  </a:moveTo>
                  <a:lnTo>
                    <a:pt x="193548" y="507491"/>
                  </a:lnTo>
                </a:path>
                <a:path w="193675" h="1015364">
                  <a:moveTo>
                    <a:pt x="0" y="252984"/>
                  </a:moveTo>
                  <a:lnTo>
                    <a:pt x="193548" y="252984"/>
                  </a:lnTo>
                </a:path>
                <a:path w="193675" h="1015364">
                  <a:moveTo>
                    <a:pt x="0" y="0"/>
                  </a:moveTo>
                  <a:lnTo>
                    <a:pt x="1935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bject 28"/>
            <p:cNvSpPr/>
            <p:nvPr/>
          </p:nvSpPr>
          <p:spPr>
            <a:xfrm>
              <a:off x="3791880" y="1758600"/>
              <a:ext cx="129240" cy="1354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129539" h="1355089">
                  <a:moveTo>
                    <a:pt x="129539" y="0"/>
                  </a:moveTo>
                  <a:lnTo>
                    <a:pt x="0" y="0"/>
                  </a:lnTo>
                  <a:lnTo>
                    <a:pt x="0" y="1354836"/>
                  </a:lnTo>
                  <a:lnTo>
                    <a:pt x="129539" y="1354836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bject 29"/>
            <p:cNvSpPr/>
            <p:nvPr/>
          </p:nvSpPr>
          <p:spPr>
            <a:xfrm>
              <a:off x="3470040" y="1761840"/>
              <a:ext cx="127800" cy="135144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351440"/>
                <a:gd name="textAreaBottom" fmla="*/ 1351800 h 1351440"/>
              </a:gdLst>
              <a:ahLst/>
              <a:rect l="textAreaLeft" t="textAreaTop" r="textAreaRight" b="textAreaBottom"/>
              <a:pathLst>
                <a:path w="128270" h="1351914">
                  <a:moveTo>
                    <a:pt x="128015" y="0"/>
                  </a:moveTo>
                  <a:lnTo>
                    <a:pt x="0" y="0"/>
                  </a:lnTo>
                  <a:lnTo>
                    <a:pt x="0" y="1351788"/>
                  </a:lnTo>
                  <a:lnTo>
                    <a:pt x="128015" y="1351788"/>
                  </a:lnTo>
                  <a:lnTo>
                    <a:pt x="1280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object 30"/>
            <p:cNvSpPr/>
            <p:nvPr/>
          </p:nvSpPr>
          <p:spPr>
            <a:xfrm>
              <a:off x="986040" y="1591200"/>
              <a:ext cx="3160800" cy="126972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3161029" h="1270000">
                  <a:moveTo>
                    <a:pt x="3064764" y="1269492"/>
                  </a:moveTo>
                  <a:lnTo>
                    <a:pt x="3160776" y="1269492"/>
                  </a:lnTo>
                </a:path>
                <a:path w="3161029" h="1270000">
                  <a:moveTo>
                    <a:pt x="3064764" y="1014984"/>
                  </a:moveTo>
                  <a:lnTo>
                    <a:pt x="3160776" y="1014984"/>
                  </a:lnTo>
                </a:path>
                <a:path w="3161029" h="1270000">
                  <a:moveTo>
                    <a:pt x="3064764" y="762000"/>
                  </a:moveTo>
                  <a:lnTo>
                    <a:pt x="3160776" y="762000"/>
                  </a:lnTo>
                </a:path>
                <a:path w="3161029" h="1270000">
                  <a:moveTo>
                    <a:pt x="3064764" y="507492"/>
                  </a:moveTo>
                  <a:lnTo>
                    <a:pt x="3160776" y="507492"/>
                  </a:lnTo>
                </a:path>
                <a:path w="3161029" h="1270000">
                  <a:moveTo>
                    <a:pt x="3064764" y="254508"/>
                  </a:moveTo>
                  <a:lnTo>
                    <a:pt x="3160776" y="254508"/>
                  </a:lnTo>
                </a:path>
                <a:path w="3161029" h="1270000">
                  <a:moveTo>
                    <a:pt x="0" y="0"/>
                  </a:moveTo>
                  <a:lnTo>
                    <a:pt x="2935224" y="0"/>
                  </a:lnTo>
                </a:path>
                <a:path w="3161029" h="1270000">
                  <a:moveTo>
                    <a:pt x="3064764" y="0"/>
                  </a:moveTo>
                  <a:lnTo>
                    <a:pt x="3160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bject 31"/>
            <p:cNvSpPr/>
            <p:nvPr/>
          </p:nvSpPr>
          <p:spPr>
            <a:xfrm>
              <a:off x="3921120" y="1575720"/>
              <a:ext cx="129240" cy="153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37560"/>
                <a:gd name="textAreaBottom" fmla="*/ 1537920 h 1537560"/>
              </a:gdLst>
              <a:ahLst/>
              <a:rect l="textAreaLeft" t="textAreaTop" r="textAreaRight" b="textAreaBottom"/>
              <a:pathLst>
                <a:path w="129539" h="1537970">
                  <a:moveTo>
                    <a:pt x="129539" y="0"/>
                  </a:moveTo>
                  <a:lnTo>
                    <a:pt x="0" y="0"/>
                  </a:lnTo>
                  <a:lnTo>
                    <a:pt x="0" y="1537716"/>
                  </a:lnTo>
                  <a:lnTo>
                    <a:pt x="129539" y="1537716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object 32"/>
            <p:cNvSpPr/>
            <p:nvPr/>
          </p:nvSpPr>
          <p:spPr>
            <a:xfrm>
              <a:off x="946440" y="1338120"/>
              <a:ext cx="3200040" cy="177516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1775160"/>
                <a:gd name="textAreaBottom" fmla="*/ 1775520 h 1775160"/>
              </a:gdLst>
              <a:ahLst/>
              <a:rect l="textAreaLeft" t="textAreaTop" r="textAreaRight" b="textAreaBottom"/>
              <a:pathLst>
                <a:path w="3200400" h="1775460">
                  <a:moveTo>
                    <a:pt x="39624" y="0"/>
                  </a:moveTo>
                  <a:lnTo>
                    <a:pt x="3200400" y="0"/>
                  </a:lnTo>
                </a:path>
                <a:path w="3200400" h="1775460">
                  <a:moveTo>
                    <a:pt x="39624" y="1775460"/>
                  </a:moveTo>
                  <a:lnTo>
                    <a:pt x="39624" y="0"/>
                  </a:lnTo>
                </a:path>
                <a:path w="3200400" h="1775460">
                  <a:moveTo>
                    <a:pt x="0" y="1775460"/>
                  </a:moveTo>
                  <a:lnTo>
                    <a:pt x="39624" y="1775460"/>
                  </a:lnTo>
                </a:path>
                <a:path w="3200400" h="1775460">
                  <a:moveTo>
                    <a:pt x="0" y="1522476"/>
                  </a:moveTo>
                  <a:lnTo>
                    <a:pt x="39624" y="1522476"/>
                  </a:lnTo>
                </a:path>
                <a:path w="3200400" h="1775460">
                  <a:moveTo>
                    <a:pt x="0" y="1267967"/>
                  </a:moveTo>
                  <a:lnTo>
                    <a:pt x="39624" y="1267967"/>
                  </a:lnTo>
                </a:path>
                <a:path w="3200400" h="1775460">
                  <a:moveTo>
                    <a:pt x="0" y="1014983"/>
                  </a:moveTo>
                  <a:lnTo>
                    <a:pt x="39624" y="1014983"/>
                  </a:lnTo>
                </a:path>
                <a:path w="3200400" h="1775460">
                  <a:moveTo>
                    <a:pt x="0" y="760476"/>
                  </a:moveTo>
                  <a:lnTo>
                    <a:pt x="39624" y="760476"/>
                  </a:lnTo>
                </a:path>
                <a:path w="3200400" h="1775460">
                  <a:moveTo>
                    <a:pt x="0" y="507491"/>
                  </a:moveTo>
                  <a:lnTo>
                    <a:pt x="39624" y="507491"/>
                  </a:lnTo>
                </a:path>
                <a:path w="3200400" h="1775460">
                  <a:moveTo>
                    <a:pt x="0" y="252983"/>
                  </a:moveTo>
                  <a:lnTo>
                    <a:pt x="39624" y="252983"/>
                  </a:lnTo>
                </a:path>
                <a:path w="3200400" h="1775460">
                  <a:moveTo>
                    <a:pt x="0" y="0"/>
                  </a:moveTo>
                  <a:lnTo>
                    <a:pt x="396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bject 33"/>
            <p:cNvSpPr/>
            <p:nvPr/>
          </p:nvSpPr>
          <p:spPr>
            <a:xfrm>
              <a:off x="986040" y="3113640"/>
              <a:ext cx="3160800" cy="36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161029" h="0">
                  <a:moveTo>
                    <a:pt x="0" y="0"/>
                  </a:moveTo>
                  <a:lnTo>
                    <a:pt x="181800" y="0"/>
                  </a:lnTo>
                </a:path>
                <a:path w="3161029" h="0">
                  <a:moveTo>
                    <a:pt x="270192" y="0"/>
                  </a:moveTo>
                  <a:lnTo>
                    <a:pt x="3160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bject 34"/>
            <p:cNvSpPr/>
            <p:nvPr/>
          </p:nvSpPr>
          <p:spPr>
            <a:xfrm>
              <a:off x="1212480" y="2423880"/>
              <a:ext cx="2707920" cy="524160"/>
            </a:xfrm>
            <a:custGeom>
              <a:avLst/>
              <a:gdLst>
                <a:gd name="textAreaLeft" fmla="*/ 0 w 2707920"/>
                <a:gd name="textAreaRight" fmla="*/ 2708280 w 270792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2708275" h="524510">
                  <a:moveTo>
                    <a:pt x="0" y="0"/>
                  </a:moveTo>
                  <a:lnTo>
                    <a:pt x="451103" y="22860"/>
                  </a:lnTo>
                  <a:lnTo>
                    <a:pt x="902208" y="222503"/>
                  </a:lnTo>
                  <a:lnTo>
                    <a:pt x="1354836" y="271272"/>
                  </a:lnTo>
                  <a:lnTo>
                    <a:pt x="1805939" y="268224"/>
                  </a:lnTo>
                  <a:lnTo>
                    <a:pt x="2257044" y="524255"/>
                  </a:lnTo>
                  <a:lnTo>
                    <a:pt x="2708148" y="416051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7" name="object 35" descr=""/>
            <p:cNvPicPr/>
            <p:nvPr/>
          </p:nvPicPr>
          <p:blipFill>
            <a:blip r:embed="rId1"/>
            <a:stretch/>
          </p:blipFill>
          <p:spPr>
            <a:xfrm>
              <a:off x="1163160" y="23749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object 36" descr=""/>
            <p:cNvPicPr/>
            <p:nvPr/>
          </p:nvPicPr>
          <p:blipFill>
            <a:blip r:embed="rId2"/>
            <a:stretch/>
          </p:blipFill>
          <p:spPr>
            <a:xfrm>
              <a:off x="1615680" y="23976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object 37" descr=""/>
            <p:cNvPicPr/>
            <p:nvPr/>
          </p:nvPicPr>
          <p:blipFill>
            <a:blip r:embed="rId3"/>
            <a:stretch/>
          </p:blipFill>
          <p:spPr>
            <a:xfrm>
              <a:off x="2066760" y="25988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object 38" descr=""/>
            <p:cNvPicPr/>
            <p:nvPr/>
          </p:nvPicPr>
          <p:blipFill>
            <a:blip r:embed="rId4"/>
            <a:stretch/>
          </p:blipFill>
          <p:spPr>
            <a:xfrm>
              <a:off x="2518200" y="26460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object 39" descr=""/>
            <p:cNvPicPr/>
            <p:nvPr/>
          </p:nvPicPr>
          <p:blipFill>
            <a:blip r:embed="rId5"/>
            <a:stretch/>
          </p:blipFill>
          <p:spPr>
            <a:xfrm>
              <a:off x="2969280" y="2644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object 40" descr=""/>
            <p:cNvPicPr/>
            <p:nvPr/>
          </p:nvPicPr>
          <p:blipFill>
            <a:blip r:embed="rId6"/>
            <a:stretch/>
          </p:blipFill>
          <p:spPr>
            <a:xfrm>
              <a:off x="3421800" y="29005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object 41" descr=""/>
            <p:cNvPicPr/>
            <p:nvPr/>
          </p:nvPicPr>
          <p:blipFill>
            <a:blip r:embed="rId7"/>
            <a:stretch/>
          </p:blipFill>
          <p:spPr>
            <a:xfrm>
              <a:off x="3872880" y="27907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object 42"/>
            <p:cNvSpPr/>
            <p:nvPr/>
          </p:nvSpPr>
          <p:spPr>
            <a:xfrm>
              <a:off x="1212480" y="2908440"/>
              <a:ext cx="2707920" cy="182520"/>
            </a:xfrm>
            <a:custGeom>
              <a:avLst/>
              <a:gdLst>
                <a:gd name="textAreaLeft" fmla="*/ 0 w 2707920"/>
                <a:gd name="textAreaRight" fmla="*/ 2708280 w 2707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708275" h="182880">
                  <a:moveTo>
                    <a:pt x="0" y="182880"/>
                  </a:moveTo>
                  <a:lnTo>
                    <a:pt x="451103" y="0"/>
                  </a:lnTo>
                  <a:lnTo>
                    <a:pt x="902208" y="25908"/>
                  </a:lnTo>
                  <a:lnTo>
                    <a:pt x="1354836" y="152400"/>
                  </a:lnTo>
                  <a:lnTo>
                    <a:pt x="1805939" y="129540"/>
                  </a:lnTo>
                  <a:lnTo>
                    <a:pt x="2257044" y="131063"/>
                  </a:lnTo>
                  <a:lnTo>
                    <a:pt x="2708148" y="114300"/>
                  </a:lnTo>
                </a:path>
              </a:pathLst>
            </a:custGeom>
            <a:noFill/>
            <a:ln w="28956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bject 43"/>
            <p:cNvSpPr/>
            <p:nvPr/>
          </p:nvSpPr>
          <p:spPr>
            <a:xfrm>
              <a:off x="1167840" y="3046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bject 44"/>
            <p:cNvSpPr/>
            <p:nvPr/>
          </p:nvSpPr>
          <p:spPr>
            <a:xfrm>
              <a:off x="1167840" y="3046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bject 45"/>
            <p:cNvSpPr/>
            <p:nvPr/>
          </p:nvSpPr>
          <p:spPr>
            <a:xfrm>
              <a:off x="1620360" y="28638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bject 46"/>
            <p:cNvSpPr/>
            <p:nvPr/>
          </p:nvSpPr>
          <p:spPr>
            <a:xfrm>
              <a:off x="1620360" y="28638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bject 47"/>
            <p:cNvSpPr/>
            <p:nvPr/>
          </p:nvSpPr>
          <p:spPr>
            <a:xfrm>
              <a:off x="2071440" y="2891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bject 48"/>
            <p:cNvSpPr/>
            <p:nvPr/>
          </p:nvSpPr>
          <p:spPr>
            <a:xfrm>
              <a:off x="2071440" y="2891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bject 49"/>
            <p:cNvSpPr/>
            <p:nvPr/>
          </p:nvSpPr>
          <p:spPr>
            <a:xfrm>
              <a:off x="2522520" y="3016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bject 50"/>
            <p:cNvSpPr/>
            <p:nvPr/>
          </p:nvSpPr>
          <p:spPr>
            <a:xfrm>
              <a:off x="2522520" y="3016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bject 51"/>
            <p:cNvSpPr/>
            <p:nvPr/>
          </p:nvSpPr>
          <p:spPr>
            <a:xfrm>
              <a:off x="2973600" y="2993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bject 52"/>
            <p:cNvSpPr/>
            <p:nvPr/>
          </p:nvSpPr>
          <p:spPr>
            <a:xfrm>
              <a:off x="2973600" y="2993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bject 53"/>
            <p:cNvSpPr/>
            <p:nvPr/>
          </p:nvSpPr>
          <p:spPr>
            <a:xfrm>
              <a:off x="3426480" y="2996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bject 54"/>
            <p:cNvSpPr/>
            <p:nvPr/>
          </p:nvSpPr>
          <p:spPr>
            <a:xfrm>
              <a:off x="3426480" y="2996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bject 55"/>
            <p:cNvSpPr/>
            <p:nvPr/>
          </p:nvSpPr>
          <p:spPr>
            <a:xfrm>
              <a:off x="3877560" y="2978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bject 56"/>
            <p:cNvSpPr/>
            <p:nvPr/>
          </p:nvSpPr>
          <p:spPr>
            <a:xfrm>
              <a:off x="3877560" y="2978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bject 57"/>
            <p:cNvSpPr/>
            <p:nvPr/>
          </p:nvSpPr>
          <p:spPr>
            <a:xfrm>
              <a:off x="1167840" y="3046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5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6" y="44195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5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bject 58"/>
            <p:cNvSpPr/>
            <p:nvPr/>
          </p:nvSpPr>
          <p:spPr>
            <a:xfrm>
              <a:off x="1167840" y="3046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bject 59"/>
            <p:cNvSpPr/>
            <p:nvPr/>
          </p:nvSpPr>
          <p:spPr>
            <a:xfrm>
              <a:off x="1620360" y="28638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2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bject 60"/>
            <p:cNvSpPr/>
            <p:nvPr/>
          </p:nvSpPr>
          <p:spPr>
            <a:xfrm>
              <a:off x="1620360" y="28638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bject 61"/>
            <p:cNvSpPr/>
            <p:nvPr/>
          </p:nvSpPr>
          <p:spPr>
            <a:xfrm>
              <a:off x="2071440" y="2891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5"/>
                  </a:moveTo>
                  <a:lnTo>
                    <a:pt x="0" y="88391"/>
                  </a:lnTo>
                  <a:lnTo>
                    <a:pt x="88391" y="88391"/>
                  </a:lnTo>
                  <a:lnTo>
                    <a:pt x="44195" y="44195"/>
                  </a:lnTo>
                  <a:close/>
                </a:path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44195" y="44195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bject 62"/>
            <p:cNvSpPr/>
            <p:nvPr/>
          </p:nvSpPr>
          <p:spPr>
            <a:xfrm>
              <a:off x="2071440" y="2891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1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bject 63"/>
            <p:cNvSpPr/>
            <p:nvPr/>
          </p:nvSpPr>
          <p:spPr>
            <a:xfrm>
              <a:off x="2522520" y="3016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6"/>
                  </a:moveTo>
                  <a:lnTo>
                    <a:pt x="0" y="88392"/>
                  </a:lnTo>
                  <a:lnTo>
                    <a:pt x="88392" y="88392"/>
                  </a:lnTo>
                  <a:lnTo>
                    <a:pt x="44196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bject 64"/>
            <p:cNvSpPr/>
            <p:nvPr/>
          </p:nvSpPr>
          <p:spPr>
            <a:xfrm>
              <a:off x="2522520" y="3016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bject 65"/>
            <p:cNvSpPr/>
            <p:nvPr/>
          </p:nvSpPr>
          <p:spPr>
            <a:xfrm>
              <a:off x="2973600" y="2993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2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bject 66"/>
            <p:cNvSpPr/>
            <p:nvPr/>
          </p:nvSpPr>
          <p:spPr>
            <a:xfrm>
              <a:off x="2973600" y="2993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bject 67"/>
            <p:cNvSpPr/>
            <p:nvPr/>
          </p:nvSpPr>
          <p:spPr>
            <a:xfrm>
              <a:off x="3426480" y="2996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1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bject 68"/>
            <p:cNvSpPr/>
            <p:nvPr/>
          </p:nvSpPr>
          <p:spPr>
            <a:xfrm>
              <a:off x="3426480" y="2996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1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bject 69"/>
            <p:cNvSpPr/>
            <p:nvPr/>
          </p:nvSpPr>
          <p:spPr>
            <a:xfrm>
              <a:off x="3877560" y="2978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1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object 70"/>
            <p:cNvSpPr/>
            <p:nvPr/>
          </p:nvSpPr>
          <p:spPr>
            <a:xfrm>
              <a:off x="3877560" y="2978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1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object 71"/>
          <p:cNvSpPr/>
          <p:nvPr/>
        </p:nvSpPr>
        <p:spPr>
          <a:xfrm>
            <a:off x="990000" y="20962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1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bject 72"/>
          <p:cNvSpPr/>
          <p:nvPr/>
        </p:nvSpPr>
        <p:spPr>
          <a:xfrm>
            <a:off x="1441440" y="18795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9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bject 73"/>
          <p:cNvSpPr/>
          <p:nvPr/>
        </p:nvSpPr>
        <p:spPr>
          <a:xfrm>
            <a:off x="1893240" y="17352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52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bject 74"/>
          <p:cNvSpPr/>
          <p:nvPr/>
        </p:nvSpPr>
        <p:spPr>
          <a:xfrm>
            <a:off x="2393280" y="1804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bject 75"/>
          <p:cNvSpPr/>
          <p:nvPr/>
        </p:nvSpPr>
        <p:spPr>
          <a:xfrm>
            <a:off x="2845080" y="17870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bject 76"/>
          <p:cNvSpPr/>
          <p:nvPr/>
        </p:nvSpPr>
        <p:spPr>
          <a:xfrm>
            <a:off x="3296520" y="1622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bject 77"/>
          <p:cNvSpPr/>
          <p:nvPr/>
        </p:nvSpPr>
        <p:spPr>
          <a:xfrm>
            <a:off x="1118880" y="1428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73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bject 78"/>
          <p:cNvSpPr/>
          <p:nvPr/>
        </p:nvSpPr>
        <p:spPr>
          <a:xfrm>
            <a:off x="1570680" y="14176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77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bject 79"/>
          <p:cNvSpPr/>
          <p:nvPr/>
        </p:nvSpPr>
        <p:spPr>
          <a:xfrm>
            <a:off x="2022120" y="1447200"/>
            <a:ext cx="71784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513000"/>
              </a:tabLst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66,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38" strike="noStrike" baseline="2000">
                <a:solidFill>
                  <a:srgbClr val="000000"/>
                </a:solidFill>
                <a:latin typeface="Calibri"/>
              </a:rPr>
              <a:t>56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bject 80"/>
          <p:cNvSpPr/>
          <p:nvPr/>
        </p:nvSpPr>
        <p:spPr>
          <a:xfrm>
            <a:off x="2973960" y="1442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bject 81"/>
          <p:cNvSpPr/>
          <p:nvPr/>
        </p:nvSpPr>
        <p:spPr>
          <a:xfrm>
            <a:off x="3425760" y="1530720"/>
            <a:ext cx="54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33480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3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bject 82"/>
          <p:cNvSpPr/>
          <p:nvPr/>
        </p:nvSpPr>
        <p:spPr>
          <a:xfrm>
            <a:off x="3877200" y="1344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bject 83"/>
          <p:cNvSpPr/>
          <p:nvPr/>
        </p:nvSpPr>
        <p:spPr>
          <a:xfrm>
            <a:off x="1319760" y="2327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72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bject 84"/>
          <p:cNvSpPr/>
          <p:nvPr/>
        </p:nvSpPr>
        <p:spPr>
          <a:xfrm>
            <a:off x="1772280" y="23508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bject 85"/>
          <p:cNvSpPr/>
          <p:nvPr/>
        </p:nvSpPr>
        <p:spPr>
          <a:xfrm>
            <a:off x="2223720" y="2550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bject 86"/>
          <p:cNvSpPr/>
          <p:nvPr/>
        </p:nvSpPr>
        <p:spPr>
          <a:xfrm>
            <a:off x="2675520" y="25995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bject 87"/>
          <p:cNvSpPr/>
          <p:nvPr/>
        </p:nvSpPr>
        <p:spPr>
          <a:xfrm>
            <a:off x="3126600" y="2596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bject 88"/>
          <p:cNvSpPr/>
          <p:nvPr/>
        </p:nvSpPr>
        <p:spPr>
          <a:xfrm>
            <a:off x="3578040" y="28530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bject 89"/>
          <p:cNvSpPr/>
          <p:nvPr/>
        </p:nvSpPr>
        <p:spPr>
          <a:xfrm>
            <a:off x="4029840" y="27439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bject 90"/>
          <p:cNvSpPr/>
          <p:nvPr/>
        </p:nvSpPr>
        <p:spPr>
          <a:xfrm>
            <a:off x="1319400" y="29955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bject 91"/>
          <p:cNvSpPr/>
          <p:nvPr/>
        </p:nvSpPr>
        <p:spPr>
          <a:xfrm>
            <a:off x="1771920" y="28126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bject 92"/>
          <p:cNvSpPr/>
          <p:nvPr/>
        </p:nvSpPr>
        <p:spPr>
          <a:xfrm>
            <a:off x="2222640" y="283896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7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bject 93"/>
          <p:cNvSpPr/>
          <p:nvPr/>
        </p:nvSpPr>
        <p:spPr>
          <a:xfrm>
            <a:off x="2675160" y="29642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bject 94"/>
          <p:cNvSpPr/>
          <p:nvPr/>
        </p:nvSpPr>
        <p:spPr>
          <a:xfrm>
            <a:off x="3126600" y="29415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bject 95"/>
          <p:cNvSpPr/>
          <p:nvPr/>
        </p:nvSpPr>
        <p:spPr>
          <a:xfrm>
            <a:off x="3578040" y="29444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bject 96"/>
          <p:cNvSpPr/>
          <p:nvPr/>
        </p:nvSpPr>
        <p:spPr>
          <a:xfrm>
            <a:off x="4029840" y="29268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bject 97"/>
          <p:cNvSpPr/>
          <p:nvPr/>
        </p:nvSpPr>
        <p:spPr>
          <a:xfrm>
            <a:off x="791640" y="30110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bject 98"/>
          <p:cNvSpPr/>
          <p:nvPr/>
        </p:nvSpPr>
        <p:spPr>
          <a:xfrm>
            <a:off x="662760" y="27572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bject 99"/>
          <p:cNvSpPr/>
          <p:nvPr/>
        </p:nvSpPr>
        <p:spPr>
          <a:xfrm>
            <a:off x="662760" y="25034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bject 100"/>
          <p:cNvSpPr/>
          <p:nvPr/>
        </p:nvSpPr>
        <p:spPr>
          <a:xfrm>
            <a:off x="662760" y="22496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bject 101"/>
          <p:cNvSpPr/>
          <p:nvPr/>
        </p:nvSpPr>
        <p:spPr>
          <a:xfrm>
            <a:off x="662760" y="1995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bject 102"/>
          <p:cNvSpPr/>
          <p:nvPr/>
        </p:nvSpPr>
        <p:spPr>
          <a:xfrm>
            <a:off x="662760" y="17424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bject 103"/>
          <p:cNvSpPr/>
          <p:nvPr/>
        </p:nvSpPr>
        <p:spPr>
          <a:xfrm>
            <a:off x="662760" y="14886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bject 104"/>
          <p:cNvSpPr/>
          <p:nvPr/>
        </p:nvSpPr>
        <p:spPr>
          <a:xfrm>
            <a:off x="662760" y="12348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bject 105"/>
          <p:cNvSpPr/>
          <p:nvPr/>
        </p:nvSpPr>
        <p:spPr>
          <a:xfrm>
            <a:off x="1071000" y="3176280"/>
            <a:ext cx="2992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63680"/>
                <a:tab algn="l" pos="915840"/>
                <a:tab algn="l" pos="1367280"/>
                <a:tab algn="l" pos="1818720"/>
                <a:tab algn="l" pos="2270160"/>
                <a:tab algn="l" pos="272160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bject 106"/>
          <p:cNvSpPr/>
          <p:nvPr/>
        </p:nvSpPr>
        <p:spPr>
          <a:xfrm>
            <a:off x="495360" y="2061360"/>
            <a:ext cx="15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bject 107"/>
          <p:cNvSpPr/>
          <p:nvPr/>
        </p:nvSpPr>
        <p:spPr>
          <a:xfrm>
            <a:off x="4344840" y="1935360"/>
            <a:ext cx="243360" cy="68400"/>
          </a:xfrm>
          <a:custGeom>
            <a:avLst/>
            <a:gdLst>
              <a:gd name="textAreaLeft" fmla="*/ 0 w 243360"/>
              <a:gd name="textAreaRight" fmla="*/ 243720 w 243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43839" h="68580">
                <a:moveTo>
                  <a:pt x="243839" y="0"/>
                </a:moveTo>
                <a:lnTo>
                  <a:pt x="0" y="0"/>
                </a:lnTo>
                <a:lnTo>
                  <a:pt x="0" y="68579"/>
                </a:lnTo>
                <a:lnTo>
                  <a:pt x="243839" y="68579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bject 108"/>
          <p:cNvSpPr/>
          <p:nvPr/>
        </p:nvSpPr>
        <p:spPr>
          <a:xfrm>
            <a:off x="4603320" y="1866960"/>
            <a:ext cx="7884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bject 109"/>
          <p:cNvSpPr/>
          <p:nvPr/>
        </p:nvSpPr>
        <p:spPr>
          <a:xfrm>
            <a:off x="4344840" y="216396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2" name="object 110" descr=""/>
          <p:cNvPicPr/>
          <p:nvPr/>
        </p:nvPicPr>
        <p:blipFill>
          <a:blip r:embed="rId8"/>
          <a:stretch/>
        </p:blipFill>
        <p:spPr>
          <a:xfrm>
            <a:off x="4345560" y="2385000"/>
            <a:ext cx="243360" cy="84960"/>
          </a:xfrm>
          <a:prstGeom prst="rect">
            <a:avLst/>
          </a:prstGeom>
          <a:ln w="0">
            <a:noFill/>
          </a:ln>
        </p:spPr>
      </p:pic>
      <p:pic>
        <p:nvPicPr>
          <p:cNvPr id="1213" name="object 111" descr=""/>
          <p:cNvPicPr/>
          <p:nvPr/>
        </p:nvPicPr>
        <p:blipFill>
          <a:blip r:embed="rId9"/>
          <a:stretch/>
        </p:blipFill>
        <p:spPr>
          <a:xfrm>
            <a:off x="4345560" y="261504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1214" name="object 112"/>
          <p:cNvSpPr/>
          <p:nvPr/>
        </p:nvSpPr>
        <p:spPr>
          <a:xfrm>
            <a:off x="4603320" y="2018160"/>
            <a:ext cx="741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720" bIns="0" anchor="t">
            <a:spAutoFit/>
          </a:bodyPr>
          <a:p>
            <a:pPr marL="12600">
              <a:lnSpc>
                <a:spcPct val="100000"/>
              </a:lnSpc>
              <a:spcBef>
                <a:spcPts val="71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Импорт 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bject 113"/>
          <p:cNvSpPr/>
          <p:nvPr/>
        </p:nvSpPr>
        <p:spPr>
          <a:xfrm>
            <a:off x="690480" y="797040"/>
            <a:ext cx="4412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7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ПЭТФ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6" name="object 114"/>
          <p:cNvGraphicFramePr/>
          <p:nvPr/>
        </p:nvGraphicFramePr>
        <p:xfrm>
          <a:off x="684000" y="3788640"/>
          <a:ext cx="4125240" cy="1117080"/>
        </p:xfrm>
        <a:graphic>
          <a:graphicData uri="http://schemas.openxmlformats.org/drawingml/2006/table">
            <a:tbl>
              <a:tblPr/>
              <a:tblGrid>
                <a:gridCol w="2731680"/>
                <a:gridCol w="139356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щность,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Алко-Наф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Сибур-ПЭТФ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вод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ых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меров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СЕНЕЖ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ПОЛИЭФ»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7" name="object 115" descr=""/>
          <p:cNvPicPr/>
          <p:nvPr/>
        </p:nvPicPr>
        <p:blipFill>
          <a:blip r:embed="rId10"/>
          <a:stretch/>
        </p:blipFill>
        <p:spPr>
          <a:xfrm>
            <a:off x="685080" y="5158080"/>
            <a:ext cx="3094920" cy="1294920"/>
          </a:xfrm>
          <a:prstGeom prst="rect">
            <a:avLst/>
          </a:prstGeom>
          <a:ln w="0">
            <a:noFill/>
          </a:ln>
        </p:spPr>
      </p:pic>
      <p:sp>
        <p:nvSpPr>
          <p:cNvPr id="1218" name="object 116"/>
          <p:cNvSpPr/>
          <p:nvPr/>
        </p:nvSpPr>
        <p:spPr>
          <a:xfrm>
            <a:off x="685080" y="5158080"/>
            <a:ext cx="3095280" cy="118152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4600" bIns="0" anchor="t">
            <a:spAutoFit/>
          </a:bodyPr>
          <a:p>
            <a:pPr marL="89640">
              <a:lnSpc>
                <a:spcPct val="100000"/>
              </a:lnSpc>
              <a:spcBef>
                <a:spcPts val="666"/>
              </a:spcBef>
            </a:pP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го:</a:t>
            </a:r>
            <a:r>
              <a:rPr b="0" lang="en-US" sz="18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6 тыс.</a:t>
            </a:r>
            <a:r>
              <a:rPr b="0" lang="en-US" sz="18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lang="en-US" sz="18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едприятия</a:t>
            </a:r>
            <a:r>
              <a:rPr b="0" lang="en-US" sz="18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производ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бутылочный»</a:t>
            </a:r>
            <a:r>
              <a:rPr b="0" lang="en-US" sz="18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21" strike="noStrike">
                <a:solidFill>
                  <a:srgbClr val="000000"/>
                </a:solidFill>
                <a:latin typeface="Calibri"/>
              </a:rPr>
              <a:t>ПЭТ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bject 117"/>
          <p:cNvSpPr/>
          <p:nvPr/>
        </p:nvSpPr>
        <p:spPr>
          <a:xfrm>
            <a:off x="5283360" y="1133280"/>
            <a:ext cx="37771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299160" indent="-286920">
              <a:lnSpc>
                <a:spcPct val="100000"/>
              </a:lnSpc>
              <a:spcBef>
                <a:spcPts val="10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1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ЭТФ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en-US" sz="11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ыросло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на 70</a:t>
            </a:r>
            <a:r>
              <a:rPr b="1" lang="en-US" sz="11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160" indent="-286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Отсутствуют</a:t>
            </a:r>
            <a:r>
              <a:rPr b="1" lang="en-US" sz="11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мощности</a:t>
            </a:r>
            <a:r>
              <a:rPr b="1" lang="en-US" sz="11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олоконному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ПЭТФ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160" indent="-286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Пленочный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ЭТФ</a:t>
            </a:r>
            <a:r>
              <a:rPr b="1" lang="en-US" sz="11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роизводит только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«Сибур-ПЭТФ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736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На тех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же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мощностях,</a:t>
            </a:r>
            <a:r>
              <a:rPr b="1" lang="en-US" sz="11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что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1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бутылочный.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зависимости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спроса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– примерно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1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год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7360" indent="-285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11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очти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выпускаемое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1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России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ЭТФ-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волокно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и нетканые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материалы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ыпускаются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1" lang="en-US" sz="11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отходов бутылочного</a:t>
            </a:r>
            <a:r>
              <a:rPr b="1" lang="en-US" sz="1100" spc="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ПЭТФ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bject 118"/>
          <p:cNvSpPr/>
          <p:nvPr/>
        </p:nvSpPr>
        <p:spPr>
          <a:xfrm>
            <a:off x="5076360" y="2874600"/>
            <a:ext cx="38732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ПЭТФ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object 119"/>
          <p:cNvGrpSpPr/>
          <p:nvPr/>
        </p:nvGrpSpPr>
        <p:grpSpPr>
          <a:xfrm>
            <a:off x="6086160" y="3484080"/>
            <a:ext cx="1862640" cy="1862640"/>
            <a:chOff x="6086160" y="3484080"/>
            <a:chExt cx="1862640" cy="1862640"/>
          </a:xfrm>
        </p:grpSpPr>
        <p:sp>
          <p:nvSpPr>
            <p:cNvPr id="1222" name="object 120"/>
            <p:cNvSpPr/>
            <p:nvPr/>
          </p:nvSpPr>
          <p:spPr>
            <a:xfrm>
              <a:off x="6086160" y="3484080"/>
              <a:ext cx="1862640" cy="186264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1862640"/>
                <a:gd name="textAreaBottom" fmla="*/ 1863000 h 1862640"/>
              </a:gdLst>
              <a:ahLst/>
              <a:rect l="textAreaLeft" t="textAreaTop" r="textAreaRight" b="textAreaBottom"/>
              <a:pathLst>
                <a:path w="1863090" h="1863089">
                  <a:moveTo>
                    <a:pt x="931417" y="0"/>
                  </a:moveTo>
                  <a:lnTo>
                    <a:pt x="931417" y="931417"/>
                  </a:lnTo>
                  <a:lnTo>
                    <a:pt x="383920" y="177799"/>
                  </a:lnTo>
                  <a:lnTo>
                    <a:pt x="344644" y="207966"/>
                  </a:lnTo>
                  <a:lnTo>
                    <a:pt x="307236" y="239986"/>
                  </a:lnTo>
                  <a:lnTo>
                    <a:pt x="271741" y="273769"/>
                  </a:lnTo>
                  <a:lnTo>
                    <a:pt x="238206" y="309227"/>
                  </a:lnTo>
                  <a:lnTo>
                    <a:pt x="206677" y="346270"/>
                  </a:lnTo>
                  <a:lnTo>
                    <a:pt x="177197" y="384809"/>
                  </a:lnTo>
                  <a:lnTo>
                    <a:pt x="149815" y="424755"/>
                  </a:lnTo>
                  <a:lnTo>
                    <a:pt x="124574" y="466017"/>
                  </a:lnTo>
                  <a:lnTo>
                    <a:pt x="101520" y="508507"/>
                  </a:lnTo>
                  <a:lnTo>
                    <a:pt x="80700" y="552136"/>
                  </a:lnTo>
                  <a:lnTo>
                    <a:pt x="62158" y="596813"/>
                  </a:lnTo>
                  <a:lnTo>
                    <a:pt x="45941" y="642450"/>
                  </a:lnTo>
                  <a:lnTo>
                    <a:pt x="32093" y="688957"/>
                  </a:lnTo>
                  <a:lnTo>
                    <a:pt x="20661" y="736245"/>
                  </a:lnTo>
                  <a:lnTo>
                    <a:pt x="11690" y="784224"/>
                  </a:lnTo>
                  <a:lnTo>
                    <a:pt x="5226" y="832806"/>
                  </a:lnTo>
                  <a:lnTo>
                    <a:pt x="1314" y="881900"/>
                  </a:lnTo>
                  <a:lnTo>
                    <a:pt x="0" y="931417"/>
                  </a:lnTo>
                  <a:lnTo>
                    <a:pt x="1211" y="979343"/>
                  </a:lnTo>
                  <a:lnTo>
                    <a:pt x="4808" y="1026640"/>
                  </a:lnTo>
                  <a:lnTo>
                    <a:pt x="10730" y="1073250"/>
                  </a:lnTo>
                  <a:lnTo>
                    <a:pt x="18920" y="1119114"/>
                  </a:lnTo>
                  <a:lnTo>
                    <a:pt x="29319" y="1164174"/>
                  </a:lnTo>
                  <a:lnTo>
                    <a:pt x="41868" y="1208371"/>
                  </a:lnTo>
                  <a:lnTo>
                    <a:pt x="56510" y="1251647"/>
                  </a:lnTo>
                  <a:lnTo>
                    <a:pt x="73185" y="1293943"/>
                  </a:lnTo>
                  <a:lnTo>
                    <a:pt x="91836" y="1335200"/>
                  </a:lnTo>
                  <a:lnTo>
                    <a:pt x="112403" y="1375361"/>
                  </a:lnTo>
                  <a:lnTo>
                    <a:pt x="134828" y="1414366"/>
                  </a:lnTo>
                  <a:lnTo>
                    <a:pt x="159053" y="1452157"/>
                  </a:lnTo>
                  <a:lnTo>
                    <a:pt x="185019" y="1488675"/>
                  </a:lnTo>
                  <a:lnTo>
                    <a:pt x="212668" y="1523862"/>
                  </a:lnTo>
                  <a:lnTo>
                    <a:pt x="241941" y="1557659"/>
                  </a:lnTo>
                  <a:lnTo>
                    <a:pt x="272780" y="1590008"/>
                  </a:lnTo>
                  <a:lnTo>
                    <a:pt x="305126" y="1620850"/>
                  </a:lnTo>
                  <a:lnTo>
                    <a:pt x="338920" y="1650126"/>
                  </a:lnTo>
                  <a:lnTo>
                    <a:pt x="374106" y="1677779"/>
                  </a:lnTo>
                  <a:lnTo>
                    <a:pt x="410622" y="1703749"/>
                  </a:lnTo>
                  <a:lnTo>
                    <a:pt x="448413" y="1727978"/>
                  </a:lnTo>
                  <a:lnTo>
                    <a:pt x="487418" y="1750407"/>
                  </a:lnTo>
                  <a:lnTo>
                    <a:pt x="527579" y="1770978"/>
                  </a:lnTo>
                  <a:lnTo>
                    <a:pt x="568838" y="1789632"/>
                  </a:lnTo>
                  <a:lnTo>
                    <a:pt x="611137" y="1806311"/>
                  </a:lnTo>
                  <a:lnTo>
                    <a:pt x="654417" y="1820956"/>
                  </a:lnTo>
                  <a:lnTo>
                    <a:pt x="698619" y="1833508"/>
                  </a:lnTo>
                  <a:lnTo>
                    <a:pt x="743684" y="1843910"/>
                  </a:lnTo>
                  <a:lnTo>
                    <a:pt x="789556" y="1852102"/>
                  </a:lnTo>
                  <a:lnTo>
                    <a:pt x="836174" y="1858026"/>
                  </a:lnTo>
                  <a:lnTo>
                    <a:pt x="883481" y="1861623"/>
                  </a:lnTo>
                  <a:lnTo>
                    <a:pt x="931417" y="1862835"/>
                  </a:lnTo>
                  <a:lnTo>
                    <a:pt x="979343" y="1861623"/>
                  </a:lnTo>
                  <a:lnTo>
                    <a:pt x="1026640" y="1858026"/>
                  </a:lnTo>
                  <a:lnTo>
                    <a:pt x="1073250" y="1852102"/>
                  </a:lnTo>
                  <a:lnTo>
                    <a:pt x="1119114" y="1843910"/>
                  </a:lnTo>
                  <a:lnTo>
                    <a:pt x="1164174" y="1833508"/>
                  </a:lnTo>
                  <a:lnTo>
                    <a:pt x="1208371" y="1820956"/>
                  </a:lnTo>
                  <a:lnTo>
                    <a:pt x="1251647" y="1806311"/>
                  </a:lnTo>
                  <a:lnTo>
                    <a:pt x="1293943" y="1789632"/>
                  </a:lnTo>
                  <a:lnTo>
                    <a:pt x="1335200" y="1770978"/>
                  </a:lnTo>
                  <a:lnTo>
                    <a:pt x="1375361" y="1750407"/>
                  </a:lnTo>
                  <a:lnTo>
                    <a:pt x="1414366" y="1727978"/>
                  </a:lnTo>
                  <a:lnTo>
                    <a:pt x="1452157" y="1703749"/>
                  </a:lnTo>
                  <a:lnTo>
                    <a:pt x="1488675" y="1677779"/>
                  </a:lnTo>
                  <a:lnTo>
                    <a:pt x="1523862" y="1650126"/>
                  </a:lnTo>
                  <a:lnTo>
                    <a:pt x="1557659" y="1620850"/>
                  </a:lnTo>
                  <a:lnTo>
                    <a:pt x="1590008" y="1590008"/>
                  </a:lnTo>
                  <a:lnTo>
                    <a:pt x="1620850" y="1557659"/>
                  </a:lnTo>
                  <a:lnTo>
                    <a:pt x="1650126" y="1523862"/>
                  </a:lnTo>
                  <a:lnTo>
                    <a:pt x="1677779" y="1488675"/>
                  </a:lnTo>
                  <a:lnTo>
                    <a:pt x="1703749" y="1452157"/>
                  </a:lnTo>
                  <a:lnTo>
                    <a:pt x="1727978" y="1414366"/>
                  </a:lnTo>
                  <a:lnTo>
                    <a:pt x="1750407" y="1375361"/>
                  </a:lnTo>
                  <a:lnTo>
                    <a:pt x="1770978" y="1335200"/>
                  </a:lnTo>
                  <a:lnTo>
                    <a:pt x="1789632" y="1293943"/>
                  </a:lnTo>
                  <a:lnTo>
                    <a:pt x="1806311" y="1251647"/>
                  </a:lnTo>
                  <a:lnTo>
                    <a:pt x="1820956" y="1208371"/>
                  </a:lnTo>
                  <a:lnTo>
                    <a:pt x="1833508" y="1164174"/>
                  </a:lnTo>
                  <a:lnTo>
                    <a:pt x="1843910" y="1119114"/>
                  </a:lnTo>
                  <a:lnTo>
                    <a:pt x="1852102" y="1073250"/>
                  </a:lnTo>
                  <a:lnTo>
                    <a:pt x="1858026" y="1026640"/>
                  </a:lnTo>
                  <a:lnTo>
                    <a:pt x="1861623" y="979343"/>
                  </a:lnTo>
                  <a:lnTo>
                    <a:pt x="1862835" y="931417"/>
                  </a:lnTo>
                  <a:lnTo>
                    <a:pt x="1861623" y="883481"/>
                  </a:lnTo>
                  <a:lnTo>
                    <a:pt x="1858026" y="836174"/>
                  </a:lnTo>
                  <a:lnTo>
                    <a:pt x="1852102" y="789556"/>
                  </a:lnTo>
                  <a:lnTo>
                    <a:pt x="1843910" y="743684"/>
                  </a:lnTo>
                  <a:lnTo>
                    <a:pt x="1833508" y="698619"/>
                  </a:lnTo>
                  <a:lnTo>
                    <a:pt x="1820956" y="654417"/>
                  </a:lnTo>
                  <a:lnTo>
                    <a:pt x="1806311" y="611137"/>
                  </a:lnTo>
                  <a:lnTo>
                    <a:pt x="1789632" y="568838"/>
                  </a:lnTo>
                  <a:lnTo>
                    <a:pt x="1770978" y="527579"/>
                  </a:lnTo>
                  <a:lnTo>
                    <a:pt x="1750407" y="487418"/>
                  </a:lnTo>
                  <a:lnTo>
                    <a:pt x="1727978" y="448413"/>
                  </a:lnTo>
                  <a:lnTo>
                    <a:pt x="1703749" y="410622"/>
                  </a:lnTo>
                  <a:lnTo>
                    <a:pt x="1677779" y="374106"/>
                  </a:lnTo>
                  <a:lnTo>
                    <a:pt x="1650126" y="338920"/>
                  </a:lnTo>
                  <a:lnTo>
                    <a:pt x="1620850" y="305126"/>
                  </a:lnTo>
                  <a:lnTo>
                    <a:pt x="1590008" y="272780"/>
                  </a:lnTo>
                  <a:lnTo>
                    <a:pt x="1557659" y="241941"/>
                  </a:lnTo>
                  <a:lnTo>
                    <a:pt x="1523862" y="212668"/>
                  </a:lnTo>
                  <a:lnTo>
                    <a:pt x="1488675" y="185019"/>
                  </a:lnTo>
                  <a:lnTo>
                    <a:pt x="1452157" y="159053"/>
                  </a:lnTo>
                  <a:lnTo>
                    <a:pt x="1414366" y="134828"/>
                  </a:lnTo>
                  <a:lnTo>
                    <a:pt x="1375361" y="112403"/>
                  </a:lnTo>
                  <a:lnTo>
                    <a:pt x="1335200" y="91836"/>
                  </a:lnTo>
                  <a:lnTo>
                    <a:pt x="1293943" y="73185"/>
                  </a:lnTo>
                  <a:lnTo>
                    <a:pt x="1251647" y="56510"/>
                  </a:lnTo>
                  <a:lnTo>
                    <a:pt x="1208371" y="41868"/>
                  </a:lnTo>
                  <a:lnTo>
                    <a:pt x="1164174" y="29319"/>
                  </a:lnTo>
                  <a:lnTo>
                    <a:pt x="1119114" y="18920"/>
                  </a:lnTo>
                  <a:lnTo>
                    <a:pt x="1073250" y="10730"/>
                  </a:lnTo>
                  <a:lnTo>
                    <a:pt x="1026640" y="4808"/>
                  </a:lnTo>
                  <a:lnTo>
                    <a:pt x="979343" y="1211"/>
                  </a:lnTo>
                  <a:lnTo>
                    <a:pt x="93141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bject 121"/>
            <p:cNvSpPr/>
            <p:nvPr/>
          </p:nvSpPr>
          <p:spPr>
            <a:xfrm>
              <a:off x="6469920" y="3500640"/>
              <a:ext cx="547560" cy="91476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548004" h="915035">
                  <a:moveTo>
                    <a:pt x="372871" y="0"/>
                  </a:moveTo>
                  <a:lnTo>
                    <a:pt x="322746" y="10993"/>
                  </a:lnTo>
                  <a:lnTo>
                    <a:pt x="273409" y="24701"/>
                  </a:lnTo>
                  <a:lnTo>
                    <a:pt x="224967" y="41076"/>
                  </a:lnTo>
                  <a:lnTo>
                    <a:pt x="177530" y="60071"/>
                  </a:lnTo>
                  <a:lnTo>
                    <a:pt x="131206" y="81637"/>
                  </a:lnTo>
                  <a:lnTo>
                    <a:pt x="86104" y="105727"/>
                  </a:lnTo>
                  <a:lnTo>
                    <a:pt x="42332" y="132294"/>
                  </a:lnTo>
                  <a:lnTo>
                    <a:pt x="0" y="161290"/>
                  </a:lnTo>
                  <a:lnTo>
                    <a:pt x="547496" y="914908"/>
                  </a:lnTo>
                  <a:lnTo>
                    <a:pt x="37287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bject 122"/>
            <p:cNvSpPr/>
            <p:nvPr/>
          </p:nvSpPr>
          <p:spPr>
            <a:xfrm>
              <a:off x="6842880" y="3484080"/>
              <a:ext cx="174240" cy="9313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174625" h="931545">
                  <a:moveTo>
                    <a:pt x="174625" y="0"/>
                  </a:moveTo>
                  <a:lnTo>
                    <a:pt x="130677" y="1025"/>
                  </a:lnTo>
                  <a:lnTo>
                    <a:pt x="86883" y="4111"/>
                  </a:lnTo>
                  <a:lnTo>
                    <a:pt x="43305" y="9269"/>
                  </a:lnTo>
                  <a:lnTo>
                    <a:pt x="0" y="16509"/>
                  </a:lnTo>
                  <a:lnTo>
                    <a:pt x="174625" y="931417"/>
                  </a:lnTo>
                  <a:lnTo>
                    <a:pt x="174625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object 123"/>
          <p:cNvSpPr/>
          <p:nvPr/>
        </p:nvSpPr>
        <p:spPr>
          <a:xfrm>
            <a:off x="7072200" y="4621680"/>
            <a:ext cx="7088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Упаковка(бу тылк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2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bject 124"/>
          <p:cNvSpPr/>
          <p:nvPr/>
        </p:nvSpPr>
        <p:spPr>
          <a:xfrm>
            <a:off x="6390360" y="3271320"/>
            <a:ext cx="799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03480"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олок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2400" algn="ctr">
              <a:lnSpc>
                <a:spcPts val="1125"/>
              </a:lnSpc>
              <a:spcBef>
                <a:spcPts val="31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2400" algn="ctr">
              <a:lnSpc>
                <a:spcPts val="1125"/>
              </a:lnSpc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240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bject 125"/>
          <p:cNvSpPr/>
          <p:nvPr/>
        </p:nvSpPr>
        <p:spPr>
          <a:xfrm>
            <a:off x="5304960" y="5606640"/>
            <a:ext cx="37645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9160" indent="-286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ЭТФ характеризуется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однобок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требления,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вается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сновном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упак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440"/>
                <a:tab algn="l" pos="290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ваново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оздается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комбинат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выпуску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лиэфирного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штапельного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локна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тексти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bject 126"/>
          <p:cNvSpPr/>
          <p:nvPr/>
        </p:nvSpPr>
        <p:spPr>
          <a:xfrm>
            <a:off x="5583600" y="6337800"/>
            <a:ext cx="2295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гранулята.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см.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«Новые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ект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50080" y="146520"/>
            <a:ext cx="416448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Новые</a:t>
            </a:r>
            <a:r>
              <a:rPr b="0" lang="en-US" sz="2400" spc="-2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роекты.</a:t>
            </a:r>
            <a:r>
              <a:rPr b="0" lang="en-US" sz="2400" spc="-2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олефин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ldNum" idx="13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BA0B08D6-6736-48E8-8E2E-866DB601F506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1" name="object 3"/>
          <p:cNvGraphicFramePr/>
          <p:nvPr/>
        </p:nvGraphicFramePr>
        <p:xfrm>
          <a:off x="677160" y="1334520"/>
          <a:ext cx="7360560" cy="4966560"/>
        </p:xfrm>
        <a:graphic>
          <a:graphicData uri="http://schemas.openxmlformats.org/drawingml/2006/table">
            <a:tbl>
              <a:tblPr/>
              <a:tblGrid>
                <a:gridCol w="1839960"/>
                <a:gridCol w="1839960"/>
                <a:gridCol w="1839960"/>
                <a:gridCol w="1839960"/>
              </a:tblGrid>
              <a:tr h="397800">
                <a:tc>
                  <a:txBody>
                    <a:bodyPr lIns="0" rIns="0" tIns="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"/>
                        </a:spcBef>
                      </a:pPr>
                      <a:endParaRPr b="0" lang="en-US" sz="8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26640" bIns="0" anchor="t">
                      <a:noAutofit/>
                    </a:bodyPr>
                    <a:p>
                      <a:pPr marL="569520" indent="-325080">
                        <a:lnSpc>
                          <a:spcPct val="114000"/>
                        </a:lnSpc>
                        <a:spcBef>
                          <a:spcPts val="210"/>
                        </a:spcBef>
                        <a:tabLst>
                          <a:tab algn="l" pos="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жидаемые</a:t>
                      </a:r>
                      <a:r>
                        <a:rPr b="1" lang="en-US" sz="900" spc="-3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ввода</a:t>
                      </a:r>
                      <a:r>
                        <a:rPr b="1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52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"/>
                        </a:spcBef>
                      </a:pPr>
                      <a:endParaRPr b="0" lang="en-US" sz="8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algn="ctr">
                        <a:lnSpc>
                          <a:spcPct val="100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щность,</a:t>
                      </a:r>
                      <a:r>
                        <a:rPr b="1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</a:t>
                      </a:r>
                      <a:r>
                        <a:rPr b="1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52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"/>
                        </a:spcBef>
                      </a:pPr>
                      <a:endParaRPr b="0" lang="en-US" sz="8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3720">
                        <a:lnSpc>
                          <a:spcPct val="100000"/>
                        </a:lnSpc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ч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</a:tr>
              <a:tr h="488880">
                <a:tc>
                  <a:txBody>
                    <a:bodyPr lIns="0" rIns="0" tIns="91800" bIns="0" anchor="t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spcBef>
                          <a:spcPts val="726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Запсибнефтехим»</a:t>
                      </a:r>
                      <a:r>
                        <a:rPr b="1" lang="en-US" sz="900" spc="-4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СИБУ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</a:pP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91800" bIns="0" anchor="t">
                      <a:noAutofit/>
                    </a:bodyPr>
                    <a:p>
                      <a:pPr marL="720" algn="ctr">
                        <a:lnSpc>
                          <a:spcPct val="100000"/>
                        </a:lnSpc>
                        <a:spcBef>
                          <a:spcPts val="726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Э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6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488880">
                <a:tc>
                  <a:txBody>
                    <a:bodyPr lIns="0" rIns="0" tIns="12600" bIns="0" anchor="t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spcBef>
                          <a:spcPts val="99"/>
                        </a:spcBef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воуренгой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ts val="1250"/>
                        </a:lnSpc>
                        <a:spcBef>
                          <a:spcPts val="54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охимический</a:t>
                      </a:r>
                      <a:r>
                        <a:rPr b="1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»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пр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0080">
                        <a:lnSpc>
                          <a:spcPct val="100000"/>
                        </a:lnSpc>
                      </a:pP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гостр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588600"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9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100000"/>
                        </a:lnSpc>
                        <a:spcBef>
                          <a:spcPts val="6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Астраханский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ХК»</a:t>
                      </a:r>
                      <a:r>
                        <a:rPr b="1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пром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100000"/>
                        </a:lnSpc>
                        <a:spcBef>
                          <a:spcPts val="156"/>
                        </a:spcBef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клэ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730080">
                <a:tc>
                  <a:txBody>
                    <a:bodyPr lIns="0" rIns="0" tIns="73440" bIns="0" anchor="t">
                      <a:noAutofit/>
                    </a:bodyPr>
                    <a:p>
                      <a:pPr marL="41400" algn="just">
                        <a:lnSpc>
                          <a:spcPct val="100000"/>
                        </a:lnSpc>
                        <a:spcBef>
                          <a:spcPts val="581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Завод</a:t>
                      </a:r>
                      <a:r>
                        <a:rPr b="1" lang="en-US" sz="900" spc="4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этилена</a:t>
                      </a:r>
                      <a:r>
                        <a:rPr b="1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en-US" sz="900" spc="-7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ь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Кутском</a:t>
                      </a:r>
                      <a:r>
                        <a:rPr b="1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е»</a:t>
                      </a:r>
                      <a:r>
                        <a:rPr b="1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Иркутская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фтяная</a:t>
                      </a:r>
                      <a:r>
                        <a:rPr b="1" lang="en-US" sz="900" spc="-3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  <a:spcBef>
                          <a:spcPts val="624"/>
                        </a:spcBef>
                      </a:pP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4"/>
                        </a:spcBef>
                      </a:pP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488880">
                <a:tc>
                  <a:txBody>
                    <a:bodyPr lIns="0" rIns="0" tIns="1800" bIns="0" anchor="t">
                      <a:noAutofit/>
                    </a:bodyPr>
                    <a:p>
                      <a:pPr marL="41400">
                        <a:lnSpc>
                          <a:spcPts val="1239"/>
                        </a:lnSpc>
                        <a:spcBef>
                          <a:spcPts val="14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Этиленовый</a:t>
                      </a:r>
                      <a:r>
                        <a:rPr b="1" lang="en-US" sz="900" spc="-3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»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некамскнефтехи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28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28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илен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</a:t>
                      </a:r>
                      <a:r>
                        <a:rPr b="0" lang="en-US" sz="900" spc="-1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а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6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651960">
                <a:tc>
                  <a:txBody>
                    <a:bodyPr lIns="0" rIns="0" tIns="74880" bIns="0" anchor="t">
                      <a:noAutofit/>
                    </a:bodyPr>
                    <a:p>
                      <a:pPr marL="41400">
                        <a:lnSpc>
                          <a:spcPct val="114000"/>
                        </a:lnSpc>
                        <a:spcBef>
                          <a:spcPts val="590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осточный</a:t>
                      </a:r>
                      <a:r>
                        <a:rPr b="1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нефтехимический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комплекс»</a:t>
                      </a:r>
                      <a:r>
                        <a:rPr b="1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неф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"/>
                        </a:spcBef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нее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"/>
                        </a:spcBef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Э,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25440">
                <a:tc>
                  <a:txBody>
                    <a:bodyPr lIns="0" rIns="0" tIns="89280" bIns="0" anchor="t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Санорс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нефть</a:t>
                      </a:r>
                      <a:r>
                        <a:rPr b="1" lang="en-US" sz="900" spc="38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куйбышевс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89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нее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10440" bIns="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85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ПЭ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9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89280" bIns="0" anchor="t">
                      <a:noAutofit/>
                    </a:bodyPr>
                    <a:p>
                      <a:pPr marL="640080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гостр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80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100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Амурский</a:t>
                      </a:r>
                      <a:r>
                        <a:rPr b="1" lang="en-US" sz="900" spc="-3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охимиче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100000"/>
                        </a:lnSpc>
                        <a:spcBef>
                          <a:spcPts val="159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»</a:t>
                      </a:r>
                      <a:r>
                        <a:rPr b="1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БУ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320">
                        <a:lnSpc>
                          <a:spcPct val="114000"/>
                        </a:lnSpc>
                      </a:pP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1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редь</a:t>
                      </a:r>
                      <a:r>
                        <a:rPr b="0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нее</a:t>
                      </a:r>
                      <a:r>
                        <a:rPr b="0" lang="en-US" sz="900" spc="-7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редь</a:t>
                      </a:r>
                      <a:r>
                        <a:rPr b="0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нее</a:t>
                      </a:r>
                      <a:r>
                        <a:rPr b="0" lang="en-US" sz="900" spc="-7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3640" indent="-939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9000"/>
                        <a:buFont typeface="StarSymbol"/>
                        <a:buAutoNum type="arabicPlain"/>
                        <a:tabLst>
                          <a:tab algn="l" pos="504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r>
                        <a:rPr b="0" lang="en-US" sz="900" spc="-4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редь</a:t>
                      </a:r>
                      <a:r>
                        <a:rPr b="0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r>
                        <a:rPr b="0" lang="en-US" sz="900" spc="-5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ПЭ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6120" indent="-93960">
                        <a:lnSpc>
                          <a:spcPct val="100000"/>
                        </a:lnSpc>
                        <a:spcBef>
                          <a:spcPts val="159"/>
                        </a:spcBef>
                        <a:buClr>
                          <a:srgbClr val="000000"/>
                        </a:buClr>
                        <a:buSzPct val="89000"/>
                        <a:buFont typeface="StarSymbol"/>
                        <a:buAutoNum type="arabicPlain"/>
                        <a:tabLst>
                          <a:tab algn="l" pos="54684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редь</a:t>
                      </a:r>
                      <a:r>
                        <a:rPr b="0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П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</a:tbl>
          </a:graphicData>
        </a:graphic>
      </p:graphicFrame>
      <p:sp>
        <p:nvSpPr>
          <p:cNvPr id="1232" name="object 4"/>
          <p:cNvSpPr/>
          <p:nvPr/>
        </p:nvSpPr>
        <p:spPr>
          <a:xfrm>
            <a:off x="2346840" y="857880"/>
            <a:ext cx="42904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Новые</a:t>
            </a:r>
            <a:r>
              <a:rPr b="1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роекты</a:t>
            </a:r>
            <a:r>
              <a:rPr b="1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роизводству</a:t>
            </a:r>
            <a:r>
              <a:rPr b="1" lang="en-US" sz="16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олиолеф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001880" y="110520"/>
            <a:ext cx="29606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Новые</a:t>
            </a:r>
            <a:r>
              <a:rPr b="0" lang="en-US" sz="2400" spc="-2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роекты.</a:t>
            </a:r>
            <a:r>
              <a:rPr b="0" lang="en-US" sz="2400" spc="-21" strike="noStrike">
                <a:solidFill>
                  <a:srgbClr val="000000"/>
                </a:solidFill>
                <a:latin typeface="Century Gothic"/>
              </a:rPr>
              <a:t> ПЭТФ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ldNum" idx="14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2373E431-7FF6-42C0-838D-B2944AFCC7B4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5" name="object 3"/>
          <p:cNvGraphicFramePr/>
          <p:nvPr/>
        </p:nvGraphicFramePr>
        <p:xfrm>
          <a:off x="1253160" y="1334520"/>
          <a:ext cx="6366240" cy="3389760"/>
        </p:xfrm>
        <a:graphic>
          <a:graphicData uri="http://schemas.openxmlformats.org/drawingml/2006/table">
            <a:tbl>
              <a:tblPr/>
              <a:tblGrid>
                <a:gridCol w="1518840"/>
                <a:gridCol w="1519200"/>
                <a:gridCol w="3328200"/>
              </a:tblGrid>
              <a:tr h="1008360">
                <a:tc>
                  <a:txBody>
                    <a:bodyPr lIns="0" rIns="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"/>
                        </a:spcBef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4320">
                        <a:lnSpc>
                          <a:spcPct val="100000"/>
                        </a:lnSpc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Комп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6840" bIns="0" anchor="t">
                      <a:noAutofit/>
                    </a:bodyPr>
                    <a:p>
                      <a:pPr marL="272520">
                        <a:lnSpc>
                          <a:spcPct val="100000"/>
                        </a:lnSpc>
                        <a:spcBef>
                          <a:spcPts val="54"/>
                        </a:spcBef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Ожид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560" indent="7560">
                        <a:lnSpc>
                          <a:spcPts val="193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сроки</a:t>
                      </a:r>
                      <a:r>
                        <a:rPr b="1" lang="en-US" sz="1400" spc="-3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ввода</a:t>
                      </a:r>
                      <a:r>
                        <a:rPr b="1" lang="en-US" sz="1400" spc="-41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52" strike="noStrike">
                          <a:solidFill>
                            <a:srgbClr val="1e5155"/>
                          </a:solidFill>
                          <a:latin typeface="Calibri"/>
                        </a:rPr>
                        <a:t>в </a:t>
                      </a: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"/>
                        </a:spcBef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Мощность,</a:t>
                      </a:r>
                      <a:r>
                        <a:rPr b="1" lang="en-US" sz="1400" spc="-41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тыс.</a:t>
                      </a:r>
                      <a:r>
                        <a:rPr b="1" lang="en-US" sz="1400" spc="-26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52" strike="noStrike">
                          <a:solidFill>
                            <a:srgbClr val="1e5155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</a:tr>
              <a:tr h="87696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596"/>
                        </a:lnSpc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Иван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760">
                        <a:lnSpc>
                          <a:spcPct val="100000"/>
                        </a:lnSpc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полиэфирный компле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"/>
                        </a:spcBef>
                      </a:pPr>
                      <a:endParaRPr b="0" lang="en-US" sz="1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80320">
                        <a:lnSpc>
                          <a:spcPct val="100000"/>
                        </a:lnSpc>
                      </a:pP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95040" bIns="0" anchor="t">
                      <a:noAutofit/>
                    </a:bodyPr>
                    <a:p>
                      <a:pPr marL="547920">
                        <a:lnSpc>
                          <a:spcPct val="100000"/>
                        </a:lnSpc>
                        <a:spcBef>
                          <a:spcPts val="751"/>
                        </a:spcBef>
                      </a:pP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175</a:t>
                      </a:r>
                      <a:r>
                        <a:rPr b="0" lang="en-US" sz="1400" spc="12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волоконный</a:t>
                      </a:r>
                      <a:r>
                        <a:rPr b="0" lang="en-US" sz="1400" spc="-1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ПЭ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81760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30</a:t>
                      </a:r>
                      <a:r>
                        <a:rPr b="0" lang="en-US" sz="1400" spc="-52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текстильный</a:t>
                      </a:r>
                      <a:r>
                        <a:rPr b="0" lang="en-US" sz="1400" spc="-3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ПЭ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628200">
                <a:tc>
                  <a:txBody>
                    <a:bodyPr lIns="0" rIns="0" tIns="6840" bIns="0" anchor="t">
                      <a:noAutofit/>
                    </a:bodyPr>
                    <a:p>
                      <a:pPr marL="68760">
                        <a:lnSpc>
                          <a:spcPct val="100000"/>
                        </a:lnSpc>
                        <a:spcBef>
                          <a:spcPts val="54"/>
                        </a:spcBef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СафПЭ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111600" bIns="0" anchor="t">
                      <a:noAutofit/>
                    </a:bodyPr>
                    <a:p>
                      <a:pPr marL="580320">
                        <a:lnSpc>
                          <a:spcPct val="100000"/>
                        </a:lnSpc>
                        <a:spcBef>
                          <a:spcPts val="879"/>
                        </a:spcBef>
                      </a:pP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111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9"/>
                        </a:spcBef>
                      </a:pP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250</a:t>
                      </a:r>
                      <a:r>
                        <a:rPr b="0" lang="en-US" sz="1400" spc="-1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бутылочный</a:t>
                      </a: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 ПЭ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87588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596"/>
                        </a:lnSpc>
                      </a:pPr>
                      <a:r>
                        <a:rPr b="1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Завод</a:t>
                      </a:r>
                      <a:r>
                        <a:rPr b="1" lang="en-US" sz="1400" spc="-7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чис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760">
                        <a:lnSpc>
                          <a:spcPct val="100000"/>
                        </a:lnSpc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полимеров Э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95760" bIns="0" anchor="t">
                      <a:noAutofit/>
                    </a:bodyPr>
                    <a:p>
                      <a:pPr marL="720" algn="ctr">
                        <a:lnSpc>
                          <a:spcPct val="100000"/>
                        </a:lnSpc>
                        <a:spcBef>
                          <a:spcPts val="754"/>
                        </a:spcBef>
                      </a:pP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algn="ctr">
                        <a:lnSpc>
                          <a:spcPct val="100000"/>
                        </a:lnSpc>
                      </a:pPr>
                      <a:r>
                        <a:rPr b="0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(1-</a:t>
                      </a: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я </a:t>
                      </a:r>
                      <a:r>
                        <a:rPr b="0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очеред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"/>
                        </a:spcBef>
                      </a:pPr>
                      <a:endParaRPr b="0" lang="en-US" sz="1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486</a:t>
                      </a:r>
                      <a:r>
                        <a:rPr b="0" lang="en-US" sz="1400" spc="-1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бутылочный</a:t>
                      </a:r>
                      <a:r>
                        <a:rPr b="0" lang="en-US" sz="1400" spc="-1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ПЭ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</a:tbl>
          </a:graphicData>
        </a:graphic>
      </p:graphicFrame>
      <p:sp>
        <p:nvSpPr>
          <p:cNvPr id="1236" name="object 4"/>
          <p:cNvSpPr/>
          <p:nvPr/>
        </p:nvSpPr>
        <p:spPr>
          <a:xfrm>
            <a:off x="2562840" y="857880"/>
            <a:ext cx="3442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Новые</a:t>
            </a:r>
            <a:r>
              <a:rPr b="1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роекты</a:t>
            </a:r>
            <a:r>
              <a:rPr b="1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роизводству</a:t>
            </a:r>
            <a:r>
              <a:rPr b="1" lang="en-US" sz="16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ff0000"/>
                </a:solidFill>
                <a:latin typeface="Calibri"/>
              </a:rPr>
              <a:t>ПЭТ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15848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33120" indent="0">
              <a:lnSpc>
                <a:spcPct val="100000"/>
              </a:lnSpc>
              <a:spcBef>
                <a:spcPts val="105"/>
              </a:spcBef>
              <a:buNone/>
            </a:pPr>
            <a:r>
              <a:rPr b="1" lang="en-US" sz="4400" spc="-1" strike="noStrike">
                <a:solidFill>
                  <a:srgbClr val="4f81bc"/>
                </a:solidFill>
                <a:latin typeface="Calibri"/>
              </a:rPr>
              <a:t>Переработка</a:t>
            </a:r>
            <a:r>
              <a:rPr b="1" lang="en-US" sz="4400" spc="-131" strike="noStrike">
                <a:solidFill>
                  <a:srgbClr val="4f81bc"/>
                </a:solidFill>
                <a:latin typeface="Calibri"/>
              </a:rPr>
              <a:t> </a:t>
            </a:r>
            <a:r>
              <a:rPr b="1" lang="en-US" sz="4400" spc="-12" strike="noStrike">
                <a:solidFill>
                  <a:srgbClr val="4f81bc"/>
                </a:solidFill>
                <a:latin typeface="Calibri"/>
              </a:rPr>
              <a:t>полимеров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ldNum" idx="15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1200" spc="-26" strike="noStrike">
                <a:solidFill>
                  <a:srgbClr val="b0b0b0"/>
                </a:solidFill>
                <a:latin typeface="Calibri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05DA1537-1DD8-4F1F-9EDE-7283786DE453}" type="slidenum">
              <a:rPr b="0" lang="en-US" sz="1200" spc="-26" strike="noStrike">
                <a:solidFill>
                  <a:srgbClr val="b0b0b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44520" y="176760"/>
            <a:ext cx="124488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Труб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ldNum" idx="16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390520E0-95B6-4284-8A28-AC4468CCDD87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bject 3"/>
          <p:cNvSpPr/>
          <p:nvPr/>
        </p:nvSpPr>
        <p:spPr>
          <a:xfrm>
            <a:off x="330120" y="826920"/>
            <a:ext cx="5722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bject 4"/>
          <p:cNvSpPr/>
          <p:nvPr/>
        </p:nvSpPr>
        <p:spPr>
          <a:xfrm>
            <a:off x="330120" y="4588920"/>
            <a:ext cx="5837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object 5"/>
          <p:cNvGrpSpPr/>
          <p:nvPr/>
        </p:nvGrpSpPr>
        <p:grpSpPr>
          <a:xfrm>
            <a:off x="6510240" y="1558440"/>
            <a:ext cx="1998000" cy="1997280"/>
            <a:chOff x="6510240" y="1558440"/>
            <a:chExt cx="1998000" cy="1997280"/>
          </a:xfrm>
        </p:grpSpPr>
        <p:sp>
          <p:nvSpPr>
            <p:cNvPr id="1244" name="object 6"/>
            <p:cNvSpPr/>
            <p:nvPr/>
          </p:nvSpPr>
          <p:spPr>
            <a:xfrm>
              <a:off x="6717960" y="1558440"/>
              <a:ext cx="1790280" cy="199728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1790700" h="1997710">
                  <a:moveTo>
                    <a:pt x="791463" y="0"/>
                  </a:moveTo>
                  <a:lnTo>
                    <a:pt x="791463" y="499491"/>
                  </a:lnTo>
                  <a:lnTo>
                    <a:pt x="842731" y="502124"/>
                  </a:lnTo>
                  <a:lnTo>
                    <a:pt x="893004" y="509910"/>
                  </a:lnTo>
                  <a:lnTo>
                    <a:pt x="941926" y="522675"/>
                  </a:lnTo>
                  <a:lnTo>
                    <a:pt x="989142" y="540248"/>
                  </a:lnTo>
                  <a:lnTo>
                    <a:pt x="1034297" y="562455"/>
                  </a:lnTo>
                  <a:lnTo>
                    <a:pt x="1077035" y="589124"/>
                  </a:lnTo>
                  <a:lnTo>
                    <a:pt x="1117001" y="620084"/>
                  </a:lnTo>
                  <a:lnTo>
                    <a:pt x="1153840" y="655160"/>
                  </a:lnTo>
                  <a:lnTo>
                    <a:pt x="1187196" y="694182"/>
                  </a:lnTo>
                  <a:lnTo>
                    <a:pt x="1214727" y="733689"/>
                  </a:lnTo>
                  <a:lnTo>
                    <a:pt x="1237958" y="774876"/>
                  </a:lnTo>
                  <a:lnTo>
                    <a:pt x="1256924" y="817448"/>
                  </a:lnTo>
                  <a:lnTo>
                    <a:pt x="1271665" y="861112"/>
                  </a:lnTo>
                  <a:lnTo>
                    <a:pt x="1282219" y="905574"/>
                  </a:lnTo>
                  <a:lnTo>
                    <a:pt x="1288623" y="950542"/>
                  </a:lnTo>
                  <a:lnTo>
                    <a:pt x="1290916" y="995720"/>
                  </a:lnTo>
                  <a:lnTo>
                    <a:pt x="1289137" y="1040817"/>
                  </a:lnTo>
                  <a:lnTo>
                    <a:pt x="1283323" y="1085539"/>
                  </a:lnTo>
                  <a:lnTo>
                    <a:pt x="1273512" y="1129592"/>
                  </a:lnTo>
                  <a:lnTo>
                    <a:pt x="1259743" y="1172683"/>
                  </a:lnTo>
                  <a:lnTo>
                    <a:pt x="1242053" y="1214518"/>
                  </a:lnTo>
                  <a:lnTo>
                    <a:pt x="1220481" y="1254803"/>
                  </a:lnTo>
                  <a:lnTo>
                    <a:pt x="1195066" y="1293247"/>
                  </a:lnTo>
                  <a:lnTo>
                    <a:pt x="1165844" y="1329554"/>
                  </a:lnTo>
                  <a:lnTo>
                    <a:pt x="1132855" y="1363432"/>
                  </a:lnTo>
                  <a:lnTo>
                    <a:pt x="1096136" y="1394587"/>
                  </a:lnTo>
                  <a:lnTo>
                    <a:pt x="1056629" y="1422118"/>
                  </a:lnTo>
                  <a:lnTo>
                    <a:pt x="1015442" y="1445349"/>
                  </a:lnTo>
                  <a:lnTo>
                    <a:pt x="972870" y="1464315"/>
                  </a:lnTo>
                  <a:lnTo>
                    <a:pt x="929206" y="1479056"/>
                  </a:lnTo>
                  <a:lnTo>
                    <a:pt x="884744" y="1489610"/>
                  </a:lnTo>
                  <a:lnTo>
                    <a:pt x="839776" y="1496014"/>
                  </a:lnTo>
                  <a:lnTo>
                    <a:pt x="794598" y="1498307"/>
                  </a:lnTo>
                  <a:lnTo>
                    <a:pt x="749501" y="1496528"/>
                  </a:lnTo>
                  <a:lnTo>
                    <a:pt x="704779" y="1490714"/>
                  </a:lnTo>
                  <a:lnTo>
                    <a:pt x="660726" y="1480903"/>
                  </a:lnTo>
                  <a:lnTo>
                    <a:pt x="617635" y="1467134"/>
                  </a:lnTo>
                  <a:lnTo>
                    <a:pt x="575800" y="1449444"/>
                  </a:lnTo>
                  <a:lnTo>
                    <a:pt x="535515" y="1427872"/>
                  </a:lnTo>
                  <a:lnTo>
                    <a:pt x="497071" y="1402457"/>
                  </a:lnTo>
                  <a:lnTo>
                    <a:pt x="460764" y="1373235"/>
                  </a:lnTo>
                  <a:lnTo>
                    <a:pt x="426886" y="1340246"/>
                  </a:lnTo>
                  <a:lnTo>
                    <a:pt x="395731" y="1303528"/>
                  </a:lnTo>
                  <a:lnTo>
                    <a:pt x="0" y="1608201"/>
                  </a:lnTo>
                  <a:lnTo>
                    <a:pt x="30704" y="1646131"/>
                  </a:lnTo>
                  <a:lnTo>
                    <a:pt x="63052" y="1682333"/>
                  </a:lnTo>
                  <a:lnTo>
                    <a:pt x="96968" y="1716772"/>
                  </a:lnTo>
                  <a:lnTo>
                    <a:pt x="132376" y="1749408"/>
                  </a:lnTo>
                  <a:lnTo>
                    <a:pt x="169202" y="1780207"/>
                  </a:lnTo>
                  <a:lnTo>
                    <a:pt x="207370" y="1809130"/>
                  </a:lnTo>
                  <a:lnTo>
                    <a:pt x="246804" y="1836141"/>
                  </a:lnTo>
                  <a:lnTo>
                    <a:pt x="287431" y="1861203"/>
                  </a:lnTo>
                  <a:lnTo>
                    <a:pt x="329174" y="1884280"/>
                  </a:lnTo>
                  <a:lnTo>
                    <a:pt x="371958" y="1905333"/>
                  </a:lnTo>
                  <a:lnTo>
                    <a:pt x="415708" y="1924328"/>
                  </a:lnTo>
                  <a:lnTo>
                    <a:pt x="460349" y="1941225"/>
                  </a:lnTo>
                  <a:lnTo>
                    <a:pt x="505806" y="1955990"/>
                  </a:lnTo>
                  <a:lnTo>
                    <a:pt x="552003" y="1968584"/>
                  </a:lnTo>
                  <a:lnTo>
                    <a:pt x="598866" y="1978971"/>
                  </a:lnTo>
                  <a:lnTo>
                    <a:pt x="646318" y="1987114"/>
                  </a:lnTo>
                  <a:lnTo>
                    <a:pt x="694285" y="1992976"/>
                  </a:lnTo>
                  <a:lnTo>
                    <a:pt x="742692" y="1996520"/>
                  </a:lnTo>
                  <a:lnTo>
                    <a:pt x="791463" y="1997710"/>
                  </a:lnTo>
                  <a:lnTo>
                    <a:pt x="839862" y="1996558"/>
                  </a:lnTo>
                  <a:lnTo>
                    <a:pt x="887665" y="1993137"/>
                  </a:lnTo>
                  <a:lnTo>
                    <a:pt x="934822" y="1987501"/>
                  </a:lnTo>
                  <a:lnTo>
                    <a:pt x="981279" y="1979700"/>
                  </a:lnTo>
                  <a:lnTo>
                    <a:pt x="1026984" y="1969788"/>
                  </a:lnTo>
                  <a:lnTo>
                    <a:pt x="1071886" y="1957816"/>
                  </a:lnTo>
                  <a:lnTo>
                    <a:pt x="1115931" y="1943837"/>
                  </a:lnTo>
                  <a:lnTo>
                    <a:pt x="1159067" y="1927903"/>
                  </a:lnTo>
                  <a:lnTo>
                    <a:pt x="1201242" y="1910067"/>
                  </a:lnTo>
                  <a:lnTo>
                    <a:pt x="1242404" y="1890381"/>
                  </a:lnTo>
                  <a:lnTo>
                    <a:pt x="1282501" y="1868896"/>
                  </a:lnTo>
                  <a:lnTo>
                    <a:pt x="1321480" y="1845667"/>
                  </a:lnTo>
                  <a:lnTo>
                    <a:pt x="1359288" y="1820744"/>
                  </a:lnTo>
                  <a:lnTo>
                    <a:pt x="1395874" y="1794180"/>
                  </a:lnTo>
                  <a:lnTo>
                    <a:pt x="1431185" y="1766027"/>
                  </a:lnTo>
                  <a:lnTo>
                    <a:pt x="1465169" y="1736338"/>
                  </a:lnTo>
                  <a:lnTo>
                    <a:pt x="1497774" y="1705165"/>
                  </a:lnTo>
                  <a:lnTo>
                    <a:pt x="1528947" y="1672560"/>
                  </a:lnTo>
                  <a:lnTo>
                    <a:pt x="1558636" y="1638576"/>
                  </a:lnTo>
                  <a:lnTo>
                    <a:pt x="1586789" y="1603265"/>
                  </a:lnTo>
                  <a:lnTo>
                    <a:pt x="1613353" y="1566679"/>
                  </a:lnTo>
                  <a:lnTo>
                    <a:pt x="1638276" y="1528871"/>
                  </a:lnTo>
                  <a:lnTo>
                    <a:pt x="1661505" y="1489892"/>
                  </a:lnTo>
                  <a:lnTo>
                    <a:pt x="1682990" y="1449795"/>
                  </a:lnTo>
                  <a:lnTo>
                    <a:pt x="1702676" y="1408633"/>
                  </a:lnTo>
                  <a:lnTo>
                    <a:pt x="1720512" y="1366458"/>
                  </a:lnTo>
                  <a:lnTo>
                    <a:pt x="1736446" y="1323322"/>
                  </a:lnTo>
                  <a:lnTo>
                    <a:pt x="1750425" y="1279277"/>
                  </a:lnTo>
                  <a:lnTo>
                    <a:pt x="1762397" y="1234375"/>
                  </a:lnTo>
                  <a:lnTo>
                    <a:pt x="1772309" y="1188670"/>
                  </a:lnTo>
                  <a:lnTo>
                    <a:pt x="1780110" y="1142213"/>
                  </a:lnTo>
                  <a:lnTo>
                    <a:pt x="1785746" y="1095056"/>
                  </a:lnTo>
                  <a:lnTo>
                    <a:pt x="1789167" y="1047253"/>
                  </a:lnTo>
                  <a:lnTo>
                    <a:pt x="1790318" y="998855"/>
                  </a:lnTo>
                  <a:lnTo>
                    <a:pt x="1789167" y="950456"/>
                  </a:lnTo>
                  <a:lnTo>
                    <a:pt x="1785746" y="902653"/>
                  </a:lnTo>
                  <a:lnTo>
                    <a:pt x="1780110" y="855496"/>
                  </a:lnTo>
                  <a:lnTo>
                    <a:pt x="1772309" y="809039"/>
                  </a:lnTo>
                  <a:lnTo>
                    <a:pt x="1762397" y="763334"/>
                  </a:lnTo>
                  <a:lnTo>
                    <a:pt x="1750425" y="718432"/>
                  </a:lnTo>
                  <a:lnTo>
                    <a:pt x="1736446" y="674387"/>
                  </a:lnTo>
                  <a:lnTo>
                    <a:pt x="1720512" y="631251"/>
                  </a:lnTo>
                  <a:lnTo>
                    <a:pt x="1702676" y="589076"/>
                  </a:lnTo>
                  <a:lnTo>
                    <a:pt x="1682990" y="547914"/>
                  </a:lnTo>
                  <a:lnTo>
                    <a:pt x="1661505" y="507817"/>
                  </a:lnTo>
                  <a:lnTo>
                    <a:pt x="1638276" y="468838"/>
                  </a:lnTo>
                  <a:lnTo>
                    <a:pt x="1613353" y="431030"/>
                  </a:lnTo>
                  <a:lnTo>
                    <a:pt x="1586789" y="394444"/>
                  </a:lnTo>
                  <a:lnTo>
                    <a:pt x="1558636" y="359133"/>
                  </a:lnTo>
                  <a:lnTo>
                    <a:pt x="1528947" y="325149"/>
                  </a:lnTo>
                  <a:lnTo>
                    <a:pt x="1497774" y="292544"/>
                  </a:lnTo>
                  <a:lnTo>
                    <a:pt x="1465169" y="261371"/>
                  </a:lnTo>
                  <a:lnTo>
                    <a:pt x="1431185" y="231682"/>
                  </a:lnTo>
                  <a:lnTo>
                    <a:pt x="1395874" y="203529"/>
                  </a:lnTo>
                  <a:lnTo>
                    <a:pt x="1359288" y="176965"/>
                  </a:lnTo>
                  <a:lnTo>
                    <a:pt x="1321480" y="152042"/>
                  </a:lnTo>
                  <a:lnTo>
                    <a:pt x="1282501" y="128813"/>
                  </a:lnTo>
                  <a:lnTo>
                    <a:pt x="1242404" y="107328"/>
                  </a:lnTo>
                  <a:lnTo>
                    <a:pt x="1201242" y="87642"/>
                  </a:lnTo>
                  <a:lnTo>
                    <a:pt x="1159067" y="69806"/>
                  </a:lnTo>
                  <a:lnTo>
                    <a:pt x="1115931" y="53872"/>
                  </a:lnTo>
                  <a:lnTo>
                    <a:pt x="1071886" y="39893"/>
                  </a:lnTo>
                  <a:lnTo>
                    <a:pt x="1026984" y="27921"/>
                  </a:lnTo>
                  <a:lnTo>
                    <a:pt x="981279" y="18009"/>
                  </a:lnTo>
                  <a:lnTo>
                    <a:pt x="934822" y="10208"/>
                  </a:lnTo>
                  <a:lnTo>
                    <a:pt x="887665" y="4572"/>
                  </a:lnTo>
                  <a:lnTo>
                    <a:pt x="839862" y="1151"/>
                  </a:lnTo>
                  <a:lnTo>
                    <a:pt x="79146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object 7"/>
            <p:cNvSpPr/>
            <p:nvPr/>
          </p:nvSpPr>
          <p:spPr>
            <a:xfrm>
              <a:off x="6510240" y="1783080"/>
              <a:ext cx="683640" cy="1383480"/>
            </a:xfrm>
            <a:custGeom>
              <a:avLst/>
              <a:gdLst>
                <a:gd name="textAreaLeft" fmla="*/ 0 w 683640"/>
                <a:gd name="textAreaRight" fmla="*/ 684000 w 683640"/>
                <a:gd name="textAreaTop" fmla="*/ 0 h 1383480"/>
                <a:gd name="textAreaBottom" fmla="*/ 1383840 h 1383480"/>
              </a:gdLst>
              <a:ahLst/>
              <a:rect l="textAreaLeft" t="textAreaTop" r="textAreaRight" b="textAreaBottom"/>
              <a:pathLst>
                <a:path w="683895" h="1383664">
                  <a:moveTo>
                    <a:pt x="367705" y="0"/>
                  </a:moveTo>
                  <a:lnTo>
                    <a:pt x="330565" y="31804"/>
                  </a:lnTo>
                  <a:lnTo>
                    <a:pt x="295351" y="65028"/>
                  </a:lnTo>
                  <a:lnTo>
                    <a:pt x="262072" y="99595"/>
                  </a:lnTo>
                  <a:lnTo>
                    <a:pt x="230737" y="135430"/>
                  </a:lnTo>
                  <a:lnTo>
                    <a:pt x="201355" y="172457"/>
                  </a:lnTo>
                  <a:lnTo>
                    <a:pt x="173934" y="210598"/>
                  </a:lnTo>
                  <a:lnTo>
                    <a:pt x="148484" y="249778"/>
                  </a:lnTo>
                  <a:lnTo>
                    <a:pt x="125013" y="289921"/>
                  </a:lnTo>
                  <a:lnTo>
                    <a:pt x="103530" y="330951"/>
                  </a:lnTo>
                  <a:lnTo>
                    <a:pt x="84044" y="372791"/>
                  </a:lnTo>
                  <a:lnTo>
                    <a:pt x="66564" y="415365"/>
                  </a:lnTo>
                  <a:lnTo>
                    <a:pt x="51099" y="458597"/>
                  </a:lnTo>
                  <a:lnTo>
                    <a:pt x="37657" y="502411"/>
                  </a:lnTo>
                  <a:lnTo>
                    <a:pt x="26248" y="546730"/>
                  </a:lnTo>
                  <a:lnTo>
                    <a:pt x="16880" y="591479"/>
                  </a:lnTo>
                  <a:lnTo>
                    <a:pt x="9563" y="636581"/>
                  </a:lnTo>
                  <a:lnTo>
                    <a:pt x="4304" y="681960"/>
                  </a:lnTo>
                  <a:lnTo>
                    <a:pt x="1113" y="727540"/>
                  </a:lnTo>
                  <a:lnTo>
                    <a:pt x="0" y="773245"/>
                  </a:lnTo>
                  <a:lnTo>
                    <a:pt x="971" y="818998"/>
                  </a:lnTo>
                  <a:lnTo>
                    <a:pt x="4038" y="864723"/>
                  </a:lnTo>
                  <a:lnTo>
                    <a:pt x="9207" y="910345"/>
                  </a:lnTo>
                  <a:lnTo>
                    <a:pt x="16489" y="955786"/>
                  </a:lnTo>
                  <a:lnTo>
                    <a:pt x="25892" y="1000972"/>
                  </a:lnTo>
                  <a:lnTo>
                    <a:pt x="37425" y="1045825"/>
                  </a:lnTo>
                  <a:lnTo>
                    <a:pt x="51097" y="1090269"/>
                  </a:lnTo>
                  <a:lnTo>
                    <a:pt x="66916" y="1134228"/>
                  </a:lnTo>
                  <a:lnTo>
                    <a:pt x="84892" y="1177627"/>
                  </a:lnTo>
                  <a:lnTo>
                    <a:pt x="105034" y="1220388"/>
                  </a:lnTo>
                  <a:lnTo>
                    <a:pt x="127349" y="1262436"/>
                  </a:lnTo>
                  <a:lnTo>
                    <a:pt x="151848" y="1303694"/>
                  </a:lnTo>
                  <a:lnTo>
                    <a:pt x="178539" y="1344087"/>
                  </a:lnTo>
                  <a:lnTo>
                    <a:pt x="207431" y="1383538"/>
                  </a:lnTo>
                  <a:lnTo>
                    <a:pt x="603163" y="1078865"/>
                  </a:lnTo>
                  <a:lnTo>
                    <a:pt x="576126" y="1040144"/>
                  </a:lnTo>
                  <a:lnTo>
                    <a:pt x="553220" y="999785"/>
                  </a:lnTo>
                  <a:lnTo>
                    <a:pt x="534413" y="958065"/>
                  </a:lnTo>
                  <a:lnTo>
                    <a:pt x="519672" y="915265"/>
                  </a:lnTo>
                  <a:lnTo>
                    <a:pt x="508964" y="871660"/>
                  </a:lnTo>
                  <a:lnTo>
                    <a:pt x="502258" y="827532"/>
                  </a:lnTo>
                  <a:lnTo>
                    <a:pt x="499521" y="783156"/>
                  </a:lnTo>
                  <a:lnTo>
                    <a:pt x="500720" y="738813"/>
                  </a:lnTo>
                  <a:lnTo>
                    <a:pt x="505822" y="694780"/>
                  </a:lnTo>
                  <a:lnTo>
                    <a:pt x="514797" y="651335"/>
                  </a:lnTo>
                  <a:lnTo>
                    <a:pt x="527611" y="608758"/>
                  </a:lnTo>
                  <a:lnTo>
                    <a:pt x="544231" y="567326"/>
                  </a:lnTo>
                  <a:lnTo>
                    <a:pt x="564626" y="527319"/>
                  </a:lnTo>
                  <a:lnTo>
                    <a:pt x="588762" y="489013"/>
                  </a:lnTo>
                  <a:lnTo>
                    <a:pt x="616609" y="452689"/>
                  </a:lnTo>
                  <a:lnTo>
                    <a:pt x="648132" y="418623"/>
                  </a:lnTo>
                  <a:lnTo>
                    <a:pt x="683300" y="387096"/>
                  </a:lnTo>
                  <a:lnTo>
                    <a:pt x="36770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object 8"/>
            <p:cNvSpPr/>
            <p:nvPr/>
          </p:nvSpPr>
          <p:spPr>
            <a:xfrm>
              <a:off x="6878160" y="1558440"/>
              <a:ext cx="630720" cy="611640"/>
            </a:xfrm>
            <a:custGeom>
              <a:avLst/>
              <a:gdLst>
                <a:gd name="textAreaLeft" fmla="*/ 0 w 630720"/>
                <a:gd name="textAreaRight" fmla="*/ 631080 w 63072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631190" h="612139">
                  <a:moveTo>
                    <a:pt x="631189" y="0"/>
                  </a:moveTo>
                  <a:lnTo>
                    <a:pt x="582027" y="1210"/>
                  </a:lnTo>
                  <a:lnTo>
                    <a:pt x="533164" y="4820"/>
                  </a:lnTo>
                  <a:lnTo>
                    <a:pt x="484683" y="10801"/>
                  </a:lnTo>
                  <a:lnTo>
                    <a:pt x="436665" y="19124"/>
                  </a:lnTo>
                  <a:lnTo>
                    <a:pt x="389192" y="29759"/>
                  </a:lnTo>
                  <a:lnTo>
                    <a:pt x="342347" y="42677"/>
                  </a:lnTo>
                  <a:lnTo>
                    <a:pt x="296211" y="57848"/>
                  </a:lnTo>
                  <a:lnTo>
                    <a:pt x="250866" y="75243"/>
                  </a:lnTo>
                  <a:lnTo>
                    <a:pt x="206395" y="94832"/>
                  </a:lnTo>
                  <a:lnTo>
                    <a:pt x="162878" y="116586"/>
                  </a:lnTo>
                  <a:lnTo>
                    <a:pt x="120398" y="140475"/>
                  </a:lnTo>
                  <a:lnTo>
                    <a:pt x="79037" y="166471"/>
                  </a:lnTo>
                  <a:lnTo>
                    <a:pt x="38877" y="194543"/>
                  </a:lnTo>
                  <a:lnTo>
                    <a:pt x="0" y="224662"/>
                  </a:lnTo>
                  <a:lnTo>
                    <a:pt x="315594" y="611759"/>
                  </a:lnTo>
                  <a:lnTo>
                    <a:pt x="355117" y="582666"/>
                  </a:lnTo>
                  <a:lnTo>
                    <a:pt x="397045" y="557733"/>
                  </a:lnTo>
                  <a:lnTo>
                    <a:pt x="441048" y="537074"/>
                  </a:lnTo>
                  <a:lnTo>
                    <a:pt x="486795" y="520804"/>
                  </a:lnTo>
                  <a:lnTo>
                    <a:pt x="533955" y="509040"/>
                  </a:lnTo>
                  <a:lnTo>
                    <a:pt x="582197" y="501897"/>
                  </a:lnTo>
                  <a:lnTo>
                    <a:pt x="631189" y="499491"/>
                  </a:lnTo>
                  <a:lnTo>
                    <a:pt x="631189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object 9"/>
          <p:cNvSpPr/>
          <p:nvPr/>
        </p:nvSpPr>
        <p:spPr>
          <a:xfrm>
            <a:off x="7989120" y="2828520"/>
            <a:ext cx="428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Э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bject 10"/>
          <p:cNvSpPr/>
          <p:nvPr/>
        </p:nvSpPr>
        <p:spPr>
          <a:xfrm>
            <a:off x="6553440" y="23630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П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bject 11"/>
          <p:cNvSpPr/>
          <p:nvPr/>
        </p:nvSpPr>
        <p:spPr>
          <a:xfrm>
            <a:off x="6996240" y="1699560"/>
            <a:ext cx="534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ВХ;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4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bject 12"/>
          <p:cNvSpPr/>
          <p:nvPr/>
        </p:nvSpPr>
        <p:spPr>
          <a:xfrm>
            <a:off x="7180200" y="2406600"/>
            <a:ext cx="765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95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bject 13"/>
          <p:cNvSpPr/>
          <p:nvPr/>
        </p:nvSpPr>
        <p:spPr>
          <a:xfrm>
            <a:off x="6397560" y="800640"/>
            <a:ext cx="2125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6552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ипу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а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object 14"/>
          <p:cNvGrpSpPr/>
          <p:nvPr/>
        </p:nvGrpSpPr>
        <p:grpSpPr>
          <a:xfrm>
            <a:off x="1126080" y="1295280"/>
            <a:ext cx="3447720" cy="1112760"/>
            <a:chOff x="1126080" y="1295280"/>
            <a:chExt cx="3447720" cy="1112760"/>
          </a:xfrm>
        </p:grpSpPr>
        <p:sp>
          <p:nvSpPr>
            <p:cNvPr id="1253" name="object 15"/>
            <p:cNvSpPr/>
            <p:nvPr/>
          </p:nvSpPr>
          <p:spPr>
            <a:xfrm>
              <a:off x="1166040" y="1938600"/>
              <a:ext cx="105120" cy="2149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05409" h="215264">
                  <a:moveTo>
                    <a:pt x="0" y="214884"/>
                  </a:moveTo>
                  <a:lnTo>
                    <a:pt x="105156" y="214884"/>
                  </a:lnTo>
                </a:path>
                <a:path w="105409" h="215264">
                  <a:moveTo>
                    <a:pt x="0" y="0"/>
                  </a:moveTo>
                  <a:lnTo>
                    <a:pt x="1051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bject 16"/>
            <p:cNvSpPr/>
            <p:nvPr/>
          </p:nvSpPr>
          <p:spPr>
            <a:xfrm>
              <a:off x="1271160" y="1895760"/>
              <a:ext cx="138600" cy="4719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39065" h="472439">
                  <a:moveTo>
                    <a:pt x="138684" y="0"/>
                  </a:moveTo>
                  <a:lnTo>
                    <a:pt x="0" y="0"/>
                  </a:lnTo>
                  <a:lnTo>
                    <a:pt x="0" y="412635"/>
                  </a:lnTo>
                  <a:lnTo>
                    <a:pt x="0" y="472440"/>
                  </a:lnTo>
                  <a:lnTo>
                    <a:pt x="138684" y="472440"/>
                  </a:lnTo>
                  <a:lnTo>
                    <a:pt x="138684" y="412635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bject 17"/>
            <p:cNvSpPr/>
            <p:nvPr/>
          </p:nvSpPr>
          <p:spPr>
            <a:xfrm>
              <a:off x="1548360" y="1938600"/>
              <a:ext cx="208440" cy="2149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8914" h="215264">
                  <a:moveTo>
                    <a:pt x="0" y="214884"/>
                  </a:moveTo>
                  <a:lnTo>
                    <a:pt x="208788" y="214884"/>
                  </a:lnTo>
                </a:path>
                <a:path w="208914" h="215264">
                  <a:moveTo>
                    <a:pt x="0" y="0"/>
                  </a:moveTo>
                  <a:lnTo>
                    <a:pt x="2087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object 18"/>
            <p:cNvSpPr/>
            <p:nvPr/>
          </p:nvSpPr>
          <p:spPr>
            <a:xfrm>
              <a:off x="1757160" y="1778400"/>
              <a:ext cx="138600" cy="5896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89680"/>
                <a:gd name="textAreaBottom" fmla="*/ 590040 h 589680"/>
              </a:gdLst>
              <a:ahLst/>
              <a:rect l="textAreaLeft" t="textAreaTop" r="textAreaRight" b="textAreaBottom"/>
              <a:pathLst>
                <a:path w="139064" h="589914">
                  <a:moveTo>
                    <a:pt x="138684" y="0"/>
                  </a:moveTo>
                  <a:lnTo>
                    <a:pt x="0" y="0"/>
                  </a:lnTo>
                  <a:lnTo>
                    <a:pt x="0" y="525399"/>
                  </a:lnTo>
                  <a:lnTo>
                    <a:pt x="0" y="589788"/>
                  </a:lnTo>
                  <a:lnTo>
                    <a:pt x="138684" y="589788"/>
                  </a:lnTo>
                  <a:lnTo>
                    <a:pt x="138684" y="525399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bject 19"/>
            <p:cNvSpPr/>
            <p:nvPr/>
          </p:nvSpPr>
          <p:spPr>
            <a:xfrm>
              <a:off x="1166040" y="1725120"/>
              <a:ext cx="1077120" cy="42840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077595" h="428625">
                  <a:moveTo>
                    <a:pt x="868679" y="428244"/>
                  </a:moveTo>
                  <a:lnTo>
                    <a:pt x="1077467" y="428244"/>
                  </a:lnTo>
                </a:path>
                <a:path w="1077595" h="428625">
                  <a:moveTo>
                    <a:pt x="868679" y="213360"/>
                  </a:moveTo>
                  <a:lnTo>
                    <a:pt x="1077467" y="213360"/>
                  </a:lnTo>
                </a:path>
                <a:path w="1077595" h="428625">
                  <a:moveTo>
                    <a:pt x="0" y="0"/>
                  </a:moveTo>
                  <a:lnTo>
                    <a:pt x="1077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bject 20"/>
            <p:cNvSpPr/>
            <p:nvPr/>
          </p:nvSpPr>
          <p:spPr>
            <a:xfrm>
              <a:off x="2243160" y="1627560"/>
              <a:ext cx="140040" cy="7405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740520"/>
                <a:gd name="textAreaBottom" fmla="*/ 740880 h 740520"/>
              </a:gdLst>
              <a:ahLst/>
              <a:rect l="textAreaLeft" t="textAreaTop" r="textAreaRight" b="textAreaBottom"/>
              <a:pathLst>
                <a:path w="140335" h="741044">
                  <a:moveTo>
                    <a:pt x="140208" y="0"/>
                  </a:moveTo>
                  <a:lnTo>
                    <a:pt x="0" y="0"/>
                  </a:lnTo>
                  <a:lnTo>
                    <a:pt x="0" y="667131"/>
                  </a:lnTo>
                  <a:lnTo>
                    <a:pt x="0" y="740664"/>
                  </a:lnTo>
                  <a:lnTo>
                    <a:pt x="140208" y="740664"/>
                  </a:lnTo>
                  <a:lnTo>
                    <a:pt x="140208" y="667131"/>
                  </a:lnTo>
                  <a:lnTo>
                    <a:pt x="14020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bject 21"/>
            <p:cNvSpPr/>
            <p:nvPr/>
          </p:nvSpPr>
          <p:spPr>
            <a:xfrm>
              <a:off x="2522160" y="1725120"/>
              <a:ext cx="208440" cy="42840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08914" h="428625">
                  <a:moveTo>
                    <a:pt x="0" y="428244"/>
                  </a:moveTo>
                  <a:lnTo>
                    <a:pt x="208787" y="428244"/>
                  </a:lnTo>
                </a:path>
                <a:path w="208914" h="428625">
                  <a:moveTo>
                    <a:pt x="0" y="213360"/>
                  </a:moveTo>
                  <a:lnTo>
                    <a:pt x="208787" y="213360"/>
                  </a:lnTo>
                </a:path>
                <a:path w="208914" h="428625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bject 22"/>
            <p:cNvSpPr/>
            <p:nvPr/>
          </p:nvSpPr>
          <p:spPr>
            <a:xfrm>
              <a:off x="1166040" y="1510200"/>
              <a:ext cx="3407760" cy="360"/>
            </a:xfrm>
            <a:custGeom>
              <a:avLst/>
              <a:gdLst>
                <a:gd name="textAreaLeft" fmla="*/ 0 w 3407760"/>
                <a:gd name="textAreaRight" fmla="*/ 3408120 w 3407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08045" h="0">
                  <a:moveTo>
                    <a:pt x="0" y="0"/>
                  </a:moveTo>
                  <a:lnTo>
                    <a:pt x="34076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bject 23"/>
            <p:cNvSpPr/>
            <p:nvPr/>
          </p:nvSpPr>
          <p:spPr>
            <a:xfrm>
              <a:off x="2730960" y="1531440"/>
              <a:ext cx="624600" cy="8366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24839" h="836930">
                  <a:moveTo>
                    <a:pt x="138684" y="0"/>
                  </a:moveTo>
                  <a:lnTo>
                    <a:pt x="0" y="0"/>
                  </a:lnTo>
                  <a:lnTo>
                    <a:pt x="0" y="769239"/>
                  </a:lnTo>
                  <a:lnTo>
                    <a:pt x="0" y="836676"/>
                  </a:lnTo>
                  <a:lnTo>
                    <a:pt x="138684" y="836676"/>
                  </a:lnTo>
                  <a:lnTo>
                    <a:pt x="138684" y="769239"/>
                  </a:lnTo>
                  <a:lnTo>
                    <a:pt x="138684" y="0"/>
                  </a:lnTo>
                  <a:close/>
                </a:path>
                <a:path w="624839" h="836930">
                  <a:moveTo>
                    <a:pt x="624840" y="769239"/>
                  </a:moveTo>
                  <a:lnTo>
                    <a:pt x="486156" y="769239"/>
                  </a:lnTo>
                  <a:lnTo>
                    <a:pt x="486156" y="836676"/>
                  </a:lnTo>
                  <a:lnTo>
                    <a:pt x="624840" y="836676"/>
                  </a:lnTo>
                  <a:lnTo>
                    <a:pt x="624840" y="769239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bject 24"/>
            <p:cNvSpPr/>
            <p:nvPr/>
          </p:nvSpPr>
          <p:spPr>
            <a:xfrm>
              <a:off x="3008520" y="1725120"/>
              <a:ext cx="208440" cy="42840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08914" h="428625">
                  <a:moveTo>
                    <a:pt x="0" y="428244"/>
                  </a:moveTo>
                  <a:lnTo>
                    <a:pt x="208787" y="428244"/>
                  </a:lnTo>
                </a:path>
                <a:path w="208914" h="428625">
                  <a:moveTo>
                    <a:pt x="0" y="213360"/>
                  </a:moveTo>
                  <a:lnTo>
                    <a:pt x="208787" y="213360"/>
                  </a:lnTo>
                </a:path>
                <a:path w="208914" h="428625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bject 25"/>
            <p:cNvSpPr/>
            <p:nvPr/>
          </p:nvSpPr>
          <p:spPr>
            <a:xfrm>
              <a:off x="3217320" y="1617120"/>
              <a:ext cx="626400" cy="7513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751320"/>
                <a:gd name="textAreaBottom" fmla="*/ 751680 h 751320"/>
              </a:gdLst>
              <a:ahLst/>
              <a:rect l="textAreaLeft" t="textAreaTop" r="textAreaRight" b="textAreaBottom"/>
              <a:pathLst>
                <a:path w="626745" h="751839">
                  <a:moveTo>
                    <a:pt x="138684" y="0"/>
                  </a:moveTo>
                  <a:lnTo>
                    <a:pt x="0" y="0"/>
                  </a:lnTo>
                  <a:lnTo>
                    <a:pt x="0" y="683895"/>
                  </a:lnTo>
                  <a:lnTo>
                    <a:pt x="138684" y="683895"/>
                  </a:lnTo>
                  <a:lnTo>
                    <a:pt x="138684" y="0"/>
                  </a:lnTo>
                  <a:close/>
                </a:path>
                <a:path w="626745" h="751839">
                  <a:moveTo>
                    <a:pt x="626364" y="691527"/>
                  </a:moveTo>
                  <a:lnTo>
                    <a:pt x="487680" y="691527"/>
                  </a:lnTo>
                  <a:lnTo>
                    <a:pt x="487680" y="751332"/>
                  </a:lnTo>
                  <a:lnTo>
                    <a:pt x="626364" y="751332"/>
                  </a:lnTo>
                  <a:lnTo>
                    <a:pt x="626364" y="691527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bject 26"/>
            <p:cNvSpPr/>
            <p:nvPr/>
          </p:nvSpPr>
          <p:spPr>
            <a:xfrm>
              <a:off x="3495960" y="1938600"/>
              <a:ext cx="208440" cy="2149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8914" h="215264">
                  <a:moveTo>
                    <a:pt x="0" y="214884"/>
                  </a:moveTo>
                  <a:lnTo>
                    <a:pt x="208788" y="214884"/>
                  </a:lnTo>
                </a:path>
                <a:path w="208914" h="215264">
                  <a:moveTo>
                    <a:pt x="0" y="0"/>
                  </a:moveTo>
                  <a:lnTo>
                    <a:pt x="2087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bject 27"/>
            <p:cNvSpPr/>
            <p:nvPr/>
          </p:nvSpPr>
          <p:spPr>
            <a:xfrm>
              <a:off x="3704760" y="1800000"/>
              <a:ext cx="624600" cy="5684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24839" h="568960">
                  <a:moveTo>
                    <a:pt x="138684" y="0"/>
                  </a:moveTo>
                  <a:lnTo>
                    <a:pt x="0" y="0"/>
                  </a:lnTo>
                  <a:lnTo>
                    <a:pt x="0" y="508647"/>
                  </a:lnTo>
                  <a:lnTo>
                    <a:pt x="138684" y="508647"/>
                  </a:lnTo>
                  <a:lnTo>
                    <a:pt x="138684" y="0"/>
                  </a:lnTo>
                  <a:close/>
                </a:path>
                <a:path w="624839" h="568960">
                  <a:moveTo>
                    <a:pt x="624840" y="505599"/>
                  </a:moveTo>
                  <a:lnTo>
                    <a:pt x="486156" y="505599"/>
                  </a:lnTo>
                  <a:lnTo>
                    <a:pt x="486156" y="568452"/>
                  </a:lnTo>
                  <a:lnTo>
                    <a:pt x="624840" y="568452"/>
                  </a:lnTo>
                  <a:lnTo>
                    <a:pt x="624840" y="505599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bject 28"/>
            <p:cNvSpPr/>
            <p:nvPr/>
          </p:nvSpPr>
          <p:spPr>
            <a:xfrm>
              <a:off x="3982320" y="1938600"/>
              <a:ext cx="208440" cy="2149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8914" h="215264">
                  <a:moveTo>
                    <a:pt x="0" y="214884"/>
                  </a:moveTo>
                  <a:lnTo>
                    <a:pt x="208787" y="214884"/>
                  </a:lnTo>
                </a:path>
                <a:path w="208914" h="215264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bject 29"/>
            <p:cNvSpPr/>
            <p:nvPr/>
          </p:nvSpPr>
          <p:spPr>
            <a:xfrm>
              <a:off x="4191120" y="1821240"/>
              <a:ext cx="138600" cy="4842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39064" h="484505">
                  <a:moveTo>
                    <a:pt x="0" y="484251"/>
                  </a:moveTo>
                  <a:lnTo>
                    <a:pt x="138684" y="484251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484251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bject 30"/>
            <p:cNvSpPr/>
            <p:nvPr/>
          </p:nvSpPr>
          <p:spPr>
            <a:xfrm>
              <a:off x="1409760" y="1522440"/>
              <a:ext cx="2086200" cy="84528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2086610" h="845819">
                  <a:moveTo>
                    <a:pt x="138684" y="361188"/>
                  </a:moveTo>
                  <a:lnTo>
                    <a:pt x="0" y="361188"/>
                  </a:lnTo>
                  <a:lnTo>
                    <a:pt x="0" y="786015"/>
                  </a:lnTo>
                  <a:lnTo>
                    <a:pt x="0" y="845820"/>
                  </a:lnTo>
                  <a:lnTo>
                    <a:pt x="138684" y="845820"/>
                  </a:lnTo>
                  <a:lnTo>
                    <a:pt x="138684" y="786015"/>
                  </a:lnTo>
                  <a:lnTo>
                    <a:pt x="138684" y="361188"/>
                  </a:lnTo>
                  <a:close/>
                </a:path>
                <a:path w="2086610" h="845819">
                  <a:moveTo>
                    <a:pt x="624840" y="240792"/>
                  </a:moveTo>
                  <a:lnTo>
                    <a:pt x="486156" y="240792"/>
                  </a:lnTo>
                  <a:lnTo>
                    <a:pt x="486156" y="781431"/>
                  </a:lnTo>
                  <a:lnTo>
                    <a:pt x="486156" y="845820"/>
                  </a:lnTo>
                  <a:lnTo>
                    <a:pt x="624840" y="845820"/>
                  </a:lnTo>
                  <a:lnTo>
                    <a:pt x="624840" y="781431"/>
                  </a:lnTo>
                  <a:lnTo>
                    <a:pt x="624840" y="240792"/>
                  </a:lnTo>
                  <a:close/>
                </a:path>
                <a:path w="2086610" h="845819">
                  <a:moveTo>
                    <a:pt x="1112520" y="91440"/>
                  </a:moveTo>
                  <a:lnTo>
                    <a:pt x="973836" y="91440"/>
                  </a:lnTo>
                  <a:lnTo>
                    <a:pt x="973836" y="772287"/>
                  </a:lnTo>
                  <a:lnTo>
                    <a:pt x="973836" y="845820"/>
                  </a:lnTo>
                  <a:lnTo>
                    <a:pt x="1112520" y="845820"/>
                  </a:lnTo>
                  <a:lnTo>
                    <a:pt x="1112520" y="772287"/>
                  </a:lnTo>
                  <a:lnTo>
                    <a:pt x="1112520" y="91440"/>
                  </a:lnTo>
                  <a:close/>
                </a:path>
                <a:path w="2086610" h="845819">
                  <a:moveTo>
                    <a:pt x="1598676" y="0"/>
                  </a:moveTo>
                  <a:lnTo>
                    <a:pt x="1459992" y="0"/>
                  </a:lnTo>
                  <a:lnTo>
                    <a:pt x="1459992" y="778383"/>
                  </a:lnTo>
                  <a:lnTo>
                    <a:pt x="1459992" y="845820"/>
                  </a:lnTo>
                  <a:lnTo>
                    <a:pt x="1598676" y="845820"/>
                  </a:lnTo>
                  <a:lnTo>
                    <a:pt x="1598676" y="778383"/>
                  </a:lnTo>
                  <a:lnTo>
                    <a:pt x="1598676" y="0"/>
                  </a:lnTo>
                  <a:close/>
                </a:path>
                <a:path w="2086610" h="845819">
                  <a:moveTo>
                    <a:pt x="2086356" y="778383"/>
                  </a:moveTo>
                  <a:lnTo>
                    <a:pt x="1946148" y="778383"/>
                  </a:lnTo>
                  <a:lnTo>
                    <a:pt x="1946148" y="845820"/>
                  </a:lnTo>
                  <a:lnTo>
                    <a:pt x="2086356" y="845820"/>
                  </a:lnTo>
                  <a:lnTo>
                    <a:pt x="2086356" y="778383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bject 31"/>
            <p:cNvSpPr/>
            <p:nvPr/>
          </p:nvSpPr>
          <p:spPr>
            <a:xfrm>
              <a:off x="3495960" y="1725120"/>
              <a:ext cx="1077120" cy="36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77595" h="0">
                  <a:moveTo>
                    <a:pt x="0" y="0"/>
                  </a:moveTo>
                  <a:lnTo>
                    <a:pt x="10774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bject 32"/>
            <p:cNvSpPr/>
            <p:nvPr/>
          </p:nvSpPr>
          <p:spPr>
            <a:xfrm>
              <a:off x="3355920" y="1629000"/>
              <a:ext cx="1112040" cy="738720"/>
            </a:xfrm>
            <a:custGeom>
              <a:avLst/>
              <a:gdLst>
                <a:gd name="textAreaLeft" fmla="*/ 0 w 1112040"/>
                <a:gd name="textAreaRight" fmla="*/ 1112400 w 111204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1112520" h="739139">
                  <a:moveTo>
                    <a:pt x="140208" y="0"/>
                  </a:moveTo>
                  <a:lnTo>
                    <a:pt x="0" y="0"/>
                  </a:lnTo>
                  <a:lnTo>
                    <a:pt x="0" y="671703"/>
                  </a:lnTo>
                  <a:lnTo>
                    <a:pt x="140208" y="671703"/>
                  </a:lnTo>
                  <a:lnTo>
                    <a:pt x="140208" y="0"/>
                  </a:lnTo>
                  <a:close/>
                </a:path>
                <a:path w="1112520" h="739139">
                  <a:moveTo>
                    <a:pt x="626364" y="175260"/>
                  </a:moveTo>
                  <a:lnTo>
                    <a:pt x="487680" y="175260"/>
                  </a:lnTo>
                  <a:lnTo>
                    <a:pt x="487680" y="679335"/>
                  </a:lnTo>
                  <a:lnTo>
                    <a:pt x="487680" y="739140"/>
                  </a:lnTo>
                  <a:lnTo>
                    <a:pt x="626364" y="739140"/>
                  </a:lnTo>
                  <a:lnTo>
                    <a:pt x="626364" y="679335"/>
                  </a:lnTo>
                  <a:lnTo>
                    <a:pt x="626364" y="175260"/>
                  </a:lnTo>
                  <a:close/>
                </a:path>
                <a:path w="1112520" h="739139">
                  <a:moveTo>
                    <a:pt x="1112520" y="676287"/>
                  </a:moveTo>
                  <a:lnTo>
                    <a:pt x="973836" y="676287"/>
                  </a:lnTo>
                  <a:lnTo>
                    <a:pt x="973836" y="739140"/>
                  </a:lnTo>
                  <a:lnTo>
                    <a:pt x="1112520" y="739140"/>
                  </a:lnTo>
                  <a:lnTo>
                    <a:pt x="1112520" y="676287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bject 33"/>
            <p:cNvSpPr/>
            <p:nvPr/>
          </p:nvSpPr>
          <p:spPr>
            <a:xfrm>
              <a:off x="4468320" y="1938600"/>
              <a:ext cx="105120" cy="2149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05410" h="215264">
                  <a:moveTo>
                    <a:pt x="0" y="214884"/>
                  </a:moveTo>
                  <a:lnTo>
                    <a:pt x="105156" y="214884"/>
                  </a:lnTo>
                </a:path>
                <a:path w="105410" h="215264">
                  <a:moveTo>
                    <a:pt x="0" y="0"/>
                  </a:moveTo>
                  <a:lnTo>
                    <a:pt x="1051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bject 34"/>
            <p:cNvSpPr/>
            <p:nvPr/>
          </p:nvSpPr>
          <p:spPr>
            <a:xfrm>
              <a:off x="4329720" y="1815120"/>
              <a:ext cx="138600" cy="4903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139064" h="490855">
                  <a:moveTo>
                    <a:pt x="0" y="490347"/>
                  </a:moveTo>
                  <a:lnTo>
                    <a:pt x="138683" y="490347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490347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bject 35"/>
            <p:cNvSpPr/>
            <p:nvPr/>
          </p:nvSpPr>
          <p:spPr>
            <a:xfrm>
              <a:off x="1126080" y="1295280"/>
              <a:ext cx="3447000" cy="1072800"/>
            </a:xfrm>
            <a:custGeom>
              <a:avLst/>
              <a:gdLst>
                <a:gd name="textAreaLeft" fmla="*/ 0 w 3447000"/>
                <a:gd name="textAreaRight" fmla="*/ 3447360 w 344700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3447415" h="1073150">
                  <a:moveTo>
                    <a:pt x="39623" y="0"/>
                  </a:moveTo>
                  <a:lnTo>
                    <a:pt x="3447288" y="0"/>
                  </a:lnTo>
                </a:path>
                <a:path w="3447415" h="1073150">
                  <a:moveTo>
                    <a:pt x="39623" y="1072896"/>
                  </a:moveTo>
                  <a:lnTo>
                    <a:pt x="39623" y="0"/>
                  </a:lnTo>
                </a:path>
                <a:path w="3447415" h="1073150">
                  <a:moveTo>
                    <a:pt x="0" y="1072896"/>
                  </a:moveTo>
                  <a:lnTo>
                    <a:pt x="39623" y="1072896"/>
                  </a:lnTo>
                </a:path>
                <a:path w="3447415" h="1073150">
                  <a:moveTo>
                    <a:pt x="0" y="858012"/>
                  </a:moveTo>
                  <a:lnTo>
                    <a:pt x="39623" y="858012"/>
                  </a:lnTo>
                </a:path>
                <a:path w="3447415" h="1073150">
                  <a:moveTo>
                    <a:pt x="0" y="643127"/>
                  </a:moveTo>
                  <a:lnTo>
                    <a:pt x="39623" y="643127"/>
                  </a:lnTo>
                </a:path>
                <a:path w="3447415" h="1073150">
                  <a:moveTo>
                    <a:pt x="0" y="429767"/>
                  </a:moveTo>
                  <a:lnTo>
                    <a:pt x="39623" y="429767"/>
                  </a:lnTo>
                </a:path>
                <a:path w="3447415" h="1073150">
                  <a:moveTo>
                    <a:pt x="0" y="214884"/>
                  </a:moveTo>
                  <a:lnTo>
                    <a:pt x="39623" y="214884"/>
                  </a:lnTo>
                </a:path>
                <a:path w="3447415" h="1073150">
                  <a:moveTo>
                    <a:pt x="0" y="0"/>
                  </a:moveTo>
                  <a:lnTo>
                    <a:pt x="3962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bject 36"/>
            <p:cNvSpPr/>
            <p:nvPr/>
          </p:nvSpPr>
          <p:spPr>
            <a:xfrm>
              <a:off x="1166040" y="2368440"/>
              <a:ext cx="3407760" cy="360"/>
            </a:xfrm>
            <a:custGeom>
              <a:avLst/>
              <a:gdLst>
                <a:gd name="textAreaLeft" fmla="*/ 0 w 3407760"/>
                <a:gd name="textAreaRight" fmla="*/ 3408120 w 3407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08045" h="0">
                  <a:moveTo>
                    <a:pt x="0" y="0"/>
                  </a:moveTo>
                  <a:lnTo>
                    <a:pt x="199644" y="0"/>
                  </a:lnTo>
                </a:path>
                <a:path w="3408045" h="0">
                  <a:moveTo>
                    <a:pt x="288035" y="0"/>
                  </a:moveTo>
                  <a:lnTo>
                    <a:pt x="685800" y="0"/>
                  </a:lnTo>
                </a:path>
                <a:path w="3408045" h="0">
                  <a:moveTo>
                    <a:pt x="774192" y="0"/>
                  </a:moveTo>
                  <a:lnTo>
                    <a:pt x="1173480" y="0"/>
                  </a:lnTo>
                </a:path>
                <a:path w="3408045" h="0">
                  <a:moveTo>
                    <a:pt x="1261872" y="0"/>
                  </a:moveTo>
                  <a:lnTo>
                    <a:pt x="1659636" y="0"/>
                  </a:lnTo>
                </a:path>
                <a:path w="3408045" h="0">
                  <a:moveTo>
                    <a:pt x="1748027" y="0"/>
                  </a:moveTo>
                  <a:lnTo>
                    <a:pt x="2145791" y="0"/>
                  </a:lnTo>
                </a:path>
                <a:path w="3408045" h="0">
                  <a:moveTo>
                    <a:pt x="2234183" y="0"/>
                  </a:moveTo>
                  <a:lnTo>
                    <a:pt x="2633472" y="0"/>
                  </a:lnTo>
                </a:path>
                <a:path w="3408045" h="0">
                  <a:moveTo>
                    <a:pt x="2721864" y="0"/>
                  </a:moveTo>
                  <a:lnTo>
                    <a:pt x="3119628" y="0"/>
                  </a:lnTo>
                </a:path>
                <a:path w="3408045" h="0">
                  <a:moveTo>
                    <a:pt x="3208019" y="0"/>
                  </a:moveTo>
                  <a:lnTo>
                    <a:pt x="34076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bject 37"/>
            <p:cNvSpPr/>
            <p:nvPr/>
          </p:nvSpPr>
          <p:spPr>
            <a:xfrm>
              <a:off x="1166040" y="2368440"/>
              <a:ext cx="3407760" cy="39600"/>
            </a:xfrm>
            <a:custGeom>
              <a:avLst/>
              <a:gdLst>
                <a:gd name="textAreaLeft" fmla="*/ 0 w 3407760"/>
                <a:gd name="textAreaRight" fmla="*/ 3408120 w 3407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408045" h="40005">
                  <a:moveTo>
                    <a:pt x="0" y="0"/>
                  </a:moveTo>
                  <a:lnTo>
                    <a:pt x="0" y="39624"/>
                  </a:lnTo>
                </a:path>
                <a:path w="3408045" h="40005">
                  <a:moveTo>
                    <a:pt x="487679" y="0"/>
                  </a:moveTo>
                  <a:lnTo>
                    <a:pt x="487679" y="39624"/>
                  </a:lnTo>
                </a:path>
                <a:path w="3408045" h="40005">
                  <a:moveTo>
                    <a:pt x="973835" y="0"/>
                  </a:moveTo>
                  <a:lnTo>
                    <a:pt x="973835" y="39624"/>
                  </a:lnTo>
                </a:path>
                <a:path w="3408045" h="40005">
                  <a:moveTo>
                    <a:pt x="1459992" y="0"/>
                  </a:moveTo>
                  <a:lnTo>
                    <a:pt x="1459992" y="39624"/>
                  </a:lnTo>
                </a:path>
                <a:path w="3408045" h="40005">
                  <a:moveTo>
                    <a:pt x="1947672" y="0"/>
                  </a:moveTo>
                  <a:lnTo>
                    <a:pt x="1947672" y="39624"/>
                  </a:lnTo>
                </a:path>
                <a:path w="3408045" h="40005">
                  <a:moveTo>
                    <a:pt x="2433828" y="0"/>
                  </a:moveTo>
                  <a:lnTo>
                    <a:pt x="2433828" y="39624"/>
                  </a:lnTo>
                </a:path>
                <a:path w="3408045" h="40005">
                  <a:moveTo>
                    <a:pt x="2919984" y="0"/>
                  </a:moveTo>
                  <a:lnTo>
                    <a:pt x="2919984" y="39624"/>
                  </a:lnTo>
                </a:path>
                <a:path w="3408045" h="40005">
                  <a:moveTo>
                    <a:pt x="3407664" y="0"/>
                  </a:moveTo>
                  <a:lnTo>
                    <a:pt x="3407664" y="3962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object 38"/>
            <p:cNvSpPr/>
            <p:nvPr/>
          </p:nvSpPr>
          <p:spPr>
            <a:xfrm>
              <a:off x="1409040" y="2338560"/>
              <a:ext cx="2921400" cy="13680"/>
            </a:xfrm>
            <a:custGeom>
              <a:avLst/>
              <a:gdLst>
                <a:gd name="textAreaLeft" fmla="*/ 0 w 2921400"/>
                <a:gd name="textAreaRight" fmla="*/ 2921760 w 29214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921635" h="13969">
                  <a:moveTo>
                    <a:pt x="0" y="13716"/>
                  </a:moveTo>
                  <a:lnTo>
                    <a:pt x="487680" y="9144"/>
                  </a:lnTo>
                  <a:lnTo>
                    <a:pt x="973836" y="0"/>
                  </a:lnTo>
                  <a:lnTo>
                    <a:pt x="1461516" y="7620"/>
                  </a:lnTo>
                  <a:lnTo>
                    <a:pt x="1947672" y="6096"/>
                  </a:lnTo>
                  <a:lnTo>
                    <a:pt x="2433828" y="13716"/>
                  </a:lnTo>
                  <a:lnTo>
                    <a:pt x="2921508" y="12192"/>
                  </a:lnTo>
                </a:path>
              </a:pathLst>
            </a:custGeom>
            <a:noFill/>
            <a:ln w="28956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object 39"/>
            <p:cNvSpPr/>
            <p:nvPr/>
          </p:nvSpPr>
          <p:spPr>
            <a:xfrm>
              <a:off x="1365480" y="2308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object 40"/>
            <p:cNvSpPr/>
            <p:nvPr/>
          </p:nvSpPr>
          <p:spPr>
            <a:xfrm>
              <a:off x="1365480" y="2308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object 41"/>
            <p:cNvSpPr/>
            <p:nvPr/>
          </p:nvSpPr>
          <p:spPr>
            <a:xfrm>
              <a:off x="1851480" y="2304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object 42"/>
            <p:cNvSpPr/>
            <p:nvPr/>
          </p:nvSpPr>
          <p:spPr>
            <a:xfrm>
              <a:off x="1851480" y="2304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object 43"/>
            <p:cNvSpPr/>
            <p:nvPr/>
          </p:nvSpPr>
          <p:spPr>
            <a:xfrm>
              <a:off x="2339280" y="2294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object 44"/>
            <p:cNvSpPr/>
            <p:nvPr/>
          </p:nvSpPr>
          <p:spPr>
            <a:xfrm>
              <a:off x="2339280" y="2294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object 45"/>
            <p:cNvSpPr/>
            <p:nvPr/>
          </p:nvSpPr>
          <p:spPr>
            <a:xfrm>
              <a:off x="2825640" y="23007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bject 46"/>
            <p:cNvSpPr/>
            <p:nvPr/>
          </p:nvSpPr>
          <p:spPr>
            <a:xfrm>
              <a:off x="2825640" y="23007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object 47"/>
            <p:cNvSpPr/>
            <p:nvPr/>
          </p:nvSpPr>
          <p:spPr>
            <a:xfrm>
              <a:off x="3311640" y="23007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object 48"/>
            <p:cNvSpPr/>
            <p:nvPr/>
          </p:nvSpPr>
          <p:spPr>
            <a:xfrm>
              <a:off x="3311640" y="23007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bject 49"/>
            <p:cNvSpPr/>
            <p:nvPr/>
          </p:nvSpPr>
          <p:spPr>
            <a:xfrm>
              <a:off x="3799440" y="2308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bject 50"/>
            <p:cNvSpPr/>
            <p:nvPr/>
          </p:nvSpPr>
          <p:spPr>
            <a:xfrm>
              <a:off x="3799440" y="2308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bject 51"/>
            <p:cNvSpPr/>
            <p:nvPr/>
          </p:nvSpPr>
          <p:spPr>
            <a:xfrm>
              <a:off x="4285440" y="2305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bject 52"/>
            <p:cNvSpPr/>
            <p:nvPr/>
          </p:nvSpPr>
          <p:spPr>
            <a:xfrm>
              <a:off x="4285440" y="2305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bject 53"/>
            <p:cNvSpPr/>
            <p:nvPr/>
          </p:nvSpPr>
          <p:spPr>
            <a:xfrm>
              <a:off x="1409040" y="2309760"/>
              <a:ext cx="2921400" cy="41040"/>
            </a:xfrm>
            <a:custGeom>
              <a:avLst/>
              <a:gdLst>
                <a:gd name="textAreaLeft" fmla="*/ 0 w 2921400"/>
                <a:gd name="textAreaRight" fmla="*/ 2921760 w 292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921635" h="41275">
                  <a:moveTo>
                    <a:pt x="0" y="41148"/>
                  </a:moveTo>
                  <a:lnTo>
                    <a:pt x="487680" y="33527"/>
                  </a:lnTo>
                  <a:lnTo>
                    <a:pt x="973836" y="15239"/>
                  </a:lnTo>
                  <a:lnTo>
                    <a:pt x="1461516" y="24383"/>
                  </a:lnTo>
                  <a:lnTo>
                    <a:pt x="1947672" y="0"/>
                  </a:lnTo>
                  <a:lnTo>
                    <a:pt x="2433828" y="22860"/>
                  </a:lnTo>
                  <a:lnTo>
                    <a:pt x="2921508" y="30479"/>
                  </a:lnTo>
                </a:path>
              </a:pathLst>
            </a:custGeom>
            <a:noFill/>
            <a:ln w="28956">
              <a:solidFill>
                <a:srgbClr val="97b8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2" name="object 54" descr=""/>
            <p:cNvPicPr/>
            <p:nvPr/>
          </p:nvPicPr>
          <p:blipFill>
            <a:blip r:embed="rId1"/>
            <a:stretch/>
          </p:blipFill>
          <p:spPr>
            <a:xfrm>
              <a:off x="1360800" y="23007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object 55" descr=""/>
            <p:cNvPicPr/>
            <p:nvPr/>
          </p:nvPicPr>
          <p:blipFill>
            <a:blip r:embed="rId2"/>
            <a:stretch/>
          </p:blipFill>
          <p:spPr>
            <a:xfrm>
              <a:off x="1847160" y="22946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object 56" descr=""/>
            <p:cNvPicPr/>
            <p:nvPr/>
          </p:nvPicPr>
          <p:blipFill>
            <a:blip r:embed="rId3"/>
            <a:stretch/>
          </p:blipFill>
          <p:spPr>
            <a:xfrm>
              <a:off x="2334600" y="22766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object 57" descr=""/>
            <p:cNvPicPr/>
            <p:nvPr/>
          </p:nvPicPr>
          <p:blipFill>
            <a:blip r:embed="rId4"/>
            <a:stretch/>
          </p:blipFill>
          <p:spPr>
            <a:xfrm>
              <a:off x="2820960" y="2284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object 58" descr=""/>
            <p:cNvPicPr/>
            <p:nvPr/>
          </p:nvPicPr>
          <p:blipFill>
            <a:blip r:embed="rId5"/>
            <a:stretch/>
          </p:blipFill>
          <p:spPr>
            <a:xfrm>
              <a:off x="3306960" y="22611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object 59" descr=""/>
            <p:cNvPicPr/>
            <p:nvPr/>
          </p:nvPicPr>
          <p:blipFill>
            <a:blip r:embed="rId6"/>
            <a:stretch/>
          </p:blipFill>
          <p:spPr>
            <a:xfrm>
              <a:off x="3794760" y="22824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object 60" descr=""/>
            <p:cNvPicPr/>
            <p:nvPr/>
          </p:nvPicPr>
          <p:blipFill>
            <a:blip r:embed="rId7"/>
            <a:stretch/>
          </p:blipFill>
          <p:spPr>
            <a:xfrm>
              <a:off x="4280760" y="229032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object 61"/>
          <p:cNvSpPr/>
          <p:nvPr/>
        </p:nvSpPr>
        <p:spPr>
          <a:xfrm>
            <a:off x="842400" y="1130040"/>
            <a:ext cx="21924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4880" bIns="0" anchor="t">
            <a:spAutoFit/>
          </a:bodyPr>
          <a:p>
            <a:pPr algn="r">
              <a:lnSpc>
                <a:spcPct val="100000"/>
              </a:lnSpc>
              <a:spcBef>
                <a:spcPts val="59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85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85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bject 62"/>
          <p:cNvSpPr/>
          <p:nvPr/>
        </p:nvSpPr>
        <p:spPr>
          <a:xfrm>
            <a:off x="330120" y="2430360"/>
            <a:ext cx="57420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950760">
              <a:lnSpc>
                <a:spcPct val="100000"/>
              </a:lnSpc>
              <a:spcBef>
                <a:spcPts val="96"/>
              </a:spcBef>
              <a:tabLst>
                <a:tab algn="l" pos="1437120"/>
                <a:tab algn="l" pos="1924200"/>
                <a:tab algn="l" pos="2410920"/>
                <a:tab algn="l" pos="2897640"/>
                <a:tab algn="l" pos="3384720"/>
                <a:tab algn="l" pos="387108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50760">
              <a:lnSpc>
                <a:spcPct val="100000"/>
              </a:lnSpc>
              <a:spcBef>
                <a:spcPts val="11"/>
              </a:spcBef>
              <a:tabLst>
                <a:tab algn="l" pos="1437120"/>
                <a:tab algn="l" pos="1924200"/>
                <a:tab algn="l" pos="2410920"/>
                <a:tab algn="l" pos="2897640"/>
                <a:tab algn="l" pos="3384720"/>
                <a:tab algn="l" pos="3871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1437120"/>
                <a:tab algn="l" pos="1924200"/>
                <a:tab algn="l" pos="2410920"/>
                <a:tab algn="l" pos="2897640"/>
                <a:tab algn="l" pos="3384720"/>
                <a:tab algn="l" pos="3871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bject 63"/>
          <p:cNvSpPr/>
          <p:nvPr/>
        </p:nvSpPr>
        <p:spPr>
          <a:xfrm>
            <a:off x="4771800" y="15408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4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bject 64"/>
          <p:cNvSpPr/>
          <p:nvPr/>
        </p:nvSpPr>
        <p:spPr>
          <a:xfrm>
            <a:off x="4771800" y="177084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3" name="object 65" descr=""/>
          <p:cNvPicPr/>
          <p:nvPr/>
        </p:nvPicPr>
        <p:blipFill>
          <a:blip r:embed="rId8"/>
          <a:stretch/>
        </p:blipFill>
        <p:spPr>
          <a:xfrm>
            <a:off x="4772520" y="1991880"/>
            <a:ext cx="243360" cy="84960"/>
          </a:xfrm>
          <a:prstGeom prst="rect">
            <a:avLst/>
          </a:prstGeom>
          <a:ln w="0">
            <a:noFill/>
          </a:ln>
        </p:spPr>
      </p:pic>
      <p:grpSp>
        <p:nvGrpSpPr>
          <p:cNvPr id="1304" name="object 66"/>
          <p:cNvGrpSpPr/>
          <p:nvPr/>
        </p:nvGrpSpPr>
        <p:grpSpPr>
          <a:xfrm>
            <a:off x="4772520" y="2226600"/>
            <a:ext cx="243360" cy="75960"/>
            <a:chOff x="4772520" y="2226600"/>
            <a:chExt cx="243360" cy="75960"/>
          </a:xfrm>
        </p:grpSpPr>
        <p:sp>
          <p:nvSpPr>
            <p:cNvPr id="1305" name="object 67"/>
            <p:cNvSpPr/>
            <p:nvPr/>
          </p:nvSpPr>
          <p:spPr>
            <a:xfrm>
              <a:off x="4772520" y="226548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40" y="0"/>
                  </a:lnTo>
                </a:path>
              </a:pathLst>
            </a:custGeom>
            <a:noFill/>
            <a:ln w="28956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bject 68"/>
            <p:cNvSpPr/>
            <p:nvPr/>
          </p:nvSpPr>
          <p:spPr>
            <a:xfrm>
              <a:off x="4855320" y="22266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bject 69"/>
            <p:cNvSpPr/>
            <p:nvPr/>
          </p:nvSpPr>
          <p:spPr>
            <a:xfrm>
              <a:off x="4855320" y="22266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object 70"/>
          <p:cNvSpPr/>
          <p:nvPr/>
        </p:nvSpPr>
        <p:spPr>
          <a:xfrm>
            <a:off x="5029560" y="1395000"/>
            <a:ext cx="78840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Эксрорт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object 71"/>
          <p:cNvGrpSpPr/>
          <p:nvPr/>
        </p:nvGrpSpPr>
        <p:grpSpPr>
          <a:xfrm>
            <a:off x="1117080" y="3147120"/>
            <a:ext cx="3444480" cy="1090080"/>
            <a:chOff x="1117080" y="3147120"/>
            <a:chExt cx="3444480" cy="1090080"/>
          </a:xfrm>
        </p:grpSpPr>
        <p:sp>
          <p:nvSpPr>
            <p:cNvPr id="1310" name="object 72"/>
            <p:cNvSpPr/>
            <p:nvPr/>
          </p:nvSpPr>
          <p:spPr>
            <a:xfrm>
              <a:off x="1156680" y="3846600"/>
              <a:ext cx="685440" cy="3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85800" h="0">
                  <a:moveTo>
                    <a:pt x="0" y="0"/>
                  </a:moveTo>
                  <a:lnTo>
                    <a:pt x="243840" y="0"/>
                  </a:lnTo>
                </a:path>
                <a:path w="685800" h="0">
                  <a:moveTo>
                    <a:pt x="382524" y="0"/>
                  </a:moveTo>
                  <a:lnTo>
                    <a:pt x="68554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bject 73"/>
            <p:cNvSpPr/>
            <p:nvPr/>
          </p:nvSpPr>
          <p:spPr>
            <a:xfrm>
              <a:off x="1260360" y="4020480"/>
              <a:ext cx="140040" cy="17496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34" h="175260">
                  <a:moveTo>
                    <a:pt x="140208" y="0"/>
                  </a:moveTo>
                  <a:lnTo>
                    <a:pt x="0" y="0"/>
                  </a:lnTo>
                  <a:lnTo>
                    <a:pt x="0" y="132588"/>
                  </a:lnTo>
                  <a:lnTo>
                    <a:pt x="0" y="175260"/>
                  </a:lnTo>
                  <a:lnTo>
                    <a:pt x="140208" y="175260"/>
                  </a:lnTo>
                  <a:lnTo>
                    <a:pt x="140208" y="132588"/>
                  </a:lnTo>
                  <a:lnTo>
                    <a:pt x="14020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bject 74"/>
            <p:cNvSpPr/>
            <p:nvPr/>
          </p:nvSpPr>
          <p:spPr>
            <a:xfrm>
              <a:off x="1400400" y="3738240"/>
              <a:ext cx="138600" cy="414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39065" h="414654">
                  <a:moveTo>
                    <a:pt x="0" y="414527"/>
                  </a:moveTo>
                  <a:lnTo>
                    <a:pt x="138684" y="414527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414527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bject 75"/>
            <p:cNvSpPr/>
            <p:nvPr/>
          </p:nvSpPr>
          <p:spPr>
            <a:xfrm>
              <a:off x="2025360" y="3842280"/>
              <a:ext cx="347760" cy="46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7980" h="5079">
                  <a:moveTo>
                    <a:pt x="0" y="0"/>
                  </a:moveTo>
                  <a:lnTo>
                    <a:pt x="347472" y="0"/>
                  </a:lnTo>
                </a:path>
                <a:path w="347980" h="5079">
                  <a:moveTo>
                    <a:pt x="0" y="4572"/>
                  </a:moveTo>
                  <a:lnTo>
                    <a:pt x="347472" y="4572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bject 76"/>
            <p:cNvSpPr/>
            <p:nvPr/>
          </p:nvSpPr>
          <p:spPr>
            <a:xfrm>
              <a:off x="1748160" y="3881520"/>
              <a:ext cx="624600" cy="2714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624839" h="271779">
                  <a:moveTo>
                    <a:pt x="138684" y="70104"/>
                  </a:moveTo>
                  <a:lnTo>
                    <a:pt x="0" y="70104"/>
                  </a:lnTo>
                  <a:lnTo>
                    <a:pt x="0" y="271272"/>
                  </a:lnTo>
                  <a:lnTo>
                    <a:pt x="138684" y="271272"/>
                  </a:lnTo>
                  <a:lnTo>
                    <a:pt x="138684" y="70104"/>
                  </a:lnTo>
                  <a:close/>
                </a:path>
                <a:path w="624839" h="271779">
                  <a:moveTo>
                    <a:pt x="624840" y="0"/>
                  </a:moveTo>
                  <a:lnTo>
                    <a:pt x="486156" y="0"/>
                  </a:lnTo>
                  <a:lnTo>
                    <a:pt x="486156" y="271272"/>
                  </a:lnTo>
                  <a:lnTo>
                    <a:pt x="624840" y="271272"/>
                  </a:lnTo>
                  <a:lnTo>
                    <a:pt x="6248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bject 77"/>
            <p:cNvSpPr/>
            <p:nvPr/>
          </p:nvSpPr>
          <p:spPr>
            <a:xfrm>
              <a:off x="1886760" y="3645360"/>
              <a:ext cx="138600" cy="5076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139064" h="508000">
                  <a:moveTo>
                    <a:pt x="0" y="507492"/>
                  </a:moveTo>
                  <a:lnTo>
                    <a:pt x="138683" y="507492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507492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bject 78"/>
            <p:cNvSpPr/>
            <p:nvPr/>
          </p:nvSpPr>
          <p:spPr>
            <a:xfrm>
              <a:off x="2511720" y="3846600"/>
              <a:ext cx="208440" cy="36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8914" h="0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bject 79"/>
            <p:cNvSpPr/>
            <p:nvPr/>
          </p:nvSpPr>
          <p:spPr>
            <a:xfrm>
              <a:off x="2720160" y="3714120"/>
              <a:ext cx="138600" cy="4392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39064" h="439420">
                  <a:moveTo>
                    <a:pt x="0" y="438912"/>
                  </a:moveTo>
                  <a:lnTo>
                    <a:pt x="138684" y="438912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438912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bject 80"/>
            <p:cNvSpPr/>
            <p:nvPr/>
          </p:nvSpPr>
          <p:spPr>
            <a:xfrm>
              <a:off x="1156680" y="3492360"/>
              <a:ext cx="1702080" cy="4680"/>
            </a:xfrm>
            <a:custGeom>
              <a:avLst/>
              <a:gdLst>
                <a:gd name="textAreaLeft" fmla="*/ 0 w 1702080"/>
                <a:gd name="textAreaRight" fmla="*/ 1702440 w 1702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02435" h="5079">
                  <a:moveTo>
                    <a:pt x="0" y="4572"/>
                  </a:moveTo>
                  <a:lnTo>
                    <a:pt x="1702308" y="4572"/>
                  </a:lnTo>
                </a:path>
                <a:path w="1702435" h="5079">
                  <a:moveTo>
                    <a:pt x="0" y="0"/>
                  </a:moveTo>
                  <a:lnTo>
                    <a:pt x="1702308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bject 81"/>
            <p:cNvSpPr/>
            <p:nvPr/>
          </p:nvSpPr>
          <p:spPr>
            <a:xfrm>
              <a:off x="2372760" y="3493080"/>
              <a:ext cx="138600" cy="6598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139064" h="660400">
                  <a:moveTo>
                    <a:pt x="0" y="659891"/>
                  </a:moveTo>
                  <a:lnTo>
                    <a:pt x="138683" y="659891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659891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bject 82"/>
            <p:cNvSpPr/>
            <p:nvPr/>
          </p:nvSpPr>
          <p:spPr>
            <a:xfrm>
              <a:off x="2997720" y="3846600"/>
              <a:ext cx="208440" cy="36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8914" h="0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bject 83"/>
            <p:cNvSpPr/>
            <p:nvPr/>
          </p:nvSpPr>
          <p:spPr>
            <a:xfrm>
              <a:off x="3206520" y="3657600"/>
              <a:ext cx="138600" cy="4950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39064" h="495300">
                  <a:moveTo>
                    <a:pt x="0" y="495300"/>
                  </a:moveTo>
                  <a:lnTo>
                    <a:pt x="138683" y="495300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49530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bject 84"/>
            <p:cNvSpPr/>
            <p:nvPr/>
          </p:nvSpPr>
          <p:spPr>
            <a:xfrm>
              <a:off x="2997720" y="3492360"/>
              <a:ext cx="347760" cy="46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7979" h="5079">
                  <a:moveTo>
                    <a:pt x="0" y="4572"/>
                  </a:moveTo>
                  <a:lnTo>
                    <a:pt x="347471" y="4572"/>
                  </a:lnTo>
                </a:path>
                <a:path w="347979" h="5079">
                  <a:moveTo>
                    <a:pt x="0" y="0"/>
                  </a:moveTo>
                  <a:lnTo>
                    <a:pt x="347471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bject 85"/>
            <p:cNvSpPr/>
            <p:nvPr/>
          </p:nvSpPr>
          <p:spPr>
            <a:xfrm>
              <a:off x="2859120" y="3311640"/>
              <a:ext cx="138600" cy="8409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139064" h="841375">
                  <a:moveTo>
                    <a:pt x="0" y="841248"/>
                  </a:moveTo>
                  <a:lnTo>
                    <a:pt x="138683" y="841248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84124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bject 86"/>
            <p:cNvSpPr/>
            <p:nvPr/>
          </p:nvSpPr>
          <p:spPr>
            <a:xfrm>
              <a:off x="3485520" y="3846600"/>
              <a:ext cx="207360" cy="3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7645" h="0">
                  <a:moveTo>
                    <a:pt x="0" y="0"/>
                  </a:moveTo>
                  <a:lnTo>
                    <a:pt x="2072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bject 87"/>
            <p:cNvSpPr/>
            <p:nvPr/>
          </p:nvSpPr>
          <p:spPr>
            <a:xfrm>
              <a:off x="3692520" y="3636360"/>
              <a:ext cx="138600" cy="5166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139064" h="516889">
                  <a:moveTo>
                    <a:pt x="0" y="516636"/>
                  </a:moveTo>
                  <a:lnTo>
                    <a:pt x="138684" y="516636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516636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bject 88"/>
            <p:cNvSpPr/>
            <p:nvPr/>
          </p:nvSpPr>
          <p:spPr>
            <a:xfrm>
              <a:off x="3485520" y="3492360"/>
              <a:ext cx="345600" cy="46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6075" h="5079">
                  <a:moveTo>
                    <a:pt x="0" y="4572"/>
                  </a:moveTo>
                  <a:lnTo>
                    <a:pt x="345948" y="4572"/>
                  </a:lnTo>
                </a:path>
                <a:path w="346075" h="5079">
                  <a:moveTo>
                    <a:pt x="0" y="0"/>
                  </a:moveTo>
                  <a:lnTo>
                    <a:pt x="345948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bject 89"/>
            <p:cNvSpPr/>
            <p:nvPr/>
          </p:nvSpPr>
          <p:spPr>
            <a:xfrm>
              <a:off x="3345120" y="3297960"/>
              <a:ext cx="140040" cy="8550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855000"/>
                <a:gd name="textAreaBottom" fmla="*/ 855360 h 855000"/>
              </a:gdLst>
              <a:ahLst/>
              <a:rect l="textAreaLeft" t="textAreaTop" r="textAreaRight" b="textAreaBottom"/>
              <a:pathLst>
                <a:path w="140335" h="855345">
                  <a:moveTo>
                    <a:pt x="0" y="854963"/>
                  </a:moveTo>
                  <a:lnTo>
                    <a:pt x="140208" y="854963"/>
                  </a:lnTo>
                  <a:lnTo>
                    <a:pt x="140208" y="0"/>
                  </a:lnTo>
                  <a:lnTo>
                    <a:pt x="0" y="0"/>
                  </a:lnTo>
                  <a:lnTo>
                    <a:pt x="0" y="854963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bject 90"/>
            <p:cNvSpPr/>
            <p:nvPr/>
          </p:nvSpPr>
          <p:spPr>
            <a:xfrm>
              <a:off x="3971520" y="3846600"/>
              <a:ext cx="207360" cy="3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7645" h="0">
                  <a:moveTo>
                    <a:pt x="0" y="0"/>
                  </a:moveTo>
                  <a:lnTo>
                    <a:pt x="2072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bject 91"/>
            <p:cNvSpPr/>
            <p:nvPr/>
          </p:nvSpPr>
          <p:spPr>
            <a:xfrm>
              <a:off x="3971520" y="3492360"/>
              <a:ext cx="347760" cy="46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7979" h="5079">
                  <a:moveTo>
                    <a:pt x="0" y="4572"/>
                  </a:moveTo>
                  <a:lnTo>
                    <a:pt x="347471" y="4572"/>
                  </a:lnTo>
                </a:path>
                <a:path w="347979" h="5079">
                  <a:moveTo>
                    <a:pt x="0" y="0"/>
                  </a:moveTo>
                  <a:lnTo>
                    <a:pt x="347471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bject 92"/>
            <p:cNvSpPr/>
            <p:nvPr/>
          </p:nvSpPr>
          <p:spPr>
            <a:xfrm>
              <a:off x="4178880" y="3515760"/>
              <a:ext cx="140040" cy="6372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637200"/>
                <a:gd name="textAreaBottom" fmla="*/ 637560 h 637200"/>
              </a:gdLst>
              <a:ahLst/>
              <a:rect l="textAreaLeft" t="textAreaTop" r="textAreaRight" b="textAreaBottom"/>
              <a:pathLst>
                <a:path w="140335" h="637539">
                  <a:moveTo>
                    <a:pt x="0" y="637032"/>
                  </a:moveTo>
                  <a:lnTo>
                    <a:pt x="140207" y="637032"/>
                  </a:lnTo>
                  <a:lnTo>
                    <a:pt x="140207" y="0"/>
                  </a:lnTo>
                  <a:lnTo>
                    <a:pt x="0" y="0"/>
                  </a:lnTo>
                  <a:lnTo>
                    <a:pt x="0" y="637032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bject 93"/>
            <p:cNvSpPr/>
            <p:nvPr/>
          </p:nvSpPr>
          <p:spPr>
            <a:xfrm>
              <a:off x="3831480" y="3465720"/>
              <a:ext cx="626400" cy="729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729720"/>
                <a:gd name="textAreaBottom" fmla="*/ 730080 h 729720"/>
              </a:gdLst>
              <a:ahLst/>
              <a:rect l="textAreaLeft" t="textAreaTop" r="textAreaRight" b="textAreaBottom"/>
              <a:pathLst>
                <a:path w="626745" h="730250">
                  <a:moveTo>
                    <a:pt x="140208" y="0"/>
                  </a:moveTo>
                  <a:lnTo>
                    <a:pt x="0" y="0"/>
                  </a:lnTo>
                  <a:lnTo>
                    <a:pt x="0" y="687324"/>
                  </a:lnTo>
                  <a:lnTo>
                    <a:pt x="140208" y="687324"/>
                  </a:lnTo>
                  <a:lnTo>
                    <a:pt x="140208" y="0"/>
                  </a:lnTo>
                  <a:close/>
                </a:path>
                <a:path w="626745" h="730250">
                  <a:moveTo>
                    <a:pt x="626364" y="687324"/>
                  </a:moveTo>
                  <a:lnTo>
                    <a:pt x="487680" y="687324"/>
                  </a:lnTo>
                  <a:lnTo>
                    <a:pt x="487680" y="729996"/>
                  </a:lnTo>
                  <a:lnTo>
                    <a:pt x="626364" y="729996"/>
                  </a:lnTo>
                  <a:lnTo>
                    <a:pt x="626364" y="687324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bject 94"/>
            <p:cNvSpPr/>
            <p:nvPr/>
          </p:nvSpPr>
          <p:spPr>
            <a:xfrm>
              <a:off x="4457880" y="3846600"/>
              <a:ext cx="103680" cy="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4139" h="0">
                  <a:moveTo>
                    <a:pt x="0" y="0"/>
                  </a:moveTo>
                  <a:lnTo>
                    <a:pt x="1036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bject 95"/>
            <p:cNvSpPr/>
            <p:nvPr/>
          </p:nvSpPr>
          <p:spPr>
            <a:xfrm>
              <a:off x="4457880" y="3492360"/>
              <a:ext cx="103680" cy="46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4139" h="5079">
                  <a:moveTo>
                    <a:pt x="0" y="4572"/>
                  </a:moveTo>
                  <a:lnTo>
                    <a:pt x="103632" y="4572"/>
                  </a:lnTo>
                </a:path>
                <a:path w="104139" h="5079">
                  <a:moveTo>
                    <a:pt x="0" y="0"/>
                  </a:moveTo>
                  <a:lnTo>
                    <a:pt x="103632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bject 96"/>
            <p:cNvSpPr/>
            <p:nvPr/>
          </p:nvSpPr>
          <p:spPr>
            <a:xfrm>
              <a:off x="4318920" y="3406320"/>
              <a:ext cx="138600" cy="7462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139064" h="746760">
                  <a:moveTo>
                    <a:pt x="0" y="746760"/>
                  </a:moveTo>
                  <a:lnTo>
                    <a:pt x="138684" y="746760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74676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bject 97"/>
            <p:cNvSpPr/>
            <p:nvPr/>
          </p:nvSpPr>
          <p:spPr>
            <a:xfrm>
              <a:off x="1117080" y="3147120"/>
              <a:ext cx="3443760" cy="1048680"/>
            </a:xfrm>
            <a:custGeom>
              <a:avLst/>
              <a:gdLst>
                <a:gd name="textAreaLeft" fmla="*/ 0 w 3443760"/>
                <a:gd name="textAreaRight" fmla="*/ 3444120 w 3443760"/>
                <a:gd name="textAreaTop" fmla="*/ 0 h 1048680"/>
                <a:gd name="textAreaBottom" fmla="*/ 1049040 h 1048680"/>
              </a:gdLst>
              <a:ahLst/>
              <a:rect l="textAreaLeft" t="textAreaTop" r="textAreaRight" b="textAreaBottom"/>
              <a:pathLst>
                <a:path w="3444240" h="1049020">
                  <a:moveTo>
                    <a:pt x="39624" y="0"/>
                  </a:moveTo>
                  <a:lnTo>
                    <a:pt x="3444240" y="0"/>
                  </a:lnTo>
                </a:path>
                <a:path w="3444240" h="1049020">
                  <a:moveTo>
                    <a:pt x="39624" y="1048512"/>
                  </a:moveTo>
                  <a:lnTo>
                    <a:pt x="39624" y="0"/>
                  </a:lnTo>
                </a:path>
                <a:path w="3444240" h="1049020">
                  <a:moveTo>
                    <a:pt x="0" y="1048512"/>
                  </a:moveTo>
                  <a:lnTo>
                    <a:pt x="39624" y="1048512"/>
                  </a:lnTo>
                </a:path>
                <a:path w="3444240" h="1049020">
                  <a:moveTo>
                    <a:pt x="0" y="699515"/>
                  </a:moveTo>
                  <a:lnTo>
                    <a:pt x="39624" y="699515"/>
                  </a:lnTo>
                </a:path>
                <a:path w="3444240" h="1049020">
                  <a:moveTo>
                    <a:pt x="0" y="348995"/>
                  </a:moveTo>
                  <a:lnTo>
                    <a:pt x="39624" y="348995"/>
                  </a:lnTo>
                </a:path>
                <a:path w="3444240" h="1049020">
                  <a:moveTo>
                    <a:pt x="0" y="0"/>
                  </a:moveTo>
                  <a:lnTo>
                    <a:pt x="396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bject 98"/>
            <p:cNvSpPr/>
            <p:nvPr/>
          </p:nvSpPr>
          <p:spPr>
            <a:xfrm>
              <a:off x="1156680" y="4195440"/>
              <a:ext cx="3404520" cy="360"/>
            </a:xfrm>
            <a:custGeom>
              <a:avLst/>
              <a:gdLst>
                <a:gd name="textAreaLeft" fmla="*/ 0 w 3404520"/>
                <a:gd name="textAreaRight" fmla="*/ 3404880 w 3404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04870" h="0">
                  <a:moveTo>
                    <a:pt x="0" y="0"/>
                  </a:moveTo>
                  <a:lnTo>
                    <a:pt x="228600" y="0"/>
                  </a:lnTo>
                </a:path>
                <a:path w="3404870" h="0">
                  <a:moveTo>
                    <a:pt x="3176016" y="0"/>
                  </a:moveTo>
                  <a:lnTo>
                    <a:pt x="340461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bject 99"/>
            <p:cNvSpPr/>
            <p:nvPr/>
          </p:nvSpPr>
          <p:spPr>
            <a:xfrm>
              <a:off x="1156680" y="4195440"/>
              <a:ext cx="360" cy="410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0" h="41275">
                  <a:moveTo>
                    <a:pt x="0" y="0"/>
                  </a:moveTo>
                  <a:lnTo>
                    <a:pt x="0" y="41147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bject 100"/>
            <p:cNvSpPr/>
            <p:nvPr/>
          </p:nvSpPr>
          <p:spPr>
            <a:xfrm>
              <a:off x="1643040" y="4204800"/>
              <a:ext cx="2432160" cy="32040"/>
            </a:xfrm>
            <a:custGeom>
              <a:avLst/>
              <a:gdLst>
                <a:gd name="textAreaLeft" fmla="*/ 0 w 2432160"/>
                <a:gd name="textAreaRight" fmla="*/ 2432520 w 24321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432685" h="32385">
                  <a:moveTo>
                    <a:pt x="0" y="0"/>
                  </a:moveTo>
                  <a:lnTo>
                    <a:pt x="0" y="32004"/>
                  </a:lnTo>
                </a:path>
                <a:path w="2432685" h="32385">
                  <a:moveTo>
                    <a:pt x="486155" y="0"/>
                  </a:moveTo>
                  <a:lnTo>
                    <a:pt x="486155" y="32004"/>
                  </a:lnTo>
                </a:path>
                <a:path w="2432685" h="32385">
                  <a:moveTo>
                    <a:pt x="973835" y="0"/>
                  </a:moveTo>
                  <a:lnTo>
                    <a:pt x="973835" y="32004"/>
                  </a:lnTo>
                </a:path>
                <a:path w="2432685" h="32385">
                  <a:moveTo>
                    <a:pt x="1459991" y="0"/>
                  </a:moveTo>
                  <a:lnTo>
                    <a:pt x="1459991" y="32004"/>
                  </a:lnTo>
                </a:path>
                <a:path w="2432685" h="32385">
                  <a:moveTo>
                    <a:pt x="1946148" y="0"/>
                  </a:moveTo>
                  <a:lnTo>
                    <a:pt x="1946148" y="32004"/>
                  </a:lnTo>
                </a:path>
                <a:path w="2432685" h="32385">
                  <a:moveTo>
                    <a:pt x="2432304" y="0"/>
                  </a:moveTo>
                  <a:lnTo>
                    <a:pt x="2432304" y="3200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bject 101"/>
            <p:cNvSpPr/>
            <p:nvPr/>
          </p:nvSpPr>
          <p:spPr>
            <a:xfrm>
              <a:off x="4561200" y="4195440"/>
              <a:ext cx="360" cy="410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0" h="41275">
                  <a:moveTo>
                    <a:pt x="0" y="0"/>
                  </a:moveTo>
                  <a:lnTo>
                    <a:pt x="0" y="41147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bject 102"/>
            <p:cNvSpPr/>
            <p:nvPr/>
          </p:nvSpPr>
          <p:spPr>
            <a:xfrm>
              <a:off x="1399680" y="3787920"/>
              <a:ext cx="2918160" cy="271440"/>
            </a:xfrm>
            <a:custGeom>
              <a:avLst/>
              <a:gdLst>
                <a:gd name="textAreaLeft" fmla="*/ 0 w 2918160"/>
                <a:gd name="textAreaRight" fmla="*/ 2918520 w 29181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918460" h="271779">
                  <a:moveTo>
                    <a:pt x="0" y="115824"/>
                  </a:moveTo>
                  <a:lnTo>
                    <a:pt x="486156" y="91440"/>
                  </a:lnTo>
                  <a:lnTo>
                    <a:pt x="972312" y="12192"/>
                  </a:lnTo>
                  <a:lnTo>
                    <a:pt x="1459992" y="0"/>
                  </a:lnTo>
                  <a:lnTo>
                    <a:pt x="1946147" y="42672"/>
                  </a:lnTo>
                  <a:lnTo>
                    <a:pt x="2432304" y="222504"/>
                  </a:lnTo>
                  <a:lnTo>
                    <a:pt x="2918460" y="271272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bject 103"/>
            <p:cNvSpPr/>
            <p:nvPr/>
          </p:nvSpPr>
          <p:spPr>
            <a:xfrm>
              <a:off x="1356120" y="3858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bject 104"/>
            <p:cNvSpPr/>
            <p:nvPr/>
          </p:nvSpPr>
          <p:spPr>
            <a:xfrm>
              <a:off x="1356120" y="3858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bject 105"/>
            <p:cNvSpPr/>
            <p:nvPr/>
          </p:nvSpPr>
          <p:spPr>
            <a:xfrm>
              <a:off x="1842120" y="3835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bject 106"/>
            <p:cNvSpPr/>
            <p:nvPr/>
          </p:nvSpPr>
          <p:spPr>
            <a:xfrm>
              <a:off x="1842120" y="3835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bject 107"/>
            <p:cNvSpPr/>
            <p:nvPr/>
          </p:nvSpPr>
          <p:spPr>
            <a:xfrm>
              <a:off x="2328480" y="3754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2" y="88392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bject 108"/>
            <p:cNvSpPr/>
            <p:nvPr/>
          </p:nvSpPr>
          <p:spPr>
            <a:xfrm>
              <a:off x="2328480" y="3754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2" y="88392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bject 109"/>
            <p:cNvSpPr/>
            <p:nvPr/>
          </p:nvSpPr>
          <p:spPr>
            <a:xfrm>
              <a:off x="2814480" y="37422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2" y="88392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bject 110"/>
            <p:cNvSpPr/>
            <p:nvPr/>
          </p:nvSpPr>
          <p:spPr>
            <a:xfrm>
              <a:off x="2814480" y="37422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2" y="88392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bject 111"/>
            <p:cNvSpPr/>
            <p:nvPr/>
          </p:nvSpPr>
          <p:spPr>
            <a:xfrm>
              <a:off x="3300840" y="37864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bject 112"/>
            <p:cNvSpPr/>
            <p:nvPr/>
          </p:nvSpPr>
          <p:spPr>
            <a:xfrm>
              <a:off x="3300840" y="37864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bject 113"/>
            <p:cNvSpPr/>
            <p:nvPr/>
          </p:nvSpPr>
          <p:spPr>
            <a:xfrm>
              <a:off x="3786840" y="3964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bject 114"/>
            <p:cNvSpPr/>
            <p:nvPr/>
          </p:nvSpPr>
          <p:spPr>
            <a:xfrm>
              <a:off x="3786840" y="3964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bject 115"/>
            <p:cNvSpPr/>
            <p:nvPr/>
          </p:nvSpPr>
          <p:spPr>
            <a:xfrm>
              <a:off x="4274640" y="4013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bject 116"/>
            <p:cNvSpPr/>
            <p:nvPr/>
          </p:nvSpPr>
          <p:spPr>
            <a:xfrm>
              <a:off x="4274640" y="4013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bject 117"/>
            <p:cNvSpPr/>
            <p:nvPr/>
          </p:nvSpPr>
          <p:spPr>
            <a:xfrm>
              <a:off x="1399680" y="4167360"/>
              <a:ext cx="2918160" cy="22680"/>
            </a:xfrm>
            <a:custGeom>
              <a:avLst/>
              <a:gdLst>
                <a:gd name="textAreaLeft" fmla="*/ 0 w 2918160"/>
                <a:gd name="textAreaRight" fmla="*/ 2918520 w 2918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918460" h="22860">
                  <a:moveTo>
                    <a:pt x="0" y="19812"/>
                  </a:moveTo>
                  <a:lnTo>
                    <a:pt x="486156" y="18288"/>
                  </a:lnTo>
                  <a:lnTo>
                    <a:pt x="972312" y="21336"/>
                  </a:lnTo>
                  <a:lnTo>
                    <a:pt x="1459992" y="22860"/>
                  </a:lnTo>
                  <a:lnTo>
                    <a:pt x="1946147" y="22860"/>
                  </a:lnTo>
                  <a:lnTo>
                    <a:pt x="2432304" y="13716"/>
                  </a:lnTo>
                  <a:lnTo>
                    <a:pt x="2918460" y="0"/>
                  </a:lnTo>
                </a:path>
              </a:pathLst>
            </a:custGeom>
            <a:noFill/>
            <a:ln w="28956">
              <a:solidFill>
                <a:srgbClr val="97b8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6" name="object 118" descr=""/>
            <p:cNvPicPr/>
            <p:nvPr/>
          </p:nvPicPr>
          <p:blipFill>
            <a:blip r:embed="rId9"/>
            <a:stretch/>
          </p:blipFill>
          <p:spPr>
            <a:xfrm>
              <a:off x="1351440" y="41371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object 119" descr=""/>
            <p:cNvPicPr/>
            <p:nvPr/>
          </p:nvPicPr>
          <p:blipFill>
            <a:blip r:embed="rId10"/>
            <a:stretch/>
          </p:blipFill>
          <p:spPr>
            <a:xfrm>
              <a:off x="1837800" y="41371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object 120" descr=""/>
            <p:cNvPicPr/>
            <p:nvPr/>
          </p:nvPicPr>
          <p:blipFill>
            <a:blip r:embed="rId11"/>
            <a:stretch/>
          </p:blipFill>
          <p:spPr>
            <a:xfrm>
              <a:off x="2323800" y="4138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object 121" descr=""/>
            <p:cNvPicPr/>
            <p:nvPr/>
          </p:nvPicPr>
          <p:blipFill>
            <a:blip r:embed="rId12"/>
            <a:stretch/>
          </p:blipFill>
          <p:spPr>
            <a:xfrm>
              <a:off x="2810160" y="41400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object 122" descr=""/>
            <p:cNvPicPr/>
            <p:nvPr/>
          </p:nvPicPr>
          <p:blipFill>
            <a:blip r:embed="rId13"/>
            <a:stretch/>
          </p:blipFill>
          <p:spPr>
            <a:xfrm>
              <a:off x="3296160" y="41400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object 123" descr=""/>
            <p:cNvPicPr/>
            <p:nvPr/>
          </p:nvPicPr>
          <p:blipFill>
            <a:blip r:embed="rId14"/>
            <a:stretch/>
          </p:blipFill>
          <p:spPr>
            <a:xfrm>
              <a:off x="3782160" y="41310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object 124" descr=""/>
            <p:cNvPicPr/>
            <p:nvPr/>
          </p:nvPicPr>
          <p:blipFill>
            <a:blip r:embed="rId15"/>
            <a:stretch/>
          </p:blipFill>
          <p:spPr>
            <a:xfrm>
              <a:off x="4269960" y="411876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3" name="object 125"/>
          <p:cNvSpPr/>
          <p:nvPr/>
        </p:nvSpPr>
        <p:spPr>
          <a:xfrm>
            <a:off x="961920" y="40935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bject 126"/>
          <p:cNvSpPr/>
          <p:nvPr/>
        </p:nvSpPr>
        <p:spPr>
          <a:xfrm>
            <a:off x="897840" y="37440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bject 127"/>
          <p:cNvSpPr/>
          <p:nvPr/>
        </p:nvSpPr>
        <p:spPr>
          <a:xfrm>
            <a:off x="833040" y="33944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bject 128"/>
          <p:cNvSpPr/>
          <p:nvPr/>
        </p:nvSpPr>
        <p:spPr>
          <a:xfrm>
            <a:off x="833040" y="30445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bject 129"/>
          <p:cNvSpPr/>
          <p:nvPr/>
        </p:nvSpPr>
        <p:spPr>
          <a:xfrm>
            <a:off x="1258560" y="4258800"/>
            <a:ext cx="3201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98960"/>
                <a:tab algn="l" pos="985680"/>
                <a:tab algn="l" pos="1472040"/>
                <a:tab algn="l" pos="1958400"/>
                <a:tab algn="l" pos="2444760"/>
                <a:tab algn="l" pos="293112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bject 130"/>
          <p:cNvSpPr/>
          <p:nvPr/>
        </p:nvSpPr>
        <p:spPr>
          <a:xfrm>
            <a:off x="4761000" y="33804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bject 131"/>
          <p:cNvSpPr/>
          <p:nvPr/>
        </p:nvSpPr>
        <p:spPr>
          <a:xfrm>
            <a:off x="4761000" y="361044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4"/>
                </a:lnTo>
                <a:lnTo>
                  <a:pt x="243839" y="70104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0" name="object 132"/>
          <p:cNvGrpSpPr/>
          <p:nvPr/>
        </p:nvGrpSpPr>
        <p:grpSpPr>
          <a:xfrm>
            <a:off x="4760280" y="3835800"/>
            <a:ext cx="243360" cy="75960"/>
            <a:chOff x="4760280" y="3835800"/>
            <a:chExt cx="243360" cy="75960"/>
          </a:xfrm>
        </p:grpSpPr>
        <p:sp>
          <p:nvSpPr>
            <p:cNvPr id="1371" name="object 133"/>
            <p:cNvSpPr/>
            <p:nvPr/>
          </p:nvSpPr>
          <p:spPr>
            <a:xfrm>
              <a:off x="4760280" y="387468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39" y="0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bject 134"/>
            <p:cNvSpPr/>
            <p:nvPr/>
          </p:nvSpPr>
          <p:spPr>
            <a:xfrm>
              <a:off x="4843440" y="38358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bject 135"/>
            <p:cNvSpPr/>
            <p:nvPr/>
          </p:nvSpPr>
          <p:spPr>
            <a:xfrm>
              <a:off x="4843440" y="38358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4" name="object 136" descr=""/>
          <p:cNvPicPr/>
          <p:nvPr/>
        </p:nvPicPr>
        <p:blipFill>
          <a:blip r:embed="rId16"/>
          <a:stretch/>
        </p:blipFill>
        <p:spPr>
          <a:xfrm>
            <a:off x="4760280" y="406152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1375" name="object 137"/>
          <p:cNvSpPr/>
          <p:nvPr/>
        </p:nvSpPr>
        <p:spPr>
          <a:xfrm>
            <a:off x="5018040" y="3235680"/>
            <a:ext cx="7884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object 138"/>
          <p:cNvGrpSpPr/>
          <p:nvPr/>
        </p:nvGrpSpPr>
        <p:grpSpPr>
          <a:xfrm>
            <a:off x="1057680" y="5020200"/>
            <a:ext cx="3520440" cy="1312200"/>
            <a:chOff x="1057680" y="5020200"/>
            <a:chExt cx="3520440" cy="1312200"/>
          </a:xfrm>
        </p:grpSpPr>
        <p:sp>
          <p:nvSpPr>
            <p:cNvPr id="1377" name="object 139"/>
            <p:cNvSpPr/>
            <p:nvPr/>
          </p:nvSpPr>
          <p:spPr>
            <a:xfrm>
              <a:off x="1097280" y="5974200"/>
              <a:ext cx="106200" cy="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0" h="0">
                  <a:moveTo>
                    <a:pt x="0" y="0"/>
                  </a:moveTo>
                  <a:lnTo>
                    <a:pt x="106679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bject 140"/>
            <p:cNvSpPr/>
            <p:nvPr/>
          </p:nvSpPr>
          <p:spPr>
            <a:xfrm>
              <a:off x="1203840" y="5841360"/>
              <a:ext cx="141840" cy="4492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42240" h="449579">
                  <a:moveTo>
                    <a:pt x="141731" y="0"/>
                  </a:moveTo>
                  <a:lnTo>
                    <a:pt x="0" y="0"/>
                  </a:lnTo>
                  <a:lnTo>
                    <a:pt x="0" y="449580"/>
                  </a:lnTo>
                  <a:lnTo>
                    <a:pt x="141731" y="449580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bject 141"/>
            <p:cNvSpPr/>
            <p:nvPr/>
          </p:nvSpPr>
          <p:spPr>
            <a:xfrm>
              <a:off x="1097280" y="5655600"/>
              <a:ext cx="603360" cy="31824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603885" h="318770">
                  <a:moveTo>
                    <a:pt x="390144" y="318516"/>
                  </a:moveTo>
                  <a:lnTo>
                    <a:pt x="603503" y="318516"/>
                  </a:lnTo>
                </a:path>
                <a:path w="603885" h="318770">
                  <a:moveTo>
                    <a:pt x="0" y="0"/>
                  </a:moveTo>
                  <a:lnTo>
                    <a:pt x="603503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bject 142"/>
            <p:cNvSpPr/>
            <p:nvPr/>
          </p:nvSpPr>
          <p:spPr>
            <a:xfrm>
              <a:off x="1700640" y="5626440"/>
              <a:ext cx="143280" cy="6645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664560"/>
                <a:gd name="textAreaBottom" fmla="*/ 664920 h 664560"/>
              </a:gdLst>
              <a:ahLst/>
              <a:rect l="textAreaLeft" t="textAreaTop" r="textAreaRight" b="textAreaBottom"/>
              <a:pathLst>
                <a:path w="143510" h="664845">
                  <a:moveTo>
                    <a:pt x="143256" y="0"/>
                  </a:moveTo>
                  <a:lnTo>
                    <a:pt x="0" y="0"/>
                  </a:lnTo>
                  <a:lnTo>
                    <a:pt x="0" y="664463"/>
                  </a:lnTo>
                  <a:lnTo>
                    <a:pt x="143256" y="664463"/>
                  </a:lnTo>
                  <a:lnTo>
                    <a:pt x="14325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bject 143"/>
            <p:cNvSpPr/>
            <p:nvPr/>
          </p:nvSpPr>
          <p:spPr>
            <a:xfrm>
              <a:off x="1345680" y="5702760"/>
              <a:ext cx="141840" cy="588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42240" h="588645">
                  <a:moveTo>
                    <a:pt x="141732" y="0"/>
                  </a:moveTo>
                  <a:lnTo>
                    <a:pt x="0" y="0"/>
                  </a:lnTo>
                  <a:lnTo>
                    <a:pt x="0" y="588263"/>
                  </a:lnTo>
                  <a:lnTo>
                    <a:pt x="141732" y="588263"/>
                  </a:lnTo>
                  <a:lnTo>
                    <a:pt x="14173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bject 144"/>
            <p:cNvSpPr/>
            <p:nvPr/>
          </p:nvSpPr>
          <p:spPr>
            <a:xfrm>
              <a:off x="1985760" y="5655600"/>
              <a:ext cx="213120" cy="318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3360" h="318770">
                  <a:moveTo>
                    <a:pt x="0" y="318516"/>
                  </a:moveTo>
                  <a:lnTo>
                    <a:pt x="213359" y="318516"/>
                  </a:lnTo>
                </a:path>
                <a:path w="213360" h="318770">
                  <a:moveTo>
                    <a:pt x="0" y="0"/>
                  </a:moveTo>
                  <a:lnTo>
                    <a:pt x="213359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bject 145"/>
            <p:cNvSpPr/>
            <p:nvPr/>
          </p:nvSpPr>
          <p:spPr>
            <a:xfrm>
              <a:off x="2199240" y="5582520"/>
              <a:ext cx="141840" cy="7084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42239" h="708660">
                  <a:moveTo>
                    <a:pt x="141731" y="0"/>
                  </a:moveTo>
                  <a:lnTo>
                    <a:pt x="0" y="0"/>
                  </a:lnTo>
                  <a:lnTo>
                    <a:pt x="0" y="708660"/>
                  </a:lnTo>
                  <a:lnTo>
                    <a:pt x="141731" y="708660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bject 146"/>
            <p:cNvSpPr/>
            <p:nvPr/>
          </p:nvSpPr>
          <p:spPr>
            <a:xfrm>
              <a:off x="1843920" y="5529240"/>
              <a:ext cx="141840" cy="7617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42239" h="762000">
                  <a:moveTo>
                    <a:pt x="141732" y="0"/>
                  </a:moveTo>
                  <a:lnTo>
                    <a:pt x="0" y="0"/>
                  </a:lnTo>
                  <a:lnTo>
                    <a:pt x="0" y="761999"/>
                  </a:lnTo>
                  <a:lnTo>
                    <a:pt x="141732" y="761999"/>
                  </a:lnTo>
                  <a:lnTo>
                    <a:pt x="14173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bject 147"/>
            <p:cNvSpPr/>
            <p:nvPr/>
          </p:nvSpPr>
          <p:spPr>
            <a:xfrm>
              <a:off x="2482560" y="5655600"/>
              <a:ext cx="213120" cy="318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3360" h="318770">
                  <a:moveTo>
                    <a:pt x="0" y="318516"/>
                  </a:moveTo>
                  <a:lnTo>
                    <a:pt x="213360" y="318516"/>
                  </a:lnTo>
                </a:path>
                <a:path w="213360" h="318770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bject 148"/>
            <p:cNvSpPr/>
            <p:nvPr/>
          </p:nvSpPr>
          <p:spPr>
            <a:xfrm>
              <a:off x="2696040" y="5405760"/>
              <a:ext cx="141840" cy="8856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142239" h="885825">
                  <a:moveTo>
                    <a:pt x="141731" y="0"/>
                  </a:moveTo>
                  <a:lnTo>
                    <a:pt x="0" y="0"/>
                  </a:lnTo>
                  <a:lnTo>
                    <a:pt x="0" y="885444"/>
                  </a:lnTo>
                  <a:lnTo>
                    <a:pt x="141731" y="885444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bject 149"/>
            <p:cNvSpPr/>
            <p:nvPr/>
          </p:nvSpPr>
          <p:spPr>
            <a:xfrm>
              <a:off x="1097280" y="5337000"/>
              <a:ext cx="1740240" cy="360"/>
            </a:xfrm>
            <a:custGeom>
              <a:avLst/>
              <a:gdLst>
                <a:gd name="textAreaLeft" fmla="*/ 0 w 1740240"/>
                <a:gd name="textAreaRight" fmla="*/ 1740600 w 1740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40535" h="0">
                  <a:moveTo>
                    <a:pt x="0" y="0"/>
                  </a:moveTo>
                  <a:lnTo>
                    <a:pt x="174040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bject 150"/>
            <p:cNvSpPr/>
            <p:nvPr/>
          </p:nvSpPr>
          <p:spPr>
            <a:xfrm>
              <a:off x="2340720" y="5378040"/>
              <a:ext cx="141840" cy="9126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42239" h="913129">
                  <a:moveTo>
                    <a:pt x="141731" y="0"/>
                  </a:moveTo>
                  <a:lnTo>
                    <a:pt x="0" y="0"/>
                  </a:lnTo>
                  <a:lnTo>
                    <a:pt x="0" y="912875"/>
                  </a:lnTo>
                  <a:lnTo>
                    <a:pt x="141731" y="912875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bject 151"/>
            <p:cNvSpPr/>
            <p:nvPr/>
          </p:nvSpPr>
          <p:spPr>
            <a:xfrm>
              <a:off x="2980800" y="5655600"/>
              <a:ext cx="211680" cy="3182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2089" h="318770">
                  <a:moveTo>
                    <a:pt x="0" y="318516"/>
                  </a:moveTo>
                  <a:lnTo>
                    <a:pt x="211836" y="318516"/>
                  </a:lnTo>
                </a:path>
                <a:path w="212089" h="318770">
                  <a:moveTo>
                    <a:pt x="0" y="0"/>
                  </a:moveTo>
                  <a:lnTo>
                    <a:pt x="211836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bject 152"/>
            <p:cNvSpPr/>
            <p:nvPr/>
          </p:nvSpPr>
          <p:spPr>
            <a:xfrm>
              <a:off x="3192840" y="5397840"/>
              <a:ext cx="143280" cy="8931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93160"/>
                <a:gd name="textAreaBottom" fmla="*/ 893520 h 893160"/>
              </a:gdLst>
              <a:ahLst/>
              <a:rect l="textAreaLeft" t="textAreaTop" r="textAreaRight" b="textAreaBottom"/>
              <a:pathLst>
                <a:path w="143510" h="893445">
                  <a:moveTo>
                    <a:pt x="143256" y="0"/>
                  </a:moveTo>
                  <a:lnTo>
                    <a:pt x="0" y="0"/>
                  </a:lnTo>
                  <a:lnTo>
                    <a:pt x="0" y="893063"/>
                  </a:lnTo>
                  <a:lnTo>
                    <a:pt x="143256" y="893063"/>
                  </a:lnTo>
                  <a:lnTo>
                    <a:pt x="14325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bject 153"/>
            <p:cNvSpPr/>
            <p:nvPr/>
          </p:nvSpPr>
          <p:spPr>
            <a:xfrm>
              <a:off x="2980800" y="5337000"/>
              <a:ext cx="355320" cy="3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55600" h="0">
                  <a:moveTo>
                    <a:pt x="0" y="0"/>
                  </a:moveTo>
                  <a:lnTo>
                    <a:pt x="355092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bject 154"/>
            <p:cNvSpPr/>
            <p:nvPr/>
          </p:nvSpPr>
          <p:spPr>
            <a:xfrm>
              <a:off x="2837520" y="5209200"/>
              <a:ext cx="143280" cy="10818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143510" h="1082039">
                  <a:moveTo>
                    <a:pt x="143256" y="0"/>
                  </a:moveTo>
                  <a:lnTo>
                    <a:pt x="0" y="0"/>
                  </a:lnTo>
                  <a:lnTo>
                    <a:pt x="0" y="1082040"/>
                  </a:lnTo>
                  <a:lnTo>
                    <a:pt x="143256" y="1082040"/>
                  </a:lnTo>
                  <a:lnTo>
                    <a:pt x="14325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bject 155"/>
            <p:cNvSpPr/>
            <p:nvPr/>
          </p:nvSpPr>
          <p:spPr>
            <a:xfrm>
              <a:off x="3477600" y="5655600"/>
              <a:ext cx="213120" cy="318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3360" h="318770">
                  <a:moveTo>
                    <a:pt x="0" y="318516"/>
                  </a:moveTo>
                  <a:lnTo>
                    <a:pt x="213360" y="318516"/>
                  </a:lnTo>
                </a:path>
                <a:path w="213360" h="318770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bject 156"/>
            <p:cNvSpPr/>
            <p:nvPr/>
          </p:nvSpPr>
          <p:spPr>
            <a:xfrm>
              <a:off x="3691080" y="5497200"/>
              <a:ext cx="141840" cy="7941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142239" h="794385">
                  <a:moveTo>
                    <a:pt x="141732" y="0"/>
                  </a:moveTo>
                  <a:lnTo>
                    <a:pt x="0" y="0"/>
                  </a:lnTo>
                  <a:lnTo>
                    <a:pt x="0" y="794003"/>
                  </a:lnTo>
                  <a:lnTo>
                    <a:pt x="141732" y="794003"/>
                  </a:lnTo>
                  <a:lnTo>
                    <a:pt x="14173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bject 157"/>
            <p:cNvSpPr/>
            <p:nvPr/>
          </p:nvSpPr>
          <p:spPr>
            <a:xfrm>
              <a:off x="3477600" y="5337000"/>
              <a:ext cx="1100160" cy="360"/>
            </a:xfrm>
            <a:custGeom>
              <a:avLst/>
              <a:gdLst>
                <a:gd name="textAreaLeft" fmla="*/ 0 w 1100160"/>
                <a:gd name="textAreaRight" fmla="*/ 1100520 w 1100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00454" h="0">
                  <a:moveTo>
                    <a:pt x="0" y="0"/>
                  </a:moveTo>
                  <a:lnTo>
                    <a:pt x="110032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bject 158"/>
            <p:cNvSpPr/>
            <p:nvPr/>
          </p:nvSpPr>
          <p:spPr>
            <a:xfrm>
              <a:off x="3336120" y="5192280"/>
              <a:ext cx="141840" cy="10987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142239" h="1099185">
                  <a:moveTo>
                    <a:pt x="141731" y="0"/>
                  </a:moveTo>
                  <a:lnTo>
                    <a:pt x="0" y="0"/>
                  </a:lnTo>
                  <a:lnTo>
                    <a:pt x="0" y="1098803"/>
                  </a:lnTo>
                  <a:lnTo>
                    <a:pt x="141731" y="1098803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bject 159"/>
            <p:cNvSpPr/>
            <p:nvPr/>
          </p:nvSpPr>
          <p:spPr>
            <a:xfrm>
              <a:off x="3974760" y="5655600"/>
              <a:ext cx="213120" cy="318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3360" h="318770">
                  <a:moveTo>
                    <a:pt x="0" y="318516"/>
                  </a:moveTo>
                  <a:lnTo>
                    <a:pt x="213360" y="318516"/>
                  </a:lnTo>
                </a:path>
                <a:path w="213360" h="318770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bject 160"/>
            <p:cNvSpPr/>
            <p:nvPr/>
          </p:nvSpPr>
          <p:spPr>
            <a:xfrm>
              <a:off x="4187880" y="5608440"/>
              <a:ext cx="141840" cy="6829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682920"/>
                <a:gd name="textAreaBottom" fmla="*/ 683280 h 682920"/>
              </a:gdLst>
              <a:ahLst/>
              <a:rect l="textAreaLeft" t="textAreaTop" r="textAreaRight" b="textAreaBottom"/>
              <a:pathLst>
                <a:path w="142239" h="683260">
                  <a:moveTo>
                    <a:pt x="141732" y="0"/>
                  </a:moveTo>
                  <a:lnTo>
                    <a:pt x="0" y="0"/>
                  </a:lnTo>
                  <a:lnTo>
                    <a:pt x="0" y="682751"/>
                  </a:lnTo>
                  <a:lnTo>
                    <a:pt x="141732" y="682751"/>
                  </a:lnTo>
                  <a:lnTo>
                    <a:pt x="14173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bject 161"/>
            <p:cNvSpPr/>
            <p:nvPr/>
          </p:nvSpPr>
          <p:spPr>
            <a:xfrm>
              <a:off x="3832920" y="5407200"/>
              <a:ext cx="141840" cy="8834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83440"/>
                <a:gd name="textAreaBottom" fmla="*/ 883800 h 883440"/>
              </a:gdLst>
              <a:ahLst/>
              <a:rect l="textAreaLeft" t="textAreaTop" r="textAreaRight" b="textAreaBottom"/>
              <a:pathLst>
                <a:path w="142239" h="883920">
                  <a:moveTo>
                    <a:pt x="141731" y="0"/>
                  </a:moveTo>
                  <a:lnTo>
                    <a:pt x="0" y="0"/>
                  </a:lnTo>
                  <a:lnTo>
                    <a:pt x="0" y="883920"/>
                  </a:lnTo>
                  <a:lnTo>
                    <a:pt x="141731" y="883920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bject 162"/>
            <p:cNvSpPr/>
            <p:nvPr/>
          </p:nvSpPr>
          <p:spPr>
            <a:xfrm>
              <a:off x="4473000" y="5655600"/>
              <a:ext cx="105120" cy="3182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105410" h="318770">
                  <a:moveTo>
                    <a:pt x="0" y="318516"/>
                  </a:moveTo>
                  <a:lnTo>
                    <a:pt x="105156" y="318516"/>
                  </a:lnTo>
                </a:path>
                <a:path w="105410" h="318770">
                  <a:moveTo>
                    <a:pt x="0" y="0"/>
                  </a:moveTo>
                  <a:lnTo>
                    <a:pt x="105156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bject 163"/>
            <p:cNvSpPr/>
            <p:nvPr/>
          </p:nvSpPr>
          <p:spPr>
            <a:xfrm>
              <a:off x="4329720" y="5500080"/>
              <a:ext cx="143280" cy="79092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43510" h="791210">
                  <a:moveTo>
                    <a:pt x="143255" y="0"/>
                  </a:moveTo>
                  <a:lnTo>
                    <a:pt x="0" y="0"/>
                  </a:lnTo>
                  <a:lnTo>
                    <a:pt x="0" y="790956"/>
                  </a:lnTo>
                  <a:lnTo>
                    <a:pt x="143255" y="790956"/>
                  </a:lnTo>
                  <a:lnTo>
                    <a:pt x="14325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bject 164"/>
            <p:cNvSpPr/>
            <p:nvPr/>
          </p:nvSpPr>
          <p:spPr>
            <a:xfrm>
              <a:off x="1057680" y="5020200"/>
              <a:ext cx="3520080" cy="1312200"/>
            </a:xfrm>
            <a:custGeom>
              <a:avLst/>
              <a:gdLst>
                <a:gd name="textAreaLeft" fmla="*/ 0 w 3520080"/>
                <a:gd name="textAreaRight" fmla="*/ 3520440 w 352008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3520440" h="1312545">
                  <a:moveTo>
                    <a:pt x="39624" y="0"/>
                  </a:moveTo>
                  <a:lnTo>
                    <a:pt x="3520440" y="0"/>
                  </a:lnTo>
                </a:path>
                <a:path w="3520440" h="1312545">
                  <a:moveTo>
                    <a:pt x="39624" y="1271016"/>
                  </a:moveTo>
                  <a:lnTo>
                    <a:pt x="39624" y="0"/>
                  </a:lnTo>
                </a:path>
                <a:path w="3520440" h="1312545">
                  <a:moveTo>
                    <a:pt x="0" y="1271016"/>
                  </a:moveTo>
                  <a:lnTo>
                    <a:pt x="39624" y="1271016"/>
                  </a:lnTo>
                </a:path>
                <a:path w="3520440" h="1312545">
                  <a:moveTo>
                    <a:pt x="0" y="954024"/>
                  </a:moveTo>
                  <a:lnTo>
                    <a:pt x="39624" y="954024"/>
                  </a:lnTo>
                </a:path>
                <a:path w="3520440" h="1312545">
                  <a:moveTo>
                    <a:pt x="0" y="635508"/>
                  </a:moveTo>
                  <a:lnTo>
                    <a:pt x="39624" y="635508"/>
                  </a:lnTo>
                </a:path>
                <a:path w="3520440" h="1312545">
                  <a:moveTo>
                    <a:pt x="0" y="316992"/>
                  </a:moveTo>
                  <a:lnTo>
                    <a:pt x="39624" y="316992"/>
                  </a:lnTo>
                </a:path>
                <a:path w="3520440" h="1312545">
                  <a:moveTo>
                    <a:pt x="0" y="0"/>
                  </a:moveTo>
                  <a:lnTo>
                    <a:pt x="39624" y="0"/>
                  </a:lnTo>
                </a:path>
                <a:path w="3520440" h="1312545">
                  <a:moveTo>
                    <a:pt x="39624" y="1271016"/>
                  </a:moveTo>
                  <a:lnTo>
                    <a:pt x="3520440" y="1271016"/>
                  </a:lnTo>
                </a:path>
                <a:path w="3520440" h="1312545">
                  <a:moveTo>
                    <a:pt x="39624" y="1271016"/>
                  </a:moveTo>
                  <a:lnTo>
                    <a:pt x="39624" y="1312164"/>
                  </a:lnTo>
                </a:path>
                <a:path w="3520440" h="1312545">
                  <a:moveTo>
                    <a:pt x="536447" y="1271016"/>
                  </a:moveTo>
                  <a:lnTo>
                    <a:pt x="536447" y="1312164"/>
                  </a:lnTo>
                </a:path>
                <a:path w="3520440" h="1312545">
                  <a:moveTo>
                    <a:pt x="1034795" y="1271016"/>
                  </a:moveTo>
                  <a:lnTo>
                    <a:pt x="1034795" y="1312164"/>
                  </a:lnTo>
                </a:path>
                <a:path w="3520440" h="1312545">
                  <a:moveTo>
                    <a:pt x="1531620" y="1271016"/>
                  </a:moveTo>
                  <a:lnTo>
                    <a:pt x="1531620" y="1312164"/>
                  </a:lnTo>
                </a:path>
                <a:path w="3520440" h="1312545">
                  <a:moveTo>
                    <a:pt x="2028444" y="1271016"/>
                  </a:moveTo>
                  <a:lnTo>
                    <a:pt x="2028444" y="1312164"/>
                  </a:lnTo>
                </a:path>
                <a:path w="3520440" h="1312545">
                  <a:moveTo>
                    <a:pt x="2526792" y="1271016"/>
                  </a:moveTo>
                  <a:lnTo>
                    <a:pt x="2526792" y="1312164"/>
                  </a:lnTo>
                </a:path>
                <a:path w="3520440" h="1312545">
                  <a:moveTo>
                    <a:pt x="3023616" y="1271016"/>
                  </a:moveTo>
                  <a:lnTo>
                    <a:pt x="3023616" y="1312164"/>
                  </a:lnTo>
                </a:path>
                <a:path w="3520440" h="1312545">
                  <a:moveTo>
                    <a:pt x="3520440" y="1271016"/>
                  </a:moveTo>
                  <a:lnTo>
                    <a:pt x="3520440" y="131216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bject 165"/>
            <p:cNvSpPr/>
            <p:nvPr/>
          </p:nvSpPr>
          <p:spPr>
            <a:xfrm>
              <a:off x="1346400" y="5997600"/>
              <a:ext cx="2984040" cy="1234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984500" h="123825">
                  <a:moveTo>
                    <a:pt x="0" y="94488"/>
                  </a:moveTo>
                  <a:lnTo>
                    <a:pt x="496823" y="74676"/>
                  </a:lnTo>
                  <a:lnTo>
                    <a:pt x="993647" y="1524"/>
                  </a:lnTo>
                  <a:lnTo>
                    <a:pt x="1491996" y="0"/>
                  </a:lnTo>
                  <a:lnTo>
                    <a:pt x="1988820" y="7620"/>
                  </a:lnTo>
                  <a:lnTo>
                    <a:pt x="2485644" y="115824"/>
                  </a:lnTo>
                  <a:lnTo>
                    <a:pt x="2983992" y="123444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bject 166"/>
            <p:cNvSpPr/>
            <p:nvPr/>
          </p:nvSpPr>
          <p:spPr>
            <a:xfrm>
              <a:off x="1301400" y="6047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bject 167"/>
            <p:cNvSpPr/>
            <p:nvPr/>
          </p:nvSpPr>
          <p:spPr>
            <a:xfrm>
              <a:off x="1301400" y="6047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bject 168"/>
            <p:cNvSpPr/>
            <p:nvPr/>
          </p:nvSpPr>
          <p:spPr>
            <a:xfrm>
              <a:off x="1800000" y="60289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bject 169"/>
            <p:cNvSpPr/>
            <p:nvPr/>
          </p:nvSpPr>
          <p:spPr>
            <a:xfrm>
              <a:off x="1800000" y="60289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bject 170"/>
            <p:cNvSpPr/>
            <p:nvPr/>
          </p:nvSpPr>
          <p:spPr>
            <a:xfrm>
              <a:off x="2296800" y="5954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bject 171"/>
            <p:cNvSpPr/>
            <p:nvPr/>
          </p:nvSpPr>
          <p:spPr>
            <a:xfrm>
              <a:off x="2296800" y="5954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bject 172"/>
            <p:cNvSpPr/>
            <p:nvPr/>
          </p:nvSpPr>
          <p:spPr>
            <a:xfrm>
              <a:off x="2793600" y="5952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bject 173"/>
            <p:cNvSpPr/>
            <p:nvPr/>
          </p:nvSpPr>
          <p:spPr>
            <a:xfrm>
              <a:off x="2793600" y="5952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bject 174"/>
            <p:cNvSpPr/>
            <p:nvPr/>
          </p:nvSpPr>
          <p:spPr>
            <a:xfrm>
              <a:off x="3291840" y="5961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bject 175"/>
            <p:cNvSpPr/>
            <p:nvPr/>
          </p:nvSpPr>
          <p:spPr>
            <a:xfrm>
              <a:off x="3291840" y="5961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bject 176"/>
            <p:cNvSpPr/>
            <p:nvPr/>
          </p:nvSpPr>
          <p:spPr>
            <a:xfrm>
              <a:off x="3788640" y="6068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bject 177"/>
            <p:cNvSpPr/>
            <p:nvPr/>
          </p:nvSpPr>
          <p:spPr>
            <a:xfrm>
              <a:off x="3788640" y="6068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bject 178"/>
            <p:cNvSpPr/>
            <p:nvPr/>
          </p:nvSpPr>
          <p:spPr>
            <a:xfrm>
              <a:off x="4285440" y="6077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bject 179"/>
            <p:cNvSpPr/>
            <p:nvPr/>
          </p:nvSpPr>
          <p:spPr>
            <a:xfrm>
              <a:off x="4285440" y="6077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bject 180"/>
            <p:cNvSpPr/>
            <p:nvPr/>
          </p:nvSpPr>
          <p:spPr>
            <a:xfrm>
              <a:off x="1346400" y="6170040"/>
              <a:ext cx="2984040" cy="604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84500" h="60960">
                  <a:moveTo>
                    <a:pt x="0" y="60960"/>
                  </a:moveTo>
                  <a:lnTo>
                    <a:pt x="496823" y="0"/>
                  </a:lnTo>
                  <a:lnTo>
                    <a:pt x="993647" y="33528"/>
                  </a:lnTo>
                  <a:lnTo>
                    <a:pt x="1491996" y="24384"/>
                  </a:lnTo>
                  <a:lnTo>
                    <a:pt x="1988820" y="42672"/>
                  </a:lnTo>
                  <a:lnTo>
                    <a:pt x="2485644" y="32004"/>
                  </a:lnTo>
                  <a:lnTo>
                    <a:pt x="2983992" y="59436"/>
                  </a:lnTo>
                </a:path>
              </a:pathLst>
            </a:custGeom>
            <a:noFill/>
            <a:ln w="28956">
              <a:solidFill>
                <a:srgbClr val="97b8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9" name="object 181" descr=""/>
            <p:cNvPicPr/>
            <p:nvPr/>
          </p:nvPicPr>
          <p:blipFill>
            <a:blip r:embed="rId17"/>
            <a:stretch/>
          </p:blipFill>
          <p:spPr>
            <a:xfrm>
              <a:off x="1297080" y="6181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object 182" descr=""/>
            <p:cNvPicPr/>
            <p:nvPr/>
          </p:nvPicPr>
          <p:blipFill>
            <a:blip r:embed="rId18"/>
            <a:stretch/>
          </p:blipFill>
          <p:spPr>
            <a:xfrm>
              <a:off x="1795320" y="61221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object 183" descr=""/>
            <p:cNvPicPr/>
            <p:nvPr/>
          </p:nvPicPr>
          <p:blipFill>
            <a:blip r:embed="rId19"/>
            <a:stretch/>
          </p:blipFill>
          <p:spPr>
            <a:xfrm>
              <a:off x="2292120" y="6154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object 184" descr=""/>
            <p:cNvPicPr/>
            <p:nvPr/>
          </p:nvPicPr>
          <p:blipFill>
            <a:blip r:embed="rId20"/>
            <a:stretch/>
          </p:blipFill>
          <p:spPr>
            <a:xfrm>
              <a:off x="2788920" y="61462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object 185" descr=""/>
            <p:cNvPicPr/>
            <p:nvPr/>
          </p:nvPicPr>
          <p:blipFill>
            <a:blip r:embed="rId21"/>
            <a:stretch/>
          </p:blipFill>
          <p:spPr>
            <a:xfrm>
              <a:off x="3287160" y="6163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object 186" descr=""/>
            <p:cNvPicPr/>
            <p:nvPr/>
          </p:nvPicPr>
          <p:blipFill>
            <a:blip r:embed="rId22"/>
            <a:stretch/>
          </p:blipFill>
          <p:spPr>
            <a:xfrm>
              <a:off x="3783960" y="6154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object 187" descr=""/>
            <p:cNvPicPr/>
            <p:nvPr/>
          </p:nvPicPr>
          <p:blipFill>
            <a:blip r:embed="rId23"/>
            <a:stretch/>
          </p:blipFill>
          <p:spPr>
            <a:xfrm>
              <a:off x="4280760" y="618012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6" name="object 188"/>
          <p:cNvSpPr/>
          <p:nvPr/>
        </p:nvSpPr>
        <p:spPr>
          <a:xfrm>
            <a:off x="806760" y="618984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bject 189"/>
          <p:cNvSpPr/>
          <p:nvPr/>
        </p:nvSpPr>
        <p:spPr>
          <a:xfrm>
            <a:off x="741960" y="587160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bject 190"/>
          <p:cNvSpPr/>
          <p:nvPr/>
        </p:nvSpPr>
        <p:spPr>
          <a:xfrm>
            <a:off x="741960" y="555372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4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bject 191"/>
          <p:cNvSpPr/>
          <p:nvPr/>
        </p:nvSpPr>
        <p:spPr>
          <a:xfrm>
            <a:off x="741960" y="523548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6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bject 192"/>
          <p:cNvSpPr/>
          <p:nvPr/>
        </p:nvSpPr>
        <p:spPr>
          <a:xfrm>
            <a:off x="741960" y="491760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8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bject 193"/>
          <p:cNvSpPr/>
          <p:nvPr/>
        </p:nvSpPr>
        <p:spPr>
          <a:xfrm>
            <a:off x="120456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bject 194"/>
          <p:cNvSpPr/>
          <p:nvPr/>
        </p:nvSpPr>
        <p:spPr>
          <a:xfrm>
            <a:off x="170208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bject 195"/>
          <p:cNvSpPr/>
          <p:nvPr/>
        </p:nvSpPr>
        <p:spPr>
          <a:xfrm>
            <a:off x="219960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bject 196"/>
          <p:cNvSpPr/>
          <p:nvPr/>
        </p:nvSpPr>
        <p:spPr>
          <a:xfrm>
            <a:off x="269712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bject 197"/>
          <p:cNvSpPr/>
          <p:nvPr/>
        </p:nvSpPr>
        <p:spPr>
          <a:xfrm>
            <a:off x="319428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bject 198"/>
          <p:cNvSpPr/>
          <p:nvPr/>
        </p:nvSpPr>
        <p:spPr>
          <a:xfrm>
            <a:off x="369180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bject 199"/>
          <p:cNvSpPr/>
          <p:nvPr/>
        </p:nvSpPr>
        <p:spPr>
          <a:xfrm>
            <a:off x="418932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bject 200"/>
          <p:cNvSpPr/>
          <p:nvPr/>
        </p:nvSpPr>
        <p:spPr>
          <a:xfrm>
            <a:off x="4777920" y="536436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4"/>
                </a:lnTo>
                <a:lnTo>
                  <a:pt x="243839" y="70104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bject 201"/>
          <p:cNvSpPr/>
          <p:nvPr/>
        </p:nvSpPr>
        <p:spPr>
          <a:xfrm>
            <a:off x="4777920" y="559476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4"/>
                </a:lnTo>
                <a:lnTo>
                  <a:pt x="243839" y="70104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0" name="object 202"/>
          <p:cNvGrpSpPr/>
          <p:nvPr/>
        </p:nvGrpSpPr>
        <p:grpSpPr>
          <a:xfrm>
            <a:off x="4776840" y="5820120"/>
            <a:ext cx="243360" cy="75960"/>
            <a:chOff x="4776840" y="5820120"/>
            <a:chExt cx="243360" cy="75960"/>
          </a:xfrm>
        </p:grpSpPr>
        <p:sp>
          <p:nvSpPr>
            <p:cNvPr id="1441" name="object 203"/>
            <p:cNvSpPr/>
            <p:nvPr/>
          </p:nvSpPr>
          <p:spPr>
            <a:xfrm>
              <a:off x="4776840" y="585900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39" y="0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bject 204"/>
            <p:cNvSpPr/>
            <p:nvPr/>
          </p:nvSpPr>
          <p:spPr>
            <a:xfrm>
              <a:off x="4860000" y="5820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bject 205"/>
            <p:cNvSpPr/>
            <p:nvPr/>
          </p:nvSpPr>
          <p:spPr>
            <a:xfrm>
              <a:off x="4860000" y="5820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4" name="object 206" descr=""/>
          <p:cNvPicPr/>
          <p:nvPr/>
        </p:nvPicPr>
        <p:blipFill>
          <a:blip r:embed="rId24"/>
          <a:stretch/>
        </p:blipFill>
        <p:spPr>
          <a:xfrm>
            <a:off x="4776840" y="604584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1445" name="object 207"/>
          <p:cNvSpPr/>
          <p:nvPr/>
        </p:nvSpPr>
        <p:spPr>
          <a:xfrm>
            <a:off x="5035320" y="5219640"/>
            <a:ext cx="7884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bject 208"/>
          <p:cNvSpPr/>
          <p:nvPr/>
        </p:nvSpPr>
        <p:spPr>
          <a:xfrm>
            <a:off x="6055920" y="3715920"/>
            <a:ext cx="294804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212040" indent="-200160">
              <a:lnSpc>
                <a:spcPct val="100000"/>
              </a:lnSpc>
              <a:spcBef>
                <a:spcPts val="9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384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онтрафактного</a:t>
            </a:r>
            <a:r>
              <a:rPr b="1" lang="en-US" sz="1000" spc="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дна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сновных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ной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расли.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Дол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нетрубных</a:t>
            </a:r>
            <a:r>
              <a:rPr b="1" lang="en-US" sz="10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арок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изводстве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труб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ода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держитс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уровне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2040" indent="-2001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1384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ечественные</a:t>
            </a:r>
            <a:r>
              <a:rPr b="1" lang="en-US" sz="10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изводители</a:t>
            </a:r>
            <a:r>
              <a:rPr b="1" lang="en-US" sz="1000" spc="6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увеличили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ыпуск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ных марок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0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5,5 тыс.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2040">
              <a:lnSpc>
                <a:spcPct val="100000"/>
              </a:lnSpc>
              <a:tabLst>
                <a:tab algn="l" pos="213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На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больше, чем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en-US" sz="10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.)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импортного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низила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2040">
              <a:lnSpc>
                <a:spcPct val="100000"/>
              </a:lnSpc>
              <a:tabLst>
                <a:tab algn="l" pos="213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2%.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В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было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52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2040" indent="-2001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13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коло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изводства ПВХ-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итайский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импор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291680" y="153360"/>
            <a:ext cx="33390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Трубы.</a:t>
            </a:r>
            <a:r>
              <a:rPr b="0" lang="en-US" sz="2400" spc="-120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треблени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ldNum" idx="17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4781B653-4087-4498-8238-8A982D3637F2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bject 3"/>
          <p:cNvSpPr/>
          <p:nvPr/>
        </p:nvSpPr>
        <p:spPr>
          <a:xfrm>
            <a:off x="3893760" y="2363760"/>
            <a:ext cx="135360" cy="360"/>
          </a:xfrm>
          <a:custGeom>
            <a:avLst/>
            <a:gdLst>
              <a:gd name="textAreaLeft" fmla="*/ 0 w 135360"/>
              <a:gd name="textAreaRight" fmla="*/ 135720 w 135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5889" h="0">
                <a:moveTo>
                  <a:pt x="0" y="0"/>
                </a:moveTo>
                <a:lnTo>
                  <a:pt x="135635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bject 4"/>
          <p:cNvSpPr/>
          <p:nvPr/>
        </p:nvSpPr>
        <p:spPr>
          <a:xfrm>
            <a:off x="4273200" y="2363760"/>
            <a:ext cx="66960" cy="360"/>
          </a:xfrm>
          <a:custGeom>
            <a:avLst/>
            <a:gdLst>
              <a:gd name="textAreaLeft" fmla="*/ 0 w 66960"/>
              <a:gd name="textAreaRight" fmla="*/ 67320 w 669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7310" h="0">
                <a:moveTo>
                  <a:pt x="0" y="0"/>
                </a:moveTo>
                <a:lnTo>
                  <a:pt x="67055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object 5"/>
          <p:cNvSpPr/>
          <p:nvPr/>
        </p:nvSpPr>
        <p:spPr>
          <a:xfrm>
            <a:off x="2380320" y="207864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19" h="0">
                <a:moveTo>
                  <a:pt x="0" y="0"/>
                </a:moveTo>
                <a:lnTo>
                  <a:pt x="134112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object 6"/>
          <p:cNvSpPr/>
          <p:nvPr/>
        </p:nvSpPr>
        <p:spPr>
          <a:xfrm>
            <a:off x="2758320" y="207864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19" h="0">
                <a:moveTo>
                  <a:pt x="0" y="0"/>
                </a:moveTo>
                <a:lnTo>
                  <a:pt x="134112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object 7"/>
          <p:cNvSpPr/>
          <p:nvPr/>
        </p:nvSpPr>
        <p:spPr>
          <a:xfrm>
            <a:off x="3137760" y="207864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20" h="0">
                <a:moveTo>
                  <a:pt x="0" y="0"/>
                </a:moveTo>
                <a:lnTo>
                  <a:pt x="134111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object 8"/>
          <p:cNvSpPr/>
          <p:nvPr/>
        </p:nvSpPr>
        <p:spPr>
          <a:xfrm>
            <a:off x="3515760" y="207864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20" h="0">
                <a:moveTo>
                  <a:pt x="0" y="0"/>
                </a:moveTo>
                <a:lnTo>
                  <a:pt x="134112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bject 9"/>
          <p:cNvSpPr/>
          <p:nvPr/>
        </p:nvSpPr>
        <p:spPr>
          <a:xfrm>
            <a:off x="3893760" y="2078640"/>
            <a:ext cx="135360" cy="360"/>
          </a:xfrm>
          <a:custGeom>
            <a:avLst/>
            <a:gdLst>
              <a:gd name="textAreaLeft" fmla="*/ 0 w 135360"/>
              <a:gd name="textAreaRight" fmla="*/ 135720 w 135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5889" h="0">
                <a:moveTo>
                  <a:pt x="0" y="0"/>
                </a:moveTo>
                <a:lnTo>
                  <a:pt x="135635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bject 10"/>
          <p:cNvSpPr/>
          <p:nvPr/>
        </p:nvSpPr>
        <p:spPr>
          <a:xfrm>
            <a:off x="2758320" y="179532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19" h="0">
                <a:moveTo>
                  <a:pt x="0" y="0"/>
                </a:moveTo>
                <a:lnTo>
                  <a:pt x="134112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bject 11"/>
          <p:cNvSpPr/>
          <p:nvPr/>
        </p:nvSpPr>
        <p:spPr>
          <a:xfrm>
            <a:off x="3137760" y="179532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20" h="0">
                <a:moveTo>
                  <a:pt x="0" y="0"/>
                </a:moveTo>
                <a:lnTo>
                  <a:pt x="134111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object 12"/>
          <p:cNvGrpSpPr/>
          <p:nvPr/>
        </p:nvGrpSpPr>
        <p:grpSpPr>
          <a:xfrm>
            <a:off x="932760" y="1510200"/>
            <a:ext cx="3407760" cy="1705680"/>
            <a:chOff x="932760" y="1510200"/>
            <a:chExt cx="3407760" cy="1705680"/>
          </a:xfrm>
        </p:grpSpPr>
        <p:sp>
          <p:nvSpPr>
            <p:cNvPr id="1459" name="object 13"/>
            <p:cNvSpPr/>
            <p:nvPr/>
          </p:nvSpPr>
          <p:spPr>
            <a:xfrm>
              <a:off x="932760" y="2647080"/>
              <a:ext cx="446760" cy="2833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447040" h="283844">
                  <a:moveTo>
                    <a:pt x="0" y="283463"/>
                  </a:moveTo>
                  <a:lnTo>
                    <a:pt x="67056" y="283463"/>
                  </a:lnTo>
                </a:path>
                <a:path w="447040" h="283844">
                  <a:moveTo>
                    <a:pt x="312420" y="283463"/>
                  </a:moveTo>
                  <a:lnTo>
                    <a:pt x="446531" y="283463"/>
                  </a:lnTo>
                </a:path>
                <a:path w="447040" h="283844">
                  <a:moveTo>
                    <a:pt x="0" y="0"/>
                  </a:moveTo>
                  <a:lnTo>
                    <a:pt x="67056" y="0"/>
                  </a:lnTo>
                </a:path>
                <a:path w="447040" h="283844">
                  <a:moveTo>
                    <a:pt x="312420" y="0"/>
                  </a:moveTo>
                  <a:lnTo>
                    <a:pt x="44653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bject 14"/>
            <p:cNvSpPr/>
            <p:nvPr/>
          </p:nvSpPr>
          <p:spPr>
            <a:xfrm>
              <a:off x="999720" y="2476440"/>
              <a:ext cx="245520" cy="7387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245744" h="739139">
                  <a:moveTo>
                    <a:pt x="245364" y="0"/>
                  </a:moveTo>
                  <a:lnTo>
                    <a:pt x="0" y="0"/>
                  </a:lnTo>
                  <a:lnTo>
                    <a:pt x="0" y="739139"/>
                  </a:lnTo>
                  <a:lnTo>
                    <a:pt x="245364" y="739139"/>
                  </a:lnTo>
                  <a:lnTo>
                    <a:pt x="24536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bject 15"/>
            <p:cNvSpPr/>
            <p:nvPr/>
          </p:nvSpPr>
          <p:spPr>
            <a:xfrm>
              <a:off x="1623240" y="2930760"/>
              <a:ext cx="134280" cy="3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4619" h="0">
                  <a:moveTo>
                    <a:pt x="0" y="0"/>
                  </a:moveTo>
                  <a:lnTo>
                    <a:pt x="134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bject 16"/>
            <p:cNvSpPr/>
            <p:nvPr/>
          </p:nvSpPr>
          <p:spPr>
            <a:xfrm>
              <a:off x="1379160" y="2732400"/>
              <a:ext cx="243360" cy="4827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43840" h="483235">
                  <a:moveTo>
                    <a:pt x="243840" y="0"/>
                  </a:moveTo>
                  <a:lnTo>
                    <a:pt x="0" y="0"/>
                  </a:lnTo>
                  <a:lnTo>
                    <a:pt x="0" y="483107"/>
                  </a:lnTo>
                  <a:lnTo>
                    <a:pt x="243840" y="483107"/>
                  </a:lnTo>
                  <a:lnTo>
                    <a:pt x="2438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bject 17"/>
            <p:cNvSpPr/>
            <p:nvPr/>
          </p:nvSpPr>
          <p:spPr>
            <a:xfrm>
              <a:off x="1623240" y="2647080"/>
              <a:ext cx="513360" cy="283320"/>
            </a:xfrm>
            <a:custGeom>
              <a:avLst/>
              <a:gdLst>
                <a:gd name="textAreaLeft" fmla="*/ 0 w 513360"/>
                <a:gd name="textAreaRight" fmla="*/ 513720 w 5133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513714" h="283844">
                  <a:moveTo>
                    <a:pt x="377952" y="283463"/>
                  </a:moveTo>
                  <a:lnTo>
                    <a:pt x="513588" y="283463"/>
                  </a:lnTo>
                </a:path>
                <a:path w="513714" h="283844">
                  <a:moveTo>
                    <a:pt x="0" y="0"/>
                  </a:moveTo>
                  <a:lnTo>
                    <a:pt x="134112" y="0"/>
                  </a:lnTo>
                </a:path>
                <a:path w="513714" h="283844">
                  <a:moveTo>
                    <a:pt x="377952" y="0"/>
                  </a:moveTo>
                  <a:lnTo>
                    <a:pt x="5135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bject 18"/>
            <p:cNvSpPr/>
            <p:nvPr/>
          </p:nvSpPr>
          <p:spPr>
            <a:xfrm>
              <a:off x="1757160" y="2590920"/>
              <a:ext cx="243360" cy="6246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243839" h="624839">
                  <a:moveTo>
                    <a:pt x="243839" y="0"/>
                  </a:moveTo>
                  <a:lnTo>
                    <a:pt x="0" y="0"/>
                  </a:lnTo>
                  <a:lnTo>
                    <a:pt x="0" y="624839"/>
                  </a:lnTo>
                  <a:lnTo>
                    <a:pt x="243839" y="624839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bject 19"/>
            <p:cNvSpPr/>
            <p:nvPr/>
          </p:nvSpPr>
          <p:spPr>
            <a:xfrm>
              <a:off x="2380320" y="2647080"/>
              <a:ext cx="134280" cy="2833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34619" h="283844">
                  <a:moveTo>
                    <a:pt x="0" y="283463"/>
                  </a:moveTo>
                  <a:lnTo>
                    <a:pt x="134112" y="283463"/>
                  </a:lnTo>
                </a:path>
                <a:path w="134619" h="283844">
                  <a:moveTo>
                    <a:pt x="0" y="0"/>
                  </a:moveTo>
                  <a:lnTo>
                    <a:pt x="134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bject 20"/>
            <p:cNvSpPr/>
            <p:nvPr/>
          </p:nvSpPr>
          <p:spPr>
            <a:xfrm>
              <a:off x="2136600" y="2433960"/>
              <a:ext cx="243360" cy="7819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243839" h="782319">
                  <a:moveTo>
                    <a:pt x="243839" y="0"/>
                  </a:moveTo>
                  <a:lnTo>
                    <a:pt x="0" y="0"/>
                  </a:lnTo>
                  <a:lnTo>
                    <a:pt x="0" y="781812"/>
                  </a:lnTo>
                  <a:lnTo>
                    <a:pt x="243839" y="781812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bject 21"/>
            <p:cNvSpPr/>
            <p:nvPr/>
          </p:nvSpPr>
          <p:spPr>
            <a:xfrm>
              <a:off x="2758320" y="2363760"/>
              <a:ext cx="134280" cy="5666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34619" h="567055">
                  <a:moveTo>
                    <a:pt x="0" y="566927"/>
                  </a:moveTo>
                  <a:lnTo>
                    <a:pt x="134112" y="566927"/>
                  </a:lnTo>
                </a:path>
                <a:path w="134619" h="567055">
                  <a:moveTo>
                    <a:pt x="0" y="283463"/>
                  </a:moveTo>
                  <a:lnTo>
                    <a:pt x="134112" y="283463"/>
                  </a:lnTo>
                </a:path>
                <a:path w="134619" h="567055">
                  <a:moveTo>
                    <a:pt x="0" y="0"/>
                  </a:moveTo>
                  <a:lnTo>
                    <a:pt x="134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bject 22"/>
            <p:cNvSpPr/>
            <p:nvPr/>
          </p:nvSpPr>
          <p:spPr>
            <a:xfrm>
              <a:off x="2514600" y="2200680"/>
              <a:ext cx="243360" cy="1014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243839" h="1015364">
                  <a:moveTo>
                    <a:pt x="243839" y="0"/>
                  </a:moveTo>
                  <a:lnTo>
                    <a:pt x="0" y="0"/>
                  </a:lnTo>
                  <a:lnTo>
                    <a:pt x="0" y="1014984"/>
                  </a:lnTo>
                  <a:lnTo>
                    <a:pt x="243839" y="1014984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bject 23"/>
            <p:cNvSpPr/>
            <p:nvPr/>
          </p:nvSpPr>
          <p:spPr>
            <a:xfrm>
              <a:off x="3137760" y="2363760"/>
              <a:ext cx="134280" cy="5666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34620" h="567055">
                  <a:moveTo>
                    <a:pt x="0" y="566927"/>
                  </a:moveTo>
                  <a:lnTo>
                    <a:pt x="134111" y="566927"/>
                  </a:lnTo>
                </a:path>
                <a:path w="134620" h="567055">
                  <a:moveTo>
                    <a:pt x="0" y="283463"/>
                  </a:moveTo>
                  <a:lnTo>
                    <a:pt x="134111" y="283463"/>
                  </a:lnTo>
                </a:path>
                <a:path w="134620" h="567055">
                  <a:moveTo>
                    <a:pt x="0" y="0"/>
                  </a:moveTo>
                  <a:lnTo>
                    <a:pt x="13411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bject 24"/>
            <p:cNvSpPr/>
            <p:nvPr/>
          </p:nvSpPr>
          <p:spPr>
            <a:xfrm>
              <a:off x="2892600" y="2135160"/>
              <a:ext cx="245520" cy="108036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45744" h="1080770">
                  <a:moveTo>
                    <a:pt x="245364" y="0"/>
                  </a:moveTo>
                  <a:lnTo>
                    <a:pt x="0" y="0"/>
                  </a:lnTo>
                  <a:lnTo>
                    <a:pt x="0" y="1080515"/>
                  </a:lnTo>
                  <a:lnTo>
                    <a:pt x="245364" y="1080515"/>
                  </a:lnTo>
                  <a:lnTo>
                    <a:pt x="24536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bject 25"/>
            <p:cNvSpPr/>
            <p:nvPr/>
          </p:nvSpPr>
          <p:spPr>
            <a:xfrm>
              <a:off x="3515760" y="2363760"/>
              <a:ext cx="134280" cy="5666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34620" h="567055">
                  <a:moveTo>
                    <a:pt x="0" y="566927"/>
                  </a:moveTo>
                  <a:lnTo>
                    <a:pt x="134112" y="566927"/>
                  </a:lnTo>
                </a:path>
                <a:path w="134620" h="567055">
                  <a:moveTo>
                    <a:pt x="0" y="283463"/>
                  </a:moveTo>
                  <a:lnTo>
                    <a:pt x="134112" y="283463"/>
                  </a:lnTo>
                </a:path>
                <a:path w="134620" h="567055">
                  <a:moveTo>
                    <a:pt x="0" y="0"/>
                  </a:moveTo>
                  <a:lnTo>
                    <a:pt x="134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bject 26"/>
            <p:cNvSpPr/>
            <p:nvPr/>
          </p:nvSpPr>
          <p:spPr>
            <a:xfrm>
              <a:off x="3272040" y="2206800"/>
              <a:ext cx="243360" cy="10087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243839" h="1009014">
                  <a:moveTo>
                    <a:pt x="243839" y="0"/>
                  </a:moveTo>
                  <a:lnTo>
                    <a:pt x="0" y="0"/>
                  </a:lnTo>
                  <a:lnTo>
                    <a:pt x="0" y="1008888"/>
                  </a:lnTo>
                  <a:lnTo>
                    <a:pt x="243839" y="1008888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bject 27"/>
            <p:cNvSpPr/>
            <p:nvPr/>
          </p:nvSpPr>
          <p:spPr>
            <a:xfrm>
              <a:off x="3893760" y="2647080"/>
              <a:ext cx="135360" cy="2833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35889" h="283844">
                  <a:moveTo>
                    <a:pt x="0" y="283463"/>
                  </a:moveTo>
                  <a:lnTo>
                    <a:pt x="135635" y="283463"/>
                  </a:lnTo>
                </a:path>
                <a:path w="135889" h="283844">
                  <a:moveTo>
                    <a:pt x="0" y="0"/>
                  </a:moveTo>
                  <a:lnTo>
                    <a:pt x="13563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bject 28"/>
            <p:cNvSpPr/>
            <p:nvPr/>
          </p:nvSpPr>
          <p:spPr>
            <a:xfrm>
              <a:off x="3650040" y="2456640"/>
              <a:ext cx="243360" cy="759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43839" h="759460">
                  <a:moveTo>
                    <a:pt x="243840" y="0"/>
                  </a:moveTo>
                  <a:lnTo>
                    <a:pt x="0" y="0"/>
                  </a:lnTo>
                  <a:lnTo>
                    <a:pt x="0" y="758951"/>
                  </a:lnTo>
                  <a:lnTo>
                    <a:pt x="243840" y="758951"/>
                  </a:lnTo>
                  <a:lnTo>
                    <a:pt x="2438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bject 29"/>
            <p:cNvSpPr/>
            <p:nvPr/>
          </p:nvSpPr>
          <p:spPr>
            <a:xfrm>
              <a:off x="4273200" y="2647080"/>
              <a:ext cx="66960" cy="2833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7310" h="283844">
                  <a:moveTo>
                    <a:pt x="0" y="283463"/>
                  </a:moveTo>
                  <a:lnTo>
                    <a:pt x="67055" y="283463"/>
                  </a:lnTo>
                </a:path>
                <a:path w="67310" h="283844">
                  <a:moveTo>
                    <a:pt x="0" y="0"/>
                  </a:moveTo>
                  <a:lnTo>
                    <a:pt x="6705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bject 30"/>
            <p:cNvSpPr/>
            <p:nvPr/>
          </p:nvSpPr>
          <p:spPr>
            <a:xfrm>
              <a:off x="4029480" y="2470320"/>
              <a:ext cx="243360" cy="7452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43839" h="745489">
                  <a:moveTo>
                    <a:pt x="243840" y="0"/>
                  </a:moveTo>
                  <a:lnTo>
                    <a:pt x="0" y="0"/>
                  </a:lnTo>
                  <a:lnTo>
                    <a:pt x="0" y="745236"/>
                  </a:lnTo>
                  <a:lnTo>
                    <a:pt x="243840" y="745236"/>
                  </a:lnTo>
                  <a:lnTo>
                    <a:pt x="2438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bject 31"/>
            <p:cNvSpPr/>
            <p:nvPr/>
          </p:nvSpPr>
          <p:spPr>
            <a:xfrm>
              <a:off x="999720" y="2135160"/>
              <a:ext cx="3273840" cy="108036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3274060" h="1080770">
                  <a:moveTo>
                    <a:pt x="0" y="341375"/>
                  </a:moveTo>
                  <a:lnTo>
                    <a:pt x="245364" y="341375"/>
                  </a:lnTo>
                  <a:lnTo>
                    <a:pt x="245364" y="1080515"/>
                  </a:lnTo>
                  <a:lnTo>
                    <a:pt x="0" y="1080515"/>
                  </a:lnTo>
                  <a:lnTo>
                    <a:pt x="0" y="341375"/>
                  </a:lnTo>
                  <a:close/>
                </a:path>
                <a:path w="3274060" h="1080770">
                  <a:moveTo>
                    <a:pt x="379475" y="597408"/>
                  </a:moveTo>
                  <a:lnTo>
                    <a:pt x="623316" y="597408"/>
                  </a:lnTo>
                  <a:lnTo>
                    <a:pt x="623316" y="1080515"/>
                  </a:lnTo>
                  <a:lnTo>
                    <a:pt x="379475" y="1080515"/>
                  </a:lnTo>
                  <a:lnTo>
                    <a:pt x="379475" y="597408"/>
                  </a:lnTo>
                  <a:close/>
                </a:path>
                <a:path w="3274060" h="1080770">
                  <a:moveTo>
                    <a:pt x="757428" y="455675"/>
                  </a:moveTo>
                  <a:lnTo>
                    <a:pt x="1001268" y="455675"/>
                  </a:lnTo>
                  <a:lnTo>
                    <a:pt x="1001268" y="1080515"/>
                  </a:lnTo>
                  <a:lnTo>
                    <a:pt x="757428" y="1080515"/>
                  </a:lnTo>
                  <a:lnTo>
                    <a:pt x="757428" y="455675"/>
                  </a:lnTo>
                  <a:close/>
                </a:path>
                <a:path w="3274060" h="1080770">
                  <a:moveTo>
                    <a:pt x="1136904" y="298703"/>
                  </a:moveTo>
                  <a:lnTo>
                    <a:pt x="1380744" y="298703"/>
                  </a:lnTo>
                  <a:lnTo>
                    <a:pt x="1380744" y="1080515"/>
                  </a:lnTo>
                  <a:lnTo>
                    <a:pt x="1136904" y="1080515"/>
                  </a:lnTo>
                  <a:lnTo>
                    <a:pt x="1136904" y="298703"/>
                  </a:lnTo>
                  <a:close/>
                </a:path>
                <a:path w="3274060" h="1080770">
                  <a:moveTo>
                    <a:pt x="1514856" y="65531"/>
                  </a:moveTo>
                  <a:lnTo>
                    <a:pt x="1758695" y="65531"/>
                  </a:lnTo>
                  <a:lnTo>
                    <a:pt x="1758695" y="1080515"/>
                  </a:lnTo>
                  <a:lnTo>
                    <a:pt x="1514856" y="1080515"/>
                  </a:lnTo>
                  <a:lnTo>
                    <a:pt x="1514856" y="65531"/>
                  </a:lnTo>
                  <a:close/>
                </a:path>
                <a:path w="3274060" h="1080770">
                  <a:moveTo>
                    <a:pt x="1892808" y="0"/>
                  </a:moveTo>
                  <a:lnTo>
                    <a:pt x="2138172" y="0"/>
                  </a:lnTo>
                  <a:lnTo>
                    <a:pt x="2138172" y="1080515"/>
                  </a:lnTo>
                  <a:lnTo>
                    <a:pt x="1892808" y="1080515"/>
                  </a:lnTo>
                  <a:lnTo>
                    <a:pt x="1892808" y="0"/>
                  </a:lnTo>
                  <a:close/>
                </a:path>
                <a:path w="3274060" h="1080770">
                  <a:moveTo>
                    <a:pt x="2272284" y="71627"/>
                  </a:moveTo>
                  <a:lnTo>
                    <a:pt x="2516123" y="71627"/>
                  </a:lnTo>
                  <a:lnTo>
                    <a:pt x="2516123" y="1080515"/>
                  </a:lnTo>
                  <a:lnTo>
                    <a:pt x="2272284" y="1080515"/>
                  </a:lnTo>
                  <a:lnTo>
                    <a:pt x="2272284" y="71627"/>
                  </a:lnTo>
                  <a:close/>
                </a:path>
                <a:path w="3274060" h="1080770">
                  <a:moveTo>
                    <a:pt x="2650235" y="321563"/>
                  </a:moveTo>
                  <a:lnTo>
                    <a:pt x="2894076" y="321563"/>
                  </a:lnTo>
                  <a:lnTo>
                    <a:pt x="2894076" y="1080515"/>
                  </a:lnTo>
                  <a:lnTo>
                    <a:pt x="2650235" y="1080515"/>
                  </a:lnTo>
                  <a:lnTo>
                    <a:pt x="2650235" y="321563"/>
                  </a:lnTo>
                  <a:close/>
                </a:path>
                <a:path w="3274060" h="1080770">
                  <a:moveTo>
                    <a:pt x="3029711" y="335279"/>
                  </a:moveTo>
                  <a:lnTo>
                    <a:pt x="3273552" y="335279"/>
                  </a:lnTo>
                  <a:lnTo>
                    <a:pt x="3273552" y="1080515"/>
                  </a:lnTo>
                  <a:lnTo>
                    <a:pt x="3029711" y="1080515"/>
                  </a:lnTo>
                  <a:lnTo>
                    <a:pt x="3029711" y="335279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bject 32"/>
            <p:cNvSpPr/>
            <p:nvPr/>
          </p:nvSpPr>
          <p:spPr>
            <a:xfrm>
              <a:off x="1245240" y="2363760"/>
              <a:ext cx="891360" cy="360"/>
            </a:xfrm>
            <a:custGeom>
              <a:avLst/>
              <a:gdLst>
                <a:gd name="textAreaLeft" fmla="*/ 0 w 891360"/>
                <a:gd name="textAreaRight" fmla="*/ 891720 w 891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1539" h="0">
                  <a:moveTo>
                    <a:pt x="0" y="0"/>
                  </a:moveTo>
                  <a:lnTo>
                    <a:pt x="512064" y="0"/>
                  </a:lnTo>
                </a:path>
                <a:path w="891539" h="0">
                  <a:moveTo>
                    <a:pt x="755904" y="0"/>
                  </a:moveTo>
                  <a:lnTo>
                    <a:pt x="8915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object 33"/>
            <p:cNvSpPr/>
            <p:nvPr/>
          </p:nvSpPr>
          <p:spPr>
            <a:xfrm>
              <a:off x="1757160" y="2404800"/>
              <a:ext cx="243360" cy="1857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43839" h="186055">
                  <a:moveTo>
                    <a:pt x="243839" y="0"/>
                  </a:moveTo>
                  <a:lnTo>
                    <a:pt x="0" y="0"/>
                  </a:lnTo>
                  <a:lnTo>
                    <a:pt x="0" y="185927"/>
                  </a:lnTo>
                  <a:lnTo>
                    <a:pt x="243839" y="185927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object 34"/>
            <p:cNvSpPr/>
            <p:nvPr/>
          </p:nvSpPr>
          <p:spPr>
            <a:xfrm>
              <a:off x="1757160" y="2404800"/>
              <a:ext cx="243360" cy="1857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43839" h="186055">
                  <a:moveTo>
                    <a:pt x="0" y="0"/>
                  </a:moveTo>
                  <a:lnTo>
                    <a:pt x="243839" y="0"/>
                  </a:lnTo>
                  <a:lnTo>
                    <a:pt x="243839" y="185927"/>
                  </a:lnTo>
                  <a:lnTo>
                    <a:pt x="0" y="1859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144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bject 35"/>
            <p:cNvSpPr/>
            <p:nvPr/>
          </p:nvSpPr>
          <p:spPr>
            <a:xfrm>
              <a:off x="1379160" y="2299680"/>
              <a:ext cx="622080" cy="27396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622300" h="274319">
                  <a:moveTo>
                    <a:pt x="243840" y="198120"/>
                  </a:moveTo>
                  <a:lnTo>
                    <a:pt x="0" y="198120"/>
                  </a:lnTo>
                  <a:lnTo>
                    <a:pt x="0" y="274320"/>
                  </a:lnTo>
                  <a:lnTo>
                    <a:pt x="243840" y="274320"/>
                  </a:lnTo>
                  <a:lnTo>
                    <a:pt x="243840" y="198120"/>
                  </a:lnTo>
                  <a:close/>
                </a:path>
                <a:path w="622300" h="274319">
                  <a:moveTo>
                    <a:pt x="621792" y="0"/>
                  </a:moveTo>
                  <a:lnTo>
                    <a:pt x="377952" y="0"/>
                  </a:lnTo>
                  <a:lnTo>
                    <a:pt x="377952" y="105156"/>
                  </a:lnTo>
                  <a:lnTo>
                    <a:pt x="621792" y="105156"/>
                  </a:lnTo>
                  <a:lnTo>
                    <a:pt x="6217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bject 36"/>
            <p:cNvSpPr/>
            <p:nvPr/>
          </p:nvSpPr>
          <p:spPr>
            <a:xfrm>
              <a:off x="932760" y="1795320"/>
              <a:ext cx="1582200" cy="568440"/>
            </a:xfrm>
            <a:custGeom>
              <a:avLst/>
              <a:gdLst>
                <a:gd name="textAreaLeft" fmla="*/ 0 w 1582200"/>
                <a:gd name="textAreaRight" fmla="*/ 1582560 w 158220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582420" h="568960">
                  <a:moveTo>
                    <a:pt x="0" y="568451"/>
                  </a:moveTo>
                  <a:lnTo>
                    <a:pt x="67056" y="568451"/>
                  </a:lnTo>
                </a:path>
                <a:path w="1582420" h="568960">
                  <a:moveTo>
                    <a:pt x="0" y="283463"/>
                  </a:moveTo>
                  <a:lnTo>
                    <a:pt x="1203960" y="283463"/>
                  </a:lnTo>
                </a:path>
                <a:path w="1582420" h="568960">
                  <a:moveTo>
                    <a:pt x="0" y="0"/>
                  </a:moveTo>
                  <a:lnTo>
                    <a:pt x="15819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bject 37"/>
            <p:cNvSpPr/>
            <p:nvPr/>
          </p:nvSpPr>
          <p:spPr>
            <a:xfrm>
              <a:off x="932760" y="1510200"/>
              <a:ext cx="3407760" cy="1705320"/>
            </a:xfrm>
            <a:custGeom>
              <a:avLst/>
              <a:gdLst>
                <a:gd name="textAreaLeft" fmla="*/ 0 w 3407760"/>
                <a:gd name="textAreaRight" fmla="*/ 3408120 w 3407760"/>
                <a:gd name="textAreaTop" fmla="*/ 0 h 1705320"/>
                <a:gd name="textAreaBottom" fmla="*/ 1705680 h 1705320"/>
              </a:gdLst>
              <a:ahLst/>
              <a:rect l="textAreaLeft" t="textAreaTop" r="textAreaRight" b="textAreaBottom"/>
              <a:pathLst>
                <a:path w="3408045" h="1705610">
                  <a:moveTo>
                    <a:pt x="0" y="0"/>
                  </a:moveTo>
                  <a:lnTo>
                    <a:pt x="3407664" y="0"/>
                  </a:lnTo>
                </a:path>
                <a:path w="3408045" h="1705610">
                  <a:moveTo>
                    <a:pt x="0" y="1705355"/>
                  </a:moveTo>
                  <a:lnTo>
                    <a:pt x="0" y="0"/>
                  </a:lnTo>
                </a:path>
                <a:path w="3408045" h="1705610">
                  <a:moveTo>
                    <a:pt x="0" y="1705355"/>
                  </a:moveTo>
                  <a:lnTo>
                    <a:pt x="3407664" y="1705355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object 38"/>
            <p:cNvSpPr/>
            <p:nvPr/>
          </p:nvSpPr>
          <p:spPr>
            <a:xfrm>
              <a:off x="3515760" y="1795320"/>
              <a:ext cx="824400" cy="28332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824864" h="283844">
                  <a:moveTo>
                    <a:pt x="757428" y="283463"/>
                  </a:moveTo>
                  <a:lnTo>
                    <a:pt x="824484" y="283463"/>
                  </a:lnTo>
                </a:path>
                <a:path w="824864" h="283844">
                  <a:moveTo>
                    <a:pt x="0" y="0"/>
                  </a:moveTo>
                  <a:lnTo>
                    <a:pt x="8244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5" name="object 39"/>
          <p:cNvSpPr/>
          <p:nvPr/>
        </p:nvSpPr>
        <p:spPr>
          <a:xfrm>
            <a:off x="995040" y="2471760"/>
            <a:ext cx="254160" cy="45540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"/>
              </a:spcBef>
            </a:pP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 marL="3096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bject 40"/>
          <p:cNvSpPr/>
          <p:nvPr/>
        </p:nvSpPr>
        <p:spPr>
          <a:xfrm>
            <a:off x="1374480" y="2737080"/>
            <a:ext cx="253080" cy="31248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3060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object 41"/>
          <p:cNvSpPr/>
          <p:nvPr/>
        </p:nvSpPr>
        <p:spPr>
          <a:xfrm>
            <a:off x="1752480" y="2595240"/>
            <a:ext cx="253080" cy="38304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680">
              <a:lnSpc>
                <a:spcPct val="100000"/>
              </a:lnSpc>
              <a:spcBef>
                <a:spcPts val="615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bject 42"/>
          <p:cNvSpPr/>
          <p:nvPr/>
        </p:nvSpPr>
        <p:spPr>
          <a:xfrm>
            <a:off x="2131920" y="2449800"/>
            <a:ext cx="253080" cy="45612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</a:pP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 marL="3060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bject 43"/>
          <p:cNvSpPr/>
          <p:nvPr/>
        </p:nvSpPr>
        <p:spPr>
          <a:xfrm>
            <a:off x="2541240" y="2612520"/>
            <a:ext cx="204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bject 44"/>
          <p:cNvSpPr/>
          <p:nvPr/>
        </p:nvSpPr>
        <p:spPr>
          <a:xfrm>
            <a:off x="2887920" y="2144880"/>
            <a:ext cx="254160" cy="61848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3168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bject 45"/>
          <p:cNvSpPr/>
          <p:nvPr/>
        </p:nvSpPr>
        <p:spPr>
          <a:xfrm>
            <a:off x="3298680" y="2615400"/>
            <a:ext cx="204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bject 46"/>
          <p:cNvSpPr/>
          <p:nvPr/>
        </p:nvSpPr>
        <p:spPr>
          <a:xfrm>
            <a:off x="3645360" y="2747520"/>
            <a:ext cx="63216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1680">
              <a:lnSpc>
                <a:spcPct val="100000"/>
              </a:lnSpc>
              <a:spcBef>
                <a:spcPts val="96"/>
              </a:spcBef>
              <a:tabLst>
                <a:tab algn="l" pos="410040"/>
              </a:tabLst>
            </a:pPr>
            <a:r>
              <a:rPr b="0" lang="en-US" sz="1500" spc="-38" strike="noStrike" baseline="2000">
                <a:solidFill>
                  <a:srgbClr val="000000"/>
                </a:solidFill>
                <a:latin typeface="Calibri"/>
              </a:rPr>
              <a:t>267</a:t>
            </a:r>
            <a:r>
              <a:rPr b="0" lang="en-US" sz="1500" spc="-1" strike="noStrike" baseline="2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object 47"/>
          <p:cNvSpPr/>
          <p:nvPr/>
        </p:nvSpPr>
        <p:spPr>
          <a:xfrm>
            <a:off x="995040" y="2292120"/>
            <a:ext cx="254160" cy="156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" bIns="0" anchor="t">
            <a:spAutoFit/>
          </a:bodyPr>
          <a:p>
            <a:pPr marL="63360">
              <a:lnSpc>
                <a:spcPct val="100000"/>
              </a:lnSpc>
              <a:spcBef>
                <a:spcPts val="34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6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object 48"/>
          <p:cNvSpPr/>
          <p:nvPr/>
        </p:nvSpPr>
        <p:spPr>
          <a:xfrm>
            <a:off x="1803600" y="24015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bject 49"/>
          <p:cNvSpPr/>
          <p:nvPr/>
        </p:nvSpPr>
        <p:spPr>
          <a:xfrm>
            <a:off x="2131920" y="2207520"/>
            <a:ext cx="253080" cy="182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960" bIns="0" anchor="t">
            <a:spAutoFit/>
          </a:bodyPr>
          <a:p>
            <a:pPr marL="62280">
              <a:lnSpc>
                <a:spcPct val="100000"/>
              </a:lnSpc>
              <a:spcBef>
                <a:spcPts val="244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object 50"/>
          <p:cNvSpPr/>
          <p:nvPr/>
        </p:nvSpPr>
        <p:spPr>
          <a:xfrm>
            <a:off x="2509920" y="1915560"/>
            <a:ext cx="253080" cy="210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040" bIns="0" anchor="t">
            <a:spAutoFit/>
          </a:bodyPr>
          <a:p>
            <a:pPr marL="30960">
              <a:lnSpc>
                <a:spcPct val="100000"/>
              </a:lnSpc>
              <a:spcBef>
                <a:spcPts val="465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object 51"/>
          <p:cNvSpPr/>
          <p:nvPr/>
        </p:nvSpPr>
        <p:spPr>
          <a:xfrm>
            <a:off x="2367720" y="22258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1720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object 52"/>
          <p:cNvSpPr/>
          <p:nvPr/>
        </p:nvSpPr>
        <p:spPr>
          <a:xfrm>
            <a:off x="2887920" y="1795320"/>
            <a:ext cx="254160" cy="23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440" bIns="0" anchor="t">
            <a:spAutoFit/>
          </a:bodyPr>
          <a:p>
            <a:pPr marL="31680">
              <a:lnSpc>
                <a:spcPct val="100000"/>
              </a:lnSpc>
              <a:spcBef>
                <a:spcPts val="649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object 53"/>
          <p:cNvSpPr/>
          <p:nvPr/>
        </p:nvSpPr>
        <p:spPr>
          <a:xfrm>
            <a:off x="3267360" y="1859400"/>
            <a:ext cx="253080" cy="241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9640" bIns="0" anchor="t">
            <a:spAutoFit/>
          </a:bodyPr>
          <a:p>
            <a:pPr marL="30960">
              <a:lnSpc>
                <a:spcPct val="100000"/>
              </a:lnSpc>
              <a:spcBef>
                <a:spcPts val="706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object 54"/>
          <p:cNvSpPr/>
          <p:nvPr/>
        </p:nvSpPr>
        <p:spPr>
          <a:xfrm>
            <a:off x="3645360" y="2158200"/>
            <a:ext cx="253080" cy="219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7320" bIns="0" anchor="t">
            <a:spAutoFit/>
          </a:bodyPr>
          <a:p>
            <a:pPr marL="31680">
              <a:lnSpc>
                <a:spcPct val="100000"/>
              </a:lnSpc>
              <a:spcBef>
                <a:spcPts val="530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object 55"/>
          <p:cNvSpPr/>
          <p:nvPr/>
        </p:nvSpPr>
        <p:spPr>
          <a:xfrm>
            <a:off x="4024800" y="2155320"/>
            <a:ext cx="253080" cy="223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1640" bIns="0" anchor="t">
            <a:spAutoFit/>
          </a:bodyPr>
          <a:p>
            <a:pPr marL="30960">
              <a:lnSpc>
                <a:spcPct val="100000"/>
              </a:lnSpc>
              <a:spcBef>
                <a:spcPts val="564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object 56"/>
          <p:cNvSpPr/>
          <p:nvPr/>
        </p:nvSpPr>
        <p:spPr>
          <a:xfrm>
            <a:off x="995040" y="2158200"/>
            <a:ext cx="254160" cy="13356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>
              <a:lnSpc>
                <a:spcPts val="1054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bject 57"/>
          <p:cNvSpPr/>
          <p:nvPr/>
        </p:nvSpPr>
        <p:spPr>
          <a:xfrm>
            <a:off x="1374480" y="2574000"/>
            <a:ext cx="253080" cy="148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280">
              <a:lnSpc>
                <a:spcPts val="105"/>
              </a:lnSpc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2280">
              <a:lnSpc>
                <a:spcPts val="1060"/>
              </a:lnSpc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5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object 58"/>
          <p:cNvSpPr/>
          <p:nvPr/>
        </p:nvSpPr>
        <p:spPr>
          <a:xfrm>
            <a:off x="1803600" y="22557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bject 59"/>
          <p:cNvSpPr/>
          <p:nvPr/>
        </p:nvSpPr>
        <p:spPr>
          <a:xfrm>
            <a:off x="2131920" y="2078640"/>
            <a:ext cx="253080" cy="12852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280">
              <a:lnSpc>
                <a:spcPts val="1015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bject 60"/>
          <p:cNvSpPr/>
          <p:nvPr/>
        </p:nvSpPr>
        <p:spPr>
          <a:xfrm>
            <a:off x="2509920" y="1795320"/>
            <a:ext cx="253080" cy="10764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000">
              <a:lnSpc>
                <a:spcPts val="845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bject 61"/>
          <p:cNvSpPr/>
          <p:nvPr/>
        </p:nvSpPr>
        <p:spPr>
          <a:xfrm>
            <a:off x="2887920" y="1620000"/>
            <a:ext cx="254160" cy="15264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bject 62"/>
          <p:cNvSpPr/>
          <p:nvPr/>
        </p:nvSpPr>
        <p:spPr>
          <a:xfrm>
            <a:off x="3267360" y="1690200"/>
            <a:ext cx="253080" cy="15264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" bIns="0" anchor="t">
            <a:spAutoFit/>
          </a:bodyPr>
          <a:p>
            <a:pPr marL="63000">
              <a:lnSpc>
                <a:spcPct val="100000"/>
              </a:lnSpc>
              <a:spcBef>
                <a:spcPts val="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bject 63"/>
          <p:cNvSpPr/>
          <p:nvPr/>
        </p:nvSpPr>
        <p:spPr>
          <a:xfrm>
            <a:off x="3645360" y="2006280"/>
            <a:ext cx="253080" cy="14508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>
              <a:lnSpc>
                <a:spcPts val="114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object 64"/>
          <p:cNvSpPr/>
          <p:nvPr/>
        </p:nvSpPr>
        <p:spPr>
          <a:xfrm>
            <a:off x="4024800" y="2006280"/>
            <a:ext cx="253080" cy="14184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000">
              <a:lnSpc>
                <a:spcPts val="1114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bject 65"/>
          <p:cNvSpPr/>
          <p:nvPr/>
        </p:nvSpPr>
        <p:spPr>
          <a:xfrm>
            <a:off x="738360" y="31129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bject 66"/>
          <p:cNvSpPr/>
          <p:nvPr/>
        </p:nvSpPr>
        <p:spPr>
          <a:xfrm>
            <a:off x="609480" y="28285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bject 67"/>
          <p:cNvSpPr/>
          <p:nvPr/>
        </p:nvSpPr>
        <p:spPr>
          <a:xfrm>
            <a:off x="609480" y="25444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object 68"/>
          <p:cNvSpPr/>
          <p:nvPr/>
        </p:nvSpPr>
        <p:spPr>
          <a:xfrm>
            <a:off x="609480" y="22600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bject 69"/>
          <p:cNvSpPr/>
          <p:nvPr/>
        </p:nvSpPr>
        <p:spPr>
          <a:xfrm>
            <a:off x="609480" y="19760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bject 70"/>
          <p:cNvSpPr/>
          <p:nvPr/>
        </p:nvSpPr>
        <p:spPr>
          <a:xfrm>
            <a:off x="609480" y="16920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bject 71"/>
          <p:cNvSpPr/>
          <p:nvPr/>
        </p:nvSpPr>
        <p:spPr>
          <a:xfrm>
            <a:off x="609480" y="1407240"/>
            <a:ext cx="219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bject 72"/>
          <p:cNvSpPr/>
          <p:nvPr/>
        </p:nvSpPr>
        <p:spPr>
          <a:xfrm>
            <a:off x="4543200" y="21870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object 73"/>
          <p:cNvGrpSpPr/>
          <p:nvPr/>
        </p:nvGrpSpPr>
        <p:grpSpPr>
          <a:xfrm>
            <a:off x="4543200" y="2417040"/>
            <a:ext cx="70200" cy="70200"/>
            <a:chOff x="4543200" y="2417040"/>
            <a:chExt cx="70200" cy="70200"/>
          </a:xfrm>
        </p:grpSpPr>
        <p:sp>
          <p:nvSpPr>
            <p:cNvPr id="1520" name="object 74"/>
            <p:cNvSpPr/>
            <p:nvPr/>
          </p:nvSpPr>
          <p:spPr>
            <a:xfrm>
              <a:off x="4543200" y="2417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3"/>
                  </a:lnTo>
                  <a:lnTo>
                    <a:pt x="70103" y="70103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object 75"/>
            <p:cNvSpPr/>
            <p:nvPr/>
          </p:nvSpPr>
          <p:spPr>
            <a:xfrm>
              <a:off x="4543200" y="2417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3"/>
                  </a:moveTo>
                  <a:lnTo>
                    <a:pt x="70103" y="70103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3"/>
                  </a:lnTo>
                  <a:close/>
                </a:path>
              </a:pathLst>
            </a:custGeom>
            <a:noFill/>
            <a:ln w="9144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object 76"/>
          <p:cNvGrpSpPr/>
          <p:nvPr/>
        </p:nvGrpSpPr>
        <p:grpSpPr>
          <a:xfrm>
            <a:off x="4543200" y="2645640"/>
            <a:ext cx="70200" cy="70200"/>
            <a:chOff x="4543200" y="2645640"/>
            <a:chExt cx="70200" cy="70200"/>
          </a:xfrm>
        </p:grpSpPr>
        <p:sp>
          <p:nvSpPr>
            <p:cNvPr id="1523" name="object 77"/>
            <p:cNvSpPr/>
            <p:nvPr/>
          </p:nvSpPr>
          <p:spPr>
            <a:xfrm>
              <a:off x="4543200" y="26456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3"/>
                  </a:lnTo>
                  <a:lnTo>
                    <a:pt x="70103" y="70103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bject 78"/>
            <p:cNvSpPr/>
            <p:nvPr/>
          </p:nvSpPr>
          <p:spPr>
            <a:xfrm>
              <a:off x="4543200" y="26456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3"/>
                  </a:moveTo>
                  <a:lnTo>
                    <a:pt x="70103" y="70103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3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object 79"/>
          <p:cNvSpPr/>
          <p:nvPr/>
        </p:nvSpPr>
        <p:spPr>
          <a:xfrm>
            <a:off x="4631040" y="2041200"/>
            <a:ext cx="239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ВХ ПП П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bject 80"/>
          <p:cNvSpPr/>
          <p:nvPr/>
        </p:nvSpPr>
        <p:spPr>
          <a:xfrm>
            <a:off x="820800" y="912960"/>
            <a:ext cx="37512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Динамика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я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ных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т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bject 81"/>
          <p:cNvSpPr/>
          <p:nvPr/>
        </p:nvSpPr>
        <p:spPr>
          <a:xfrm>
            <a:off x="1520280" y="1156680"/>
            <a:ext cx="24012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08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bject 82"/>
          <p:cNvSpPr/>
          <p:nvPr/>
        </p:nvSpPr>
        <p:spPr>
          <a:xfrm>
            <a:off x="5247360" y="912960"/>
            <a:ext cx="3713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я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ных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т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bject 83"/>
          <p:cNvSpPr/>
          <p:nvPr/>
        </p:nvSpPr>
        <p:spPr>
          <a:xfrm>
            <a:off x="6499080" y="1156680"/>
            <a:ext cx="1208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object 84"/>
          <p:cNvGrpSpPr/>
          <p:nvPr/>
        </p:nvGrpSpPr>
        <p:grpSpPr>
          <a:xfrm>
            <a:off x="6199560" y="1530360"/>
            <a:ext cx="1802520" cy="1802880"/>
            <a:chOff x="6199560" y="1530360"/>
            <a:chExt cx="1802520" cy="1802880"/>
          </a:xfrm>
        </p:grpSpPr>
        <p:sp>
          <p:nvSpPr>
            <p:cNvPr id="1531" name="object 85"/>
            <p:cNvSpPr/>
            <p:nvPr/>
          </p:nvSpPr>
          <p:spPr>
            <a:xfrm>
              <a:off x="6498000" y="1530360"/>
              <a:ext cx="1504080" cy="1802880"/>
            </a:xfrm>
            <a:custGeom>
              <a:avLst/>
              <a:gdLst>
                <a:gd name="textAreaLeft" fmla="*/ 0 w 1504080"/>
                <a:gd name="textAreaRight" fmla="*/ 1504440 w 1504080"/>
                <a:gd name="textAreaTop" fmla="*/ 0 h 1802880"/>
                <a:gd name="textAreaBottom" fmla="*/ 1803240 h 1802880"/>
              </a:gdLst>
              <a:ahLst/>
              <a:rect l="textAreaLeft" t="textAreaTop" r="textAreaRight" b="textAreaBottom"/>
              <a:pathLst>
                <a:path w="1504315" h="1803400">
                  <a:moveTo>
                    <a:pt x="602996" y="0"/>
                  </a:moveTo>
                  <a:lnTo>
                    <a:pt x="602996" y="450723"/>
                  </a:lnTo>
                  <a:lnTo>
                    <a:pt x="650381" y="453219"/>
                  </a:lnTo>
                  <a:lnTo>
                    <a:pt x="696933" y="460619"/>
                  </a:lnTo>
                  <a:lnTo>
                    <a:pt x="742285" y="472786"/>
                  </a:lnTo>
                  <a:lnTo>
                    <a:pt x="786071" y="489585"/>
                  </a:lnTo>
                  <a:lnTo>
                    <a:pt x="827924" y="510881"/>
                  </a:lnTo>
                  <a:lnTo>
                    <a:pt x="867478" y="536537"/>
                  </a:lnTo>
                  <a:lnTo>
                    <a:pt x="904367" y="566420"/>
                  </a:lnTo>
                  <a:lnTo>
                    <a:pt x="939105" y="601234"/>
                  </a:lnTo>
                  <a:lnTo>
                    <a:pt x="969292" y="638820"/>
                  </a:lnTo>
                  <a:lnTo>
                    <a:pt x="994905" y="678789"/>
                  </a:lnTo>
                  <a:lnTo>
                    <a:pt x="1015925" y="720753"/>
                  </a:lnTo>
                  <a:lnTo>
                    <a:pt x="1032331" y="764323"/>
                  </a:lnTo>
                  <a:lnTo>
                    <a:pt x="1044101" y="809111"/>
                  </a:lnTo>
                  <a:lnTo>
                    <a:pt x="1051215" y="854729"/>
                  </a:lnTo>
                  <a:lnTo>
                    <a:pt x="1053653" y="900789"/>
                  </a:lnTo>
                  <a:lnTo>
                    <a:pt x="1051393" y="946901"/>
                  </a:lnTo>
                  <a:lnTo>
                    <a:pt x="1044415" y="992679"/>
                  </a:lnTo>
                  <a:lnTo>
                    <a:pt x="1032697" y="1037732"/>
                  </a:lnTo>
                  <a:lnTo>
                    <a:pt x="1016220" y="1081674"/>
                  </a:lnTo>
                  <a:lnTo>
                    <a:pt x="994962" y="1124115"/>
                  </a:lnTo>
                  <a:lnTo>
                    <a:pt x="968903" y="1164668"/>
                  </a:lnTo>
                  <a:lnTo>
                    <a:pt x="938022" y="1202944"/>
                  </a:lnTo>
                  <a:lnTo>
                    <a:pt x="903207" y="1237681"/>
                  </a:lnTo>
                  <a:lnTo>
                    <a:pt x="865621" y="1267863"/>
                  </a:lnTo>
                  <a:lnTo>
                    <a:pt x="825652" y="1293469"/>
                  </a:lnTo>
                  <a:lnTo>
                    <a:pt x="783688" y="1314480"/>
                  </a:lnTo>
                  <a:lnTo>
                    <a:pt x="740118" y="1330875"/>
                  </a:lnTo>
                  <a:lnTo>
                    <a:pt x="695330" y="1342633"/>
                  </a:lnTo>
                  <a:lnTo>
                    <a:pt x="649712" y="1349735"/>
                  </a:lnTo>
                  <a:lnTo>
                    <a:pt x="603652" y="1352160"/>
                  </a:lnTo>
                  <a:lnTo>
                    <a:pt x="557540" y="1349888"/>
                  </a:lnTo>
                  <a:lnTo>
                    <a:pt x="511762" y="1342898"/>
                  </a:lnTo>
                  <a:lnTo>
                    <a:pt x="466709" y="1331169"/>
                  </a:lnTo>
                  <a:lnTo>
                    <a:pt x="422767" y="1314683"/>
                  </a:lnTo>
                  <a:lnTo>
                    <a:pt x="380326" y="1293418"/>
                  </a:lnTo>
                  <a:lnTo>
                    <a:pt x="339773" y="1267355"/>
                  </a:lnTo>
                  <a:lnTo>
                    <a:pt x="301498" y="1236472"/>
                  </a:lnTo>
                  <a:lnTo>
                    <a:pt x="0" y="1571498"/>
                  </a:lnTo>
                  <a:lnTo>
                    <a:pt x="39043" y="1604687"/>
                  </a:lnTo>
                  <a:lnTo>
                    <a:pt x="79724" y="1635470"/>
                  </a:lnTo>
                  <a:lnTo>
                    <a:pt x="121929" y="1663804"/>
                  </a:lnTo>
                  <a:lnTo>
                    <a:pt x="165544" y="1689646"/>
                  </a:lnTo>
                  <a:lnTo>
                    <a:pt x="210459" y="1712951"/>
                  </a:lnTo>
                  <a:lnTo>
                    <a:pt x="256559" y="1733677"/>
                  </a:lnTo>
                  <a:lnTo>
                    <a:pt x="303732" y="1751780"/>
                  </a:lnTo>
                  <a:lnTo>
                    <a:pt x="351866" y="1767216"/>
                  </a:lnTo>
                  <a:lnTo>
                    <a:pt x="400848" y="1779944"/>
                  </a:lnTo>
                  <a:lnTo>
                    <a:pt x="450564" y="1789918"/>
                  </a:lnTo>
                  <a:lnTo>
                    <a:pt x="500903" y="1797097"/>
                  </a:lnTo>
                  <a:lnTo>
                    <a:pt x="551751" y="1801436"/>
                  </a:lnTo>
                  <a:lnTo>
                    <a:pt x="602996" y="1802892"/>
                  </a:lnTo>
                  <a:lnTo>
                    <a:pt x="650869" y="1801642"/>
                  </a:lnTo>
                  <a:lnTo>
                    <a:pt x="698090" y="1797935"/>
                  </a:lnTo>
                  <a:lnTo>
                    <a:pt x="744598" y="1791832"/>
                  </a:lnTo>
                  <a:lnTo>
                    <a:pt x="790331" y="1783397"/>
                  </a:lnTo>
                  <a:lnTo>
                    <a:pt x="835225" y="1772691"/>
                  </a:lnTo>
                  <a:lnTo>
                    <a:pt x="879218" y="1759776"/>
                  </a:lnTo>
                  <a:lnTo>
                    <a:pt x="922249" y="1744716"/>
                  </a:lnTo>
                  <a:lnTo>
                    <a:pt x="964255" y="1727571"/>
                  </a:lnTo>
                  <a:lnTo>
                    <a:pt x="1005174" y="1708406"/>
                  </a:lnTo>
                  <a:lnTo>
                    <a:pt x="1044943" y="1687281"/>
                  </a:lnTo>
                  <a:lnTo>
                    <a:pt x="1083500" y="1664259"/>
                  </a:lnTo>
                  <a:lnTo>
                    <a:pt x="1120784" y="1639403"/>
                  </a:lnTo>
                  <a:lnTo>
                    <a:pt x="1156731" y="1612774"/>
                  </a:lnTo>
                  <a:lnTo>
                    <a:pt x="1191280" y="1584436"/>
                  </a:lnTo>
                  <a:lnTo>
                    <a:pt x="1224368" y="1554450"/>
                  </a:lnTo>
                  <a:lnTo>
                    <a:pt x="1255933" y="1522879"/>
                  </a:lnTo>
                  <a:lnTo>
                    <a:pt x="1285913" y="1489784"/>
                  </a:lnTo>
                  <a:lnTo>
                    <a:pt x="1314245" y="1455230"/>
                  </a:lnTo>
                  <a:lnTo>
                    <a:pt x="1340868" y="1419276"/>
                  </a:lnTo>
                  <a:lnTo>
                    <a:pt x="1365719" y="1381987"/>
                  </a:lnTo>
                  <a:lnTo>
                    <a:pt x="1388735" y="1343424"/>
                  </a:lnTo>
                  <a:lnTo>
                    <a:pt x="1409854" y="1303649"/>
                  </a:lnTo>
                  <a:lnTo>
                    <a:pt x="1429015" y="1262726"/>
                  </a:lnTo>
                  <a:lnTo>
                    <a:pt x="1446155" y="1220715"/>
                  </a:lnTo>
                  <a:lnTo>
                    <a:pt x="1461212" y="1177680"/>
                  </a:lnTo>
                  <a:lnTo>
                    <a:pt x="1474123" y="1133683"/>
                  </a:lnTo>
                  <a:lnTo>
                    <a:pt x="1484826" y="1088786"/>
                  </a:lnTo>
                  <a:lnTo>
                    <a:pt x="1493259" y="1043052"/>
                  </a:lnTo>
                  <a:lnTo>
                    <a:pt x="1499359" y="996542"/>
                  </a:lnTo>
                  <a:lnTo>
                    <a:pt x="1503065" y="949319"/>
                  </a:lnTo>
                  <a:lnTo>
                    <a:pt x="1504315" y="901446"/>
                  </a:lnTo>
                  <a:lnTo>
                    <a:pt x="1503065" y="853572"/>
                  </a:lnTo>
                  <a:lnTo>
                    <a:pt x="1499359" y="806349"/>
                  </a:lnTo>
                  <a:lnTo>
                    <a:pt x="1493259" y="759839"/>
                  </a:lnTo>
                  <a:lnTo>
                    <a:pt x="1484826" y="714105"/>
                  </a:lnTo>
                  <a:lnTo>
                    <a:pt x="1474123" y="669208"/>
                  </a:lnTo>
                  <a:lnTo>
                    <a:pt x="1461212" y="625211"/>
                  </a:lnTo>
                  <a:lnTo>
                    <a:pt x="1446155" y="582176"/>
                  </a:lnTo>
                  <a:lnTo>
                    <a:pt x="1429015" y="540165"/>
                  </a:lnTo>
                  <a:lnTo>
                    <a:pt x="1409854" y="499242"/>
                  </a:lnTo>
                  <a:lnTo>
                    <a:pt x="1388735" y="459467"/>
                  </a:lnTo>
                  <a:lnTo>
                    <a:pt x="1365719" y="420904"/>
                  </a:lnTo>
                  <a:lnTo>
                    <a:pt x="1340868" y="383615"/>
                  </a:lnTo>
                  <a:lnTo>
                    <a:pt x="1314245" y="347661"/>
                  </a:lnTo>
                  <a:lnTo>
                    <a:pt x="1285913" y="313107"/>
                  </a:lnTo>
                  <a:lnTo>
                    <a:pt x="1255933" y="280012"/>
                  </a:lnTo>
                  <a:lnTo>
                    <a:pt x="1224368" y="248441"/>
                  </a:lnTo>
                  <a:lnTo>
                    <a:pt x="1191280" y="218455"/>
                  </a:lnTo>
                  <a:lnTo>
                    <a:pt x="1156731" y="190117"/>
                  </a:lnTo>
                  <a:lnTo>
                    <a:pt x="1120784" y="163488"/>
                  </a:lnTo>
                  <a:lnTo>
                    <a:pt x="1083500" y="138632"/>
                  </a:lnTo>
                  <a:lnTo>
                    <a:pt x="1044943" y="115610"/>
                  </a:lnTo>
                  <a:lnTo>
                    <a:pt x="1005174" y="94485"/>
                  </a:lnTo>
                  <a:lnTo>
                    <a:pt x="964255" y="75320"/>
                  </a:lnTo>
                  <a:lnTo>
                    <a:pt x="922249" y="58175"/>
                  </a:lnTo>
                  <a:lnTo>
                    <a:pt x="879218" y="43115"/>
                  </a:lnTo>
                  <a:lnTo>
                    <a:pt x="835225" y="30200"/>
                  </a:lnTo>
                  <a:lnTo>
                    <a:pt x="790331" y="19494"/>
                  </a:lnTo>
                  <a:lnTo>
                    <a:pt x="744598" y="11059"/>
                  </a:lnTo>
                  <a:lnTo>
                    <a:pt x="698090" y="4956"/>
                  </a:lnTo>
                  <a:lnTo>
                    <a:pt x="650869" y="1249"/>
                  </a:lnTo>
                  <a:lnTo>
                    <a:pt x="6029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object 86"/>
            <p:cNvSpPr/>
            <p:nvPr/>
          </p:nvSpPr>
          <p:spPr>
            <a:xfrm>
              <a:off x="6199560" y="1765800"/>
              <a:ext cx="599760" cy="13363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600075" h="1336675">
                  <a:moveTo>
                    <a:pt x="293857" y="0"/>
                  </a:moveTo>
                  <a:lnTo>
                    <a:pt x="261726" y="30797"/>
                  </a:lnTo>
                  <a:lnTo>
                    <a:pt x="231119" y="63118"/>
                  </a:lnTo>
                  <a:lnTo>
                    <a:pt x="200026" y="99542"/>
                  </a:lnTo>
                  <a:lnTo>
                    <a:pt x="171196" y="137125"/>
                  </a:lnTo>
                  <a:lnTo>
                    <a:pt x="144623" y="175781"/>
                  </a:lnTo>
                  <a:lnTo>
                    <a:pt x="120304" y="215420"/>
                  </a:lnTo>
                  <a:lnTo>
                    <a:pt x="98233" y="255956"/>
                  </a:lnTo>
                  <a:lnTo>
                    <a:pt x="78405" y="297300"/>
                  </a:lnTo>
                  <a:lnTo>
                    <a:pt x="60817" y="339364"/>
                  </a:lnTo>
                  <a:lnTo>
                    <a:pt x="45463" y="382060"/>
                  </a:lnTo>
                  <a:lnTo>
                    <a:pt x="32338" y="425300"/>
                  </a:lnTo>
                  <a:lnTo>
                    <a:pt x="21439" y="468997"/>
                  </a:lnTo>
                  <a:lnTo>
                    <a:pt x="12760" y="513061"/>
                  </a:lnTo>
                  <a:lnTo>
                    <a:pt x="6297" y="557406"/>
                  </a:lnTo>
                  <a:lnTo>
                    <a:pt x="2045" y="601943"/>
                  </a:lnTo>
                  <a:lnTo>
                    <a:pt x="0" y="646584"/>
                  </a:lnTo>
                  <a:lnTo>
                    <a:pt x="156" y="691242"/>
                  </a:lnTo>
                  <a:lnTo>
                    <a:pt x="2509" y="735827"/>
                  </a:lnTo>
                  <a:lnTo>
                    <a:pt x="7055" y="780253"/>
                  </a:lnTo>
                  <a:lnTo>
                    <a:pt x="13789" y="824431"/>
                  </a:lnTo>
                  <a:lnTo>
                    <a:pt x="22706" y="868274"/>
                  </a:lnTo>
                  <a:lnTo>
                    <a:pt x="33801" y="911692"/>
                  </a:lnTo>
                  <a:lnTo>
                    <a:pt x="47070" y="954599"/>
                  </a:lnTo>
                  <a:lnTo>
                    <a:pt x="62509" y="996906"/>
                  </a:lnTo>
                  <a:lnTo>
                    <a:pt x="80112" y="1038526"/>
                  </a:lnTo>
                  <a:lnTo>
                    <a:pt x="99875" y="1079370"/>
                  </a:lnTo>
                  <a:lnTo>
                    <a:pt x="121793" y="1119350"/>
                  </a:lnTo>
                  <a:lnTo>
                    <a:pt x="145862" y="1158379"/>
                  </a:lnTo>
                  <a:lnTo>
                    <a:pt x="172077" y="1196367"/>
                  </a:lnTo>
                  <a:lnTo>
                    <a:pt x="200433" y="1233229"/>
                  </a:lnTo>
                  <a:lnTo>
                    <a:pt x="230925" y="1268874"/>
                  </a:lnTo>
                  <a:lnTo>
                    <a:pt x="263550" y="1303216"/>
                  </a:lnTo>
                  <a:lnTo>
                    <a:pt x="298302" y="1336166"/>
                  </a:lnTo>
                  <a:lnTo>
                    <a:pt x="599800" y="1001140"/>
                  </a:lnTo>
                  <a:lnTo>
                    <a:pt x="591608" y="993596"/>
                  </a:lnTo>
                  <a:lnTo>
                    <a:pt x="583607" y="985837"/>
                  </a:lnTo>
                  <a:lnTo>
                    <a:pt x="537055" y="931708"/>
                  </a:lnTo>
                  <a:lnTo>
                    <a:pt x="510736" y="891333"/>
                  </a:lnTo>
                  <a:lnTo>
                    <a:pt x="489200" y="849037"/>
                  </a:lnTo>
                  <a:lnTo>
                    <a:pt x="472431" y="805208"/>
                  </a:lnTo>
                  <a:lnTo>
                    <a:pt x="460410" y="760236"/>
                  </a:lnTo>
                  <a:lnTo>
                    <a:pt x="453121" y="714508"/>
                  </a:lnTo>
                  <a:lnTo>
                    <a:pt x="450545" y="668413"/>
                  </a:lnTo>
                  <a:lnTo>
                    <a:pt x="452665" y="622341"/>
                  </a:lnTo>
                  <a:lnTo>
                    <a:pt x="459464" y="576680"/>
                  </a:lnTo>
                  <a:lnTo>
                    <a:pt x="470923" y="531819"/>
                  </a:lnTo>
                  <a:lnTo>
                    <a:pt x="487025" y="488147"/>
                  </a:lnTo>
                  <a:lnTo>
                    <a:pt x="507753" y="446052"/>
                  </a:lnTo>
                  <a:lnTo>
                    <a:pt x="533089" y="405923"/>
                  </a:lnTo>
                  <a:lnTo>
                    <a:pt x="563015" y="368150"/>
                  </a:lnTo>
                  <a:lnTo>
                    <a:pt x="597514" y="333120"/>
                  </a:lnTo>
                  <a:lnTo>
                    <a:pt x="29385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object 87"/>
            <p:cNvSpPr/>
            <p:nvPr/>
          </p:nvSpPr>
          <p:spPr>
            <a:xfrm>
              <a:off x="6493680" y="1530360"/>
              <a:ext cx="607320" cy="568440"/>
            </a:xfrm>
            <a:custGeom>
              <a:avLst/>
              <a:gdLst>
                <a:gd name="textAreaLeft" fmla="*/ 0 w 607320"/>
                <a:gd name="textAreaRight" fmla="*/ 607680 w 6073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07695" h="568960">
                  <a:moveTo>
                    <a:pt x="607440" y="0"/>
                  </a:moveTo>
                  <a:lnTo>
                    <a:pt x="555730" y="1482"/>
                  </a:lnTo>
                  <a:lnTo>
                    <a:pt x="504423" y="5900"/>
                  </a:lnTo>
                  <a:lnTo>
                    <a:pt x="453638" y="13208"/>
                  </a:lnTo>
                  <a:lnTo>
                    <a:pt x="403490" y="23361"/>
                  </a:lnTo>
                  <a:lnTo>
                    <a:pt x="354095" y="36315"/>
                  </a:lnTo>
                  <a:lnTo>
                    <a:pt x="305570" y="52023"/>
                  </a:lnTo>
                  <a:lnTo>
                    <a:pt x="258030" y="70441"/>
                  </a:lnTo>
                  <a:lnTo>
                    <a:pt x="211593" y="91524"/>
                  </a:lnTo>
                  <a:lnTo>
                    <a:pt x="166373" y="115226"/>
                  </a:lnTo>
                  <a:lnTo>
                    <a:pt x="122488" y="141503"/>
                  </a:lnTo>
                  <a:lnTo>
                    <a:pt x="80053" y="170310"/>
                  </a:lnTo>
                  <a:lnTo>
                    <a:pt x="39185" y="201600"/>
                  </a:lnTo>
                  <a:lnTo>
                    <a:pt x="0" y="235331"/>
                  </a:lnTo>
                  <a:lnTo>
                    <a:pt x="303657" y="568451"/>
                  </a:lnTo>
                  <a:lnTo>
                    <a:pt x="340738" y="538057"/>
                  </a:lnTo>
                  <a:lnTo>
                    <a:pt x="380544" y="511955"/>
                  </a:lnTo>
                  <a:lnTo>
                    <a:pt x="422702" y="490284"/>
                  </a:lnTo>
                  <a:lnTo>
                    <a:pt x="466842" y="473186"/>
                  </a:lnTo>
                  <a:lnTo>
                    <a:pt x="512592" y="460800"/>
                  </a:lnTo>
                  <a:lnTo>
                    <a:pt x="559582" y="453265"/>
                  </a:lnTo>
                  <a:lnTo>
                    <a:pt x="607440" y="450723"/>
                  </a:lnTo>
                  <a:lnTo>
                    <a:pt x="607440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object 88"/>
          <p:cNvSpPr/>
          <p:nvPr/>
        </p:nvSpPr>
        <p:spPr>
          <a:xfrm>
            <a:off x="7466760" y="2696040"/>
            <a:ext cx="428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Э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object 89"/>
          <p:cNvSpPr/>
          <p:nvPr/>
        </p:nvSpPr>
        <p:spPr>
          <a:xfrm>
            <a:off x="6081120" y="2329920"/>
            <a:ext cx="441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П;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bject 90"/>
          <p:cNvSpPr/>
          <p:nvPr/>
        </p:nvSpPr>
        <p:spPr>
          <a:xfrm>
            <a:off x="6519960" y="1605600"/>
            <a:ext cx="4384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ВХ;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bject 91"/>
          <p:cNvSpPr/>
          <p:nvPr/>
        </p:nvSpPr>
        <p:spPr>
          <a:xfrm>
            <a:off x="6782760" y="2271240"/>
            <a:ext cx="764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25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object 92"/>
          <p:cNvGrpSpPr/>
          <p:nvPr/>
        </p:nvGrpSpPr>
        <p:grpSpPr>
          <a:xfrm>
            <a:off x="863640" y="4365360"/>
            <a:ext cx="1799640" cy="1800000"/>
            <a:chOff x="863640" y="4365360"/>
            <a:chExt cx="1799640" cy="1800000"/>
          </a:xfrm>
        </p:grpSpPr>
        <p:sp>
          <p:nvSpPr>
            <p:cNvPr id="1539" name="object 93"/>
            <p:cNvSpPr/>
            <p:nvPr/>
          </p:nvSpPr>
          <p:spPr>
            <a:xfrm>
              <a:off x="907920" y="4365360"/>
              <a:ext cx="1755360" cy="1800000"/>
            </a:xfrm>
            <a:custGeom>
              <a:avLst/>
              <a:gdLst>
                <a:gd name="textAreaLeft" fmla="*/ 0 w 1755360"/>
                <a:gd name="textAreaRight" fmla="*/ 1755720 w 1755360"/>
                <a:gd name="textAreaTop" fmla="*/ 0 h 1800000"/>
                <a:gd name="textAreaBottom" fmla="*/ 1800360 h 1800000"/>
              </a:gdLst>
              <a:ahLst/>
              <a:rect l="textAreaLeft" t="textAreaTop" r="textAreaRight" b="textAreaBottom"/>
              <a:pathLst>
                <a:path w="1755775" h="1800225">
                  <a:moveTo>
                    <a:pt x="855827" y="0"/>
                  </a:moveTo>
                  <a:lnTo>
                    <a:pt x="855827" y="899921"/>
                  </a:lnTo>
                  <a:lnTo>
                    <a:pt x="0" y="1178051"/>
                  </a:lnTo>
                  <a:lnTo>
                    <a:pt x="16217" y="1223767"/>
                  </a:lnTo>
                  <a:lnTo>
                    <a:pt x="34700" y="1268178"/>
                  </a:lnTo>
                  <a:lnTo>
                    <a:pt x="55370" y="1311228"/>
                  </a:lnTo>
                  <a:lnTo>
                    <a:pt x="78149" y="1352859"/>
                  </a:lnTo>
                  <a:lnTo>
                    <a:pt x="102958" y="1393015"/>
                  </a:lnTo>
                  <a:lnTo>
                    <a:pt x="129718" y="1431639"/>
                  </a:lnTo>
                  <a:lnTo>
                    <a:pt x="158353" y="1468674"/>
                  </a:lnTo>
                  <a:lnTo>
                    <a:pt x="188782" y="1504062"/>
                  </a:lnTo>
                  <a:lnTo>
                    <a:pt x="220928" y="1537747"/>
                  </a:lnTo>
                  <a:lnTo>
                    <a:pt x="254712" y="1569672"/>
                  </a:lnTo>
                  <a:lnTo>
                    <a:pt x="290056" y="1599779"/>
                  </a:lnTo>
                  <a:lnTo>
                    <a:pt x="326882" y="1628013"/>
                  </a:lnTo>
                  <a:lnTo>
                    <a:pt x="365111" y="1654315"/>
                  </a:lnTo>
                  <a:lnTo>
                    <a:pt x="404664" y="1678629"/>
                  </a:lnTo>
                  <a:lnTo>
                    <a:pt x="445465" y="1700897"/>
                  </a:lnTo>
                  <a:lnTo>
                    <a:pt x="487433" y="1721064"/>
                  </a:lnTo>
                  <a:lnTo>
                    <a:pt x="530491" y="1739071"/>
                  </a:lnTo>
                  <a:lnTo>
                    <a:pt x="574561" y="1754863"/>
                  </a:lnTo>
                  <a:lnTo>
                    <a:pt x="619563" y="1768381"/>
                  </a:lnTo>
                  <a:lnTo>
                    <a:pt x="665420" y="1779569"/>
                  </a:lnTo>
                  <a:lnTo>
                    <a:pt x="712053" y="1788370"/>
                  </a:lnTo>
                  <a:lnTo>
                    <a:pt x="759385" y="1794728"/>
                  </a:lnTo>
                  <a:lnTo>
                    <a:pt x="807335" y="1798584"/>
                  </a:lnTo>
                  <a:lnTo>
                    <a:pt x="855827" y="1799882"/>
                  </a:lnTo>
                  <a:lnTo>
                    <a:pt x="903627" y="1798634"/>
                  </a:lnTo>
                  <a:lnTo>
                    <a:pt x="950776" y="1794933"/>
                  </a:lnTo>
                  <a:lnTo>
                    <a:pt x="997213" y="1788841"/>
                  </a:lnTo>
                  <a:lnTo>
                    <a:pt x="1042875" y="1780421"/>
                  </a:lnTo>
                  <a:lnTo>
                    <a:pt x="1087699" y="1769733"/>
                  </a:lnTo>
                  <a:lnTo>
                    <a:pt x="1131625" y="1756840"/>
                  </a:lnTo>
                  <a:lnTo>
                    <a:pt x="1174590" y="1741806"/>
                  </a:lnTo>
                  <a:lnTo>
                    <a:pt x="1216531" y="1724690"/>
                  </a:lnTo>
                  <a:lnTo>
                    <a:pt x="1257386" y="1705557"/>
                  </a:lnTo>
                  <a:lnTo>
                    <a:pt x="1297094" y="1684468"/>
                  </a:lnTo>
                  <a:lnTo>
                    <a:pt x="1335591" y="1661486"/>
                  </a:lnTo>
                  <a:lnTo>
                    <a:pt x="1372817" y="1636671"/>
                  </a:lnTo>
                  <a:lnTo>
                    <a:pt x="1408709" y="1610088"/>
                  </a:lnTo>
                  <a:lnTo>
                    <a:pt x="1443204" y="1581797"/>
                  </a:lnTo>
                  <a:lnTo>
                    <a:pt x="1476240" y="1551862"/>
                  </a:lnTo>
                  <a:lnTo>
                    <a:pt x="1507756" y="1520343"/>
                  </a:lnTo>
                  <a:lnTo>
                    <a:pt x="1537689" y="1487304"/>
                  </a:lnTo>
                  <a:lnTo>
                    <a:pt x="1565978" y="1452807"/>
                  </a:lnTo>
                  <a:lnTo>
                    <a:pt x="1592559" y="1416913"/>
                  </a:lnTo>
                  <a:lnTo>
                    <a:pt x="1617370" y="1379686"/>
                  </a:lnTo>
                  <a:lnTo>
                    <a:pt x="1640351" y="1341186"/>
                  </a:lnTo>
                  <a:lnTo>
                    <a:pt x="1661437" y="1301477"/>
                  </a:lnTo>
                  <a:lnTo>
                    <a:pt x="1680568" y="1260620"/>
                  </a:lnTo>
                  <a:lnTo>
                    <a:pt x="1697681" y="1218679"/>
                  </a:lnTo>
                  <a:lnTo>
                    <a:pt x="1712714" y="1175714"/>
                  </a:lnTo>
                  <a:lnTo>
                    <a:pt x="1725605" y="1131788"/>
                  </a:lnTo>
                  <a:lnTo>
                    <a:pt x="1736291" y="1086963"/>
                  </a:lnTo>
                  <a:lnTo>
                    <a:pt x="1744711" y="1041302"/>
                  </a:lnTo>
                  <a:lnTo>
                    <a:pt x="1750802" y="994867"/>
                  </a:lnTo>
                  <a:lnTo>
                    <a:pt x="1754502" y="947719"/>
                  </a:lnTo>
                  <a:lnTo>
                    <a:pt x="1755749" y="899921"/>
                  </a:lnTo>
                  <a:lnTo>
                    <a:pt x="1754502" y="852133"/>
                  </a:lnTo>
                  <a:lnTo>
                    <a:pt x="1750802" y="804994"/>
                  </a:lnTo>
                  <a:lnTo>
                    <a:pt x="1744711" y="758566"/>
                  </a:lnTo>
                  <a:lnTo>
                    <a:pt x="1736291" y="712911"/>
                  </a:lnTo>
                  <a:lnTo>
                    <a:pt x="1725605" y="668092"/>
                  </a:lnTo>
                  <a:lnTo>
                    <a:pt x="1712714" y="624171"/>
                  </a:lnTo>
                  <a:lnTo>
                    <a:pt x="1697681" y="581211"/>
                  </a:lnTo>
                  <a:lnTo>
                    <a:pt x="1680568" y="539272"/>
                  </a:lnTo>
                  <a:lnTo>
                    <a:pt x="1661437" y="498418"/>
                  </a:lnTo>
                  <a:lnTo>
                    <a:pt x="1640351" y="458711"/>
                  </a:lnTo>
                  <a:lnTo>
                    <a:pt x="1617370" y="420213"/>
                  </a:lnTo>
                  <a:lnTo>
                    <a:pt x="1592559" y="382987"/>
                  </a:lnTo>
                  <a:lnTo>
                    <a:pt x="1565978" y="347094"/>
                  </a:lnTo>
                  <a:lnTo>
                    <a:pt x="1537689" y="312597"/>
                  </a:lnTo>
                  <a:lnTo>
                    <a:pt x="1507756" y="279557"/>
                  </a:lnTo>
                  <a:lnTo>
                    <a:pt x="1476240" y="248038"/>
                  </a:lnTo>
                  <a:lnTo>
                    <a:pt x="1443204" y="218102"/>
                  </a:lnTo>
                  <a:lnTo>
                    <a:pt x="1408709" y="189810"/>
                  </a:lnTo>
                  <a:lnTo>
                    <a:pt x="1372817" y="163225"/>
                  </a:lnTo>
                  <a:lnTo>
                    <a:pt x="1335591" y="138409"/>
                  </a:lnTo>
                  <a:lnTo>
                    <a:pt x="1297094" y="115425"/>
                  </a:lnTo>
                  <a:lnTo>
                    <a:pt x="1257386" y="94334"/>
                  </a:lnTo>
                  <a:lnTo>
                    <a:pt x="1216531" y="75199"/>
                  </a:lnTo>
                  <a:lnTo>
                    <a:pt x="1174590" y="58083"/>
                  </a:lnTo>
                  <a:lnTo>
                    <a:pt x="1131625" y="43046"/>
                  </a:lnTo>
                  <a:lnTo>
                    <a:pt x="1087699" y="30152"/>
                  </a:lnTo>
                  <a:lnTo>
                    <a:pt x="1042875" y="19463"/>
                  </a:lnTo>
                  <a:lnTo>
                    <a:pt x="997213" y="11041"/>
                  </a:lnTo>
                  <a:lnTo>
                    <a:pt x="950776" y="4948"/>
                  </a:lnTo>
                  <a:lnTo>
                    <a:pt x="903627" y="1247"/>
                  </a:lnTo>
                  <a:lnTo>
                    <a:pt x="85582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object 94"/>
            <p:cNvSpPr/>
            <p:nvPr/>
          </p:nvSpPr>
          <p:spPr>
            <a:xfrm>
              <a:off x="863640" y="4609080"/>
              <a:ext cx="900000" cy="93384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900430" h="934085">
                  <a:moveTo>
                    <a:pt x="283840" y="0"/>
                  </a:moveTo>
                  <a:lnTo>
                    <a:pt x="248636" y="34925"/>
                  </a:lnTo>
                  <a:lnTo>
                    <a:pt x="215644" y="71452"/>
                  </a:lnTo>
                  <a:lnTo>
                    <a:pt x="184890" y="109478"/>
                  </a:lnTo>
                  <a:lnTo>
                    <a:pt x="156401" y="148903"/>
                  </a:lnTo>
                  <a:lnTo>
                    <a:pt x="130203" y="189622"/>
                  </a:lnTo>
                  <a:lnTo>
                    <a:pt x="106322" y="231536"/>
                  </a:lnTo>
                  <a:lnTo>
                    <a:pt x="84785" y="274541"/>
                  </a:lnTo>
                  <a:lnTo>
                    <a:pt x="65618" y="318535"/>
                  </a:lnTo>
                  <a:lnTo>
                    <a:pt x="48846" y="363417"/>
                  </a:lnTo>
                  <a:lnTo>
                    <a:pt x="34497" y="409084"/>
                  </a:lnTo>
                  <a:lnTo>
                    <a:pt x="22596" y="455435"/>
                  </a:lnTo>
                  <a:lnTo>
                    <a:pt x="13169" y="502367"/>
                  </a:lnTo>
                  <a:lnTo>
                    <a:pt x="6244" y="549779"/>
                  </a:lnTo>
                  <a:lnTo>
                    <a:pt x="1845" y="597567"/>
                  </a:lnTo>
                  <a:lnTo>
                    <a:pt x="0" y="645632"/>
                  </a:lnTo>
                  <a:lnTo>
                    <a:pt x="734" y="693869"/>
                  </a:lnTo>
                  <a:lnTo>
                    <a:pt x="4073" y="742178"/>
                  </a:lnTo>
                  <a:lnTo>
                    <a:pt x="10045" y="790456"/>
                  </a:lnTo>
                  <a:lnTo>
                    <a:pt x="18675" y="838601"/>
                  </a:lnTo>
                  <a:lnTo>
                    <a:pt x="29989" y="886511"/>
                  </a:lnTo>
                  <a:lnTo>
                    <a:pt x="44014" y="934085"/>
                  </a:lnTo>
                  <a:lnTo>
                    <a:pt x="899841" y="655954"/>
                  </a:lnTo>
                  <a:lnTo>
                    <a:pt x="28384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object 95"/>
            <p:cNvSpPr/>
            <p:nvPr/>
          </p:nvSpPr>
          <p:spPr>
            <a:xfrm>
              <a:off x="1147680" y="4365360"/>
              <a:ext cx="616320" cy="900000"/>
            </a:xfrm>
            <a:custGeom>
              <a:avLst/>
              <a:gdLst>
                <a:gd name="textAreaLeft" fmla="*/ 0 w 616320"/>
                <a:gd name="textAreaRight" fmla="*/ 616680 w 61632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616585" h="900429">
                  <a:moveTo>
                    <a:pt x="616000" y="0"/>
                  </a:moveTo>
                  <a:lnTo>
                    <a:pt x="567107" y="1328"/>
                  </a:lnTo>
                  <a:lnTo>
                    <a:pt x="518572" y="5289"/>
                  </a:lnTo>
                  <a:lnTo>
                    <a:pt x="470495" y="11844"/>
                  </a:lnTo>
                  <a:lnTo>
                    <a:pt x="422974" y="20952"/>
                  </a:lnTo>
                  <a:lnTo>
                    <a:pt x="376107" y="32576"/>
                  </a:lnTo>
                  <a:lnTo>
                    <a:pt x="329993" y="46676"/>
                  </a:lnTo>
                  <a:lnTo>
                    <a:pt x="284730" y="63214"/>
                  </a:lnTo>
                  <a:lnTo>
                    <a:pt x="240417" y="82150"/>
                  </a:lnTo>
                  <a:lnTo>
                    <a:pt x="197153" y="103447"/>
                  </a:lnTo>
                  <a:lnTo>
                    <a:pt x="155035" y="127064"/>
                  </a:lnTo>
                  <a:lnTo>
                    <a:pt x="114162" y="152964"/>
                  </a:lnTo>
                  <a:lnTo>
                    <a:pt x="74633" y="181107"/>
                  </a:lnTo>
                  <a:lnTo>
                    <a:pt x="36546" y="211454"/>
                  </a:lnTo>
                  <a:lnTo>
                    <a:pt x="0" y="243966"/>
                  </a:lnTo>
                  <a:lnTo>
                    <a:pt x="616000" y="899921"/>
                  </a:lnTo>
                  <a:lnTo>
                    <a:pt x="616000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object 96"/>
          <p:cNvSpPr/>
          <p:nvPr/>
        </p:nvSpPr>
        <p:spPr>
          <a:xfrm>
            <a:off x="2087280" y="5307120"/>
            <a:ext cx="3006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96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bject 97"/>
          <p:cNvSpPr/>
          <p:nvPr/>
        </p:nvSpPr>
        <p:spPr>
          <a:xfrm>
            <a:off x="558000" y="4786560"/>
            <a:ext cx="68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анализаци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я,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телеком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bject 98"/>
          <p:cNvSpPr/>
          <p:nvPr/>
        </p:nvSpPr>
        <p:spPr>
          <a:xfrm>
            <a:off x="1347840" y="4363920"/>
            <a:ext cx="245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Га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object 99"/>
          <p:cNvGrpSpPr/>
          <p:nvPr/>
        </p:nvGrpSpPr>
        <p:grpSpPr>
          <a:xfrm>
            <a:off x="3598560" y="4492080"/>
            <a:ext cx="1802880" cy="1802880"/>
            <a:chOff x="3598560" y="4492080"/>
            <a:chExt cx="1802880" cy="1802880"/>
          </a:xfrm>
        </p:grpSpPr>
        <p:sp>
          <p:nvSpPr>
            <p:cNvPr id="1546" name="object 100"/>
            <p:cNvSpPr/>
            <p:nvPr/>
          </p:nvSpPr>
          <p:spPr>
            <a:xfrm>
              <a:off x="4065840" y="4492080"/>
              <a:ext cx="1335600" cy="1802880"/>
            </a:xfrm>
            <a:custGeom>
              <a:avLst/>
              <a:gdLst>
                <a:gd name="textAreaLeft" fmla="*/ 0 w 1335600"/>
                <a:gd name="textAreaRight" fmla="*/ 1335960 w 1335600"/>
                <a:gd name="textAreaTop" fmla="*/ 0 h 1802880"/>
                <a:gd name="textAreaBottom" fmla="*/ 1803240 h 1802880"/>
              </a:gdLst>
              <a:ahLst/>
              <a:rect l="textAreaLeft" t="textAreaTop" r="textAreaRight" b="textAreaBottom"/>
              <a:pathLst>
                <a:path w="1336039" h="1803400">
                  <a:moveTo>
                    <a:pt x="434213" y="0"/>
                  </a:moveTo>
                  <a:lnTo>
                    <a:pt x="434213" y="901446"/>
                  </a:lnTo>
                  <a:lnTo>
                    <a:pt x="0" y="1691347"/>
                  </a:lnTo>
                  <a:lnTo>
                    <a:pt x="44910" y="1714437"/>
                  </a:lnTo>
                  <a:lnTo>
                    <a:pt x="90921" y="1734920"/>
                  </a:lnTo>
                  <a:lnTo>
                    <a:pt x="137917" y="1752765"/>
                  </a:lnTo>
                  <a:lnTo>
                    <a:pt x="185785" y="1767945"/>
                  </a:lnTo>
                  <a:lnTo>
                    <a:pt x="234410" y="1780430"/>
                  </a:lnTo>
                  <a:lnTo>
                    <a:pt x="283680" y="1790191"/>
                  </a:lnTo>
                  <a:lnTo>
                    <a:pt x="333479" y="1797199"/>
                  </a:lnTo>
                  <a:lnTo>
                    <a:pt x="383695" y="1801425"/>
                  </a:lnTo>
                  <a:lnTo>
                    <a:pt x="434213" y="1802841"/>
                  </a:lnTo>
                  <a:lnTo>
                    <a:pt x="482086" y="1801591"/>
                  </a:lnTo>
                  <a:lnTo>
                    <a:pt x="529309" y="1797884"/>
                  </a:lnTo>
                  <a:lnTo>
                    <a:pt x="575819" y="1791782"/>
                  </a:lnTo>
                  <a:lnTo>
                    <a:pt x="621553" y="1783347"/>
                  </a:lnTo>
                  <a:lnTo>
                    <a:pt x="666450" y="1772642"/>
                  </a:lnTo>
                  <a:lnTo>
                    <a:pt x="710447" y="1759728"/>
                  </a:lnTo>
                  <a:lnTo>
                    <a:pt x="753482" y="1744668"/>
                  </a:lnTo>
                  <a:lnTo>
                    <a:pt x="795493" y="1727525"/>
                  </a:lnTo>
                  <a:lnTo>
                    <a:pt x="836416" y="1708361"/>
                  </a:lnTo>
                  <a:lnTo>
                    <a:pt x="876191" y="1687237"/>
                  </a:lnTo>
                  <a:lnTo>
                    <a:pt x="914754" y="1664217"/>
                  </a:lnTo>
                  <a:lnTo>
                    <a:pt x="952043" y="1639362"/>
                  </a:lnTo>
                  <a:lnTo>
                    <a:pt x="987997" y="1612735"/>
                  </a:lnTo>
                  <a:lnTo>
                    <a:pt x="1022551" y="1584398"/>
                  </a:lnTo>
                  <a:lnTo>
                    <a:pt x="1055646" y="1554414"/>
                  </a:lnTo>
                  <a:lnTo>
                    <a:pt x="1087217" y="1522845"/>
                  </a:lnTo>
                  <a:lnTo>
                    <a:pt x="1117203" y="1489752"/>
                  </a:lnTo>
                  <a:lnTo>
                    <a:pt x="1145541" y="1455199"/>
                  </a:lnTo>
                  <a:lnTo>
                    <a:pt x="1172170" y="1419248"/>
                  </a:lnTo>
                  <a:lnTo>
                    <a:pt x="1197026" y="1381961"/>
                  </a:lnTo>
                  <a:lnTo>
                    <a:pt x="1220048" y="1343400"/>
                  </a:lnTo>
                  <a:lnTo>
                    <a:pt x="1241173" y="1303628"/>
                  </a:lnTo>
                  <a:lnTo>
                    <a:pt x="1260338" y="1262707"/>
                  </a:lnTo>
                  <a:lnTo>
                    <a:pt x="1277483" y="1220699"/>
                  </a:lnTo>
                  <a:lnTo>
                    <a:pt x="1292543" y="1177666"/>
                  </a:lnTo>
                  <a:lnTo>
                    <a:pt x="1305458" y="1133671"/>
                  </a:lnTo>
                  <a:lnTo>
                    <a:pt x="1316164" y="1088777"/>
                  </a:lnTo>
                  <a:lnTo>
                    <a:pt x="1324599" y="1043044"/>
                  </a:lnTo>
                  <a:lnTo>
                    <a:pt x="1330702" y="996537"/>
                  </a:lnTo>
                  <a:lnTo>
                    <a:pt x="1334409" y="949317"/>
                  </a:lnTo>
                  <a:lnTo>
                    <a:pt x="1335659" y="901446"/>
                  </a:lnTo>
                  <a:lnTo>
                    <a:pt x="1334409" y="853572"/>
                  </a:lnTo>
                  <a:lnTo>
                    <a:pt x="1330702" y="806349"/>
                  </a:lnTo>
                  <a:lnTo>
                    <a:pt x="1324599" y="759839"/>
                  </a:lnTo>
                  <a:lnTo>
                    <a:pt x="1316164" y="714105"/>
                  </a:lnTo>
                  <a:lnTo>
                    <a:pt x="1305458" y="669208"/>
                  </a:lnTo>
                  <a:lnTo>
                    <a:pt x="1292543" y="625211"/>
                  </a:lnTo>
                  <a:lnTo>
                    <a:pt x="1277483" y="582176"/>
                  </a:lnTo>
                  <a:lnTo>
                    <a:pt x="1260338" y="540165"/>
                  </a:lnTo>
                  <a:lnTo>
                    <a:pt x="1241173" y="499242"/>
                  </a:lnTo>
                  <a:lnTo>
                    <a:pt x="1220048" y="459467"/>
                  </a:lnTo>
                  <a:lnTo>
                    <a:pt x="1197026" y="420904"/>
                  </a:lnTo>
                  <a:lnTo>
                    <a:pt x="1172170" y="383615"/>
                  </a:lnTo>
                  <a:lnTo>
                    <a:pt x="1145541" y="347661"/>
                  </a:lnTo>
                  <a:lnTo>
                    <a:pt x="1117203" y="313107"/>
                  </a:lnTo>
                  <a:lnTo>
                    <a:pt x="1087217" y="280012"/>
                  </a:lnTo>
                  <a:lnTo>
                    <a:pt x="1055646" y="248441"/>
                  </a:lnTo>
                  <a:lnTo>
                    <a:pt x="1022551" y="218455"/>
                  </a:lnTo>
                  <a:lnTo>
                    <a:pt x="987997" y="190117"/>
                  </a:lnTo>
                  <a:lnTo>
                    <a:pt x="952043" y="163488"/>
                  </a:lnTo>
                  <a:lnTo>
                    <a:pt x="914754" y="138632"/>
                  </a:lnTo>
                  <a:lnTo>
                    <a:pt x="876191" y="115610"/>
                  </a:lnTo>
                  <a:lnTo>
                    <a:pt x="836416" y="94485"/>
                  </a:lnTo>
                  <a:lnTo>
                    <a:pt x="795493" y="75320"/>
                  </a:lnTo>
                  <a:lnTo>
                    <a:pt x="753482" y="58175"/>
                  </a:lnTo>
                  <a:lnTo>
                    <a:pt x="710447" y="43115"/>
                  </a:lnTo>
                  <a:lnTo>
                    <a:pt x="666450" y="30200"/>
                  </a:lnTo>
                  <a:lnTo>
                    <a:pt x="621553" y="19494"/>
                  </a:lnTo>
                  <a:lnTo>
                    <a:pt x="575819" y="11059"/>
                  </a:lnTo>
                  <a:lnTo>
                    <a:pt x="529309" y="4956"/>
                  </a:lnTo>
                  <a:lnTo>
                    <a:pt x="482086" y="1249"/>
                  </a:lnTo>
                  <a:lnTo>
                    <a:pt x="43421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object 101"/>
            <p:cNvSpPr/>
            <p:nvPr/>
          </p:nvSpPr>
          <p:spPr>
            <a:xfrm>
              <a:off x="3598560" y="4863600"/>
              <a:ext cx="901440" cy="131976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901700" h="1320164">
                  <a:moveTo>
                    <a:pt x="172302" y="0"/>
                  </a:moveTo>
                  <a:lnTo>
                    <a:pt x="140425" y="46799"/>
                  </a:lnTo>
                  <a:lnTo>
                    <a:pt x="111596" y="95503"/>
                  </a:lnTo>
                  <a:lnTo>
                    <a:pt x="89633" y="138068"/>
                  </a:lnTo>
                  <a:lnTo>
                    <a:pt x="70136" y="181244"/>
                  </a:lnTo>
                  <a:lnTo>
                    <a:pt x="53081" y="224949"/>
                  </a:lnTo>
                  <a:lnTo>
                    <a:pt x="38443" y="269097"/>
                  </a:lnTo>
                  <a:lnTo>
                    <a:pt x="26197" y="313604"/>
                  </a:lnTo>
                  <a:lnTo>
                    <a:pt x="16319" y="358385"/>
                  </a:lnTo>
                  <a:lnTo>
                    <a:pt x="8785" y="403356"/>
                  </a:lnTo>
                  <a:lnTo>
                    <a:pt x="3570" y="448433"/>
                  </a:lnTo>
                  <a:lnTo>
                    <a:pt x="650" y="493530"/>
                  </a:lnTo>
                  <a:lnTo>
                    <a:pt x="0" y="538563"/>
                  </a:lnTo>
                  <a:lnTo>
                    <a:pt x="1595" y="583447"/>
                  </a:lnTo>
                  <a:lnTo>
                    <a:pt x="5411" y="628099"/>
                  </a:lnTo>
                  <a:lnTo>
                    <a:pt x="11423" y="672433"/>
                  </a:lnTo>
                  <a:lnTo>
                    <a:pt x="19608" y="716365"/>
                  </a:lnTo>
                  <a:lnTo>
                    <a:pt x="29940" y="759810"/>
                  </a:lnTo>
                  <a:lnTo>
                    <a:pt x="42396" y="802684"/>
                  </a:lnTo>
                  <a:lnTo>
                    <a:pt x="56949" y="844903"/>
                  </a:lnTo>
                  <a:lnTo>
                    <a:pt x="73577" y="886381"/>
                  </a:lnTo>
                  <a:lnTo>
                    <a:pt x="92254" y="927033"/>
                  </a:lnTo>
                  <a:lnTo>
                    <a:pt x="112956" y="966777"/>
                  </a:lnTo>
                  <a:lnTo>
                    <a:pt x="135659" y="1005526"/>
                  </a:lnTo>
                  <a:lnTo>
                    <a:pt x="160338" y="1043197"/>
                  </a:lnTo>
                  <a:lnTo>
                    <a:pt x="186968" y="1079705"/>
                  </a:lnTo>
                  <a:lnTo>
                    <a:pt x="215525" y="1114965"/>
                  </a:lnTo>
                  <a:lnTo>
                    <a:pt x="245985" y="1148892"/>
                  </a:lnTo>
                  <a:lnTo>
                    <a:pt x="278323" y="1181403"/>
                  </a:lnTo>
                  <a:lnTo>
                    <a:pt x="312514" y="1212413"/>
                  </a:lnTo>
                  <a:lnTo>
                    <a:pt x="348534" y="1241836"/>
                  </a:lnTo>
                  <a:lnTo>
                    <a:pt x="386359" y="1269589"/>
                  </a:lnTo>
                  <a:lnTo>
                    <a:pt x="425963" y="1295587"/>
                  </a:lnTo>
                  <a:lnTo>
                    <a:pt x="467323" y="1319745"/>
                  </a:lnTo>
                  <a:lnTo>
                    <a:pt x="901536" y="529843"/>
                  </a:lnTo>
                  <a:lnTo>
                    <a:pt x="17230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object 102"/>
            <p:cNvSpPr/>
            <p:nvPr/>
          </p:nvSpPr>
          <p:spPr>
            <a:xfrm>
              <a:off x="3770640" y="4507920"/>
              <a:ext cx="729360" cy="885600"/>
            </a:xfrm>
            <a:custGeom>
              <a:avLst/>
              <a:gdLst>
                <a:gd name="textAreaLeft" fmla="*/ 0 w 729360"/>
                <a:gd name="textAreaRight" fmla="*/ 729720 w 7293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729614" h="885825">
                  <a:moveTo>
                    <a:pt x="560323" y="0"/>
                  </a:moveTo>
                  <a:lnTo>
                    <a:pt x="512467" y="10477"/>
                  </a:lnTo>
                  <a:lnTo>
                    <a:pt x="465457" y="23476"/>
                  </a:lnTo>
                  <a:lnTo>
                    <a:pt x="419385" y="38940"/>
                  </a:lnTo>
                  <a:lnTo>
                    <a:pt x="374338" y="56813"/>
                  </a:lnTo>
                  <a:lnTo>
                    <a:pt x="330408" y="77037"/>
                  </a:lnTo>
                  <a:lnTo>
                    <a:pt x="287683" y="99557"/>
                  </a:lnTo>
                  <a:lnTo>
                    <a:pt x="246252" y="124317"/>
                  </a:lnTo>
                  <a:lnTo>
                    <a:pt x="206206" y="151259"/>
                  </a:lnTo>
                  <a:lnTo>
                    <a:pt x="167633" y="180328"/>
                  </a:lnTo>
                  <a:lnTo>
                    <a:pt x="130623" y="211467"/>
                  </a:lnTo>
                  <a:lnTo>
                    <a:pt x="95265" y="244621"/>
                  </a:lnTo>
                  <a:lnTo>
                    <a:pt x="61649" y="279731"/>
                  </a:lnTo>
                  <a:lnTo>
                    <a:pt x="29864" y="316743"/>
                  </a:lnTo>
                  <a:lnTo>
                    <a:pt x="0" y="355599"/>
                  </a:lnTo>
                  <a:lnTo>
                    <a:pt x="729233" y="885443"/>
                  </a:lnTo>
                  <a:lnTo>
                    <a:pt x="560323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object 103"/>
            <p:cNvSpPr/>
            <p:nvPr/>
          </p:nvSpPr>
          <p:spPr>
            <a:xfrm>
              <a:off x="4331160" y="4492080"/>
              <a:ext cx="168480" cy="901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168910" h="901700">
                  <a:moveTo>
                    <a:pt x="168910" y="0"/>
                  </a:moveTo>
                  <a:lnTo>
                    <a:pt x="126444" y="1000"/>
                  </a:lnTo>
                  <a:lnTo>
                    <a:pt x="84074" y="4000"/>
                  </a:lnTo>
                  <a:lnTo>
                    <a:pt x="41894" y="9001"/>
                  </a:lnTo>
                  <a:lnTo>
                    <a:pt x="0" y="16002"/>
                  </a:lnTo>
                  <a:lnTo>
                    <a:pt x="168910" y="901446"/>
                  </a:lnTo>
                  <a:lnTo>
                    <a:pt x="168910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0" name="object 104"/>
          <p:cNvSpPr/>
          <p:nvPr/>
        </p:nvSpPr>
        <p:spPr>
          <a:xfrm>
            <a:off x="4601880" y="5309280"/>
            <a:ext cx="714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одоснабже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2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object 105"/>
          <p:cNvSpPr/>
          <p:nvPr/>
        </p:nvSpPr>
        <p:spPr>
          <a:xfrm>
            <a:off x="3727080" y="5359680"/>
            <a:ext cx="6274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оп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2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bject 106"/>
          <p:cNvSpPr/>
          <p:nvPr/>
        </p:nvSpPr>
        <p:spPr>
          <a:xfrm>
            <a:off x="3558600" y="4279320"/>
            <a:ext cx="11278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8160" indent="645840">
              <a:lnSpc>
                <a:spcPct val="148000"/>
              </a:lnSpc>
              <a:spcBef>
                <a:spcPts val="99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чее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анализация</a:t>
            </a:r>
            <a:r>
              <a:rPr b="1" lang="en-US" sz="1000" spc="7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500" spc="-38" strike="noStrike" baseline="30000">
                <a:solidFill>
                  <a:srgbClr val="000000"/>
                </a:solidFill>
                <a:latin typeface="Calibri"/>
              </a:rPr>
              <a:t>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9440" indent="645840">
              <a:lnSpc>
                <a:spcPct val="100000"/>
              </a:lnSpc>
              <a:spcBef>
                <a:spcPts val="26"/>
              </a:spcBef>
              <a:tabLst>
                <a:tab algn="l" pos="0"/>
              </a:tabLst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object 107"/>
          <p:cNvGrpSpPr/>
          <p:nvPr/>
        </p:nvGrpSpPr>
        <p:grpSpPr>
          <a:xfrm>
            <a:off x="6435720" y="4378680"/>
            <a:ext cx="2212920" cy="1989360"/>
            <a:chOff x="6435720" y="4378680"/>
            <a:chExt cx="2212920" cy="1989360"/>
          </a:xfrm>
        </p:grpSpPr>
        <p:sp>
          <p:nvSpPr>
            <p:cNvPr id="1554" name="object 108"/>
            <p:cNvSpPr/>
            <p:nvPr/>
          </p:nvSpPr>
          <p:spPr>
            <a:xfrm>
              <a:off x="7654680" y="4378680"/>
              <a:ext cx="993960" cy="19713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994409" h="1971675">
                  <a:moveTo>
                    <a:pt x="0" y="0"/>
                  </a:moveTo>
                  <a:lnTo>
                    <a:pt x="0" y="994410"/>
                  </a:lnTo>
                  <a:lnTo>
                    <a:pt x="186308" y="1971192"/>
                  </a:lnTo>
                  <a:lnTo>
                    <a:pt x="234355" y="1960806"/>
                  </a:lnTo>
                  <a:lnTo>
                    <a:pt x="281423" y="1948195"/>
                  </a:lnTo>
                  <a:lnTo>
                    <a:pt x="327461" y="1933422"/>
                  </a:lnTo>
                  <a:lnTo>
                    <a:pt x="372418" y="1916548"/>
                  </a:lnTo>
                  <a:lnTo>
                    <a:pt x="416242" y="1897637"/>
                  </a:lnTo>
                  <a:lnTo>
                    <a:pt x="458882" y="1876750"/>
                  </a:lnTo>
                  <a:lnTo>
                    <a:pt x="500286" y="1853951"/>
                  </a:lnTo>
                  <a:lnTo>
                    <a:pt x="540404" y="1829300"/>
                  </a:lnTo>
                  <a:lnTo>
                    <a:pt x="579182" y="1802861"/>
                  </a:lnTo>
                  <a:lnTo>
                    <a:pt x="616571" y="1774695"/>
                  </a:lnTo>
                  <a:lnTo>
                    <a:pt x="652518" y="1744865"/>
                  </a:lnTo>
                  <a:lnTo>
                    <a:pt x="686972" y="1713434"/>
                  </a:lnTo>
                  <a:lnTo>
                    <a:pt x="719882" y="1680463"/>
                  </a:lnTo>
                  <a:lnTo>
                    <a:pt x="751196" y="1646015"/>
                  </a:lnTo>
                  <a:lnTo>
                    <a:pt x="780862" y="1610153"/>
                  </a:lnTo>
                  <a:lnTo>
                    <a:pt x="808830" y="1572938"/>
                  </a:lnTo>
                  <a:lnTo>
                    <a:pt x="835048" y="1534432"/>
                  </a:lnTo>
                  <a:lnTo>
                    <a:pt x="859464" y="1494699"/>
                  </a:lnTo>
                  <a:lnTo>
                    <a:pt x="882026" y="1453800"/>
                  </a:lnTo>
                  <a:lnTo>
                    <a:pt x="902684" y="1411798"/>
                  </a:lnTo>
                  <a:lnTo>
                    <a:pt x="921386" y="1368755"/>
                  </a:lnTo>
                  <a:lnTo>
                    <a:pt x="938081" y="1324733"/>
                  </a:lnTo>
                  <a:lnTo>
                    <a:pt x="952717" y="1279795"/>
                  </a:lnTo>
                  <a:lnTo>
                    <a:pt x="965242" y="1234002"/>
                  </a:lnTo>
                  <a:lnTo>
                    <a:pt x="975605" y="1187418"/>
                  </a:lnTo>
                  <a:lnTo>
                    <a:pt x="983755" y="1140105"/>
                  </a:lnTo>
                  <a:lnTo>
                    <a:pt x="989640" y="1092124"/>
                  </a:lnTo>
                  <a:lnTo>
                    <a:pt x="993208" y="1043538"/>
                  </a:lnTo>
                  <a:lnTo>
                    <a:pt x="994409" y="994410"/>
                  </a:lnTo>
                  <a:lnTo>
                    <a:pt x="993263" y="946223"/>
                  </a:lnTo>
                  <a:lnTo>
                    <a:pt x="989858" y="898629"/>
                  </a:lnTo>
                  <a:lnTo>
                    <a:pt x="984247" y="851680"/>
                  </a:lnTo>
                  <a:lnTo>
                    <a:pt x="976482" y="805427"/>
                  </a:lnTo>
                  <a:lnTo>
                    <a:pt x="966614" y="759923"/>
                  </a:lnTo>
                  <a:lnTo>
                    <a:pt x="954696" y="715220"/>
                  </a:lnTo>
                  <a:lnTo>
                    <a:pt x="940781" y="671370"/>
                  </a:lnTo>
                  <a:lnTo>
                    <a:pt x="924919" y="628425"/>
                  </a:lnTo>
                  <a:lnTo>
                    <a:pt x="907163" y="586436"/>
                  </a:lnTo>
                  <a:lnTo>
                    <a:pt x="887566" y="545457"/>
                  </a:lnTo>
                  <a:lnTo>
                    <a:pt x="866178" y="505539"/>
                  </a:lnTo>
                  <a:lnTo>
                    <a:pt x="843053" y="466733"/>
                  </a:lnTo>
                  <a:lnTo>
                    <a:pt x="818242" y="429093"/>
                  </a:lnTo>
                  <a:lnTo>
                    <a:pt x="791798" y="392671"/>
                  </a:lnTo>
                  <a:lnTo>
                    <a:pt x="763772" y="357517"/>
                  </a:lnTo>
                  <a:lnTo>
                    <a:pt x="734216" y="323685"/>
                  </a:lnTo>
                  <a:lnTo>
                    <a:pt x="703183" y="291226"/>
                  </a:lnTo>
                  <a:lnTo>
                    <a:pt x="670724" y="260193"/>
                  </a:lnTo>
                  <a:lnTo>
                    <a:pt x="636892" y="230637"/>
                  </a:lnTo>
                  <a:lnTo>
                    <a:pt x="601738" y="202611"/>
                  </a:lnTo>
                  <a:lnTo>
                    <a:pt x="565316" y="176167"/>
                  </a:lnTo>
                  <a:lnTo>
                    <a:pt x="527676" y="151356"/>
                  </a:lnTo>
                  <a:lnTo>
                    <a:pt x="488870" y="128231"/>
                  </a:lnTo>
                  <a:lnTo>
                    <a:pt x="448952" y="106843"/>
                  </a:lnTo>
                  <a:lnTo>
                    <a:pt x="407973" y="87246"/>
                  </a:lnTo>
                  <a:lnTo>
                    <a:pt x="365984" y="69490"/>
                  </a:lnTo>
                  <a:lnTo>
                    <a:pt x="323039" y="53628"/>
                  </a:lnTo>
                  <a:lnTo>
                    <a:pt x="279189" y="39713"/>
                  </a:lnTo>
                  <a:lnTo>
                    <a:pt x="234486" y="27795"/>
                  </a:lnTo>
                  <a:lnTo>
                    <a:pt x="188982" y="17927"/>
                  </a:lnTo>
                  <a:lnTo>
                    <a:pt x="142729" y="10162"/>
                  </a:lnTo>
                  <a:lnTo>
                    <a:pt x="95780" y="4551"/>
                  </a:lnTo>
                  <a:lnTo>
                    <a:pt x="48186" y="1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object 109"/>
            <p:cNvSpPr/>
            <p:nvPr/>
          </p:nvSpPr>
          <p:spPr>
            <a:xfrm>
              <a:off x="6755040" y="5373360"/>
              <a:ext cx="1086120" cy="99468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994680"/>
                <a:gd name="textAreaBottom" fmla="*/ 995040 h 994680"/>
              </a:gdLst>
              <a:ahLst/>
              <a:rect l="textAreaLeft" t="textAreaTop" r="textAreaRight" b="textAreaBottom"/>
              <a:pathLst>
                <a:path w="1086484" h="995045">
                  <a:moveTo>
                    <a:pt x="899795" y="0"/>
                  </a:moveTo>
                  <a:lnTo>
                    <a:pt x="0" y="423379"/>
                  </a:lnTo>
                  <a:lnTo>
                    <a:pt x="21668" y="466683"/>
                  </a:lnTo>
                  <a:lnTo>
                    <a:pt x="45209" y="508550"/>
                  </a:lnTo>
                  <a:lnTo>
                    <a:pt x="70551" y="548945"/>
                  </a:lnTo>
                  <a:lnTo>
                    <a:pt x="97625" y="587833"/>
                  </a:lnTo>
                  <a:lnTo>
                    <a:pt x="126362" y="625178"/>
                  </a:lnTo>
                  <a:lnTo>
                    <a:pt x="156692" y="660945"/>
                  </a:lnTo>
                  <a:lnTo>
                    <a:pt x="188545" y="695098"/>
                  </a:lnTo>
                  <a:lnTo>
                    <a:pt x="221852" y="727603"/>
                  </a:lnTo>
                  <a:lnTo>
                    <a:pt x="256543" y="758423"/>
                  </a:lnTo>
                  <a:lnTo>
                    <a:pt x="292549" y="787523"/>
                  </a:lnTo>
                  <a:lnTo>
                    <a:pt x="329799" y="814867"/>
                  </a:lnTo>
                  <a:lnTo>
                    <a:pt x="368225" y="840421"/>
                  </a:lnTo>
                  <a:lnTo>
                    <a:pt x="407757" y="864148"/>
                  </a:lnTo>
                  <a:lnTo>
                    <a:pt x="448325" y="886013"/>
                  </a:lnTo>
                  <a:lnTo>
                    <a:pt x="489860" y="905982"/>
                  </a:lnTo>
                  <a:lnTo>
                    <a:pt x="532292" y="924017"/>
                  </a:lnTo>
                  <a:lnTo>
                    <a:pt x="575551" y="940084"/>
                  </a:lnTo>
                  <a:lnTo>
                    <a:pt x="619568" y="954148"/>
                  </a:lnTo>
                  <a:lnTo>
                    <a:pt x="664273" y="966172"/>
                  </a:lnTo>
                  <a:lnTo>
                    <a:pt x="709596" y="976122"/>
                  </a:lnTo>
                  <a:lnTo>
                    <a:pt x="755469" y="983962"/>
                  </a:lnTo>
                  <a:lnTo>
                    <a:pt x="801821" y="989656"/>
                  </a:lnTo>
                  <a:lnTo>
                    <a:pt x="848583" y="993170"/>
                  </a:lnTo>
                  <a:lnTo>
                    <a:pt x="895685" y="994467"/>
                  </a:lnTo>
                  <a:lnTo>
                    <a:pt x="943058" y="993512"/>
                  </a:lnTo>
                  <a:lnTo>
                    <a:pt x="990631" y="990270"/>
                  </a:lnTo>
                  <a:lnTo>
                    <a:pt x="1038337" y="984705"/>
                  </a:lnTo>
                  <a:lnTo>
                    <a:pt x="1086103" y="976782"/>
                  </a:lnTo>
                  <a:lnTo>
                    <a:pt x="899795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object 110"/>
            <p:cNvSpPr/>
            <p:nvPr/>
          </p:nvSpPr>
          <p:spPr>
            <a:xfrm>
              <a:off x="6660360" y="5186880"/>
              <a:ext cx="993960" cy="6098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94409" h="610235">
                  <a:moveTo>
                    <a:pt x="17623" y="0"/>
                  </a:moveTo>
                  <a:lnTo>
                    <a:pt x="9713" y="47709"/>
                  </a:lnTo>
                  <a:lnTo>
                    <a:pt x="4146" y="95589"/>
                  </a:lnTo>
                  <a:lnTo>
                    <a:pt x="911" y="143557"/>
                  </a:lnTo>
                  <a:lnTo>
                    <a:pt x="0" y="191529"/>
                  </a:lnTo>
                  <a:lnTo>
                    <a:pt x="1400" y="239422"/>
                  </a:lnTo>
                  <a:lnTo>
                    <a:pt x="5101" y="287153"/>
                  </a:lnTo>
                  <a:lnTo>
                    <a:pt x="11094" y="334636"/>
                  </a:lnTo>
                  <a:lnTo>
                    <a:pt x="19368" y="381790"/>
                  </a:lnTo>
                  <a:lnTo>
                    <a:pt x="29912" y="428531"/>
                  </a:lnTo>
                  <a:lnTo>
                    <a:pt x="42717" y="474774"/>
                  </a:lnTo>
                  <a:lnTo>
                    <a:pt x="57770" y="520437"/>
                  </a:lnTo>
                  <a:lnTo>
                    <a:pt x="75063" y="565437"/>
                  </a:lnTo>
                  <a:lnTo>
                    <a:pt x="94585" y="609688"/>
                  </a:lnTo>
                  <a:lnTo>
                    <a:pt x="994380" y="186309"/>
                  </a:lnTo>
                  <a:lnTo>
                    <a:pt x="176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bject 111"/>
            <p:cNvSpPr/>
            <p:nvPr/>
          </p:nvSpPr>
          <p:spPr>
            <a:xfrm>
              <a:off x="6678000" y="4788720"/>
              <a:ext cx="977040" cy="58464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977265" h="584835">
                  <a:moveTo>
                    <a:pt x="172338" y="0"/>
                  </a:moveTo>
                  <a:lnTo>
                    <a:pt x="144653" y="40128"/>
                  </a:lnTo>
                  <a:lnTo>
                    <a:pt x="119024" y="81468"/>
                  </a:lnTo>
                  <a:lnTo>
                    <a:pt x="95485" y="123942"/>
                  </a:lnTo>
                  <a:lnTo>
                    <a:pt x="74068" y="167473"/>
                  </a:lnTo>
                  <a:lnTo>
                    <a:pt x="54808" y="211983"/>
                  </a:lnTo>
                  <a:lnTo>
                    <a:pt x="37737" y="257396"/>
                  </a:lnTo>
                  <a:lnTo>
                    <a:pt x="22890" y="303633"/>
                  </a:lnTo>
                  <a:lnTo>
                    <a:pt x="10300" y="350617"/>
                  </a:lnTo>
                  <a:lnTo>
                    <a:pt x="0" y="398271"/>
                  </a:lnTo>
                  <a:lnTo>
                    <a:pt x="976756" y="584581"/>
                  </a:lnTo>
                  <a:lnTo>
                    <a:pt x="17233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object 112"/>
            <p:cNvSpPr/>
            <p:nvPr/>
          </p:nvSpPr>
          <p:spPr>
            <a:xfrm>
              <a:off x="6678000" y="4788720"/>
              <a:ext cx="977040" cy="58464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977265" h="584835">
                  <a:moveTo>
                    <a:pt x="0" y="398271"/>
                  </a:moveTo>
                  <a:lnTo>
                    <a:pt x="10300" y="350617"/>
                  </a:lnTo>
                  <a:lnTo>
                    <a:pt x="22890" y="303633"/>
                  </a:lnTo>
                  <a:lnTo>
                    <a:pt x="37737" y="257396"/>
                  </a:lnTo>
                  <a:lnTo>
                    <a:pt x="54808" y="211983"/>
                  </a:lnTo>
                  <a:lnTo>
                    <a:pt x="74068" y="167473"/>
                  </a:lnTo>
                  <a:lnTo>
                    <a:pt x="95485" y="123942"/>
                  </a:lnTo>
                  <a:lnTo>
                    <a:pt x="119024" y="81468"/>
                  </a:lnTo>
                  <a:lnTo>
                    <a:pt x="144653" y="40128"/>
                  </a:lnTo>
                  <a:lnTo>
                    <a:pt x="172338" y="0"/>
                  </a:lnTo>
                  <a:lnTo>
                    <a:pt x="976756" y="584581"/>
                  </a:lnTo>
                  <a:lnTo>
                    <a:pt x="0" y="398271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object 113"/>
            <p:cNvSpPr/>
            <p:nvPr/>
          </p:nvSpPr>
          <p:spPr>
            <a:xfrm>
              <a:off x="6850080" y="4606920"/>
              <a:ext cx="804240" cy="766080"/>
            </a:xfrm>
            <a:custGeom>
              <a:avLst/>
              <a:gdLst>
                <a:gd name="textAreaLeft" fmla="*/ 0 w 804240"/>
                <a:gd name="textAreaRight" fmla="*/ 804600 w 8042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804545" h="766445">
                  <a:moveTo>
                    <a:pt x="170561" y="0"/>
                  </a:moveTo>
                  <a:lnTo>
                    <a:pt x="132852" y="32798"/>
                  </a:lnTo>
                  <a:lnTo>
                    <a:pt x="96880" y="67438"/>
                  </a:lnTo>
                  <a:lnTo>
                    <a:pt x="62707" y="103839"/>
                  </a:lnTo>
                  <a:lnTo>
                    <a:pt x="30393" y="141923"/>
                  </a:lnTo>
                  <a:lnTo>
                    <a:pt x="0" y="181610"/>
                  </a:lnTo>
                  <a:lnTo>
                    <a:pt x="804418" y="766191"/>
                  </a:lnTo>
                  <a:lnTo>
                    <a:pt x="170561" y="0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object 114"/>
            <p:cNvSpPr/>
            <p:nvPr/>
          </p:nvSpPr>
          <p:spPr>
            <a:xfrm>
              <a:off x="7020720" y="4501800"/>
              <a:ext cx="633960" cy="8715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634365" h="871854">
                  <a:moveTo>
                    <a:pt x="154812" y="0"/>
                  </a:moveTo>
                  <a:lnTo>
                    <a:pt x="114317" y="23540"/>
                  </a:lnTo>
                  <a:lnTo>
                    <a:pt x="74977" y="48974"/>
                  </a:lnTo>
                  <a:lnTo>
                    <a:pt x="36851" y="76241"/>
                  </a:lnTo>
                  <a:lnTo>
                    <a:pt x="0" y="105282"/>
                  </a:lnTo>
                  <a:lnTo>
                    <a:pt x="633856" y="871473"/>
                  </a:lnTo>
                  <a:lnTo>
                    <a:pt x="15481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object 115"/>
            <p:cNvSpPr/>
            <p:nvPr/>
          </p:nvSpPr>
          <p:spPr>
            <a:xfrm>
              <a:off x="7175520" y="4448520"/>
              <a:ext cx="479160" cy="9241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479425" h="924560">
                  <a:moveTo>
                    <a:pt x="113029" y="0"/>
                  </a:moveTo>
                  <a:lnTo>
                    <a:pt x="84171" y="11902"/>
                  </a:lnTo>
                  <a:lnTo>
                    <a:pt x="55705" y="24733"/>
                  </a:lnTo>
                  <a:lnTo>
                    <a:pt x="27644" y="38469"/>
                  </a:lnTo>
                  <a:lnTo>
                    <a:pt x="0" y="53086"/>
                  </a:lnTo>
                  <a:lnTo>
                    <a:pt x="479044" y="924560"/>
                  </a:lnTo>
                  <a:lnTo>
                    <a:pt x="113029" y="0"/>
                  </a:lnTo>
                  <a:close/>
                </a:path>
              </a:pathLst>
            </a:custGeom>
            <a:solidFill>
              <a:srgbClr val="d1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object 116"/>
            <p:cNvSpPr/>
            <p:nvPr/>
          </p:nvSpPr>
          <p:spPr>
            <a:xfrm>
              <a:off x="7288560" y="4427640"/>
              <a:ext cx="366120" cy="9457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945720"/>
                <a:gd name="textAreaBottom" fmla="*/ 946080 h 945720"/>
              </a:gdLst>
              <a:ahLst/>
              <a:rect l="textAreaLeft" t="textAreaTop" r="textAreaRight" b="textAreaBottom"/>
              <a:pathLst>
                <a:path w="366395" h="946150">
                  <a:moveTo>
                    <a:pt x="58800" y="0"/>
                  </a:moveTo>
                  <a:lnTo>
                    <a:pt x="29210" y="10128"/>
                  </a:lnTo>
                  <a:lnTo>
                    <a:pt x="14545" y="15537"/>
                  </a:lnTo>
                  <a:lnTo>
                    <a:pt x="0" y="21208"/>
                  </a:lnTo>
                  <a:lnTo>
                    <a:pt x="366014" y="945769"/>
                  </a:lnTo>
                  <a:lnTo>
                    <a:pt x="588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object 117"/>
            <p:cNvSpPr/>
            <p:nvPr/>
          </p:nvSpPr>
          <p:spPr>
            <a:xfrm>
              <a:off x="7347600" y="4378680"/>
              <a:ext cx="307080" cy="9939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307340" h="994410">
                  <a:moveTo>
                    <a:pt x="307213" y="0"/>
                  </a:moveTo>
                  <a:lnTo>
                    <a:pt x="255140" y="1362"/>
                  </a:lnTo>
                  <a:lnTo>
                    <a:pt x="203265" y="5442"/>
                  </a:lnTo>
                  <a:lnTo>
                    <a:pt x="151701" y="12223"/>
                  </a:lnTo>
                  <a:lnTo>
                    <a:pt x="100560" y="21693"/>
                  </a:lnTo>
                  <a:lnTo>
                    <a:pt x="49955" y="33837"/>
                  </a:lnTo>
                  <a:lnTo>
                    <a:pt x="0" y="48641"/>
                  </a:lnTo>
                  <a:lnTo>
                    <a:pt x="307213" y="994410"/>
                  </a:lnTo>
                  <a:lnTo>
                    <a:pt x="307213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object 118"/>
            <p:cNvSpPr/>
            <p:nvPr/>
          </p:nvSpPr>
          <p:spPr>
            <a:xfrm>
              <a:off x="6435720" y="4401360"/>
              <a:ext cx="722160" cy="29124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22629" h="291464">
                  <a:moveTo>
                    <a:pt x="493775" y="291083"/>
                  </a:moveTo>
                  <a:lnTo>
                    <a:pt x="56387" y="134112"/>
                  </a:lnTo>
                  <a:lnTo>
                    <a:pt x="0" y="134112"/>
                  </a:lnTo>
                </a:path>
                <a:path w="722629" h="291464">
                  <a:moveTo>
                    <a:pt x="659892" y="149351"/>
                  </a:moveTo>
                  <a:lnTo>
                    <a:pt x="722376" y="0"/>
                  </a:lnTo>
                </a:path>
              </a:pathLst>
            </a:custGeom>
            <a:noFill/>
            <a:ln w="9144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object 119"/>
          <p:cNvSpPr/>
          <p:nvPr/>
        </p:nvSpPr>
        <p:spPr>
          <a:xfrm>
            <a:off x="7904880" y="5183640"/>
            <a:ext cx="6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Шланги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оли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bject 120"/>
          <p:cNvSpPr/>
          <p:nvPr/>
        </p:nvSpPr>
        <p:spPr>
          <a:xfrm>
            <a:off x="6981480" y="5736240"/>
            <a:ext cx="6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анализаци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bject 121"/>
          <p:cNvSpPr/>
          <p:nvPr/>
        </p:nvSpPr>
        <p:spPr>
          <a:xfrm>
            <a:off x="5962320" y="5335920"/>
            <a:ext cx="6847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ентиля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bject 122"/>
          <p:cNvSpPr/>
          <p:nvPr/>
        </p:nvSpPr>
        <p:spPr>
          <a:xfrm>
            <a:off x="6057000" y="4764240"/>
            <a:ext cx="6512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92240" indent="-18036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одоснабж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ение</a:t>
            </a:r>
            <a:r>
              <a:rPr b="1" lang="en-US" sz="1000" spc="39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bject 123"/>
          <p:cNvSpPr/>
          <p:nvPr/>
        </p:nvSpPr>
        <p:spPr>
          <a:xfrm>
            <a:off x="5819040" y="4402440"/>
            <a:ext cx="610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одосто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bject 124"/>
          <p:cNvSpPr/>
          <p:nvPr/>
        </p:nvSpPr>
        <p:spPr>
          <a:xfrm>
            <a:off x="6590880" y="4106880"/>
            <a:ext cx="533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ельск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bject 125"/>
          <p:cNvSpPr/>
          <p:nvPr/>
        </p:nvSpPr>
        <p:spPr>
          <a:xfrm>
            <a:off x="6572880" y="4262400"/>
            <a:ext cx="5706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bject 126"/>
          <p:cNvSpPr/>
          <p:nvPr/>
        </p:nvSpPr>
        <p:spPr>
          <a:xfrm>
            <a:off x="7952040" y="4078440"/>
            <a:ext cx="6274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оп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bject 127"/>
          <p:cNvSpPr/>
          <p:nvPr/>
        </p:nvSpPr>
        <p:spPr>
          <a:xfrm>
            <a:off x="7246800" y="4106880"/>
            <a:ext cx="4312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bject 128"/>
          <p:cNvSpPr/>
          <p:nvPr/>
        </p:nvSpPr>
        <p:spPr>
          <a:xfrm>
            <a:off x="774720" y="3643560"/>
            <a:ext cx="2094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50640" indent="-33840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я ПЭ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bject 129"/>
          <p:cNvSpPr/>
          <p:nvPr/>
        </p:nvSpPr>
        <p:spPr>
          <a:xfrm>
            <a:off x="981000" y="3277800"/>
            <a:ext cx="444672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233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242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233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"/>
              </a:spcBef>
            </a:pP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marL="2882160" indent="-135720">
              <a:lnSpc>
                <a:spcPct val="100000"/>
              </a:lnSpc>
              <a:spcBef>
                <a:spcPts val="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импорта ПП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bject 130"/>
          <p:cNvSpPr/>
          <p:nvPr/>
        </p:nvSpPr>
        <p:spPr>
          <a:xfrm>
            <a:off x="6790320" y="3640680"/>
            <a:ext cx="1712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58320" indent="-4572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импорта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ПВХ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6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object 131" descr=""/>
          <p:cNvPicPr/>
          <p:nvPr/>
        </p:nvPicPr>
        <p:blipFill>
          <a:blip r:embed="rId1"/>
          <a:stretch/>
        </p:blipFill>
        <p:spPr>
          <a:xfrm>
            <a:off x="4356360" y="1413360"/>
            <a:ext cx="1584720" cy="647280"/>
          </a:xfrm>
          <a:prstGeom prst="rect">
            <a:avLst/>
          </a:prstGeom>
          <a:ln w="0">
            <a:noFill/>
          </a:ln>
        </p:spPr>
      </p:pic>
      <p:sp>
        <p:nvSpPr>
          <p:cNvPr id="1578" name="object 132"/>
          <p:cNvSpPr/>
          <p:nvPr/>
        </p:nvSpPr>
        <p:spPr>
          <a:xfrm>
            <a:off x="4356360" y="1413360"/>
            <a:ext cx="1584720" cy="56520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3360" bIns="0" anchor="t">
            <a:spAutoFit/>
          </a:bodyPr>
          <a:p>
            <a:pPr marL="91440" algn="just">
              <a:lnSpc>
                <a:spcPct val="100000"/>
              </a:lnSpc>
              <a:spcBef>
                <a:spcPts val="499"/>
              </a:spcBef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en-US" sz="11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0" lang="en-US" sz="11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в 2016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52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импортировалось</a:t>
            </a:r>
            <a:r>
              <a:rPr b="0" lang="en-US" sz="11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Китая</a:t>
            </a:r>
            <a:r>
              <a:rPr b="0" lang="en-US" sz="1100" spc="-12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64600" y="153360"/>
            <a:ext cx="60717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лимерные</a:t>
            </a:r>
            <a:r>
              <a:rPr b="0" lang="en-US" sz="2400" spc="-32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32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металлические</a:t>
            </a:r>
            <a:r>
              <a:rPr b="0" lang="en-US" sz="2400" spc="-32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труб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ldNum" idx="18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5990A6D3-171D-4030-AB5E-E1D3C8B5082F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object 3"/>
          <p:cNvGrpSpPr/>
          <p:nvPr/>
        </p:nvGrpSpPr>
        <p:grpSpPr>
          <a:xfrm>
            <a:off x="1056240" y="1624680"/>
            <a:ext cx="2932200" cy="1597320"/>
            <a:chOff x="1056240" y="1624680"/>
            <a:chExt cx="2932200" cy="1597320"/>
          </a:xfrm>
        </p:grpSpPr>
        <p:sp>
          <p:nvSpPr>
            <p:cNvPr id="1582" name="object 4"/>
            <p:cNvSpPr/>
            <p:nvPr/>
          </p:nvSpPr>
          <p:spPr>
            <a:xfrm>
              <a:off x="1095840" y="2247840"/>
              <a:ext cx="1252440" cy="62208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1252855" h="622300">
                  <a:moveTo>
                    <a:pt x="0" y="621791"/>
                  </a:moveTo>
                  <a:lnTo>
                    <a:pt x="289559" y="621791"/>
                  </a:lnTo>
                </a:path>
                <a:path w="1252855" h="622300">
                  <a:moveTo>
                    <a:pt x="675132" y="621791"/>
                  </a:moveTo>
                  <a:lnTo>
                    <a:pt x="1252727" y="621791"/>
                  </a:lnTo>
                </a:path>
                <a:path w="1252855" h="622300">
                  <a:moveTo>
                    <a:pt x="0" y="310896"/>
                  </a:moveTo>
                  <a:lnTo>
                    <a:pt x="289559" y="310896"/>
                  </a:lnTo>
                </a:path>
                <a:path w="1252855" h="622300">
                  <a:moveTo>
                    <a:pt x="675132" y="310896"/>
                  </a:moveTo>
                  <a:lnTo>
                    <a:pt x="1252727" y="310896"/>
                  </a:lnTo>
                </a:path>
                <a:path w="1252855" h="622300">
                  <a:moveTo>
                    <a:pt x="0" y="0"/>
                  </a:moveTo>
                  <a:lnTo>
                    <a:pt x="289559" y="0"/>
                  </a:lnTo>
                </a:path>
                <a:path w="1252855" h="622300">
                  <a:moveTo>
                    <a:pt x="675132" y="0"/>
                  </a:moveTo>
                  <a:lnTo>
                    <a:pt x="125272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object 5"/>
            <p:cNvSpPr/>
            <p:nvPr/>
          </p:nvSpPr>
          <p:spPr>
            <a:xfrm>
              <a:off x="1385280" y="2185560"/>
              <a:ext cx="385560" cy="9964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386080" h="996950">
                  <a:moveTo>
                    <a:pt x="385572" y="0"/>
                  </a:moveTo>
                  <a:lnTo>
                    <a:pt x="0" y="0"/>
                  </a:lnTo>
                  <a:lnTo>
                    <a:pt x="0" y="996696"/>
                  </a:lnTo>
                  <a:lnTo>
                    <a:pt x="385572" y="996696"/>
                  </a:lnTo>
                  <a:lnTo>
                    <a:pt x="38557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object 6"/>
            <p:cNvSpPr/>
            <p:nvPr/>
          </p:nvSpPr>
          <p:spPr>
            <a:xfrm>
              <a:off x="2735640" y="2247840"/>
              <a:ext cx="577440" cy="62208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77850" h="622300">
                  <a:moveTo>
                    <a:pt x="0" y="621791"/>
                  </a:moveTo>
                  <a:lnTo>
                    <a:pt x="577595" y="621791"/>
                  </a:lnTo>
                </a:path>
                <a:path w="577850" h="622300">
                  <a:moveTo>
                    <a:pt x="0" y="310896"/>
                  </a:moveTo>
                  <a:lnTo>
                    <a:pt x="577595" y="310896"/>
                  </a:lnTo>
                </a:path>
                <a:path w="577850" h="622300">
                  <a:moveTo>
                    <a:pt x="0" y="0"/>
                  </a:moveTo>
                  <a:lnTo>
                    <a:pt x="5775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object 7"/>
            <p:cNvSpPr/>
            <p:nvPr/>
          </p:nvSpPr>
          <p:spPr>
            <a:xfrm>
              <a:off x="2348640" y="2153520"/>
              <a:ext cx="387000" cy="102852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387350" h="1028700">
                  <a:moveTo>
                    <a:pt x="387096" y="0"/>
                  </a:moveTo>
                  <a:lnTo>
                    <a:pt x="0" y="0"/>
                  </a:lnTo>
                  <a:lnTo>
                    <a:pt x="0" y="1028700"/>
                  </a:lnTo>
                  <a:lnTo>
                    <a:pt x="387096" y="1028700"/>
                  </a:lnTo>
                  <a:lnTo>
                    <a:pt x="3870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bject 8"/>
            <p:cNvSpPr/>
            <p:nvPr/>
          </p:nvSpPr>
          <p:spPr>
            <a:xfrm>
              <a:off x="3698640" y="2247840"/>
              <a:ext cx="289080" cy="6220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89560" h="622300">
                  <a:moveTo>
                    <a:pt x="0" y="621791"/>
                  </a:moveTo>
                  <a:lnTo>
                    <a:pt x="289560" y="621791"/>
                  </a:lnTo>
                </a:path>
                <a:path w="289560" h="622300">
                  <a:moveTo>
                    <a:pt x="0" y="310896"/>
                  </a:moveTo>
                  <a:lnTo>
                    <a:pt x="289560" y="310896"/>
                  </a:lnTo>
                </a:path>
                <a:path w="289560" h="622300">
                  <a:moveTo>
                    <a:pt x="0" y="0"/>
                  </a:moveTo>
                  <a:lnTo>
                    <a:pt x="2895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bject 9"/>
            <p:cNvSpPr/>
            <p:nvPr/>
          </p:nvSpPr>
          <p:spPr>
            <a:xfrm>
              <a:off x="3313080" y="2170080"/>
              <a:ext cx="385560" cy="1011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386079" h="1012189">
                  <a:moveTo>
                    <a:pt x="385572" y="0"/>
                  </a:moveTo>
                  <a:lnTo>
                    <a:pt x="0" y="0"/>
                  </a:lnTo>
                  <a:lnTo>
                    <a:pt x="0" y="1011936"/>
                  </a:lnTo>
                  <a:lnTo>
                    <a:pt x="385572" y="1011936"/>
                  </a:lnTo>
                  <a:lnTo>
                    <a:pt x="38557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bject 10"/>
            <p:cNvSpPr/>
            <p:nvPr/>
          </p:nvSpPr>
          <p:spPr>
            <a:xfrm>
              <a:off x="1095840" y="1935360"/>
              <a:ext cx="1252440" cy="3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52855" h="0">
                  <a:moveTo>
                    <a:pt x="0" y="0"/>
                  </a:moveTo>
                  <a:lnTo>
                    <a:pt x="289559" y="0"/>
                  </a:lnTo>
                </a:path>
                <a:path w="1252855" h="0">
                  <a:moveTo>
                    <a:pt x="675132" y="0"/>
                  </a:moveTo>
                  <a:lnTo>
                    <a:pt x="125272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object 11"/>
            <p:cNvSpPr/>
            <p:nvPr/>
          </p:nvSpPr>
          <p:spPr>
            <a:xfrm>
              <a:off x="1385280" y="1827360"/>
              <a:ext cx="385560" cy="3578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386080" h="358139">
                  <a:moveTo>
                    <a:pt x="385572" y="0"/>
                  </a:moveTo>
                  <a:lnTo>
                    <a:pt x="0" y="0"/>
                  </a:lnTo>
                  <a:lnTo>
                    <a:pt x="0" y="358139"/>
                  </a:lnTo>
                  <a:lnTo>
                    <a:pt x="385572" y="358139"/>
                  </a:lnTo>
                  <a:lnTo>
                    <a:pt x="38557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object 12"/>
            <p:cNvSpPr/>
            <p:nvPr/>
          </p:nvSpPr>
          <p:spPr>
            <a:xfrm>
              <a:off x="2735640" y="1935360"/>
              <a:ext cx="577440" cy="3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77850" h="0">
                  <a:moveTo>
                    <a:pt x="0" y="0"/>
                  </a:moveTo>
                  <a:lnTo>
                    <a:pt x="5775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bject 13"/>
            <p:cNvSpPr/>
            <p:nvPr/>
          </p:nvSpPr>
          <p:spPr>
            <a:xfrm>
              <a:off x="2348640" y="1842480"/>
              <a:ext cx="387000" cy="31068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87350" h="311150">
                  <a:moveTo>
                    <a:pt x="387096" y="0"/>
                  </a:moveTo>
                  <a:lnTo>
                    <a:pt x="0" y="0"/>
                  </a:lnTo>
                  <a:lnTo>
                    <a:pt x="0" y="310896"/>
                  </a:lnTo>
                  <a:lnTo>
                    <a:pt x="387096" y="310896"/>
                  </a:lnTo>
                  <a:lnTo>
                    <a:pt x="38709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object 14"/>
            <p:cNvSpPr/>
            <p:nvPr/>
          </p:nvSpPr>
          <p:spPr>
            <a:xfrm>
              <a:off x="3698640" y="1935360"/>
              <a:ext cx="289080" cy="3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89560" h="0">
                  <a:moveTo>
                    <a:pt x="0" y="0"/>
                  </a:moveTo>
                  <a:lnTo>
                    <a:pt x="2895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object 15"/>
            <p:cNvSpPr/>
            <p:nvPr/>
          </p:nvSpPr>
          <p:spPr>
            <a:xfrm>
              <a:off x="3313080" y="1842480"/>
              <a:ext cx="385560" cy="3272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86079" h="327660">
                  <a:moveTo>
                    <a:pt x="385572" y="0"/>
                  </a:moveTo>
                  <a:lnTo>
                    <a:pt x="0" y="0"/>
                  </a:lnTo>
                  <a:lnTo>
                    <a:pt x="0" y="327660"/>
                  </a:lnTo>
                  <a:lnTo>
                    <a:pt x="385572" y="327660"/>
                  </a:lnTo>
                  <a:lnTo>
                    <a:pt x="38557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object 16"/>
            <p:cNvSpPr/>
            <p:nvPr/>
          </p:nvSpPr>
          <p:spPr>
            <a:xfrm>
              <a:off x="1385280" y="1702440"/>
              <a:ext cx="2313720" cy="140040"/>
            </a:xfrm>
            <a:custGeom>
              <a:avLst/>
              <a:gdLst>
                <a:gd name="textAreaLeft" fmla="*/ 0 w 2313720"/>
                <a:gd name="textAreaRight" fmla="*/ 2314080 w 23137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313940" h="140335">
                  <a:moveTo>
                    <a:pt x="385572" y="0"/>
                  </a:moveTo>
                  <a:lnTo>
                    <a:pt x="0" y="0"/>
                  </a:lnTo>
                  <a:lnTo>
                    <a:pt x="0" y="124968"/>
                  </a:lnTo>
                  <a:lnTo>
                    <a:pt x="385572" y="124968"/>
                  </a:lnTo>
                  <a:lnTo>
                    <a:pt x="385572" y="0"/>
                  </a:lnTo>
                  <a:close/>
                </a:path>
                <a:path w="2313940" h="140335">
                  <a:moveTo>
                    <a:pt x="1350264" y="0"/>
                  </a:moveTo>
                  <a:lnTo>
                    <a:pt x="963168" y="0"/>
                  </a:lnTo>
                  <a:lnTo>
                    <a:pt x="963168" y="140208"/>
                  </a:lnTo>
                  <a:lnTo>
                    <a:pt x="1350264" y="140208"/>
                  </a:lnTo>
                  <a:lnTo>
                    <a:pt x="1350264" y="0"/>
                  </a:lnTo>
                  <a:close/>
                </a:path>
                <a:path w="2313940" h="140335">
                  <a:moveTo>
                    <a:pt x="2313432" y="0"/>
                  </a:moveTo>
                  <a:lnTo>
                    <a:pt x="1927860" y="0"/>
                  </a:lnTo>
                  <a:lnTo>
                    <a:pt x="1927860" y="140208"/>
                  </a:lnTo>
                  <a:lnTo>
                    <a:pt x="2313432" y="140208"/>
                  </a:lnTo>
                  <a:lnTo>
                    <a:pt x="231343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object 17"/>
            <p:cNvSpPr/>
            <p:nvPr/>
          </p:nvSpPr>
          <p:spPr>
            <a:xfrm>
              <a:off x="1095840" y="1624680"/>
              <a:ext cx="2892600" cy="360"/>
            </a:xfrm>
            <a:custGeom>
              <a:avLst/>
              <a:gdLst>
                <a:gd name="textAreaLeft" fmla="*/ 0 w 2892600"/>
                <a:gd name="textAreaRight" fmla="*/ 2892960 w 2892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893060" h="0">
                  <a:moveTo>
                    <a:pt x="0" y="0"/>
                  </a:moveTo>
                  <a:lnTo>
                    <a:pt x="289255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object 18"/>
            <p:cNvSpPr/>
            <p:nvPr/>
          </p:nvSpPr>
          <p:spPr>
            <a:xfrm>
              <a:off x="1385280" y="1639800"/>
              <a:ext cx="2313720" cy="62640"/>
            </a:xfrm>
            <a:custGeom>
              <a:avLst/>
              <a:gdLst>
                <a:gd name="textAreaLeft" fmla="*/ 0 w 2313720"/>
                <a:gd name="textAreaRight" fmla="*/ 2314080 w 2313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313940" h="62864">
                  <a:moveTo>
                    <a:pt x="385572" y="0"/>
                  </a:moveTo>
                  <a:lnTo>
                    <a:pt x="0" y="0"/>
                  </a:lnTo>
                  <a:lnTo>
                    <a:pt x="0" y="62484"/>
                  </a:lnTo>
                  <a:lnTo>
                    <a:pt x="385572" y="62484"/>
                  </a:lnTo>
                  <a:lnTo>
                    <a:pt x="385572" y="0"/>
                  </a:lnTo>
                  <a:close/>
                </a:path>
                <a:path w="2313940" h="62864">
                  <a:moveTo>
                    <a:pt x="1350264" y="0"/>
                  </a:moveTo>
                  <a:lnTo>
                    <a:pt x="963168" y="0"/>
                  </a:lnTo>
                  <a:lnTo>
                    <a:pt x="963168" y="62484"/>
                  </a:lnTo>
                  <a:lnTo>
                    <a:pt x="1350264" y="62484"/>
                  </a:lnTo>
                  <a:lnTo>
                    <a:pt x="1350264" y="0"/>
                  </a:lnTo>
                  <a:close/>
                </a:path>
                <a:path w="2313940" h="62864">
                  <a:moveTo>
                    <a:pt x="2313432" y="0"/>
                  </a:moveTo>
                  <a:lnTo>
                    <a:pt x="1927860" y="0"/>
                  </a:lnTo>
                  <a:lnTo>
                    <a:pt x="1927860" y="62484"/>
                  </a:lnTo>
                  <a:lnTo>
                    <a:pt x="2313432" y="62484"/>
                  </a:lnTo>
                  <a:lnTo>
                    <a:pt x="231343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bject 19"/>
            <p:cNvSpPr/>
            <p:nvPr/>
          </p:nvSpPr>
          <p:spPr>
            <a:xfrm>
              <a:off x="1385280" y="1624680"/>
              <a:ext cx="2313720" cy="14760"/>
            </a:xfrm>
            <a:custGeom>
              <a:avLst/>
              <a:gdLst>
                <a:gd name="textAreaLeft" fmla="*/ 0 w 2313720"/>
                <a:gd name="textAreaRight" fmla="*/ 2314080 w 2313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313940" h="15239">
                  <a:moveTo>
                    <a:pt x="385572" y="0"/>
                  </a:moveTo>
                  <a:lnTo>
                    <a:pt x="0" y="0"/>
                  </a:lnTo>
                  <a:lnTo>
                    <a:pt x="0" y="15240"/>
                  </a:lnTo>
                  <a:lnTo>
                    <a:pt x="385572" y="15240"/>
                  </a:lnTo>
                  <a:lnTo>
                    <a:pt x="385572" y="0"/>
                  </a:lnTo>
                  <a:close/>
                </a:path>
                <a:path w="2313940" h="15239">
                  <a:moveTo>
                    <a:pt x="1350264" y="0"/>
                  </a:moveTo>
                  <a:lnTo>
                    <a:pt x="963168" y="0"/>
                  </a:lnTo>
                  <a:lnTo>
                    <a:pt x="963168" y="15240"/>
                  </a:lnTo>
                  <a:lnTo>
                    <a:pt x="1350264" y="15240"/>
                  </a:lnTo>
                  <a:lnTo>
                    <a:pt x="1350264" y="0"/>
                  </a:lnTo>
                  <a:close/>
                </a:path>
                <a:path w="2313940" h="15239">
                  <a:moveTo>
                    <a:pt x="2313432" y="0"/>
                  </a:moveTo>
                  <a:lnTo>
                    <a:pt x="1927860" y="0"/>
                  </a:lnTo>
                  <a:lnTo>
                    <a:pt x="1927860" y="15240"/>
                  </a:lnTo>
                  <a:lnTo>
                    <a:pt x="2313432" y="15240"/>
                  </a:lnTo>
                  <a:lnTo>
                    <a:pt x="2313432" y="0"/>
                  </a:lnTo>
                  <a:close/>
                </a:path>
              </a:pathLst>
            </a:custGeom>
            <a:solidFill>
              <a:srgbClr val="4aa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bject 20"/>
            <p:cNvSpPr/>
            <p:nvPr/>
          </p:nvSpPr>
          <p:spPr>
            <a:xfrm>
              <a:off x="1056240" y="1624680"/>
              <a:ext cx="2932200" cy="159732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1597320"/>
                <a:gd name="textAreaBottom" fmla="*/ 1597680 h 1597320"/>
              </a:gdLst>
              <a:ahLst/>
              <a:rect l="textAreaLeft" t="textAreaTop" r="textAreaRight" b="textAreaBottom"/>
              <a:pathLst>
                <a:path w="2932429" h="1597660">
                  <a:moveTo>
                    <a:pt x="39624" y="1557527"/>
                  </a:moveTo>
                  <a:lnTo>
                    <a:pt x="39624" y="0"/>
                  </a:lnTo>
                </a:path>
                <a:path w="2932429" h="1597660">
                  <a:moveTo>
                    <a:pt x="0" y="1557527"/>
                  </a:moveTo>
                  <a:lnTo>
                    <a:pt x="39624" y="1557527"/>
                  </a:lnTo>
                </a:path>
                <a:path w="2932429" h="1597660">
                  <a:moveTo>
                    <a:pt x="0" y="1245107"/>
                  </a:moveTo>
                  <a:lnTo>
                    <a:pt x="39624" y="1245107"/>
                  </a:lnTo>
                </a:path>
                <a:path w="2932429" h="1597660">
                  <a:moveTo>
                    <a:pt x="0" y="934212"/>
                  </a:moveTo>
                  <a:lnTo>
                    <a:pt x="39624" y="934212"/>
                  </a:lnTo>
                </a:path>
                <a:path w="2932429" h="1597660">
                  <a:moveTo>
                    <a:pt x="0" y="623315"/>
                  </a:moveTo>
                  <a:lnTo>
                    <a:pt x="39624" y="623315"/>
                  </a:lnTo>
                </a:path>
                <a:path w="2932429" h="1597660">
                  <a:moveTo>
                    <a:pt x="0" y="310895"/>
                  </a:moveTo>
                  <a:lnTo>
                    <a:pt x="39624" y="310895"/>
                  </a:lnTo>
                </a:path>
                <a:path w="2932429" h="1597660">
                  <a:moveTo>
                    <a:pt x="0" y="0"/>
                  </a:moveTo>
                  <a:lnTo>
                    <a:pt x="39624" y="0"/>
                  </a:lnTo>
                </a:path>
                <a:path w="2932429" h="1597660">
                  <a:moveTo>
                    <a:pt x="39624" y="1557527"/>
                  </a:moveTo>
                  <a:lnTo>
                    <a:pt x="2932176" y="1557527"/>
                  </a:lnTo>
                </a:path>
                <a:path w="2932429" h="1597660">
                  <a:moveTo>
                    <a:pt x="39624" y="1557527"/>
                  </a:moveTo>
                  <a:lnTo>
                    <a:pt x="39624" y="1597152"/>
                  </a:lnTo>
                </a:path>
                <a:path w="2932429" h="1597660">
                  <a:moveTo>
                    <a:pt x="1004316" y="1557527"/>
                  </a:moveTo>
                  <a:lnTo>
                    <a:pt x="1004316" y="1597152"/>
                  </a:lnTo>
                </a:path>
                <a:path w="2932429" h="1597660">
                  <a:moveTo>
                    <a:pt x="1967484" y="1557527"/>
                  </a:moveTo>
                  <a:lnTo>
                    <a:pt x="1967484" y="1597152"/>
                  </a:lnTo>
                </a:path>
                <a:path w="2932429" h="1597660">
                  <a:moveTo>
                    <a:pt x="2932176" y="1557527"/>
                  </a:moveTo>
                  <a:lnTo>
                    <a:pt x="2932176" y="1597152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object 21"/>
          <p:cNvSpPr/>
          <p:nvPr/>
        </p:nvSpPr>
        <p:spPr>
          <a:xfrm>
            <a:off x="1501920" y="25880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bject 22"/>
          <p:cNvSpPr/>
          <p:nvPr/>
        </p:nvSpPr>
        <p:spPr>
          <a:xfrm>
            <a:off x="2466360" y="25722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object 23"/>
          <p:cNvSpPr/>
          <p:nvPr/>
        </p:nvSpPr>
        <p:spPr>
          <a:xfrm>
            <a:off x="3430440" y="25797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object 24"/>
          <p:cNvSpPr/>
          <p:nvPr/>
        </p:nvSpPr>
        <p:spPr>
          <a:xfrm>
            <a:off x="1501920" y="19101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object 25"/>
          <p:cNvSpPr/>
          <p:nvPr/>
        </p:nvSpPr>
        <p:spPr>
          <a:xfrm>
            <a:off x="2466360" y="19018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object 26"/>
          <p:cNvSpPr/>
          <p:nvPr/>
        </p:nvSpPr>
        <p:spPr>
          <a:xfrm>
            <a:off x="3430440" y="19101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object 27"/>
          <p:cNvSpPr/>
          <p:nvPr/>
        </p:nvSpPr>
        <p:spPr>
          <a:xfrm>
            <a:off x="1533960" y="16689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object 28"/>
          <p:cNvSpPr/>
          <p:nvPr/>
        </p:nvSpPr>
        <p:spPr>
          <a:xfrm>
            <a:off x="2498040" y="16768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object 29"/>
          <p:cNvSpPr/>
          <p:nvPr/>
        </p:nvSpPr>
        <p:spPr>
          <a:xfrm>
            <a:off x="3462120" y="16768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object 30"/>
          <p:cNvSpPr/>
          <p:nvPr/>
        </p:nvSpPr>
        <p:spPr>
          <a:xfrm>
            <a:off x="1508400" y="1536120"/>
            <a:ext cx="14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565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500" spc="-89" strike="noStrike" baseline="-16000">
                <a:solidFill>
                  <a:srgbClr val="000000"/>
                </a:solidFill>
                <a:latin typeface="Calibri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object 31"/>
          <p:cNvSpPr/>
          <p:nvPr/>
        </p:nvSpPr>
        <p:spPr>
          <a:xfrm>
            <a:off x="2472840" y="1536120"/>
            <a:ext cx="14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565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500" spc="-89" strike="noStrike" baseline="-16000">
                <a:solidFill>
                  <a:srgbClr val="000000"/>
                </a:solidFill>
                <a:latin typeface="Calibri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object 32"/>
          <p:cNvSpPr/>
          <p:nvPr/>
        </p:nvSpPr>
        <p:spPr>
          <a:xfrm>
            <a:off x="3436920" y="1536120"/>
            <a:ext cx="14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565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500" spc="-89" strike="noStrike" baseline="-16000">
                <a:solidFill>
                  <a:srgbClr val="000000"/>
                </a:solidFill>
                <a:latin typeface="Calibri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bject 33"/>
          <p:cNvSpPr/>
          <p:nvPr/>
        </p:nvSpPr>
        <p:spPr>
          <a:xfrm>
            <a:off x="810360" y="307908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bject 34"/>
          <p:cNvSpPr/>
          <p:nvPr/>
        </p:nvSpPr>
        <p:spPr>
          <a:xfrm>
            <a:off x="745920" y="276768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bject 35"/>
          <p:cNvSpPr/>
          <p:nvPr/>
        </p:nvSpPr>
        <p:spPr>
          <a:xfrm>
            <a:off x="745920" y="245628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object 36"/>
          <p:cNvSpPr/>
          <p:nvPr/>
        </p:nvSpPr>
        <p:spPr>
          <a:xfrm>
            <a:off x="745920" y="2144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object 37"/>
          <p:cNvSpPr/>
          <p:nvPr/>
        </p:nvSpPr>
        <p:spPr>
          <a:xfrm>
            <a:off x="745920" y="18331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object 38"/>
          <p:cNvSpPr/>
          <p:nvPr/>
        </p:nvSpPr>
        <p:spPr>
          <a:xfrm>
            <a:off x="681480" y="1521720"/>
            <a:ext cx="309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object 39"/>
          <p:cNvSpPr/>
          <p:nvPr/>
        </p:nvSpPr>
        <p:spPr>
          <a:xfrm>
            <a:off x="1436760" y="32443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object 40"/>
          <p:cNvSpPr/>
          <p:nvPr/>
        </p:nvSpPr>
        <p:spPr>
          <a:xfrm>
            <a:off x="2401200" y="32443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object 41"/>
          <p:cNvSpPr/>
          <p:nvPr/>
        </p:nvSpPr>
        <p:spPr>
          <a:xfrm>
            <a:off x="3365280" y="32443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object 42"/>
          <p:cNvSpPr/>
          <p:nvPr/>
        </p:nvSpPr>
        <p:spPr>
          <a:xfrm>
            <a:off x="4191120" y="199800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4aa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object 43"/>
          <p:cNvSpPr/>
          <p:nvPr/>
        </p:nvSpPr>
        <p:spPr>
          <a:xfrm>
            <a:off x="4191120" y="22266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object 44"/>
          <p:cNvSpPr/>
          <p:nvPr/>
        </p:nvSpPr>
        <p:spPr>
          <a:xfrm>
            <a:off x="4191120" y="24566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object 45"/>
          <p:cNvSpPr/>
          <p:nvPr/>
        </p:nvSpPr>
        <p:spPr>
          <a:xfrm>
            <a:off x="4191120" y="26866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object 46"/>
          <p:cNvSpPr/>
          <p:nvPr/>
        </p:nvSpPr>
        <p:spPr>
          <a:xfrm>
            <a:off x="4191120" y="29152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bject 47"/>
          <p:cNvSpPr/>
          <p:nvPr/>
        </p:nvSpPr>
        <p:spPr>
          <a:xfrm>
            <a:off x="4278960" y="1851120"/>
            <a:ext cx="434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marL="12600">
              <a:lnSpc>
                <a:spcPct val="100000"/>
              </a:lnSpc>
              <a:spcBef>
                <a:spcPts val="7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ВХ ПП П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Метал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bject 48"/>
          <p:cNvSpPr/>
          <p:nvPr/>
        </p:nvSpPr>
        <p:spPr>
          <a:xfrm>
            <a:off x="762480" y="785880"/>
            <a:ext cx="3642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878040" indent="-86616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ных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металлических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труб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2014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object 49"/>
          <p:cNvGrpSpPr/>
          <p:nvPr/>
        </p:nvGrpSpPr>
        <p:grpSpPr>
          <a:xfrm>
            <a:off x="5221080" y="1568160"/>
            <a:ext cx="3350160" cy="1614960"/>
            <a:chOff x="5221080" y="1568160"/>
            <a:chExt cx="3350160" cy="1614960"/>
          </a:xfrm>
        </p:grpSpPr>
        <p:sp>
          <p:nvSpPr>
            <p:cNvPr id="1628" name="object 50"/>
            <p:cNvSpPr/>
            <p:nvPr/>
          </p:nvSpPr>
          <p:spPr>
            <a:xfrm>
              <a:off x="5260680" y="2094120"/>
              <a:ext cx="1076040" cy="78624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1076325" h="786764">
                  <a:moveTo>
                    <a:pt x="0" y="786384"/>
                  </a:moveTo>
                  <a:lnTo>
                    <a:pt x="248412" y="786384"/>
                  </a:lnTo>
                </a:path>
                <a:path w="1076325" h="786764">
                  <a:moveTo>
                    <a:pt x="579119" y="786384"/>
                  </a:moveTo>
                  <a:lnTo>
                    <a:pt x="1075943" y="786384"/>
                  </a:lnTo>
                </a:path>
                <a:path w="1076325" h="786764">
                  <a:moveTo>
                    <a:pt x="0" y="524256"/>
                  </a:moveTo>
                  <a:lnTo>
                    <a:pt x="248412" y="524256"/>
                  </a:lnTo>
                </a:path>
                <a:path w="1076325" h="786764">
                  <a:moveTo>
                    <a:pt x="579119" y="524256"/>
                  </a:moveTo>
                  <a:lnTo>
                    <a:pt x="1075943" y="524256"/>
                  </a:lnTo>
                </a:path>
                <a:path w="1076325" h="786764">
                  <a:moveTo>
                    <a:pt x="0" y="262127"/>
                  </a:moveTo>
                  <a:lnTo>
                    <a:pt x="248412" y="262127"/>
                  </a:lnTo>
                </a:path>
                <a:path w="1076325" h="786764">
                  <a:moveTo>
                    <a:pt x="579119" y="262127"/>
                  </a:moveTo>
                  <a:lnTo>
                    <a:pt x="1075943" y="262127"/>
                  </a:lnTo>
                </a:path>
                <a:path w="1076325" h="786764">
                  <a:moveTo>
                    <a:pt x="0" y="0"/>
                  </a:moveTo>
                  <a:lnTo>
                    <a:pt x="248412" y="0"/>
                  </a:lnTo>
                </a:path>
                <a:path w="1076325" h="786764">
                  <a:moveTo>
                    <a:pt x="579119" y="0"/>
                  </a:moveTo>
                  <a:lnTo>
                    <a:pt x="107594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object 51"/>
            <p:cNvSpPr/>
            <p:nvPr/>
          </p:nvSpPr>
          <p:spPr>
            <a:xfrm>
              <a:off x="5260680" y="1829520"/>
              <a:ext cx="3309840" cy="4680"/>
            </a:xfrm>
            <a:custGeom>
              <a:avLst/>
              <a:gdLst>
                <a:gd name="textAreaLeft" fmla="*/ 0 w 3309840"/>
                <a:gd name="textAreaRight" fmla="*/ 3310200 w 3309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10254" h="5080">
                  <a:moveTo>
                    <a:pt x="0" y="4572"/>
                  </a:moveTo>
                  <a:lnTo>
                    <a:pt x="3310128" y="4572"/>
                  </a:lnTo>
                </a:path>
                <a:path w="3310254" h="5080">
                  <a:moveTo>
                    <a:pt x="0" y="0"/>
                  </a:moveTo>
                  <a:lnTo>
                    <a:pt x="3310128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object 52"/>
            <p:cNvSpPr/>
            <p:nvPr/>
          </p:nvSpPr>
          <p:spPr>
            <a:xfrm>
              <a:off x="5509080" y="1831680"/>
              <a:ext cx="330480" cy="13104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310400"/>
                <a:gd name="textAreaBottom" fmla="*/ 1310760 h 1310400"/>
              </a:gdLst>
              <a:ahLst/>
              <a:rect l="textAreaLeft" t="textAreaTop" r="textAreaRight" b="textAreaBottom"/>
              <a:pathLst>
                <a:path w="330835" h="1310639">
                  <a:moveTo>
                    <a:pt x="330707" y="0"/>
                  </a:moveTo>
                  <a:lnTo>
                    <a:pt x="0" y="0"/>
                  </a:lnTo>
                  <a:lnTo>
                    <a:pt x="0" y="1310639"/>
                  </a:lnTo>
                  <a:lnTo>
                    <a:pt x="330707" y="1310639"/>
                  </a:lnTo>
                  <a:lnTo>
                    <a:pt x="330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bject 53"/>
            <p:cNvSpPr/>
            <p:nvPr/>
          </p:nvSpPr>
          <p:spPr>
            <a:xfrm>
              <a:off x="6667560" y="2356200"/>
              <a:ext cx="496800" cy="5241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497204" h="524510">
                  <a:moveTo>
                    <a:pt x="0" y="524256"/>
                  </a:moveTo>
                  <a:lnTo>
                    <a:pt x="496824" y="524256"/>
                  </a:lnTo>
                </a:path>
                <a:path w="497204" h="524510">
                  <a:moveTo>
                    <a:pt x="0" y="262128"/>
                  </a:moveTo>
                  <a:lnTo>
                    <a:pt x="496824" y="262128"/>
                  </a:lnTo>
                </a:path>
                <a:path w="497204" h="524510">
                  <a:moveTo>
                    <a:pt x="0" y="0"/>
                  </a:moveTo>
                  <a:lnTo>
                    <a:pt x="4968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bject 54"/>
            <p:cNvSpPr/>
            <p:nvPr/>
          </p:nvSpPr>
          <p:spPr>
            <a:xfrm>
              <a:off x="6667560" y="2091600"/>
              <a:ext cx="1903320" cy="4680"/>
            </a:xfrm>
            <a:custGeom>
              <a:avLst/>
              <a:gdLst>
                <a:gd name="textAreaLeft" fmla="*/ 0 w 1903320"/>
                <a:gd name="textAreaRight" fmla="*/ 1903680 w 1903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03729" h="5080">
                  <a:moveTo>
                    <a:pt x="0" y="4572"/>
                  </a:moveTo>
                  <a:lnTo>
                    <a:pt x="1903476" y="4572"/>
                  </a:lnTo>
                </a:path>
                <a:path w="1903729" h="5080">
                  <a:moveTo>
                    <a:pt x="0" y="0"/>
                  </a:moveTo>
                  <a:lnTo>
                    <a:pt x="1903476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bject 55"/>
            <p:cNvSpPr/>
            <p:nvPr/>
          </p:nvSpPr>
          <p:spPr>
            <a:xfrm>
              <a:off x="6336720" y="1897560"/>
              <a:ext cx="330480" cy="1244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244880"/>
                <a:gd name="textAreaBottom" fmla="*/ 1245240 h 1244880"/>
              </a:gdLst>
              <a:ahLst/>
              <a:rect l="textAreaLeft" t="textAreaTop" r="textAreaRight" b="textAreaBottom"/>
              <a:pathLst>
                <a:path w="330834" h="1245235">
                  <a:moveTo>
                    <a:pt x="330708" y="0"/>
                  </a:moveTo>
                  <a:lnTo>
                    <a:pt x="0" y="0"/>
                  </a:lnTo>
                  <a:lnTo>
                    <a:pt x="0" y="1245108"/>
                  </a:lnTo>
                  <a:lnTo>
                    <a:pt x="330708" y="1245108"/>
                  </a:lnTo>
                  <a:lnTo>
                    <a:pt x="33070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bject 56"/>
            <p:cNvSpPr/>
            <p:nvPr/>
          </p:nvSpPr>
          <p:spPr>
            <a:xfrm>
              <a:off x="7495200" y="2356200"/>
              <a:ext cx="1076040" cy="52416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076325" h="524510">
                  <a:moveTo>
                    <a:pt x="0" y="524256"/>
                  </a:moveTo>
                  <a:lnTo>
                    <a:pt x="496824" y="524256"/>
                  </a:lnTo>
                </a:path>
                <a:path w="1076325" h="524510">
                  <a:moveTo>
                    <a:pt x="0" y="262128"/>
                  </a:moveTo>
                  <a:lnTo>
                    <a:pt x="1075944" y="262128"/>
                  </a:lnTo>
                </a:path>
                <a:path w="1076325" h="524510">
                  <a:moveTo>
                    <a:pt x="0" y="0"/>
                  </a:moveTo>
                  <a:lnTo>
                    <a:pt x="10759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bject 57"/>
            <p:cNvSpPr/>
            <p:nvPr/>
          </p:nvSpPr>
          <p:spPr>
            <a:xfrm>
              <a:off x="7164360" y="2094120"/>
              <a:ext cx="330480" cy="10486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048680"/>
                <a:gd name="textAreaBottom" fmla="*/ 1049040 h 1048680"/>
              </a:gdLst>
              <a:ahLst/>
              <a:rect l="textAreaLeft" t="textAreaTop" r="textAreaRight" b="textAreaBottom"/>
              <a:pathLst>
                <a:path w="330834" h="1049020">
                  <a:moveTo>
                    <a:pt x="330707" y="0"/>
                  </a:moveTo>
                  <a:lnTo>
                    <a:pt x="0" y="0"/>
                  </a:lnTo>
                  <a:lnTo>
                    <a:pt x="0" y="1048512"/>
                  </a:lnTo>
                  <a:lnTo>
                    <a:pt x="330707" y="1048512"/>
                  </a:lnTo>
                  <a:lnTo>
                    <a:pt x="330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bject 58"/>
            <p:cNvSpPr/>
            <p:nvPr/>
          </p:nvSpPr>
          <p:spPr>
            <a:xfrm>
              <a:off x="8322480" y="2880360"/>
              <a:ext cx="248400" cy="3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8920" h="0">
                  <a:moveTo>
                    <a:pt x="0" y="0"/>
                  </a:moveTo>
                  <a:lnTo>
                    <a:pt x="24841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object 59"/>
            <p:cNvSpPr/>
            <p:nvPr/>
          </p:nvSpPr>
          <p:spPr>
            <a:xfrm>
              <a:off x="7992000" y="2749320"/>
              <a:ext cx="330480" cy="3934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330834" h="393700">
                  <a:moveTo>
                    <a:pt x="330708" y="0"/>
                  </a:moveTo>
                  <a:lnTo>
                    <a:pt x="0" y="0"/>
                  </a:lnTo>
                  <a:lnTo>
                    <a:pt x="0" y="393191"/>
                  </a:lnTo>
                  <a:lnTo>
                    <a:pt x="330708" y="393191"/>
                  </a:lnTo>
                  <a:lnTo>
                    <a:pt x="33070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bject 60"/>
            <p:cNvSpPr/>
            <p:nvPr/>
          </p:nvSpPr>
          <p:spPr>
            <a:xfrm>
              <a:off x="5221080" y="1568160"/>
              <a:ext cx="3349800" cy="161496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1614960"/>
                <a:gd name="textAreaBottom" fmla="*/ 1615320 h 1614960"/>
              </a:gdLst>
              <a:ahLst/>
              <a:rect l="textAreaLeft" t="textAreaTop" r="textAreaRight" b="textAreaBottom"/>
              <a:pathLst>
                <a:path w="3350259" h="1615439">
                  <a:moveTo>
                    <a:pt x="39624" y="0"/>
                  </a:moveTo>
                  <a:lnTo>
                    <a:pt x="3349752" y="0"/>
                  </a:lnTo>
                </a:path>
                <a:path w="3350259" h="1615439">
                  <a:moveTo>
                    <a:pt x="39624" y="1574291"/>
                  </a:moveTo>
                  <a:lnTo>
                    <a:pt x="39624" y="0"/>
                  </a:lnTo>
                </a:path>
                <a:path w="3350259" h="1615439">
                  <a:moveTo>
                    <a:pt x="0" y="1574291"/>
                  </a:moveTo>
                  <a:lnTo>
                    <a:pt x="39624" y="1574291"/>
                  </a:lnTo>
                </a:path>
                <a:path w="3350259" h="1615439">
                  <a:moveTo>
                    <a:pt x="0" y="1312164"/>
                  </a:moveTo>
                  <a:lnTo>
                    <a:pt x="39624" y="1312164"/>
                  </a:lnTo>
                </a:path>
                <a:path w="3350259" h="1615439">
                  <a:moveTo>
                    <a:pt x="0" y="1050036"/>
                  </a:moveTo>
                  <a:lnTo>
                    <a:pt x="39624" y="1050036"/>
                  </a:lnTo>
                </a:path>
                <a:path w="3350259" h="1615439">
                  <a:moveTo>
                    <a:pt x="0" y="787907"/>
                  </a:moveTo>
                  <a:lnTo>
                    <a:pt x="39624" y="787907"/>
                  </a:lnTo>
                </a:path>
                <a:path w="3350259" h="1615439">
                  <a:moveTo>
                    <a:pt x="0" y="525779"/>
                  </a:moveTo>
                  <a:lnTo>
                    <a:pt x="39624" y="525779"/>
                  </a:lnTo>
                </a:path>
                <a:path w="3350259" h="1615439">
                  <a:moveTo>
                    <a:pt x="0" y="263651"/>
                  </a:moveTo>
                  <a:lnTo>
                    <a:pt x="39624" y="263651"/>
                  </a:lnTo>
                </a:path>
                <a:path w="3350259" h="1615439">
                  <a:moveTo>
                    <a:pt x="0" y="0"/>
                  </a:moveTo>
                  <a:lnTo>
                    <a:pt x="39624" y="0"/>
                  </a:lnTo>
                </a:path>
                <a:path w="3350259" h="1615439">
                  <a:moveTo>
                    <a:pt x="39624" y="1574291"/>
                  </a:moveTo>
                  <a:lnTo>
                    <a:pt x="3349752" y="1574291"/>
                  </a:lnTo>
                </a:path>
                <a:path w="3350259" h="1615439">
                  <a:moveTo>
                    <a:pt x="39624" y="1574291"/>
                  </a:moveTo>
                  <a:lnTo>
                    <a:pt x="39624" y="1615439"/>
                  </a:lnTo>
                </a:path>
                <a:path w="3350259" h="1615439">
                  <a:moveTo>
                    <a:pt x="867155" y="1574291"/>
                  </a:moveTo>
                  <a:lnTo>
                    <a:pt x="867155" y="1615439"/>
                  </a:lnTo>
                </a:path>
                <a:path w="3350259" h="1615439">
                  <a:moveTo>
                    <a:pt x="1694687" y="1574291"/>
                  </a:moveTo>
                  <a:lnTo>
                    <a:pt x="1694687" y="1615439"/>
                  </a:lnTo>
                </a:path>
                <a:path w="3350259" h="1615439">
                  <a:moveTo>
                    <a:pt x="2522220" y="1574291"/>
                  </a:moveTo>
                  <a:lnTo>
                    <a:pt x="2522220" y="1615439"/>
                  </a:lnTo>
                </a:path>
                <a:path w="3350259" h="1615439">
                  <a:moveTo>
                    <a:pt x="3349752" y="1574291"/>
                  </a:moveTo>
                  <a:lnTo>
                    <a:pt x="3349752" y="1615439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object 61"/>
          <p:cNvSpPr/>
          <p:nvPr/>
        </p:nvSpPr>
        <p:spPr>
          <a:xfrm>
            <a:off x="5067000" y="30405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object 62"/>
          <p:cNvSpPr/>
          <p:nvPr/>
        </p:nvSpPr>
        <p:spPr>
          <a:xfrm>
            <a:off x="5067000" y="27781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object 63"/>
          <p:cNvSpPr/>
          <p:nvPr/>
        </p:nvSpPr>
        <p:spPr>
          <a:xfrm>
            <a:off x="5067000" y="25156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object 64"/>
          <p:cNvSpPr/>
          <p:nvPr/>
        </p:nvSpPr>
        <p:spPr>
          <a:xfrm>
            <a:off x="5067000" y="22532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object 65"/>
          <p:cNvSpPr/>
          <p:nvPr/>
        </p:nvSpPr>
        <p:spPr>
          <a:xfrm>
            <a:off x="5067000" y="19908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object 66"/>
          <p:cNvSpPr/>
          <p:nvPr/>
        </p:nvSpPr>
        <p:spPr>
          <a:xfrm>
            <a:off x="5002920" y="17283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object 67"/>
          <p:cNvSpPr/>
          <p:nvPr/>
        </p:nvSpPr>
        <p:spPr>
          <a:xfrm>
            <a:off x="5002920" y="14659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bject 68"/>
          <p:cNvSpPr/>
          <p:nvPr/>
        </p:nvSpPr>
        <p:spPr>
          <a:xfrm>
            <a:off x="5456160" y="3205800"/>
            <a:ext cx="409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Евро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object 69"/>
          <p:cNvSpPr/>
          <p:nvPr/>
        </p:nvSpPr>
        <p:spPr>
          <a:xfrm>
            <a:off x="6125760" y="3205800"/>
            <a:ext cx="7545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ев.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Амер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object 70"/>
          <p:cNvSpPr/>
          <p:nvPr/>
        </p:nvSpPr>
        <p:spPr>
          <a:xfrm>
            <a:off x="7160400" y="3205800"/>
            <a:ext cx="3405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ит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object 71"/>
          <p:cNvSpPr/>
          <p:nvPr/>
        </p:nvSpPr>
        <p:spPr>
          <a:xfrm>
            <a:off x="7961760" y="3205800"/>
            <a:ext cx="3934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object 72"/>
          <p:cNvSpPr/>
          <p:nvPr/>
        </p:nvSpPr>
        <p:spPr>
          <a:xfrm>
            <a:off x="5492160" y="785880"/>
            <a:ext cx="3069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64080" indent="-5220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ных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ушу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населения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(кг/че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1" name="object 73"/>
          <p:cNvGraphicFramePr/>
          <p:nvPr/>
        </p:nvGraphicFramePr>
        <p:xfrm>
          <a:off x="1181160" y="4119480"/>
          <a:ext cx="2963880" cy="1483560"/>
        </p:xfrm>
        <a:graphic>
          <a:graphicData uri="http://schemas.openxmlformats.org/drawingml/2006/table">
            <a:tbl>
              <a:tblPr/>
              <a:tblGrid>
                <a:gridCol w="918720"/>
                <a:gridCol w="414360"/>
                <a:gridCol w="1630440"/>
              </a:tblGrid>
              <a:tr h="10476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gridSpan="2">
                  <a:txBody>
                    <a:bodyPr lIns="0" rIns="0" tIns="58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9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58320" bIns="0" anchor="t">
                      <a:noAutofit/>
                    </a:bodyPr>
                    <a:p>
                      <a:pPr marL="750600">
                        <a:lnSpc>
                          <a:spcPct val="100000"/>
                        </a:lnSpc>
                        <a:spcBef>
                          <a:spcPts val="459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132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gridSpan="2">
                  <a:txBody>
                    <a:bodyPr lIns="0" rIns="0" tIns="59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6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59040" bIns="0" anchor="t">
                      <a:noAutofit/>
                    </a:bodyPr>
                    <a:p>
                      <a:pPr marL="750600">
                        <a:lnSpc>
                          <a:spcPct val="100000"/>
                        </a:lnSpc>
                        <a:spcBef>
                          <a:spcPts val="46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132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0" rIns="0" tIns="59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1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0" rIns="0" tIns="59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1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52" name="object 74"/>
          <p:cNvSpPr/>
          <p:nvPr/>
        </p:nvSpPr>
        <p:spPr>
          <a:xfrm>
            <a:off x="1095120" y="567252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object 75"/>
          <p:cNvSpPr/>
          <p:nvPr/>
        </p:nvSpPr>
        <p:spPr>
          <a:xfrm>
            <a:off x="1656000" y="5672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object 76"/>
          <p:cNvSpPr/>
          <p:nvPr/>
        </p:nvSpPr>
        <p:spPr>
          <a:xfrm>
            <a:off x="2248560" y="5672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object 77"/>
          <p:cNvSpPr/>
          <p:nvPr/>
        </p:nvSpPr>
        <p:spPr>
          <a:xfrm>
            <a:off x="2841840" y="5672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object 78"/>
          <p:cNvSpPr/>
          <p:nvPr/>
        </p:nvSpPr>
        <p:spPr>
          <a:xfrm>
            <a:off x="3434760" y="5672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bject 79"/>
          <p:cNvSpPr/>
          <p:nvPr/>
        </p:nvSpPr>
        <p:spPr>
          <a:xfrm>
            <a:off x="3995280" y="5672520"/>
            <a:ext cx="309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bject 80"/>
          <p:cNvSpPr/>
          <p:nvPr/>
        </p:nvSpPr>
        <p:spPr>
          <a:xfrm>
            <a:off x="496800" y="5259960"/>
            <a:ext cx="555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Теплов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bject 81"/>
          <p:cNvSpPr/>
          <p:nvPr/>
        </p:nvSpPr>
        <p:spPr>
          <a:xfrm>
            <a:off x="352440" y="4764240"/>
            <a:ext cx="726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анал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object 82"/>
          <p:cNvSpPr/>
          <p:nvPr/>
        </p:nvSpPr>
        <p:spPr>
          <a:xfrm>
            <a:off x="183240" y="4268880"/>
            <a:ext cx="894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Водоснабж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bject 83"/>
          <p:cNvSpPr/>
          <p:nvPr/>
        </p:nvSpPr>
        <p:spPr>
          <a:xfrm>
            <a:off x="1050480" y="3666960"/>
            <a:ext cx="3159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ети,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требующие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замены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object 84" descr=""/>
          <p:cNvPicPr/>
          <p:nvPr/>
        </p:nvPicPr>
        <p:blipFill>
          <a:blip r:embed="rId1"/>
          <a:stretch/>
        </p:blipFill>
        <p:spPr>
          <a:xfrm>
            <a:off x="4806000" y="4179600"/>
            <a:ext cx="3821760" cy="914040"/>
          </a:xfrm>
          <a:prstGeom prst="rect">
            <a:avLst/>
          </a:prstGeom>
          <a:ln w="0">
            <a:noFill/>
          </a:ln>
        </p:spPr>
      </p:pic>
      <p:sp>
        <p:nvSpPr>
          <p:cNvPr id="1663" name="object 85"/>
          <p:cNvSpPr/>
          <p:nvPr/>
        </p:nvSpPr>
        <p:spPr>
          <a:xfrm>
            <a:off x="4806000" y="4179600"/>
            <a:ext cx="3822480" cy="89964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720">
              <a:lnSpc>
                <a:spcPts val="2279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0" lang="en-US" sz="20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нормативам</a:t>
            </a:r>
            <a:r>
              <a:rPr b="0" lang="en-US" sz="20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требует</a:t>
            </a:r>
            <a:r>
              <a:rPr b="0" lang="en-US" sz="20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2" strike="noStrike">
                <a:solidFill>
                  <a:srgbClr val="ff0000"/>
                </a:solidFill>
                <a:latin typeface="Calibri"/>
              </a:rPr>
              <a:t>за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720"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4%</a:t>
            </a:r>
            <a:r>
              <a:rPr b="0" lang="en-US" sz="20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20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год,</a:t>
            </a:r>
            <a:r>
              <a:rPr b="0" lang="en-US" sz="20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2" strike="noStrike">
                <a:solidFill>
                  <a:srgbClr val="ff0000"/>
                </a:solidFill>
                <a:latin typeface="Calibri"/>
              </a:rPr>
              <a:t>однако</a:t>
            </a:r>
            <a:r>
              <a:rPr b="0" lang="en-US" sz="20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2" strike="noStrike">
                <a:solidFill>
                  <a:srgbClr val="ff0000"/>
                </a:solidFill>
                <a:latin typeface="Calibri"/>
              </a:rPr>
              <a:t>реально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заменяется</a:t>
            </a:r>
            <a:r>
              <a:rPr b="0" lang="en-US" sz="20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0" lang="en-US" sz="20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более</a:t>
            </a:r>
            <a:r>
              <a:rPr b="0" lang="en-US" sz="20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26" strike="noStrike">
                <a:solidFill>
                  <a:srgbClr val="ff0000"/>
                </a:solidFill>
                <a:latin typeface="Calibri"/>
              </a:rPr>
              <a:t>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098000" y="152280"/>
            <a:ext cx="29070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Упаковка.</a:t>
            </a:r>
            <a:r>
              <a:rPr b="0" lang="en-US" sz="2400" spc="-80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ПЭТФ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sldNum" idx="19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76C5502E-091B-4A59-BF7B-C6275F79B179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object 3"/>
          <p:cNvGrpSpPr/>
          <p:nvPr/>
        </p:nvGrpSpPr>
        <p:grpSpPr>
          <a:xfrm>
            <a:off x="5779080" y="1426320"/>
            <a:ext cx="2846880" cy="1694520"/>
            <a:chOff x="5779080" y="1426320"/>
            <a:chExt cx="2846880" cy="1694520"/>
          </a:xfrm>
        </p:grpSpPr>
        <p:sp>
          <p:nvSpPr>
            <p:cNvPr id="1667" name="object 4"/>
            <p:cNvSpPr/>
            <p:nvPr/>
          </p:nvSpPr>
          <p:spPr>
            <a:xfrm>
              <a:off x="5820120" y="1702440"/>
              <a:ext cx="2805840" cy="1103400"/>
            </a:xfrm>
            <a:custGeom>
              <a:avLst/>
              <a:gdLst>
                <a:gd name="textAreaLeft" fmla="*/ 0 w 2805840"/>
                <a:gd name="textAreaRight" fmla="*/ 2806200 w 2805840"/>
                <a:gd name="textAreaTop" fmla="*/ 0 h 1103400"/>
                <a:gd name="textAreaBottom" fmla="*/ 1103760 h 1103400"/>
              </a:gdLst>
              <a:ahLst/>
              <a:rect l="textAreaLeft" t="textAreaTop" r="textAreaRight" b="textAreaBottom"/>
              <a:pathLst>
                <a:path w="2806065" h="1103630">
                  <a:moveTo>
                    <a:pt x="0" y="1103376"/>
                  </a:moveTo>
                  <a:lnTo>
                    <a:pt x="280416" y="1103376"/>
                  </a:lnTo>
                </a:path>
                <a:path w="2806065" h="1103630">
                  <a:moveTo>
                    <a:pt x="653796" y="1103376"/>
                  </a:moveTo>
                  <a:lnTo>
                    <a:pt x="1216152" y="1103376"/>
                  </a:lnTo>
                </a:path>
                <a:path w="2806065" h="1103630">
                  <a:moveTo>
                    <a:pt x="0" y="827531"/>
                  </a:moveTo>
                  <a:lnTo>
                    <a:pt x="280416" y="827531"/>
                  </a:lnTo>
                </a:path>
                <a:path w="2806065" h="1103630">
                  <a:moveTo>
                    <a:pt x="653796" y="827531"/>
                  </a:moveTo>
                  <a:lnTo>
                    <a:pt x="1216152" y="827531"/>
                  </a:lnTo>
                </a:path>
                <a:path w="2806065" h="1103630">
                  <a:moveTo>
                    <a:pt x="0" y="551688"/>
                  </a:moveTo>
                  <a:lnTo>
                    <a:pt x="280416" y="551688"/>
                  </a:lnTo>
                </a:path>
                <a:path w="2806065" h="1103630">
                  <a:moveTo>
                    <a:pt x="653796" y="551688"/>
                  </a:moveTo>
                  <a:lnTo>
                    <a:pt x="1216152" y="551688"/>
                  </a:lnTo>
                </a:path>
                <a:path w="2806065" h="1103630">
                  <a:moveTo>
                    <a:pt x="0" y="275843"/>
                  </a:moveTo>
                  <a:lnTo>
                    <a:pt x="280416" y="275843"/>
                  </a:lnTo>
                </a:path>
                <a:path w="2806065" h="1103630">
                  <a:moveTo>
                    <a:pt x="0" y="0"/>
                  </a:moveTo>
                  <a:lnTo>
                    <a:pt x="280416" y="0"/>
                  </a:lnTo>
                </a:path>
                <a:path w="2806065" h="1103630">
                  <a:moveTo>
                    <a:pt x="653796" y="0"/>
                  </a:moveTo>
                  <a:lnTo>
                    <a:pt x="28056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object 5"/>
            <p:cNvSpPr/>
            <p:nvPr/>
          </p:nvSpPr>
          <p:spPr>
            <a:xfrm>
              <a:off x="6100560" y="1633680"/>
              <a:ext cx="372960" cy="144612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373379" h="1446530">
                  <a:moveTo>
                    <a:pt x="373379" y="0"/>
                  </a:moveTo>
                  <a:lnTo>
                    <a:pt x="0" y="0"/>
                  </a:lnTo>
                  <a:lnTo>
                    <a:pt x="0" y="1446276"/>
                  </a:lnTo>
                  <a:lnTo>
                    <a:pt x="373379" y="1446276"/>
                  </a:lnTo>
                  <a:lnTo>
                    <a:pt x="37337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object 6"/>
            <p:cNvSpPr/>
            <p:nvPr/>
          </p:nvSpPr>
          <p:spPr>
            <a:xfrm>
              <a:off x="7409520" y="2253960"/>
              <a:ext cx="1216440" cy="551520"/>
            </a:xfrm>
            <a:custGeom>
              <a:avLst/>
              <a:gdLst>
                <a:gd name="textAreaLeft" fmla="*/ 0 w 1216440"/>
                <a:gd name="textAreaRight" fmla="*/ 1216800 w 121644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1216659" h="551814">
                  <a:moveTo>
                    <a:pt x="0" y="551688"/>
                  </a:moveTo>
                  <a:lnTo>
                    <a:pt x="562355" y="551688"/>
                  </a:lnTo>
                </a:path>
                <a:path w="1216659" h="551814">
                  <a:moveTo>
                    <a:pt x="0" y="275843"/>
                  </a:moveTo>
                  <a:lnTo>
                    <a:pt x="562355" y="275843"/>
                  </a:lnTo>
                </a:path>
                <a:path w="1216659" h="551814">
                  <a:moveTo>
                    <a:pt x="0" y="0"/>
                  </a:moveTo>
                  <a:lnTo>
                    <a:pt x="121615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object 7"/>
            <p:cNvSpPr/>
            <p:nvPr/>
          </p:nvSpPr>
          <p:spPr>
            <a:xfrm>
              <a:off x="7036200" y="2032920"/>
              <a:ext cx="372960" cy="10468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046880"/>
                <a:gd name="textAreaBottom" fmla="*/ 1047240 h 1046880"/>
              </a:gdLst>
              <a:ahLst/>
              <a:rect l="textAreaLeft" t="textAreaTop" r="textAreaRight" b="textAreaBottom"/>
              <a:pathLst>
                <a:path w="373379" h="1047114">
                  <a:moveTo>
                    <a:pt x="373380" y="0"/>
                  </a:moveTo>
                  <a:lnTo>
                    <a:pt x="0" y="0"/>
                  </a:lnTo>
                  <a:lnTo>
                    <a:pt x="0" y="1046988"/>
                  </a:lnTo>
                  <a:lnTo>
                    <a:pt x="373380" y="1046988"/>
                  </a:lnTo>
                  <a:lnTo>
                    <a:pt x="3733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object 8"/>
            <p:cNvSpPr/>
            <p:nvPr/>
          </p:nvSpPr>
          <p:spPr>
            <a:xfrm>
              <a:off x="8345520" y="2529720"/>
              <a:ext cx="280440" cy="2757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280670" h="276225">
                  <a:moveTo>
                    <a:pt x="0" y="275844"/>
                  </a:moveTo>
                  <a:lnTo>
                    <a:pt x="280416" y="275844"/>
                  </a:lnTo>
                </a:path>
                <a:path w="280670" h="276225">
                  <a:moveTo>
                    <a:pt x="0" y="0"/>
                  </a:moveTo>
                  <a:lnTo>
                    <a:pt x="28041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bject 9"/>
            <p:cNvSpPr/>
            <p:nvPr/>
          </p:nvSpPr>
          <p:spPr>
            <a:xfrm>
              <a:off x="7972200" y="2516040"/>
              <a:ext cx="372960" cy="5634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373379" h="563880">
                  <a:moveTo>
                    <a:pt x="373379" y="0"/>
                  </a:moveTo>
                  <a:lnTo>
                    <a:pt x="0" y="0"/>
                  </a:lnTo>
                  <a:lnTo>
                    <a:pt x="0" y="563879"/>
                  </a:lnTo>
                  <a:lnTo>
                    <a:pt x="373379" y="563879"/>
                  </a:lnTo>
                  <a:lnTo>
                    <a:pt x="37337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object 10"/>
            <p:cNvSpPr/>
            <p:nvPr/>
          </p:nvSpPr>
          <p:spPr>
            <a:xfrm>
              <a:off x="5779080" y="1426320"/>
              <a:ext cx="2846880" cy="1694520"/>
            </a:xfrm>
            <a:custGeom>
              <a:avLst/>
              <a:gdLst>
                <a:gd name="textAreaLeft" fmla="*/ 0 w 2846880"/>
                <a:gd name="textAreaRight" fmla="*/ 2847240 w 2846880"/>
                <a:gd name="textAreaTop" fmla="*/ 0 h 1694520"/>
                <a:gd name="textAreaBottom" fmla="*/ 1694880 h 1694520"/>
              </a:gdLst>
              <a:ahLst/>
              <a:rect l="textAreaLeft" t="textAreaTop" r="textAreaRight" b="textAreaBottom"/>
              <a:pathLst>
                <a:path w="2847340" h="1694814">
                  <a:moveTo>
                    <a:pt x="41147" y="0"/>
                  </a:moveTo>
                  <a:lnTo>
                    <a:pt x="2846832" y="0"/>
                  </a:lnTo>
                </a:path>
                <a:path w="2847340" h="1694814">
                  <a:moveTo>
                    <a:pt x="41147" y="1653539"/>
                  </a:moveTo>
                  <a:lnTo>
                    <a:pt x="41147" y="0"/>
                  </a:lnTo>
                </a:path>
                <a:path w="2847340" h="1694814">
                  <a:moveTo>
                    <a:pt x="0" y="1653539"/>
                  </a:moveTo>
                  <a:lnTo>
                    <a:pt x="41147" y="1653539"/>
                  </a:lnTo>
                </a:path>
                <a:path w="2847340" h="1694814">
                  <a:moveTo>
                    <a:pt x="0" y="1379220"/>
                  </a:moveTo>
                  <a:lnTo>
                    <a:pt x="41147" y="1379220"/>
                  </a:lnTo>
                </a:path>
                <a:path w="2847340" h="1694814">
                  <a:moveTo>
                    <a:pt x="0" y="1103376"/>
                  </a:moveTo>
                  <a:lnTo>
                    <a:pt x="41147" y="1103376"/>
                  </a:lnTo>
                </a:path>
                <a:path w="2847340" h="1694814">
                  <a:moveTo>
                    <a:pt x="0" y="827532"/>
                  </a:moveTo>
                  <a:lnTo>
                    <a:pt x="41147" y="827532"/>
                  </a:lnTo>
                </a:path>
                <a:path w="2847340" h="1694814">
                  <a:moveTo>
                    <a:pt x="0" y="551688"/>
                  </a:moveTo>
                  <a:lnTo>
                    <a:pt x="41147" y="551688"/>
                  </a:lnTo>
                </a:path>
                <a:path w="2847340" h="1694814">
                  <a:moveTo>
                    <a:pt x="0" y="275844"/>
                  </a:moveTo>
                  <a:lnTo>
                    <a:pt x="41147" y="275844"/>
                  </a:lnTo>
                </a:path>
                <a:path w="2847340" h="1694814">
                  <a:moveTo>
                    <a:pt x="0" y="0"/>
                  </a:moveTo>
                  <a:lnTo>
                    <a:pt x="41147" y="0"/>
                  </a:lnTo>
                </a:path>
                <a:path w="2847340" h="1694814">
                  <a:moveTo>
                    <a:pt x="41147" y="1653539"/>
                  </a:moveTo>
                  <a:lnTo>
                    <a:pt x="2846832" y="1653539"/>
                  </a:lnTo>
                </a:path>
                <a:path w="2847340" h="1694814">
                  <a:moveTo>
                    <a:pt x="41147" y="1653539"/>
                  </a:moveTo>
                  <a:lnTo>
                    <a:pt x="41147" y="1694688"/>
                  </a:lnTo>
                </a:path>
                <a:path w="2847340" h="1694814">
                  <a:moveTo>
                    <a:pt x="976884" y="1653539"/>
                  </a:moveTo>
                  <a:lnTo>
                    <a:pt x="976884" y="1694688"/>
                  </a:lnTo>
                </a:path>
                <a:path w="2847340" h="1694814">
                  <a:moveTo>
                    <a:pt x="1911095" y="1653539"/>
                  </a:moveTo>
                  <a:lnTo>
                    <a:pt x="1911095" y="1694688"/>
                  </a:lnTo>
                </a:path>
                <a:path w="2847340" h="1694814">
                  <a:moveTo>
                    <a:pt x="2846832" y="1653539"/>
                  </a:moveTo>
                  <a:lnTo>
                    <a:pt x="2846832" y="1694688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4" name="object 11"/>
          <p:cNvSpPr/>
          <p:nvPr/>
        </p:nvSpPr>
        <p:spPr>
          <a:xfrm>
            <a:off x="6162840" y="14029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bject 12"/>
          <p:cNvSpPr/>
          <p:nvPr/>
        </p:nvSpPr>
        <p:spPr>
          <a:xfrm>
            <a:off x="6461280" y="1802520"/>
            <a:ext cx="2176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681840"/>
                <a:tab algn="l" pos="216396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	</a:t>
            </a:r>
            <a:r>
              <a:rPr b="0" lang="en-US" sz="1000" spc="-26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7,6</a:t>
            </a:r>
            <a:r>
              <a:rPr b="0" lang="en-US" sz="1000" spc="-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object 13"/>
          <p:cNvSpPr/>
          <p:nvPr/>
        </p:nvSpPr>
        <p:spPr>
          <a:xfrm>
            <a:off x="8066520" y="22852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object 14"/>
          <p:cNvSpPr/>
          <p:nvPr/>
        </p:nvSpPr>
        <p:spPr>
          <a:xfrm>
            <a:off x="5625360" y="29779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object 15"/>
          <p:cNvSpPr/>
          <p:nvPr/>
        </p:nvSpPr>
        <p:spPr>
          <a:xfrm>
            <a:off x="5625360" y="27025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object 16"/>
          <p:cNvSpPr/>
          <p:nvPr/>
        </p:nvSpPr>
        <p:spPr>
          <a:xfrm>
            <a:off x="5625360" y="24267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object 17"/>
          <p:cNvSpPr/>
          <p:nvPr/>
        </p:nvSpPr>
        <p:spPr>
          <a:xfrm>
            <a:off x="5625360" y="21506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object 18"/>
          <p:cNvSpPr/>
          <p:nvPr/>
        </p:nvSpPr>
        <p:spPr>
          <a:xfrm>
            <a:off x="5625360" y="18752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object 19"/>
          <p:cNvSpPr/>
          <p:nvPr/>
        </p:nvSpPr>
        <p:spPr>
          <a:xfrm>
            <a:off x="5561280" y="15994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bject 20"/>
          <p:cNvSpPr/>
          <p:nvPr/>
        </p:nvSpPr>
        <p:spPr>
          <a:xfrm>
            <a:off x="5561280" y="1323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object 21"/>
          <p:cNvSpPr/>
          <p:nvPr/>
        </p:nvSpPr>
        <p:spPr>
          <a:xfrm>
            <a:off x="6150600" y="3143160"/>
            <a:ext cx="2205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756360"/>
                <a:tab algn="l" pos="182484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СШ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Зап.</a:t>
            </a:r>
            <a:r>
              <a:rPr b="0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Европ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object 22"/>
          <p:cNvSpPr/>
          <p:nvPr/>
        </p:nvSpPr>
        <p:spPr>
          <a:xfrm>
            <a:off x="5720040" y="705600"/>
            <a:ext cx="28310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200160" indent="-18792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ЭТ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ары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душу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населения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(кг/че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object 23"/>
          <p:cNvGrpSpPr/>
          <p:nvPr/>
        </p:nvGrpSpPr>
        <p:grpSpPr>
          <a:xfrm>
            <a:off x="543960" y="1409760"/>
            <a:ext cx="3956400" cy="1813320"/>
            <a:chOff x="543960" y="1409760"/>
            <a:chExt cx="3956400" cy="1813320"/>
          </a:xfrm>
        </p:grpSpPr>
        <p:sp>
          <p:nvSpPr>
            <p:cNvPr id="1687" name="object 24"/>
            <p:cNvSpPr/>
            <p:nvPr/>
          </p:nvSpPr>
          <p:spPr>
            <a:xfrm>
              <a:off x="583560" y="2676240"/>
              <a:ext cx="848520" cy="25416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848994" h="254635">
                  <a:moveTo>
                    <a:pt x="0" y="254507"/>
                  </a:moveTo>
                  <a:lnTo>
                    <a:pt x="196595" y="254507"/>
                  </a:lnTo>
                </a:path>
                <a:path w="848994" h="254635">
                  <a:moveTo>
                    <a:pt x="457199" y="254507"/>
                  </a:moveTo>
                  <a:lnTo>
                    <a:pt x="848868" y="254507"/>
                  </a:lnTo>
                </a:path>
                <a:path w="848994" h="254635">
                  <a:moveTo>
                    <a:pt x="0" y="0"/>
                  </a:moveTo>
                  <a:lnTo>
                    <a:pt x="196595" y="0"/>
                  </a:lnTo>
                </a:path>
                <a:path w="848994" h="254635">
                  <a:moveTo>
                    <a:pt x="457199" y="0"/>
                  </a:moveTo>
                  <a:lnTo>
                    <a:pt x="8488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object 25"/>
            <p:cNvSpPr/>
            <p:nvPr/>
          </p:nvSpPr>
          <p:spPr>
            <a:xfrm>
              <a:off x="780120" y="2575440"/>
              <a:ext cx="260640" cy="6080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260984" h="608330">
                  <a:moveTo>
                    <a:pt x="260603" y="0"/>
                  </a:moveTo>
                  <a:lnTo>
                    <a:pt x="0" y="0"/>
                  </a:lnTo>
                  <a:lnTo>
                    <a:pt x="0" y="608076"/>
                  </a:lnTo>
                  <a:lnTo>
                    <a:pt x="260603" y="608076"/>
                  </a:lnTo>
                  <a:lnTo>
                    <a:pt x="260603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object 26"/>
            <p:cNvSpPr/>
            <p:nvPr/>
          </p:nvSpPr>
          <p:spPr>
            <a:xfrm>
              <a:off x="583560" y="2170080"/>
              <a:ext cx="1500840" cy="760320"/>
            </a:xfrm>
            <a:custGeom>
              <a:avLst/>
              <a:gdLst>
                <a:gd name="textAreaLeft" fmla="*/ 0 w 1500840"/>
                <a:gd name="textAreaRight" fmla="*/ 1501200 w 1500840"/>
                <a:gd name="textAreaTop" fmla="*/ 0 h 760320"/>
                <a:gd name="textAreaBottom" fmla="*/ 760680 h 760320"/>
              </a:gdLst>
              <a:ahLst/>
              <a:rect l="textAreaLeft" t="textAreaTop" r="textAreaRight" b="textAreaBottom"/>
              <a:pathLst>
                <a:path w="1501139" h="760730">
                  <a:moveTo>
                    <a:pt x="1109471" y="760476"/>
                  </a:moveTo>
                  <a:lnTo>
                    <a:pt x="1501139" y="760476"/>
                  </a:lnTo>
                </a:path>
                <a:path w="1501139" h="760730">
                  <a:moveTo>
                    <a:pt x="1109471" y="505968"/>
                  </a:moveTo>
                  <a:lnTo>
                    <a:pt x="1501139" y="505968"/>
                  </a:lnTo>
                </a:path>
                <a:path w="1501139" h="760730">
                  <a:moveTo>
                    <a:pt x="0" y="252984"/>
                  </a:moveTo>
                  <a:lnTo>
                    <a:pt x="848868" y="252984"/>
                  </a:lnTo>
                </a:path>
                <a:path w="1501139" h="760730">
                  <a:moveTo>
                    <a:pt x="1109471" y="252984"/>
                  </a:moveTo>
                  <a:lnTo>
                    <a:pt x="1501139" y="252984"/>
                  </a:lnTo>
                </a:path>
                <a:path w="1501139" h="760730">
                  <a:moveTo>
                    <a:pt x="0" y="0"/>
                  </a:moveTo>
                  <a:lnTo>
                    <a:pt x="848868" y="0"/>
                  </a:lnTo>
                </a:path>
                <a:path w="1501139" h="760730">
                  <a:moveTo>
                    <a:pt x="1109471" y="0"/>
                  </a:moveTo>
                  <a:lnTo>
                    <a:pt x="15011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bject 27"/>
            <p:cNvSpPr/>
            <p:nvPr/>
          </p:nvSpPr>
          <p:spPr>
            <a:xfrm>
              <a:off x="1432440" y="2120040"/>
              <a:ext cx="260640" cy="1063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063800"/>
                <a:gd name="textAreaBottom" fmla="*/ 1064160 h 1063800"/>
              </a:gdLst>
              <a:ahLst/>
              <a:rect l="textAreaLeft" t="textAreaTop" r="textAreaRight" b="textAreaBottom"/>
              <a:pathLst>
                <a:path w="260985" h="1064260">
                  <a:moveTo>
                    <a:pt x="260603" y="0"/>
                  </a:moveTo>
                  <a:lnTo>
                    <a:pt x="0" y="0"/>
                  </a:lnTo>
                  <a:lnTo>
                    <a:pt x="0" y="1063752"/>
                  </a:lnTo>
                  <a:lnTo>
                    <a:pt x="260603" y="1063752"/>
                  </a:lnTo>
                  <a:lnTo>
                    <a:pt x="260603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object 28"/>
            <p:cNvSpPr/>
            <p:nvPr/>
          </p:nvSpPr>
          <p:spPr>
            <a:xfrm>
              <a:off x="583560" y="1917360"/>
              <a:ext cx="2154960" cy="1013040"/>
            </a:xfrm>
            <a:custGeom>
              <a:avLst/>
              <a:gdLst>
                <a:gd name="textAreaLeft" fmla="*/ 0 w 2154960"/>
                <a:gd name="textAreaRight" fmla="*/ 2155320 w 215496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2155190" h="1013460">
                  <a:moveTo>
                    <a:pt x="1763268" y="1013460"/>
                  </a:moveTo>
                  <a:lnTo>
                    <a:pt x="2154935" y="1013460"/>
                  </a:lnTo>
                </a:path>
                <a:path w="2155190" h="1013460">
                  <a:moveTo>
                    <a:pt x="1763268" y="758952"/>
                  </a:moveTo>
                  <a:lnTo>
                    <a:pt x="2154935" y="758952"/>
                  </a:lnTo>
                </a:path>
                <a:path w="2155190" h="1013460">
                  <a:moveTo>
                    <a:pt x="1763268" y="505968"/>
                  </a:moveTo>
                  <a:lnTo>
                    <a:pt x="2154935" y="505968"/>
                  </a:lnTo>
                </a:path>
                <a:path w="2155190" h="1013460">
                  <a:moveTo>
                    <a:pt x="1763268" y="252984"/>
                  </a:moveTo>
                  <a:lnTo>
                    <a:pt x="2154935" y="252984"/>
                  </a:lnTo>
                </a:path>
                <a:path w="2155190" h="1013460">
                  <a:moveTo>
                    <a:pt x="0" y="0"/>
                  </a:moveTo>
                  <a:lnTo>
                    <a:pt x="1501139" y="0"/>
                  </a:lnTo>
                </a:path>
                <a:path w="2155190" h="1013460">
                  <a:moveTo>
                    <a:pt x="1763268" y="0"/>
                  </a:moveTo>
                  <a:lnTo>
                    <a:pt x="215493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object 29"/>
            <p:cNvSpPr/>
            <p:nvPr/>
          </p:nvSpPr>
          <p:spPr>
            <a:xfrm>
              <a:off x="2084760" y="1790640"/>
              <a:ext cx="261720" cy="13928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262255" h="1393189">
                  <a:moveTo>
                    <a:pt x="262128" y="0"/>
                  </a:moveTo>
                  <a:lnTo>
                    <a:pt x="0" y="0"/>
                  </a:lnTo>
                  <a:lnTo>
                    <a:pt x="0" y="1392936"/>
                  </a:lnTo>
                  <a:lnTo>
                    <a:pt x="262128" y="1392936"/>
                  </a:lnTo>
                  <a:lnTo>
                    <a:pt x="262128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object 30"/>
            <p:cNvSpPr/>
            <p:nvPr/>
          </p:nvSpPr>
          <p:spPr>
            <a:xfrm>
              <a:off x="2999160" y="1917360"/>
              <a:ext cx="391320" cy="101304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391795" h="1013460">
                  <a:moveTo>
                    <a:pt x="0" y="1013460"/>
                  </a:moveTo>
                  <a:lnTo>
                    <a:pt x="391668" y="1013460"/>
                  </a:lnTo>
                </a:path>
                <a:path w="391795" h="1013460">
                  <a:moveTo>
                    <a:pt x="0" y="758952"/>
                  </a:moveTo>
                  <a:lnTo>
                    <a:pt x="391668" y="758952"/>
                  </a:lnTo>
                </a:path>
                <a:path w="391795" h="1013460">
                  <a:moveTo>
                    <a:pt x="0" y="505968"/>
                  </a:moveTo>
                  <a:lnTo>
                    <a:pt x="391668" y="505968"/>
                  </a:lnTo>
                </a:path>
                <a:path w="391795" h="1013460">
                  <a:moveTo>
                    <a:pt x="0" y="252984"/>
                  </a:moveTo>
                  <a:lnTo>
                    <a:pt x="391668" y="252984"/>
                  </a:lnTo>
                </a:path>
                <a:path w="391795" h="1013460">
                  <a:moveTo>
                    <a:pt x="0" y="0"/>
                  </a:moveTo>
                  <a:lnTo>
                    <a:pt x="3916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object 31"/>
            <p:cNvSpPr/>
            <p:nvPr/>
          </p:nvSpPr>
          <p:spPr>
            <a:xfrm>
              <a:off x="2738520" y="1714680"/>
              <a:ext cx="260640" cy="146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469160"/>
                <a:gd name="textAreaBottom" fmla="*/ 1469520 h 1469160"/>
              </a:gdLst>
              <a:ahLst/>
              <a:rect l="textAreaLeft" t="textAreaTop" r="textAreaRight" b="textAreaBottom"/>
              <a:pathLst>
                <a:path w="260985" h="1469389">
                  <a:moveTo>
                    <a:pt x="260604" y="0"/>
                  </a:moveTo>
                  <a:lnTo>
                    <a:pt x="0" y="0"/>
                  </a:lnTo>
                  <a:lnTo>
                    <a:pt x="0" y="1469136"/>
                  </a:lnTo>
                  <a:lnTo>
                    <a:pt x="260604" y="1469136"/>
                  </a:lnTo>
                  <a:lnTo>
                    <a:pt x="260604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object 32"/>
            <p:cNvSpPr/>
            <p:nvPr/>
          </p:nvSpPr>
          <p:spPr>
            <a:xfrm>
              <a:off x="3651480" y="1917360"/>
              <a:ext cx="391320" cy="101304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391795" h="1013460">
                  <a:moveTo>
                    <a:pt x="0" y="1013460"/>
                  </a:moveTo>
                  <a:lnTo>
                    <a:pt x="391668" y="1013460"/>
                  </a:lnTo>
                </a:path>
                <a:path w="391795" h="1013460">
                  <a:moveTo>
                    <a:pt x="0" y="758952"/>
                  </a:moveTo>
                  <a:lnTo>
                    <a:pt x="391668" y="758952"/>
                  </a:lnTo>
                </a:path>
                <a:path w="391795" h="1013460">
                  <a:moveTo>
                    <a:pt x="0" y="505968"/>
                  </a:moveTo>
                  <a:lnTo>
                    <a:pt x="391668" y="505968"/>
                  </a:lnTo>
                </a:path>
                <a:path w="391795" h="1013460">
                  <a:moveTo>
                    <a:pt x="0" y="252984"/>
                  </a:moveTo>
                  <a:lnTo>
                    <a:pt x="391668" y="252984"/>
                  </a:lnTo>
                </a:path>
                <a:path w="391795" h="1013460">
                  <a:moveTo>
                    <a:pt x="0" y="0"/>
                  </a:moveTo>
                  <a:lnTo>
                    <a:pt x="3916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object 33"/>
            <p:cNvSpPr/>
            <p:nvPr/>
          </p:nvSpPr>
          <p:spPr>
            <a:xfrm>
              <a:off x="3390840" y="1764720"/>
              <a:ext cx="260640" cy="14187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418760"/>
                <a:gd name="textAreaBottom" fmla="*/ 1419120 h 1418760"/>
              </a:gdLst>
              <a:ahLst/>
              <a:rect l="textAreaLeft" t="textAreaTop" r="textAreaRight" b="textAreaBottom"/>
              <a:pathLst>
                <a:path w="260985" h="1419225">
                  <a:moveTo>
                    <a:pt x="260603" y="0"/>
                  </a:moveTo>
                  <a:lnTo>
                    <a:pt x="0" y="0"/>
                  </a:lnTo>
                  <a:lnTo>
                    <a:pt x="0" y="1418844"/>
                  </a:lnTo>
                  <a:lnTo>
                    <a:pt x="260603" y="1418844"/>
                  </a:lnTo>
                  <a:lnTo>
                    <a:pt x="260603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object 34"/>
            <p:cNvSpPr/>
            <p:nvPr/>
          </p:nvSpPr>
          <p:spPr>
            <a:xfrm>
              <a:off x="4305240" y="1917360"/>
              <a:ext cx="195120" cy="10130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195579" h="1013460">
                  <a:moveTo>
                    <a:pt x="0" y="1013460"/>
                  </a:moveTo>
                  <a:lnTo>
                    <a:pt x="195072" y="1013460"/>
                  </a:lnTo>
                </a:path>
                <a:path w="195579" h="1013460">
                  <a:moveTo>
                    <a:pt x="0" y="758952"/>
                  </a:moveTo>
                  <a:lnTo>
                    <a:pt x="195072" y="758952"/>
                  </a:lnTo>
                </a:path>
                <a:path w="195579" h="1013460">
                  <a:moveTo>
                    <a:pt x="0" y="505968"/>
                  </a:moveTo>
                  <a:lnTo>
                    <a:pt x="195072" y="505968"/>
                  </a:lnTo>
                </a:path>
                <a:path w="195579" h="1013460">
                  <a:moveTo>
                    <a:pt x="0" y="252984"/>
                  </a:moveTo>
                  <a:lnTo>
                    <a:pt x="195072" y="252984"/>
                  </a:lnTo>
                </a:path>
                <a:path w="195579" h="1013460">
                  <a:moveTo>
                    <a:pt x="0" y="0"/>
                  </a:moveTo>
                  <a:lnTo>
                    <a:pt x="1950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object 35"/>
            <p:cNvSpPr/>
            <p:nvPr/>
          </p:nvSpPr>
          <p:spPr>
            <a:xfrm>
              <a:off x="4043160" y="1738800"/>
              <a:ext cx="261720" cy="1445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445040"/>
                <a:gd name="textAreaBottom" fmla="*/ 1445400 h 1445040"/>
              </a:gdLst>
              <a:ahLst/>
              <a:rect l="textAreaLeft" t="textAreaTop" r="textAreaRight" b="textAreaBottom"/>
              <a:pathLst>
                <a:path w="262254" h="1445260">
                  <a:moveTo>
                    <a:pt x="262127" y="0"/>
                  </a:moveTo>
                  <a:lnTo>
                    <a:pt x="0" y="0"/>
                  </a:lnTo>
                  <a:lnTo>
                    <a:pt x="0" y="1444752"/>
                  </a:lnTo>
                  <a:lnTo>
                    <a:pt x="262127" y="1444752"/>
                  </a:lnTo>
                  <a:lnTo>
                    <a:pt x="262127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bject 36"/>
            <p:cNvSpPr/>
            <p:nvPr/>
          </p:nvSpPr>
          <p:spPr>
            <a:xfrm>
              <a:off x="543960" y="1409760"/>
              <a:ext cx="3956400" cy="1813320"/>
            </a:xfrm>
            <a:custGeom>
              <a:avLst/>
              <a:gdLst>
                <a:gd name="textAreaLeft" fmla="*/ 0 w 3956400"/>
                <a:gd name="textAreaRight" fmla="*/ 3956760 w 3956400"/>
                <a:gd name="textAreaTop" fmla="*/ 0 h 1813320"/>
                <a:gd name="textAreaBottom" fmla="*/ 1813680 h 1813320"/>
              </a:gdLst>
              <a:ahLst/>
              <a:rect l="textAreaLeft" t="textAreaTop" r="textAreaRight" b="textAreaBottom"/>
              <a:pathLst>
                <a:path w="3956685" h="1813560">
                  <a:moveTo>
                    <a:pt x="39623" y="254508"/>
                  </a:moveTo>
                  <a:lnTo>
                    <a:pt x="3956304" y="254508"/>
                  </a:lnTo>
                </a:path>
                <a:path w="3956685" h="1813560">
                  <a:moveTo>
                    <a:pt x="39623" y="0"/>
                  </a:moveTo>
                  <a:lnTo>
                    <a:pt x="3956304" y="0"/>
                  </a:lnTo>
                </a:path>
                <a:path w="3956685" h="1813560">
                  <a:moveTo>
                    <a:pt x="39623" y="1773936"/>
                  </a:moveTo>
                  <a:lnTo>
                    <a:pt x="39623" y="0"/>
                  </a:lnTo>
                </a:path>
                <a:path w="3956685" h="1813560">
                  <a:moveTo>
                    <a:pt x="0" y="1773936"/>
                  </a:moveTo>
                  <a:lnTo>
                    <a:pt x="39623" y="1773936"/>
                  </a:lnTo>
                </a:path>
                <a:path w="3956685" h="1813560">
                  <a:moveTo>
                    <a:pt x="0" y="1520952"/>
                  </a:moveTo>
                  <a:lnTo>
                    <a:pt x="39623" y="1520952"/>
                  </a:lnTo>
                </a:path>
                <a:path w="3956685" h="1813560">
                  <a:moveTo>
                    <a:pt x="0" y="1266444"/>
                  </a:moveTo>
                  <a:lnTo>
                    <a:pt x="39623" y="1266444"/>
                  </a:lnTo>
                </a:path>
                <a:path w="3956685" h="1813560">
                  <a:moveTo>
                    <a:pt x="0" y="1013460"/>
                  </a:moveTo>
                  <a:lnTo>
                    <a:pt x="39623" y="1013460"/>
                  </a:lnTo>
                </a:path>
                <a:path w="3956685" h="1813560">
                  <a:moveTo>
                    <a:pt x="0" y="760476"/>
                  </a:moveTo>
                  <a:lnTo>
                    <a:pt x="39623" y="760476"/>
                  </a:lnTo>
                </a:path>
                <a:path w="3956685" h="1813560">
                  <a:moveTo>
                    <a:pt x="0" y="507491"/>
                  </a:moveTo>
                  <a:lnTo>
                    <a:pt x="39623" y="507491"/>
                  </a:lnTo>
                </a:path>
                <a:path w="3956685" h="1813560">
                  <a:moveTo>
                    <a:pt x="0" y="254508"/>
                  </a:moveTo>
                  <a:lnTo>
                    <a:pt x="39623" y="254508"/>
                  </a:lnTo>
                </a:path>
                <a:path w="3956685" h="1813560">
                  <a:moveTo>
                    <a:pt x="0" y="0"/>
                  </a:moveTo>
                  <a:lnTo>
                    <a:pt x="39623" y="0"/>
                  </a:lnTo>
                </a:path>
                <a:path w="3956685" h="1813560">
                  <a:moveTo>
                    <a:pt x="39623" y="1773936"/>
                  </a:moveTo>
                  <a:lnTo>
                    <a:pt x="3956304" y="1773936"/>
                  </a:lnTo>
                </a:path>
                <a:path w="3956685" h="1813560">
                  <a:moveTo>
                    <a:pt x="39623" y="1773936"/>
                  </a:moveTo>
                  <a:lnTo>
                    <a:pt x="39623" y="1813560"/>
                  </a:lnTo>
                </a:path>
                <a:path w="3956685" h="1813560">
                  <a:moveTo>
                    <a:pt x="693419" y="1773936"/>
                  </a:moveTo>
                  <a:lnTo>
                    <a:pt x="693419" y="1813560"/>
                  </a:lnTo>
                </a:path>
                <a:path w="3956685" h="1813560">
                  <a:moveTo>
                    <a:pt x="1345692" y="1773936"/>
                  </a:moveTo>
                  <a:lnTo>
                    <a:pt x="1345692" y="1813560"/>
                  </a:lnTo>
                </a:path>
                <a:path w="3956685" h="1813560">
                  <a:moveTo>
                    <a:pt x="1997964" y="1773936"/>
                  </a:moveTo>
                  <a:lnTo>
                    <a:pt x="1997964" y="1813560"/>
                  </a:lnTo>
                </a:path>
                <a:path w="3956685" h="1813560">
                  <a:moveTo>
                    <a:pt x="2650236" y="1773936"/>
                  </a:moveTo>
                  <a:lnTo>
                    <a:pt x="2650236" y="1813560"/>
                  </a:lnTo>
                </a:path>
                <a:path w="3956685" h="1813560">
                  <a:moveTo>
                    <a:pt x="3304031" y="1773936"/>
                  </a:moveTo>
                  <a:lnTo>
                    <a:pt x="3304031" y="1813560"/>
                  </a:lnTo>
                </a:path>
                <a:path w="3956685" h="1813560">
                  <a:moveTo>
                    <a:pt x="3956304" y="1773936"/>
                  </a:moveTo>
                  <a:lnTo>
                    <a:pt x="3956304" y="181356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0" name="object 37"/>
          <p:cNvSpPr/>
          <p:nvPr/>
        </p:nvSpPr>
        <p:spPr>
          <a:xfrm>
            <a:off x="818280" y="234504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object 38"/>
          <p:cNvSpPr/>
          <p:nvPr/>
        </p:nvSpPr>
        <p:spPr>
          <a:xfrm>
            <a:off x="1470960" y="18892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object 39"/>
          <p:cNvSpPr/>
          <p:nvPr/>
        </p:nvSpPr>
        <p:spPr>
          <a:xfrm>
            <a:off x="2123640" y="15598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object 40"/>
          <p:cNvSpPr/>
          <p:nvPr/>
        </p:nvSpPr>
        <p:spPr>
          <a:xfrm>
            <a:off x="2776320" y="14839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bject 41"/>
          <p:cNvSpPr/>
          <p:nvPr/>
        </p:nvSpPr>
        <p:spPr>
          <a:xfrm>
            <a:off x="3429360" y="15343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object 42"/>
          <p:cNvSpPr/>
          <p:nvPr/>
        </p:nvSpPr>
        <p:spPr>
          <a:xfrm>
            <a:off x="4082040" y="15091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object 43"/>
          <p:cNvSpPr/>
          <p:nvPr/>
        </p:nvSpPr>
        <p:spPr>
          <a:xfrm>
            <a:off x="389520" y="30808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object 44"/>
          <p:cNvSpPr/>
          <p:nvPr/>
        </p:nvSpPr>
        <p:spPr>
          <a:xfrm>
            <a:off x="389520" y="282708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object 45"/>
          <p:cNvSpPr/>
          <p:nvPr/>
        </p:nvSpPr>
        <p:spPr>
          <a:xfrm>
            <a:off x="389520" y="25740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object 46"/>
          <p:cNvSpPr/>
          <p:nvPr/>
        </p:nvSpPr>
        <p:spPr>
          <a:xfrm>
            <a:off x="389520" y="23209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object 47"/>
          <p:cNvSpPr/>
          <p:nvPr/>
        </p:nvSpPr>
        <p:spPr>
          <a:xfrm>
            <a:off x="389520" y="20674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object 48"/>
          <p:cNvSpPr/>
          <p:nvPr/>
        </p:nvSpPr>
        <p:spPr>
          <a:xfrm>
            <a:off x="389520" y="181368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object 49"/>
          <p:cNvSpPr/>
          <p:nvPr/>
        </p:nvSpPr>
        <p:spPr>
          <a:xfrm>
            <a:off x="389520" y="15606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object 50"/>
          <p:cNvSpPr/>
          <p:nvPr/>
        </p:nvSpPr>
        <p:spPr>
          <a:xfrm>
            <a:off x="389520" y="1307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bject 51"/>
          <p:cNvSpPr/>
          <p:nvPr/>
        </p:nvSpPr>
        <p:spPr>
          <a:xfrm>
            <a:off x="351360" y="713160"/>
            <a:ext cx="4168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Динами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я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бутилированной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120" algn="ctr">
              <a:lnSpc>
                <a:spcPct val="100000"/>
              </a:lnSpc>
              <a:spcBef>
                <a:spcPts val="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млрд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object 52" descr=""/>
          <p:cNvPicPr/>
          <p:nvPr/>
        </p:nvPicPr>
        <p:blipFill>
          <a:blip r:embed="rId1"/>
          <a:stretch/>
        </p:blipFill>
        <p:spPr>
          <a:xfrm>
            <a:off x="5160960" y="4293720"/>
            <a:ext cx="3660120" cy="1151640"/>
          </a:xfrm>
          <a:prstGeom prst="rect">
            <a:avLst/>
          </a:prstGeom>
          <a:ln w="0">
            <a:noFill/>
          </a:ln>
        </p:spPr>
      </p:pic>
      <p:sp>
        <p:nvSpPr>
          <p:cNvPr id="1716" name="object 53"/>
          <p:cNvSpPr/>
          <p:nvPr/>
        </p:nvSpPr>
        <p:spPr>
          <a:xfrm>
            <a:off x="5160960" y="4293720"/>
            <a:ext cx="3660480" cy="104940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0" anchor="t">
            <a:spAutoFit/>
          </a:bodyPr>
          <a:p>
            <a:pPr marL="91440" algn="just">
              <a:lnSpc>
                <a:spcPct val="100000"/>
              </a:lnSpc>
              <a:spcBef>
                <a:spcPts val="601"/>
              </a:spcBef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оссия</a:t>
            </a:r>
            <a:r>
              <a:rPr b="0" lang="en-US" sz="16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21" strike="noStrike">
                <a:solidFill>
                  <a:srgbClr val="ff0000"/>
                </a:solidFill>
                <a:latin typeface="Calibri"/>
              </a:rPr>
              <a:t>входит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ТОП-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стран</a:t>
            </a:r>
            <a:r>
              <a:rPr b="0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мире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где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ожидается</a:t>
            </a:r>
            <a:r>
              <a:rPr b="0" lang="en-US" sz="16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ост</a:t>
            </a:r>
            <a:r>
              <a:rPr b="0" lang="en-US" sz="16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объемов</a:t>
            </a:r>
            <a:r>
              <a:rPr b="0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производства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потребления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46" strike="noStrike">
                <a:solidFill>
                  <a:srgbClr val="ff0000"/>
                </a:solidFill>
                <a:latin typeface="Calibri"/>
              </a:rPr>
              <a:t>ПЭТФ.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(При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от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algn="just">
              <a:lnSpc>
                <a:spcPct val="100000"/>
              </a:lnSpc>
            </a:pPr>
            <a:r>
              <a:rPr b="0" lang="en-US" sz="1600" spc="-21" strike="noStrike">
                <a:solidFill>
                  <a:srgbClr val="ff0000"/>
                </a:solidFill>
                <a:latin typeface="Calibri"/>
              </a:rPr>
              <a:t>законодательных</a:t>
            </a:r>
            <a:r>
              <a:rPr b="0" lang="en-US" sz="1600" spc="18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запрет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object 54"/>
          <p:cNvGrpSpPr/>
          <p:nvPr/>
        </p:nvGrpSpPr>
        <p:grpSpPr>
          <a:xfrm>
            <a:off x="1061640" y="4415040"/>
            <a:ext cx="2027520" cy="2027520"/>
            <a:chOff x="1061640" y="4415040"/>
            <a:chExt cx="2027520" cy="2027520"/>
          </a:xfrm>
        </p:grpSpPr>
        <p:sp>
          <p:nvSpPr>
            <p:cNvPr id="1718" name="object 55"/>
            <p:cNvSpPr/>
            <p:nvPr/>
          </p:nvSpPr>
          <p:spPr>
            <a:xfrm>
              <a:off x="2075400" y="4415040"/>
              <a:ext cx="1013760" cy="1265760"/>
            </a:xfrm>
            <a:custGeom>
              <a:avLst/>
              <a:gdLst>
                <a:gd name="textAreaLeft" fmla="*/ 0 w 1013760"/>
                <a:gd name="textAreaRight" fmla="*/ 1014120 w 1013760"/>
                <a:gd name="textAreaTop" fmla="*/ 0 h 1265760"/>
                <a:gd name="textAreaBottom" fmla="*/ 1266120 h 1265760"/>
              </a:gdLst>
              <a:ahLst/>
              <a:rect l="textAreaLeft" t="textAreaTop" r="textAreaRight" b="textAreaBottom"/>
              <a:pathLst>
                <a:path w="1014094" h="1266189">
                  <a:moveTo>
                    <a:pt x="0" y="0"/>
                  </a:moveTo>
                  <a:lnTo>
                    <a:pt x="0" y="1013968"/>
                  </a:lnTo>
                  <a:lnTo>
                    <a:pt x="982218" y="1266126"/>
                  </a:lnTo>
                  <a:lnTo>
                    <a:pt x="993615" y="1216434"/>
                  </a:lnTo>
                  <a:lnTo>
                    <a:pt x="1002501" y="1166282"/>
                  </a:lnTo>
                  <a:lnTo>
                    <a:pt x="1008863" y="1115759"/>
                  </a:lnTo>
                  <a:lnTo>
                    <a:pt x="1012689" y="1064958"/>
                  </a:lnTo>
                  <a:lnTo>
                    <a:pt x="1013968" y="1013968"/>
                  </a:lnTo>
                  <a:lnTo>
                    <a:pt x="1012864" y="966240"/>
                  </a:lnTo>
                  <a:lnTo>
                    <a:pt x="1009586" y="919080"/>
                  </a:lnTo>
                  <a:lnTo>
                    <a:pt x="1004182" y="872536"/>
                  </a:lnTo>
                  <a:lnTo>
                    <a:pt x="996701" y="826657"/>
                  </a:lnTo>
                  <a:lnTo>
                    <a:pt x="987192" y="781492"/>
                  </a:lnTo>
                  <a:lnTo>
                    <a:pt x="975702" y="737089"/>
                  </a:lnTo>
                  <a:lnTo>
                    <a:pt x="962282" y="693497"/>
                  </a:lnTo>
                  <a:lnTo>
                    <a:pt x="946978" y="650765"/>
                  </a:lnTo>
                  <a:lnTo>
                    <a:pt x="929841" y="608941"/>
                  </a:lnTo>
                  <a:lnTo>
                    <a:pt x="910919" y="568075"/>
                  </a:lnTo>
                  <a:lnTo>
                    <a:pt x="890260" y="528214"/>
                  </a:lnTo>
                  <a:lnTo>
                    <a:pt x="867913" y="489408"/>
                  </a:lnTo>
                  <a:lnTo>
                    <a:pt x="843927" y="451706"/>
                  </a:lnTo>
                  <a:lnTo>
                    <a:pt x="818351" y="415155"/>
                  </a:lnTo>
                  <a:lnTo>
                    <a:pt x="791232" y="379806"/>
                  </a:lnTo>
                  <a:lnTo>
                    <a:pt x="762621" y="345706"/>
                  </a:lnTo>
                  <a:lnTo>
                    <a:pt x="732564" y="312904"/>
                  </a:lnTo>
                  <a:lnTo>
                    <a:pt x="701112" y="281449"/>
                  </a:lnTo>
                  <a:lnTo>
                    <a:pt x="668313" y="251389"/>
                  </a:lnTo>
                  <a:lnTo>
                    <a:pt x="634215" y="222775"/>
                  </a:lnTo>
                  <a:lnTo>
                    <a:pt x="598866" y="195653"/>
                  </a:lnTo>
                  <a:lnTo>
                    <a:pt x="562317" y="170073"/>
                  </a:lnTo>
                  <a:lnTo>
                    <a:pt x="524615" y="146083"/>
                  </a:lnTo>
                  <a:lnTo>
                    <a:pt x="485809" y="123733"/>
                  </a:lnTo>
                  <a:lnTo>
                    <a:pt x="445948" y="103070"/>
                  </a:lnTo>
                  <a:lnTo>
                    <a:pt x="405080" y="84144"/>
                  </a:lnTo>
                  <a:lnTo>
                    <a:pt x="363254" y="67004"/>
                  </a:lnTo>
                  <a:lnTo>
                    <a:pt x="320519" y="51698"/>
                  </a:lnTo>
                  <a:lnTo>
                    <a:pt x="276923" y="38274"/>
                  </a:lnTo>
                  <a:lnTo>
                    <a:pt x="232515" y="26782"/>
                  </a:lnTo>
                  <a:lnTo>
                    <a:pt x="187344" y="17270"/>
                  </a:lnTo>
                  <a:lnTo>
                    <a:pt x="141458" y="9787"/>
                  </a:lnTo>
                  <a:lnTo>
                    <a:pt x="94907" y="4382"/>
                  </a:lnTo>
                  <a:lnTo>
                    <a:pt x="47737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object 56"/>
            <p:cNvSpPr/>
            <p:nvPr/>
          </p:nvSpPr>
          <p:spPr>
            <a:xfrm>
              <a:off x="2075400" y="5428800"/>
              <a:ext cx="982080" cy="1011960"/>
            </a:xfrm>
            <a:custGeom>
              <a:avLst/>
              <a:gdLst>
                <a:gd name="textAreaLeft" fmla="*/ 0 w 982080"/>
                <a:gd name="textAreaRight" fmla="*/ 982440 w 98208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982344" h="1012189">
                  <a:moveTo>
                    <a:pt x="0" y="0"/>
                  </a:moveTo>
                  <a:lnTo>
                    <a:pt x="63753" y="1011948"/>
                  </a:lnTo>
                  <a:lnTo>
                    <a:pt x="112177" y="1007743"/>
                  </a:lnTo>
                  <a:lnTo>
                    <a:pt x="159984" y="1001289"/>
                  </a:lnTo>
                  <a:lnTo>
                    <a:pt x="207115" y="992635"/>
                  </a:lnTo>
                  <a:lnTo>
                    <a:pt x="253513" y="981830"/>
                  </a:lnTo>
                  <a:lnTo>
                    <a:pt x="299116" y="968923"/>
                  </a:lnTo>
                  <a:lnTo>
                    <a:pt x="343868" y="953964"/>
                  </a:lnTo>
                  <a:lnTo>
                    <a:pt x="387708" y="937000"/>
                  </a:lnTo>
                  <a:lnTo>
                    <a:pt x="430577" y="918081"/>
                  </a:lnTo>
                  <a:lnTo>
                    <a:pt x="472416" y="897256"/>
                  </a:lnTo>
                  <a:lnTo>
                    <a:pt x="513167" y="874573"/>
                  </a:lnTo>
                  <a:lnTo>
                    <a:pt x="552769" y="850082"/>
                  </a:lnTo>
                  <a:lnTo>
                    <a:pt x="591165" y="823831"/>
                  </a:lnTo>
                  <a:lnTo>
                    <a:pt x="628294" y="795869"/>
                  </a:lnTo>
                  <a:lnTo>
                    <a:pt x="664099" y="766246"/>
                  </a:lnTo>
                  <a:lnTo>
                    <a:pt x="698519" y="735009"/>
                  </a:lnTo>
                  <a:lnTo>
                    <a:pt x="731496" y="702209"/>
                  </a:lnTo>
                  <a:lnTo>
                    <a:pt x="762971" y="667893"/>
                  </a:lnTo>
                  <a:lnTo>
                    <a:pt x="792884" y="632111"/>
                  </a:lnTo>
                  <a:lnTo>
                    <a:pt x="821177" y="594912"/>
                  </a:lnTo>
                  <a:lnTo>
                    <a:pt x="847790" y="556344"/>
                  </a:lnTo>
                  <a:lnTo>
                    <a:pt x="872664" y="516456"/>
                  </a:lnTo>
                  <a:lnTo>
                    <a:pt x="895741" y="475298"/>
                  </a:lnTo>
                  <a:lnTo>
                    <a:pt x="916961" y="432918"/>
                  </a:lnTo>
                  <a:lnTo>
                    <a:pt x="936265" y="389365"/>
                  </a:lnTo>
                  <a:lnTo>
                    <a:pt x="953594" y="344688"/>
                  </a:lnTo>
                  <a:lnTo>
                    <a:pt x="968889" y="298936"/>
                  </a:lnTo>
                  <a:lnTo>
                    <a:pt x="982090" y="252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bject 57"/>
            <p:cNvSpPr/>
            <p:nvPr/>
          </p:nvSpPr>
          <p:spPr>
            <a:xfrm>
              <a:off x="1111320" y="5428800"/>
              <a:ext cx="1027800" cy="1013760"/>
            </a:xfrm>
            <a:custGeom>
              <a:avLst/>
              <a:gdLst>
                <a:gd name="textAreaLeft" fmla="*/ 0 w 1027800"/>
                <a:gd name="textAreaRight" fmla="*/ 1028160 w 102780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1028064" h="1014095">
                  <a:moveTo>
                    <a:pt x="964260" y="0"/>
                  </a:moveTo>
                  <a:lnTo>
                    <a:pt x="0" y="313334"/>
                  </a:lnTo>
                  <a:lnTo>
                    <a:pt x="16384" y="359907"/>
                  </a:lnTo>
                  <a:lnTo>
                    <a:pt x="34845" y="405267"/>
                  </a:lnTo>
                  <a:lnTo>
                    <a:pt x="55317" y="449368"/>
                  </a:lnTo>
                  <a:lnTo>
                    <a:pt x="77733" y="492166"/>
                  </a:lnTo>
                  <a:lnTo>
                    <a:pt x="102029" y="533616"/>
                  </a:lnTo>
                  <a:lnTo>
                    <a:pt x="128138" y="573673"/>
                  </a:lnTo>
                  <a:lnTo>
                    <a:pt x="155994" y="612293"/>
                  </a:lnTo>
                  <a:lnTo>
                    <a:pt x="185532" y="649430"/>
                  </a:lnTo>
                  <a:lnTo>
                    <a:pt x="216685" y="685041"/>
                  </a:lnTo>
                  <a:lnTo>
                    <a:pt x="249388" y="719079"/>
                  </a:lnTo>
                  <a:lnTo>
                    <a:pt x="283575" y="751502"/>
                  </a:lnTo>
                  <a:lnTo>
                    <a:pt x="319180" y="782262"/>
                  </a:lnTo>
                  <a:lnTo>
                    <a:pt x="356138" y="811317"/>
                  </a:lnTo>
                  <a:lnTo>
                    <a:pt x="394382" y="838620"/>
                  </a:lnTo>
                  <a:lnTo>
                    <a:pt x="433847" y="864128"/>
                  </a:lnTo>
                  <a:lnTo>
                    <a:pt x="474466" y="887795"/>
                  </a:lnTo>
                  <a:lnTo>
                    <a:pt x="516175" y="909578"/>
                  </a:lnTo>
                  <a:lnTo>
                    <a:pt x="558907" y="929430"/>
                  </a:lnTo>
                  <a:lnTo>
                    <a:pt x="602596" y="947307"/>
                  </a:lnTo>
                  <a:lnTo>
                    <a:pt x="647176" y="963165"/>
                  </a:lnTo>
                  <a:lnTo>
                    <a:pt x="692582" y="976958"/>
                  </a:lnTo>
                  <a:lnTo>
                    <a:pt x="738748" y="988642"/>
                  </a:lnTo>
                  <a:lnTo>
                    <a:pt x="785608" y="998172"/>
                  </a:lnTo>
                  <a:lnTo>
                    <a:pt x="833097" y="1005504"/>
                  </a:lnTo>
                  <a:lnTo>
                    <a:pt x="881147" y="1010592"/>
                  </a:lnTo>
                  <a:lnTo>
                    <a:pt x="929694" y="1013392"/>
                  </a:lnTo>
                  <a:lnTo>
                    <a:pt x="978671" y="1013859"/>
                  </a:lnTo>
                  <a:lnTo>
                    <a:pt x="1028014" y="1011948"/>
                  </a:lnTo>
                  <a:lnTo>
                    <a:pt x="964260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object 58"/>
            <p:cNvSpPr/>
            <p:nvPr/>
          </p:nvSpPr>
          <p:spPr>
            <a:xfrm>
              <a:off x="1061640" y="5365080"/>
              <a:ext cx="1013760" cy="376920"/>
            </a:xfrm>
            <a:custGeom>
              <a:avLst/>
              <a:gdLst>
                <a:gd name="textAreaLeft" fmla="*/ 0 w 1013760"/>
                <a:gd name="textAreaRight" fmla="*/ 1014120 w 101376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1014094" h="377189">
                  <a:moveTo>
                    <a:pt x="1878" y="0"/>
                  </a:moveTo>
                  <a:lnTo>
                    <a:pt x="0" y="47820"/>
                  </a:lnTo>
                  <a:lnTo>
                    <a:pt x="379" y="95599"/>
                  </a:lnTo>
                  <a:lnTo>
                    <a:pt x="3005" y="143256"/>
                  </a:lnTo>
                  <a:lnTo>
                    <a:pt x="7869" y="190714"/>
                  </a:lnTo>
                  <a:lnTo>
                    <a:pt x="14960" y="237892"/>
                  </a:lnTo>
                  <a:lnTo>
                    <a:pt x="24270" y="284712"/>
                  </a:lnTo>
                  <a:lnTo>
                    <a:pt x="35787" y="331095"/>
                  </a:lnTo>
                  <a:lnTo>
                    <a:pt x="49503" y="376961"/>
                  </a:lnTo>
                  <a:lnTo>
                    <a:pt x="1013763" y="63627"/>
                  </a:lnTo>
                  <a:lnTo>
                    <a:pt x="1878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object 59"/>
            <p:cNvSpPr/>
            <p:nvPr/>
          </p:nvSpPr>
          <p:spPr>
            <a:xfrm>
              <a:off x="1063800" y="4782600"/>
              <a:ext cx="1011960" cy="64620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1012189" h="646429">
                  <a:moveTo>
                    <a:pt x="230708" y="0"/>
                  </a:moveTo>
                  <a:lnTo>
                    <a:pt x="200200" y="38749"/>
                  </a:lnTo>
                  <a:lnTo>
                    <a:pt x="171703" y="78803"/>
                  </a:lnTo>
                  <a:lnTo>
                    <a:pt x="145249" y="120082"/>
                  </a:lnTo>
                  <a:lnTo>
                    <a:pt x="120869" y="162505"/>
                  </a:lnTo>
                  <a:lnTo>
                    <a:pt x="98594" y="205994"/>
                  </a:lnTo>
                  <a:lnTo>
                    <a:pt x="78457" y="250468"/>
                  </a:lnTo>
                  <a:lnTo>
                    <a:pt x="60489" y="295848"/>
                  </a:lnTo>
                  <a:lnTo>
                    <a:pt x="44722" y="342053"/>
                  </a:lnTo>
                  <a:lnTo>
                    <a:pt x="31187" y="389004"/>
                  </a:lnTo>
                  <a:lnTo>
                    <a:pt x="19915" y="436622"/>
                  </a:lnTo>
                  <a:lnTo>
                    <a:pt x="10939" y="484827"/>
                  </a:lnTo>
                  <a:lnTo>
                    <a:pt x="4290" y="533538"/>
                  </a:lnTo>
                  <a:lnTo>
                    <a:pt x="0" y="582675"/>
                  </a:lnTo>
                  <a:lnTo>
                    <a:pt x="1011885" y="646302"/>
                  </a:lnTo>
                  <a:lnTo>
                    <a:pt x="230708" y="0"/>
                  </a:lnTo>
                  <a:close/>
                </a:path>
              </a:pathLst>
            </a:custGeom>
            <a:solidFill>
              <a:srgbClr val="419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object 60"/>
            <p:cNvSpPr/>
            <p:nvPr/>
          </p:nvSpPr>
          <p:spPr>
            <a:xfrm>
              <a:off x="1294560" y="4446720"/>
              <a:ext cx="781200" cy="98208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982080"/>
                <a:gd name="textAreaBottom" fmla="*/ 982440 h 982080"/>
              </a:gdLst>
              <a:ahLst/>
              <a:rect l="textAreaLeft" t="textAreaTop" r="textAreaRight" b="textAreaBottom"/>
              <a:pathLst>
                <a:path w="781685" h="982345">
                  <a:moveTo>
                    <a:pt x="529082" y="0"/>
                  </a:moveTo>
                  <a:lnTo>
                    <a:pt x="481629" y="13415"/>
                  </a:lnTo>
                  <a:lnTo>
                    <a:pt x="435037" y="29069"/>
                  </a:lnTo>
                  <a:lnTo>
                    <a:pt x="389378" y="46917"/>
                  </a:lnTo>
                  <a:lnTo>
                    <a:pt x="344726" y="66911"/>
                  </a:lnTo>
                  <a:lnTo>
                    <a:pt x="301150" y="89006"/>
                  </a:lnTo>
                  <a:lnTo>
                    <a:pt x="258725" y="113154"/>
                  </a:lnTo>
                  <a:lnTo>
                    <a:pt x="217521" y="139309"/>
                  </a:lnTo>
                  <a:lnTo>
                    <a:pt x="177612" y="167425"/>
                  </a:lnTo>
                  <a:lnTo>
                    <a:pt x="139068" y="197455"/>
                  </a:lnTo>
                  <a:lnTo>
                    <a:pt x="101963" y="229353"/>
                  </a:lnTo>
                  <a:lnTo>
                    <a:pt x="66369" y="263072"/>
                  </a:lnTo>
                  <a:lnTo>
                    <a:pt x="32357" y="298565"/>
                  </a:lnTo>
                  <a:lnTo>
                    <a:pt x="0" y="335788"/>
                  </a:lnTo>
                  <a:lnTo>
                    <a:pt x="781177" y="982091"/>
                  </a:lnTo>
                  <a:lnTo>
                    <a:pt x="52908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bject 61"/>
            <p:cNvSpPr/>
            <p:nvPr/>
          </p:nvSpPr>
          <p:spPr>
            <a:xfrm>
              <a:off x="1823400" y="4415040"/>
              <a:ext cx="251640" cy="101376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252094" h="1014095">
                  <a:moveTo>
                    <a:pt x="252094" y="0"/>
                  </a:moveTo>
                  <a:lnTo>
                    <a:pt x="201163" y="1279"/>
                  </a:lnTo>
                  <a:lnTo>
                    <a:pt x="150391" y="5112"/>
                  </a:lnTo>
                  <a:lnTo>
                    <a:pt x="99874" y="11494"/>
                  </a:lnTo>
                  <a:lnTo>
                    <a:pt x="49711" y="20417"/>
                  </a:lnTo>
                  <a:lnTo>
                    <a:pt x="0" y="31876"/>
                  </a:lnTo>
                  <a:lnTo>
                    <a:pt x="252094" y="1013968"/>
                  </a:lnTo>
                  <a:lnTo>
                    <a:pt x="252094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5" name="object 62"/>
          <p:cNvSpPr/>
          <p:nvPr/>
        </p:nvSpPr>
        <p:spPr>
          <a:xfrm>
            <a:off x="2610720" y="482616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object 63"/>
          <p:cNvSpPr/>
          <p:nvPr/>
        </p:nvSpPr>
        <p:spPr>
          <a:xfrm>
            <a:off x="2486880" y="5969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object 64"/>
          <p:cNvSpPr/>
          <p:nvPr/>
        </p:nvSpPr>
        <p:spPr>
          <a:xfrm>
            <a:off x="1477080" y="601704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bject 65"/>
          <p:cNvSpPr/>
          <p:nvPr/>
        </p:nvSpPr>
        <p:spPr>
          <a:xfrm>
            <a:off x="1114920" y="5435640"/>
            <a:ext cx="181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bject 66"/>
          <p:cNvSpPr/>
          <p:nvPr/>
        </p:nvSpPr>
        <p:spPr>
          <a:xfrm>
            <a:off x="1162440" y="5045400"/>
            <a:ext cx="246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object 67"/>
          <p:cNvSpPr/>
          <p:nvPr/>
        </p:nvSpPr>
        <p:spPr>
          <a:xfrm>
            <a:off x="1496160" y="461664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bject 68"/>
          <p:cNvSpPr/>
          <p:nvPr/>
        </p:nvSpPr>
        <p:spPr>
          <a:xfrm>
            <a:off x="1877040" y="4454640"/>
            <a:ext cx="181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object 69"/>
          <p:cNvSpPr/>
          <p:nvPr/>
        </p:nvSpPr>
        <p:spPr>
          <a:xfrm>
            <a:off x="3494520" y="45903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bject 70"/>
          <p:cNvSpPr/>
          <p:nvPr/>
        </p:nvSpPr>
        <p:spPr>
          <a:xfrm>
            <a:off x="3581640" y="4523040"/>
            <a:ext cx="1166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ладкие</a:t>
            </a:r>
            <a:r>
              <a:rPr b="0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газ.</a:t>
            </a:r>
            <a:r>
              <a:rPr b="0" lang="en-US" sz="10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напит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bject 71"/>
          <p:cNvSpPr/>
          <p:nvPr/>
        </p:nvSpPr>
        <p:spPr>
          <a:xfrm>
            <a:off x="3494520" y="482040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object 72"/>
          <p:cNvSpPr/>
          <p:nvPr/>
        </p:nvSpPr>
        <p:spPr>
          <a:xfrm>
            <a:off x="3494520" y="50504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79">
                <a:moveTo>
                  <a:pt x="68579" y="0"/>
                </a:moveTo>
                <a:lnTo>
                  <a:pt x="0" y="0"/>
                </a:lnTo>
                <a:lnTo>
                  <a:pt x="0" y="68580"/>
                </a:lnTo>
                <a:lnTo>
                  <a:pt x="68579" y="68580"/>
                </a:lnTo>
                <a:lnTo>
                  <a:pt x="68579" y="0"/>
                </a:lnTo>
                <a:close/>
              </a:path>
            </a:pathLst>
          </a:custGeom>
          <a:solidFill>
            <a:srgbClr val="88a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bject 73"/>
          <p:cNvSpPr/>
          <p:nvPr/>
        </p:nvSpPr>
        <p:spPr>
          <a:xfrm>
            <a:off x="3494520" y="527904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bject 74"/>
          <p:cNvSpPr/>
          <p:nvPr/>
        </p:nvSpPr>
        <p:spPr>
          <a:xfrm>
            <a:off x="3494520" y="550908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419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object 75"/>
          <p:cNvSpPr/>
          <p:nvPr/>
        </p:nvSpPr>
        <p:spPr>
          <a:xfrm>
            <a:off x="3494520" y="573948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object 76"/>
          <p:cNvSpPr/>
          <p:nvPr/>
        </p:nvSpPr>
        <p:spPr>
          <a:xfrm>
            <a:off x="3581640" y="4674960"/>
            <a:ext cx="9504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Вода Пиво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Ма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Моло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ыт.</a:t>
            </a:r>
            <a:r>
              <a:rPr b="0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тех.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 хим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object 77"/>
          <p:cNvSpPr/>
          <p:nvPr/>
        </p:nvSpPr>
        <p:spPr>
          <a:xfrm>
            <a:off x="3494520" y="596808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c5d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bject 78"/>
          <p:cNvSpPr/>
          <p:nvPr/>
        </p:nvSpPr>
        <p:spPr>
          <a:xfrm>
            <a:off x="3581640" y="5901480"/>
            <a:ext cx="42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bject 79"/>
          <p:cNvSpPr/>
          <p:nvPr/>
        </p:nvSpPr>
        <p:spPr>
          <a:xfrm>
            <a:off x="528120" y="3245400"/>
            <a:ext cx="38001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254160">
              <a:lnSpc>
                <a:spcPct val="100000"/>
              </a:lnSpc>
              <a:spcBef>
                <a:spcPts val="96"/>
              </a:spcBef>
              <a:tabLst>
                <a:tab algn="l" pos="906120"/>
                <a:tab algn="l" pos="1558800"/>
                <a:tab algn="l" pos="2211840"/>
                <a:tab algn="l" pos="2864520"/>
                <a:tab algn="l" pos="351720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spcBef>
                <a:spcPts val="26"/>
              </a:spcBef>
              <a:tabLst>
                <a:tab algn="l" pos="906120"/>
                <a:tab algn="l" pos="1558800"/>
                <a:tab algn="l" pos="2211840"/>
                <a:tab algn="l" pos="2864520"/>
                <a:tab algn="l" pos="3517200"/>
              </a:tabLst>
            </a:pP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  <a:p>
            <a:pPr marL="1314360" indent="-13024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потребления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бутылочного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ПЭТФ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object 80" descr=""/>
          <p:cNvPicPr/>
          <p:nvPr/>
        </p:nvPicPr>
        <p:blipFill>
          <a:blip r:embed="rId2"/>
          <a:stretch/>
        </p:blipFill>
        <p:spPr>
          <a:xfrm>
            <a:off x="5162400" y="3455640"/>
            <a:ext cx="3023280" cy="641160"/>
          </a:xfrm>
          <a:prstGeom prst="rect">
            <a:avLst/>
          </a:prstGeom>
          <a:ln w="0">
            <a:noFill/>
          </a:ln>
        </p:spPr>
      </p:pic>
      <p:sp>
        <p:nvSpPr>
          <p:cNvPr id="1744" name="object 81"/>
          <p:cNvSpPr/>
          <p:nvPr/>
        </p:nvSpPr>
        <p:spPr>
          <a:xfrm>
            <a:off x="5162400" y="3455640"/>
            <a:ext cx="3023640" cy="55044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4080" bIns="0" anchor="t">
            <a:spAutoFit/>
          </a:bodyPr>
          <a:p>
            <a:pPr marL="90720">
              <a:lnSpc>
                <a:spcPct val="100000"/>
              </a:lnSpc>
              <a:spcBef>
                <a:spcPts val="505"/>
              </a:spcBef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Ф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астет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потреб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720">
              <a:lnSpc>
                <a:spcPct val="100000"/>
              </a:lnSpc>
            </a:pP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бутилированной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оды</a:t>
            </a:r>
            <a:r>
              <a:rPr b="0" lang="en-US" sz="16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744200" y="102600"/>
            <a:ext cx="29775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Гибкая</a:t>
            </a:r>
            <a:r>
              <a:rPr b="0" lang="en-US" sz="2400" spc="-13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упаковк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ldNum" idx="20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388AFC03-3E36-4110-BC44-AD523DD1F70D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object 3"/>
          <p:cNvGrpSpPr/>
          <p:nvPr/>
        </p:nvGrpSpPr>
        <p:grpSpPr>
          <a:xfrm>
            <a:off x="896040" y="1484280"/>
            <a:ext cx="3857760" cy="1668600"/>
            <a:chOff x="896040" y="1484280"/>
            <a:chExt cx="3857760" cy="1668600"/>
          </a:xfrm>
        </p:grpSpPr>
        <p:sp>
          <p:nvSpPr>
            <p:cNvPr id="1748" name="object 4"/>
            <p:cNvSpPr/>
            <p:nvPr/>
          </p:nvSpPr>
          <p:spPr>
            <a:xfrm>
              <a:off x="937080" y="2135160"/>
              <a:ext cx="708480" cy="652320"/>
            </a:xfrm>
            <a:custGeom>
              <a:avLst/>
              <a:gdLst>
                <a:gd name="textAreaLeft" fmla="*/ 0 w 708480"/>
                <a:gd name="textAreaRight" fmla="*/ 708840 w 70848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708660" h="652780">
                  <a:moveTo>
                    <a:pt x="0" y="652272"/>
                  </a:moveTo>
                  <a:lnTo>
                    <a:pt x="163068" y="652272"/>
                  </a:lnTo>
                </a:path>
                <a:path w="708660" h="652780">
                  <a:moveTo>
                    <a:pt x="381000" y="652272"/>
                  </a:moveTo>
                  <a:lnTo>
                    <a:pt x="708660" y="652272"/>
                  </a:lnTo>
                </a:path>
                <a:path w="708660" h="652780">
                  <a:moveTo>
                    <a:pt x="0" y="326136"/>
                  </a:moveTo>
                  <a:lnTo>
                    <a:pt x="163068" y="326136"/>
                  </a:lnTo>
                </a:path>
                <a:path w="708660" h="652780">
                  <a:moveTo>
                    <a:pt x="381000" y="326136"/>
                  </a:moveTo>
                  <a:lnTo>
                    <a:pt x="708660" y="326136"/>
                  </a:lnTo>
                </a:path>
                <a:path w="708660" h="652780">
                  <a:moveTo>
                    <a:pt x="0" y="0"/>
                  </a:moveTo>
                  <a:lnTo>
                    <a:pt x="163068" y="0"/>
                  </a:lnTo>
                </a:path>
                <a:path w="708660" h="652780">
                  <a:moveTo>
                    <a:pt x="381000" y="0"/>
                  </a:moveTo>
                  <a:lnTo>
                    <a:pt x="7086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bject 5"/>
            <p:cNvSpPr/>
            <p:nvPr/>
          </p:nvSpPr>
          <p:spPr>
            <a:xfrm>
              <a:off x="1100160" y="1940040"/>
              <a:ext cx="218160" cy="11732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218440" h="1173480">
                  <a:moveTo>
                    <a:pt x="217931" y="0"/>
                  </a:moveTo>
                  <a:lnTo>
                    <a:pt x="0" y="0"/>
                  </a:lnTo>
                  <a:lnTo>
                    <a:pt x="0" y="1173480"/>
                  </a:lnTo>
                  <a:lnTo>
                    <a:pt x="217931" y="1173480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bject 6"/>
            <p:cNvSpPr/>
            <p:nvPr/>
          </p:nvSpPr>
          <p:spPr>
            <a:xfrm>
              <a:off x="1863720" y="2135160"/>
              <a:ext cx="327240" cy="6523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7660" h="652780">
                  <a:moveTo>
                    <a:pt x="0" y="652272"/>
                  </a:moveTo>
                  <a:lnTo>
                    <a:pt x="327660" y="652272"/>
                  </a:lnTo>
                </a:path>
                <a:path w="327660" h="652780">
                  <a:moveTo>
                    <a:pt x="0" y="326136"/>
                  </a:moveTo>
                  <a:lnTo>
                    <a:pt x="327660" y="326136"/>
                  </a:lnTo>
                </a:path>
                <a:path w="327660" h="652780">
                  <a:moveTo>
                    <a:pt x="0" y="0"/>
                  </a:moveTo>
                  <a:lnTo>
                    <a:pt x="3276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bject 7"/>
            <p:cNvSpPr/>
            <p:nvPr/>
          </p:nvSpPr>
          <p:spPr>
            <a:xfrm>
              <a:off x="1645920" y="1908000"/>
              <a:ext cx="218160" cy="12056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205640"/>
                <a:gd name="textAreaBottom" fmla="*/ 1206000 h 1205640"/>
              </a:gdLst>
              <a:ahLst/>
              <a:rect l="textAreaLeft" t="textAreaTop" r="textAreaRight" b="textAreaBottom"/>
              <a:pathLst>
                <a:path w="218439" h="1205864">
                  <a:moveTo>
                    <a:pt x="217931" y="0"/>
                  </a:moveTo>
                  <a:lnTo>
                    <a:pt x="0" y="0"/>
                  </a:lnTo>
                  <a:lnTo>
                    <a:pt x="0" y="1205484"/>
                  </a:lnTo>
                  <a:lnTo>
                    <a:pt x="217931" y="1205484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bject 8"/>
            <p:cNvSpPr/>
            <p:nvPr/>
          </p:nvSpPr>
          <p:spPr>
            <a:xfrm>
              <a:off x="2409480" y="2135160"/>
              <a:ext cx="326160" cy="65232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6389" h="652780">
                  <a:moveTo>
                    <a:pt x="0" y="652272"/>
                  </a:moveTo>
                  <a:lnTo>
                    <a:pt x="326136" y="652272"/>
                  </a:lnTo>
                </a:path>
                <a:path w="326389" h="652780">
                  <a:moveTo>
                    <a:pt x="0" y="326136"/>
                  </a:moveTo>
                  <a:lnTo>
                    <a:pt x="326136" y="326136"/>
                  </a:lnTo>
                </a:path>
                <a:path w="326389" h="652780">
                  <a:moveTo>
                    <a:pt x="0" y="0"/>
                  </a:moveTo>
                  <a:lnTo>
                    <a:pt x="32613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bject 9"/>
            <p:cNvSpPr/>
            <p:nvPr/>
          </p:nvSpPr>
          <p:spPr>
            <a:xfrm>
              <a:off x="2191680" y="1874520"/>
              <a:ext cx="218160" cy="12391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239120"/>
                <a:gd name="textAreaBottom" fmla="*/ 1239480 h 1239120"/>
              </a:gdLst>
              <a:ahLst/>
              <a:rect l="textAreaLeft" t="textAreaTop" r="textAreaRight" b="textAreaBottom"/>
              <a:pathLst>
                <a:path w="218439" h="1239520">
                  <a:moveTo>
                    <a:pt x="217931" y="0"/>
                  </a:moveTo>
                  <a:lnTo>
                    <a:pt x="0" y="0"/>
                  </a:lnTo>
                  <a:lnTo>
                    <a:pt x="0" y="1239012"/>
                  </a:lnTo>
                  <a:lnTo>
                    <a:pt x="217931" y="1239012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bject 10"/>
            <p:cNvSpPr/>
            <p:nvPr/>
          </p:nvSpPr>
          <p:spPr>
            <a:xfrm>
              <a:off x="2953440" y="2135160"/>
              <a:ext cx="327240" cy="6523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7660" h="652780">
                  <a:moveTo>
                    <a:pt x="0" y="652272"/>
                  </a:moveTo>
                  <a:lnTo>
                    <a:pt x="327660" y="652272"/>
                  </a:lnTo>
                </a:path>
                <a:path w="327660" h="652780">
                  <a:moveTo>
                    <a:pt x="0" y="326136"/>
                  </a:moveTo>
                  <a:lnTo>
                    <a:pt x="327660" y="326136"/>
                  </a:lnTo>
                </a:path>
                <a:path w="327660" h="652780">
                  <a:moveTo>
                    <a:pt x="0" y="0"/>
                  </a:moveTo>
                  <a:lnTo>
                    <a:pt x="3276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bject 11"/>
            <p:cNvSpPr/>
            <p:nvPr/>
          </p:nvSpPr>
          <p:spPr>
            <a:xfrm>
              <a:off x="937080" y="1808280"/>
              <a:ext cx="2889360" cy="4680"/>
            </a:xfrm>
            <a:custGeom>
              <a:avLst/>
              <a:gdLst>
                <a:gd name="textAreaLeft" fmla="*/ 0 w 2889360"/>
                <a:gd name="textAreaRight" fmla="*/ 2889720 w 288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889885" h="5080">
                  <a:moveTo>
                    <a:pt x="0" y="4572"/>
                  </a:moveTo>
                  <a:lnTo>
                    <a:pt x="2889504" y="4572"/>
                  </a:lnTo>
                </a:path>
                <a:path w="2889885" h="5080">
                  <a:moveTo>
                    <a:pt x="0" y="0"/>
                  </a:moveTo>
                  <a:lnTo>
                    <a:pt x="288950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bject 12"/>
            <p:cNvSpPr/>
            <p:nvPr/>
          </p:nvSpPr>
          <p:spPr>
            <a:xfrm>
              <a:off x="2735640" y="1842480"/>
              <a:ext cx="218160" cy="127080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270800"/>
                <a:gd name="textAreaBottom" fmla="*/ 1271160 h 1270800"/>
              </a:gdLst>
              <a:ahLst/>
              <a:rect l="textAreaLeft" t="textAreaTop" r="textAreaRight" b="textAreaBottom"/>
              <a:pathLst>
                <a:path w="218439" h="1271270">
                  <a:moveTo>
                    <a:pt x="217931" y="0"/>
                  </a:moveTo>
                  <a:lnTo>
                    <a:pt x="0" y="0"/>
                  </a:lnTo>
                  <a:lnTo>
                    <a:pt x="0" y="1271016"/>
                  </a:lnTo>
                  <a:lnTo>
                    <a:pt x="217931" y="1271016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bject 13"/>
            <p:cNvSpPr/>
            <p:nvPr/>
          </p:nvSpPr>
          <p:spPr>
            <a:xfrm>
              <a:off x="3499200" y="2135160"/>
              <a:ext cx="327240" cy="6523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7660" h="652780">
                  <a:moveTo>
                    <a:pt x="0" y="652272"/>
                  </a:moveTo>
                  <a:lnTo>
                    <a:pt x="327660" y="652272"/>
                  </a:lnTo>
                </a:path>
                <a:path w="327660" h="652780">
                  <a:moveTo>
                    <a:pt x="0" y="326136"/>
                  </a:moveTo>
                  <a:lnTo>
                    <a:pt x="327660" y="326136"/>
                  </a:lnTo>
                </a:path>
                <a:path w="327660" h="652780">
                  <a:moveTo>
                    <a:pt x="0" y="0"/>
                  </a:moveTo>
                  <a:lnTo>
                    <a:pt x="3276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bject 14"/>
            <p:cNvSpPr/>
            <p:nvPr/>
          </p:nvSpPr>
          <p:spPr>
            <a:xfrm>
              <a:off x="3281040" y="1810440"/>
              <a:ext cx="218160" cy="13028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218439" h="1303020">
                  <a:moveTo>
                    <a:pt x="217931" y="0"/>
                  </a:moveTo>
                  <a:lnTo>
                    <a:pt x="0" y="0"/>
                  </a:lnTo>
                  <a:lnTo>
                    <a:pt x="0" y="1303020"/>
                  </a:lnTo>
                  <a:lnTo>
                    <a:pt x="217931" y="1303020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bject 15"/>
            <p:cNvSpPr/>
            <p:nvPr/>
          </p:nvSpPr>
          <p:spPr>
            <a:xfrm>
              <a:off x="4044600" y="2135160"/>
              <a:ext cx="326160" cy="65232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6389" h="652780">
                  <a:moveTo>
                    <a:pt x="0" y="652272"/>
                  </a:moveTo>
                  <a:lnTo>
                    <a:pt x="326136" y="652272"/>
                  </a:lnTo>
                </a:path>
                <a:path w="326389" h="652780">
                  <a:moveTo>
                    <a:pt x="0" y="326136"/>
                  </a:moveTo>
                  <a:lnTo>
                    <a:pt x="326136" y="326136"/>
                  </a:lnTo>
                </a:path>
                <a:path w="326389" h="652780">
                  <a:moveTo>
                    <a:pt x="0" y="0"/>
                  </a:moveTo>
                  <a:lnTo>
                    <a:pt x="32613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bject 16"/>
            <p:cNvSpPr/>
            <p:nvPr/>
          </p:nvSpPr>
          <p:spPr>
            <a:xfrm>
              <a:off x="4044600" y="1808280"/>
              <a:ext cx="326160" cy="468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6389" h="5080">
                  <a:moveTo>
                    <a:pt x="0" y="4572"/>
                  </a:moveTo>
                  <a:lnTo>
                    <a:pt x="326136" y="4572"/>
                  </a:lnTo>
                </a:path>
                <a:path w="326389" h="5080">
                  <a:moveTo>
                    <a:pt x="0" y="0"/>
                  </a:moveTo>
                  <a:lnTo>
                    <a:pt x="326136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bject 17"/>
            <p:cNvSpPr/>
            <p:nvPr/>
          </p:nvSpPr>
          <p:spPr>
            <a:xfrm>
              <a:off x="3826800" y="1679400"/>
              <a:ext cx="218160" cy="14342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434240"/>
                <a:gd name="textAreaBottom" fmla="*/ 1434600 h 1434240"/>
              </a:gdLst>
              <a:ahLst/>
              <a:rect l="textAreaLeft" t="textAreaTop" r="textAreaRight" b="textAreaBottom"/>
              <a:pathLst>
                <a:path w="218439" h="1434464">
                  <a:moveTo>
                    <a:pt x="217932" y="0"/>
                  </a:moveTo>
                  <a:lnTo>
                    <a:pt x="0" y="0"/>
                  </a:lnTo>
                  <a:lnTo>
                    <a:pt x="0" y="1434084"/>
                  </a:lnTo>
                  <a:lnTo>
                    <a:pt x="217932" y="1434084"/>
                  </a:lnTo>
                  <a:lnTo>
                    <a:pt x="21793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bject 18"/>
            <p:cNvSpPr/>
            <p:nvPr/>
          </p:nvSpPr>
          <p:spPr>
            <a:xfrm>
              <a:off x="4588920" y="2135160"/>
              <a:ext cx="164880" cy="6523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65100" h="652780">
                  <a:moveTo>
                    <a:pt x="0" y="652272"/>
                  </a:moveTo>
                  <a:lnTo>
                    <a:pt x="164591" y="652272"/>
                  </a:lnTo>
                </a:path>
                <a:path w="165100" h="652780">
                  <a:moveTo>
                    <a:pt x="0" y="326136"/>
                  </a:moveTo>
                  <a:lnTo>
                    <a:pt x="164591" y="326136"/>
                  </a:lnTo>
                </a:path>
                <a:path w="165100" h="652780">
                  <a:moveTo>
                    <a:pt x="0" y="0"/>
                  </a:moveTo>
                  <a:lnTo>
                    <a:pt x="1645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bject 19"/>
            <p:cNvSpPr/>
            <p:nvPr/>
          </p:nvSpPr>
          <p:spPr>
            <a:xfrm>
              <a:off x="4588920" y="1808280"/>
              <a:ext cx="164880" cy="4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5100" h="5080">
                  <a:moveTo>
                    <a:pt x="0" y="4572"/>
                  </a:moveTo>
                  <a:lnTo>
                    <a:pt x="164591" y="4572"/>
                  </a:lnTo>
                </a:path>
                <a:path w="165100" h="5080">
                  <a:moveTo>
                    <a:pt x="0" y="0"/>
                  </a:moveTo>
                  <a:lnTo>
                    <a:pt x="164591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bject 20"/>
            <p:cNvSpPr/>
            <p:nvPr/>
          </p:nvSpPr>
          <p:spPr>
            <a:xfrm>
              <a:off x="4370760" y="1647360"/>
              <a:ext cx="218160" cy="14659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465920"/>
                <a:gd name="textAreaBottom" fmla="*/ 1466280 h 1465920"/>
              </a:gdLst>
              <a:ahLst/>
              <a:rect l="textAreaLeft" t="textAreaTop" r="textAreaRight" b="textAreaBottom"/>
              <a:pathLst>
                <a:path w="218439" h="1466214">
                  <a:moveTo>
                    <a:pt x="217931" y="0"/>
                  </a:moveTo>
                  <a:lnTo>
                    <a:pt x="0" y="0"/>
                  </a:lnTo>
                  <a:lnTo>
                    <a:pt x="0" y="1466088"/>
                  </a:lnTo>
                  <a:lnTo>
                    <a:pt x="217931" y="1466088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bject 21"/>
            <p:cNvSpPr/>
            <p:nvPr/>
          </p:nvSpPr>
          <p:spPr>
            <a:xfrm>
              <a:off x="896040" y="1484280"/>
              <a:ext cx="3857400" cy="1668600"/>
            </a:xfrm>
            <a:custGeom>
              <a:avLst/>
              <a:gdLst>
                <a:gd name="textAreaLeft" fmla="*/ 0 w 3857400"/>
                <a:gd name="textAreaRight" fmla="*/ 3857760 w 3857400"/>
                <a:gd name="textAreaTop" fmla="*/ 0 h 1668600"/>
                <a:gd name="textAreaBottom" fmla="*/ 1668960 h 1668600"/>
              </a:gdLst>
              <a:ahLst/>
              <a:rect l="textAreaLeft" t="textAreaTop" r="textAreaRight" b="textAreaBottom"/>
              <a:pathLst>
                <a:path w="3857625" h="1668780">
                  <a:moveTo>
                    <a:pt x="41147" y="0"/>
                  </a:moveTo>
                  <a:lnTo>
                    <a:pt x="3857243" y="0"/>
                  </a:lnTo>
                </a:path>
                <a:path w="3857625" h="1668780">
                  <a:moveTo>
                    <a:pt x="41147" y="1629156"/>
                  </a:moveTo>
                  <a:lnTo>
                    <a:pt x="41147" y="0"/>
                  </a:lnTo>
                </a:path>
                <a:path w="3857625" h="1668780">
                  <a:moveTo>
                    <a:pt x="0" y="1629156"/>
                  </a:moveTo>
                  <a:lnTo>
                    <a:pt x="41147" y="1629156"/>
                  </a:lnTo>
                </a:path>
                <a:path w="3857625" h="1668780">
                  <a:moveTo>
                    <a:pt x="0" y="1303020"/>
                  </a:moveTo>
                  <a:lnTo>
                    <a:pt x="41147" y="1303020"/>
                  </a:lnTo>
                </a:path>
                <a:path w="3857625" h="1668780">
                  <a:moveTo>
                    <a:pt x="0" y="976884"/>
                  </a:moveTo>
                  <a:lnTo>
                    <a:pt x="41147" y="976884"/>
                  </a:lnTo>
                </a:path>
                <a:path w="3857625" h="1668780">
                  <a:moveTo>
                    <a:pt x="0" y="650748"/>
                  </a:moveTo>
                  <a:lnTo>
                    <a:pt x="41147" y="650748"/>
                  </a:lnTo>
                </a:path>
                <a:path w="3857625" h="1668780">
                  <a:moveTo>
                    <a:pt x="0" y="326136"/>
                  </a:moveTo>
                  <a:lnTo>
                    <a:pt x="41147" y="326136"/>
                  </a:lnTo>
                </a:path>
                <a:path w="3857625" h="1668780">
                  <a:moveTo>
                    <a:pt x="0" y="0"/>
                  </a:moveTo>
                  <a:lnTo>
                    <a:pt x="41147" y="0"/>
                  </a:lnTo>
                </a:path>
                <a:path w="3857625" h="1668780">
                  <a:moveTo>
                    <a:pt x="41147" y="1629156"/>
                  </a:moveTo>
                  <a:lnTo>
                    <a:pt x="3857243" y="1629156"/>
                  </a:lnTo>
                </a:path>
                <a:path w="3857625" h="1668780">
                  <a:moveTo>
                    <a:pt x="41147" y="1629156"/>
                  </a:moveTo>
                  <a:lnTo>
                    <a:pt x="41147" y="1668779"/>
                  </a:lnTo>
                </a:path>
                <a:path w="3857625" h="1668780">
                  <a:moveTo>
                    <a:pt x="586740" y="1629156"/>
                  </a:moveTo>
                  <a:lnTo>
                    <a:pt x="586740" y="1668779"/>
                  </a:lnTo>
                </a:path>
                <a:path w="3857625" h="1668780">
                  <a:moveTo>
                    <a:pt x="1130808" y="1629156"/>
                  </a:moveTo>
                  <a:lnTo>
                    <a:pt x="1130808" y="1668779"/>
                  </a:lnTo>
                </a:path>
                <a:path w="3857625" h="1668780">
                  <a:moveTo>
                    <a:pt x="1676400" y="1629156"/>
                  </a:moveTo>
                  <a:lnTo>
                    <a:pt x="1676400" y="1668779"/>
                  </a:lnTo>
                </a:path>
                <a:path w="3857625" h="1668780">
                  <a:moveTo>
                    <a:pt x="2221992" y="1629156"/>
                  </a:moveTo>
                  <a:lnTo>
                    <a:pt x="2221992" y="1668779"/>
                  </a:lnTo>
                </a:path>
                <a:path w="3857625" h="1668780">
                  <a:moveTo>
                    <a:pt x="2766060" y="1629156"/>
                  </a:moveTo>
                  <a:lnTo>
                    <a:pt x="2766060" y="1668779"/>
                  </a:lnTo>
                </a:path>
                <a:path w="3857625" h="1668780">
                  <a:moveTo>
                    <a:pt x="3311652" y="1629156"/>
                  </a:moveTo>
                  <a:lnTo>
                    <a:pt x="3311652" y="1668779"/>
                  </a:lnTo>
                </a:path>
                <a:path w="3857625" h="1668780">
                  <a:moveTo>
                    <a:pt x="3857243" y="1629156"/>
                  </a:moveTo>
                  <a:lnTo>
                    <a:pt x="3857243" y="1668779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6" name="object 22"/>
          <p:cNvSpPr/>
          <p:nvPr/>
        </p:nvSpPr>
        <p:spPr>
          <a:xfrm>
            <a:off x="1100880" y="17096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object 23"/>
          <p:cNvSpPr/>
          <p:nvPr/>
        </p:nvSpPr>
        <p:spPr>
          <a:xfrm>
            <a:off x="1645560" y="16772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object 24"/>
          <p:cNvSpPr/>
          <p:nvPr/>
        </p:nvSpPr>
        <p:spPr>
          <a:xfrm>
            <a:off x="2190960" y="1644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object 25"/>
          <p:cNvSpPr/>
          <p:nvPr/>
        </p:nvSpPr>
        <p:spPr>
          <a:xfrm>
            <a:off x="2736360" y="16117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object 26"/>
          <p:cNvSpPr/>
          <p:nvPr/>
        </p:nvSpPr>
        <p:spPr>
          <a:xfrm>
            <a:off x="3281400" y="1578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object 27"/>
          <p:cNvSpPr/>
          <p:nvPr/>
        </p:nvSpPr>
        <p:spPr>
          <a:xfrm>
            <a:off x="3826440" y="14490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bject 28"/>
          <p:cNvSpPr/>
          <p:nvPr/>
        </p:nvSpPr>
        <p:spPr>
          <a:xfrm>
            <a:off x="4371840" y="1416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object 29"/>
          <p:cNvSpPr/>
          <p:nvPr/>
        </p:nvSpPr>
        <p:spPr>
          <a:xfrm>
            <a:off x="742320" y="30106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object 30"/>
          <p:cNvSpPr/>
          <p:nvPr/>
        </p:nvSpPr>
        <p:spPr>
          <a:xfrm>
            <a:off x="613800" y="26848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bject 31"/>
          <p:cNvSpPr/>
          <p:nvPr/>
        </p:nvSpPr>
        <p:spPr>
          <a:xfrm>
            <a:off x="613800" y="23587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object 32"/>
          <p:cNvSpPr/>
          <p:nvPr/>
        </p:nvSpPr>
        <p:spPr>
          <a:xfrm>
            <a:off x="613800" y="20332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object 33"/>
          <p:cNvSpPr/>
          <p:nvPr/>
        </p:nvSpPr>
        <p:spPr>
          <a:xfrm>
            <a:off x="613800" y="1706760"/>
            <a:ext cx="219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object 34"/>
          <p:cNvSpPr/>
          <p:nvPr/>
        </p:nvSpPr>
        <p:spPr>
          <a:xfrm>
            <a:off x="613800" y="13809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bject 35"/>
          <p:cNvSpPr/>
          <p:nvPr/>
        </p:nvSpPr>
        <p:spPr>
          <a:xfrm>
            <a:off x="106848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bject 36"/>
          <p:cNvSpPr/>
          <p:nvPr/>
        </p:nvSpPr>
        <p:spPr>
          <a:xfrm>
            <a:off x="161352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object 37"/>
          <p:cNvSpPr/>
          <p:nvPr/>
        </p:nvSpPr>
        <p:spPr>
          <a:xfrm>
            <a:off x="215892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object 38"/>
          <p:cNvSpPr/>
          <p:nvPr/>
        </p:nvSpPr>
        <p:spPr>
          <a:xfrm>
            <a:off x="270396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object 39"/>
          <p:cNvSpPr/>
          <p:nvPr/>
        </p:nvSpPr>
        <p:spPr>
          <a:xfrm>
            <a:off x="324936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object 40"/>
          <p:cNvSpPr/>
          <p:nvPr/>
        </p:nvSpPr>
        <p:spPr>
          <a:xfrm>
            <a:off x="379440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bject 41"/>
          <p:cNvSpPr/>
          <p:nvPr/>
        </p:nvSpPr>
        <p:spPr>
          <a:xfrm>
            <a:off x="433980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bject 42"/>
          <p:cNvSpPr/>
          <p:nvPr/>
        </p:nvSpPr>
        <p:spPr>
          <a:xfrm>
            <a:off x="870480" y="815040"/>
            <a:ext cx="38865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ибкой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упаковки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bject 43"/>
          <p:cNvSpPr/>
          <p:nvPr/>
        </p:nvSpPr>
        <p:spPr>
          <a:xfrm>
            <a:off x="775440" y="1240560"/>
            <a:ext cx="3621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8" name="object 44"/>
          <p:cNvGrpSpPr/>
          <p:nvPr/>
        </p:nvGrpSpPr>
        <p:grpSpPr>
          <a:xfrm>
            <a:off x="5568840" y="1487520"/>
            <a:ext cx="3288960" cy="1705320"/>
            <a:chOff x="5568840" y="1487520"/>
            <a:chExt cx="3288960" cy="1705320"/>
          </a:xfrm>
        </p:grpSpPr>
        <p:sp>
          <p:nvSpPr>
            <p:cNvPr id="1789" name="object 45"/>
            <p:cNvSpPr/>
            <p:nvPr/>
          </p:nvSpPr>
          <p:spPr>
            <a:xfrm>
              <a:off x="5568840" y="1487520"/>
              <a:ext cx="3288960" cy="1705320"/>
            </a:xfrm>
            <a:custGeom>
              <a:avLst/>
              <a:gdLst>
                <a:gd name="textAreaLeft" fmla="*/ 0 w 3288960"/>
                <a:gd name="textAreaRight" fmla="*/ 3289320 w 3288960"/>
                <a:gd name="textAreaTop" fmla="*/ 0 h 1705320"/>
                <a:gd name="textAreaBottom" fmla="*/ 1705680 h 1705320"/>
              </a:gdLst>
              <a:ahLst/>
              <a:rect l="textAreaLeft" t="textAreaTop" r="textAreaRight" b="textAreaBottom"/>
              <a:pathLst>
                <a:path w="3289300" h="1705610">
                  <a:moveTo>
                    <a:pt x="0" y="1421891"/>
                  </a:moveTo>
                  <a:lnTo>
                    <a:pt x="3288792" y="1421891"/>
                  </a:lnTo>
                </a:path>
                <a:path w="3289300" h="1705610">
                  <a:moveTo>
                    <a:pt x="0" y="1136903"/>
                  </a:moveTo>
                  <a:lnTo>
                    <a:pt x="3288792" y="1136903"/>
                  </a:lnTo>
                </a:path>
                <a:path w="3289300" h="1705610">
                  <a:moveTo>
                    <a:pt x="0" y="853439"/>
                  </a:moveTo>
                  <a:lnTo>
                    <a:pt x="3288792" y="853439"/>
                  </a:lnTo>
                </a:path>
                <a:path w="3289300" h="1705610">
                  <a:moveTo>
                    <a:pt x="0" y="568451"/>
                  </a:moveTo>
                  <a:lnTo>
                    <a:pt x="3288792" y="568451"/>
                  </a:lnTo>
                </a:path>
                <a:path w="3289300" h="1705610">
                  <a:moveTo>
                    <a:pt x="0" y="284988"/>
                  </a:moveTo>
                  <a:lnTo>
                    <a:pt x="3288792" y="284988"/>
                  </a:lnTo>
                </a:path>
                <a:path w="3289300" h="1705610">
                  <a:moveTo>
                    <a:pt x="0" y="0"/>
                  </a:moveTo>
                  <a:lnTo>
                    <a:pt x="3288792" y="0"/>
                  </a:lnTo>
                </a:path>
                <a:path w="3289300" h="1705610">
                  <a:moveTo>
                    <a:pt x="0" y="1705355"/>
                  </a:moveTo>
                  <a:lnTo>
                    <a:pt x="0" y="0"/>
                  </a:lnTo>
                </a:path>
                <a:path w="3289300" h="1705610">
                  <a:moveTo>
                    <a:pt x="0" y="1705355"/>
                  </a:moveTo>
                  <a:lnTo>
                    <a:pt x="3288792" y="1705355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bject 46"/>
            <p:cNvSpPr/>
            <p:nvPr/>
          </p:nvSpPr>
          <p:spPr>
            <a:xfrm>
              <a:off x="5804280" y="1771560"/>
              <a:ext cx="2819160" cy="1098720"/>
            </a:xfrm>
            <a:custGeom>
              <a:avLst/>
              <a:gdLst>
                <a:gd name="textAreaLeft" fmla="*/ 0 w 2819160"/>
                <a:gd name="textAreaRight" fmla="*/ 2819520 w 281916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2819400" h="1099185">
                  <a:moveTo>
                    <a:pt x="0" y="585215"/>
                  </a:moveTo>
                  <a:lnTo>
                    <a:pt x="469392" y="1027176"/>
                  </a:lnTo>
                  <a:lnTo>
                    <a:pt x="940307" y="1037844"/>
                  </a:lnTo>
                  <a:lnTo>
                    <a:pt x="1409700" y="1046988"/>
                  </a:lnTo>
                  <a:lnTo>
                    <a:pt x="1879092" y="1056132"/>
                  </a:lnTo>
                  <a:lnTo>
                    <a:pt x="2348484" y="0"/>
                  </a:lnTo>
                  <a:lnTo>
                    <a:pt x="2819400" y="1098803"/>
                  </a:lnTo>
                </a:path>
              </a:pathLst>
            </a:custGeom>
            <a:noFill/>
            <a:ln w="28956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1" name="object 47" descr=""/>
            <p:cNvPicPr/>
            <p:nvPr/>
          </p:nvPicPr>
          <p:blipFill>
            <a:blip r:embed="rId1"/>
            <a:stretch/>
          </p:blipFill>
          <p:spPr>
            <a:xfrm>
              <a:off x="5755680" y="23086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object 48" descr=""/>
            <p:cNvPicPr/>
            <p:nvPr/>
          </p:nvPicPr>
          <p:blipFill>
            <a:blip r:embed="rId2"/>
            <a:stretch/>
          </p:blipFill>
          <p:spPr>
            <a:xfrm>
              <a:off x="6225120" y="27493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3" name="object 49" descr=""/>
            <p:cNvPicPr/>
            <p:nvPr/>
          </p:nvPicPr>
          <p:blipFill>
            <a:blip r:embed="rId3"/>
            <a:stretch/>
          </p:blipFill>
          <p:spPr>
            <a:xfrm>
              <a:off x="6694560" y="27597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object 50" descr=""/>
            <p:cNvPicPr/>
            <p:nvPr/>
          </p:nvPicPr>
          <p:blipFill>
            <a:blip r:embed="rId4"/>
            <a:stretch/>
          </p:blipFill>
          <p:spPr>
            <a:xfrm>
              <a:off x="7164000" y="2770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object 51" descr=""/>
            <p:cNvPicPr/>
            <p:nvPr/>
          </p:nvPicPr>
          <p:blipFill>
            <a:blip r:embed="rId5"/>
            <a:stretch/>
          </p:blipFill>
          <p:spPr>
            <a:xfrm>
              <a:off x="7634880" y="2779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object 52" descr=""/>
            <p:cNvPicPr/>
            <p:nvPr/>
          </p:nvPicPr>
          <p:blipFill>
            <a:blip r:embed="rId6"/>
            <a:stretch/>
          </p:blipFill>
          <p:spPr>
            <a:xfrm>
              <a:off x="8104320" y="17236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object 53" descr=""/>
            <p:cNvPicPr/>
            <p:nvPr/>
          </p:nvPicPr>
          <p:blipFill>
            <a:blip r:embed="rId7"/>
            <a:stretch/>
          </p:blipFill>
          <p:spPr>
            <a:xfrm>
              <a:off x="8573760" y="282096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8" name="object 54"/>
          <p:cNvSpPr/>
          <p:nvPr/>
        </p:nvSpPr>
        <p:spPr>
          <a:xfrm>
            <a:off x="5279400" y="309024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bject 55"/>
          <p:cNvSpPr/>
          <p:nvPr/>
        </p:nvSpPr>
        <p:spPr>
          <a:xfrm>
            <a:off x="5279400" y="280620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bject 56"/>
          <p:cNvSpPr/>
          <p:nvPr/>
        </p:nvSpPr>
        <p:spPr>
          <a:xfrm>
            <a:off x="5279400" y="2521440"/>
            <a:ext cx="185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bject 57"/>
          <p:cNvSpPr/>
          <p:nvPr/>
        </p:nvSpPr>
        <p:spPr>
          <a:xfrm>
            <a:off x="5279400" y="22377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bject 58"/>
          <p:cNvSpPr/>
          <p:nvPr/>
        </p:nvSpPr>
        <p:spPr>
          <a:xfrm>
            <a:off x="5279400" y="19533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bject 59"/>
          <p:cNvSpPr/>
          <p:nvPr/>
        </p:nvSpPr>
        <p:spPr>
          <a:xfrm>
            <a:off x="5214960" y="166968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bject 60"/>
          <p:cNvSpPr/>
          <p:nvPr/>
        </p:nvSpPr>
        <p:spPr>
          <a:xfrm>
            <a:off x="5214960" y="13849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bject 61"/>
          <p:cNvSpPr/>
          <p:nvPr/>
        </p:nvSpPr>
        <p:spPr>
          <a:xfrm>
            <a:off x="5663880" y="3255480"/>
            <a:ext cx="3102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82040"/>
                <a:tab algn="l" pos="951840"/>
                <a:tab algn="l" pos="1421640"/>
                <a:tab algn="l" pos="1891800"/>
                <a:tab algn="l" pos="2361600"/>
                <a:tab algn="l" pos="283140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bject 62"/>
          <p:cNvSpPr/>
          <p:nvPr/>
        </p:nvSpPr>
        <p:spPr>
          <a:xfrm>
            <a:off x="5047200" y="2283120"/>
            <a:ext cx="1519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bject 63"/>
          <p:cNvSpPr/>
          <p:nvPr/>
        </p:nvSpPr>
        <p:spPr>
          <a:xfrm>
            <a:off x="4925160" y="784440"/>
            <a:ext cx="4051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692280" indent="-680040">
              <a:lnSpc>
                <a:spcPct val="100000"/>
              </a:lnSpc>
              <a:spcBef>
                <a:spcPts val="105"/>
              </a:spcBef>
              <a:tabLst>
                <a:tab algn="l" pos="0"/>
              </a:tabLst>
            </a:pP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Темпы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оста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ибкой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упаковки</a:t>
            </a:r>
            <a:r>
              <a:rPr b="1" lang="en-US" sz="1400" spc="24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г.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(относительно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редыдущего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го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8" name="object 64"/>
          <p:cNvGrpSpPr/>
          <p:nvPr/>
        </p:nvGrpSpPr>
        <p:grpSpPr>
          <a:xfrm>
            <a:off x="1323000" y="4267800"/>
            <a:ext cx="2028240" cy="2028240"/>
            <a:chOff x="1323000" y="4267800"/>
            <a:chExt cx="2028240" cy="2028240"/>
          </a:xfrm>
        </p:grpSpPr>
        <p:sp>
          <p:nvSpPr>
            <p:cNvPr id="1809" name="object 65"/>
            <p:cNvSpPr/>
            <p:nvPr/>
          </p:nvSpPr>
          <p:spPr>
            <a:xfrm>
              <a:off x="2336760" y="4267800"/>
              <a:ext cx="1014480" cy="19321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1014729" h="1932304">
                  <a:moveTo>
                    <a:pt x="0" y="0"/>
                  </a:moveTo>
                  <a:lnTo>
                    <a:pt x="0" y="1014221"/>
                  </a:lnTo>
                  <a:lnTo>
                    <a:pt x="431800" y="1931898"/>
                  </a:lnTo>
                  <a:lnTo>
                    <a:pt x="475572" y="1910008"/>
                  </a:lnTo>
                  <a:lnTo>
                    <a:pt x="517960" y="1886203"/>
                  </a:lnTo>
                  <a:lnTo>
                    <a:pt x="558922" y="1860551"/>
                  </a:lnTo>
                  <a:lnTo>
                    <a:pt x="598414" y="1833119"/>
                  </a:lnTo>
                  <a:lnTo>
                    <a:pt x="636395" y="1803975"/>
                  </a:lnTo>
                  <a:lnTo>
                    <a:pt x="672822" y="1773184"/>
                  </a:lnTo>
                  <a:lnTo>
                    <a:pt x="707652" y="1740816"/>
                  </a:lnTo>
                  <a:lnTo>
                    <a:pt x="740842" y="1706936"/>
                  </a:lnTo>
                  <a:lnTo>
                    <a:pt x="772351" y="1671612"/>
                  </a:lnTo>
                  <a:lnTo>
                    <a:pt x="802135" y="1634912"/>
                  </a:lnTo>
                  <a:lnTo>
                    <a:pt x="830153" y="1596903"/>
                  </a:lnTo>
                  <a:lnTo>
                    <a:pt x="856361" y="1557651"/>
                  </a:lnTo>
                  <a:lnTo>
                    <a:pt x="880716" y="1517225"/>
                  </a:lnTo>
                  <a:lnTo>
                    <a:pt x="903177" y="1475691"/>
                  </a:lnTo>
                  <a:lnTo>
                    <a:pt x="923701" y="1433116"/>
                  </a:lnTo>
                  <a:lnTo>
                    <a:pt x="942245" y="1389569"/>
                  </a:lnTo>
                  <a:lnTo>
                    <a:pt x="958767" y="1345115"/>
                  </a:lnTo>
                  <a:lnTo>
                    <a:pt x="973224" y="1299823"/>
                  </a:lnTo>
                  <a:lnTo>
                    <a:pt x="985574" y="1253759"/>
                  </a:lnTo>
                  <a:lnTo>
                    <a:pt x="995774" y="1206991"/>
                  </a:lnTo>
                  <a:lnTo>
                    <a:pt x="1003781" y="1159586"/>
                  </a:lnTo>
                  <a:lnTo>
                    <a:pt x="1009553" y="1111611"/>
                  </a:lnTo>
                  <a:lnTo>
                    <a:pt x="1013047" y="1063134"/>
                  </a:lnTo>
                  <a:lnTo>
                    <a:pt x="1014222" y="1014221"/>
                  </a:lnTo>
                  <a:lnTo>
                    <a:pt x="1013118" y="966473"/>
                  </a:lnTo>
                  <a:lnTo>
                    <a:pt x="1009839" y="919293"/>
                  </a:lnTo>
                  <a:lnTo>
                    <a:pt x="1004433" y="872730"/>
                  </a:lnTo>
                  <a:lnTo>
                    <a:pt x="996950" y="826833"/>
                  </a:lnTo>
                  <a:lnTo>
                    <a:pt x="987438" y="781652"/>
                  </a:lnTo>
                  <a:lnTo>
                    <a:pt x="975946" y="737233"/>
                  </a:lnTo>
                  <a:lnTo>
                    <a:pt x="962521" y="693627"/>
                  </a:lnTo>
                  <a:lnTo>
                    <a:pt x="947214" y="650881"/>
                  </a:lnTo>
                  <a:lnTo>
                    <a:pt x="930072" y="609045"/>
                  </a:lnTo>
                  <a:lnTo>
                    <a:pt x="911145" y="568167"/>
                  </a:lnTo>
                  <a:lnTo>
                    <a:pt x="890481" y="528296"/>
                  </a:lnTo>
                  <a:lnTo>
                    <a:pt x="868128" y="489480"/>
                  </a:lnTo>
                  <a:lnTo>
                    <a:pt x="844135" y="451769"/>
                  </a:lnTo>
                  <a:lnTo>
                    <a:pt x="818552" y="415210"/>
                  </a:lnTo>
                  <a:lnTo>
                    <a:pt x="791426" y="379853"/>
                  </a:lnTo>
                  <a:lnTo>
                    <a:pt x="762807" y="345746"/>
                  </a:lnTo>
                  <a:lnTo>
                    <a:pt x="732743" y="312938"/>
                  </a:lnTo>
                  <a:lnTo>
                    <a:pt x="701283" y="281478"/>
                  </a:lnTo>
                  <a:lnTo>
                    <a:pt x="668475" y="251414"/>
                  </a:lnTo>
                  <a:lnTo>
                    <a:pt x="634368" y="222795"/>
                  </a:lnTo>
                  <a:lnTo>
                    <a:pt x="599011" y="195669"/>
                  </a:lnTo>
                  <a:lnTo>
                    <a:pt x="562452" y="170086"/>
                  </a:lnTo>
                  <a:lnTo>
                    <a:pt x="524741" y="146093"/>
                  </a:lnTo>
                  <a:lnTo>
                    <a:pt x="485925" y="123740"/>
                  </a:lnTo>
                  <a:lnTo>
                    <a:pt x="446054" y="103076"/>
                  </a:lnTo>
                  <a:lnTo>
                    <a:pt x="405176" y="84149"/>
                  </a:lnTo>
                  <a:lnTo>
                    <a:pt x="363340" y="67007"/>
                  </a:lnTo>
                  <a:lnTo>
                    <a:pt x="320594" y="51700"/>
                  </a:lnTo>
                  <a:lnTo>
                    <a:pt x="276988" y="38275"/>
                  </a:lnTo>
                  <a:lnTo>
                    <a:pt x="232569" y="26783"/>
                  </a:lnTo>
                  <a:lnTo>
                    <a:pt x="187388" y="17271"/>
                  </a:lnTo>
                  <a:lnTo>
                    <a:pt x="141491" y="9788"/>
                  </a:lnTo>
                  <a:lnTo>
                    <a:pt x="94928" y="4382"/>
                  </a:lnTo>
                  <a:lnTo>
                    <a:pt x="47748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object 66"/>
            <p:cNvSpPr/>
            <p:nvPr/>
          </p:nvSpPr>
          <p:spPr>
            <a:xfrm>
              <a:off x="2336760" y="4267800"/>
              <a:ext cx="1014480" cy="19321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1014729" h="1932304">
                  <a:moveTo>
                    <a:pt x="0" y="0"/>
                  </a:moveTo>
                  <a:lnTo>
                    <a:pt x="47748" y="1103"/>
                  </a:lnTo>
                  <a:lnTo>
                    <a:pt x="94928" y="4382"/>
                  </a:lnTo>
                  <a:lnTo>
                    <a:pt x="141491" y="9788"/>
                  </a:lnTo>
                  <a:lnTo>
                    <a:pt x="187388" y="17271"/>
                  </a:lnTo>
                  <a:lnTo>
                    <a:pt x="232569" y="26783"/>
                  </a:lnTo>
                  <a:lnTo>
                    <a:pt x="276988" y="38275"/>
                  </a:lnTo>
                  <a:lnTo>
                    <a:pt x="320594" y="51700"/>
                  </a:lnTo>
                  <a:lnTo>
                    <a:pt x="363340" y="67007"/>
                  </a:lnTo>
                  <a:lnTo>
                    <a:pt x="405176" y="84149"/>
                  </a:lnTo>
                  <a:lnTo>
                    <a:pt x="446054" y="103076"/>
                  </a:lnTo>
                  <a:lnTo>
                    <a:pt x="485925" y="123740"/>
                  </a:lnTo>
                  <a:lnTo>
                    <a:pt x="524741" y="146093"/>
                  </a:lnTo>
                  <a:lnTo>
                    <a:pt x="562452" y="170086"/>
                  </a:lnTo>
                  <a:lnTo>
                    <a:pt x="599011" y="195669"/>
                  </a:lnTo>
                  <a:lnTo>
                    <a:pt x="634368" y="222795"/>
                  </a:lnTo>
                  <a:lnTo>
                    <a:pt x="668475" y="251414"/>
                  </a:lnTo>
                  <a:lnTo>
                    <a:pt x="701283" y="281478"/>
                  </a:lnTo>
                  <a:lnTo>
                    <a:pt x="732743" y="312938"/>
                  </a:lnTo>
                  <a:lnTo>
                    <a:pt x="762807" y="345746"/>
                  </a:lnTo>
                  <a:lnTo>
                    <a:pt x="791426" y="379853"/>
                  </a:lnTo>
                  <a:lnTo>
                    <a:pt x="818552" y="415210"/>
                  </a:lnTo>
                  <a:lnTo>
                    <a:pt x="844135" y="451769"/>
                  </a:lnTo>
                  <a:lnTo>
                    <a:pt x="868128" y="489480"/>
                  </a:lnTo>
                  <a:lnTo>
                    <a:pt x="890481" y="528296"/>
                  </a:lnTo>
                  <a:lnTo>
                    <a:pt x="911145" y="568167"/>
                  </a:lnTo>
                  <a:lnTo>
                    <a:pt x="930072" y="609045"/>
                  </a:lnTo>
                  <a:lnTo>
                    <a:pt x="947214" y="650881"/>
                  </a:lnTo>
                  <a:lnTo>
                    <a:pt x="962521" y="693627"/>
                  </a:lnTo>
                  <a:lnTo>
                    <a:pt x="975946" y="737233"/>
                  </a:lnTo>
                  <a:lnTo>
                    <a:pt x="987438" y="781652"/>
                  </a:lnTo>
                  <a:lnTo>
                    <a:pt x="996950" y="826833"/>
                  </a:lnTo>
                  <a:lnTo>
                    <a:pt x="1004433" y="872730"/>
                  </a:lnTo>
                  <a:lnTo>
                    <a:pt x="1009839" y="919293"/>
                  </a:lnTo>
                  <a:lnTo>
                    <a:pt x="1013118" y="966473"/>
                  </a:lnTo>
                  <a:lnTo>
                    <a:pt x="1014222" y="1014221"/>
                  </a:lnTo>
                  <a:lnTo>
                    <a:pt x="1013047" y="1063134"/>
                  </a:lnTo>
                  <a:lnTo>
                    <a:pt x="1009553" y="1111611"/>
                  </a:lnTo>
                  <a:lnTo>
                    <a:pt x="1003781" y="1159586"/>
                  </a:lnTo>
                  <a:lnTo>
                    <a:pt x="995774" y="1206991"/>
                  </a:lnTo>
                  <a:lnTo>
                    <a:pt x="985574" y="1253759"/>
                  </a:lnTo>
                  <a:lnTo>
                    <a:pt x="973224" y="1299823"/>
                  </a:lnTo>
                  <a:lnTo>
                    <a:pt x="958767" y="1345115"/>
                  </a:lnTo>
                  <a:lnTo>
                    <a:pt x="942245" y="1389569"/>
                  </a:lnTo>
                  <a:lnTo>
                    <a:pt x="923701" y="1433116"/>
                  </a:lnTo>
                  <a:lnTo>
                    <a:pt x="903177" y="1475691"/>
                  </a:lnTo>
                  <a:lnTo>
                    <a:pt x="880716" y="1517225"/>
                  </a:lnTo>
                  <a:lnTo>
                    <a:pt x="856361" y="1557651"/>
                  </a:lnTo>
                  <a:lnTo>
                    <a:pt x="830153" y="1596903"/>
                  </a:lnTo>
                  <a:lnTo>
                    <a:pt x="802135" y="1634912"/>
                  </a:lnTo>
                  <a:lnTo>
                    <a:pt x="772351" y="1671612"/>
                  </a:lnTo>
                  <a:lnTo>
                    <a:pt x="740842" y="1706936"/>
                  </a:lnTo>
                  <a:lnTo>
                    <a:pt x="707652" y="1740816"/>
                  </a:lnTo>
                  <a:lnTo>
                    <a:pt x="672822" y="1773184"/>
                  </a:lnTo>
                  <a:lnTo>
                    <a:pt x="636395" y="1803975"/>
                  </a:lnTo>
                  <a:lnTo>
                    <a:pt x="598414" y="1833119"/>
                  </a:lnTo>
                  <a:lnTo>
                    <a:pt x="558922" y="1860551"/>
                  </a:lnTo>
                  <a:lnTo>
                    <a:pt x="517960" y="1886203"/>
                  </a:lnTo>
                  <a:lnTo>
                    <a:pt x="475572" y="1910008"/>
                  </a:lnTo>
                  <a:lnTo>
                    <a:pt x="431800" y="1931898"/>
                  </a:lnTo>
                  <a:lnTo>
                    <a:pt x="0" y="10142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bject 67"/>
            <p:cNvSpPr/>
            <p:nvPr/>
          </p:nvSpPr>
          <p:spPr>
            <a:xfrm>
              <a:off x="1323000" y="5154840"/>
              <a:ext cx="1445400" cy="1141200"/>
            </a:xfrm>
            <a:custGeom>
              <a:avLst/>
              <a:gdLst>
                <a:gd name="textAreaLeft" fmla="*/ 0 w 1445400"/>
                <a:gd name="textAreaRight" fmla="*/ 1445760 w 14454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445895" h="1141729">
                  <a:moveTo>
                    <a:pt x="7742" y="0"/>
                  </a:moveTo>
                  <a:lnTo>
                    <a:pt x="2519" y="52116"/>
                  </a:lnTo>
                  <a:lnTo>
                    <a:pt x="0" y="104281"/>
                  </a:lnTo>
                  <a:lnTo>
                    <a:pt x="167" y="156392"/>
                  </a:lnTo>
                  <a:lnTo>
                    <a:pt x="3006" y="208344"/>
                  </a:lnTo>
                  <a:lnTo>
                    <a:pt x="8499" y="260035"/>
                  </a:lnTo>
                  <a:lnTo>
                    <a:pt x="16629" y="311363"/>
                  </a:lnTo>
                  <a:lnTo>
                    <a:pt x="27380" y="362224"/>
                  </a:lnTo>
                  <a:lnTo>
                    <a:pt x="40735" y="412515"/>
                  </a:lnTo>
                  <a:lnTo>
                    <a:pt x="56678" y="462133"/>
                  </a:lnTo>
                  <a:lnTo>
                    <a:pt x="75193" y="510976"/>
                  </a:lnTo>
                  <a:lnTo>
                    <a:pt x="96261" y="558939"/>
                  </a:lnTo>
                  <a:lnTo>
                    <a:pt x="117590" y="601670"/>
                  </a:lnTo>
                  <a:lnTo>
                    <a:pt x="140645" y="642959"/>
                  </a:lnTo>
                  <a:lnTo>
                    <a:pt x="165361" y="682786"/>
                  </a:lnTo>
                  <a:lnTo>
                    <a:pt x="191675" y="721125"/>
                  </a:lnTo>
                  <a:lnTo>
                    <a:pt x="219521" y="757954"/>
                  </a:lnTo>
                  <a:lnTo>
                    <a:pt x="248834" y="793249"/>
                  </a:lnTo>
                  <a:lnTo>
                    <a:pt x="279550" y="826988"/>
                  </a:lnTo>
                  <a:lnTo>
                    <a:pt x="311603" y="859146"/>
                  </a:lnTo>
                  <a:lnTo>
                    <a:pt x="344929" y="889700"/>
                  </a:lnTo>
                  <a:lnTo>
                    <a:pt x="379463" y="918627"/>
                  </a:lnTo>
                  <a:lnTo>
                    <a:pt x="415140" y="945905"/>
                  </a:lnTo>
                  <a:lnTo>
                    <a:pt x="451896" y="971508"/>
                  </a:lnTo>
                  <a:lnTo>
                    <a:pt x="489665" y="995414"/>
                  </a:lnTo>
                  <a:lnTo>
                    <a:pt x="528382" y="1017601"/>
                  </a:lnTo>
                  <a:lnTo>
                    <a:pt x="567984" y="1038043"/>
                  </a:lnTo>
                  <a:lnTo>
                    <a:pt x="608404" y="1056719"/>
                  </a:lnTo>
                  <a:lnTo>
                    <a:pt x="649579" y="1073604"/>
                  </a:lnTo>
                  <a:lnTo>
                    <a:pt x="691442" y="1088676"/>
                  </a:lnTo>
                  <a:lnTo>
                    <a:pt x="733931" y="1101910"/>
                  </a:lnTo>
                  <a:lnTo>
                    <a:pt x="776978" y="1113285"/>
                  </a:lnTo>
                  <a:lnTo>
                    <a:pt x="820521" y="1122776"/>
                  </a:lnTo>
                  <a:lnTo>
                    <a:pt x="864494" y="1130359"/>
                  </a:lnTo>
                  <a:lnTo>
                    <a:pt x="908831" y="1136013"/>
                  </a:lnTo>
                  <a:lnTo>
                    <a:pt x="953469" y="1139713"/>
                  </a:lnTo>
                  <a:lnTo>
                    <a:pt x="998343" y="1141436"/>
                  </a:lnTo>
                  <a:lnTo>
                    <a:pt x="1043387" y="1141159"/>
                  </a:lnTo>
                  <a:lnTo>
                    <a:pt x="1088537" y="1138858"/>
                  </a:lnTo>
                  <a:lnTo>
                    <a:pt x="1133727" y="1134511"/>
                  </a:lnTo>
                  <a:lnTo>
                    <a:pt x="1178894" y="1128093"/>
                  </a:lnTo>
                  <a:lnTo>
                    <a:pt x="1223973" y="1119581"/>
                  </a:lnTo>
                  <a:lnTo>
                    <a:pt x="1268897" y="1108953"/>
                  </a:lnTo>
                  <a:lnTo>
                    <a:pt x="1313603" y="1096184"/>
                  </a:lnTo>
                  <a:lnTo>
                    <a:pt x="1358026" y="1081252"/>
                  </a:lnTo>
                  <a:lnTo>
                    <a:pt x="1402101" y="1064132"/>
                  </a:lnTo>
                  <a:lnTo>
                    <a:pt x="1445763" y="1044803"/>
                  </a:lnTo>
                  <a:lnTo>
                    <a:pt x="1013963" y="127127"/>
                  </a:lnTo>
                  <a:lnTo>
                    <a:pt x="774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object 68"/>
            <p:cNvSpPr/>
            <p:nvPr/>
          </p:nvSpPr>
          <p:spPr>
            <a:xfrm>
              <a:off x="1323000" y="5154840"/>
              <a:ext cx="1445400" cy="1141200"/>
            </a:xfrm>
            <a:custGeom>
              <a:avLst/>
              <a:gdLst>
                <a:gd name="textAreaLeft" fmla="*/ 0 w 1445400"/>
                <a:gd name="textAreaRight" fmla="*/ 1445760 w 14454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445895" h="1141729">
                  <a:moveTo>
                    <a:pt x="1445763" y="1044803"/>
                  </a:moveTo>
                  <a:lnTo>
                    <a:pt x="1402101" y="1064132"/>
                  </a:lnTo>
                  <a:lnTo>
                    <a:pt x="1358026" y="1081252"/>
                  </a:lnTo>
                  <a:lnTo>
                    <a:pt x="1313603" y="1096184"/>
                  </a:lnTo>
                  <a:lnTo>
                    <a:pt x="1268897" y="1108953"/>
                  </a:lnTo>
                  <a:lnTo>
                    <a:pt x="1223973" y="1119581"/>
                  </a:lnTo>
                  <a:lnTo>
                    <a:pt x="1178894" y="1128093"/>
                  </a:lnTo>
                  <a:lnTo>
                    <a:pt x="1133727" y="1134511"/>
                  </a:lnTo>
                  <a:lnTo>
                    <a:pt x="1088537" y="1138858"/>
                  </a:lnTo>
                  <a:lnTo>
                    <a:pt x="1043387" y="1141159"/>
                  </a:lnTo>
                  <a:lnTo>
                    <a:pt x="998343" y="1141436"/>
                  </a:lnTo>
                  <a:lnTo>
                    <a:pt x="953469" y="1139713"/>
                  </a:lnTo>
                  <a:lnTo>
                    <a:pt x="908831" y="1136013"/>
                  </a:lnTo>
                  <a:lnTo>
                    <a:pt x="864494" y="1130359"/>
                  </a:lnTo>
                  <a:lnTo>
                    <a:pt x="820521" y="1122776"/>
                  </a:lnTo>
                  <a:lnTo>
                    <a:pt x="776978" y="1113285"/>
                  </a:lnTo>
                  <a:lnTo>
                    <a:pt x="733931" y="1101910"/>
                  </a:lnTo>
                  <a:lnTo>
                    <a:pt x="691442" y="1088676"/>
                  </a:lnTo>
                  <a:lnTo>
                    <a:pt x="649579" y="1073604"/>
                  </a:lnTo>
                  <a:lnTo>
                    <a:pt x="608404" y="1056719"/>
                  </a:lnTo>
                  <a:lnTo>
                    <a:pt x="567984" y="1038043"/>
                  </a:lnTo>
                  <a:lnTo>
                    <a:pt x="528382" y="1017601"/>
                  </a:lnTo>
                  <a:lnTo>
                    <a:pt x="489665" y="995414"/>
                  </a:lnTo>
                  <a:lnTo>
                    <a:pt x="451896" y="971508"/>
                  </a:lnTo>
                  <a:lnTo>
                    <a:pt x="415140" y="945905"/>
                  </a:lnTo>
                  <a:lnTo>
                    <a:pt x="379463" y="918627"/>
                  </a:lnTo>
                  <a:lnTo>
                    <a:pt x="344929" y="889700"/>
                  </a:lnTo>
                  <a:lnTo>
                    <a:pt x="311603" y="859146"/>
                  </a:lnTo>
                  <a:lnTo>
                    <a:pt x="279550" y="826988"/>
                  </a:lnTo>
                  <a:lnTo>
                    <a:pt x="248834" y="793249"/>
                  </a:lnTo>
                  <a:lnTo>
                    <a:pt x="219521" y="757954"/>
                  </a:lnTo>
                  <a:lnTo>
                    <a:pt x="191675" y="721125"/>
                  </a:lnTo>
                  <a:lnTo>
                    <a:pt x="165361" y="682786"/>
                  </a:lnTo>
                  <a:lnTo>
                    <a:pt x="140645" y="642959"/>
                  </a:lnTo>
                  <a:lnTo>
                    <a:pt x="117590" y="601670"/>
                  </a:lnTo>
                  <a:lnTo>
                    <a:pt x="96261" y="558939"/>
                  </a:lnTo>
                  <a:lnTo>
                    <a:pt x="75193" y="510976"/>
                  </a:lnTo>
                  <a:lnTo>
                    <a:pt x="56678" y="462133"/>
                  </a:lnTo>
                  <a:lnTo>
                    <a:pt x="40735" y="412515"/>
                  </a:lnTo>
                  <a:lnTo>
                    <a:pt x="27380" y="362224"/>
                  </a:lnTo>
                  <a:lnTo>
                    <a:pt x="16629" y="311363"/>
                  </a:lnTo>
                  <a:lnTo>
                    <a:pt x="8499" y="260035"/>
                  </a:lnTo>
                  <a:lnTo>
                    <a:pt x="3006" y="208344"/>
                  </a:lnTo>
                  <a:lnTo>
                    <a:pt x="167" y="156392"/>
                  </a:lnTo>
                  <a:lnTo>
                    <a:pt x="0" y="104281"/>
                  </a:lnTo>
                  <a:lnTo>
                    <a:pt x="2519" y="52116"/>
                  </a:lnTo>
                  <a:lnTo>
                    <a:pt x="7742" y="0"/>
                  </a:lnTo>
                  <a:lnTo>
                    <a:pt x="1013963" y="127127"/>
                  </a:lnTo>
                  <a:lnTo>
                    <a:pt x="1445763" y="1044803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bject 69"/>
            <p:cNvSpPr/>
            <p:nvPr/>
          </p:nvSpPr>
          <p:spPr>
            <a:xfrm>
              <a:off x="1330560" y="4738680"/>
              <a:ext cx="1006200" cy="54324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1006475" h="543560">
                  <a:moveTo>
                    <a:pt x="149859" y="0"/>
                  </a:moveTo>
                  <a:lnTo>
                    <a:pt x="124300" y="42582"/>
                  </a:lnTo>
                  <a:lnTo>
                    <a:pt x="100897" y="86283"/>
                  </a:lnTo>
                  <a:lnTo>
                    <a:pt x="79680" y="131016"/>
                  </a:lnTo>
                  <a:lnTo>
                    <a:pt x="60681" y="176697"/>
                  </a:lnTo>
                  <a:lnTo>
                    <a:pt x="43929" y="223239"/>
                  </a:lnTo>
                  <a:lnTo>
                    <a:pt x="29454" y="270557"/>
                  </a:lnTo>
                  <a:lnTo>
                    <a:pt x="17288" y="318564"/>
                  </a:lnTo>
                  <a:lnTo>
                    <a:pt x="7459" y="367175"/>
                  </a:lnTo>
                  <a:lnTo>
                    <a:pt x="0" y="416306"/>
                  </a:lnTo>
                  <a:lnTo>
                    <a:pt x="1006220" y="543432"/>
                  </a:lnTo>
                  <a:lnTo>
                    <a:pt x="149859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object 70"/>
            <p:cNvSpPr/>
            <p:nvPr/>
          </p:nvSpPr>
          <p:spPr>
            <a:xfrm>
              <a:off x="1330560" y="4738680"/>
              <a:ext cx="1006200" cy="54324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1006475" h="543560">
                  <a:moveTo>
                    <a:pt x="0" y="416306"/>
                  </a:moveTo>
                  <a:lnTo>
                    <a:pt x="7459" y="367175"/>
                  </a:lnTo>
                  <a:lnTo>
                    <a:pt x="17288" y="318564"/>
                  </a:lnTo>
                  <a:lnTo>
                    <a:pt x="29454" y="270557"/>
                  </a:lnTo>
                  <a:lnTo>
                    <a:pt x="43929" y="223239"/>
                  </a:lnTo>
                  <a:lnTo>
                    <a:pt x="60681" y="176697"/>
                  </a:lnTo>
                  <a:lnTo>
                    <a:pt x="79680" y="131016"/>
                  </a:lnTo>
                  <a:lnTo>
                    <a:pt x="100897" y="86283"/>
                  </a:lnTo>
                  <a:lnTo>
                    <a:pt x="124300" y="42582"/>
                  </a:lnTo>
                  <a:lnTo>
                    <a:pt x="149859" y="0"/>
                  </a:lnTo>
                  <a:lnTo>
                    <a:pt x="1006220" y="543432"/>
                  </a:lnTo>
                  <a:lnTo>
                    <a:pt x="0" y="416306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bject 71"/>
            <p:cNvSpPr/>
            <p:nvPr/>
          </p:nvSpPr>
          <p:spPr>
            <a:xfrm>
              <a:off x="1480680" y="4500720"/>
              <a:ext cx="856080" cy="7812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56614" h="781685">
                  <a:moveTo>
                    <a:pt x="209931" y="0"/>
                  </a:moveTo>
                  <a:lnTo>
                    <a:pt x="169853" y="34933"/>
                  </a:lnTo>
                  <a:lnTo>
                    <a:pt x="131713" y="71863"/>
                  </a:lnTo>
                  <a:lnTo>
                    <a:pt x="95583" y="110712"/>
                  </a:lnTo>
                  <a:lnTo>
                    <a:pt x="61538" y="151402"/>
                  </a:lnTo>
                  <a:lnTo>
                    <a:pt x="29652" y="193857"/>
                  </a:lnTo>
                  <a:lnTo>
                    <a:pt x="0" y="237998"/>
                  </a:lnTo>
                  <a:lnTo>
                    <a:pt x="856360" y="781431"/>
                  </a:lnTo>
                  <a:lnTo>
                    <a:pt x="209931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object 72"/>
            <p:cNvSpPr/>
            <p:nvPr/>
          </p:nvSpPr>
          <p:spPr>
            <a:xfrm>
              <a:off x="1480680" y="4500720"/>
              <a:ext cx="856080" cy="7812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56614" h="781685">
                  <a:moveTo>
                    <a:pt x="0" y="237998"/>
                  </a:moveTo>
                  <a:lnTo>
                    <a:pt x="29652" y="193857"/>
                  </a:lnTo>
                  <a:lnTo>
                    <a:pt x="61538" y="151402"/>
                  </a:lnTo>
                  <a:lnTo>
                    <a:pt x="95583" y="110712"/>
                  </a:lnTo>
                  <a:lnTo>
                    <a:pt x="131713" y="71863"/>
                  </a:lnTo>
                  <a:lnTo>
                    <a:pt x="169853" y="34933"/>
                  </a:lnTo>
                  <a:lnTo>
                    <a:pt x="209931" y="0"/>
                  </a:lnTo>
                  <a:lnTo>
                    <a:pt x="856360" y="781431"/>
                  </a:lnTo>
                  <a:lnTo>
                    <a:pt x="0" y="237998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bject 73"/>
            <p:cNvSpPr/>
            <p:nvPr/>
          </p:nvSpPr>
          <p:spPr>
            <a:xfrm>
              <a:off x="1690560" y="4364280"/>
              <a:ext cx="646200" cy="918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918000"/>
                <a:gd name="textAreaBottom" fmla="*/ 918360 h 918000"/>
              </a:gdLst>
              <a:ahLst/>
              <a:rect l="textAreaLeft" t="textAreaTop" r="textAreaRight" b="textAreaBottom"/>
              <a:pathLst>
                <a:path w="646430" h="918210">
                  <a:moveTo>
                    <a:pt x="214629" y="0"/>
                  </a:moveTo>
                  <a:lnTo>
                    <a:pt x="169046" y="22865"/>
                  </a:lnTo>
                  <a:lnTo>
                    <a:pt x="124705" y="47985"/>
                  </a:lnTo>
                  <a:lnTo>
                    <a:pt x="81694" y="75300"/>
                  </a:lnTo>
                  <a:lnTo>
                    <a:pt x="40097" y="104749"/>
                  </a:lnTo>
                  <a:lnTo>
                    <a:pt x="0" y="136271"/>
                  </a:lnTo>
                  <a:lnTo>
                    <a:pt x="646429" y="917702"/>
                  </a:lnTo>
                  <a:lnTo>
                    <a:pt x="214629" y="0"/>
                  </a:lnTo>
                  <a:close/>
                </a:path>
              </a:pathLst>
            </a:custGeom>
            <a:solidFill>
              <a:srgbClr val="419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object 74"/>
            <p:cNvSpPr/>
            <p:nvPr/>
          </p:nvSpPr>
          <p:spPr>
            <a:xfrm>
              <a:off x="1690560" y="4364280"/>
              <a:ext cx="646200" cy="918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918000"/>
                <a:gd name="textAreaBottom" fmla="*/ 918360 h 918000"/>
              </a:gdLst>
              <a:ahLst/>
              <a:rect l="textAreaLeft" t="textAreaTop" r="textAreaRight" b="textAreaBottom"/>
              <a:pathLst>
                <a:path w="646430" h="918210">
                  <a:moveTo>
                    <a:pt x="0" y="136271"/>
                  </a:moveTo>
                  <a:lnTo>
                    <a:pt x="40097" y="104749"/>
                  </a:lnTo>
                  <a:lnTo>
                    <a:pt x="81694" y="75300"/>
                  </a:lnTo>
                  <a:lnTo>
                    <a:pt x="124705" y="47985"/>
                  </a:lnTo>
                  <a:lnTo>
                    <a:pt x="169046" y="22865"/>
                  </a:lnTo>
                  <a:lnTo>
                    <a:pt x="214629" y="0"/>
                  </a:lnTo>
                  <a:lnTo>
                    <a:pt x="646429" y="917702"/>
                  </a:lnTo>
                  <a:lnTo>
                    <a:pt x="0" y="136271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object 75"/>
            <p:cNvSpPr/>
            <p:nvPr/>
          </p:nvSpPr>
          <p:spPr>
            <a:xfrm>
              <a:off x="1905120" y="4285800"/>
              <a:ext cx="431280" cy="9961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6120"/>
                <a:gd name="textAreaBottom" fmla="*/ 996480 h 996120"/>
              </a:gdLst>
              <a:ahLst/>
              <a:rect l="textAreaLeft" t="textAreaTop" r="textAreaRight" b="textAreaBottom"/>
              <a:pathLst>
                <a:path w="431800" h="996314">
                  <a:moveTo>
                    <a:pt x="241808" y="0"/>
                  </a:moveTo>
                  <a:lnTo>
                    <a:pt x="191958" y="10845"/>
                  </a:lnTo>
                  <a:lnTo>
                    <a:pt x="142756" y="24160"/>
                  </a:lnTo>
                  <a:lnTo>
                    <a:pt x="94296" y="39913"/>
                  </a:lnTo>
                  <a:lnTo>
                    <a:pt x="46679" y="58074"/>
                  </a:lnTo>
                  <a:lnTo>
                    <a:pt x="0" y="78612"/>
                  </a:lnTo>
                  <a:lnTo>
                    <a:pt x="431800" y="996314"/>
                  </a:lnTo>
                  <a:lnTo>
                    <a:pt x="241808" y="0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bject 76"/>
            <p:cNvSpPr/>
            <p:nvPr/>
          </p:nvSpPr>
          <p:spPr>
            <a:xfrm>
              <a:off x="1905120" y="4285800"/>
              <a:ext cx="431280" cy="9961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6120"/>
                <a:gd name="textAreaBottom" fmla="*/ 996480 h 996120"/>
              </a:gdLst>
              <a:ahLst/>
              <a:rect l="textAreaLeft" t="textAreaTop" r="textAreaRight" b="textAreaBottom"/>
              <a:pathLst>
                <a:path w="431800" h="996314">
                  <a:moveTo>
                    <a:pt x="0" y="78612"/>
                  </a:moveTo>
                  <a:lnTo>
                    <a:pt x="46679" y="58074"/>
                  </a:lnTo>
                  <a:lnTo>
                    <a:pt x="94296" y="39913"/>
                  </a:lnTo>
                  <a:lnTo>
                    <a:pt x="142756" y="24160"/>
                  </a:lnTo>
                  <a:lnTo>
                    <a:pt x="191958" y="10845"/>
                  </a:lnTo>
                  <a:lnTo>
                    <a:pt x="241808" y="0"/>
                  </a:lnTo>
                  <a:lnTo>
                    <a:pt x="431800" y="996314"/>
                  </a:lnTo>
                  <a:lnTo>
                    <a:pt x="0" y="78612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bject 77"/>
            <p:cNvSpPr/>
            <p:nvPr/>
          </p:nvSpPr>
          <p:spPr>
            <a:xfrm>
              <a:off x="2147040" y="4267800"/>
              <a:ext cx="190080" cy="10144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90500" h="1014729">
                  <a:moveTo>
                    <a:pt x="189991" y="0"/>
                  </a:moveTo>
                  <a:lnTo>
                    <a:pt x="142214" y="1119"/>
                  </a:lnTo>
                  <a:lnTo>
                    <a:pt x="94567" y="4476"/>
                  </a:lnTo>
                  <a:lnTo>
                    <a:pt x="47134" y="10072"/>
                  </a:lnTo>
                  <a:lnTo>
                    <a:pt x="0" y="17906"/>
                  </a:lnTo>
                  <a:lnTo>
                    <a:pt x="189991" y="1014221"/>
                  </a:lnTo>
                  <a:lnTo>
                    <a:pt x="189991" y="0"/>
                  </a:lnTo>
                  <a:close/>
                </a:path>
              </a:pathLst>
            </a:custGeom>
            <a:solidFill>
              <a:srgbClr val="92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bject 78"/>
            <p:cNvSpPr/>
            <p:nvPr/>
          </p:nvSpPr>
          <p:spPr>
            <a:xfrm>
              <a:off x="2147040" y="4267800"/>
              <a:ext cx="190080" cy="10144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90500" h="1014729">
                  <a:moveTo>
                    <a:pt x="0" y="17906"/>
                  </a:moveTo>
                  <a:lnTo>
                    <a:pt x="47134" y="10072"/>
                  </a:lnTo>
                  <a:lnTo>
                    <a:pt x="94567" y="4476"/>
                  </a:lnTo>
                  <a:lnTo>
                    <a:pt x="142214" y="1119"/>
                  </a:lnTo>
                  <a:lnTo>
                    <a:pt x="189991" y="0"/>
                  </a:lnTo>
                  <a:lnTo>
                    <a:pt x="189991" y="1014221"/>
                  </a:lnTo>
                  <a:lnTo>
                    <a:pt x="0" y="17906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object 79"/>
          <p:cNvSpPr/>
          <p:nvPr/>
        </p:nvSpPr>
        <p:spPr>
          <a:xfrm>
            <a:off x="2997720" y="4955400"/>
            <a:ext cx="24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object 80"/>
          <p:cNvSpPr/>
          <p:nvPr/>
        </p:nvSpPr>
        <p:spPr>
          <a:xfrm>
            <a:off x="1692720" y="5822280"/>
            <a:ext cx="24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object 81"/>
          <p:cNvSpPr/>
          <p:nvPr/>
        </p:nvSpPr>
        <p:spPr>
          <a:xfrm>
            <a:off x="1425600" y="489816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object 82"/>
          <p:cNvSpPr/>
          <p:nvPr/>
        </p:nvSpPr>
        <p:spPr>
          <a:xfrm>
            <a:off x="1597320" y="461232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object 83"/>
          <p:cNvSpPr/>
          <p:nvPr/>
        </p:nvSpPr>
        <p:spPr>
          <a:xfrm>
            <a:off x="1787760" y="446004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object 84"/>
          <p:cNvSpPr/>
          <p:nvPr/>
        </p:nvSpPr>
        <p:spPr>
          <a:xfrm>
            <a:off x="1978200" y="435492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object 85"/>
          <p:cNvSpPr/>
          <p:nvPr/>
        </p:nvSpPr>
        <p:spPr>
          <a:xfrm>
            <a:off x="2149920" y="406944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object 86"/>
          <p:cNvGrpSpPr/>
          <p:nvPr/>
        </p:nvGrpSpPr>
        <p:grpSpPr>
          <a:xfrm>
            <a:off x="3899880" y="4558320"/>
            <a:ext cx="70200" cy="70200"/>
            <a:chOff x="3899880" y="4558320"/>
            <a:chExt cx="70200" cy="70200"/>
          </a:xfrm>
        </p:grpSpPr>
        <p:sp>
          <p:nvSpPr>
            <p:cNvPr id="1831" name="object 87"/>
            <p:cNvSpPr/>
            <p:nvPr/>
          </p:nvSpPr>
          <p:spPr>
            <a:xfrm>
              <a:off x="3899880" y="455832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4"/>
                  </a:lnTo>
                  <a:lnTo>
                    <a:pt x="70103" y="70104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object 88"/>
            <p:cNvSpPr/>
            <p:nvPr/>
          </p:nvSpPr>
          <p:spPr>
            <a:xfrm>
              <a:off x="3899880" y="455832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4"/>
                  </a:moveTo>
                  <a:lnTo>
                    <a:pt x="70103" y="70104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4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object 89"/>
          <p:cNvGrpSpPr/>
          <p:nvPr/>
        </p:nvGrpSpPr>
        <p:grpSpPr>
          <a:xfrm>
            <a:off x="3899880" y="4788360"/>
            <a:ext cx="70200" cy="68400"/>
            <a:chOff x="3899880" y="4788360"/>
            <a:chExt cx="70200" cy="68400"/>
          </a:xfrm>
        </p:grpSpPr>
        <p:sp>
          <p:nvSpPr>
            <p:cNvPr id="1834" name="object 90"/>
            <p:cNvSpPr/>
            <p:nvPr/>
          </p:nvSpPr>
          <p:spPr>
            <a:xfrm>
              <a:off x="3899880" y="4788360"/>
              <a:ext cx="70200" cy="684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0485" h="68579">
                  <a:moveTo>
                    <a:pt x="70103" y="0"/>
                  </a:moveTo>
                  <a:lnTo>
                    <a:pt x="0" y="0"/>
                  </a:lnTo>
                  <a:lnTo>
                    <a:pt x="0" y="68580"/>
                  </a:lnTo>
                  <a:lnTo>
                    <a:pt x="70103" y="68580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object 91"/>
            <p:cNvSpPr/>
            <p:nvPr/>
          </p:nvSpPr>
          <p:spPr>
            <a:xfrm>
              <a:off x="3899880" y="4788360"/>
              <a:ext cx="70200" cy="684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0485" h="68579">
                  <a:moveTo>
                    <a:pt x="0" y="68580"/>
                  </a:moveTo>
                  <a:lnTo>
                    <a:pt x="70103" y="68580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68580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object 92"/>
          <p:cNvSpPr/>
          <p:nvPr/>
        </p:nvSpPr>
        <p:spPr>
          <a:xfrm>
            <a:off x="3988080" y="4413240"/>
            <a:ext cx="73368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LDPE-пленки BOPP-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object 93"/>
          <p:cNvGrpSpPr/>
          <p:nvPr/>
        </p:nvGrpSpPr>
        <p:grpSpPr>
          <a:xfrm>
            <a:off x="3899880" y="5016960"/>
            <a:ext cx="70200" cy="70200"/>
            <a:chOff x="3899880" y="5016960"/>
            <a:chExt cx="70200" cy="70200"/>
          </a:xfrm>
        </p:grpSpPr>
        <p:sp>
          <p:nvSpPr>
            <p:cNvPr id="1838" name="object 94"/>
            <p:cNvSpPr/>
            <p:nvPr/>
          </p:nvSpPr>
          <p:spPr>
            <a:xfrm>
              <a:off x="3899880" y="501696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4"/>
                  </a:lnTo>
                  <a:lnTo>
                    <a:pt x="70103" y="70104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bject 95"/>
            <p:cNvSpPr/>
            <p:nvPr/>
          </p:nvSpPr>
          <p:spPr>
            <a:xfrm>
              <a:off x="3899880" y="501696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4"/>
                  </a:moveTo>
                  <a:lnTo>
                    <a:pt x="70103" y="70104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4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object 96"/>
          <p:cNvGrpSpPr/>
          <p:nvPr/>
        </p:nvGrpSpPr>
        <p:grpSpPr>
          <a:xfrm>
            <a:off x="3899880" y="5247000"/>
            <a:ext cx="70200" cy="70200"/>
            <a:chOff x="3899880" y="5247000"/>
            <a:chExt cx="70200" cy="70200"/>
          </a:xfrm>
        </p:grpSpPr>
        <p:sp>
          <p:nvSpPr>
            <p:cNvPr id="1841" name="object 97"/>
            <p:cNvSpPr/>
            <p:nvPr/>
          </p:nvSpPr>
          <p:spPr>
            <a:xfrm>
              <a:off x="3899880" y="5247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3"/>
                  </a:lnTo>
                  <a:lnTo>
                    <a:pt x="70103" y="70103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object 98"/>
            <p:cNvSpPr/>
            <p:nvPr/>
          </p:nvSpPr>
          <p:spPr>
            <a:xfrm>
              <a:off x="3899880" y="5247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3"/>
                  </a:moveTo>
                  <a:lnTo>
                    <a:pt x="70103" y="70103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3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object 99"/>
          <p:cNvGrpSpPr/>
          <p:nvPr/>
        </p:nvGrpSpPr>
        <p:grpSpPr>
          <a:xfrm>
            <a:off x="3899880" y="5477400"/>
            <a:ext cx="70200" cy="68400"/>
            <a:chOff x="3899880" y="5477400"/>
            <a:chExt cx="70200" cy="68400"/>
          </a:xfrm>
        </p:grpSpPr>
        <p:sp>
          <p:nvSpPr>
            <p:cNvPr id="1844" name="object 100"/>
            <p:cNvSpPr/>
            <p:nvPr/>
          </p:nvSpPr>
          <p:spPr>
            <a:xfrm>
              <a:off x="3899880" y="5477400"/>
              <a:ext cx="70200" cy="684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0485" h="68579">
                  <a:moveTo>
                    <a:pt x="70103" y="0"/>
                  </a:moveTo>
                  <a:lnTo>
                    <a:pt x="0" y="0"/>
                  </a:lnTo>
                  <a:lnTo>
                    <a:pt x="0" y="68580"/>
                  </a:lnTo>
                  <a:lnTo>
                    <a:pt x="70103" y="68580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419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object 101"/>
            <p:cNvSpPr/>
            <p:nvPr/>
          </p:nvSpPr>
          <p:spPr>
            <a:xfrm>
              <a:off x="3899880" y="5477400"/>
              <a:ext cx="70200" cy="684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0485" h="68579">
                  <a:moveTo>
                    <a:pt x="0" y="68580"/>
                  </a:moveTo>
                  <a:lnTo>
                    <a:pt x="70103" y="68580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68580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object 102"/>
          <p:cNvGrpSpPr/>
          <p:nvPr/>
        </p:nvGrpSpPr>
        <p:grpSpPr>
          <a:xfrm>
            <a:off x="3899880" y="5706000"/>
            <a:ext cx="70200" cy="70200"/>
            <a:chOff x="3899880" y="5706000"/>
            <a:chExt cx="70200" cy="70200"/>
          </a:xfrm>
        </p:grpSpPr>
        <p:sp>
          <p:nvSpPr>
            <p:cNvPr id="1847" name="object 103"/>
            <p:cNvSpPr/>
            <p:nvPr/>
          </p:nvSpPr>
          <p:spPr>
            <a:xfrm>
              <a:off x="3899880" y="5706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4"/>
                  </a:lnTo>
                  <a:lnTo>
                    <a:pt x="70103" y="70104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object 104"/>
            <p:cNvSpPr/>
            <p:nvPr/>
          </p:nvSpPr>
          <p:spPr>
            <a:xfrm>
              <a:off x="3899880" y="5706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4"/>
                  </a:moveTo>
                  <a:lnTo>
                    <a:pt x="70103" y="70104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4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object 105"/>
          <p:cNvGrpSpPr/>
          <p:nvPr/>
        </p:nvGrpSpPr>
        <p:grpSpPr>
          <a:xfrm>
            <a:off x="3899880" y="5936040"/>
            <a:ext cx="70200" cy="70200"/>
            <a:chOff x="3899880" y="5936040"/>
            <a:chExt cx="70200" cy="70200"/>
          </a:xfrm>
        </p:grpSpPr>
        <p:sp>
          <p:nvSpPr>
            <p:cNvPr id="1850" name="object 106"/>
            <p:cNvSpPr/>
            <p:nvPr/>
          </p:nvSpPr>
          <p:spPr>
            <a:xfrm>
              <a:off x="3899880" y="5936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4"/>
                  </a:lnTo>
                  <a:lnTo>
                    <a:pt x="70103" y="70104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92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object 107"/>
            <p:cNvSpPr/>
            <p:nvPr/>
          </p:nvSpPr>
          <p:spPr>
            <a:xfrm>
              <a:off x="3899880" y="5936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4"/>
                  </a:moveTo>
                  <a:lnTo>
                    <a:pt x="70103" y="70104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4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2" name="object 108"/>
          <p:cNvSpPr/>
          <p:nvPr/>
        </p:nvSpPr>
        <p:spPr>
          <a:xfrm>
            <a:off x="3988080" y="4872240"/>
            <a:ext cx="104112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BOPET-пленки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арьерные</a:t>
            </a:r>
            <a:r>
              <a:rPr b="0" lang="en-US" sz="10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ленки CРР-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Твист-упаковка Фоль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object 109"/>
          <p:cNvSpPr/>
          <p:nvPr/>
        </p:nvSpPr>
        <p:spPr>
          <a:xfrm>
            <a:off x="685440" y="3647520"/>
            <a:ext cx="42534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ибкой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упаковки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object 110" descr=""/>
          <p:cNvPicPr/>
          <p:nvPr/>
        </p:nvPicPr>
        <p:blipFill>
          <a:blip r:embed="rId8"/>
          <a:stretch/>
        </p:blipFill>
        <p:spPr>
          <a:xfrm>
            <a:off x="5292000" y="3573000"/>
            <a:ext cx="3024720" cy="575640"/>
          </a:xfrm>
          <a:prstGeom prst="rect">
            <a:avLst/>
          </a:prstGeom>
          <a:ln w="0">
            <a:noFill/>
          </a:ln>
        </p:spPr>
      </p:pic>
      <p:sp>
        <p:nvSpPr>
          <p:cNvPr id="1855" name="object 111"/>
          <p:cNvSpPr/>
          <p:nvPr/>
        </p:nvSpPr>
        <p:spPr>
          <a:xfrm>
            <a:off x="5292000" y="3573000"/>
            <a:ext cx="3024720" cy="51804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spAutoFit/>
          </a:bodyPr>
          <a:p>
            <a:pPr marL="92160">
              <a:lnSpc>
                <a:spcPct val="100000"/>
              </a:lnSpc>
              <a:spcBef>
                <a:spcPts val="249"/>
              </a:spcBef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ынок</a:t>
            </a:r>
            <a:r>
              <a:rPr b="0" lang="en-US" sz="16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гибкой</a:t>
            </a:r>
            <a:r>
              <a:rPr b="0" lang="en-US" sz="16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упаковки</a:t>
            </a:r>
            <a:r>
              <a:rPr b="0" lang="en-US" sz="16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рас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последние</a:t>
            </a:r>
            <a:r>
              <a:rPr b="0" lang="en-US" sz="16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21" strike="noStrike">
                <a:solidFill>
                  <a:srgbClr val="ff0000"/>
                </a:solidFill>
                <a:latin typeface="Calibri"/>
              </a:rPr>
              <a:t>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66360" y="2596320"/>
            <a:ext cx="58899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1" lang="en-US" sz="5400" spc="-1" strike="noStrike">
                <a:solidFill>
                  <a:srgbClr val="006fc0"/>
                </a:solidFill>
                <a:latin typeface="Calibri"/>
              </a:rPr>
              <a:t>Базовые</a:t>
            </a:r>
            <a:r>
              <a:rPr b="1" lang="en-US" sz="5400" spc="-21" strike="noStrike">
                <a:solidFill>
                  <a:srgbClr val="006fc0"/>
                </a:solidFill>
                <a:latin typeface="Calibri"/>
              </a:rPr>
              <a:t> </a:t>
            </a:r>
            <a:r>
              <a:rPr b="1" lang="en-US" sz="5400" spc="-12" strike="noStrike">
                <a:solidFill>
                  <a:srgbClr val="006fc0"/>
                </a:solidFill>
                <a:latin typeface="Calibri"/>
              </a:rPr>
              <a:t>полимеры</a:t>
            </a:r>
            <a:endParaRPr b="0" lang="en-US" sz="5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object 3"/>
          <p:cNvSpPr/>
          <p:nvPr/>
        </p:nvSpPr>
        <p:spPr>
          <a:xfrm>
            <a:off x="8479440" y="6464880"/>
            <a:ext cx="1659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ts val="1239"/>
              </a:lnSpc>
            </a:pPr>
            <a:fld id="{ADAC4456-CA16-493A-B2F6-356699A2AB6C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27800" y="154800"/>
            <a:ext cx="37724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Автомобильный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рынок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1857" name="object 3"/>
          <p:cNvGrpSpPr/>
          <p:nvPr/>
        </p:nvGrpSpPr>
        <p:grpSpPr>
          <a:xfrm>
            <a:off x="1290960" y="1429560"/>
            <a:ext cx="2589480" cy="1746360"/>
            <a:chOff x="1290960" y="1429560"/>
            <a:chExt cx="2589480" cy="1746360"/>
          </a:xfrm>
        </p:grpSpPr>
        <p:sp>
          <p:nvSpPr>
            <p:cNvPr id="1858" name="object 4"/>
            <p:cNvSpPr/>
            <p:nvPr/>
          </p:nvSpPr>
          <p:spPr>
            <a:xfrm>
              <a:off x="1330560" y="2793600"/>
              <a:ext cx="136800" cy="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7159" h="0">
                  <a:moveTo>
                    <a:pt x="0" y="0"/>
                  </a:moveTo>
                  <a:lnTo>
                    <a:pt x="13715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bject 5"/>
            <p:cNvSpPr/>
            <p:nvPr/>
          </p:nvSpPr>
          <p:spPr>
            <a:xfrm>
              <a:off x="1467720" y="2633400"/>
              <a:ext cx="181080" cy="5011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81610" h="501650">
                  <a:moveTo>
                    <a:pt x="181356" y="0"/>
                  </a:moveTo>
                  <a:lnTo>
                    <a:pt x="0" y="0"/>
                  </a:lnTo>
                  <a:lnTo>
                    <a:pt x="0" y="501395"/>
                  </a:lnTo>
                  <a:lnTo>
                    <a:pt x="181356" y="501395"/>
                  </a:lnTo>
                  <a:lnTo>
                    <a:pt x="18135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bject 6"/>
            <p:cNvSpPr/>
            <p:nvPr/>
          </p:nvSpPr>
          <p:spPr>
            <a:xfrm>
              <a:off x="1831680" y="2451960"/>
              <a:ext cx="272520" cy="34128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73050" h="341630">
                  <a:moveTo>
                    <a:pt x="0" y="341375"/>
                  </a:moveTo>
                  <a:lnTo>
                    <a:pt x="272795" y="341375"/>
                  </a:lnTo>
                </a:path>
                <a:path w="273050" h="341630">
                  <a:moveTo>
                    <a:pt x="0" y="0"/>
                  </a:moveTo>
                  <a:lnTo>
                    <a:pt x="2727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bject 7"/>
            <p:cNvSpPr/>
            <p:nvPr/>
          </p:nvSpPr>
          <p:spPr>
            <a:xfrm>
              <a:off x="2104560" y="2311920"/>
              <a:ext cx="182520" cy="822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82880" h="822960">
                  <a:moveTo>
                    <a:pt x="182880" y="0"/>
                  </a:moveTo>
                  <a:lnTo>
                    <a:pt x="0" y="0"/>
                  </a:lnTo>
                  <a:lnTo>
                    <a:pt x="0" y="822959"/>
                  </a:lnTo>
                  <a:lnTo>
                    <a:pt x="182880" y="822959"/>
                  </a:lnTo>
                  <a:lnTo>
                    <a:pt x="18288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bject 8"/>
            <p:cNvSpPr/>
            <p:nvPr/>
          </p:nvSpPr>
          <p:spPr>
            <a:xfrm>
              <a:off x="1330560" y="1770840"/>
              <a:ext cx="2549880" cy="681120"/>
            </a:xfrm>
            <a:custGeom>
              <a:avLst/>
              <a:gdLst>
                <a:gd name="textAreaLeft" fmla="*/ 0 w 2549880"/>
                <a:gd name="textAreaRight" fmla="*/ 2550240 w 254988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50160" h="681355">
                  <a:moveTo>
                    <a:pt x="0" y="681227"/>
                  </a:moveTo>
                  <a:lnTo>
                    <a:pt x="318516" y="681227"/>
                  </a:lnTo>
                </a:path>
                <a:path w="2550160" h="681355">
                  <a:moveTo>
                    <a:pt x="0" y="339851"/>
                  </a:moveTo>
                  <a:lnTo>
                    <a:pt x="318516" y="339851"/>
                  </a:lnTo>
                </a:path>
                <a:path w="2550160" h="681355">
                  <a:moveTo>
                    <a:pt x="501396" y="339851"/>
                  </a:moveTo>
                  <a:lnTo>
                    <a:pt x="2549652" y="339851"/>
                  </a:lnTo>
                </a:path>
                <a:path w="2550160" h="681355">
                  <a:moveTo>
                    <a:pt x="0" y="0"/>
                  </a:moveTo>
                  <a:lnTo>
                    <a:pt x="318516" y="0"/>
                  </a:lnTo>
                </a:path>
                <a:path w="2550160" h="681355">
                  <a:moveTo>
                    <a:pt x="501396" y="0"/>
                  </a:moveTo>
                  <a:lnTo>
                    <a:pt x="254965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bject 9"/>
            <p:cNvSpPr/>
            <p:nvPr/>
          </p:nvSpPr>
          <p:spPr>
            <a:xfrm>
              <a:off x="1648800" y="1586520"/>
              <a:ext cx="182520" cy="1548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548360"/>
                <a:gd name="textAreaBottom" fmla="*/ 1548720 h 1548360"/>
              </a:gdLst>
              <a:ahLst/>
              <a:rect l="textAreaLeft" t="textAreaTop" r="textAreaRight" b="textAreaBottom"/>
              <a:pathLst>
                <a:path w="182880" h="1548764">
                  <a:moveTo>
                    <a:pt x="182880" y="0"/>
                  </a:moveTo>
                  <a:lnTo>
                    <a:pt x="0" y="0"/>
                  </a:lnTo>
                  <a:lnTo>
                    <a:pt x="0" y="1548383"/>
                  </a:lnTo>
                  <a:lnTo>
                    <a:pt x="182880" y="1548383"/>
                  </a:lnTo>
                  <a:lnTo>
                    <a:pt x="18288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object 10"/>
            <p:cNvSpPr/>
            <p:nvPr/>
          </p:nvSpPr>
          <p:spPr>
            <a:xfrm>
              <a:off x="2468880" y="2451960"/>
              <a:ext cx="272520" cy="34128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73050" h="341630">
                  <a:moveTo>
                    <a:pt x="0" y="341375"/>
                  </a:moveTo>
                  <a:lnTo>
                    <a:pt x="272795" y="341375"/>
                  </a:lnTo>
                </a:path>
                <a:path w="273050" h="341630">
                  <a:moveTo>
                    <a:pt x="0" y="0"/>
                  </a:moveTo>
                  <a:lnTo>
                    <a:pt x="2727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object 11"/>
            <p:cNvSpPr/>
            <p:nvPr/>
          </p:nvSpPr>
          <p:spPr>
            <a:xfrm>
              <a:off x="2741760" y="2369880"/>
              <a:ext cx="182520" cy="764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182880" h="765175">
                  <a:moveTo>
                    <a:pt x="182880" y="0"/>
                  </a:moveTo>
                  <a:lnTo>
                    <a:pt x="0" y="0"/>
                  </a:lnTo>
                  <a:lnTo>
                    <a:pt x="0" y="765047"/>
                  </a:lnTo>
                  <a:lnTo>
                    <a:pt x="182880" y="765047"/>
                  </a:lnTo>
                  <a:lnTo>
                    <a:pt x="18288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bject 12"/>
            <p:cNvSpPr/>
            <p:nvPr/>
          </p:nvSpPr>
          <p:spPr>
            <a:xfrm>
              <a:off x="2287440" y="2260080"/>
              <a:ext cx="181080" cy="874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181610" h="875030">
                  <a:moveTo>
                    <a:pt x="181356" y="0"/>
                  </a:moveTo>
                  <a:lnTo>
                    <a:pt x="0" y="0"/>
                  </a:lnTo>
                  <a:lnTo>
                    <a:pt x="0" y="874776"/>
                  </a:lnTo>
                  <a:lnTo>
                    <a:pt x="181356" y="874776"/>
                  </a:lnTo>
                  <a:lnTo>
                    <a:pt x="18135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object 13"/>
            <p:cNvSpPr/>
            <p:nvPr/>
          </p:nvSpPr>
          <p:spPr>
            <a:xfrm>
              <a:off x="3106080" y="2451960"/>
              <a:ext cx="272520" cy="34128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73050" h="341630">
                  <a:moveTo>
                    <a:pt x="0" y="341375"/>
                  </a:moveTo>
                  <a:lnTo>
                    <a:pt x="272796" y="341375"/>
                  </a:lnTo>
                </a:path>
                <a:path w="273050" h="341630">
                  <a:moveTo>
                    <a:pt x="0" y="0"/>
                  </a:moveTo>
                  <a:lnTo>
                    <a:pt x="27279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bject 14"/>
            <p:cNvSpPr/>
            <p:nvPr/>
          </p:nvSpPr>
          <p:spPr>
            <a:xfrm>
              <a:off x="3378600" y="2325600"/>
              <a:ext cx="182520" cy="809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182879" h="809625">
                  <a:moveTo>
                    <a:pt x="182879" y="0"/>
                  </a:moveTo>
                  <a:lnTo>
                    <a:pt x="0" y="0"/>
                  </a:lnTo>
                  <a:lnTo>
                    <a:pt x="0" y="809243"/>
                  </a:lnTo>
                  <a:lnTo>
                    <a:pt x="182879" y="809243"/>
                  </a:lnTo>
                  <a:lnTo>
                    <a:pt x="18287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bject 15"/>
            <p:cNvSpPr/>
            <p:nvPr/>
          </p:nvSpPr>
          <p:spPr>
            <a:xfrm>
              <a:off x="2924640" y="2288880"/>
              <a:ext cx="181080" cy="84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181610" h="845819">
                  <a:moveTo>
                    <a:pt x="181356" y="0"/>
                  </a:moveTo>
                  <a:lnTo>
                    <a:pt x="0" y="0"/>
                  </a:lnTo>
                  <a:lnTo>
                    <a:pt x="0" y="845819"/>
                  </a:lnTo>
                  <a:lnTo>
                    <a:pt x="181356" y="845819"/>
                  </a:lnTo>
                  <a:lnTo>
                    <a:pt x="18135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object 16"/>
            <p:cNvSpPr/>
            <p:nvPr/>
          </p:nvSpPr>
          <p:spPr>
            <a:xfrm>
              <a:off x="3742920" y="2451960"/>
              <a:ext cx="136800" cy="3412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37160" h="341630">
                  <a:moveTo>
                    <a:pt x="0" y="341375"/>
                  </a:moveTo>
                  <a:lnTo>
                    <a:pt x="137159" y="341375"/>
                  </a:lnTo>
                </a:path>
                <a:path w="137160" h="341630">
                  <a:moveTo>
                    <a:pt x="0" y="0"/>
                  </a:moveTo>
                  <a:lnTo>
                    <a:pt x="13715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bject 17"/>
            <p:cNvSpPr/>
            <p:nvPr/>
          </p:nvSpPr>
          <p:spPr>
            <a:xfrm>
              <a:off x="3561480" y="2241720"/>
              <a:ext cx="181080" cy="893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93160"/>
                <a:gd name="textAreaBottom" fmla="*/ 893520 h 893160"/>
              </a:gdLst>
              <a:ahLst/>
              <a:rect l="textAreaLeft" t="textAreaTop" r="textAreaRight" b="textAreaBottom"/>
              <a:pathLst>
                <a:path w="181610" h="893444">
                  <a:moveTo>
                    <a:pt x="181356" y="0"/>
                  </a:moveTo>
                  <a:lnTo>
                    <a:pt x="0" y="0"/>
                  </a:lnTo>
                  <a:lnTo>
                    <a:pt x="0" y="893063"/>
                  </a:lnTo>
                  <a:lnTo>
                    <a:pt x="181356" y="893063"/>
                  </a:lnTo>
                  <a:lnTo>
                    <a:pt x="18135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object 18"/>
            <p:cNvSpPr/>
            <p:nvPr/>
          </p:nvSpPr>
          <p:spPr>
            <a:xfrm>
              <a:off x="1290960" y="1429560"/>
              <a:ext cx="2589120" cy="174636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1746360"/>
                <a:gd name="textAreaBottom" fmla="*/ 1746720 h 1746360"/>
              </a:gdLst>
              <a:ahLst/>
              <a:rect l="textAreaLeft" t="textAreaTop" r="textAreaRight" b="textAreaBottom"/>
              <a:pathLst>
                <a:path w="2589529" h="1746885">
                  <a:moveTo>
                    <a:pt x="39624" y="0"/>
                  </a:moveTo>
                  <a:lnTo>
                    <a:pt x="2589276" y="0"/>
                  </a:lnTo>
                </a:path>
                <a:path w="2589529" h="1746885">
                  <a:moveTo>
                    <a:pt x="39624" y="1705355"/>
                  </a:moveTo>
                  <a:lnTo>
                    <a:pt x="39624" y="0"/>
                  </a:lnTo>
                </a:path>
                <a:path w="2589529" h="1746885">
                  <a:moveTo>
                    <a:pt x="0" y="1705355"/>
                  </a:moveTo>
                  <a:lnTo>
                    <a:pt x="39624" y="1705355"/>
                  </a:lnTo>
                </a:path>
                <a:path w="2589529" h="1746885">
                  <a:moveTo>
                    <a:pt x="0" y="1363979"/>
                  </a:moveTo>
                  <a:lnTo>
                    <a:pt x="39624" y="1363979"/>
                  </a:lnTo>
                </a:path>
                <a:path w="2589529" h="1746885">
                  <a:moveTo>
                    <a:pt x="0" y="1022603"/>
                  </a:moveTo>
                  <a:lnTo>
                    <a:pt x="39624" y="1022603"/>
                  </a:lnTo>
                </a:path>
                <a:path w="2589529" h="1746885">
                  <a:moveTo>
                    <a:pt x="0" y="681227"/>
                  </a:moveTo>
                  <a:lnTo>
                    <a:pt x="39624" y="681227"/>
                  </a:lnTo>
                </a:path>
                <a:path w="2589529" h="1746885">
                  <a:moveTo>
                    <a:pt x="0" y="341375"/>
                  </a:moveTo>
                  <a:lnTo>
                    <a:pt x="39624" y="341375"/>
                  </a:lnTo>
                </a:path>
                <a:path w="2589529" h="1746885">
                  <a:moveTo>
                    <a:pt x="0" y="0"/>
                  </a:moveTo>
                  <a:lnTo>
                    <a:pt x="39624" y="0"/>
                  </a:lnTo>
                </a:path>
                <a:path w="2589529" h="1746885">
                  <a:moveTo>
                    <a:pt x="39624" y="1705355"/>
                  </a:moveTo>
                  <a:lnTo>
                    <a:pt x="2589276" y="1705355"/>
                  </a:lnTo>
                </a:path>
                <a:path w="2589529" h="1746885">
                  <a:moveTo>
                    <a:pt x="39624" y="1705355"/>
                  </a:moveTo>
                  <a:lnTo>
                    <a:pt x="39624" y="1746503"/>
                  </a:lnTo>
                </a:path>
                <a:path w="2589529" h="1746885">
                  <a:moveTo>
                    <a:pt x="676655" y="1705355"/>
                  </a:moveTo>
                  <a:lnTo>
                    <a:pt x="676655" y="1746503"/>
                  </a:lnTo>
                </a:path>
                <a:path w="2589529" h="1746885">
                  <a:moveTo>
                    <a:pt x="1315211" y="1705355"/>
                  </a:moveTo>
                  <a:lnTo>
                    <a:pt x="1315211" y="1746503"/>
                  </a:lnTo>
                </a:path>
                <a:path w="2589529" h="1746885">
                  <a:moveTo>
                    <a:pt x="1952244" y="1705355"/>
                  </a:moveTo>
                  <a:lnTo>
                    <a:pt x="1952244" y="1746503"/>
                  </a:lnTo>
                </a:path>
                <a:path w="2589529" h="1746885">
                  <a:moveTo>
                    <a:pt x="2589276" y="1705355"/>
                  </a:moveTo>
                  <a:lnTo>
                    <a:pt x="2589276" y="1746503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3" name="object 19"/>
          <p:cNvSpPr/>
          <p:nvPr/>
        </p:nvSpPr>
        <p:spPr>
          <a:xfrm>
            <a:off x="1450440" y="24026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object 20"/>
          <p:cNvSpPr/>
          <p:nvPr/>
        </p:nvSpPr>
        <p:spPr>
          <a:xfrm>
            <a:off x="2055600" y="208116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object 21"/>
          <p:cNvSpPr/>
          <p:nvPr/>
        </p:nvSpPr>
        <p:spPr>
          <a:xfrm>
            <a:off x="2693160" y="213912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object 22"/>
          <p:cNvSpPr/>
          <p:nvPr/>
        </p:nvSpPr>
        <p:spPr>
          <a:xfrm>
            <a:off x="3330720" y="209484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1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object 23"/>
          <p:cNvSpPr/>
          <p:nvPr/>
        </p:nvSpPr>
        <p:spPr>
          <a:xfrm>
            <a:off x="1600200" y="13561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2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bject 24"/>
          <p:cNvSpPr/>
          <p:nvPr/>
        </p:nvSpPr>
        <p:spPr>
          <a:xfrm>
            <a:off x="2301480" y="199116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object 25"/>
          <p:cNvSpPr/>
          <p:nvPr/>
        </p:nvSpPr>
        <p:spPr>
          <a:xfrm>
            <a:off x="2938680" y="205848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object 26"/>
          <p:cNvSpPr/>
          <p:nvPr/>
        </p:nvSpPr>
        <p:spPr>
          <a:xfrm>
            <a:off x="3728520" y="19990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3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object 27"/>
          <p:cNvSpPr/>
          <p:nvPr/>
        </p:nvSpPr>
        <p:spPr>
          <a:xfrm>
            <a:off x="1136160" y="30330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object 28"/>
          <p:cNvSpPr/>
          <p:nvPr/>
        </p:nvSpPr>
        <p:spPr>
          <a:xfrm>
            <a:off x="1007640" y="26913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object 29"/>
          <p:cNvSpPr/>
          <p:nvPr/>
        </p:nvSpPr>
        <p:spPr>
          <a:xfrm>
            <a:off x="943200" y="23500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object 30"/>
          <p:cNvSpPr/>
          <p:nvPr/>
        </p:nvSpPr>
        <p:spPr>
          <a:xfrm>
            <a:off x="943200" y="20088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object 31"/>
          <p:cNvSpPr/>
          <p:nvPr/>
        </p:nvSpPr>
        <p:spPr>
          <a:xfrm>
            <a:off x="943200" y="16675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object 32"/>
          <p:cNvSpPr/>
          <p:nvPr/>
        </p:nvSpPr>
        <p:spPr>
          <a:xfrm>
            <a:off x="943200" y="13258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object 33"/>
          <p:cNvSpPr/>
          <p:nvPr/>
        </p:nvSpPr>
        <p:spPr>
          <a:xfrm>
            <a:off x="4082760" y="22204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object 34"/>
          <p:cNvSpPr/>
          <p:nvPr/>
        </p:nvSpPr>
        <p:spPr>
          <a:xfrm>
            <a:off x="4082760" y="24505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object 35"/>
          <p:cNvSpPr/>
          <p:nvPr/>
        </p:nvSpPr>
        <p:spPr>
          <a:xfrm>
            <a:off x="4170960" y="2075400"/>
            <a:ext cx="7884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object 36"/>
          <p:cNvGrpSpPr/>
          <p:nvPr/>
        </p:nvGrpSpPr>
        <p:grpSpPr>
          <a:xfrm>
            <a:off x="5442120" y="1429560"/>
            <a:ext cx="2254320" cy="1648800"/>
            <a:chOff x="5442120" y="1429560"/>
            <a:chExt cx="2254320" cy="1648800"/>
          </a:xfrm>
        </p:grpSpPr>
        <p:sp>
          <p:nvSpPr>
            <p:cNvPr id="1891" name="object 37"/>
            <p:cNvSpPr/>
            <p:nvPr/>
          </p:nvSpPr>
          <p:spPr>
            <a:xfrm>
              <a:off x="5483520" y="1785960"/>
              <a:ext cx="275760" cy="10742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1074240"/>
                <a:gd name="textAreaBottom" fmla="*/ 1074600 h 1074240"/>
              </a:gdLst>
              <a:ahLst/>
              <a:rect l="textAreaLeft" t="textAreaTop" r="textAreaRight" b="textAreaBottom"/>
              <a:pathLst>
                <a:path w="276225" h="1074420">
                  <a:moveTo>
                    <a:pt x="0" y="1074420"/>
                  </a:moveTo>
                  <a:lnTo>
                    <a:pt x="118872" y="1074420"/>
                  </a:lnTo>
                </a:path>
                <a:path w="276225" h="1074420">
                  <a:moveTo>
                    <a:pt x="0" y="894588"/>
                  </a:moveTo>
                  <a:lnTo>
                    <a:pt x="118872" y="894588"/>
                  </a:lnTo>
                </a:path>
                <a:path w="276225" h="1074420">
                  <a:moveTo>
                    <a:pt x="0" y="716280"/>
                  </a:moveTo>
                  <a:lnTo>
                    <a:pt x="118872" y="716280"/>
                  </a:lnTo>
                </a:path>
                <a:path w="276225" h="1074420">
                  <a:moveTo>
                    <a:pt x="0" y="536448"/>
                  </a:moveTo>
                  <a:lnTo>
                    <a:pt x="118872" y="536448"/>
                  </a:lnTo>
                </a:path>
                <a:path w="276225" h="1074420">
                  <a:moveTo>
                    <a:pt x="0" y="358139"/>
                  </a:moveTo>
                  <a:lnTo>
                    <a:pt x="118872" y="358139"/>
                  </a:lnTo>
                </a:path>
                <a:path w="276225" h="1074420">
                  <a:moveTo>
                    <a:pt x="0" y="179832"/>
                  </a:moveTo>
                  <a:lnTo>
                    <a:pt x="118872" y="179832"/>
                  </a:lnTo>
                </a:path>
                <a:path w="276225" h="107442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bject 38"/>
            <p:cNvSpPr/>
            <p:nvPr/>
          </p:nvSpPr>
          <p:spPr>
            <a:xfrm>
              <a:off x="5602320" y="1822680"/>
              <a:ext cx="156960" cy="1216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216440"/>
                <a:gd name="textAreaBottom" fmla="*/ 1216800 h 1216440"/>
              </a:gdLst>
              <a:ahLst/>
              <a:rect l="textAreaLeft" t="textAreaTop" r="textAreaRight" b="textAreaBottom"/>
              <a:pathLst>
                <a:path w="157479" h="1216660">
                  <a:moveTo>
                    <a:pt x="156972" y="0"/>
                  </a:moveTo>
                  <a:lnTo>
                    <a:pt x="0" y="0"/>
                  </a:lnTo>
                  <a:lnTo>
                    <a:pt x="0" y="1216152"/>
                  </a:lnTo>
                  <a:lnTo>
                    <a:pt x="156972" y="1216152"/>
                  </a:lnTo>
                  <a:lnTo>
                    <a:pt x="15697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bject 39"/>
            <p:cNvSpPr/>
            <p:nvPr/>
          </p:nvSpPr>
          <p:spPr>
            <a:xfrm>
              <a:off x="5917680" y="2144160"/>
              <a:ext cx="790920" cy="71604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91209" h="716280">
                  <a:moveTo>
                    <a:pt x="0" y="716280"/>
                  </a:moveTo>
                  <a:lnTo>
                    <a:pt x="237744" y="716280"/>
                  </a:lnTo>
                </a:path>
                <a:path w="791209" h="716280">
                  <a:moveTo>
                    <a:pt x="0" y="536448"/>
                  </a:moveTo>
                  <a:lnTo>
                    <a:pt x="237744" y="536448"/>
                  </a:lnTo>
                </a:path>
                <a:path w="791209" h="716280">
                  <a:moveTo>
                    <a:pt x="0" y="358140"/>
                  </a:moveTo>
                  <a:lnTo>
                    <a:pt x="237744" y="358140"/>
                  </a:lnTo>
                </a:path>
                <a:path w="791209" h="716280">
                  <a:moveTo>
                    <a:pt x="0" y="178308"/>
                  </a:moveTo>
                  <a:lnTo>
                    <a:pt x="237744" y="178308"/>
                  </a:lnTo>
                </a:path>
                <a:path w="791209" h="716280">
                  <a:moveTo>
                    <a:pt x="0" y="0"/>
                  </a:moveTo>
                  <a:lnTo>
                    <a:pt x="237744" y="0"/>
                  </a:lnTo>
                </a:path>
                <a:path w="791209" h="716280">
                  <a:moveTo>
                    <a:pt x="394716" y="0"/>
                  </a:moveTo>
                  <a:lnTo>
                    <a:pt x="7909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bject 40"/>
            <p:cNvSpPr/>
            <p:nvPr/>
          </p:nvSpPr>
          <p:spPr>
            <a:xfrm>
              <a:off x="6155280" y="2109240"/>
              <a:ext cx="156960" cy="929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929160"/>
                <a:gd name="textAreaBottom" fmla="*/ 929520 h 929160"/>
              </a:gdLst>
              <a:ahLst/>
              <a:rect l="textAreaLeft" t="textAreaTop" r="textAreaRight" b="textAreaBottom"/>
              <a:pathLst>
                <a:path w="157479" h="929639">
                  <a:moveTo>
                    <a:pt x="156972" y="0"/>
                  </a:moveTo>
                  <a:lnTo>
                    <a:pt x="0" y="0"/>
                  </a:lnTo>
                  <a:lnTo>
                    <a:pt x="0" y="929639"/>
                  </a:lnTo>
                  <a:lnTo>
                    <a:pt x="156972" y="929639"/>
                  </a:lnTo>
                  <a:lnTo>
                    <a:pt x="15697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bject 41"/>
            <p:cNvSpPr/>
            <p:nvPr/>
          </p:nvSpPr>
          <p:spPr>
            <a:xfrm>
              <a:off x="5917680" y="1965960"/>
              <a:ext cx="1343880" cy="894240"/>
            </a:xfrm>
            <a:custGeom>
              <a:avLst/>
              <a:gdLst>
                <a:gd name="textAreaLeft" fmla="*/ 0 w 1343880"/>
                <a:gd name="textAreaRight" fmla="*/ 1344240 w 134388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1344295" h="894714">
                  <a:moveTo>
                    <a:pt x="553212" y="894588"/>
                  </a:moveTo>
                  <a:lnTo>
                    <a:pt x="790956" y="894588"/>
                  </a:lnTo>
                </a:path>
                <a:path w="1344295" h="894714">
                  <a:moveTo>
                    <a:pt x="553212" y="714755"/>
                  </a:moveTo>
                  <a:lnTo>
                    <a:pt x="790956" y="714755"/>
                  </a:lnTo>
                </a:path>
                <a:path w="1344295" h="894714">
                  <a:moveTo>
                    <a:pt x="553212" y="536448"/>
                  </a:moveTo>
                  <a:lnTo>
                    <a:pt x="790956" y="536448"/>
                  </a:lnTo>
                </a:path>
                <a:path w="1344295" h="894714">
                  <a:moveTo>
                    <a:pt x="553212" y="356615"/>
                  </a:moveTo>
                  <a:lnTo>
                    <a:pt x="790956" y="356615"/>
                  </a:lnTo>
                </a:path>
                <a:path w="1344295" h="894714">
                  <a:moveTo>
                    <a:pt x="0" y="0"/>
                  </a:moveTo>
                  <a:lnTo>
                    <a:pt x="13441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bject 42"/>
            <p:cNvSpPr/>
            <p:nvPr/>
          </p:nvSpPr>
          <p:spPr>
            <a:xfrm>
              <a:off x="6708600" y="1982880"/>
              <a:ext cx="158400" cy="10562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056240"/>
                <a:gd name="textAreaBottom" fmla="*/ 1056600 h 1056240"/>
              </a:gdLst>
              <a:ahLst/>
              <a:rect l="textAreaLeft" t="textAreaTop" r="textAreaRight" b="textAreaBottom"/>
              <a:pathLst>
                <a:path w="158750" h="1056639">
                  <a:moveTo>
                    <a:pt x="158496" y="0"/>
                  </a:moveTo>
                  <a:lnTo>
                    <a:pt x="0" y="0"/>
                  </a:lnTo>
                  <a:lnTo>
                    <a:pt x="0" y="1056131"/>
                  </a:lnTo>
                  <a:lnTo>
                    <a:pt x="158496" y="1056131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bject 43"/>
            <p:cNvSpPr/>
            <p:nvPr/>
          </p:nvSpPr>
          <p:spPr>
            <a:xfrm>
              <a:off x="7023960" y="1965960"/>
              <a:ext cx="672120" cy="89424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672465" h="894714">
                  <a:moveTo>
                    <a:pt x="0" y="894588"/>
                  </a:moveTo>
                  <a:lnTo>
                    <a:pt x="237743" y="894588"/>
                  </a:lnTo>
                </a:path>
                <a:path w="672465" h="894714">
                  <a:moveTo>
                    <a:pt x="0" y="714755"/>
                  </a:moveTo>
                  <a:lnTo>
                    <a:pt x="237743" y="714755"/>
                  </a:lnTo>
                </a:path>
                <a:path w="672465" h="894714">
                  <a:moveTo>
                    <a:pt x="0" y="536448"/>
                  </a:moveTo>
                  <a:lnTo>
                    <a:pt x="237743" y="536448"/>
                  </a:lnTo>
                </a:path>
                <a:path w="672465" h="894714">
                  <a:moveTo>
                    <a:pt x="0" y="356615"/>
                  </a:moveTo>
                  <a:lnTo>
                    <a:pt x="237743" y="356615"/>
                  </a:lnTo>
                </a:path>
                <a:path w="672465" h="894714">
                  <a:moveTo>
                    <a:pt x="0" y="178307"/>
                  </a:moveTo>
                  <a:lnTo>
                    <a:pt x="237743" y="178307"/>
                  </a:lnTo>
                </a:path>
                <a:path w="672465" h="894714">
                  <a:moveTo>
                    <a:pt x="396239" y="0"/>
                  </a:moveTo>
                  <a:lnTo>
                    <a:pt x="6720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bject 44"/>
            <p:cNvSpPr/>
            <p:nvPr/>
          </p:nvSpPr>
          <p:spPr>
            <a:xfrm>
              <a:off x="7261920" y="1912680"/>
              <a:ext cx="158400" cy="11260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26080"/>
                <a:gd name="textAreaBottom" fmla="*/ 1126440 h 1126080"/>
              </a:gdLst>
              <a:ahLst/>
              <a:rect l="textAreaLeft" t="textAreaTop" r="textAreaRight" b="textAreaBottom"/>
              <a:pathLst>
                <a:path w="158750" h="1126489">
                  <a:moveTo>
                    <a:pt x="158496" y="0"/>
                  </a:moveTo>
                  <a:lnTo>
                    <a:pt x="0" y="0"/>
                  </a:lnTo>
                  <a:lnTo>
                    <a:pt x="0" y="1126235"/>
                  </a:lnTo>
                  <a:lnTo>
                    <a:pt x="158496" y="1126235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bject 45"/>
            <p:cNvSpPr/>
            <p:nvPr/>
          </p:nvSpPr>
          <p:spPr>
            <a:xfrm>
              <a:off x="5483520" y="1607760"/>
              <a:ext cx="2212560" cy="17820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2212975" h="178435">
                  <a:moveTo>
                    <a:pt x="434339" y="178307"/>
                  </a:moveTo>
                  <a:lnTo>
                    <a:pt x="2212848" y="178307"/>
                  </a:lnTo>
                </a:path>
                <a:path w="2212975" h="178435">
                  <a:moveTo>
                    <a:pt x="0" y="0"/>
                  </a:moveTo>
                  <a:lnTo>
                    <a:pt x="275844" y="0"/>
                  </a:lnTo>
                </a:path>
                <a:path w="2212975" h="178435">
                  <a:moveTo>
                    <a:pt x="434339" y="0"/>
                  </a:moveTo>
                  <a:lnTo>
                    <a:pt x="22128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bject 46"/>
            <p:cNvSpPr/>
            <p:nvPr/>
          </p:nvSpPr>
          <p:spPr>
            <a:xfrm>
              <a:off x="5759280" y="1589400"/>
              <a:ext cx="1264680" cy="1449360"/>
            </a:xfrm>
            <a:custGeom>
              <a:avLst/>
              <a:gdLst>
                <a:gd name="textAreaLeft" fmla="*/ 0 w 1264680"/>
                <a:gd name="textAreaRight" fmla="*/ 1265040 w 126468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264920" h="1449705">
                  <a:moveTo>
                    <a:pt x="158496" y="0"/>
                  </a:moveTo>
                  <a:lnTo>
                    <a:pt x="0" y="0"/>
                  </a:lnTo>
                  <a:lnTo>
                    <a:pt x="0" y="1449324"/>
                  </a:lnTo>
                  <a:lnTo>
                    <a:pt x="158496" y="1449324"/>
                  </a:lnTo>
                  <a:lnTo>
                    <a:pt x="158496" y="0"/>
                  </a:lnTo>
                  <a:close/>
                </a:path>
                <a:path w="1264920" h="1449705">
                  <a:moveTo>
                    <a:pt x="711708" y="591312"/>
                  </a:moveTo>
                  <a:lnTo>
                    <a:pt x="553212" y="591312"/>
                  </a:lnTo>
                  <a:lnTo>
                    <a:pt x="553212" y="1449324"/>
                  </a:lnTo>
                  <a:lnTo>
                    <a:pt x="711708" y="1449324"/>
                  </a:lnTo>
                  <a:lnTo>
                    <a:pt x="711708" y="591312"/>
                  </a:lnTo>
                  <a:close/>
                </a:path>
                <a:path w="1264920" h="1449705">
                  <a:moveTo>
                    <a:pt x="1264920" y="519684"/>
                  </a:moveTo>
                  <a:lnTo>
                    <a:pt x="1107948" y="519684"/>
                  </a:lnTo>
                  <a:lnTo>
                    <a:pt x="1107948" y="1449324"/>
                  </a:lnTo>
                  <a:lnTo>
                    <a:pt x="1264920" y="1449324"/>
                  </a:lnTo>
                  <a:lnTo>
                    <a:pt x="1264920" y="519684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object 47"/>
            <p:cNvSpPr/>
            <p:nvPr/>
          </p:nvSpPr>
          <p:spPr>
            <a:xfrm>
              <a:off x="7577280" y="2144160"/>
              <a:ext cx="119160" cy="716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19379" h="716280">
                  <a:moveTo>
                    <a:pt x="0" y="716280"/>
                  </a:moveTo>
                  <a:lnTo>
                    <a:pt x="118872" y="716280"/>
                  </a:lnTo>
                </a:path>
                <a:path w="119379" h="716280">
                  <a:moveTo>
                    <a:pt x="0" y="536448"/>
                  </a:moveTo>
                  <a:lnTo>
                    <a:pt x="118872" y="536448"/>
                  </a:lnTo>
                </a:path>
                <a:path w="119379" h="716280">
                  <a:moveTo>
                    <a:pt x="0" y="358140"/>
                  </a:moveTo>
                  <a:lnTo>
                    <a:pt x="118872" y="358140"/>
                  </a:lnTo>
                </a:path>
                <a:path w="119379" h="716280">
                  <a:moveTo>
                    <a:pt x="0" y="178308"/>
                  </a:moveTo>
                  <a:lnTo>
                    <a:pt x="118872" y="178308"/>
                  </a:lnTo>
                </a:path>
                <a:path w="119379" h="716280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bject 48"/>
            <p:cNvSpPr/>
            <p:nvPr/>
          </p:nvSpPr>
          <p:spPr>
            <a:xfrm>
              <a:off x="7420320" y="2000880"/>
              <a:ext cx="156960" cy="10378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37880"/>
                <a:gd name="textAreaBottom" fmla="*/ 1038240 h 1037880"/>
              </a:gdLst>
              <a:ahLst/>
              <a:rect l="textAreaLeft" t="textAreaTop" r="textAreaRight" b="textAreaBottom"/>
              <a:pathLst>
                <a:path w="157479" h="1038225">
                  <a:moveTo>
                    <a:pt x="156972" y="0"/>
                  </a:moveTo>
                  <a:lnTo>
                    <a:pt x="0" y="0"/>
                  </a:lnTo>
                  <a:lnTo>
                    <a:pt x="0" y="1037843"/>
                  </a:lnTo>
                  <a:lnTo>
                    <a:pt x="156972" y="1037843"/>
                  </a:lnTo>
                  <a:lnTo>
                    <a:pt x="15697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object 49"/>
            <p:cNvSpPr/>
            <p:nvPr/>
          </p:nvSpPr>
          <p:spPr>
            <a:xfrm>
              <a:off x="5442120" y="1429560"/>
              <a:ext cx="2253960" cy="164880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648800"/>
                <a:gd name="textAreaBottom" fmla="*/ 1649160 h 1648800"/>
              </a:gdLst>
              <a:ahLst/>
              <a:rect l="textAreaLeft" t="textAreaTop" r="textAreaRight" b="textAreaBottom"/>
              <a:pathLst>
                <a:path w="2254250" h="1649095">
                  <a:moveTo>
                    <a:pt x="41148" y="0"/>
                  </a:moveTo>
                  <a:lnTo>
                    <a:pt x="2253996" y="0"/>
                  </a:lnTo>
                </a:path>
                <a:path w="2254250" h="1649095">
                  <a:moveTo>
                    <a:pt x="41148" y="1609343"/>
                  </a:moveTo>
                  <a:lnTo>
                    <a:pt x="41148" y="0"/>
                  </a:lnTo>
                </a:path>
                <a:path w="2254250" h="1649095">
                  <a:moveTo>
                    <a:pt x="0" y="1609343"/>
                  </a:moveTo>
                  <a:lnTo>
                    <a:pt x="41148" y="1609343"/>
                  </a:lnTo>
                </a:path>
                <a:path w="2254250" h="1649095">
                  <a:moveTo>
                    <a:pt x="0" y="1431036"/>
                  </a:moveTo>
                  <a:lnTo>
                    <a:pt x="41148" y="1431036"/>
                  </a:lnTo>
                </a:path>
                <a:path w="2254250" h="1649095">
                  <a:moveTo>
                    <a:pt x="0" y="1251203"/>
                  </a:moveTo>
                  <a:lnTo>
                    <a:pt x="41148" y="1251203"/>
                  </a:lnTo>
                </a:path>
                <a:path w="2254250" h="1649095">
                  <a:moveTo>
                    <a:pt x="0" y="1072896"/>
                  </a:moveTo>
                  <a:lnTo>
                    <a:pt x="41148" y="1072896"/>
                  </a:lnTo>
                </a:path>
                <a:path w="2254250" h="1649095">
                  <a:moveTo>
                    <a:pt x="0" y="893063"/>
                  </a:moveTo>
                  <a:lnTo>
                    <a:pt x="41148" y="893063"/>
                  </a:lnTo>
                </a:path>
                <a:path w="2254250" h="1649095">
                  <a:moveTo>
                    <a:pt x="0" y="714755"/>
                  </a:moveTo>
                  <a:lnTo>
                    <a:pt x="41148" y="714755"/>
                  </a:lnTo>
                </a:path>
                <a:path w="2254250" h="1649095">
                  <a:moveTo>
                    <a:pt x="0" y="536448"/>
                  </a:moveTo>
                  <a:lnTo>
                    <a:pt x="41148" y="536448"/>
                  </a:lnTo>
                </a:path>
                <a:path w="2254250" h="1649095">
                  <a:moveTo>
                    <a:pt x="0" y="356615"/>
                  </a:moveTo>
                  <a:lnTo>
                    <a:pt x="41148" y="356615"/>
                  </a:lnTo>
                </a:path>
                <a:path w="2254250" h="1649095">
                  <a:moveTo>
                    <a:pt x="0" y="178308"/>
                  </a:moveTo>
                  <a:lnTo>
                    <a:pt x="41148" y="178308"/>
                  </a:lnTo>
                </a:path>
                <a:path w="2254250" h="1649095">
                  <a:moveTo>
                    <a:pt x="0" y="0"/>
                  </a:moveTo>
                  <a:lnTo>
                    <a:pt x="41148" y="0"/>
                  </a:lnTo>
                </a:path>
                <a:path w="2254250" h="1649095">
                  <a:moveTo>
                    <a:pt x="41148" y="1609343"/>
                  </a:moveTo>
                  <a:lnTo>
                    <a:pt x="2253996" y="1609343"/>
                  </a:lnTo>
                </a:path>
                <a:path w="2254250" h="1649095">
                  <a:moveTo>
                    <a:pt x="41148" y="1609343"/>
                  </a:moveTo>
                  <a:lnTo>
                    <a:pt x="41148" y="1648967"/>
                  </a:lnTo>
                </a:path>
                <a:path w="2254250" h="1649095">
                  <a:moveTo>
                    <a:pt x="594360" y="1609343"/>
                  </a:moveTo>
                  <a:lnTo>
                    <a:pt x="594360" y="1648967"/>
                  </a:lnTo>
                </a:path>
                <a:path w="2254250" h="1649095">
                  <a:moveTo>
                    <a:pt x="1147572" y="1609343"/>
                  </a:moveTo>
                  <a:lnTo>
                    <a:pt x="1147572" y="1648967"/>
                  </a:lnTo>
                </a:path>
                <a:path w="2254250" h="1649095">
                  <a:moveTo>
                    <a:pt x="1700784" y="1609343"/>
                  </a:moveTo>
                  <a:lnTo>
                    <a:pt x="1700784" y="1648967"/>
                  </a:lnTo>
                </a:path>
                <a:path w="2254250" h="1649095">
                  <a:moveTo>
                    <a:pt x="2253996" y="1609343"/>
                  </a:moveTo>
                  <a:lnTo>
                    <a:pt x="2253996" y="1648967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4" name="object 50"/>
          <p:cNvSpPr/>
          <p:nvPr/>
        </p:nvSpPr>
        <p:spPr>
          <a:xfrm>
            <a:off x="5604480" y="15919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bject 51"/>
          <p:cNvSpPr/>
          <p:nvPr/>
        </p:nvSpPr>
        <p:spPr>
          <a:xfrm>
            <a:off x="6711120" y="1752840"/>
            <a:ext cx="154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bject 52"/>
          <p:cNvSpPr/>
          <p:nvPr/>
        </p:nvSpPr>
        <p:spPr>
          <a:xfrm>
            <a:off x="7264800" y="16812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object 53"/>
          <p:cNvSpPr/>
          <p:nvPr/>
        </p:nvSpPr>
        <p:spPr>
          <a:xfrm>
            <a:off x="5762520" y="13590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object 54"/>
          <p:cNvSpPr/>
          <p:nvPr/>
        </p:nvSpPr>
        <p:spPr>
          <a:xfrm>
            <a:off x="6132600" y="1878480"/>
            <a:ext cx="362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38" strike="noStrike" baseline="-30000">
                <a:solidFill>
                  <a:srgbClr val="000000"/>
                </a:solidFill>
                <a:latin typeface="Calibri"/>
              </a:rPr>
              <a:t>4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object 55"/>
          <p:cNvSpPr/>
          <p:nvPr/>
        </p:nvSpPr>
        <p:spPr>
          <a:xfrm>
            <a:off x="6869520" y="18784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object 56"/>
          <p:cNvSpPr/>
          <p:nvPr/>
        </p:nvSpPr>
        <p:spPr>
          <a:xfrm>
            <a:off x="7422840" y="17708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object 57"/>
          <p:cNvSpPr/>
          <p:nvPr/>
        </p:nvSpPr>
        <p:spPr>
          <a:xfrm>
            <a:off x="5289120" y="2936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object 58"/>
          <p:cNvSpPr/>
          <p:nvPr/>
        </p:nvSpPr>
        <p:spPr>
          <a:xfrm>
            <a:off x="5224680" y="1298880"/>
            <a:ext cx="15336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t">
            <a:spAutoFit/>
          </a:bodyPr>
          <a:p>
            <a:pPr marL="12600">
              <a:lnSpc>
                <a:spcPct val="100000"/>
              </a:lnSpc>
              <a:spcBef>
                <a:spcPts val="309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0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0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object 59"/>
          <p:cNvSpPr/>
          <p:nvPr/>
        </p:nvSpPr>
        <p:spPr>
          <a:xfrm>
            <a:off x="5619240" y="3101400"/>
            <a:ext cx="1943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565920"/>
                <a:tab algn="l" pos="1119600"/>
                <a:tab algn="l" pos="167256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object 60"/>
          <p:cNvSpPr/>
          <p:nvPr/>
        </p:nvSpPr>
        <p:spPr>
          <a:xfrm>
            <a:off x="7898760" y="217332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4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object 61"/>
          <p:cNvSpPr/>
          <p:nvPr/>
        </p:nvSpPr>
        <p:spPr>
          <a:xfrm>
            <a:off x="7898760" y="24019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4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object 62"/>
          <p:cNvSpPr/>
          <p:nvPr/>
        </p:nvSpPr>
        <p:spPr>
          <a:xfrm>
            <a:off x="7988040" y="2026440"/>
            <a:ext cx="787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marL="12600">
              <a:lnSpc>
                <a:spcPct val="100000"/>
              </a:lnSpc>
              <a:spcBef>
                <a:spcPts val="7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object 63"/>
          <p:cNvSpPr/>
          <p:nvPr/>
        </p:nvSpPr>
        <p:spPr>
          <a:xfrm>
            <a:off x="953280" y="785880"/>
            <a:ext cx="3300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29400" indent="-317520">
              <a:lnSpc>
                <a:spcPct val="100000"/>
              </a:lnSpc>
              <a:spcBef>
                <a:spcPts val="105"/>
              </a:spcBef>
              <a:tabLst>
                <a:tab algn="l" pos="0"/>
              </a:tabLst>
            </a:pP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Российский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легковых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автомобилей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гг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7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400" spc="-26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object 64"/>
          <p:cNvSpPr/>
          <p:nvPr/>
        </p:nvSpPr>
        <p:spPr>
          <a:xfrm>
            <a:off x="5208480" y="802080"/>
            <a:ext cx="3287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algn="ctr">
              <a:lnSpc>
                <a:spcPct val="100000"/>
              </a:lnSpc>
              <a:spcBef>
                <a:spcPts val="105"/>
              </a:spcBef>
            </a:pP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Российский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рузовых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автомоби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9" name="object 65"/>
          <p:cNvGrpSpPr/>
          <p:nvPr/>
        </p:nvGrpSpPr>
        <p:grpSpPr>
          <a:xfrm>
            <a:off x="1252800" y="4093560"/>
            <a:ext cx="2627640" cy="1668600"/>
            <a:chOff x="1252800" y="4093560"/>
            <a:chExt cx="2627640" cy="1668600"/>
          </a:xfrm>
        </p:grpSpPr>
        <p:sp>
          <p:nvSpPr>
            <p:cNvPr id="1920" name="object 66"/>
            <p:cNvSpPr/>
            <p:nvPr/>
          </p:nvSpPr>
          <p:spPr>
            <a:xfrm>
              <a:off x="1292400" y="5360040"/>
              <a:ext cx="138600" cy="1810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39065" h="181610">
                  <a:moveTo>
                    <a:pt x="0" y="181355"/>
                  </a:moveTo>
                  <a:lnTo>
                    <a:pt x="138684" y="181355"/>
                  </a:lnTo>
                </a:path>
                <a:path w="139065" h="181610">
                  <a:moveTo>
                    <a:pt x="0" y="0"/>
                  </a:moveTo>
                  <a:lnTo>
                    <a:pt x="13868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bject 67"/>
            <p:cNvSpPr/>
            <p:nvPr/>
          </p:nvSpPr>
          <p:spPr>
            <a:xfrm>
              <a:off x="1292400" y="4636080"/>
              <a:ext cx="324720" cy="5425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325119" h="542925">
                  <a:moveTo>
                    <a:pt x="0" y="542544"/>
                  </a:moveTo>
                  <a:lnTo>
                    <a:pt x="138684" y="542544"/>
                  </a:lnTo>
                </a:path>
                <a:path w="325119" h="542925">
                  <a:moveTo>
                    <a:pt x="0" y="362712"/>
                  </a:moveTo>
                  <a:lnTo>
                    <a:pt x="138684" y="362712"/>
                  </a:lnTo>
                </a:path>
                <a:path w="325119" h="542925">
                  <a:moveTo>
                    <a:pt x="0" y="181356"/>
                  </a:moveTo>
                  <a:lnTo>
                    <a:pt x="138684" y="181356"/>
                  </a:lnTo>
                </a:path>
                <a:path w="325119" h="542925">
                  <a:moveTo>
                    <a:pt x="0" y="0"/>
                  </a:moveTo>
                  <a:lnTo>
                    <a:pt x="32461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bject 68"/>
            <p:cNvSpPr/>
            <p:nvPr/>
          </p:nvSpPr>
          <p:spPr>
            <a:xfrm>
              <a:off x="1431000" y="4672440"/>
              <a:ext cx="185760" cy="10497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49760"/>
                <a:gd name="textAreaBottom" fmla="*/ 1050120 h 1049760"/>
              </a:gdLst>
              <a:ahLst/>
              <a:rect l="textAreaLeft" t="textAreaTop" r="textAreaRight" b="textAreaBottom"/>
              <a:pathLst>
                <a:path w="186055" h="1050289">
                  <a:moveTo>
                    <a:pt x="185927" y="0"/>
                  </a:moveTo>
                  <a:lnTo>
                    <a:pt x="0" y="0"/>
                  </a:lnTo>
                  <a:lnTo>
                    <a:pt x="0" y="1050036"/>
                  </a:lnTo>
                  <a:lnTo>
                    <a:pt x="185927" y="1050036"/>
                  </a:lnTo>
                  <a:lnTo>
                    <a:pt x="18592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bject 69"/>
            <p:cNvSpPr/>
            <p:nvPr/>
          </p:nvSpPr>
          <p:spPr>
            <a:xfrm>
              <a:off x="1801440" y="5360040"/>
              <a:ext cx="277200" cy="181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77494" h="181610">
                  <a:moveTo>
                    <a:pt x="0" y="181355"/>
                  </a:moveTo>
                  <a:lnTo>
                    <a:pt x="277368" y="181355"/>
                  </a:lnTo>
                </a:path>
                <a:path w="277494" h="181610">
                  <a:moveTo>
                    <a:pt x="0" y="0"/>
                  </a:moveTo>
                  <a:lnTo>
                    <a:pt x="27736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bject 70"/>
            <p:cNvSpPr/>
            <p:nvPr/>
          </p:nvSpPr>
          <p:spPr>
            <a:xfrm>
              <a:off x="1801440" y="4817520"/>
              <a:ext cx="277200" cy="361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277494" h="361314">
                  <a:moveTo>
                    <a:pt x="0" y="361188"/>
                  </a:moveTo>
                  <a:lnTo>
                    <a:pt x="277368" y="361188"/>
                  </a:lnTo>
                </a:path>
                <a:path w="277494" h="361314">
                  <a:moveTo>
                    <a:pt x="0" y="181356"/>
                  </a:moveTo>
                  <a:lnTo>
                    <a:pt x="277368" y="181356"/>
                  </a:lnTo>
                </a:path>
                <a:path w="277494" h="361314">
                  <a:moveTo>
                    <a:pt x="0" y="0"/>
                  </a:moveTo>
                  <a:lnTo>
                    <a:pt x="2773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bject 71"/>
            <p:cNvSpPr/>
            <p:nvPr/>
          </p:nvSpPr>
          <p:spPr>
            <a:xfrm>
              <a:off x="2078640" y="4727520"/>
              <a:ext cx="184320" cy="995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184785" h="995679">
                  <a:moveTo>
                    <a:pt x="184403" y="0"/>
                  </a:moveTo>
                  <a:lnTo>
                    <a:pt x="0" y="0"/>
                  </a:lnTo>
                  <a:lnTo>
                    <a:pt x="0" y="995171"/>
                  </a:lnTo>
                  <a:lnTo>
                    <a:pt x="184403" y="995171"/>
                  </a:lnTo>
                  <a:lnTo>
                    <a:pt x="1844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bject 72"/>
            <p:cNvSpPr/>
            <p:nvPr/>
          </p:nvSpPr>
          <p:spPr>
            <a:xfrm>
              <a:off x="2447640" y="5360040"/>
              <a:ext cx="277200" cy="181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77494" h="181610">
                  <a:moveTo>
                    <a:pt x="0" y="181355"/>
                  </a:moveTo>
                  <a:lnTo>
                    <a:pt x="277368" y="181355"/>
                  </a:lnTo>
                </a:path>
                <a:path w="277494" h="181610">
                  <a:moveTo>
                    <a:pt x="0" y="0"/>
                  </a:moveTo>
                  <a:lnTo>
                    <a:pt x="27736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bject 73"/>
            <p:cNvSpPr/>
            <p:nvPr/>
          </p:nvSpPr>
          <p:spPr>
            <a:xfrm>
              <a:off x="1801440" y="4636080"/>
              <a:ext cx="1571400" cy="5425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1571625" h="542925">
                  <a:moveTo>
                    <a:pt x="646176" y="542544"/>
                  </a:moveTo>
                  <a:lnTo>
                    <a:pt x="923544" y="542544"/>
                  </a:lnTo>
                </a:path>
                <a:path w="1571625" h="542925">
                  <a:moveTo>
                    <a:pt x="646176" y="362712"/>
                  </a:moveTo>
                  <a:lnTo>
                    <a:pt x="923544" y="362712"/>
                  </a:lnTo>
                </a:path>
                <a:path w="1571625" h="542925">
                  <a:moveTo>
                    <a:pt x="646176" y="181356"/>
                  </a:moveTo>
                  <a:lnTo>
                    <a:pt x="923544" y="181356"/>
                  </a:lnTo>
                </a:path>
                <a:path w="1571625" h="542925">
                  <a:moveTo>
                    <a:pt x="0" y="0"/>
                  </a:moveTo>
                  <a:lnTo>
                    <a:pt x="15712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bject 74"/>
            <p:cNvSpPr/>
            <p:nvPr/>
          </p:nvSpPr>
          <p:spPr>
            <a:xfrm>
              <a:off x="2724840" y="4663440"/>
              <a:ext cx="184320" cy="1058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058760"/>
                <a:gd name="textAreaBottom" fmla="*/ 1059120 h 1058760"/>
              </a:gdLst>
              <a:ahLst/>
              <a:rect l="textAreaLeft" t="textAreaTop" r="textAreaRight" b="textAreaBottom"/>
              <a:pathLst>
                <a:path w="184785" h="1059179">
                  <a:moveTo>
                    <a:pt x="184404" y="0"/>
                  </a:moveTo>
                  <a:lnTo>
                    <a:pt x="0" y="0"/>
                  </a:lnTo>
                  <a:lnTo>
                    <a:pt x="0" y="1059180"/>
                  </a:lnTo>
                  <a:lnTo>
                    <a:pt x="184404" y="1059180"/>
                  </a:lnTo>
                  <a:lnTo>
                    <a:pt x="1844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bject 75"/>
            <p:cNvSpPr/>
            <p:nvPr/>
          </p:nvSpPr>
          <p:spPr>
            <a:xfrm>
              <a:off x="3095280" y="5360040"/>
              <a:ext cx="277200" cy="181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77495" h="181610">
                  <a:moveTo>
                    <a:pt x="0" y="181355"/>
                  </a:moveTo>
                  <a:lnTo>
                    <a:pt x="277368" y="181355"/>
                  </a:lnTo>
                </a:path>
                <a:path w="277495" h="181610">
                  <a:moveTo>
                    <a:pt x="0" y="0"/>
                  </a:moveTo>
                  <a:lnTo>
                    <a:pt x="27736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bject 76"/>
            <p:cNvSpPr/>
            <p:nvPr/>
          </p:nvSpPr>
          <p:spPr>
            <a:xfrm>
              <a:off x="3095280" y="4636080"/>
              <a:ext cx="784440" cy="54252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784860" h="542925">
                  <a:moveTo>
                    <a:pt x="0" y="542544"/>
                  </a:moveTo>
                  <a:lnTo>
                    <a:pt x="277368" y="542544"/>
                  </a:lnTo>
                </a:path>
                <a:path w="784860" h="542925">
                  <a:moveTo>
                    <a:pt x="0" y="362712"/>
                  </a:moveTo>
                  <a:lnTo>
                    <a:pt x="277368" y="362712"/>
                  </a:lnTo>
                </a:path>
                <a:path w="784860" h="542925">
                  <a:moveTo>
                    <a:pt x="0" y="181356"/>
                  </a:moveTo>
                  <a:lnTo>
                    <a:pt x="277368" y="181356"/>
                  </a:lnTo>
                </a:path>
                <a:path w="784860" h="542925">
                  <a:moveTo>
                    <a:pt x="461771" y="0"/>
                  </a:moveTo>
                  <a:lnTo>
                    <a:pt x="78485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bject 77"/>
            <p:cNvSpPr/>
            <p:nvPr/>
          </p:nvSpPr>
          <p:spPr>
            <a:xfrm>
              <a:off x="3372480" y="4617720"/>
              <a:ext cx="184320" cy="1104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104480"/>
                <a:gd name="textAreaBottom" fmla="*/ 1104840 h 1104480"/>
              </a:gdLst>
              <a:ahLst/>
              <a:rect l="textAreaLeft" t="textAreaTop" r="textAreaRight" b="textAreaBottom"/>
              <a:pathLst>
                <a:path w="184785" h="1104900">
                  <a:moveTo>
                    <a:pt x="184403" y="0"/>
                  </a:moveTo>
                  <a:lnTo>
                    <a:pt x="0" y="0"/>
                  </a:lnTo>
                  <a:lnTo>
                    <a:pt x="0" y="1104899"/>
                  </a:lnTo>
                  <a:lnTo>
                    <a:pt x="184403" y="1104899"/>
                  </a:lnTo>
                  <a:lnTo>
                    <a:pt x="1844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bject 78"/>
            <p:cNvSpPr/>
            <p:nvPr/>
          </p:nvSpPr>
          <p:spPr>
            <a:xfrm>
              <a:off x="1292400" y="4274640"/>
              <a:ext cx="2588040" cy="18000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2588260" h="180339">
                  <a:moveTo>
                    <a:pt x="0" y="179831"/>
                  </a:moveTo>
                  <a:lnTo>
                    <a:pt x="324611" y="179831"/>
                  </a:lnTo>
                </a:path>
                <a:path w="2588260" h="180339">
                  <a:moveTo>
                    <a:pt x="509016" y="179831"/>
                  </a:moveTo>
                  <a:lnTo>
                    <a:pt x="2587752" y="179831"/>
                  </a:lnTo>
                </a:path>
                <a:path w="2588260" h="180339">
                  <a:moveTo>
                    <a:pt x="0" y="0"/>
                  </a:moveTo>
                  <a:lnTo>
                    <a:pt x="324611" y="0"/>
                  </a:lnTo>
                </a:path>
                <a:path w="2588260" h="180339">
                  <a:moveTo>
                    <a:pt x="509016" y="0"/>
                  </a:moveTo>
                  <a:lnTo>
                    <a:pt x="258775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bject 79"/>
            <p:cNvSpPr/>
            <p:nvPr/>
          </p:nvSpPr>
          <p:spPr>
            <a:xfrm>
              <a:off x="1617120" y="4201560"/>
              <a:ext cx="1477800" cy="1521000"/>
            </a:xfrm>
            <a:custGeom>
              <a:avLst/>
              <a:gdLst>
                <a:gd name="textAreaLeft" fmla="*/ 0 w 1477800"/>
                <a:gd name="textAreaRight" fmla="*/ 1478160 w 147780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1478280" h="1521460">
                  <a:moveTo>
                    <a:pt x="184404" y="0"/>
                  </a:moveTo>
                  <a:lnTo>
                    <a:pt x="0" y="0"/>
                  </a:lnTo>
                  <a:lnTo>
                    <a:pt x="0" y="1520952"/>
                  </a:lnTo>
                  <a:lnTo>
                    <a:pt x="184404" y="1520952"/>
                  </a:lnTo>
                  <a:lnTo>
                    <a:pt x="184404" y="0"/>
                  </a:lnTo>
                  <a:close/>
                </a:path>
                <a:path w="1478280" h="1521460">
                  <a:moveTo>
                    <a:pt x="830580" y="606552"/>
                  </a:moveTo>
                  <a:lnTo>
                    <a:pt x="646176" y="606552"/>
                  </a:lnTo>
                  <a:lnTo>
                    <a:pt x="646176" y="1520952"/>
                  </a:lnTo>
                  <a:lnTo>
                    <a:pt x="830580" y="1520952"/>
                  </a:lnTo>
                  <a:lnTo>
                    <a:pt x="830580" y="606552"/>
                  </a:lnTo>
                  <a:close/>
                </a:path>
                <a:path w="1478280" h="1521460">
                  <a:moveTo>
                    <a:pt x="1478280" y="597408"/>
                  </a:moveTo>
                  <a:lnTo>
                    <a:pt x="1292352" y="597408"/>
                  </a:lnTo>
                  <a:lnTo>
                    <a:pt x="1292352" y="1520952"/>
                  </a:lnTo>
                  <a:lnTo>
                    <a:pt x="1478280" y="1520952"/>
                  </a:lnTo>
                  <a:lnTo>
                    <a:pt x="1478280" y="59740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object 80"/>
            <p:cNvSpPr/>
            <p:nvPr/>
          </p:nvSpPr>
          <p:spPr>
            <a:xfrm>
              <a:off x="3741480" y="5360040"/>
              <a:ext cx="138600" cy="1810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39064" h="181610">
                  <a:moveTo>
                    <a:pt x="0" y="181355"/>
                  </a:moveTo>
                  <a:lnTo>
                    <a:pt x="138683" y="181355"/>
                  </a:lnTo>
                </a:path>
                <a:path w="139064" h="181610">
                  <a:moveTo>
                    <a:pt x="0" y="0"/>
                  </a:moveTo>
                  <a:lnTo>
                    <a:pt x="138683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bject 81"/>
            <p:cNvSpPr/>
            <p:nvPr/>
          </p:nvSpPr>
          <p:spPr>
            <a:xfrm>
              <a:off x="3741480" y="4817520"/>
              <a:ext cx="138600" cy="3610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139064" h="361314">
                  <a:moveTo>
                    <a:pt x="0" y="361188"/>
                  </a:moveTo>
                  <a:lnTo>
                    <a:pt x="138683" y="361188"/>
                  </a:lnTo>
                </a:path>
                <a:path w="139064" h="361314">
                  <a:moveTo>
                    <a:pt x="0" y="181356"/>
                  </a:moveTo>
                  <a:lnTo>
                    <a:pt x="138683" y="181356"/>
                  </a:lnTo>
                </a:path>
                <a:path w="139064" h="361314">
                  <a:moveTo>
                    <a:pt x="0" y="0"/>
                  </a:moveTo>
                  <a:lnTo>
                    <a:pt x="1386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bject 82"/>
            <p:cNvSpPr/>
            <p:nvPr/>
          </p:nvSpPr>
          <p:spPr>
            <a:xfrm>
              <a:off x="3557160" y="4753440"/>
              <a:ext cx="184320" cy="969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184785" h="969645">
                  <a:moveTo>
                    <a:pt x="184404" y="0"/>
                  </a:moveTo>
                  <a:lnTo>
                    <a:pt x="0" y="0"/>
                  </a:lnTo>
                  <a:lnTo>
                    <a:pt x="0" y="969264"/>
                  </a:lnTo>
                  <a:lnTo>
                    <a:pt x="184404" y="969264"/>
                  </a:lnTo>
                  <a:lnTo>
                    <a:pt x="18440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bject 83"/>
            <p:cNvSpPr/>
            <p:nvPr/>
          </p:nvSpPr>
          <p:spPr>
            <a:xfrm>
              <a:off x="1252800" y="4093560"/>
              <a:ext cx="2627280" cy="1668600"/>
            </a:xfrm>
            <a:custGeom>
              <a:avLst/>
              <a:gdLst>
                <a:gd name="textAreaLeft" fmla="*/ 0 w 2627280"/>
                <a:gd name="textAreaRight" fmla="*/ 2627640 w 2627280"/>
                <a:gd name="textAreaTop" fmla="*/ 0 h 1668600"/>
                <a:gd name="textAreaBottom" fmla="*/ 1668960 h 1668600"/>
              </a:gdLst>
              <a:ahLst/>
              <a:rect l="textAreaLeft" t="textAreaTop" r="textAreaRight" b="textAreaBottom"/>
              <a:pathLst>
                <a:path w="2627629" h="1668779">
                  <a:moveTo>
                    <a:pt x="39624" y="0"/>
                  </a:moveTo>
                  <a:lnTo>
                    <a:pt x="2627376" y="0"/>
                  </a:lnTo>
                </a:path>
                <a:path w="2627629" h="1668779">
                  <a:moveTo>
                    <a:pt x="39624" y="1629156"/>
                  </a:moveTo>
                  <a:lnTo>
                    <a:pt x="39624" y="0"/>
                  </a:lnTo>
                </a:path>
                <a:path w="2627629" h="1668779">
                  <a:moveTo>
                    <a:pt x="0" y="1629156"/>
                  </a:moveTo>
                  <a:lnTo>
                    <a:pt x="39624" y="1629156"/>
                  </a:lnTo>
                </a:path>
                <a:path w="2627629" h="1668779">
                  <a:moveTo>
                    <a:pt x="0" y="1447800"/>
                  </a:moveTo>
                  <a:lnTo>
                    <a:pt x="39624" y="1447800"/>
                  </a:lnTo>
                </a:path>
                <a:path w="2627629" h="1668779">
                  <a:moveTo>
                    <a:pt x="0" y="1266444"/>
                  </a:moveTo>
                  <a:lnTo>
                    <a:pt x="39624" y="1266444"/>
                  </a:lnTo>
                </a:path>
                <a:path w="2627629" h="1668779">
                  <a:moveTo>
                    <a:pt x="0" y="1085088"/>
                  </a:moveTo>
                  <a:lnTo>
                    <a:pt x="39624" y="1085088"/>
                  </a:lnTo>
                </a:path>
                <a:path w="2627629" h="1668779">
                  <a:moveTo>
                    <a:pt x="0" y="905256"/>
                  </a:moveTo>
                  <a:lnTo>
                    <a:pt x="39624" y="905256"/>
                  </a:lnTo>
                </a:path>
                <a:path w="2627629" h="1668779">
                  <a:moveTo>
                    <a:pt x="0" y="723900"/>
                  </a:moveTo>
                  <a:lnTo>
                    <a:pt x="39624" y="723900"/>
                  </a:lnTo>
                </a:path>
                <a:path w="2627629" h="1668779">
                  <a:moveTo>
                    <a:pt x="0" y="542544"/>
                  </a:moveTo>
                  <a:lnTo>
                    <a:pt x="39624" y="542544"/>
                  </a:lnTo>
                </a:path>
                <a:path w="2627629" h="1668779">
                  <a:moveTo>
                    <a:pt x="0" y="361188"/>
                  </a:moveTo>
                  <a:lnTo>
                    <a:pt x="39624" y="361188"/>
                  </a:lnTo>
                </a:path>
                <a:path w="2627629" h="1668779">
                  <a:moveTo>
                    <a:pt x="0" y="181356"/>
                  </a:moveTo>
                  <a:lnTo>
                    <a:pt x="39624" y="181356"/>
                  </a:lnTo>
                </a:path>
                <a:path w="2627629" h="1668779">
                  <a:moveTo>
                    <a:pt x="0" y="0"/>
                  </a:moveTo>
                  <a:lnTo>
                    <a:pt x="39624" y="0"/>
                  </a:lnTo>
                </a:path>
                <a:path w="2627629" h="1668779">
                  <a:moveTo>
                    <a:pt x="39624" y="1629156"/>
                  </a:moveTo>
                  <a:lnTo>
                    <a:pt x="2627376" y="1629156"/>
                  </a:lnTo>
                </a:path>
                <a:path w="2627629" h="1668779">
                  <a:moveTo>
                    <a:pt x="39624" y="1629156"/>
                  </a:moveTo>
                  <a:lnTo>
                    <a:pt x="39624" y="1668780"/>
                  </a:lnTo>
                </a:path>
                <a:path w="2627629" h="1668779">
                  <a:moveTo>
                    <a:pt x="687323" y="1629156"/>
                  </a:moveTo>
                  <a:lnTo>
                    <a:pt x="687323" y="1668780"/>
                  </a:lnTo>
                </a:path>
                <a:path w="2627629" h="1668779">
                  <a:moveTo>
                    <a:pt x="1333499" y="1629156"/>
                  </a:moveTo>
                  <a:lnTo>
                    <a:pt x="1333499" y="1668780"/>
                  </a:lnTo>
                </a:path>
                <a:path w="2627629" h="1668779">
                  <a:moveTo>
                    <a:pt x="1981200" y="1629156"/>
                  </a:moveTo>
                  <a:lnTo>
                    <a:pt x="1981200" y="1668780"/>
                  </a:lnTo>
                </a:path>
                <a:path w="2627629" h="1668779">
                  <a:moveTo>
                    <a:pt x="2627376" y="1629156"/>
                  </a:moveTo>
                  <a:lnTo>
                    <a:pt x="2627376" y="166878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object 84"/>
          <p:cNvSpPr/>
          <p:nvPr/>
        </p:nvSpPr>
        <p:spPr>
          <a:xfrm>
            <a:off x="1415520" y="44427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object 85"/>
          <p:cNvSpPr/>
          <p:nvPr/>
        </p:nvSpPr>
        <p:spPr>
          <a:xfrm>
            <a:off x="2062440" y="4496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bject 86"/>
          <p:cNvSpPr/>
          <p:nvPr/>
        </p:nvSpPr>
        <p:spPr>
          <a:xfrm>
            <a:off x="2709000" y="44337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bject 87"/>
          <p:cNvSpPr/>
          <p:nvPr/>
        </p:nvSpPr>
        <p:spPr>
          <a:xfrm>
            <a:off x="3355920" y="4388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bject 88"/>
          <p:cNvSpPr/>
          <p:nvPr/>
        </p:nvSpPr>
        <p:spPr>
          <a:xfrm>
            <a:off x="1600200" y="39718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bject 89"/>
          <p:cNvSpPr/>
          <p:nvPr/>
        </p:nvSpPr>
        <p:spPr>
          <a:xfrm>
            <a:off x="2247120" y="4578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bject 90"/>
          <p:cNvSpPr/>
          <p:nvPr/>
        </p:nvSpPr>
        <p:spPr>
          <a:xfrm>
            <a:off x="2894040" y="4569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object 91"/>
          <p:cNvSpPr/>
          <p:nvPr/>
        </p:nvSpPr>
        <p:spPr>
          <a:xfrm>
            <a:off x="3540960" y="45241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bject 92"/>
          <p:cNvSpPr/>
          <p:nvPr/>
        </p:nvSpPr>
        <p:spPr>
          <a:xfrm>
            <a:off x="969840" y="3961440"/>
            <a:ext cx="21888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0" anchor="t">
            <a:spAutoFit/>
          </a:bodyPr>
          <a:p>
            <a:pPr algn="r">
              <a:lnSpc>
                <a:spcPct val="100000"/>
              </a:lnSpc>
              <a:spcBef>
                <a:spcPts val="32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3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object 93"/>
          <p:cNvSpPr/>
          <p:nvPr/>
        </p:nvSpPr>
        <p:spPr>
          <a:xfrm>
            <a:off x="1475280" y="5785560"/>
            <a:ext cx="222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659160"/>
                <a:tab algn="l" pos="1305720"/>
                <a:tab algn="l" pos="195264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object 94"/>
          <p:cNvSpPr/>
          <p:nvPr/>
        </p:nvSpPr>
        <p:spPr>
          <a:xfrm>
            <a:off x="4082760" y="48463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bject 95"/>
          <p:cNvSpPr/>
          <p:nvPr/>
        </p:nvSpPr>
        <p:spPr>
          <a:xfrm>
            <a:off x="4082760" y="507636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object 96"/>
          <p:cNvSpPr/>
          <p:nvPr/>
        </p:nvSpPr>
        <p:spPr>
          <a:xfrm>
            <a:off x="4170960" y="4701600"/>
            <a:ext cx="7884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bject 97"/>
          <p:cNvSpPr/>
          <p:nvPr/>
        </p:nvSpPr>
        <p:spPr>
          <a:xfrm>
            <a:off x="1424520" y="3125520"/>
            <a:ext cx="2699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4600" bIns="0" anchor="t">
            <a:spAutoFit/>
          </a:bodyPr>
          <a:p>
            <a:pPr marL="96480">
              <a:lnSpc>
                <a:spcPct val="100000"/>
              </a:lnSpc>
              <a:spcBef>
                <a:spcPts val="666"/>
              </a:spcBef>
              <a:tabLst>
                <a:tab algn="l" pos="733320"/>
                <a:tab algn="l" pos="1370880"/>
                <a:tab algn="l" pos="200844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6480" algn="ctr">
              <a:lnSpc>
                <a:spcPct val="100000"/>
              </a:lnSpc>
              <a:spcBef>
                <a:spcPts val="799"/>
              </a:spcBef>
              <a:tabLst>
                <a:tab algn="l" pos="733320"/>
                <a:tab algn="l" pos="1370880"/>
                <a:tab algn="l" pos="2008440"/>
              </a:tabLst>
            </a:pP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Российский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ок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LC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480" algn="ctr">
              <a:lnSpc>
                <a:spcPct val="100000"/>
              </a:lnSpc>
              <a:tabLst>
                <a:tab algn="l" pos="733320"/>
                <a:tab algn="l" pos="1370880"/>
                <a:tab algn="l" pos="200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гг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7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object 98"/>
          <p:cNvGrpSpPr/>
          <p:nvPr/>
        </p:nvGrpSpPr>
        <p:grpSpPr>
          <a:xfrm>
            <a:off x="5292720" y="4021920"/>
            <a:ext cx="2260440" cy="1721880"/>
            <a:chOff x="5292720" y="4021920"/>
            <a:chExt cx="2260440" cy="1721880"/>
          </a:xfrm>
        </p:grpSpPr>
        <p:sp>
          <p:nvSpPr>
            <p:cNvPr id="1953" name="object 99"/>
            <p:cNvSpPr/>
            <p:nvPr/>
          </p:nvSpPr>
          <p:spPr>
            <a:xfrm>
              <a:off x="5332320" y="5463720"/>
              <a:ext cx="119160" cy="3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379" h="0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bject 100"/>
            <p:cNvSpPr/>
            <p:nvPr/>
          </p:nvSpPr>
          <p:spPr>
            <a:xfrm>
              <a:off x="5332320" y="4501800"/>
              <a:ext cx="119160" cy="721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119379" h="721360">
                  <a:moveTo>
                    <a:pt x="0" y="720851"/>
                  </a:moveTo>
                  <a:lnTo>
                    <a:pt x="118872" y="720851"/>
                  </a:lnTo>
                </a:path>
                <a:path w="119379" h="721360">
                  <a:moveTo>
                    <a:pt x="0" y="480059"/>
                  </a:moveTo>
                  <a:lnTo>
                    <a:pt x="118872" y="480059"/>
                  </a:lnTo>
                </a:path>
                <a:path w="119379" h="721360">
                  <a:moveTo>
                    <a:pt x="0" y="240791"/>
                  </a:moveTo>
                  <a:lnTo>
                    <a:pt x="118872" y="240791"/>
                  </a:lnTo>
                </a:path>
                <a:path w="119379" h="721360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bject 101"/>
            <p:cNvSpPr/>
            <p:nvPr/>
          </p:nvSpPr>
          <p:spPr>
            <a:xfrm>
              <a:off x="5451480" y="4406040"/>
              <a:ext cx="158400" cy="12970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58750" h="1297304">
                  <a:moveTo>
                    <a:pt x="158496" y="0"/>
                  </a:moveTo>
                  <a:lnTo>
                    <a:pt x="0" y="0"/>
                  </a:lnTo>
                  <a:lnTo>
                    <a:pt x="0" y="1296924"/>
                  </a:lnTo>
                  <a:lnTo>
                    <a:pt x="158496" y="1296924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bject 102"/>
            <p:cNvSpPr/>
            <p:nvPr/>
          </p:nvSpPr>
          <p:spPr>
            <a:xfrm>
              <a:off x="5769720" y="5463720"/>
              <a:ext cx="237600" cy="3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38125" h="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bject 103"/>
            <p:cNvSpPr/>
            <p:nvPr/>
          </p:nvSpPr>
          <p:spPr>
            <a:xfrm>
              <a:off x="5769720" y="4742640"/>
              <a:ext cx="237600" cy="47952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38125" h="480060">
                  <a:moveTo>
                    <a:pt x="0" y="480060"/>
                  </a:moveTo>
                  <a:lnTo>
                    <a:pt x="237744" y="480060"/>
                  </a:lnTo>
                </a:path>
                <a:path w="238125" h="480060">
                  <a:moveTo>
                    <a:pt x="0" y="239268"/>
                  </a:moveTo>
                  <a:lnTo>
                    <a:pt x="237744" y="239268"/>
                  </a:lnTo>
                </a:path>
                <a:path w="238125" h="48006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bject 104"/>
            <p:cNvSpPr/>
            <p:nvPr/>
          </p:nvSpPr>
          <p:spPr>
            <a:xfrm>
              <a:off x="6007680" y="4694040"/>
              <a:ext cx="158400" cy="10087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158750" h="1009014">
                  <a:moveTo>
                    <a:pt x="158495" y="0"/>
                  </a:moveTo>
                  <a:lnTo>
                    <a:pt x="0" y="0"/>
                  </a:lnTo>
                  <a:lnTo>
                    <a:pt x="0" y="1008887"/>
                  </a:lnTo>
                  <a:lnTo>
                    <a:pt x="158495" y="1008887"/>
                  </a:lnTo>
                  <a:lnTo>
                    <a:pt x="158495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bject 105"/>
            <p:cNvSpPr/>
            <p:nvPr/>
          </p:nvSpPr>
          <p:spPr>
            <a:xfrm>
              <a:off x="6324480" y="5463720"/>
              <a:ext cx="237600" cy="3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38125" h="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bject 106"/>
            <p:cNvSpPr/>
            <p:nvPr/>
          </p:nvSpPr>
          <p:spPr>
            <a:xfrm>
              <a:off x="5332320" y="4260960"/>
              <a:ext cx="1784520" cy="961560"/>
            </a:xfrm>
            <a:custGeom>
              <a:avLst/>
              <a:gdLst>
                <a:gd name="textAreaLeft" fmla="*/ 0 w 1784520"/>
                <a:gd name="textAreaRight" fmla="*/ 1784880 w 178452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1784984" h="962025">
                  <a:moveTo>
                    <a:pt x="992124" y="961644"/>
                  </a:moveTo>
                  <a:lnTo>
                    <a:pt x="1229868" y="961644"/>
                  </a:lnTo>
                </a:path>
                <a:path w="1784984" h="962025">
                  <a:moveTo>
                    <a:pt x="992124" y="720852"/>
                  </a:moveTo>
                  <a:lnTo>
                    <a:pt x="1229868" y="720852"/>
                  </a:lnTo>
                </a:path>
                <a:path w="1784984" h="962025">
                  <a:moveTo>
                    <a:pt x="992124" y="481584"/>
                  </a:moveTo>
                  <a:lnTo>
                    <a:pt x="1229868" y="481584"/>
                  </a:lnTo>
                </a:path>
                <a:path w="1784984" h="962025">
                  <a:moveTo>
                    <a:pt x="437388" y="240792"/>
                  </a:moveTo>
                  <a:lnTo>
                    <a:pt x="1229868" y="240792"/>
                  </a:lnTo>
                </a:path>
                <a:path w="1784984" h="962025">
                  <a:moveTo>
                    <a:pt x="0" y="0"/>
                  </a:moveTo>
                  <a:lnTo>
                    <a:pt x="1229868" y="0"/>
                  </a:lnTo>
                </a:path>
                <a:path w="1784984" h="962025">
                  <a:moveTo>
                    <a:pt x="1388364" y="0"/>
                  </a:moveTo>
                  <a:lnTo>
                    <a:pt x="178460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bject 107"/>
            <p:cNvSpPr/>
            <p:nvPr/>
          </p:nvSpPr>
          <p:spPr>
            <a:xfrm>
              <a:off x="6562440" y="4213800"/>
              <a:ext cx="158400" cy="14886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58750" h="1489075">
                  <a:moveTo>
                    <a:pt x="158496" y="0"/>
                  </a:moveTo>
                  <a:lnTo>
                    <a:pt x="0" y="0"/>
                  </a:lnTo>
                  <a:lnTo>
                    <a:pt x="0" y="1488948"/>
                  </a:lnTo>
                  <a:lnTo>
                    <a:pt x="158496" y="1488948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bject 108"/>
            <p:cNvSpPr/>
            <p:nvPr/>
          </p:nvSpPr>
          <p:spPr>
            <a:xfrm>
              <a:off x="6879240" y="5463720"/>
              <a:ext cx="237600" cy="3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38125" h="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bject 109"/>
            <p:cNvSpPr/>
            <p:nvPr/>
          </p:nvSpPr>
          <p:spPr>
            <a:xfrm>
              <a:off x="6879240" y="4501800"/>
              <a:ext cx="237600" cy="7210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38125" h="721360">
                  <a:moveTo>
                    <a:pt x="0" y="720851"/>
                  </a:moveTo>
                  <a:lnTo>
                    <a:pt x="237744" y="720851"/>
                  </a:lnTo>
                </a:path>
                <a:path w="238125" h="721360">
                  <a:moveTo>
                    <a:pt x="0" y="480059"/>
                  </a:moveTo>
                  <a:lnTo>
                    <a:pt x="237744" y="480059"/>
                  </a:lnTo>
                </a:path>
                <a:path w="238125" h="721360">
                  <a:moveTo>
                    <a:pt x="0" y="240791"/>
                  </a:moveTo>
                  <a:lnTo>
                    <a:pt x="237744" y="240791"/>
                  </a:lnTo>
                </a:path>
                <a:path w="238125" h="72136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bject 110"/>
            <p:cNvSpPr/>
            <p:nvPr/>
          </p:nvSpPr>
          <p:spPr>
            <a:xfrm>
              <a:off x="7117200" y="4129920"/>
              <a:ext cx="158400" cy="15724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72480"/>
                <a:gd name="textAreaBottom" fmla="*/ 1572840 h 1572480"/>
              </a:gdLst>
              <a:ahLst/>
              <a:rect l="textAreaLeft" t="textAreaTop" r="textAreaRight" b="textAreaBottom"/>
              <a:pathLst>
                <a:path w="158750" h="1572895">
                  <a:moveTo>
                    <a:pt x="158496" y="0"/>
                  </a:moveTo>
                  <a:lnTo>
                    <a:pt x="0" y="0"/>
                  </a:lnTo>
                  <a:lnTo>
                    <a:pt x="0" y="1572768"/>
                  </a:lnTo>
                  <a:lnTo>
                    <a:pt x="158496" y="1572768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bject 111"/>
            <p:cNvSpPr/>
            <p:nvPr/>
          </p:nvSpPr>
          <p:spPr>
            <a:xfrm>
              <a:off x="5609880" y="4417920"/>
              <a:ext cx="1269720" cy="128484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1270000" h="1285239">
                  <a:moveTo>
                    <a:pt x="160020" y="22860"/>
                  </a:moveTo>
                  <a:lnTo>
                    <a:pt x="0" y="22860"/>
                  </a:lnTo>
                  <a:lnTo>
                    <a:pt x="0" y="1284732"/>
                  </a:lnTo>
                  <a:lnTo>
                    <a:pt x="160020" y="1284732"/>
                  </a:lnTo>
                  <a:lnTo>
                    <a:pt x="160020" y="22860"/>
                  </a:lnTo>
                  <a:close/>
                </a:path>
                <a:path w="1270000" h="1285239">
                  <a:moveTo>
                    <a:pt x="714756" y="300228"/>
                  </a:moveTo>
                  <a:lnTo>
                    <a:pt x="556260" y="300228"/>
                  </a:lnTo>
                  <a:lnTo>
                    <a:pt x="556260" y="1284732"/>
                  </a:lnTo>
                  <a:lnTo>
                    <a:pt x="714756" y="1284732"/>
                  </a:lnTo>
                  <a:lnTo>
                    <a:pt x="714756" y="300228"/>
                  </a:lnTo>
                  <a:close/>
                </a:path>
                <a:path w="1270000" h="1285239">
                  <a:moveTo>
                    <a:pt x="1269492" y="0"/>
                  </a:moveTo>
                  <a:lnTo>
                    <a:pt x="1110996" y="0"/>
                  </a:lnTo>
                  <a:lnTo>
                    <a:pt x="1110996" y="1284732"/>
                  </a:lnTo>
                  <a:lnTo>
                    <a:pt x="1269492" y="1284732"/>
                  </a:lnTo>
                  <a:lnTo>
                    <a:pt x="1269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object 112"/>
            <p:cNvSpPr/>
            <p:nvPr/>
          </p:nvSpPr>
          <p:spPr>
            <a:xfrm>
              <a:off x="7434000" y="5463720"/>
              <a:ext cx="119160" cy="3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379" h="0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bject 113"/>
            <p:cNvSpPr/>
            <p:nvPr/>
          </p:nvSpPr>
          <p:spPr>
            <a:xfrm>
              <a:off x="7434000" y="4260960"/>
              <a:ext cx="119160" cy="9615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119379" h="962025">
                  <a:moveTo>
                    <a:pt x="0" y="961644"/>
                  </a:moveTo>
                  <a:lnTo>
                    <a:pt x="118872" y="961644"/>
                  </a:lnTo>
                </a:path>
                <a:path w="119379" h="962025">
                  <a:moveTo>
                    <a:pt x="0" y="720852"/>
                  </a:moveTo>
                  <a:lnTo>
                    <a:pt x="118872" y="720852"/>
                  </a:lnTo>
                </a:path>
                <a:path w="119379" h="962025">
                  <a:moveTo>
                    <a:pt x="0" y="481584"/>
                  </a:moveTo>
                  <a:lnTo>
                    <a:pt x="118872" y="481584"/>
                  </a:lnTo>
                </a:path>
                <a:path w="119379" h="962025">
                  <a:moveTo>
                    <a:pt x="0" y="240792"/>
                  </a:moveTo>
                  <a:lnTo>
                    <a:pt x="118872" y="240792"/>
                  </a:lnTo>
                </a:path>
                <a:path w="119379" h="962025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bject 114"/>
            <p:cNvSpPr/>
            <p:nvPr/>
          </p:nvSpPr>
          <p:spPr>
            <a:xfrm>
              <a:off x="7275600" y="4201560"/>
              <a:ext cx="158400" cy="15008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00840"/>
                <a:gd name="textAreaBottom" fmla="*/ 1501200 h 1500840"/>
              </a:gdLst>
              <a:ahLst/>
              <a:rect l="textAreaLeft" t="textAreaTop" r="textAreaRight" b="textAreaBottom"/>
              <a:pathLst>
                <a:path w="158750" h="1501139">
                  <a:moveTo>
                    <a:pt x="158496" y="0"/>
                  </a:moveTo>
                  <a:lnTo>
                    <a:pt x="0" y="0"/>
                  </a:lnTo>
                  <a:lnTo>
                    <a:pt x="0" y="1501139"/>
                  </a:lnTo>
                  <a:lnTo>
                    <a:pt x="158496" y="1501139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object 115"/>
            <p:cNvSpPr/>
            <p:nvPr/>
          </p:nvSpPr>
          <p:spPr>
            <a:xfrm>
              <a:off x="5292720" y="4021920"/>
              <a:ext cx="2260080" cy="1721880"/>
            </a:xfrm>
            <a:custGeom>
              <a:avLst/>
              <a:gdLst>
                <a:gd name="textAreaLeft" fmla="*/ 0 w 2260080"/>
                <a:gd name="textAreaRight" fmla="*/ 2260440 w 2260080"/>
                <a:gd name="textAreaTop" fmla="*/ 0 h 1721880"/>
                <a:gd name="textAreaBottom" fmla="*/ 1722240 h 1721880"/>
              </a:gdLst>
              <a:ahLst/>
              <a:rect l="textAreaLeft" t="textAreaTop" r="textAreaRight" b="textAreaBottom"/>
              <a:pathLst>
                <a:path w="2260600" h="1722120">
                  <a:moveTo>
                    <a:pt x="39624" y="0"/>
                  </a:moveTo>
                  <a:lnTo>
                    <a:pt x="2260092" y="0"/>
                  </a:lnTo>
                </a:path>
                <a:path w="2260600" h="1722120">
                  <a:moveTo>
                    <a:pt x="39624" y="1680972"/>
                  </a:moveTo>
                  <a:lnTo>
                    <a:pt x="39624" y="0"/>
                  </a:lnTo>
                </a:path>
                <a:path w="2260600" h="1722120">
                  <a:moveTo>
                    <a:pt x="0" y="1680972"/>
                  </a:moveTo>
                  <a:lnTo>
                    <a:pt x="39624" y="1680972"/>
                  </a:lnTo>
                </a:path>
                <a:path w="2260600" h="1722120">
                  <a:moveTo>
                    <a:pt x="0" y="1441704"/>
                  </a:moveTo>
                  <a:lnTo>
                    <a:pt x="39624" y="1441704"/>
                  </a:lnTo>
                </a:path>
                <a:path w="2260600" h="1722120">
                  <a:moveTo>
                    <a:pt x="0" y="1200912"/>
                  </a:moveTo>
                  <a:lnTo>
                    <a:pt x="39624" y="1200912"/>
                  </a:lnTo>
                </a:path>
                <a:path w="2260600" h="1722120">
                  <a:moveTo>
                    <a:pt x="0" y="960119"/>
                  </a:moveTo>
                  <a:lnTo>
                    <a:pt x="39624" y="960119"/>
                  </a:lnTo>
                </a:path>
                <a:path w="2260600" h="1722120">
                  <a:moveTo>
                    <a:pt x="0" y="720851"/>
                  </a:moveTo>
                  <a:lnTo>
                    <a:pt x="39624" y="720851"/>
                  </a:lnTo>
                </a:path>
                <a:path w="2260600" h="1722120">
                  <a:moveTo>
                    <a:pt x="0" y="480059"/>
                  </a:moveTo>
                  <a:lnTo>
                    <a:pt x="39624" y="480059"/>
                  </a:lnTo>
                </a:path>
                <a:path w="2260600" h="1722120">
                  <a:moveTo>
                    <a:pt x="0" y="239268"/>
                  </a:moveTo>
                  <a:lnTo>
                    <a:pt x="39624" y="239268"/>
                  </a:lnTo>
                </a:path>
                <a:path w="2260600" h="1722120">
                  <a:moveTo>
                    <a:pt x="0" y="0"/>
                  </a:moveTo>
                  <a:lnTo>
                    <a:pt x="39624" y="0"/>
                  </a:lnTo>
                </a:path>
                <a:path w="2260600" h="1722120">
                  <a:moveTo>
                    <a:pt x="39624" y="1680972"/>
                  </a:moveTo>
                  <a:lnTo>
                    <a:pt x="2260092" y="1680972"/>
                  </a:lnTo>
                </a:path>
                <a:path w="2260600" h="1722120">
                  <a:moveTo>
                    <a:pt x="39624" y="1680972"/>
                  </a:moveTo>
                  <a:lnTo>
                    <a:pt x="39624" y="1722120"/>
                  </a:lnTo>
                </a:path>
                <a:path w="2260600" h="1722120">
                  <a:moveTo>
                    <a:pt x="595884" y="1680972"/>
                  </a:moveTo>
                  <a:lnTo>
                    <a:pt x="595884" y="1722120"/>
                  </a:lnTo>
                </a:path>
                <a:path w="2260600" h="1722120">
                  <a:moveTo>
                    <a:pt x="1150620" y="1680972"/>
                  </a:moveTo>
                  <a:lnTo>
                    <a:pt x="1150620" y="1722120"/>
                  </a:lnTo>
                </a:path>
                <a:path w="2260600" h="1722120">
                  <a:moveTo>
                    <a:pt x="1705355" y="1680972"/>
                  </a:moveTo>
                  <a:lnTo>
                    <a:pt x="1705355" y="1722120"/>
                  </a:lnTo>
                </a:path>
                <a:path w="2260600" h="1722120">
                  <a:moveTo>
                    <a:pt x="2260092" y="1680972"/>
                  </a:moveTo>
                  <a:lnTo>
                    <a:pt x="2260092" y="172212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0" name="object 116"/>
          <p:cNvSpPr/>
          <p:nvPr/>
        </p:nvSpPr>
        <p:spPr>
          <a:xfrm>
            <a:off x="5994360" y="446400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object 117"/>
          <p:cNvSpPr/>
          <p:nvPr/>
        </p:nvSpPr>
        <p:spPr>
          <a:xfrm>
            <a:off x="6517080" y="398340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object 118"/>
          <p:cNvSpPr/>
          <p:nvPr/>
        </p:nvSpPr>
        <p:spPr>
          <a:xfrm>
            <a:off x="5382000" y="4176000"/>
            <a:ext cx="560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,8</a:t>
            </a:r>
            <a:r>
              <a:rPr b="0" lang="en-US" sz="1000" spc="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32" strike="noStrike" baseline="-16000">
                <a:solidFill>
                  <a:srgbClr val="000000"/>
                </a:solidFill>
                <a:latin typeface="Calibri"/>
              </a:rPr>
              <a:t>10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object 119"/>
          <p:cNvSpPr/>
          <p:nvPr/>
        </p:nvSpPr>
        <p:spPr>
          <a:xfrm>
            <a:off x="6152760" y="44884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object 120"/>
          <p:cNvSpPr/>
          <p:nvPr/>
        </p:nvSpPr>
        <p:spPr>
          <a:xfrm>
            <a:off x="6675480" y="41875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object 121"/>
          <p:cNvSpPr/>
          <p:nvPr/>
        </p:nvSpPr>
        <p:spPr>
          <a:xfrm>
            <a:off x="7046640" y="3899160"/>
            <a:ext cx="560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3,1</a:t>
            </a:r>
            <a:r>
              <a:rPr b="0" lang="en-US" sz="1000" spc="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32" strike="noStrike" baseline="-30000">
                <a:solidFill>
                  <a:srgbClr val="000000"/>
                </a:solidFill>
                <a:latin typeface="Calibri"/>
              </a:rPr>
              <a:t>12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object 122"/>
          <p:cNvSpPr/>
          <p:nvPr/>
        </p:nvSpPr>
        <p:spPr>
          <a:xfrm>
            <a:off x="5139000" y="560088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object 123"/>
          <p:cNvSpPr/>
          <p:nvPr/>
        </p:nvSpPr>
        <p:spPr>
          <a:xfrm>
            <a:off x="5139000" y="53607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object 124"/>
          <p:cNvSpPr/>
          <p:nvPr/>
        </p:nvSpPr>
        <p:spPr>
          <a:xfrm>
            <a:off x="5139000" y="511992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object 125"/>
          <p:cNvSpPr/>
          <p:nvPr/>
        </p:nvSpPr>
        <p:spPr>
          <a:xfrm>
            <a:off x="5139000" y="4880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object 126"/>
          <p:cNvSpPr/>
          <p:nvPr/>
        </p:nvSpPr>
        <p:spPr>
          <a:xfrm>
            <a:off x="5139000" y="463968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object 127"/>
          <p:cNvSpPr/>
          <p:nvPr/>
        </p:nvSpPr>
        <p:spPr>
          <a:xfrm>
            <a:off x="5074560" y="43995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object 128"/>
          <p:cNvSpPr/>
          <p:nvPr/>
        </p:nvSpPr>
        <p:spPr>
          <a:xfrm>
            <a:off x="5074560" y="41594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object 129"/>
          <p:cNvSpPr/>
          <p:nvPr/>
        </p:nvSpPr>
        <p:spPr>
          <a:xfrm>
            <a:off x="5074560" y="39189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object 130"/>
          <p:cNvSpPr/>
          <p:nvPr/>
        </p:nvSpPr>
        <p:spPr>
          <a:xfrm>
            <a:off x="5469840" y="5766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object 131"/>
          <p:cNvSpPr/>
          <p:nvPr/>
        </p:nvSpPr>
        <p:spPr>
          <a:xfrm>
            <a:off x="6024600" y="576648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object 132"/>
          <p:cNvSpPr/>
          <p:nvPr/>
        </p:nvSpPr>
        <p:spPr>
          <a:xfrm>
            <a:off x="6579720" y="5766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object 133"/>
          <p:cNvSpPr/>
          <p:nvPr/>
        </p:nvSpPr>
        <p:spPr>
          <a:xfrm>
            <a:off x="7134840" y="5766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object 134"/>
          <p:cNvSpPr/>
          <p:nvPr/>
        </p:nvSpPr>
        <p:spPr>
          <a:xfrm>
            <a:off x="7755480" y="48006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4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object 135"/>
          <p:cNvSpPr/>
          <p:nvPr/>
        </p:nvSpPr>
        <p:spPr>
          <a:xfrm>
            <a:off x="7755480" y="50306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4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object 136"/>
          <p:cNvSpPr/>
          <p:nvPr/>
        </p:nvSpPr>
        <p:spPr>
          <a:xfrm>
            <a:off x="7844040" y="4656240"/>
            <a:ext cx="7884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object 137"/>
          <p:cNvSpPr/>
          <p:nvPr/>
        </p:nvSpPr>
        <p:spPr>
          <a:xfrm>
            <a:off x="5515560" y="3378960"/>
            <a:ext cx="2704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algn="ctr">
              <a:lnSpc>
                <a:spcPct val="100000"/>
              </a:lnSpc>
              <a:spcBef>
                <a:spcPts val="105"/>
              </a:spcBef>
            </a:pP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Российский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ок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автобу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1" lang="en-US" sz="14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object 138"/>
          <p:cNvSpPr/>
          <p:nvPr/>
        </p:nvSpPr>
        <p:spPr>
          <a:xfrm>
            <a:off x="1022040" y="1175400"/>
            <a:ext cx="506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object 139"/>
          <p:cNvSpPr/>
          <p:nvPr/>
        </p:nvSpPr>
        <p:spPr>
          <a:xfrm>
            <a:off x="938880" y="3784320"/>
            <a:ext cx="506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object 140"/>
          <p:cNvSpPr/>
          <p:nvPr/>
        </p:nvSpPr>
        <p:spPr>
          <a:xfrm>
            <a:off x="5238720" y="1175400"/>
            <a:ext cx="506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object 141"/>
          <p:cNvSpPr/>
          <p:nvPr/>
        </p:nvSpPr>
        <p:spPr>
          <a:xfrm>
            <a:off x="5051520" y="3766680"/>
            <a:ext cx="506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6" name="object 142" descr=""/>
          <p:cNvPicPr/>
          <p:nvPr/>
        </p:nvPicPr>
        <p:blipFill>
          <a:blip r:embed="rId1"/>
          <a:stretch/>
        </p:blipFill>
        <p:spPr>
          <a:xfrm>
            <a:off x="944280" y="6019200"/>
            <a:ext cx="4768200" cy="741960"/>
          </a:xfrm>
          <a:prstGeom prst="rect">
            <a:avLst/>
          </a:prstGeom>
          <a:ln w="0">
            <a:noFill/>
          </a:ln>
        </p:spPr>
      </p:pic>
      <p:sp>
        <p:nvSpPr>
          <p:cNvPr id="1997" name="object 143"/>
          <p:cNvSpPr/>
          <p:nvPr/>
        </p:nvSpPr>
        <p:spPr>
          <a:xfrm>
            <a:off x="944280" y="6019200"/>
            <a:ext cx="4768560" cy="63036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2080" bIns="0" anchor="t">
            <a:spAutoFit/>
          </a:bodyPr>
          <a:p>
            <a:pPr marL="90000">
              <a:lnSpc>
                <a:spcPct val="100000"/>
              </a:lnSpc>
              <a:spcBef>
                <a:spcPts val="646"/>
              </a:spcBef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оссийский</a:t>
            </a:r>
            <a:r>
              <a:rPr b="0" lang="en-US" sz="18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автомобильный</a:t>
            </a:r>
            <a:r>
              <a:rPr b="0" lang="en-US" sz="18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ынок</a:t>
            </a:r>
            <a:r>
              <a:rPr b="0" lang="en-US" sz="18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мед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">
              <a:lnSpc>
                <a:spcPct val="100000"/>
              </a:lnSpc>
            </a:pP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восстанавливается</a:t>
            </a:r>
            <a:r>
              <a:rPr b="0" lang="en-US" sz="1800" spc="4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после</a:t>
            </a:r>
            <a:r>
              <a:rPr b="0" lang="en-US" sz="1800" spc="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криз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509480" y="146520"/>
            <a:ext cx="29433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Автокомпонент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ldNum" idx="21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44C32B7F-31BD-429A-A661-C65513AAA244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bject 3"/>
          <p:cNvSpPr/>
          <p:nvPr/>
        </p:nvSpPr>
        <p:spPr>
          <a:xfrm>
            <a:off x="186480" y="828720"/>
            <a:ext cx="5745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Массовая</a:t>
            </a:r>
            <a:r>
              <a:rPr b="1" lang="en-US" sz="14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базовых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олимеров</a:t>
            </a:r>
            <a:r>
              <a:rPr b="1" lang="en-US" sz="14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некоторых</a:t>
            </a:r>
            <a:r>
              <a:rPr b="1" lang="en-US" sz="14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марках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втомобилей</a:t>
            </a:r>
            <a:r>
              <a:rPr b="1" lang="en-US" sz="14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1" name="object 4" descr=""/>
          <p:cNvPicPr/>
          <p:nvPr/>
        </p:nvPicPr>
        <p:blipFill>
          <a:blip r:embed="rId1"/>
          <a:stretch/>
        </p:blipFill>
        <p:spPr>
          <a:xfrm>
            <a:off x="497520" y="4149000"/>
            <a:ext cx="4938840" cy="770760"/>
          </a:xfrm>
          <a:prstGeom prst="rect">
            <a:avLst/>
          </a:prstGeom>
          <a:ln w="0">
            <a:noFill/>
          </a:ln>
        </p:spPr>
      </p:pic>
      <p:sp>
        <p:nvSpPr>
          <p:cNvPr id="2002" name="object 5"/>
          <p:cNvSpPr/>
          <p:nvPr/>
        </p:nvSpPr>
        <p:spPr>
          <a:xfrm>
            <a:off x="497520" y="4149000"/>
            <a:ext cx="4939200" cy="64476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6480" bIns="0" anchor="t">
            <a:spAutoFit/>
          </a:bodyPr>
          <a:p>
            <a:pPr marL="90000">
              <a:lnSpc>
                <a:spcPct val="100000"/>
              </a:lnSpc>
              <a:spcBef>
                <a:spcPts val="760"/>
              </a:spcBef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Более</a:t>
            </a:r>
            <a:r>
              <a:rPr b="0" lang="en-US" sz="1800" spc="-5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половины</a:t>
            </a:r>
            <a:r>
              <a:rPr b="0" lang="en-US" sz="18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композиционных</a:t>
            </a:r>
            <a:r>
              <a:rPr b="0" lang="en-US" sz="18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материалов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0" lang="en-US" sz="18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основе</a:t>
            </a:r>
            <a:r>
              <a:rPr b="0" lang="en-US" sz="1800" spc="9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ПП</a:t>
            </a:r>
            <a:r>
              <a:rPr b="0" lang="en-US" sz="18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используется</a:t>
            </a:r>
            <a:r>
              <a:rPr b="0" lang="en-US" sz="1800" spc="9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8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автопро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object 6"/>
          <p:cNvGrpSpPr/>
          <p:nvPr/>
        </p:nvGrpSpPr>
        <p:grpSpPr>
          <a:xfrm>
            <a:off x="548640" y="1338120"/>
            <a:ext cx="3701880" cy="2323800"/>
            <a:chOff x="548640" y="1338120"/>
            <a:chExt cx="3701880" cy="2323800"/>
          </a:xfrm>
        </p:grpSpPr>
        <p:sp>
          <p:nvSpPr>
            <p:cNvPr id="2004" name="object 7"/>
            <p:cNvSpPr/>
            <p:nvPr/>
          </p:nvSpPr>
          <p:spPr>
            <a:xfrm>
              <a:off x="588240" y="2606040"/>
              <a:ext cx="1041120" cy="76176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041400" h="762000">
                  <a:moveTo>
                    <a:pt x="0" y="762000"/>
                  </a:moveTo>
                  <a:lnTo>
                    <a:pt x="124967" y="762000"/>
                  </a:lnTo>
                </a:path>
                <a:path w="1041400" h="762000">
                  <a:moveTo>
                    <a:pt x="0" y="507492"/>
                  </a:moveTo>
                  <a:lnTo>
                    <a:pt x="124967" y="507492"/>
                  </a:lnTo>
                </a:path>
                <a:path w="1041400" h="762000">
                  <a:moveTo>
                    <a:pt x="291083" y="507492"/>
                  </a:moveTo>
                  <a:lnTo>
                    <a:pt x="1040892" y="507492"/>
                  </a:lnTo>
                </a:path>
                <a:path w="1041400" h="762000">
                  <a:moveTo>
                    <a:pt x="0" y="254508"/>
                  </a:moveTo>
                  <a:lnTo>
                    <a:pt x="124967" y="254508"/>
                  </a:lnTo>
                </a:path>
                <a:path w="1041400" h="762000">
                  <a:moveTo>
                    <a:pt x="291083" y="254508"/>
                  </a:moveTo>
                  <a:lnTo>
                    <a:pt x="1040892" y="254508"/>
                  </a:lnTo>
                </a:path>
                <a:path w="1041400" h="762000">
                  <a:moveTo>
                    <a:pt x="0" y="0"/>
                  </a:moveTo>
                  <a:lnTo>
                    <a:pt x="124967" y="0"/>
                  </a:lnTo>
                </a:path>
                <a:path w="1041400" h="762000">
                  <a:moveTo>
                    <a:pt x="291083" y="0"/>
                  </a:moveTo>
                  <a:lnTo>
                    <a:pt x="10408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bject 8"/>
            <p:cNvSpPr/>
            <p:nvPr/>
          </p:nvSpPr>
          <p:spPr>
            <a:xfrm>
              <a:off x="588240" y="2350800"/>
              <a:ext cx="1041120" cy="46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41400" h="5080">
                  <a:moveTo>
                    <a:pt x="0" y="4572"/>
                  </a:moveTo>
                  <a:lnTo>
                    <a:pt x="1040892" y="4572"/>
                  </a:lnTo>
                </a:path>
                <a:path w="1041400" h="5080">
                  <a:moveTo>
                    <a:pt x="0" y="0"/>
                  </a:moveTo>
                  <a:lnTo>
                    <a:pt x="1040892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bject 9"/>
            <p:cNvSpPr/>
            <p:nvPr/>
          </p:nvSpPr>
          <p:spPr>
            <a:xfrm>
              <a:off x="713160" y="2352960"/>
              <a:ext cx="165960" cy="12697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166369" h="1270000">
                  <a:moveTo>
                    <a:pt x="166115" y="0"/>
                  </a:moveTo>
                  <a:lnTo>
                    <a:pt x="0" y="0"/>
                  </a:lnTo>
                  <a:lnTo>
                    <a:pt x="0" y="1269492"/>
                  </a:lnTo>
                  <a:lnTo>
                    <a:pt x="166115" y="1269492"/>
                  </a:lnTo>
                  <a:lnTo>
                    <a:pt x="166115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bject 10"/>
            <p:cNvSpPr/>
            <p:nvPr/>
          </p:nvSpPr>
          <p:spPr>
            <a:xfrm>
              <a:off x="1045440" y="3368160"/>
              <a:ext cx="583920" cy="36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84200" h="0">
                  <a:moveTo>
                    <a:pt x="0" y="0"/>
                  </a:moveTo>
                  <a:lnTo>
                    <a:pt x="5836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bject 11"/>
            <p:cNvSpPr/>
            <p:nvPr/>
          </p:nvSpPr>
          <p:spPr>
            <a:xfrm>
              <a:off x="1795320" y="3365640"/>
              <a:ext cx="748440" cy="468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48664" h="5079">
                  <a:moveTo>
                    <a:pt x="0" y="4572"/>
                  </a:moveTo>
                  <a:lnTo>
                    <a:pt x="748283" y="4572"/>
                  </a:lnTo>
                </a:path>
                <a:path w="748664" h="5079">
                  <a:moveTo>
                    <a:pt x="0" y="0"/>
                  </a:moveTo>
                  <a:lnTo>
                    <a:pt x="748283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bject 12"/>
            <p:cNvSpPr/>
            <p:nvPr/>
          </p:nvSpPr>
          <p:spPr>
            <a:xfrm>
              <a:off x="1795320" y="2606040"/>
              <a:ext cx="748440" cy="507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748664" h="508000">
                  <a:moveTo>
                    <a:pt x="0" y="507492"/>
                  </a:moveTo>
                  <a:lnTo>
                    <a:pt x="748283" y="507492"/>
                  </a:lnTo>
                </a:path>
                <a:path w="748664" h="508000">
                  <a:moveTo>
                    <a:pt x="0" y="254508"/>
                  </a:moveTo>
                  <a:lnTo>
                    <a:pt x="748283" y="254508"/>
                  </a:lnTo>
                </a:path>
                <a:path w="748664" h="508000">
                  <a:moveTo>
                    <a:pt x="0" y="0"/>
                  </a:moveTo>
                  <a:lnTo>
                    <a:pt x="7482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bject 13"/>
            <p:cNvSpPr/>
            <p:nvPr/>
          </p:nvSpPr>
          <p:spPr>
            <a:xfrm>
              <a:off x="1795320" y="2350800"/>
              <a:ext cx="1663920" cy="468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64335" h="5080">
                  <a:moveTo>
                    <a:pt x="0" y="4572"/>
                  </a:moveTo>
                  <a:lnTo>
                    <a:pt x="1664207" y="4572"/>
                  </a:lnTo>
                </a:path>
                <a:path w="1664335" h="5080">
                  <a:moveTo>
                    <a:pt x="0" y="0"/>
                  </a:moveTo>
                  <a:lnTo>
                    <a:pt x="1664207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bject 14"/>
            <p:cNvSpPr/>
            <p:nvPr/>
          </p:nvSpPr>
          <p:spPr>
            <a:xfrm>
              <a:off x="588240" y="1591200"/>
              <a:ext cx="2871000" cy="507600"/>
            </a:xfrm>
            <a:custGeom>
              <a:avLst/>
              <a:gdLst>
                <a:gd name="textAreaLeft" fmla="*/ 0 w 2871000"/>
                <a:gd name="textAreaRight" fmla="*/ 2871360 w 287100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2871470" h="508000">
                  <a:moveTo>
                    <a:pt x="0" y="507492"/>
                  </a:moveTo>
                  <a:lnTo>
                    <a:pt x="1040892" y="507492"/>
                  </a:lnTo>
                </a:path>
                <a:path w="2871470" h="508000">
                  <a:moveTo>
                    <a:pt x="1207008" y="507492"/>
                  </a:moveTo>
                  <a:lnTo>
                    <a:pt x="2871216" y="507492"/>
                  </a:lnTo>
                </a:path>
                <a:path w="2871470" h="508000">
                  <a:moveTo>
                    <a:pt x="0" y="254508"/>
                  </a:moveTo>
                  <a:lnTo>
                    <a:pt x="1040892" y="254508"/>
                  </a:lnTo>
                </a:path>
                <a:path w="2871470" h="508000">
                  <a:moveTo>
                    <a:pt x="1207008" y="254508"/>
                  </a:moveTo>
                  <a:lnTo>
                    <a:pt x="2871216" y="254508"/>
                  </a:lnTo>
                </a:path>
                <a:path w="2871470" h="508000">
                  <a:moveTo>
                    <a:pt x="0" y="0"/>
                  </a:moveTo>
                  <a:lnTo>
                    <a:pt x="10408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bject 15"/>
            <p:cNvSpPr/>
            <p:nvPr/>
          </p:nvSpPr>
          <p:spPr>
            <a:xfrm>
              <a:off x="1795320" y="1588680"/>
              <a:ext cx="2455200" cy="4680"/>
            </a:xfrm>
            <a:custGeom>
              <a:avLst/>
              <a:gdLst>
                <a:gd name="textAreaLeft" fmla="*/ 0 w 2455200"/>
                <a:gd name="textAreaRight" fmla="*/ 2455560 w 24552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455545" h="5080">
                  <a:moveTo>
                    <a:pt x="0" y="4572"/>
                  </a:moveTo>
                  <a:lnTo>
                    <a:pt x="2455164" y="4572"/>
                  </a:lnTo>
                </a:path>
                <a:path w="2455545" h="5080">
                  <a:moveTo>
                    <a:pt x="0" y="0"/>
                  </a:moveTo>
                  <a:lnTo>
                    <a:pt x="245516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bject 16"/>
            <p:cNvSpPr/>
            <p:nvPr/>
          </p:nvSpPr>
          <p:spPr>
            <a:xfrm>
              <a:off x="1629000" y="1490400"/>
              <a:ext cx="165960" cy="21319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131920"/>
                <a:gd name="textAreaBottom" fmla="*/ 2132280 h 2131920"/>
              </a:gdLst>
              <a:ahLst/>
              <a:rect l="textAreaLeft" t="textAreaTop" r="textAreaRight" b="textAreaBottom"/>
              <a:pathLst>
                <a:path w="166369" h="2132329">
                  <a:moveTo>
                    <a:pt x="166116" y="0"/>
                  </a:moveTo>
                  <a:lnTo>
                    <a:pt x="0" y="0"/>
                  </a:lnTo>
                  <a:lnTo>
                    <a:pt x="0" y="2132076"/>
                  </a:lnTo>
                  <a:lnTo>
                    <a:pt x="166116" y="2132076"/>
                  </a:lnTo>
                  <a:lnTo>
                    <a:pt x="1661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bject 17"/>
            <p:cNvSpPr/>
            <p:nvPr/>
          </p:nvSpPr>
          <p:spPr>
            <a:xfrm>
              <a:off x="2709720" y="2606040"/>
              <a:ext cx="749520" cy="7617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749935" h="762000">
                  <a:moveTo>
                    <a:pt x="0" y="762000"/>
                  </a:moveTo>
                  <a:lnTo>
                    <a:pt x="749807" y="762000"/>
                  </a:lnTo>
                </a:path>
                <a:path w="749935" h="762000">
                  <a:moveTo>
                    <a:pt x="0" y="507492"/>
                  </a:moveTo>
                  <a:lnTo>
                    <a:pt x="749807" y="507492"/>
                  </a:lnTo>
                </a:path>
                <a:path w="749935" h="762000">
                  <a:moveTo>
                    <a:pt x="0" y="254508"/>
                  </a:moveTo>
                  <a:lnTo>
                    <a:pt x="749807" y="254508"/>
                  </a:lnTo>
                </a:path>
                <a:path w="749935" h="762000">
                  <a:moveTo>
                    <a:pt x="0" y="0"/>
                  </a:moveTo>
                  <a:lnTo>
                    <a:pt x="74980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bject 18"/>
            <p:cNvSpPr/>
            <p:nvPr/>
          </p:nvSpPr>
          <p:spPr>
            <a:xfrm>
              <a:off x="2543400" y="2453760"/>
              <a:ext cx="165960" cy="1168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66369" h="1169035">
                  <a:moveTo>
                    <a:pt x="166116" y="0"/>
                  </a:moveTo>
                  <a:lnTo>
                    <a:pt x="0" y="0"/>
                  </a:lnTo>
                  <a:lnTo>
                    <a:pt x="0" y="1168908"/>
                  </a:lnTo>
                  <a:lnTo>
                    <a:pt x="166116" y="1168908"/>
                  </a:lnTo>
                  <a:lnTo>
                    <a:pt x="1661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bject 19"/>
            <p:cNvSpPr/>
            <p:nvPr/>
          </p:nvSpPr>
          <p:spPr>
            <a:xfrm>
              <a:off x="3625560" y="1843200"/>
              <a:ext cx="624600" cy="468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24839" h="5080">
                  <a:moveTo>
                    <a:pt x="0" y="4572"/>
                  </a:moveTo>
                  <a:lnTo>
                    <a:pt x="624839" y="4572"/>
                  </a:lnTo>
                </a:path>
                <a:path w="624839" h="5080">
                  <a:moveTo>
                    <a:pt x="0" y="0"/>
                  </a:moveTo>
                  <a:lnTo>
                    <a:pt x="624839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bject 20"/>
            <p:cNvSpPr/>
            <p:nvPr/>
          </p:nvSpPr>
          <p:spPr>
            <a:xfrm>
              <a:off x="3459600" y="1591200"/>
              <a:ext cx="165960" cy="20314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031480"/>
                <a:gd name="textAreaBottom" fmla="*/ 2031840 h 2031480"/>
              </a:gdLst>
              <a:ahLst/>
              <a:rect l="textAreaLeft" t="textAreaTop" r="textAreaRight" b="textAreaBottom"/>
              <a:pathLst>
                <a:path w="166370" h="2032000">
                  <a:moveTo>
                    <a:pt x="166116" y="0"/>
                  </a:moveTo>
                  <a:lnTo>
                    <a:pt x="0" y="0"/>
                  </a:lnTo>
                  <a:lnTo>
                    <a:pt x="0" y="2031492"/>
                  </a:lnTo>
                  <a:lnTo>
                    <a:pt x="166116" y="2031492"/>
                  </a:lnTo>
                  <a:lnTo>
                    <a:pt x="1661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bject 21"/>
            <p:cNvSpPr/>
            <p:nvPr/>
          </p:nvSpPr>
          <p:spPr>
            <a:xfrm>
              <a:off x="879480" y="3342240"/>
              <a:ext cx="1998000" cy="280440"/>
            </a:xfrm>
            <a:custGeom>
              <a:avLst/>
              <a:gdLst>
                <a:gd name="textAreaLeft" fmla="*/ 0 w 1998000"/>
                <a:gd name="textAreaRight" fmla="*/ 1998360 w 19980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998345" h="280670">
                  <a:moveTo>
                    <a:pt x="166116" y="0"/>
                  </a:moveTo>
                  <a:lnTo>
                    <a:pt x="0" y="0"/>
                  </a:lnTo>
                  <a:lnTo>
                    <a:pt x="0" y="280416"/>
                  </a:lnTo>
                  <a:lnTo>
                    <a:pt x="166116" y="280416"/>
                  </a:lnTo>
                  <a:lnTo>
                    <a:pt x="166116" y="0"/>
                  </a:lnTo>
                  <a:close/>
                </a:path>
                <a:path w="1998345" h="280670">
                  <a:moveTo>
                    <a:pt x="1082040" y="25908"/>
                  </a:moveTo>
                  <a:lnTo>
                    <a:pt x="915924" y="25908"/>
                  </a:lnTo>
                  <a:lnTo>
                    <a:pt x="915924" y="280416"/>
                  </a:lnTo>
                  <a:lnTo>
                    <a:pt x="1082040" y="280416"/>
                  </a:lnTo>
                  <a:lnTo>
                    <a:pt x="1082040" y="25908"/>
                  </a:lnTo>
                  <a:close/>
                </a:path>
                <a:path w="1998345" h="280670">
                  <a:moveTo>
                    <a:pt x="1997964" y="204216"/>
                  </a:moveTo>
                  <a:lnTo>
                    <a:pt x="1830324" y="204216"/>
                  </a:lnTo>
                  <a:lnTo>
                    <a:pt x="1830324" y="280416"/>
                  </a:lnTo>
                  <a:lnTo>
                    <a:pt x="1997964" y="280416"/>
                  </a:lnTo>
                  <a:lnTo>
                    <a:pt x="1997964" y="204216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object 22"/>
            <p:cNvSpPr/>
            <p:nvPr/>
          </p:nvSpPr>
          <p:spPr>
            <a:xfrm>
              <a:off x="3791880" y="2350800"/>
              <a:ext cx="458640" cy="5119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459104" h="512444">
                  <a:moveTo>
                    <a:pt x="0" y="512064"/>
                  </a:moveTo>
                  <a:lnTo>
                    <a:pt x="167639" y="512064"/>
                  </a:lnTo>
                </a:path>
                <a:path w="459104" h="512444">
                  <a:moveTo>
                    <a:pt x="0" y="507492"/>
                  </a:moveTo>
                  <a:lnTo>
                    <a:pt x="167639" y="507492"/>
                  </a:lnTo>
                </a:path>
                <a:path w="459104" h="512444">
                  <a:moveTo>
                    <a:pt x="0" y="257556"/>
                  </a:moveTo>
                  <a:lnTo>
                    <a:pt x="458724" y="257556"/>
                  </a:lnTo>
                </a:path>
                <a:path w="459104" h="512444">
                  <a:moveTo>
                    <a:pt x="0" y="252984"/>
                  </a:moveTo>
                  <a:lnTo>
                    <a:pt x="458724" y="252984"/>
                  </a:lnTo>
                </a:path>
                <a:path w="459104" h="512444">
                  <a:moveTo>
                    <a:pt x="0" y="4572"/>
                  </a:moveTo>
                  <a:lnTo>
                    <a:pt x="458724" y="4572"/>
                  </a:lnTo>
                </a:path>
                <a:path w="459104" h="512444">
                  <a:moveTo>
                    <a:pt x="0" y="0"/>
                  </a:moveTo>
                  <a:lnTo>
                    <a:pt x="45872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bject 23"/>
            <p:cNvSpPr/>
            <p:nvPr/>
          </p:nvSpPr>
          <p:spPr>
            <a:xfrm>
              <a:off x="3791880" y="2098440"/>
              <a:ext cx="458640" cy="3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59104" h="0">
                  <a:moveTo>
                    <a:pt x="0" y="0"/>
                  </a:moveTo>
                  <a:lnTo>
                    <a:pt x="4587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bject 24"/>
            <p:cNvSpPr/>
            <p:nvPr/>
          </p:nvSpPr>
          <p:spPr>
            <a:xfrm>
              <a:off x="3625560" y="1845720"/>
              <a:ext cx="165960" cy="17769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76960"/>
                <a:gd name="textAreaBottom" fmla="*/ 1777320 h 1776960"/>
              </a:gdLst>
              <a:ahLst/>
              <a:rect l="textAreaLeft" t="textAreaTop" r="textAreaRight" b="textAreaBottom"/>
              <a:pathLst>
                <a:path w="166370" h="1777364">
                  <a:moveTo>
                    <a:pt x="166115" y="0"/>
                  </a:moveTo>
                  <a:lnTo>
                    <a:pt x="0" y="0"/>
                  </a:lnTo>
                  <a:lnTo>
                    <a:pt x="0" y="1776984"/>
                  </a:lnTo>
                  <a:lnTo>
                    <a:pt x="166115" y="1776984"/>
                  </a:lnTo>
                  <a:lnTo>
                    <a:pt x="1661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object 25"/>
            <p:cNvSpPr/>
            <p:nvPr/>
          </p:nvSpPr>
          <p:spPr>
            <a:xfrm>
              <a:off x="1045440" y="2860560"/>
              <a:ext cx="2913480" cy="761760"/>
            </a:xfrm>
            <a:custGeom>
              <a:avLst/>
              <a:gdLst>
                <a:gd name="textAreaLeft" fmla="*/ 0 w 2913480"/>
                <a:gd name="textAreaRight" fmla="*/ 2913840 w 29134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914015" h="762000">
                  <a:moveTo>
                    <a:pt x="167640" y="659892"/>
                  </a:moveTo>
                  <a:lnTo>
                    <a:pt x="0" y="659892"/>
                  </a:lnTo>
                  <a:lnTo>
                    <a:pt x="0" y="762000"/>
                  </a:lnTo>
                  <a:lnTo>
                    <a:pt x="167640" y="762000"/>
                  </a:lnTo>
                  <a:lnTo>
                    <a:pt x="167640" y="659892"/>
                  </a:lnTo>
                  <a:close/>
                </a:path>
                <a:path w="2914015" h="762000">
                  <a:moveTo>
                    <a:pt x="1082040" y="633984"/>
                  </a:moveTo>
                  <a:lnTo>
                    <a:pt x="915924" y="633984"/>
                  </a:lnTo>
                  <a:lnTo>
                    <a:pt x="915924" y="762000"/>
                  </a:lnTo>
                  <a:lnTo>
                    <a:pt x="1082040" y="762000"/>
                  </a:lnTo>
                  <a:lnTo>
                    <a:pt x="1082040" y="633984"/>
                  </a:lnTo>
                  <a:close/>
                </a:path>
                <a:path w="2914015" h="762000">
                  <a:moveTo>
                    <a:pt x="1997964" y="736092"/>
                  </a:moveTo>
                  <a:lnTo>
                    <a:pt x="1831848" y="736092"/>
                  </a:lnTo>
                  <a:lnTo>
                    <a:pt x="1831848" y="762000"/>
                  </a:lnTo>
                  <a:lnTo>
                    <a:pt x="1997964" y="762000"/>
                  </a:lnTo>
                  <a:lnTo>
                    <a:pt x="1997964" y="736092"/>
                  </a:lnTo>
                  <a:close/>
                </a:path>
                <a:path w="2914015" h="762000">
                  <a:moveTo>
                    <a:pt x="2913888" y="0"/>
                  </a:moveTo>
                  <a:lnTo>
                    <a:pt x="2746248" y="0"/>
                  </a:lnTo>
                  <a:lnTo>
                    <a:pt x="2746248" y="762000"/>
                  </a:lnTo>
                  <a:lnTo>
                    <a:pt x="2913888" y="762000"/>
                  </a:lnTo>
                  <a:lnTo>
                    <a:pt x="2913888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bject 26"/>
            <p:cNvSpPr/>
            <p:nvPr/>
          </p:nvSpPr>
          <p:spPr>
            <a:xfrm>
              <a:off x="1213200" y="3494520"/>
              <a:ext cx="1996200" cy="127800"/>
            </a:xfrm>
            <a:custGeom>
              <a:avLst/>
              <a:gdLst>
                <a:gd name="textAreaLeft" fmla="*/ 0 w 1996200"/>
                <a:gd name="textAreaRight" fmla="*/ 1996560 w 1996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996439" h="128270">
                  <a:moveTo>
                    <a:pt x="166116" y="25908"/>
                  </a:moveTo>
                  <a:lnTo>
                    <a:pt x="0" y="25908"/>
                  </a:lnTo>
                  <a:lnTo>
                    <a:pt x="0" y="128016"/>
                  </a:lnTo>
                  <a:lnTo>
                    <a:pt x="166116" y="128016"/>
                  </a:lnTo>
                  <a:lnTo>
                    <a:pt x="166116" y="25908"/>
                  </a:lnTo>
                  <a:close/>
                </a:path>
                <a:path w="1996439" h="128270">
                  <a:moveTo>
                    <a:pt x="1080516" y="0"/>
                  </a:moveTo>
                  <a:lnTo>
                    <a:pt x="914400" y="0"/>
                  </a:lnTo>
                  <a:lnTo>
                    <a:pt x="914400" y="128016"/>
                  </a:lnTo>
                  <a:lnTo>
                    <a:pt x="1080516" y="128016"/>
                  </a:lnTo>
                  <a:lnTo>
                    <a:pt x="1080516" y="0"/>
                  </a:lnTo>
                  <a:close/>
                </a:path>
                <a:path w="1996439" h="128270">
                  <a:moveTo>
                    <a:pt x="1996440" y="102108"/>
                  </a:moveTo>
                  <a:lnTo>
                    <a:pt x="1830324" y="102108"/>
                  </a:lnTo>
                  <a:lnTo>
                    <a:pt x="1830324" y="128016"/>
                  </a:lnTo>
                  <a:lnTo>
                    <a:pt x="1996440" y="128016"/>
                  </a:lnTo>
                  <a:lnTo>
                    <a:pt x="1996440" y="102108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bject 27"/>
            <p:cNvSpPr/>
            <p:nvPr/>
          </p:nvSpPr>
          <p:spPr>
            <a:xfrm>
              <a:off x="4125600" y="3113640"/>
              <a:ext cx="124560" cy="2541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25095" h="254635">
                  <a:moveTo>
                    <a:pt x="0" y="254507"/>
                  </a:moveTo>
                  <a:lnTo>
                    <a:pt x="124968" y="254507"/>
                  </a:lnTo>
                </a:path>
                <a:path w="125095" h="254635">
                  <a:moveTo>
                    <a:pt x="0" y="0"/>
                  </a:moveTo>
                  <a:lnTo>
                    <a:pt x="1249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bject 28"/>
            <p:cNvSpPr/>
            <p:nvPr/>
          </p:nvSpPr>
          <p:spPr>
            <a:xfrm>
              <a:off x="4125600" y="2858400"/>
              <a:ext cx="124560" cy="4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25095" h="5080">
                  <a:moveTo>
                    <a:pt x="0" y="4572"/>
                  </a:moveTo>
                  <a:lnTo>
                    <a:pt x="124968" y="4572"/>
                  </a:lnTo>
                </a:path>
                <a:path w="125095" h="5080">
                  <a:moveTo>
                    <a:pt x="0" y="0"/>
                  </a:moveTo>
                  <a:lnTo>
                    <a:pt x="124968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bject 29"/>
            <p:cNvSpPr/>
            <p:nvPr/>
          </p:nvSpPr>
          <p:spPr>
            <a:xfrm>
              <a:off x="3959280" y="2606040"/>
              <a:ext cx="165960" cy="1016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166370" h="1016635">
                  <a:moveTo>
                    <a:pt x="166115" y="0"/>
                  </a:moveTo>
                  <a:lnTo>
                    <a:pt x="0" y="0"/>
                  </a:lnTo>
                  <a:lnTo>
                    <a:pt x="0" y="1016508"/>
                  </a:lnTo>
                  <a:lnTo>
                    <a:pt x="166115" y="1016508"/>
                  </a:lnTo>
                  <a:lnTo>
                    <a:pt x="166115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bject 30"/>
            <p:cNvSpPr/>
            <p:nvPr/>
          </p:nvSpPr>
          <p:spPr>
            <a:xfrm>
              <a:off x="548640" y="1338120"/>
              <a:ext cx="3701520" cy="2323800"/>
            </a:xfrm>
            <a:custGeom>
              <a:avLst/>
              <a:gdLst>
                <a:gd name="textAreaLeft" fmla="*/ 0 w 3701520"/>
                <a:gd name="textAreaRight" fmla="*/ 3701880 w 3701520"/>
                <a:gd name="textAreaTop" fmla="*/ 0 h 2323800"/>
                <a:gd name="textAreaBottom" fmla="*/ 2324160 h 2323800"/>
              </a:gdLst>
              <a:ahLst/>
              <a:rect l="textAreaLeft" t="textAreaTop" r="textAreaRight" b="textAreaBottom"/>
              <a:pathLst>
                <a:path w="3702050" h="2324100">
                  <a:moveTo>
                    <a:pt x="39623" y="0"/>
                  </a:moveTo>
                  <a:lnTo>
                    <a:pt x="3701796" y="0"/>
                  </a:lnTo>
                </a:path>
                <a:path w="3702050" h="2324100">
                  <a:moveTo>
                    <a:pt x="39623" y="2284476"/>
                  </a:moveTo>
                  <a:lnTo>
                    <a:pt x="39623" y="0"/>
                  </a:lnTo>
                </a:path>
                <a:path w="3702050" h="2324100">
                  <a:moveTo>
                    <a:pt x="0" y="2284476"/>
                  </a:moveTo>
                  <a:lnTo>
                    <a:pt x="39623" y="2284476"/>
                  </a:lnTo>
                </a:path>
                <a:path w="3702050" h="2324100">
                  <a:moveTo>
                    <a:pt x="0" y="2029967"/>
                  </a:moveTo>
                  <a:lnTo>
                    <a:pt x="39623" y="2029967"/>
                  </a:lnTo>
                </a:path>
                <a:path w="3702050" h="2324100">
                  <a:moveTo>
                    <a:pt x="0" y="1775460"/>
                  </a:moveTo>
                  <a:lnTo>
                    <a:pt x="39623" y="1775460"/>
                  </a:lnTo>
                </a:path>
                <a:path w="3702050" h="2324100">
                  <a:moveTo>
                    <a:pt x="0" y="1522476"/>
                  </a:moveTo>
                  <a:lnTo>
                    <a:pt x="39623" y="1522476"/>
                  </a:lnTo>
                </a:path>
                <a:path w="3702050" h="2324100">
                  <a:moveTo>
                    <a:pt x="0" y="1267967"/>
                  </a:moveTo>
                  <a:lnTo>
                    <a:pt x="39623" y="1267967"/>
                  </a:lnTo>
                </a:path>
                <a:path w="3702050" h="2324100">
                  <a:moveTo>
                    <a:pt x="0" y="1014983"/>
                  </a:moveTo>
                  <a:lnTo>
                    <a:pt x="39623" y="1014983"/>
                  </a:lnTo>
                </a:path>
                <a:path w="3702050" h="2324100">
                  <a:moveTo>
                    <a:pt x="0" y="760476"/>
                  </a:moveTo>
                  <a:lnTo>
                    <a:pt x="39623" y="760476"/>
                  </a:lnTo>
                </a:path>
                <a:path w="3702050" h="2324100">
                  <a:moveTo>
                    <a:pt x="0" y="507491"/>
                  </a:moveTo>
                  <a:lnTo>
                    <a:pt x="39623" y="507491"/>
                  </a:lnTo>
                </a:path>
                <a:path w="3702050" h="2324100">
                  <a:moveTo>
                    <a:pt x="0" y="252983"/>
                  </a:moveTo>
                  <a:lnTo>
                    <a:pt x="39623" y="252983"/>
                  </a:lnTo>
                </a:path>
                <a:path w="3702050" h="2324100">
                  <a:moveTo>
                    <a:pt x="0" y="0"/>
                  </a:moveTo>
                  <a:lnTo>
                    <a:pt x="39623" y="0"/>
                  </a:lnTo>
                </a:path>
                <a:path w="3702050" h="2324100">
                  <a:moveTo>
                    <a:pt x="39623" y="2284476"/>
                  </a:moveTo>
                  <a:lnTo>
                    <a:pt x="3701796" y="2284476"/>
                  </a:lnTo>
                </a:path>
                <a:path w="3702050" h="2324100">
                  <a:moveTo>
                    <a:pt x="39623" y="2284476"/>
                  </a:moveTo>
                  <a:lnTo>
                    <a:pt x="39623" y="2324100"/>
                  </a:lnTo>
                </a:path>
                <a:path w="3702050" h="2324100">
                  <a:moveTo>
                    <a:pt x="955547" y="2284476"/>
                  </a:moveTo>
                  <a:lnTo>
                    <a:pt x="955547" y="2324100"/>
                  </a:lnTo>
                </a:path>
                <a:path w="3702050" h="2324100">
                  <a:moveTo>
                    <a:pt x="1869948" y="2284476"/>
                  </a:moveTo>
                  <a:lnTo>
                    <a:pt x="1869948" y="2324100"/>
                  </a:lnTo>
                </a:path>
                <a:path w="3702050" h="2324100">
                  <a:moveTo>
                    <a:pt x="2785872" y="2284476"/>
                  </a:moveTo>
                  <a:lnTo>
                    <a:pt x="2785872" y="2324100"/>
                  </a:lnTo>
                </a:path>
                <a:path w="3702050" h="2324100">
                  <a:moveTo>
                    <a:pt x="3701796" y="2284476"/>
                  </a:moveTo>
                  <a:lnTo>
                    <a:pt x="3701796" y="232410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8" name="object 31"/>
          <p:cNvSpPr/>
          <p:nvPr/>
        </p:nvSpPr>
        <p:spPr>
          <a:xfrm>
            <a:off x="751680" y="21225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object 32"/>
          <p:cNvSpPr/>
          <p:nvPr/>
        </p:nvSpPr>
        <p:spPr>
          <a:xfrm>
            <a:off x="1618560" y="125964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object 33"/>
          <p:cNvSpPr/>
          <p:nvPr/>
        </p:nvSpPr>
        <p:spPr>
          <a:xfrm>
            <a:off x="2534040" y="22237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object 34"/>
          <p:cNvSpPr/>
          <p:nvPr/>
        </p:nvSpPr>
        <p:spPr>
          <a:xfrm>
            <a:off x="3498480" y="1361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object 35"/>
          <p:cNvSpPr/>
          <p:nvPr/>
        </p:nvSpPr>
        <p:spPr>
          <a:xfrm>
            <a:off x="869400" y="31125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object 36"/>
          <p:cNvSpPr/>
          <p:nvPr/>
        </p:nvSpPr>
        <p:spPr>
          <a:xfrm>
            <a:off x="1833840" y="31381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object 37"/>
          <p:cNvSpPr/>
          <p:nvPr/>
        </p:nvSpPr>
        <p:spPr>
          <a:xfrm>
            <a:off x="3664800" y="16149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object 38"/>
          <p:cNvSpPr/>
          <p:nvPr/>
        </p:nvSpPr>
        <p:spPr>
          <a:xfrm>
            <a:off x="3831480" y="2630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object 39"/>
          <p:cNvSpPr/>
          <p:nvPr/>
        </p:nvSpPr>
        <p:spPr>
          <a:xfrm>
            <a:off x="1035720" y="3290040"/>
            <a:ext cx="352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0,40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object 40"/>
          <p:cNvSpPr/>
          <p:nvPr/>
        </p:nvSpPr>
        <p:spPr>
          <a:xfrm>
            <a:off x="1951560" y="3264840"/>
            <a:ext cx="352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0,5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object 41"/>
          <p:cNvSpPr/>
          <p:nvPr/>
        </p:nvSpPr>
        <p:spPr>
          <a:xfrm>
            <a:off x="2675160" y="3366360"/>
            <a:ext cx="56844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500" spc="-15" strike="noStrike" baseline="22000">
                <a:solidFill>
                  <a:srgbClr val="000000"/>
                </a:solidFill>
                <a:latin typeface="Calibri"/>
              </a:rPr>
              <a:t>0,3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0,1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object 42"/>
          <p:cNvSpPr/>
          <p:nvPr/>
        </p:nvSpPr>
        <p:spPr>
          <a:xfrm>
            <a:off x="3997800" y="23763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object 43"/>
          <p:cNvSpPr/>
          <p:nvPr/>
        </p:nvSpPr>
        <p:spPr>
          <a:xfrm>
            <a:off x="393480" y="35193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object 44"/>
          <p:cNvSpPr/>
          <p:nvPr/>
        </p:nvSpPr>
        <p:spPr>
          <a:xfrm>
            <a:off x="393480" y="326520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bject 45"/>
          <p:cNvSpPr/>
          <p:nvPr/>
        </p:nvSpPr>
        <p:spPr>
          <a:xfrm>
            <a:off x="393480" y="30117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object 46"/>
          <p:cNvSpPr/>
          <p:nvPr/>
        </p:nvSpPr>
        <p:spPr>
          <a:xfrm>
            <a:off x="393480" y="27579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object 47"/>
          <p:cNvSpPr/>
          <p:nvPr/>
        </p:nvSpPr>
        <p:spPr>
          <a:xfrm>
            <a:off x="393480" y="2504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object 48"/>
          <p:cNvSpPr/>
          <p:nvPr/>
        </p:nvSpPr>
        <p:spPr>
          <a:xfrm>
            <a:off x="393480" y="22503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object 49"/>
          <p:cNvSpPr/>
          <p:nvPr/>
        </p:nvSpPr>
        <p:spPr>
          <a:xfrm>
            <a:off x="393480" y="19962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object 50"/>
          <p:cNvSpPr/>
          <p:nvPr/>
        </p:nvSpPr>
        <p:spPr>
          <a:xfrm>
            <a:off x="393480" y="17427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object 51"/>
          <p:cNvSpPr/>
          <p:nvPr/>
        </p:nvSpPr>
        <p:spPr>
          <a:xfrm>
            <a:off x="393480" y="14886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object 52"/>
          <p:cNvSpPr/>
          <p:nvPr/>
        </p:nvSpPr>
        <p:spPr>
          <a:xfrm>
            <a:off x="393480" y="12348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object 53"/>
          <p:cNvSpPr/>
          <p:nvPr/>
        </p:nvSpPr>
        <p:spPr>
          <a:xfrm>
            <a:off x="681480" y="3684600"/>
            <a:ext cx="727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d</a:t>
            </a:r>
            <a:r>
              <a:rPr b="0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Mond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object 54"/>
          <p:cNvSpPr/>
          <p:nvPr/>
        </p:nvSpPr>
        <p:spPr>
          <a:xfrm>
            <a:off x="1689840" y="3684600"/>
            <a:ext cx="542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at</a:t>
            </a:r>
            <a:r>
              <a:rPr b="0" lang="en-US" sz="10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Bra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object 55"/>
          <p:cNvSpPr/>
          <p:nvPr/>
        </p:nvSpPr>
        <p:spPr>
          <a:xfrm>
            <a:off x="2573640" y="3684600"/>
            <a:ext cx="606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ada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Pri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object 56"/>
          <p:cNvSpPr/>
          <p:nvPr/>
        </p:nvSpPr>
        <p:spPr>
          <a:xfrm>
            <a:off x="3615120" y="3684600"/>
            <a:ext cx="354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ама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object 57"/>
          <p:cNvSpPr/>
          <p:nvPr/>
        </p:nvSpPr>
        <p:spPr>
          <a:xfrm>
            <a:off x="4453200" y="21884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object 58"/>
          <p:cNvSpPr/>
          <p:nvPr/>
        </p:nvSpPr>
        <p:spPr>
          <a:xfrm>
            <a:off x="4453200" y="24184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object 59"/>
          <p:cNvSpPr/>
          <p:nvPr/>
        </p:nvSpPr>
        <p:spPr>
          <a:xfrm>
            <a:off x="4453200" y="26488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object 60"/>
          <p:cNvSpPr/>
          <p:nvPr/>
        </p:nvSpPr>
        <p:spPr>
          <a:xfrm>
            <a:off x="4453200" y="28774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object 61"/>
          <p:cNvSpPr/>
          <p:nvPr/>
        </p:nvSpPr>
        <p:spPr>
          <a:xfrm>
            <a:off x="4541040" y="2043720"/>
            <a:ext cx="239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5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П ПЭ АБС ПВ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object 62" descr=""/>
          <p:cNvPicPr/>
          <p:nvPr/>
        </p:nvPicPr>
        <p:blipFill>
          <a:blip r:embed="rId2"/>
          <a:stretch/>
        </p:blipFill>
        <p:spPr>
          <a:xfrm>
            <a:off x="497520" y="5075640"/>
            <a:ext cx="5370120" cy="770760"/>
          </a:xfrm>
          <a:prstGeom prst="rect">
            <a:avLst/>
          </a:prstGeom>
          <a:ln w="0">
            <a:noFill/>
          </a:ln>
        </p:spPr>
      </p:pic>
      <p:sp>
        <p:nvSpPr>
          <p:cNvPr id="2060" name="object 63"/>
          <p:cNvSpPr/>
          <p:nvPr/>
        </p:nvSpPr>
        <p:spPr>
          <a:xfrm>
            <a:off x="497520" y="5075640"/>
            <a:ext cx="5370480" cy="64476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6480" bIns="0" anchor="t">
            <a:spAutoFit/>
          </a:bodyPr>
          <a:p>
            <a:pPr marL="90000">
              <a:lnSpc>
                <a:spcPct val="100000"/>
              </a:lnSpc>
              <a:spcBef>
                <a:spcPts val="760"/>
              </a:spcBef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астет</a:t>
            </a:r>
            <a:r>
              <a:rPr b="0" lang="en-US" sz="18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локализация</a:t>
            </a:r>
            <a:r>
              <a:rPr b="0" lang="en-US" sz="18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производства</a:t>
            </a:r>
            <a:r>
              <a:rPr b="0" lang="en-US" sz="18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композиц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материалов,</a:t>
            </a:r>
            <a:r>
              <a:rPr b="0" lang="en-US" sz="1800" spc="-5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используемых</a:t>
            </a:r>
            <a:r>
              <a:rPr b="0" lang="en-US" sz="18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8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автопро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15800" y="78480"/>
            <a:ext cx="735012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Оборудование</a:t>
            </a:r>
            <a:r>
              <a:rPr b="0" lang="en-US" sz="2400" spc="-5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ереработки.</a:t>
            </a:r>
            <a:r>
              <a:rPr b="0" lang="en-US" sz="2400" spc="-46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Экструдер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ldNum" idx="22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493C7350-F56B-4C39-A275-9B686D18AB1C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object 3"/>
          <p:cNvGrpSpPr/>
          <p:nvPr/>
        </p:nvGrpSpPr>
        <p:grpSpPr>
          <a:xfrm>
            <a:off x="1101960" y="1338120"/>
            <a:ext cx="3243240" cy="2028600"/>
            <a:chOff x="1101960" y="1338120"/>
            <a:chExt cx="3243240" cy="2028600"/>
          </a:xfrm>
        </p:grpSpPr>
        <p:sp>
          <p:nvSpPr>
            <p:cNvPr id="2064" name="object 4"/>
            <p:cNvSpPr/>
            <p:nvPr/>
          </p:nvSpPr>
          <p:spPr>
            <a:xfrm>
              <a:off x="1141560" y="2331720"/>
              <a:ext cx="1388520" cy="79524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1388745" h="795655">
                  <a:moveTo>
                    <a:pt x="0" y="795527"/>
                  </a:moveTo>
                  <a:lnTo>
                    <a:pt x="320040" y="795527"/>
                  </a:lnTo>
                </a:path>
                <a:path w="1388745" h="795655">
                  <a:moveTo>
                    <a:pt x="748284" y="795527"/>
                  </a:moveTo>
                  <a:lnTo>
                    <a:pt x="1388364" y="795527"/>
                  </a:lnTo>
                </a:path>
                <a:path w="1388745" h="795655">
                  <a:moveTo>
                    <a:pt x="0" y="597407"/>
                  </a:moveTo>
                  <a:lnTo>
                    <a:pt x="320040" y="597407"/>
                  </a:lnTo>
                </a:path>
                <a:path w="1388745" h="795655">
                  <a:moveTo>
                    <a:pt x="748284" y="597407"/>
                  </a:moveTo>
                  <a:lnTo>
                    <a:pt x="1388364" y="597407"/>
                  </a:lnTo>
                </a:path>
                <a:path w="1388745" h="795655">
                  <a:moveTo>
                    <a:pt x="0" y="397763"/>
                  </a:moveTo>
                  <a:lnTo>
                    <a:pt x="320040" y="397763"/>
                  </a:lnTo>
                </a:path>
                <a:path w="1388745" h="795655">
                  <a:moveTo>
                    <a:pt x="748284" y="397763"/>
                  </a:moveTo>
                  <a:lnTo>
                    <a:pt x="1388364" y="397763"/>
                  </a:lnTo>
                </a:path>
                <a:path w="1388745" h="795655">
                  <a:moveTo>
                    <a:pt x="0" y="199643"/>
                  </a:moveTo>
                  <a:lnTo>
                    <a:pt x="320040" y="199643"/>
                  </a:lnTo>
                </a:path>
                <a:path w="1388745" h="795655">
                  <a:moveTo>
                    <a:pt x="748284" y="199643"/>
                  </a:moveTo>
                  <a:lnTo>
                    <a:pt x="1388364" y="199643"/>
                  </a:lnTo>
                </a:path>
                <a:path w="1388745" h="795655">
                  <a:moveTo>
                    <a:pt x="0" y="0"/>
                  </a:moveTo>
                  <a:lnTo>
                    <a:pt x="3200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object 5"/>
            <p:cNvSpPr/>
            <p:nvPr/>
          </p:nvSpPr>
          <p:spPr>
            <a:xfrm>
              <a:off x="1889640" y="2327760"/>
              <a:ext cx="1708560" cy="4680"/>
            </a:xfrm>
            <a:custGeom>
              <a:avLst/>
              <a:gdLst>
                <a:gd name="textAreaLeft" fmla="*/ 0 w 1708560"/>
                <a:gd name="textAreaRight" fmla="*/ 1708920 w 1708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08785" h="5080">
                  <a:moveTo>
                    <a:pt x="0" y="4572"/>
                  </a:moveTo>
                  <a:lnTo>
                    <a:pt x="1708403" y="4572"/>
                  </a:lnTo>
                </a:path>
                <a:path w="1708785" h="5080">
                  <a:moveTo>
                    <a:pt x="0" y="0"/>
                  </a:moveTo>
                  <a:lnTo>
                    <a:pt x="1708403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bject 6"/>
            <p:cNvSpPr/>
            <p:nvPr/>
          </p:nvSpPr>
          <p:spPr>
            <a:xfrm>
              <a:off x="1461600" y="2346840"/>
              <a:ext cx="428400" cy="9799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428625" h="980439">
                  <a:moveTo>
                    <a:pt x="428244" y="0"/>
                  </a:moveTo>
                  <a:lnTo>
                    <a:pt x="0" y="0"/>
                  </a:lnTo>
                  <a:lnTo>
                    <a:pt x="0" y="979931"/>
                  </a:lnTo>
                  <a:lnTo>
                    <a:pt x="428244" y="979931"/>
                  </a:lnTo>
                  <a:lnTo>
                    <a:pt x="42824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bject 7"/>
            <p:cNvSpPr/>
            <p:nvPr/>
          </p:nvSpPr>
          <p:spPr>
            <a:xfrm>
              <a:off x="2956680" y="2928960"/>
              <a:ext cx="641520" cy="19764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641985" h="198119">
                  <a:moveTo>
                    <a:pt x="0" y="198120"/>
                  </a:moveTo>
                  <a:lnTo>
                    <a:pt x="641603" y="198120"/>
                  </a:lnTo>
                </a:path>
                <a:path w="641985" h="198119">
                  <a:moveTo>
                    <a:pt x="0" y="0"/>
                  </a:moveTo>
                  <a:lnTo>
                    <a:pt x="64160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bject 8"/>
            <p:cNvSpPr/>
            <p:nvPr/>
          </p:nvSpPr>
          <p:spPr>
            <a:xfrm>
              <a:off x="2529720" y="2846880"/>
              <a:ext cx="426240" cy="47952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426719" h="480060">
                  <a:moveTo>
                    <a:pt x="426720" y="0"/>
                  </a:moveTo>
                  <a:lnTo>
                    <a:pt x="0" y="0"/>
                  </a:lnTo>
                  <a:lnTo>
                    <a:pt x="0" y="480059"/>
                  </a:lnTo>
                  <a:lnTo>
                    <a:pt x="426720" y="480059"/>
                  </a:lnTo>
                  <a:lnTo>
                    <a:pt x="42672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bject 9"/>
            <p:cNvSpPr/>
            <p:nvPr/>
          </p:nvSpPr>
          <p:spPr>
            <a:xfrm>
              <a:off x="2956680" y="2729520"/>
              <a:ext cx="1388520" cy="39780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388745" h="398144">
                  <a:moveTo>
                    <a:pt x="1068324" y="397763"/>
                  </a:moveTo>
                  <a:lnTo>
                    <a:pt x="1388364" y="397763"/>
                  </a:lnTo>
                </a:path>
                <a:path w="1388745" h="398144">
                  <a:moveTo>
                    <a:pt x="1068324" y="199643"/>
                  </a:moveTo>
                  <a:lnTo>
                    <a:pt x="1388364" y="199643"/>
                  </a:lnTo>
                </a:path>
                <a:path w="1388745" h="398144">
                  <a:moveTo>
                    <a:pt x="0" y="0"/>
                  </a:moveTo>
                  <a:lnTo>
                    <a:pt x="641603" y="0"/>
                  </a:lnTo>
                </a:path>
                <a:path w="1388745" h="398144">
                  <a:moveTo>
                    <a:pt x="1068324" y="0"/>
                  </a:moveTo>
                  <a:lnTo>
                    <a:pt x="13883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bject 10"/>
            <p:cNvSpPr/>
            <p:nvPr/>
          </p:nvSpPr>
          <p:spPr>
            <a:xfrm>
              <a:off x="3598200" y="2721960"/>
              <a:ext cx="426240" cy="6048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6720" h="605154">
                  <a:moveTo>
                    <a:pt x="426720" y="0"/>
                  </a:moveTo>
                  <a:lnTo>
                    <a:pt x="0" y="0"/>
                  </a:lnTo>
                  <a:lnTo>
                    <a:pt x="0" y="605027"/>
                  </a:lnTo>
                  <a:lnTo>
                    <a:pt x="426720" y="605027"/>
                  </a:lnTo>
                  <a:lnTo>
                    <a:pt x="42672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object 11"/>
            <p:cNvSpPr/>
            <p:nvPr/>
          </p:nvSpPr>
          <p:spPr>
            <a:xfrm>
              <a:off x="1461600" y="2203560"/>
              <a:ext cx="1495080" cy="642960"/>
            </a:xfrm>
            <a:custGeom>
              <a:avLst/>
              <a:gdLst>
                <a:gd name="textAreaLeft" fmla="*/ 0 w 1495080"/>
                <a:gd name="textAreaRight" fmla="*/ 1495440 w 149508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1495425" h="643255">
                  <a:moveTo>
                    <a:pt x="428244" y="0"/>
                  </a:moveTo>
                  <a:lnTo>
                    <a:pt x="0" y="0"/>
                  </a:lnTo>
                  <a:lnTo>
                    <a:pt x="0" y="143256"/>
                  </a:lnTo>
                  <a:lnTo>
                    <a:pt x="428244" y="143256"/>
                  </a:lnTo>
                  <a:lnTo>
                    <a:pt x="428244" y="0"/>
                  </a:lnTo>
                  <a:close/>
                </a:path>
                <a:path w="1495425" h="643255">
                  <a:moveTo>
                    <a:pt x="1495044" y="505968"/>
                  </a:moveTo>
                  <a:lnTo>
                    <a:pt x="1068324" y="505968"/>
                  </a:lnTo>
                  <a:lnTo>
                    <a:pt x="1068324" y="643128"/>
                  </a:lnTo>
                  <a:lnTo>
                    <a:pt x="1495044" y="643128"/>
                  </a:lnTo>
                  <a:lnTo>
                    <a:pt x="1495044" y="50596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bject 12"/>
            <p:cNvSpPr/>
            <p:nvPr/>
          </p:nvSpPr>
          <p:spPr>
            <a:xfrm>
              <a:off x="2956680" y="2531520"/>
              <a:ext cx="1388520" cy="36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88745" h="0">
                  <a:moveTo>
                    <a:pt x="0" y="0"/>
                  </a:moveTo>
                  <a:lnTo>
                    <a:pt x="641603" y="0"/>
                  </a:lnTo>
                </a:path>
                <a:path w="1388745" h="0">
                  <a:moveTo>
                    <a:pt x="1068324" y="0"/>
                  </a:moveTo>
                  <a:lnTo>
                    <a:pt x="13883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object 13"/>
            <p:cNvSpPr/>
            <p:nvPr/>
          </p:nvSpPr>
          <p:spPr>
            <a:xfrm>
              <a:off x="3598200" y="2571120"/>
              <a:ext cx="426240" cy="15084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426720" h="151130">
                  <a:moveTo>
                    <a:pt x="426720" y="0"/>
                  </a:moveTo>
                  <a:lnTo>
                    <a:pt x="0" y="0"/>
                  </a:lnTo>
                  <a:lnTo>
                    <a:pt x="0" y="150875"/>
                  </a:lnTo>
                  <a:lnTo>
                    <a:pt x="426720" y="150875"/>
                  </a:lnTo>
                  <a:lnTo>
                    <a:pt x="42672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bject 14"/>
            <p:cNvSpPr/>
            <p:nvPr/>
          </p:nvSpPr>
          <p:spPr>
            <a:xfrm>
              <a:off x="1141560" y="2133720"/>
              <a:ext cx="3203280" cy="360"/>
            </a:xfrm>
            <a:custGeom>
              <a:avLst/>
              <a:gdLst>
                <a:gd name="textAreaLeft" fmla="*/ 0 w 3203280"/>
                <a:gd name="textAreaRight" fmla="*/ 3203640 w 3203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03575" h="0">
                  <a:moveTo>
                    <a:pt x="0" y="0"/>
                  </a:moveTo>
                  <a:lnTo>
                    <a:pt x="320040" y="0"/>
                  </a:lnTo>
                </a:path>
                <a:path w="3203575" h="0">
                  <a:moveTo>
                    <a:pt x="748284" y="0"/>
                  </a:moveTo>
                  <a:lnTo>
                    <a:pt x="32034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object 15"/>
            <p:cNvSpPr/>
            <p:nvPr/>
          </p:nvSpPr>
          <p:spPr>
            <a:xfrm>
              <a:off x="1461600" y="2154960"/>
              <a:ext cx="2563200" cy="55476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2563495" h="554989">
                  <a:moveTo>
                    <a:pt x="428244" y="0"/>
                  </a:moveTo>
                  <a:lnTo>
                    <a:pt x="0" y="0"/>
                  </a:lnTo>
                  <a:lnTo>
                    <a:pt x="0" y="48768"/>
                  </a:lnTo>
                  <a:lnTo>
                    <a:pt x="428244" y="48768"/>
                  </a:lnTo>
                  <a:lnTo>
                    <a:pt x="428244" y="0"/>
                  </a:lnTo>
                  <a:close/>
                </a:path>
                <a:path w="2563495" h="554989">
                  <a:moveTo>
                    <a:pt x="1495044" y="521208"/>
                  </a:moveTo>
                  <a:lnTo>
                    <a:pt x="1068324" y="521208"/>
                  </a:lnTo>
                  <a:lnTo>
                    <a:pt x="1068324" y="554736"/>
                  </a:lnTo>
                  <a:lnTo>
                    <a:pt x="1495044" y="554736"/>
                  </a:lnTo>
                  <a:lnTo>
                    <a:pt x="1495044" y="521208"/>
                  </a:lnTo>
                  <a:close/>
                </a:path>
                <a:path w="2563495" h="554989">
                  <a:moveTo>
                    <a:pt x="2563368" y="362712"/>
                  </a:moveTo>
                  <a:lnTo>
                    <a:pt x="2136648" y="362712"/>
                  </a:lnTo>
                  <a:lnTo>
                    <a:pt x="2136648" y="416052"/>
                  </a:lnTo>
                  <a:lnTo>
                    <a:pt x="2563368" y="416052"/>
                  </a:lnTo>
                  <a:lnTo>
                    <a:pt x="2563368" y="362712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object 16"/>
            <p:cNvSpPr/>
            <p:nvPr/>
          </p:nvSpPr>
          <p:spPr>
            <a:xfrm>
              <a:off x="1141560" y="1735920"/>
              <a:ext cx="3203280" cy="197640"/>
            </a:xfrm>
            <a:custGeom>
              <a:avLst/>
              <a:gdLst>
                <a:gd name="textAreaLeft" fmla="*/ 0 w 3203280"/>
                <a:gd name="textAreaRight" fmla="*/ 3203640 w 320328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3203575" h="198119">
                  <a:moveTo>
                    <a:pt x="0" y="198119"/>
                  </a:moveTo>
                  <a:lnTo>
                    <a:pt x="320040" y="198119"/>
                  </a:lnTo>
                </a:path>
                <a:path w="3203575" h="198119">
                  <a:moveTo>
                    <a:pt x="748284" y="198119"/>
                  </a:moveTo>
                  <a:lnTo>
                    <a:pt x="3203448" y="198119"/>
                  </a:lnTo>
                </a:path>
                <a:path w="3203575" h="198119">
                  <a:moveTo>
                    <a:pt x="0" y="0"/>
                  </a:moveTo>
                  <a:lnTo>
                    <a:pt x="320040" y="0"/>
                  </a:lnTo>
                </a:path>
                <a:path w="3203575" h="198119">
                  <a:moveTo>
                    <a:pt x="748284" y="0"/>
                  </a:moveTo>
                  <a:lnTo>
                    <a:pt x="32034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object 17"/>
            <p:cNvSpPr/>
            <p:nvPr/>
          </p:nvSpPr>
          <p:spPr>
            <a:xfrm>
              <a:off x="1141560" y="1536120"/>
              <a:ext cx="3203280" cy="360"/>
            </a:xfrm>
            <a:custGeom>
              <a:avLst/>
              <a:gdLst>
                <a:gd name="textAreaLeft" fmla="*/ 0 w 3203280"/>
                <a:gd name="textAreaRight" fmla="*/ 3203640 w 3203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03575" h="0">
                  <a:moveTo>
                    <a:pt x="0" y="0"/>
                  </a:moveTo>
                  <a:lnTo>
                    <a:pt x="32034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object 18"/>
            <p:cNvSpPr/>
            <p:nvPr/>
          </p:nvSpPr>
          <p:spPr>
            <a:xfrm>
              <a:off x="1461600" y="1540800"/>
              <a:ext cx="1495080" cy="1135080"/>
            </a:xfrm>
            <a:custGeom>
              <a:avLst/>
              <a:gdLst>
                <a:gd name="textAreaLeft" fmla="*/ 0 w 1495080"/>
                <a:gd name="textAreaRight" fmla="*/ 1495440 w 14950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1495425" h="1135380">
                  <a:moveTo>
                    <a:pt x="428244" y="0"/>
                  </a:moveTo>
                  <a:lnTo>
                    <a:pt x="0" y="0"/>
                  </a:lnTo>
                  <a:lnTo>
                    <a:pt x="0" y="614172"/>
                  </a:lnTo>
                  <a:lnTo>
                    <a:pt x="428244" y="614172"/>
                  </a:lnTo>
                  <a:lnTo>
                    <a:pt x="428244" y="0"/>
                  </a:lnTo>
                  <a:close/>
                </a:path>
                <a:path w="1495425" h="1135380">
                  <a:moveTo>
                    <a:pt x="1495044" y="787908"/>
                  </a:moveTo>
                  <a:lnTo>
                    <a:pt x="1068324" y="787908"/>
                  </a:lnTo>
                  <a:lnTo>
                    <a:pt x="1068324" y="1135380"/>
                  </a:lnTo>
                  <a:lnTo>
                    <a:pt x="1495044" y="1135380"/>
                  </a:lnTo>
                  <a:lnTo>
                    <a:pt x="1495044" y="787908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object 19"/>
            <p:cNvSpPr/>
            <p:nvPr/>
          </p:nvSpPr>
          <p:spPr>
            <a:xfrm>
              <a:off x="4024800" y="2327760"/>
              <a:ext cx="319680" cy="46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0039" h="5080">
                  <a:moveTo>
                    <a:pt x="0" y="4572"/>
                  </a:moveTo>
                  <a:lnTo>
                    <a:pt x="320039" y="4572"/>
                  </a:lnTo>
                </a:path>
                <a:path w="320039" h="5080">
                  <a:moveTo>
                    <a:pt x="0" y="0"/>
                  </a:moveTo>
                  <a:lnTo>
                    <a:pt x="320039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object 20"/>
            <p:cNvSpPr/>
            <p:nvPr/>
          </p:nvSpPr>
          <p:spPr>
            <a:xfrm>
              <a:off x="3598200" y="2205360"/>
              <a:ext cx="426240" cy="31212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26720" h="312419">
                  <a:moveTo>
                    <a:pt x="426720" y="0"/>
                  </a:moveTo>
                  <a:lnTo>
                    <a:pt x="0" y="0"/>
                  </a:lnTo>
                  <a:lnTo>
                    <a:pt x="0" y="312420"/>
                  </a:lnTo>
                  <a:lnTo>
                    <a:pt x="426720" y="312420"/>
                  </a:lnTo>
                  <a:lnTo>
                    <a:pt x="42672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object 21"/>
            <p:cNvSpPr/>
            <p:nvPr/>
          </p:nvSpPr>
          <p:spPr>
            <a:xfrm>
              <a:off x="1461600" y="1527120"/>
              <a:ext cx="1495080" cy="801720"/>
            </a:xfrm>
            <a:custGeom>
              <a:avLst/>
              <a:gdLst>
                <a:gd name="textAreaLeft" fmla="*/ 0 w 1495080"/>
                <a:gd name="textAreaRight" fmla="*/ 1495440 w 1495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95425" h="802005">
                  <a:moveTo>
                    <a:pt x="428244" y="0"/>
                  </a:moveTo>
                  <a:lnTo>
                    <a:pt x="0" y="0"/>
                  </a:lnTo>
                  <a:lnTo>
                    <a:pt x="0" y="13716"/>
                  </a:lnTo>
                  <a:lnTo>
                    <a:pt x="428244" y="13716"/>
                  </a:lnTo>
                  <a:lnTo>
                    <a:pt x="428244" y="0"/>
                  </a:lnTo>
                  <a:close/>
                </a:path>
                <a:path w="1495425" h="802005">
                  <a:moveTo>
                    <a:pt x="1495044" y="794004"/>
                  </a:moveTo>
                  <a:lnTo>
                    <a:pt x="1068324" y="794004"/>
                  </a:lnTo>
                  <a:lnTo>
                    <a:pt x="1068324" y="801624"/>
                  </a:lnTo>
                  <a:lnTo>
                    <a:pt x="1495044" y="801624"/>
                  </a:lnTo>
                  <a:lnTo>
                    <a:pt x="1495044" y="794004"/>
                  </a:lnTo>
                  <a:close/>
                </a:path>
              </a:pathLst>
            </a:custGeom>
            <a:solidFill>
              <a:srgbClr val="4aa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object 22"/>
            <p:cNvSpPr/>
            <p:nvPr/>
          </p:nvSpPr>
          <p:spPr>
            <a:xfrm>
              <a:off x="1101960" y="1338120"/>
              <a:ext cx="3243240" cy="2028600"/>
            </a:xfrm>
            <a:custGeom>
              <a:avLst/>
              <a:gdLst>
                <a:gd name="textAreaLeft" fmla="*/ 0 w 3243240"/>
                <a:gd name="textAreaRight" fmla="*/ 3243600 w 3243240"/>
                <a:gd name="textAreaTop" fmla="*/ 0 h 2028600"/>
                <a:gd name="textAreaBottom" fmla="*/ 2028960 h 2028600"/>
              </a:gdLst>
              <a:ahLst/>
              <a:rect l="textAreaLeft" t="textAreaTop" r="textAreaRight" b="textAreaBottom"/>
              <a:pathLst>
                <a:path w="3243579" h="2028825">
                  <a:moveTo>
                    <a:pt x="39623" y="0"/>
                  </a:moveTo>
                  <a:lnTo>
                    <a:pt x="3243072" y="0"/>
                  </a:lnTo>
                </a:path>
                <a:path w="3243579" h="2028825">
                  <a:moveTo>
                    <a:pt x="39623" y="1988819"/>
                  </a:moveTo>
                  <a:lnTo>
                    <a:pt x="39623" y="0"/>
                  </a:lnTo>
                </a:path>
                <a:path w="3243579" h="2028825">
                  <a:moveTo>
                    <a:pt x="0" y="1988819"/>
                  </a:moveTo>
                  <a:lnTo>
                    <a:pt x="39623" y="1988819"/>
                  </a:lnTo>
                </a:path>
                <a:path w="3243579" h="2028825">
                  <a:moveTo>
                    <a:pt x="0" y="1789176"/>
                  </a:moveTo>
                  <a:lnTo>
                    <a:pt x="39623" y="1789176"/>
                  </a:lnTo>
                </a:path>
                <a:path w="3243579" h="2028825">
                  <a:moveTo>
                    <a:pt x="0" y="1591055"/>
                  </a:moveTo>
                  <a:lnTo>
                    <a:pt x="39623" y="1591055"/>
                  </a:lnTo>
                </a:path>
                <a:path w="3243579" h="2028825">
                  <a:moveTo>
                    <a:pt x="0" y="1391412"/>
                  </a:moveTo>
                  <a:lnTo>
                    <a:pt x="39623" y="1391412"/>
                  </a:lnTo>
                </a:path>
                <a:path w="3243579" h="2028825">
                  <a:moveTo>
                    <a:pt x="0" y="1193291"/>
                  </a:moveTo>
                  <a:lnTo>
                    <a:pt x="39623" y="1193291"/>
                  </a:lnTo>
                </a:path>
                <a:path w="3243579" h="2028825">
                  <a:moveTo>
                    <a:pt x="0" y="993648"/>
                  </a:moveTo>
                  <a:lnTo>
                    <a:pt x="39623" y="993648"/>
                  </a:lnTo>
                </a:path>
                <a:path w="3243579" h="2028825">
                  <a:moveTo>
                    <a:pt x="0" y="795527"/>
                  </a:moveTo>
                  <a:lnTo>
                    <a:pt x="39623" y="795527"/>
                  </a:lnTo>
                </a:path>
                <a:path w="3243579" h="2028825">
                  <a:moveTo>
                    <a:pt x="0" y="595883"/>
                  </a:moveTo>
                  <a:lnTo>
                    <a:pt x="39623" y="595883"/>
                  </a:lnTo>
                </a:path>
                <a:path w="3243579" h="2028825">
                  <a:moveTo>
                    <a:pt x="0" y="397763"/>
                  </a:moveTo>
                  <a:lnTo>
                    <a:pt x="39623" y="397763"/>
                  </a:lnTo>
                </a:path>
                <a:path w="3243579" h="2028825">
                  <a:moveTo>
                    <a:pt x="0" y="198119"/>
                  </a:moveTo>
                  <a:lnTo>
                    <a:pt x="39623" y="198119"/>
                  </a:lnTo>
                </a:path>
                <a:path w="3243579" h="2028825">
                  <a:moveTo>
                    <a:pt x="0" y="0"/>
                  </a:moveTo>
                  <a:lnTo>
                    <a:pt x="39623" y="0"/>
                  </a:lnTo>
                </a:path>
                <a:path w="3243579" h="2028825">
                  <a:moveTo>
                    <a:pt x="39623" y="1988819"/>
                  </a:moveTo>
                  <a:lnTo>
                    <a:pt x="3243072" y="1988819"/>
                  </a:lnTo>
                </a:path>
                <a:path w="3243579" h="2028825">
                  <a:moveTo>
                    <a:pt x="39623" y="1988819"/>
                  </a:moveTo>
                  <a:lnTo>
                    <a:pt x="39623" y="2028443"/>
                  </a:lnTo>
                </a:path>
                <a:path w="3243579" h="2028825">
                  <a:moveTo>
                    <a:pt x="1107948" y="1988819"/>
                  </a:moveTo>
                  <a:lnTo>
                    <a:pt x="1107948" y="2028443"/>
                  </a:lnTo>
                </a:path>
                <a:path w="3243579" h="2028825">
                  <a:moveTo>
                    <a:pt x="2176272" y="1988819"/>
                  </a:moveTo>
                  <a:lnTo>
                    <a:pt x="2176272" y="2028443"/>
                  </a:lnTo>
                </a:path>
                <a:path w="3243579" h="2028825">
                  <a:moveTo>
                    <a:pt x="3243072" y="1988819"/>
                  </a:moveTo>
                  <a:lnTo>
                    <a:pt x="3243072" y="2028443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object 23"/>
          <p:cNvSpPr/>
          <p:nvPr/>
        </p:nvSpPr>
        <p:spPr>
          <a:xfrm>
            <a:off x="1566720" y="27410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object 24"/>
          <p:cNvSpPr/>
          <p:nvPr/>
        </p:nvSpPr>
        <p:spPr>
          <a:xfrm>
            <a:off x="2634840" y="2991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object 25"/>
          <p:cNvSpPr/>
          <p:nvPr/>
        </p:nvSpPr>
        <p:spPr>
          <a:xfrm>
            <a:off x="3702960" y="2928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bject 26"/>
          <p:cNvSpPr/>
          <p:nvPr/>
        </p:nvSpPr>
        <p:spPr>
          <a:xfrm>
            <a:off x="1598760" y="2178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object 27"/>
          <p:cNvSpPr/>
          <p:nvPr/>
        </p:nvSpPr>
        <p:spPr>
          <a:xfrm>
            <a:off x="2666880" y="26830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object 28"/>
          <p:cNvSpPr/>
          <p:nvPr/>
        </p:nvSpPr>
        <p:spPr>
          <a:xfrm>
            <a:off x="3735000" y="25509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object 29"/>
          <p:cNvSpPr/>
          <p:nvPr/>
        </p:nvSpPr>
        <p:spPr>
          <a:xfrm>
            <a:off x="1566720" y="17521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object 30"/>
          <p:cNvSpPr/>
          <p:nvPr/>
        </p:nvSpPr>
        <p:spPr>
          <a:xfrm>
            <a:off x="2634840" y="2406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object 31"/>
          <p:cNvSpPr/>
          <p:nvPr/>
        </p:nvSpPr>
        <p:spPr>
          <a:xfrm>
            <a:off x="3702960" y="2265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bject 32"/>
          <p:cNvSpPr/>
          <p:nvPr/>
        </p:nvSpPr>
        <p:spPr>
          <a:xfrm>
            <a:off x="753480" y="1187640"/>
            <a:ext cx="28332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040" bIns="0" anchor="t">
            <a:spAutoFit/>
          </a:bodyPr>
          <a:p>
            <a:pPr algn="r">
              <a:lnSpc>
                <a:spcPct val="100000"/>
              </a:lnSpc>
              <a:spcBef>
                <a:spcPts val="465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object 33"/>
          <p:cNvSpPr/>
          <p:nvPr/>
        </p:nvSpPr>
        <p:spPr>
          <a:xfrm>
            <a:off x="4549320" y="19263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4aa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object 34"/>
          <p:cNvSpPr/>
          <p:nvPr/>
        </p:nvSpPr>
        <p:spPr>
          <a:xfrm>
            <a:off x="4549320" y="215640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bject 35"/>
          <p:cNvSpPr/>
          <p:nvPr/>
        </p:nvSpPr>
        <p:spPr>
          <a:xfrm>
            <a:off x="4549320" y="23864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80">
                <a:moveTo>
                  <a:pt x="68579" y="0"/>
                </a:moveTo>
                <a:lnTo>
                  <a:pt x="0" y="0"/>
                </a:lnTo>
                <a:lnTo>
                  <a:pt x="0" y="68579"/>
                </a:lnTo>
                <a:lnTo>
                  <a:pt x="68579" y="68579"/>
                </a:lnTo>
                <a:lnTo>
                  <a:pt x="68579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object 36"/>
          <p:cNvSpPr/>
          <p:nvPr/>
        </p:nvSpPr>
        <p:spPr>
          <a:xfrm>
            <a:off x="4549320" y="261504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object 37"/>
          <p:cNvSpPr/>
          <p:nvPr/>
        </p:nvSpPr>
        <p:spPr>
          <a:xfrm>
            <a:off x="4549320" y="284544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object 38"/>
          <p:cNvSpPr/>
          <p:nvPr/>
        </p:nvSpPr>
        <p:spPr>
          <a:xfrm>
            <a:off x="4636440" y="1780560"/>
            <a:ext cx="32220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ПЭТФ 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ВХ П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П П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object 39"/>
          <p:cNvSpPr/>
          <p:nvPr/>
        </p:nvSpPr>
        <p:spPr>
          <a:xfrm>
            <a:off x="2923200" y="193536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object 40"/>
          <p:cNvSpPr/>
          <p:nvPr/>
        </p:nvSpPr>
        <p:spPr>
          <a:xfrm>
            <a:off x="3560040" y="1862640"/>
            <a:ext cx="87732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491400"/>
              </a:tabLst>
            </a:pPr>
            <a:r>
              <a:rPr b="0" lang="en-US" sz="2700" spc="-1" strike="noStrike" u="sng" baseline="-16000">
                <a:solidFill>
                  <a:srgbClr val="000000"/>
                </a:solidFill>
                <a:uFill>
                  <a:solidFill>
                    <a:srgbClr val="4aacc5"/>
                  </a:solidFill>
                </a:uFill>
                <a:latin typeface="Calibri"/>
              </a:rPr>
              <a:t>	</a:t>
            </a: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5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object 41"/>
          <p:cNvGrpSpPr/>
          <p:nvPr/>
        </p:nvGrpSpPr>
        <p:grpSpPr>
          <a:xfrm>
            <a:off x="1101960" y="4146840"/>
            <a:ext cx="3043440" cy="2028600"/>
            <a:chOff x="1101960" y="4146840"/>
            <a:chExt cx="3043440" cy="2028600"/>
          </a:xfrm>
        </p:grpSpPr>
        <p:sp>
          <p:nvSpPr>
            <p:cNvPr id="2102" name="object 42"/>
            <p:cNvSpPr/>
            <p:nvPr/>
          </p:nvSpPr>
          <p:spPr>
            <a:xfrm>
              <a:off x="1141560" y="5340240"/>
              <a:ext cx="2302920" cy="59580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2303145" h="596264">
                  <a:moveTo>
                    <a:pt x="0" y="595883"/>
                  </a:moveTo>
                  <a:lnTo>
                    <a:pt x="300228" y="595883"/>
                  </a:lnTo>
                </a:path>
                <a:path w="2303145" h="596264">
                  <a:moveTo>
                    <a:pt x="701040" y="595883"/>
                  </a:moveTo>
                  <a:lnTo>
                    <a:pt x="1301496" y="595883"/>
                  </a:lnTo>
                </a:path>
                <a:path w="2303145" h="596264">
                  <a:moveTo>
                    <a:pt x="0" y="397763"/>
                  </a:moveTo>
                  <a:lnTo>
                    <a:pt x="300228" y="397763"/>
                  </a:lnTo>
                </a:path>
                <a:path w="2303145" h="596264">
                  <a:moveTo>
                    <a:pt x="701040" y="397763"/>
                  </a:moveTo>
                  <a:lnTo>
                    <a:pt x="1301496" y="397763"/>
                  </a:lnTo>
                </a:path>
                <a:path w="2303145" h="596264">
                  <a:moveTo>
                    <a:pt x="0" y="198119"/>
                  </a:moveTo>
                  <a:lnTo>
                    <a:pt x="300228" y="198119"/>
                  </a:lnTo>
                </a:path>
                <a:path w="2303145" h="596264">
                  <a:moveTo>
                    <a:pt x="701040" y="198119"/>
                  </a:moveTo>
                  <a:lnTo>
                    <a:pt x="1301496" y="198119"/>
                  </a:lnTo>
                </a:path>
                <a:path w="2303145" h="596264">
                  <a:moveTo>
                    <a:pt x="0" y="0"/>
                  </a:moveTo>
                  <a:lnTo>
                    <a:pt x="300228" y="0"/>
                  </a:lnTo>
                </a:path>
                <a:path w="2303145" h="596264">
                  <a:moveTo>
                    <a:pt x="701040" y="0"/>
                  </a:moveTo>
                  <a:lnTo>
                    <a:pt x="230276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bject 43"/>
            <p:cNvSpPr/>
            <p:nvPr/>
          </p:nvSpPr>
          <p:spPr>
            <a:xfrm>
              <a:off x="1441800" y="6115680"/>
              <a:ext cx="401040" cy="198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01319" h="20320">
                  <a:moveTo>
                    <a:pt x="400812" y="0"/>
                  </a:moveTo>
                  <a:lnTo>
                    <a:pt x="0" y="0"/>
                  </a:lnTo>
                  <a:lnTo>
                    <a:pt x="0" y="19811"/>
                  </a:lnTo>
                  <a:lnTo>
                    <a:pt x="400812" y="19811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457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bject 44"/>
            <p:cNvSpPr/>
            <p:nvPr/>
          </p:nvSpPr>
          <p:spPr>
            <a:xfrm>
              <a:off x="1441800" y="6106680"/>
              <a:ext cx="401040" cy="90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1319" h="9525">
                  <a:moveTo>
                    <a:pt x="400812" y="0"/>
                  </a:moveTo>
                  <a:lnTo>
                    <a:pt x="0" y="0"/>
                  </a:lnTo>
                  <a:lnTo>
                    <a:pt x="0" y="9143"/>
                  </a:lnTo>
                  <a:lnTo>
                    <a:pt x="400812" y="9143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aa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bject 45"/>
            <p:cNvSpPr/>
            <p:nvPr/>
          </p:nvSpPr>
          <p:spPr>
            <a:xfrm>
              <a:off x="1441800" y="6050160"/>
              <a:ext cx="401040" cy="5616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401319" h="56514">
                  <a:moveTo>
                    <a:pt x="400812" y="0"/>
                  </a:moveTo>
                  <a:lnTo>
                    <a:pt x="0" y="0"/>
                  </a:lnTo>
                  <a:lnTo>
                    <a:pt x="0" y="56388"/>
                  </a:lnTo>
                  <a:lnTo>
                    <a:pt x="400812" y="56388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object 46"/>
            <p:cNvSpPr/>
            <p:nvPr/>
          </p:nvSpPr>
          <p:spPr>
            <a:xfrm>
              <a:off x="1441800" y="6041160"/>
              <a:ext cx="401040" cy="90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1319" h="9525">
                  <a:moveTo>
                    <a:pt x="400812" y="0"/>
                  </a:moveTo>
                  <a:lnTo>
                    <a:pt x="0" y="0"/>
                  </a:lnTo>
                  <a:lnTo>
                    <a:pt x="0" y="9143"/>
                  </a:lnTo>
                  <a:lnTo>
                    <a:pt x="400812" y="9143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object 47"/>
            <p:cNvSpPr/>
            <p:nvPr/>
          </p:nvSpPr>
          <p:spPr>
            <a:xfrm>
              <a:off x="1441800" y="5388840"/>
              <a:ext cx="401040" cy="6523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401319" h="652779">
                  <a:moveTo>
                    <a:pt x="400812" y="0"/>
                  </a:moveTo>
                  <a:lnTo>
                    <a:pt x="0" y="0"/>
                  </a:lnTo>
                  <a:lnTo>
                    <a:pt x="0" y="652272"/>
                  </a:lnTo>
                  <a:lnTo>
                    <a:pt x="400812" y="652272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object 48"/>
            <p:cNvSpPr/>
            <p:nvPr/>
          </p:nvSpPr>
          <p:spPr>
            <a:xfrm>
              <a:off x="2843640" y="5738040"/>
              <a:ext cx="600480" cy="197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600710" h="198120">
                  <a:moveTo>
                    <a:pt x="0" y="198119"/>
                  </a:moveTo>
                  <a:lnTo>
                    <a:pt x="600456" y="198119"/>
                  </a:lnTo>
                </a:path>
                <a:path w="600710" h="198120">
                  <a:moveTo>
                    <a:pt x="0" y="0"/>
                  </a:moveTo>
                  <a:lnTo>
                    <a:pt x="600456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bject 49"/>
            <p:cNvSpPr/>
            <p:nvPr/>
          </p:nvSpPr>
          <p:spPr>
            <a:xfrm>
              <a:off x="2442960" y="6126480"/>
              <a:ext cx="401040" cy="90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1319" h="9525">
                  <a:moveTo>
                    <a:pt x="400811" y="0"/>
                  </a:moveTo>
                  <a:lnTo>
                    <a:pt x="0" y="0"/>
                  </a:lnTo>
                  <a:lnTo>
                    <a:pt x="0" y="9144"/>
                  </a:lnTo>
                  <a:lnTo>
                    <a:pt x="400811" y="9144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457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bject 50"/>
            <p:cNvSpPr/>
            <p:nvPr/>
          </p:nvSpPr>
          <p:spPr>
            <a:xfrm>
              <a:off x="2442960" y="6106680"/>
              <a:ext cx="401040" cy="198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01319" h="20320">
                  <a:moveTo>
                    <a:pt x="400811" y="0"/>
                  </a:moveTo>
                  <a:lnTo>
                    <a:pt x="0" y="0"/>
                  </a:lnTo>
                  <a:lnTo>
                    <a:pt x="0" y="19811"/>
                  </a:lnTo>
                  <a:lnTo>
                    <a:pt x="400811" y="19811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aa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object 51"/>
            <p:cNvSpPr/>
            <p:nvPr/>
          </p:nvSpPr>
          <p:spPr>
            <a:xfrm>
              <a:off x="2442960" y="6091560"/>
              <a:ext cx="401040" cy="1476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401319" h="15239">
                  <a:moveTo>
                    <a:pt x="400811" y="0"/>
                  </a:moveTo>
                  <a:lnTo>
                    <a:pt x="0" y="0"/>
                  </a:lnTo>
                  <a:lnTo>
                    <a:pt x="0" y="15240"/>
                  </a:lnTo>
                  <a:lnTo>
                    <a:pt x="400811" y="15240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bject 52"/>
            <p:cNvSpPr/>
            <p:nvPr/>
          </p:nvSpPr>
          <p:spPr>
            <a:xfrm>
              <a:off x="2442960" y="6065640"/>
              <a:ext cx="401040" cy="2556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01319" h="26035">
                  <a:moveTo>
                    <a:pt x="400811" y="0"/>
                  </a:moveTo>
                  <a:lnTo>
                    <a:pt x="0" y="0"/>
                  </a:lnTo>
                  <a:lnTo>
                    <a:pt x="0" y="25907"/>
                  </a:lnTo>
                  <a:lnTo>
                    <a:pt x="400811" y="25907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object 53"/>
            <p:cNvSpPr/>
            <p:nvPr/>
          </p:nvSpPr>
          <p:spPr>
            <a:xfrm>
              <a:off x="2442960" y="5708880"/>
              <a:ext cx="401040" cy="3564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401319" h="356870">
                  <a:moveTo>
                    <a:pt x="400811" y="0"/>
                  </a:moveTo>
                  <a:lnTo>
                    <a:pt x="0" y="0"/>
                  </a:lnTo>
                  <a:lnTo>
                    <a:pt x="0" y="356616"/>
                  </a:lnTo>
                  <a:lnTo>
                    <a:pt x="400811" y="356616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object 54"/>
            <p:cNvSpPr/>
            <p:nvPr/>
          </p:nvSpPr>
          <p:spPr>
            <a:xfrm>
              <a:off x="2843640" y="5538240"/>
              <a:ext cx="1301400" cy="397800"/>
            </a:xfrm>
            <a:custGeom>
              <a:avLst/>
              <a:gdLst>
                <a:gd name="textAreaLeft" fmla="*/ 0 w 1301400"/>
                <a:gd name="textAreaRight" fmla="*/ 1301760 w 130140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301750" h="398145">
                  <a:moveTo>
                    <a:pt x="1001268" y="397764"/>
                  </a:moveTo>
                  <a:lnTo>
                    <a:pt x="1301495" y="397764"/>
                  </a:lnTo>
                </a:path>
                <a:path w="1301750" h="398145">
                  <a:moveTo>
                    <a:pt x="1001268" y="199644"/>
                  </a:moveTo>
                  <a:lnTo>
                    <a:pt x="1301495" y="199644"/>
                  </a:lnTo>
                </a:path>
                <a:path w="1301750" h="398145">
                  <a:moveTo>
                    <a:pt x="0" y="0"/>
                  </a:moveTo>
                  <a:lnTo>
                    <a:pt x="600456" y="0"/>
                  </a:lnTo>
                </a:path>
                <a:path w="1301750" h="398145">
                  <a:moveTo>
                    <a:pt x="1001268" y="0"/>
                  </a:moveTo>
                  <a:lnTo>
                    <a:pt x="1301495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object 55"/>
            <p:cNvSpPr/>
            <p:nvPr/>
          </p:nvSpPr>
          <p:spPr>
            <a:xfrm>
              <a:off x="3444120" y="6095880"/>
              <a:ext cx="401040" cy="396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01320" h="40004">
                  <a:moveTo>
                    <a:pt x="400812" y="0"/>
                  </a:moveTo>
                  <a:lnTo>
                    <a:pt x="0" y="0"/>
                  </a:lnTo>
                  <a:lnTo>
                    <a:pt x="0" y="39623"/>
                  </a:lnTo>
                  <a:lnTo>
                    <a:pt x="400812" y="39623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457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object 56"/>
            <p:cNvSpPr/>
            <p:nvPr/>
          </p:nvSpPr>
          <p:spPr>
            <a:xfrm>
              <a:off x="3444120" y="6047280"/>
              <a:ext cx="401040" cy="486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1320" h="48895">
                  <a:moveTo>
                    <a:pt x="400812" y="0"/>
                  </a:moveTo>
                  <a:lnTo>
                    <a:pt x="0" y="0"/>
                  </a:lnTo>
                  <a:lnTo>
                    <a:pt x="0" y="48768"/>
                  </a:lnTo>
                  <a:lnTo>
                    <a:pt x="400812" y="48768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aa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object 57"/>
            <p:cNvSpPr/>
            <p:nvPr/>
          </p:nvSpPr>
          <p:spPr>
            <a:xfrm>
              <a:off x="3444120" y="6026040"/>
              <a:ext cx="401040" cy="2124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401320" h="21589">
                  <a:moveTo>
                    <a:pt x="400812" y="0"/>
                  </a:moveTo>
                  <a:lnTo>
                    <a:pt x="0" y="0"/>
                  </a:lnTo>
                  <a:lnTo>
                    <a:pt x="0" y="21335"/>
                  </a:lnTo>
                  <a:lnTo>
                    <a:pt x="400812" y="21335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object 58"/>
            <p:cNvSpPr/>
            <p:nvPr/>
          </p:nvSpPr>
          <p:spPr>
            <a:xfrm>
              <a:off x="3444120" y="6006240"/>
              <a:ext cx="401040" cy="198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01320" h="20320">
                  <a:moveTo>
                    <a:pt x="400812" y="0"/>
                  </a:moveTo>
                  <a:lnTo>
                    <a:pt x="0" y="0"/>
                  </a:lnTo>
                  <a:lnTo>
                    <a:pt x="0" y="19811"/>
                  </a:lnTo>
                  <a:lnTo>
                    <a:pt x="400812" y="19811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object 59"/>
            <p:cNvSpPr/>
            <p:nvPr/>
          </p:nvSpPr>
          <p:spPr>
            <a:xfrm>
              <a:off x="3444120" y="5542920"/>
              <a:ext cx="401040" cy="4633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401320" h="463550">
                  <a:moveTo>
                    <a:pt x="400812" y="0"/>
                  </a:moveTo>
                  <a:lnTo>
                    <a:pt x="0" y="0"/>
                  </a:lnTo>
                  <a:lnTo>
                    <a:pt x="0" y="463296"/>
                  </a:lnTo>
                  <a:lnTo>
                    <a:pt x="400812" y="463296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object 60"/>
            <p:cNvSpPr/>
            <p:nvPr/>
          </p:nvSpPr>
          <p:spPr>
            <a:xfrm>
              <a:off x="1141560" y="4942440"/>
              <a:ext cx="3003840" cy="197640"/>
            </a:xfrm>
            <a:custGeom>
              <a:avLst/>
              <a:gdLst>
                <a:gd name="textAreaLeft" fmla="*/ 0 w 3003840"/>
                <a:gd name="textAreaRight" fmla="*/ 3004200 w 30038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3004185" h="198120">
                  <a:moveTo>
                    <a:pt x="0" y="198120"/>
                  </a:moveTo>
                  <a:lnTo>
                    <a:pt x="300228" y="198120"/>
                  </a:lnTo>
                </a:path>
                <a:path w="3004185" h="198120">
                  <a:moveTo>
                    <a:pt x="701040" y="198120"/>
                  </a:moveTo>
                  <a:lnTo>
                    <a:pt x="1301496" y="198120"/>
                  </a:lnTo>
                </a:path>
                <a:path w="3004185" h="198120">
                  <a:moveTo>
                    <a:pt x="0" y="0"/>
                  </a:moveTo>
                  <a:lnTo>
                    <a:pt x="300228" y="0"/>
                  </a:lnTo>
                </a:path>
                <a:path w="3004185" h="198120">
                  <a:moveTo>
                    <a:pt x="701040" y="0"/>
                  </a:moveTo>
                  <a:lnTo>
                    <a:pt x="3003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object 61"/>
            <p:cNvSpPr/>
            <p:nvPr/>
          </p:nvSpPr>
          <p:spPr>
            <a:xfrm>
              <a:off x="1441800" y="4991040"/>
              <a:ext cx="2403000" cy="71784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403475" h="718185">
                  <a:moveTo>
                    <a:pt x="400812" y="0"/>
                  </a:moveTo>
                  <a:lnTo>
                    <a:pt x="0" y="0"/>
                  </a:lnTo>
                  <a:lnTo>
                    <a:pt x="0" y="397764"/>
                  </a:lnTo>
                  <a:lnTo>
                    <a:pt x="400812" y="397764"/>
                  </a:lnTo>
                  <a:lnTo>
                    <a:pt x="400812" y="0"/>
                  </a:lnTo>
                  <a:close/>
                </a:path>
                <a:path w="2403475" h="718185">
                  <a:moveTo>
                    <a:pt x="1402080" y="597408"/>
                  </a:moveTo>
                  <a:lnTo>
                    <a:pt x="1001268" y="597408"/>
                  </a:lnTo>
                  <a:lnTo>
                    <a:pt x="1001268" y="717804"/>
                  </a:lnTo>
                  <a:lnTo>
                    <a:pt x="1402080" y="717804"/>
                  </a:lnTo>
                  <a:lnTo>
                    <a:pt x="1402080" y="597408"/>
                  </a:lnTo>
                  <a:close/>
                </a:path>
                <a:path w="2403475" h="718185">
                  <a:moveTo>
                    <a:pt x="2403348" y="422148"/>
                  </a:moveTo>
                  <a:lnTo>
                    <a:pt x="2002536" y="422148"/>
                  </a:lnTo>
                  <a:lnTo>
                    <a:pt x="2002536" y="551688"/>
                  </a:lnTo>
                  <a:lnTo>
                    <a:pt x="2403348" y="551688"/>
                  </a:lnTo>
                  <a:lnTo>
                    <a:pt x="2403348" y="422148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object 62"/>
            <p:cNvSpPr/>
            <p:nvPr/>
          </p:nvSpPr>
          <p:spPr>
            <a:xfrm>
              <a:off x="1141560" y="4742640"/>
              <a:ext cx="3003840" cy="360"/>
            </a:xfrm>
            <a:custGeom>
              <a:avLst/>
              <a:gdLst>
                <a:gd name="textAreaLeft" fmla="*/ 0 w 3003840"/>
                <a:gd name="textAreaRight" fmla="*/ 3004200 w 3003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4185" h="0">
                  <a:moveTo>
                    <a:pt x="0" y="0"/>
                  </a:moveTo>
                  <a:lnTo>
                    <a:pt x="300228" y="0"/>
                  </a:lnTo>
                </a:path>
                <a:path w="3004185" h="0">
                  <a:moveTo>
                    <a:pt x="701040" y="0"/>
                  </a:moveTo>
                  <a:lnTo>
                    <a:pt x="3003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object 63"/>
            <p:cNvSpPr/>
            <p:nvPr/>
          </p:nvSpPr>
          <p:spPr>
            <a:xfrm>
              <a:off x="1441800" y="4692240"/>
              <a:ext cx="1401840" cy="89640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402080" h="896620">
                  <a:moveTo>
                    <a:pt x="400812" y="0"/>
                  </a:moveTo>
                  <a:lnTo>
                    <a:pt x="0" y="0"/>
                  </a:lnTo>
                  <a:lnTo>
                    <a:pt x="0" y="298704"/>
                  </a:lnTo>
                  <a:lnTo>
                    <a:pt x="400812" y="298704"/>
                  </a:lnTo>
                  <a:lnTo>
                    <a:pt x="400812" y="0"/>
                  </a:lnTo>
                  <a:close/>
                </a:path>
                <a:path w="1402080" h="896620">
                  <a:moveTo>
                    <a:pt x="1402080" y="669036"/>
                  </a:moveTo>
                  <a:lnTo>
                    <a:pt x="1001268" y="669036"/>
                  </a:lnTo>
                  <a:lnTo>
                    <a:pt x="1001268" y="896112"/>
                  </a:lnTo>
                  <a:lnTo>
                    <a:pt x="1402080" y="896112"/>
                  </a:lnTo>
                  <a:lnTo>
                    <a:pt x="1402080" y="669036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bject 64"/>
            <p:cNvSpPr/>
            <p:nvPr/>
          </p:nvSpPr>
          <p:spPr>
            <a:xfrm>
              <a:off x="3845160" y="5340240"/>
              <a:ext cx="299880" cy="3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354" h="0">
                  <a:moveTo>
                    <a:pt x="0" y="0"/>
                  </a:moveTo>
                  <a:lnTo>
                    <a:pt x="300227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object 65"/>
            <p:cNvSpPr/>
            <p:nvPr/>
          </p:nvSpPr>
          <p:spPr>
            <a:xfrm>
              <a:off x="3444120" y="5230440"/>
              <a:ext cx="401040" cy="1825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1320" h="182879">
                  <a:moveTo>
                    <a:pt x="400812" y="0"/>
                  </a:moveTo>
                  <a:lnTo>
                    <a:pt x="0" y="0"/>
                  </a:lnTo>
                  <a:lnTo>
                    <a:pt x="0" y="182879"/>
                  </a:lnTo>
                  <a:lnTo>
                    <a:pt x="400812" y="182879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bject 66"/>
            <p:cNvSpPr/>
            <p:nvPr/>
          </p:nvSpPr>
          <p:spPr>
            <a:xfrm>
              <a:off x="1441800" y="4651200"/>
              <a:ext cx="1401840" cy="71028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1402080" h="710564">
                  <a:moveTo>
                    <a:pt x="400812" y="0"/>
                  </a:moveTo>
                  <a:lnTo>
                    <a:pt x="0" y="0"/>
                  </a:lnTo>
                  <a:lnTo>
                    <a:pt x="0" y="41148"/>
                  </a:lnTo>
                  <a:lnTo>
                    <a:pt x="400812" y="41148"/>
                  </a:lnTo>
                  <a:lnTo>
                    <a:pt x="400812" y="0"/>
                  </a:lnTo>
                  <a:close/>
                </a:path>
                <a:path w="1402080" h="710564">
                  <a:moveTo>
                    <a:pt x="1402080" y="690372"/>
                  </a:moveTo>
                  <a:lnTo>
                    <a:pt x="1001268" y="690372"/>
                  </a:lnTo>
                  <a:lnTo>
                    <a:pt x="1001268" y="710184"/>
                  </a:lnTo>
                  <a:lnTo>
                    <a:pt x="1402080" y="710184"/>
                  </a:lnTo>
                  <a:lnTo>
                    <a:pt x="1402080" y="690372"/>
                  </a:lnTo>
                  <a:close/>
                </a:path>
              </a:pathLst>
            </a:custGeom>
            <a:solidFill>
              <a:srgbClr val="d1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object 67"/>
            <p:cNvSpPr/>
            <p:nvPr/>
          </p:nvSpPr>
          <p:spPr>
            <a:xfrm>
              <a:off x="2843640" y="5140440"/>
              <a:ext cx="1301400" cy="360"/>
            </a:xfrm>
            <a:custGeom>
              <a:avLst/>
              <a:gdLst>
                <a:gd name="textAreaLeft" fmla="*/ 0 w 1301400"/>
                <a:gd name="textAreaRight" fmla="*/ 1301760 w 1301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01750" h="0">
                  <a:moveTo>
                    <a:pt x="0" y="0"/>
                  </a:moveTo>
                  <a:lnTo>
                    <a:pt x="600456" y="0"/>
                  </a:lnTo>
                </a:path>
                <a:path w="1301750" h="0">
                  <a:moveTo>
                    <a:pt x="1001268" y="0"/>
                  </a:moveTo>
                  <a:lnTo>
                    <a:pt x="13014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object 68"/>
            <p:cNvSpPr/>
            <p:nvPr/>
          </p:nvSpPr>
          <p:spPr>
            <a:xfrm>
              <a:off x="3444120" y="5184720"/>
              <a:ext cx="401040" cy="4536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1320" h="45720">
                  <a:moveTo>
                    <a:pt x="400812" y="0"/>
                  </a:moveTo>
                  <a:lnTo>
                    <a:pt x="0" y="0"/>
                  </a:lnTo>
                  <a:lnTo>
                    <a:pt x="0" y="45719"/>
                  </a:lnTo>
                  <a:lnTo>
                    <a:pt x="400812" y="45719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d1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object 69"/>
            <p:cNvSpPr/>
            <p:nvPr/>
          </p:nvSpPr>
          <p:spPr>
            <a:xfrm>
              <a:off x="1141560" y="4544640"/>
              <a:ext cx="3003840" cy="360"/>
            </a:xfrm>
            <a:custGeom>
              <a:avLst/>
              <a:gdLst>
                <a:gd name="textAreaLeft" fmla="*/ 0 w 3003840"/>
                <a:gd name="textAreaRight" fmla="*/ 3004200 w 3003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4185" h="0">
                  <a:moveTo>
                    <a:pt x="0" y="0"/>
                  </a:moveTo>
                  <a:lnTo>
                    <a:pt x="300228" y="0"/>
                  </a:lnTo>
                </a:path>
                <a:path w="3004185" h="0">
                  <a:moveTo>
                    <a:pt x="701040" y="0"/>
                  </a:moveTo>
                  <a:lnTo>
                    <a:pt x="3003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object 70"/>
            <p:cNvSpPr/>
            <p:nvPr/>
          </p:nvSpPr>
          <p:spPr>
            <a:xfrm>
              <a:off x="1441800" y="4553640"/>
              <a:ext cx="2403000" cy="78768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403475" h="788035">
                  <a:moveTo>
                    <a:pt x="400812" y="0"/>
                  </a:moveTo>
                  <a:lnTo>
                    <a:pt x="0" y="0"/>
                  </a:lnTo>
                  <a:lnTo>
                    <a:pt x="0" y="97536"/>
                  </a:lnTo>
                  <a:lnTo>
                    <a:pt x="400812" y="97536"/>
                  </a:lnTo>
                  <a:lnTo>
                    <a:pt x="400812" y="0"/>
                  </a:lnTo>
                  <a:close/>
                </a:path>
                <a:path w="2403475" h="788035">
                  <a:moveTo>
                    <a:pt x="1402080" y="768096"/>
                  </a:moveTo>
                  <a:lnTo>
                    <a:pt x="1001268" y="768096"/>
                  </a:lnTo>
                  <a:lnTo>
                    <a:pt x="1001268" y="787908"/>
                  </a:lnTo>
                  <a:lnTo>
                    <a:pt x="1402080" y="787908"/>
                  </a:lnTo>
                  <a:lnTo>
                    <a:pt x="1402080" y="768096"/>
                  </a:lnTo>
                  <a:close/>
                </a:path>
                <a:path w="2403475" h="788035">
                  <a:moveTo>
                    <a:pt x="2403348" y="611124"/>
                  </a:moveTo>
                  <a:lnTo>
                    <a:pt x="2002536" y="611124"/>
                  </a:lnTo>
                  <a:lnTo>
                    <a:pt x="2002536" y="630936"/>
                  </a:lnTo>
                  <a:lnTo>
                    <a:pt x="2403348" y="630936"/>
                  </a:lnTo>
                  <a:lnTo>
                    <a:pt x="2403348" y="611124"/>
                  </a:lnTo>
                  <a:close/>
                </a:path>
              </a:pathLst>
            </a:custGeom>
            <a:solidFill>
              <a:srgbClr val="b8c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object 71"/>
            <p:cNvSpPr/>
            <p:nvPr/>
          </p:nvSpPr>
          <p:spPr>
            <a:xfrm>
              <a:off x="1141560" y="4344840"/>
              <a:ext cx="3003840" cy="360"/>
            </a:xfrm>
            <a:custGeom>
              <a:avLst/>
              <a:gdLst>
                <a:gd name="textAreaLeft" fmla="*/ 0 w 3003840"/>
                <a:gd name="textAreaRight" fmla="*/ 3004200 w 3003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4185" h="0">
                  <a:moveTo>
                    <a:pt x="0" y="0"/>
                  </a:moveTo>
                  <a:lnTo>
                    <a:pt x="300228" y="0"/>
                  </a:lnTo>
                </a:path>
                <a:path w="3004185" h="0">
                  <a:moveTo>
                    <a:pt x="701040" y="0"/>
                  </a:moveTo>
                  <a:lnTo>
                    <a:pt x="3003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object 72"/>
            <p:cNvSpPr/>
            <p:nvPr/>
          </p:nvSpPr>
          <p:spPr>
            <a:xfrm>
              <a:off x="1441800" y="4335840"/>
              <a:ext cx="2403000" cy="98568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2403475" h="986154">
                  <a:moveTo>
                    <a:pt x="400812" y="0"/>
                  </a:moveTo>
                  <a:lnTo>
                    <a:pt x="0" y="0"/>
                  </a:lnTo>
                  <a:lnTo>
                    <a:pt x="0" y="217932"/>
                  </a:lnTo>
                  <a:lnTo>
                    <a:pt x="400812" y="217932"/>
                  </a:lnTo>
                  <a:lnTo>
                    <a:pt x="400812" y="0"/>
                  </a:lnTo>
                  <a:close/>
                </a:path>
                <a:path w="2403475" h="986154">
                  <a:moveTo>
                    <a:pt x="1402080" y="792480"/>
                  </a:moveTo>
                  <a:lnTo>
                    <a:pt x="1001268" y="792480"/>
                  </a:lnTo>
                  <a:lnTo>
                    <a:pt x="1001268" y="986028"/>
                  </a:lnTo>
                  <a:lnTo>
                    <a:pt x="1402080" y="986028"/>
                  </a:lnTo>
                  <a:lnTo>
                    <a:pt x="1402080" y="792480"/>
                  </a:lnTo>
                  <a:close/>
                </a:path>
                <a:path w="2403475" h="986154">
                  <a:moveTo>
                    <a:pt x="2403348" y="669036"/>
                  </a:moveTo>
                  <a:lnTo>
                    <a:pt x="2002536" y="669036"/>
                  </a:lnTo>
                  <a:lnTo>
                    <a:pt x="2002536" y="829056"/>
                  </a:lnTo>
                  <a:lnTo>
                    <a:pt x="2403348" y="829056"/>
                  </a:lnTo>
                  <a:lnTo>
                    <a:pt x="2403348" y="669036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object 73"/>
            <p:cNvSpPr/>
            <p:nvPr/>
          </p:nvSpPr>
          <p:spPr>
            <a:xfrm>
              <a:off x="1101960" y="4146840"/>
              <a:ext cx="3043080" cy="2028600"/>
            </a:xfrm>
            <a:custGeom>
              <a:avLst/>
              <a:gdLst>
                <a:gd name="textAreaLeft" fmla="*/ 0 w 3043080"/>
                <a:gd name="textAreaRight" fmla="*/ 3043440 w 3043080"/>
                <a:gd name="textAreaTop" fmla="*/ 0 h 2028600"/>
                <a:gd name="textAreaBottom" fmla="*/ 2028960 h 2028600"/>
              </a:gdLst>
              <a:ahLst/>
              <a:rect l="textAreaLeft" t="textAreaTop" r="textAreaRight" b="textAreaBottom"/>
              <a:pathLst>
                <a:path w="3043554" h="2028825">
                  <a:moveTo>
                    <a:pt x="39623" y="0"/>
                  </a:moveTo>
                  <a:lnTo>
                    <a:pt x="3043428" y="0"/>
                  </a:lnTo>
                </a:path>
                <a:path w="3043554" h="2028825">
                  <a:moveTo>
                    <a:pt x="39623" y="1988820"/>
                  </a:moveTo>
                  <a:lnTo>
                    <a:pt x="39623" y="0"/>
                  </a:lnTo>
                </a:path>
                <a:path w="3043554" h="2028825">
                  <a:moveTo>
                    <a:pt x="0" y="1988820"/>
                  </a:moveTo>
                  <a:lnTo>
                    <a:pt x="39623" y="1988820"/>
                  </a:lnTo>
                </a:path>
                <a:path w="3043554" h="2028825">
                  <a:moveTo>
                    <a:pt x="0" y="1789176"/>
                  </a:moveTo>
                  <a:lnTo>
                    <a:pt x="39623" y="1789176"/>
                  </a:lnTo>
                </a:path>
                <a:path w="3043554" h="2028825">
                  <a:moveTo>
                    <a:pt x="0" y="1591056"/>
                  </a:moveTo>
                  <a:lnTo>
                    <a:pt x="39623" y="1591056"/>
                  </a:lnTo>
                </a:path>
                <a:path w="3043554" h="2028825">
                  <a:moveTo>
                    <a:pt x="0" y="1391412"/>
                  </a:moveTo>
                  <a:lnTo>
                    <a:pt x="39623" y="1391412"/>
                  </a:lnTo>
                </a:path>
                <a:path w="3043554" h="2028825">
                  <a:moveTo>
                    <a:pt x="0" y="1193292"/>
                  </a:moveTo>
                  <a:lnTo>
                    <a:pt x="39623" y="1193292"/>
                  </a:lnTo>
                </a:path>
                <a:path w="3043554" h="2028825">
                  <a:moveTo>
                    <a:pt x="0" y="993648"/>
                  </a:moveTo>
                  <a:lnTo>
                    <a:pt x="39623" y="993648"/>
                  </a:lnTo>
                </a:path>
                <a:path w="3043554" h="2028825">
                  <a:moveTo>
                    <a:pt x="0" y="795528"/>
                  </a:moveTo>
                  <a:lnTo>
                    <a:pt x="39623" y="795528"/>
                  </a:lnTo>
                </a:path>
                <a:path w="3043554" h="2028825">
                  <a:moveTo>
                    <a:pt x="0" y="595884"/>
                  </a:moveTo>
                  <a:lnTo>
                    <a:pt x="39623" y="595884"/>
                  </a:lnTo>
                </a:path>
                <a:path w="3043554" h="2028825">
                  <a:moveTo>
                    <a:pt x="0" y="397764"/>
                  </a:moveTo>
                  <a:lnTo>
                    <a:pt x="39623" y="397764"/>
                  </a:lnTo>
                </a:path>
                <a:path w="3043554" h="2028825">
                  <a:moveTo>
                    <a:pt x="0" y="198120"/>
                  </a:moveTo>
                  <a:lnTo>
                    <a:pt x="39623" y="198120"/>
                  </a:lnTo>
                </a:path>
                <a:path w="3043554" h="2028825">
                  <a:moveTo>
                    <a:pt x="0" y="0"/>
                  </a:moveTo>
                  <a:lnTo>
                    <a:pt x="39623" y="0"/>
                  </a:lnTo>
                </a:path>
                <a:path w="3043554" h="2028825">
                  <a:moveTo>
                    <a:pt x="39623" y="1988820"/>
                  </a:moveTo>
                  <a:lnTo>
                    <a:pt x="3043428" y="1988820"/>
                  </a:lnTo>
                </a:path>
                <a:path w="3043554" h="2028825">
                  <a:moveTo>
                    <a:pt x="39623" y="1988820"/>
                  </a:moveTo>
                  <a:lnTo>
                    <a:pt x="39623" y="2028444"/>
                  </a:lnTo>
                </a:path>
                <a:path w="3043554" h="2028825">
                  <a:moveTo>
                    <a:pt x="1040891" y="1988820"/>
                  </a:moveTo>
                  <a:lnTo>
                    <a:pt x="1040891" y="2028444"/>
                  </a:lnTo>
                </a:path>
                <a:path w="3043554" h="2028825">
                  <a:moveTo>
                    <a:pt x="2042160" y="1988820"/>
                  </a:moveTo>
                  <a:lnTo>
                    <a:pt x="2042160" y="2028444"/>
                  </a:lnTo>
                </a:path>
                <a:path w="3043554" h="2028825">
                  <a:moveTo>
                    <a:pt x="3043428" y="1988820"/>
                  </a:moveTo>
                  <a:lnTo>
                    <a:pt x="3043428" y="202844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object 74"/>
          <p:cNvSpPr/>
          <p:nvPr/>
        </p:nvSpPr>
        <p:spPr>
          <a:xfrm>
            <a:off x="1533960" y="5620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object 75"/>
          <p:cNvSpPr/>
          <p:nvPr/>
        </p:nvSpPr>
        <p:spPr>
          <a:xfrm>
            <a:off x="2535120" y="57927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object 76"/>
          <p:cNvSpPr/>
          <p:nvPr/>
        </p:nvSpPr>
        <p:spPr>
          <a:xfrm>
            <a:off x="3536280" y="56793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object 77"/>
          <p:cNvSpPr/>
          <p:nvPr/>
        </p:nvSpPr>
        <p:spPr>
          <a:xfrm>
            <a:off x="1533960" y="50954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object 78"/>
          <p:cNvSpPr/>
          <p:nvPr/>
        </p:nvSpPr>
        <p:spPr>
          <a:xfrm>
            <a:off x="2567160" y="5553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object 79"/>
          <p:cNvSpPr/>
          <p:nvPr/>
        </p:nvSpPr>
        <p:spPr>
          <a:xfrm>
            <a:off x="3568320" y="5382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object 80"/>
          <p:cNvSpPr/>
          <p:nvPr/>
        </p:nvSpPr>
        <p:spPr>
          <a:xfrm>
            <a:off x="1533960" y="4746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object 81"/>
          <p:cNvSpPr/>
          <p:nvPr/>
        </p:nvSpPr>
        <p:spPr>
          <a:xfrm>
            <a:off x="2535120" y="5379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object 82"/>
          <p:cNvSpPr/>
          <p:nvPr/>
        </p:nvSpPr>
        <p:spPr>
          <a:xfrm>
            <a:off x="3568320" y="52268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object 83"/>
          <p:cNvSpPr/>
          <p:nvPr/>
        </p:nvSpPr>
        <p:spPr>
          <a:xfrm>
            <a:off x="1533960" y="4349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object 84"/>
          <p:cNvSpPr/>
          <p:nvPr/>
        </p:nvSpPr>
        <p:spPr>
          <a:xfrm>
            <a:off x="2567160" y="51300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object 85"/>
          <p:cNvSpPr/>
          <p:nvPr/>
        </p:nvSpPr>
        <p:spPr>
          <a:xfrm>
            <a:off x="3568320" y="49899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object 86"/>
          <p:cNvSpPr/>
          <p:nvPr/>
        </p:nvSpPr>
        <p:spPr>
          <a:xfrm>
            <a:off x="753480" y="3997440"/>
            <a:ext cx="28332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t">
            <a:spAutoFit/>
          </a:bodyPr>
          <a:p>
            <a:pPr algn="r">
              <a:lnSpc>
                <a:spcPct val="100000"/>
              </a:lnSpc>
              <a:spcBef>
                <a:spcPts val="459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object 87"/>
          <p:cNvSpPr/>
          <p:nvPr/>
        </p:nvSpPr>
        <p:spPr>
          <a:xfrm>
            <a:off x="1500840" y="619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object 88"/>
          <p:cNvSpPr/>
          <p:nvPr/>
        </p:nvSpPr>
        <p:spPr>
          <a:xfrm>
            <a:off x="2502000" y="619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object 89"/>
          <p:cNvSpPr/>
          <p:nvPr/>
        </p:nvSpPr>
        <p:spPr>
          <a:xfrm>
            <a:off x="3503520" y="619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object 90"/>
          <p:cNvSpPr/>
          <p:nvPr/>
        </p:nvSpPr>
        <p:spPr>
          <a:xfrm>
            <a:off x="4348080" y="427644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5d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object 91"/>
          <p:cNvSpPr/>
          <p:nvPr/>
        </p:nvSpPr>
        <p:spPr>
          <a:xfrm>
            <a:off x="4348080" y="45050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b8cd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object 92"/>
          <p:cNvSpPr/>
          <p:nvPr/>
        </p:nvSpPr>
        <p:spPr>
          <a:xfrm>
            <a:off x="4348080" y="47350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d1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object 93"/>
          <p:cNvSpPr/>
          <p:nvPr/>
        </p:nvSpPr>
        <p:spPr>
          <a:xfrm>
            <a:off x="4348080" y="496512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object 94"/>
          <p:cNvSpPr/>
          <p:nvPr/>
        </p:nvSpPr>
        <p:spPr>
          <a:xfrm>
            <a:off x="4348080" y="51937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db84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bject 95"/>
          <p:cNvSpPr/>
          <p:nvPr/>
        </p:nvSpPr>
        <p:spPr>
          <a:xfrm>
            <a:off x="4348080" y="542376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object 96"/>
          <p:cNvSpPr/>
          <p:nvPr/>
        </p:nvSpPr>
        <p:spPr>
          <a:xfrm>
            <a:off x="4348080" y="565416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80"/>
                </a:lnTo>
                <a:lnTo>
                  <a:pt x="70103" y="68580"/>
                </a:lnTo>
                <a:lnTo>
                  <a:pt x="70103" y="0"/>
                </a:lnTo>
                <a:close/>
              </a:path>
            </a:pathLst>
          </a:custGeom>
          <a:solidFill>
            <a:srgbClr val="705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object 97"/>
          <p:cNvSpPr/>
          <p:nvPr/>
        </p:nvSpPr>
        <p:spPr>
          <a:xfrm>
            <a:off x="4348080" y="588276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88a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object 98"/>
          <p:cNvSpPr/>
          <p:nvPr/>
        </p:nvSpPr>
        <p:spPr>
          <a:xfrm>
            <a:off x="4348080" y="61128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aa4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object 99"/>
          <p:cNvSpPr/>
          <p:nvPr/>
        </p:nvSpPr>
        <p:spPr>
          <a:xfrm>
            <a:off x="4436280" y="4131000"/>
            <a:ext cx="5947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ее 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рециклинг 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П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ленка 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нити ли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омпаун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bject 100"/>
          <p:cNvSpPr/>
          <p:nvPr/>
        </p:nvSpPr>
        <p:spPr>
          <a:xfrm>
            <a:off x="941400" y="686160"/>
            <a:ext cx="4093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 indent="298440">
              <a:lnSpc>
                <a:spcPct val="100000"/>
              </a:lnSpc>
              <a:spcBef>
                <a:spcPts val="105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экструдеров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 РФ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типу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ерерабатываемого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олимера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(шт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bject 101"/>
          <p:cNvSpPr/>
          <p:nvPr/>
        </p:nvSpPr>
        <p:spPr>
          <a:xfrm>
            <a:off x="1455120" y="3378960"/>
            <a:ext cx="288576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spAutoFit/>
          </a:bodyPr>
          <a:p>
            <a:pPr marL="91440">
              <a:lnSpc>
                <a:spcPct val="100000"/>
              </a:lnSpc>
              <a:spcBef>
                <a:spcPts val="181"/>
              </a:spcBef>
              <a:tabLst>
                <a:tab algn="l" pos="1159560"/>
                <a:tab algn="l" pos="222768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 indent="4320">
              <a:lnSpc>
                <a:spcPct val="100000"/>
              </a:lnSpc>
              <a:spcBef>
                <a:spcPts val="119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экструдеров</a:t>
            </a:r>
            <a:r>
              <a:rPr b="1" lang="en-US" sz="14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РФ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4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2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(шт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object 102"/>
          <p:cNvSpPr/>
          <p:nvPr/>
        </p:nvSpPr>
        <p:spPr>
          <a:xfrm>
            <a:off x="1931760" y="123228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object 103"/>
          <p:cNvSpPr/>
          <p:nvPr/>
        </p:nvSpPr>
        <p:spPr>
          <a:xfrm>
            <a:off x="1863360" y="407088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bject 104"/>
          <p:cNvSpPr/>
          <p:nvPr/>
        </p:nvSpPr>
        <p:spPr>
          <a:xfrm>
            <a:off x="2814840" y="476856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object 105"/>
          <p:cNvSpPr/>
          <p:nvPr/>
        </p:nvSpPr>
        <p:spPr>
          <a:xfrm>
            <a:off x="3715200" y="467208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5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object 106"/>
          <p:cNvSpPr/>
          <p:nvPr/>
        </p:nvSpPr>
        <p:spPr>
          <a:xfrm>
            <a:off x="5467320" y="2085120"/>
            <a:ext cx="28296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760" bIns="0" anchor="t">
            <a:spAutoFit/>
          </a:bodyPr>
          <a:p>
            <a:pPr algn="r">
              <a:lnSpc>
                <a:spcPct val="100000"/>
              </a:lnSpc>
              <a:spcBef>
                <a:spcPts val="47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object 107"/>
          <p:cNvSpPr/>
          <p:nvPr/>
        </p:nvSpPr>
        <p:spPr>
          <a:xfrm>
            <a:off x="5990760" y="3393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object 108"/>
          <p:cNvSpPr/>
          <p:nvPr/>
        </p:nvSpPr>
        <p:spPr>
          <a:xfrm>
            <a:off x="6716520" y="3393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object 109"/>
          <p:cNvSpPr/>
          <p:nvPr/>
        </p:nvSpPr>
        <p:spPr>
          <a:xfrm>
            <a:off x="7441920" y="3393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object 110"/>
          <p:cNvSpPr/>
          <p:nvPr/>
        </p:nvSpPr>
        <p:spPr>
          <a:xfrm>
            <a:off x="8148960" y="22737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object 111"/>
          <p:cNvSpPr/>
          <p:nvPr/>
        </p:nvSpPr>
        <p:spPr>
          <a:xfrm>
            <a:off x="8148960" y="250380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80">
                <a:moveTo>
                  <a:pt x="68579" y="0"/>
                </a:moveTo>
                <a:lnTo>
                  <a:pt x="0" y="0"/>
                </a:lnTo>
                <a:lnTo>
                  <a:pt x="0" y="68579"/>
                </a:lnTo>
                <a:lnTo>
                  <a:pt x="68579" y="68579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object 112"/>
          <p:cNvSpPr/>
          <p:nvPr/>
        </p:nvSpPr>
        <p:spPr>
          <a:xfrm>
            <a:off x="8236800" y="2128680"/>
            <a:ext cx="609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0" anchor="t">
            <a:spAutoFit/>
          </a:bodyPr>
          <a:p>
            <a:pPr marL="12600">
              <a:lnSpc>
                <a:spcPct val="100000"/>
              </a:lnSpc>
              <a:spcBef>
                <a:spcPts val="700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Осталь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ит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3" name="object 113"/>
          <p:cNvGraphicFramePr/>
          <p:nvPr/>
        </p:nvGraphicFramePr>
        <p:xfrm>
          <a:off x="5763600" y="2273760"/>
          <a:ext cx="3082320" cy="2230920"/>
        </p:xfrm>
        <a:graphic>
          <a:graphicData uri="http://schemas.openxmlformats.org/drawingml/2006/table">
            <a:tbl>
              <a:tblPr/>
              <a:tblGrid>
                <a:gridCol w="175320"/>
                <a:gridCol w="642960"/>
                <a:gridCol w="352800"/>
                <a:gridCol w="640440"/>
                <a:gridCol w="352800"/>
                <a:gridCol w="640440"/>
                <a:gridCol w="276120"/>
              </a:tblGrid>
              <a:tr h="223560">
                <a:tc gridSpan="7">
                  <a:txBody>
                    <a:bodyPr lIns="0" rIns="0" tIns="0" bIns="0" anchor="t">
                      <a:noAutofit/>
                    </a:bodyPr>
                    <a:p>
                      <a:pPr marL="641880">
                        <a:lnSpc>
                          <a:spcPts val="1471"/>
                        </a:lnSpc>
                      </a:pPr>
                      <a:r>
                        <a:rPr b="0" lang="en-US" sz="18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9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39680">
                        <a:lnSpc>
                          <a:spcPct val="100000"/>
                        </a:lnSpc>
                        <a:spcBef>
                          <a:spcPts val="57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33480" bIns="0" anchor="t">
                      <a:noAutofit/>
                    </a:bodyPr>
                    <a:p>
                      <a:pPr marL="549360">
                        <a:lnSpc>
                          <a:spcPts val="1196"/>
                        </a:lnSpc>
                        <a:spcBef>
                          <a:spcPts val="264"/>
                        </a:spcBef>
                        <a:tabLst>
                          <a:tab algn="l" pos="1413360"/>
                        </a:tabLst>
                      </a:pPr>
                      <a:r>
                        <a:rPr b="0" lang="en-US" sz="18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06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7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>
                        <a:lnSpc>
                          <a:spcPct val="100000"/>
                        </a:lnSpc>
                        <a:spcBef>
                          <a:spcPts val="67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solidFill>
                      <a:srgbClr val="006fc0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104040" bIns="0" anchor="t">
                      <a:noAutofit/>
                    </a:bodyPr>
                    <a:p>
                      <a:pPr marL="138600">
                        <a:lnSpc>
                          <a:spcPct val="100000"/>
                        </a:lnSpc>
                        <a:spcBef>
                          <a:spcPts val="819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2">
                  <a:txBody>
                    <a:bodyPr lIns="0" rIns="0" tIns="85680" bIns="0" anchor="t">
                      <a:noAutofit/>
                    </a:bodyPr>
                    <a:p>
                      <a:pPr marL="138600">
                        <a:lnSpc>
                          <a:spcPct val="100000"/>
                        </a:lnSpc>
                        <a:spcBef>
                          <a:spcPts val="67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4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"/>
                        </a:spcBef>
                      </a:pPr>
                      <a:endParaRPr b="0" lang="en-US" sz="12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8600">
                        <a:lnSpc>
                          <a:spcPct val="100000"/>
                        </a:lnSpc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solidFill>
                      <a:srgbClr val="006f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25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3"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4"/>
                        </a:spcBef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8600">
                        <a:lnSpc>
                          <a:spcPct val="100000"/>
                        </a:lnSpc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solidFill>
                      <a:srgbClr val="006f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4" name="object 114"/>
          <p:cNvSpPr/>
          <p:nvPr/>
        </p:nvSpPr>
        <p:spPr>
          <a:xfrm>
            <a:off x="7998480" y="1958040"/>
            <a:ext cx="1411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object 115"/>
          <p:cNvSpPr/>
          <p:nvPr/>
        </p:nvSpPr>
        <p:spPr>
          <a:xfrm>
            <a:off x="5955480" y="1291320"/>
            <a:ext cx="3465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 indent="4320">
              <a:lnSpc>
                <a:spcPct val="100000"/>
              </a:lnSpc>
              <a:spcBef>
                <a:spcPts val="105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экструдеров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стране-импортеру</a:t>
            </a:r>
            <a:r>
              <a:rPr b="1" lang="en-US" sz="14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(шт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Благодарю за внимание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60280" y="153360"/>
            <a:ext cx="36399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d0d0d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d0d0d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d0d0d"/>
                </a:solidFill>
                <a:latin typeface="Century Gothic"/>
              </a:rPr>
              <a:t>Полиэтилен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93" name="object 3" descr=""/>
          <p:cNvPicPr/>
          <p:nvPr/>
        </p:nvPicPr>
        <p:blipFill>
          <a:blip r:embed="rId1"/>
          <a:stretch/>
        </p:blipFill>
        <p:spPr>
          <a:xfrm>
            <a:off x="324000" y="5589360"/>
            <a:ext cx="1650240" cy="531360"/>
          </a:xfrm>
          <a:prstGeom prst="rect">
            <a:avLst/>
          </a:prstGeom>
          <a:ln w="0">
            <a:noFill/>
          </a:ln>
        </p:spPr>
      </p:pic>
      <p:sp>
        <p:nvSpPr>
          <p:cNvPr id="194" name="object 4"/>
          <p:cNvSpPr/>
          <p:nvPr/>
        </p:nvSpPr>
        <p:spPr>
          <a:xfrm>
            <a:off x="324000" y="5589360"/>
            <a:ext cx="1650600" cy="496440"/>
          </a:xfrm>
          <a:prstGeom prst="rect">
            <a:avLst/>
          </a:prstGeom>
          <a:noFill/>
          <a:ln w="25908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90720">
              <a:lnSpc>
                <a:spcPct val="100000"/>
              </a:lnSpc>
              <a:spcBef>
                <a:spcPts val="79"/>
              </a:spcBef>
            </a:pPr>
            <a:r>
              <a:rPr b="0" lang="en-US" sz="1600" spc="-12" strike="noStrike">
                <a:solidFill>
                  <a:srgbClr val="0d0d0d"/>
                </a:solidFill>
                <a:latin typeface="Calibri"/>
              </a:rPr>
              <a:t>Мощ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720">
              <a:lnSpc>
                <a:spcPct val="100000"/>
              </a:lnSpc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Всего:</a:t>
            </a:r>
            <a:r>
              <a:rPr b="0" lang="en-US" sz="1600" spc="-35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1,91</a:t>
            </a:r>
            <a:r>
              <a:rPr b="0" lang="en-US" sz="1600" spc="-35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млн</a:t>
            </a:r>
            <a:r>
              <a:rPr b="0" lang="en-US" sz="1600" spc="-46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600" spc="-52" strike="noStrike">
                <a:solidFill>
                  <a:srgbClr val="0d0d0d"/>
                </a:solidFill>
                <a:latin typeface="Calibri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bject 5"/>
          <p:cNvGrpSpPr/>
          <p:nvPr/>
        </p:nvGrpSpPr>
        <p:grpSpPr>
          <a:xfrm>
            <a:off x="6194520" y="3717000"/>
            <a:ext cx="1988640" cy="1989000"/>
            <a:chOff x="6194520" y="3717000"/>
            <a:chExt cx="1988640" cy="1989000"/>
          </a:xfrm>
        </p:grpSpPr>
        <p:sp>
          <p:nvSpPr>
            <p:cNvPr id="196" name="object 6"/>
            <p:cNvSpPr/>
            <p:nvPr/>
          </p:nvSpPr>
          <p:spPr>
            <a:xfrm>
              <a:off x="6498720" y="3717000"/>
              <a:ext cx="1684440" cy="198900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1684654" h="1989454">
                  <a:moveTo>
                    <a:pt x="689990" y="0"/>
                  </a:moveTo>
                  <a:lnTo>
                    <a:pt x="689990" y="994410"/>
                  </a:lnTo>
                  <a:lnTo>
                    <a:pt x="0" y="1710436"/>
                  </a:lnTo>
                  <a:lnTo>
                    <a:pt x="37871" y="1745103"/>
                  </a:lnTo>
                  <a:lnTo>
                    <a:pt x="77305" y="1777631"/>
                  </a:lnTo>
                  <a:lnTo>
                    <a:pt x="118210" y="1807982"/>
                  </a:lnTo>
                  <a:lnTo>
                    <a:pt x="160493" y="1836119"/>
                  </a:lnTo>
                  <a:lnTo>
                    <a:pt x="204060" y="1862005"/>
                  </a:lnTo>
                  <a:lnTo>
                    <a:pt x="248820" y="1885602"/>
                  </a:lnTo>
                  <a:lnTo>
                    <a:pt x="294679" y="1906873"/>
                  </a:lnTo>
                  <a:lnTo>
                    <a:pt x="341544" y="1925781"/>
                  </a:lnTo>
                  <a:lnTo>
                    <a:pt x="389324" y="1942289"/>
                  </a:lnTo>
                  <a:lnTo>
                    <a:pt x="437924" y="1956359"/>
                  </a:lnTo>
                  <a:lnTo>
                    <a:pt x="487252" y="1967955"/>
                  </a:lnTo>
                  <a:lnTo>
                    <a:pt x="537216" y="1977038"/>
                  </a:lnTo>
                  <a:lnTo>
                    <a:pt x="587722" y="1983573"/>
                  </a:lnTo>
                  <a:lnTo>
                    <a:pt x="638678" y="1987521"/>
                  </a:lnTo>
                  <a:lnTo>
                    <a:pt x="689990" y="1988845"/>
                  </a:lnTo>
                  <a:lnTo>
                    <a:pt x="738177" y="1987698"/>
                  </a:lnTo>
                  <a:lnTo>
                    <a:pt x="785771" y="1984293"/>
                  </a:lnTo>
                  <a:lnTo>
                    <a:pt x="832720" y="1978682"/>
                  </a:lnTo>
                  <a:lnTo>
                    <a:pt x="878973" y="1970916"/>
                  </a:lnTo>
                  <a:lnTo>
                    <a:pt x="924477" y="1961048"/>
                  </a:lnTo>
                  <a:lnTo>
                    <a:pt x="969180" y="1949130"/>
                  </a:lnTo>
                  <a:lnTo>
                    <a:pt x="1013030" y="1935213"/>
                  </a:lnTo>
                  <a:lnTo>
                    <a:pt x="1055975" y="1919351"/>
                  </a:lnTo>
                  <a:lnTo>
                    <a:pt x="1097964" y="1901594"/>
                  </a:lnTo>
                  <a:lnTo>
                    <a:pt x="1138943" y="1881996"/>
                  </a:lnTo>
                  <a:lnTo>
                    <a:pt x="1178861" y="1860608"/>
                  </a:lnTo>
                  <a:lnTo>
                    <a:pt x="1217667" y="1837481"/>
                  </a:lnTo>
                  <a:lnTo>
                    <a:pt x="1255307" y="1812670"/>
                  </a:lnTo>
                  <a:lnTo>
                    <a:pt x="1291729" y="1786224"/>
                  </a:lnTo>
                  <a:lnTo>
                    <a:pt x="1326883" y="1758197"/>
                  </a:lnTo>
                  <a:lnTo>
                    <a:pt x="1360715" y="1728640"/>
                  </a:lnTo>
                  <a:lnTo>
                    <a:pt x="1393174" y="1697605"/>
                  </a:lnTo>
                  <a:lnTo>
                    <a:pt x="1424207" y="1665145"/>
                  </a:lnTo>
                  <a:lnTo>
                    <a:pt x="1453763" y="1631312"/>
                  </a:lnTo>
                  <a:lnTo>
                    <a:pt x="1481789" y="1596158"/>
                  </a:lnTo>
                  <a:lnTo>
                    <a:pt x="1508233" y="1559734"/>
                  </a:lnTo>
                  <a:lnTo>
                    <a:pt x="1533044" y="1522093"/>
                  </a:lnTo>
                  <a:lnTo>
                    <a:pt x="1556169" y="1483287"/>
                  </a:lnTo>
                  <a:lnTo>
                    <a:pt x="1577557" y="1443367"/>
                  </a:lnTo>
                  <a:lnTo>
                    <a:pt x="1597154" y="1402387"/>
                  </a:lnTo>
                  <a:lnTo>
                    <a:pt x="1614910" y="1360398"/>
                  </a:lnTo>
                  <a:lnTo>
                    <a:pt x="1630772" y="1317452"/>
                  </a:lnTo>
                  <a:lnTo>
                    <a:pt x="1644687" y="1273601"/>
                  </a:lnTo>
                  <a:lnTo>
                    <a:pt x="1656605" y="1228897"/>
                  </a:lnTo>
                  <a:lnTo>
                    <a:pt x="1666473" y="1183393"/>
                  </a:lnTo>
                  <a:lnTo>
                    <a:pt x="1674238" y="1137140"/>
                  </a:lnTo>
                  <a:lnTo>
                    <a:pt x="1679849" y="1090190"/>
                  </a:lnTo>
                  <a:lnTo>
                    <a:pt x="1683254" y="1042596"/>
                  </a:lnTo>
                  <a:lnTo>
                    <a:pt x="1684401" y="994410"/>
                  </a:lnTo>
                  <a:lnTo>
                    <a:pt x="1683254" y="946234"/>
                  </a:lnTo>
                  <a:lnTo>
                    <a:pt x="1679849" y="898649"/>
                  </a:lnTo>
                  <a:lnTo>
                    <a:pt x="1674238" y="851708"/>
                  </a:lnTo>
                  <a:lnTo>
                    <a:pt x="1666473" y="805462"/>
                  </a:lnTo>
                  <a:lnTo>
                    <a:pt x="1656605" y="759964"/>
                  </a:lnTo>
                  <a:lnTo>
                    <a:pt x="1644687" y="715266"/>
                  </a:lnTo>
                  <a:lnTo>
                    <a:pt x="1630772" y="671419"/>
                  </a:lnTo>
                  <a:lnTo>
                    <a:pt x="1614910" y="628477"/>
                  </a:lnTo>
                  <a:lnTo>
                    <a:pt x="1597154" y="586491"/>
                  </a:lnTo>
                  <a:lnTo>
                    <a:pt x="1577557" y="545513"/>
                  </a:lnTo>
                  <a:lnTo>
                    <a:pt x="1556169" y="505595"/>
                  </a:lnTo>
                  <a:lnTo>
                    <a:pt x="1533044" y="466790"/>
                  </a:lnTo>
                  <a:lnTo>
                    <a:pt x="1508233" y="429149"/>
                  </a:lnTo>
                  <a:lnTo>
                    <a:pt x="1481789" y="392725"/>
                  </a:lnTo>
                  <a:lnTo>
                    <a:pt x="1453763" y="357570"/>
                  </a:lnTo>
                  <a:lnTo>
                    <a:pt x="1424207" y="323735"/>
                  </a:lnTo>
                  <a:lnTo>
                    <a:pt x="1393174" y="291274"/>
                  </a:lnTo>
                  <a:lnTo>
                    <a:pt x="1360715" y="260238"/>
                  </a:lnTo>
                  <a:lnTo>
                    <a:pt x="1326883" y="230679"/>
                  </a:lnTo>
                  <a:lnTo>
                    <a:pt x="1291729" y="202649"/>
                  </a:lnTo>
                  <a:lnTo>
                    <a:pt x="1255307" y="176201"/>
                  </a:lnTo>
                  <a:lnTo>
                    <a:pt x="1217667" y="151386"/>
                  </a:lnTo>
                  <a:lnTo>
                    <a:pt x="1178861" y="128257"/>
                  </a:lnTo>
                  <a:lnTo>
                    <a:pt x="1138943" y="106866"/>
                  </a:lnTo>
                  <a:lnTo>
                    <a:pt x="1097964" y="87265"/>
                  </a:lnTo>
                  <a:lnTo>
                    <a:pt x="1055975" y="69506"/>
                  </a:lnTo>
                  <a:lnTo>
                    <a:pt x="1013030" y="53641"/>
                  </a:lnTo>
                  <a:lnTo>
                    <a:pt x="969180" y="39722"/>
                  </a:lnTo>
                  <a:lnTo>
                    <a:pt x="924477" y="27802"/>
                  </a:lnTo>
                  <a:lnTo>
                    <a:pt x="878973" y="17932"/>
                  </a:lnTo>
                  <a:lnTo>
                    <a:pt x="832720" y="10165"/>
                  </a:lnTo>
                  <a:lnTo>
                    <a:pt x="785771" y="4552"/>
                  </a:lnTo>
                  <a:lnTo>
                    <a:pt x="738177" y="1146"/>
                  </a:lnTo>
                  <a:lnTo>
                    <a:pt x="68999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bject 7"/>
            <p:cNvSpPr/>
            <p:nvPr/>
          </p:nvSpPr>
          <p:spPr>
            <a:xfrm>
              <a:off x="6194520" y="3717000"/>
              <a:ext cx="993960" cy="17103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1710360"/>
                <a:gd name="textAreaBottom" fmla="*/ 1710720 h 1710360"/>
              </a:gdLst>
              <a:ahLst/>
              <a:rect l="textAreaLeft" t="textAreaTop" r="textAreaRight" b="textAreaBottom"/>
              <a:pathLst>
                <a:path w="994409" h="1710689">
                  <a:moveTo>
                    <a:pt x="994235" y="0"/>
                  </a:moveTo>
                  <a:lnTo>
                    <a:pt x="943758" y="1281"/>
                  </a:lnTo>
                  <a:lnTo>
                    <a:pt x="893636" y="5100"/>
                  </a:lnTo>
                  <a:lnTo>
                    <a:pt x="843958" y="11420"/>
                  </a:lnTo>
                  <a:lnTo>
                    <a:pt x="794809" y="20204"/>
                  </a:lnTo>
                  <a:lnTo>
                    <a:pt x="746278" y="31416"/>
                  </a:lnTo>
                  <a:lnTo>
                    <a:pt x="698452" y="45019"/>
                  </a:lnTo>
                  <a:lnTo>
                    <a:pt x="651419" y="60975"/>
                  </a:lnTo>
                  <a:lnTo>
                    <a:pt x="605266" y="79248"/>
                  </a:lnTo>
                  <a:lnTo>
                    <a:pt x="560080" y="99800"/>
                  </a:lnTo>
                  <a:lnTo>
                    <a:pt x="515948" y="122597"/>
                  </a:lnTo>
                  <a:lnTo>
                    <a:pt x="472959" y="147599"/>
                  </a:lnTo>
                  <a:lnTo>
                    <a:pt x="431200" y="174771"/>
                  </a:lnTo>
                  <a:lnTo>
                    <a:pt x="390758" y="204076"/>
                  </a:lnTo>
                  <a:lnTo>
                    <a:pt x="351721" y="235477"/>
                  </a:lnTo>
                  <a:lnTo>
                    <a:pt x="314175" y="268937"/>
                  </a:lnTo>
                  <a:lnTo>
                    <a:pt x="278209" y="304419"/>
                  </a:lnTo>
                  <a:lnTo>
                    <a:pt x="245599" y="339898"/>
                  </a:lnTo>
                  <a:lnTo>
                    <a:pt x="215027" y="376519"/>
                  </a:lnTo>
                  <a:lnTo>
                    <a:pt x="186491" y="414209"/>
                  </a:lnTo>
                  <a:lnTo>
                    <a:pt x="159989" y="452892"/>
                  </a:lnTo>
                  <a:lnTo>
                    <a:pt x="135521" y="492497"/>
                  </a:lnTo>
                  <a:lnTo>
                    <a:pt x="113085" y="532949"/>
                  </a:lnTo>
                  <a:lnTo>
                    <a:pt x="92679" y="574174"/>
                  </a:lnTo>
                  <a:lnTo>
                    <a:pt x="74303" y="616099"/>
                  </a:lnTo>
                  <a:lnTo>
                    <a:pt x="57954" y="658651"/>
                  </a:lnTo>
                  <a:lnTo>
                    <a:pt x="43631" y="701754"/>
                  </a:lnTo>
                  <a:lnTo>
                    <a:pt x="31334" y="745337"/>
                  </a:lnTo>
                  <a:lnTo>
                    <a:pt x="21061" y="789325"/>
                  </a:lnTo>
                  <a:lnTo>
                    <a:pt x="12809" y="833644"/>
                  </a:lnTo>
                  <a:lnTo>
                    <a:pt x="6579" y="878221"/>
                  </a:lnTo>
                  <a:lnTo>
                    <a:pt x="2368" y="922981"/>
                  </a:lnTo>
                  <a:lnTo>
                    <a:pt x="175" y="967853"/>
                  </a:lnTo>
                  <a:lnTo>
                    <a:pt x="0" y="1012761"/>
                  </a:lnTo>
                  <a:lnTo>
                    <a:pt x="1839" y="1057632"/>
                  </a:lnTo>
                  <a:lnTo>
                    <a:pt x="5693" y="1102393"/>
                  </a:lnTo>
                  <a:lnTo>
                    <a:pt x="11559" y="1146969"/>
                  </a:lnTo>
                  <a:lnTo>
                    <a:pt x="19436" y="1191288"/>
                  </a:lnTo>
                  <a:lnTo>
                    <a:pt x="29324" y="1235275"/>
                  </a:lnTo>
                  <a:lnTo>
                    <a:pt x="41220" y="1278856"/>
                  </a:lnTo>
                  <a:lnTo>
                    <a:pt x="55123" y="1321959"/>
                  </a:lnTo>
                  <a:lnTo>
                    <a:pt x="71031" y="1364509"/>
                  </a:lnTo>
                  <a:lnTo>
                    <a:pt x="88945" y="1406433"/>
                  </a:lnTo>
                  <a:lnTo>
                    <a:pt x="108861" y="1447656"/>
                  </a:lnTo>
                  <a:lnTo>
                    <a:pt x="130779" y="1488107"/>
                  </a:lnTo>
                  <a:lnTo>
                    <a:pt x="154697" y="1527709"/>
                  </a:lnTo>
                  <a:lnTo>
                    <a:pt x="180614" y="1566391"/>
                  </a:lnTo>
                  <a:lnTo>
                    <a:pt x="208529" y="1604078"/>
                  </a:lnTo>
                  <a:lnTo>
                    <a:pt x="238439" y="1640697"/>
                  </a:lnTo>
                  <a:lnTo>
                    <a:pt x="270345" y="1676174"/>
                  </a:lnTo>
                  <a:lnTo>
                    <a:pt x="304244" y="1710436"/>
                  </a:lnTo>
                  <a:lnTo>
                    <a:pt x="994235" y="994410"/>
                  </a:lnTo>
                  <a:lnTo>
                    <a:pt x="99423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object 8"/>
          <p:cNvSpPr/>
          <p:nvPr/>
        </p:nvSpPr>
        <p:spPr>
          <a:xfrm>
            <a:off x="6485760" y="4331520"/>
            <a:ext cx="1441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960" bIns="0" anchor="t">
            <a:spAutoFit/>
          </a:bodyPr>
          <a:p>
            <a:pPr marL="12600">
              <a:lnSpc>
                <a:spcPct val="100000"/>
              </a:lnSpc>
              <a:spcBef>
                <a:spcPts val="740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ВД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7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560" algn="ctr">
              <a:lnSpc>
                <a:spcPct val="100000"/>
              </a:lnSpc>
              <a:spcBef>
                <a:spcPts val="64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НД+Л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776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ейны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88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1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object 9"/>
          <p:cNvGrpSpPr/>
          <p:nvPr/>
        </p:nvGrpSpPr>
        <p:grpSpPr>
          <a:xfrm>
            <a:off x="783360" y="1213200"/>
            <a:ext cx="3332880" cy="1754280"/>
            <a:chOff x="783360" y="1213200"/>
            <a:chExt cx="3332880" cy="1754280"/>
          </a:xfrm>
        </p:grpSpPr>
        <p:sp>
          <p:nvSpPr>
            <p:cNvPr id="200" name="object 10"/>
            <p:cNvSpPr/>
            <p:nvPr/>
          </p:nvSpPr>
          <p:spPr>
            <a:xfrm>
              <a:off x="822960" y="1738800"/>
              <a:ext cx="100440" cy="10512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100965" h="1051560">
                  <a:moveTo>
                    <a:pt x="0" y="1051560"/>
                  </a:moveTo>
                  <a:lnTo>
                    <a:pt x="100584" y="1051560"/>
                  </a:lnTo>
                </a:path>
                <a:path w="100965" h="1051560">
                  <a:moveTo>
                    <a:pt x="0" y="876300"/>
                  </a:moveTo>
                  <a:lnTo>
                    <a:pt x="100584" y="876300"/>
                  </a:lnTo>
                </a:path>
                <a:path w="100965" h="1051560">
                  <a:moveTo>
                    <a:pt x="0" y="701039"/>
                  </a:moveTo>
                  <a:lnTo>
                    <a:pt x="100584" y="701039"/>
                  </a:lnTo>
                </a:path>
                <a:path w="100965" h="1051560">
                  <a:moveTo>
                    <a:pt x="0" y="525779"/>
                  </a:moveTo>
                  <a:lnTo>
                    <a:pt x="100584" y="525779"/>
                  </a:lnTo>
                </a:path>
                <a:path w="100965" h="1051560">
                  <a:moveTo>
                    <a:pt x="0" y="350519"/>
                  </a:moveTo>
                  <a:lnTo>
                    <a:pt x="100584" y="350519"/>
                  </a:lnTo>
                </a:path>
                <a:path w="100965" h="1051560">
                  <a:moveTo>
                    <a:pt x="0" y="175260"/>
                  </a:moveTo>
                  <a:lnTo>
                    <a:pt x="100584" y="175260"/>
                  </a:lnTo>
                </a:path>
                <a:path w="100965" h="1051560">
                  <a:moveTo>
                    <a:pt x="0" y="0"/>
                  </a:moveTo>
                  <a:lnTo>
                    <a:pt x="1005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bject 11"/>
            <p:cNvSpPr/>
            <p:nvPr/>
          </p:nvSpPr>
          <p:spPr>
            <a:xfrm>
              <a:off x="923400" y="1639800"/>
              <a:ext cx="135360" cy="13273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35890" h="1327785">
                  <a:moveTo>
                    <a:pt x="135636" y="0"/>
                  </a:moveTo>
                  <a:lnTo>
                    <a:pt x="0" y="0"/>
                  </a:lnTo>
                  <a:lnTo>
                    <a:pt x="0" y="1327403"/>
                  </a:lnTo>
                  <a:lnTo>
                    <a:pt x="135636" y="1327403"/>
                  </a:lnTo>
                  <a:lnTo>
                    <a:pt x="13563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bject 12"/>
            <p:cNvSpPr/>
            <p:nvPr/>
          </p:nvSpPr>
          <p:spPr>
            <a:xfrm>
              <a:off x="1193400" y="1563480"/>
              <a:ext cx="334800" cy="122652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1226520"/>
                <a:gd name="textAreaBottom" fmla="*/ 1226880 h 1226520"/>
              </a:gdLst>
              <a:ahLst/>
              <a:rect l="textAreaLeft" t="textAreaTop" r="textAreaRight" b="textAreaBottom"/>
              <a:pathLst>
                <a:path w="335280" h="1226820">
                  <a:moveTo>
                    <a:pt x="0" y="1226820"/>
                  </a:moveTo>
                  <a:lnTo>
                    <a:pt x="201168" y="1226820"/>
                  </a:lnTo>
                </a:path>
                <a:path w="335280" h="1226820">
                  <a:moveTo>
                    <a:pt x="0" y="1051560"/>
                  </a:moveTo>
                  <a:lnTo>
                    <a:pt x="201168" y="1051560"/>
                  </a:lnTo>
                </a:path>
                <a:path w="335280" h="1226820">
                  <a:moveTo>
                    <a:pt x="0" y="876300"/>
                  </a:moveTo>
                  <a:lnTo>
                    <a:pt x="201168" y="876300"/>
                  </a:lnTo>
                </a:path>
                <a:path w="335280" h="1226820">
                  <a:moveTo>
                    <a:pt x="0" y="701039"/>
                  </a:moveTo>
                  <a:lnTo>
                    <a:pt x="201168" y="701039"/>
                  </a:lnTo>
                </a:path>
                <a:path w="335280" h="1226820">
                  <a:moveTo>
                    <a:pt x="0" y="525779"/>
                  </a:moveTo>
                  <a:lnTo>
                    <a:pt x="201168" y="525779"/>
                  </a:lnTo>
                </a:path>
                <a:path w="335280" h="1226820">
                  <a:moveTo>
                    <a:pt x="0" y="350520"/>
                  </a:moveTo>
                  <a:lnTo>
                    <a:pt x="201168" y="350520"/>
                  </a:lnTo>
                </a:path>
                <a:path w="335280" h="1226820">
                  <a:moveTo>
                    <a:pt x="0" y="175260"/>
                  </a:moveTo>
                  <a:lnTo>
                    <a:pt x="201168" y="175260"/>
                  </a:lnTo>
                </a:path>
                <a:path w="335280" h="122682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bject 13"/>
            <p:cNvSpPr/>
            <p:nvPr/>
          </p:nvSpPr>
          <p:spPr>
            <a:xfrm>
              <a:off x="1394280" y="1577520"/>
              <a:ext cx="134280" cy="13896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389600"/>
                <a:gd name="textAreaBottom" fmla="*/ 1389960 h 1389600"/>
              </a:gdLst>
              <a:ahLst/>
              <a:rect l="textAreaLeft" t="textAreaTop" r="textAreaRight" b="textAreaBottom"/>
              <a:pathLst>
                <a:path w="134619" h="1390014">
                  <a:moveTo>
                    <a:pt x="134112" y="0"/>
                  </a:moveTo>
                  <a:lnTo>
                    <a:pt x="0" y="0"/>
                  </a:lnTo>
                  <a:lnTo>
                    <a:pt x="0" y="1389888"/>
                  </a:lnTo>
                  <a:lnTo>
                    <a:pt x="134112" y="1389888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bject 14"/>
            <p:cNvSpPr/>
            <p:nvPr/>
          </p:nvSpPr>
          <p:spPr>
            <a:xfrm>
              <a:off x="822960" y="1563480"/>
              <a:ext cx="235800" cy="36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36219" h="0">
                  <a:moveTo>
                    <a:pt x="0" y="0"/>
                  </a:moveTo>
                  <a:lnTo>
                    <a:pt x="23622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bject 15"/>
            <p:cNvSpPr/>
            <p:nvPr/>
          </p:nvSpPr>
          <p:spPr>
            <a:xfrm>
              <a:off x="1059120" y="1519560"/>
              <a:ext cx="134280" cy="14475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134619" h="1447800">
                  <a:moveTo>
                    <a:pt x="134111" y="0"/>
                  </a:moveTo>
                  <a:lnTo>
                    <a:pt x="0" y="0"/>
                  </a:lnTo>
                  <a:lnTo>
                    <a:pt x="0" y="1447800"/>
                  </a:lnTo>
                  <a:lnTo>
                    <a:pt x="134111" y="1447800"/>
                  </a:lnTo>
                  <a:lnTo>
                    <a:pt x="13411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bject 16"/>
            <p:cNvSpPr/>
            <p:nvPr/>
          </p:nvSpPr>
          <p:spPr>
            <a:xfrm>
              <a:off x="1662840" y="1738800"/>
              <a:ext cx="202680" cy="10512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203200" h="1051560">
                  <a:moveTo>
                    <a:pt x="0" y="1051560"/>
                  </a:moveTo>
                  <a:lnTo>
                    <a:pt x="202692" y="1051560"/>
                  </a:lnTo>
                </a:path>
                <a:path w="203200" h="1051560">
                  <a:moveTo>
                    <a:pt x="0" y="876300"/>
                  </a:moveTo>
                  <a:lnTo>
                    <a:pt x="202692" y="876300"/>
                  </a:lnTo>
                </a:path>
                <a:path w="203200" h="1051560">
                  <a:moveTo>
                    <a:pt x="0" y="701039"/>
                  </a:moveTo>
                  <a:lnTo>
                    <a:pt x="202692" y="701039"/>
                  </a:lnTo>
                </a:path>
                <a:path w="203200" h="1051560">
                  <a:moveTo>
                    <a:pt x="0" y="525779"/>
                  </a:moveTo>
                  <a:lnTo>
                    <a:pt x="202692" y="525779"/>
                  </a:lnTo>
                </a:path>
                <a:path w="203200" h="1051560">
                  <a:moveTo>
                    <a:pt x="0" y="350519"/>
                  </a:moveTo>
                  <a:lnTo>
                    <a:pt x="202692" y="350519"/>
                  </a:lnTo>
                </a:path>
                <a:path w="203200" h="1051560">
                  <a:moveTo>
                    <a:pt x="0" y="175260"/>
                  </a:moveTo>
                  <a:lnTo>
                    <a:pt x="202692" y="175260"/>
                  </a:lnTo>
                </a:path>
                <a:path w="203200" h="1051560">
                  <a:moveTo>
                    <a:pt x="0" y="0"/>
                  </a:moveTo>
                  <a:lnTo>
                    <a:pt x="2026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bject 17"/>
            <p:cNvSpPr/>
            <p:nvPr/>
          </p:nvSpPr>
          <p:spPr>
            <a:xfrm>
              <a:off x="1865520" y="1708560"/>
              <a:ext cx="134280" cy="12589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134619" h="1259205">
                  <a:moveTo>
                    <a:pt x="134112" y="0"/>
                  </a:moveTo>
                  <a:lnTo>
                    <a:pt x="0" y="0"/>
                  </a:lnTo>
                  <a:lnTo>
                    <a:pt x="0" y="1258824"/>
                  </a:lnTo>
                  <a:lnTo>
                    <a:pt x="134112" y="1258824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bject 18"/>
            <p:cNvSpPr/>
            <p:nvPr/>
          </p:nvSpPr>
          <p:spPr>
            <a:xfrm>
              <a:off x="1662840" y="1563480"/>
              <a:ext cx="336960" cy="36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7185" h="0">
                  <a:moveTo>
                    <a:pt x="0" y="0"/>
                  </a:moveTo>
                  <a:lnTo>
                    <a:pt x="336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bject 19"/>
            <p:cNvSpPr/>
            <p:nvPr/>
          </p:nvSpPr>
          <p:spPr>
            <a:xfrm>
              <a:off x="1528560" y="1456920"/>
              <a:ext cx="134280" cy="15102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510200"/>
                <a:gd name="textAreaBottom" fmla="*/ 1510560 h 1510200"/>
              </a:gdLst>
              <a:ahLst/>
              <a:rect l="textAreaLeft" t="textAreaTop" r="textAreaRight" b="textAreaBottom"/>
              <a:pathLst>
                <a:path w="134619" h="1510664">
                  <a:moveTo>
                    <a:pt x="134111" y="0"/>
                  </a:moveTo>
                  <a:lnTo>
                    <a:pt x="0" y="0"/>
                  </a:lnTo>
                  <a:lnTo>
                    <a:pt x="0" y="1510283"/>
                  </a:lnTo>
                  <a:lnTo>
                    <a:pt x="134111" y="1510283"/>
                  </a:lnTo>
                  <a:lnTo>
                    <a:pt x="13411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bject 20"/>
            <p:cNvSpPr/>
            <p:nvPr/>
          </p:nvSpPr>
          <p:spPr>
            <a:xfrm>
              <a:off x="2133720" y="1563480"/>
              <a:ext cx="202680" cy="12265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226520"/>
                <a:gd name="textAreaBottom" fmla="*/ 1226880 h 1226520"/>
              </a:gdLst>
              <a:ahLst/>
              <a:rect l="textAreaLeft" t="textAreaTop" r="textAreaRight" b="textAreaBottom"/>
              <a:pathLst>
                <a:path w="203200" h="1226820">
                  <a:moveTo>
                    <a:pt x="0" y="1226820"/>
                  </a:moveTo>
                  <a:lnTo>
                    <a:pt x="202692" y="1226820"/>
                  </a:lnTo>
                </a:path>
                <a:path w="203200" h="1226820">
                  <a:moveTo>
                    <a:pt x="0" y="1051560"/>
                  </a:moveTo>
                  <a:lnTo>
                    <a:pt x="202692" y="1051560"/>
                  </a:lnTo>
                </a:path>
                <a:path w="203200" h="1226820">
                  <a:moveTo>
                    <a:pt x="0" y="876300"/>
                  </a:moveTo>
                  <a:lnTo>
                    <a:pt x="202692" y="876300"/>
                  </a:lnTo>
                </a:path>
                <a:path w="203200" h="1226820">
                  <a:moveTo>
                    <a:pt x="0" y="701039"/>
                  </a:moveTo>
                  <a:lnTo>
                    <a:pt x="202692" y="701039"/>
                  </a:lnTo>
                </a:path>
                <a:path w="203200" h="1226820">
                  <a:moveTo>
                    <a:pt x="0" y="525779"/>
                  </a:moveTo>
                  <a:lnTo>
                    <a:pt x="202692" y="525779"/>
                  </a:lnTo>
                </a:path>
                <a:path w="203200" h="1226820">
                  <a:moveTo>
                    <a:pt x="0" y="350520"/>
                  </a:moveTo>
                  <a:lnTo>
                    <a:pt x="202692" y="350520"/>
                  </a:lnTo>
                </a:path>
                <a:path w="203200" h="1226820">
                  <a:moveTo>
                    <a:pt x="0" y="175260"/>
                  </a:moveTo>
                  <a:lnTo>
                    <a:pt x="202692" y="175260"/>
                  </a:lnTo>
                </a:path>
                <a:path w="203200" h="1226820">
                  <a:moveTo>
                    <a:pt x="0" y="0"/>
                  </a:moveTo>
                  <a:lnTo>
                    <a:pt x="2026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bject 21"/>
            <p:cNvSpPr/>
            <p:nvPr/>
          </p:nvSpPr>
          <p:spPr>
            <a:xfrm>
              <a:off x="2336400" y="1472040"/>
              <a:ext cx="134280" cy="14950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95080"/>
                <a:gd name="textAreaBottom" fmla="*/ 1495440 h 1495080"/>
              </a:gdLst>
              <a:ahLst/>
              <a:rect l="textAreaLeft" t="textAreaTop" r="textAreaRight" b="textAreaBottom"/>
              <a:pathLst>
                <a:path w="134619" h="1495425">
                  <a:moveTo>
                    <a:pt x="134112" y="0"/>
                  </a:moveTo>
                  <a:lnTo>
                    <a:pt x="0" y="0"/>
                  </a:lnTo>
                  <a:lnTo>
                    <a:pt x="0" y="1495043"/>
                  </a:lnTo>
                  <a:lnTo>
                    <a:pt x="134112" y="1495043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bject 22"/>
            <p:cNvSpPr/>
            <p:nvPr/>
          </p:nvSpPr>
          <p:spPr>
            <a:xfrm>
              <a:off x="822960" y="1388520"/>
              <a:ext cx="1647360" cy="360"/>
            </a:xfrm>
            <a:custGeom>
              <a:avLst/>
              <a:gdLst>
                <a:gd name="textAreaLeft" fmla="*/ 0 w 1647360"/>
                <a:gd name="textAreaRight" fmla="*/ 1647720 w 164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47825" h="0">
                  <a:moveTo>
                    <a:pt x="0" y="0"/>
                  </a:moveTo>
                  <a:lnTo>
                    <a:pt x="1176528" y="0"/>
                  </a:lnTo>
                </a:path>
                <a:path w="1647825" h="0">
                  <a:moveTo>
                    <a:pt x="1310640" y="0"/>
                  </a:moveTo>
                  <a:lnTo>
                    <a:pt x="16474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bject 23"/>
            <p:cNvSpPr/>
            <p:nvPr/>
          </p:nvSpPr>
          <p:spPr>
            <a:xfrm>
              <a:off x="1999440" y="1327320"/>
              <a:ext cx="134280" cy="16398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639800"/>
                <a:gd name="textAreaBottom" fmla="*/ 1640160 h 1639800"/>
              </a:gdLst>
              <a:ahLst/>
              <a:rect l="textAreaLeft" t="textAreaTop" r="textAreaRight" b="textAreaBottom"/>
              <a:pathLst>
                <a:path w="134619" h="1640205">
                  <a:moveTo>
                    <a:pt x="134112" y="0"/>
                  </a:moveTo>
                  <a:lnTo>
                    <a:pt x="0" y="0"/>
                  </a:lnTo>
                  <a:lnTo>
                    <a:pt x="0" y="1639824"/>
                  </a:lnTo>
                  <a:lnTo>
                    <a:pt x="134112" y="1639824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bject 24"/>
            <p:cNvSpPr/>
            <p:nvPr/>
          </p:nvSpPr>
          <p:spPr>
            <a:xfrm>
              <a:off x="2604600" y="1738800"/>
              <a:ext cx="200880" cy="10512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201294" h="1051560">
                  <a:moveTo>
                    <a:pt x="0" y="1051560"/>
                  </a:moveTo>
                  <a:lnTo>
                    <a:pt x="201167" y="1051560"/>
                  </a:lnTo>
                </a:path>
                <a:path w="201294" h="1051560">
                  <a:moveTo>
                    <a:pt x="0" y="876300"/>
                  </a:moveTo>
                  <a:lnTo>
                    <a:pt x="201167" y="876300"/>
                  </a:lnTo>
                </a:path>
                <a:path w="201294" h="1051560">
                  <a:moveTo>
                    <a:pt x="0" y="701039"/>
                  </a:moveTo>
                  <a:lnTo>
                    <a:pt x="201167" y="701039"/>
                  </a:lnTo>
                </a:path>
                <a:path w="201294" h="1051560">
                  <a:moveTo>
                    <a:pt x="0" y="525779"/>
                  </a:moveTo>
                  <a:lnTo>
                    <a:pt x="201167" y="525779"/>
                  </a:lnTo>
                </a:path>
                <a:path w="201294" h="1051560">
                  <a:moveTo>
                    <a:pt x="0" y="350519"/>
                  </a:moveTo>
                  <a:lnTo>
                    <a:pt x="201167" y="350519"/>
                  </a:lnTo>
                </a:path>
                <a:path w="201294" h="1051560">
                  <a:moveTo>
                    <a:pt x="0" y="175260"/>
                  </a:moveTo>
                  <a:lnTo>
                    <a:pt x="201167" y="175260"/>
                  </a:lnTo>
                </a:path>
                <a:path w="201294" h="1051560">
                  <a:moveTo>
                    <a:pt x="0" y="0"/>
                  </a:moveTo>
                  <a:lnTo>
                    <a:pt x="2011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bject 25"/>
            <p:cNvSpPr/>
            <p:nvPr/>
          </p:nvSpPr>
          <p:spPr>
            <a:xfrm>
              <a:off x="2805840" y="1671840"/>
              <a:ext cx="134280" cy="12949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134619" h="1295400">
                  <a:moveTo>
                    <a:pt x="134112" y="0"/>
                  </a:moveTo>
                  <a:lnTo>
                    <a:pt x="0" y="0"/>
                  </a:lnTo>
                  <a:lnTo>
                    <a:pt x="0" y="1295400"/>
                  </a:lnTo>
                  <a:lnTo>
                    <a:pt x="134112" y="1295400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bject 26"/>
            <p:cNvSpPr/>
            <p:nvPr/>
          </p:nvSpPr>
          <p:spPr>
            <a:xfrm>
              <a:off x="2604600" y="1560600"/>
              <a:ext cx="334800" cy="46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5280" h="5080">
                  <a:moveTo>
                    <a:pt x="0" y="4572"/>
                  </a:moveTo>
                  <a:lnTo>
                    <a:pt x="335279" y="4572"/>
                  </a:lnTo>
                </a:path>
                <a:path w="335280" h="5080">
                  <a:moveTo>
                    <a:pt x="0" y="0"/>
                  </a:moveTo>
                  <a:lnTo>
                    <a:pt x="335279" y="0"/>
                  </a:lnTo>
                </a:path>
              </a:pathLst>
            </a:custGeom>
            <a:noFill/>
            <a:ln w="6096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bject 27"/>
            <p:cNvSpPr/>
            <p:nvPr/>
          </p:nvSpPr>
          <p:spPr>
            <a:xfrm>
              <a:off x="2604600" y="1388520"/>
              <a:ext cx="334800" cy="36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5280" h="0">
                  <a:moveTo>
                    <a:pt x="0" y="0"/>
                  </a:moveTo>
                  <a:lnTo>
                    <a:pt x="33527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bject 28"/>
            <p:cNvSpPr/>
            <p:nvPr/>
          </p:nvSpPr>
          <p:spPr>
            <a:xfrm>
              <a:off x="2470320" y="1307520"/>
              <a:ext cx="134280" cy="16596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659600"/>
                <a:gd name="textAreaBottom" fmla="*/ 1659960 h 1659600"/>
              </a:gdLst>
              <a:ahLst/>
              <a:rect l="textAreaLeft" t="textAreaTop" r="textAreaRight" b="textAreaBottom"/>
              <a:pathLst>
                <a:path w="134619" h="1659889">
                  <a:moveTo>
                    <a:pt x="134112" y="0"/>
                  </a:moveTo>
                  <a:lnTo>
                    <a:pt x="0" y="0"/>
                  </a:lnTo>
                  <a:lnTo>
                    <a:pt x="0" y="1659636"/>
                  </a:lnTo>
                  <a:lnTo>
                    <a:pt x="134112" y="1659636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bject 29"/>
            <p:cNvSpPr/>
            <p:nvPr/>
          </p:nvSpPr>
          <p:spPr>
            <a:xfrm>
              <a:off x="3075480" y="1738800"/>
              <a:ext cx="200880" cy="10512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201295" h="1051560">
                  <a:moveTo>
                    <a:pt x="0" y="1051560"/>
                  </a:moveTo>
                  <a:lnTo>
                    <a:pt x="201168" y="1051560"/>
                  </a:lnTo>
                </a:path>
                <a:path w="201295" h="1051560">
                  <a:moveTo>
                    <a:pt x="0" y="876300"/>
                  </a:moveTo>
                  <a:lnTo>
                    <a:pt x="201168" y="876300"/>
                  </a:lnTo>
                </a:path>
                <a:path w="201295" h="1051560">
                  <a:moveTo>
                    <a:pt x="0" y="701039"/>
                  </a:moveTo>
                  <a:lnTo>
                    <a:pt x="201168" y="701039"/>
                  </a:lnTo>
                </a:path>
                <a:path w="201295" h="1051560">
                  <a:moveTo>
                    <a:pt x="0" y="525779"/>
                  </a:moveTo>
                  <a:lnTo>
                    <a:pt x="201168" y="525779"/>
                  </a:lnTo>
                </a:path>
                <a:path w="201295" h="1051560">
                  <a:moveTo>
                    <a:pt x="0" y="350519"/>
                  </a:moveTo>
                  <a:lnTo>
                    <a:pt x="201168" y="350519"/>
                  </a:lnTo>
                </a:path>
                <a:path w="201295" h="1051560">
                  <a:moveTo>
                    <a:pt x="0" y="175260"/>
                  </a:moveTo>
                  <a:lnTo>
                    <a:pt x="201168" y="175260"/>
                  </a:lnTo>
                </a:path>
                <a:path w="201295" h="1051560">
                  <a:moveTo>
                    <a:pt x="0" y="0"/>
                  </a:moveTo>
                  <a:lnTo>
                    <a:pt x="2011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bject 30"/>
            <p:cNvSpPr/>
            <p:nvPr/>
          </p:nvSpPr>
          <p:spPr>
            <a:xfrm>
              <a:off x="3075480" y="1560600"/>
              <a:ext cx="334800" cy="46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5279" h="5080">
                  <a:moveTo>
                    <a:pt x="0" y="4572"/>
                  </a:moveTo>
                  <a:lnTo>
                    <a:pt x="335280" y="4572"/>
                  </a:lnTo>
                </a:path>
                <a:path w="335279" h="508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6096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bject 31"/>
            <p:cNvSpPr/>
            <p:nvPr/>
          </p:nvSpPr>
          <p:spPr>
            <a:xfrm>
              <a:off x="3276720" y="1562040"/>
              <a:ext cx="134280" cy="14047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134620" h="1405255">
                  <a:moveTo>
                    <a:pt x="134112" y="0"/>
                  </a:moveTo>
                  <a:lnTo>
                    <a:pt x="0" y="0"/>
                  </a:lnTo>
                  <a:lnTo>
                    <a:pt x="0" y="1405127"/>
                  </a:lnTo>
                  <a:lnTo>
                    <a:pt x="134112" y="1405127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bject 32"/>
            <p:cNvSpPr/>
            <p:nvPr/>
          </p:nvSpPr>
          <p:spPr>
            <a:xfrm>
              <a:off x="3075480" y="1388520"/>
              <a:ext cx="806040" cy="36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06450" h="0">
                  <a:moveTo>
                    <a:pt x="0" y="0"/>
                  </a:moveTo>
                  <a:lnTo>
                    <a:pt x="8061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bject 33"/>
            <p:cNvSpPr/>
            <p:nvPr/>
          </p:nvSpPr>
          <p:spPr>
            <a:xfrm>
              <a:off x="2939760" y="1382400"/>
              <a:ext cx="135360" cy="15847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584720"/>
                <a:gd name="textAreaBottom" fmla="*/ 1585080 h 1584720"/>
              </a:gdLst>
              <a:ahLst/>
              <a:rect l="textAreaLeft" t="textAreaTop" r="textAreaRight" b="textAreaBottom"/>
              <a:pathLst>
                <a:path w="135889" h="1584960">
                  <a:moveTo>
                    <a:pt x="135636" y="0"/>
                  </a:moveTo>
                  <a:lnTo>
                    <a:pt x="0" y="0"/>
                  </a:lnTo>
                  <a:lnTo>
                    <a:pt x="0" y="1584960"/>
                  </a:lnTo>
                  <a:lnTo>
                    <a:pt x="135636" y="1584960"/>
                  </a:lnTo>
                  <a:lnTo>
                    <a:pt x="13563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bject 34"/>
            <p:cNvSpPr/>
            <p:nvPr/>
          </p:nvSpPr>
          <p:spPr>
            <a:xfrm>
              <a:off x="3544920" y="1738800"/>
              <a:ext cx="202680" cy="10512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203200" h="1051560">
                  <a:moveTo>
                    <a:pt x="0" y="1051560"/>
                  </a:moveTo>
                  <a:lnTo>
                    <a:pt x="202691" y="1051560"/>
                  </a:lnTo>
                </a:path>
                <a:path w="203200" h="1051560">
                  <a:moveTo>
                    <a:pt x="0" y="876300"/>
                  </a:moveTo>
                  <a:lnTo>
                    <a:pt x="202691" y="876300"/>
                  </a:lnTo>
                </a:path>
                <a:path w="203200" h="1051560">
                  <a:moveTo>
                    <a:pt x="0" y="701039"/>
                  </a:moveTo>
                  <a:lnTo>
                    <a:pt x="202691" y="701039"/>
                  </a:lnTo>
                </a:path>
                <a:path w="203200" h="1051560">
                  <a:moveTo>
                    <a:pt x="0" y="525779"/>
                  </a:moveTo>
                  <a:lnTo>
                    <a:pt x="202691" y="525779"/>
                  </a:lnTo>
                </a:path>
                <a:path w="203200" h="1051560">
                  <a:moveTo>
                    <a:pt x="0" y="350519"/>
                  </a:moveTo>
                  <a:lnTo>
                    <a:pt x="202691" y="350519"/>
                  </a:lnTo>
                </a:path>
                <a:path w="203200" h="1051560">
                  <a:moveTo>
                    <a:pt x="0" y="175260"/>
                  </a:moveTo>
                  <a:lnTo>
                    <a:pt x="202691" y="175260"/>
                  </a:lnTo>
                </a:path>
                <a:path w="203200" h="1051560">
                  <a:moveTo>
                    <a:pt x="0" y="0"/>
                  </a:moveTo>
                  <a:lnTo>
                    <a:pt x="2026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bject 35"/>
            <p:cNvSpPr/>
            <p:nvPr/>
          </p:nvSpPr>
          <p:spPr>
            <a:xfrm>
              <a:off x="3544920" y="1560600"/>
              <a:ext cx="202680" cy="46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3200" h="5080">
                  <a:moveTo>
                    <a:pt x="0" y="4572"/>
                  </a:moveTo>
                  <a:lnTo>
                    <a:pt x="202691" y="4572"/>
                  </a:lnTo>
                </a:path>
                <a:path w="203200" h="5080">
                  <a:moveTo>
                    <a:pt x="0" y="0"/>
                  </a:moveTo>
                  <a:lnTo>
                    <a:pt x="202691" y="0"/>
                  </a:lnTo>
                </a:path>
              </a:pathLst>
            </a:custGeom>
            <a:noFill/>
            <a:ln w="6096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bject 36"/>
            <p:cNvSpPr/>
            <p:nvPr/>
          </p:nvSpPr>
          <p:spPr>
            <a:xfrm>
              <a:off x="3747600" y="1467720"/>
              <a:ext cx="134280" cy="14994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99400"/>
                <a:gd name="textAreaBottom" fmla="*/ 1499760 h 1499400"/>
              </a:gdLst>
              <a:ahLst/>
              <a:rect l="textAreaLeft" t="textAreaTop" r="textAreaRight" b="textAreaBottom"/>
              <a:pathLst>
                <a:path w="134620" h="1499870">
                  <a:moveTo>
                    <a:pt x="134112" y="0"/>
                  </a:moveTo>
                  <a:lnTo>
                    <a:pt x="0" y="0"/>
                  </a:lnTo>
                  <a:lnTo>
                    <a:pt x="0" y="1499615"/>
                  </a:lnTo>
                  <a:lnTo>
                    <a:pt x="134112" y="1499615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bject 37"/>
            <p:cNvSpPr/>
            <p:nvPr/>
          </p:nvSpPr>
          <p:spPr>
            <a:xfrm>
              <a:off x="3410640" y="1400400"/>
              <a:ext cx="134280" cy="15667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134620" h="1567180">
                  <a:moveTo>
                    <a:pt x="134112" y="0"/>
                  </a:moveTo>
                  <a:lnTo>
                    <a:pt x="0" y="0"/>
                  </a:lnTo>
                  <a:lnTo>
                    <a:pt x="0" y="1566672"/>
                  </a:lnTo>
                  <a:lnTo>
                    <a:pt x="134112" y="1566672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bject 38"/>
            <p:cNvSpPr/>
            <p:nvPr/>
          </p:nvSpPr>
          <p:spPr>
            <a:xfrm>
              <a:off x="4015800" y="1738800"/>
              <a:ext cx="100440" cy="10512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100964" h="1051560">
                  <a:moveTo>
                    <a:pt x="0" y="1051560"/>
                  </a:moveTo>
                  <a:lnTo>
                    <a:pt x="100584" y="1051560"/>
                  </a:lnTo>
                </a:path>
                <a:path w="100964" h="1051560">
                  <a:moveTo>
                    <a:pt x="0" y="876300"/>
                  </a:moveTo>
                  <a:lnTo>
                    <a:pt x="100584" y="876300"/>
                  </a:lnTo>
                </a:path>
                <a:path w="100964" h="1051560">
                  <a:moveTo>
                    <a:pt x="0" y="701039"/>
                  </a:moveTo>
                  <a:lnTo>
                    <a:pt x="100584" y="701039"/>
                  </a:lnTo>
                </a:path>
                <a:path w="100964" h="1051560">
                  <a:moveTo>
                    <a:pt x="0" y="525779"/>
                  </a:moveTo>
                  <a:lnTo>
                    <a:pt x="100584" y="525779"/>
                  </a:lnTo>
                </a:path>
                <a:path w="100964" h="1051560">
                  <a:moveTo>
                    <a:pt x="0" y="350519"/>
                  </a:moveTo>
                  <a:lnTo>
                    <a:pt x="100584" y="350519"/>
                  </a:lnTo>
                </a:path>
                <a:path w="100964" h="1051560">
                  <a:moveTo>
                    <a:pt x="0" y="175260"/>
                  </a:moveTo>
                  <a:lnTo>
                    <a:pt x="100584" y="175260"/>
                  </a:lnTo>
                </a:path>
                <a:path w="100964" h="1051560">
                  <a:moveTo>
                    <a:pt x="0" y="0"/>
                  </a:moveTo>
                  <a:lnTo>
                    <a:pt x="1005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bject 39"/>
            <p:cNvSpPr/>
            <p:nvPr/>
          </p:nvSpPr>
          <p:spPr>
            <a:xfrm>
              <a:off x="4015800" y="1560600"/>
              <a:ext cx="100440" cy="4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964" h="5080">
                  <a:moveTo>
                    <a:pt x="0" y="4572"/>
                  </a:moveTo>
                  <a:lnTo>
                    <a:pt x="100584" y="4572"/>
                  </a:lnTo>
                </a:path>
                <a:path w="100964" h="5080">
                  <a:moveTo>
                    <a:pt x="0" y="0"/>
                  </a:moveTo>
                  <a:lnTo>
                    <a:pt x="100584" y="0"/>
                  </a:lnTo>
                </a:path>
              </a:pathLst>
            </a:custGeom>
            <a:noFill/>
            <a:ln w="6096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bject 40"/>
            <p:cNvSpPr/>
            <p:nvPr/>
          </p:nvSpPr>
          <p:spPr>
            <a:xfrm>
              <a:off x="4015800" y="1388520"/>
              <a:ext cx="100440" cy="36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0964" h="0">
                  <a:moveTo>
                    <a:pt x="0" y="0"/>
                  </a:moveTo>
                  <a:lnTo>
                    <a:pt x="1005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bject 41"/>
            <p:cNvSpPr/>
            <p:nvPr/>
          </p:nvSpPr>
          <p:spPr>
            <a:xfrm>
              <a:off x="3881520" y="1345680"/>
              <a:ext cx="134280" cy="16214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621440"/>
                <a:gd name="textAreaBottom" fmla="*/ 1621800 h 1621440"/>
              </a:gdLst>
              <a:ahLst/>
              <a:rect l="textAreaLeft" t="textAreaTop" r="textAreaRight" b="textAreaBottom"/>
              <a:pathLst>
                <a:path w="134620" h="1621789">
                  <a:moveTo>
                    <a:pt x="134112" y="0"/>
                  </a:moveTo>
                  <a:lnTo>
                    <a:pt x="0" y="0"/>
                  </a:lnTo>
                  <a:lnTo>
                    <a:pt x="0" y="1621536"/>
                  </a:lnTo>
                  <a:lnTo>
                    <a:pt x="134112" y="1621536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bject 42"/>
            <p:cNvSpPr/>
            <p:nvPr/>
          </p:nvSpPr>
          <p:spPr>
            <a:xfrm>
              <a:off x="783360" y="1213200"/>
              <a:ext cx="3332880" cy="1754280"/>
            </a:xfrm>
            <a:custGeom>
              <a:avLst/>
              <a:gdLst>
                <a:gd name="textAreaLeft" fmla="*/ 0 w 3332880"/>
                <a:gd name="textAreaRight" fmla="*/ 3333240 w 3332880"/>
                <a:gd name="textAreaTop" fmla="*/ 0 h 1754280"/>
                <a:gd name="textAreaBottom" fmla="*/ 1754640 h 1754280"/>
              </a:gdLst>
              <a:ahLst/>
              <a:rect l="textAreaLeft" t="textAreaTop" r="textAreaRight" b="textAreaBottom"/>
              <a:pathLst>
                <a:path w="3333115" h="1754505">
                  <a:moveTo>
                    <a:pt x="39623" y="0"/>
                  </a:moveTo>
                  <a:lnTo>
                    <a:pt x="3332988" y="0"/>
                  </a:lnTo>
                </a:path>
                <a:path w="3333115" h="1754505">
                  <a:moveTo>
                    <a:pt x="39623" y="1754124"/>
                  </a:moveTo>
                  <a:lnTo>
                    <a:pt x="39623" y="0"/>
                  </a:lnTo>
                </a:path>
                <a:path w="3333115" h="1754505">
                  <a:moveTo>
                    <a:pt x="0" y="1754124"/>
                  </a:moveTo>
                  <a:lnTo>
                    <a:pt x="39623" y="1754124"/>
                  </a:lnTo>
                </a:path>
                <a:path w="3333115" h="1754505">
                  <a:moveTo>
                    <a:pt x="0" y="1577340"/>
                  </a:moveTo>
                  <a:lnTo>
                    <a:pt x="39623" y="1577340"/>
                  </a:lnTo>
                </a:path>
                <a:path w="3333115" h="1754505">
                  <a:moveTo>
                    <a:pt x="0" y="1402080"/>
                  </a:moveTo>
                  <a:lnTo>
                    <a:pt x="39623" y="1402080"/>
                  </a:lnTo>
                </a:path>
                <a:path w="3333115" h="1754505">
                  <a:moveTo>
                    <a:pt x="0" y="1226820"/>
                  </a:moveTo>
                  <a:lnTo>
                    <a:pt x="39623" y="1226820"/>
                  </a:lnTo>
                </a:path>
                <a:path w="3333115" h="1754505">
                  <a:moveTo>
                    <a:pt x="0" y="1051560"/>
                  </a:moveTo>
                  <a:lnTo>
                    <a:pt x="39623" y="1051560"/>
                  </a:lnTo>
                </a:path>
                <a:path w="3333115" h="1754505">
                  <a:moveTo>
                    <a:pt x="0" y="876300"/>
                  </a:moveTo>
                  <a:lnTo>
                    <a:pt x="39623" y="876300"/>
                  </a:lnTo>
                </a:path>
                <a:path w="3333115" h="1754505">
                  <a:moveTo>
                    <a:pt x="0" y="701040"/>
                  </a:moveTo>
                  <a:lnTo>
                    <a:pt x="39623" y="701040"/>
                  </a:lnTo>
                </a:path>
                <a:path w="3333115" h="1754505">
                  <a:moveTo>
                    <a:pt x="0" y="525780"/>
                  </a:moveTo>
                  <a:lnTo>
                    <a:pt x="39623" y="525780"/>
                  </a:lnTo>
                </a:path>
                <a:path w="3333115" h="1754505">
                  <a:moveTo>
                    <a:pt x="0" y="350520"/>
                  </a:moveTo>
                  <a:lnTo>
                    <a:pt x="39623" y="350520"/>
                  </a:lnTo>
                </a:path>
                <a:path w="3333115" h="1754505">
                  <a:moveTo>
                    <a:pt x="0" y="175260"/>
                  </a:moveTo>
                  <a:lnTo>
                    <a:pt x="39623" y="175260"/>
                  </a:lnTo>
                </a:path>
                <a:path w="3333115" h="1754505">
                  <a:moveTo>
                    <a:pt x="0" y="0"/>
                  </a:moveTo>
                  <a:lnTo>
                    <a:pt x="39623" y="0"/>
                  </a:lnTo>
                </a:path>
                <a:path w="3333115" h="1754505">
                  <a:moveTo>
                    <a:pt x="39623" y="1754124"/>
                  </a:moveTo>
                  <a:lnTo>
                    <a:pt x="3332988" y="175412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bject 43"/>
            <p:cNvSpPr/>
            <p:nvPr/>
          </p:nvSpPr>
          <p:spPr>
            <a:xfrm>
              <a:off x="1058400" y="2337120"/>
              <a:ext cx="2822040" cy="228240"/>
            </a:xfrm>
            <a:custGeom>
              <a:avLst/>
              <a:gdLst>
                <a:gd name="textAreaLeft" fmla="*/ 0 w 2822040"/>
                <a:gd name="textAreaRight" fmla="*/ 2822400 w 28220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822575" h="228600">
                  <a:moveTo>
                    <a:pt x="0" y="208787"/>
                  </a:moveTo>
                  <a:lnTo>
                    <a:pt x="470916" y="187451"/>
                  </a:lnTo>
                  <a:lnTo>
                    <a:pt x="941832" y="0"/>
                  </a:lnTo>
                  <a:lnTo>
                    <a:pt x="1411224" y="115824"/>
                  </a:lnTo>
                  <a:lnTo>
                    <a:pt x="1882139" y="64008"/>
                  </a:lnTo>
                  <a:lnTo>
                    <a:pt x="2353056" y="205740"/>
                  </a:lnTo>
                  <a:lnTo>
                    <a:pt x="2822447" y="228600"/>
                  </a:lnTo>
                </a:path>
              </a:pathLst>
            </a:custGeom>
            <a:noFill/>
            <a:ln w="28956">
              <a:solidFill>
                <a:srgbClr val="6f2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bject 44"/>
            <p:cNvSpPr/>
            <p:nvPr/>
          </p:nvSpPr>
          <p:spPr>
            <a:xfrm>
              <a:off x="1014840" y="2501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bject 45"/>
            <p:cNvSpPr/>
            <p:nvPr/>
          </p:nvSpPr>
          <p:spPr>
            <a:xfrm>
              <a:off x="1014840" y="2501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bject 46"/>
            <p:cNvSpPr/>
            <p:nvPr/>
          </p:nvSpPr>
          <p:spPr>
            <a:xfrm>
              <a:off x="1484280" y="2480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bject 47"/>
            <p:cNvSpPr/>
            <p:nvPr/>
          </p:nvSpPr>
          <p:spPr>
            <a:xfrm>
              <a:off x="1484280" y="2480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bject 48"/>
            <p:cNvSpPr/>
            <p:nvPr/>
          </p:nvSpPr>
          <p:spPr>
            <a:xfrm>
              <a:off x="1955160" y="22924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bject 49"/>
            <p:cNvSpPr/>
            <p:nvPr/>
          </p:nvSpPr>
          <p:spPr>
            <a:xfrm>
              <a:off x="1955160" y="22924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bject 50"/>
            <p:cNvSpPr/>
            <p:nvPr/>
          </p:nvSpPr>
          <p:spPr>
            <a:xfrm>
              <a:off x="2426040" y="240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bject 51"/>
            <p:cNvSpPr/>
            <p:nvPr/>
          </p:nvSpPr>
          <p:spPr>
            <a:xfrm>
              <a:off x="2426040" y="240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bject 52"/>
            <p:cNvSpPr/>
            <p:nvPr/>
          </p:nvSpPr>
          <p:spPr>
            <a:xfrm>
              <a:off x="2895480" y="2358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bject 53"/>
            <p:cNvSpPr/>
            <p:nvPr/>
          </p:nvSpPr>
          <p:spPr>
            <a:xfrm>
              <a:off x="2895480" y="2358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bject 54"/>
            <p:cNvSpPr/>
            <p:nvPr/>
          </p:nvSpPr>
          <p:spPr>
            <a:xfrm>
              <a:off x="3366360" y="249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bject 55"/>
            <p:cNvSpPr/>
            <p:nvPr/>
          </p:nvSpPr>
          <p:spPr>
            <a:xfrm>
              <a:off x="3366360" y="249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bject 56"/>
            <p:cNvSpPr/>
            <p:nvPr/>
          </p:nvSpPr>
          <p:spPr>
            <a:xfrm>
              <a:off x="3837600" y="252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bject 57"/>
            <p:cNvSpPr/>
            <p:nvPr/>
          </p:nvSpPr>
          <p:spPr>
            <a:xfrm>
              <a:off x="3837600" y="252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bject 58"/>
            <p:cNvSpPr/>
            <p:nvPr/>
          </p:nvSpPr>
          <p:spPr>
            <a:xfrm>
              <a:off x="1058400" y="2619000"/>
              <a:ext cx="2822040" cy="97560"/>
            </a:xfrm>
            <a:custGeom>
              <a:avLst/>
              <a:gdLst>
                <a:gd name="textAreaLeft" fmla="*/ 0 w 2822040"/>
                <a:gd name="textAreaRight" fmla="*/ 2822400 w 28220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22575" h="97789">
                  <a:moveTo>
                    <a:pt x="0" y="45719"/>
                  </a:moveTo>
                  <a:lnTo>
                    <a:pt x="470916" y="27431"/>
                  </a:lnTo>
                  <a:lnTo>
                    <a:pt x="941832" y="97535"/>
                  </a:lnTo>
                  <a:lnTo>
                    <a:pt x="1411224" y="0"/>
                  </a:lnTo>
                  <a:lnTo>
                    <a:pt x="1882139" y="73151"/>
                  </a:lnTo>
                  <a:lnTo>
                    <a:pt x="2353056" y="85343"/>
                  </a:lnTo>
                  <a:lnTo>
                    <a:pt x="2822447" y="70103"/>
                  </a:lnTo>
                </a:path>
              </a:pathLst>
            </a:custGeom>
            <a:noFill/>
            <a:ln w="28956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object 59" descr=""/>
            <p:cNvPicPr/>
            <p:nvPr/>
          </p:nvPicPr>
          <p:blipFill>
            <a:blip r:embed="rId2"/>
            <a:stretch/>
          </p:blipFill>
          <p:spPr>
            <a:xfrm>
              <a:off x="1010520" y="2617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object 60" descr=""/>
            <p:cNvPicPr/>
            <p:nvPr/>
          </p:nvPicPr>
          <p:blipFill>
            <a:blip r:embed="rId3"/>
            <a:stretch/>
          </p:blipFill>
          <p:spPr>
            <a:xfrm>
              <a:off x="1479960" y="25974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object 61" descr=""/>
            <p:cNvPicPr/>
            <p:nvPr/>
          </p:nvPicPr>
          <p:blipFill>
            <a:blip r:embed="rId4"/>
            <a:stretch/>
          </p:blipFill>
          <p:spPr>
            <a:xfrm>
              <a:off x="1950840" y="26690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object 62" descr=""/>
            <p:cNvPicPr/>
            <p:nvPr/>
          </p:nvPicPr>
          <p:blipFill>
            <a:blip r:embed="rId5"/>
            <a:stretch/>
          </p:blipFill>
          <p:spPr>
            <a:xfrm>
              <a:off x="2421720" y="25700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object 63" descr=""/>
            <p:cNvPicPr/>
            <p:nvPr/>
          </p:nvPicPr>
          <p:blipFill>
            <a:blip r:embed="rId6"/>
            <a:stretch/>
          </p:blipFill>
          <p:spPr>
            <a:xfrm>
              <a:off x="2891160" y="26431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object 64" descr=""/>
            <p:cNvPicPr/>
            <p:nvPr/>
          </p:nvPicPr>
          <p:blipFill>
            <a:blip r:embed="rId7"/>
            <a:stretch/>
          </p:blipFill>
          <p:spPr>
            <a:xfrm>
              <a:off x="3362040" y="26568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object 65" descr=""/>
            <p:cNvPicPr/>
            <p:nvPr/>
          </p:nvPicPr>
          <p:blipFill>
            <a:blip r:embed="rId8"/>
            <a:stretch/>
          </p:blipFill>
          <p:spPr>
            <a:xfrm>
              <a:off x="3832920" y="264024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object 66"/>
          <p:cNvSpPr/>
          <p:nvPr/>
        </p:nvSpPr>
        <p:spPr>
          <a:xfrm>
            <a:off x="802800" y="14086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513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67"/>
          <p:cNvSpPr/>
          <p:nvPr/>
        </p:nvSpPr>
        <p:spPr>
          <a:xfrm>
            <a:off x="1273320" y="1347120"/>
            <a:ext cx="378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583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68"/>
          <p:cNvSpPr/>
          <p:nvPr/>
        </p:nvSpPr>
        <p:spPr>
          <a:xfrm>
            <a:off x="1743840" y="14774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435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69"/>
          <p:cNvSpPr/>
          <p:nvPr/>
        </p:nvSpPr>
        <p:spPr>
          <a:xfrm>
            <a:off x="2214360" y="124236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703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70"/>
          <p:cNvSpPr/>
          <p:nvPr/>
        </p:nvSpPr>
        <p:spPr>
          <a:xfrm>
            <a:off x="2684880" y="14414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476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71"/>
          <p:cNvSpPr/>
          <p:nvPr/>
        </p:nvSpPr>
        <p:spPr>
          <a:xfrm>
            <a:off x="3155760" y="13316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601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72"/>
          <p:cNvSpPr/>
          <p:nvPr/>
        </p:nvSpPr>
        <p:spPr>
          <a:xfrm>
            <a:off x="3626280" y="12376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708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73"/>
          <p:cNvSpPr/>
          <p:nvPr/>
        </p:nvSpPr>
        <p:spPr>
          <a:xfrm>
            <a:off x="911880" y="1226160"/>
            <a:ext cx="93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500" spc="-1" strike="noStrike" baseline="-27000">
                <a:solidFill>
                  <a:srgbClr val="000000"/>
                </a:solidFill>
                <a:latin typeface="Calibri"/>
              </a:rPr>
              <a:t>1650,6</a:t>
            </a:r>
            <a:r>
              <a:rPr b="0" lang="en-US" sz="1500" spc="619" strike="noStrike" baseline="-27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722,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74"/>
          <p:cNvSpPr/>
          <p:nvPr/>
        </p:nvSpPr>
        <p:spPr>
          <a:xfrm>
            <a:off x="1878480" y="10972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68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75"/>
          <p:cNvSpPr/>
          <p:nvPr/>
        </p:nvSpPr>
        <p:spPr>
          <a:xfrm>
            <a:off x="2349000" y="107676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9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76"/>
          <p:cNvSpPr/>
          <p:nvPr/>
        </p:nvSpPr>
        <p:spPr>
          <a:xfrm>
            <a:off x="2819520" y="115092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07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77"/>
          <p:cNvSpPr/>
          <p:nvPr/>
        </p:nvSpPr>
        <p:spPr>
          <a:xfrm>
            <a:off x="3290040" y="11696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78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78"/>
          <p:cNvSpPr/>
          <p:nvPr/>
        </p:nvSpPr>
        <p:spPr>
          <a:xfrm>
            <a:off x="3760560" y="111492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48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79"/>
          <p:cNvSpPr/>
          <p:nvPr/>
        </p:nvSpPr>
        <p:spPr>
          <a:xfrm>
            <a:off x="1167480" y="24498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80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80"/>
          <p:cNvSpPr/>
          <p:nvPr/>
        </p:nvSpPr>
        <p:spPr>
          <a:xfrm>
            <a:off x="1637640" y="242892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4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81"/>
          <p:cNvSpPr/>
          <p:nvPr/>
        </p:nvSpPr>
        <p:spPr>
          <a:xfrm>
            <a:off x="2108520" y="22410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718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82"/>
          <p:cNvSpPr/>
          <p:nvPr/>
        </p:nvSpPr>
        <p:spPr>
          <a:xfrm>
            <a:off x="2579040" y="23572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85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83"/>
          <p:cNvSpPr/>
          <p:nvPr/>
        </p:nvSpPr>
        <p:spPr>
          <a:xfrm>
            <a:off x="3049560" y="2305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644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84"/>
          <p:cNvSpPr/>
          <p:nvPr/>
        </p:nvSpPr>
        <p:spPr>
          <a:xfrm>
            <a:off x="3520080" y="24469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82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85"/>
          <p:cNvSpPr/>
          <p:nvPr/>
        </p:nvSpPr>
        <p:spPr>
          <a:xfrm>
            <a:off x="3990960" y="24696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57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86"/>
          <p:cNvSpPr/>
          <p:nvPr/>
        </p:nvSpPr>
        <p:spPr>
          <a:xfrm>
            <a:off x="1167480" y="25696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43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87"/>
          <p:cNvSpPr/>
          <p:nvPr/>
        </p:nvSpPr>
        <p:spPr>
          <a:xfrm>
            <a:off x="1637640" y="2549880"/>
            <a:ext cx="314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65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88"/>
          <p:cNvSpPr/>
          <p:nvPr/>
        </p:nvSpPr>
        <p:spPr>
          <a:xfrm>
            <a:off x="2107800" y="2621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89"/>
          <p:cNvSpPr/>
          <p:nvPr/>
        </p:nvSpPr>
        <p:spPr>
          <a:xfrm>
            <a:off x="2579040" y="25228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96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90"/>
          <p:cNvSpPr/>
          <p:nvPr/>
        </p:nvSpPr>
        <p:spPr>
          <a:xfrm>
            <a:off x="3049560" y="25963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13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bject 91"/>
          <p:cNvSpPr/>
          <p:nvPr/>
        </p:nvSpPr>
        <p:spPr>
          <a:xfrm>
            <a:off x="3520080" y="26096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9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92"/>
          <p:cNvSpPr/>
          <p:nvPr/>
        </p:nvSpPr>
        <p:spPr>
          <a:xfrm>
            <a:off x="3990960" y="2593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17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bject 93"/>
          <p:cNvSpPr/>
          <p:nvPr/>
        </p:nvSpPr>
        <p:spPr>
          <a:xfrm>
            <a:off x="339480" y="1086120"/>
            <a:ext cx="37872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640" bIns="0" anchor="t">
            <a:spAutoFit/>
          </a:bodyPr>
          <a:p>
            <a:pPr algn="r">
              <a:lnSpc>
                <a:spcPct val="100000"/>
              </a:lnSpc>
              <a:spcBef>
                <a:spcPts val="2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0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6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4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2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8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6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bject 94"/>
          <p:cNvSpPr/>
          <p:nvPr/>
        </p:nvSpPr>
        <p:spPr>
          <a:xfrm>
            <a:off x="917280" y="2975040"/>
            <a:ext cx="31068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5880" bIns="0" anchor="t">
            <a:spAutoFit/>
          </a:bodyPr>
          <a:p>
            <a:pPr marL="12600">
              <a:lnSpc>
                <a:spcPct val="100000"/>
              </a:lnSpc>
              <a:spcBef>
                <a:spcPts val="519"/>
              </a:spcBef>
              <a:tabLst>
                <a:tab algn="l" pos="483120"/>
                <a:tab algn="l" pos="953640"/>
                <a:tab algn="l" pos="1423800"/>
                <a:tab algn="l" pos="1894320"/>
                <a:tab algn="l" pos="2365200"/>
                <a:tab algn="l" pos="283608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01760">
              <a:lnSpc>
                <a:spcPct val="100000"/>
              </a:lnSpc>
              <a:spcBef>
                <a:spcPts val="680"/>
              </a:spcBef>
              <a:tabLst>
                <a:tab algn="l" pos="483120"/>
                <a:tab algn="l" pos="953640"/>
                <a:tab algn="l" pos="1423800"/>
                <a:tab algn="l" pos="1894320"/>
                <a:tab algn="l" pos="2365200"/>
                <a:tab algn="l" pos="283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Мощности,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bject 95"/>
          <p:cNvSpPr/>
          <p:nvPr/>
        </p:nvSpPr>
        <p:spPr>
          <a:xfrm>
            <a:off x="171720" y="1924200"/>
            <a:ext cx="15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bject 96"/>
          <p:cNvSpPr/>
          <p:nvPr/>
        </p:nvSpPr>
        <p:spPr>
          <a:xfrm>
            <a:off x="4316040" y="17982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bject 97"/>
          <p:cNvSpPr/>
          <p:nvPr/>
        </p:nvSpPr>
        <p:spPr>
          <a:xfrm>
            <a:off x="4316040" y="20286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object 98"/>
          <p:cNvGrpSpPr/>
          <p:nvPr/>
        </p:nvGrpSpPr>
        <p:grpSpPr>
          <a:xfrm>
            <a:off x="4315320" y="2253960"/>
            <a:ext cx="243360" cy="75960"/>
            <a:chOff x="4315320" y="2253960"/>
            <a:chExt cx="243360" cy="75960"/>
          </a:xfrm>
        </p:grpSpPr>
        <p:sp>
          <p:nvSpPr>
            <p:cNvPr id="289" name="object 99"/>
            <p:cNvSpPr/>
            <p:nvPr/>
          </p:nvSpPr>
          <p:spPr>
            <a:xfrm>
              <a:off x="4315320" y="229284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40" y="0"/>
                  </a:lnTo>
                </a:path>
              </a:pathLst>
            </a:custGeom>
            <a:noFill/>
            <a:ln w="28956">
              <a:solidFill>
                <a:srgbClr val="6f2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bject 100"/>
            <p:cNvSpPr/>
            <p:nvPr/>
          </p:nvSpPr>
          <p:spPr>
            <a:xfrm>
              <a:off x="4398120" y="225396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bject 101"/>
            <p:cNvSpPr/>
            <p:nvPr/>
          </p:nvSpPr>
          <p:spPr>
            <a:xfrm>
              <a:off x="4398120" y="225396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object 102" descr=""/>
          <p:cNvPicPr/>
          <p:nvPr/>
        </p:nvPicPr>
        <p:blipFill>
          <a:blip r:embed="rId9"/>
          <a:stretch/>
        </p:blipFill>
        <p:spPr>
          <a:xfrm>
            <a:off x="4315320" y="247968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293" name="object 103"/>
          <p:cNvSpPr/>
          <p:nvPr/>
        </p:nvSpPr>
        <p:spPr>
          <a:xfrm>
            <a:off x="4573080" y="1653840"/>
            <a:ext cx="788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5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bject 108"/>
          <p:cNvSpPr/>
          <p:nvPr/>
        </p:nvSpPr>
        <p:spPr>
          <a:xfrm>
            <a:off x="8479440" y="6464880"/>
            <a:ext cx="1659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ts val="1239"/>
              </a:lnSpc>
            </a:pPr>
            <a:fld id="{7EAFDF04-78E4-428E-A642-7D89D5252981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bject 104"/>
          <p:cNvSpPr/>
          <p:nvPr/>
        </p:nvSpPr>
        <p:spPr>
          <a:xfrm>
            <a:off x="762480" y="747000"/>
            <a:ext cx="49831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оссии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ject 105"/>
          <p:cNvSpPr/>
          <p:nvPr/>
        </p:nvSpPr>
        <p:spPr>
          <a:xfrm>
            <a:off x="5641200" y="2975040"/>
            <a:ext cx="33681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распределения</a:t>
            </a:r>
            <a:r>
              <a:rPr b="1" lang="en-US" sz="1600" spc="-7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мощ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" algn="ctr">
              <a:lnSpc>
                <a:spcPct val="100000"/>
              </a:lnSpc>
              <a:spcBef>
                <a:spcPts val="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у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,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ject 106"/>
          <p:cNvSpPr/>
          <p:nvPr/>
        </p:nvSpPr>
        <p:spPr>
          <a:xfrm>
            <a:off x="5515560" y="1088640"/>
            <a:ext cx="331164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1600" indent="-279360" algn="just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дние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 лет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благодар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инвестиция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ей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выр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более,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чем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016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Расширяется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арочная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видовой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П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440" indent="-2775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016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Недостаток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ей по</a:t>
            </a:r>
            <a:r>
              <a:rPr b="1" lang="en-US" sz="12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линейному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П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07"/>
          <p:cNvGraphicFramePr/>
          <p:nvPr/>
        </p:nvGraphicFramePr>
        <p:xfrm>
          <a:off x="362520" y="3607200"/>
          <a:ext cx="5038920" cy="1784520"/>
        </p:xfrm>
        <a:graphic>
          <a:graphicData uri="http://schemas.openxmlformats.org/drawingml/2006/table">
            <a:tbl>
              <a:tblPr/>
              <a:tblGrid>
                <a:gridCol w="3175920"/>
                <a:gridCol w="458280"/>
                <a:gridCol w="473400"/>
                <a:gridCol w="93060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П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П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ей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НКНХ»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ТАИ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Томскнефтехим»</a:t>
                      </a:r>
                      <a:r>
                        <a:rPr b="0" lang="en-US" sz="1400" spc="-6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Ставролен»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Лукой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0440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Уфаоргсинтез»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Башнеф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азаньоргсинтез»</a:t>
                      </a:r>
                      <a:r>
                        <a:rPr b="0" lang="en-US" sz="1400" spc="-6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ТАИ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0440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Газпром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фтехим</a:t>
                      </a:r>
                      <a:r>
                        <a:rPr b="0" lang="en-US" sz="1400" spc="-4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лават»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Газпр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8600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0440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АЗП»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Роснеф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8600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57520" y="110520"/>
            <a:ext cx="357732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d0d0d"/>
                </a:solidFill>
                <a:latin typeface="Century Gothic"/>
              </a:rPr>
              <a:t>Потребление</a:t>
            </a:r>
            <a:r>
              <a:rPr b="0" lang="en-US" sz="2400" spc="-41" strike="noStrike">
                <a:solidFill>
                  <a:srgbClr val="0d0d0d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d0d0d"/>
                </a:solidFill>
                <a:latin typeface="Century Gothic"/>
              </a:rPr>
              <a:t>Полиэтилен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300" name="object 3"/>
          <p:cNvGrpSpPr/>
          <p:nvPr/>
        </p:nvGrpSpPr>
        <p:grpSpPr>
          <a:xfrm>
            <a:off x="5880240" y="3837240"/>
            <a:ext cx="2258640" cy="2258640"/>
            <a:chOff x="5880240" y="3837240"/>
            <a:chExt cx="2258640" cy="2258640"/>
          </a:xfrm>
        </p:grpSpPr>
        <p:sp>
          <p:nvSpPr>
            <p:cNvPr id="301" name="object 4"/>
            <p:cNvSpPr/>
            <p:nvPr/>
          </p:nvSpPr>
          <p:spPr>
            <a:xfrm>
              <a:off x="6199920" y="4966560"/>
              <a:ext cx="810000" cy="865080"/>
            </a:xfrm>
            <a:custGeom>
              <a:avLst/>
              <a:gdLst>
                <a:gd name="textAreaLeft" fmla="*/ 0 w 810000"/>
                <a:gd name="textAreaRight" fmla="*/ 810360 w 810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10259" h="865504">
                  <a:moveTo>
                    <a:pt x="809879" y="0"/>
                  </a:moveTo>
                  <a:lnTo>
                    <a:pt x="0" y="787044"/>
                  </a:lnTo>
                  <a:lnTo>
                    <a:pt x="20260" y="807350"/>
                  </a:lnTo>
                  <a:lnTo>
                    <a:pt x="41020" y="827133"/>
                  </a:lnTo>
                  <a:lnTo>
                    <a:pt x="62257" y="846385"/>
                  </a:lnTo>
                  <a:lnTo>
                    <a:pt x="83946" y="865098"/>
                  </a:lnTo>
                  <a:lnTo>
                    <a:pt x="809879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bject 5"/>
            <p:cNvSpPr/>
            <p:nvPr/>
          </p:nvSpPr>
          <p:spPr>
            <a:xfrm>
              <a:off x="5880240" y="3837240"/>
              <a:ext cx="2186640" cy="1915920"/>
            </a:xfrm>
            <a:custGeom>
              <a:avLst/>
              <a:gdLst>
                <a:gd name="textAreaLeft" fmla="*/ 0 w 2186640"/>
                <a:gd name="textAreaRight" fmla="*/ 2187000 w 2186640"/>
                <a:gd name="textAreaTop" fmla="*/ 0 h 1915920"/>
                <a:gd name="textAreaBottom" fmla="*/ 1916280 h 1915920"/>
              </a:gdLst>
              <a:ahLst/>
              <a:rect l="textAreaLeft" t="textAreaTop" r="textAreaRight" b="textAreaBottom"/>
              <a:pathLst>
                <a:path w="2186940" h="1916429">
                  <a:moveTo>
                    <a:pt x="1123171" y="0"/>
                  </a:moveTo>
                  <a:lnTo>
                    <a:pt x="1078719" y="1104"/>
                  </a:lnTo>
                  <a:lnTo>
                    <a:pt x="1034325" y="3950"/>
                  </a:lnTo>
                  <a:lnTo>
                    <a:pt x="990045" y="8537"/>
                  </a:lnTo>
                  <a:lnTo>
                    <a:pt x="945934" y="14865"/>
                  </a:lnTo>
                  <a:lnTo>
                    <a:pt x="902047" y="22937"/>
                  </a:lnTo>
                  <a:lnTo>
                    <a:pt x="858441" y="32753"/>
                  </a:lnTo>
                  <a:lnTo>
                    <a:pt x="815170" y="44313"/>
                  </a:lnTo>
                  <a:lnTo>
                    <a:pt x="772289" y="57618"/>
                  </a:lnTo>
                  <a:lnTo>
                    <a:pt x="729855" y="72669"/>
                  </a:lnTo>
                  <a:lnTo>
                    <a:pt x="687922" y="89467"/>
                  </a:lnTo>
                  <a:lnTo>
                    <a:pt x="646546" y="108012"/>
                  </a:lnTo>
                  <a:lnTo>
                    <a:pt x="605783" y="128305"/>
                  </a:lnTo>
                  <a:lnTo>
                    <a:pt x="565687" y="150348"/>
                  </a:lnTo>
                  <a:lnTo>
                    <a:pt x="526314" y="174141"/>
                  </a:lnTo>
                  <a:lnTo>
                    <a:pt x="487720" y="199684"/>
                  </a:lnTo>
                  <a:lnTo>
                    <a:pt x="449960" y="226978"/>
                  </a:lnTo>
                  <a:lnTo>
                    <a:pt x="413089" y="256025"/>
                  </a:lnTo>
                  <a:lnTo>
                    <a:pt x="377163" y="286824"/>
                  </a:lnTo>
                  <a:lnTo>
                    <a:pt x="342238" y="319378"/>
                  </a:lnTo>
                  <a:lnTo>
                    <a:pt x="308693" y="353361"/>
                  </a:lnTo>
                  <a:lnTo>
                    <a:pt x="276873" y="388394"/>
                  </a:lnTo>
                  <a:lnTo>
                    <a:pt x="246779" y="424422"/>
                  </a:lnTo>
                  <a:lnTo>
                    <a:pt x="218412" y="461388"/>
                  </a:lnTo>
                  <a:lnTo>
                    <a:pt x="191772" y="499238"/>
                  </a:lnTo>
                  <a:lnTo>
                    <a:pt x="166861" y="537917"/>
                  </a:lnTo>
                  <a:lnTo>
                    <a:pt x="143679" y="577368"/>
                  </a:lnTo>
                  <a:lnTo>
                    <a:pt x="122226" y="617536"/>
                  </a:lnTo>
                  <a:lnTo>
                    <a:pt x="102504" y="658367"/>
                  </a:lnTo>
                  <a:lnTo>
                    <a:pt x="84513" y="699804"/>
                  </a:lnTo>
                  <a:lnTo>
                    <a:pt x="68255" y="741792"/>
                  </a:lnTo>
                  <a:lnTo>
                    <a:pt x="53729" y="784276"/>
                  </a:lnTo>
                  <a:lnTo>
                    <a:pt x="40937" y="827200"/>
                  </a:lnTo>
                  <a:lnTo>
                    <a:pt x="29879" y="870509"/>
                  </a:lnTo>
                  <a:lnTo>
                    <a:pt x="20557" y="914148"/>
                  </a:lnTo>
                  <a:lnTo>
                    <a:pt x="12971" y="958061"/>
                  </a:lnTo>
                  <a:lnTo>
                    <a:pt x="7121" y="1002192"/>
                  </a:lnTo>
                  <a:lnTo>
                    <a:pt x="3008" y="1046487"/>
                  </a:lnTo>
                  <a:lnTo>
                    <a:pt x="634" y="1090890"/>
                  </a:lnTo>
                  <a:lnTo>
                    <a:pt x="0" y="1135346"/>
                  </a:lnTo>
                  <a:lnTo>
                    <a:pt x="1104" y="1179798"/>
                  </a:lnTo>
                  <a:lnTo>
                    <a:pt x="3950" y="1224193"/>
                  </a:lnTo>
                  <a:lnTo>
                    <a:pt x="8537" y="1268474"/>
                  </a:lnTo>
                  <a:lnTo>
                    <a:pt x="14865" y="1312585"/>
                  </a:lnTo>
                  <a:lnTo>
                    <a:pt x="22937" y="1356472"/>
                  </a:lnTo>
                  <a:lnTo>
                    <a:pt x="32753" y="1400080"/>
                  </a:lnTo>
                  <a:lnTo>
                    <a:pt x="44313" y="1443352"/>
                  </a:lnTo>
                  <a:lnTo>
                    <a:pt x="57618" y="1486233"/>
                  </a:lnTo>
                  <a:lnTo>
                    <a:pt x="72669" y="1528669"/>
                  </a:lnTo>
                  <a:lnTo>
                    <a:pt x="89467" y="1570603"/>
                  </a:lnTo>
                  <a:lnTo>
                    <a:pt x="108012" y="1611980"/>
                  </a:lnTo>
                  <a:lnTo>
                    <a:pt x="128305" y="1652745"/>
                  </a:lnTo>
                  <a:lnTo>
                    <a:pt x="150348" y="1692842"/>
                  </a:lnTo>
                  <a:lnTo>
                    <a:pt x="174141" y="1732216"/>
                  </a:lnTo>
                  <a:lnTo>
                    <a:pt x="199684" y="1770811"/>
                  </a:lnTo>
                  <a:lnTo>
                    <a:pt x="226978" y="1808573"/>
                  </a:lnTo>
                  <a:lnTo>
                    <a:pt x="256025" y="1845445"/>
                  </a:lnTo>
                  <a:lnTo>
                    <a:pt x="286824" y="1881373"/>
                  </a:lnTo>
                  <a:lnTo>
                    <a:pt x="319378" y="1916301"/>
                  </a:lnTo>
                  <a:lnTo>
                    <a:pt x="1129257" y="1129257"/>
                  </a:lnTo>
                  <a:lnTo>
                    <a:pt x="2186913" y="733525"/>
                  </a:lnTo>
                  <a:lnTo>
                    <a:pt x="2167578" y="685290"/>
                  </a:lnTo>
                  <a:lnTo>
                    <a:pt x="2146095" y="638084"/>
                  </a:lnTo>
                  <a:lnTo>
                    <a:pt x="2122505" y="591976"/>
                  </a:lnTo>
                  <a:lnTo>
                    <a:pt x="2096852" y="547034"/>
                  </a:lnTo>
                  <a:lnTo>
                    <a:pt x="2069178" y="503328"/>
                  </a:lnTo>
                  <a:lnTo>
                    <a:pt x="2039527" y="460926"/>
                  </a:lnTo>
                  <a:lnTo>
                    <a:pt x="2007941" y="419898"/>
                  </a:lnTo>
                  <a:lnTo>
                    <a:pt x="1974463" y="380312"/>
                  </a:lnTo>
                  <a:lnTo>
                    <a:pt x="1939136" y="342238"/>
                  </a:lnTo>
                  <a:lnTo>
                    <a:pt x="1905152" y="308693"/>
                  </a:lnTo>
                  <a:lnTo>
                    <a:pt x="1870119" y="276873"/>
                  </a:lnTo>
                  <a:lnTo>
                    <a:pt x="1834091" y="246779"/>
                  </a:lnTo>
                  <a:lnTo>
                    <a:pt x="1797125" y="218412"/>
                  </a:lnTo>
                  <a:lnTo>
                    <a:pt x="1759275" y="191772"/>
                  </a:lnTo>
                  <a:lnTo>
                    <a:pt x="1720596" y="166861"/>
                  </a:lnTo>
                  <a:lnTo>
                    <a:pt x="1681145" y="143679"/>
                  </a:lnTo>
                  <a:lnTo>
                    <a:pt x="1640977" y="122226"/>
                  </a:lnTo>
                  <a:lnTo>
                    <a:pt x="1600147" y="102504"/>
                  </a:lnTo>
                  <a:lnTo>
                    <a:pt x="1558710" y="84513"/>
                  </a:lnTo>
                  <a:lnTo>
                    <a:pt x="1516722" y="68255"/>
                  </a:lnTo>
                  <a:lnTo>
                    <a:pt x="1474238" y="53729"/>
                  </a:lnTo>
                  <a:lnTo>
                    <a:pt x="1431314" y="40937"/>
                  </a:lnTo>
                  <a:lnTo>
                    <a:pt x="1388005" y="29879"/>
                  </a:lnTo>
                  <a:lnTo>
                    <a:pt x="1344367" y="20557"/>
                  </a:lnTo>
                  <a:lnTo>
                    <a:pt x="1300454" y="12971"/>
                  </a:lnTo>
                  <a:lnTo>
                    <a:pt x="1256323" y="7121"/>
                  </a:lnTo>
                  <a:lnTo>
                    <a:pt x="1212028" y="3008"/>
                  </a:lnTo>
                  <a:lnTo>
                    <a:pt x="1167626" y="634"/>
                  </a:lnTo>
                  <a:lnTo>
                    <a:pt x="112317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bject 6"/>
            <p:cNvSpPr/>
            <p:nvPr/>
          </p:nvSpPr>
          <p:spPr>
            <a:xfrm>
              <a:off x="7009560" y="4570920"/>
              <a:ext cx="1129320" cy="96552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965520"/>
                <a:gd name="textAreaBottom" fmla="*/ 965880 h 965520"/>
              </a:gdLst>
              <a:ahLst/>
              <a:rect l="textAreaLeft" t="textAreaTop" r="textAreaRight" b="textAreaBottom"/>
              <a:pathLst>
                <a:path w="1129665" h="965835">
                  <a:moveTo>
                    <a:pt x="1057655" y="0"/>
                  </a:moveTo>
                  <a:lnTo>
                    <a:pt x="0" y="395732"/>
                  </a:lnTo>
                  <a:lnTo>
                    <a:pt x="974978" y="965581"/>
                  </a:lnTo>
                  <a:lnTo>
                    <a:pt x="999619" y="921164"/>
                  </a:lnTo>
                  <a:lnTo>
                    <a:pt x="1022138" y="875900"/>
                  </a:lnTo>
                  <a:lnTo>
                    <a:pt x="1042530" y="829861"/>
                  </a:lnTo>
                  <a:lnTo>
                    <a:pt x="1060789" y="783120"/>
                  </a:lnTo>
                  <a:lnTo>
                    <a:pt x="1076908" y="735752"/>
                  </a:lnTo>
                  <a:lnTo>
                    <a:pt x="1090881" y="687830"/>
                  </a:lnTo>
                  <a:lnTo>
                    <a:pt x="1102702" y="639428"/>
                  </a:lnTo>
                  <a:lnTo>
                    <a:pt x="1112364" y="590620"/>
                  </a:lnTo>
                  <a:lnTo>
                    <a:pt x="1119861" y="541478"/>
                  </a:lnTo>
                  <a:lnTo>
                    <a:pt x="1125188" y="492077"/>
                  </a:lnTo>
                  <a:lnTo>
                    <a:pt x="1128337" y="442490"/>
                  </a:lnTo>
                  <a:lnTo>
                    <a:pt x="1129302" y="392791"/>
                  </a:lnTo>
                  <a:lnTo>
                    <a:pt x="1128077" y="343054"/>
                  </a:lnTo>
                  <a:lnTo>
                    <a:pt x="1124656" y="293352"/>
                  </a:lnTo>
                  <a:lnTo>
                    <a:pt x="1119032" y="243758"/>
                  </a:lnTo>
                  <a:lnTo>
                    <a:pt x="1111200" y="194347"/>
                  </a:lnTo>
                  <a:lnTo>
                    <a:pt x="1101152" y="145192"/>
                  </a:lnTo>
                  <a:lnTo>
                    <a:pt x="1088883" y="96367"/>
                  </a:lnTo>
                  <a:lnTo>
                    <a:pt x="1074386" y="47945"/>
                  </a:lnTo>
                  <a:lnTo>
                    <a:pt x="105765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bject 7"/>
            <p:cNvSpPr/>
            <p:nvPr/>
          </p:nvSpPr>
          <p:spPr>
            <a:xfrm>
              <a:off x="7009560" y="4966560"/>
              <a:ext cx="974880" cy="7261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726120"/>
                <a:gd name="textAreaBottom" fmla="*/ 726480 h 726120"/>
              </a:gdLst>
              <a:ahLst/>
              <a:rect l="textAreaLeft" t="textAreaTop" r="textAreaRight" b="textAreaBottom"/>
              <a:pathLst>
                <a:path w="975359" h="726439">
                  <a:moveTo>
                    <a:pt x="0" y="0"/>
                  </a:moveTo>
                  <a:lnTo>
                    <a:pt x="864996" y="725906"/>
                  </a:lnTo>
                  <a:lnTo>
                    <a:pt x="894968" y="688649"/>
                  </a:lnTo>
                  <a:lnTo>
                    <a:pt x="923321" y="650182"/>
                  </a:lnTo>
                  <a:lnTo>
                    <a:pt x="950007" y="610563"/>
                  </a:lnTo>
                  <a:lnTo>
                    <a:pt x="974978" y="569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bject 8"/>
            <p:cNvSpPr/>
            <p:nvPr/>
          </p:nvSpPr>
          <p:spPr>
            <a:xfrm>
              <a:off x="7009560" y="4966560"/>
              <a:ext cx="865080" cy="107280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865504" h="1073150">
                  <a:moveTo>
                    <a:pt x="0" y="0"/>
                  </a:moveTo>
                  <a:lnTo>
                    <a:pt x="352551" y="1072857"/>
                  </a:lnTo>
                  <a:lnTo>
                    <a:pt x="402020" y="1055315"/>
                  </a:lnTo>
                  <a:lnTo>
                    <a:pt x="450491" y="1035548"/>
                  </a:lnTo>
                  <a:lnTo>
                    <a:pt x="497897" y="1013605"/>
                  </a:lnTo>
                  <a:lnTo>
                    <a:pt x="544166" y="989531"/>
                  </a:lnTo>
                  <a:lnTo>
                    <a:pt x="589229" y="963374"/>
                  </a:lnTo>
                  <a:lnTo>
                    <a:pt x="633015" y="935181"/>
                  </a:lnTo>
                  <a:lnTo>
                    <a:pt x="675455" y="905000"/>
                  </a:lnTo>
                  <a:lnTo>
                    <a:pt x="716477" y="872877"/>
                  </a:lnTo>
                  <a:lnTo>
                    <a:pt x="756013" y="838859"/>
                  </a:lnTo>
                  <a:lnTo>
                    <a:pt x="793991" y="802993"/>
                  </a:lnTo>
                  <a:lnTo>
                    <a:pt x="830342" y="765326"/>
                  </a:lnTo>
                  <a:lnTo>
                    <a:pt x="864996" y="7259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bject 9"/>
            <p:cNvSpPr/>
            <p:nvPr/>
          </p:nvSpPr>
          <p:spPr>
            <a:xfrm>
              <a:off x="6777360" y="4966560"/>
              <a:ext cx="585000" cy="112932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1129320"/>
                <a:gd name="textAreaBottom" fmla="*/ 1129680 h 1129320"/>
              </a:gdLst>
              <a:ahLst/>
              <a:rect l="textAreaLeft" t="textAreaTop" r="textAreaRight" b="textAreaBottom"/>
              <a:pathLst>
                <a:path w="585470" h="1129664">
                  <a:moveTo>
                    <a:pt x="232410" y="0"/>
                  </a:moveTo>
                  <a:lnTo>
                    <a:pt x="0" y="1105128"/>
                  </a:lnTo>
                  <a:lnTo>
                    <a:pt x="48748" y="1114265"/>
                  </a:lnTo>
                  <a:lnTo>
                    <a:pt x="97728" y="1121239"/>
                  </a:lnTo>
                  <a:lnTo>
                    <a:pt x="146871" y="1126053"/>
                  </a:lnTo>
                  <a:lnTo>
                    <a:pt x="196106" y="1128712"/>
                  </a:lnTo>
                  <a:lnTo>
                    <a:pt x="245365" y="1129219"/>
                  </a:lnTo>
                  <a:lnTo>
                    <a:pt x="294576" y="1127579"/>
                  </a:lnTo>
                  <a:lnTo>
                    <a:pt x="343671" y="1123794"/>
                  </a:lnTo>
                  <a:lnTo>
                    <a:pt x="392580" y="1117870"/>
                  </a:lnTo>
                  <a:lnTo>
                    <a:pt x="441233" y="1109811"/>
                  </a:lnTo>
                  <a:lnTo>
                    <a:pt x="489561" y="1099619"/>
                  </a:lnTo>
                  <a:lnTo>
                    <a:pt x="537494" y="1087300"/>
                  </a:lnTo>
                  <a:lnTo>
                    <a:pt x="584962" y="1072857"/>
                  </a:lnTo>
                  <a:lnTo>
                    <a:pt x="23241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bject 10"/>
            <p:cNvSpPr/>
            <p:nvPr/>
          </p:nvSpPr>
          <p:spPr>
            <a:xfrm>
              <a:off x="6283800" y="4966560"/>
              <a:ext cx="726120" cy="1105200"/>
            </a:xfrm>
            <a:custGeom>
              <a:avLst/>
              <a:gdLst>
                <a:gd name="textAreaLeft" fmla="*/ 0 w 726120"/>
                <a:gd name="textAreaRight" fmla="*/ 726480 w 726120"/>
                <a:gd name="textAreaTop" fmla="*/ 0 h 1105200"/>
                <a:gd name="textAreaBottom" fmla="*/ 1105560 h 1105200"/>
              </a:gdLst>
              <a:ahLst/>
              <a:rect l="textAreaLeft" t="textAreaTop" r="textAreaRight" b="textAreaBottom"/>
              <a:pathLst>
                <a:path w="726440" h="1105535">
                  <a:moveTo>
                    <a:pt x="725932" y="0"/>
                  </a:moveTo>
                  <a:lnTo>
                    <a:pt x="0" y="865098"/>
                  </a:lnTo>
                  <a:lnTo>
                    <a:pt x="39458" y="896732"/>
                  </a:lnTo>
                  <a:lnTo>
                    <a:pt x="80202" y="926502"/>
                  </a:lnTo>
                  <a:lnTo>
                    <a:pt x="122164" y="954376"/>
                  </a:lnTo>
                  <a:lnTo>
                    <a:pt x="165275" y="980320"/>
                  </a:lnTo>
                  <a:lnTo>
                    <a:pt x="209468" y="1004301"/>
                  </a:lnTo>
                  <a:lnTo>
                    <a:pt x="254675" y="1026287"/>
                  </a:lnTo>
                  <a:lnTo>
                    <a:pt x="300826" y="1046244"/>
                  </a:lnTo>
                  <a:lnTo>
                    <a:pt x="347855" y="1064140"/>
                  </a:lnTo>
                  <a:lnTo>
                    <a:pt x="395692" y="1079941"/>
                  </a:lnTo>
                  <a:lnTo>
                    <a:pt x="444270" y="1093615"/>
                  </a:lnTo>
                  <a:lnTo>
                    <a:pt x="493522" y="1105128"/>
                  </a:lnTo>
                  <a:lnTo>
                    <a:pt x="725932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object 11"/>
          <p:cNvSpPr/>
          <p:nvPr/>
        </p:nvSpPr>
        <p:spPr>
          <a:xfrm>
            <a:off x="5816520" y="5794560"/>
            <a:ext cx="411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аб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ject 12"/>
          <p:cNvSpPr/>
          <p:nvPr/>
        </p:nvSpPr>
        <p:spPr>
          <a:xfrm>
            <a:off x="5930640" y="5950080"/>
            <a:ext cx="181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ject 13"/>
          <p:cNvSpPr/>
          <p:nvPr/>
        </p:nvSpPr>
        <p:spPr>
          <a:xfrm>
            <a:off x="6416640" y="4343040"/>
            <a:ext cx="5331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indent="1440" algn="ctr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ка, упаковка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ject 14"/>
          <p:cNvSpPr/>
          <p:nvPr/>
        </p:nvSpPr>
        <p:spPr>
          <a:xfrm>
            <a:off x="7557840" y="4816440"/>
            <a:ext cx="35964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876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ject 15"/>
          <p:cNvSpPr/>
          <p:nvPr/>
        </p:nvSpPr>
        <p:spPr>
          <a:xfrm>
            <a:off x="7942680" y="5613480"/>
            <a:ext cx="659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трубоизоля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2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ject 16"/>
          <p:cNvSpPr/>
          <p:nvPr/>
        </p:nvSpPr>
        <p:spPr>
          <a:xfrm>
            <a:off x="7360200" y="5565600"/>
            <a:ext cx="246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31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ect 17"/>
          <p:cNvSpPr/>
          <p:nvPr/>
        </p:nvSpPr>
        <p:spPr>
          <a:xfrm>
            <a:off x="6887160" y="5915160"/>
            <a:ext cx="4824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indent="720" algn="ctr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тара, емкости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ject 18"/>
          <p:cNvSpPr/>
          <p:nvPr/>
        </p:nvSpPr>
        <p:spPr>
          <a:xfrm>
            <a:off x="6187320" y="6013800"/>
            <a:ext cx="4194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19"/>
          <p:cNvSpPr/>
          <p:nvPr/>
        </p:nvSpPr>
        <p:spPr>
          <a:xfrm>
            <a:off x="546480" y="837360"/>
            <a:ext cx="4828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30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object 20"/>
          <p:cNvGrpSpPr/>
          <p:nvPr/>
        </p:nvGrpSpPr>
        <p:grpSpPr>
          <a:xfrm>
            <a:off x="5764680" y="1259280"/>
            <a:ext cx="2121120" cy="2120760"/>
            <a:chOff x="5764680" y="1259280"/>
            <a:chExt cx="2121120" cy="2120760"/>
          </a:xfrm>
        </p:grpSpPr>
        <p:sp>
          <p:nvSpPr>
            <p:cNvPr id="318" name="object 21"/>
            <p:cNvSpPr/>
            <p:nvPr/>
          </p:nvSpPr>
          <p:spPr>
            <a:xfrm>
              <a:off x="6825240" y="1259280"/>
              <a:ext cx="831600" cy="7311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831850" h="731519">
                  <a:moveTo>
                    <a:pt x="0" y="0"/>
                  </a:moveTo>
                  <a:lnTo>
                    <a:pt x="0" y="530225"/>
                  </a:lnTo>
                  <a:lnTo>
                    <a:pt x="48270" y="532425"/>
                  </a:lnTo>
                  <a:lnTo>
                    <a:pt x="95752" y="538941"/>
                  </a:lnTo>
                  <a:lnTo>
                    <a:pt x="142183" y="549646"/>
                  </a:lnTo>
                  <a:lnTo>
                    <a:pt x="187299" y="564415"/>
                  </a:lnTo>
                  <a:lnTo>
                    <a:pt x="230838" y="583120"/>
                  </a:lnTo>
                  <a:lnTo>
                    <a:pt x="272536" y="605635"/>
                  </a:lnTo>
                  <a:lnTo>
                    <a:pt x="312132" y="631834"/>
                  </a:lnTo>
                  <a:lnTo>
                    <a:pt x="349361" y="661589"/>
                  </a:lnTo>
                  <a:lnTo>
                    <a:pt x="383962" y="694775"/>
                  </a:lnTo>
                  <a:lnTo>
                    <a:pt x="415671" y="731266"/>
                  </a:lnTo>
                  <a:lnTo>
                    <a:pt x="831342" y="402082"/>
                  </a:lnTo>
                  <a:lnTo>
                    <a:pt x="798718" y="362863"/>
                  </a:lnTo>
                  <a:lnTo>
                    <a:pt x="764425" y="325441"/>
                  </a:lnTo>
                  <a:lnTo>
                    <a:pt x="728539" y="289854"/>
                  </a:lnTo>
                  <a:lnTo>
                    <a:pt x="691137" y="256137"/>
                  </a:lnTo>
                  <a:lnTo>
                    <a:pt x="652294" y="224329"/>
                  </a:lnTo>
                  <a:lnTo>
                    <a:pt x="612087" y="194465"/>
                  </a:lnTo>
                  <a:lnTo>
                    <a:pt x="570593" y="166583"/>
                  </a:lnTo>
                  <a:lnTo>
                    <a:pt x="527887" y="140720"/>
                  </a:lnTo>
                  <a:lnTo>
                    <a:pt x="484046" y="116912"/>
                  </a:lnTo>
                  <a:lnTo>
                    <a:pt x="439146" y="95197"/>
                  </a:lnTo>
                  <a:lnTo>
                    <a:pt x="393264" y="75610"/>
                  </a:lnTo>
                  <a:lnTo>
                    <a:pt x="346476" y="58190"/>
                  </a:lnTo>
                  <a:lnTo>
                    <a:pt x="298858" y="42973"/>
                  </a:lnTo>
                  <a:lnTo>
                    <a:pt x="250487" y="29996"/>
                  </a:lnTo>
                  <a:lnTo>
                    <a:pt x="201438" y="19296"/>
                  </a:lnTo>
                  <a:lnTo>
                    <a:pt x="151789" y="10909"/>
                  </a:lnTo>
                  <a:lnTo>
                    <a:pt x="101615" y="4873"/>
                  </a:lnTo>
                  <a:lnTo>
                    <a:pt x="50993" y="1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bject 22"/>
            <p:cNvSpPr/>
            <p:nvPr/>
          </p:nvSpPr>
          <p:spPr>
            <a:xfrm>
              <a:off x="5906160" y="1661400"/>
              <a:ext cx="1979640" cy="1718640"/>
            </a:xfrm>
            <a:custGeom>
              <a:avLst/>
              <a:gdLst>
                <a:gd name="textAreaLeft" fmla="*/ 0 w 1979640"/>
                <a:gd name="textAreaRight" fmla="*/ 1980000 w 1979640"/>
                <a:gd name="textAreaTop" fmla="*/ 0 h 1718640"/>
                <a:gd name="textAreaBottom" fmla="*/ 1719000 h 1718640"/>
              </a:gdLst>
              <a:ahLst/>
              <a:rect l="textAreaLeft" t="textAreaTop" r="textAreaRight" b="textAreaBottom"/>
              <a:pathLst>
                <a:path w="1979929" h="1718945">
                  <a:moveTo>
                    <a:pt x="1750440" y="0"/>
                  </a:moveTo>
                  <a:lnTo>
                    <a:pt x="1334769" y="329184"/>
                  </a:lnTo>
                  <a:lnTo>
                    <a:pt x="1346598" y="344751"/>
                  </a:lnTo>
                  <a:lnTo>
                    <a:pt x="1357868" y="360759"/>
                  </a:lnTo>
                  <a:lnTo>
                    <a:pt x="1378585" y="393953"/>
                  </a:lnTo>
                  <a:lnTo>
                    <a:pt x="1400796" y="436855"/>
                  </a:lnTo>
                  <a:lnTo>
                    <a:pt x="1418752" y="480805"/>
                  </a:lnTo>
                  <a:lnTo>
                    <a:pt x="1432521" y="525549"/>
                  </a:lnTo>
                  <a:lnTo>
                    <a:pt x="1442173" y="570831"/>
                  </a:lnTo>
                  <a:lnTo>
                    <a:pt x="1447775" y="616395"/>
                  </a:lnTo>
                  <a:lnTo>
                    <a:pt x="1449399" y="661985"/>
                  </a:lnTo>
                  <a:lnTo>
                    <a:pt x="1447112" y="707345"/>
                  </a:lnTo>
                  <a:lnTo>
                    <a:pt x="1440983" y="752220"/>
                  </a:lnTo>
                  <a:lnTo>
                    <a:pt x="1431083" y="796353"/>
                  </a:lnTo>
                  <a:lnTo>
                    <a:pt x="1417480" y="839489"/>
                  </a:lnTo>
                  <a:lnTo>
                    <a:pt x="1400243" y="881372"/>
                  </a:lnTo>
                  <a:lnTo>
                    <a:pt x="1379441" y="921747"/>
                  </a:lnTo>
                  <a:lnTo>
                    <a:pt x="1355143" y="960356"/>
                  </a:lnTo>
                  <a:lnTo>
                    <a:pt x="1327419" y="996945"/>
                  </a:lnTo>
                  <a:lnTo>
                    <a:pt x="1296337" y="1031258"/>
                  </a:lnTo>
                  <a:lnTo>
                    <a:pt x="1261967" y="1063039"/>
                  </a:lnTo>
                  <a:lnTo>
                    <a:pt x="1224379" y="1092032"/>
                  </a:lnTo>
                  <a:lnTo>
                    <a:pt x="1183639" y="1117980"/>
                  </a:lnTo>
                  <a:lnTo>
                    <a:pt x="1140720" y="1140172"/>
                  </a:lnTo>
                  <a:lnTo>
                    <a:pt x="1096754" y="1158110"/>
                  </a:lnTo>
                  <a:lnTo>
                    <a:pt x="1051999" y="1171864"/>
                  </a:lnTo>
                  <a:lnTo>
                    <a:pt x="1006710" y="1181501"/>
                  </a:lnTo>
                  <a:lnTo>
                    <a:pt x="961140" y="1187092"/>
                  </a:lnTo>
                  <a:lnTo>
                    <a:pt x="915547" y="1188705"/>
                  </a:lnTo>
                  <a:lnTo>
                    <a:pt x="870185" y="1186410"/>
                  </a:lnTo>
                  <a:lnTo>
                    <a:pt x="825310" y="1180274"/>
                  </a:lnTo>
                  <a:lnTo>
                    <a:pt x="781176" y="1170368"/>
                  </a:lnTo>
                  <a:lnTo>
                    <a:pt x="738040" y="1156760"/>
                  </a:lnTo>
                  <a:lnTo>
                    <a:pt x="696156" y="1139519"/>
                  </a:lnTo>
                  <a:lnTo>
                    <a:pt x="655780" y="1118714"/>
                  </a:lnTo>
                  <a:lnTo>
                    <a:pt x="617168" y="1094415"/>
                  </a:lnTo>
                  <a:lnTo>
                    <a:pt x="580573" y="1066689"/>
                  </a:lnTo>
                  <a:lnTo>
                    <a:pt x="546252" y="1035607"/>
                  </a:lnTo>
                  <a:lnTo>
                    <a:pt x="514461" y="1001237"/>
                  </a:lnTo>
                  <a:lnTo>
                    <a:pt x="485453" y="963648"/>
                  </a:lnTo>
                  <a:lnTo>
                    <a:pt x="459486" y="922909"/>
                  </a:lnTo>
                  <a:lnTo>
                    <a:pt x="0" y="1187450"/>
                  </a:lnTo>
                  <a:lnTo>
                    <a:pt x="20141" y="1220976"/>
                  </a:lnTo>
                  <a:lnTo>
                    <a:pt x="41497" y="1253728"/>
                  </a:lnTo>
                  <a:lnTo>
                    <a:pt x="64043" y="1285694"/>
                  </a:lnTo>
                  <a:lnTo>
                    <a:pt x="87756" y="1316863"/>
                  </a:lnTo>
                  <a:lnTo>
                    <a:pt x="118758" y="1354236"/>
                  </a:lnTo>
                  <a:lnTo>
                    <a:pt x="151097" y="1389835"/>
                  </a:lnTo>
                  <a:lnTo>
                    <a:pt x="184708" y="1423651"/>
                  </a:lnTo>
                  <a:lnTo>
                    <a:pt x="219526" y="1455677"/>
                  </a:lnTo>
                  <a:lnTo>
                    <a:pt x="255484" y="1485905"/>
                  </a:lnTo>
                  <a:lnTo>
                    <a:pt x="292518" y="1514328"/>
                  </a:lnTo>
                  <a:lnTo>
                    <a:pt x="330560" y="1540937"/>
                  </a:lnTo>
                  <a:lnTo>
                    <a:pt x="369546" y="1565726"/>
                  </a:lnTo>
                  <a:lnTo>
                    <a:pt x="409410" y="1588686"/>
                  </a:lnTo>
                  <a:lnTo>
                    <a:pt x="450086" y="1609811"/>
                  </a:lnTo>
                  <a:lnTo>
                    <a:pt x="491508" y="1629092"/>
                  </a:lnTo>
                  <a:lnTo>
                    <a:pt x="533611" y="1646522"/>
                  </a:lnTo>
                  <a:lnTo>
                    <a:pt x="576329" y="1662093"/>
                  </a:lnTo>
                  <a:lnTo>
                    <a:pt x="619597" y="1675797"/>
                  </a:lnTo>
                  <a:lnTo>
                    <a:pt x="663348" y="1687628"/>
                  </a:lnTo>
                  <a:lnTo>
                    <a:pt x="707516" y="1697577"/>
                  </a:lnTo>
                  <a:lnTo>
                    <a:pt x="752038" y="1705638"/>
                  </a:lnTo>
                  <a:lnTo>
                    <a:pt x="796845" y="1711801"/>
                  </a:lnTo>
                  <a:lnTo>
                    <a:pt x="841873" y="1716060"/>
                  </a:lnTo>
                  <a:lnTo>
                    <a:pt x="887057" y="1718406"/>
                  </a:lnTo>
                  <a:lnTo>
                    <a:pt x="932330" y="1718834"/>
                  </a:lnTo>
                  <a:lnTo>
                    <a:pt x="977626" y="1717333"/>
                  </a:lnTo>
                  <a:lnTo>
                    <a:pt x="1022881" y="1713898"/>
                  </a:lnTo>
                  <a:lnTo>
                    <a:pt x="1068027" y="1708521"/>
                  </a:lnTo>
                  <a:lnTo>
                    <a:pt x="1113000" y="1701194"/>
                  </a:lnTo>
                  <a:lnTo>
                    <a:pt x="1157734" y="1691908"/>
                  </a:lnTo>
                  <a:lnTo>
                    <a:pt x="1202164" y="1680658"/>
                  </a:lnTo>
                  <a:lnTo>
                    <a:pt x="1246222" y="1667435"/>
                  </a:lnTo>
                  <a:lnTo>
                    <a:pt x="1289845" y="1652231"/>
                  </a:lnTo>
                  <a:lnTo>
                    <a:pt x="1332965" y="1635039"/>
                  </a:lnTo>
                  <a:lnTo>
                    <a:pt x="1375518" y="1615851"/>
                  </a:lnTo>
                  <a:lnTo>
                    <a:pt x="1417437" y="1594660"/>
                  </a:lnTo>
                  <a:lnTo>
                    <a:pt x="1458657" y="1571458"/>
                  </a:lnTo>
                  <a:lnTo>
                    <a:pt x="1499113" y="1546237"/>
                  </a:lnTo>
                  <a:lnTo>
                    <a:pt x="1538738" y="1518990"/>
                  </a:lnTo>
                  <a:lnTo>
                    <a:pt x="1577466" y="1489710"/>
                  </a:lnTo>
                  <a:lnTo>
                    <a:pt x="1614841" y="1458718"/>
                  </a:lnTo>
                  <a:lnTo>
                    <a:pt x="1650440" y="1426388"/>
                  </a:lnTo>
                  <a:lnTo>
                    <a:pt x="1684258" y="1392784"/>
                  </a:lnTo>
                  <a:lnTo>
                    <a:pt x="1716285" y="1357973"/>
                  </a:lnTo>
                  <a:lnTo>
                    <a:pt x="1746516" y="1322021"/>
                  </a:lnTo>
                  <a:lnTo>
                    <a:pt x="1774941" y="1284993"/>
                  </a:lnTo>
                  <a:lnTo>
                    <a:pt x="1801553" y="1246954"/>
                  </a:lnTo>
                  <a:lnTo>
                    <a:pt x="1826346" y="1207971"/>
                  </a:lnTo>
                  <a:lnTo>
                    <a:pt x="1849310" y="1168110"/>
                  </a:lnTo>
                  <a:lnTo>
                    <a:pt x="1870439" y="1127435"/>
                  </a:lnTo>
                  <a:lnTo>
                    <a:pt x="1889724" y="1086014"/>
                  </a:lnTo>
                  <a:lnTo>
                    <a:pt x="1907158" y="1043911"/>
                  </a:lnTo>
                  <a:lnTo>
                    <a:pt x="1922734" y="1001193"/>
                  </a:lnTo>
                  <a:lnTo>
                    <a:pt x="1936444" y="957925"/>
                  </a:lnTo>
                  <a:lnTo>
                    <a:pt x="1948280" y="914172"/>
                  </a:lnTo>
                  <a:lnTo>
                    <a:pt x="1958234" y="870002"/>
                  </a:lnTo>
                  <a:lnTo>
                    <a:pt x="1966300" y="825479"/>
                  </a:lnTo>
                  <a:lnTo>
                    <a:pt x="1972468" y="780668"/>
                  </a:lnTo>
                  <a:lnTo>
                    <a:pt x="1976732" y="735637"/>
                  </a:lnTo>
                  <a:lnTo>
                    <a:pt x="1979084" y="690451"/>
                  </a:lnTo>
                  <a:lnTo>
                    <a:pt x="1979517" y="645175"/>
                  </a:lnTo>
                  <a:lnTo>
                    <a:pt x="1978022" y="599875"/>
                  </a:lnTo>
                  <a:lnTo>
                    <a:pt x="1974592" y="554617"/>
                  </a:lnTo>
                  <a:lnTo>
                    <a:pt x="1969219" y="509467"/>
                  </a:lnTo>
                  <a:lnTo>
                    <a:pt x="1961896" y="464490"/>
                  </a:lnTo>
                  <a:lnTo>
                    <a:pt x="1952615" y="419753"/>
                  </a:lnTo>
                  <a:lnTo>
                    <a:pt x="1941369" y="375320"/>
                  </a:lnTo>
                  <a:lnTo>
                    <a:pt x="1928150" y="331258"/>
                  </a:lnTo>
                  <a:lnTo>
                    <a:pt x="1912949" y="287633"/>
                  </a:lnTo>
                  <a:lnTo>
                    <a:pt x="1895760" y="244510"/>
                  </a:lnTo>
                  <a:lnTo>
                    <a:pt x="1876575" y="201955"/>
                  </a:lnTo>
                  <a:lnTo>
                    <a:pt x="1855386" y="160033"/>
                  </a:lnTo>
                  <a:lnTo>
                    <a:pt x="1832186" y="118811"/>
                  </a:lnTo>
                  <a:lnTo>
                    <a:pt x="1806967" y="78354"/>
                  </a:lnTo>
                  <a:lnTo>
                    <a:pt x="1779721" y="38729"/>
                  </a:lnTo>
                  <a:lnTo>
                    <a:pt x="175044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bject 23"/>
            <p:cNvSpPr/>
            <p:nvPr/>
          </p:nvSpPr>
          <p:spPr>
            <a:xfrm>
              <a:off x="5764680" y="1259280"/>
              <a:ext cx="1060560" cy="158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589760"/>
                <a:gd name="textAreaBottom" fmla="*/ 1590120 h 1589760"/>
              </a:gdLst>
              <a:ahLst/>
              <a:rect l="textAreaLeft" t="textAreaTop" r="textAreaRight" b="textAreaBottom"/>
              <a:pathLst>
                <a:path w="1061084" h="1590039">
                  <a:moveTo>
                    <a:pt x="1060576" y="0"/>
                  </a:moveTo>
                  <a:lnTo>
                    <a:pt x="1010034" y="1205"/>
                  </a:lnTo>
                  <a:lnTo>
                    <a:pt x="959736" y="4806"/>
                  </a:lnTo>
                  <a:lnTo>
                    <a:pt x="909767" y="10781"/>
                  </a:lnTo>
                  <a:lnTo>
                    <a:pt x="860206" y="19107"/>
                  </a:lnTo>
                  <a:lnTo>
                    <a:pt x="811137" y="29762"/>
                  </a:lnTo>
                  <a:lnTo>
                    <a:pt x="762641" y="42724"/>
                  </a:lnTo>
                  <a:lnTo>
                    <a:pt x="714800" y="57970"/>
                  </a:lnTo>
                  <a:lnTo>
                    <a:pt x="667695" y="75478"/>
                  </a:lnTo>
                  <a:lnTo>
                    <a:pt x="621409" y="95226"/>
                  </a:lnTo>
                  <a:lnTo>
                    <a:pt x="576024" y="117191"/>
                  </a:lnTo>
                  <a:lnTo>
                    <a:pt x="531621" y="141350"/>
                  </a:lnTo>
                  <a:lnTo>
                    <a:pt x="490094" y="166516"/>
                  </a:lnTo>
                  <a:lnTo>
                    <a:pt x="450125" y="193267"/>
                  </a:lnTo>
                  <a:lnTo>
                    <a:pt x="411732" y="221539"/>
                  </a:lnTo>
                  <a:lnTo>
                    <a:pt x="374932" y="251267"/>
                  </a:lnTo>
                  <a:lnTo>
                    <a:pt x="339742" y="282389"/>
                  </a:lnTo>
                  <a:lnTo>
                    <a:pt x="306181" y="314840"/>
                  </a:lnTo>
                  <a:lnTo>
                    <a:pt x="274264" y="348556"/>
                  </a:lnTo>
                  <a:lnTo>
                    <a:pt x="244009" y="383473"/>
                  </a:lnTo>
                  <a:lnTo>
                    <a:pt x="215433" y="419528"/>
                  </a:lnTo>
                  <a:lnTo>
                    <a:pt x="188554" y="456657"/>
                  </a:lnTo>
                  <a:lnTo>
                    <a:pt x="163388" y="494795"/>
                  </a:lnTo>
                  <a:lnTo>
                    <a:pt x="139953" y="533879"/>
                  </a:lnTo>
                  <a:lnTo>
                    <a:pt x="118267" y="573845"/>
                  </a:lnTo>
                  <a:lnTo>
                    <a:pt x="98345" y="614630"/>
                  </a:lnTo>
                  <a:lnTo>
                    <a:pt x="80206" y="656168"/>
                  </a:lnTo>
                  <a:lnTo>
                    <a:pt x="63866" y="698397"/>
                  </a:lnTo>
                  <a:lnTo>
                    <a:pt x="49344" y="741252"/>
                  </a:lnTo>
                  <a:lnTo>
                    <a:pt x="36655" y="784669"/>
                  </a:lnTo>
                  <a:lnTo>
                    <a:pt x="25817" y="828585"/>
                  </a:lnTo>
                  <a:lnTo>
                    <a:pt x="16848" y="872936"/>
                  </a:lnTo>
                  <a:lnTo>
                    <a:pt x="9765" y="917657"/>
                  </a:lnTo>
                  <a:lnTo>
                    <a:pt x="4584" y="962686"/>
                  </a:lnTo>
                  <a:lnTo>
                    <a:pt x="1323" y="1007957"/>
                  </a:lnTo>
                  <a:lnTo>
                    <a:pt x="0" y="1053408"/>
                  </a:lnTo>
                  <a:lnTo>
                    <a:pt x="630" y="1098974"/>
                  </a:lnTo>
                  <a:lnTo>
                    <a:pt x="3233" y="1144591"/>
                  </a:lnTo>
                  <a:lnTo>
                    <a:pt x="7824" y="1190196"/>
                  </a:lnTo>
                  <a:lnTo>
                    <a:pt x="14421" y="1235724"/>
                  </a:lnTo>
                  <a:lnTo>
                    <a:pt x="23041" y="1281112"/>
                  </a:lnTo>
                  <a:lnTo>
                    <a:pt x="33702" y="1326296"/>
                  </a:lnTo>
                  <a:lnTo>
                    <a:pt x="46420" y="1371211"/>
                  </a:lnTo>
                  <a:lnTo>
                    <a:pt x="61213" y="1415795"/>
                  </a:lnTo>
                  <a:lnTo>
                    <a:pt x="78099" y="1459983"/>
                  </a:lnTo>
                  <a:lnTo>
                    <a:pt x="97093" y="1503711"/>
                  </a:lnTo>
                  <a:lnTo>
                    <a:pt x="118213" y="1546915"/>
                  </a:lnTo>
                  <a:lnTo>
                    <a:pt x="141477" y="1589532"/>
                  </a:lnTo>
                  <a:lnTo>
                    <a:pt x="600963" y="1324991"/>
                  </a:lnTo>
                  <a:lnTo>
                    <a:pt x="579682" y="1283884"/>
                  </a:lnTo>
                  <a:lnTo>
                    <a:pt x="562111" y="1241250"/>
                  </a:lnTo>
                  <a:lnTo>
                    <a:pt x="548322" y="1197340"/>
                  </a:lnTo>
                  <a:lnTo>
                    <a:pt x="538385" y="1152402"/>
                  </a:lnTo>
                  <a:lnTo>
                    <a:pt x="532372" y="1106689"/>
                  </a:lnTo>
                  <a:lnTo>
                    <a:pt x="530351" y="1060450"/>
                  </a:lnTo>
                  <a:lnTo>
                    <a:pt x="532518" y="1012203"/>
                  </a:lnTo>
                  <a:lnTo>
                    <a:pt x="538893" y="965167"/>
                  </a:lnTo>
                  <a:lnTo>
                    <a:pt x="549290" y="919529"/>
                  </a:lnTo>
                  <a:lnTo>
                    <a:pt x="563521" y="875477"/>
                  </a:lnTo>
                  <a:lnTo>
                    <a:pt x="581399" y="833198"/>
                  </a:lnTo>
                  <a:lnTo>
                    <a:pt x="602737" y="792879"/>
                  </a:lnTo>
                  <a:lnTo>
                    <a:pt x="627348" y="754709"/>
                  </a:lnTo>
                  <a:lnTo>
                    <a:pt x="655045" y="718874"/>
                  </a:lnTo>
                  <a:lnTo>
                    <a:pt x="685641" y="685561"/>
                  </a:lnTo>
                  <a:lnTo>
                    <a:pt x="718948" y="654960"/>
                  </a:lnTo>
                  <a:lnTo>
                    <a:pt x="754780" y="627256"/>
                  </a:lnTo>
                  <a:lnTo>
                    <a:pt x="792950" y="602638"/>
                  </a:lnTo>
                  <a:lnTo>
                    <a:pt x="833270" y="581293"/>
                  </a:lnTo>
                  <a:lnTo>
                    <a:pt x="875553" y="563408"/>
                  </a:lnTo>
                  <a:lnTo>
                    <a:pt x="919612" y="549172"/>
                  </a:lnTo>
                  <a:lnTo>
                    <a:pt x="965261" y="538770"/>
                  </a:lnTo>
                  <a:lnTo>
                    <a:pt x="1012311" y="532392"/>
                  </a:lnTo>
                  <a:lnTo>
                    <a:pt x="1060576" y="530225"/>
                  </a:lnTo>
                  <a:lnTo>
                    <a:pt x="1060576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object 24"/>
          <p:cNvSpPr/>
          <p:nvPr/>
        </p:nvSpPr>
        <p:spPr>
          <a:xfrm>
            <a:off x="6858000" y="1430280"/>
            <a:ext cx="6289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линейны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66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bject 25"/>
          <p:cNvSpPr/>
          <p:nvPr/>
        </p:nvSpPr>
        <p:spPr>
          <a:xfrm>
            <a:off x="6961320" y="2882160"/>
            <a:ext cx="622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НД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7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bject 26"/>
          <p:cNvSpPr/>
          <p:nvPr/>
        </p:nvSpPr>
        <p:spPr>
          <a:xfrm>
            <a:off x="5830560" y="1825920"/>
            <a:ext cx="614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ВД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61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27"/>
          <p:cNvSpPr/>
          <p:nvPr/>
        </p:nvSpPr>
        <p:spPr>
          <a:xfrm>
            <a:off x="6452280" y="220932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56 тыс.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28"/>
          <p:cNvSpPr/>
          <p:nvPr/>
        </p:nvSpPr>
        <p:spPr>
          <a:xfrm>
            <a:off x="5624640" y="799920"/>
            <a:ext cx="31284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object 29" descr=""/>
          <p:cNvPicPr/>
          <p:nvPr/>
        </p:nvPicPr>
        <p:blipFill>
          <a:blip r:embed="rId1"/>
          <a:stretch/>
        </p:blipFill>
        <p:spPr>
          <a:xfrm>
            <a:off x="7646760" y="1158840"/>
            <a:ext cx="1414080" cy="1046520"/>
          </a:xfrm>
          <a:prstGeom prst="rect">
            <a:avLst/>
          </a:prstGeom>
          <a:ln w="0">
            <a:noFill/>
          </a:ln>
        </p:spPr>
      </p:pic>
      <p:sp>
        <p:nvSpPr>
          <p:cNvPr id="327" name="object 30"/>
          <p:cNvSpPr/>
          <p:nvPr/>
        </p:nvSpPr>
        <p:spPr>
          <a:xfrm>
            <a:off x="7646760" y="1158840"/>
            <a:ext cx="1414440" cy="115128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6520" bIns="0" anchor="t">
            <a:spAutoFit/>
          </a:bodyPr>
          <a:p>
            <a:pPr marL="92160">
              <a:lnSpc>
                <a:spcPct val="100000"/>
              </a:lnSpc>
              <a:spcBef>
                <a:spcPts val="445"/>
              </a:spcBef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Доля</a:t>
            </a:r>
            <a:r>
              <a:rPr b="0" lang="en-US" sz="1200" spc="-12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импорта</a:t>
            </a:r>
            <a:r>
              <a:rPr b="0" lang="en-US" sz="1200" spc="-4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200" spc="-52" strike="noStrike">
                <a:solidFill>
                  <a:srgbClr val="0d0d0d"/>
                </a:solidFill>
                <a:latin typeface="Calibri"/>
              </a:rPr>
              <a:t>в </a:t>
            </a:r>
            <a:r>
              <a:rPr b="0" lang="en-US" sz="1200" spc="-12" strike="noStrike">
                <a:solidFill>
                  <a:srgbClr val="0d0d0d"/>
                </a:solidFill>
                <a:latin typeface="Calibri"/>
              </a:rPr>
              <a:t>потребле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ПВД</a:t>
            </a:r>
            <a:r>
              <a:rPr b="0" lang="en-US" sz="1200" spc="4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– </a:t>
            </a:r>
            <a:r>
              <a:rPr b="0" lang="en-US" sz="1200" spc="-12" strike="noStrike">
                <a:solidFill>
                  <a:srgbClr val="0d0d0d"/>
                </a:solidFill>
                <a:latin typeface="Calibri"/>
              </a:rPr>
              <a:t>20,2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ПНД – 13,8</a:t>
            </a:r>
            <a:r>
              <a:rPr b="0" lang="en-US" sz="1200" spc="4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200" spc="-60" strike="noStrike">
                <a:solidFill>
                  <a:srgbClr val="0d0d0d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Линейный</a:t>
            </a:r>
            <a:r>
              <a:rPr b="0" lang="en-US" sz="1200" spc="4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-74,6</a:t>
            </a:r>
            <a:r>
              <a:rPr b="0" lang="en-US" sz="12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52" strike="noStrike">
                <a:solidFill>
                  <a:srgbClr val="ff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object 31"/>
          <p:cNvGrpSpPr/>
          <p:nvPr/>
        </p:nvGrpSpPr>
        <p:grpSpPr>
          <a:xfrm>
            <a:off x="790920" y="1353240"/>
            <a:ext cx="3930120" cy="1437120"/>
            <a:chOff x="790920" y="1353240"/>
            <a:chExt cx="3930120" cy="1437120"/>
          </a:xfrm>
        </p:grpSpPr>
        <p:sp>
          <p:nvSpPr>
            <p:cNvPr id="329" name="object 32"/>
            <p:cNvSpPr/>
            <p:nvPr/>
          </p:nvSpPr>
          <p:spPr>
            <a:xfrm>
              <a:off x="831960" y="2051280"/>
              <a:ext cx="722160" cy="3502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722630" h="350519">
                  <a:moveTo>
                    <a:pt x="0" y="350520"/>
                  </a:moveTo>
                  <a:lnTo>
                    <a:pt x="166115" y="350520"/>
                  </a:lnTo>
                </a:path>
                <a:path w="722630" h="350519">
                  <a:moveTo>
                    <a:pt x="388620" y="350520"/>
                  </a:moveTo>
                  <a:lnTo>
                    <a:pt x="722376" y="350520"/>
                  </a:lnTo>
                </a:path>
                <a:path w="722630" h="350519">
                  <a:moveTo>
                    <a:pt x="0" y="0"/>
                  </a:moveTo>
                  <a:lnTo>
                    <a:pt x="166115" y="0"/>
                  </a:lnTo>
                </a:path>
                <a:path w="722630" h="350519">
                  <a:moveTo>
                    <a:pt x="388620" y="0"/>
                  </a:moveTo>
                  <a:lnTo>
                    <a:pt x="7223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bject 33"/>
            <p:cNvSpPr/>
            <p:nvPr/>
          </p:nvSpPr>
          <p:spPr>
            <a:xfrm>
              <a:off x="998280" y="2639520"/>
              <a:ext cx="222480" cy="1112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22884" h="111760">
                  <a:moveTo>
                    <a:pt x="222504" y="0"/>
                  </a:moveTo>
                  <a:lnTo>
                    <a:pt x="0" y="0"/>
                  </a:lnTo>
                  <a:lnTo>
                    <a:pt x="0" y="111252"/>
                  </a:lnTo>
                  <a:lnTo>
                    <a:pt x="222504" y="111252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bject 34"/>
            <p:cNvSpPr/>
            <p:nvPr/>
          </p:nvSpPr>
          <p:spPr>
            <a:xfrm>
              <a:off x="998280" y="1973520"/>
              <a:ext cx="222480" cy="6656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22884" h="666114">
                  <a:moveTo>
                    <a:pt x="222504" y="0"/>
                  </a:moveTo>
                  <a:lnTo>
                    <a:pt x="0" y="0"/>
                  </a:lnTo>
                  <a:lnTo>
                    <a:pt x="0" y="665988"/>
                  </a:lnTo>
                  <a:lnTo>
                    <a:pt x="222504" y="665988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bject 35"/>
            <p:cNvSpPr/>
            <p:nvPr/>
          </p:nvSpPr>
          <p:spPr>
            <a:xfrm>
              <a:off x="1776960" y="2051280"/>
              <a:ext cx="332280" cy="35028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2739" h="350519">
                  <a:moveTo>
                    <a:pt x="0" y="350520"/>
                  </a:moveTo>
                  <a:lnTo>
                    <a:pt x="332232" y="350520"/>
                  </a:lnTo>
                </a:path>
                <a:path w="332739" h="350519">
                  <a:moveTo>
                    <a:pt x="0" y="0"/>
                  </a:moveTo>
                  <a:lnTo>
                    <a:pt x="3322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bject 36"/>
            <p:cNvSpPr/>
            <p:nvPr/>
          </p:nvSpPr>
          <p:spPr>
            <a:xfrm>
              <a:off x="1554480" y="2625840"/>
              <a:ext cx="222480" cy="12456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22885" h="125094">
                  <a:moveTo>
                    <a:pt x="222503" y="0"/>
                  </a:moveTo>
                  <a:lnTo>
                    <a:pt x="0" y="0"/>
                  </a:lnTo>
                  <a:lnTo>
                    <a:pt x="0" y="124968"/>
                  </a:lnTo>
                  <a:lnTo>
                    <a:pt x="222503" y="124968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bject 37"/>
            <p:cNvSpPr/>
            <p:nvPr/>
          </p:nvSpPr>
          <p:spPr>
            <a:xfrm>
              <a:off x="1554480" y="1866960"/>
              <a:ext cx="222480" cy="7592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22885" h="759460">
                  <a:moveTo>
                    <a:pt x="222503" y="0"/>
                  </a:moveTo>
                  <a:lnTo>
                    <a:pt x="0" y="0"/>
                  </a:lnTo>
                  <a:lnTo>
                    <a:pt x="0" y="758951"/>
                  </a:lnTo>
                  <a:lnTo>
                    <a:pt x="222503" y="758951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bject 38"/>
            <p:cNvSpPr/>
            <p:nvPr/>
          </p:nvSpPr>
          <p:spPr>
            <a:xfrm>
              <a:off x="2331720" y="2051280"/>
              <a:ext cx="333720" cy="3502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4010" h="350519">
                  <a:moveTo>
                    <a:pt x="0" y="350520"/>
                  </a:moveTo>
                  <a:lnTo>
                    <a:pt x="333756" y="350520"/>
                  </a:lnTo>
                </a:path>
                <a:path w="334010" h="350519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bject 39"/>
            <p:cNvSpPr/>
            <p:nvPr/>
          </p:nvSpPr>
          <p:spPr>
            <a:xfrm>
              <a:off x="2109240" y="2608920"/>
              <a:ext cx="222480" cy="1418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222885" h="142239">
                  <a:moveTo>
                    <a:pt x="222503" y="0"/>
                  </a:moveTo>
                  <a:lnTo>
                    <a:pt x="0" y="0"/>
                  </a:lnTo>
                  <a:lnTo>
                    <a:pt x="0" y="141732"/>
                  </a:lnTo>
                  <a:lnTo>
                    <a:pt x="222503" y="141732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bject 40"/>
            <p:cNvSpPr/>
            <p:nvPr/>
          </p:nvSpPr>
          <p:spPr>
            <a:xfrm>
              <a:off x="2109240" y="1871640"/>
              <a:ext cx="222480" cy="7376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222885" h="737869">
                  <a:moveTo>
                    <a:pt x="222503" y="0"/>
                  </a:moveTo>
                  <a:lnTo>
                    <a:pt x="0" y="0"/>
                  </a:lnTo>
                  <a:lnTo>
                    <a:pt x="0" y="737615"/>
                  </a:lnTo>
                  <a:lnTo>
                    <a:pt x="222503" y="737615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bject 41"/>
            <p:cNvSpPr/>
            <p:nvPr/>
          </p:nvSpPr>
          <p:spPr>
            <a:xfrm>
              <a:off x="2887920" y="2051280"/>
              <a:ext cx="333720" cy="3502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4010" h="350519">
                  <a:moveTo>
                    <a:pt x="0" y="350520"/>
                  </a:moveTo>
                  <a:lnTo>
                    <a:pt x="333756" y="350520"/>
                  </a:lnTo>
                </a:path>
                <a:path w="334010" h="350519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bject 42"/>
            <p:cNvSpPr/>
            <p:nvPr/>
          </p:nvSpPr>
          <p:spPr>
            <a:xfrm>
              <a:off x="2665440" y="2587680"/>
              <a:ext cx="222480" cy="1627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22885" h="163194">
                  <a:moveTo>
                    <a:pt x="222504" y="0"/>
                  </a:moveTo>
                  <a:lnTo>
                    <a:pt x="0" y="0"/>
                  </a:lnTo>
                  <a:lnTo>
                    <a:pt x="0" y="163068"/>
                  </a:lnTo>
                  <a:lnTo>
                    <a:pt x="222504" y="163068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bject 43"/>
            <p:cNvSpPr/>
            <p:nvPr/>
          </p:nvSpPr>
          <p:spPr>
            <a:xfrm>
              <a:off x="2665440" y="1851480"/>
              <a:ext cx="222480" cy="736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22885" h="736600">
                  <a:moveTo>
                    <a:pt x="222504" y="0"/>
                  </a:moveTo>
                  <a:lnTo>
                    <a:pt x="0" y="0"/>
                  </a:lnTo>
                  <a:lnTo>
                    <a:pt x="0" y="736091"/>
                  </a:lnTo>
                  <a:lnTo>
                    <a:pt x="222504" y="736091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bject 44"/>
            <p:cNvSpPr/>
            <p:nvPr/>
          </p:nvSpPr>
          <p:spPr>
            <a:xfrm>
              <a:off x="3444120" y="2051280"/>
              <a:ext cx="332280" cy="35028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2739" h="350519">
                  <a:moveTo>
                    <a:pt x="0" y="350520"/>
                  </a:moveTo>
                  <a:lnTo>
                    <a:pt x="332232" y="350520"/>
                  </a:lnTo>
                </a:path>
                <a:path w="332739" h="350519">
                  <a:moveTo>
                    <a:pt x="0" y="0"/>
                  </a:moveTo>
                  <a:lnTo>
                    <a:pt x="3322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bject 45"/>
            <p:cNvSpPr/>
            <p:nvPr/>
          </p:nvSpPr>
          <p:spPr>
            <a:xfrm>
              <a:off x="3221640" y="2572560"/>
              <a:ext cx="222480" cy="178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222885" h="178435">
                  <a:moveTo>
                    <a:pt x="222503" y="0"/>
                  </a:moveTo>
                  <a:lnTo>
                    <a:pt x="0" y="0"/>
                  </a:lnTo>
                  <a:lnTo>
                    <a:pt x="0" y="178308"/>
                  </a:lnTo>
                  <a:lnTo>
                    <a:pt x="222503" y="178308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bject 46"/>
            <p:cNvSpPr/>
            <p:nvPr/>
          </p:nvSpPr>
          <p:spPr>
            <a:xfrm>
              <a:off x="3221640" y="1900440"/>
              <a:ext cx="222480" cy="6721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222885" h="672464">
                  <a:moveTo>
                    <a:pt x="222503" y="0"/>
                  </a:moveTo>
                  <a:lnTo>
                    <a:pt x="0" y="0"/>
                  </a:lnTo>
                  <a:lnTo>
                    <a:pt x="0" y="672084"/>
                  </a:lnTo>
                  <a:lnTo>
                    <a:pt x="222503" y="672084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bject 47"/>
            <p:cNvSpPr/>
            <p:nvPr/>
          </p:nvSpPr>
          <p:spPr>
            <a:xfrm>
              <a:off x="3998880" y="2051280"/>
              <a:ext cx="333720" cy="3502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4010" h="350519">
                  <a:moveTo>
                    <a:pt x="0" y="350520"/>
                  </a:moveTo>
                  <a:lnTo>
                    <a:pt x="333756" y="350520"/>
                  </a:lnTo>
                </a:path>
                <a:path w="334010" h="350519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bject 48"/>
            <p:cNvSpPr/>
            <p:nvPr/>
          </p:nvSpPr>
          <p:spPr>
            <a:xfrm>
              <a:off x="3776400" y="2580120"/>
              <a:ext cx="222480" cy="1702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22885" h="170814">
                  <a:moveTo>
                    <a:pt x="222503" y="0"/>
                  </a:moveTo>
                  <a:lnTo>
                    <a:pt x="0" y="0"/>
                  </a:lnTo>
                  <a:lnTo>
                    <a:pt x="0" y="170687"/>
                  </a:lnTo>
                  <a:lnTo>
                    <a:pt x="222503" y="170687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bject 49"/>
            <p:cNvSpPr/>
            <p:nvPr/>
          </p:nvSpPr>
          <p:spPr>
            <a:xfrm>
              <a:off x="3776400" y="1920240"/>
              <a:ext cx="222480" cy="6598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222885" h="660400">
                  <a:moveTo>
                    <a:pt x="222503" y="0"/>
                  </a:moveTo>
                  <a:lnTo>
                    <a:pt x="0" y="0"/>
                  </a:lnTo>
                  <a:lnTo>
                    <a:pt x="0" y="659892"/>
                  </a:lnTo>
                  <a:lnTo>
                    <a:pt x="222503" y="659892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bject 50"/>
            <p:cNvSpPr/>
            <p:nvPr/>
          </p:nvSpPr>
          <p:spPr>
            <a:xfrm>
              <a:off x="4555080" y="2051280"/>
              <a:ext cx="165960" cy="350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66370" h="350519">
                  <a:moveTo>
                    <a:pt x="0" y="350520"/>
                  </a:moveTo>
                  <a:lnTo>
                    <a:pt x="166115" y="350520"/>
                  </a:lnTo>
                </a:path>
                <a:path w="166370" h="350519">
                  <a:moveTo>
                    <a:pt x="0" y="0"/>
                  </a:moveTo>
                  <a:lnTo>
                    <a:pt x="16611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bject 51"/>
            <p:cNvSpPr/>
            <p:nvPr/>
          </p:nvSpPr>
          <p:spPr>
            <a:xfrm>
              <a:off x="4332600" y="2565000"/>
              <a:ext cx="222480" cy="18576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22885" h="186055">
                  <a:moveTo>
                    <a:pt x="222503" y="0"/>
                  </a:moveTo>
                  <a:lnTo>
                    <a:pt x="0" y="0"/>
                  </a:lnTo>
                  <a:lnTo>
                    <a:pt x="0" y="185928"/>
                  </a:lnTo>
                  <a:lnTo>
                    <a:pt x="222503" y="185928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bject 52"/>
            <p:cNvSpPr/>
            <p:nvPr/>
          </p:nvSpPr>
          <p:spPr>
            <a:xfrm>
              <a:off x="4332600" y="1885320"/>
              <a:ext cx="222480" cy="6796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222885" h="680085">
                  <a:moveTo>
                    <a:pt x="222503" y="0"/>
                  </a:moveTo>
                  <a:lnTo>
                    <a:pt x="0" y="0"/>
                  </a:lnTo>
                  <a:lnTo>
                    <a:pt x="0" y="679703"/>
                  </a:lnTo>
                  <a:lnTo>
                    <a:pt x="222503" y="679703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bject 53"/>
            <p:cNvSpPr/>
            <p:nvPr/>
          </p:nvSpPr>
          <p:spPr>
            <a:xfrm>
              <a:off x="831960" y="1702440"/>
              <a:ext cx="722160" cy="36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22630" h="0">
                  <a:moveTo>
                    <a:pt x="0" y="0"/>
                  </a:moveTo>
                  <a:lnTo>
                    <a:pt x="166115" y="0"/>
                  </a:lnTo>
                </a:path>
                <a:path w="722630" h="0">
                  <a:moveTo>
                    <a:pt x="388620" y="0"/>
                  </a:moveTo>
                  <a:lnTo>
                    <a:pt x="7223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bject 54"/>
            <p:cNvSpPr/>
            <p:nvPr/>
          </p:nvSpPr>
          <p:spPr>
            <a:xfrm>
              <a:off x="998280" y="1595520"/>
              <a:ext cx="222480" cy="3780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22884" h="378460">
                  <a:moveTo>
                    <a:pt x="222504" y="0"/>
                  </a:moveTo>
                  <a:lnTo>
                    <a:pt x="0" y="0"/>
                  </a:lnTo>
                  <a:lnTo>
                    <a:pt x="0" y="377951"/>
                  </a:lnTo>
                  <a:lnTo>
                    <a:pt x="222504" y="377951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bject 55"/>
            <p:cNvSpPr/>
            <p:nvPr/>
          </p:nvSpPr>
          <p:spPr>
            <a:xfrm>
              <a:off x="1776960" y="1702440"/>
              <a:ext cx="332280" cy="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2739" h="0">
                  <a:moveTo>
                    <a:pt x="0" y="0"/>
                  </a:moveTo>
                  <a:lnTo>
                    <a:pt x="3322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bject 56"/>
            <p:cNvSpPr/>
            <p:nvPr/>
          </p:nvSpPr>
          <p:spPr>
            <a:xfrm>
              <a:off x="1554480" y="1546920"/>
              <a:ext cx="222480" cy="3196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22885" h="320039">
                  <a:moveTo>
                    <a:pt x="222503" y="0"/>
                  </a:moveTo>
                  <a:lnTo>
                    <a:pt x="0" y="0"/>
                  </a:lnTo>
                  <a:lnTo>
                    <a:pt x="0" y="320039"/>
                  </a:lnTo>
                  <a:lnTo>
                    <a:pt x="222503" y="320039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bject 57"/>
            <p:cNvSpPr/>
            <p:nvPr/>
          </p:nvSpPr>
          <p:spPr>
            <a:xfrm>
              <a:off x="2331720" y="1702440"/>
              <a:ext cx="333720" cy="36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4010" h="0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bject 58"/>
            <p:cNvSpPr/>
            <p:nvPr/>
          </p:nvSpPr>
          <p:spPr>
            <a:xfrm>
              <a:off x="2109240" y="1444680"/>
              <a:ext cx="222480" cy="4262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22885" h="426719">
                  <a:moveTo>
                    <a:pt x="222503" y="0"/>
                  </a:moveTo>
                  <a:lnTo>
                    <a:pt x="0" y="0"/>
                  </a:lnTo>
                  <a:lnTo>
                    <a:pt x="0" y="426720"/>
                  </a:lnTo>
                  <a:lnTo>
                    <a:pt x="222503" y="426720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bject 59"/>
            <p:cNvSpPr/>
            <p:nvPr/>
          </p:nvSpPr>
          <p:spPr>
            <a:xfrm>
              <a:off x="2887920" y="1702440"/>
              <a:ext cx="333720" cy="36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4010" h="0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bject 60"/>
            <p:cNvSpPr/>
            <p:nvPr/>
          </p:nvSpPr>
          <p:spPr>
            <a:xfrm>
              <a:off x="2665440" y="1428120"/>
              <a:ext cx="222480" cy="4237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22885" h="424180">
                  <a:moveTo>
                    <a:pt x="222504" y="0"/>
                  </a:moveTo>
                  <a:lnTo>
                    <a:pt x="0" y="0"/>
                  </a:lnTo>
                  <a:lnTo>
                    <a:pt x="0" y="423672"/>
                  </a:lnTo>
                  <a:lnTo>
                    <a:pt x="222504" y="423672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bject 61"/>
            <p:cNvSpPr/>
            <p:nvPr/>
          </p:nvSpPr>
          <p:spPr>
            <a:xfrm>
              <a:off x="3444120" y="1702440"/>
              <a:ext cx="332280" cy="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2739" h="0">
                  <a:moveTo>
                    <a:pt x="0" y="0"/>
                  </a:moveTo>
                  <a:lnTo>
                    <a:pt x="3322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bject 62"/>
            <p:cNvSpPr/>
            <p:nvPr/>
          </p:nvSpPr>
          <p:spPr>
            <a:xfrm>
              <a:off x="3221640" y="1487520"/>
              <a:ext cx="222480" cy="412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22885" h="413385">
                  <a:moveTo>
                    <a:pt x="222503" y="0"/>
                  </a:moveTo>
                  <a:lnTo>
                    <a:pt x="0" y="0"/>
                  </a:lnTo>
                  <a:lnTo>
                    <a:pt x="0" y="413003"/>
                  </a:lnTo>
                  <a:lnTo>
                    <a:pt x="222503" y="413003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bject 63"/>
            <p:cNvSpPr/>
            <p:nvPr/>
          </p:nvSpPr>
          <p:spPr>
            <a:xfrm>
              <a:off x="3998880" y="1702440"/>
              <a:ext cx="333720" cy="36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4010" h="0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bject 64"/>
            <p:cNvSpPr/>
            <p:nvPr/>
          </p:nvSpPr>
          <p:spPr>
            <a:xfrm>
              <a:off x="3776400" y="1502640"/>
              <a:ext cx="222480" cy="4176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2885" h="417830">
                  <a:moveTo>
                    <a:pt x="222503" y="0"/>
                  </a:moveTo>
                  <a:lnTo>
                    <a:pt x="0" y="0"/>
                  </a:lnTo>
                  <a:lnTo>
                    <a:pt x="0" y="417575"/>
                  </a:lnTo>
                  <a:lnTo>
                    <a:pt x="222503" y="417575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bject 65"/>
            <p:cNvSpPr/>
            <p:nvPr/>
          </p:nvSpPr>
          <p:spPr>
            <a:xfrm>
              <a:off x="4555080" y="1702440"/>
              <a:ext cx="165960" cy="3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6370" h="0">
                  <a:moveTo>
                    <a:pt x="0" y="0"/>
                  </a:moveTo>
                  <a:lnTo>
                    <a:pt x="16611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bject 66"/>
            <p:cNvSpPr/>
            <p:nvPr/>
          </p:nvSpPr>
          <p:spPr>
            <a:xfrm>
              <a:off x="4332600" y="1454040"/>
              <a:ext cx="222480" cy="4312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222885" h="431800">
                  <a:moveTo>
                    <a:pt x="222503" y="0"/>
                  </a:moveTo>
                  <a:lnTo>
                    <a:pt x="0" y="0"/>
                  </a:lnTo>
                  <a:lnTo>
                    <a:pt x="0" y="431291"/>
                  </a:lnTo>
                  <a:lnTo>
                    <a:pt x="222503" y="431291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bject 67"/>
            <p:cNvSpPr/>
            <p:nvPr/>
          </p:nvSpPr>
          <p:spPr>
            <a:xfrm>
              <a:off x="790920" y="1353240"/>
              <a:ext cx="3930120" cy="1437120"/>
            </a:xfrm>
            <a:custGeom>
              <a:avLst/>
              <a:gdLst>
                <a:gd name="textAreaLeft" fmla="*/ 0 w 3930120"/>
                <a:gd name="textAreaRight" fmla="*/ 3930480 w 3930120"/>
                <a:gd name="textAreaTop" fmla="*/ 0 h 1437120"/>
                <a:gd name="textAreaBottom" fmla="*/ 1437480 h 1437120"/>
              </a:gdLst>
              <a:ahLst/>
              <a:rect l="textAreaLeft" t="textAreaTop" r="textAreaRight" b="textAreaBottom"/>
              <a:pathLst>
                <a:path w="3930650" h="1437639">
                  <a:moveTo>
                    <a:pt x="41147" y="0"/>
                  </a:moveTo>
                  <a:lnTo>
                    <a:pt x="3930396" y="0"/>
                  </a:lnTo>
                </a:path>
                <a:path w="3930650" h="1437639">
                  <a:moveTo>
                    <a:pt x="41147" y="1397508"/>
                  </a:moveTo>
                  <a:lnTo>
                    <a:pt x="41147" y="0"/>
                  </a:lnTo>
                </a:path>
                <a:path w="3930650" h="1437639">
                  <a:moveTo>
                    <a:pt x="0" y="1397508"/>
                  </a:moveTo>
                  <a:lnTo>
                    <a:pt x="41147" y="1397508"/>
                  </a:lnTo>
                </a:path>
                <a:path w="3930650" h="1437639">
                  <a:moveTo>
                    <a:pt x="0" y="1048512"/>
                  </a:moveTo>
                  <a:lnTo>
                    <a:pt x="41147" y="1048512"/>
                  </a:lnTo>
                </a:path>
                <a:path w="3930650" h="1437639">
                  <a:moveTo>
                    <a:pt x="0" y="697991"/>
                  </a:moveTo>
                  <a:lnTo>
                    <a:pt x="41147" y="697991"/>
                  </a:lnTo>
                </a:path>
                <a:path w="3930650" h="1437639">
                  <a:moveTo>
                    <a:pt x="0" y="348996"/>
                  </a:moveTo>
                  <a:lnTo>
                    <a:pt x="41147" y="348996"/>
                  </a:lnTo>
                </a:path>
                <a:path w="3930650" h="1437639">
                  <a:moveTo>
                    <a:pt x="0" y="0"/>
                  </a:moveTo>
                  <a:lnTo>
                    <a:pt x="41147" y="0"/>
                  </a:lnTo>
                </a:path>
                <a:path w="3930650" h="1437639">
                  <a:moveTo>
                    <a:pt x="41147" y="1397508"/>
                  </a:moveTo>
                  <a:lnTo>
                    <a:pt x="3930396" y="1397508"/>
                  </a:lnTo>
                </a:path>
                <a:path w="3930650" h="1437639">
                  <a:moveTo>
                    <a:pt x="41147" y="1397508"/>
                  </a:moveTo>
                  <a:lnTo>
                    <a:pt x="41147" y="1437132"/>
                  </a:lnTo>
                </a:path>
                <a:path w="3930650" h="1437639">
                  <a:moveTo>
                    <a:pt x="595884" y="1397508"/>
                  </a:moveTo>
                  <a:lnTo>
                    <a:pt x="595884" y="1437132"/>
                  </a:lnTo>
                </a:path>
                <a:path w="3930650" h="1437639">
                  <a:moveTo>
                    <a:pt x="1152144" y="1397508"/>
                  </a:moveTo>
                  <a:lnTo>
                    <a:pt x="1152144" y="1437132"/>
                  </a:lnTo>
                </a:path>
                <a:path w="3930650" h="1437639">
                  <a:moveTo>
                    <a:pt x="1708404" y="1397508"/>
                  </a:moveTo>
                  <a:lnTo>
                    <a:pt x="1708404" y="1437132"/>
                  </a:lnTo>
                </a:path>
                <a:path w="3930650" h="1437639">
                  <a:moveTo>
                    <a:pt x="2263140" y="1397508"/>
                  </a:moveTo>
                  <a:lnTo>
                    <a:pt x="2263140" y="1437132"/>
                  </a:lnTo>
                </a:path>
                <a:path w="3930650" h="1437639">
                  <a:moveTo>
                    <a:pt x="2819399" y="1397508"/>
                  </a:moveTo>
                  <a:lnTo>
                    <a:pt x="2819399" y="1437132"/>
                  </a:lnTo>
                </a:path>
                <a:path w="3930650" h="1437639">
                  <a:moveTo>
                    <a:pt x="3375659" y="1397508"/>
                  </a:moveTo>
                  <a:lnTo>
                    <a:pt x="3375659" y="1437132"/>
                  </a:lnTo>
                </a:path>
                <a:path w="3930650" h="1437639">
                  <a:moveTo>
                    <a:pt x="3930396" y="1397508"/>
                  </a:moveTo>
                  <a:lnTo>
                    <a:pt x="3930396" y="1437132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object 68"/>
          <p:cNvSpPr/>
          <p:nvPr/>
        </p:nvSpPr>
        <p:spPr>
          <a:xfrm>
            <a:off x="1001520" y="25995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bject 69"/>
          <p:cNvSpPr/>
          <p:nvPr/>
        </p:nvSpPr>
        <p:spPr>
          <a:xfrm>
            <a:off x="1557000" y="25930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ject 70"/>
          <p:cNvSpPr/>
          <p:nvPr/>
        </p:nvSpPr>
        <p:spPr>
          <a:xfrm>
            <a:off x="2063880" y="258444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02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ject 71"/>
          <p:cNvSpPr/>
          <p:nvPr/>
        </p:nvSpPr>
        <p:spPr>
          <a:xfrm>
            <a:off x="2619720" y="257364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3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ject 72"/>
          <p:cNvSpPr/>
          <p:nvPr/>
        </p:nvSpPr>
        <p:spPr>
          <a:xfrm>
            <a:off x="3175560" y="256536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55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ject 73"/>
          <p:cNvSpPr/>
          <p:nvPr/>
        </p:nvSpPr>
        <p:spPr>
          <a:xfrm>
            <a:off x="3731400" y="2570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43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ject 74"/>
          <p:cNvSpPr/>
          <p:nvPr/>
        </p:nvSpPr>
        <p:spPr>
          <a:xfrm>
            <a:off x="4287240" y="25621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66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ject 75"/>
          <p:cNvSpPr/>
          <p:nvPr/>
        </p:nvSpPr>
        <p:spPr>
          <a:xfrm>
            <a:off x="1001520" y="22111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ject 76"/>
          <p:cNvSpPr/>
          <p:nvPr/>
        </p:nvSpPr>
        <p:spPr>
          <a:xfrm>
            <a:off x="1524960" y="215100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0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ject 77"/>
          <p:cNvSpPr/>
          <p:nvPr/>
        </p:nvSpPr>
        <p:spPr>
          <a:xfrm>
            <a:off x="2031840" y="2144520"/>
            <a:ext cx="378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056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ject 78"/>
          <p:cNvSpPr/>
          <p:nvPr/>
        </p:nvSpPr>
        <p:spPr>
          <a:xfrm>
            <a:off x="2588040" y="212472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053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ject 79"/>
          <p:cNvSpPr/>
          <p:nvPr/>
        </p:nvSpPr>
        <p:spPr>
          <a:xfrm>
            <a:off x="3175560" y="21405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60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bject 80"/>
          <p:cNvSpPr/>
          <p:nvPr/>
        </p:nvSpPr>
        <p:spPr>
          <a:xfrm>
            <a:off x="3731400" y="21549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4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bject 81"/>
          <p:cNvSpPr/>
          <p:nvPr/>
        </p:nvSpPr>
        <p:spPr>
          <a:xfrm>
            <a:off x="4287240" y="2129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7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bject 82"/>
          <p:cNvSpPr/>
          <p:nvPr/>
        </p:nvSpPr>
        <p:spPr>
          <a:xfrm>
            <a:off x="1001520" y="1689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ject 83"/>
          <p:cNvSpPr/>
          <p:nvPr/>
        </p:nvSpPr>
        <p:spPr>
          <a:xfrm>
            <a:off x="1557000" y="16117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bject 84"/>
          <p:cNvSpPr/>
          <p:nvPr/>
        </p:nvSpPr>
        <p:spPr>
          <a:xfrm>
            <a:off x="2063880" y="156168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609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bject 85"/>
          <p:cNvSpPr/>
          <p:nvPr/>
        </p:nvSpPr>
        <p:spPr>
          <a:xfrm>
            <a:off x="2619720" y="154368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607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bject 86"/>
          <p:cNvSpPr/>
          <p:nvPr/>
        </p:nvSpPr>
        <p:spPr>
          <a:xfrm>
            <a:off x="3175560" y="1598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590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ject 87"/>
          <p:cNvSpPr/>
          <p:nvPr/>
        </p:nvSpPr>
        <p:spPr>
          <a:xfrm>
            <a:off x="3731400" y="16156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598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bject 88"/>
          <p:cNvSpPr/>
          <p:nvPr/>
        </p:nvSpPr>
        <p:spPr>
          <a:xfrm>
            <a:off x="4287240" y="15739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61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bject 89"/>
          <p:cNvSpPr/>
          <p:nvPr/>
        </p:nvSpPr>
        <p:spPr>
          <a:xfrm>
            <a:off x="637200" y="2648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bject 90"/>
          <p:cNvSpPr/>
          <p:nvPr/>
        </p:nvSpPr>
        <p:spPr>
          <a:xfrm>
            <a:off x="508320" y="22986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ject 91"/>
          <p:cNvSpPr/>
          <p:nvPr/>
        </p:nvSpPr>
        <p:spPr>
          <a:xfrm>
            <a:off x="443880" y="194904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bject 92"/>
          <p:cNvSpPr/>
          <p:nvPr/>
        </p:nvSpPr>
        <p:spPr>
          <a:xfrm>
            <a:off x="443880" y="1599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bject 93"/>
          <p:cNvSpPr/>
          <p:nvPr/>
        </p:nvSpPr>
        <p:spPr>
          <a:xfrm>
            <a:off x="443880" y="1249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bject 94"/>
          <p:cNvSpPr/>
          <p:nvPr/>
        </p:nvSpPr>
        <p:spPr>
          <a:xfrm>
            <a:off x="790560" y="2780280"/>
            <a:ext cx="346536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t">
            <a:spAutoFit/>
          </a:bodyPr>
          <a:p>
            <a:pPr algn="ctr">
              <a:lnSpc>
                <a:spcPct val="100000"/>
              </a:lnSpc>
              <a:spcBef>
                <a:spcPts val="354"/>
              </a:spcBef>
              <a:tabLst>
                <a:tab algn="l" pos="555120"/>
                <a:tab algn="l" pos="1111320"/>
                <a:tab algn="l" pos="1666800"/>
                <a:tab algn="l" pos="2222640"/>
                <a:tab algn="l" pos="277812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tabLst>
                <a:tab algn="l" pos="555120"/>
                <a:tab algn="l" pos="1111320"/>
                <a:tab algn="l" pos="1666800"/>
                <a:tab algn="l" pos="2222640"/>
                <a:tab algn="l" pos="277812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tabLst>
                <a:tab algn="l" pos="555120"/>
                <a:tab algn="l" pos="1111320"/>
                <a:tab algn="l" pos="1666800"/>
                <a:tab algn="l" pos="2222640"/>
                <a:tab algn="l" pos="2778120"/>
              </a:tabLst>
            </a:pP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ject 95"/>
          <p:cNvSpPr/>
          <p:nvPr/>
        </p:nvSpPr>
        <p:spPr>
          <a:xfrm>
            <a:off x="4303080" y="281340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ject 96"/>
          <p:cNvSpPr/>
          <p:nvPr/>
        </p:nvSpPr>
        <p:spPr>
          <a:xfrm>
            <a:off x="4925520" y="18759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779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ject 97"/>
          <p:cNvSpPr/>
          <p:nvPr/>
        </p:nvSpPr>
        <p:spPr>
          <a:xfrm>
            <a:off x="4925520" y="210600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80">
                <a:moveTo>
                  <a:pt x="68579" y="0"/>
                </a:moveTo>
                <a:lnTo>
                  <a:pt x="0" y="0"/>
                </a:lnTo>
                <a:lnTo>
                  <a:pt x="0" y="68579"/>
                </a:lnTo>
                <a:lnTo>
                  <a:pt x="68579" y="68579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bject 98"/>
          <p:cNvSpPr/>
          <p:nvPr/>
        </p:nvSpPr>
        <p:spPr>
          <a:xfrm>
            <a:off x="4925520" y="233460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bject 99"/>
          <p:cNvSpPr/>
          <p:nvPr/>
        </p:nvSpPr>
        <p:spPr>
          <a:xfrm>
            <a:off x="5012640" y="1729800"/>
            <a:ext cx="5756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ВД ПН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object 100"/>
          <p:cNvGrpSpPr/>
          <p:nvPr/>
        </p:nvGrpSpPr>
        <p:grpSpPr>
          <a:xfrm>
            <a:off x="876240" y="3642480"/>
            <a:ext cx="2790360" cy="2323800"/>
            <a:chOff x="876240" y="3642480"/>
            <a:chExt cx="2790360" cy="2323800"/>
          </a:xfrm>
        </p:grpSpPr>
        <p:sp>
          <p:nvSpPr>
            <p:cNvPr id="398" name="object 101"/>
            <p:cNvSpPr/>
            <p:nvPr/>
          </p:nvSpPr>
          <p:spPr>
            <a:xfrm>
              <a:off x="915840" y="5240880"/>
              <a:ext cx="1191600" cy="45684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191895" h="457200">
                  <a:moveTo>
                    <a:pt x="0" y="457200"/>
                  </a:moveTo>
                  <a:lnTo>
                    <a:pt x="275844" y="457200"/>
                  </a:lnTo>
                </a:path>
                <a:path w="1191895" h="457200">
                  <a:moveTo>
                    <a:pt x="641604" y="457200"/>
                  </a:moveTo>
                  <a:lnTo>
                    <a:pt x="1191768" y="457200"/>
                  </a:lnTo>
                </a:path>
                <a:path w="1191895" h="457200">
                  <a:moveTo>
                    <a:pt x="0" y="228600"/>
                  </a:moveTo>
                  <a:lnTo>
                    <a:pt x="275844" y="228600"/>
                  </a:lnTo>
                </a:path>
                <a:path w="1191895" h="457200">
                  <a:moveTo>
                    <a:pt x="641604" y="228600"/>
                  </a:moveTo>
                  <a:lnTo>
                    <a:pt x="1191768" y="228600"/>
                  </a:lnTo>
                </a:path>
                <a:path w="1191895" h="457200">
                  <a:moveTo>
                    <a:pt x="0" y="0"/>
                  </a:moveTo>
                  <a:lnTo>
                    <a:pt x="275844" y="0"/>
                  </a:lnTo>
                </a:path>
                <a:path w="1191895" h="45720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bject 102"/>
            <p:cNvSpPr/>
            <p:nvPr/>
          </p:nvSpPr>
          <p:spPr>
            <a:xfrm>
              <a:off x="915840" y="5012280"/>
              <a:ext cx="1191600" cy="3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1895" h="0">
                  <a:moveTo>
                    <a:pt x="0" y="0"/>
                  </a:moveTo>
                  <a:lnTo>
                    <a:pt x="275844" y="0"/>
                  </a:lnTo>
                </a:path>
                <a:path w="1191895" h="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bject 103"/>
            <p:cNvSpPr/>
            <p:nvPr/>
          </p:nvSpPr>
          <p:spPr>
            <a:xfrm>
              <a:off x="1191600" y="4873680"/>
              <a:ext cx="365400" cy="105120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365759" h="1051560">
                  <a:moveTo>
                    <a:pt x="365759" y="0"/>
                  </a:moveTo>
                  <a:lnTo>
                    <a:pt x="0" y="0"/>
                  </a:lnTo>
                  <a:lnTo>
                    <a:pt x="0" y="1051560"/>
                  </a:lnTo>
                  <a:lnTo>
                    <a:pt x="365759" y="1051560"/>
                  </a:lnTo>
                  <a:lnTo>
                    <a:pt x="36575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bject 104"/>
            <p:cNvSpPr/>
            <p:nvPr/>
          </p:nvSpPr>
          <p:spPr>
            <a:xfrm>
              <a:off x="2475000" y="5240880"/>
              <a:ext cx="550080" cy="4568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50544" h="457200">
                  <a:moveTo>
                    <a:pt x="0" y="457200"/>
                  </a:moveTo>
                  <a:lnTo>
                    <a:pt x="550163" y="457200"/>
                  </a:lnTo>
                </a:path>
                <a:path w="550544" h="457200">
                  <a:moveTo>
                    <a:pt x="0" y="228600"/>
                  </a:moveTo>
                  <a:lnTo>
                    <a:pt x="550163" y="228600"/>
                  </a:lnTo>
                </a:path>
                <a:path w="550544" h="457200">
                  <a:moveTo>
                    <a:pt x="0" y="0"/>
                  </a:moveTo>
                  <a:lnTo>
                    <a:pt x="550163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bject 105"/>
            <p:cNvSpPr/>
            <p:nvPr/>
          </p:nvSpPr>
          <p:spPr>
            <a:xfrm>
              <a:off x="1557360" y="4783680"/>
              <a:ext cx="1467720" cy="228240"/>
            </a:xfrm>
            <a:custGeom>
              <a:avLst/>
              <a:gdLst>
                <a:gd name="textAreaLeft" fmla="*/ 0 w 1467720"/>
                <a:gd name="textAreaRight" fmla="*/ 1468080 w 14677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468120" h="228600">
                  <a:moveTo>
                    <a:pt x="917447" y="228600"/>
                  </a:moveTo>
                  <a:lnTo>
                    <a:pt x="1467611" y="228600"/>
                  </a:lnTo>
                </a:path>
                <a:path w="1468120" h="228600">
                  <a:moveTo>
                    <a:pt x="0" y="0"/>
                  </a:moveTo>
                  <a:lnTo>
                    <a:pt x="550164" y="0"/>
                  </a:lnTo>
                </a:path>
                <a:path w="1468120" h="228600">
                  <a:moveTo>
                    <a:pt x="917447" y="0"/>
                  </a:moveTo>
                  <a:lnTo>
                    <a:pt x="146761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bject 106"/>
            <p:cNvSpPr/>
            <p:nvPr/>
          </p:nvSpPr>
          <p:spPr>
            <a:xfrm>
              <a:off x="2107800" y="4789800"/>
              <a:ext cx="367200" cy="11350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367664" h="1135379">
                  <a:moveTo>
                    <a:pt x="367283" y="0"/>
                  </a:moveTo>
                  <a:lnTo>
                    <a:pt x="0" y="0"/>
                  </a:lnTo>
                  <a:lnTo>
                    <a:pt x="0" y="1135380"/>
                  </a:lnTo>
                  <a:lnTo>
                    <a:pt x="367283" y="1135380"/>
                  </a:lnTo>
                  <a:lnTo>
                    <a:pt x="36728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bject 107"/>
            <p:cNvSpPr/>
            <p:nvPr/>
          </p:nvSpPr>
          <p:spPr>
            <a:xfrm>
              <a:off x="3390840" y="5240880"/>
              <a:ext cx="275760" cy="4568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76225" h="457200">
                  <a:moveTo>
                    <a:pt x="0" y="457200"/>
                  </a:moveTo>
                  <a:lnTo>
                    <a:pt x="275844" y="457200"/>
                  </a:lnTo>
                </a:path>
                <a:path w="276225" h="457200">
                  <a:moveTo>
                    <a:pt x="0" y="228600"/>
                  </a:moveTo>
                  <a:lnTo>
                    <a:pt x="275844" y="228600"/>
                  </a:lnTo>
                </a:path>
                <a:path w="276225" h="45720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bject 108"/>
            <p:cNvSpPr/>
            <p:nvPr/>
          </p:nvSpPr>
          <p:spPr>
            <a:xfrm>
              <a:off x="3390840" y="4783680"/>
              <a:ext cx="275760" cy="2282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76225" h="228600">
                  <a:moveTo>
                    <a:pt x="0" y="228600"/>
                  </a:moveTo>
                  <a:lnTo>
                    <a:pt x="275844" y="228600"/>
                  </a:lnTo>
                </a:path>
                <a:path w="276225" h="22860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bject 109"/>
            <p:cNvSpPr/>
            <p:nvPr/>
          </p:nvSpPr>
          <p:spPr>
            <a:xfrm>
              <a:off x="3025080" y="4727520"/>
              <a:ext cx="365400" cy="119772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365760" h="1198245">
                  <a:moveTo>
                    <a:pt x="365760" y="0"/>
                  </a:moveTo>
                  <a:lnTo>
                    <a:pt x="0" y="0"/>
                  </a:lnTo>
                  <a:lnTo>
                    <a:pt x="0" y="1197864"/>
                  </a:lnTo>
                  <a:lnTo>
                    <a:pt x="365760" y="1197864"/>
                  </a:lnTo>
                  <a:lnTo>
                    <a:pt x="36576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bject 110"/>
            <p:cNvSpPr/>
            <p:nvPr/>
          </p:nvSpPr>
          <p:spPr>
            <a:xfrm>
              <a:off x="915840" y="4555080"/>
              <a:ext cx="1191600" cy="22824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191895" h="228600">
                  <a:moveTo>
                    <a:pt x="0" y="228600"/>
                  </a:moveTo>
                  <a:lnTo>
                    <a:pt x="275844" y="228600"/>
                  </a:lnTo>
                </a:path>
                <a:path w="1191895" h="228600">
                  <a:moveTo>
                    <a:pt x="0" y="0"/>
                  </a:moveTo>
                  <a:lnTo>
                    <a:pt x="275844" y="0"/>
                  </a:lnTo>
                </a:path>
                <a:path w="1191895" h="22860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bject 111"/>
            <p:cNvSpPr/>
            <p:nvPr/>
          </p:nvSpPr>
          <p:spPr>
            <a:xfrm>
              <a:off x="1191600" y="4440960"/>
              <a:ext cx="365400" cy="43272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432720"/>
                <a:gd name="textAreaBottom" fmla="*/ 433080 h 432720"/>
              </a:gdLst>
              <a:ahLst/>
              <a:rect l="textAreaLeft" t="textAreaTop" r="textAreaRight" b="textAreaBottom"/>
              <a:pathLst>
                <a:path w="365759" h="433070">
                  <a:moveTo>
                    <a:pt x="365759" y="0"/>
                  </a:moveTo>
                  <a:lnTo>
                    <a:pt x="0" y="0"/>
                  </a:lnTo>
                  <a:lnTo>
                    <a:pt x="0" y="432815"/>
                  </a:lnTo>
                  <a:lnTo>
                    <a:pt x="365759" y="432815"/>
                  </a:lnTo>
                  <a:lnTo>
                    <a:pt x="36575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bject 112"/>
            <p:cNvSpPr/>
            <p:nvPr/>
          </p:nvSpPr>
          <p:spPr>
            <a:xfrm>
              <a:off x="2475000" y="4555080"/>
              <a:ext cx="550080" cy="36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50544" h="0">
                  <a:moveTo>
                    <a:pt x="0" y="0"/>
                  </a:moveTo>
                  <a:lnTo>
                    <a:pt x="550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bject 113"/>
            <p:cNvSpPr/>
            <p:nvPr/>
          </p:nvSpPr>
          <p:spPr>
            <a:xfrm>
              <a:off x="2107800" y="4459320"/>
              <a:ext cx="367200" cy="3304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67664" h="330835">
                  <a:moveTo>
                    <a:pt x="367283" y="0"/>
                  </a:moveTo>
                  <a:lnTo>
                    <a:pt x="0" y="0"/>
                  </a:lnTo>
                  <a:lnTo>
                    <a:pt x="0" y="330707"/>
                  </a:lnTo>
                  <a:lnTo>
                    <a:pt x="367283" y="330707"/>
                  </a:lnTo>
                  <a:lnTo>
                    <a:pt x="36728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bject 114"/>
            <p:cNvSpPr/>
            <p:nvPr/>
          </p:nvSpPr>
          <p:spPr>
            <a:xfrm>
              <a:off x="3390840" y="4555080"/>
              <a:ext cx="275760" cy="36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76225" h="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bject 115"/>
            <p:cNvSpPr/>
            <p:nvPr/>
          </p:nvSpPr>
          <p:spPr>
            <a:xfrm>
              <a:off x="3025080" y="4427280"/>
              <a:ext cx="365400" cy="2998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65760" h="300354">
                  <a:moveTo>
                    <a:pt x="365760" y="0"/>
                  </a:moveTo>
                  <a:lnTo>
                    <a:pt x="0" y="0"/>
                  </a:lnTo>
                  <a:lnTo>
                    <a:pt x="0" y="300227"/>
                  </a:lnTo>
                  <a:lnTo>
                    <a:pt x="365760" y="300227"/>
                  </a:lnTo>
                  <a:lnTo>
                    <a:pt x="3657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bject 116"/>
            <p:cNvSpPr/>
            <p:nvPr/>
          </p:nvSpPr>
          <p:spPr>
            <a:xfrm>
              <a:off x="915840" y="4326480"/>
              <a:ext cx="1191600" cy="3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1895" h="0">
                  <a:moveTo>
                    <a:pt x="0" y="0"/>
                  </a:moveTo>
                  <a:lnTo>
                    <a:pt x="275844" y="0"/>
                  </a:lnTo>
                </a:path>
                <a:path w="1191895" h="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bject 117"/>
            <p:cNvSpPr/>
            <p:nvPr/>
          </p:nvSpPr>
          <p:spPr>
            <a:xfrm>
              <a:off x="1191600" y="4296240"/>
              <a:ext cx="365400" cy="1443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5759" h="144779">
                  <a:moveTo>
                    <a:pt x="365759" y="0"/>
                  </a:moveTo>
                  <a:lnTo>
                    <a:pt x="0" y="0"/>
                  </a:lnTo>
                  <a:lnTo>
                    <a:pt x="0" y="144780"/>
                  </a:lnTo>
                  <a:lnTo>
                    <a:pt x="365759" y="144780"/>
                  </a:lnTo>
                  <a:lnTo>
                    <a:pt x="365759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bject 118"/>
            <p:cNvSpPr/>
            <p:nvPr/>
          </p:nvSpPr>
          <p:spPr>
            <a:xfrm>
              <a:off x="2475000" y="4326480"/>
              <a:ext cx="550080" cy="36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50544" h="0">
                  <a:moveTo>
                    <a:pt x="0" y="0"/>
                  </a:moveTo>
                  <a:lnTo>
                    <a:pt x="550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bject 119"/>
            <p:cNvSpPr/>
            <p:nvPr/>
          </p:nvSpPr>
          <p:spPr>
            <a:xfrm>
              <a:off x="2107800" y="4314600"/>
              <a:ext cx="367200" cy="14436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7664" h="144779">
                  <a:moveTo>
                    <a:pt x="367283" y="0"/>
                  </a:moveTo>
                  <a:lnTo>
                    <a:pt x="0" y="0"/>
                  </a:lnTo>
                  <a:lnTo>
                    <a:pt x="0" y="144779"/>
                  </a:lnTo>
                  <a:lnTo>
                    <a:pt x="367283" y="144779"/>
                  </a:lnTo>
                  <a:lnTo>
                    <a:pt x="36728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bject 120"/>
            <p:cNvSpPr/>
            <p:nvPr/>
          </p:nvSpPr>
          <p:spPr>
            <a:xfrm>
              <a:off x="3390840" y="4326480"/>
              <a:ext cx="275760" cy="36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76225" h="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bject 121"/>
            <p:cNvSpPr/>
            <p:nvPr/>
          </p:nvSpPr>
          <p:spPr>
            <a:xfrm>
              <a:off x="3025080" y="4239720"/>
              <a:ext cx="365400" cy="1875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65760" h="187960">
                  <a:moveTo>
                    <a:pt x="365760" y="0"/>
                  </a:moveTo>
                  <a:lnTo>
                    <a:pt x="0" y="0"/>
                  </a:lnTo>
                  <a:lnTo>
                    <a:pt x="0" y="187451"/>
                  </a:lnTo>
                  <a:lnTo>
                    <a:pt x="365760" y="187451"/>
                  </a:lnTo>
                  <a:lnTo>
                    <a:pt x="365760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bject 122"/>
            <p:cNvSpPr/>
            <p:nvPr/>
          </p:nvSpPr>
          <p:spPr>
            <a:xfrm>
              <a:off x="915840" y="4099680"/>
              <a:ext cx="1191600" cy="3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1895" h="0">
                  <a:moveTo>
                    <a:pt x="0" y="0"/>
                  </a:moveTo>
                  <a:lnTo>
                    <a:pt x="275844" y="0"/>
                  </a:lnTo>
                </a:path>
                <a:path w="1191895" h="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bject 123"/>
            <p:cNvSpPr/>
            <p:nvPr/>
          </p:nvSpPr>
          <p:spPr>
            <a:xfrm>
              <a:off x="1191600" y="4129920"/>
              <a:ext cx="365400" cy="1659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365759" h="166370">
                  <a:moveTo>
                    <a:pt x="365759" y="0"/>
                  </a:moveTo>
                  <a:lnTo>
                    <a:pt x="0" y="0"/>
                  </a:lnTo>
                  <a:lnTo>
                    <a:pt x="0" y="166116"/>
                  </a:lnTo>
                  <a:lnTo>
                    <a:pt x="365759" y="166116"/>
                  </a:lnTo>
                  <a:lnTo>
                    <a:pt x="365759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bject 124"/>
            <p:cNvSpPr/>
            <p:nvPr/>
          </p:nvSpPr>
          <p:spPr>
            <a:xfrm>
              <a:off x="2475000" y="4099680"/>
              <a:ext cx="550080" cy="36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50544" h="0">
                  <a:moveTo>
                    <a:pt x="0" y="0"/>
                  </a:moveTo>
                  <a:lnTo>
                    <a:pt x="550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bject 125"/>
            <p:cNvSpPr/>
            <p:nvPr/>
          </p:nvSpPr>
          <p:spPr>
            <a:xfrm>
              <a:off x="2107800" y="4143600"/>
              <a:ext cx="367200" cy="1702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367664" h="170814">
                  <a:moveTo>
                    <a:pt x="367283" y="0"/>
                  </a:moveTo>
                  <a:lnTo>
                    <a:pt x="0" y="0"/>
                  </a:lnTo>
                  <a:lnTo>
                    <a:pt x="0" y="170688"/>
                  </a:lnTo>
                  <a:lnTo>
                    <a:pt x="367283" y="170688"/>
                  </a:lnTo>
                  <a:lnTo>
                    <a:pt x="367283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bject 126"/>
            <p:cNvSpPr/>
            <p:nvPr/>
          </p:nvSpPr>
          <p:spPr>
            <a:xfrm>
              <a:off x="3390840" y="4099680"/>
              <a:ext cx="275760" cy="36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76225" h="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bject 127"/>
            <p:cNvSpPr/>
            <p:nvPr/>
          </p:nvSpPr>
          <p:spPr>
            <a:xfrm>
              <a:off x="3025080" y="4062960"/>
              <a:ext cx="365400" cy="1767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365760" h="177164">
                  <a:moveTo>
                    <a:pt x="365760" y="0"/>
                  </a:moveTo>
                  <a:lnTo>
                    <a:pt x="0" y="0"/>
                  </a:lnTo>
                  <a:lnTo>
                    <a:pt x="0" y="176784"/>
                  </a:lnTo>
                  <a:lnTo>
                    <a:pt x="365760" y="176784"/>
                  </a:lnTo>
                  <a:lnTo>
                    <a:pt x="36576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bject 128"/>
            <p:cNvSpPr/>
            <p:nvPr/>
          </p:nvSpPr>
          <p:spPr>
            <a:xfrm>
              <a:off x="915840" y="3871080"/>
              <a:ext cx="2109240" cy="360"/>
            </a:xfrm>
            <a:custGeom>
              <a:avLst/>
              <a:gdLst>
                <a:gd name="textAreaLeft" fmla="*/ 0 w 2109240"/>
                <a:gd name="textAreaRight" fmla="*/ 2109600 w 210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109470" h="0">
                  <a:moveTo>
                    <a:pt x="0" y="0"/>
                  </a:moveTo>
                  <a:lnTo>
                    <a:pt x="275844" y="0"/>
                  </a:lnTo>
                </a:path>
                <a:path w="2109470" h="0">
                  <a:moveTo>
                    <a:pt x="641604" y="0"/>
                  </a:moveTo>
                  <a:lnTo>
                    <a:pt x="210921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bject 129"/>
            <p:cNvSpPr/>
            <p:nvPr/>
          </p:nvSpPr>
          <p:spPr>
            <a:xfrm>
              <a:off x="1191600" y="3807000"/>
              <a:ext cx="2199240" cy="336960"/>
            </a:xfrm>
            <a:custGeom>
              <a:avLst/>
              <a:gdLst>
                <a:gd name="textAreaLeft" fmla="*/ 0 w 2199240"/>
                <a:gd name="textAreaRight" fmla="*/ 2199600 w 21992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2199640" h="337185">
                  <a:moveTo>
                    <a:pt x="365760" y="54864"/>
                  </a:moveTo>
                  <a:lnTo>
                    <a:pt x="0" y="54864"/>
                  </a:lnTo>
                  <a:lnTo>
                    <a:pt x="0" y="323088"/>
                  </a:lnTo>
                  <a:lnTo>
                    <a:pt x="365760" y="323088"/>
                  </a:lnTo>
                  <a:lnTo>
                    <a:pt x="365760" y="54864"/>
                  </a:lnTo>
                  <a:close/>
                </a:path>
                <a:path w="2199640" h="337185">
                  <a:moveTo>
                    <a:pt x="1283208" y="79248"/>
                  </a:moveTo>
                  <a:lnTo>
                    <a:pt x="915924" y="79248"/>
                  </a:lnTo>
                  <a:lnTo>
                    <a:pt x="915924" y="336804"/>
                  </a:lnTo>
                  <a:lnTo>
                    <a:pt x="1283208" y="336804"/>
                  </a:lnTo>
                  <a:lnTo>
                    <a:pt x="1283208" y="79248"/>
                  </a:lnTo>
                  <a:close/>
                </a:path>
                <a:path w="2199640" h="337185">
                  <a:moveTo>
                    <a:pt x="2199132" y="0"/>
                  </a:moveTo>
                  <a:lnTo>
                    <a:pt x="1833372" y="0"/>
                  </a:lnTo>
                  <a:lnTo>
                    <a:pt x="1833372" y="256032"/>
                  </a:lnTo>
                  <a:lnTo>
                    <a:pt x="2199132" y="256032"/>
                  </a:lnTo>
                  <a:lnTo>
                    <a:pt x="2199132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bject 130"/>
            <p:cNvSpPr/>
            <p:nvPr/>
          </p:nvSpPr>
          <p:spPr>
            <a:xfrm>
              <a:off x="876240" y="3642480"/>
              <a:ext cx="2790360" cy="2323800"/>
            </a:xfrm>
            <a:custGeom>
              <a:avLst/>
              <a:gdLst>
                <a:gd name="textAreaLeft" fmla="*/ 0 w 2790360"/>
                <a:gd name="textAreaRight" fmla="*/ 2790720 w 2790360"/>
                <a:gd name="textAreaTop" fmla="*/ 0 h 2323800"/>
                <a:gd name="textAreaBottom" fmla="*/ 2324160 h 2323800"/>
              </a:gdLst>
              <a:ahLst/>
              <a:rect l="textAreaLeft" t="textAreaTop" r="textAreaRight" b="textAreaBottom"/>
              <a:pathLst>
                <a:path w="2790825" h="2324100">
                  <a:moveTo>
                    <a:pt x="39624" y="0"/>
                  </a:moveTo>
                  <a:lnTo>
                    <a:pt x="2790444" y="0"/>
                  </a:lnTo>
                </a:path>
                <a:path w="2790825" h="2324100">
                  <a:moveTo>
                    <a:pt x="39624" y="2282952"/>
                  </a:moveTo>
                  <a:lnTo>
                    <a:pt x="39624" y="0"/>
                  </a:lnTo>
                </a:path>
                <a:path w="2790825" h="2324100">
                  <a:moveTo>
                    <a:pt x="0" y="2282952"/>
                  </a:moveTo>
                  <a:lnTo>
                    <a:pt x="39624" y="2282952"/>
                  </a:lnTo>
                </a:path>
                <a:path w="2790825" h="2324100">
                  <a:moveTo>
                    <a:pt x="0" y="2055876"/>
                  </a:moveTo>
                  <a:lnTo>
                    <a:pt x="39624" y="2055876"/>
                  </a:lnTo>
                </a:path>
                <a:path w="2790825" h="2324100">
                  <a:moveTo>
                    <a:pt x="0" y="1827276"/>
                  </a:moveTo>
                  <a:lnTo>
                    <a:pt x="39624" y="1827276"/>
                  </a:lnTo>
                </a:path>
                <a:path w="2790825" h="2324100">
                  <a:moveTo>
                    <a:pt x="0" y="1598676"/>
                  </a:moveTo>
                  <a:lnTo>
                    <a:pt x="39624" y="1598676"/>
                  </a:lnTo>
                </a:path>
                <a:path w="2790825" h="2324100">
                  <a:moveTo>
                    <a:pt x="0" y="1370076"/>
                  </a:moveTo>
                  <a:lnTo>
                    <a:pt x="39624" y="1370076"/>
                  </a:lnTo>
                </a:path>
                <a:path w="2790825" h="2324100">
                  <a:moveTo>
                    <a:pt x="0" y="1141476"/>
                  </a:moveTo>
                  <a:lnTo>
                    <a:pt x="39624" y="1141476"/>
                  </a:lnTo>
                </a:path>
                <a:path w="2790825" h="2324100">
                  <a:moveTo>
                    <a:pt x="0" y="912876"/>
                  </a:moveTo>
                  <a:lnTo>
                    <a:pt x="39624" y="912876"/>
                  </a:lnTo>
                </a:path>
                <a:path w="2790825" h="2324100">
                  <a:moveTo>
                    <a:pt x="0" y="684276"/>
                  </a:moveTo>
                  <a:lnTo>
                    <a:pt x="39624" y="684276"/>
                  </a:lnTo>
                </a:path>
                <a:path w="2790825" h="2324100">
                  <a:moveTo>
                    <a:pt x="0" y="457200"/>
                  </a:moveTo>
                  <a:lnTo>
                    <a:pt x="39624" y="457200"/>
                  </a:lnTo>
                </a:path>
                <a:path w="2790825" h="2324100">
                  <a:moveTo>
                    <a:pt x="0" y="228600"/>
                  </a:moveTo>
                  <a:lnTo>
                    <a:pt x="39624" y="228600"/>
                  </a:lnTo>
                </a:path>
                <a:path w="2790825" h="2324100">
                  <a:moveTo>
                    <a:pt x="0" y="0"/>
                  </a:moveTo>
                  <a:lnTo>
                    <a:pt x="39624" y="0"/>
                  </a:lnTo>
                </a:path>
                <a:path w="2790825" h="2324100">
                  <a:moveTo>
                    <a:pt x="39624" y="2282952"/>
                  </a:moveTo>
                  <a:lnTo>
                    <a:pt x="2790444" y="2282952"/>
                  </a:lnTo>
                </a:path>
                <a:path w="2790825" h="2324100">
                  <a:moveTo>
                    <a:pt x="39624" y="2282952"/>
                  </a:moveTo>
                  <a:lnTo>
                    <a:pt x="39624" y="2324100"/>
                  </a:lnTo>
                </a:path>
                <a:path w="2790825" h="2324100">
                  <a:moveTo>
                    <a:pt x="957072" y="2282952"/>
                  </a:moveTo>
                  <a:lnTo>
                    <a:pt x="957072" y="2324100"/>
                  </a:lnTo>
                </a:path>
                <a:path w="2790825" h="2324100">
                  <a:moveTo>
                    <a:pt x="1872995" y="2282952"/>
                  </a:moveTo>
                  <a:lnTo>
                    <a:pt x="1872995" y="2324100"/>
                  </a:lnTo>
                </a:path>
                <a:path w="2790825" h="2324100">
                  <a:moveTo>
                    <a:pt x="2790444" y="2282952"/>
                  </a:moveTo>
                  <a:lnTo>
                    <a:pt x="2790444" y="232410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object 131"/>
          <p:cNvSpPr/>
          <p:nvPr/>
        </p:nvSpPr>
        <p:spPr>
          <a:xfrm>
            <a:off x="1266120" y="530496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ject 132"/>
          <p:cNvSpPr/>
          <p:nvPr/>
        </p:nvSpPr>
        <p:spPr>
          <a:xfrm>
            <a:off x="2183040" y="52632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ject 133"/>
          <p:cNvSpPr/>
          <p:nvPr/>
        </p:nvSpPr>
        <p:spPr>
          <a:xfrm>
            <a:off x="3067560" y="523116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0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ject 134"/>
          <p:cNvSpPr/>
          <p:nvPr/>
        </p:nvSpPr>
        <p:spPr>
          <a:xfrm>
            <a:off x="1266120" y="456156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ject 135"/>
          <p:cNvSpPr/>
          <p:nvPr/>
        </p:nvSpPr>
        <p:spPr>
          <a:xfrm>
            <a:off x="2183040" y="4529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bject 136"/>
          <p:cNvSpPr/>
          <p:nvPr/>
        </p:nvSpPr>
        <p:spPr>
          <a:xfrm>
            <a:off x="3099600" y="44823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bject 137"/>
          <p:cNvSpPr/>
          <p:nvPr/>
        </p:nvSpPr>
        <p:spPr>
          <a:xfrm>
            <a:off x="1470960" y="376704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ject 138"/>
          <p:cNvSpPr/>
          <p:nvPr/>
        </p:nvSpPr>
        <p:spPr>
          <a:xfrm>
            <a:off x="2387880" y="379116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7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bject 139"/>
          <p:cNvSpPr/>
          <p:nvPr/>
        </p:nvSpPr>
        <p:spPr>
          <a:xfrm>
            <a:off x="3304440" y="3711240"/>
            <a:ext cx="374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000" spc="-2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856</a:t>
            </a:r>
            <a:r>
              <a:rPr b="1" lang="en-US" sz="1000" spc="199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bject 140"/>
          <p:cNvSpPr/>
          <p:nvPr/>
        </p:nvSpPr>
        <p:spPr>
          <a:xfrm>
            <a:off x="528480" y="3463200"/>
            <a:ext cx="28404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200" bIns="0" anchor="t">
            <a:spAutoFit/>
          </a:bodyPr>
          <a:p>
            <a:pPr marL="12600">
              <a:lnSpc>
                <a:spcPct val="100000"/>
              </a:lnSpc>
              <a:spcBef>
                <a:spcPts val="694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95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>
              <a:lnSpc>
                <a:spcPct val="100000"/>
              </a:lnSpc>
              <a:spcBef>
                <a:spcPts val="60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>
              <a:lnSpc>
                <a:spcPct val="100000"/>
              </a:lnSpc>
              <a:spcBef>
                <a:spcPts val="595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>
              <a:lnSpc>
                <a:spcPct val="100000"/>
              </a:lnSpc>
              <a:spcBef>
                <a:spcPts val="60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>
              <a:lnSpc>
                <a:spcPct val="100000"/>
              </a:lnSpc>
              <a:spcBef>
                <a:spcPts val="60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 algn="r">
              <a:lnSpc>
                <a:spcPct val="100000"/>
              </a:lnSpc>
              <a:spcBef>
                <a:spcPts val="601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ject 141"/>
          <p:cNvSpPr/>
          <p:nvPr/>
        </p:nvSpPr>
        <p:spPr>
          <a:xfrm>
            <a:off x="3869280" y="426420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80"/>
                </a:lnTo>
                <a:lnTo>
                  <a:pt x="70103" y="68580"/>
                </a:lnTo>
                <a:lnTo>
                  <a:pt x="70103" y="0"/>
                </a:lnTo>
                <a:close/>
              </a:path>
            </a:pathLst>
          </a:custGeom>
          <a:solidFill>
            <a:srgbClr val="c5d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bject 142"/>
          <p:cNvSpPr/>
          <p:nvPr/>
        </p:nvSpPr>
        <p:spPr>
          <a:xfrm>
            <a:off x="3869280" y="44928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bject 143"/>
          <p:cNvSpPr/>
          <p:nvPr/>
        </p:nvSpPr>
        <p:spPr>
          <a:xfrm>
            <a:off x="3869280" y="47228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779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bject 144"/>
          <p:cNvSpPr/>
          <p:nvPr/>
        </p:nvSpPr>
        <p:spPr>
          <a:xfrm>
            <a:off x="3869280" y="495288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80"/>
                </a:lnTo>
                <a:lnTo>
                  <a:pt x="70103" y="68580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bject 145"/>
          <p:cNvSpPr/>
          <p:nvPr/>
        </p:nvSpPr>
        <p:spPr>
          <a:xfrm>
            <a:off x="3869280" y="51814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ject 146"/>
          <p:cNvSpPr/>
          <p:nvPr/>
        </p:nvSpPr>
        <p:spPr>
          <a:xfrm>
            <a:off x="3957120" y="4118400"/>
            <a:ext cx="9583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marL="12600">
              <a:lnSpc>
                <a:spcPct val="100000"/>
              </a:lnSpc>
              <a:spcBef>
                <a:spcPts val="7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тара,</a:t>
            </a:r>
            <a:r>
              <a:rPr b="0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емкости 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ленка,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упак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Все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bject 147"/>
          <p:cNvSpPr/>
          <p:nvPr/>
        </p:nvSpPr>
        <p:spPr>
          <a:xfrm>
            <a:off x="2412000" y="4570560"/>
            <a:ext cx="617400" cy="129240"/>
          </a:xfrm>
          <a:custGeom>
            <a:avLst/>
            <a:gdLst>
              <a:gd name="textAreaLeft" fmla="*/ 0 w 617400"/>
              <a:gd name="textAreaRight" fmla="*/ 617760 w 617400"/>
              <a:gd name="textAreaTop" fmla="*/ 0 h 129240"/>
              <a:gd name="textAreaBottom" fmla="*/ 129600 h 129240"/>
            </a:gdLst>
            <a:ahLst/>
            <a:rect l="textAreaLeft" t="textAreaTop" r="textAreaRight" b="textAreaBottom"/>
            <a:pathLst>
              <a:path w="617855" h="129539">
                <a:moveTo>
                  <a:pt x="551525" y="87151"/>
                </a:moveTo>
                <a:lnTo>
                  <a:pt x="503682" y="108077"/>
                </a:lnTo>
                <a:lnTo>
                  <a:pt x="501015" y="114808"/>
                </a:lnTo>
                <a:lnTo>
                  <a:pt x="503555" y="120523"/>
                </a:lnTo>
                <a:lnTo>
                  <a:pt x="506095" y="126365"/>
                </a:lnTo>
                <a:lnTo>
                  <a:pt x="512826" y="129032"/>
                </a:lnTo>
                <a:lnTo>
                  <a:pt x="597295" y="92075"/>
                </a:lnTo>
                <a:lnTo>
                  <a:pt x="593598" y="92075"/>
                </a:lnTo>
                <a:lnTo>
                  <a:pt x="551525" y="87151"/>
                </a:lnTo>
                <a:close/>
              </a:path>
              <a:path w="617855" h="129539">
                <a:moveTo>
                  <a:pt x="572382" y="78048"/>
                </a:moveTo>
                <a:lnTo>
                  <a:pt x="551525" y="87151"/>
                </a:lnTo>
                <a:lnTo>
                  <a:pt x="593598" y="92075"/>
                </a:lnTo>
                <a:lnTo>
                  <a:pt x="593853" y="89789"/>
                </a:lnTo>
                <a:lnTo>
                  <a:pt x="588010" y="89789"/>
                </a:lnTo>
                <a:lnTo>
                  <a:pt x="572382" y="78048"/>
                </a:lnTo>
                <a:close/>
              </a:path>
              <a:path w="617855" h="129539">
                <a:moveTo>
                  <a:pt x="526161" y="14732"/>
                </a:moveTo>
                <a:lnTo>
                  <a:pt x="519049" y="15748"/>
                </a:lnTo>
                <a:lnTo>
                  <a:pt x="511429" y="25908"/>
                </a:lnTo>
                <a:lnTo>
                  <a:pt x="512445" y="33020"/>
                </a:lnTo>
                <a:lnTo>
                  <a:pt x="554285" y="64452"/>
                </a:lnTo>
                <a:lnTo>
                  <a:pt x="596138" y="69342"/>
                </a:lnTo>
                <a:lnTo>
                  <a:pt x="593598" y="92075"/>
                </a:lnTo>
                <a:lnTo>
                  <a:pt x="597295" y="92075"/>
                </a:lnTo>
                <a:lnTo>
                  <a:pt x="617347" y="83312"/>
                </a:lnTo>
                <a:lnTo>
                  <a:pt x="526161" y="14732"/>
                </a:lnTo>
                <a:close/>
              </a:path>
              <a:path w="617855" h="129539">
                <a:moveTo>
                  <a:pt x="590296" y="70231"/>
                </a:moveTo>
                <a:lnTo>
                  <a:pt x="572382" y="78048"/>
                </a:lnTo>
                <a:lnTo>
                  <a:pt x="588010" y="89789"/>
                </a:lnTo>
                <a:lnTo>
                  <a:pt x="590296" y="70231"/>
                </a:lnTo>
                <a:close/>
              </a:path>
              <a:path w="617855" h="129539">
                <a:moveTo>
                  <a:pt x="596038" y="70231"/>
                </a:moveTo>
                <a:lnTo>
                  <a:pt x="590296" y="70231"/>
                </a:lnTo>
                <a:lnTo>
                  <a:pt x="588010" y="89789"/>
                </a:lnTo>
                <a:lnTo>
                  <a:pt x="593853" y="89789"/>
                </a:lnTo>
                <a:lnTo>
                  <a:pt x="596038" y="70231"/>
                </a:lnTo>
                <a:close/>
              </a:path>
              <a:path w="617855" h="129539">
                <a:moveTo>
                  <a:pt x="2540" y="0"/>
                </a:moveTo>
                <a:lnTo>
                  <a:pt x="0" y="22606"/>
                </a:lnTo>
                <a:lnTo>
                  <a:pt x="551525" y="87151"/>
                </a:lnTo>
                <a:lnTo>
                  <a:pt x="572382" y="78048"/>
                </a:lnTo>
                <a:lnTo>
                  <a:pt x="554285" y="64452"/>
                </a:lnTo>
                <a:lnTo>
                  <a:pt x="2540" y="0"/>
                </a:lnTo>
                <a:close/>
              </a:path>
              <a:path w="617855" h="129539">
                <a:moveTo>
                  <a:pt x="554285" y="64452"/>
                </a:moveTo>
                <a:lnTo>
                  <a:pt x="572382" y="78048"/>
                </a:lnTo>
                <a:lnTo>
                  <a:pt x="590296" y="70231"/>
                </a:lnTo>
                <a:lnTo>
                  <a:pt x="596038" y="70231"/>
                </a:lnTo>
                <a:lnTo>
                  <a:pt x="596138" y="69342"/>
                </a:lnTo>
                <a:lnTo>
                  <a:pt x="554285" y="644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bject 148"/>
          <p:cNvSpPr/>
          <p:nvPr/>
        </p:nvSpPr>
        <p:spPr>
          <a:xfrm>
            <a:off x="1668240" y="4425840"/>
            <a:ext cx="312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100" spc="-12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1100" spc="-26" strike="noStrike">
                <a:solidFill>
                  <a:srgbClr val="ff0000"/>
                </a:solidFill>
                <a:latin typeface="Calibri"/>
              </a:rPr>
              <a:t>2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bject 149"/>
          <p:cNvSpPr/>
          <p:nvPr/>
        </p:nvSpPr>
        <p:spPr>
          <a:xfrm>
            <a:off x="2605320" y="4397040"/>
            <a:ext cx="312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100" spc="-12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1100" spc="-26" strike="noStrike">
                <a:solidFill>
                  <a:srgbClr val="ff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bject 150"/>
          <p:cNvSpPr/>
          <p:nvPr/>
        </p:nvSpPr>
        <p:spPr>
          <a:xfrm>
            <a:off x="1552320" y="5052960"/>
            <a:ext cx="1476720" cy="25992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1477010" h="260350">
                <a:moveTo>
                  <a:pt x="578866" y="105156"/>
                </a:moveTo>
                <a:lnTo>
                  <a:pt x="559638" y="99568"/>
                </a:lnTo>
                <a:lnTo>
                  <a:pt x="469392" y="73279"/>
                </a:lnTo>
                <a:lnTo>
                  <a:pt x="463042" y="76708"/>
                </a:lnTo>
                <a:lnTo>
                  <a:pt x="459486" y="88900"/>
                </a:lnTo>
                <a:lnTo>
                  <a:pt x="462915" y="95250"/>
                </a:lnTo>
                <a:lnTo>
                  <a:pt x="513041" y="109842"/>
                </a:lnTo>
                <a:lnTo>
                  <a:pt x="0" y="238125"/>
                </a:lnTo>
                <a:lnTo>
                  <a:pt x="5588" y="260223"/>
                </a:lnTo>
                <a:lnTo>
                  <a:pt x="518579" y="132067"/>
                </a:lnTo>
                <a:lnTo>
                  <a:pt x="481203" y="168529"/>
                </a:lnTo>
                <a:lnTo>
                  <a:pt x="481203" y="175768"/>
                </a:lnTo>
                <a:lnTo>
                  <a:pt x="489966" y="184785"/>
                </a:lnTo>
                <a:lnTo>
                  <a:pt x="497205" y="184785"/>
                </a:lnTo>
                <a:lnTo>
                  <a:pt x="501777" y="180467"/>
                </a:lnTo>
                <a:lnTo>
                  <a:pt x="578866" y="105156"/>
                </a:lnTo>
                <a:close/>
              </a:path>
              <a:path w="1477010" h="260350">
                <a:moveTo>
                  <a:pt x="1477010" y="33528"/>
                </a:moveTo>
                <a:lnTo>
                  <a:pt x="1457617" y="27559"/>
                </a:lnTo>
                <a:lnTo>
                  <a:pt x="1373886" y="1778"/>
                </a:lnTo>
                <a:lnTo>
                  <a:pt x="1367917" y="0"/>
                </a:lnTo>
                <a:lnTo>
                  <a:pt x="1361567" y="3302"/>
                </a:lnTo>
                <a:lnTo>
                  <a:pt x="1359662" y="9398"/>
                </a:lnTo>
                <a:lnTo>
                  <a:pt x="1357757" y="15367"/>
                </a:lnTo>
                <a:lnTo>
                  <a:pt x="1361186" y="21844"/>
                </a:lnTo>
                <a:lnTo>
                  <a:pt x="1367155" y="23622"/>
                </a:lnTo>
                <a:lnTo>
                  <a:pt x="1411071" y="37185"/>
                </a:lnTo>
                <a:lnTo>
                  <a:pt x="858266" y="166382"/>
                </a:lnTo>
                <a:lnTo>
                  <a:pt x="863346" y="188722"/>
                </a:lnTo>
                <a:lnTo>
                  <a:pt x="1416342" y="59397"/>
                </a:lnTo>
                <a:lnTo>
                  <a:pt x="1378331" y="95377"/>
                </a:lnTo>
                <a:lnTo>
                  <a:pt x="1378204" y="102616"/>
                </a:lnTo>
                <a:lnTo>
                  <a:pt x="1386840" y="111760"/>
                </a:lnTo>
                <a:lnTo>
                  <a:pt x="1394079" y="111887"/>
                </a:lnTo>
                <a:lnTo>
                  <a:pt x="1477010" y="33528"/>
                </a:lnTo>
                <a:close/>
              </a:path>
            </a:pathLst>
          </a:custGeom>
          <a:solidFill>
            <a:srgbClr val="00a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ject 151"/>
          <p:cNvSpPr/>
          <p:nvPr/>
        </p:nvSpPr>
        <p:spPr>
          <a:xfrm>
            <a:off x="1616040" y="5038560"/>
            <a:ext cx="3394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100" spc="-21" strike="noStrike">
                <a:solidFill>
                  <a:srgbClr val="00afef"/>
                </a:solidFill>
                <a:latin typeface="Calibri"/>
              </a:rPr>
              <a:t>+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bject 152"/>
          <p:cNvSpPr/>
          <p:nvPr/>
        </p:nvSpPr>
        <p:spPr>
          <a:xfrm>
            <a:off x="2603160" y="4894200"/>
            <a:ext cx="267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100" spc="-26" strike="noStrike">
                <a:solidFill>
                  <a:srgbClr val="00afef"/>
                </a:solidFill>
                <a:latin typeface="Calibri"/>
              </a:rPr>
              <a:t>+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bject 153"/>
          <p:cNvSpPr/>
          <p:nvPr/>
        </p:nvSpPr>
        <p:spPr>
          <a:xfrm>
            <a:off x="5420880" y="3522600"/>
            <a:ext cx="3638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bject 154"/>
          <p:cNvSpPr/>
          <p:nvPr/>
        </p:nvSpPr>
        <p:spPr>
          <a:xfrm>
            <a:off x="1546200" y="4566240"/>
            <a:ext cx="578880" cy="186840"/>
          </a:xfrm>
          <a:custGeom>
            <a:avLst/>
            <a:gdLst>
              <a:gd name="textAreaLeft" fmla="*/ 0 w 578880"/>
              <a:gd name="textAreaRight" fmla="*/ 579240 w 57888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579119" h="187325">
                <a:moveTo>
                  <a:pt x="513046" y="150389"/>
                </a:moveTo>
                <a:lnTo>
                  <a:pt x="462915" y="164972"/>
                </a:lnTo>
                <a:lnTo>
                  <a:pt x="459485" y="171322"/>
                </a:lnTo>
                <a:lnTo>
                  <a:pt x="463041" y="183514"/>
                </a:lnTo>
                <a:lnTo>
                  <a:pt x="469265" y="186944"/>
                </a:lnTo>
                <a:lnTo>
                  <a:pt x="559653" y="160654"/>
                </a:lnTo>
                <a:lnTo>
                  <a:pt x="554100" y="160654"/>
                </a:lnTo>
                <a:lnTo>
                  <a:pt x="513046" y="150389"/>
                </a:lnTo>
                <a:close/>
              </a:path>
              <a:path w="579119" h="187325">
                <a:moveTo>
                  <a:pt x="534860" y="144043"/>
                </a:moveTo>
                <a:lnTo>
                  <a:pt x="513046" y="150389"/>
                </a:lnTo>
                <a:lnTo>
                  <a:pt x="554100" y="160654"/>
                </a:lnTo>
                <a:lnTo>
                  <a:pt x="554835" y="157733"/>
                </a:lnTo>
                <a:lnTo>
                  <a:pt x="548893" y="157733"/>
                </a:lnTo>
                <a:lnTo>
                  <a:pt x="534860" y="144043"/>
                </a:lnTo>
                <a:close/>
              </a:path>
              <a:path w="579119" h="187325">
                <a:moveTo>
                  <a:pt x="497204" y="75437"/>
                </a:moveTo>
                <a:lnTo>
                  <a:pt x="489966" y="75437"/>
                </a:lnTo>
                <a:lnTo>
                  <a:pt x="481203" y="84454"/>
                </a:lnTo>
                <a:lnTo>
                  <a:pt x="481203" y="91693"/>
                </a:lnTo>
                <a:lnTo>
                  <a:pt x="518580" y="128159"/>
                </a:lnTo>
                <a:lnTo>
                  <a:pt x="559689" y="138429"/>
                </a:lnTo>
                <a:lnTo>
                  <a:pt x="554100" y="160654"/>
                </a:lnTo>
                <a:lnTo>
                  <a:pt x="559653" y="160654"/>
                </a:lnTo>
                <a:lnTo>
                  <a:pt x="578866" y="155066"/>
                </a:lnTo>
                <a:lnTo>
                  <a:pt x="501777" y="79756"/>
                </a:lnTo>
                <a:lnTo>
                  <a:pt x="497204" y="75437"/>
                </a:lnTo>
                <a:close/>
              </a:path>
              <a:path w="579119" h="187325">
                <a:moveTo>
                  <a:pt x="553720" y="138556"/>
                </a:moveTo>
                <a:lnTo>
                  <a:pt x="534860" y="144043"/>
                </a:lnTo>
                <a:lnTo>
                  <a:pt x="548893" y="157733"/>
                </a:lnTo>
                <a:lnTo>
                  <a:pt x="553720" y="138556"/>
                </a:lnTo>
                <a:close/>
              </a:path>
              <a:path w="579119" h="187325">
                <a:moveTo>
                  <a:pt x="559657" y="138556"/>
                </a:moveTo>
                <a:lnTo>
                  <a:pt x="553720" y="138556"/>
                </a:lnTo>
                <a:lnTo>
                  <a:pt x="548893" y="157733"/>
                </a:lnTo>
                <a:lnTo>
                  <a:pt x="554835" y="157733"/>
                </a:lnTo>
                <a:lnTo>
                  <a:pt x="559657" y="138556"/>
                </a:lnTo>
                <a:close/>
              </a:path>
              <a:path w="579119" h="187325">
                <a:moveTo>
                  <a:pt x="5587" y="0"/>
                </a:moveTo>
                <a:lnTo>
                  <a:pt x="0" y="22097"/>
                </a:lnTo>
                <a:lnTo>
                  <a:pt x="513046" y="150389"/>
                </a:lnTo>
                <a:lnTo>
                  <a:pt x="534860" y="144043"/>
                </a:lnTo>
                <a:lnTo>
                  <a:pt x="518580" y="128159"/>
                </a:lnTo>
                <a:lnTo>
                  <a:pt x="5587" y="0"/>
                </a:lnTo>
                <a:close/>
              </a:path>
              <a:path w="579119" h="187325">
                <a:moveTo>
                  <a:pt x="518580" y="128159"/>
                </a:moveTo>
                <a:lnTo>
                  <a:pt x="534860" y="144043"/>
                </a:lnTo>
                <a:lnTo>
                  <a:pt x="553720" y="138556"/>
                </a:lnTo>
                <a:lnTo>
                  <a:pt x="559657" y="138556"/>
                </a:lnTo>
                <a:lnTo>
                  <a:pt x="559689" y="138429"/>
                </a:lnTo>
                <a:lnTo>
                  <a:pt x="518580" y="1281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bject 155"/>
          <p:cNvSpPr/>
          <p:nvPr/>
        </p:nvSpPr>
        <p:spPr>
          <a:xfrm>
            <a:off x="8505000" y="6426720"/>
            <a:ext cx="1026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ject 156"/>
          <p:cNvSpPr/>
          <p:nvPr/>
        </p:nvSpPr>
        <p:spPr>
          <a:xfrm>
            <a:off x="505800" y="5989320"/>
            <a:ext cx="47412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740520">
              <a:lnSpc>
                <a:spcPts val="1069"/>
              </a:lnSpc>
              <a:spcBef>
                <a:spcPts val="96"/>
              </a:spcBef>
              <a:tabLst>
                <a:tab algn="l" pos="1656720"/>
                <a:tab algn="l" pos="257364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9160" indent="-286920">
              <a:lnSpc>
                <a:spcPts val="131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Трубный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егмен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ода</a:t>
            </a:r>
            <a:r>
              <a:rPr b="1" lang="en-US" sz="1200" spc="23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казывае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отрицательную</a:t>
            </a:r>
            <a:r>
              <a:rPr b="1" lang="en-US" sz="12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динам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Э в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изводстве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ленок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стет за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чет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окращен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отовой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паковки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л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92960" y="146520"/>
            <a:ext cx="308628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пропилен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455" name="object 3"/>
          <p:cNvGrpSpPr/>
          <p:nvPr/>
        </p:nvGrpSpPr>
        <p:grpSpPr>
          <a:xfrm>
            <a:off x="694800" y="1243440"/>
            <a:ext cx="3334680" cy="1943280"/>
            <a:chOff x="694800" y="1243440"/>
            <a:chExt cx="3334680" cy="1943280"/>
          </a:xfrm>
        </p:grpSpPr>
        <p:sp>
          <p:nvSpPr>
            <p:cNvPr id="456" name="object 4"/>
            <p:cNvSpPr/>
            <p:nvPr/>
          </p:nvSpPr>
          <p:spPr>
            <a:xfrm>
              <a:off x="736200" y="2458080"/>
              <a:ext cx="100440" cy="4860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100965" h="486410">
                  <a:moveTo>
                    <a:pt x="0" y="486155"/>
                  </a:moveTo>
                  <a:lnTo>
                    <a:pt x="100583" y="486155"/>
                  </a:lnTo>
                </a:path>
                <a:path w="100965" h="486410">
                  <a:moveTo>
                    <a:pt x="0" y="243839"/>
                  </a:moveTo>
                  <a:lnTo>
                    <a:pt x="100583" y="243839"/>
                  </a:lnTo>
                </a:path>
                <a:path w="100965" h="486410">
                  <a:moveTo>
                    <a:pt x="0" y="0"/>
                  </a:moveTo>
                  <a:lnTo>
                    <a:pt x="1005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bject 5"/>
            <p:cNvSpPr/>
            <p:nvPr/>
          </p:nvSpPr>
          <p:spPr>
            <a:xfrm>
              <a:off x="836640" y="2424600"/>
              <a:ext cx="134280" cy="7617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34619" h="762000">
                  <a:moveTo>
                    <a:pt x="134112" y="0"/>
                  </a:moveTo>
                  <a:lnTo>
                    <a:pt x="0" y="0"/>
                  </a:lnTo>
                  <a:lnTo>
                    <a:pt x="0" y="762000"/>
                  </a:lnTo>
                  <a:lnTo>
                    <a:pt x="134112" y="762000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bject 6"/>
            <p:cNvSpPr/>
            <p:nvPr/>
          </p:nvSpPr>
          <p:spPr>
            <a:xfrm>
              <a:off x="1104840" y="2458080"/>
              <a:ext cx="202680" cy="4860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03200" h="486410">
                  <a:moveTo>
                    <a:pt x="0" y="486155"/>
                  </a:moveTo>
                  <a:lnTo>
                    <a:pt x="202691" y="486155"/>
                  </a:lnTo>
                </a:path>
                <a:path w="203200" h="486410">
                  <a:moveTo>
                    <a:pt x="0" y="243839"/>
                  </a:moveTo>
                  <a:lnTo>
                    <a:pt x="202691" y="243839"/>
                  </a:lnTo>
                </a:path>
                <a:path w="203200" h="486410">
                  <a:moveTo>
                    <a:pt x="0" y="0"/>
                  </a:moveTo>
                  <a:lnTo>
                    <a:pt x="2026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bject 7"/>
            <p:cNvSpPr/>
            <p:nvPr/>
          </p:nvSpPr>
          <p:spPr>
            <a:xfrm>
              <a:off x="1307520" y="2360520"/>
              <a:ext cx="134280" cy="8258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134619" h="826135">
                  <a:moveTo>
                    <a:pt x="134112" y="0"/>
                  </a:moveTo>
                  <a:lnTo>
                    <a:pt x="0" y="0"/>
                  </a:lnTo>
                  <a:lnTo>
                    <a:pt x="0" y="826008"/>
                  </a:lnTo>
                  <a:lnTo>
                    <a:pt x="134112" y="826008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bject 8"/>
            <p:cNvSpPr/>
            <p:nvPr/>
          </p:nvSpPr>
          <p:spPr>
            <a:xfrm>
              <a:off x="736200" y="1973520"/>
              <a:ext cx="2453400" cy="970560"/>
            </a:xfrm>
            <a:custGeom>
              <a:avLst/>
              <a:gdLst>
                <a:gd name="textAreaLeft" fmla="*/ 0 w 2453400"/>
                <a:gd name="textAreaRight" fmla="*/ 2453760 w 24534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2453640" h="970914">
                  <a:moveTo>
                    <a:pt x="1781556" y="970788"/>
                  </a:moveTo>
                  <a:lnTo>
                    <a:pt x="1982724" y="970788"/>
                  </a:lnTo>
                </a:path>
                <a:path w="2453640" h="970914">
                  <a:moveTo>
                    <a:pt x="1781556" y="728472"/>
                  </a:moveTo>
                  <a:lnTo>
                    <a:pt x="1982724" y="728472"/>
                  </a:lnTo>
                </a:path>
                <a:path w="2453640" h="970914">
                  <a:moveTo>
                    <a:pt x="1781556" y="484632"/>
                  </a:moveTo>
                  <a:lnTo>
                    <a:pt x="1982724" y="484632"/>
                  </a:lnTo>
                </a:path>
                <a:path w="2453640" h="970914">
                  <a:moveTo>
                    <a:pt x="1781556" y="242316"/>
                  </a:moveTo>
                  <a:lnTo>
                    <a:pt x="1982724" y="242316"/>
                  </a:lnTo>
                </a:path>
                <a:path w="2453640" h="970914">
                  <a:moveTo>
                    <a:pt x="0" y="0"/>
                  </a:moveTo>
                  <a:lnTo>
                    <a:pt x="1982724" y="0"/>
                  </a:lnTo>
                </a:path>
                <a:path w="2453640" h="970914">
                  <a:moveTo>
                    <a:pt x="2116835" y="0"/>
                  </a:moveTo>
                  <a:lnTo>
                    <a:pt x="24536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bject 9"/>
            <p:cNvSpPr/>
            <p:nvPr/>
          </p:nvSpPr>
          <p:spPr>
            <a:xfrm>
              <a:off x="2718720" y="1923120"/>
              <a:ext cx="134280" cy="12632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134619" h="1263650">
                  <a:moveTo>
                    <a:pt x="134111" y="0"/>
                  </a:moveTo>
                  <a:lnTo>
                    <a:pt x="0" y="0"/>
                  </a:lnTo>
                  <a:lnTo>
                    <a:pt x="0" y="1263396"/>
                  </a:lnTo>
                  <a:lnTo>
                    <a:pt x="134111" y="1263396"/>
                  </a:lnTo>
                  <a:lnTo>
                    <a:pt x="13411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bject 10"/>
            <p:cNvSpPr/>
            <p:nvPr/>
          </p:nvSpPr>
          <p:spPr>
            <a:xfrm>
              <a:off x="736200" y="1729800"/>
              <a:ext cx="2924280" cy="121428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214280"/>
                <a:gd name="textAreaBottom" fmla="*/ 1214640 h 1214280"/>
              </a:gdLst>
              <a:ahLst/>
              <a:rect l="textAreaLeft" t="textAreaTop" r="textAreaRight" b="textAreaBottom"/>
              <a:pathLst>
                <a:path w="2924810" h="1214755">
                  <a:moveTo>
                    <a:pt x="2252472" y="1214627"/>
                  </a:moveTo>
                  <a:lnTo>
                    <a:pt x="2453640" y="1214627"/>
                  </a:lnTo>
                </a:path>
                <a:path w="2924810" h="1214755">
                  <a:moveTo>
                    <a:pt x="2252472" y="972312"/>
                  </a:moveTo>
                  <a:lnTo>
                    <a:pt x="2453640" y="972312"/>
                  </a:lnTo>
                </a:path>
                <a:path w="2924810" h="1214755">
                  <a:moveTo>
                    <a:pt x="2252472" y="728472"/>
                  </a:moveTo>
                  <a:lnTo>
                    <a:pt x="2453640" y="728472"/>
                  </a:lnTo>
                </a:path>
                <a:path w="2924810" h="1214755">
                  <a:moveTo>
                    <a:pt x="2252472" y="486156"/>
                  </a:moveTo>
                  <a:lnTo>
                    <a:pt x="2453640" y="486156"/>
                  </a:lnTo>
                </a:path>
                <a:path w="2924810" h="1214755">
                  <a:moveTo>
                    <a:pt x="0" y="0"/>
                  </a:moveTo>
                  <a:lnTo>
                    <a:pt x="2453640" y="0"/>
                  </a:lnTo>
                </a:path>
                <a:path w="2924810" h="1214755">
                  <a:moveTo>
                    <a:pt x="2587752" y="0"/>
                  </a:moveTo>
                  <a:lnTo>
                    <a:pt x="29245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bject 11"/>
            <p:cNvSpPr/>
            <p:nvPr/>
          </p:nvSpPr>
          <p:spPr>
            <a:xfrm>
              <a:off x="3189600" y="1627560"/>
              <a:ext cx="134280" cy="15591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34620" h="1559560">
                  <a:moveTo>
                    <a:pt x="134112" y="0"/>
                  </a:moveTo>
                  <a:lnTo>
                    <a:pt x="0" y="0"/>
                  </a:lnTo>
                  <a:lnTo>
                    <a:pt x="0" y="1559052"/>
                  </a:lnTo>
                  <a:lnTo>
                    <a:pt x="134112" y="1559052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bject 12"/>
            <p:cNvSpPr/>
            <p:nvPr/>
          </p:nvSpPr>
          <p:spPr>
            <a:xfrm>
              <a:off x="3457800" y="1729800"/>
              <a:ext cx="571320" cy="121428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214280"/>
                <a:gd name="textAreaBottom" fmla="*/ 1214640 h 1214280"/>
              </a:gdLst>
              <a:ahLst/>
              <a:rect l="textAreaLeft" t="textAreaTop" r="textAreaRight" b="textAreaBottom"/>
              <a:pathLst>
                <a:path w="571500" h="1214755">
                  <a:moveTo>
                    <a:pt x="0" y="1214627"/>
                  </a:moveTo>
                  <a:lnTo>
                    <a:pt x="202692" y="1214627"/>
                  </a:lnTo>
                </a:path>
                <a:path w="571500" h="1214755">
                  <a:moveTo>
                    <a:pt x="0" y="972312"/>
                  </a:moveTo>
                  <a:lnTo>
                    <a:pt x="202692" y="972312"/>
                  </a:lnTo>
                </a:path>
                <a:path w="571500" h="1214755">
                  <a:moveTo>
                    <a:pt x="0" y="728472"/>
                  </a:moveTo>
                  <a:lnTo>
                    <a:pt x="202692" y="728472"/>
                  </a:lnTo>
                </a:path>
                <a:path w="571500" h="1214755">
                  <a:moveTo>
                    <a:pt x="0" y="486156"/>
                  </a:moveTo>
                  <a:lnTo>
                    <a:pt x="202692" y="486156"/>
                  </a:lnTo>
                </a:path>
                <a:path w="571500" h="1214755">
                  <a:moveTo>
                    <a:pt x="0" y="243839"/>
                  </a:moveTo>
                  <a:lnTo>
                    <a:pt x="202692" y="243839"/>
                  </a:lnTo>
                </a:path>
                <a:path w="571500" h="1214755">
                  <a:moveTo>
                    <a:pt x="336804" y="0"/>
                  </a:moveTo>
                  <a:lnTo>
                    <a:pt x="57150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bject 13"/>
            <p:cNvSpPr/>
            <p:nvPr/>
          </p:nvSpPr>
          <p:spPr>
            <a:xfrm>
              <a:off x="736200" y="1487520"/>
              <a:ext cx="3293280" cy="360"/>
            </a:xfrm>
            <a:custGeom>
              <a:avLst/>
              <a:gdLst>
                <a:gd name="textAreaLeft" fmla="*/ 0 w 3293280"/>
                <a:gd name="textAreaRight" fmla="*/ 3293640 w 3293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93745" h="0">
                  <a:moveTo>
                    <a:pt x="0" y="0"/>
                  </a:moveTo>
                  <a:lnTo>
                    <a:pt x="32933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bject 14"/>
            <p:cNvSpPr/>
            <p:nvPr/>
          </p:nvSpPr>
          <p:spPr>
            <a:xfrm>
              <a:off x="3660480" y="1502640"/>
              <a:ext cx="134280" cy="16837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683720"/>
                <a:gd name="textAreaBottom" fmla="*/ 1684080 h 1683720"/>
              </a:gdLst>
              <a:ahLst/>
              <a:rect l="textAreaLeft" t="textAreaTop" r="textAreaRight" b="textAreaBottom"/>
              <a:pathLst>
                <a:path w="134620" h="1684020">
                  <a:moveTo>
                    <a:pt x="134112" y="0"/>
                  </a:moveTo>
                  <a:lnTo>
                    <a:pt x="0" y="0"/>
                  </a:lnTo>
                  <a:lnTo>
                    <a:pt x="0" y="1684020"/>
                  </a:lnTo>
                  <a:lnTo>
                    <a:pt x="134112" y="1684020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bject 15"/>
            <p:cNvSpPr/>
            <p:nvPr/>
          </p:nvSpPr>
          <p:spPr>
            <a:xfrm>
              <a:off x="970920" y="2288880"/>
              <a:ext cx="134280" cy="8974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134619" h="897889">
                  <a:moveTo>
                    <a:pt x="134112" y="0"/>
                  </a:moveTo>
                  <a:lnTo>
                    <a:pt x="0" y="0"/>
                  </a:lnTo>
                  <a:lnTo>
                    <a:pt x="0" y="897636"/>
                  </a:lnTo>
                  <a:lnTo>
                    <a:pt x="134112" y="897636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bject 16"/>
            <p:cNvSpPr/>
            <p:nvPr/>
          </p:nvSpPr>
          <p:spPr>
            <a:xfrm>
              <a:off x="1575720" y="2458080"/>
              <a:ext cx="200880" cy="486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01294" h="486410">
                  <a:moveTo>
                    <a:pt x="0" y="486155"/>
                  </a:moveTo>
                  <a:lnTo>
                    <a:pt x="201167" y="486155"/>
                  </a:lnTo>
                </a:path>
                <a:path w="201294" h="486410">
                  <a:moveTo>
                    <a:pt x="0" y="243839"/>
                  </a:moveTo>
                  <a:lnTo>
                    <a:pt x="201167" y="243839"/>
                  </a:lnTo>
                </a:path>
                <a:path w="201294" h="486410">
                  <a:moveTo>
                    <a:pt x="0" y="0"/>
                  </a:moveTo>
                  <a:lnTo>
                    <a:pt x="2011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bject 17"/>
            <p:cNvSpPr/>
            <p:nvPr/>
          </p:nvSpPr>
          <p:spPr>
            <a:xfrm>
              <a:off x="1776960" y="2385000"/>
              <a:ext cx="135360" cy="8017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35889" h="802005">
                  <a:moveTo>
                    <a:pt x="135636" y="0"/>
                  </a:moveTo>
                  <a:lnTo>
                    <a:pt x="0" y="0"/>
                  </a:lnTo>
                  <a:lnTo>
                    <a:pt x="0" y="801624"/>
                  </a:lnTo>
                  <a:lnTo>
                    <a:pt x="135636" y="801624"/>
                  </a:lnTo>
                  <a:lnTo>
                    <a:pt x="13563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bject 18"/>
            <p:cNvSpPr/>
            <p:nvPr/>
          </p:nvSpPr>
          <p:spPr>
            <a:xfrm>
              <a:off x="736200" y="2214360"/>
              <a:ext cx="1176120" cy="4680"/>
            </a:xfrm>
            <a:custGeom>
              <a:avLst/>
              <a:gdLst>
                <a:gd name="textAreaLeft" fmla="*/ 0 w 1176120"/>
                <a:gd name="textAreaRight" fmla="*/ 1176480 w 1176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176655" h="5080">
                  <a:moveTo>
                    <a:pt x="0" y="4572"/>
                  </a:moveTo>
                  <a:lnTo>
                    <a:pt x="1176527" y="4572"/>
                  </a:lnTo>
                </a:path>
                <a:path w="1176655" h="5080">
                  <a:moveTo>
                    <a:pt x="0" y="0"/>
                  </a:moveTo>
                  <a:lnTo>
                    <a:pt x="1176527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bject 19"/>
            <p:cNvSpPr/>
            <p:nvPr/>
          </p:nvSpPr>
          <p:spPr>
            <a:xfrm>
              <a:off x="1441800" y="2217240"/>
              <a:ext cx="134280" cy="9691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134619" h="969644">
                  <a:moveTo>
                    <a:pt x="134112" y="0"/>
                  </a:moveTo>
                  <a:lnTo>
                    <a:pt x="0" y="0"/>
                  </a:lnTo>
                  <a:lnTo>
                    <a:pt x="0" y="969263"/>
                  </a:lnTo>
                  <a:lnTo>
                    <a:pt x="134112" y="969263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bject 20"/>
            <p:cNvSpPr/>
            <p:nvPr/>
          </p:nvSpPr>
          <p:spPr>
            <a:xfrm>
              <a:off x="2046600" y="2458080"/>
              <a:ext cx="200880" cy="486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01294" h="486410">
                  <a:moveTo>
                    <a:pt x="0" y="486155"/>
                  </a:moveTo>
                  <a:lnTo>
                    <a:pt x="201168" y="486155"/>
                  </a:lnTo>
                </a:path>
                <a:path w="201294" h="486410">
                  <a:moveTo>
                    <a:pt x="0" y="243839"/>
                  </a:moveTo>
                  <a:lnTo>
                    <a:pt x="201168" y="243839"/>
                  </a:lnTo>
                </a:path>
                <a:path w="201294" h="486410">
                  <a:moveTo>
                    <a:pt x="0" y="0"/>
                  </a:moveTo>
                  <a:lnTo>
                    <a:pt x="2011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bject 21"/>
            <p:cNvSpPr/>
            <p:nvPr/>
          </p:nvSpPr>
          <p:spPr>
            <a:xfrm>
              <a:off x="2046600" y="2214360"/>
              <a:ext cx="200880" cy="46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1294" h="5080">
                  <a:moveTo>
                    <a:pt x="0" y="4572"/>
                  </a:moveTo>
                  <a:lnTo>
                    <a:pt x="201168" y="4572"/>
                  </a:lnTo>
                </a:path>
                <a:path w="201294" h="5080">
                  <a:moveTo>
                    <a:pt x="0" y="0"/>
                  </a:moveTo>
                  <a:lnTo>
                    <a:pt x="201168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bject 22"/>
            <p:cNvSpPr/>
            <p:nvPr/>
          </p:nvSpPr>
          <p:spPr>
            <a:xfrm>
              <a:off x="2247840" y="2138040"/>
              <a:ext cx="134280" cy="1048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048680"/>
                <a:gd name="textAreaBottom" fmla="*/ 1049040 h 1048680"/>
              </a:gdLst>
              <a:ahLst/>
              <a:rect l="textAreaLeft" t="textAreaTop" r="textAreaRight" b="textAreaBottom"/>
              <a:pathLst>
                <a:path w="134619" h="1049020">
                  <a:moveTo>
                    <a:pt x="134112" y="0"/>
                  </a:moveTo>
                  <a:lnTo>
                    <a:pt x="0" y="0"/>
                  </a:lnTo>
                  <a:lnTo>
                    <a:pt x="0" y="1048512"/>
                  </a:lnTo>
                  <a:lnTo>
                    <a:pt x="134112" y="1048512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bject 23"/>
            <p:cNvSpPr/>
            <p:nvPr/>
          </p:nvSpPr>
          <p:spPr>
            <a:xfrm>
              <a:off x="1912680" y="1927800"/>
              <a:ext cx="1545120" cy="1258920"/>
            </a:xfrm>
            <a:custGeom>
              <a:avLst/>
              <a:gdLst>
                <a:gd name="textAreaLeft" fmla="*/ 0 w 1545120"/>
                <a:gd name="textAreaRight" fmla="*/ 1545480 w 154512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1545589" h="1259205">
                  <a:moveTo>
                    <a:pt x="134112" y="217932"/>
                  </a:moveTo>
                  <a:lnTo>
                    <a:pt x="0" y="217932"/>
                  </a:lnTo>
                  <a:lnTo>
                    <a:pt x="0" y="1258824"/>
                  </a:lnTo>
                  <a:lnTo>
                    <a:pt x="134112" y="1258824"/>
                  </a:lnTo>
                  <a:lnTo>
                    <a:pt x="134112" y="217932"/>
                  </a:lnTo>
                  <a:close/>
                </a:path>
                <a:path w="1545589" h="1259205">
                  <a:moveTo>
                    <a:pt x="605028" y="128016"/>
                  </a:moveTo>
                  <a:lnTo>
                    <a:pt x="469392" y="128016"/>
                  </a:lnTo>
                  <a:lnTo>
                    <a:pt x="469392" y="1258824"/>
                  </a:lnTo>
                  <a:lnTo>
                    <a:pt x="605028" y="1258824"/>
                  </a:lnTo>
                  <a:lnTo>
                    <a:pt x="605028" y="128016"/>
                  </a:lnTo>
                  <a:close/>
                </a:path>
                <a:path w="1545589" h="1259205">
                  <a:moveTo>
                    <a:pt x="1075944" y="109728"/>
                  </a:moveTo>
                  <a:lnTo>
                    <a:pt x="940308" y="109728"/>
                  </a:lnTo>
                  <a:lnTo>
                    <a:pt x="940308" y="1258824"/>
                  </a:lnTo>
                  <a:lnTo>
                    <a:pt x="1075944" y="1258824"/>
                  </a:lnTo>
                  <a:lnTo>
                    <a:pt x="1075944" y="109728"/>
                  </a:lnTo>
                  <a:close/>
                </a:path>
                <a:path w="1545589" h="1259205">
                  <a:moveTo>
                    <a:pt x="1545336" y="0"/>
                  </a:moveTo>
                  <a:lnTo>
                    <a:pt x="1411224" y="0"/>
                  </a:lnTo>
                  <a:lnTo>
                    <a:pt x="1411224" y="1258824"/>
                  </a:lnTo>
                  <a:lnTo>
                    <a:pt x="1545336" y="1258824"/>
                  </a:lnTo>
                  <a:lnTo>
                    <a:pt x="154533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bject 24"/>
            <p:cNvSpPr/>
            <p:nvPr/>
          </p:nvSpPr>
          <p:spPr>
            <a:xfrm>
              <a:off x="3929040" y="1973520"/>
              <a:ext cx="100440" cy="97056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964" h="970914">
                  <a:moveTo>
                    <a:pt x="0" y="970788"/>
                  </a:moveTo>
                  <a:lnTo>
                    <a:pt x="100583" y="970788"/>
                  </a:lnTo>
                </a:path>
                <a:path w="100964" h="970914">
                  <a:moveTo>
                    <a:pt x="0" y="728472"/>
                  </a:moveTo>
                  <a:lnTo>
                    <a:pt x="100583" y="728472"/>
                  </a:lnTo>
                </a:path>
                <a:path w="100964" h="970914">
                  <a:moveTo>
                    <a:pt x="0" y="484632"/>
                  </a:moveTo>
                  <a:lnTo>
                    <a:pt x="100583" y="484632"/>
                  </a:lnTo>
                </a:path>
                <a:path w="100964" h="970914">
                  <a:moveTo>
                    <a:pt x="0" y="242316"/>
                  </a:moveTo>
                  <a:lnTo>
                    <a:pt x="100583" y="242316"/>
                  </a:lnTo>
                </a:path>
                <a:path w="100964" h="970914">
                  <a:moveTo>
                    <a:pt x="0" y="0"/>
                  </a:moveTo>
                  <a:lnTo>
                    <a:pt x="1005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bject 25"/>
            <p:cNvSpPr/>
            <p:nvPr/>
          </p:nvSpPr>
          <p:spPr>
            <a:xfrm>
              <a:off x="3794760" y="1785960"/>
              <a:ext cx="134280" cy="14004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134620" h="1400810">
                  <a:moveTo>
                    <a:pt x="134112" y="0"/>
                  </a:moveTo>
                  <a:lnTo>
                    <a:pt x="0" y="0"/>
                  </a:lnTo>
                  <a:lnTo>
                    <a:pt x="0" y="1400556"/>
                  </a:lnTo>
                  <a:lnTo>
                    <a:pt x="134112" y="1400556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bject 26"/>
            <p:cNvSpPr/>
            <p:nvPr/>
          </p:nvSpPr>
          <p:spPr>
            <a:xfrm>
              <a:off x="694800" y="1243440"/>
              <a:ext cx="3334680" cy="1942920"/>
            </a:xfrm>
            <a:custGeom>
              <a:avLst/>
              <a:gdLst>
                <a:gd name="textAreaLeft" fmla="*/ 0 w 3334680"/>
                <a:gd name="textAreaRight" fmla="*/ 3335040 w 33346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3335020" h="1943100">
                  <a:moveTo>
                    <a:pt x="41148" y="0"/>
                  </a:moveTo>
                  <a:lnTo>
                    <a:pt x="3334511" y="0"/>
                  </a:lnTo>
                </a:path>
                <a:path w="3335020" h="1943100">
                  <a:moveTo>
                    <a:pt x="41148" y="1943100"/>
                  </a:moveTo>
                  <a:lnTo>
                    <a:pt x="41148" y="0"/>
                  </a:lnTo>
                </a:path>
                <a:path w="3335020" h="1943100">
                  <a:moveTo>
                    <a:pt x="0" y="1943100"/>
                  </a:moveTo>
                  <a:lnTo>
                    <a:pt x="41148" y="1943100"/>
                  </a:lnTo>
                </a:path>
                <a:path w="3335020" h="1943100">
                  <a:moveTo>
                    <a:pt x="0" y="1700783"/>
                  </a:moveTo>
                  <a:lnTo>
                    <a:pt x="41148" y="1700783"/>
                  </a:lnTo>
                </a:path>
                <a:path w="3335020" h="1943100">
                  <a:moveTo>
                    <a:pt x="0" y="1458467"/>
                  </a:moveTo>
                  <a:lnTo>
                    <a:pt x="41148" y="1458467"/>
                  </a:lnTo>
                </a:path>
                <a:path w="3335020" h="1943100">
                  <a:moveTo>
                    <a:pt x="0" y="1214627"/>
                  </a:moveTo>
                  <a:lnTo>
                    <a:pt x="41148" y="1214627"/>
                  </a:lnTo>
                </a:path>
                <a:path w="3335020" h="1943100">
                  <a:moveTo>
                    <a:pt x="0" y="972312"/>
                  </a:moveTo>
                  <a:lnTo>
                    <a:pt x="41148" y="972312"/>
                  </a:lnTo>
                </a:path>
                <a:path w="3335020" h="1943100">
                  <a:moveTo>
                    <a:pt x="0" y="729995"/>
                  </a:moveTo>
                  <a:lnTo>
                    <a:pt x="41148" y="729995"/>
                  </a:lnTo>
                </a:path>
                <a:path w="3335020" h="1943100">
                  <a:moveTo>
                    <a:pt x="0" y="486155"/>
                  </a:moveTo>
                  <a:lnTo>
                    <a:pt x="41148" y="486155"/>
                  </a:lnTo>
                </a:path>
                <a:path w="3335020" h="1943100">
                  <a:moveTo>
                    <a:pt x="0" y="243839"/>
                  </a:moveTo>
                  <a:lnTo>
                    <a:pt x="41148" y="243839"/>
                  </a:lnTo>
                </a:path>
                <a:path w="3335020" h="1943100">
                  <a:moveTo>
                    <a:pt x="0" y="0"/>
                  </a:moveTo>
                  <a:lnTo>
                    <a:pt x="41148" y="0"/>
                  </a:lnTo>
                </a:path>
                <a:path w="3335020" h="1943100">
                  <a:moveTo>
                    <a:pt x="41148" y="1943100"/>
                  </a:moveTo>
                  <a:lnTo>
                    <a:pt x="3334511" y="194310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bject 27"/>
            <p:cNvSpPr/>
            <p:nvPr/>
          </p:nvSpPr>
          <p:spPr>
            <a:xfrm>
              <a:off x="971640" y="2887200"/>
              <a:ext cx="2822040" cy="155160"/>
            </a:xfrm>
            <a:custGeom>
              <a:avLst/>
              <a:gdLst>
                <a:gd name="textAreaLeft" fmla="*/ 0 w 2822040"/>
                <a:gd name="textAreaRight" fmla="*/ 2822400 w 28220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822575" h="155575">
                  <a:moveTo>
                    <a:pt x="0" y="74676"/>
                  </a:moveTo>
                  <a:lnTo>
                    <a:pt x="469391" y="77724"/>
                  </a:lnTo>
                  <a:lnTo>
                    <a:pt x="940307" y="0"/>
                  </a:lnTo>
                  <a:lnTo>
                    <a:pt x="1411224" y="71628"/>
                  </a:lnTo>
                  <a:lnTo>
                    <a:pt x="1882139" y="129540"/>
                  </a:lnTo>
                  <a:lnTo>
                    <a:pt x="2353055" y="155448"/>
                  </a:lnTo>
                  <a:lnTo>
                    <a:pt x="2822448" y="117348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bject 28"/>
            <p:cNvSpPr/>
            <p:nvPr/>
          </p:nvSpPr>
          <p:spPr>
            <a:xfrm>
              <a:off x="927360" y="29181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bject 29"/>
            <p:cNvSpPr/>
            <p:nvPr/>
          </p:nvSpPr>
          <p:spPr>
            <a:xfrm>
              <a:off x="927360" y="29181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bject 30"/>
            <p:cNvSpPr/>
            <p:nvPr/>
          </p:nvSpPr>
          <p:spPr>
            <a:xfrm>
              <a:off x="1398240" y="2921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bject 31"/>
            <p:cNvSpPr/>
            <p:nvPr/>
          </p:nvSpPr>
          <p:spPr>
            <a:xfrm>
              <a:off x="1398240" y="2921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bject 32"/>
            <p:cNvSpPr/>
            <p:nvPr/>
          </p:nvSpPr>
          <p:spPr>
            <a:xfrm>
              <a:off x="1869120" y="2843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bject 33"/>
            <p:cNvSpPr/>
            <p:nvPr/>
          </p:nvSpPr>
          <p:spPr>
            <a:xfrm>
              <a:off x="1869120" y="2843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bject 34"/>
            <p:cNvSpPr/>
            <p:nvPr/>
          </p:nvSpPr>
          <p:spPr>
            <a:xfrm>
              <a:off x="2338560" y="2913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bject 35"/>
            <p:cNvSpPr/>
            <p:nvPr/>
          </p:nvSpPr>
          <p:spPr>
            <a:xfrm>
              <a:off x="2338560" y="2913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bject 36"/>
            <p:cNvSpPr/>
            <p:nvPr/>
          </p:nvSpPr>
          <p:spPr>
            <a:xfrm>
              <a:off x="2809440" y="29732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bject 37"/>
            <p:cNvSpPr/>
            <p:nvPr/>
          </p:nvSpPr>
          <p:spPr>
            <a:xfrm>
              <a:off x="2809440" y="29732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bject 38"/>
            <p:cNvSpPr/>
            <p:nvPr/>
          </p:nvSpPr>
          <p:spPr>
            <a:xfrm>
              <a:off x="3280320" y="29991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bject 39"/>
            <p:cNvSpPr/>
            <p:nvPr/>
          </p:nvSpPr>
          <p:spPr>
            <a:xfrm>
              <a:off x="3280320" y="29991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bject 40"/>
            <p:cNvSpPr/>
            <p:nvPr/>
          </p:nvSpPr>
          <p:spPr>
            <a:xfrm>
              <a:off x="3751200" y="2961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bject 41"/>
            <p:cNvSpPr/>
            <p:nvPr/>
          </p:nvSpPr>
          <p:spPr>
            <a:xfrm>
              <a:off x="3751200" y="2961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bject 42"/>
            <p:cNvSpPr/>
            <p:nvPr/>
          </p:nvSpPr>
          <p:spPr>
            <a:xfrm>
              <a:off x="971640" y="2721240"/>
              <a:ext cx="2822040" cy="405360"/>
            </a:xfrm>
            <a:custGeom>
              <a:avLst/>
              <a:gdLst>
                <a:gd name="textAreaLeft" fmla="*/ 0 w 2822040"/>
                <a:gd name="textAreaRight" fmla="*/ 2822400 w 282204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2822575" h="405764">
                  <a:moveTo>
                    <a:pt x="0" y="377951"/>
                  </a:moveTo>
                  <a:lnTo>
                    <a:pt x="469391" y="387096"/>
                  </a:lnTo>
                  <a:lnTo>
                    <a:pt x="940307" y="405384"/>
                  </a:lnTo>
                  <a:lnTo>
                    <a:pt x="1411224" y="320039"/>
                  </a:lnTo>
                  <a:lnTo>
                    <a:pt x="1882139" y="182880"/>
                  </a:lnTo>
                  <a:lnTo>
                    <a:pt x="2353055" y="21336"/>
                  </a:lnTo>
                  <a:lnTo>
                    <a:pt x="2822448" y="0"/>
                  </a:lnTo>
                </a:path>
              </a:pathLst>
            </a:custGeom>
            <a:noFill/>
            <a:ln w="28956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object 43" descr=""/>
            <p:cNvPicPr/>
            <p:nvPr/>
          </p:nvPicPr>
          <p:blipFill>
            <a:blip r:embed="rId1"/>
            <a:stretch/>
          </p:blipFill>
          <p:spPr>
            <a:xfrm>
              <a:off x="922680" y="3049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object 44" descr=""/>
            <p:cNvPicPr/>
            <p:nvPr/>
          </p:nvPicPr>
          <p:blipFill>
            <a:blip r:embed="rId2"/>
            <a:stretch/>
          </p:blipFill>
          <p:spPr>
            <a:xfrm>
              <a:off x="1393560" y="3058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object 45" descr=""/>
            <p:cNvPicPr/>
            <p:nvPr/>
          </p:nvPicPr>
          <p:blipFill>
            <a:blip r:embed="rId3"/>
            <a:stretch/>
          </p:blipFill>
          <p:spPr>
            <a:xfrm>
              <a:off x="1864440" y="30783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46" descr=""/>
            <p:cNvPicPr/>
            <p:nvPr/>
          </p:nvPicPr>
          <p:blipFill>
            <a:blip r:embed="rId4"/>
            <a:stretch/>
          </p:blipFill>
          <p:spPr>
            <a:xfrm>
              <a:off x="2333880" y="29930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47" descr=""/>
            <p:cNvPicPr/>
            <p:nvPr/>
          </p:nvPicPr>
          <p:blipFill>
            <a:blip r:embed="rId5"/>
            <a:stretch/>
          </p:blipFill>
          <p:spPr>
            <a:xfrm>
              <a:off x="2804760" y="28544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48" descr=""/>
            <p:cNvPicPr/>
            <p:nvPr/>
          </p:nvPicPr>
          <p:blipFill>
            <a:blip r:embed="rId6"/>
            <a:stretch/>
          </p:blipFill>
          <p:spPr>
            <a:xfrm>
              <a:off x="3276000" y="26942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49" descr=""/>
            <p:cNvPicPr/>
            <p:nvPr/>
          </p:nvPicPr>
          <p:blipFill>
            <a:blip r:embed="rId7"/>
            <a:stretch/>
          </p:blipFill>
          <p:spPr>
            <a:xfrm>
              <a:off x="3746880" y="267156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object 50"/>
          <p:cNvSpPr/>
          <p:nvPr/>
        </p:nvSpPr>
        <p:spPr>
          <a:xfrm>
            <a:off x="794880" y="21942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ject 51"/>
          <p:cNvSpPr/>
          <p:nvPr/>
        </p:nvSpPr>
        <p:spPr>
          <a:xfrm>
            <a:off x="1687320" y="21542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66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ject 52"/>
          <p:cNvSpPr/>
          <p:nvPr/>
        </p:nvSpPr>
        <p:spPr>
          <a:xfrm>
            <a:off x="2596680" y="16930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40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ject 53"/>
          <p:cNvSpPr/>
          <p:nvPr/>
        </p:nvSpPr>
        <p:spPr>
          <a:xfrm>
            <a:off x="3067560" y="139680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28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54"/>
          <p:cNvSpPr/>
          <p:nvPr/>
        </p:nvSpPr>
        <p:spPr>
          <a:xfrm>
            <a:off x="3538080" y="127152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387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ject 55"/>
          <p:cNvSpPr/>
          <p:nvPr/>
        </p:nvSpPr>
        <p:spPr>
          <a:xfrm>
            <a:off x="855000" y="2058120"/>
            <a:ext cx="7005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40,1</a:t>
            </a:r>
            <a:r>
              <a:rPr b="0" lang="en-US" sz="1000" spc="11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5" strike="noStrike" baseline="-30000">
                <a:solidFill>
                  <a:srgbClr val="000000"/>
                </a:solidFill>
                <a:latin typeface="Calibri"/>
              </a:rPr>
              <a:t>681,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ject 56"/>
          <p:cNvSpPr/>
          <p:nvPr/>
        </p:nvSpPr>
        <p:spPr>
          <a:xfrm>
            <a:off x="1351440" y="19872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798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ject 57"/>
          <p:cNvSpPr/>
          <p:nvPr/>
        </p:nvSpPr>
        <p:spPr>
          <a:xfrm>
            <a:off x="1821960" y="1914840"/>
            <a:ext cx="64980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58,1</a:t>
            </a:r>
            <a:r>
              <a:rPr b="0" lang="en-US" sz="1000" spc="12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5" strike="noStrike" baseline="2000">
                <a:solidFill>
                  <a:srgbClr val="000000"/>
                </a:solidFill>
                <a:latin typeface="Calibri"/>
              </a:rPr>
              <a:t>863,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ject 58"/>
          <p:cNvSpPr/>
          <p:nvPr/>
        </p:nvSpPr>
        <p:spPr>
          <a:xfrm>
            <a:off x="2222280" y="1774080"/>
            <a:ext cx="5058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932,15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ject 59"/>
          <p:cNvSpPr/>
          <p:nvPr/>
        </p:nvSpPr>
        <p:spPr>
          <a:xfrm>
            <a:off x="2812320" y="1806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ject 60"/>
          <p:cNvSpPr/>
          <p:nvPr/>
        </p:nvSpPr>
        <p:spPr>
          <a:xfrm>
            <a:off x="3170160" y="1697760"/>
            <a:ext cx="441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36,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ject 61"/>
          <p:cNvSpPr/>
          <p:nvPr/>
        </p:nvSpPr>
        <p:spPr>
          <a:xfrm>
            <a:off x="3672720" y="155556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53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ject 62"/>
          <p:cNvSpPr/>
          <p:nvPr/>
        </p:nvSpPr>
        <p:spPr>
          <a:xfrm>
            <a:off x="1078560" y="28666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5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63"/>
          <p:cNvSpPr/>
          <p:nvPr/>
        </p:nvSpPr>
        <p:spPr>
          <a:xfrm>
            <a:off x="1549440" y="28699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2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bject 64"/>
          <p:cNvSpPr/>
          <p:nvPr/>
        </p:nvSpPr>
        <p:spPr>
          <a:xfrm>
            <a:off x="2020680" y="2791800"/>
            <a:ext cx="72036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1904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47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5" strike="noStrike" baseline="2000">
                <a:solidFill>
                  <a:srgbClr val="000000"/>
                </a:solidFill>
                <a:latin typeface="Calibri"/>
              </a:rPr>
              <a:t>188,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bject 65"/>
          <p:cNvSpPr/>
          <p:nvPr/>
        </p:nvSpPr>
        <p:spPr>
          <a:xfrm>
            <a:off x="2961360" y="2921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4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bject 66"/>
          <p:cNvSpPr/>
          <p:nvPr/>
        </p:nvSpPr>
        <p:spPr>
          <a:xfrm>
            <a:off x="3432240" y="29473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8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67"/>
          <p:cNvSpPr/>
          <p:nvPr/>
        </p:nvSpPr>
        <p:spPr>
          <a:xfrm>
            <a:off x="3902760" y="29095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5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68"/>
          <p:cNvSpPr/>
          <p:nvPr/>
        </p:nvSpPr>
        <p:spPr>
          <a:xfrm>
            <a:off x="1078560" y="30031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73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bject 69"/>
          <p:cNvSpPr/>
          <p:nvPr/>
        </p:nvSpPr>
        <p:spPr>
          <a:xfrm>
            <a:off x="1549080" y="301284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65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bject 70"/>
          <p:cNvSpPr/>
          <p:nvPr/>
        </p:nvSpPr>
        <p:spPr>
          <a:xfrm>
            <a:off x="2020680" y="30308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bject 71"/>
          <p:cNvSpPr/>
          <p:nvPr/>
        </p:nvSpPr>
        <p:spPr>
          <a:xfrm>
            <a:off x="2490480" y="29462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9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bject 72"/>
          <p:cNvSpPr/>
          <p:nvPr/>
        </p:nvSpPr>
        <p:spPr>
          <a:xfrm>
            <a:off x="2961360" y="28072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33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73"/>
          <p:cNvSpPr/>
          <p:nvPr/>
        </p:nvSpPr>
        <p:spPr>
          <a:xfrm>
            <a:off x="3432240" y="2647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66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74"/>
          <p:cNvSpPr/>
          <p:nvPr/>
        </p:nvSpPr>
        <p:spPr>
          <a:xfrm>
            <a:off x="3902760" y="2624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8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ject 75"/>
          <p:cNvSpPr/>
          <p:nvPr/>
        </p:nvSpPr>
        <p:spPr>
          <a:xfrm>
            <a:off x="540720" y="30848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bject 76"/>
          <p:cNvSpPr/>
          <p:nvPr/>
        </p:nvSpPr>
        <p:spPr>
          <a:xfrm>
            <a:off x="411840" y="2841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bject 77"/>
          <p:cNvSpPr/>
          <p:nvPr/>
        </p:nvSpPr>
        <p:spPr>
          <a:xfrm>
            <a:off x="411840" y="2598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bject 78"/>
          <p:cNvSpPr/>
          <p:nvPr/>
        </p:nvSpPr>
        <p:spPr>
          <a:xfrm>
            <a:off x="411840" y="2355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bject 79"/>
          <p:cNvSpPr/>
          <p:nvPr/>
        </p:nvSpPr>
        <p:spPr>
          <a:xfrm>
            <a:off x="411840" y="21132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bject 80"/>
          <p:cNvSpPr/>
          <p:nvPr/>
        </p:nvSpPr>
        <p:spPr>
          <a:xfrm>
            <a:off x="347400" y="18702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81"/>
          <p:cNvSpPr/>
          <p:nvPr/>
        </p:nvSpPr>
        <p:spPr>
          <a:xfrm>
            <a:off x="347400" y="16272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bject 82"/>
          <p:cNvSpPr/>
          <p:nvPr/>
        </p:nvSpPr>
        <p:spPr>
          <a:xfrm>
            <a:off x="347400" y="13842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ject 83"/>
          <p:cNvSpPr/>
          <p:nvPr/>
        </p:nvSpPr>
        <p:spPr>
          <a:xfrm>
            <a:off x="347400" y="11412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bject 84"/>
          <p:cNvSpPr/>
          <p:nvPr/>
        </p:nvSpPr>
        <p:spPr>
          <a:xfrm>
            <a:off x="829440" y="3250080"/>
            <a:ext cx="3107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83120"/>
                <a:tab algn="l" pos="953640"/>
                <a:tab algn="l" pos="1424160"/>
                <a:tab algn="l" pos="1894680"/>
                <a:tab algn="l" pos="2365920"/>
                <a:tab algn="l" pos="283644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bject 85"/>
          <p:cNvSpPr/>
          <p:nvPr/>
        </p:nvSpPr>
        <p:spPr>
          <a:xfrm>
            <a:off x="179640" y="2051280"/>
            <a:ext cx="1519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9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bject 86"/>
          <p:cNvSpPr/>
          <p:nvPr/>
        </p:nvSpPr>
        <p:spPr>
          <a:xfrm>
            <a:off x="4229280" y="192492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87"/>
          <p:cNvSpPr/>
          <p:nvPr/>
        </p:nvSpPr>
        <p:spPr>
          <a:xfrm>
            <a:off x="4229280" y="215496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bject 88"/>
          <p:cNvSpPr/>
          <p:nvPr/>
        </p:nvSpPr>
        <p:spPr>
          <a:xfrm>
            <a:off x="4486320" y="1779120"/>
            <a:ext cx="7884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object 89"/>
          <p:cNvGrpSpPr/>
          <p:nvPr/>
        </p:nvGrpSpPr>
        <p:grpSpPr>
          <a:xfrm>
            <a:off x="4228200" y="2380320"/>
            <a:ext cx="243360" cy="75960"/>
            <a:chOff x="4228200" y="2380320"/>
            <a:chExt cx="243360" cy="75960"/>
          </a:xfrm>
        </p:grpSpPr>
        <p:sp>
          <p:nvSpPr>
            <p:cNvPr id="542" name="object 90"/>
            <p:cNvSpPr/>
            <p:nvPr/>
          </p:nvSpPr>
          <p:spPr>
            <a:xfrm>
              <a:off x="4228200" y="241920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83058" y="0"/>
                  </a:lnTo>
                </a:path>
                <a:path w="243839" h="0">
                  <a:moveTo>
                    <a:pt x="159258" y="0"/>
                  </a:moveTo>
                  <a:lnTo>
                    <a:pt x="243839" y="0"/>
                  </a:lnTo>
                </a:path>
              </a:pathLst>
            </a:custGeom>
            <a:noFill/>
            <a:ln w="28955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bject 91"/>
            <p:cNvSpPr/>
            <p:nvPr/>
          </p:nvSpPr>
          <p:spPr>
            <a:xfrm>
              <a:off x="4311360" y="23803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bject 92"/>
            <p:cNvSpPr/>
            <p:nvPr/>
          </p:nvSpPr>
          <p:spPr>
            <a:xfrm>
              <a:off x="4311360" y="23803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object 93" descr=""/>
          <p:cNvPicPr/>
          <p:nvPr/>
        </p:nvPicPr>
        <p:blipFill>
          <a:blip r:embed="rId8"/>
          <a:stretch/>
        </p:blipFill>
        <p:spPr>
          <a:xfrm>
            <a:off x="4228200" y="260604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546" name="object 94"/>
          <p:cNvSpPr/>
          <p:nvPr/>
        </p:nvSpPr>
        <p:spPr>
          <a:xfrm>
            <a:off x="4486320" y="2238840"/>
            <a:ext cx="45504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Импорт 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95"/>
          <p:cNvGraphicFramePr/>
          <p:nvPr/>
        </p:nvGraphicFramePr>
        <p:xfrm>
          <a:off x="610920" y="3607200"/>
          <a:ext cx="4943160" cy="1783440"/>
        </p:xfrm>
        <a:graphic>
          <a:graphicData uri="http://schemas.openxmlformats.org/drawingml/2006/table">
            <a:tbl>
              <a:tblPr/>
              <a:tblGrid>
                <a:gridCol w="3513240"/>
                <a:gridCol w="142992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44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44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Мощность,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52" strike="noStrike">
                          <a:solidFill>
                            <a:srgbClr val="ffffff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«Сибур-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Тобольск»</a:t>
                      </a:r>
                      <a:r>
                        <a:rPr b="0" lang="en-US" sz="1400" spc="38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НКНХ»</a:t>
                      </a:r>
                      <a:r>
                        <a:rPr b="0" lang="en-US" sz="1400" spc="-80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ТАИ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Полиом»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ГК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Тита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Томскнефтехим»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44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Ставролен»</a:t>
                      </a:r>
                      <a:r>
                        <a:rPr b="0" lang="en-US" sz="1400" spc="-1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Лукой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44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Уфаоргсинтез»</a:t>
                      </a:r>
                      <a:r>
                        <a:rPr b="0" lang="en-US" sz="1400" spc="-7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Башнеф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ПП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Нефтехимия»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Газпромнефть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object 96" descr=""/>
          <p:cNvPicPr/>
          <p:nvPr/>
        </p:nvPicPr>
        <p:blipFill>
          <a:blip r:embed="rId9"/>
          <a:stretch/>
        </p:blipFill>
        <p:spPr>
          <a:xfrm>
            <a:off x="563040" y="5589360"/>
            <a:ext cx="2011320" cy="720360"/>
          </a:xfrm>
          <a:prstGeom prst="rect">
            <a:avLst/>
          </a:prstGeom>
          <a:ln w="0">
            <a:noFill/>
          </a:ln>
        </p:spPr>
      </p:pic>
      <p:sp>
        <p:nvSpPr>
          <p:cNvPr id="549" name="object 97"/>
          <p:cNvSpPr/>
          <p:nvPr/>
        </p:nvSpPr>
        <p:spPr>
          <a:xfrm>
            <a:off x="563040" y="5589360"/>
            <a:ext cx="2011320" cy="619920"/>
          </a:xfrm>
          <a:prstGeom prst="rect">
            <a:avLst/>
          </a:prstGeom>
          <a:noFill/>
          <a:ln w="25908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1640" bIns="0" anchor="t">
            <a:spAutoFit/>
          </a:bodyPr>
          <a:p>
            <a:pPr marL="90000">
              <a:lnSpc>
                <a:spcPct val="100000"/>
              </a:lnSpc>
              <a:spcBef>
                <a:spcPts val="564"/>
              </a:spcBef>
            </a:pP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го:</a:t>
            </a:r>
            <a:r>
              <a:rPr b="0" lang="en-US" sz="18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,42 млн</a:t>
            </a:r>
            <a:r>
              <a:rPr b="0" lang="en-US" sz="18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object 98"/>
          <p:cNvGrpSpPr/>
          <p:nvPr/>
        </p:nvGrpSpPr>
        <p:grpSpPr>
          <a:xfrm>
            <a:off x="6413760" y="3731400"/>
            <a:ext cx="1610640" cy="1610640"/>
            <a:chOff x="6413760" y="3731400"/>
            <a:chExt cx="1610640" cy="1610640"/>
          </a:xfrm>
        </p:grpSpPr>
        <p:sp>
          <p:nvSpPr>
            <p:cNvPr id="551" name="object 99"/>
            <p:cNvSpPr/>
            <p:nvPr/>
          </p:nvSpPr>
          <p:spPr>
            <a:xfrm>
              <a:off x="6413760" y="3731400"/>
              <a:ext cx="1610640" cy="1610640"/>
            </a:xfrm>
            <a:custGeom>
              <a:avLst/>
              <a:gdLst>
                <a:gd name="textAreaLeft" fmla="*/ 0 w 1610640"/>
                <a:gd name="textAreaRight" fmla="*/ 1611000 w 1610640"/>
                <a:gd name="textAreaTop" fmla="*/ 0 h 1610640"/>
                <a:gd name="textAreaBottom" fmla="*/ 1611000 h 1610640"/>
              </a:gdLst>
              <a:ahLst/>
              <a:rect l="textAreaLeft" t="textAreaTop" r="textAreaRight" b="textAreaBottom"/>
              <a:pathLst>
                <a:path w="1610995" h="1610995">
                  <a:moveTo>
                    <a:pt x="805433" y="0"/>
                  </a:moveTo>
                  <a:lnTo>
                    <a:pt x="805433" y="402716"/>
                  </a:lnTo>
                  <a:lnTo>
                    <a:pt x="835179" y="403810"/>
                  </a:lnTo>
                  <a:lnTo>
                    <a:pt x="864711" y="407082"/>
                  </a:lnTo>
                  <a:lnTo>
                    <a:pt x="922654" y="420115"/>
                  </a:lnTo>
                  <a:lnTo>
                    <a:pt x="966786" y="436383"/>
                  </a:lnTo>
                  <a:lnTo>
                    <a:pt x="1007878" y="457177"/>
                  </a:lnTo>
                  <a:lnTo>
                    <a:pt x="1045730" y="482120"/>
                  </a:lnTo>
                  <a:lnTo>
                    <a:pt x="1080141" y="510836"/>
                  </a:lnTo>
                  <a:lnTo>
                    <a:pt x="1110910" y="542948"/>
                  </a:lnTo>
                  <a:lnTo>
                    <a:pt x="1137835" y="578079"/>
                  </a:lnTo>
                  <a:lnTo>
                    <a:pt x="1160716" y="615854"/>
                  </a:lnTo>
                  <a:lnTo>
                    <a:pt x="1179351" y="655896"/>
                  </a:lnTo>
                  <a:lnTo>
                    <a:pt x="1193541" y="697827"/>
                  </a:lnTo>
                  <a:lnTo>
                    <a:pt x="1203082" y="741272"/>
                  </a:lnTo>
                  <a:lnTo>
                    <a:pt x="1207775" y="785854"/>
                  </a:lnTo>
                  <a:lnTo>
                    <a:pt x="1207418" y="831196"/>
                  </a:lnTo>
                  <a:lnTo>
                    <a:pt x="1201811" y="876921"/>
                  </a:lnTo>
                  <a:lnTo>
                    <a:pt x="1190752" y="922654"/>
                  </a:lnTo>
                  <a:lnTo>
                    <a:pt x="1174484" y="966786"/>
                  </a:lnTo>
                  <a:lnTo>
                    <a:pt x="1153690" y="1007878"/>
                  </a:lnTo>
                  <a:lnTo>
                    <a:pt x="1128747" y="1045729"/>
                  </a:lnTo>
                  <a:lnTo>
                    <a:pt x="1100031" y="1080138"/>
                  </a:lnTo>
                  <a:lnTo>
                    <a:pt x="1067919" y="1110904"/>
                  </a:lnTo>
                  <a:lnTo>
                    <a:pt x="1032788" y="1137825"/>
                  </a:lnTo>
                  <a:lnTo>
                    <a:pt x="995013" y="1160700"/>
                  </a:lnTo>
                  <a:lnTo>
                    <a:pt x="954971" y="1179328"/>
                  </a:lnTo>
                  <a:lnTo>
                    <a:pt x="913040" y="1193507"/>
                  </a:lnTo>
                  <a:lnTo>
                    <a:pt x="869595" y="1203036"/>
                  </a:lnTo>
                  <a:lnTo>
                    <a:pt x="825013" y="1207713"/>
                  </a:lnTo>
                  <a:lnTo>
                    <a:pt x="779671" y="1207338"/>
                  </a:lnTo>
                  <a:lnTo>
                    <a:pt x="733946" y="1201709"/>
                  </a:lnTo>
                  <a:lnTo>
                    <a:pt x="688213" y="1190625"/>
                  </a:lnTo>
                  <a:lnTo>
                    <a:pt x="644081" y="1174380"/>
                  </a:lnTo>
                  <a:lnTo>
                    <a:pt x="602989" y="1153603"/>
                  </a:lnTo>
                  <a:lnTo>
                    <a:pt x="565137" y="1128672"/>
                  </a:lnTo>
                  <a:lnTo>
                    <a:pt x="530726" y="1099963"/>
                  </a:lnTo>
                  <a:lnTo>
                    <a:pt x="499957" y="1067854"/>
                  </a:lnTo>
                  <a:lnTo>
                    <a:pt x="473032" y="1032724"/>
                  </a:lnTo>
                  <a:lnTo>
                    <a:pt x="450151" y="994949"/>
                  </a:lnTo>
                  <a:lnTo>
                    <a:pt x="431516" y="954908"/>
                  </a:lnTo>
                  <a:lnTo>
                    <a:pt x="417326" y="912978"/>
                  </a:lnTo>
                  <a:lnTo>
                    <a:pt x="407785" y="869537"/>
                  </a:lnTo>
                  <a:lnTo>
                    <a:pt x="403092" y="824962"/>
                  </a:lnTo>
                  <a:lnTo>
                    <a:pt x="403449" y="779631"/>
                  </a:lnTo>
                  <a:lnTo>
                    <a:pt x="409056" y="733922"/>
                  </a:lnTo>
                  <a:lnTo>
                    <a:pt x="420116" y="688213"/>
                  </a:lnTo>
                  <a:lnTo>
                    <a:pt x="34925" y="570991"/>
                  </a:lnTo>
                  <a:lnTo>
                    <a:pt x="22417" y="616905"/>
                  </a:lnTo>
                  <a:lnTo>
                    <a:pt x="12646" y="663427"/>
                  </a:lnTo>
                  <a:lnTo>
                    <a:pt x="5636" y="710438"/>
                  </a:lnTo>
                  <a:lnTo>
                    <a:pt x="1413" y="757814"/>
                  </a:lnTo>
                  <a:lnTo>
                    <a:pt x="0" y="805433"/>
                  </a:lnTo>
                  <a:lnTo>
                    <a:pt x="1367" y="852751"/>
                  </a:lnTo>
                  <a:lnTo>
                    <a:pt x="5419" y="899348"/>
                  </a:lnTo>
                  <a:lnTo>
                    <a:pt x="12081" y="945150"/>
                  </a:lnTo>
                  <a:lnTo>
                    <a:pt x="21276" y="990082"/>
                  </a:lnTo>
                  <a:lnTo>
                    <a:pt x="32928" y="1034066"/>
                  </a:lnTo>
                  <a:lnTo>
                    <a:pt x="46963" y="1077028"/>
                  </a:lnTo>
                  <a:lnTo>
                    <a:pt x="63305" y="1118893"/>
                  </a:lnTo>
                  <a:lnTo>
                    <a:pt x="81878" y="1159585"/>
                  </a:lnTo>
                  <a:lnTo>
                    <a:pt x="102606" y="1199028"/>
                  </a:lnTo>
                  <a:lnTo>
                    <a:pt x="125414" y="1237147"/>
                  </a:lnTo>
                  <a:lnTo>
                    <a:pt x="150227" y="1273866"/>
                  </a:lnTo>
                  <a:lnTo>
                    <a:pt x="176968" y="1309110"/>
                  </a:lnTo>
                  <a:lnTo>
                    <a:pt x="205562" y="1342803"/>
                  </a:lnTo>
                  <a:lnTo>
                    <a:pt x="235934" y="1374870"/>
                  </a:lnTo>
                  <a:lnTo>
                    <a:pt x="268007" y="1405235"/>
                  </a:lnTo>
                  <a:lnTo>
                    <a:pt x="301707" y="1433822"/>
                  </a:lnTo>
                  <a:lnTo>
                    <a:pt x="336958" y="1460557"/>
                  </a:lnTo>
                  <a:lnTo>
                    <a:pt x="373683" y="1485363"/>
                  </a:lnTo>
                  <a:lnTo>
                    <a:pt x="411808" y="1508165"/>
                  </a:lnTo>
                  <a:lnTo>
                    <a:pt x="451257" y="1528887"/>
                  </a:lnTo>
                  <a:lnTo>
                    <a:pt x="491954" y="1547455"/>
                  </a:lnTo>
                  <a:lnTo>
                    <a:pt x="533824" y="1563792"/>
                  </a:lnTo>
                  <a:lnTo>
                    <a:pt x="576790" y="1577822"/>
                  </a:lnTo>
                  <a:lnTo>
                    <a:pt x="620778" y="1589472"/>
                  </a:lnTo>
                  <a:lnTo>
                    <a:pt x="665712" y="1598663"/>
                  </a:lnTo>
                  <a:lnTo>
                    <a:pt x="711517" y="1605323"/>
                  </a:lnTo>
                  <a:lnTo>
                    <a:pt x="758116" y="1609373"/>
                  </a:lnTo>
                  <a:lnTo>
                    <a:pt x="805433" y="1610740"/>
                  </a:lnTo>
                  <a:lnTo>
                    <a:pt x="852764" y="1609373"/>
                  </a:lnTo>
                  <a:lnTo>
                    <a:pt x="899374" y="1605323"/>
                  </a:lnTo>
                  <a:lnTo>
                    <a:pt x="945187" y="1598663"/>
                  </a:lnTo>
                  <a:lnTo>
                    <a:pt x="990129" y="1589472"/>
                  </a:lnTo>
                  <a:lnTo>
                    <a:pt x="1034123" y="1577822"/>
                  </a:lnTo>
                  <a:lnTo>
                    <a:pt x="1077094" y="1563792"/>
                  </a:lnTo>
                  <a:lnTo>
                    <a:pt x="1118967" y="1547455"/>
                  </a:lnTo>
                  <a:lnTo>
                    <a:pt x="1159666" y="1528887"/>
                  </a:lnTo>
                  <a:lnTo>
                    <a:pt x="1199115" y="1508165"/>
                  </a:lnTo>
                  <a:lnTo>
                    <a:pt x="1237240" y="1485363"/>
                  </a:lnTo>
                  <a:lnTo>
                    <a:pt x="1273965" y="1460557"/>
                  </a:lnTo>
                  <a:lnTo>
                    <a:pt x="1309213" y="1433822"/>
                  </a:lnTo>
                  <a:lnTo>
                    <a:pt x="1342910" y="1405235"/>
                  </a:lnTo>
                  <a:lnTo>
                    <a:pt x="1374981" y="1374870"/>
                  </a:lnTo>
                  <a:lnTo>
                    <a:pt x="1405349" y="1342803"/>
                  </a:lnTo>
                  <a:lnTo>
                    <a:pt x="1433939" y="1309110"/>
                  </a:lnTo>
                  <a:lnTo>
                    <a:pt x="1460676" y="1273866"/>
                  </a:lnTo>
                  <a:lnTo>
                    <a:pt x="1485484" y="1237147"/>
                  </a:lnTo>
                  <a:lnTo>
                    <a:pt x="1508288" y="1199028"/>
                  </a:lnTo>
                  <a:lnTo>
                    <a:pt x="1529011" y="1159585"/>
                  </a:lnTo>
                  <a:lnTo>
                    <a:pt x="1547580" y="1118893"/>
                  </a:lnTo>
                  <a:lnTo>
                    <a:pt x="1563917" y="1077028"/>
                  </a:lnTo>
                  <a:lnTo>
                    <a:pt x="1577949" y="1034066"/>
                  </a:lnTo>
                  <a:lnTo>
                    <a:pt x="1589598" y="990082"/>
                  </a:lnTo>
                  <a:lnTo>
                    <a:pt x="1598790" y="945150"/>
                  </a:lnTo>
                  <a:lnTo>
                    <a:pt x="1605449" y="899348"/>
                  </a:lnTo>
                  <a:lnTo>
                    <a:pt x="1609500" y="852751"/>
                  </a:lnTo>
                  <a:lnTo>
                    <a:pt x="1610868" y="805433"/>
                  </a:lnTo>
                  <a:lnTo>
                    <a:pt x="1609500" y="758103"/>
                  </a:lnTo>
                  <a:lnTo>
                    <a:pt x="1605449" y="711493"/>
                  </a:lnTo>
                  <a:lnTo>
                    <a:pt x="1598790" y="665680"/>
                  </a:lnTo>
                  <a:lnTo>
                    <a:pt x="1589598" y="620738"/>
                  </a:lnTo>
                  <a:lnTo>
                    <a:pt x="1577949" y="576744"/>
                  </a:lnTo>
                  <a:lnTo>
                    <a:pt x="1563917" y="533773"/>
                  </a:lnTo>
                  <a:lnTo>
                    <a:pt x="1547580" y="491900"/>
                  </a:lnTo>
                  <a:lnTo>
                    <a:pt x="1529011" y="451201"/>
                  </a:lnTo>
                  <a:lnTo>
                    <a:pt x="1508288" y="411752"/>
                  </a:lnTo>
                  <a:lnTo>
                    <a:pt x="1485484" y="373627"/>
                  </a:lnTo>
                  <a:lnTo>
                    <a:pt x="1460676" y="336902"/>
                  </a:lnTo>
                  <a:lnTo>
                    <a:pt x="1433939" y="301654"/>
                  </a:lnTo>
                  <a:lnTo>
                    <a:pt x="1405349" y="267957"/>
                  </a:lnTo>
                  <a:lnTo>
                    <a:pt x="1374981" y="235886"/>
                  </a:lnTo>
                  <a:lnTo>
                    <a:pt x="1342910" y="205518"/>
                  </a:lnTo>
                  <a:lnTo>
                    <a:pt x="1309213" y="176928"/>
                  </a:lnTo>
                  <a:lnTo>
                    <a:pt x="1273965" y="150191"/>
                  </a:lnTo>
                  <a:lnTo>
                    <a:pt x="1237240" y="125383"/>
                  </a:lnTo>
                  <a:lnTo>
                    <a:pt x="1199115" y="102579"/>
                  </a:lnTo>
                  <a:lnTo>
                    <a:pt x="1159666" y="81856"/>
                  </a:lnTo>
                  <a:lnTo>
                    <a:pt x="1118967" y="63287"/>
                  </a:lnTo>
                  <a:lnTo>
                    <a:pt x="1077094" y="46950"/>
                  </a:lnTo>
                  <a:lnTo>
                    <a:pt x="1034123" y="32918"/>
                  </a:lnTo>
                  <a:lnTo>
                    <a:pt x="990129" y="21269"/>
                  </a:lnTo>
                  <a:lnTo>
                    <a:pt x="945187" y="12077"/>
                  </a:lnTo>
                  <a:lnTo>
                    <a:pt x="899374" y="5418"/>
                  </a:lnTo>
                  <a:lnTo>
                    <a:pt x="852764" y="1367"/>
                  </a:lnTo>
                  <a:lnTo>
                    <a:pt x="80543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bject 100"/>
            <p:cNvSpPr/>
            <p:nvPr/>
          </p:nvSpPr>
          <p:spPr>
            <a:xfrm>
              <a:off x="6448680" y="3814560"/>
              <a:ext cx="592200" cy="6048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592454" h="605154">
                  <a:moveTo>
                    <a:pt x="413893" y="0"/>
                  </a:moveTo>
                  <a:lnTo>
                    <a:pt x="368775" y="24107"/>
                  </a:lnTo>
                  <a:lnTo>
                    <a:pt x="325513" y="50870"/>
                  </a:lnTo>
                  <a:lnTo>
                    <a:pt x="284205" y="80172"/>
                  </a:lnTo>
                  <a:lnTo>
                    <a:pt x="244947" y="111901"/>
                  </a:lnTo>
                  <a:lnTo>
                    <a:pt x="207838" y="145942"/>
                  </a:lnTo>
                  <a:lnTo>
                    <a:pt x="172975" y="182180"/>
                  </a:lnTo>
                  <a:lnTo>
                    <a:pt x="140455" y="220503"/>
                  </a:lnTo>
                  <a:lnTo>
                    <a:pt x="110375" y="260795"/>
                  </a:lnTo>
                  <a:lnTo>
                    <a:pt x="82834" y="302942"/>
                  </a:lnTo>
                  <a:lnTo>
                    <a:pt x="57928" y="346831"/>
                  </a:lnTo>
                  <a:lnTo>
                    <a:pt x="35756" y="392348"/>
                  </a:lnTo>
                  <a:lnTo>
                    <a:pt x="16414" y="439378"/>
                  </a:lnTo>
                  <a:lnTo>
                    <a:pt x="0" y="487806"/>
                  </a:lnTo>
                  <a:lnTo>
                    <a:pt x="385191" y="605027"/>
                  </a:lnTo>
                  <a:lnTo>
                    <a:pt x="401623" y="560589"/>
                  </a:lnTo>
                  <a:lnTo>
                    <a:pt x="422954" y="518742"/>
                  </a:lnTo>
                  <a:lnTo>
                    <a:pt x="448872" y="479851"/>
                  </a:lnTo>
                  <a:lnTo>
                    <a:pt x="479067" y="444283"/>
                  </a:lnTo>
                  <a:lnTo>
                    <a:pt x="513227" y="412406"/>
                  </a:lnTo>
                  <a:lnTo>
                    <a:pt x="551042" y="384585"/>
                  </a:lnTo>
                  <a:lnTo>
                    <a:pt x="592201" y="361187"/>
                  </a:lnTo>
                  <a:lnTo>
                    <a:pt x="41389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bject 101"/>
            <p:cNvSpPr/>
            <p:nvPr/>
          </p:nvSpPr>
          <p:spPr>
            <a:xfrm>
              <a:off x="6862320" y="3731400"/>
              <a:ext cx="356400" cy="4442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356870" h="444500">
                  <a:moveTo>
                    <a:pt x="356615" y="0"/>
                  </a:moveTo>
                  <a:lnTo>
                    <a:pt x="303731" y="1735"/>
                  </a:lnTo>
                  <a:lnTo>
                    <a:pt x="251215" y="6916"/>
                  </a:lnTo>
                  <a:lnTo>
                    <a:pt x="199235" y="15505"/>
                  </a:lnTo>
                  <a:lnTo>
                    <a:pt x="147956" y="27464"/>
                  </a:lnTo>
                  <a:lnTo>
                    <a:pt x="97547" y="42756"/>
                  </a:lnTo>
                  <a:lnTo>
                    <a:pt x="48172" y="61342"/>
                  </a:lnTo>
                  <a:lnTo>
                    <a:pt x="0" y="83184"/>
                  </a:lnTo>
                  <a:lnTo>
                    <a:pt x="178307" y="444372"/>
                  </a:lnTo>
                  <a:lnTo>
                    <a:pt x="220884" y="426291"/>
                  </a:lnTo>
                  <a:lnTo>
                    <a:pt x="265080" y="413257"/>
                  </a:lnTo>
                  <a:lnTo>
                    <a:pt x="310467" y="405368"/>
                  </a:lnTo>
                  <a:lnTo>
                    <a:pt x="356615" y="402716"/>
                  </a:lnTo>
                  <a:lnTo>
                    <a:pt x="356615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object 102"/>
          <p:cNvSpPr/>
          <p:nvPr/>
        </p:nvSpPr>
        <p:spPr>
          <a:xfrm>
            <a:off x="6559200" y="3634920"/>
            <a:ext cx="126756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t">
            <a:spAutoFit/>
          </a:bodyPr>
          <a:p>
            <a:pPr marL="369000">
              <a:lnSpc>
                <a:spcPct val="100000"/>
              </a:lnSpc>
              <a:spcBef>
                <a:spcPts val="675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ст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575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блок</a:t>
            </a:r>
            <a:r>
              <a:rPr b="1" lang="en-US" sz="1000" spc="26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500" spc="-38" strike="noStrike" baseline="30000">
                <a:solidFill>
                  <a:srgbClr val="000000"/>
                </a:solidFill>
                <a:latin typeface="Calibri"/>
              </a:rPr>
              <a:t>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60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600">
              <a:lnSpc>
                <a:spcPct val="100000"/>
              </a:lnSpc>
              <a:spcBef>
                <a:spcPts val="45"/>
              </a:spcBef>
            </a:pPr>
            <a:endParaRPr b="0" lang="en-US" sz="850" spc="-1" strike="noStrike">
              <a:solidFill>
                <a:srgbClr val="000000"/>
              </a:solidFill>
              <a:latin typeface="Arial"/>
            </a:endParaRPr>
          </a:p>
          <a:p>
            <a:pPr marL="25596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388 тыс.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5960">
              <a:lnSpc>
                <a:spcPct val="100000"/>
              </a:lnSpc>
              <a:spcBef>
                <a:spcPts val="6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71640">
              <a:lnSpc>
                <a:spcPct val="100000"/>
              </a:lnSpc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гом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9576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ject 107"/>
          <p:cNvSpPr/>
          <p:nvPr/>
        </p:nvSpPr>
        <p:spPr>
          <a:xfrm>
            <a:off x="8479440" y="6464880"/>
            <a:ext cx="1659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ts val="1239"/>
              </a:lnSpc>
            </a:pPr>
            <a:fld id="{1C9EA934-DAB6-43A2-BD46-EBE57B4C2111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ject 103"/>
          <p:cNvSpPr/>
          <p:nvPr/>
        </p:nvSpPr>
        <p:spPr>
          <a:xfrm>
            <a:off x="6039360" y="3063960"/>
            <a:ext cx="2463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451440" indent="-43956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П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ject 104"/>
          <p:cNvSpPr/>
          <p:nvPr/>
        </p:nvSpPr>
        <p:spPr>
          <a:xfrm>
            <a:off x="690480" y="785880"/>
            <a:ext cx="4999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7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оссии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ject 105"/>
          <p:cNvSpPr/>
          <p:nvPr/>
        </p:nvSpPr>
        <p:spPr>
          <a:xfrm>
            <a:off x="5184000" y="1127520"/>
            <a:ext cx="373284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1600" indent="-27936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росло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более,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чем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раз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 сравнению</a:t>
            </a:r>
            <a:r>
              <a:rPr b="1" lang="en-US" sz="12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сновной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клад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еспечил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пуск в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3-2015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разу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вух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крупных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водов: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«Полио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ью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 и</a:t>
            </a:r>
            <a:r>
              <a:rPr b="1" lang="en-US" sz="12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«Тобольск-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лим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СИБУР)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ью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24360"/>
                <a:tab algn="l" pos="32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единственный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егмент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ложительным внешнеторговым</a:t>
            </a:r>
            <a:r>
              <a:rPr b="1" lang="en-US" sz="1200" spc="6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балан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080" indent="-312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24360"/>
                <a:tab algn="l" pos="325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грузка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ей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6 г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оставила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более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7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080" indent="-312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24360"/>
                <a:tab algn="l" pos="3250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Расширяется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арочная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П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ject 106"/>
          <p:cNvSpPr/>
          <p:nvPr/>
        </p:nvSpPr>
        <p:spPr>
          <a:xfrm>
            <a:off x="5184000" y="5702760"/>
            <a:ext cx="39272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89440" indent="-27756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89440"/>
                <a:tab algn="l" pos="290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200" spc="24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блок-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тат-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ополим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89440"/>
                <a:tab algn="l" pos="29016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достигло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екордных 280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20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производства)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днако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мпорт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ополимеров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ежнему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вел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3680" y="100800"/>
            <a:ext cx="47696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требление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пропилен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561" name="object 3"/>
          <p:cNvGrpSpPr/>
          <p:nvPr/>
        </p:nvGrpSpPr>
        <p:grpSpPr>
          <a:xfrm>
            <a:off x="707040" y="1126080"/>
            <a:ext cx="3406320" cy="1452600"/>
            <a:chOff x="707040" y="1126080"/>
            <a:chExt cx="3406320" cy="1452600"/>
          </a:xfrm>
        </p:grpSpPr>
        <p:sp>
          <p:nvSpPr>
            <p:cNvPr id="562" name="object 4"/>
            <p:cNvSpPr/>
            <p:nvPr/>
          </p:nvSpPr>
          <p:spPr>
            <a:xfrm>
              <a:off x="748440" y="1933920"/>
              <a:ext cx="874800" cy="40356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875030" h="403860">
                  <a:moveTo>
                    <a:pt x="0" y="403860"/>
                  </a:moveTo>
                  <a:lnTo>
                    <a:pt x="201168" y="403860"/>
                  </a:lnTo>
                </a:path>
                <a:path w="875030" h="403860">
                  <a:moveTo>
                    <a:pt x="470916" y="403860"/>
                  </a:moveTo>
                  <a:lnTo>
                    <a:pt x="874776" y="403860"/>
                  </a:lnTo>
                </a:path>
                <a:path w="875030" h="403860">
                  <a:moveTo>
                    <a:pt x="0" y="201168"/>
                  </a:moveTo>
                  <a:lnTo>
                    <a:pt x="201168" y="201168"/>
                  </a:lnTo>
                </a:path>
                <a:path w="875030" h="403860">
                  <a:moveTo>
                    <a:pt x="470916" y="201168"/>
                  </a:moveTo>
                  <a:lnTo>
                    <a:pt x="874776" y="201168"/>
                  </a:lnTo>
                </a:path>
                <a:path w="875030" h="403860">
                  <a:moveTo>
                    <a:pt x="0" y="0"/>
                  </a:moveTo>
                  <a:lnTo>
                    <a:pt x="201168" y="0"/>
                  </a:lnTo>
                </a:path>
                <a:path w="875030" h="403860">
                  <a:moveTo>
                    <a:pt x="470916" y="0"/>
                  </a:moveTo>
                  <a:lnTo>
                    <a:pt x="874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bject 5"/>
            <p:cNvSpPr/>
            <p:nvPr/>
          </p:nvSpPr>
          <p:spPr>
            <a:xfrm>
              <a:off x="949320" y="1897560"/>
              <a:ext cx="269640" cy="6415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69875" h="641985">
                  <a:moveTo>
                    <a:pt x="269747" y="0"/>
                  </a:moveTo>
                  <a:lnTo>
                    <a:pt x="0" y="0"/>
                  </a:lnTo>
                  <a:lnTo>
                    <a:pt x="0" y="641604"/>
                  </a:lnTo>
                  <a:lnTo>
                    <a:pt x="269747" y="641604"/>
                  </a:lnTo>
                  <a:lnTo>
                    <a:pt x="26974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bject 6"/>
            <p:cNvSpPr/>
            <p:nvPr/>
          </p:nvSpPr>
          <p:spPr>
            <a:xfrm>
              <a:off x="1892880" y="1933920"/>
              <a:ext cx="403560" cy="4035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403860" h="403860">
                  <a:moveTo>
                    <a:pt x="0" y="403860"/>
                  </a:moveTo>
                  <a:lnTo>
                    <a:pt x="403860" y="403860"/>
                  </a:lnTo>
                </a:path>
                <a:path w="403860" h="403860">
                  <a:moveTo>
                    <a:pt x="0" y="201168"/>
                  </a:moveTo>
                  <a:lnTo>
                    <a:pt x="403860" y="201168"/>
                  </a:lnTo>
                </a:path>
                <a:path w="403860" h="403860">
                  <a:moveTo>
                    <a:pt x="0" y="0"/>
                  </a:moveTo>
                  <a:lnTo>
                    <a:pt x="4038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bject 7"/>
            <p:cNvSpPr/>
            <p:nvPr/>
          </p:nvSpPr>
          <p:spPr>
            <a:xfrm>
              <a:off x="1623240" y="1811880"/>
              <a:ext cx="269640" cy="726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269875" h="727075">
                  <a:moveTo>
                    <a:pt x="269747" y="0"/>
                  </a:moveTo>
                  <a:lnTo>
                    <a:pt x="0" y="0"/>
                  </a:lnTo>
                  <a:lnTo>
                    <a:pt x="0" y="726948"/>
                  </a:lnTo>
                  <a:lnTo>
                    <a:pt x="269747" y="726948"/>
                  </a:lnTo>
                  <a:lnTo>
                    <a:pt x="26974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bject 8"/>
            <p:cNvSpPr/>
            <p:nvPr/>
          </p:nvSpPr>
          <p:spPr>
            <a:xfrm>
              <a:off x="2565000" y="1933920"/>
              <a:ext cx="405360" cy="40356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405764" h="403860">
                  <a:moveTo>
                    <a:pt x="0" y="403860"/>
                  </a:moveTo>
                  <a:lnTo>
                    <a:pt x="405383" y="403860"/>
                  </a:lnTo>
                </a:path>
                <a:path w="405764" h="403860">
                  <a:moveTo>
                    <a:pt x="0" y="201168"/>
                  </a:moveTo>
                  <a:lnTo>
                    <a:pt x="405383" y="201168"/>
                  </a:lnTo>
                </a:path>
                <a:path w="405764" h="403860">
                  <a:moveTo>
                    <a:pt x="0" y="0"/>
                  </a:moveTo>
                  <a:lnTo>
                    <a:pt x="4053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bject 9"/>
            <p:cNvSpPr/>
            <p:nvPr/>
          </p:nvSpPr>
          <p:spPr>
            <a:xfrm>
              <a:off x="2296800" y="1804320"/>
              <a:ext cx="268200" cy="7344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268605" h="734694">
                  <a:moveTo>
                    <a:pt x="268224" y="0"/>
                  </a:moveTo>
                  <a:lnTo>
                    <a:pt x="0" y="0"/>
                  </a:lnTo>
                  <a:lnTo>
                    <a:pt x="0" y="734568"/>
                  </a:lnTo>
                  <a:lnTo>
                    <a:pt x="268224" y="734568"/>
                  </a:lnTo>
                  <a:lnTo>
                    <a:pt x="26822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bject 10"/>
            <p:cNvSpPr/>
            <p:nvPr/>
          </p:nvSpPr>
          <p:spPr>
            <a:xfrm>
              <a:off x="3238560" y="1933920"/>
              <a:ext cx="403560" cy="4035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403860" h="403860">
                  <a:moveTo>
                    <a:pt x="0" y="403860"/>
                  </a:moveTo>
                  <a:lnTo>
                    <a:pt x="403860" y="403860"/>
                  </a:lnTo>
                </a:path>
                <a:path w="403860" h="403860">
                  <a:moveTo>
                    <a:pt x="0" y="201168"/>
                  </a:moveTo>
                  <a:lnTo>
                    <a:pt x="403860" y="201168"/>
                  </a:lnTo>
                </a:path>
                <a:path w="403860" h="403860">
                  <a:moveTo>
                    <a:pt x="0" y="0"/>
                  </a:moveTo>
                  <a:lnTo>
                    <a:pt x="4038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bject 11"/>
            <p:cNvSpPr/>
            <p:nvPr/>
          </p:nvSpPr>
          <p:spPr>
            <a:xfrm>
              <a:off x="2970360" y="1781640"/>
              <a:ext cx="268200" cy="75708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68605" h="757555">
                  <a:moveTo>
                    <a:pt x="268224" y="0"/>
                  </a:moveTo>
                  <a:lnTo>
                    <a:pt x="0" y="0"/>
                  </a:lnTo>
                  <a:lnTo>
                    <a:pt x="0" y="757428"/>
                  </a:lnTo>
                  <a:lnTo>
                    <a:pt x="268224" y="757428"/>
                  </a:lnTo>
                  <a:lnTo>
                    <a:pt x="26822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bject 12"/>
            <p:cNvSpPr/>
            <p:nvPr/>
          </p:nvSpPr>
          <p:spPr>
            <a:xfrm>
              <a:off x="3238560" y="1731240"/>
              <a:ext cx="874800" cy="6066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875029" h="607060">
                  <a:moveTo>
                    <a:pt x="673608" y="606551"/>
                  </a:moveTo>
                  <a:lnTo>
                    <a:pt x="874776" y="606551"/>
                  </a:lnTo>
                </a:path>
                <a:path w="875029" h="607060">
                  <a:moveTo>
                    <a:pt x="673608" y="403860"/>
                  </a:moveTo>
                  <a:lnTo>
                    <a:pt x="874776" y="403860"/>
                  </a:lnTo>
                </a:path>
                <a:path w="875029" h="607060">
                  <a:moveTo>
                    <a:pt x="673608" y="202691"/>
                  </a:moveTo>
                  <a:lnTo>
                    <a:pt x="874776" y="202691"/>
                  </a:lnTo>
                </a:path>
                <a:path w="875029" h="607060">
                  <a:moveTo>
                    <a:pt x="0" y="0"/>
                  </a:moveTo>
                  <a:lnTo>
                    <a:pt x="403860" y="0"/>
                  </a:lnTo>
                </a:path>
                <a:path w="875029" h="607060">
                  <a:moveTo>
                    <a:pt x="673608" y="0"/>
                  </a:moveTo>
                  <a:lnTo>
                    <a:pt x="874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bject 13"/>
            <p:cNvSpPr/>
            <p:nvPr/>
          </p:nvSpPr>
          <p:spPr>
            <a:xfrm>
              <a:off x="3642480" y="1688760"/>
              <a:ext cx="269640" cy="8506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269875" h="850900">
                  <a:moveTo>
                    <a:pt x="269748" y="0"/>
                  </a:moveTo>
                  <a:lnTo>
                    <a:pt x="0" y="0"/>
                  </a:lnTo>
                  <a:lnTo>
                    <a:pt x="0" y="850392"/>
                  </a:lnTo>
                  <a:lnTo>
                    <a:pt x="269748" y="850392"/>
                  </a:lnTo>
                  <a:lnTo>
                    <a:pt x="26974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bject 14"/>
            <p:cNvSpPr/>
            <p:nvPr/>
          </p:nvSpPr>
          <p:spPr>
            <a:xfrm>
              <a:off x="949320" y="1825920"/>
              <a:ext cx="269640" cy="712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9875" h="71755">
                  <a:moveTo>
                    <a:pt x="269747" y="0"/>
                  </a:moveTo>
                  <a:lnTo>
                    <a:pt x="0" y="0"/>
                  </a:lnTo>
                  <a:lnTo>
                    <a:pt x="0" y="71627"/>
                  </a:lnTo>
                  <a:lnTo>
                    <a:pt x="269747" y="71627"/>
                  </a:lnTo>
                  <a:lnTo>
                    <a:pt x="26974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bject 15"/>
            <p:cNvSpPr/>
            <p:nvPr/>
          </p:nvSpPr>
          <p:spPr>
            <a:xfrm>
              <a:off x="1219320" y="1731240"/>
              <a:ext cx="1077120" cy="36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77595" h="0">
                  <a:moveTo>
                    <a:pt x="0" y="0"/>
                  </a:moveTo>
                  <a:lnTo>
                    <a:pt x="403859" y="0"/>
                  </a:lnTo>
                </a:path>
                <a:path w="1077595" h="0">
                  <a:moveTo>
                    <a:pt x="673607" y="0"/>
                  </a:moveTo>
                  <a:lnTo>
                    <a:pt x="10774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bject 16"/>
            <p:cNvSpPr/>
            <p:nvPr/>
          </p:nvSpPr>
          <p:spPr>
            <a:xfrm>
              <a:off x="1623240" y="1735920"/>
              <a:ext cx="269640" cy="759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9875" h="76200">
                  <a:moveTo>
                    <a:pt x="269747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269747" y="76200"/>
                  </a:lnTo>
                  <a:lnTo>
                    <a:pt x="26974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bject 17"/>
            <p:cNvSpPr/>
            <p:nvPr/>
          </p:nvSpPr>
          <p:spPr>
            <a:xfrm>
              <a:off x="2565000" y="1731240"/>
              <a:ext cx="405360" cy="36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05764" h="0">
                  <a:moveTo>
                    <a:pt x="0" y="0"/>
                  </a:moveTo>
                  <a:lnTo>
                    <a:pt x="4053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bject 18"/>
            <p:cNvSpPr/>
            <p:nvPr/>
          </p:nvSpPr>
          <p:spPr>
            <a:xfrm>
              <a:off x="2296800" y="1641240"/>
              <a:ext cx="942120" cy="16272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942339" h="163194">
                  <a:moveTo>
                    <a:pt x="268224" y="71628"/>
                  </a:moveTo>
                  <a:lnTo>
                    <a:pt x="0" y="71628"/>
                  </a:lnTo>
                  <a:lnTo>
                    <a:pt x="0" y="163068"/>
                  </a:lnTo>
                  <a:lnTo>
                    <a:pt x="268224" y="163068"/>
                  </a:lnTo>
                  <a:lnTo>
                    <a:pt x="268224" y="71628"/>
                  </a:lnTo>
                  <a:close/>
                </a:path>
                <a:path w="942339" h="163194">
                  <a:moveTo>
                    <a:pt x="941832" y="0"/>
                  </a:moveTo>
                  <a:lnTo>
                    <a:pt x="673608" y="0"/>
                  </a:lnTo>
                  <a:lnTo>
                    <a:pt x="673608" y="140208"/>
                  </a:lnTo>
                  <a:lnTo>
                    <a:pt x="941832" y="140208"/>
                  </a:lnTo>
                  <a:lnTo>
                    <a:pt x="94183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bject 19"/>
            <p:cNvSpPr/>
            <p:nvPr/>
          </p:nvSpPr>
          <p:spPr>
            <a:xfrm>
              <a:off x="3238560" y="1530000"/>
              <a:ext cx="874800" cy="36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75029" h="0">
                  <a:moveTo>
                    <a:pt x="0" y="0"/>
                  </a:moveTo>
                  <a:lnTo>
                    <a:pt x="403860" y="0"/>
                  </a:lnTo>
                </a:path>
                <a:path w="875029" h="0">
                  <a:moveTo>
                    <a:pt x="673608" y="0"/>
                  </a:moveTo>
                  <a:lnTo>
                    <a:pt x="874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bject 20"/>
            <p:cNvSpPr/>
            <p:nvPr/>
          </p:nvSpPr>
          <p:spPr>
            <a:xfrm>
              <a:off x="3642480" y="1555920"/>
              <a:ext cx="269640" cy="1324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69875" h="132714">
                  <a:moveTo>
                    <a:pt x="269748" y="0"/>
                  </a:moveTo>
                  <a:lnTo>
                    <a:pt x="0" y="0"/>
                  </a:lnTo>
                  <a:lnTo>
                    <a:pt x="0" y="132587"/>
                  </a:lnTo>
                  <a:lnTo>
                    <a:pt x="269748" y="132587"/>
                  </a:lnTo>
                  <a:lnTo>
                    <a:pt x="26974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bject 21"/>
            <p:cNvSpPr/>
            <p:nvPr/>
          </p:nvSpPr>
          <p:spPr>
            <a:xfrm>
              <a:off x="748440" y="1731240"/>
              <a:ext cx="200880" cy="3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1294" h="0">
                  <a:moveTo>
                    <a:pt x="0" y="0"/>
                  </a:moveTo>
                  <a:lnTo>
                    <a:pt x="2011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bject 22"/>
            <p:cNvSpPr/>
            <p:nvPr/>
          </p:nvSpPr>
          <p:spPr>
            <a:xfrm>
              <a:off x="949320" y="1583280"/>
              <a:ext cx="1614960" cy="242280"/>
            </a:xfrm>
            <a:custGeom>
              <a:avLst/>
              <a:gdLst>
                <a:gd name="textAreaLeft" fmla="*/ 0 w 1614960"/>
                <a:gd name="textAreaRight" fmla="*/ 1615320 w 161496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1615439" h="242569">
                  <a:moveTo>
                    <a:pt x="269748" y="91440"/>
                  </a:moveTo>
                  <a:lnTo>
                    <a:pt x="0" y="91440"/>
                  </a:lnTo>
                  <a:lnTo>
                    <a:pt x="0" y="242316"/>
                  </a:lnTo>
                  <a:lnTo>
                    <a:pt x="269748" y="242316"/>
                  </a:lnTo>
                  <a:lnTo>
                    <a:pt x="269748" y="91440"/>
                  </a:lnTo>
                  <a:close/>
                </a:path>
                <a:path w="1615439" h="242569">
                  <a:moveTo>
                    <a:pt x="943356" y="15240"/>
                  </a:moveTo>
                  <a:lnTo>
                    <a:pt x="673608" y="15240"/>
                  </a:lnTo>
                  <a:lnTo>
                    <a:pt x="673608" y="152400"/>
                  </a:lnTo>
                  <a:lnTo>
                    <a:pt x="943356" y="152400"/>
                  </a:lnTo>
                  <a:lnTo>
                    <a:pt x="943356" y="15240"/>
                  </a:lnTo>
                  <a:close/>
                </a:path>
                <a:path w="1615439" h="242569">
                  <a:moveTo>
                    <a:pt x="1615440" y="0"/>
                  </a:moveTo>
                  <a:lnTo>
                    <a:pt x="1347216" y="0"/>
                  </a:lnTo>
                  <a:lnTo>
                    <a:pt x="1347216" y="129540"/>
                  </a:lnTo>
                  <a:lnTo>
                    <a:pt x="1615440" y="129540"/>
                  </a:lnTo>
                  <a:lnTo>
                    <a:pt x="1615440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bject 23"/>
            <p:cNvSpPr/>
            <p:nvPr/>
          </p:nvSpPr>
          <p:spPr>
            <a:xfrm>
              <a:off x="748440" y="1530000"/>
              <a:ext cx="2222280" cy="360"/>
            </a:xfrm>
            <a:custGeom>
              <a:avLst/>
              <a:gdLst>
                <a:gd name="textAreaLeft" fmla="*/ 0 w 2222280"/>
                <a:gd name="textAreaRight" fmla="*/ 2222640 w 222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22500" h="0">
                  <a:moveTo>
                    <a:pt x="0" y="0"/>
                  </a:moveTo>
                  <a:lnTo>
                    <a:pt x="22219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bject 24"/>
            <p:cNvSpPr/>
            <p:nvPr/>
          </p:nvSpPr>
          <p:spPr>
            <a:xfrm>
              <a:off x="2970360" y="1382400"/>
              <a:ext cx="942120" cy="25884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942339" h="259080">
                  <a:moveTo>
                    <a:pt x="268224" y="109728"/>
                  </a:moveTo>
                  <a:lnTo>
                    <a:pt x="0" y="109728"/>
                  </a:lnTo>
                  <a:lnTo>
                    <a:pt x="0" y="259080"/>
                  </a:lnTo>
                  <a:lnTo>
                    <a:pt x="268224" y="259080"/>
                  </a:lnTo>
                  <a:lnTo>
                    <a:pt x="268224" y="109728"/>
                  </a:lnTo>
                  <a:close/>
                </a:path>
                <a:path w="942339" h="259080">
                  <a:moveTo>
                    <a:pt x="941832" y="0"/>
                  </a:moveTo>
                  <a:lnTo>
                    <a:pt x="672084" y="0"/>
                  </a:lnTo>
                  <a:lnTo>
                    <a:pt x="672084" y="173736"/>
                  </a:lnTo>
                  <a:lnTo>
                    <a:pt x="941832" y="173736"/>
                  </a:lnTo>
                  <a:lnTo>
                    <a:pt x="94183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bject 25"/>
            <p:cNvSpPr/>
            <p:nvPr/>
          </p:nvSpPr>
          <p:spPr>
            <a:xfrm>
              <a:off x="707040" y="1126080"/>
              <a:ext cx="3405960" cy="1452600"/>
            </a:xfrm>
            <a:custGeom>
              <a:avLst/>
              <a:gdLst>
                <a:gd name="textAreaLeft" fmla="*/ 0 w 3405960"/>
                <a:gd name="textAreaRight" fmla="*/ 3406320 w 3405960"/>
                <a:gd name="textAreaTop" fmla="*/ 0 h 1452600"/>
                <a:gd name="textAreaBottom" fmla="*/ 1452960 h 1452600"/>
              </a:gdLst>
              <a:ahLst/>
              <a:rect l="textAreaLeft" t="textAreaTop" r="textAreaRight" b="textAreaBottom"/>
              <a:pathLst>
                <a:path w="3406140" h="1452880">
                  <a:moveTo>
                    <a:pt x="41148" y="201167"/>
                  </a:moveTo>
                  <a:lnTo>
                    <a:pt x="3406140" y="201167"/>
                  </a:lnTo>
                </a:path>
                <a:path w="3406140" h="1452880">
                  <a:moveTo>
                    <a:pt x="41148" y="0"/>
                  </a:moveTo>
                  <a:lnTo>
                    <a:pt x="3406140" y="0"/>
                  </a:lnTo>
                </a:path>
                <a:path w="3406140" h="1452880">
                  <a:moveTo>
                    <a:pt x="41148" y="1412748"/>
                  </a:moveTo>
                  <a:lnTo>
                    <a:pt x="41148" y="0"/>
                  </a:lnTo>
                </a:path>
                <a:path w="3406140" h="1452880">
                  <a:moveTo>
                    <a:pt x="0" y="1412748"/>
                  </a:moveTo>
                  <a:lnTo>
                    <a:pt x="41148" y="1412748"/>
                  </a:lnTo>
                </a:path>
                <a:path w="3406140" h="1452880">
                  <a:moveTo>
                    <a:pt x="0" y="1211579"/>
                  </a:moveTo>
                  <a:lnTo>
                    <a:pt x="41148" y="1211579"/>
                  </a:lnTo>
                </a:path>
                <a:path w="3406140" h="1452880">
                  <a:moveTo>
                    <a:pt x="0" y="1008888"/>
                  </a:moveTo>
                  <a:lnTo>
                    <a:pt x="41148" y="1008888"/>
                  </a:lnTo>
                </a:path>
                <a:path w="3406140" h="1452880">
                  <a:moveTo>
                    <a:pt x="0" y="807719"/>
                  </a:moveTo>
                  <a:lnTo>
                    <a:pt x="41148" y="807719"/>
                  </a:lnTo>
                </a:path>
                <a:path w="3406140" h="1452880">
                  <a:moveTo>
                    <a:pt x="0" y="605027"/>
                  </a:moveTo>
                  <a:lnTo>
                    <a:pt x="41148" y="605027"/>
                  </a:lnTo>
                </a:path>
                <a:path w="3406140" h="1452880">
                  <a:moveTo>
                    <a:pt x="0" y="403860"/>
                  </a:moveTo>
                  <a:lnTo>
                    <a:pt x="41148" y="403860"/>
                  </a:lnTo>
                </a:path>
                <a:path w="3406140" h="1452880">
                  <a:moveTo>
                    <a:pt x="0" y="201167"/>
                  </a:moveTo>
                  <a:lnTo>
                    <a:pt x="41148" y="201167"/>
                  </a:lnTo>
                </a:path>
                <a:path w="3406140" h="1452880">
                  <a:moveTo>
                    <a:pt x="0" y="0"/>
                  </a:moveTo>
                  <a:lnTo>
                    <a:pt x="41148" y="0"/>
                  </a:lnTo>
                </a:path>
                <a:path w="3406140" h="1452880">
                  <a:moveTo>
                    <a:pt x="41148" y="1412748"/>
                  </a:moveTo>
                  <a:lnTo>
                    <a:pt x="3406140" y="1412748"/>
                  </a:lnTo>
                </a:path>
                <a:path w="3406140" h="1452880">
                  <a:moveTo>
                    <a:pt x="41148" y="1412748"/>
                  </a:moveTo>
                  <a:lnTo>
                    <a:pt x="41148" y="1452372"/>
                  </a:lnTo>
                </a:path>
                <a:path w="3406140" h="1452880">
                  <a:moveTo>
                    <a:pt x="714755" y="1412748"/>
                  </a:moveTo>
                  <a:lnTo>
                    <a:pt x="714755" y="1452372"/>
                  </a:lnTo>
                </a:path>
                <a:path w="3406140" h="1452880">
                  <a:moveTo>
                    <a:pt x="1386839" y="1412748"/>
                  </a:moveTo>
                  <a:lnTo>
                    <a:pt x="1386839" y="1452372"/>
                  </a:lnTo>
                </a:path>
                <a:path w="3406140" h="1452880">
                  <a:moveTo>
                    <a:pt x="2060447" y="1412748"/>
                  </a:moveTo>
                  <a:lnTo>
                    <a:pt x="2060447" y="1452372"/>
                  </a:lnTo>
                </a:path>
                <a:path w="3406140" h="1452880">
                  <a:moveTo>
                    <a:pt x="2734055" y="1412748"/>
                  </a:moveTo>
                  <a:lnTo>
                    <a:pt x="2734055" y="1452372"/>
                  </a:lnTo>
                </a:path>
                <a:path w="3406140" h="1452880">
                  <a:moveTo>
                    <a:pt x="3406140" y="1412748"/>
                  </a:moveTo>
                  <a:lnTo>
                    <a:pt x="3406140" y="1452372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object 26"/>
          <p:cNvSpPr/>
          <p:nvPr/>
        </p:nvSpPr>
        <p:spPr>
          <a:xfrm>
            <a:off x="976320" y="21225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ject 27"/>
          <p:cNvSpPr/>
          <p:nvPr/>
        </p:nvSpPr>
        <p:spPr>
          <a:xfrm>
            <a:off x="1649880" y="20793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ject 28"/>
          <p:cNvSpPr/>
          <p:nvPr/>
        </p:nvSpPr>
        <p:spPr>
          <a:xfrm>
            <a:off x="2323080" y="20757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bject 29"/>
          <p:cNvSpPr/>
          <p:nvPr/>
        </p:nvSpPr>
        <p:spPr>
          <a:xfrm>
            <a:off x="2996280" y="20642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bject 30"/>
          <p:cNvSpPr/>
          <p:nvPr/>
        </p:nvSpPr>
        <p:spPr>
          <a:xfrm>
            <a:off x="3669480" y="20178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bject 31"/>
          <p:cNvSpPr/>
          <p:nvPr/>
        </p:nvSpPr>
        <p:spPr>
          <a:xfrm>
            <a:off x="2996280" y="1614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ject 32"/>
          <p:cNvSpPr/>
          <p:nvPr/>
        </p:nvSpPr>
        <p:spPr>
          <a:xfrm>
            <a:off x="3669480" y="1526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bject 33"/>
          <p:cNvSpPr/>
          <p:nvPr/>
        </p:nvSpPr>
        <p:spPr>
          <a:xfrm>
            <a:off x="976320" y="1654200"/>
            <a:ext cx="217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104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1040"/>
              </a:lnSpc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bject 34"/>
          <p:cNvSpPr/>
          <p:nvPr/>
        </p:nvSpPr>
        <p:spPr>
          <a:xfrm>
            <a:off x="1649880" y="1571400"/>
            <a:ext cx="21744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1018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1018"/>
              </a:lnSpc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ject 35"/>
          <p:cNvSpPr/>
          <p:nvPr/>
        </p:nvSpPr>
        <p:spPr>
          <a:xfrm>
            <a:off x="2323080" y="1551960"/>
            <a:ext cx="2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1035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1035"/>
              </a:lnSpc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bject 36"/>
          <p:cNvSpPr/>
          <p:nvPr/>
        </p:nvSpPr>
        <p:spPr>
          <a:xfrm>
            <a:off x="2996280" y="14702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bject 37"/>
          <p:cNvSpPr/>
          <p:nvPr/>
        </p:nvSpPr>
        <p:spPr>
          <a:xfrm>
            <a:off x="3669480" y="1373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ject 38"/>
          <p:cNvSpPr/>
          <p:nvPr/>
        </p:nvSpPr>
        <p:spPr>
          <a:xfrm>
            <a:off x="360000" y="973080"/>
            <a:ext cx="28332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t">
            <a:spAutoFit/>
          </a:bodyPr>
          <a:p>
            <a:pPr algn="r">
              <a:lnSpc>
                <a:spcPct val="100000"/>
              </a:lnSpc>
              <a:spcBef>
                <a:spcPts val="490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8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94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8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9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8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9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91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bject 39"/>
          <p:cNvSpPr/>
          <p:nvPr/>
        </p:nvSpPr>
        <p:spPr>
          <a:xfrm>
            <a:off x="94320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40"/>
          <p:cNvSpPr/>
          <p:nvPr/>
        </p:nvSpPr>
        <p:spPr>
          <a:xfrm>
            <a:off x="161640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ject 41"/>
          <p:cNvSpPr/>
          <p:nvPr/>
        </p:nvSpPr>
        <p:spPr>
          <a:xfrm>
            <a:off x="228996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ject 42"/>
          <p:cNvSpPr/>
          <p:nvPr/>
        </p:nvSpPr>
        <p:spPr>
          <a:xfrm>
            <a:off x="296316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ject 43"/>
          <p:cNvSpPr/>
          <p:nvPr/>
        </p:nvSpPr>
        <p:spPr>
          <a:xfrm>
            <a:off x="363636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ject 44"/>
          <p:cNvSpPr/>
          <p:nvPr/>
        </p:nvSpPr>
        <p:spPr>
          <a:xfrm>
            <a:off x="4317480" y="16567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45"/>
          <p:cNvSpPr/>
          <p:nvPr/>
        </p:nvSpPr>
        <p:spPr>
          <a:xfrm>
            <a:off x="4317480" y="188676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object 46"/>
          <p:cNvSpPr/>
          <p:nvPr/>
        </p:nvSpPr>
        <p:spPr>
          <a:xfrm>
            <a:off x="4317480" y="211536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ject 47"/>
          <p:cNvSpPr/>
          <p:nvPr/>
        </p:nvSpPr>
        <p:spPr>
          <a:xfrm>
            <a:off x="4404960" y="1510200"/>
            <a:ext cx="80676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ранд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гомо-поли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bject 48"/>
          <p:cNvSpPr/>
          <p:nvPr/>
        </p:nvSpPr>
        <p:spPr>
          <a:xfrm>
            <a:off x="501840" y="679320"/>
            <a:ext cx="4802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2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object 49"/>
          <p:cNvGrpSpPr/>
          <p:nvPr/>
        </p:nvGrpSpPr>
        <p:grpSpPr>
          <a:xfrm>
            <a:off x="740520" y="3714120"/>
            <a:ext cx="2252520" cy="2101320"/>
            <a:chOff x="740520" y="3714120"/>
            <a:chExt cx="2252520" cy="2101320"/>
          </a:xfrm>
        </p:grpSpPr>
        <p:sp>
          <p:nvSpPr>
            <p:cNvPr id="608" name="object 50"/>
            <p:cNvSpPr/>
            <p:nvPr/>
          </p:nvSpPr>
          <p:spPr>
            <a:xfrm>
              <a:off x="781920" y="5480280"/>
              <a:ext cx="958320" cy="36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58850" h="0">
                  <a:moveTo>
                    <a:pt x="0" y="0"/>
                  </a:moveTo>
                  <a:lnTo>
                    <a:pt x="220979" y="0"/>
                  </a:lnTo>
                </a:path>
                <a:path w="958850" h="0">
                  <a:moveTo>
                    <a:pt x="515112" y="0"/>
                  </a:moveTo>
                  <a:lnTo>
                    <a:pt x="958595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bject 51"/>
            <p:cNvSpPr/>
            <p:nvPr/>
          </p:nvSpPr>
          <p:spPr>
            <a:xfrm>
              <a:off x="1002960" y="5524560"/>
              <a:ext cx="294120" cy="24984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4640" h="250189">
                  <a:moveTo>
                    <a:pt x="294132" y="0"/>
                  </a:moveTo>
                  <a:lnTo>
                    <a:pt x="0" y="0"/>
                  </a:lnTo>
                  <a:lnTo>
                    <a:pt x="0" y="249936"/>
                  </a:lnTo>
                  <a:lnTo>
                    <a:pt x="294132" y="249936"/>
                  </a:lnTo>
                  <a:lnTo>
                    <a:pt x="29413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bject 52"/>
            <p:cNvSpPr/>
            <p:nvPr/>
          </p:nvSpPr>
          <p:spPr>
            <a:xfrm>
              <a:off x="2034360" y="5480280"/>
              <a:ext cx="443520" cy="36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43864" h="0">
                  <a:moveTo>
                    <a:pt x="0" y="0"/>
                  </a:moveTo>
                  <a:lnTo>
                    <a:pt x="44348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bject 53"/>
            <p:cNvSpPr/>
            <p:nvPr/>
          </p:nvSpPr>
          <p:spPr>
            <a:xfrm>
              <a:off x="1740240" y="5459040"/>
              <a:ext cx="294120" cy="3153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294639" h="315595">
                  <a:moveTo>
                    <a:pt x="294131" y="0"/>
                  </a:moveTo>
                  <a:lnTo>
                    <a:pt x="0" y="0"/>
                  </a:lnTo>
                  <a:lnTo>
                    <a:pt x="0" y="315467"/>
                  </a:lnTo>
                  <a:lnTo>
                    <a:pt x="294131" y="315467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bject 54"/>
            <p:cNvSpPr/>
            <p:nvPr/>
          </p:nvSpPr>
          <p:spPr>
            <a:xfrm>
              <a:off x="2772000" y="548028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0" h="0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bject 55"/>
            <p:cNvSpPr/>
            <p:nvPr/>
          </p:nvSpPr>
          <p:spPr>
            <a:xfrm>
              <a:off x="2477880" y="5451480"/>
              <a:ext cx="294120" cy="3229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294639" h="323214">
                  <a:moveTo>
                    <a:pt x="294131" y="0"/>
                  </a:moveTo>
                  <a:lnTo>
                    <a:pt x="0" y="0"/>
                  </a:lnTo>
                  <a:lnTo>
                    <a:pt x="0" y="323088"/>
                  </a:lnTo>
                  <a:lnTo>
                    <a:pt x="294131" y="323088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bject 56"/>
            <p:cNvSpPr/>
            <p:nvPr/>
          </p:nvSpPr>
          <p:spPr>
            <a:xfrm>
              <a:off x="1002960" y="5347800"/>
              <a:ext cx="1769400" cy="176760"/>
            </a:xfrm>
            <a:custGeom>
              <a:avLst/>
              <a:gdLst>
                <a:gd name="textAreaLeft" fmla="*/ 0 w 1769400"/>
                <a:gd name="textAreaRight" fmla="*/ 1769760 w 176940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769745" h="177164">
                  <a:moveTo>
                    <a:pt x="294132" y="74676"/>
                  </a:moveTo>
                  <a:lnTo>
                    <a:pt x="0" y="74676"/>
                  </a:lnTo>
                  <a:lnTo>
                    <a:pt x="0" y="176784"/>
                  </a:lnTo>
                  <a:lnTo>
                    <a:pt x="294132" y="176784"/>
                  </a:lnTo>
                  <a:lnTo>
                    <a:pt x="294132" y="74676"/>
                  </a:lnTo>
                  <a:close/>
                </a:path>
                <a:path w="1769745" h="177164">
                  <a:moveTo>
                    <a:pt x="1031748" y="22860"/>
                  </a:moveTo>
                  <a:lnTo>
                    <a:pt x="737616" y="22860"/>
                  </a:lnTo>
                  <a:lnTo>
                    <a:pt x="737616" y="111252"/>
                  </a:lnTo>
                  <a:lnTo>
                    <a:pt x="1031748" y="111252"/>
                  </a:lnTo>
                  <a:lnTo>
                    <a:pt x="1031748" y="22860"/>
                  </a:lnTo>
                  <a:close/>
                </a:path>
                <a:path w="1769745" h="177164">
                  <a:moveTo>
                    <a:pt x="1769364" y="0"/>
                  </a:moveTo>
                  <a:lnTo>
                    <a:pt x="1475232" y="0"/>
                  </a:lnTo>
                  <a:lnTo>
                    <a:pt x="1475232" y="103632"/>
                  </a:lnTo>
                  <a:lnTo>
                    <a:pt x="1769364" y="103632"/>
                  </a:lnTo>
                  <a:lnTo>
                    <a:pt x="1769364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bject 57"/>
            <p:cNvSpPr/>
            <p:nvPr/>
          </p:nvSpPr>
          <p:spPr>
            <a:xfrm>
              <a:off x="781920" y="5186160"/>
              <a:ext cx="958320" cy="36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58850" h="0">
                  <a:moveTo>
                    <a:pt x="0" y="0"/>
                  </a:moveTo>
                  <a:lnTo>
                    <a:pt x="220979" y="0"/>
                  </a:lnTo>
                </a:path>
                <a:path w="958850" h="0">
                  <a:moveTo>
                    <a:pt x="515112" y="0"/>
                  </a:moveTo>
                  <a:lnTo>
                    <a:pt x="9585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bject 58"/>
            <p:cNvSpPr/>
            <p:nvPr/>
          </p:nvSpPr>
          <p:spPr>
            <a:xfrm>
              <a:off x="1002960" y="4977360"/>
              <a:ext cx="294120" cy="4446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294640" h="445135">
                  <a:moveTo>
                    <a:pt x="294132" y="0"/>
                  </a:moveTo>
                  <a:lnTo>
                    <a:pt x="0" y="0"/>
                  </a:lnTo>
                  <a:lnTo>
                    <a:pt x="0" y="445008"/>
                  </a:lnTo>
                  <a:lnTo>
                    <a:pt x="294132" y="445008"/>
                  </a:lnTo>
                  <a:lnTo>
                    <a:pt x="29413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bject 59"/>
            <p:cNvSpPr/>
            <p:nvPr/>
          </p:nvSpPr>
          <p:spPr>
            <a:xfrm>
              <a:off x="1297080" y="4892040"/>
              <a:ext cx="1180800" cy="294120"/>
            </a:xfrm>
            <a:custGeom>
              <a:avLst/>
              <a:gdLst>
                <a:gd name="textAreaLeft" fmla="*/ 0 w 1180800"/>
                <a:gd name="textAreaRight" fmla="*/ 1181160 w 118080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1181100" h="294639">
                  <a:moveTo>
                    <a:pt x="737615" y="294132"/>
                  </a:moveTo>
                  <a:lnTo>
                    <a:pt x="1181100" y="294132"/>
                  </a:lnTo>
                </a:path>
                <a:path w="1181100" h="294639">
                  <a:moveTo>
                    <a:pt x="0" y="0"/>
                  </a:moveTo>
                  <a:lnTo>
                    <a:pt x="4434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bject 60"/>
            <p:cNvSpPr/>
            <p:nvPr/>
          </p:nvSpPr>
          <p:spPr>
            <a:xfrm>
              <a:off x="1740240" y="4907160"/>
              <a:ext cx="294120" cy="4633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4639" h="463550">
                  <a:moveTo>
                    <a:pt x="294131" y="0"/>
                  </a:moveTo>
                  <a:lnTo>
                    <a:pt x="0" y="0"/>
                  </a:lnTo>
                  <a:lnTo>
                    <a:pt x="0" y="463296"/>
                  </a:lnTo>
                  <a:lnTo>
                    <a:pt x="294131" y="463296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bject 61"/>
            <p:cNvSpPr/>
            <p:nvPr/>
          </p:nvSpPr>
          <p:spPr>
            <a:xfrm>
              <a:off x="2772000" y="4892040"/>
              <a:ext cx="220680" cy="294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220980" h="294639">
                  <a:moveTo>
                    <a:pt x="0" y="294132"/>
                  </a:moveTo>
                  <a:lnTo>
                    <a:pt x="220980" y="294132"/>
                  </a:lnTo>
                </a:path>
                <a:path w="220980" h="294639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bject 62"/>
            <p:cNvSpPr/>
            <p:nvPr/>
          </p:nvSpPr>
          <p:spPr>
            <a:xfrm>
              <a:off x="2477880" y="4831200"/>
              <a:ext cx="294120" cy="5166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94639" h="516889">
                  <a:moveTo>
                    <a:pt x="294131" y="0"/>
                  </a:moveTo>
                  <a:lnTo>
                    <a:pt x="0" y="0"/>
                  </a:lnTo>
                  <a:lnTo>
                    <a:pt x="0" y="516636"/>
                  </a:lnTo>
                  <a:lnTo>
                    <a:pt x="294131" y="516636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bject 63"/>
            <p:cNvSpPr/>
            <p:nvPr/>
          </p:nvSpPr>
          <p:spPr>
            <a:xfrm>
              <a:off x="781920" y="489204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0" h="0">
                  <a:moveTo>
                    <a:pt x="0" y="0"/>
                  </a:moveTo>
                  <a:lnTo>
                    <a:pt x="22097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bject 64"/>
            <p:cNvSpPr/>
            <p:nvPr/>
          </p:nvSpPr>
          <p:spPr>
            <a:xfrm>
              <a:off x="1002960" y="4737960"/>
              <a:ext cx="1031400" cy="23904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031875" h="239395">
                  <a:moveTo>
                    <a:pt x="294132" y="91440"/>
                  </a:moveTo>
                  <a:lnTo>
                    <a:pt x="0" y="91440"/>
                  </a:lnTo>
                  <a:lnTo>
                    <a:pt x="0" y="239268"/>
                  </a:lnTo>
                  <a:lnTo>
                    <a:pt x="294132" y="239268"/>
                  </a:lnTo>
                  <a:lnTo>
                    <a:pt x="294132" y="91440"/>
                  </a:lnTo>
                  <a:close/>
                </a:path>
                <a:path w="1031875" h="239395">
                  <a:moveTo>
                    <a:pt x="1031748" y="0"/>
                  </a:moveTo>
                  <a:lnTo>
                    <a:pt x="737616" y="0"/>
                  </a:lnTo>
                  <a:lnTo>
                    <a:pt x="737616" y="169164"/>
                  </a:lnTo>
                  <a:lnTo>
                    <a:pt x="1031748" y="169164"/>
                  </a:lnTo>
                  <a:lnTo>
                    <a:pt x="1031748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bject 65"/>
            <p:cNvSpPr/>
            <p:nvPr/>
          </p:nvSpPr>
          <p:spPr>
            <a:xfrm>
              <a:off x="2034360" y="4597920"/>
              <a:ext cx="958320" cy="36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58850" h="0">
                  <a:moveTo>
                    <a:pt x="0" y="0"/>
                  </a:moveTo>
                  <a:lnTo>
                    <a:pt x="443484" y="0"/>
                  </a:lnTo>
                </a:path>
                <a:path w="958850" h="0">
                  <a:moveTo>
                    <a:pt x="737616" y="0"/>
                  </a:moveTo>
                  <a:lnTo>
                    <a:pt x="95859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bject 66"/>
            <p:cNvSpPr/>
            <p:nvPr/>
          </p:nvSpPr>
          <p:spPr>
            <a:xfrm>
              <a:off x="2477880" y="4640400"/>
              <a:ext cx="294120" cy="19008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94639" h="190500">
                  <a:moveTo>
                    <a:pt x="294131" y="0"/>
                  </a:moveTo>
                  <a:lnTo>
                    <a:pt x="0" y="0"/>
                  </a:lnTo>
                  <a:lnTo>
                    <a:pt x="0" y="190500"/>
                  </a:lnTo>
                  <a:lnTo>
                    <a:pt x="294131" y="190500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bject 67"/>
            <p:cNvSpPr/>
            <p:nvPr/>
          </p:nvSpPr>
          <p:spPr>
            <a:xfrm>
              <a:off x="1002960" y="4727520"/>
              <a:ext cx="294120" cy="10188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94640" h="102235">
                  <a:moveTo>
                    <a:pt x="294132" y="0"/>
                  </a:moveTo>
                  <a:lnTo>
                    <a:pt x="0" y="0"/>
                  </a:lnTo>
                  <a:lnTo>
                    <a:pt x="0" y="102107"/>
                  </a:lnTo>
                  <a:lnTo>
                    <a:pt x="294132" y="102107"/>
                  </a:lnTo>
                  <a:lnTo>
                    <a:pt x="2941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bject 68"/>
            <p:cNvSpPr/>
            <p:nvPr/>
          </p:nvSpPr>
          <p:spPr>
            <a:xfrm>
              <a:off x="1297080" y="4597920"/>
              <a:ext cx="443520" cy="36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43864" h="0">
                  <a:moveTo>
                    <a:pt x="0" y="0"/>
                  </a:moveTo>
                  <a:lnTo>
                    <a:pt x="4434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bject 69"/>
            <p:cNvSpPr/>
            <p:nvPr/>
          </p:nvSpPr>
          <p:spPr>
            <a:xfrm>
              <a:off x="1740240" y="4521600"/>
              <a:ext cx="1031400" cy="21600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031875" h="216535">
                  <a:moveTo>
                    <a:pt x="294132" y="121920"/>
                  </a:moveTo>
                  <a:lnTo>
                    <a:pt x="0" y="121920"/>
                  </a:lnTo>
                  <a:lnTo>
                    <a:pt x="0" y="216408"/>
                  </a:lnTo>
                  <a:lnTo>
                    <a:pt x="294132" y="216408"/>
                  </a:lnTo>
                  <a:lnTo>
                    <a:pt x="294132" y="121920"/>
                  </a:lnTo>
                  <a:close/>
                </a:path>
                <a:path w="1031875" h="216535">
                  <a:moveTo>
                    <a:pt x="1031748" y="0"/>
                  </a:moveTo>
                  <a:lnTo>
                    <a:pt x="737616" y="0"/>
                  </a:lnTo>
                  <a:lnTo>
                    <a:pt x="737616" y="118872"/>
                  </a:lnTo>
                  <a:lnTo>
                    <a:pt x="1031748" y="118872"/>
                  </a:lnTo>
                  <a:lnTo>
                    <a:pt x="103174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bject 70"/>
            <p:cNvSpPr/>
            <p:nvPr/>
          </p:nvSpPr>
          <p:spPr>
            <a:xfrm>
              <a:off x="781920" y="459792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0" h="0">
                  <a:moveTo>
                    <a:pt x="0" y="0"/>
                  </a:moveTo>
                  <a:lnTo>
                    <a:pt x="22097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bject 71"/>
            <p:cNvSpPr/>
            <p:nvPr/>
          </p:nvSpPr>
          <p:spPr>
            <a:xfrm>
              <a:off x="1002960" y="4439520"/>
              <a:ext cx="294120" cy="2880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94640" h="288289">
                  <a:moveTo>
                    <a:pt x="294132" y="0"/>
                  </a:moveTo>
                  <a:lnTo>
                    <a:pt x="0" y="0"/>
                  </a:lnTo>
                  <a:lnTo>
                    <a:pt x="0" y="288036"/>
                  </a:lnTo>
                  <a:lnTo>
                    <a:pt x="294132" y="288036"/>
                  </a:lnTo>
                  <a:lnTo>
                    <a:pt x="29413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bject 72"/>
            <p:cNvSpPr/>
            <p:nvPr/>
          </p:nvSpPr>
          <p:spPr>
            <a:xfrm>
              <a:off x="781920" y="4302360"/>
              <a:ext cx="1696320" cy="360"/>
            </a:xfrm>
            <a:custGeom>
              <a:avLst/>
              <a:gdLst>
                <a:gd name="textAreaLeft" fmla="*/ 0 w 1696320"/>
                <a:gd name="textAreaRight" fmla="*/ 1696680 w 1696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96720" h="0">
                  <a:moveTo>
                    <a:pt x="0" y="0"/>
                  </a:moveTo>
                  <a:lnTo>
                    <a:pt x="958595" y="0"/>
                  </a:lnTo>
                </a:path>
                <a:path w="1696720" h="0">
                  <a:moveTo>
                    <a:pt x="1252727" y="0"/>
                  </a:moveTo>
                  <a:lnTo>
                    <a:pt x="16962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bject 73"/>
            <p:cNvSpPr/>
            <p:nvPr/>
          </p:nvSpPr>
          <p:spPr>
            <a:xfrm>
              <a:off x="1740240" y="4341960"/>
              <a:ext cx="294120" cy="30204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94639" h="302260">
                  <a:moveTo>
                    <a:pt x="294131" y="0"/>
                  </a:moveTo>
                  <a:lnTo>
                    <a:pt x="0" y="0"/>
                  </a:lnTo>
                  <a:lnTo>
                    <a:pt x="0" y="301751"/>
                  </a:lnTo>
                  <a:lnTo>
                    <a:pt x="294131" y="301751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bject 74"/>
            <p:cNvSpPr/>
            <p:nvPr/>
          </p:nvSpPr>
          <p:spPr>
            <a:xfrm>
              <a:off x="2772000" y="430236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0" h="0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bject 75"/>
            <p:cNvSpPr/>
            <p:nvPr/>
          </p:nvSpPr>
          <p:spPr>
            <a:xfrm>
              <a:off x="2477880" y="4175640"/>
              <a:ext cx="294120" cy="3456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94639" h="346075">
                  <a:moveTo>
                    <a:pt x="294131" y="0"/>
                  </a:moveTo>
                  <a:lnTo>
                    <a:pt x="0" y="0"/>
                  </a:lnTo>
                  <a:lnTo>
                    <a:pt x="0" y="345947"/>
                  </a:lnTo>
                  <a:lnTo>
                    <a:pt x="294131" y="345947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bject 76"/>
            <p:cNvSpPr/>
            <p:nvPr/>
          </p:nvSpPr>
          <p:spPr>
            <a:xfrm>
              <a:off x="1002960" y="4087440"/>
              <a:ext cx="1769400" cy="352080"/>
            </a:xfrm>
            <a:custGeom>
              <a:avLst/>
              <a:gdLst>
                <a:gd name="textAreaLeft" fmla="*/ 0 w 1769400"/>
                <a:gd name="textAreaRight" fmla="*/ 1769760 w 17694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1769745" h="352425">
                  <a:moveTo>
                    <a:pt x="294132" y="294132"/>
                  </a:moveTo>
                  <a:lnTo>
                    <a:pt x="0" y="294132"/>
                  </a:lnTo>
                  <a:lnTo>
                    <a:pt x="0" y="352044"/>
                  </a:lnTo>
                  <a:lnTo>
                    <a:pt x="294132" y="352044"/>
                  </a:lnTo>
                  <a:lnTo>
                    <a:pt x="294132" y="294132"/>
                  </a:lnTo>
                  <a:close/>
                </a:path>
                <a:path w="1769745" h="352425">
                  <a:moveTo>
                    <a:pt x="1031748" y="164592"/>
                  </a:moveTo>
                  <a:lnTo>
                    <a:pt x="737616" y="164592"/>
                  </a:lnTo>
                  <a:lnTo>
                    <a:pt x="737616" y="254508"/>
                  </a:lnTo>
                  <a:lnTo>
                    <a:pt x="1031748" y="254508"/>
                  </a:lnTo>
                  <a:lnTo>
                    <a:pt x="1031748" y="164592"/>
                  </a:lnTo>
                  <a:close/>
                </a:path>
                <a:path w="1769745" h="352425">
                  <a:moveTo>
                    <a:pt x="1769364" y="0"/>
                  </a:moveTo>
                  <a:lnTo>
                    <a:pt x="1475232" y="0"/>
                  </a:lnTo>
                  <a:lnTo>
                    <a:pt x="1475232" y="88392"/>
                  </a:lnTo>
                  <a:lnTo>
                    <a:pt x="1769364" y="88392"/>
                  </a:lnTo>
                  <a:lnTo>
                    <a:pt x="1769364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bject 77"/>
            <p:cNvSpPr/>
            <p:nvPr/>
          </p:nvSpPr>
          <p:spPr>
            <a:xfrm>
              <a:off x="740520" y="3714120"/>
              <a:ext cx="2252520" cy="2101320"/>
            </a:xfrm>
            <a:custGeom>
              <a:avLst/>
              <a:gdLst>
                <a:gd name="textAreaLeft" fmla="*/ 0 w 2252520"/>
                <a:gd name="textAreaRight" fmla="*/ 2252880 w 2252520"/>
                <a:gd name="textAreaTop" fmla="*/ 0 h 2101320"/>
                <a:gd name="textAreaBottom" fmla="*/ 2101680 h 2101320"/>
              </a:gdLst>
              <a:ahLst/>
              <a:rect l="textAreaLeft" t="textAreaTop" r="textAreaRight" b="textAreaBottom"/>
              <a:pathLst>
                <a:path w="2252980" h="2101850">
                  <a:moveTo>
                    <a:pt x="41148" y="294131"/>
                  </a:moveTo>
                  <a:lnTo>
                    <a:pt x="2252472" y="294131"/>
                  </a:lnTo>
                </a:path>
                <a:path w="2252980" h="2101850">
                  <a:moveTo>
                    <a:pt x="41148" y="0"/>
                  </a:moveTo>
                  <a:lnTo>
                    <a:pt x="2252472" y="0"/>
                  </a:lnTo>
                </a:path>
                <a:path w="2252980" h="2101850">
                  <a:moveTo>
                    <a:pt x="41148" y="2060448"/>
                  </a:moveTo>
                  <a:lnTo>
                    <a:pt x="41148" y="0"/>
                  </a:lnTo>
                </a:path>
                <a:path w="2252980" h="2101850">
                  <a:moveTo>
                    <a:pt x="0" y="2060448"/>
                  </a:moveTo>
                  <a:lnTo>
                    <a:pt x="41148" y="2060448"/>
                  </a:lnTo>
                </a:path>
                <a:path w="2252980" h="2101850">
                  <a:moveTo>
                    <a:pt x="0" y="1766315"/>
                  </a:moveTo>
                  <a:lnTo>
                    <a:pt x="41148" y="1766315"/>
                  </a:lnTo>
                </a:path>
                <a:path w="2252980" h="2101850">
                  <a:moveTo>
                    <a:pt x="0" y="1472184"/>
                  </a:moveTo>
                  <a:lnTo>
                    <a:pt x="41148" y="1472184"/>
                  </a:lnTo>
                </a:path>
                <a:path w="2252980" h="2101850">
                  <a:moveTo>
                    <a:pt x="0" y="1178052"/>
                  </a:moveTo>
                  <a:lnTo>
                    <a:pt x="41148" y="1178052"/>
                  </a:lnTo>
                </a:path>
                <a:path w="2252980" h="2101850">
                  <a:moveTo>
                    <a:pt x="0" y="883919"/>
                  </a:moveTo>
                  <a:lnTo>
                    <a:pt x="41148" y="883919"/>
                  </a:lnTo>
                </a:path>
                <a:path w="2252980" h="2101850">
                  <a:moveTo>
                    <a:pt x="0" y="588263"/>
                  </a:moveTo>
                  <a:lnTo>
                    <a:pt x="41148" y="588263"/>
                  </a:lnTo>
                </a:path>
                <a:path w="2252980" h="2101850">
                  <a:moveTo>
                    <a:pt x="0" y="294131"/>
                  </a:moveTo>
                  <a:lnTo>
                    <a:pt x="41148" y="294131"/>
                  </a:lnTo>
                </a:path>
                <a:path w="2252980" h="2101850">
                  <a:moveTo>
                    <a:pt x="0" y="0"/>
                  </a:moveTo>
                  <a:lnTo>
                    <a:pt x="41148" y="0"/>
                  </a:lnTo>
                </a:path>
                <a:path w="2252980" h="2101850">
                  <a:moveTo>
                    <a:pt x="41148" y="2060448"/>
                  </a:moveTo>
                  <a:lnTo>
                    <a:pt x="2252472" y="2060448"/>
                  </a:lnTo>
                </a:path>
                <a:path w="2252980" h="2101850">
                  <a:moveTo>
                    <a:pt x="41148" y="2060448"/>
                  </a:moveTo>
                  <a:lnTo>
                    <a:pt x="41148" y="2101596"/>
                  </a:lnTo>
                </a:path>
                <a:path w="2252980" h="2101850">
                  <a:moveTo>
                    <a:pt x="778764" y="2060448"/>
                  </a:moveTo>
                  <a:lnTo>
                    <a:pt x="778764" y="2101596"/>
                  </a:lnTo>
                </a:path>
                <a:path w="2252980" h="2101850">
                  <a:moveTo>
                    <a:pt x="1514856" y="2060448"/>
                  </a:moveTo>
                  <a:lnTo>
                    <a:pt x="1514856" y="2101596"/>
                  </a:lnTo>
                </a:path>
                <a:path w="2252980" h="2101850">
                  <a:moveTo>
                    <a:pt x="2252472" y="2060448"/>
                  </a:moveTo>
                  <a:lnTo>
                    <a:pt x="2252472" y="2101596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object 78"/>
          <p:cNvSpPr/>
          <p:nvPr/>
        </p:nvSpPr>
        <p:spPr>
          <a:xfrm>
            <a:off x="1041120" y="5555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bject 79"/>
          <p:cNvSpPr/>
          <p:nvPr/>
        </p:nvSpPr>
        <p:spPr>
          <a:xfrm>
            <a:off x="1778760" y="5521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80"/>
          <p:cNvSpPr/>
          <p:nvPr/>
        </p:nvSpPr>
        <p:spPr>
          <a:xfrm>
            <a:off x="2516040" y="551808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bject 81"/>
          <p:cNvSpPr/>
          <p:nvPr/>
        </p:nvSpPr>
        <p:spPr>
          <a:xfrm>
            <a:off x="1073160" y="53784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ject 82"/>
          <p:cNvSpPr/>
          <p:nvPr/>
        </p:nvSpPr>
        <p:spPr>
          <a:xfrm>
            <a:off x="1810800" y="53193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ject 83"/>
          <p:cNvSpPr/>
          <p:nvPr/>
        </p:nvSpPr>
        <p:spPr>
          <a:xfrm>
            <a:off x="2548080" y="53049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ject 84"/>
          <p:cNvSpPr/>
          <p:nvPr/>
        </p:nvSpPr>
        <p:spPr>
          <a:xfrm>
            <a:off x="1041120" y="51048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85"/>
          <p:cNvSpPr/>
          <p:nvPr/>
        </p:nvSpPr>
        <p:spPr>
          <a:xfrm>
            <a:off x="1778760" y="50432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bject 86"/>
          <p:cNvSpPr/>
          <p:nvPr/>
        </p:nvSpPr>
        <p:spPr>
          <a:xfrm>
            <a:off x="2516040" y="499500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ject 87"/>
          <p:cNvSpPr/>
          <p:nvPr/>
        </p:nvSpPr>
        <p:spPr>
          <a:xfrm>
            <a:off x="1041120" y="48085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bject 88"/>
          <p:cNvSpPr/>
          <p:nvPr/>
        </p:nvSpPr>
        <p:spPr>
          <a:xfrm>
            <a:off x="1778760" y="4640760"/>
            <a:ext cx="9554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749160">
              <a:lnSpc>
                <a:spcPts val="941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41"/>
              </a:lnSpc>
              <a:tabLst>
                <a:tab algn="l" pos="72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14</a:t>
            </a:r>
            <a:r>
              <a:rPr b="0" lang="en-US" sz="1000" spc="17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bject 89"/>
          <p:cNvSpPr/>
          <p:nvPr/>
        </p:nvSpPr>
        <p:spPr>
          <a:xfrm>
            <a:off x="1073160" y="46832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90"/>
          <p:cNvSpPr/>
          <p:nvPr/>
        </p:nvSpPr>
        <p:spPr>
          <a:xfrm>
            <a:off x="1810800" y="45954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bject 91"/>
          <p:cNvSpPr/>
          <p:nvPr/>
        </p:nvSpPr>
        <p:spPr>
          <a:xfrm>
            <a:off x="2548080" y="44863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bject 92"/>
          <p:cNvSpPr/>
          <p:nvPr/>
        </p:nvSpPr>
        <p:spPr>
          <a:xfrm>
            <a:off x="1041120" y="4488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bject 93"/>
          <p:cNvSpPr/>
          <p:nvPr/>
        </p:nvSpPr>
        <p:spPr>
          <a:xfrm>
            <a:off x="1778760" y="43970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ject 94"/>
          <p:cNvSpPr/>
          <p:nvPr/>
        </p:nvSpPr>
        <p:spPr>
          <a:xfrm>
            <a:off x="2516040" y="425412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95"/>
          <p:cNvSpPr/>
          <p:nvPr/>
        </p:nvSpPr>
        <p:spPr>
          <a:xfrm>
            <a:off x="586440" y="56732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bject 96"/>
          <p:cNvSpPr/>
          <p:nvPr/>
        </p:nvSpPr>
        <p:spPr>
          <a:xfrm>
            <a:off x="457920" y="53791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bject 97"/>
          <p:cNvSpPr/>
          <p:nvPr/>
        </p:nvSpPr>
        <p:spPr>
          <a:xfrm>
            <a:off x="457920" y="50842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bject 98"/>
          <p:cNvSpPr/>
          <p:nvPr/>
        </p:nvSpPr>
        <p:spPr>
          <a:xfrm>
            <a:off x="457920" y="47898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bject 99"/>
          <p:cNvSpPr/>
          <p:nvPr/>
        </p:nvSpPr>
        <p:spPr>
          <a:xfrm>
            <a:off x="457920" y="44953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100"/>
          <p:cNvSpPr/>
          <p:nvPr/>
        </p:nvSpPr>
        <p:spPr>
          <a:xfrm>
            <a:off x="393480" y="420012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bject 101"/>
          <p:cNvSpPr/>
          <p:nvPr/>
        </p:nvSpPr>
        <p:spPr>
          <a:xfrm>
            <a:off x="393480" y="39060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bject 102"/>
          <p:cNvSpPr/>
          <p:nvPr/>
        </p:nvSpPr>
        <p:spPr>
          <a:xfrm>
            <a:off x="393480" y="36115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bject 103"/>
          <p:cNvSpPr/>
          <p:nvPr/>
        </p:nvSpPr>
        <p:spPr>
          <a:xfrm>
            <a:off x="1008720" y="583848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bject 104"/>
          <p:cNvSpPr/>
          <p:nvPr/>
        </p:nvSpPr>
        <p:spPr>
          <a:xfrm>
            <a:off x="1746360" y="583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105"/>
          <p:cNvSpPr/>
          <p:nvPr/>
        </p:nvSpPr>
        <p:spPr>
          <a:xfrm>
            <a:off x="2484000" y="583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bject 106"/>
          <p:cNvSpPr/>
          <p:nvPr/>
        </p:nvSpPr>
        <p:spPr>
          <a:xfrm>
            <a:off x="3197520" y="410868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c5d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bject 107"/>
          <p:cNvSpPr/>
          <p:nvPr/>
        </p:nvSpPr>
        <p:spPr>
          <a:xfrm>
            <a:off x="3197520" y="433872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bject 108"/>
          <p:cNvSpPr/>
          <p:nvPr/>
        </p:nvSpPr>
        <p:spPr>
          <a:xfrm>
            <a:off x="3197520" y="456912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bject 109"/>
          <p:cNvSpPr/>
          <p:nvPr/>
        </p:nvSpPr>
        <p:spPr>
          <a:xfrm>
            <a:off x="3197520" y="479772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110"/>
          <p:cNvSpPr/>
          <p:nvPr/>
        </p:nvSpPr>
        <p:spPr>
          <a:xfrm>
            <a:off x="3197520" y="50277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bject 111"/>
          <p:cNvSpPr/>
          <p:nvPr/>
        </p:nvSpPr>
        <p:spPr>
          <a:xfrm>
            <a:off x="3197520" y="525780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bject 112"/>
          <p:cNvSpPr/>
          <p:nvPr/>
        </p:nvSpPr>
        <p:spPr>
          <a:xfrm>
            <a:off x="3197520" y="54878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79">
                <a:moveTo>
                  <a:pt x="68579" y="0"/>
                </a:moveTo>
                <a:lnTo>
                  <a:pt x="0" y="0"/>
                </a:lnTo>
                <a:lnTo>
                  <a:pt x="0" y="68579"/>
                </a:lnTo>
                <a:lnTo>
                  <a:pt x="68579" y="68579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bject 113"/>
          <p:cNvSpPr/>
          <p:nvPr/>
        </p:nvSpPr>
        <p:spPr>
          <a:xfrm>
            <a:off x="3284640" y="3964320"/>
            <a:ext cx="12398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9640" bIns="0" anchor="t">
            <a:spAutoFit/>
          </a:bodyPr>
          <a:p>
            <a:pPr marL="12600">
              <a:lnSpc>
                <a:spcPct val="100000"/>
              </a:lnSpc>
              <a:spcBef>
                <a:spcPts val="70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811"/>
              </a:lnSpc>
              <a:spcBef>
                <a:spcPts val="15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леночнная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нить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омпаун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811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канные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материалы 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45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bject 114"/>
          <p:cNvSpPr/>
          <p:nvPr/>
        </p:nvSpPr>
        <p:spPr>
          <a:xfrm>
            <a:off x="850320" y="3040920"/>
            <a:ext cx="3340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729000" indent="-71676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назначению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2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object 115"/>
          <p:cNvGrpSpPr/>
          <p:nvPr/>
        </p:nvGrpSpPr>
        <p:grpSpPr>
          <a:xfrm>
            <a:off x="5638320" y="3530520"/>
            <a:ext cx="2370240" cy="2370600"/>
            <a:chOff x="5638320" y="3530520"/>
            <a:chExt cx="2370240" cy="2370600"/>
          </a:xfrm>
        </p:grpSpPr>
        <p:sp>
          <p:nvSpPr>
            <p:cNvPr id="674" name="object 116"/>
            <p:cNvSpPr/>
            <p:nvPr/>
          </p:nvSpPr>
          <p:spPr>
            <a:xfrm>
              <a:off x="6823440" y="3530520"/>
              <a:ext cx="1185120" cy="159588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1595880"/>
                <a:gd name="textAreaBottom" fmla="*/ 1596240 h 1595880"/>
              </a:gdLst>
              <a:ahLst/>
              <a:rect l="textAreaLeft" t="textAreaTop" r="textAreaRight" b="textAreaBottom"/>
              <a:pathLst>
                <a:path w="1185545" h="1596389">
                  <a:moveTo>
                    <a:pt x="0" y="0"/>
                  </a:moveTo>
                  <a:lnTo>
                    <a:pt x="0" y="1185418"/>
                  </a:lnTo>
                  <a:lnTo>
                    <a:pt x="1111885" y="1595882"/>
                  </a:lnTo>
                  <a:lnTo>
                    <a:pt x="1129004" y="1546251"/>
                  </a:lnTo>
                  <a:lnTo>
                    <a:pt x="1143875" y="1495992"/>
                  </a:lnTo>
                  <a:lnTo>
                    <a:pt x="1156486" y="1445180"/>
                  </a:lnTo>
                  <a:lnTo>
                    <a:pt x="1166828" y="1393888"/>
                  </a:lnTo>
                  <a:lnTo>
                    <a:pt x="1174890" y="1342192"/>
                  </a:lnTo>
                  <a:lnTo>
                    <a:pt x="1180661" y="1290165"/>
                  </a:lnTo>
                  <a:lnTo>
                    <a:pt x="1184131" y="1237882"/>
                  </a:lnTo>
                  <a:lnTo>
                    <a:pt x="1185291" y="1185418"/>
                  </a:lnTo>
                  <a:lnTo>
                    <a:pt x="1184349" y="1137741"/>
                  </a:lnTo>
                  <a:lnTo>
                    <a:pt x="1181549" y="1090542"/>
                  </a:lnTo>
                  <a:lnTo>
                    <a:pt x="1176925" y="1043856"/>
                  </a:lnTo>
                  <a:lnTo>
                    <a:pt x="1170514" y="997719"/>
                  </a:lnTo>
                  <a:lnTo>
                    <a:pt x="1162349" y="952167"/>
                  </a:lnTo>
                  <a:lnTo>
                    <a:pt x="1152468" y="907233"/>
                  </a:lnTo>
                  <a:lnTo>
                    <a:pt x="1140904" y="862955"/>
                  </a:lnTo>
                  <a:lnTo>
                    <a:pt x="1127694" y="819367"/>
                  </a:lnTo>
                  <a:lnTo>
                    <a:pt x="1112873" y="776504"/>
                  </a:lnTo>
                  <a:lnTo>
                    <a:pt x="1096477" y="734403"/>
                  </a:lnTo>
                  <a:lnTo>
                    <a:pt x="1078541" y="693098"/>
                  </a:lnTo>
                  <a:lnTo>
                    <a:pt x="1059100" y="652625"/>
                  </a:lnTo>
                  <a:lnTo>
                    <a:pt x="1038189" y="613020"/>
                  </a:lnTo>
                  <a:lnTo>
                    <a:pt x="1015845" y="574317"/>
                  </a:lnTo>
                  <a:lnTo>
                    <a:pt x="992102" y="536553"/>
                  </a:lnTo>
                  <a:lnTo>
                    <a:pt x="966997" y="499762"/>
                  </a:lnTo>
                  <a:lnTo>
                    <a:pt x="940564" y="463980"/>
                  </a:lnTo>
                  <a:lnTo>
                    <a:pt x="912838" y="429243"/>
                  </a:lnTo>
                  <a:lnTo>
                    <a:pt x="883856" y="395586"/>
                  </a:lnTo>
                  <a:lnTo>
                    <a:pt x="853653" y="363043"/>
                  </a:lnTo>
                  <a:lnTo>
                    <a:pt x="822264" y="331652"/>
                  </a:lnTo>
                  <a:lnTo>
                    <a:pt x="789724" y="301446"/>
                  </a:lnTo>
                  <a:lnTo>
                    <a:pt x="756069" y="272463"/>
                  </a:lnTo>
                  <a:lnTo>
                    <a:pt x="721335" y="244736"/>
                  </a:lnTo>
                  <a:lnTo>
                    <a:pt x="685557" y="218301"/>
                  </a:lnTo>
                  <a:lnTo>
                    <a:pt x="648769" y="193194"/>
                  </a:lnTo>
                  <a:lnTo>
                    <a:pt x="611009" y="169450"/>
                  </a:lnTo>
                  <a:lnTo>
                    <a:pt x="572310" y="147105"/>
                  </a:lnTo>
                  <a:lnTo>
                    <a:pt x="532710" y="126194"/>
                  </a:lnTo>
                  <a:lnTo>
                    <a:pt x="492242" y="106752"/>
                  </a:lnTo>
                  <a:lnTo>
                    <a:pt x="450942" y="88815"/>
                  </a:lnTo>
                  <a:lnTo>
                    <a:pt x="408846" y="72418"/>
                  </a:lnTo>
                  <a:lnTo>
                    <a:pt x="365990" y="57597"/>
                  </a:lnTo>
                  <a:lnTo>
                    <a:pt x="322408" y="44387"/>
                  </a:lnTo>
                  <a:lnTo>
                    <a:pt x="278136" y="32823"/>
                  </a:lnTo>
                  <a:lnTo>
                    <a:pt x="233209" y="22941"/>
                  </a:lnTo>
                  <a:lnTo>
                    <a:pt x="187664" y="14777"/>
                  </a:lnTo>
                  <a:lnTo>
                    <a:pt x="141535" y="8365"/>
                  </a:lnTo>
                  <a:lnTo>
                    <a:pt x="94857" y="3741"/>
                  </a:lnTo>
                  <a:lnTo>
                    <a:pt x="47667" y="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bject 117"/>
            <p:cNvSpPr/>
            <p:nvPr/>
          </p:nvSpPr>
          <p:spPr>
            <a:xfrm>
              <a:off x="6823440" y="4716000"/>
              <a:ext cx="1112040" cy="843480"/>
            </a:xfrm>
            <a:custGeom>
              <a:avLst/>
              <a:gdLst>
                <a:gd name="textAreaLeft" fmla="*/ 0 w 1112040"/>
                <a:gd name="textAreaRight" fmla="*/ 1112400 w 111204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1112520" h="843914">
                  <a:moveTo>
                    <a:pt x="0" y="0"/>
                  </a:moveTo>
                  <a:lnTo>
                    <a:pt x="832358" y="843787"/>
                  </a:lnTo>
                  <a:lnTo>
                    <a:pt x="868649" y="806372"/>
                  </a:lnTo>
                  <a:lnTo>
                    <a:pt x="903199" y="767474"/>
                  </a:lnTo>
                  <a:lnTo>
                    <a:pt x="935968" y="727155"/>
                  </a:lnTo>
                  <a:lnTo>
                    <a:pt x="966915" y="685478"/>
                  </a:lnTo>
                  <a:lnTo>
                    <a:pt x="995997" y="642508"/>
                  </a:lnTo>
                  <a:lnTo>
                    <a:pt x="1023174" y="598308"/>
                  </a:lnTo>
                  <a:lnTo>
                    <a:pt x="1048406" y="552940"/>
                  </a:lnTo>
                  <a:lnTo>
                    <a:pt x="1071650" y="506467"/>
                  </a:lnTo>
                  <a:lnTo>
                    <a:pt x="1092865" y="458954"/>
                  </a:lnTo>
                  <a:lnTo>
                    <a:pt x="1112012" y="4104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bject 118"/>
            <p:cNvSpPr/>
            <p:nvPr/>
          </p:nvSpPr>
          <p:spPr>
            <a:xfrm>
              <a:off x="6331680" y="4716000"/>
              <a:ext cx="1323720" cy="118512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1185120"/>
                <a:gd name="textAreaBottom" fmla="*/ 1185480 h 1185120"/>
              </a:gdLst>
              <a:ahLst/>
              <a:rect l="textAreaLeft" t="textAreaTop" r="textAreaRight" b="textAreaBottom"/>
              <a:pathLst>
                <a:path w="1323975" h="1185545">
                  <a:moveTo>
                    <a:pt x="491616" y="0"/>
                  </a:moveTo>
                  <a:lnTo>
                    <a:pt x="0" y="1078522"/>
                  </a:lnTo>
                  <a:lnTo>
                    <a:pt x="44984" y="1097920"/>
                  </a:lnTo>
                  <a:lnTo>
                    <a:pt x="90441" y="1115346"/>
                  </a:lnTo>
                  <a:lnTo>
                    <a:pt x="136313" y="1130812"/>
                  </a:lnTo>
                  <a:lnTo>
                    <a:pt x="182544" y="1144325"/>
                  </a:lnTo>
                  <a:lnTo>
                    <a:pt x="229076" y="1155898"/>
                  </a:lnTo>
                  <a:lnTo>
                    <a:pt x="275853" y="1165539"/>
                  </a:lnTo>
                  <a:lnTo>
                    <a:pt x="322817" y="1173259"/>
                  </a:lnTo>
                  <a:lnTo>
                    <a:pt x="369913" y="1179069"/>
                  </a:lnTo>
                  <a:lnTo>
                    <a:pt x="417082" y="1182977"/>
                  </a:lnTo>
                  <a:lnTo>
                    <a:pt x="464269" y="1184994"/>
                  </a:lnTo>
                  <a:lnTo>
                    <a:pt x="511416" y="1185131"/>
                  </a:lnTo>
                  <a:lnTo>
                    <a:pt x="558466" y="1183397"/>
                  </a:lnTo>
                  <a:lnTo>
                    <a:pt x="605363" y="1179802"/>
                  </a:lnTo>
                  <a:lnTo>
                    <a:pt x="652049" y="1174357"/>
                  </a:lnTo>
                  <a:lnTo>
                    <a:pt x="698468" y="1167071"/>
                  </a:lnTo>
                  <a:lnTo>
                    <a:pt x="744562" y="1157955"/>
                  </a:lnTo>
                  <a:lnTo>
                    <a:pt x="790276" y="1147018"/>
                  </a:lnTo>
                  <a:lnTo>
                    <a:pt x="835551" y="1134272"/>
                  </a:lnTo>
                  <a:lnTo>
                    <a:pt x="880331" y="1119725"/>
                  </a:lnTo>
                  <a:lnTo>
                    <a:pt x="924560" y="1103388"/>
                  </a:lnTo>
                  <a:lnTo>
                    <a:pt x="968179" y="1085272"/>
                  </a:lnTo>
                  <a:lnTo>
                    <a:pt x="1011133" y="1065385"/>
                  </a:lnTo>
                  <a:lnTo>
                    <a:pt x="1053365" y="1043739"/>
                  </a:lnTo>
                  <a:lnTo>
                    <a:pt x="1094817" y="1020343"/>
                  </a:lnTo>
                  <a:lnTo>
                    <a:pt x="1135432" y="995207"/>
                  </a:lnTo>
                  <a:lnTo>
                    <a:pt x="1175155" y="968342"/>
                  </a:lnTo>
                  <a:lnTo>
                    <a:pt x="1213927" y="939757"/>
                  </a:lnTo>
                  <a:lnTo>
                    <a:pt x="1251693" y="909463"/>
                  </a:lnTo>
                  <a:lnTo>
                    <a:pt x="1288394" y="877470"/>
                  </a:lnTo>
                  <a:lnTo>
                    <a:pt x="1323975" y="843787"/>
                  </a:lnTo>
                  <a:lnTo>
                    <a:pt x="4916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bject 119"/>
            <p:cNvSpPr/>
            <p:nvPr/>
          </p:nvSpPr>
          <p:spPr>
            <a:xfrm>
              <a:off x="6009840" y="4716000"/>
              <a:ext cx="813600" cy="1078560"/>
            </a:xfrm>
            <a:custGeom>
              <a:avLst/>
              <a:gdLst>
                <a:gd name="textAreaLeft" fmla="*/ 0 w 813600"/>
                <a:gd name="textAreaRight" fmla="*/ 813960 w 813600"/>
                <a:gd name="textAreaTop" fmla="*/ 0 h 1078560"/>
                <a:gd name="textAreaBottom" fmla="*/ 1078920 h 1078560"/>
              </a:gdLst>
              <a:ahLst/>
              <a:rect l="textAreaLeft" t="textAreaTop" r="textAreaRight" b="textAreaBottom"/>
              <a:pathLst>
                <a:path w="814070" h="1078864">
                  <a:moveTo>
                    <a:pt x="813688" y="0"/>
                  </a:moveTo>
                  <a:lnTo>
                    <a:pt x="0" y="861821"/>
                  </a:lnTo>
                  <a:lnTo>
                    <a:pt x="36180" y="894609"/>
                  </a:lnTo>
                  <a:lnTo>
                    <a:pt x="73630" y="925835"/>
                  </a:lnTo>
                  <a:lnTo>
                    <a:pt x="112297" y="955466"/>
                  </a:lnTo>
                  <a:lnTo>
                    <a:pt x="152130" y="983470"/>
                  </a:lnTo>
                  <a:lnTo>
                    <a:pt x="193075" y="1009812"/>
                  </a:lnTo>
                  <a:lnTo>
                    <a:pt x="235082" y="1034459"/>
                  </a:lnTo>
                  <a:lnTo>
                    <a:pt x="278098" y="1057378"/>
                  </a:lnTo>
                  <a:lnTo>
                    <a:pt x="322072" y="1078534"/>
                  </a:lnTo>
                  <a:lnTo>
                    <a:pt x="813688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bject 120"/>
            <p:cNvSpPr/>
            <p:nvPr/>
          </p:nvSpPr>
          <p:spPr>
            <a:xfrm>
              <a:off x="5644440" y="4716000"/>
              <a:ext cx="1179000" cy="86184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179195" h="862329">
                  <a:moveTo>
                    <a:pt x="1179194" y="0"/>
                  </a:moveTo>
                  <a:lnTo>
                    <a:pt x="0" y="120014"/>
                  </a:lnTo>
                  <a:lnTo>
                    <a:pt x="6109" y="169756"/>
                  </a:lnTo>
                  <a:lnTo>
                    <a:pt x="14288" y="219030"/>
                  </a:lnTo>
                  <a:lnTo>
                    <a:pt x="24508" y="267777"/>
                  </a:lnTo>
                  <a:lnTo>
                    <a:pt x="36739" y="315938"/>
                  </a:lnTo>
                  <a:lnTo>
                    <a:pt x="50952" y="363454"/>
                  </a:lnTo>
                  <a:lnTo>
                    <a:pt x="67118" y="410266"/>
                  </a:lnTo>
                  <a:lnTo>
                    <a:pt x="85209" y="456314"/>
                  </a:lnTo>
                  <a:lnTo>
                    <a:pt x="105193" y="501541"/>
                  </a:lnTo>
                  <a:lnTo>
                    <a:pt x="127043" y="545885"/>
                  </a:lnTo>
                  <a:lnTo>
                    <a:pt x="150730" y="589290"/>
                  </a:lnTo>
                  <a:lnTo>
                    <a:pt x="176224" y="631694"/>
                  </a:lnTo>
                  <a:lnTo>
                    <a:pt x="203496" y="673040"/>
                  </a:lnTo>
                  <a:lnTo>
                    <a:pt x="232517" y="713269"/>
                  </a:lnTo>
                  <a:lnTo>
                    <a:pt x="263257" y="752320"/>
                  </a:lnTo>
                  <a:lnTo>
                    <a:pt x="295688" y="790135"/>
                  </a:lnTo>
                  <a:lnTo>
                    <a:pt x="329781" y="826655"/>
                  </a:lnTo>
                  <a:lnTo>
                    <a:pt x="365505" y="861821"/>
                  </a:lnTo>
                  <a:lnTo>
                    <a:pt x="1179194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bject 121"/>
            <p:cNvSpPr/>
            <p:nvPr/>
          </p:nvSpPr>
          <p:spPr>
            <a:xfrm>
              <a:off x="5638320" y="4385520"/>
              <a:ext cx="1185120" cy="45036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1185545" h="450850">
                  <a:moveTo>
                    <a:pt x="46758" y="0"/>
                  </a:moveTo>
                  <a:lnTo>
                    <a:pt x="33678" y="48925"/>
                  </a:lnTo>
                  <a:lnTo>
                    <a:pt x="22721" y="98290"/>
                  </a:lnTo>
                  <a:lnTo>
                    <a:pt x="13893" y="148025"/>
                  </a:lnTo>
                  <a:lnTo>
                    <a:pt x="7201" y="198061"/>
                  </a:lnTo>
                  <a:lnTo>
                    <a:pt x="2650" y="248329"/>
                  </a:lnTo>
                  <a:lnTo>
                    <a:pt x="248" y="298760"/>
                  </a:lnTo>
                  <a:lnTo>
                    <a:pt x="0" y="349285"/>
                  </a:lnTo>
                  <a:lnTo>
                    <a:pt x="1912" y="399835"/>
                  </a:lnTo>
                  <a:lnTo>
                    <a:pt x="5991" y="450342"/>
                  </a:lnTo>
                  <a:lnTo>
                    <a:pt x="1185186" y="330327"/>
                  </a:lnTo>
                  <a:lnTo>
                    <a:pt x="4675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bject 122"/>
            <p:cNvSpPr/>
            <p:nvPr/>
          </p:nvSpPr>
          <p:spPr>
            <a:xfrm>
              <a:off x="5685120" y="3530520"/>
              <a:ext cx="1138320" cy="1185120"/>
            </a:xfrm>
            <a:custGeom>
              <a:avLst/>
              <a:gdLst>
                <a:gd name="textAreaLeft" fmla="*/ 0 w 1138320"/>
                <a:gd name="textAreaRight" fmla="*/ 1138680 w 1138320"/>
                <a:gd name="textAreaTop" fmla="*/ 0 h 1185120"/>
                <a:gd name="textAreaBottom" fmla="*/ 1185480 h 1185120"/>
              </a:gdLst>
              <a:ahLst/>
              <a:rect l="textAreaLeft" t="textAreaTop" r="textAreaRight" b="textAreaBottom"/>
              <a:pathLst>
                <a:path w="1138554" h="1185545">
                  <a:moveTo>
                    <a:pt x="1138427" y="0"/>
                  </a:moveTo>
                  <a:lnTo>
                    <a:pt x="1089174" y="1015"/>
                  </a:lnTo>
                  <a:lnTo>
                    <a:pt x="1040339" y="4038"/>
                  </a:lnTo>
                  <a:lnTo>
                    <a:pt x="991968" y="9034"/>
                  </a:lnTo>
                  <a:lnTo>
                    <a:pt x="944107" y="15968"/>
                  </a:lnTo>
                  <a:lnTo>
                    <a:pt x="896804" y="24805"/>
                  </a:lnTo>
                  <a:lnTo>
                    <a:pt x="850104" y="35510"/>
                  </a:lnTo>
                  <a:lnTo>
                    <a:pt x="804054" y="48048"/>
                  </a:lnTo>
                  <a:lnTo>
                    <a:pt x="758701" y="62384"/>
                  </a:lnTo>
                  <a:lnTo>
                    <a:pt x="714091" y="78484"/>
                  </a:lnTo>
                  <a:lnTo>
                    <a:pt x="670271" y="96311"/>
                  </a:lnTo>
                  <a:lnTo>
                    <a:pt x="627286" y="115833"/>
                  </a:lnTo>
                  <a:lnTo>
                    <a:pt x="585184" y="137012"/>
                  </a:lnTo>
                  <a:lnTo>
                    <a:pt x="544011" y="159815"/>
                  </a:lnTo>
                  <a:lnTo>
                    <a:pt x="503813" y="184207"/>
                  </a:lnTo>
                  <a:lnTo>
                    <a:pt x="464637" y="210152"/>
                  </a:lnTo>
                  <a:lnTo>
                    <a:pt x="426529" y="237617"/>
                  </a:lnTo>
                  <a:lnTo>
                    <a:pt x="389536" y="266564"/>
                  </a:lnTo>
                  <a:lnTo>
                    <a:pt x="353704" y="296961"/>
                  </a:lnTo>
                  <a:lnTo>
                    <a:pt x="319080" y="328772"/>
                  </a:lnTo>
                  <a:lnTo>
                    <a:pt x="285709" y="361962"/>
                  </a:lnTo>
                  <a:lnTo>
                    <a:pt x="253640" y="396496"/>
                  </a:lnTo>
                  <a:lnTo>
                    <a:pt x="222917" y="432339"/>
                  </a:lnTo>
                  <a:lnTo>
                    <a:pt x="193588" y="469456"/>
                  </a:lnTo>
                  <a:lnTo>
                    <a:pt x="165699" y="507813"/>
                  </a:lnTo>
                  <a:lnTo>
                    <a:pt x="139296" y="547374"/>
                  </a:lnTo>
                  <a:lnTo>
                    <a:pt x="114426" y="588105"/>
                  </a:lnTo>
                  <a:lnTo>
                    <a:pt x="91136" y="629970"/>
                  </a:lnTo>
                  <a:lnTo>
                    <a:pt x="69471" y="672934"/>
                  </a:lnTo>
                  <a:lnTo>
                    <a:pt x="49479" y="716964"/>
                  </a:lnTo>
                  <a:lnTo>
                    <a:pt x="31205" y="762023"/>
                  </a:lnTo>
                  <a:lnTo>
                    <a:pt x="14696" y="808077"/>
                  </a:lnTo>
                  <a:lnTo>
                    <a:pt x="0" y="855090"/>
                  </a:lnTo>
                  <a:lnTo>
                    <a:pt x="1138427" y="1185418"/>
                  </a:lnTo>
                  <a:lnTo>
                    <a:pt x="1138427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object 123"/>
          <p:cNvSpPr/>
          <p:nvPr/>
        </p:nvSpPr>
        <p:spPr>
          <a:xfrm>
            <a:off x="7233120" y="4241160"/>
            <a:ext cx="628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НП;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30,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bject 131"/>
          <p:cNvSpPr/>
          <p:nvPr/>
        </p:nvSpPr>
        <p:spPr>
          <a:xfrm>
            <a:off x="8479440" y="6464880"/>
            <a:ext cx="1659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ts val="1239"/>
              </a:lnSpc>
            </a:pPr>
            <a:fld id="{CA3D702F-8DBF-4550-92C1-76DFAE1BA2EF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124"/>
          <p:cNvSpPr/>
          <p:nvPr/>
        </p:nvSpPr>
        <p:spPr>
          <a:xfrm>
            <a:off x="7824960" y="5355720"/>
            <a:ext cx="702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224280" indent="-21204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омпаунды;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7,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ject 125"/>
          <p:cNvSpPr/>
          <p:nvPr/>
        </p:nvSpPr>
        <p:spPr>
          <a:xfrm>
            <a:off x="6756120" y="5470200"/>
            <a:ext cx="4600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к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640">
              <a:lnSpc>
                <a:spcPct val="100000"/>
              </a:lnSpc>
              <a:spcBef>
                <a:spcPts val="2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9,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ject 126"/>
          <p:cNvSpPr/>
          <p:nvPr/>
        </p:nvSpPr>
        <p:spPr>
          <a:xfrm>
            <a:off x="5413680" y="5698440"/>
            <a:ext cx="735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чее;</a:t>
            </a:r>
            <a:r>
              <a:rPr b="1" lang="en-US" sz="10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5,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bject 127"/>
          <p:cNvSpPr/>
          <p:nvPr/>
        </p:nvSpPr>
        <p:spPr>
          <a:xfrm>
            <a:off x="5680080" y="4497840"/>
            <a:ext cx="7509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0" anchor="t">
            <a:spAutoFit/>
          </a:bodyPr>
          <a:p>
            <a:pPr marL="12600">
              <a:lnSpc>
                <a:spcPct val="100000"/>
              </a:lnSpc>
              <a:spcBef>
                <a:spcPts val="700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ы;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6,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9200" indent="-720" algn="ctr">
              <a:lnSpc>
                <a:spcPct val="102000"/>
              </a:lnSpc>
              <a:spcBef>
                <a:spcPts val="575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нетканные материалы;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1,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ject 128"/>
          <p:cNvSpPr/>
          <p:nvPr/>
        </p:nvSpPr>
        <p:spPr>
          <a:xfrm>
            <a:off x="5956200" y="3945600"/>
            <a:ext cx="685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25920" indent="-1404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очнна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нить;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0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bject 129"/>
          <p:cNvSpPr/>
          <p:nvPr/>
        </p:nvSpPr>
        <p:spPr>
          <a:xfrm>
            <a:off x="5155920" y="3053880"/>
            <a:ext cx="37044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30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bject 130"/>
          <p:cNvSpPr/>
          <p:nvPr/>
        </p:nvSpPr>
        <p:spPr>
          <a:xfrm>
            <a:off x="5272200" y="1020960"/>
            <a:ext cx="35499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1600" indent="-27936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липропилен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2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дние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1200" spc="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л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росло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440"/>
                <a:tab algn="l" pos="290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1" lang="en-US" sz="12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щутимо</a:t>
            </a:r>
            <a:r>
              <a:rPr b="1" lang="en-US" sz="12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стет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пр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ополимеры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пил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303920" y="153000"/>
            <a:ext cx="38012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стирол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691" name="object 3"/>
          <p:cNvGrpSpPr/>
          <p:nvPr/>
        </p:nvGrpSpPr>
        <p:grpSpPr>
          <a:xfrm>
            <a:off x="958680" y="1171800"/>
            <a:ext cx="3413880" cy="2059200"/>
            <a:chOff x="958680" y="1171800"/>
            <a:chExt cx="3413880" cy="2059200"/>
          </a:xfrm>
        </p:grpSpPr>
        <p:sp>
          <p:nvSpPr>
            <p:cNvPr id="692" name="object 4"/>
            <p:cNvSpPr/>
            <p:nvPr/>
          </p:nvSpPr>
          <p:spPr>
            <a:xfrm>
              <a:off x="998280" y="2545200"/>
              <a:ext cx="103680" cy="3427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04140" h="342900">
                  <a:moveTo>
                    <a:pt x="0" y="342900"/>
                  </a:moveTo>
                  <a:lnTo>
                    <a:pt x="103632" y="342900"/>
                  </a:lnTo>
                </a:path>
                <a:path w="104140" h="342900">
                  <a:moveTo>
                    <a:pt x="0" y="0"/>
                  </a:moveTo>
                  <a:lnTo>
                    <a:pt x="1036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bject 5"/>
            <p:cNvSpPr/>
            <p:nvPr/>
          </p:nvSpPr>
          <p:spPr>
            <a:xfrm>
              <a:off x="1101960" y="2253960"/>
              <a:ext cx="136800" cy="9770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77040"/>
                <a:gd name="textAreaBottom" fmla="*/ 977400 h 977040"/>
              </a:gdLst>
              <a:ahLst/>
              <a:rect l="textAreaLeft" t="textAreaTop" r="textAreaRight" b="textAreaBottom"/>
              <a:pathLst>
                <a:path w="137159" h="977264">
                  <a:moveTo>
                    <a:pt x="137159" y="0"/>
                  </a:moveTo>
                  <a:lnTo>
                    <a:pt x="0" y="0"/>
                  </a:lnTo>
                  <a:lnTo>
                    <a:pt x="0" y="976883"/>
                  </a:lnTo>
                  <a:lnTo>
                    <a:pt x="137159" y="976883"/>
                  </a:lnTo>
                  <a:lnTo>
                    <a:pt x="13715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bject 6"/>
            <p:cNvSpPr/>
            <p:nvPr/>
          </p:nvSpPr>
          <p:spPr>
            <a:xfrm>
              <a:off x="1377720" y="2202120"/>
              <a:ext cx="205560" cy="6854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5740" h="685800">
                  <a:moveTo>
                    <a:pt x="0" y="685800"/>
                  </a:moveTo>
                  <a:lnTo>
                    <a:pt x="205740" y="685800"/>
                  </a:lnTo>
                </a:path>
                <a:path w="205740" h="685800">
                  <a:moveTo>
                    <a:pt x="0" y="342900"/>
                  </a:moveTo>
                  <a:lnTo>
                    <a:pt x="205740" y="342900"/>
                  </a:lnTo>
                </a:path>
                <a:path w="205740" h="685800">
                  <a:moveTo>
                    <a:pt x="0" y="0"/>
                  </a:moveTo>
                  <a:lnTo>
                    <a:pt x="2057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bject 7"/>
            <p:cNvSpPr/>
            <p:nvPr/>
          </p:nvSpPr>
          <p:spPr>
            <a:xfrm>
              <a:off x="1583280" y="2145960"/>
              <a:ext cx="138600" cy="10846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084680"/>
                <a:gd name="textAreaBottom" fmla="*/ 1085040 h 1084680"/>
              </a:gdLst>
              <a:ahLst/>
              <a:rect l="textAreaLeft" t="textAreaTop" r="textAreaRight" b="textAreaBottom"/>
              <a:pathLst>
                <a:path w="139064" h="1085214">
                  <a:moveTo>
                    <a:pt x="138683" y="0"/>
                  </a:moveTo>
                  <a:lnTo>
                    <a:pt x="0" y="0"/>
                  </a:lnTo>
                  <a:lnTo>
                    <a:pt x="0" y="1085088"/>
                  </a:lnTo>
                  <a:lnTo>
                    <a:pt x="138683" y="1085088"/>
                  </a:lnTo>
                  <a:lnTo>
                    <a:pt x="13868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bject 8"/>
            <p:cNvSpPr/>
            <p:nvPr/>
          </p:nvSpPr>
          <p:spPr>
            <a:xfrm>
              <a:off x="998280" y="1859400"/>
              <a:ext cx="723600" cy="34272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23900" h="342900">
                  <a:moveTo>
                    <a:pt x="0" y="342900"/>
                  </a:moveTo>
                  <a:lnTo>
                    <a:pt x="240792" y="342900"/>
                  </a:lnTo>
                </a:path>
                <a:path w="723900" h="342900">
                  <a:moveTo>
                    <a:pt x="0" y="0"/>
                  </a:moveTo>
                  <a:lnTo>
                    <a:pt x="240792" y="0"/>
                  </a:lnTo>
                </a:path>
                <a:path w="723900" h="342900">
                  <a:moveTo>
                    <a:pt x="379476" y="0"/>
                  </a:moveTo>
                  <a:lnTo>
                    <a:pt x="72390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bject 9"/>
            <p:cNvSpPr/>
            <p:nvPr/>
          </p:nvSpPr>
          <p:spPr>
            <a:xfrm>
              <a:off x="1239120" y="1647360"/>
              <a:ext cx="138600" cy="15832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583280"/>
                <a:gd name="textAreaBottom" fmla="*/ 1583640 h 1583280"/>
              </a:gdLst>
              <a:ahLst/>
              <a:rect l="textAreaLeft" t="textAreaTop" r="textAreaRight" b="textAreaBottom"/>
              <a:pathLst>
                <a:path w="139065" h="1583689">
                  <a:moveTo>
                    <a:pt x="138684" y="0"/>
                  </a:moveTo>
                  <a:lnTo>
                    <a:pt x="0" y="0"/>
                  </a:lnTo>
                  <a:lnTo>
                    <a:pt x="0" y="1583435"/>
                  </a:lnTo>
                  <a:lnTo>
                    <a:pt x="138684" y="1583435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bject 10"/>
            <p:cNvSpPr/>
            <p:nvPr/>
          </p:nvSpPr>
          <p:spPr>
            <a:xfrm>
              <a:off x="1859400" y="2202120"/>
              <a:ext cx="205560" cy="6854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5739" h="685800">
                  <a:moveTo>
                    <a:pt x="0" y="685800"/>
                  </a:moveTo>
                  <a:lnTo>
                    <a:pt x="205739" y="685800"/>
                  </a:lnTo>
                </a:path>
                <a:path w="205739" h="685800">
                  <a:moveTo>
                    <a:pt x="0" y="342900"/>
                  </a:moveTo>
                  <a:lnTo>
                    <a:pt x="205739" y="342900"/>
                  </a:lnTo>
                </a:path>
                <a:path w="205739" h="685800">
                  <a:moveTo>
                    <a:pt x="0" y="0"/>
                  </a:moveTo>
                  <a:lnTo>
                    <a:pt x="2057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bject 11"/>
            <p:cNvSpPr/>
            <p:nvPr/>
          </p:nvSpPr>
          <p:spPr>
            <a:xfrm>
              <a:off x="2064960" y="2040480"/>
              <a:ext cx="138600" cy="11901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90160"/>
                <a:gd name="textAreaBottom" fmla="*/ 1190520 h 1190160"/>
              </a:gdLst>
              <a:ahLst/>
              <a:rect l="textAreaLeft" t="textAreaTop" r="textAreaRight" b="textAreaBottom"/>
              <a:pathLst>
                <a:path w="139064" h="1190625">
                  <a:moveTo>
                    <a:pt x="138684" y="0"/>
                  </a:moveTo>
                  <a:lnTo>
                    <a:pt x="0" y="0"/>
                  </a:lnTo>
                  <a:lnTo>
                    <a:pt x="0" y="1190243"/>
                  </a:lnTo>
                  <a:lnTo>
                    <a:pt x="138684" y="1190243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bject 12"/>
            <p:cNvSpPr/>
            <p:nvPr/>
          </p:nvSpPr>
          <p:spPr>
            <a:xfrm>
              <a:off x="1859400" y="1859400"/>
              <a:ext cx="344520" cy="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4805" h="0">
                  <a:moveTo>
                    <a:pt x="0" y="0"/>
                  </a:moveTo>
                  <a:lnTo>
                    <a:pt x="3444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bject 13"/>
            <p:cNvSpPr/>
            <p:nvPr/>
          </p:nvSpPr>
          <p:spPr>
            <a:xfrm>
              <a:off x="998280" y="1512720"/>
              <a:ext cx="1205640" cy="4680"/>
            </a:xfrm>
            <a:custGeom>
              <a:avLst/>
              <a:gdLst>
                <a:gd name="textAreaLeft" fmla="*/ 0 w 1205640"/>
                <a:gd name="textAreaRight" fmla="*/ 1206000 w 1205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205864" h="5080">
                  <a:moveTo>
                    <a:pt x="0" y="4572"/>
                  </a:moveTo>
                  <a:lnTo>
                    <a:pt x="1205484" y="4572"/>
                  </a:lnTo>
                </a:path>
                <a:path w="1205864" h="5080">
                  <a:moveTo>
                    <a:pt x="0" y="0"/>
                  </a:moveTo>
                  <a:lnTo>
                    <a:pt x="120548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bject 14"/>
            <p:cNvSpPr/>
            <p:nvPr/>
          </p:nvSpPr>
          <p:spPr>
            <a:xfrm>
              <a:off x="1722240" y="1514880"/>
              <a:ext cx="136800" cy="17161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137160" h="1716405">
                  <a:moveTo>
                    <a:pt x="137160" y="0"/>
                  </a:moveTo>
                  <a:lnTo>
                    <a:pt x="0" y="0"/>
                  </a:lnTo>
                  <a:lnTo>
                    <a:pt x="0" y="1716024"/>
                  </a:lnTo>
                  <a:lnTo>
                    <a:pt x="137160" y="1716024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bject 15"/>
            <p:cNvSpPr/>
            <p:nvPr/>
          </p:nvSpPr>
          <p:spPr>
            <a:xfrm>
              <a:off x="2340720" y="1859400"/>
              <a:ext cx="207360" cy="102852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07644" h="1028700">
                  <a:moveTo>
                    <a:pt x="0" y="1028700"/>
                  </a:moveTo>
                  <a:lnTo>
                    <a:pt x="207263" y="1028700"/>
                  </a:lnTo>
                </a:path>
                <a:path w="207644" h="1028700">
                  <a:moveTo>
                    <a:pt x="0" y="685800"/>
                  </a:moveTo>
                  <a:lnTo>
                    <a:pt x="207263" y="685800"/>
                  </a:lnTo>
                </a:path>
                <a:path w="207644" h="1028700">
                  <a:moveTo>
                    <a:pt x="0" y="342900"/>
                  </a:moveTo>
                  <a:lnTo>
                    <a:pt x="207263" y="342900"/>
                  </a:lnTo>
                </a:path>
                <a:path w="207644" h="1028700">
                  <a:moveTo>
                    <a:pt x="0" y="0"/>
                  </a:moveTo>
                  <a:lnTo>
                    <a:pt x="2072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bject 16"/>
            <p:cNvSpPr/>
            <p:nvPr/>
          </p:nvSpPr>
          <p:spPr>
            <a:xfrm>
              <a:off x="2548080" y="1714680"/>
              <a:ext cx="136800" cy="1515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137160" h="1516380">
                  <a:moveTo>
                    <a:pt x="137160" y="0"/>
                  </a:moveTo>
                  <a:lnTo>
                    <a:pt x="0" y="0"/>
                  </a:lnTo>
                  <a:lnTo>
                    <a:pt x="0" y="1516379"/>
                  </a:lnTo>
                  <a:lnTo>
                    <a:pt x="137160" y="1516379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bject 17"/>
            <p:cNvSpPr/>
            <p:nvPr/>
          </p:nvSpPr>
          <p:spPr>
            <a:xfrm>
              <a:off x="2340720" y="1512720"/>
              <a:ext cx="344520" cy="46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4805" h="5080">
                  <a:moveTo>
                    <a:pt x="0" y="4572"/>
                  </a:moveTo>
                  <a:lnTo>
                    <a:pt x="344424" y="4572"/>
                  </a:lnTo>
                </a:path>
                <a:path w="344805" h="5080">
                  <a:moveTo>
                    <a:pt x="0" y="0"/>
                  </a:moveTo>
                  <a:lnTo>
                    <a:pt x="34442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bject 18"/>
            <p:cNvSpPr/>
            <p:nvPr/>
          </p:nvSpPr>
          <p:spPr>
            <a:xfrm>
              <a:off x="2203560" y="1424880"/>
              <a:ext cx="136800" cy="1805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805400"/>
                <a:gd name="textAreaBottom" fmla="*/ 1805760 h 1805400"/>
              </a:gdLst>
              <a:ahLst/>
              <a:rect l="textAreaLeft" t="textAreaTop" r="textAreaRight" b="textAreaBottom"/>
              <a:pathLst>
                <a:path w="137160" h="1805939">
                  <a:moveTo>
                    <a:pt x="137159" y="0"/>
                  </a:moveTo>
                  <a:lnTo>
                    <a:pt x="0" y="0"/>
                  </a:lnTo>
                  <a:lnTo>
                    <a:pt x="0" y="1805939"/>
                  </a:lnTo>
                  <a:lnTo>
                    <a:pt x="137159" y="1805939"/>
                  </a:lnTo>
                  <a:lnTo>
                    <a:pt x="13715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bject 19"/>
            <p:cNvSpPr/>
            <p:nvPr/>
          </p:nvSpPr>
          <p:spPr>
            <a:xfrm>
              <a:off x="2823840" y="1859400"/>
              <a:ext cx="205560" cy="10285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05739" h="1028700">
                  <a:moveTo>
                    <a:pt x="0" y="1028700"/>
                  </a:moveTo>
                  <a:lnTo>
                    <a:pt x="205739" y="1028700"/>
                  </a:lnTo>
                </a:path>
                <a:path w="205739" h="1028700">
                  <a:moveTo>
                    <a:pt x="0" y="685800"/>
                  </a:moveTo>
                  <a:lnTo>
                    <a:pt x="205739" y="685800"/>
                  </a:lnTo>
                </a:path>
                <a:path w="205739" h="1028700">
                  <a:moveTo>
                    <a:pt x="0" y="342900"/>
                  </a:moveTo>
                  <a:lnTo>
                    <a:pt x="205739" y="342900"/>
                  </a:lnTo>
                </a:path>
                <a:path w="205739" h="1028700">
                  <a:moveTo>
                    <a:pt x="0" y="0"/>
                  </a:moveTo>
                  <a:lnTo>
                    <a:pt x="2057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bject 20"/>
            <p:cNvSpPr/>
            <p:nvPr/>
          </p:nvSpPr>
          <p:spPr>
            <a:xfrm>
              <a:off x="2823840" y="1512720"/>
              <a:ext cx="205560" cy="4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5739" h="5080">
                  <a:moveTo>
                    <a:pt x="0" y="4572"/>
                  </a:moveTo>
                  <a:lnTo>
                    <a:pt x="205739" y="4572"/>
                  </a:lnTo>
                </a:path>
                <a:path w="205739" h="5080">
                  <a:moveTo>
                    <a:pt x="0" y="0"/>
                  </a:moveTo>
                  <a:lnTo>
                    <a:pt x="205739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bject 21"/>
            <p:cNvSpPr/>
            <p:nvPr/>
          </p:nvSpPr>
          <p:spPr>
            <a:xfrm>
              <a:off x="3029760" y="1479960"/>
              <a:ext cx="136800" cy="17510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137160" h="1751330">
                  <a:moveTo>
                    <a:pt x="137160" y="0"/>
                  </a:moveTo>
                  <a:lnTo>
                    <a:pt x="0" y="0"/>
                  </a:lnTo>
                  <a:lnTo>
                    <a:pt x="0" y="1751076"/>
                  </a:lnTo>
                  <a:lnTo>
                    <a:pt x="137160" y="1751076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bject 22"/>
            <p:cNvSpPr/>
            <p:nvPr/>
          </p:nvSpPr>
          <p:spPr>
            <a:xfrm>
              <a:off x="2685240" y="1298520"/>
              <a:ext cx="138600" cy="1932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932480"/>
                <a:gd name="textAreaBottom" fmla="*/ 1932840 h 1932480"/>
              </a:gdLst>
              <a:ahLst/>
              <a:rect l="textAreaLeft" t="textAreaTop" r="textAreaRight" b="textAreaBottom"/>
              <a:pathLst>
                <a:path w="139064" h="1932939">
                  <a:moveTo>
                    <a:pt x="138684" y="0"/>
                  </a:moveTo>
                  <a:lnTo>
                    <a:pt x="0" y="0"/>
                  </a:lnTo>
                  <a:lnTo>
                    <a:pt x="0" y="1932431"/>
                  </a:lnTo>
                  <a:lnTo>
                    <a:pt x="138684" y="1932431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bject 23"/>
            <p:cNvSpPr/>
            <p:nvPr/>
          </p:nvSpPr>
          <p:spPr>
            <a:xfrm>
              <a:off x="3305520" y="1514880"/>
              <a:ext cx="205560" cy="13730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205739" h="1373505">
                  <a:moveTo>
                    <a:pt x="0" y="1373124"/>
                  </a:moveTo>
                  <a:lnTo>
                    <a:pt x="205740" y="1373124"/>
                  </a:lnTo>
                </a:path>
                <a:path w="205739" h="1373505">
                  <a:moveTo>
                    <a:pt x="0" y="1030224"/>
                  </a:moveTo>
                  <a:lnTo>
                    <a:pt x="205740" y="1030224"/>
                  </a:lnTo>
                </a:path>
                <a:path w="205739" h="1373505">
                  <a:moveTo>
                    <a:pt x="0" y="687324"/>
                  </a:moveTo>
                  <a:lnTo>
                    <a:pt x="205740" y="687324"/>
                  </a:lnTo>
                </a:path>
                <a:path w="205739" h="1373505">
                  <a:moveTo>
                    <a:pt x="0" y="344424"/>
                  </a:moveTo>
                  <a:lnTo>
                    <a:pt x="205740" y="344424"/>
                  </a:lnTo>
                </a:path>
                <a:path w="205739" h="1373505">
                  <a:moveTo>
                    <a:pt x="0" y="0"/>
                  </a:moveTo>
                  <a:lnTo>
                    <a:pt x="2057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bject 24"/>
            <p:cNvSpPr/>
            <p:nvPr/>
          </p:nvSpPr>
          <p:spPr>
            <a:xfrm>
              <a:off x="3511440" y="1501200"/>
              <a:ext cx="138600" cy="17294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729440"/>
                <a:gd name="textAreaBottom" fmla="*/ 1729800 h 1729440"/>
              </a:gdLst>
              <a:ahLst/>
              <a:rect l="textAreaLeft" t="textAreaTop" r="textAreaRight" b="textAreaBottom"/>
              <a:pathLst>
                <a:path w="139064" h="1729739">
                  <a:moveTo>
                    <a:pt x="138683" y="0"/>
                  </a:moveTo>
                  <a:lnTo>
                    <a:pt x="0" y="0"/>
                  </a:lnTo>
                  <a:lnTo>
                    <a:pt x="0" y="1729739"/>
                  </a:lnTo>
                  <a:lnTo>
                    <a:pt x="138683" y="1729739"/>
                  </a:lnTo>
                  <a:lnTo>
                    <a:pt x="13868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bject 25"/>
            <p:cNvSpPr/>
            <p:nvPr/>
          </p:nvSpPr>
          <p:spPr>
            <a:xfrm>
              <a:off x="3166920" y="1328760"/>
              <a:ext cx="138600" cy="19022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902240"/>
                <a:gd name="textAreaBottom" fmla="*/ 1902600 h 1902240"/>
              </a:gdLst>
              <a:ahLst/>
              <a:rect l="textAreaLeft" t="textAreaTop" r="textAreaRight" b="textAreaBottom"/>
              <a:pathLst>
                <a:path w="139064" h="1902460">
                  <a:moveTo>
                    <a:pt x="138683" y="0"/>
                  </a:moveTo>
                  <a:lnTo>
                    <a:pt x="0" y="0"/>
                  </a:lnTo>
                  <a:lnTo>
                    <a:pt x="0" y="1901952"/>
                  </a:lnTo>
                  <a:lnTo>
                    <a:pt x="138683" y="1901952"/>
                  </a:lnTo>
                  <a:lnTo>
                    <a:pt x="13868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bject 26"/>
            <p:cNvSpPr/>
            <p:nvPr/>
          </p:nvSpPr>
          <p:spPr>
            <a:xfrm>
              <a:off x="3787200" y="1514880"/>
              <a:ext cx="207360" cy="13730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207645" h="1373505">
                  <a:moveTo>
                    <a:pt x="0" y="1373124"/>
                  </a:moveTo>
                  <a:lnTo>
                    <a:pt x="207263" y="1373124"/>
                  </a:lnTo>
                </a:path>
                <a:path w="207645" h="1373505">
                  <a:moveTo>
                    <a:pt x="0" y="1030224"/>
                  </a:moveTo>
                  <a:lnTo>
                    <a:pt x="207263" y="1030224"/>
                  </a:lnTo>
                </a:path>
                <a:path w="207645" h="1373505">
                  <a:moveTo>
                    <a:pt x="0" y="687324"/>
                  </a:moveTo>
                  <a:lnTo>
                    <a:pt x="207263" y="687324"/>
                  </a:lnTo>
                </a:path>
                <a:path w="207645" h="1373505">
                  <a:moveTo>
                    <a:pt x="0" y="344424"/>
                  </a:moveTo>
                  <a:lnTo>
                    <a:pt x="207263" y="344424"/>
                  </a:lnTo>
                </a:path>
                <a:path w="207645" h="1373505">
                  <a:moveTo>
                    <a:pt x="0" y="0"/>
                  </a:moveTo>
                  <a:lnTo>
                    <a:pt x="2072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bject 27"/>
            <p:cNvSpPr/>
            <p:nvPr/>
          </p:nvSpPr>
          <p:spPr>
            <a:xfrm>
              <a:off x="3994560" y="1496520"/>
              <a:ext cx="136800" cy="1734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137160" h="1734820">
                  <a:moveTo>
                    <a:pt x="137160" y="0"/>
                  </a:moveTo>
                  <a:lnTo>
                    <a:pt x="0" y="0"/>
                  </a:lnTo>
                  <a:lnTo>
                    <a:pt x="0" y="1734312"/>
                  </a:lnTo>
                  <a:lnTo>
                    <a:pt x="137160" y="1734312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bject 28"/>
            <p:cNvSpPr/>
            <p:nvPr/>
          </p:nvSpPr>
          <p:spPr>
            <a:xfrm>
              <a:off x="3650040" y="1464480"/>
              <a:ext cx="136800" cy="1766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66160"/>
                <a:gd name="textAreaBottom" fmla="*/ 1766520 h 1766160"/>
              </a:gdLst>
              <a:ahLst/>
              <a:rect l="textAreaLeft" t="textAreaTop" r="textAreaRight" b="textAreaBottom"/>
              <a:pathLst>
                <a:path w="137160" h="1766570">
                  <a:moveTo>
                    <a:pt x="137160" y="0"/>
                  </a:moveTo>
                  <a:lnTo>
                    <a:pt x="0" y="0"/>
                  </a:lnTo>
                  <a:lnTo>
                    <a:pt x="0" y="1766315"/>
                  </a:lnTo>
                  <a:lnTo>
                    <a:pt x="137160" y="1766315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bject 29"/>
            <p:cNvSpPr/>
            <p:nvPr/>
          </p:nvSpPr>
          <p:spPr>
            <a:xfrm>
              <a:off x="4268880" y="1514880"/>
              <a:ext cx="103680" cy="1373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104139" h="1373505">
                  <a:moveTo>
                    <a:pt x="0" y="1373124"/>
                  </a:moveTo>
                  <a:lnTo>
                    <a:pt x="103631" y="1373124"/>
                  </a:lnTo>
                </a:path>
                <a:path w="104139" h="1373505">
                  <a:moveTo>
                    <a:pt x="0" y="1030224"/>
                  </a:moveTo>
                  <a:lnTo>
                    <a:pt x="103631" y="1030224"/>
                  </a:lnTo>
                </a:path>
                <a:path w="104139" h="1373505">
                  <a:moveTo>
                    <a:pt x="0" y="687324"/>
                  </a:moveTo>
                  <a:lnTo>
                    <a:pt x="103631" y="687324"/>
                  </a:lnTo>
                </a:path>
                <a:path w="104139" h="1373505">
                  <a:moveTo>
                    <a:pt x="0" y="344424"/>
                  </a:moveTo>
                  <a:lnTo>
                    <a:pt x="103631" y="344424"/>
                  </a:lnTo>
                </a:path>
                <a:path w="104139" h="1373505">
                  <a:moveTo>
                    <a:pt x="0" y="0"/>
                  </a:moveTo>
                  <a:lnTo>
                    <a:pt x="10363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bject 30"/>
            <p:cNvSpPr/>
            <p:nvPr/>
          </p:nvSpPr>
          <p:spPr>
            <a:xfrm>
              <a:off x="4131720" y="1482840"/>
              <a:ext cx="136800" cy="1747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47800"/>
                <a:gd name="textAreaBottom" fmla="*/ 1748160 h 1747800"/>
              </a:gdLst>
              <a:ahLst/>
              <a:rect l="textAreaLeft" t="textAreaTop" r="textAreaRight" b="textAreaBottom"/>
              <a:pathLst>
                <a:path w="137160" h="1748155">
                  <a:moveTo>
                    <a:pt x="137160" y="0"/>
                  </a:moveTo>
                  <a:lnTo>
                    <a:pt x="0" y="0"/>
                  </a:lnTo>
                  <a:lnTo>
                    <a:pt x="0" y="1748027"/>
                  </a:lnTo>
                  <a:lnTo>
                    <a:pt x="137160" y="1748027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bject 31"/>
            <p:cNvSpPr/>
            <p:nvPr/>
          </p:nvSpPr>
          <p:spPr>
            <a:xfrm>
              <a:off x="958680" y="1171800"/>
              <a:ext cx="3413520" cy="2058840"/>
            </a:xfrm>
            <a:custGeom>
              <a:avLst/>
              <a:gdLst>
                <a:gd name="textAreaLeft" fmla="*/ 0 w 3413520"/>
                <a:gd name="textAreaRight" fmla="*/ 3413880 w 3413520"/>
                <a:gd name="textAreaTop" fmla="*/ 0 h 2058840"/>
                <a:gd name="textAreaBottom" fmla="*/ 2059200 h 2058840"/>
              </a:gdLst>
              <a:ahLst/>
              <a:rect l="textAreaLeft" t="textAreaTop" r="textAreaRight" b="textAreaBottom"/>
              <a:pathLst>
                <a:path w="3413760" h="2059305">
                  <a:moveTo>
                    <a:pt x="39623" y="0"/>
                  </a:moveTo>
                  <a:lnTo>
                    <a:pt x="3413759" y="0"/>
                  </a:lnTo>
                </a:path>
                <a:path w="3413760" h="2059305">
                  <a:moveTo>
                    <a:pt x="39623" y="2058924"/>
                  </a:moveTo>
                  <a:lnTo>
                    <a:pt x="39623" y="0"/>
                  </a:lnTo>
                </a:path>
                <a:path w="3413760" h="2059305">
                  <a:moveTo>
                    <a:pt x="0" y="2058924"/>
                  </a:moveTo>
                  <a:lnTo>
                    <a:pt x="39623" y="2058924"/>
                  </a:lnTo>
                </a:path>
                <a:path w="3413760" h="2059305">
                  <a:moveTo>
                    <a:pt x="0" y="1716024"/>
                  </a:moveTo>
                  <a:lnTo>
                    <a:pt x="39623" y="1716024"/>
                  </a:lnTo>
                </a:path>
                <a:path w="3413760" h="2059305">
                  <a:moveTo>
                    <a:pt x="0" y="1373124"/>
                  </a:moveTo>
                  <a:lnTo>
                    <a:pt x="39623" y="1373124"/>
                  </a:lnTo>
                </a:path>
                <a:path w="3413760" h="2059305">
                  <a:moveTo>
                    <a:pt x="0" y="1030224"/>
                  </a:moveTo>
                  <a:lnTo>
                    <a:pt x="39623" y="1030224"/>
                  </a:lnTo>
                </a:path>
                <a:path w="3413760" h="2059305">
                  <a:moveTo>
                    <a:pt x="0" y="687324"/>
                  </a:moveTo>
                  <a:lnTo>
                    <a:pt x="39623" y="687324"/>
                  </a:lnTo>
                </a:path>
                <a:path w="3413760" h="2059305">
                  <a:moveTo>
                    <a:pt x="0" y="342900"/>
                  </a:moveTo>
                  <a:lnTo>
                    <a:pt x="39623" y="342900"/>
                  </a:lnTo>
                </a:path>
                <a:path w="3413760" h="2059305">
                  <a:moveTo>
                    <a:pt x="0" y="0"/>
                  </a:moveTo>
                  <a:lnTo>
                    <a:pt x="39623" y="0"/>
                  </a:lnTo>
                </a:path>
                <a:path w="3413760" h="2059305">
                  <a:moveTo>
                    <a:pt x="39623" y="2058924"/>
                  </a:moveTo>
                  <a:lnTo>
                    <a:pt x="3413759" y="205892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bject 32"/>
            <p:cNvSpPr/>
            <p:nvPr/>
          </p:nvSpPr>
          <p:spPr>
            <a:xfrm>
              <a:off x="1239840" y="2402640"/>
              <a:ext cx="2890800" cy="4176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891154" h="417830">
                  <a:moveTo>
                    <a:pt x="0" y="102108"/>
                  </a:moveTo>
                  <a:lnTo>
                    <a:pt x="481583" y="88391"/>
                  </a:lnTo>
                  <a:lnTo>
                    <a:pt x="963168" y="0"/>
                  </a:lnTo>
                  <a:lnTo>
                    <a:pt x="1446276" y="102108"/>
                  </a:lnTo>
                  <a:lnTo>
                    <a:pt x="1927859" y="210312"/>
                  </a:lnTo>
                  <a:lnTo>
                    <a:pt x="2409443" y="417575"/>
                  </a:lnTo>
                  <a:lnTo>
                    <a:pt x="2891028" y="381000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1" name="object 33" descr=""/>
            <p:cNvPicPr/>
            <p:nvPr/>
          </p:nvPicPr>
          <p:blipFill>
            <a:blip r:embed="rId1"/>
            <a:stretch/>
          </p:blipFill>
          <p:spPr>
            <a:xfrm>
              <a:off x="1189440" y="24562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object 34" descr=""/>
            <p:cNvPicPr/>
            <p:nvPr/>
          </p:nvPicPr>
          <p:blipFill>
            <a:blip r:embed="rId2"/>
            <a:stretch/>
          </p:blipFill>
          <p:spPr>
            <a:xfrm>
              <a:off x="1672560" y="24411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object 35" descr=""/>
            <p:cNvPicPr/>
            <p:nvPr/>
          </p:nvPicPr>
          <p:blipFill>
            <a:blip r:embed="rId3"/>
            <a:stretch/>
          </p:blipFill>
          <p:spPr>
            <a:xfrm>
              <a:off x="2154240" y="23540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object 36" descr=""/>
            <p:cNvPicPr/>
            <p:nvPr/>
          </p:nvPicPr>
          <p:blipFill>
            <a:blip r:embed="rId4"/>
            <a:stretch/>
          </p:blipFill>
          <p:spPr>
            <a:xfrm>
              <a:off x="2635920" y="24548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object 37" descr=""/>
            <p:cNvPicPr/>
            <p:nvPr/>
          </p:nvPicPr>
          <p:blipFill>
            <a:blip r:embed="rId5"/>
            <a:stretch/>
          </p:blipFill>
          <p:spPr>
            <a:xfrm>
              <a:off x="3117240" y="25646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object 38" descr=""/>
            <p:cNvPicPr/>
            <p:nvPr/>
          </p:nvPicPr>
          <p:blipFill>
            <a:blip r:embed="rId6"/>
            <a:stretch/>
          </p:blipFill>
          <p:spPr>
            <a:xfrm>
              <a:off x="3600360" y="27716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object 39" descr=""/>
            <p:cNvPicPr/>
            <p:nvPr/>
          </p:nvPicPr>
          <p:blipFill>
            <a:blip r:embed="rId7"/>
            <a:stretch/>
          </p:blipFill>
          <p:spPr>
            <a:xfrm>
              <a:off x="4082040" y="27352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object 40"/>
            <p:cNvSpPr/>
            <p:nvPr/>
          </p:nvSpPr>
          <p:spPr>
            <a:xfrm>
              <a:off x="1239840" y="2763720"/>
              <a:ext cx="2890800" cy="3564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891154" h="356869">
                  <a:moveTo>
                    <a:pt x="0" y="347472"/>
                  </a:moveTo>
                  <a:lnTo>
                    <a:pt x="481583" y="356615"/>
                  </a:lnTo>
                  <a:lnTo>
                    <a:pt x="963168" y="254508"/>
                  </a:lnTo>
                  <a:lnTo>
                    <a:pt x="1446276" y="156972"/>
                  </a:lnTo>
                  <a:lnTo>
                    <a:pt x="1927859" y="0"/>
                  </a:lnTo>
                  <a:lnTo>
                    <a:pt x="2409443" y="94487"/>
                  </a:lnTo>
                  <a:lnTo>
                    <a:pt x="2891028" y="33527"/>
                  </a:lnTo>
                </a:path>
              </a:pathLst>
            </a:custGeom>
            <a:noFill/>
            <a:ln w="28955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bject 41"/>
            <p:cNvSpPr/>
            <p:nvPr/>
          </p:nvSpPr>
          <p:spPr>
            <a:xfrm>
              <a:off x="1194120" y="30675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bject 42"/>
            <p:cNvSpPr/>
            <p:nvPr/>
          </p:nvSpPr>
          <p:spPr>
            <a:xfrm>
              <a:off x="1194120" y="30675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bject 43"/>
            <p:cNvSpPr/>
            <p:nvPr/>
          </p:nvSpPr>
          <p:spPr>
            <a:xfrm>
              <a:off x="1677240" y="3075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bject 44"/>
            <p:cNvSpPr/>
            <p:nvPr/>
          </p:nvSpPr>
          <p:spPr>
            <a:xfrm>
              <a:off x="1677240" y="3075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bject 45"/>
            <p:cNvSpPr/>
            <p:nvPr/>
          </p:nvSpPr>
          <p:spPr>
            <a:xfrm>
              <a:off x="2158920" y="297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bject 46"/>
            <p:cNvSpPr/>
            <p:nvPr/>
          </p:nvSpPr>
          <p:spPr>
            <a:xfrm>
              <a:off x="2158920" y="297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bject 47"/>
            <p:cNvSpPr/>
            <p:nvPr/>
          </p:nvSpPr>
          <p:spPr>
            <a:xfrm>
              <a:off x="2640240" y="2875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bject 48"/>
            <p:cNvSpPr/>
            <p:nvPr/>
          </p:nvSpPr>
          <p:spPr>
            <a:xfrm>
              <a:off x="2640240" y="2875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bject 49"/>
            <p:cNvSpPr/>
            <p:nvPr/>
          </p:nvSpPr>
          <p:spPr>
            <a:xfrm>
              <a:off x="3121920" y="27183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bject 50"/>
            <p:cNvSpPr/>
            <p:nvPr/>
          </p:nvSpPr>
          <p:spPr>
            <a:xfrm>
              <a:off x="3121920" y="27183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bject 51"/>
            <p:cNvSpPr/>
            <p:nvPr/>
          </p:nvSpPr>
          <p:spPr>
            <a:xfrm>
              <a:off x="3605040" y="2813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bject 52"/>
            <p:cNvSpPr/>
            <p:nvPr/>
          </p:nvSpPr>
          <p:spPr>
            <a:xfrm>
              <a:off x="3605040" y="2813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bject 53"/>
            <p:cNvSpPr/>
            <p:nvPr/>
          </p:nvSpPr>
          <p:spPr>
            <a:xfrm>
              <a:off x="4086720" y="2751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bject 54"/>
            <p:cNvSpPr/>
            <p:nvPr/>
          </p:nvSpPr>
          <p:spPr>
            <a:xfrm>
              <a:off x="4086720" y="2751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bject 55"/>
            <p:cNvSpPr/>
            <p:nvPr/>
          </p:nvSpPr>
          <p:spPr>
            <a:xfrm>
              <a:off x="1194120" y="30675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70" y="44196"/>
                  </a:moveTo>
                  <a:lnTo>
                    <a:pt x="0" y="88392"/>
                  </a:lnTo>
                  <a:lnTo>
                    <a:pt x="88341" y="88392"/>
                  </a:lnTo>
                  <a:lnTo>
                    <a:pt x="44170" y="44196"/>
                  </a:lnTo>
                  <a:close/>
                </a:path>
                <a:path w="88900" h="88900">
                  <a:moveTo>
                    <a:pt x="88341" y="0"/>
                  </a:moveTo>
                  <a:lnTo>
                    <a:pt x="0" y="0"/>
                  </a:lnTo>
                  <a:lnTo>
                    <a:pt x="44170" y="44196"/>
                  </a:lnTo>
                  <a:lnTo>
                    <a:pt x="8834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bject 56"/>
            <p:cNvSpPr/>
            <p:nvPr/>
          </p:nvSpPr>
          <p:spPr>
            <a:xfrm>
              <a:off x="1194120" y="30675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41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41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bject 57"/>
            <p:cNvSpPr/>
            <p:nvPr/>
          </p:nvSpPr>
          <p:spPr>
            <a:xfrm>
              <a:off x="1677240" y="3075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6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6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bject 58"/>
            <p:cNvSpPr/>
            <p:nvPr/>
          </p:nvSpPr>
          <p:spPr>
            <a:xfrm>
              <a:off x="1677240" y="3075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bject 59"/>
            <p:cNvSpPr/>
            <p:nvPr/>
          </p:nvSpPr>
          <p:spPr>
            <a:xfrm>
              <a:off x="2158920" y="297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2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bject 60"/>
            <p:cNvSpPr/>
            <p:nvPr/>
          </p:nvSpPr>
          <p:spPr>
            <a:xfrm>
              <a:off x="2158920" y="297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bject 61"/>
            <p:cNvSpPr/>
            <p:nvPr/>
          </p:nvSpPr>
          <p:spPr>
            <a:xfrm>
              <a:off x="2640240" y="2875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5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5" y="44195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5" y="44195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bject 62"/>
            <p:cNvSpPr/>
            <p:nvPr/>
          </p:nvSpPr>
          <p:spPr>
            <a:xfrm>
              <a:off x="2640240" y="2875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bject 63"/>
            <p:cNvSpPr/>
            <p:nvPr/>
          </p:nvSpPr>
          <p:spPr>
            <a:xfrm>
              <a:off x="3121920" y="27183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5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6" y="44195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5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bject 64"/>
            <p:cNvSpPr/>
            <p:nvPr/>
          </p:nvSpPr>
          <p:spPr>
            <a:xfrm>
              <a:off x="3121920" y="27183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bject 65"/>
            <p:cNvSpPr/>
            <p:nvPr/>
          </p:nvSpPr>
          <p:spPr>
            <a:xfrm>
              <a:off x="3605040" y="2813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6"/>
                  </a:moveTo>
                  <a:lnTo>
                    <a:pt x="0" y="88391"/>
                  </a:lnTo>
                  <a:lnTo>
                    <a:pt x="88391" y="88391"/>
                  </a:lnTo>
                  <a:lnTo>
                    <a:pt x="44196" y="44196"/>
                  </a:lnTo>
                  <a:close/>
                </a:path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44196" y="44196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bject 66"/>
            <p:cNvSpPr/>
            <p:nvPr/>
          </p:nvSpPr>
          <p:spPr>
            <a:xfrm>
              <a:off x="3605040" y="2813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1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bject 67"/>
            <p:cNvSpPr/>
            <p:nvPr/>
          </p:nvSpPr>
          <p:spPr>
            <a:xfrm>
              <a:off x="4086720" y="2751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5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6" y="44195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5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bject 68"/>
            <p:cNvSpPr/>
            <p:nvPr/>
          </p:nvSpPr>
          <p:spPr>
            <a:xfrm>
              <a:off x="4086720" y="2751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object 69"/>
          <p:cNvSpPr/>
          <p:nvPr/>
        </p:nvSpPr>
        <p:spPr>
          <a:xfrm>
            <a:off x="1013400" y="20232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84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bject 70"/>
          <p:cNvSpPr/>
          <p:nvPr/>
        </p:nvSpPr>
        <p:spPr>
          <a:xfrm>
            <a:off x="1495440" y="19141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16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bject 71"/>
          <p:cNvSpPr/>
          <p:nvPr/>
        </p:nvSpPr>
        <p:spPr>
          <a:xfrm>
            <a:off x="1977480" y="18097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47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bject 72"/>
          <p:cNvSpPr/>
          <p:nvPr/>
        </p:nvSpPr>
        <p:spPr>
          <a:xfrm>
            <a:off x="2508480" y="14839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bject 73"/>
          <p:cNvSpPr/>
          <p:nvPr/>
        </p:nvSpPr>
        <p:spPr>
          <a:xfrm>
            <a:off x="2941560" y="1248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10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bject 74"/>
          <p:cNvSpPr/>
          <p:nvPr/>
        </p:nvSpPr>
        <p:spPr>
          <a:xfrm>
            <a:off x="3309480" y="13338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bject 75"/>
          <p:cNvSpPr/>
          <p:nvPr/>
        </p:nvSpPr>
        <p:spPr>
          <a:xfrm>
            <a:off x="3778920" y="1328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5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bject 76"/>
          <p:cNvSpPr/>
          <p:nvPr/>
        </p:nvSpPr>
        <p:spPr>
          <a:xfrm>
            <a:off x="1633320" y="1284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bject 77"/>
          <p:cNvSpPr/>
          <p:nvPr/>
        </p:nvSpPr>
        <p:spPr>
          <a:xfrm>
            <a:off x="2115360" y="1194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26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bject 78"/>
          <p:cNvSpPr/>
          <p:nvPr/>
        </p:nvSpPr>
        <p:spPr>
          <a:xfrm>
            <a:off x="3079440" y="1099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54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bject 79"/>
          <p:cNvSpPr/>
          <p:nvPr/>
        </p:nvSpPr>
        <p:spPr>
          <a:xfrm>
            <a:off x="3548880" y="11952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14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bject 80"/>
          <p:cNvSpPr/>
          <p:nvPr/>
        </p:nvSpPr>
        <p:spPr>
          <a:xfrm>
            <a:off x="4158360" y="1265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9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bject 81"/>
          <p:cNvSpPr/>
          <p:nvPr/>
        </p:nvSpPr>
        <p:spPr>
          <a:xfrm>
            <a:off x="1347480" y="2408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11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bject 82"/>
          <p:cNvSpPr/>
          <p:nvPr/>
        </p:nvSpPr>
        <p:spPr>
          <a:xfrm>
            <a:off x="1829880" y="23947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15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bject 83"/>
          <p:cNvSpPr/>
          <p:nvPr/>
        </p:nvSpPr>
        <p:spPr>
          <a:xfrm>
            <a:off x="2311560" y="23072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41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bject 84"/>
          <p:cNvSpPr/>
          <p:nvPr/>
        </p:nvSpPr>
        <p:spPr>
          <a:xfrm>
            <a:off x="2793960" y="2408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11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bject 85"/>
          <p:cNvSpPr/>
          <p:nvPr/>
        </p:nvSpPr>
        <p:spPr>
          <a:xfrm>
            <a:off x="3276720" y="2517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bject 86"/>
          <p:cNvSpPr/>
          <p:nvPr/>
        </p:nvSpPr>
        <p:spPr>
          <a:xfrm>
            <a:off x="3732480" y="26488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9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bject 87"/>
          <p:cNvSpPr/>
          <p:nvPr/>
        </p:nvSpPr>
        <p:spPr>
          <a:xfrm>
            <a:off x="4240080" y="2625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3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bject 88"/>
          <p:cNvSpPr/>
          <p:nvPr/>
        </p:nvSpPr>
        <p:spPr>
          <a:xfrm>
            <a:off x="1347480" y="30157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34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bject 89"/>
          <p:cNvSpPr/>
          <p:nvPr/>
        </p:nvSpPr>
        <p:spPr>
          <a:xfrm>
            <a:off x="1829520" y="302436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32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bject 90"/>
          <p:cNvSpPr/>
          <p:nvPr/>
        </p:nvSpPr>
        <p:spPr>
          <a:xfrm>
            <a:off x="2311560" y="29221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62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bject 91"/>
          <p:cNvSpPr/>
          <p:nvPr/>
        </p:nvSpPr>
        <p:spPr>
          <a:xfrm>
            <a:off x="2793600" y="282492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9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bject 92"/>
          <p:cNvSpPr/>
          <p:nvPr/>
        </p:nvSpPr>
        <p:spPr>
          <a:xfrm>
            <a:off x="3276000" y="26672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3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bject 93"/>
          <p:cNvSpPr/>
          <p:nvPr/>
        </p:nvSpPr>
        <p:spPr>
          <a:xfrm>
            <a:off x="3732480" y="29145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8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bject 94"/>
          <p:cNvSpPr/>
          <p:nvPr/>
        </p:nvSpPr>
        <p:spPr>
          <a:xfrm>
            <a:off x="4240080" y="28659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26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ject 95"/>
          <p:cNvSpPr/>
          <p:nvPr/>
        </p:nvSpPr>
        <p:spPr>
          <a:xfrm>
            <a:off x="803520" y="31284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bject 96"/>
          <p:cNvSpPr/>
          <p:nvPr/>
        </p:nvSpPr>
        <p:spPr>
          <a:xfrm>
            <a:off x="675000" y="27853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bject 97"/>
          <p:cNvSpPr/>
          <p:nvPr/>
        </p:nvSpPr>
        <p:spPr>
          <a:xfrm>
            <a:off x="675000" y="24422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ject 98"/>
          <p:cNvSpPr/>
          <p:nvPr/>
        </p:nvSpPr>
        <p:spPr>
          <a:xfrm>
            <a:off x="675000" y="20988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bject 99"/>
          <p:cNvSpPr/>
          <p:nvPr/>
        </p:nvSpPr>
        <p:spPr>
          <a:xfrm>
            <a:off x="675000" y="1416960"/>
            <a:ext cx="789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88880"/>
              </a:tabLst>
            </a:pPr>
            <a:r>
              <a:rPr b="0" lang="en-US" sz="1500" spc="-38" strike="noStrike" baseline="2000">
                <a:solidFill>
                  <a:srgbClr val="000000"/>
                </a:solidFill>
                <a:latin typeface="Calibri"/>
              </a:rPr>
              <a:t>500</a:t>
            </a:r>
            <a:r>
              <a:rPr b="0" lang="en-US" sz="1500" spc="-1" strike="noStrike" baseline="2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6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488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48888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bject 100"/>
          <p:cNvSpPr/>
          <p:nvPr/>
        </p:nvSpPr>
        <p:spPr>
          <a:xfrm>
            <a:off x="675000" y="1069200"/>
            <a:ext cx="2235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193500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63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bject 101"/>
          <p:cNvSpPr/>
          <p:nvPr/>
        </p:nvSpPr>
        <p:spPr>
          <a:xfrm>
            <a:off x="507240" y="2037240"/>
            <a:ext cx="15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bject 102"/>
          <p:cNvSpPr/>
          <p:nvPr/>
        </p:nvSpPr>
        <p:spPr>
          <a:xfrm>
            <a:off x="4687920" y="18972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bject 103"/>
          <p:cNvSpPr/>
          <p:nvPr/>
        </p:nvSpPr>
        <p:spPr>
          <a:xfrm>
            <a:off x="4687920" y="21276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object 104" descr=""/>
          <p:cNvPicPr/>
          <p:nvPr/>
        </p:nvPicPr>
        <p:blipFill>
          <a:blip r:embed="rId8"/>
          <a:stretch/>
        </p:blipFill>
        <p:spPr>
          <a:xfrm>
            <a:off x="4687200" y="2348640"/>
            <a:ext cx="243360" cy="84960"/>
          </a:xfrm>
          <a:prstGeom prst="rect">
            <a:avLst/>
          </a:prstGeom>
          <a:ln w="0">
            <a:noFill/>
          </a:ln>
        </p:spPr>
      </p:pic>
      <p:pic>
        <p:nvPicPr>
          <p:cNvPr id="793" name="object 105" descr=""/>
          <p:cNvPicPr/>
          <p:nvPr/>
        </p:nvPicPr>
        <p:blipFill>
          <a:blip r:embed="rId9"/>
          <a:stretch/>
        </p:blipFill>
        <p:spPr>
          <a:xfrm>
            <a:off x="4687200" y="257868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794" name="object 106"/>
          <p:cNvSpPr/>
          <p:nvPr/>
        </p:nvSpPr>
        <p:spPr>
          <a:xfrm>
            <a:off x="4944960" y="1751760"/>
            <a:ext cx="7884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bject 107"/>
          <p:cNvSpPr/>
          <p:nvPr/>
        </p:nvSpPr>
        <p:spPr>
          <a:xfrm>
            <a:off x="782640" y="713160"/>
            <a:ext cx="4174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7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108"/>
          <p:cNvGraphicFramePr/>
          <p:nvPr/>
        </p:nvGraphicFramePr>
        <p:xfrm>
          <a:off x="746640" y="3934800"/>
          <a:ext cx="4271760" cy="1563120"/>
        </p:xfrm>
        <a:graphic>
          <a:graphicData uri="http://schemas.openxmlformats.org/drawingml/2006/table">
            <a:tbl>
              <a:tblPr/>
              <a:tblGrid>
                <a:gridCol w="2352600"/>
                <a:gridCol w="1049400"/>
                <a:gridCol w="438480"/>
                <a:gridCol w="430920"/>
              </a:tblGrid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СОН/УП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40" algn="ct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ПС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"Пластик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Узлова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"Пеноплэкс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б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"Газпром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фтехим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Салава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"Нижнекамскнефтехи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"Сибур-химпро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"АЗП"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Роснеф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7" name="object 109"/>
          <p:cNvSpPr/>
          <p:nvPr/>
        </p:nvSpPr>
        <p:spPr>
          <a:xfrm>
            <a:off x="1098360" y="3205080"/>
            <a:ext cx="3175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0" bIns="0" anchor="t">
            <a:spAutoFit/>
          </a:bodyPr>
          <a:p>
            <a:pPr marL="12600">
              <a:lnSpc>
                <a:spcPct val="100000"/>
              </a:lnSpc>
              <a:spcBef>
                <a:spcPts val="794"/>
              </a:spcBef>
              <a:tabLst>
                <a:tab algn="l" pos="493920"/>
                <a:tab algn="l" pos="976680"/>
                <a:tab algn="l" pos="1458720"/>
                <a:tab algn="l" pos="1940400"/>
                <a:tab algn="l" pos="2422440"/>
                <a:tab algn="l" pos="290520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14"/>
              </a:spcBef>
              <a:tabLst>
                <a:tab algn="l" pos="493920"/>
                <a:tab algn="l" pos="976680"/>
                <a:tab algn="l" pos="1458720"/>
                <a:tab algn="l" pos="1940400"/>
                <a:tab algn="l" pos="2422440"/>
                <a:tab algn="l" pos="2905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88720">
              <a:lnSpc>
                <a:spcPct val="100000"/>
              </a:lnSpc>
              <a:tabLst>
                <a:tab algn="l" pos="493920"/>
                <a:tab algn="l" pos="976680"/>
                <a:tab algn="l" pos="1458720"/>
                <a:tab algn="l" pos="1940400"/>
                <a:tab algn="l" pos="2422440"/>
                <a:tab algn="l" pos="2905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Мощности,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object 110" descr=""/>
          <p:cNvPicPr/>
          <p:nvPr/>
        </p:nvPicPr>
        <p:blipFill>
          <a:blip r:embed="rId10"/>
          <a:stretch/>
        </p:blipFill>
        <p:spPr>
          <a:xfrm>
            <a:off x="713880" y="5734080"/>
            <a:ext cx="1871280" cy="697680"/>
          </a:xfrm>
          <a:prstGeom prst="rect">
            <a:avLst/>
          </a:prstGeom>
          <a:ln w="0">
            <a:noFill/>
          </a:ln>
        </p:spPr>
      </p:pic>
      <p:sp>
        <p:nvSpPr>
          <p:cNvPr id="799" name="object 111"/>
          <p:cNvSpPr/>
          <p:nvPr/>
        </p:nvSpPr>
        <p:spPr>
          <a:xfrm>
            <a:off x="713880" y="5734080"/>
            <a:ext cx="1871640" cy="608760"/>
          </a:xfrm>
          <a:prstGeom prst="rect">
            <a:avLst/>
          </a:prstGeom>
          <a:noFill/>
          <a:ln w="25908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9760" bIns="0" anchor="t">
            <a:spAutoFit/>
          </a:bodyPr>
          <a:p>
            <a:pPr marL="90000">
              <a:lnSpc>
                <a:spcPct val="100000"/>
              </a:lnSpc>
              <a:spcBef>
                <a:spcPts val="471"/>
              </a:spcBef>
            </a:pP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">
              <a:lnSpc>
                <a:spcPct val="100000"/>
              </a:lnSpc>
              <a:spcBef>
                <a:spcPts val="6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го: 554</a:t>
            </a:r>
            <a:r>
              <a:rPr b="0" lang="en-US" sz="1800" spc="39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0" lang="en-US" sz="1800" spc="-60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object 112"/>
          <p:cNvGrpSpPr/>
          <p:nvPr/>
        </p:nvGrpSpPr>
        <p:grpSpPr>
          <a:xfrm>
            <a:off x="6229080" y="4217760"/>
            <a:ext cx="1928880" cy="1928880"/>
            <a:chOff x="6229080" y="4217760"/>
            <a:chExt cx="1928880" cy="1928880"/>
          </a:xfrm>
        </p:grpSpPr>
        <p:sp>
          <p:nvSpPr>
            <p:cNvPr id="801" name="object 113"/>
            <p:cNvSpPr/>
            <p:nvPr/>
          </p:nvSpPr>
          <p:spPr>
            <a:xfrm>
              <a:off x="6232320" y="4217760"/>
              <a:ext cx="1925640" cy="192888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1925954" h="1929129">
                  <a:moveTo>
                    <a:pt x="961262" y="0"/>
                  </a:moveTo>
                  <a:lnTo>
                    <a:pt x="961262" y="482218"/>
                  </a:lnTo>
                  <a:lnTo>
                    <a:pt x="1010851" y="484747"/>
                  </a:lnTo>
                  <a:lnTo>
                    <a:pt x="1059061" y="492173"/>
                  </a:lnTo>
                  <a:lnTo>
                    <a:pt x="1105632" y="504257"/>
                  </a:lnTo>
                  <a:lnTo>
                    <a:pt x="1150304" y="520757"/>
                  </a:lnTo>
                  <a:lnTo>
                    <a:pt x="1192816" y="541433"/>
                  </a:lnTo>
                  <a:lnTo>
                    <a:pt x="1232908" y="566047"/>
                  </a:lnTo>
                  <a:lnTo>
                    <a:pt x="1270319" y="594356"/>
                  </a:lnTo>
                  <a:lnTo>
                    <a:pt x="1304789" y="626121"/>
                  </a:lnTo>
                  <a:lnTo>
                    <a:pt x="1336057" y="661103"/>
                  </a:lnTo>
                  <a:lnTo>
                    <a:pt x="1363862" y="699059"/>
                  </a:lnTo>
                  <a:lnTo>
                    <a:pt x="1387944" y="739751"/>
                  </a:lnTo>
                  <a:lnTo>
                    <a:pt x="1408042" y="782938"/>
                  </a:lnTo>
                  <a:lnTo>
                    <a:pt x="1423897" y="828380"/>
                  </a:lnTo>
                  <a:lnTo>
                    <a:pt x="1435246" y="875837"/>
                  </a:lnTo>
                  <a:lnTo>
                    <a:pt x="1441830" y="925067"/>
                  </a:lnTo>
                  <a:lnTo>
                    <a:pt x="1443392" y="974410"/>
                  </a:lnTo>
                  <a:lnTo>
                    <a:pt x="1440031" y="1022725"/>
                  </a:lnTo>
                  <a:lnTo>
                    <a:pt x="1431972" y="1069754"/>
                  </a:lnTo>
                  <a:lnTo>
                    <a:pt x="1419435" y="1115233"/>
                  </a:lnTo>
                  <a:lnTo>
                    <a:pt x="1402643" y="1158902"/>
                  </a:lnTo>
                  <a:lnTo>
                    <a:pt x="1381819" y="1200500"/>
                  </a:lnTo>
                  <a:lnTo>
                    <a:pt x="1357183" y="1239766"/>
                  </a:lnTo>
                  <a:lnTo>
                    <a:pt x="1328959" y="1276437"/>
                  </a:lnTo>
                  <a:lnTo>
                    <a:pt x="1297369" y="1310253"/>
                  </a:lnTo>
                  <a:lnTo>
                    <a:pt x="1262634" y="1340952"/>
                  </a:lnTo>
                  <a:lnTo>
                    <a:pt x="1224977" y="1368274"/>
                  </a:lnTo>
                  <a:lnTo>
                    <a:pt x="1184620" y="1391956"/>
                  </a:lnTo>
                  <a:lnTo>
                    <a:pt x="1141785" y="1411738"/>
                  </a:lnTo>
                  <a:lnTo>
                    <a:pt x="1096694" y="1427359"/>
                  </a:lnTo>
                  <a:lnTo>
                    <a:pt x="1049569" y="1438556"/>
                  </a:lnTo>
                  <a:lnTo>
                    <a:pt x="1000632" y="1445069"/>
                  </a:lnTo>
                  <a:lnTo>
                    <a:pt x="951290" y="1446622"/>
                  </a:lnTo>
                  <a:lnTo>
                    <a:pt x="902975" y="1443258"/>
                  </a:lnTo>
                  <a:lnTo>
                    <a:pt x="855947" y="1435197"/>
                  </a:lnTo>
                  <a:lnTo>
                    <a:pt x="810468" y="1422662"/>
                  </a:lnTo>
                  <a:lnTo>
                    <a:pt x="766799" y="1405874"/>
                  </a:lnTo>
                  <a:lnTo>
                    <a:pt x="725203" y="1385055"/>
                  </a:lnTo>
                  <a:lnTo>
                    <a:pt x="685940" y="1360426"/>
                  </a:lnTo>
                  <a:lnTo>
                    <a:pt x="649271" y="1332210"/>
                  </a:lnTo>
                  <a:lnTo>
                    <a:pt x="615459" y="1300629"/>
                  </a:lnTo>
                  <a:lnTo>
                    <a:pt x="584763" y="1265903"/>
                  </a:lnTo>
                  <a:lnTo>
                    <a:pt x="557447" y="1228254"/>
                  </a:lnTo>
                  <a:lnTo>
                    <a:pt x="533771" y="1187905"/>
                  </a:lnTo>
                  <a:lnTo>
                    <a:pt x="513996" y="1145076"/>
                  </a:lnTo>
                  <a:lnTo>
                    <a:pt x="498384" y="1099991"/>
                  </a:lnTo>
                  <a:lnTo>
                    <a:pt x="487196" y="1052870"/>
                  </a:lnTo>
                  <a:lnTo>
                    <a:pt x="480695" y="1003934"/>
                  </a:lnTo>
                  <a:lnTo>
                    <a:pt x="0" y="1043304"/>
                  </a:lnTo>
                  <a:lnTo>
                    <a:pt x="5148" y="1091364"/>
                  </a:lnTo>
                  <a:lnTo>
                    <a:pt x="12592" y="1138650"/>
                  </a:lnTo>
                  <a:lnTo>
                    <a:pt x="22270" y="1185108"/>
                  </a:lnTo>
                  <a:lnTo>
                    <a:pt x="34126" y="1230683"/>
                  </a:lnTo>
                  <a:lnTo>
                    <a:pt x="48098" y="1275320"/>
                  </a:lnTo>
                  <a:lnTo>
                    <a:pt x="64129" y="1318966"/>
                  </a:lnTo>
                  <a:lnTo>
                    <a:pt x="82159" y="1361567"/>
                  </a:lnTo>
                  <a:lnTo>
                    <a:pt x="102129" y="1403067"/>
                  </a:lnTo>
                  <a:lnTo>
                    <a:pt x="123981" y="1443413"/>
                  </a:lnTo>
                  <a:lnTo>
                    <a:pt x="147655" y="1482550"/>
                  </a:lnTo>
                  <a:lnTo>
                    <a:pt x="173093" y="1520423"/>
                  </a:lnTo>
                  <a:lnTo>
                    <a:pt x="200234" y="1556979"/>
                  </a:lnTo>
                  <a:lnTo>
                    <a:pt x="229021" y="1592163"/>
                  </a:lnTo>
                  <a:lnTo>
                    <a:pt x="259395" y="1625921"/>
                  </a:lnTo>
                  <a:lnTo>
                    <a:pt x="291295" y="1658198"/>
                  </a:lnTo>
                  <a:lnTo>
                    <a:pt x="324664" y="1688940"/>
                  </a:lnTo>
                  <a:lnTo>
                    <a:pt x="359442" y="1718093"/>
                  </a:lnTo>
                  <a:lnTo>
                    <a:pt x="395571" y="1745601"/>
                  </a:lnTo>
                  <a:lnTo>
                    <a:pt x="432990" y="1771412"/>
                  </a:lnTo>
                  <a:lnTo>
                    <a:pt x="471642" y="1795470"/>
                  </a:lnTo>
                  <a:lnTo>
                    <a:pt x="511467" y="1817722"/>
                  </a:lnTo>
                  <a:lnTo>
                    <a:pt x="552406" y="1838112"/>
                  </a:lnTo>
                  <a:lnTo>
                    <a:pt x="594401" y="1856587"/>
                  </a:lnTo>
                  <a:lnTo>
                    <a:pt x="637391" y="1873091"/>
                  </a:lnTo>
                  <a:lnTo>
                    <a:pt x="681319" y="1887572"/>
                  </a:lnTo>
                  <a:lnTo>
                    <a:pt x="726125" y="1899974"/>
                  </a:lnTo>
                  <a:lnTo>
                    <a:pt x="771750" y="1910242"/>
                  </a:lnTo>
                  <a:lnTo>
                    <a:pt x="818136" y="1918324"/>
                  </a:lnTo>
                  <a:lnTo>
                    <a:pt x="865222" y="1924164"/>
                  </a:lnTo>
                  <a:lnTo>
                    <a:pt x="912951" y="1927708"/>
                  </a:lnTo>
                  <a:lnTo>
                    <a:pt x="961262" y="1928901"/>
                  </a:lnTo>
                  <a:lnTo>
                    <a:pt x="1009397" y="1927721"/>
                  </a:lnTo>
                  <a:lnTo>
                    <a:pt x="1056921" y="1924217"/>
                  </a:lnTo>
                  <a:lnTo>
                    <a:pt x="1103779" y="1918444"/>
                  </a:lnTo>
                  <a:lnTo>
                    <a:pt x="1149915" y="1910458"/>
                  </a:lnTo>
                  <a:lnTo>
                    <a:pt x="1195275" y="1900314"/>
                  </a:lnTo>
                  <a:lnTo>
                    <a:pt x="1239803" y="1888068"/>
                  </a:lnTo>
                  <a:lnTo>
                    <a:pt x="1283443" y="1873774"/>
                  </a:lnTo>
                  <a:lnTo>
                    <a:pt x="1326142" y="1857487"/>
                  </a:lnTo>
                  <a:lnTo>
                    <a:pt x="1367842" y="1839264"/>
                  </a:lnTo>
                  <a:lnTo>
                    <a:pt x="1408490" y="1819159"/>
                  </a:lnTo>
                  <a:lnTo>
                    <a:pt x="1448030" y="1797227"/>
                  </a:lnTo>
                  <a:lnTo>
                    <a:pt x="1486406" y="1773524"/>
                  </a:lnTo>
                  <a:lnTo>
                    <a:pt x="1523564" y="1748105"/>
                  </a:lnTo>
                  <a:lnTo>
                    <a:pt x="1559448" y="1721026"/>
                  </a:lnTo>
                  <a:lnTo>
                    <a:pt x="1594002" y="1692340"/>
                  </a:lnTo>
                  <a:lnTo>
                    <a:pt x="1627172" y="1662105"/>
                  </a:lnTo>
                  <a:lnTo>
                    <a:pt x="1658903" y="1630374"/>
                  </a:lnTo>
                  <a:lnTo>
                    <a:pt x="1689138" y="1597204"/>
                  </a:lnTo>
                  <a:lnTo>
                    <a:pt x="1717823" y="1562648"/>
                  </a:lnTo>
                  <a:lnTo>
                    <a:pt x="1744903" y="1526764"/>
                  </a:lnTo>
                  <a:lnTo>
                    <a:pt x="1770322" y="1489606"/>
                  </a:lnTo>
                  <a:lnTo>
                    <a:pt x="1794025" y="1451229"/>
                  </a:lnTo>
                  <a:lnTo>
                    <a:pt x="1815957" y="1411688"/>
                  </a:lnTo>
                  <a:lnTo>
                    <a:pt x="1836062" y="1371039"/>
                  </a:lnTo>
                  <a:lnTo>
                    <a:pt x="1854286" y="1329336"/>
                  </a:lnTo>
                  <a:lnTo>
                    <a:pt x="1870572" y="1286636"/>
                  </a:lnTo>
                  <a:lnTo>
                    <a:pt x="1884867" y="1242994"/>
                  </a:lnTo>
                  <a:lnTo>
                    <a:pt x="1897113" y="1198464"/>
                  </a:lnTo>
                  <a:lnTo>
                    <a:pt x="1907257" y="1153102"/>
                  </a:lnTo>
                  <a:lnTo>
                    <a:pt x="1915243" y="1106963"/>
                  </a:lnTo>
                  <a:lnTo>
                    <a:pt x="1921016" y="1060102"/>
                  </a:lnTo>
                  <a:lnTo>
                    <a:pt x="1924520" y="1012575"/>
                  </a:lnTo>
                  <a:lnTo>
                    <a:pt x="1925701" y="964437"/>
                  </a:lnTo>
                  <a:lnTo>
                    <a:pt x="1924520" y="916303"/>
                  </a:lnTo>
                  <a:lnTo>
                    <a:pt x="1921016" y="868779"/>
                  </a:lnTo>
                  <a:lnTo>
                    <a:pt x="1915243" y="821921"/>
                  </a:lnTo>
                  <a:lnTo>
                    <a:pt x="1907257" y="775785"/>
                  </a:lnTo>
                  <a:lnTo>
                    <a:pt x="1897113" y="730425"/>
                  </a:lnTo>
                  <a:lnTo>
                    <a:pt x="1884867" y="685897"/>
                  </a:lnTo>
                  <a:lnTo>
                    <a:pt x="1870572" y="642257"/>
                  </a:lnTo>
                  <a:lnTo>
                    <a:pt x="1854286" y="599558"/>
                  </a:lnTo>
                  <a:lnTo>
                    <a:pt x="1836062" y="557858"/>
                  </a:lnTo>
                  <a:lnTo>
                    <a:pt x="1815957" y="517210"/>
                  </a:lnTo>
                  <a:lnTo>
                    <a:pt x="1794025" y="477670"/>
                  </a:lnTo>
                  <a:lnTo>
                    <a:pt x="1770322" y="439294"/>
                  </a:lnTo>
                  <a:lnTo>
                    <a:pt x="1744903" y="402136"/>
                  </a:lnTo>
                  <a:lnTo>
                    <a:pt x="1717823" y="366252"/>
                  </a:lnTo>
                  <a:lnTo>
                    <a:pt x="1689138" y="331698"/>
                  </a:lnTo>
                  <a:lnTo>
                    <a:pt x="1658903" y="298528"/>
                  </a:lnTo>
                  <a:lnTo>
                    <a:pt x="1627172" y="266797"/>
                  </a:lnTo>
                  <a:lnTo>
                    <a:pt x="1594002" y="236562"/>
                  </a:lnTo>
                  <a:lnTo>
                    <a:pt x="1559448" y="207877"/>
                  </a:lnTo>
                  <a:lnTo>
                    <a:pt x="1523564" y="180797"/>
                  </a:lnTo>
                  <a:lnTo>
                    <a:pt x="1486406" y="155378"/>
                  </a:lnTo>
                  <a:lnTo>
                    <a:pt x="1448030" y="131675"/>
                  </a:lnTo>
                  <a:lnTo>
                    <a:pt x="1408490" y="109743"/>
                  </a:lnTo>
                  <a:lnTo>
                    <a:pt x="1367842" y="89638"/>
                  </a:lnTo>
                  <a:lnTo>
                    <a:pt x="1326142" y="71414"/>
                  </a:lnTo>
                  <a:lnTo>
                    <a:pt x="1283443" y="55128"/>
                  </a:lnTo>
                  <a:lnTo>
                    <a:pt x="1239803" y="40833"/>
                  </a:lnTo>
                  <a:lnTo>
                    <a:pt x="1195275" y="28587"/>
                  </a:lnTo>
                  <a:lnTo>
                    <a:pt x="1149915" y="18443"/>
                  </a:lnTo>
                  <a:lnTo>
                    <a:pt x="1103779" y="10457"/>
                  </a:lnTo>
                  <a:lnTo>
                    <a:pt x="1056921" y="4684"/>
                  </a:lnTo>
                  <a:lnTo>
                    <a:pt x="1009397" y="1180"/>
                  </a:lnTo>
                  <a:lnTo>
                    <a:pt x="96126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bject 114"/>
            <p:cNvSpPr/>
            <p:nvPr/>
          </p:nvSpPr>
          <p:spPr>
            <a:xfrm>
              <a:off x="6229080" y="4239000"/>
              <a:ext cx="863280" cy="102204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022040"/>
                <a:gd name="textAreaBottom" fmla="*/ 1022400 h 1022040"/>
              </a:gdLst>
              <a:ahLst/>
              <a:rect l="textAreaLeft" t="textAreaTop" r="textAreaRight" b="textAreaBottom"/>
              <a:pathLst>
                <a:path w="863600" h="1022350">
                  <a:moveTo>
                    <a:pt x="762460" y="0"/>
                  </a:moveTo>
                  <a:lnTo>
                    <a:pt x="715568" y="11256"/>
                  </a:lnTo>
                  <a:lnTo>
                    <a:pt x="669717" y="24687"/>
                  </a:lnTo>
                  <a:lnTo>
                    <a:pt x="624955" y="40229"/>
                  </a:lnTo>
                  <a:lnTo>
                    <a:pt x="581330" y="57816"/>
                  </a:lnTo>
                  <a:lnTo>
                    <a:pt x="538890" y="77385"/>
                  </a:lnTo>
                  <a:lnTo>
                    <a:pt x="497683" y="98871"/>
                  </a:lnTo>
                  <a:lnTo>
                    <a:pt x="457756" y="122209"/>
                  </a:lnTo>
                  <a:lnTo>
                    <a:pt x="419158" y="147334"/>
                  </a:lnTo>
                  <a:lnTo>
                    <a:pt x="381937" y="174184"/>
                  </a:lnTo>
                  <a:lnTo>
                    <a:pt x="346140" y="202692"/>
                  </a:lnTo>
                  <a:lnTo>
                    <a:pt x="311815" y="232794"/>
                  </a:lnTo>
                  <a:lnTo>
                    <a:pt x="279010" y="264426"/>
                  </a:lnTo>
                  <a:lnTo>
                    <a:pt x="247774" y="297523"/>
                  </a:lnTo>
                  <a:lnTo>
                    <a:pt x="218154" y="332021"/>
                  </a:lnTo>
                  <a:lnTo>
                    <a:pt x="190198" y="367855"/>
                  </a:lnTo>
                  <a:lnTo>
                    <a:pt x="163953" y="404961"/>
                  </a:lnTo>
                  <a:lnTo>
                    <a:pt x="139469" y="443274"/>
                  </a:lnTo>
                  <a:lnTo>
                    <a:pt x="116793" y="482730"/>
                  </a:lnTo>
                  <a:lnTo>
                    <a:pt x="95972" y="523263"/>
                  </a:lnTo>
                  <a:lnTo>
                    <a:pt x="77055" y="564811"/>
                  </a:lnTo>
                  <a:lnTo>
                    <a:pt x="60089" y="607307"/>
                  </a:lnTo>
                  <a:lnTo>
                    <a:pt x="45123" y="650689"/>
                  </a:lnTo>
                  <a:lnTo>
                    <a:pt x="32204" y="694890"/>
                  </a:lnTo>
                  <a:lnTo>
                    <a:pt x="21381" y="739847"/>
                  </a:lnTo>
                  <a:lnTo>
                    <a:pt x="12701" y="785495"/>
                  </a:lnTo>
                  <a:lnTo>
                    <a:pt x="6212" y="831769"/>
                  </a:lnTo>
                  <a:lnTo>
                    <a:pt x="1962" y="878605"/>
                  </a:lnTo>
                  <a:lnTo>
                    <a:pt x="0" y="925939"/>
                  </a:lnTo>
                  <a:lnTo>
                    <a:pt x="372" y="973706"/>
                  </a:lnTo>
                  <a:lnTo>
                    <a:pt x="3127" y="1021842"/>
                  </a:lnTo>
                  <a:lnTo>
                    <a:pt x="483822" y="982472"/>
                  </a:lnTo>
                  <a:lnTo>
                    <a:pt x="482235" y="934508"/>
                  </a:lnTo>
                  <a:lnTo>
                    <a:pt x="485323" y="887413"/>
                  </a:lnTo>
                  <a:lnTo>
                    <a:pt x="492893" y="841443"/>
                  </a:lnTo>
                  <a:lnTo>
                    <a:pt x="504754" y="796855"/>
                  </a:lnTo>
                  <a:lnTo>
                    <a:pt x="520713" y="753909"/>
                  </a:lnTo>
                  <a:lnTo>
                    <a:pt x="540577" y="712862"/>
                  </a:lnTo>
                  <a:lnTo>
                    <a:pt x="564156" y="673971"/>
                  </a:lnTo>
                  <a:lnTo>
                    <a:pt x="591256" y="637494"/>
                  </a:lnTo>
                  <a:lnTo>
                    <a:pt x="621686" y="603690"/>
                  </a:lnTo>
                  <a:lnTo>
                    <a:pt x="655253" y="572817"/>
                  </a:lnTo>
                  <a:lnTo>
                    <a:pt x="691765" y="545131"/>
                  </a:lnTo>
                  <a:lnTo>
                    <a:pt x="731031" y="520891"/>
                  </a:lnTo>
                  <a:lnTo>
                    <a:pt x="772857" y="500354"/>
                  </a:lnTo>
                  <a:lnTo>
                    <a:pt x="817053" y="483779"/>
                  </a:lnTo>
                  <a:lnTo>
                    <a:pt x="863425" y="471424"/>
                  </a:lnTo>
                  <a:lnTo>
                    <a:pt x="7624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bject 115"/>
            <p:cNvSpPr/>
            <p:nvPr/>
          </p:nvSpPr>
          <p:spPr>
            <a:xfrm>
              <a:off x="6991560" y="4217760"/>
              <a:ext cx="201600" cy="4932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201929" h="493395">
                  <a:moveTo>
                    <a:pt x="201929" y="0"/>
                  </a:moveTo>
                  <a:lnTo>
                    <a:pt x="151036" y="1353"/>
                  </a:lnTo>
                  <a:lnTo>
                    <a:pt x="100345" y="5397"/>
                  </a:lnTo>
                  <a:lnTo>
                    <a:pt x="49964" y="12108"/>
                  </a:lnTo>
                  <a:lnTo>
                    <a:pt x="0" y="21462"/>
                  </a:lnTo>
                  <a:lnTo>
                    <a:pt x="100965" y="492886"/>
                  </a:lnTo>
                  <a:lnTo>
                    <a:pt x="125956" y="488273"/>
                  </a:lnTo>
                  <a:lnTo>
                    <a:pt x="151161" y="484933"/>
                  </a:lnTo>
                  <a:lnTo>
                    <a:pt x="176510" y="482903"/>
                  </a:lnTo>
                  <a:lnTo>
                    <a:pt x="201929" y="482218"/>
                  </a:lnTo>
                  <a:lnTo>
                    <a:pt x="201929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bject 116"/>
          <p:cNvSpPr/>
          <p:nvPr/>
        </p:nvSpPr>
        <p:spPr>
          <a:xfrm>
            <a:off x="7396200" y="5550120"/>
            <a:ext cx="68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СОН/УПП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373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bject 117"/>
          <p:cNvSpPr/>
          <p:nvPr/>
        </p:nvSpPr>
        <p:spPr>
          <a:xfrm>
            <a:off x="6243840" y="4215240"/>
            <a:ext cx="134280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63756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АБС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7560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7560">
              <a:lnSpc>
                <a:spcPct val="100000"/>
              </a:lnSpc>
              <a:spcBef>
                <a:spcPts val="11"/>
              </a:spcBef>
            </a:pPr>
            <a:endParaRPr b="0" lang="en-US" sz="85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СВ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16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14"/>
              </a:spcBef>
            </a:pP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marL="59004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06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bject 118"/>
          <p:cNvSpPr/>
          <p:nvPr/>
        </p:nvSpPr>
        <p:spPr>
          <a:xfrm>
            <a:off x="5852880" y="3464640"/>
            <a:ext cx="24429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440640" indent="-42876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С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bject 119"/>
          <p:cNvSpPr/>
          <p:nvPr/>
        </p:nvSpPr>
        <p:spPr>
          <a:xfrm>
            <a:off x="5347800" y="1128960"/>
            <a:ext cx="36025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9160" indent="-286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росло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чти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 2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05240" y="184680"/>
            <a:ext cx="43668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требление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стирол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809" name="object 3"/>
          <p:cNvGrpSpPr/>
          <p:nvPr/>
        </p:nvGrpSpPr>
        <p:grpSpPr>
          <a:xfrm>
            <a:off x="667440" y="1266480"/>
            <a:ext cx="3965400" cy="2036160"/>
            <a:chOff x="667440" y="1266480"/>
            <a:chExt cx="3965400" cy="2036160"/>
          </a:xfrm>
        </p:grpSpPr>
        <p:sp>
          <p:nvSpPr>
            <p:cNvPr id="810" name="object 4"/>
            <p:cNvSpPr/>
            <p:nvPr/>
          </p:nvSpPr>
          <p:spPr>
            <a:xfrm>
              <a:off x="708840" y="2406240"/>
              <a:ext cx="728640" cy="56988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728980" h="570230">
                  <a:moveTo>
                    <a:pt x="0" y="569976"/>
                  </a:moveTo>
                  <a:lnTo>
                    <a:pt x="167640" y="569976"/>
                  </a:lnTo>
                </a:path>
                <a:path w="728980" h="570230">
                  <a:moveTo>
                    <a:pt x="391668" y="569976"/>
                  </a:moveTo>
                  <a:lnTo>
                    <a:pt x="728472" y="569976"/>
                  </a:lnTo>
                </a:path>
                <a:path w="728980" h="570230">
                  <a:moveTo>
                    <a:pt x="0" y="284988"/>
                  </a:moveTo>
                  <a:lnTo>
                    <a:pt x="167640" y="284988"/>
                  </a:lnTo>
                </a:path>
                <a:path w="728980" h="570230">
                  <a:moveTo>
                    <a:pt x="391668" y="284988"/>
                  </a:moveTo>
                  <a:lnTo>
                    <a:pt x="728472" y="284988"/>
                  </a:lnTo>
                </a:path>
                <a:path w="728980" h="570230">
                  <a:moveTo>
                    <a:pt x="0" y="0"/>
                  </a:moveTo>
                  <a:lnTo>
                    <a:pt x="167640" y="0"/>
                  </a:lnTo>
                </a:path>
                <a:path w="728980" h="570230">
                  <a:moveTo>
                    <a:pt x="391668" y="0"/>
                  </a:moveTo>
                  <a:lnTo>
                    <a:pt x="7284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bject 5"/>
            <p:cNvSpPr/>
            <p:nvPr/>
          </p:nvSpPr>
          <p:spPr>
            <a:xfrm>
              <a:off x="876240" y="2298240"/>
              <a:ext cx="223920" cy="9630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963000"/>
                <a:gd name="textAreaBottom" fmla="*/ 963360 h 963000"/>
              </a:gdLst>
              <a:ahLst/>
              <a:rect l="textAreaLeft" t="textAreaTop" r="textAreaRight" b="textAreaBottom"/>
              <a:pathLst>
                <a:path w="224155" h="963295">
                  <a:moveTo>
                    <a:pt x="224028" y="0"/>
                  </a:moveTo>
                  <a:lnTo>
                    <a:pt x="0" y="0"/>
                  </a:lnTo>
                  <a:lnTo>
                    <a:pt x="0" y="963168"/>
                  </a:lnTo>
                  <a:lnTo>
                    <a:pt x="224028" y="96316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bject 6"/>
            <p:cNvSpPr/>
            <p:nvPr/>
          </p:nvSpPr>
          <p:spPr>
            <a:xfrm>
              <a:off x="1661040" y="2406240"/>
              <a:ext cx="336960" cy="56988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37185" h="570230">
                  <a:moveTo>
                    <a:pt x="0" y="569976"/>
                  </a:moveTo>
                  <a:lnTo>
                    <a:pt x="336803" y="569976"/>
                  </a:lnTo>
                </a:path>
                <a:path w="337185" h="570230">
                  <a:moveTo>
                    <a:pt x="0" y="284988"/>
                  </a:moveTo>
                  <a:lnTo>
                    <a:pt x="336803" y="284988"/>
                  </a:lnTo>
                </a:path>
                <a:path w="337185" h="570230">
                  <a:moveTo>
                    <a:pt x="0" y="0"/>
                  </a:moveTo>
                  <a:lnTo>
                    <a:pt x="33680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bject 7"/>
            <p:cNvSpPr/>
            <p:nvPr/>
          </p:nvSpPr>
          <p:spPr>
            <a:xfrm>
              <a:off x="1437120" y="2320920"/>
              <a:ext cx="223920" cy="9399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224155" h="940435">
                  <a:moveTo>
                    <a:pt x="224028" y="0"/>
                  </a:moveTo>
                  <a:lnTo>
                    <a:pt x="0" y="0"/>
                  </a:lnTo>
                  <a:lnTo>
                    <a:pt x="0" y="940308"/>
                  </a:lnTo>
                  <a:lnTo>
                    <a:pt x="224028" y="94030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bject 8"/>
            <p:cNvSpPr/>
            <p:nvPr/>
          </p:nvSpPr>
          <p:spPr>
            <a:xfrm>
              <a:off x="1661040" y="2121480"/>
              <a:ext cx="897480" cy="8550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855000"/>
                <a:gd name="textAreaBottom" fmla="*/ 855360 h 855000"/>
              </a:gdLst>
              <a:ahLst/>
              <a:rect l="textAreaLeft" t="textAreaTop" r="textAreaRight" b="textAreaBottom"/>
              <a:pathLst>
                <a:path w="897889" h="855344">
                  <a:moveTo>
                    <a:pt x="560832" y="854963"/>
                  </a:moveTo>
                  <a:lnTo>
                    <a:pt x="897635" y="854963"/>
                  </a:lnTo>
                </a:path>
                <a:path w="897889" h="855344">
                  <a:moveTo>
                    <a:pt x="560832" y="569976"/>
                  </a:moveTo>
                  <a:lnTo>
                    <a:pt x="897635" y="569976"/>
                  </a:lnTo>
                </a:path>
                <a:path w="897889" h="855344">
                  <a:moveTo>
                    <a:pt x="560832" y="284988"/>
                  </a:moveTo>
                  <a:lnTo>
                    <a:pt x="897635" y="284988"/>
                  </a:lnTo>
                </a:path>
                <a:path w="897889" h="855344">
                  <a:moveTo>
                    <a:pt x="0" y="0"/>
                  </a:moveTo>
                  <a:lnTo>
                    <a:pt x="336803" y="0"/>
                  </a:lnTo>
                </a:path>
                <a:path w="897889" h="855344">
                  <a:moveTo>
                    <a:pt x="560832" y="0"/>
                  </a:moveTo>
                  <a:lnTo>
                    <a:pt x="89763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bject 9"/>
            <p:cNvSpPr/>
            <p:nvPr/>
          </p:nvSpPr>
          <p:spPr>
            <a:xfrm>
              <a:off x="1998000" y="2154960"/>
              <a:ext cx="223920" cy="11062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24155" h="1106804">
                  <a:moveTo>
                    <a:pt x="224028" y="0"/>
                  </a:moveTo>
                  <a:lnTo>
                    <a:pt x="0" y="0"/>
                  </a:lnTo>
                  <a:lnTo>
                    <a:pt x="0" y="1106424"/>
                  </a:lnTo>
                  <a:lnTo>
                    <a:pt x="224028" y="1106424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bject 10"/>
            <p:cNvSpPr/>
            <p:nvPr/>
          </p:nvSpPr>
          <p:spPr>
            <a:xfrm>
              <a:off x="2782800" y="2406240"/>
              <a:ext cx="334800" cy="5698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35280" h="570230">
                  <a:moveTo>
                    <a:pt x="0" y="569976"/>
                  </a:moveTo>
                  <a:lnTo>
                    <a:pt x="335280" y="569976"/>
                  </a:lnTo>
                </a:path>
                <a:path w="335280" h="570230">
                  <a:moveTo>
                    <a:pt x="0" y="284988"/>
                  </a:moveTo>
                  <a:lnTo>
                    <a:pt x="335280" y="284988"/>
                  </a:lnTo>
                </a:path>
                <a:path w="335280" h="57023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bject 11"/>
            <p:cNvSpPr/>
            <p:nvPr/>
          </p:nvSpPr>
          <p:spPr>
            <a:xfrm>
              <a:off x="2558880" y="2298240"/>
              <a:ext cx="223920" cy="9630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963000"/>
                <a:gd name="textAreaBottom" fmla="*/ 963360 h 963000"/>
              </a:gdLst>
              <a:ahLst/>
              <a:rect l="textAreaLeft" t="textAreaTop" r="textAreaRight" b="textAreaBottom"/>
              <a:pathLst>
                <a:path w="224155" h="963295">
                  <a:moveTo>
                    <a:pt x="224028" y="0"/>
                  </a:moveTo>
                  <a:lnTo>
                    <a:pt x="0" y="0"/>
                  </a:lnTo>
                  <a:lnTo>
                    <a:pt x="0" y="963168"/>
                  </a:lnTo>
                  <a:lnTo>
                    <a:pt x="224028" y="96316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bject 12"/>
            <p:cNvSpPr/>
            <p:nvPr/>
          </p:nvSpPr>
          <p:spPr>
            <a:xfrm>
              <a:off x="3343680" y="2406240"/>
              <a:ext cx="334800" cy="5698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35279" h="570230">
                  <a:moveTo>
                    <a:pt x="0" y="569976"/>
                  </a:moveTo>
                  <a:lnTo>
                    <a:pt x="335280" y="569976"/>
                  </a:lnTo>
                </a:path>
                <a:path w="335279" h="570230">
                  <a:moveTo>
                    <a:pt x="0" y="284988"/>
                  </a:moveTo>
                  <a:lnTo>
                    <a:pt x="335280" y="284988"/>
                  </a:lnTo>
                </a:path>
                <a:path w="335279" h="57023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bject 13"/>
            <p:cNvSpPr/>
            <p:nvPr/>
          </p:nvSpPr>
          <p:spPr>
            <a:xfrm>
              <a:off x="3117960" y="2320920"/>
              <a:ext cx="225720" cy="9399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226060" h="940435">
                  <a:moveTo>
                    <a:pt x="225551" y="0"/>
                  </a:moveTo>
                  <a:lnTo>
                    <a:pt x="0" y="0"/>
                  </a:lnTo>
                  <a:lnTo>
                    <a:pt x="0" y="940308"/>
                  </a:lnTo>
                  <a:lnTo>
                    <a:pt x="225551" y="940308"/>
                  </a:lnTo>
                  <a:lnTo>
                    <a:pt x="22555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bject 14"/>
            <p:cNvSpPr/>
            <p:nvPr/>
          </p:nvSpPr>
          <p:spPr>
            <a:xfrm>
              <a:off x="3343680" y="2121480"/>
              <a:ext cx="896400" cy="85500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855000"/>
                <a:gd name="textAreaBottom" fmla="*/ 855360 h 855000"/>
              </a:gdLst>
              <a:ahLst/>
              <a:rect l="textAreaLeft" t="textAreaTop" r="textAreaRight" b="textAreaBottom"/>
              <a:pathLst>
                <a:path w="896620" h="855344">
                  <a:moveTo>
                    <a:pt x="559308" y="854963"/>
                  </a:moveTo>
                  <a:lnTo>
                    <a:pt x="896112" y="854963"/>
                  </a:lnTo>
                </a:path>
                <a:path w="896620" h="855344">
                  <a:moveTo>
                    <a:pt x="559308" y="569976"/>
                  </a:moveTo>
                  <a:lnTo>
                    <a:pt x="896112" y="569976"/>
                  </a:lnTo>
                </a:path>
                <a:path w="896620" h="855344">
                  <a:moveTo>
                    <a:pt x="559308" y="284988"/>
                  </a:moveTo>
                  <a:lnTo>
                    <a:pt x="896112" y="284988"/>
                  </a:lnTo>
                </a:path>
                <a:path w="896620" h="855344">
                  <a:moveTo>
                    <a:pt x="0" y="0"/>
                  </a:moveTo>
                  <a:lnTo>
                    <a:pt x="335280" y="0"/>
                  </a:lnTo>
                </a:path>
                <a:path w="896620" h="855344">
                  <a:moveTo>
                    <a:pt x="559308" y="0"/>
                  </a:moveTo>
                  <a:lnTo>
                    <a:pt x="896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bject 15"/>
            <p:cNvSpPr/>
            <p:nvPr/>
          </p:nvSpPr>
          <p:spPr>
            <a:xfrm>
              <a:off x="3678840" y="2154960"/>
              <a:ext cx="223920" cy="11062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24154" h="1106804">
                  <a:moveTo>
                    <a:pt x="224027" y="0"/>
                  </a:moveTo>
                  <a:lnTo>
                    <a:pt x="0" y="0"/>
                  </a:lnTo>
                  <a:lnTo>
                    <a:pt x="0" y="1106424"/>
                  </a:lnTo>
                  <a:lnTo>
                    <a:pt x="224027" y="1106424"/>
                  </a:lnTo>
                  <a:lnTo>
                    <a:pt x="22402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bject 16"/>
            <p:cNvSpPr/>
            <p:nvPr/>
          </p:nvSpPr>
          <p:spPr>
            <a:xfrm>
              <a:off x="4463640" y="2406240"/>
              <a:ext cx="169200" cy="569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69545" h="570230">
                  <a:moveTo>
                    <a:pt x="0" y="569976"/>
                  </a:moveTo>
                  <a:lnTo>
                    <a:pt x="169163" y="569976"/>
                  </a:lnTo>
                </a:path>
                <a:path w="169545" h="570230">
                  <a:moveTo>
                    <a:pt x="0" y="284988"/>
                  </a:moveTo>
                  <a:lnTo>
                    <a:pt x="169163" y="284988"/>
                  </a:lnTo>
                </a:path>
                <a:path w="169545" h="570230">
                  <a:moveTo>
                    <a:pt x="0" y="0"/>
                  </a:moveTo>
                  <a:lnTo>
                    <a:pt x="169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bject 17"/>
            <p:cNvSpPr/>
            <p:nvPr/>
          </p:nvSpPr>
          <p:spPr>
            <a:xfrm>
              <a:off x="4239720" y="2281320"/>
              <a:ext cx="223920" cy="979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224154" h="980439">
                  <a:moveTo>
                    <a:pt x="224028" y="0"/>
                  </a:moveTo>
                  <a:lnTo>
                    <a:pt x="0" y="0"/>
                  </a:lnTo>
                  <a:lnTo>
                    <a:pt x="0" y="979932"/>
                  </a:lnTo>
                  <a:lnTo>
                    <a:pt x="224028" y="979932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bject 18"/>
            <p:cNvSpPr/>
            <p:nvPr/>
          </p:nvSpPr>
          <p:spPr>
            <a:xfrm>
              <a:off x="708840" y="2121480"/>
              <a:ext cx="728640" cy="3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28980" h="0">
                  <a:moveTo>
                    <a:pt x="0" y="0"/>
                  </a:moveTo>
                  <a:lnTo>
                    <a:pt x="167640" y="0"/>
                  </a:lnTo>
                </a:path>
                <a:path w="728980" h="0">
                  <a:moveTo>
                    <a:pt x="391668" y="0"/>
                  </a:moveTo>
                  <a:lnTo>
                    <a:pt x="7284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bject 19"/>
            <p:cNvSpPr/>
            <p:nvPr/>
          </p:nvSpPr>
          <p:spPr>
            <a:xfrm>
              <a:off x="708840" y="1837080"/>
              <a:ext cx="728640" cy="3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28980" h="0">
                  <a:moveTo>
                    <a:pt x="0" y="0"/>
                  </a:moveTo>
                  <a:lnTo>
                    <a:pt x="728472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bject 20"/>
            <p:cNvSpPr/>
            <p:nvPr/>
          </p:nvSpPr>
          <p:spPr>
            <a:xfrm>
              <a:off x="708840" y="1830960"/>
              <a:ext cx="728640" cy="360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28980" h="3810">
                  <a:moveTo>
                    <a:pt x="0" y="0"/>
                  </a:moveTo>
                  <a:lnTo>
                    <a:pt x="728472" y="0"/>
                  </a:lnTo>
                </a:path>
                <a:path w="728980" h="3810">
                  <a:moveTo>
                    <a:pt x="0" y="3810"/>
                  </a:moveTo>
                  <a:lnTo>
                    <a:pt x="728472" y="381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bject 21"/>
            <p:cNvSpPr/>
            <p:nvPr/>
          </p:nvSpPr>
          <p:spPr>
            <a:xfrm>
              <a:off x="876240" y="1833480"/>
              <a:ext cx="223920" cy="4644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24155" h="464819">
                  <a:moveTo>
                    <a:pt x="224028" y="0"/>
                  </a:moveTo>
                  <a:lnTo>
                    <a:pt x="0" y="0"/>
                  </a:lnTo>
                  <a:lnTo>
                    <a:pt x="0" y="464819"/>
                  </a:lnTo>
                  <a:lnTo>
                    <a:pt x="224028" y="464819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bject 22"/>
            <p:cNvSpPr/>
            <p:nvPr/>
          </p:nvSpPr>
          <p:spPr>
            <a:xfrm>
              <a:off x="1661040" y="1837080"/>
              <a:ext cx="336960" cy="36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7185" h="0">
                  <a:moveTo>
                    <a:pt x="0" y="0"/>
                  </a:moveTo>
                  <a:lnTo>
                    <a:pt x="336803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bject 23"/>
            <p:cNvSpPr/>
            <p:nvPr/>
          </p:nvSpPr>
          <p:spPr>
            <a:xfrm>
              <a:off x="1661040" y="1830960"/>
              <a:ext cx="336960" cy="360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37185" h="3810">
                  <a:moveTo>
                    <a:pt x="0" y="0"/>
                  </a:moveTo>
                  <a:lnTo>
                    <a:pt x="336803" y="0"/>
                  </a:lnTo>
                </a:path>
                <a:path w="337185" h="3810">
                  <a:moveTo>
                    <a:pt x="0" y="3810"/>
                  </a:moveTo>
                  <a:lnTo>
                    <a:pt x="336803" y="381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bject 24"/>
            <p:cNvSpPr/>
            <p:nvPr/>
          </p:nvSpPr>
          <p:spPr>
            <a:xfrm>
              <a:off x="1437120" y="1885320"/>
              <a:ext cx="223920" cy="4359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24155" h="436244">
                  <a:moveTo>
                    <a:pt x="224028" y="0"/>
                  </a:moveTo>
                  <a:lnTo>
                    <a:pt x="0" y="0"/>
                  </a:lnTo>
                  <a:lnTo>
                    <a:pt x="0" y="435863"/>
                  </a:lnTo>
                  <a:lnTo>
                    <a:pt x="224028" y="435863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bject 25"/>
            <p:cNvSpPr/>
            <p:nvPr/>
          </p:nvSpPr>
          <p:spPr>
            <a:xfrm>
              <a:off x="2221920" y="1837080"/>
              <a:ext cx="896400" cy="36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6619" h="0">
                  <a:moveTo>
                    <a:pt x="0" y="0"/>
                  </a:moveTo>
                  <a:lnTo>
                    <a:pt x="336803" y="0"/>
                  </a:lnTo>
                </a:path>
                <a:path w="896619" h="0">
                  <a:moveTo>
                    <a:pt x="560832" y="0"/>
                  </a:moveTo>
                  <a:lnTo>
                    <a:pt x="896112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bject 26"/>
            <p:cNvSpPr/>
            <p:nvPr/>
          </p:nvSpPr>
          <p:spPr>
            <a:xfrm>
              <a:off x="2221920" y="1830960"/>
              <a:ext cx="896400" cy="360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96619" h="3810">
                  <a:moveTo>
                    <a:pt x="0" y="3810"/>
                  </a:moveTo>
                  <a:lnTo>
                    <a:pt x="896112" y="3810"/>
                  </a:lnTo>
                </a:path>
                <a:path w="896619" h="3810">
                  <a:moveTo>
                    <a:pt x="0" y="0"/>
                  </a:moveTo>
                  <a:lnTo>
                    <a:pt x="336803" y="0"/>
                  </a:lnTo>
                </a:path>
                <a:path w="896619" h="3810">
                  <a:moveTo>
                    <a:pt x="560832" y="0"/>
                  </a:moveTo>
                  <a:lnTo>
                    <a:pt x="896112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bject 27"/>
            <p:cNvSpPr/>
            <p:nvPr/>
          </p:nvSpPr>
          <p:spPr>
            <a:xfrm>
              <a:off x="1998000" y="1770840"/>
              <a:ext cx="223920" cy="383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224155" h="384175">
                  <a:moveTo>
                    <a:pt x="224028" y="0"/>
                  </a:moveTo>
                  <a:lnTo>
                    <a:pt x="0" y="0"/>
                  </a:lnTo>
                  <a:lnTo>
                    <a:pt x="0" y="384048"/>
                  </a:lnTo>
                  <a:lnTo>
                    <a:pt x="224028" y="38404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bject 28"/>
            <p:cNvSpPr/>
            <p:nvPr/>
          </p:nvSpPr>
          <p:spPr>
            <a:xfrm>
              <a:off x="2782800" y="2121480"/>
              <a:ext cx="334800" cy="36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5280" h="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bject 29"/>
            <p:cNvSpPr/>
            <p:nvPr/>
          </p:nvSpPr>
          <p:spPr>
            <a:xfrm>
              <a:off x="2558880" y="1833480"/>
              <a:ext cx="223920" cy="4644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24155" h="464819">
                  <a:moveTo>
                    <a:pt x="224028" y="0"/>
                  </a:moveTo>
                  <a:lnTo>
                    <a:pt x="0" y="0"/>
                  </a:lnTo>
                  <a:lnTo>
                    <a:pt x="0" y="464819"/>
                  </a:lnTo>
                  <a:lnTo>
                    <a:pt x="224028" y="464819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bject 30"/>
            <p:cNvSpPr/>
            <p:nvPr/>
          </p:nvSpPr>
          <p:spPr>
            <a:xfrm>
              <a:off x="3343680" y="1837080"/>
              <a:ext cx="334800" cy="36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5279" h="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bject 31"/>
            <p:cNvSpPr/>
            <p:nvPr/>
          </p:nvSpPr>
          <p:spPr>
            <a:xfrm>
              <a:off x="3343680" y="1830960"/>
              <a:ext cx="334800" cy="360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35279" h="3810">
                  <a:moveTo>
                    <a:pt x="0" y="3810"/>
                  </a:moveTo>
                  <a:lnTo>
                    <a:pt x="335280" y="3810"/>
                  </a:lnTo>
                </a:path>
                <a:path w="335279" h="381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bject 32"/>
            <p:cNvSpPr/>
            <p:nvPr/>
          </p:nvSpPr>
          <p:spPr>
            <a:xfrm>
              <a:off x="3117960" y="1885320"/>
              <a:ext cx="225720" cy="4359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26060" h="436244">
                  <a:moveTo>
                    <a:pt x="225551" y="0"/>
                  </a:moveTo>
                  <a:lnTo>
                    <a:pt x="0" y="0"/>
                  </a:lnTo>
                  <a:lnTo>
                    <a:pt x="0" y="435863"/>
                  </a:lnTo>
                  <a:lnTo>
                    <a:pt x="225551" y="435863"/>
                  </a:lnTo>
                  <a:lnTo>
                    <a:pt x="22555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bject 33"/>
            <p:cNvSpPr/>
            <p:nvPr/>
          </p:nvSpPr>
          <p:spPr>
            <a:xfrm>
              <a:off x="3903120" y="1834920"/>
              <a:ext cx="729720" cy="36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30250" h="3810">
                  <a:moveTo>
                    <a:pt x="0" y="3810"/>
                  </a:moveTo>
                  <a:lnTo>
                    <a:pt x="729996" y="3810"/>
                  </a:lnTo>
                </a:path>
                <a:path w="730250" h="3810">
                  <a:moveTo>
                    <a:pt x="0" y="0"/>
                  </a:moveTo>
                  <a:lnTo>
                    <a:pt x="729996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bject 34"/>
            <p:cNvSpPr/>
            <p:nvPr/>
          </p:nvSpPr>
          <p:spPr>
            <a:xfrm>
              <a:off x="3903120" y="1830960"/>
              <a:ext cx="729720" cy="36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30250" h="3810">
                  <a:moveTo>
                    <a:pt x="0" y="3810"/>
                  </a:moveTo>
                  <a:lnTo>
                    <a:pt x="729996" y="3810"/>
                  </a:lnTo>
                </a:path>
                <a:path w="730250" h="3810">
                  <a:moveTo>
                    <a:pt x="0" y="0"/>
                  </a:moveTo>
                  <a:lnTo>
                    <a:pt x="729996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bject 35"/>
            <p:cNvSpPr/>
            <p:nvPr/>
          </p:nvSpPr>
          <p:spPr>
            <a:xfrm>
              <a:off x="3678840" y="1770840"/>
              <a:ext cx="223920" cy="383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224154" h="384175">
                  <a:moveTo>
                    <a:pt x="224027" y="0"/>
                  </a:moveTo>
                  <a:lnTo>
                    <a:pt x="0" y="0"/>
                  </a:lnTo>
                  <a:lnTo>
                    <a:pt x="0" y="384048"/>
                  </a:lnTo>
                  <a:lnTo>
                    <a:pt x="224027" y="384048"/>
                  </a:lnTo>
                  <a:lnTo>
                    <a:pt x="22402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bject 36"/>
            <p:cNvSpPr/>
            <p:nvPr/>
          </p:nvSpPr>
          <p:spPr>
            <a:xfrm>
              <a:off x="4463640" y="2121480"/>
              <a:ext cx="169200" cy="36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9545" h="0">
                  <a:moveTo>
                    <a:pt x="0" y="0"/>
                  </a:moveTo>
                  <a:lnTo>
                    <a:pt x="169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bject 37"/>
            <p:cNvSpPr/>
            <p:nvPr/>
          </p:nvSpPr>
          <p:spPr>
            <a:xfrm>
              <a:off x="4239720" y="1967400"/>
              <a:ext cx="223920" cy="313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24154" h="314325">
                  <a:moveTo>
                    <a:pt x="224028" y="0"/>
                  </a:moveTo>
                  <a:lnTo>
                    <a:pt x="0" y="0"/>
                  </a:lnTo>
                  <a:lnTo>
                    <a:pt x="0" y="313943"/>
                  </a:lnTo>
                  <a:lnTo>
                    <a:pt x="224028" y="313943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bject 38"/>
            <p:cNvSpPr/>
            <p:nvPr/>
          </p:nvSpPr>
          <p:spPr>
            <a:xfrm>
              <a:off x="876240" y="1630800"/>
              <a:ext cx="3587400" cy="336960"/>
            </a:xfrm>
            <a:custGeom>
              <a:avLst/>
              <a:gdLst>
                <a:gd name="textAreaLeft" fmla="*/ 0 w 3587400"/>
                <a:gd name="textAreaRight" fmla="*/ 3587760 w 358740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87750" h="337185">
                  <a:moveTo>
                    <a:pt x="224028" y="22860"/>
                  </a:moveTo>
                  <a:lnTo>
                    <a:pt x="0" y="22860"/>
                  </a:lnTo>
                  <a:lnTo>
                    <a:pt x="0" y="202692"/>
                  </a:lnTo>
                  <a:lnTo>
                    <a:pt x="224028" y="202692"/>
                  </a:lnTo>
                  <a:lnTo>
                    <a:pt x="224028" y="22860"/>
                  </a:lnTo>
                  <a:close/>
                </a:path>
                <a:path w="3587750" h="337185">
                  <a:moveTo>
                    <a:pt x="784860" y="120396"/>
                  </a:moveTo>
                  <a:lnTo>
                    <a:pt x="560832" y="120396"/>
                  </a:lnTo>
                  <a:lnTo>
                    <a:pt x="560832" y="254508"/>
                  </a:lnTo>
                  <a:lnTo>
                    <a:pt x="784860" y="254508"/>
                  </a:lnTo>
                  <a:lnTo>
                    <a:pt x="784860" y="120396"/>
                  </a:lnTo>
                  <a:close/>
                </a:path>
                <a:path w="3587750" h="337185">
                  <a:moveTo>
                    <a:pt x="1345692" y="0"/>
                  </a:moveTo>
                  <a:lnTo>
                    <a:pt x="1121664" y="0"/>
                  </a:lnTo>
                  <a:lnTo>
                    <a:pt x="1121664" y="140208"/>
                  </a:lnTo>
                  <a:lnTo>
                    <a:pt x="1345692" y="140208"/>
                  </a:lnTo>
                  <a:lnTo>
                    <a:pt x="1345692" y="0"/>
                  </a:lnTo>
                  <a:close/>
                </a:path>
                <a:path w="3587750" h="337185">
                  <a:moveTo>
                    <a:pt x="1906524" y="22860"/>
                  </a:moveTo>
                  <a:lnTo>
                    <a:pt x="1682496" y="22860"/>
                  </a:lnTo>
                  <a:lnTo>
                    <a:pt x="1682496" y="202692"/>
                  </a:lnTo>
                  <a:lnTo>
                    <a:pt x="1906524" y="202692"/>
                  </a:lnTo>
                  <a:lnTo>
                    <a:pt x="1906524" y="22860"/>
                  </a:lnTo>
                  <a:close/>
                </a:path>
                <a:path w="3587750" h="337185">
                  <a:moveTo>
                    <a:pt x="2467356" y="120396"/>
                  </a:moveTo>
                  <a:lnTo>
                    <a:pt x="2241804" y="120396"/>
                  </a:lnTo>
                  <a:lnTo>
                    <a:pt x="2241804" y="254508"/>
                  </a:lnTo>
                  <a:lnTo>
                    <a:pt x="2467356" y="254508"/>
                  </a:lnTo>
                  <a:lnTo>
                    <a:pt x="2467356" y="120396"/>
                  </a:lnTo>
                  <a:close/>
                </a:path>
                <a:path w="3587750" h="337185">
                  <a:moveTo>
                    <a:pt x="3026664" y="0"/>
                  </a:moveTo>
                  <a:lnTo>
                    <a:pt x="2802636" y="0"/>
                  </a:lnTo>
                  <a:lnTo>
                    <a:pt x="2802636" y="140208"/>
                  </a:lnTo>
                  <a:lnTo>
                    <a:pt x="3026664" y="140208"/>
                  </a:lnTo>
                  <a:lnTo>
                    <a:pt x="3026664" y="0"/>
                  </a:lnTo>
                  <a:close/>
                </a:path>
                <a:path w="3587750" h="337185">
                  <a:moveTo>
                    <a:pt x="3587496" y="205740"/>
                  </a:moveTo>
                  <a:lnTo>
                    <a:pt x="3363468" y="205740"/>
                  </a:lnTo>
                  <a:lnTo>
                    <a:pt x="3363468" y="336804"/>
                  </a:lnTo>
                  <a:lnTo>
                    <a:pt x="3587496" y="336804"/>
                  </a:lnTo>
                  <a:lnTo>
                    <a:pt x="3587496" y="20574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bject 39"/>
            <p:cNvSpPr/>
            <p:nvPr/>
          </p:nvSpPr>
          <p:spPr>
            <a:xfrm>
              <a:off x="667440" y="1266480"/>
              <a:ext cx="3965040" cy="2036160"/>
            </a:xfrm>
            <a:custGeom>
              <a:avLst/>
              <a:gdLst>
                <a:gd name="textAreaLeft" fmla="*/ 0 w 3965040"/>
                <a:gd name="textAreaRight" fmla="*/ 3965400 w 396504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3965575" h="2036445">
                  <a:moveTo>
                    <a:pt x="41147" y="284988"/>
                  </a:moveTo>
                  <a:lnTo>
                    <a:pt x="3965448" y="284988"/>
                  </a:lnTo>
                </a:path>
                <a:path w="3965575" h="2036445">
                  <a:moveTo>
                    <a:pt x="41147" y="0"/>
                  </a:moveTo>
                  <a:lnTo>
                    <a:pt x="3965448" y="0"/>
                  </a:lnTo>
                </a:path>
                <a:path w="3965575" h="2036445">
                  <a:moveTo>
                    <a:pt x="41147" y="1994915"/>
                  </a:moveTo>
                  <a:lnTo>
                    <a:pt x="41147" y="0"/>
                  </a:lnTo>
                </a:path>
                <a:path w="3965575" h="2036445">
                  <a:moveTo>
                    <a:pt x="0" y="1994915"/>
                  </a:moveTo>
                  <a:lnTo>
                    <a:pt x="41147" y="1994915"/>
                  </a:lnTo>
                </a:path>
                <a:path w="3965575" h="2036445">
                  <a:moveTo>
                    <a:pt x="0" y="1709927"/>
                  </a:moveTo>
                  <a:lnTo>
                    <a:pt x="41147" y="1709927"/>
                  </a:lnTo>
                </a:path>
                <a:path w="3965575" h="2036445">
                  <a:moveTo>
                    <a:pt x="0" y="1424939"/>
                  </a:moveTo>
                  <a:lnTo>
                    <a:pt x="41147" y="1424939"/>
                  </a:lnTo>
                </a:path>
                <a:path w="3965575" h="2036445">
                  <a:moveTo>
                    <a:pt x="0" y="1139952"/>
                  </a:moveTo>
                  <a:lnTo>
                    <a:pt x="41147" y="1139952"/>
                  </a:lnTo>
                </a:path>
                <a:path w="3965575" h="2036445">
                  <a:moveTo>
                    <a:pt x="0" y="854963"/>
                  </a:moveTo>
                  <a:lnTo>
                    <a:pt x="41147" y="854963"/>
                  </a:lnTo>
                </a:path>
                <a:path w="3965575" h="2036445">
                  <a:moveTo>
                    <a:pt x="0" y="569976"/>
                  </a:moveTo>
                  <a:lnTo>
                    <a:pt x="41147" y="569976"/>
                  </a:lnTo>
                </a:path>
                <a:path w="3965575" h="2036445">
                  <a:moveTo>
                    <a:pt x="0" y="284988"/>
                  </a:moveTo>
                  <a:lnTo>
                    <a:pt x="41147" y="284988"/>
                  </a:lnTo>
                </a:path>
                <a:path w="3965575" h="2036445">
                  <a:moveTo>
                    <a:pt x="0" y="0"/>
                  </a:moveTo>
                  <a:lnTo>
                    <a:pt x="41147" y="0"/>
                  </a:lnTo>
                </a:path>
                <a:path w="3965575" h="2036445">
                  <a:moveTo>
                    <a:pt x="41147" y="1994915"/>
                  </a:moveTo>
                  <a:lnTo>
                    <a:pt x="3965448" y="1994915"/>
                  </a:lnTo>
                </a:path>
                <a:path w="3965575" h="2036445">
                  <a:moveTo>
                    <a:pt x="41147" y="1994915"/>
                  </a:moveTo>
                  <a:lnTo>
                    <a:pt x="41147" y="2036064"/>
                  </a:lnTo>
                </a:path>
                <a:path w="3965575" h="2036445">
                  <a:moveTo>
                    <a:pt x="601979" y="1994915"/>
                  </a:moveTo>
                  <a:lnTo>
                    <a:pt x="601979" y="2036064"/>
                  </a:lnTo>
                </a:path>
                <a:path w="3965575" h="2036445">
                  <a:moveTo>
                    <a:pt x="1161288" y="1994915"/>
                  </a:moveTo>
                  <a:lnTo>
                    <a:pt x="1161288" y="2036064"/>
                  </a:lnTo>
                </a:path>
                <a:path w="3965575" h="2036445">
                  <a:moveTo>
                    <a:pt x="1722120" y="1994915"/>
                  </a:moveTo>
                  <a:lnTo>
                    <a:pt x="1722120" y="2036064"/>
                  </a:lnTo>
                </a:path>
                <a:path w="3965575" h="2036445">
                  <a:moveTo>
                    <a:pt x="2282952" y="1994915"/>
                  </a:moveTo>
                  <a:lnTo>
                    <a:pt x="2282952" y="2036064"/>
                  </a:lnTo>
                </a:path>
                <a:path w="3965575" h="2036445">
                  <a:moveTo>
                    <a:pt x="2843784" y="1994915"/>
                  </a:moveTo>
                  <a:lnTo>
                    <a:pt x="2843784" y="2036064"/>
                  </a:lnTo>
                </a:path>
                <a:path w="3965575" h="2036445">
                  <a:moveTo>
                    <a:pt x="3404616" y="1994915"/>
                  </a:moveTo>
                  <a:lnTo>
                    <a:pt x="3404616" y="2036064"/>
                  </a:lnTo>
                </a:path>
                <a:path w="3965575" h="2036445">
                  <a:moveTo>
                    <a:pt x="3965448" y="1994915"/>
                  </a:moveTo>
                  <a:lnTo>
                    <a:pt x="3965448" y="203606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object 40"/>
          <p:cNvSpPr/>
          <p:nvPr/>
        </p:nvSpPr>
        <p:spPr>
          <a:xfrm>
            <a:off x="879480" y="2684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bject 41"/>
          <p:cNvSpPr/>
          <p:nvPr/>
        </p:nvSpPr>
        <p:spPr>
          <a:xfrm>
            <a:off x="1440000" y="2695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bject 42"/>
          <p:cNvSpPr/>
          <p:nvPr/>
        </p:nvSpPr>
        <p:spPr>
          <a:xfrm>
            <a:off x="2000880" y="26125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bject 43"/>
          <p:cNvSpPr/>
          <p:nvPr/>
        </p:nvSpPr>
        <p:spPr>
          <a:xfrm>
            <a:off x="2561400" y="2684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bject 44"/>
          <p:cNvSpPr/>
          <p:nvPr/>
        </p:nvSpPr>
        <p:spPr>
          <a:xfrm>
            <a:off x="3122280" y="2695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bject 45"/>
          <p:cNvSpPr/>
          <p:nvPr/>
        </p:nvSpPr>
        <p:spPr>
          <a:xfrm>
            <a:off x="3682800" y="26125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bject 46"/>
          <p:cNvSpPr/>
          <p:nvPr/>
        </p:nvSpPr>
        <p:spPr>
          <a:xfrm>
            <a:off x="4243680" y="26755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bject 47"/>
          <p:cNvSpPr/>
          <p:nvPr/>
        </p:nvSpPr>
        <p:spPr>
          <a:xfrm>
            <a:off x="879480" y="19699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bject 48"/>
          <p:cNvSpPr/>
          <p:nvPr/>
        </p:nvSpPr>
        <p:spPr>
          <a:xfrm>
            <a:off x="1440000" y="20070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bject 49"/>
          <p:cNvSpPr/>
          <p:nvPr/>
        </p:nvSpPr>
        <p:spPr>
          <a:xfrm>
            <a:off x="2000880" y="1866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bject 50"/>
          <p:cNvSpPr/>
          <p:nvPr/>
        </p:nvSpPr>
        <p:spPr>
          <a:xfrm>
            <a:off x="2561400" y="19699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bject 51"/>
          <p:cNvSpPr/>
          <p:nvPr/>
        </p:nvSpPr>
        <p:spPr>
          <a:xfrm>
            <a:off x="3122280" y="20070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bject 52"/>
          <p:cNvSpPr/>
          <p:nvPr/>
        </p:nvSpPr>
        <p:spPr>
          <a:xfrm>
            <a:off x="3682800" y="1866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bject 53"/>
          <p:cNvSpPr/>
          <p:nvPr/>
        </p:nvSpPr>
        <p:spPr>
          <a:xfrm>
            <a:off x="911520" y="1647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bject 54"/>
          <p:cNvSpPr/>
          <p:nvPr/>
        </p:nvSpPr>
        <p:spPr>
          <a:xfrm>
            <a:off x="1472040" y="17215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bject 55"/>
          <p:cNvSpPr/>
          <p:nvPr/>
        </p:nvSpPr>
        <p:spPr>
          <a:xfrm>
            <a:off x="2032920" y="16048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bject 56"/>
          <p:cNvSpPr/>
          <p:nvPr/>
        </p:nvSpPr>
        <p:spPr>
          <a:xfrm>
            <a:off x="2593440" y="1647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bject 57"/>
          <p:cNvSpPr/>
          <p:nvPr/>
        </p:nvSpPr>
        <p:spPr>
          <a:xfrm>
            <a:off x="3154320" y="17215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bject 58"/>
          <p:cNvSpPr/>
          <p:nvPr/>
        </p:nvSpPr>
        <p:spPr>
          <a:xfrm>
            <a:off x="3714840" y="16048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bject 59"/>
          <p:cNvSpPr/>
          <p:nvPr/>
        </p:nvSpPr>
        <p:spPr>
          <a:xfrm>
            <a:off x="4243680" y="1734840"/>
            <a:ext cx="21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440" bIns="0" anchor="t">
            <a:spAutoFit/>
          </a:bodyPr>
          <a:p>
            <a:pPr marL="44280">
              <a:lnSpc>
                <a:spcPct val="100000"/>
              </a:lnSpc>
              <a:spcBef>
                <a:spcPts val="649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5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bject 60"/>
          <p:cNvSpPr/>
          <p:nvPr/>
        </p:nvSpPr>
        <p:spPr>
          <a:xfrm>
            <a:off x="513360" y="31593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bject 61"/>
          <p:cNvSpPr/>
          <p:nvPr/>
        </p:nvSpPr>
        <p:spPr>
          <a:xfrm>
            <a:off x="384480" y="28738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bject 62"/>
          <p:cNvSpPr/>
          <p:nvPr/>
        </p:nvSpPr>
        <p:spPr>
          <a:xfrm>
            <a:off x="384480" y="25887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bject 63"/>
          <p:cNvSpPr/>
          <p:nvPr/>
        </p:nvSpPr>
        <p:spPr>
          <a:xfrm>
            <a:off x="384480" y="23036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bject 64"/>
          <p:cNvSpPr/>
          <p:nvPr/>
        </p:nvSpPr>
        <p:spPr>
          <a:xfrm>
            <a:off x="384480" y="20185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bject 65"/>
          <p:cNvSpPr/>
          <p:nvPr/>
        </p:nvSpPr>
        <p:spPr>
          <a:xfrm>
            <a:off x="384480" y="17330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bject 66"/>
          <p:cNvSpPr/>
          <p:nvPr/>
        </p:nvSpPr>
        <p:spPr>
          <a:xfrm>
            <a:off x="384480" y="14479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bject 67"/>
          <p:cNvSpPr/>
          <p:nvPr/>
        </p:nvSpPr>
        <p:spPr>
          <a:xfrm>
            <a:off x="384480" y="11628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bject 68"/>
          <p:cNvSpPr/>
          <p:nvPr/>
        </p:nvSpPr>
        <p:spPr>
          <a:xfrm>
            <a:off x="84708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bject 69"/>
          <p:cNvSpPr/>
          <p:nvPr/>
        </p:nvSpPr>
        <p:spPr>
          <a:xfrm>
            <a:off x="140760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bject 70"/>
          <p:cNvSpPr/>
          <p:nvPr/>
        </p:nvSpPr>
        <p:spPr>
          <a:xfrm>
            <a:off x="196848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bject 71"/>
          <p:cNvSpPr/>
          <p:nvPr/>
        </p:nvSpPr>
        <p:spPr>
          <a:xfrm>
            <a:off x="2529000" y="332460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bject 72"/>
          <p:cNvSpPr/>
          <p:nvPr/>
        </p:nvSpPr>
        <p:spPr>
          <a:xfrm>
            <a:off x="308988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bject 73"/>
          <p:cNvSpPr/>
          <p:nvPr/>
        </p:nvSpPr>
        <p:spPr>
          <a:xfrm>
            <a:off x="365076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bject 74"/>
          <p:cNvSpPr/>
          <p:nvPr/>
        </p:nvSpPr>
        <p:spPr>
          <a:xfrm>
            <a:off x="421128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bject 75"/>
          <p:cNvSpPr/>
          <p:nvPr/>
        </p:nvSpPr>
        <p:spPr>
          <a:xfrm>
            <a:off x="4835520" y="20880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bject 76"/>
          <p:cNvSpPr/>
          <p:nvPr/>
        </p:nvSpPr>
        <p:spPr>
          <a:xfrm>
            <a:off x="4835520" y="231804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object 77"/>
          <p:cNvSpPr/>
          <p:nvPr/>
        </p:nvSpPr>
        <p:spPr>
          <a:xfrm>
            <a:off x="4835520" y="25466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bject 78"/>
          <p:cNvSpPr/>
          <p:nvPr/>
        </p:nvSpPr>
        <p:spPr>
          <a:xfrm>
            <a:off x="4923360" y="1942200"/>
            <a:ext cx="6760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АБС ПС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СОН/УПП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object 79"/>
          <p:cNvGrpSpPr/>
          <p:nvPr/>
        </p:nvGrpSpPr>
        <p:grpSpPr>
          <a:xfrm>
            <a:off x="3241440" y="4476600"/>
            <a:ext cx="1830600" cy="1830600"/>
            <a:chOff x="3241440" y="4476600"/>
            <a:chExt cx="1830600" cy="1830600"/>
          </a:xfrm>
        </p:grpSpPr>
        <p:sp>
          <p:nvSpPr>
            <p:cNvPr id="886" name="object 80"/>
            <p:cNvSpPr/>
            <p:nvPr/>
          </p:nvSpPr>
          <p:spPr>
            <a:xfrm>
              <a:off x="4156560" y="4476600"/>
              <a:ext cx="915480" cy="182844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1828440"/>
                <a:gd name="textAreaBottom" fmla="*/ 1828800 h 1828440"/>
              </a:gdLst>
              <a:ahLst/>
              <a:rect l="textAreaLeft" t="textAreaTop" r="textAreaRight" b="textAreaBottom"/>
              <a:pathLst>
                <a:path w="915670" h="1828800">
                  <a:moveTo>
                    <a:pt x="0" y="0"/>
                  </a:moveTo>
                  <a:lnTo>
                    <a:pt x="0" y="915161"/>
                  </a:lnTo>
                  <a:lnTo>
                    <a:pt x="57403" y="1828520"/>
                  </a:lnTo>
                  <a:lnTo>
                    <a:pt x="105260" y="1824266"/>
                  </a:lnTo>
                  <a:lnTo>
                    <a:pt x="152345" y="1817612"/>
                  </a:lnTo>
                  <a:lnTo>
                    <a:pt x="198600" y="1808621"/>
                  </a:lnTo>
                  <a:lnTo>
                    <a:pt x="243964" y="1797357"/>
                  </a:lnTo>
                  <a:lnTo>
                    <a:pt x="288378" y="1783884"/>
                  </a:lnTo>
                  <a:lnTo>
                    <a:pt x="331782" y="1768265"/>
                  </a:lnTo>
                  <a:lnTo>
                    <a:pt x="374117" y="1750564"/>
                  </a:lnTo>
                  <a:lnTo>
                    <a:pt x="415322" y="1730844"/>
                  </a:lnTo>
                  <a:lnTo>
                    <a:pt x="455338" y="1709170"/>
                  </a:lnTo>
                  <a:lnTo>
                    <a:pt x="494105" y="1685605"/>
                  </a:lnTo>
                  <a:lnTo>
                    <a:pt x="531563" y="1660212"/>
                  </a:lnTo>
                  <a:lnTo>
                    <a:pt x="567653" y="1633055"/>
                  </a:lnTo>
                  <a:lnTo>
                    <a:pt x="602315" y="1604198"/>
                  </a:lnTo>
                  <a:lnTo>
                    <a:pt x="635488" y="1573705"/>
                  </a:lnTo>
                  <a:lnTo>
                    <a:pt x="667115" y="1541638"/>
                  </a:lnTo>
                  <a:lnTo>
                    <a:pt x="697133" y="1508062"/>
                  </a:lnTo>
                  <a:lnTo>
                    <a:pt x="725485" y="1473041"/>
                  </a:lnTo>
                  <a:lnTo>
                    <a:pt x="752110" y="1436638"/>
                  </a:lnTo>
                  <a:lnTo>
                    <a:pt x="776948" y="1398916"/>
                  </a:lnTo>
                  <a:lnTo>
                    <a:pt x="799940" y="1359939"/>
                  </a:lnTo>
                  <a:lnTo>
                    <a:pt x="821025" y="1319771"/>
                  </a:lnTo>
                  <a:lnTo>
                    <a:pt x="840145" y="1278476"/>
                  </a:lnTo>
                  <a:lnTo>
                    <a:pt x="857239" y="1236117"/>
                  </a:lnTo>
                  <a:lnTo>
                    <a:pt x="872248" y="1192758"/>
                  </a:lnTo>
                  <a:lnTo>
                    <a:pt x="885111" y="1148462"/>
                  </a:lnTo>
                  <a:lnTo>
                    <a:pt x="895770" y="1103293"/>
                  </a:lnTo>
                  <a:lnTo>
                    <a:pt x="904164" y="1057315"/>
                  </a:lnTo>
                  <a:lnTo>
                    <a:pt x="910234" y="1010591"/>
                  </a:lnTo>
                  <a:lnTo>
                    <a:pt x="913920" y="963186"/>
                  </a:lnTo>
                  <a:lnTo>
                    <a:pt x="915162" y="915161"/>
                  </a:lnTo>
                  <a:lnTo>
                    <a:pt x="913893" y="866555"/>
                  </a:lnTo>
                  <a:lnTo>
                    <a:pt x="910128" y="818611"/>
                  </a:lnTo>
                  <a:lnTo>
                    <a:pt x="903932" y="771390"/>
                  </a:lnTo>
                  <a:lnTo>
                    <a:pt x="895367" y="724957"/>
                  </a:lnTo>
                  <a:lnTo>
                    <a:pt x="884496" y="679375"/>
                  </a:lnTo>
                  <a:lnTo>
                    <a:pt x="871383" y="634706"/>
                  </a:lnTo>
                  <a:lnTo>
                    <a:pt x="856091" y="591015"/>
                  </a:lnTo>
                  <a:lnTo>
                    <a:pt x="838683" y="548365"/>
                  </a:lnTo>
                  <a:lnTo>
                    <a:pt x="819223" y="506818"/>
                  </a:lnTo>
                  <a:lnTo>
                    <a:pt x="797774" y="466438"/>
                  </a:lnTo>
                  <a:lnTo>
                    <a:pt x="774400" y="427288"/>
                  </a:lnTo>
                  <a:lnTo>
                    <a:pt x="749162" y="389432"/>
                  </a:lnTo>
                  <a:lnTo>
                    <a:pt x="722126" y="352932"/>
                  </a:lnTo>
                  <a:lnTo>
                    <a:pt x="693354" y="317852"/>
                  </a:lnTo>
                  <a:lnTo>
                    <a:pt x="662910" y="284256"/>
                  </a:lnTo>
                  <a:lnTo>
                    <a:pt x="630856" y="252205"/>
                  </a:lnTo>
                  <a:lnTo>
                    <a:pt x="597257" y="221764"/>
                  </a:lnTo>
                  <a:lnTo>
                    <a:pt x="562175" y="192996"/>
                  </a:lnTo>
                  <a:lnTo>
                    <a:pt x="525674" y="165964"/>
                  </a:lnTo>
                  <a:lnTo>
                    <a:pt x="487816" y="140730"/>
                  </a:lnTo>
                  <a:lnTo>
                    <a:pt x="448666" y="117360"/>
                  </a:lnTo>
                  <a:lnTo>
                    <a:pt x="408287" y="95915"/>
                  </a:lnTo>
                  <a:lnTo>
                    <a:pt x="366742" y="76459"/>
                  </a:lnTo>
                  <a:lnTo>
                    <a:pt x="324094" y="59055"/>
                  </a:lnTo>
                  <a:lnTo>
                    <a:pt x="280407" y="43767"/>
                  </a:lnTo>
                  <a:lnTo>
                    <a:pt x="235743" y="30657"/>
                  </a:lnTo>
                  <a:lnTo>
                    <a:pt x="190167" y="19789"/>
                  </a:lnTo>
                  <a:lnTo>
                    <a:pt x="143741" y="11226"/>
                  </a:lnTo>
                  <a:lnTo>
                    <a:pt x="96529" y="5031"/>
                  </a:lnTo>
                  <a:lnTo>
                    <a:pt x="48594" y="1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bject 81"/>
            <p:cNvSpPr/>
            <p:nvPr/>
          </p:nvSpPr>
          <p:spPr>
            <a:xfrm>
              <a:off x="3489480" y="5391720"/>
              <a:ext cx="724320" cy="915480"/>
            </a:xfrm>
            <a:custGeom>
              <a:avLst/>
              <a:gdLst>
                <a:gd name="textAreaLeft" fmla="*/ 0 w 724320"/>
                <a:gd name="textAreaRight" fmla="*/ 724680 w 72432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724535" h="915670">
                  <a:moveTo>
                    <a:pt x="667131" y="0"/>
                  </a:moveTo>
                  <a:lnTo>
                    <a:pt x="0" y="626478"/>
                  </a:lnTo>
                  <a:lnTo>
                    <a:pt x="35912" y="662654"/>
                  </a:lnTo>
                  <a:lnTo>
                    <a:pt x="73569" y="696594"/>
                  </a:lnTo>
                  <a:lnTo>
                    <a:pt x="112866" y="728254"/>
                  </a:lnTo>
                  <a:lnTo>
                    <a:pt x="153695" y="757594"/>
                  </a:lnTo>
                  <a:lnTo>
                    <a:pt x="195951" y="784571"/>
                  </a:lnTo>
                  <a:lnTo>
                    <a:pt x="239527" y="809143"/>
                  </a:lnTo>
                  <a:lnTo>
                    <a:pt x="284317" y="831269"/>
                  </a:lnTo>
                  <a:lnTo>
                    <a:pt x="330215" y="850906"/>
                  </a:lnTo>
                  <a:lnTo>
                    <a:pt x="377115" y="868012"/>
                  </a:lnTo>
                  <a:lnTo>
                    <a:pt x="424910" y="882546"/>
                  </a:lnTo>
                  <a:lnTo>
                    <a:pt x="473494" y="894464"/>
                  </a:lnTo>
                  <a:lnTo>
                    <a:pt x="522761" y="903727"/>
                  </a:lnTo>
                  <a:lnTo>
                    <a:pt x="572605" y="910291"/>
                  </a:lnTo>
                  <a:lnTo>
                    <a:pt x="622919" y="914114"/>
                  </a:lnTo>
                  <a:lnTo>
                    <a:pt x="673598" y="915155"/>
                  </a:lnTo>
                  <a:lnTo>
                    <a:pt x="724535" y="913371"/>
                  </a:lnTo>
                  <a:lnTo>
                    <a:pt x="66713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bject 82"/>
            <p:cNvSpPr/>
            <p:nvPr/>
          </p:nvSpPr>
          <p:spPr>
            <a:xfrm>
              <a:off x="3243240" y="5391720"/>
              <a:ext cx="913320" cy="62640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913764" h="626745">
                  <a:moveTo>
                    <a:pt x="913384" y="0"/>
                  </a:moveTo>
                  <a:lnTo>
                    <a:pt x="0" y="57403"/>
                  </a:lnTo>
                  <a:lnTo>
                    <a:pt x="4380" y="106250"/>
                  </a:lnTo>
                  <a:lnTo>
                    <a:pt x="11338" y="154597"/>
                  </a:lnTo>
                  <a:lnTo>
                    <a:pt x="20834" y="202351"/>
                  </a:lnTo>
                  <a:lnTo>
                    <a:pt x="32826" y="249417"/>
                  </a:lnTo>
                  <a:lnTo>
                    <a:pt x="47272" y="295700"/>
                  </a:lnTo>
                  <a:lnTo>
                    <a:pt x="64131" y="341108"/>
                  </a:lnTo>
                  <a:lnTo>
                    <a:pt x="83363" y="385544"/>
                  </a:lnTo>
                  <a:lnTo>
                    <a:pt x="104925" y="428914"/>
                  </a:lnTo>
                  <a:lnTo>
                    <a:pt x="128777" y="471125"/>
                  </a:lnTo>
                  <a:lnTo>
                    <a:pt x="154876" y="512081"/>
                  </a:lnTo>
                  <a:lnTo>
                    <a:pt x="183183" y="551688"/>
                  </a:lnTo>
                  <a:lnTo>
                    <a:pt x="213656" y="589852"/>
                  </a:lnTo>
                  <a:lnTo>
                    <a:pt x="246252" y="626478"/>
                  </a:lnTo>
                  <a:lnTo>
                    <a:pt x="913384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bject 83"/>
            <p:cNvSpPr/>
            <p:nvPr/>
          </p:nvSpPr>
          <p:spPr>
            <a:xfrm>
              <a:off x="3241440" y="4476600"/>
              <a:ext cx="915480" cy="97236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972360"/>
                <a:gd name="textAreaBottom" fmla="*/ 972720 h 972360"/>
              </a:gdLst>
              <a:ahLst/>
              <a:rect l="textAreaLeft" t="textAreaTop" r="textAreaRight" b="textAreaBottom"/>
              <a:pathLst>
                <a:path w="915670" h="972820">
                  <a:moveTo>
                    <a:pt x="915171" y="0"/>
                  </a:moveTo>
                  <a:lnTo>
                    <a:pt x="857640" y="1777"/>
                  </a:lnTo>
                  <a:lnTo>
                    <a:pt x="809211" y="6097"/>
                  </a:lnTo>
                  <a:lnTo>
                    <a:pt x="761599" y="12865"/>
                  </a:lnTo>
                  <a:lnTo>
                    <a:pt x="714862" y="22015"/>
                  </a:lnTo>
                  <a:lnTo>
                    <a:pt x="669060" y="33479"/>
                  </a:lnTo>
                  <a:lnTo>
                    <a:pt x="624251" y="47191"/>
                  </a:lnTo>
                  <a:lnTo>
                    <a:pt x="580496" y="63083"/>
                  </a:lnTo>
                  <a:lnTo>
                    <a:pt x="537853" y="81088"/>
                  </a:lnTo>
                  <a:lnTo>
                    <a:pt x="496381" y="101139"/>
                  </a:lnTo>
                  <a:lnTo>
                    <a:pt x="456139" y="123169"/>
                  </a:lnTo>
                  <a:lnTo>
                    <a:pt x="417186" y="147110"/>
                  </a:lnTo>
                  <a:lnTo>
                    <a:pt x="379583" y="172896"/>
                  </a:lnTo>
                  <a:lnTo>
                    <a:pt x="343387" y="200460"/>
                  </a:lnTo>
                  <a:lnTo>
                    <a:pt x="308658" y="229733"/>
                  </a:lnTo>
                  <a:lnTo>
                    <a:pt x="275454" y="260650"/>
                  </a:lnTo>
                  <a:lnTo>
                    <a:pt x="243836" y="293143"/>
                  </a:lnTo>
                  <a:lnTo>
                    <a:pt x="213863" y="327144"/>
                  </a:lnTo>
                  <a:lnTo>
                    <a:pt x="185593" y="362587"/>
                  </a:lnTo>
                  <a:lnTo>
                    <a:pt x="159085" y="399405"/>
                  </a:lnTo>
                  <a:lnTo>
                    <a:pt x="134399" y="437530"/>
                  </a:lnTo>
                  <a:lnTo>
                    <a:pt x="111594" y="476895"/>
                  </a:lnTo>
                  <a:lnTo>
                    <a:pt x="90729" y="517433"/>
                  </a:lnTo>
                  <a:lnTo>
                    <a:pt x="71863" y="559078"/>
                  </a:lnTo>
                  <a:lnTo>
                    <a:pt x="55055" y="601761"/>
                  </a:lnTo>
                  <a:lnTo>
                    <a:pt x="40365" y="645416"/>
                  </a:lnTo>
                  <a:lnTo>
                    <a:pt x="27851" y="689975"/>
                  </a:lnTo>
                  <a:lnTo>
                    <a:pt x="17573" y="735371"/>
                  </a:lnTo>
                  <a:lnTo>
                    <a:pt x="9589" y="781538"/>
                  </a:lnTo>
                  <a:lnTo>
                    <a:pt x="3960" y="828408"/>
                  </a:lnTo>
                  <a:lnTo>
                    <a:pt x="744" y="875914"/>
                  </a:lnTo>
                  <a:lnTo>
                    <a:pt x="0" y="923989"/>
                  </a:lnTo>
                  <a:lnTo>
                    <a:pt x="1787" y="972565"/>
                  </a:lnTo>
                  <a:lnTo>
                    <a:pt x="915171" y="915161"/>
                  </a:lnTo>
                  <a:lnTo>
                    <a:pt x="91517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0" name="object 84"/>
          <p:cNvSpPr/>
          <p:nvPr/>
        </p:nvSpPr>
        <p:spPr>
          <a:xfrm>
            <a:off x="4370400" y="5024520"/>
            <a:ext cx="4917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Бытовая техника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bject 85"/>
          <p:cNvSpPr/>
          <p:nvPr/>
        </p:nvSpPr>
        <p:spPr>
          <a:xfrm>
            <a:off x="3813480" y="6074280"/>
            <a:ext cx="2466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bject 86"/>
          <p:cNvSpPr/>
          <p:nvPr/>
        </p:nvSpPr>
        <p:spPr>
          <a:xfrm>
            <a:off x="3147120" y="5477400"/>
            <a:ext cx="57564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Автоп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bject 87"/>
          <p:cNvSpPr/>
          <p:nvPr/>
        </p:nvSpPr>
        <p:spPr>
          <a:xfrm>
            <a:off x="3421080" y="4805280"/>
            <a:ext cx="5731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Экст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bject 88"/>
          <p:cNvSpPr/>
          <p:nvPr/>
        </p:nvSpPr>
        <p:spPr>
          <a:xfrm>
            <a:off x="486720" y="807120"/>
            <a:ext cx="433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object 89"/>
          <p:cNvGrpSpPr/>
          <p:nvPr/>
        </p:nvGrpSpPr>
        <p:grpSpPr>
          <a:xfrm>
            <a:off x="636840" y="4534560"/>
            <a:ext cx="1712880" cy="1712880"/>
            <a:chOff x="636840" y="4534560"/>
            <a:chExt cx="1712880" cy="1712880"/>
          </a:xfrm>
        </p:grpSpPr>
        <p:sp>
          <p:nvSpPr>
            <p:cNvPr id="896" name="object 90"/>
            <p:cNvSpPr/>
            <p:nvPr/>
          </p:nvSpPr>
          <p:spPr>
            <a:xfrm>
              <a:off x="766440" y="4534560"/>
              <a:ext cx="1583280" cy="1712880"/>
            </a:xfrm>
            <a:custGeom>
              <a:avLst/>
              <a:gdLst>
                <a:gd name="textAreaLeft" fmla="*/ 0 w 1583280"/>
                <a:gd name="textAreaRight" fmla="*/ 1583640 w 158328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1583689" h="1713229">
                  <a:moveTo>
                    <a:pt x="727011" y="0"/>
                  </a:moveTo>
                  <a:lnTo>
                    <a:pt x="727011" y="856360"/>
                  </a:lnTo>
                  <a:lnTo>
                    <a:pt x="0" y="1309052"/>
                  </a:lnTo>
                  <a:lnTo>
                    <a:pt x="27138" y="1349984"/>
                  </a:lnTo>
                  <a:lnTo>
                    <a:pt x="56372" y="1389036"/>
                  </a:lnTo>
                  <a:lnTo>
                    <a:pt x="87599" y="1426153"/>
                  </a:lnTo>
                  <a:lnTo>
                    <a:pt x="120720" y="1461280"/>
                  </a:lnTo>
                  <a:lnTo>
                    <a:pt x="155634" y="1494360"/>
                  </a:lnTo>
                  <a:lnTo>
                    <a:pt x="192240" y="1525338"/>
                  </a:lnTo>
                  <a:lnTo>
                    <a:pt x="230439" y="1554157"/>
                  </a:lnTo>
                  <a:lnTo>
                    <a:pt x="270130" y="1580764"/>
                  </a:lnTo>
                  <a:lnTo>
                    <a:pt x="311213" y="1605100"/>
                  </a:lnTo>
                  <a:lnTo>
                    <a:pt x="353587" y="1627112"/>
                  </a:lnTo>
                  <a:lnTo>
                    <a:pt x="397151" y="1646742"/>
                  </a:lnTo>
                  <a:lnTo>
                    <a:pt x="441806" y="1663936"/>
                  </a:lnTo>
                  <a:lnTo>
                    <a:pt x="487451" y="1678638"/>
                  </a:lnTo>
                  <a:lnTo>
                    <a:pt x="533985" y="1690791"/>
                  </a:lnTo>
                  <a:lnTo>
                    <a:pt x="581309" y="1700341"/>
                  </a:lnTo>
                  <a:lnTo>
                    <a:pt x="629321" y="1707231"/>
                  </a:lnTo>
                  <a:lnTo>
                    <a:pt x="677922" y="1711406"/>
                  </a:lnTo>
                  <a:lnTo>
                    <a:pt x="727011" y="1712810"/>
                  </a:lnTo>
                  <a:lnTo>
                    <a:pt x="775606" y="1711455"/>
                  </a:lnTo>
                  <a:lnTo>
                    <a:pt x="823490" y="1707436"/>
                  </a:lnTo>
                  <a:lnTo>
                    <a:pt x="870592" y="1700826"/>
                  </a:lnTo>
                  <a:lnTo>
                    <a:pt x="916839" y="1691697"/>
                  </a:lnTo>
                  <a:lnTo>
                    <a:pt x="962158" y="1680122"/>
                  </a:lnTo>
                  <a:lnTo>
                    <a:pt x="1006478" y="1666172"/>
                  </a:lnTo>
                  <a:lnTo>
                    <a:pt x="1049726" y="1649921"/>
                  </a:lnTo>
                  <a:lnTo>
                    <a:pt x="1091830" y="1631441"/>
                  </a:lnTo>
                  <a:lnTo>
                    <a:pt x="1132716" y="1610803"/>
                  </a:lnTo>
                  <a:lnTo>
                    <a:pt x="1172314" y="1588080"/>
                  </a:lnTo>
                  <a:lnTo>
                    <a:pt x="1210550" y="1563345"/>
                  </a:lnTo>
                  <a:lnTo>
                    <a:pt x="1247353" y="1536669"/>
                  </a:lnTo>
                  <a:lnTo>
                    <a:pt x="1282649" y="1508125"/>
                  </a:lnTo>
                  <a:lnTo>
                    <a:pt x="1316366" y="1477785"/>
                  </a:lnTo>
                  <a:lnTo>
                    <a:pt x="1348433" y="1445722"/>
                  </a:lnTo>
                  <a:lnTo>
                    <a:pt x="1378776" y="1412008"/>
                  </a:lnTo>
                  <a:lnTo>
                    <a:pt x="1407324" y="1376715"/>
                  </a:lnTo>
                  <a:lnTo>
                    <a:pt x="1434004" y="1339915"/>
                  </a:lnTo>
                  <a:lnTo>
                    <a:pt x="1458743" y="1301681"/>
                  </a:lnTo>
                  <a:lnTo>
                    <a:pt x="1481470" y="1262085"/>
                  </a:lnTo>
                  <a:lnTo>
                    <a:pt x="1502112" y="1221200"/>
                  </a:lnTo>
                  <a:lnTo>
                    <a:pt x="1520596" y="1179097"/>
                  </a:lnTo>
                  <a:lnTo>
                    <a:pt x="1536850" y="1135848"/>
                  </a:lnTo>
                  <a:lnTo>
                    <a:pt x="1550803" y="1091527"/>
                  </a:lnTo>
                  <a:lnTo>
                    <a:pt x="1562380" y="1046206"/>
                  </a:lnTo>
                  <a:lnTo>
                    <a:pt x="1571511" y="999956"/>
                  </a:lnTo>
                  <a:lnTo>
                    <a:pt x="1578123" y="952850"/>
                  </a:lnTo>
                  <a:lnTo>
                    <a:pt x="1582143" y="904961"/>
                  </a:lnTo>
                  <a:lnTo>
                    <a:pt x="1583499" y="856360"/>
                  </a:lnTo>
                  <a:lnTo>
                    <a:pt x="1582143" y="807766"/>
                  </a:lnTo>
                  <a:lnTo>
                    <a:pt x="1578123" y="759883"/>
                  </a:lnTo>
                  <a:lnTo>
                    <a:pt x="1571511" y="712783"/>
                  </a:lnTo>
                  <a:lnTo>
                    <a:pt x="1562380" y="666539"/>
                  </a:lnTo>
                  <a:lnTo>
                    <a:pt x="1550803" y="621223"/>
                  </a:lnTo>
                  <a:lnTo>
                    <a:pt x="1536850" y="576907"/>
                  </a:lnTo>
                  <a:lnTo>
                    <a:pt x="1520596" y="533664"/>
                  </a:lnTo>
                  <a:lnTo>
                    <a:pt x="1502112" y="491565"/>
                  </a:lnTo>
                  <a:lnTo>
                    <a:pt x="1481470" y="450684"/>
                  </a:lnTo>
                  <a:lnTo>
                    <a:pt x="1458743" y="411092"/>
                  </a:lnTo>
                  <a:lnTo>
                    <a:pt x="1434004" y="372862"/>
                  </a:lnTo>
                  <a:lnTo>
                    <a:pt x="1407324" y="336066"/>
                  </a:lnTo>
                  <a:lnTo>
                    <a:pt x="1378776" y="300776"/>
                  </a:lnTo>
                  <a:lnTo>
                    <a:pt x="1348433" y="267065"/>
                  </a:lnTo>
                  <a:lnTo>
                    <a:pt x="1316366" y="235005"/>
                  </a:lnTo>
                  <a:lnTo>
                    <a:pt x="1282649" y="204668"/>
                  </a:lnTo>
                  <a:lnTo>
                    <a:pt x="1247353" y="176127"/>
                  </a:lnTo>
                  <a:lnTo>
                    <a:pt x="1210550" y="149454"/>
                  </a:lnTo>
                  <a:lnTo>
                    <a:pt x="1172314" y="124720"/>
                  </a:lnTo>
                  <a:lnTo>
                    <a:pt x="1132716" y="101999"/>
                  </a:lnTo>
                  <a:lnTo>
                    <a:pt x="1091830" y="81363"/>
                  </a:lnTo>
                  <a:lnTo>
                    <a:pt x="1049726" y="62884"/>
                  </a:lnTo>
                  <a:lnTo>
                    <a:pt x="1006478" y="46634"/>
                  </a:lnTo>
                  <a:lnTo>
                    <a:pt x="962158" y="32686"/>
                  </a:lnTo>
                  <a:lnTo>
                    <a:pt x="916839" y="21112"/>
                  </a:lnTo>
                  <a:lnTo>
                    <a:pt x="870592" y="11983"/>
                  </a:lnTo>
                  <a:lnTo>
                    <a:pt x="823490" y="5374"/>
                  </a:lnTo>
                  <a:lnTo>
                    <a:pt x="775606" y="1355"/>
                  </a:lnTo>
                  <a:lnTo>
                    <a:pt x="72701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bject 91"/>
            <p:cNvSpPr/>
            <p:nvPr/>
          </p:nvSpPr>
          <p:spPr>
            <a:xfrm>
              <a:off x="636840" y="4534560"/>
              <a:ext cx="856080" cy="130896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1308960"/>
                <a:gd name="textAreaBottom" fmla="*/ 1309320 h 1308960"/>
              </a:gdLst>
              <a:ahLst/>
              <a:rect l="textAreaLeft" t="textAreaTop" r="textAreaRight" b="textAreaBottom"/>
              <a:pathLst>
                <a:path w="856615" h="1309370">
                  <a:moveTo>
                    <a:pt x="856498" y="0"/>
                  </a:moveTo>
                  <a:lnTo>
                    <a:pt x="808606" y="1339"/>
                  </a:lnTo>
                  <a:lnTo>
                    <a:pt x="761013" y="5339"/>
                  </a:lnTo>
                  <a:lnTo>
                    <a:pt x="713827" y="11967"/>
                  </a:lnTo>
                  <a:lnTo>
                    <a:pt x="667153" y="21193"/>
                  </a:lnTo>
                  <a:lnTo>
                    <a:pt x="621098" y="32988"/>
                  </a:lnTo>
                  <a:lnTo>
                    <a:pt x="575770" y="47320"/>
                  </a:lnTo>
                  <a:lnTo>
                    <a:pt x="531273" y="64159"/>
                  </a:lnTo>
                  <a:lnTo>
                    <a:pt x="487716" y="83474"/>
                  </a:lnTo>
                  <a:lnTo>
                    <a:pt x="445204" y="105236"/>
                  </a:lnTo>
                  <a:lnTo>
                    <a:pt x="403844" y="129412"/>
                  </a:lnTo>
                  <a:lnTo>
                    <a:pt x="363304" y="156244"/>
                  </a:lnTo>
                  <a:lnTo>
                    <a:pt x="324776" y="184961"/>
                  </a:lnTo>
                  <a:lnTo>
                    <a:pt x="288282" y="215464"/>
                  </a:lnTo>
                  <a:lnTo>
                    <a:pt x="253846" y="247653"/>
                  </a:lnTo>
                  <a:lnTo>
                    <a:pt x="221491" y="281429"/>
                  </a:lnTo>
                  <a:lnTo>
                    <a:pt x="191241" y="316692"/>
                  </a:lnTo>
                  <a:lnTo>
                    <a:pt x="163117" y="353343"/>
                  </a:lnTo>
                  <a:lnTo>
                    <a:pt x="137145" y="391281"/>
                  </a:lnTo>
                  <a:lnTo>
                    <a:pt x="113346" y="430408"/>
                  </a:lnTo>
                  <a:lnTo>
                    <a:pt x="91743" y="470623"/>
                  </a:lnTo>
                  <a:lnTo>
                    <a:pt x="72361" y="511827"/>
                  </a:lnTo>
                  <a:lnTo>
                    <a:pt x="55222" y="553921"/>
                  </a:lnTo>
                  <a:lnTo>
                    <a:pt x="40349" y="596804"/>
                  </a:lnTo>
                  <a:lnTo>
                    <a:pt x="27765" y="640377"/>
                  </a:lnTo>
                  <a:lnTo>
                    <a:pt x="17494" y="684541"/>
                  </a:lnTo>
                  <a:lnTo>
                    <a:pt x="9559" y="729196"/>
                  </a:lnTo>
                  <a:lnTo>
                    <a:pt x="3983" y="774242"/>
                  </a:lnTo>
                  <a:lnTo>
                    <a:pt x="789" y="819580"/>
                  </a:lnTo>
                  <a:lnTo>
                    <a:pt x="0" y="865110"/>
                  </a:lnTo>
                  <a:lnTo>
                    <a:pt x="1639" y="910732"/>
                  </a:lnTo>
                  <a:lnTo>
                    <a:pt x="5729" y="956347"/>
                  </a:lnTo>
                  <a:lnTo>
                    <a:pt x="12295" y="1001855"/>
                  </a:lnTo>
                  <a:lnTo>
                    <a:pt x="21358" y="1047157"/>
                  </a:lnTo>
                  <a:lnTo>
                    <a:pt x="32942" y="1092152"/>
                  </a:lnTo>
                  <a:lnTo>
                    <a:pt x="47070" y="1136742"/>
                  </a:lnTo>
                  <a:lnTo>
                    <a:pt x="63765" y="1180826"/>
                  </a:lnTo>
                  <a:lnTo>
                    <a:pt x="83051" y="1224306"/>
                  </a:lnTo>
                  <a:lnTo>
                    <a:pt x="104950" y="1267081"/>
                  </a:lnTo>
                  <a:lnTo>
                    <a:pt x="129486" y="1309052"/>
                  </a:lnTo>
                  <a:lnTo>
                    <a:pt x="856498" y="856360"/>
                  </a:lnTo>
                  <a:lnTo>
                    <a:pt x="85649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object 92"/>
          <p:cNvSpPr/>
          <p:nvPr/>
        </p:nvSpPr>
        <p:spPr>
          <a:xfrm>
            <a:off x="1621080" y="5279400"/>
            <a:ext cx="6436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210960" indent="-19800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троительс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тво</a:t>
            </a:r>
            <a:r>
              <a:rPr b="1" lang="en-US" sz="1000" spc="39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bject 93"/>
          <p:cNvSpPr/>
          <p:nvPr/>
        </p:nvSpPr>
        <p:spPr>
          <a:xfrm>
            <a:off x="824760" y="4961880"/>
            <a:ext cx="5418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Упак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object 94"/>
          <p:cNvGrpSpPr/>
          <p:nvPr/>
        </p:nvGrpSpPr>
        <p:grpSpPr>
          <a:xfrm>
            <a:off x="6094800" y="1424160"/>
            <a:ext cx="1959120" cy="1959120"/>
            <a:chOff x="6094800" y="1424160"/>
            <a:chExt cx="1959120" cy="1959120"/>
          </a:xfrm>
        </p:grpSpPr>
        <p:sp>
          <p:nvSpPr>
            <p:cNvPr id="901" name="object 95"/>
            <p:cNvSpPr/>
            <p:nvPr/>
          </p:nvSpPr>
          <p:spPr>
            <a:xfrm>
              <a:off x="6168240" y="1424160"/>
              <a:ext cx="1885680" cy="1959120"/>
            </a:xfrm>
            <a:custGeom>
              <a:avLst/>
              <a:gdLst>
                <a:gd name="textAreaLeft" fmla="*/ 0 w 1885680"/>
                <a:gd name="textAreaRight" fmla="*/ 1886040 w 1885680"/>
                <a:gd name="textAreaTop" fmla="*/ 0 h 1959120"/>
                <a:gd name="textAreaBottom" fmla="*/ 1959480 h 1959120"/>
              </a:gdLst>
              <a:ahLst/>
              <a:rect l="textAreaLeft" t="textAreaTop" r="textAreaRight" b="textAreaBottom"/>
              <a:pathLst>
                <a:path w="1885950" h="1959610">
                  <a:moveTo>
                    <a:pt x="906271" y="0"/>
                  </a:moveTo>
                  <a:lnTo>
                    <a:pt x="906271" y="489839"/>
                  </a:lnTo>
                  <a:lnTo>
                    <a:pt x="955472" y="492306"/>
                  </a:lnTo>
                  <a:lnTo>
                    <a:pt x="1003566" y="499579"/>
                  </a:lnTo>
                  <a:lnTo>
                    <a:pt x="1050262" y="511462"/>
                  </a:lnTo>
                  <a:lnTo>
                    <a:pt x="1095266" y="527760"/>
                  </a:lnTo>
                  <a:lnTo>
                    <a:pt x="1138288" y="548277"/>
                  </a:lnTo>
                  <a:lnTo>
                    <a:pt x="1179036" y="572817"/>
                  </a:lnTo>
                  <a:lnTo>
                    <a:pt x="1217217" y="601186"/>
                  </a:lnTo>
                  <a:lnTo>
                    <a:pt x="1252539" y="633189"/>
                  </a:lnTo>
                  <a:lnTo>
                    <a:pt x="1284712" y="668629"/>
                  </a:lnTo>
                  <a:lnTo>
                    <a:pt x="1313442" y="707311"/>
                  </a:lnTo>
                  <a:lnTo>
                    <a:pt x="1338438" y="749041"/>
                  </a:lnTo>
                  <a:lnTo>
                    <a:pt x="1359408" y="793623"/>
                  </a:lnTo>
                  <a:lnTo>
                    <a:pt x="1375249" y="838123"/>
                  </a:lnTo>
                  <a:lnTo>
                    <a:pt x="1386586" y="883100"/>
                  </a:lnTo>
                  <a:lnTo>
                    <a:pt x="1393530" y="928285"/>
                  </a:lnTo>
                  <a:lnTo>
                    <a:pt x="1396194" y="973410"/>
                  </a:lnTo>
                  <a:lnTo>
                    <a:pt x="1394689" y="1018208"/>
                  </a:lnTo>
                  <a:lnTo>
                    <a:pt x="1389128" y="1062411"/>
                  </a:lnTo>
                  <a:lnTo>
                    <a:pt x="1379624" y="1105751"/>
                  </a:lnTo>
                  <a:lnTo>
                    <a:pt x="1366287" y="1147961"/>
                  </a:lnTo>
                  <a:lnTo>
                    <a:pt x="1349231" y="1188773"/>
                  </a:lnTo>
                  <a:lnTo>
                    <a:pt x="1328567" y="1227919"/>
                  </a:lnTo>
                  <a:lnTo>
                    <a:pt x="1304408" y="1265131"/>
                  </a:lnTo>
                  <a:lnTo>
                    <a:pt x="1276865" y="1300143"/>
                  </a:lnTo>
                  <a:lnTo>
                    <a:pt x="1246051" y="1332686"/>
                  </a:lnTo>
                  <a:lnTo>
                    <a:pt x="1212078" y="1362492"/>
                  </a:lnTo>
                  <a:lnTo>
                    <a:pt x="1175058" y="1389293"/>
                  </a:lnTo>
                  <a:lnTo>
                    <a:pt x="1135104" y="1412823"/>
                  </a:lnTo>
                  <a:lnTo>
                    <a:pt x="1092327" y="1432814"/>
                  </a:lnTo>
                  <a:lnTo>
                    <a:pt x="1047826" y="1448656"/>
                  </a:lnTo>
                  <a:lnTo>
                    <a:pt x="1002849" y="1459996"/>
                  </a:lnTo>
                  <a:lnTo>
                    <a:pt x="957664" y="1466946"/>
                  </a:lnTo>
                  <a:lnTo>
                    <a:pt x="912539" y="1469616"/>
                  </a:lnTo>
                  <a:lnTo>
                    <a:pt x="867741" y="1468118"/>
                  </a:lnTo>
                  <a:lnTo>
                    <a:pt x="823538" y="1462565"/>
                  </a:lnTo>
                  <a:lnTo>
                    <a:pt x="780198" y="1453068"/>
                  </a:lnTo>
                  <a:lnTo>
                    <a:pt x="737988" y="1439738"/>
                  </a:lnTo>
                  <a:lnTo>
                    <a:pt x="697176" y="1422687"/>
                  </a:lnTo>
                  <a:lnTo>
                    <a:pt x="658030" y="1402027"/>
                  </a:lnTo>
                  <a:lnTo>
                    <a:pt x="620818" y="1377870"/>
                  </a:lnTo>
                  <a:lnTo>
                    <a:pt x="585806" y="1350327"/>
                  </a:lnTo>
                  <a:lnTo>
                    <a:pt x="553263" y="1319509"/>
                  </a:lnTo>
                  <a:lnTo>
                    <a:pt x="523457" y="1285530"/>
                  </a:lnTo>
                  <a:lnTo>
                    <a:pt x="496656" y="1248499"/>
                  </a:lnTo>
                  <a:lnTo>
                    <a:pt x="473126" y="1208530"/>
                  </a:lnTo>
                  <a:lnTo>
                    <a:pt x="453136" y="1165733"/>
                  </a:lnTo>
                  <a:lnTo>
                    <a:pt x="0" y="1351788"/>
                  </a:lnTo>
                  <a:lnTo>
                    <a:pt x="19926" y="1397058"/>
                  </a:lnTo>
                  <a:lnTo>
                    <a:pt x="41937" y="1440950"/>
                  </a:lnTo>
                  <a:lnTo>
                    <a:pt x="65960" y="1483418"/>
                  </a:lnTo>
                  <a:lnTo>
                    <a:pt x="91922" y="1524410"/>
                  </a:lnTo>
                  <a:lnTo>
                    <a:pt x="119751" y="1563879"/>
                  </a:lnTo>
                  <a:lnTo>
                    <a:pt x="149373" y="1601775"/>
                  </a:lnTo>
                  <a:lnTo>
                    <a:pt x="180716" y="1638050"/>
                  </a:lnTo>
                  <a:lnTo>
                    <a:pt x="213708" y="1672655"/>
                  </a:lnTo>
                  <a:lnTo>
                    <a:pt x="248274" y="1705542"/>
                  </a:lnTo>
                  <a:lnTo>
                    <a:pt x="284342" y="1736660"/>
                  </a:lnTo>
                  <a:lnTo>
                    <a:pt x="321841" y="1765962"/>
                  </a:lnTo>
                  <a:lnTo>
                    <a:pt x="360695" y="1793398"/>
                  </a:lnTo>
                  <a:lnTo>
                    <a:pt x="400834" y="1818920"/>
                  </a:lnTo>
                  <a:lnTo>
                    <a:pt x="442184" y="1842479"/>
                  </a:lnTo>
                  <a:lnTo>
                    <a:pt x="484672" y="1864027"/>
                  </a:lnTo>
                  <a:lnTo>
                    <a:pt x="528225" y="1883513"/>
                  </a:lnTo>
                  <a:lnTo>
                    <a:pt x="572772" y="1900890"/>
                  </a:lnTo>
                  <a:lnTo>
                    <a:pt x="618237" y="1916108"/>
                  </a:lnTo>
                  <a:lnTo>
                    <a:pt x="664550" y="1929119"/>
                  </a:lnTo>
                  <a:lnTo>
                    <a:pt x="711638" y="1939874"/>
                  </a:lnTo>
                  <a:lnTo>
                    <a:pt x="759426" y="1948324"/>
                  </a:lnTo>
                  <a:lnTo>
                    <a:pt x="807843" y="1954420"/>
                  </a:lnTo>
                  <a:lnTo>
                    <a:pt x="856816" y="1958113"/>
                  </a:lnTo>
                  <a:lnTo>
                    <a:pt x="906271" y="1959356"/>
                  </a:lnTo>
                  <a:lnTo>
                    <a:pt x="953734" y="1958226"/>
                  </a:lnTo>
                  <a:lnTo>
                    <a:pt x="1000615" y="1954870"/>
                  </a:lnTo>
                  <a:lnTo>
                    <a:pt x="1046861" y="1949341"/>
                  </a:lnTo>
                  <a:lnTo>
                    <a:pt x="1092422" y="1941689"/>
                  </a:lnTo>
                  <a:lnTo>
                    <a:pt x="1137246" y="1931965"/>
                  </a:lnTo>
                  <a:lnTo>
                    <a:pt x="1181282" y="1920222"/>
                  </a:lnTo>
                  <a:lnTo>
                    <a:pt x="1224479" y="1906509"/>
                  </a:lnTo>
                  <a:lnTo>
                    <a:pt x="1266786" y="1890880"/>
                  </a:lnTo>
                  <a:lnTo>
                    <a:pt x="1308150" y="1873384"/>
                  </a:lnTo>
                  <a:lnTo>
                    <a:pt x="1348521" y="1854073"/>
                  </a:lnTo>
                  <a:lnTo>
                    <a:pt x="1387848" y="1832999"/>
                  </a:lnTo>
                  <a:lnTo>
                    <a:pt x="1426078" y="1810213"/>
                  </a:lnTo>
                  <a:lnTo>
                    <a:pt x="1463161" y="1785766"/>
                  </a:lnTo>
                  <a:lnTo>
                    <a:pt x="1499045" y="1759710"/>
                  </a:lnTo>
                  <a:lnTo>
                    <a:pt x="1533680" y="1732096"/>
                  </a:lnTo>
                  <a:lnTo>
                    <a:pt x="1567013" y="1702975"/>
                  </a:lnTo>
                  <a:lnTo>
                    <a:pt x="1598993" y="1672399"/>
                  </a:lnTo>
                  <a:lnTo>
                    <a:pt x="1629569" y="1640419"/>
                  </a:lnTo>
                  <a:lnTo>
                    <a:pt x="1658690" y="1607086"/>
                  </a:lnTo>
                  <a:lnTo>
                    <a:pt x="1686304" y="1572451"/>
                  </a:lnTo>
                  <a:lnTo>
                    <a:pt x="1712360" y="1536567"/>
                  </a:lnTo>
                  <a:lnTo>
                    <a:pt x="1736807" y="1499484"/>
                  </a:lnTo>
                  <a:lnTo>
                    <a:pt x="1759593" y="1461254"/>
                  </a:lnTo>
                  <a:lnTo>
                    <a:pt x="1780667" y="1421927"/>
                  </a:lnTo>
                  <a:lnTo>
                    <a:pt x="1799978" y="1381556"/>
                  </a:lnTo>
                  <a:lnTo>
                    <a:pt x="1817474" y="1340192"/>
                  </a:lnTo>
                  <a:lnTo>
                    <a:pt x="1833103" y="1297885"/>
                  </a:lnTo>
                  <a:lnTo>
                    <a:pt x="1846816" y="1254688"/>
                  </a:lnTo>
                  <a:lnTo>
                    <a:pt x="1858559" y="1210652"/>
                  </a:lnTo>
                  <a:lnTo>
                    <a:pt x="1868283" y="1165828"/>
                  </a:lnTo>
                  <a:lnTo>
                    <a:pt x="1875935" y="1120267"/>
                  </a:lnTo>
                  <a:lnTo>
                    <a:pt x="1881464" y="1074021"/>
                  </a:lnTo>
                  <a:lnTo>
                    <a:pt x="1884820" y="1027140"/>
                  </a:lnTo>
                  <a:lnTo>
                    <a:pt x="1885950" y="979678"/>
                  </a:lnTo>
                  <a:lnTo>
                    <a:pt x="1884820" y="932215"/>
                  </a:lnTo>
                  <a:lnTo>
                    <a:pt x="1881464" y="885334"/>
                  </a:lnTo>
                  <a:lnTo>
                    <a:pt x="1875935" y="839088"/>
                  </a:lnTo>
                  <a:lnTo>
                    <a:pt x="1868283" y="793527"/>
                  </a:lnTo>
                  <a:lnTo>
                    <a:pt x="1858559" y="748703"/>
                  </a:lnTo>
                  <a:lnTo>
                    <a:pt x="1846816" y="704667"/>
                  </a:lnTo>
                  <a:lnTo>
                    <a:pt x="1833103" y="661470"/>
                  </a:lnTo>
                  <a:lnTo>
                    <a:pt x="1817474" y="619163"/>
                  </a:lnTo>
                  <a:lnTo>
                    <a:pt x="1799978" y="577799"/>
                  </a:lnTo>
                  <a:lnTo>
                    <a:pt x="1780667" y="537428"/>
                  </a:lnTo>
                  <a:lnTo>
                    <a:pt x="1759593" y="498101"/>
                  </a:lnTo>
                  <a:lnTo>
                    <a:pt x="1736807" y="459871"/>
                  </a:lnTo>
                  <a:lnTo>
                    <a:pt x="1712360" y="422788"/>
                  </a:lnTo>
                  <a:lnTo>
                    <a:pt x="1686304" y="386904"/>
                  </a:lnTo>
                  <a:lnTo>
                    <a:pt x="1658690" y="352269"/>
                  </a:lnTo>
                  <a:lnTo>
                    <a:pt x="1629569" y="318936"/>
                  </a:lnTo>
                  <a:lnTo>
                    <a:pt x="1598993" y="286956"/>
                  </a:lnTo>
                  <a:lnTo>
                    <a:pt x="1567013" y="256380"/>
                  </a:lnTo>
                  <a:lnTo>
                    <a:pt x="1533680" y="227259"/>
                  </a:lnTo>
                  <a:lnTo>
                    <a:pt x="1499045" y="199645"/>
                  </a:lnTo>
                  <a:lnTo>
                    <a:pt x="1463161" y="173589"/>
                  </a:lnTo>
                  <a:lnTo>
                    <a:pt x="1426078" y="149142"/>
                  </a:lnTo>
                  <a:lnTo>
                    <a:pt x="1387848" y="126356"/>
                  </a:lnTo>
                  <a:lnTo>
                    <a:pt x="1348521" y="105282"/>
                  </a:lnTo>
                  <a:lnTo>
                    <a:pt x="1308150" y="85971"/>
                  </a:lnTo>
                  <a:lnTo>
                    <a:pt x="1266786" y="68475"/>
                  </a:lnTo>
                  <a:lnTo>
                    <a:pt x="1224479" y="52846"/>
                  </a:lnTo>
                  <a:lnTo>
                    <a:pt x="1181282" y="39133"/>
                  </a:lnTo>
                  <a:lnTo>
                    <a:pt x="1137246" y="27390"/>
                  </a:lnTo>
                  <a:lnTo>
                    <a:pt x="1092422" y="17666"/>
                  </a:lnTo>
                  <a:lnTo>
                    <a:pt x="1046861" y="10014"/>
                  </a:lnTo>
                  <a:lnTo>
                    <a:pt x="1000615" y="4485"/>
                  </a:lnTo>
                  <a:lnTo>
                    <a:pt x="953734" y="1129"/>
                  </a:lnTo>
                  <a:lnTo>
                    <a:pt x="90627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bject 96"/>
            <p:cNvSpPr/>
            <p:nvPr/>
          </p:nvSpPr>
          <p:spPr>
            <a:xfrm>
              <a:off x="6094800" y="1583640"/>
              <a:ext cx="712080" cy="1192320"/>
            </a:xfrm>
            <a:custGeom>
              <a:avLst/>
              <a:gdLst>
                <a:gd name="textAreaLeft" fmla="*/ 0 w 712080"/>
                <a:gd name="textAreaRight" fmla="*/ 712440 w 71208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712470" h="1192530">
                  <a:moveTo>
                    <a:pt x="444448" y="0"/>
                  </a:moveTo>
                  <a:lnTo>
                    <a:pt x="404561" y="27434"/>
                  </a:lnTo>
                  <a:lnTo>
                    <a:pt x="366396" y="56530"/>
                  </a:lnTo>
                  <a:lnTo>
                    <a:pt x="329977" y="87212"/>
                  </a:lnTo>
                  <a:lnTo>
                    <a:pt x="295328" y="119403"/>
                  </a:lnTo>
                  <a:lnTo>
                    <a:pt x="262473" y="153029"/>
                  </a:lnTo>
                  <a:lnTo>
                    <a:pt x="231435" y="188012"/>
                  </a:lnTo>
                  <a:lnTo>
                    <a:pt x="202237" y="224277"/>
                  </a:lnTo>
                  <a:lnTo>
                    <a:pt x="174904" y="261748"/>
                  </a:lnTo>
                  <a:lnTo>
                    <a:pt x="149459" y="300348"/>
                  </a:lnTo>
                  <a:lnTo>
                    <a:pt x="125926" y="340002"/>
                  </a:lnTo>
                  <a:lnTo>
                    <a:pt x="104328" y="380634"/>
                  </a:lnTo>
                  <a:lnTo>
                    <a:pt x="84689" y="422167"/>
                  </a:lnTo>
                  <a:lnTo>
                    <a:pt x="67033" y="464526"/>
                  </a:lnTo>
                  <a:lnTo>
                    <a:pt x="51384" y="507635"/>
                  </a:lnTo>
                  <a:lnTo>
                    <a:pt x="37764" y="551417"/>
                  </a:lnTo>
                  <a:lnTo>
                    <a:pt x="26198" y="595797"/>
                  </a:lnTo>
                  <a:lnTo>
                    <a:pt x="16709" y="640699"/>
                  </a:lnTo>
                  <a:lnTo>
                    <a:pt x="9321" y="686046"/>
                  </a:lnTo>
                  <a:lnTo>
                    <a:pt x="4058" y="731762"/>
                  </a:lnTo>
                  <a:lnTo>
                    <a:pt x="943" y="777772"/>
                  </a:lnTo>
                  <a:lnTo>
                    <a:pt x="0" y="824000"/>
                  </a:lnTo>
                  <a:lnTo>
                    <a:pt x="1252" y="870369"/>
                  </a:lnTo>
                  <a:lnTo>
                    <a:pt x="4724" y="916804"/>
                  </a:lnTo>
                  <a:lnTo>
                    <a:pt x="10438" y="963228"/>
                  </a:lnTo>
                  <a:lnTo>
                    <a:pt x="18419" y="1009565"/>
                  </a:lnTo>
                  <a:lnTo>
                    <a:pt x="28690" y="1055740"/>
                  </a:lnTo>
                  <a:lnTo>
                    <a:pt x="41275" y="1101677"/>
                  </a:lnTo>
                  <a:lnTo>
                    <a:pt x="56197" y="1147298"/>
                  </a:lnTo>
                  <a:lnTo>
                    <a:pt x="73481" y="1192529"/>
                  </a:lnTo>
                  <a:lnTo>
                    <a:pt x="526617" y="1006475"/>
                  </a:lnTo>
                  <a:lnTo>
                    <a:pt x="510026" y="959413"/>
                  </a:lnTo>
                  <a:lnTo>
                    <a:pt x="498446" y="911690"/>
                  </a:lnTo>
                  <a:lnTo>
                    <a:pt x="491773" y="863642"/>
                  </a:lnTo>
                  <a:lnTo>
                    <a:pt x="489901" y="815608"/>
                  </a:lnTo>
                  <a:lnTo>
                    <a:pt x="492725" y="767924"/>
                  </a:lnTo>
                  <a:lnTo>
                    <a:pt x="500141" y="720928"/>
                  </a:lnTo>
                  <a:lnTo>
                    <a:pt x="512044" y="674957"/>
                  </a:lnTo>
                  <a:lnTo>
                    <a:pt x="528327" y="630349"/>
                  </a:lnTo>
                  <a:lnTo>
                    <a:pt x="548888" y="587440"/>
                  </a:lnTo>
                  <a:lnTo>
                    <a:pt x="573620" y="546570"/>
                  </a:lnTo>
                  <a:lnTo>
                    <a:pt x="602418" y="508074"/>
                  </a:lnTo>
                  <a:lnTo>
                    <a:pt x="635179" y="472290"/>
                  </a:lnTo>
                  <a:lnTo>
                    <a:pt x="671795" y="439556"/>
                  </a:lnTo>
                  <a:lnTo>
                    <a:pt x="712164" y="410210"/>
                  </a:lnTo>
                  <a:lnTo>
                    <a:pt x="44444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bject 97"/>
            <p:cNvSpPr/>
            <p:nvPr/>
          </p:nvSpPr>
          <p:spPr>
            <a:xfrm>
              <a:off x="6539400" y="1424160"/>
              <a:ext cx="534960" cy="5691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535304" h="569594">
                  <a:moveTo>
                    <a:pt x="535304" y="0"/>
                  </a:moveTo>
                  <a:lnTo>
                    <a:pt x="483575" y="1367"/>
                  </a:lnTo>
                  <a:lnTo>
                    <a:pt x="432154" y="5450"/>
                  </a:lnTo>
                  <a:lnTo>
                    <a:pt x="381144" y="12216"/>
                  </a:lnTo>
                  <a:lnTo>
                    <a:pt x="330645" y="21635"/>
                  </a:lnTo>
                  <a:lnTo>
                    <a:pt x="280760" y="33677"/>
                  </a:lnTo>
                  <a:lnTo>
                    <a:pt x="231589" y="48309"/>
                  </a:lnTo>
                  <a:lnTo>
                    <a:pt x="183234" y="65502"/>
                  </a:lnTo>
                  <a:lnTo>
                    <a:pt x="135797" y="85224"/>
                  </a:lnTo>
                  <a:lnTo>
                    <a:pt x="89377" y="107445"/>
                  </a:lnTo>
                  <a:lnTo>
                    <a:pt x="44078" y="132133"/>
                  </a:lnTo>
                  <a:lnTo>
                    <a:pt x="0" y="159258"/>
                  </a:lnTo>
                  <a:lnTo>
                    <a:pt x="267716" y="569468"/>
                  </a:lnTo>
                  <a:lnTo>
                    <a:pt x="308545" y="545533"/>
                  </a:lnTo>
                  <a:lnTo>
                    <a:pt x="351314" y="525737"/>
                  </a:lnTo>
                  <a:lnTo>
                    <a:pt x="395700" y="510174"/>
                  </a:lnTo>
                  <a:lnTo>
                    <a:pt x="441376" y="498940"/>
                  </a:lnTo>
                  <a:lnTo>
                    <a:pt x="488019" y="492130"/>
                  </a:lnTo>
                  <a:lnTo>
                    <a:pt x="535304" y="489839"/>
                  </a:lnTo>
                  <a:lnTo>
                    <a:pt x="535304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object 98"/>
          <p:cNvSpPr/>
          <p:nvPr/>
        </p:nvSpPr>
        <p:spPr>
          <a:xfrm>
            <a:off x="7380720" y="2639880"/>
            <a:ext cx="6847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СОН/УПП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bject 99"/>
          <p:cNvSpPr/>
          <p:nvPr/>
        </p:nvSpPr>
        <p:spPr>
          <a:xfrm>
            <a:off x="6123600" y="2090160"/>
            <a:ext cx="499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СВ;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bject 100"/>
          <p:cNvSpPr/>
          <p:nvPr/>
        </p:nvSpPr>
        <p:spPr>
          <a:xfrm>
            <a:off x="6649200" y="1604160"/>
            <a:ext cx="432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АБС;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bject 101"/>
          <p:cNvSpPr/>
          <p:nvPr/>
        </p:nvSpPr>
        <p:spPr>
          <a:xfrm>
            <a:off x="6740280" y="2226240"/>
            <a:ext cx="765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09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object 102" descr=""/>
          <p:cNvPicPr/>
          <p:nvPr/>
        </p:nvPicPr>
        <p:blipFill>
          <a:blip r:embed="rId1"/>
          <a:stretch/>
        </p:blipFill>
        <p:spPr>
          <a:xfrm>
            <a:off x="7561440" y="1279440"/>
            <a:ext cx="1403280" cy="997920"/>
          </a:xfrm>
          <a:prstGeom prst="rect">
            <a:avLst/>
          </a:prstGeom>
          <a:ln w="0">
            <a:noFill/>
          </a:ln>
        </p:spPr>
      </p:pic>
      <p:sp>
        <p:nvSpPr>
          <p:cNvPr id="909" name="object 103"/>
          <p:cNvSpPr/>
          <p:nvPr/>
        </p:nvSpPr>
        <p:spPr>
          <a:xfrm>
            <a:off x="7561440" y="1279440"/>
            <a:ext cx="1403640" cy="104040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t">
            <a:spAutoFit/>
          </a:bodyPr>
          <a:p>
            <a:pPr marL="92160">
              <a:lnSpc>
                <a:spcPct val="100000"/>
              </a:lnSpc>
              <a:spcBef>
                <a:spcPts val="286"/>
              </a:spcBef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52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потреблени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ПСОН/УППС</a:t>
            </a:r>
            <a:r>
              <a:rPr b="0" lang="en-US" sz="11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1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ПСВ</a:t>
            </a:r>
            <a:r>
              <a:rPr b="0" lang="en-US" sz="11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2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АБС</a:t>
            </a:r>
            <a:r>
              <a:rPr b="0" lang="en-US" sz="11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– 69</a:t>
            </a:r>
            <a:r>
              <a:rPr b="0" lang="en-US" sz="1100" spc="-1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100" spc="-52" strike="noStrike">
                <a:solidFill>
                  <a:srgbClr val="ff0000"/>
                </a:solidFill>
                <a:latin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bject 104"/>
          <p:cNvSpPr/>
          <p:nvPr/>
        </p:nvSpPr>
        <p:spPr>
          <a:xfrm>
            <a:off x="5579640" y="807120"/>
            <a:ext cx="3127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bject 105"/>
          <p:cNvSpPr/>
          <p:nvPr/>
        </p:nvSpPr>
        <p:spPr>
          <a:xfrm>
            <a:off x="3220920" y="3760200"/>
            <a:ext cx="183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35080" indent="-222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7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отребления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БС</a:t>
            </a:r>
            <a:r>
              <a:rPr b="1" lang="en-US" sz="1400" spc="28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 2016 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bject 106"/>
          <p:cNvSpPr/>
          <p:nvPr/>
        </p:nvSpPr>
        <p:spPr>
          <a:xfrm>
            <a:off x="628200" y="3743280"/>
            <a:ext cx="1837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algn="ctr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7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СВ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bject 107"/>
          <p:cNvSpPr/>
          <p:nvPr/>
        </p:nvSpPr>
        <p:spPr>
          <a:xfrm>
            <a:off x="5623560" y="3735720"/>
            <a:ext cx="332136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84680" indent="-172800">
              <a:lnSpc>
                <a:spcPct val="100000"/>
              </a:lnSpc>
              <a:spcBef>
                <a:spcPts val="9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рупнейшими</a:t>
            </a:r>
            <a:r>
              <a:rPr b="1" lang="en-US" sz="1000" spc="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отребителями</a:t>
            </a:r>
            <a:r>
              <a:rPr b="1" lang="en-US" sz="10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АБС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РФ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явля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880">
              <a:lnSpc>
                <a:spcPct val="100000"/>
              </a:lnSpc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ностранные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омпании,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локализовавшие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880">
              <a:lnSpc>
                <a:spcPct val="100000"/>
              </a:lnSpc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бытовой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ехники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LG,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Samsung).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же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сновными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отребителями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мпортной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дукции.</a:t>
            </a:r>
            <a:r>
              <a:rPr b="1" lang="en-US" sz="1000" spc="19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LG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hem,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msung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heil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dustries).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Политика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закуп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880">
              <a:lnSpc>
                <a:spcPct val="100000"/>
              </a:lnSpc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«своего</a:t>
            </a:r>
            <a:r>
              <a:rPr b="1" lang="en-US" sz="10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»).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роме</a:t>
            </a:r>
            <a:r>
              <a:rPr b="1" lang="en-US" sz="10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ого,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ечественные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изводители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АБС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едлагают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неокраш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880">
              <a:lnSpc>
                <a:spcPct val="100000"/>
              </a:lnSpc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дукт,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этом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ысоким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просом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ользуетс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уже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отовый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дук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851480" y="126000"/>
            <a:ext cx="236052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ПВХ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15" name="object 3"/>
          <p:cNvSpPr/>
          <p:nvPr/>
        </p:nvSpPr>
        <p:spPr>
          <a:xfrm>
            <a:off x="8505000" y="6426720"/>
            <a:ext cx="1026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object 4"/>
          <p:cNvGrpSpPr/>
          <p:nvPr/>
        </p:nvGrpSpPr>
        <p:grpSpPr>
          <a:xfrm>
            <a:off x="794160" y="1289160"/>
            <a:ext cx="3136680" cy="1953720"/>
            <a:chOff x="794160" y="1289160"/>
            <a:chExt cx="3136680" cy="1953720"/>
          </a:xfrm>
        </p:grpSpPr>
        <p:sp>
          <p:nvSpPr>
            <p:cNvPr id="917" name="object 5"/>
            <p:cNvSpPr/>
            <p:nvPr/>
          </p:nvSpPr>
          <p:spPr>
            <a:xfrm>
              <a:off x="835200" y="2560320"/>
              <a:ext cx="94320" cy="3182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94615" h="318769">
                  <a:moveTo>
                    <a:pt x="0" y="318515"/>
                  </a:moveTo>
                  <a:lnTo>
                    <a:pt x="94487" y="318515"/>
                  </a:lnTo>
                </a:path>
                <a:path w="94615" h="318769">
                  <a:moveTo>
                    <a:pt x="0" y="0"/>
                  </a:moveTo>
                  <a:lnTo>
                    <a:pt x="944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bject 6"/>
            <p:cNvSpPr/>
            <p:nvPr/>
          </p:nvSpPr>
          <p:spPr>
            <a:xfrm>
              <a:off x="929520" y="2325600"/>
              <a:ext cx="126720" cy="871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27000" h="871855">
                  <a:moveTo>
                    <a:pt x="126491" y="0"/>
                  </a:moveTo>
                  <a:lnTo>
                    <a:pt x="0" y="0"/>
                  </a:lnTo>
                  <a:lnTo>
                    <a:pt x="0" y="871727"/>
                  </a:lnTo>
                  <a:lnTo>
                    <a:pt x="126491" y="871727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bject 7"/>
            <p:cNvSpPr/>
            <p:nvPr/>
          </p:nvSpPr>
          <p:spPr>
            <a:xfrm>
              <a:off x="1182600" y="2243160"/>
              <a:ext cx="315360" cy="6354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315594" h="635635">
                  <a:moveTo>
                    <a:pt x="0" y="635508"/>
                  </a:moveTo>
                  <a:lnTo>
                    <a:pt x="188975" y="635508"/>
                  </a:lnTo>
                </a:path>
                <a:path w="315594" h="635635">
                  <a:moveTo>
                    <a:pt x="0" y="316992"/>
                  </a:moveTo>
                  <a:lnTo>
                    <a:pt x="188975" y="316992"/>
                  </a:lnTo>
                </a:path>
                <a:path w="315594" h="635635">
                  <a:moveTo>
                    <a:pt x="0" y="0"/>
                  </a:moveTo>
                  <a:lnTo>
                    <a:pt x="315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bject 8"/>
            <p:cNvSpPr/>
            <p:nvPr/>
          </p:nvSpPr>
          <p:spPr>
            <a:xfrm>
              <a:off x="1371600" y="2278440"/>
              <a:ext cx="126720" cy="919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27000" h="919480">
                  <a:moveTo>
                    <a:pt x="126492" y="0"/>
                  </a:moveTo>
                  <a:lnTo>
                    <a:pt x="0" y="0"/>
                  </a:lnTo>
                  <a:lnTo>
                    <a:pt x="0" y="67310"/>
                  </a:lnTo>
                  <a:lnTo>
                    <a:pt x="0" y="918972"/>
                  </a:lnTo>
                  <a:lnTo>
                    <a:pt x="126492" y="918972"/>
                  </a:lnTo>
                  <a:lnTo>
                    <a:pt x="126492" y="67310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bject 9"/>
            <p:cNvSpPr/>
            <p:nvPr/>
          </p:nvSpPr>
          <p:spPr>
            <a:xfrm>
              <a:off x="835200" y="1606320"/>
              <a:ext cx="662760" cy="637200"/>
            </a:xfrm>
            <a:custGeom>
              <a:avLst/>
              <a:gdLst>
                <a:gd name="textAreaLeft" fmla="*/ 0 w 662760"/>
                <a:gd name="textAreaRight" fmla="*/ 663120 w 662760"/>
                <a:gd name="textAreaTop" fmla="*/ 0 h 637200"/>
                <a:gd name="textAreaBottom" fmla="*/ 637560 h 637200"/>
              </a:gdLst>
              <a:ahLst/>
              <a:rect l="textAreaLeft" t="textAreaTop" r="textAreaRight" b="textAreaBottom"/>
              <a:pathLst>
                <a:path w="662940" h="637539">
                  <a:moveTo>
                    <a:pt x="0" y="637031"/>
                  </a:moveTo>
                  <a:lnTo>
                    <a:pt x="220979" y="637031"/>
                  </a:lnTo>
                </a:path>
                <a:path w="662940" h="637539">
                  <a:moveTo>
                    <a:pt x="0" y="318515"/>
                  </a:moveTo>
                  <a:lnTo>
                    <a:pt x="220979" y="318515"/>
                  </a:lnTo>
                </a:path>
                <a:path w="662940" h="637539">
                  <a:moveTo>
                    <a:pt x="347472" y="318515"/>
                  </a:moveTo>
                  <a:lnTo>
                    <a:pt x="662939" y="318515"/>
                  </a:lnTo>
                </a:path>
                <a:path w="662940" h="637539">
                  <a:moveTo>
                    <a:pt x="0" y="0"/>
                  </a:moveTo>
                  <a:lnTo>
                    <a:pt x="6629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bject 10"/>
            <p:cNvSpPr/>
            <p:nvPr/>
          </p:nvSpPr>
          <p:spPr>
            <a:xfrm>
              <a:off x="1056240" y="1618560"/>
              <a:ext cx="126720" cy="1578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78960"/>
                <a:gd name="textAreaBottom" fmla="*/ 1579320 h 1578960"/>
              </a:gdLst>
              <a:ahLst/>
              <a:rect l="textAreaLeft" t="textAreaTop" r="textAreaRight" b="textAreaBottom"/>
              <a:pathLst>
                <a:path w="127000" h="1579245">
                  <a:moveTo>
                    <a:pt x="126492" y="0"/>
                  </a:moveTo>
                  <a:lnTo>
                    <a:pt x="0" y="0"/>
                  </a:lnTo>
                  <a:lnTo>
                    <a:pt x="0" y="1578864"/>
                  </a:lnTo>
                  <a:lnTo>
                    <a:pt x="126492" y="1578864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bject 11"/>
            <p:cNvSpPr/>
            <p:nvPr/>
          </p:nvSpPr>
          <p:spPr>
            <a:xfrm>
              <a:off x="1624680" y="2243160"/>
              <a:ext cx="189000" cy="6354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89230" h="635635">
                  <a:moveTo>
                    <a:pt x="0" y="635508"/>
                  </a:moveTo>
                  <a:lnTo>
                    <a:pt x="188976" y="635508"/>
                  </a:lnTo>
                </a:path>
                <a:path w="189230" h="635635">
                  <a:moveTo>
                    <a:pt x="0" y="316992"/>
                  </a:moveTo>
                  <a:lnTo>
                    <a:pt x="188976" y="316992"/>
                  </a:lnTo>
                </a:path>
                <a:path w="189230" h="635635">
                  <a:moveTo>
                    <a:pt x="0" y="0"/>
                  </a:moveTo>
                  <a:lnTo>
                    <a:pt x="1889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bject 12"/>
            <p:cNvSpPr/>
            <p:nvPr/>
          </p:nvSpPr>
          <p:spPr>
            <a:xfrm>
              <a:off x="1813680" y="2215800"/>
              <a:ext cx="126720" cy="981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127000" h="981710">
                  <a:moveTo>
                    <a:pt x="126491" y="0"/>
                  </a:moveTo>
                  <a:lnTo>
                    <a:pt x="0" y="0"/>
                  </a:lnTo>
                  <a:lnTo>
                    <a:pt x="0" y="981455"/>
                  </a:lnTo>
                  <a:lnTo>
                    <a:pt x="126491" y="981455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bject 13"/>
            <p:cNvSpPr/>
            <p:nvPr/>
          </p:nvSpPr>
          <p:spPr>
            <a:xfrm>
              <a:off x="1624680" y="1606320"/>
              <a:ext cx="315360" cy="31824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315594" h="318769">
                  <a:moveTo>
                    <a:pt x="0" y="318515"/>
                  </a:moveTo>
                  <a:lnTo>
                    <a:pt x="315467" y="318515"/>
                  </a:lnTo>
                </a:path>
                <a:path w="315594" h="318769">
                  <a:moveTo>
                    <a:pt x="0" y="0"/>
                  </a:moveTo>
                  <a:lnTo>
                    <a:pt x="315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bject 14"/>
            <p:cNvSpPr/>
            <p:nvPr/>
          </p:nvSpPr>
          <p:spPr>
            <a:xfrm>
              <a:off x="1497960" y="1386720"/>
              <a:ext cx="126720" cy="1810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10800"/>
                <a:gd name="textAreaBottom" fmla="*/ 1811160 h 1810800"/>
              </a:gdLst>
              <a:ahLst/>
              <a:rect l="textAreaLeft" t="textAreaTop" r="textAreaRight" b="textAreaBottom"/>
              <a:pathLst>
                <a:path w="127000" h="1811020">
                  <a:moveTo>
                    <a:pt x="126492" y="0"/>
                  </a:moveTo>
                  <a:lnTo>
                    <a:pt x="0" y="0"/>
                  </a:lnTo>
                  <a:lnTo>
                    <a:pt x="0" y="1810512"/>
                  </a:lnTo>
                  <a:lnTo>
                    <a:pt x="126492" y="1810512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bject 15"/>
            <p:cNvSpPr/>
            <p:nvPr/>
          </p:nvSpPr>
          <p:spPr>
            <a:xfrm>
              <a:off x="2066400" y="2243160"/>
              <a:ext cx="190080" cy="635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90500" h="635635">
                  <a:moveTo>
                    <a:pt x="0" y="635508"/>
                  </a:moveTo>
                  <a:lnTo>
                    <a:pt x="190500" y="635508"/>
                  </a:lnTo>
                </a:path>
                <a:path w="190500" h="635635">
                  <a:moveTo>
                    <a:pt x="0" y="316992"/>
                  </a:moveTo>
                  <a:lnTo>
                    <a:pt x="190500" y="316992"/>
                  </a:lnTo>
                </a:path>
                <a:path w="190500" h="635635">
                  <a:moveTo>
                    <a:pt x="0" y="0"/>
                  </a:moveTo>
                  <a:lnTo>
                    <a:pt x="19050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bject 16"/>
            <p:cNvSpPr/>
            <p:nvPr/>
          </p:nvSpPr>
          <p:spPr>
            <a:xfrm>
              <a:off x="2257200" y="2209680"/>
              <a:ext cx="124560" cy="98784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987840"/>
                <a:gd name="textAreaBottom" fmla="*/ 988200 h 987840"/>
              </a:gdLst>
              <a:ahLst/>
              <a:rect l="textAreaLeft" t="textAreaTop" r="textAreaRight" b="textAreaBottom"/>
              <a:pathLst>
                <a:path w="125094" h="988060">
                  <a:moveTo>
                    <a:pt x="124968" y="0"/>
                  </a:moveTo>
                  <a:lnTo>
                    <a:pt x="0" y="0"/>
                  </a:lnTo>
                  <a:lnTo>
                    <a:pt x="0" y="987551"/>
                  </a:lnTo>
                  <a:lnTo>
                    <a:pt x="124968" y="987551"/>
                  </a:lnTo>
                  <a:lnTo>
                    <a:pt x="12496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bject 17"/>
            <p:cNvSpPr/>
            <p:nvPr/>
          </p:nvSpPr>
          <p:spPr>
            <a:xfrm>
              <a:off x="2066400" y="1606320"/>
              <a:ext cx="315360" cy="31824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315594" h="318769">
                  <a:moveTo>
                    <a:pt x="0" y="318515"/>
                  </a:moveTo>
                  <a:lnTo>
                    <a:pt x="315468" y="318515"/>
                  </a:lnTo>
                </a:path>
                <a:path w="315594" h="318769">
                  <a:moveTo>
                    <a:pt x="0" y="0"/>
                  </a:moveTo>
                  <a:lnTo>
                    <a:pt x="3154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bject 18"/>
            <p:cNvSpPr/>
            <p:nvPr/>
          </p:nvSpPr>
          <p:spPr>
            <a:xfrm>
              <a:off x="1940040" y="1385280"/>
              <a:ext cx="126720" cy="1811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11880"/>
                <a:gd name="textAreaBottom" fmla="*/ 1812240 h 1811880"/>
              </a:gdLst>
              <a:ahLst/>
              <a:rect l="textAreaLeft" t="textAreaTop" r="textAreaRight" b="textAreaBottom"/>
              <a:pathLst>
                <a:path w="127000" h="1812289">
                  <a:moveTo>
                    <a:pt x="126492" y="0"/>
                  </a:moveTo>
                  <a:lnTo>
                    <a:pt x="0" y="0"/>
                  </a:lnTo>
                  <a:lnTo>
                    <a:pt x="0" y="1812036"/>
                  </a:lnTo>
                  <a:lnTo>
                    <a:pt x="126492" y="1812036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bject 19"/>
            <p:cNvSpPr/>
            <p:nvPr/>
          </p:nvSpPr>
          <p:spPr>
            <a:xfrm>
              <a:off x="2508480" y="2243160"/>
              <a:ext cx="190080" cy="635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90500" h="635635">
                  <a:moveTo>
                    <a:pt x="0" y="635508"/>
                  </a:moveTo>
                  <a:lnTo>
                    <a:pt x="190500" y="635508"/>
                  </a:lnTo>
                </a:path>
                <a:path w="190500" h="635635">
                  <a:moveTo>
                    <a:pt x="0" y="316992"/>
                  </a:moveTo>
                  <a:lnTo>
                    <a:pt x="190500" y="316992"/>
                  </a:lnTo>
                </a:path>
                <a:path w="190500" h="635635">
                  <a:moveTo>
                    <a:pt x="0" y="0"/>
                  </a:moveTo>
                  <a:lnTo>
                    <a:pt x="19050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bject 20"/>
            <p:cNvSpPr/>
            <p:nvPr/>
          </p:nvSpPr>
          <p:spPr>
            <a:xfrm>
              <a:off x="2698920" y="2106000"/>
              <a:ext cx="126720" cy="10911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127000" h="1091564">
                  <a:moveTo>
                    <a:pt x="126491" y="0"/>
                  </a:moveTo>
                  <a:lnTo>
                    <a:pt x="0" y="0"/>
                  </a:lnTo>
                  <a:lnTo>
                    <a:pt x="0" y="1091184"/>
                  </a:lnTo>
                  <a:lnTo>
                    <a:pt x="126491" y="1091184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bject 21"/>
            <p:cNvSpPr/>
            <p:nvPr/>
          </p:nvSpPr>
          <p:spPr>
            <a:xfrm>
              <a:off x="2508480" y="1606320"/>
              <a:ext cx="317160" cy="3182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317500" h="318769">
                  <a:moveTo>
                    <a:pt x="0" y="318515"/>
                  </a:moveTo>
                  <a:lnTo>
                    <a:pt x="316991" y="318515"/>
                  </a:lnTo>
                </a:path>
                <a:path w="317500" h="318769">
                  <a:moveTo>
                    <a:pt x="0" y="0"/>
                  </a:moveTo>
                  <a:lnTo>
                    <a:pt x="3169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bject 22"/>
            <p:cNvSpPr/>
            <p:nvPr/>
          </p:nvSpPr>
          <p:spPr>
            <a:xfrm>
              <a:off x="2382120" y="1463040"/>
              <a:ext cx="126720" cy="17344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127000" h="1734820">
                  <a:moveTo>
                    <a:pt x="126492" y="0"/>
                  </a:moveTo>
                  <a:lnTo>
                    <a:pt x="0" y="0"/>
                  </a:lnTo>
                  <a:lnTo>
                    <a:pt x="0" y="1734312"/>
                  </a:lnTo>
                  <a:lnTo>
                    <a:pt x="126492" y="1734312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bject 23"/>
            <p:cNvSpPr/>
            <p:nvPr/>
          </p:nvSpPr>
          <p:spPr>
            <a:xfrm>
              <a:off x="2952000" y="1924920"/>
              <a:ext cx="315360" cy="9540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315595" h="954405">
                  <a:moveTo>
                    <a:pt x="0" y="954024"/>
                  </a:moveTo>
                  <a:lnTo>
                    <a:pt x="188975" y="954024"/>
                  </a:lnTo>
                </a:path>
                <a:path w="315595" h="954405">
                  <a:moveTo>
                    <a:pt x="0" y="635508"/>
                  </a:moveTo>
                  <a:lnTo>
                    <a:pt x="188975" y="635508"/>
                  </a:lnTo>
                </a:path>
                <a:path w="315595" h="954405">
                  <a:moveTo>
                    <a:pt x="0" y="318515"/>
                  </a:moveTo>
                  <a:lnTo>
                    <a:pt x="188975" y="318515"/>
                  </a:lnTo>
                </a:path>
                <a:path w="315595" h="954405">
                  <a:moveTo>
                    <a:pt x="0" y="0"/>
                  </a:moveTo>
                  <a:lnTo>
                    <a:pt x="315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bject 24"/>
            <p:cNvSpPr/>
            <p:nvPr/>
          </p:nvSpPr>
          <p:spPr>
            <a:xfrm>
              <a:off x="3141000" y="1946160"/>
              <a:ext cx="126720" cy="1251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51360"/>
                <a:gd name="textAreaBottom" fmla="*/ 1251720 h 1251360"/>
              </a:gdLst>
              <a:ahLst/>
              <a:rect l="textAreaLeft" t="textAreaTop" r="textAreaRight" b="textAreaBottom"/>
              <a:pathLst>
                <a:path w="127000" h="1251585">
                  <a:moveTo>
                    <a:pt x="126491" y="0"/>
                  </a:moveTo>
                  <a:lnTo>
                    <a:pt x="0" y="0"/>
                  </a:lnTo>
                  <a:lnTo>
                    <a:pt x="0" y="1251203"/>
                  </a:lnTo>
                  <a:lnTo>
                    <a:pt x="126491" y="1251203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bject 25"/>
            <p:cNvSpPr/>
            <p:nvPr/>
          </p:nvSpPr>
          <p:spPr>
            <a:xfrm>
              <a:off x="2952000" y="1606320"/>
              <a:ext cx="978120" cy="3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78535" h="0">
                  <a:moveTo>
                    <a:pt x="0" y="0"/>
                  </a:moveTo>
                  <a:lnTo>
                    <a:pt x="97840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bject 26"/>
            <p:cNvSpPr/>
            <p:nvPr/>
          </p:nvSpPr>
          <p:spPr>
            <a:xfrm>
              <a:off x="2825640" y="1443240"/>
              <a:ext cx="126720" cy="17542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754280"/>
                <a:gd name="textAreaBottom" fmla="*/ 1754640 h 1754280"/>
              </a:gdLst>
              <a:ahLst/>
              <a:rect l="textAreaLeft" t="textAreaTop" r="textAreaRight" b="textAreaBottom"/>
              <a:pathLst>
                <a:path w="127000" h="1754505">
                  <a:moveTo>
                    <a:pt x="126492" y="0"/>
                  </a:moveTo>
                  <a:lnTo>
                    <a:pt x="0" y="0"/>
                  </a:lnTo>
                  <a:lnTo>
                    <a:pt x="0" y="1754124"/>
                  </a:lnTo>
                  <a:lnTo>
                    <a:pt x="126492" y="1754124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bject 27"/>
            <p:cNvSpPr/>
            <p:nvPr/>
          </p:nvSpPr>
          <p:spPr>
            <a:xfrm>
              <a:off x="3394080" y="1924920"/>
              <a:ext cx="315360" cy="9540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315595" h="954405">
                  <a:moveTo>
                    <a:pt x="0" y="954024"/>
                  </a:moveTo>
                  <a:lnTo>
                    <a:pt x="188975" y="954024"/>
                  </a:lnTo>
                </a:path>
                <a:path w="315595" h="954405">
                  <a:moveTo>
                    <a:pt x="0" y="635508"/>
                  </a:moveTo>
                  <a:lnTo>
                    <a:pt x="188975" y="635508"/>
                  </a:lnTo>
                </a:path>
                <a:path w="315595" h="954405">
                  <a:moveTo>
                    <a:pt x="0" y="318515"/>
                  </a:moveTo>
                  <a:lnTo>
                    <a:pt x="188975" y="318515"/>
                  </a:lnTo>
                </a:path>
                <a:path w="315595" h="954405">
                  <a:moveTo>
                    <a:pt x="0" y="0"/>
                  </a:moveTo>
                  <a:lnTo>
                    <a:pt x="315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bject 28"/>
            <p:cNvSpPr/>
            <p:nvPr/>
          </p:nvSpPr>
          <p:spPr>
            <a:xfrm>
              <a:off x="3583080" y="1943280"/>
              <a:ext cx="126720" cy="12542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127000" h="1254760">
                  <a:moveTo>
                    <a:pt x="126491" y="0"/>
                  </a:moveTo>
                  <a:lnTo>
                    <a:pt x="0" y="0"/>
                  </a:lnTo>
                  <a:lnTo>
                    <a:pt x="0" y="1254252"/>
                  </a:lnTo>
                  <a:lnTo>
                    <a:pt x="126491" y="1254252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bject 29"/>
            <p:cNvSpPr/>
            <p:nvPr/>
          </p:nvSpPr>
          <p:spPr>
            <a:xfrm>
              <a:off x="3267360" y="1682640"/>
              <a:ext cx="126720" cy="1514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14880"/>
                <a:gd name="textAreaBottom" fmla="*/ 1515240 h 1514880"/>
              </a:gdLst>
              <a:ahLst/>
              <a:rect l="textAreaLeft" t="textAreaTop" r="textAreaRight" b="textAreaBottom"/>
              <a:pathLst>
                <a:path w="127000" h="1515110">
                  <a:moveTo>
                    <a:pt x="126492" y="0"/>
                  </a:moveTo>
                  <a:lnTo>
                    <a:pt x="0" y="0"/>
                  </a:lnTo>
                  <a:lnTo>
                    <a:pt x="0" y="1514855"/>
                  </a:lnTo>
                  <a:lnTo>
                    <a:pt x="126492" y="1514855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bject 30"/>
            <p:cNvSpPr/>
            <p:nvPr/>
          </p:nvSpPr>
          <p:spPr>
            <a:xfrm>
              <a:off x="3835800" y="1924920"/>
              <a:ext cx="94320" cy="95400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94614" h="954405">
                  <a:moveTo>
                    <a:pt x="0" y="954024"/>
                  </a:moveTo>
                  <a:lnTo>
                    <a:pt x="94487" y="954024"/>
                  </a:lnTo>
                </a:path>
                <a:path w="94614" h="954405">
                  <a:moveTo>
                    <a:pt x="0" y="635508"/>
                  </a:moveTo>
                  <a:lnTo>
                    <a:pt x="94487" y="635508"/>
                  </a:lnTo>
                </a:path>
                <a:path w="94614" h="954405">
                  <a:moveTo>
                    <a:pt x="0" y="318515"/>
                  </a:moveTo>
                  <a:lnTo>
                    <a:pt x="94487" y="318515"/>
                  </a:lnTo>
                </a:path>
                <a:path w="94614" h="954405">
                  <a:moveTo>
                    <a:pt x="0" y="0"/>
                  </a:moveTo>
                  <a:lnTo>
                    <a:pt x="944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bject 31"/>
            <p:cNvSpPr/>
            <p:nvPr/>
          </p:nvSpPr>
          <p:spPr>
            <a:xfrm>
              <a:off x="3709440" y="1694520"/>
              <a:ext cx="126720" cy="1502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02640"/>
                <a:gd name="textAreaBottom" fmla="*/ 1503000 h 1502640"/>
              </a:gdLst>
              <a:ahLst/>
              <a:rect l="textAreaLeft" t="textAreaTop" r="textAreaRight" b="textAreaBottom"/>
              <a:pathLst>
                <a:path w="127000" h="1503045">
                  <a:moveTo>
                    <a:pt x="126492" y="0"/>
                  </a:moveTo>
                  <a:lnTo>
                    <a:pt x="0" y="0"/>
                  </a:lnTo>
                  <a:lnTo>
                    <a:pt x="0" y="1502664"/>
                  </a:lnTo>
                  <a:lnTo>
                    <a:pt x="126492" y="1502664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bject 32"/>
            <p:cNvSpPr/>
            <p:nvPr/>
          </p:nvSpPr>
          <p:spPr>
            <a:xfrm>
              <a:off x="794160" y="1289160"/>
              <a:ext cx="3136680" cy="1907640"/>
            </a:xfrm>
            <a:custGeom>
              <a:avLst/>
              <a:gdLst>
                <a:gd name="textAreaLeft" fmla="*/ 0 w 3136680"/>
                <a:gd name="textAreaRight" fmla="*/ 3137040 w 3136680"/>
                <a:gd name="textAreaTop" fmla="*/ 0 h 1907640"/>
                <a:gd name="textAreaBottom" fmla="*/ 1908000 h 1907640"/>
              </a:gdLst>
              <a:ahLst/>
              <a:rect l="textAreaLeft" t="textAreaTop" r="textAreaRight" b="textAreaBottom"/>
              <a:pathLst>
                <a:path w="3136900" h="1908175">
                  <a:moveTo>
                    <a:pt x="41148" y="0"/>
                  </a:moveTo>
                  <a:lnTo>
                    <a:pt x="3136392" y="0"/>
                  </a:lnTo>
                </a:path>
                <a:path w="3136900" h="1908175">
                  <a:moveTo>
                    <a:pt x="41148" y="1908048"/>
                  </a:moveTo>
                  <a:lnTo>
                    <a:pt x="41148" y="0"/>
                  </a:lnTo>
                </a:path>
                <a:path w="3136900" h="1908175">
                  <a:moveTo>
                    <a:pt x="0" y="1908048"/>
                  </a:moveTo>
                  <a:lnTo>
                    <a:pt x="41148" y="1908048"/>
                  </a:lnTo>
                </a:path>
                <a:path w="3136900" h="1908175">
                  <a:moveTo>
                    <a:pt x="0" y="1589532"/>
                  </a:moveTo>
                  <a:lnTo>
                    <a:pt x="41148" y="1589532"/>
                  </a:lnTo>
                </a:path>
                <a:path w="3136900" h="1908175">
                  <a:moveTo>
                    <a:pt x="0" y="1271016"/>
                  </a:moveTo>
                  <a:lnTo>
                    <a:pt x="41148" y="1271016"/>
                  </a:lnTo>
                </a:path>
                <a:path w="3136900" h="1908175">
                  <a:moveTo>
                    <a:pt x="0" y="954024"/>
                  </a:moveTo>
                  <a:lnTo>
                    <a:pt x="41148" y="954024"/>
                  </a:lnTo>
                </a:path>
                <a:path w="3136900" h="1908175">
                  <a:moveTo>
                    <a:pt x="0" y="635508"/>
                  </a:moveTo>
                  <a:lnTo>
                    <a:pt x="41148" y="635508"/>
                  </a:lnTo>
                </a:path>
                <a:path w="3136900" h="1908175">
                  <a:moveTo>
                    <a:pt x="0" y="316992"/>
                  </a:moveTo>
                  <a:lnTo>
                    <a:pt x="41148" y="316992"/>
                  </a:lnTo>
                </a:path>
                <a:path w="3136900" h="1908175">
                  <a:moveTo>
                    <a:pt x="0" y="0"/>
                  </a:moveTo>
                  <a:lnTo>
                    <a:pt x="41148" y="0"/>
                  </a:lnTo>
                </a:path>
                <a:path w="3136900" h="1908175">
                  <a:moveTo>
                    <a:pt x="41148" y="1908048"/>
                  </a:moveTo>
                  <a:lnTo>
                    <a:pt x="3136392" y="1908048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bject 33"/>
            <p:cNvSpPr/>
            <p:nvPr/>
          </p:nvSpPr>
          <p:spPr>
            <a:xfrm>
              <a:off x="1055520" y="2301840"/>
              <a:ext cx="2654640" cy="554760"/>
            </a:xfrm>
            <a:custGeom>
              <a:avLst/>
              <a:gdLst>
                <a:gd name="textAreaLeft" fmla="*/ 0 w 2654640"/>
                <a:gd name="textAreaRight" fmla="*/ 2655000 w 265464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2654935" h="554989">
                  <a:moveTo>
                    <a:pt x="0" y="182880"/>
                  </a:moveTo>
                  <a:lnTo>
                    <a:pt x="443484" y="0"/>
                  </a:lnTo>
                  <a:lnTo>
                    <a:pt x="885444" y="60960"/>
                  </a:lnTo>
                  <a:lnTo>
                    <a:pt x="1327404" y="144780"/>
                  </a:lnTo>
                  <a:lnTo>
                    <a:pt x="1769364" y="214884"/>
                  </a:lnTo>
                  <a:lnTo>
                    <a:pt x="2211324" y="554736"/>
                  </a:lnTo>
                  <a:lnTo>
                    <a:pt x="2654808" y="507492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bject 34"/>
            <p:cNvSpPr/>
            <p:nvPr/>
          </p:nvSpPr>
          <p:spPr>
            <a:xfrm>
              <a:off x="1011240" y="24400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bject 35"/>
            <p:cNvSpPr/>
            <p:nvPr/>
          </p:nvSpPr>
          <p:spPr>
            <a:xfrm>
              <a:off x="1011240" y="24400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bject 36"/>
            <p:cNvSpPr/>
            <p:nvPr/>
          </p:nvSpPr>
          <p:spPr>
            <a:xfrm>
              <a:off x="1452960" y="22572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bject 37"/>
            <p:cNvSpPr/>
            <p:nvPr/>
          </p:nvSpPr>
          <p:spPr>
            <a:xfrm>
              <a:off x="1452960" y="22572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bject 38"/>
            <p:cNvSpPr/>
            <p:nvPr/>
          </p:nvSpPr>
          <p:spPr>
            <a:xfrm>
              <a:off x="1895040" y="231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bject 39"/>
            <p:cNvSpPr/>
            <p:nvPr/>
          </p:nvSpPr>
          <p:spPr>
            <a:xfrm>
              <a:off x="1895040" y="231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bject 40"/>
            <p:cNvSpPr/>
            <p:nvPr/>
          </p:nvSpPr>
          <p:spPr>
            <a:xfrm>
              <a:off x="2337120" y="24019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bject 41"/>
            <p:cNvSpPr/>
            <p:nvPr/>
          </p:nvSpPr>
          <p:spPr>
            <a:xfrm>
              <a:off x="2337120" y="24019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bject 42"/>
            <p:cNvSpPr/>
            <p:nvPr/>
          </p:nvSpPr>
          <p:spPr>
            <a:xfrm>
              <a:off x="2780640" y="2472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bject 43"/>
            <p:cNvSpPr/>
            <p:nvPr/>
          </p:nvSpPr>
          <p:spPr>
            <a:xfrm>
              <a:off x="2780640" y="2472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bject 44"/>
            <p:cNvSpPr/>
            <p:nvPr/>
          </p:nvSpPr>
          <p:spPr>
            <a:xfrm>
              <a:off x="3222360" y="2811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bject 45"/>
            <p:cNvSpPr/>
            <p:nvPr/>
          </p:nvSpPr>
          <p:spPr>
            <a:xfrm>
              <a:off x="3222360" y="2811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bject 46"/>
            <p:cNvSpPr/>
            <p:nvPr/>
          </p:nvSpPr>
          <p:spPr>
            <a:xfrm>
              <a:off x="3664440" y="27662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bject 47"/>
            <p:cNvSpPr/>
            <p:nvPr/>
          </p:nvSpPr>
          <p:spPr>
            <a:xfrm>
              <a:off x="3664440" y="27662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bject 48"/>
            <p:cNvSpPr/>
            <p:nvPr/>
          </p:nvSpPr>
          <p:spPr>
            <a:xfrm>
              <a:off x="1055520" y="3059280"/>
              <a:ext cx="2654640" cy="134280"/>
            </a:xfrm>
            <a:custGeom>
              <a:avLst/>
              <a:gdLst>
                <a:gd name="textAreaLeft" fmla="*/ 0 w 2654640"/>
                <a:gd name="textAreaRight" fmla="*/ 2655000 w 26546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2654935" h="134619">
                  <a:moveTo>
                    <a:pt x="0" y="131064"/>
                  </a:moveTo>
                  <a:lnTo>
                    <a:pt x="443484" y="132587"/>
                  </a:lnTo>
                  <a:lnTo>
                    <a:pt x="885444" y="134112"/>
                  </a:lnTo>
                  <a:lnTo>
                    <a:pt x="1327404" y="132587"/>
                  </a:lnTo>
                  <a:lnTo>
                    <a:pt x="1769364" y="118872"/>
                  </a:lnTo>
                  <a:lnTo>
                    <a:pt x="2211324" y="60960"/>
                  </a:lnTo>
                  <a:lnTo>
                    <a:pt x="2654808" y="0"/>
                  </a:lnTo>
                </a:path>
              </a:pathLst>
            </a:custGeom>
            <a:noFill/>
            <a:ln w="28956">
              <a:solidFill>
                <a:srgbClr val="97b8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object 49" descr=""/>
            <p:cNvPicPr/>
            <p:nvPr/>
          </p:nvPicPr>
          <p:blipFill>
            <a:blip r:embed="rId1"/>
            <a:stretch/>
          </p:blipFill>
          <p:spPr>
            <a:xfrm>
              <a:off x="1006560" y="31428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object 50" descr=""/>
            <p:cNvPicPr/>
            <p:nvPr/>
          </p:nvPicPr>
          <p:blipFill>
            <a:blip r:embed="rId2"/>
            <a:stretch/>
          </p:blipFill>
          <p:spPr>
            <a:xfrm>
              <a:off x="1448640" y="31442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object 51" descr=""/>
            <p:cNvPicPr/>
            <p:nvPr/>
          </p:nvPicPr>
          <p:blipFill>
            <a:blip r:embed="rId3"/>
            <a:stretch/>
          </p:blipFill>
          <p:spPr>
            <a:xfrm>
              <a:off x="1890360" y="31456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object 52" descr=""/>
            <p:cNvPicPr/>
            <p:nvPr/>
          </p:nvPicPr>
          <p:blipFill>
            <a:blip r:embed="rId4"/>
            <a:stretch/>
          </p:blipFill>
          <p:spPr>
            <a:xfrm>
              <a:off x="2332440" y="31442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object 53" descr=""/>
            <p:cNvPicPr/>
            <p:nvPr/>
          </p:nvPicPr>
          <p:blipFill>
            <a:blip r:embed="rId5"/>
            <a:stretch/>
          </p:blipFill>
          <p:spPr>
            <a:xfrm>
              <a:off x="2775960" y="3130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object 54" descr=""/>
            <p:cNvPicPr/>
            <p:nvPr/>
          </p:nvPicPr>
          <p:blipFill>
            <a:blip r:embed="rId6"/>
            <a:stretch/>
          </p:blipFill>
          <p:spPr>
            <a:xfrm>
              <a:off x="3218040" y="30711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object 55" descr=""/>
            <p:cNvPicPr/>
            <p:nvPr/>
          </p:nvPicPr>
          <p:blipFill>
            <a:blip r:embed="rId7"/>
            <a:stretch/>
          </p:blipFill>
          <p:spPr>
            <a:xfrm>
              <a:off x="3659760" y="301032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object 56"/>
          <p:cNvSpPr/>
          <p:nvPr/>
        </p:nvSpPr>
        <p:spPr>
          <a:xfrm>
            <a:off x="884160" y="2094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bject 57"/>
          <p:cNvSpPr/>
          <p:nvPr/>
        </p:nvSpPr>
        <p:spPr>
          <a:xfrm>
            <a:off x="1326240" y="20473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bject 58"/>
          <p:cNvSpPr/>
          <p:nvPr/>
        </p:nvSpPr>
        <p:spPr>
          <a:xfrm>
            <a:off x="1768680" y="1985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bject 59"/>
          <p:cNvSpPr/>
          <p:nvPr/>
        </p:nvSpPr>
        <p:spPr>
          <a:xfrm>
            <a:off x="2210760" y="197892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bject 60"/>
          <p:cNvSpPr/>
          <p:nvPr/>
        </p:nvSpPr>
        <p:spPr>
          <a:xfrm>
            <a:off x="2653560" y="1875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bject 61"/>
          <p:cNvSpPr/>
          <p:nvPr/>
        </p:nvSpPr>
        <p:spPr>
          <a:xfrm>
            <a:off x="3095640" y="17150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bject 62"/>
          <p:cNvSpPr/>
          <p:nvPr/>
        </p:nvSpPr>
        <p:spPr>
          <a:xfrm>
            <a:off x="3538080" y="171324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bject 63"/>
          <p:cNvSpPr/>
          <p:nvPr/>
        </p:nvSpPr>
        <p:spPr>
          <a:xfrm>
            <a:off x="961560" y="13885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992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bject 64"/>
          <p:cNvSpPr/>
          <p:nvPr/>
        </p:nvSpPr>
        <p:spPr>
          <a:xfrm>
            <a:off x="1371600" y="1156320"/>
            <a:ext cx="820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138,3</a:t>
            </a:r>
            <a:r>
              <a:rPr b="0" lang="en-US" sz="1000" spc="44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39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bject 65"/>
          <p:cNvSpPr/>
          <p:nvPr/>
        </p:nvSpPr>
        <p:spPr>
          <a:xfrm>
            <a:off x="2256480" y="12322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9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bject 66"/>
          <p:cNvSpPr/>
          <p:nvPr/>
        </p:nvSpPr>
        <p:spPr>
          <a:xfrm>
            <a:off x="2698920" y="12128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02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bject 67"/>
          <p:cNvSpPr/>
          <p:nvPr/>
        </p:nvSpPr>
        <p:spPr>
          <a:xfrm>
            <a:off x="3173400" y="14515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952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bject 68"/>
          <p:cNvSpPr/>
          <p:nvPr/>
        </p:nvSpPr>
        <p:spPr>
          <a:xfrm>
            <a:off x="3615840" y="1463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944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bject 69"/>
          <p:cNvSpPr/>
          <p:nvPr/>
        </p:nvSpPr>
        <p:spPr>
          <a:xfrm>
            <a:off x="1164600" y="2388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bject 70"/>
          <p:cNvSpPr/>
          <p:nvPr/>
        </p:nvSpPr>
        <p:spPr>
          <a:xfrm>
            <a:off x="1606680" y="22060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bject 71"/>
          <p:cNvSpPr/>
          <p:nvPr/>
        </p:nvSpPr>
        <p:spPr>
          <a:xfrm>
            <a:off x="2049120" y="22680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bject 72"/>
          <p:cNvSpPr/>
          <p:nvPr/>
        </p:nvSpPr>
        <p:spPr>
          <a:xfrm>
            <a:off x="2491560" y="23500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bject 73"/>
          <p:cNvSpPr/>
          <p:nvPr/>
        </p:nvSpPr>
        <p:spPr>
          <a:xfrm>
            <a:off x="2934000" y="24206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bject 74"/>
          <p:cNvSpPr/>
          <p:nvPr/>
        </p:nvSpPr>
        <p:spPr>
          <a:xfrm>
            <a:off x="3376080" y="2760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bject 75"/>
          <p:cNvSpPr/>
          <p:nvPr/>
        </p:nvSpPr>
        <p:spPr>
          <a:xfrm>
            <a:off x="3817800" y="27140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43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bject 76"/>
          <p:cNvSpPr/>
          <p:nvPr/>
        </p:nvSpPr>
        <p:spPr>
          <a:xfrm>
            <a:off x="1163160" y="30952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bject 77"/>
          <p:cNvSpPr/>
          <p:nvPr/>
        </p:nvSpPr>
        <p:spPr>
          <a:xfrm>
            <a:off x="1605600" y="30967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bject 78"/>
          <p:cNvSpPr/>
          <p:nvPr/>
        </p:nvSpPr>
        <p:spPr>
          <a:xfrm>
            <a:off x="2048040" y="30981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bject 79"/>
          <p:cNvSpPr/>
          <p:nvPr/>
        </p:nvSpPr>
        <p:spPr>
          <a:xfrm>
            <a:off x="2490480" y="30970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bject 80"/>
          <p:cNvSpPr/>
          <p:nvPr/>
        </p:nvSpPr>
        <p:spPr>
          <a:xfrm>
            <a:off x="2932920" y="308304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1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bject 81"/>
          <p:cNvSpPr/>
          <p:nvPr/>
        </p:nvSpPr>
        <p:spPr>
          <a:xfrm>
            <a:off x="3375000" y="302436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48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bject 82"/>
          <p:cNvSpPr/>
          <p:nvPr/>
        </p:nvSpPr>
        <p:spPr>
          <a:xfrm>
            <a:off x="3817800" y="29635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86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bject 83"/>
          <p:cNvSpPr/>
          <p:nvPr/>
        </p:nvSpPr>
        <p:spPr>
          <a:xfrm>
            <a:off x="639720" y="30942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bject 84"/>
          <p:cNvSpPr/>
          <p:nvPr/>
        </p:nvSpPr>
        <p:spPr>
          <a:xfrm>
            <a:off x="511200" y="27763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bject 85"/>
          <p:cNvSpPr/>
          <p:nvPr/>
        </p:nvSpPr>
        <p:spPr>
          <a:xfrm>
            <a:off x="511200" y="24580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bject 86"/>
          <p:cNvSpPr/>
          <p:nvPr/>
        </p:nvSpPr>
        <p:spPr>
          <a:xfrm>
            <a:off x="511200" y="21402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bject 87"/>
          <p:cNvSpPr/>
          <p:nvPr/>
        </p:nvSpPr>
        <p:spPr>
          <a:xfrm>
            <a:off x="511200" y="18219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bject 88"/>
          <p:cNvSpPr/>
          <p:nvPr/>
        </p:nvSpPr>
        <p:spPr>
          <a:xfrm>
            <a:off x="446760" y="15040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bject 89"/>
          <p:cNvSpPr/>
          <p:nvPr/>
        </p:nvSpPr>
        <p:spPr>
          <a:xfrm>
            <a:off x="446760" y="118584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bject 90"/>
          <p:cNvSpPr/>
          <p:nvPr/>
        </p:nvSpPr>
        <p:spPr>
          <a:xfrm>
            <a:off x="914400" y="3259440"/>
            <a:ext cx="2937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54680"/>
                <a:tab algn="l" pos="897120"/>
                <a:tab algn="l" pos="1339200"/>
                <a:tab algn="l" pos="1781640"/>
                <a:tab algn="l" pos="2224440"/>
                <a:tab algn="l" pos="266652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bject 91"/>
          <p:cNvSpPr/>
          <p:nvPr/>
        </p:nvSpPr>
        <p:spPr>
          <a:xfrm>
            <a:off x="279360" y="2077920"/>
            <a:ext cx="15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bject 92"/>
          <p:cNvSpPr/>
          <p:nvPr/>
        </p:nvSpPr>
        <p:spPr>
          <a:xfrm>
            <a:off x="4129920" y="195228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bject 93"/>
          <p:cNvSpPr/>
          <p:nvPr/>
        </p:nvSpPr>
        <p:spPr>
          <a:xfrm>
            <a:off x="4386960" y="1883880"/>
            <a:ext cx="7884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bject 94"/>
          <p:cNvSpPr/>
          <p:nvPr/>
        </p:nvSpPr>
        <p:spPr>
          <a:xfrm>
            <a:off x="4129920" y="2182320"/>
            <a:ext cx="243360" cy="68400"/>
          </a:xfrm>
          <a:custGeom>
            <a:avLst/>
            <a:gdLst>
              <a:gd name="textAreaLeft" fmla="*/ 0 w 243360"/>
              <a:gd name="textAreaRight" fmla="*/ 243720 w 243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43839" h="68580">
                <a:moveTo>
                  <a:pt x="243839" y="0"/>
                </a:moveTo>
                <a:lnTo>
                  <a:pt x="0" y="0"/>
                </a:lnTo>
                <a:lnTo>
                  <a:pt x="0" y="68579"/>
                </a:lnTo>
                <a:lnTo>
                  <a:pt x="243839" y="68579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object 95"/>
          <p:cNvGrpSpPr/>
          <p:nvPr/>
        </p:nvGrpSpPr>
        <p:grpSpPr>
          <a:xfrm>
            <a:off x="4129200" y="2408040"/>
            <a:ext cx="243360" cy="75960"/>
            <a:chOff x="4129200" y="2408040"/>
            <a:chExt cx="243360" cy="75960"/>
          </a:xfrm>
        </p:grpSpPr>
        <p:sp>
          <p:nvSpPr>
            <p:cNvPr id="1008" name="object 96"/>
            <p:cNvSpPr/>
            <p:nvPr/>
          </p:nvSpPr>
          <p:spPr>
            <a:xfrm>
              <a:off x="4129200" y="244692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39" y="0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bject 97"/>
            <p:cNvSpPr/>
            <p:nvPr/>
          </p:nvSpPr>
          <p:spPr>
            <a:xfrm>
              <a:off x="4212360" y="24080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bject 98"/>
            <p:cNvSpPr/>
            <p:nvPr/>
          </p:nvSpPr>
          <p:spPr>
            <a:xfrm>
              <a:off x="4212360" y="24080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1" name="object 99" descr=""/>
          <p:cNvPicPr/>
          <p:nvPr/>
        </p:nvPicPr>
        <p:blipFill>
          <a:blip r:embed="rId8"/>
          <a:stretch/>
        </p:blipFill>
        <p:spPr>
          <a:xfrm>
            <a:off x="4129200" y="263196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1012" name="object 100"/>
          <p:cNvSpPr/>
          <p:nvPr/>
        </p:nvSpPr>
        <p:spPr>
          <a:xfrm>
            <a:off x="4386960" y="2036160"/>
            <a:ext cx="741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bject 101"/>
          <p:cNvSpPr/>
          <p:nvPr/>
        </p:nvSpPr>
        <p:spPr>
          <a:xfrm>
            <a:off x="546480" y="763200"/>
            <a:ext cx="47404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object 102"/>
          <p:cNvGraphicFramePr/>
          <p:nvPr/>
        </p:nvGraphicFramePr>
        <p:xfrm>
          <a:off x="571320" y="3640680"/>
          <a:ext cx="3531600" cy="1117080"/>
        </p:xfrm>
        <a:graphic>
          <a:graphicData uri="http://schemas.openxmlformats.org/drawingml/2006/table">
            <a:tbl>
              <a:tblPr/>
              <a:tblGrid>
                <a:gridCol w="2097720"/>
                <a:gridCol w="143352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щность,</a:t>
                      </a:r>
                      <a:r>
                        <a:rPr b="0" lang="en-US" sz="1400" spc="-4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52" strike="noStrike">
                          <a:solidFill>
                            <a:srgbClr val="ffffff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АО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аустик»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АО</a:t>
                      </a:r>
                      <a:r>
                        <a:rPr b="0" lang="en-US" sz="1400" spc="-1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БСК»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 («Каустик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АО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Саянскхимплас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ОО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Русвини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5" name="object 103" descr=""/>
          <p:cNvPicPr/>
          <p:nvPr/>
        </p:nvPicPr>
        <p:blipFill>
          <a:blip r:embed="rId9"/>
          <a:stretch/>
        </p:blipFill>
        <p:spPr>
          <a:xfrm>
            <a:off x="572400" y="5086440"/>
            <a:ext cx="2663640" cy="863640"/>
          </a:xfrm>
          <a:prstGeom prst="rect">
            <a:avLst/>
          </a:prstGeom>
          <a:ln w="0">
            <a:noFill/>
          </a:ln>
        </p:spPr>
      </p:pic>
      <p:sp>
        <p:nvSpPr>
          <p:cNvPr id="1016" name="object 104"/>
          <p:cNvSpPr/>
          <p:nvPr/>
        </p:nvSpPr>
        <p:spPr>
          <a:xfrm>
            <a:off x="572400" y="5086440"/>
            <a:ext cx="2664000" cy="828360"/>
          </a:xfrm>
          <a:prstGeom prst="rect">
            <a:avLst/>
          </a:prstGeom>
          <a:noFill/>
          <a:ln w="25908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040" bIns="0" anchor="t">
            <a:spAutoFit/>
          </a:bodyPr>
          <a:p>
            <a:pPr marL="89640">
              <a:lnSpc>
                <a:spcPct val="100000"/>
              </a:lnSpc>
              <a:spcBef>
                <a:spcPts val="40"/>
              </a:spcBef>
            </a:pP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  <a:spcBef>
                <a:spcPts val="6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го:</a:t>
            </a:r>
            <a:r>
              <a:rPr b="0" lang="en-US" sz="18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75</a:t>
            </a: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0" lang="en-US" sz="18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8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ПВХ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:</a:t>
            </a:r>
            <a:r>
              <a:rPr b="0" lang="en-US" sz="18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45</a:t>
            </a:r>
            <a:r>
              <a:rPr b="0" lang="en-US" sz="18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0" lang="en-US" sz="18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object 105"/>
          <p:cNvGrpSpPr/>
          <p:nvPr/>
        </p:nvGrpSpPr>
        <p:grpSpPr>
          <a:xfrm>
            <a:off x="6005160" y="4241880"/>
            <a:ext cx="1926720" cy="1926720"/>
            <a:chOff x="6005160" y="4241880"/>
            <a:chExt cx="1926720" cy="1926720"/>
          </a:xfrm>
        </p:grpSpPr>
        <p:sp>
          <p:nvSpPr>
            <p:cNvPr id="1018" name="object 106"/>
            <p:cNvSpPr/>
            <p:nvPr/>
          </p:nvSpPr>
          <p:spPr>
            <a:xfrm>
              <a:off x="6968880" y="4241880"/>
              <a:ext cx="180720" cy="489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180975" h="490220">
                  <a:moveTo>
                    <a:pt x="0" y="0"/>
                  </a:moveTo>
                  <a:lnTo>
                    <a:pt x="0" y="481584"/>
                  </a:lnTo>
                  <a:lnTo>
                    <a:pt x="22661" y="482129"/>
                  </a:lnTo>
                  <a:lnTo>
                    <a:pt x="45275" y="483758"/>
                  </a:lnTo>
                  <a:lnTo>
                    <a:pt x="67794" y="486459"/>
                  </a:lnTo>
                  <a:lnTo>
                    <a:pt x="90170" y="490220"/>
                  </a:lnTo>
                  <a:lnTo>
                    <a:pt x="180466" y="17018"/>
                  </a:lnTo>
                  <a:lnTo>
                    <a:pt x="135713" y="9590"/>
                  </a:lnTo>
                  <a:lnTo>
                    <a:pt x="90662" y="4270"/>
                  </a:lnTo>
                  <a:lnTo>
                    <a:pt x="45396" y="10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bject 107"/>
            <p:cNvSpPr/>
            <p:nvPr/>
          </p:nvSpPr>
          <p:spPr>
            <a:xfrm>
              <a:off x="6005160" y="4241880"/>
              <a:ext cx="1926720" cy="1926720"/>
            </a:xfrm>
            <a:custGeom>
              <a:avLst/>
              <a:gdLst>
                <a:gd name="textAreaLeft" fmla="*/ 0 w 1926720"/>
                <a:gd name="textAreaRight" fmla="*/ 1927080 w 1926720"/>
                <a:gd name="textAreaTop" fmla="*/ 0 h 1926720"/>
                <a:gd name="textAreaBottom" fmla="*/ 1927080 h 1926720"/>
              </a:gdLst>
              <a:ahLst/>
              <a:rect l="textAreaLeft" t="textAreaTop" r="textAreaRight" b="textAreaBottom"/>
              <a:pathLst>
                <a:path w="1927225" h="1927225">
                  <a:moveTo>
                    <a:pt x="963494" y="0"/>
                  </a:moveTo>
                  <a:lnTo>
                    <a:pt x="914211" y="1247"/>
                  </a:lnTo>
                  <a:lnTo>
                    <a:pt x="865494" y="4954"/>
                  </a:lnTo>
                  <a:lnTo>
                    <a:pt x="817409" y="11065"/>
                  </a:lnTo>
                  <a:lnTo>
                    <a:pt x="770024" y="19523"/>
                  </a:lnTo>
                  <a:lnTo>
                    <a:pt x="723407" y="30275"/>
                  </a:lnTo>
                  <a:lnTo>
                    <a:pt x="677623" y="43263"/>
                  </a:lnTo>
                  <a:lnTo>
                    <a:pt x="632741" y="58433"/>
                  </a:lnTo>
                  <a:lnTo>
                    <a:pt x="588826" y="75730"/>
                  </a:lnTo>
                  <a:lnTo>
                    <a:pt x="545948" y="95098"/>
                  </a:lnTo>
                  <a:lnTo>
                    <a:pt x="504171" y="116481"/>
                  </a:lnTo>
                  <a:lnTo>
                    <a:pt x="463565" y="139824"/>
                  </a:lnTo>
                  <a:lnTo>
                    <a:pt x="424195" y="165071"/>
                  </a:lnTo>
                  <a:lnTo>
                    <a:pt x="386129" y="192168"/>
                  </a:lnTo>
                  <a:lnTo>
                    <a:pt x="349433" y="221059"/>
                  </a:lnTo>
                  <a:lnTo>
                    <a:pt x="314176" y="251688"/>
                  </a:lnTo>
                  <a:lnTo>
                    <a:pt x="280424" y="284000"/>
                  </a:lnTo>
                  <a:lnTo>
                    <a:pt x="248244" y="317939"/>
                  </a:lnTo>
                  <a:lnTo>
                    <a:pt x="217703" y="353450"/>
                  </a:lnTo>
                  <a:lnTo>
                    <a:pt x="188869" y="390478"/>
                  </a:lnTo>
                  <a:lnTo>
                    <a:pt x="161808" y="428967"/>
                  </a:lnTo>
                  <a:lnTo>
                    <a:pt x="136587" y="468862"/>
                  </a:lnTo>
                  <a:lnTo>
                    <a:pt x="113275" y="510107"/>
                  </a:lnTo>
                  <a:lnTo>
                    <a:pt x="91937" y="552646"/>
                  </a:lnTo>
                  <a:lnTo>
                    <a:pt x="72641" y="596426"/>
                  </a:lnTo>
                  <a:lnTo>
                    <a:pt x="55454" y="641389"/>
                  </a:lnTo>
                  <a:lnTo>
                    <a:pt x="40443" y="687480"/>
                  </a:lnTo>
                  <a:lnTo>
                    <a:pt x="27675" y="734645"/>
                  </a:lnTo>
                  <a:lnTo>
                    <a:pt x="17217" y="782828"/>
                  </a:lnTo>
                  <a:lnTo>
                    <a:pt x="9366" y="830276"/>
                  </a:lnTo>
                  <a:lnTo>
                    <a:pt x="3908" y="877560"/>
                  </a:lnTo>
                  <a:lnTo>
                    <a:pt x="801" y="924615"/>
                  </a:lnTo>
                  <a:lnTo>
                    <a:pt x="0" y="971377"/>
                  </a:lnTo>
                  <a:lnTo>
                    <a:pt x="1461" y="1017780"/>
                  </a:lnTo>
                  <a:lnTo>
                    <a:pt x="5141" y="1063760"/>
                  </a:lnTo>
                  <a:lnTo>
                    <a:pt x="10995" y="1109253"/>
                  </a:lnTo>
                  <a:lnTo>
                    <a:pt x="18981" y="1154194"/>
                  </a:lnTo>
                  <a:lnTo>
                    <a:pt x="29053" y="1198519"/>
                  </a:lnTo>
                  <a:lnTo>
                    <a:pt x="41169" y="1242163"/>
                  </a:lnTo>
                  <a:lnTo>
                    <a:pt x="55284" y="1285061"/>
                  </a:lnTo>
                  <a:lnTo>
                    <a:pt x="71355" y="1327149"/>
                  </a:lnTo>
                  <a:lnTo>
                    <a:pt x="89337" y="1368363"/>
                  </a:lnTo>
                  <a:lnTo>
                    <a:pt x="109187" y="1408637"/>
                  </a:lnTo>
                  <a:lnTo>
                    <a:pt x="130861" y="1447908"/>
                  </a:lnTo>
                  <a:lnTo>
                    <a:pt x="154315" y="1486110"/>
                  </a:lnTo>
                  <a:lnTo>
                    <a:pt x="179506" y="1523180"/>
                  </a:lnTo>
                  <a:lnTo>
                    <a:pt x="206388" y="1559052"/>
                  </a:lnTo>
                  <a:lnTo>
                    <a:pt x="234920" y="1593663"/>
                  </a:lnTo>
                  <a:lnTo>
                    <a:pt x="265056" y="1626947"/>
                  </a:lnTo>
                  <a:lnTo>
                    <a:pt x="296753" y="1658840"/>
                  </a:lnTo>
                  <a:lnTo>
                    <a:pt x="329966" y="1689278"/>
                  </a:lnTo>
                  <a:lnTo>
                    <a:pt x="364654" y="1718196"/>
                  </a:lnTo>
                  <a:lnTo>
                    <a:pt x="400770" y="1745529"/>
                  </a:lnTo>
                  <a:lnTo>
                    <a:pt x="438272" y="1771213"/>
                  </a:lnTo>
                  <a:lnTo>
                    <a:pt x="477115" y="1795183"/>
                  </a:lnTo>
                  <a:lnTo>
                    <a:pt x="517256" y="1817376"/>
                  </a:lnTo>
                  <a:lnTo>
                    <a:pt x="558651" y="1837725"/>
                  </a:lnTo>
                  <a:lnTo>
                    <a:pt x="601256" y="1856167"/>
                  </a:lnTo>
                  <a:lnTo>
                    <a:pt x="645028" y="1872637"/>
                  </a:lnTo>
                  <a:lnTo>
                    <a:pt x="689921" y="1887071"/>
                  </a:lnTo>
                  <a:lnTo>
                    <a:pt x="735893" y="1899404"/>
                  </a:lnTo>
                  <a:lnTo>
                    <a:pt x="782900" y="1909572"/>
                  </a:lnTo>
                  <a:lnTo>
                    <a:pt x="830349" y="1917423"/>
                  </a:lnTo>
                  <a:lnTo>
                    <a:pt x="877634" y="1922880"/>
                  </a:lnTo>
                  <a:lnTo>
                    <a:pt x="924691" y="1925987"/>
                  </a:lnTo>
                  <a:lnTo>
                    <a:pt x="971455" y="1926787"/>
                  </a:lnTo>
                  <a:lnTo>
                    <a:pt x="1017860" y="1925324"/>
                  </a:lnTo>
                  <a:lnTo>
                    <a:pt x="1063844" y="1921642"/>
                  </a:lnTo>
                  <a:lnTo>
                    <a:pt x="1109341" y="1915785"/>
                  </a:lnTo>
                  <a:lnTo>
                    <a:pt x="1154286" y="1907798"/>
                  </a:lnTo>
                  <a:lnTo>
                    <a:pt x="1198615" y="1897722"/>
                  </a:lnTo>
                  <a:lnTo>
                    <a:pt x="1242263" y="1885604"/>
                  </a:lnTo>
                  <a:lnTo>
                    <a:pt x="1285166" y="1871486"/>
                  </a:lnTo>
                  <a:lnTo>
                    <a:pt x="1327260" y="1855412"/>
                  </a:lnTo>
                  <a:lnTo>
                    <a:pt x="1368479" y="1837426"/>
                  </a:lnTo>
                  <a:lnTo>
                    <a:pt x="1408759" y="1817572"/>
                  </a:lnTo>
                  <a:lnTo>
                    <a:pt x="1448035" y="1795894"/>
                  </a:lnTo>
                  <a:lnTo>
                    <a:pt x="1486244" y="1772436"/>
                  </a:lnTo>
                  <a:lnTo>
                    <a:pt x="1523319" y="1747241"/>
                  </a:lnTo>
                  <a:lnTo>
                    <a:pt x="1559197" y="1720354"/>
                  </a:lnTo>
                  <a:lnTo>
                    <a:pt x="1593814" y="1691818"/>
                  </a:lnTo>
                  <a:lnTo>
                    <a:pt x="1627103" y="1661677"/>
                  </a:lnTo>
                  <a:lnTo>
                    <a:pt x="1659002" y="1629975"/>
                  </a:lnTo>
                  <a:lnTo>
                    <a:pt x="1689445" y="1596756"/>
                  </a:lnTo>
                  <a:lnTo>
                    <a:pt x="1718368" y="1562064"/>
                  </a:lnTo>
                  <a:lnTo>
                    <a:pt x="1745706" y="1525943"/>
                  </a:lnTo>
                  <a:lnTo>
                    <a:pt x="1771394" y="1488435"/>
                  </a:lnTo>
                  <a:lnTo>
                    <a:pt x="1795368" y="1449587"/>
                  </a:lnTo>
                  <a:lnTo>
                    <a:pt x="1817564" y="1409440"/>
                  </a:lnTo>
                  <a:lnTo>
                    <a:pt x="1837917" y="1368039"/>
                  </a:lnTo>
                  <a:lnTo>
                    <a:pt x="1856362" y="1325428"/>
                  </a:lnTo>
                  <a:lnTo>
                    <a:pt x="1872834" y="1281651"/>
                  </a:lnTo>
                  <a:lnTo>
                    <a:pt x="1887270" y="1236752"/>
                  </a:lnTo>
                  <a:lnTo>
                    <a:pt x="1899603" y="1190774"/>
                  </a:lnTo>
                  <a:lnTo>
                    <a:pt x="1909771" y="1143762"/>
                  </a:lnTo>
                  <a:lnTo>
                    <a:pt x="1917622" y="1096313"/>
                  </a:lnTo>
                  <a:lnTo>
                    <a:pt x="1923079" y="1049029"/>
                  </a:lnTo>
                  <a:lnTo>
                    <a:pt x="1926185" y="1001974"/>
                  </a:lnTo>
                  <a:lnTo>
                    <a:pt x="1926984" y="955212"/>
                  </a:lnTo>
                  <a:lnTo>
                    <a:pt x="1925520" y="908809"/>
                  </a:lnTo>
                  <a:lnTo>
                    <a:pt x="1921837" y="862829"/>
                  </a:lnTo>
                  <a:lnTo>
                    <a:pt x="1915978" y="817336"/>
                  </a:lnTo>
                  <a:lnTo>
                    <a:pt x="1907989" y="772395"/>
                  </a:lnTo>
                  <a:lnTo>
                    <a:pt x="1897912" y="728070"/>
                  </a:lnTo>
                  <a:lnTo>
                    <a:pt x="1885791" y="684426"/>
                  </a:lnTo>
                  <a:lnTo>
                    <a:pt x="1871671" y="641528"/>
                  </a:lnTo>
                  <a:lnTo>
                    <a:pt x="1855595" y="599440"/>
                  </a:lnTo>
                  <a:lnTo>
                    <a:pt x="1837608" y="558226"/>
                  </a:lnTo>
                  <a:lnTo>
                    <a:pt x="1817752" y="517952"/>
                  </a:lnTo>
                  <a:lnTo>
                    <a:pt x="1796072" y="478681"/>
                  </a:lnTo>
                  <a:lnTo>
                    <a:pt x="1772613" y="440479"/>
                  </a:lnTo>
                  <a:lnTo>
                    <a:pt x="1747416" y="403409"/>
                  </a:lnTo>
                  <a:lnTo>
                    <a:pt x="1720528" y="367537"/>
                  </a:lnTo>
                  <a:lnTo>
                    <a:pt x="1691991" y="332926"/>
                  </a:lnTo>
                  <a:lnTo>
                    <a:pt x="1661849" y="299642"/>
                  </a:lnTo>
                  <a:lnTo>
                    <a:pt x="1630147" y="267749"/>
                  </a:lnTo>
                  <a:lnTo>
                    <a:pt x="1596928" y="237311"/>
                  </a:lnTo>
                  <a:lnTo>
                    <a:pt x="1562236" y="208393"/>
                  </a:lnTo>
                  <a:lnTo>
                    <a:pt x="1526115" y="181060"/>
                  </a:lnTo>
                  <a:lnTo>
                    <a:pt x="1488609" y="155376"/>
                  </a:lnTo>
                  <a:lnTo>
                    <a:pt x="1449761" y="131406"/>
                  </a:lnTo>
                  <a:lnTo>
                    <a:pt x="1409616" y="109213"/>
                  </a:lnTo>
                  <a:lnTo>
                    <a:pt x="1368218" y="88864"/>
                  </a:lnTo>
                  <a:lnTo>
                    <a:pt x="1325610" y="70422"/>
                  </a:lnTo>
                  <a:lnTo>
                    <a:pt x="1281837" y="53952"/>
                  </a:lnTo>
                  <a:lnTo>
                    <a:pt x="1236942" y="39518"/>
                  </a:lnTo>
                  <a:lnTo>
                    <a:pt x="1190968" y="27185"/>
                  </a:lnTo>
                  <a:lnTo>
                    <a:pt x="1143961" y="17018"/>
                  </a:lnTo>
                  <a:lnTo>
                    <a:pt x="1053664" y="490220"/>
                  </a:lnTo>
                  <a:lnTo>
                    <a:pt x="1101350" y="501830"/>
                  </a:lnTo>
                  <a:lnTo>
                    <a:pt x="1146885" y="517924"/>
                  </a:lnTo>
                  <a:lnTo>
                    <a:pt x="1190050" y="538234"/>
                  </a:lnTo>
                  <a:lnTo>
                    <a:pt x="1230622" y="562491"/>
                  </a:lnTo>
                  <a:lnTo>
                    <a:pt x="1268381" y="590428"/>
                  </a:lnTo>
                  <a:lnTo>
                    <a:pt x="1303105" y="621778"/>
                  </a:lnTo>
                  <a:lnTo>
                    <a:pt x="1334572" y="656272"/>
                  </a:lnTo>
                  <a:lnTo>
                    <a:pt x="1362562" y="693643"/>
                  </a:lnTo>
                  <a:lnTo>
                    <a:pt x="1386853" y="733624"/>
                  </a:lnTo>
                  <a:lnTo>
                    <a:pt x="1407224" y="775945"/>
                  </a:lnTo>
                  <a:lnTo>
                    <a:pt x="1423453" y="820341"/>
                  </a:lnTo>
                  <a:lnTo>
                    <a:pt x="1435320" y="866543"/>
                  </a:lnTo>
                  <a:lnTo>
                    <a:pt x="1442602" y="914283"/>
                  </a:lnTo>
                  <a:lnTo>
                    <a:pt x="1445078" y="963295"/>
                  </a:lnTo>
                  <a:lnTo>
                    <a:pt x="1442592" y="1012550"/>
                  </a:lnTo>
                  <a:lnTo>
                    <a:pt x="1435293" y="1060381"/>
                  </a:lnTo>
                  <a:lnTo>
                    <a:pt x="1423424" y="1106546"/>
                  </a:lnTo>
                  <a:lnTo>
                    <a:pt x="1407228" y="1150802"/>
                  </a:lnTo>
                  <a:lnTo>
                    <a:pt x="1386947" y="1192908"/>
                  </a:lnTo>
                  <a:lnTo>
                    <a:pt x="1362822" y="1232622"/>
                  </a:lnTo>
                  <a:lnTo>
                    <a:pt x="1335097" y="1269702"/>
                  </a:lnTo>
                  <a:lnTo>
                    <a:pt x="1304013" y="1303905"/>
                  </a:lnTo>
                  <a:lnTo>
                    <a:pt x="1269812" y="1334991"/>
                  </a:lnTo>
                  <a:lnTo>
                    <a:pt x="1232738" y="1362717"/>
                  </a:lnTo>
                  <a:lnTo>
                    <a:pt x="1193031" y="1386841"/>
                  </a:lnTo>
                  <a:lnTo>
                    <a:pt x="1150934" y="1407121"/>
                  </a:lnTo>
                  <a:lnTo>
                    <a:pt x="1106690" y="1423316"/>
                  </a:lnTo>
                  <a:lnTo>
                    <a:pt x="1060541" y="1435183"/>
                  </a:lnTo>
                  <a:lnTo>
                    <a:pt x="1012728" y="1442481"/>
                  </a:lnTo>
                  <a:lnTo>
                    <a:pt x="963494" y="1444967"/>
                  </a:lnTo>
                  <a:lnTo>
                    <a:pt x="914238" y="1442481"/>
                  </a:lnTo>
                  <a:lnTo>
                    <a:pt x="866406" y="1435183"/>
                  </a:lnTo>
                  <a:lnTo>
                    <a:pt x="820239" y="1423316"/>
                  </a:lnTo>
                  <a:lnTo>
                    <a:pt x="775981" y="1407121"/>
                  </a:lnTo>
                  <a:lnTo>
                    <a:pt x="733872" y="1386841"/>
                  </a:lnTo>
                  <a:lnTo>
                    <a:pt x="694155" y="1362717"/>
                  </a:lnTo>
                  <a:lnTo>
                    <a:pt x="657072" y="1334991"/>
                  </a:lnTo>
                  <a:lnTo>
                    <a:pt x="622864" y="1303905"/>
                  </a:lnTo>
                  <a:lnTo>
                    <a:pt x="591775" y="1269702"/>
                  </a:lnTo>
                  <a:lnTo>
                    <a:pt x="564046" y="1232622"/>
                  </a:lnTo>
                  <a:lnTo>
                    <a:pt x="539918" y="1192908"/>
                  </a:lnTo>
                  <a:lnTo>
                    <a:pt x="519635" y="1150802"/>
                  </a:lnTo>
                  <a:lnTo>
                    <a:pt x="503438" y="1106546"/>
                  </a:lnTo>
                  <a:lnTo>
                    <a:pt x="491569" y="1060381"/>
                  </a:lnTo>
                  <a:lnTo>
                    <a:pt x="484270" y="1012550"/>
                  </a:lnTo>
                  <a:lnTo>
                    <a:pt x="481783" y="963295"/>
                  </a:lnTo>
                  <a:lnTo>
                    <a:pt x="484270" y="914038"/>
                  </a:lnTo>
                  <a:lnTo>
                    <a:pt x="491569" y="866206"/>
                  </a:lnTo>
                  <a:lnTo>
                    <a:pt x="503438" y="820040"/>
                  </a:lnTo>
                  <a:lnTo>
                    <a:pt x="519635" y="775781"/>
                  </a:lnTo>
                  <a:lnTo>
                    <a:pt x="539918" y="733672"/>
                  </a:lnTo>
                  <a:lnTo>
                    <a:pt x="564046" y="693955"/>
                  </a:lnTo>
                  <a:lnTo>
                    <a:pt x="591775" y="656872"/>
                  </a:lnTo>
                  <a:lnTo>
                    <a:pt x="622864" y="622665"/>
                  </a:lnTo>
                  <a:lnTo>
                    <a:pt x="657072" y="591575"/>
                  </a:lnTo>
                  <a:lnTo>
                    <a:pt x="694155" y="563846"/>
                  </a:lnTo>
                  <a:lnTo>
                    <a:pt x="733872" y="539719"/>
                  </a:lnTo>
                  <a:lnTo>
                    <a:pt x="775981" y="519435"/>
                  </a:lnTo>
                  <a:lnTo>
                    <a:pt x="820239" y="503238"/>
                  </a:lnTo>
                  <a:lnTo>
                    <a:pt x="866406" y="491369"/>
                  </a:lnTo>
                  <a:lnTo>
                    <a:pt x="914238" y="484070"/>
                  </a:lnTo>
                  <a:lnTo>
                    <a:pt x="963494" y="481584"/>
                  </a:lnTo>
                  <a:lnTo>
                    <a:pt x="96349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object 108"/>
          <p:cNvSpPr/>
          <p:nvPr/>
        </p:nvSpPr>
        <p:spPr>
          <a:xfrm>
            <a:off x="7067880" y="4059360"/>
            <a:ext cx="702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79200" indent="-6732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Эмульсионн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ый 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3,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bject 109"/>
          <p:cNvSpPr/>
          <p:nvPr/>
        </p:nvSpPr>
        <p:spPr>
          <a:xfrm>
            <a:off x="6648480" y="5714280"/>
            <a:ext cx="7344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78120" indent="-6588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успензионн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ый;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764,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bject 110"/>
          <p:cNvSpPr/>
          <p:nvPr/>
        </p:nvSpPr>
        <p:spPr>
          <a:xfrm>
            <a:off x="6615720" y="5083560"/>
            <a:ext cx="765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88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bject 111"/>
          <p:cNvSpPr/>
          <p:nvPr/>
        </p:nvSpPr>
        <p:spPr>
          <a:xfrm>
            <a:off x="5724000" y="3378960"/>
            <a:ext cx="2558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498960" indent="-48708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ВХ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bject 112"/>
          <p:cNvSpPr/>
          <p:nvPr/>
        </p:nvSpPr>
        <p:spPr>
          <a:xfrm>
            <a:off x="5247360" y="1117800"/>
            <a:ext cx="3782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9160" indent="-286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максимума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чал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адать </a:t>
            </a:r>
            <a:r>
              <a:rPr b="1" lang="en-US" sz="1200" spc="-52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з-за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троительной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отра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9160" indent="-286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Недостаток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ей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2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эмульсионному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ПВ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кспорт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ВХ,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актически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отсутствовавший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дние</a:t>
            </a:r>
            <a:r>
              <a:rPr b="1" lang="en-US" sz="12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ода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казывает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тоянный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остигае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7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201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ос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зван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четырехмесячны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стоем</a:t>
            </a:r>
            <a:r>
              <a:rPr b="1" lang="en-US" sz="1200" spc="2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«Саянскхимпласта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з-за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ава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18</TotalTime>
  <Application>LibreOffice/7.4.7.2$Linux_X86_64 LibreOffice_project/40$Build-2</Application>
  <AppVersion>15.0000</AppVersion>
  <Words>2892</Words>
  <Paragraphs>13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3T04:59:40Z</dcterms:created>
  <dc:creator>Andrey V. Shifrin</dc:creator>
  <dc:description/>
  <dc:language>en-US</dc:language>
  <cp:lastModifiedBy>Неизвестный пользователь</cp:lastModifiedBy>
  <dcterms:modified xsi:type="dcterms:W3CDTF">2022-04-01T14:08:56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3</vt:r8>
  </property>
</Properties>
</file>