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14400213" cy="809942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03C1-5F4F-4834-A385-D9FF4B53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000" y="43484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EF82-6E72-495D-A0EA-1DD2AD05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36056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3C82-7813-4A20-A43C-96FC7686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192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48348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00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0192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48348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8264-31A6-4698-9171-2CA98CAB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80BC-5E7F-43DC-A210-C3030842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89C2-399E-433E-BD81-3A45C932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EAAE-05D9-49DA-AD61-0CBCAB57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7192-A5CA-4005-B036-BC55EF3B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1ECD-14F9-48F1-99BD-B08AB2DA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0000" y="322920"/>
            <a:ext cx="12959640" cy="62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F455-4C1D-4896-86E7-21490FFA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C1BC-BFDF-4ADB-AFDD-DF5C57F6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FCBF-C05E-484E-9831-25F324E0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36056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0977-BFAF-4685-9E00-7718C429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1046-F912-4459-9847-072FDB87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000" y="43484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3ABD-74F5-470F-A614-7CA26FE7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36056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7A01-0869-4DD3-8EB0-5C63B08E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0192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48348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00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10192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948348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2008-63B9-47E3-A766-E0DC52FE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2EFE8-5AC0-4B7D-B935-7203F494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817BE-7E56-4397-B7DA-FFEF0F88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2936A-4FA8-442E-9FB5-62B8F596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EA904-2CDA-4E72-A9F2-D6CC2472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806E4-BAFE-471E-979D-0B7D2175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CEE1-82EF-47A4-BE33-1BE44EDD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20000" y="322920"/>
            <a:ext cx="12959640" cy="62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3710E-F2C3-48AA-AA12-28FA8D71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28EBB-E4FC-4711-AF93-E881DDB1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36056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FFE03-F2F0-466E-A360-7E4B725B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6797A-87AF-48EC-99A1-36DC68F1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0000" y="43484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9C312-8EA4-48AC-9B6F-5376B5BA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736056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3CB0A-DCE5-431A-8717-C335E09D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0192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48348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000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510192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948348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CDE2A-2393-4458-B692-209A8DC3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9EBF4-35CE-4201-B1EF-4BE8A461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DAC74-9AEC-4C19-A1E2-D7BAACF8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7E9EE-B60B-46A4-A2CA-FF2CEF81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AB47-D708-4718-92A7-E1DA9947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6BCF8-CC32-4D62-8664-75FFF9BC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01A5B-0C47-4FD9-B258-5E674793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0000" y="322920"/>
            <a:ext cx="12959640" cy="62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40ECB-88C8-4313-AC55-F53AC23E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543F9-65EB-4EB5-ABCC-64014F4A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36056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7C09B-9CA8-4EEA-B54B-20703C9B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1BD4A-81F3-4173-B230-864DAEEA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20000" y="43484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AFB50-A2C2-4BFB-91F5-5E7B6702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736056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CB5AF-EF1C-4CA9-9C32-B0807B55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0192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48348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2000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510192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948348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61EC2-C9A3-4233-A0D3-1F1FFB14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A5149-80EF-4ED7-B882-02CAA0EC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B8C3-E6AB-4C26-A29D-97353CE2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2F398-8688-41B4-BA2F-8A152269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300E2-56E3-45B0-AAAB-EC924034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C9169-AE65-4DBC-BBA4-EA58130D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6546E-804B-4D89-8B77-8DA4402B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20000" y="322920"/>
            <a:ext cx="12959640" cy="62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EA189-6A52-4A25-BCC7-809AE667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F2A7D-A0E2-44F3-B2CB-866DF890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36056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BC410-66C9-4E44-AE2A-D32307CA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5D4BB-FF8D-4269-B968-8292344D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20000" y="43484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F1FBD-3971-4278-B9EF-5DC75ACE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36056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0A53E-E86C-40C5-8FE9-E89024A9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000" y="322920"/>
            <a:ext cx="12959640" cy="62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7638-C82E-46E5-907C-81483C2C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0192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48348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2000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510192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948348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EFF8D-E659-4835-86BF-A9662FA1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E4F0-250C-49F3-ABB4-3B2BBEFF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36056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8AAD-2270-462F-8B58-41CB2AED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7EC0-AF2C-487E-B89F-D42ADAF8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00000" y="1325520"/>
            <a:ext cx="1079964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uk-UA" sz="7080" spc="-1" strike="noStrike">
                <a:solidFill>
                  <a:srgbClr val="000000"/>
                </a:solidFill>
                <a:latin typeface="Calibri Light"/>
              </a:rPr>
              <a:t>Зразок заголовка</a:t>
            </a:r>
            <a:endParaRPr b="0" lang="nl-NL" sz="70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990000" y="7507080"/>
            <a:ext cx="323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41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1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41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770000" y="7507080"/>
            <a:ext cx="485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10170000" y="7507080"/>
            <a:ext cx="323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41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16B798-90D4-4579-9D94-783ADB7EACE2}" type="slidenum">
              <a:rPr b="0" lang="en-GB" sz="141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1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3309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36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nl-NL" sz="236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13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13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nl-NL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nl-NL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nl-N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000" y="431280"/>
            <a:ext cx="12420000" cy="15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uk-UA" sz="5200" spc="-1" strike="noStrike">
                <a:solidFill>
                  <a:srgbClr val="000000"/>
                </a:solidFill>
                <a:latin typeface="Calibri Light"/>
              </a:rPr>
              <a:t>Зразок заголовка</a:t>
            </a:r>
            <a:endParaRPr b="0" lang="nl-NL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90000" y="2156040"/>
            <a:ext cx="124200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0000" indent="-270000">
              <a:lnSpc>
                <a:spcPct val="90000"/>
              </a:lnSpc>
              <a:spcBef>
                <a:spcPts val="1182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3309" spc="-1" strike="noStrike">
                <a:solidFill>
                  <a:srgbClr val="000000"/>
                </a:solidFill>
                <a:latin typeface="Calibri"/>
              </a:rPr>
              <a:t>Редагувати стиль зразка тексту</a:t>
            </a: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  <a:p>
            <a:pPr lvl="1" marL="810000" indent="-270000">
              <a:lnSpc>
                <a:spcPct val="90000"/>
              </a:lnSpc>
              <a:spcBef>
                <a:spcPts val="590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830" spc="-1" strike="noStrike">
                <a:solidFill>
                  <a:srgbClr val="000000"/>
                </a:solidFill>
                <a:latin typeface="Calibri"/>
              </a:rPr>
              <a:t>Другий рівень</a:t>
            </a:r>
            <a:endParaRPr b="0" lang="nl-NL" sz="2830" spc="-1" strike="noStrike">
              <a:solidFill>
                <a:srgbClr val="000000"/>
              </a:solidFill>
              <a:latin typeface="Calibri"/>
            </a:endParaRPr>
          </a:p>
          <a:p>
            <a:pPr lvl="2" marL="1350000" indent="-270000">
              <a:lnSpc>
                <a:spcPct val="90000"/>
              </a:lnSpc>
              <a:spcBef>
                <a:spcPts val="590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360" spc="-1" strike="noStrike">
                <a:solidFill>
                  <a:srgbClr val="000000"/>
                </a:solidFill>
                <a:latin typeface="Calibri"/>
              </a:rPr>
              <a:t>Третій рівень</a:t>
            </a:r>
            <a:endParaRPr b="0" lang="nl-NL" sz="2360" spc="-1" strike="noStrike">
              <a:solidFill>
                <a:srgbClr val="000000"/>
              </a:solidFill>
              <a:latin typeface="Calibri"/>
            </a:endParaRPr>
          </a:p>
          <a:p>
            <a:pPr lvl="3" marL="1890000" indent="-270000">
              <a:lnSpc>
                <a:spcPct val="90000"/>
              </a:lnSpc>
              <a:spcBef>
                <a:spcPts val="590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130" spc="-1" strike="noStrike">
                <a:solidFill>
                  <a:srgbClr val="000000"/>
                </a:solidFill>
                <a:latin typeface="Calibri"/>
              </a:rPr>
              <a:t>Четвертий рівень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  <a:p>
            <a:pPr lvl="4" marL="2429640" indent="-270000">
              <a:lnSpc>
                <a:spcPct val="90000"/>
              </a:lnSpc>
              <a:spcBef>
                <a:spcPts val="590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130" spc="-1" strike="noStrike">
                <a:solidFill>
                  <a:srgbClr val="000000"/>
                </a:solidFill>
                <a:latin typeface="Calibri"/>
              </a:rPr>
              <a:t>П’ятий рівень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90000" y="7507080"/>
            <a:ext cx="323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41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1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41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770000" y="7507080"/>
            <a:ext cx="485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0170000" y="7507080"/>
            <a:ext cx="323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41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13586E-DD09-43CF-89B6-919ACAE3780B}" type="slidenum">
              <a:rPr b="0" lang="en-GB" sz="141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1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000" y="431280"/>
            <a:ext cx="12420000" cy="15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uk-UA" sz="5200" spc="-1" strike="noStrike">
                <a:solidFill>
                  <a:srgbClr val="000000"/>
                </a:solidFill>
                <a:latin typeface="Calibri Light"/>
              </a:rPr>
              <a:t>Зразок заголовка</a:t>
            </a:r>
            <a:endParaRPr b="0" lang="nl-NL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0000" y="2156040"/>
            <a:ext cx="124200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0000" indent="-270000">
              <a:lnSpc>
                <a:spcPct val="90000"/>
              </a:lnSpc>
              <a:spcBef>
                <a:spcPts val="1182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3309" spc="-1" strike="noStrike">
                <a:solidFill>
                  <a:srgbClr val="000000"/>
                </a:solidFill>
                <a:latin typeface="Calibri"/>
              </a:rPr>
              <a:t>Редагувати стиль зразка тексту</a:t>
            </a: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  <a:p>
            <a:pPr lvl="1" marL="810000" indent="-270000">
              <a:lnSpc>
                <a:spcPct val="90000"/>
              </a:lnSpc>
              <a:spcBef>
                <a:spcPts val="590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830" spc="-1" strike="noStrike">
                <a:solidFill>
                  <a:srgbClr val="000000"/>
                </a:solidFill>
                <a:latin typeface="Calibri"/>
              </a:rPr>
              <a:t>Другий рівень</a:t>
            </a:r>
            <a:endParaRPr b="0" lang="nl-NL" sz="2830" spc="-1" strike="noStrike">
              <a:solidFill>
                <a:srgbClr val="000000"/>
              </a:solidFill>
              <a:latin typeface="Calibri"/>
            </a:endParaRPr>
          </a:p>
          <a:p>
            <a:pPr lvl="2" marL="1350000" indent="-270000">
              <a:lnSpc>
                <a:spcPct val="90000"/>
              </a:lnSpc>
              <a:spcBef>
                <a:spcPts val="590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360" spc="-1" strike="noStrike">
                <a:solidFill>
                  <a:srgbClr val="000000"/>
                </a:solidFill>
                <a:latin typeface="Calibri"/>
              </a:rPr>
              <a:t>Третій рівень</a:t>
            </a:r>
            <a:endParaRPr b="0" lang="nl-NL" sz="2360" spc="-1" strike="noStrike">
              <a:solidFill>
                <a:srgbClr val="000000"/>
              </a:solidFill>
              <a:latin typeface="Calibri"/>
            </a:endParaRPr>
          </a:p>
          <a:p>
            <a:pPr lvl="3" marL="1890000" indent="-270000">
              <a:lnSpc>
                <a:spcPct val="90000"/>
              </a:lnSpc>
              <a:spcBef>
                <a:spcPts val="590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130" spc="-1" strike="noStrike">
                <a:solidFill>
                  <a:srgbClr val="000000"/>
                </a:solidFill>
                <a:latin typeface="Calibri"/>
              </a:rPr>
              <a:t>Четвертий рівень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  <a:p>
            <a:pPr lvl="4" marL="2429640" indent="-270000">
              <a:lnSpc>
                <a:spcPct val="90000"/>
              </a:lnSpc>
              <a:spcBef>
                <a:spcPts val="590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130" spc="-1" strike="noStrike">
                <a:solidFill>
                  <a:srgbClr val="000000"/>
                </a:solidFill>
                <a:latin typeface="Calibri"/>
              </a:rPr>
              <a:t>П’ятий рівень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990000" y="7507080"/>
            <a:ext cx="323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41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1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41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770000" y="7507080"/>
            <a:ext cx="485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0170000" y="7507080"/>
            <a:ext cx="323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41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49BCBC-CB49-42CF-901E-9452328B83F8}" type="slidenum">
              <a:rPr b="0" lang="en-GB" sz="141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1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00000" y="1325520"/>
            <a:ext cx="1079964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708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nl-NL" sz="70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990000" y="7507080"/>
            <a:ext cx="323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nl-NL" sz="141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nl-NL" sz="141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41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4770000" y="7507080"/>
            <a:ext cx="485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10170000" y="7507080"/>
            <a:ext cx="323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41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033519-5272-42B1-8606-A99A78650AD9}" type="slidenum">
              <a:rPr b="0" lang="nl-NL" sz="141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1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3309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36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nl-NL" sz="236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13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13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nl-NL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nl-NL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nl-N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dt" idx="13"/>
          </p:nvPr>
        </p:nvSpPr>
        <p:spPr>
          <a:xfrm>
            <a:off x="990000" y="7507080"/>
            <a:ext cx="323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nl-NL" sz="141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nl-NL" sz="141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41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4"/>
          </p:nvPr>
        </p:nvSpPr>
        <p:spPr>
          <a:xfrm>
            <a:off x="4770000" y="7507080"/>
            <a:ext cx="485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5"/>
          </p:nvPr>
        </p:nvSpPr>
        <p:spPr>
          <a:xfrm>
            <a:off x="10170000" y="7507080"/>
            <a:ext cx="323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41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0D9052-6200-480D-A713-E79D9AFD2BE0}" type="slidenum">
              <a:rPr b="0" lang="nl-NL" sz="141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1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nl-NL" sz="213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3309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36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nl-NL" sz="236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13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13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nl-NL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nl-NL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nl-N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izikanova.com.ua/" TargetMode="External"/><Relationship Id="rId2" Type="http://schemas.openxmlformats.org/officeDocument/2006/relationships/hyperlink" Target="http://www.fizikanova.com.ua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Групувати 10"/>
          <p:cNvGrpSpPr/>
          <p:nvPr/>
        </p:nvGrpSpPr>
        <p:grpSpPr>
          <a:xfrm>
            <a:off x="3007080" y="7141320"/>
            <a:ext cx="8385840" cy="469440"/>
            <a:chOff x="3007080" y="7141320"/>
            <a:chExt cx="8385840" cy="469440"/>
          </a:xfrm>
        </p:grpSpPr>
        <p:sp>
          <p:nvSpPr>
            <p:cNvPr id="206" name="Rounded Rectangle 16">
              <a:hlinkClick r:id="rId1"/>
            </p:cNvPr>
            <p:cNvSpPr/>
            <p:nvPr/>
          </p:nvSpPr>
          <p:spPr>
            <a:xfrm>
              <a:off x="3007080" y="7141320"/>
              <a:ext cx="8385840" cy="469440"/>
            </a:xfrm>
            <a:prstGeom prst="rect">
              <a:avLst/>
            </a:prstGeom>
            <a:solidFill>
              <a:srgbClr val="3f51b5"/>
            </a:solidFill>
            <a:ln w="6350">
              <a:solidFill>
                <a:srgbClr val="3f51b5"/>
              </a:solidFill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36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7" name="Picture 17" descr="ios7-search-strong_w.pn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10724400" y="7221600"/>
              <a:ext cx="308520" cy="308520"/>
            </a:xfrm>
            <a:prstGeom prst="rect">
              <a:avLst/>
            </a:prstGeom>
            <a:ln w="0">
              <a:solidFill>
                <a:srgbClr val="3f51b5"/>
              </a:solidFill>
            </a:ln>
          </p:spPr>
        </p:pic>
      </p:grpSp>
      <p:sp>
        <p:nvSpPr>
          <p:cNvPr id="208" name="Rounded Rectangle 3"/>
          <p:cNvSpPr/>
          <p:nvPr/>
        </p:nvSpPr>
        <p:spPr>
          <a:xfrm>
            <a:off x="720" y="1634400"/>
            <a:ext cx="14398560" cy="4946760"/>
          </a:xfrm>
          <a:prstGeom prst="rect">
            <a:avLst/>
          </a:prstGeom>
          <a:solidFill>
            <a:srgbClr val="3f51b5"/>
          </a:solidFill>
          <a:ln>
            <a:solidFill>
              <a:srgbClr val="3f51b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1040" y="2693520"/>
            <a:ext cx="5130360" cy="282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Roboto"/>
              </a:rPr>
              <a:t>Послідовне з’єднання провідників</a:t>
            </a:r>
            <a:endParaRPr b="0" lang="nl-NL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Рисунок 2" descr=""/>
          <p:cNvPicPr/>
          <p:nvPr/>
        </p:nvPicPr>
        <p:blipFill>
          <a:blip r:embed="rId4"/>
          <a:stretch/>
        </p:blipFill>
        <p:spPr>
          <a:xfrm>
            <a:off x="10210320" y="6480"/>
            <a:ext cx="4025160" cy="158724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4" descr=""/>
          <p:cNvPicPr/>
          <p:nvPr/>
        </p:nvPicPr>
        <p:blipFill>
          <a:blip r:embed="rId5"/>
          <a:stretch/>
        </p:blipFill>
        <p:spPr>
          <a:xfrm>
            <a:off x="5745240" y="2097360"/>
            <a:ext cx="7965720" cy="402048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5"/>
          <p:cNvSpPr/>
          <p:nvPr/>
        </p:nvSpPr>
        <p:spPr>
          <a:xfrm>
            <a:off x="5029920" y="7221600"/>
            <a:ext cx="364680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130" spc="-1" strike="noStrike">
                <a:solidFill>
                  <a:srgbClr val="000000"/>
                </a:solidFill>
                <a:latin typeface="Calibri"/>
              </a:rPr>
              <a:t>https://ppt-online.org/1117240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629640" y="771120"/>
            <a:ext cx="979776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627120" y="766080"/>
            <a:ext cx="12777840" cy="62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000" y="431280"/>
            <a:ext cx="12420000" cy="15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uk-UA" sz="5200" spc="-1" strike="noStrike">
                <a:solidFill>
                  <a:srgbClr val="000000"/>
                </a:solidFill>
                <a:latin typeface="Calibri Light"/>
              </a:rPr>
              <a:t>Домашня задача</a:t>
            </a:r>
            <a:endParaRPr b="0" lang="nl-NL" sz="5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838080" y="1703880"/>
            <a:ext cx="8602200" cy="55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-78120" y="-551520"/>
            <a:ext cx="14685480" cy="4894560"/>
          </a:xfrm>
          <a:prstGeom prst="rect">
            <a:avLst/>
          </a:prstGeom>
          <a:solidFill>
            <a:srgbClr val="3f51b5"/>
          </a:solidFill>
          <a:ln>
            <a:solidFill>
              <a:srgbClr val="3f51b5"/>
            </a:solidFill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l-NL" sz="25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6" name="Rectangle 53"/>
          <p:cNvSpPr/>
          <p:nvPr/>
        </p:nvSpPr>
        <p:spPr>
          <a:xfrm>
            <a:off x="2255400" y="848880"/>
            <a:ext cx="9844560" cy="27730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l-NL" sz="213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7" name="Rectangle 56"/>
          <p:cNvSpPr/>
          <p:nvPr/>
        </p:nvSpPr>
        <p:spPr>
          <a:xfrm>
            <a:off x="2255400" y="3622680"/>
            <a:ext cx="9844560" cy="44766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l-NL" sz="213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8" name="Button Color - Down"/>
          <p:cNvSpPr/>
          <p:nvPr/>
        </p:nvSpPr>
        <p:spPr>
          <a:xfrm>
            <a:off x="2842200" y="1171440"/>
            <a:ext cx="8844840" cy="2128320"/>
          </a:xfrm>
          <a:prstGeom prst="rect">
            <a:avLst/>
          </a:prstGeom>
          <a:solidFill>
            <a:srgbClr val="ff5722"/>
          </a:solidFill>
          <a:ln w="38100">
            <a:solidFill>
              <a:srgbClr val="ff5722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4400" spc="-1" strike="noStrike">
                <a:solidFill>
                  <a:srgbClr val="ffffff"/>
                </a:solidFill>
                <a:latin typeface="Verdana"/>
                <a:ea typeface="Verdana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Button Color - Down"/>
          <p:cNvSpPr/>
          <p:nvPr/>
        </p:nvSpPr>
        <p:spPr>
          <a:xfrm>
            <a:off x="1242720" y="3944880"/>
            <a:ext cx="12043440" cy="3361320"/>
          </a:xfrm>
          <a:prstGeom prst="rect">
            <a:avLst/>
          </a:prstGeom>
          <a:solidFill>
            <a:srgbClr val="ff5722"/>
          </a:solidFill>
          <a:ln w="38100">
            <a:solidFill>
              <a:srgbClr val="ff5722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Повторити § 31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Задача з презента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http://madube.info/img/wallpaperMaterialDesign2.jpg"/>
          <p:cNvPicPr/>
          <p:nvPr/>
        </p:nvPicPr>
        <p:blipFill>
          <a:blip r:embed="rId1"/>
          <a:stretch/>
        </p:blipFill>
        <p:spPr>
          <a:xfrm>
            <a:off x="0" y="0"/>
            <a:ext cx="14398560" cy="80989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53"/>
          <p:cNvSpPr/>
          <p:nvPr/>
        </p:nvSpPr>
        <p:spPr>
          <a:xfrm>
            <a:off x="6737760" y="3399480"/>
            <a:ext cx="6928200" cy="42505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l-NL" sz="213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2" name="Button Color - Normal"/>
          <p:cNvSpPr/>
          <p:nvPr/>
        </p:nvSpPr>
        <p:spPr>
          <a:xfrm>
            <a:off x="1844640" y="4757760"/>
            <a:ext cx="6113880" cy="1534680"/>
          </a:xfrm>
          <a:prstGeom prst="rect">
            <a:avLst/>
          </a:prstGeom>
          <a:solidFill>
            <a:srgbClr val="ff5722"/>
          </a:solidFill>
          <a:ln w="38100">
            <a:solidFill>
              <a:srgbClr val="ff5722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ДЯКУЮ ЗА УВАГ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720" y="0"/>
            <a:ext cx="14398560" cy="988200"/>
          </a:xfrm>
          <a:prstGeom prst="rect">
            <a:avLst/>
          </a:prstGeom>
          <a:solidFill>
            <a:srgbClr val="3f51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3000" y="271440"/>
            <a:ext cx="14389920" cy="7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Roboto"/>
              </a:rPr>
              <a:t>Проблемні питання</a:t>
            </a:r>
            <a:endParaRPr b="0" lang="nl-NL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Групувати 16"/>
          <p:cNvGrpSpPr/>
          <p:nvPr/>
        </p:nvGrpSpPr>
        <p:grpSpPr>
          <a:xfrm>
            <a:off x="124200" y="7365960"/>
            <a:ext cx="597600" cy="597600"/>
            <a:chOff x="124200" y="7365960"/>
            <a:chExt cx="597600" cy="597600"/>
          </a:xfrm>
        </p:grpSpPr>
        <p:sp>
          <p:nvSpPr>
            <p:cNvPr id="216" name="Овал 17"/>
            <p:cNvSpPr/>
            <p:nvPr/>
          </p:nvSpPr>
          <p:spPr>
            <a:xfrm>
              <a:off x="124200" y="736596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17" name="Picture 14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 rot="10800000">
              <a:off x="169200" y="741888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Групувати 19"/>
          <p:cNvGrpSpPr/>
          <p:nvPr/>
        </p:nvGrpSpPr>
        <p:grpSpPr>
          <a:xfrm>
            <a:off x="13681440" y="7366320"/>
            <a:ext cx="597600" cy="597600"/>
            <a:chOff x="13681440" y="7366320"/>
            <a:chExt cx="597600" cy="597600"/>
          </a:xfrm>
        </p:grpSpPr>
        <p:sp>
          <p:nvSpPr>
            <p:cNvPr id="219" name="Овал 21"/>
            <p:cNvSpPr/>
            <p:nvPr/>
          </p:nvSpPr>
          <p:spPr>
            <a:xfrm rot="10800000">
              <a:off x="13681440" y="736632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20" name="Picture 1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13732920" y="741816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1" name="Button Color - Down"/>
          <p:cNvSpPr/>
          <p:nvPr/>
        </p:nvSpPr>
        <p:spPr>
          <a:xfrm>
            <a:off x="1458720" y="6262560"/>
            <a:ext cx="4298040" cy="704160"/>
          </a:xfrm>
          <a:prstGeom prst="rect">
            <a:avLst/>
          </a:prstGeom>
          <a:solidFill>
            <a:srgbClr val="009688"/>
          </a:solidFill>
          <a:ln w="38100">
            <a:solidFill>
              <a:srgbClr val="00968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4400" spc="-1" strike="noStrike">
                <a:solidFill>
                  <a:srgbClr val="ffffff"/>
                </a:solidFill>
                <a:latin typeface="Verdana"/>
                <a:ea typeface="Verdana"/>
              </a:rPr>
              <a:t>Послідов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Button Color - Down"/>
          <p:cNvSpPr/>
          <p:nvPr/>
        </p:nvSpPr>
        <p:spPr>
          <a:xfrm>
            <a:off x="8646120" y="6262560"/>
            <a:ext cx="4298040" cy="704160"/>
          </a:xfrm>
          <a:prstGeom prst="rect">
            <a:avLst/>
          </a:prstGeom>
          <a:solidFill>
            <a:srgbClr val="009688"/>
          </a:solidFill>
          <a:ln w="38100">
            <a:solidFill>
              <a:srgbClr val="00968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4400" spc="-1" strike="noStrike">
                <a:solidFill>
                  <a:srgbClr val="ffffff"/>
                </a:solidFill>
                <a:latin typeface="Verdana"/>
                <a:ea typeface="Verdana"/>
              </a:rPr>
              <a:t>Паралель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20" descr=""/>
          <p:cNvPicPr/>
          <p:nvPr/>
        </p:nvPicPr>
        <p:blipFill>
          <a:blip r:embed="rId3"/>
          <a:stretch/>
        </p:blipFill>
        <p:spPr>
          <a:xfrm>
            <a:off x="124200" y="2234160"/>
            <a:ext cx="6727680" cy="3824280"/>
          </a:xfrm>
          <a:prstGeom prst="rect">
            <a:avLst/>
          </a:prstGeom>
          <a:ln w="0">
            <a:noFill/>
          </a:ln>
        </p:spPr>
      </p:pic>
      <p:sp>
        <p:nvSpPr>
          <p:cNvPr id="224" name="Button Color - Down"/>
          <p:cNvSpPr/>
          <p:nvPr/>
        </p:nvSpPr>
        <p:spPr>
          <a:xfrm>
            <a:off x="529200" y="1237320"/>
            <a:ext cx="13341600" cy="804960"/>
          </a:xfrm>
          <a:prstGeom prst="rect">
            <a:avLst/>
          </a:prstGeom>
          <a:solidFill>
            <a:srgbClr val="3f51b5"/>
          </a:solidFill>
          <a:ln w="38100">
            <a:solidFill>
              <a:srgbClr val="3f51b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Ми знаємо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1" lang="uk-UA" sz="4400" spc="-1" strike="noStrike">
                <a:solidFill>
                  <a:srgbClr val="ffffff"/>
                </a:solidFill>
                <a:latin typeface="Verdana"/>
                <a:ea typeface="Verdana"/>
              </a:rPr>
              <a:t>з'єднання</a:t>
            </a:r>
            <a:r>
              <a:rPr b="1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 пров</a:t>
            </a:r>
            <a:r>
              <a:rPr b="1" lang="uk-UA" sz="4400" spc="-1" strike="noStrike">
                <a:solidFill>
                  <a:srgbClr val="ffffff"/>
                </a:solidFill>
                <a:latin typeface="Verdana"/>
                <a:ea typeface="Verdana"/>
              </a:rPr>
              <a:t>і</a:t>
            </a:r>
            <a:r>
              <a:rPr b="1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дників буває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Button Color - Down"/>
          <p:cNvSpPr/>
          <p:nvPr/>
        </p:nvSpPr>
        <p:spPr>
          <a:xfrm>
            <a:off x="1222200" y="7158600"/>
            <a:ext cx="11958840" cy="804960"/>
          </a:xfrm>
          <a:prstGeom prst="rect">
            <a:avLst/>
          </a:prstGeom>
          <a:solidFill>
            <a:srgbClr val="3f51b5"/>
          </a:solidFill>
          <a:ln w="38100">
            <a:solidFill>
              <a:srgbClr val="3f51b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4400" spc="-1" strike="noStrike">
                <a:solidFill>
                  <a:srgbClr val="ffffff"/>
                </a:solidFill>
                <a:latin typeface="Verdana"/>
                <a:ea typeface="Verdana"/>
              </a:rPr>
              <a:t>Розглянемо детальніше </a:t>
            </a:r>
            <a:r>
              <a:rPr b="1" lang="uk-UA" sz="4400" spc="-1" strike="noStrike">
                <a:solidFill>
                  <a:srgbClr val="ffff00"/>
                </a:solidFill>
                <a:latin typeface="Verdana"/>
                <a:ea typeface="Verdana"/>
              </a:rPr>
              <a:t>послідов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15" descr=""/>
          <p:cNvPicPr/>
          <p:nvPr/>
        </p:nvPicPr>
        <p:blipFill>
          <a:blip r:embed="rId4"/>
          <a:srcRect l="0" t="9414" r="0" b="0"/>
          <a:stretch/>
        </p:blipFill>
        <p:spPr>
          <a:xfrm>
            <a:off x="6898680" y="2161080"/>
            <a:ext cx="7335720" cy="39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720" y="0"/>
            <a:ext cx="14398560" cy="988200"/>
          </a:xfrm>
          <a:prstGeom prst="rect">
            <a:avLst/>
          </a:prstGeom>
          <a:solidFill>
            <a:srgbClr val="3f51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3000" y="271440"/>
            <a:ext cx="14389920" cy="7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Roboto"/>
              </a:rPr>
              <a:t>Послідовне з’єднання провідників</a:t>
            </a:r>
            <a:endParaRPr b="0" lang="nl-NL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Групувати 16"/>
          <p:cNvGrpSpPr/>
          <p:nvPr/>
        </p:nvGrpSpPr>
        <p:grpSpPr>
          <a:xfrm>
            <a:off x="124200" y="7365960"/>
            <a:ext cx="597600" cy="597600"/>
            <a:chOff x="124200" y="7365960"/>
            <a:chExt cx="597600" cy="597600"/>
          </a:xfrm>
        </p:grpSpPr>
        <p:sp>
          <p:nvSpPr>
            <p:cNvPr id="230" name="Овал 17"/>
            <p:cNvSpPr/>
            <p:nvPr/>
          </p:nvSpPr>
          <p:spPr>
            <a:xfrm>
              <a:off x="124200" y="736596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31" name="Picture 14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 rot="10800000">
              <a:off x="169200" y="741888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" name="Групувати 19"/>
          <p:cNvGrpSpPr/>
          <p:nvPr/>
        </p:nvGrpSpPr>
        <p:grpSpPr>
          <a:xfrm>
            <a:off x="13681440" y="7366320"/>
            <a:ext cx="597600" cy="597600"/>
            <a:chOff x="13681440" y="7366320"/>
            <a:chExt cx="597600" cy="597600"/>
          </a:xfrm>
        </p:grpSpPr>
        <p:sp>
          <p:nvSpPr>
            <p:cNvPr id="233" name="Овал 21"/>
            <p:cNvSpPr/>
            <p:nvPr/>
          </p:nvSpPr>
          <p:spPr>
            <a:xfrm rot="10800000">
              <a:off x="13681440" y="736632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34" name="Picture 1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13732920" y="741816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5" name="Рисунок 20" descr=""/>
          <p:cNvPicPr/>
          <p:nvPr/>
        </p:nvPicPr>
        <p:blipFill>
          <a:blip r:embed="rId3"/>
          <a:stretch/>
        </p:blipFill>
        <p:spPr>
          <a:xfrm>
            <a:off x="124200" y="1953360"/>
            <a:ext cx="7824960" cy="444780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1" descr=""/>
          <p:cNvPicPr/>
          <p:nvPr/>
        </p:nvPicPr>
        <p:blipFill>
          <a:blip r:embed="rId4"/>
          <a:stretch/>
        </p:blipFill>
        <p:spPr>
          <a:xfrm>
            <a:off x="8652960" y="1953360"/>
            <a:ext cx="5581440" cy="44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720" y="0"/>
            <a:ext cx="14398560" cy="988200"/>
          </a:xfrm>
          <a:prstGeom prst="rect">
            <a:avLst/>
          </a:prstGeom>
          <a:solidFill>
            <a:srgbClr val="3f51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3000" y="271440"/>
            <a:ext cx="14389920" cy="7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Roboto"/>
              </a:rPr>
              <a:t>Послідовне з’єднання провідників</a:t>
            </a:r>
            <a:endParaRPr b="0" lang="nl-NL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Групувати 16"/>
          <p:cNvGrpSpPr/>
          <p:nvPr/>
        </p:nvGrpSpPr>
        <p:grpSpPr>
          <a:xfrm>
            <a:off x="124200" y="7365960"/>
            <a:ext cx="597600" cy="597600"/>
            <a:chOff x="124200" y="7365960"/>
            <a:chExt cx="597600" cy="597600"/>
          </a:xfrm>
        </p:grpSpPr>
        <p:sp>
          <p:nvSpPr>
            <p:cNvPr id="240" name="Овал 17"/>
            <p:cNvSpPr/>
            <p:nvPr/>
          </p:nvSpPr>
          <p:spPr>
            <a:xfrm>
              <a:off x="124200" y="736596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41" name="Picture 14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 rot="10800000">
              <a:off x="169200" y="741888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2" name="Групувати 19"/>
          <p:cNvGrpSpPr/>
          <p:nvPr/>
        </p:nvGrpSpPr>
        <p:grpSpPr>
          <a:xfrm>
            <a:off x="13681440" y="7366320"/>
            <a:ext cx="597600" cy="597600"/>
            <a:chOff x="13681440" y="7366320"/>
            <a:chExt cx="597600" cy="597600"/>
          </a:xfrm>
        </p:grpSpPr>
        <p:sp>
          <p:nvSpPr>
            <p:cNvPr id="243" name="Овал 21"/>
            <p:cNvSpPr/>
            <p:nvPr/>
          </p:nvSpPr>
          <p:spPr>
            <a:xfrm rot="10800000">
              <a:off x="13681440" y="736632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44" name="Picture 1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13732920" y="741816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5" name="Рисунок 20" descr=""/>
          <p:cNvPicPr/>
          <p:nvPr/>
        </p:nvPicPr>
        <p:blipFill>
          <a:blip r:embed="rId3"/>
          <a:stretch/>
        </p:blipFill>
        <p:spPr>
          <a:xfrm>
            <a:off x="2638800" y="1045800"/>
            <a:ext cx="8656920" cy="492084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" descr=""/>
          <p:cNvPicPr/>
          <p:nvPr/>
        </p:nvPicPr>
        <p:blipFill>
          <a:blip r:embed="rId4"/>
          <a:stretch/>
        </p:blipFill>
        <p:spPr>
          <a:xfrm>
            <a:off x="2638800" y="988560"/>
            <a:ext cx="8656920" cy="5009400"/>
          </a:xfrm>
          <a:prstGeom prst="rect">
            <a:avLst/>
          </a:prstGeom>
          <a:ln w="0">
            <a:noFill/>
          </a:ln>
        </p:spPr>
      </p:pic>
      <p:sp>
        <p:nvSpPr>
          <p:cNvPr id="247" name="Button Color - Down"/>
          <p:cNvSpPr/>
          <p:nvPr/>
        </p:nvSpPr>
        <p:spPr>
          <a:xfrm>
            <a:off x="7731000" y="5969880"/>
            <a:ext cx="5186880" cy="1944720"/>
          </a:xfrm>
          <a:prstGeom prst="rect">
            <a:avLst/>
          </a:prstGeom>
          <a:solidFill>
            <a:srgbClr val="009688"/>
          </a:solidFill>
          <a:ln w="38100">
            <a:solidFill>
              <a:srgbClr val="00968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4000" spc="-1" strike="noStrike">
                <a:solidFill>
                  <a:srgbClr val="ffffff"/>
                </a:solidFill>
                <a:latin typeface="Verdana"/>
                <a:ea typeface="Verdana"/>
              </a:rPr>
              <a:t>Інша лампочка не 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Verdana"/>
              </a:rPr>
              <a:t>працює, бо коло розімкне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Button Color - Down"/>
          <p:cNvSpPr/>
          <p:nvPr/>
        </p:nvSpPr>
        <p:spPr>
          <a:xfrm>
            <a:off x="1968840" y="5966640"/>
            <a:ext cx="3128040" cy="1944720"/>
          </a:xfrm>
          <a:prstGeom prst="rect">
            <a:avLst/>
          </a:prstGeom>
          <a:solidFill>
            <a:srgbClr val="009688"/>
          </a:solidFill>
          <a:ln w="38100">
            <a:solidFill>
              <a:srgbClr val="00968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Verdana"/>
              </a:rPr>
              <a:t>Лампочка вийшла з ла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Пряма сполучна лінія 5"/>
          <p:cNvCxnSpPr/>
          <p:nvPr/>
        </p:nvCxnSpPr>
        <p:spPr>
          <a:xfrm>
            <a:off x="4863960" y="4050000"/>
            <a:ext cx="1375920" cy="1779120"/>
          </a:xfrm>
          <a:prstGeom prst="straightConnector1">
            <a:avLst/>
          </a:prstGeom>
          <a:ln w="76200">
            <a:solidFill>
              <a:srgbClr val="f44336"/>
            </a:solidFill>
          </a:ln>
        </p:spPr>
      </p:cxnSp>
      <p:cxnSp>
        <p:nvCxnSpPr>
          <p:cNvPr id="250" name="Пряма сполучна лінія 27"/>
          <p:cNvCxnSpPr/>
          <p:nvPr/>
        </p:nvCxnSpPr>
        <p:spPr>
          <a:xfrm flipH="1">
            <a:off x="4960440" y="4050000"/>
            <a:ext cx="1183320" cy="1779120"/>
          </a:xfrm>
          <a:prstGeom prst="straightConnector1">
            <a:avLst/>
          </a:prstGeom>
          <a:ln w="76200">
            <a:solidFill>
              <a:srgbClr val="f44336"/>
            </a:solidFill>
          </a:ln>
        </p:spPr>
      </p:cxnSp>
      <p:sp>
        <p:nvSpPr>
          <p:cNvPr id="251" name="Стрілка: униз 28"/>
          <p:cNvSpPr/>
          <p:nvPr/>
        </p:nvSpPr>
        <p:spPr>
          <a:xfrm rot="16200000">
            <a:off x="5897880" y="6492240"/>
            <a:ext cx="1212120" cy="894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f51b5"/>
          </a:solidFill>
          <a:ln>
            <a:solidFill>
              <a:srgbClr val="3f51b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uk-UA" sz="213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Групувати 2"/>
          <p:cNvGrpSpPr/>
          <p:nvPr/>
        </p:nvGrpSpPr>
        <p:grpSpPr>
          <a:xfrm>
            <a:off x="124200" y="7365960"/>
            <a:ext cx="597600" cy="597600"/>
            <a:chOff x="124200" y="7365960"/>
            <a:chExt cx="597600" cy="597600"/>
          </a:xfrm>
        </p:grpSpPr>
        <p:sp>
          <p:nvSpPr>
            <p:cNvPr id="253" name="Овал 1"/>
            <p:cNvSpPr/>
            <p:nvPr/>
          </p:nvSpPr>
          <p:spPr>
            <a:xfrm>
              <a:off x="124200" y="736596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54" name="Picture 14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 rot="10800000">
              <a:off x="169200" y="741888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Rectangle 3"/>
          <p:cNvSpPr/>
          <p:nvPr/>
        </p:nvSpPr>
        <p:spPr>
          <a:xfrm>
            <a:off x="720" y="0"/>
            <a:ext cx="14398560" cy="988200"/>
          </a:xfrm>
          <a:prstGeom prst="rect">
            <a:avLst/>
          </a:prstGeom>
          <a:solidFill>
            <a:srgbClr val="3f51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3000" y="271440"/>
            <a:ext cx="12418920" cy="7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Roboto"/>
              </a:rPr>
              <a:t>Послідовне з’єднання провідників</a:t>
            </a:r>
            <a:endParaRPr b="0" lang="nl-NL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" name="Групувати 30"/>
          <p:cNvGrpSpPr/>
          <p:nvPr/>
        </p:nvGrpSpPr>
        <p:grpSpPr>
          <a:xfrm>
            <a:off x="13681440" y="7366320"/>
            <a:ext cx="597600" cy="597600"/>
            <a:chOff x="13681440" y="7366320"/>
            <a:chExt cx="597600" cy="597600"/>
          </a:xfrm>
        </p:grpSpPr>
        <p:sp>
          <p:nvSpPr>
            <p:cNvPr id="258" name="Овал 31"/>
            <p:cNvSpPr/>
            <p:nvPr/>
          </p:nvSpPr>
          <p:spPr>
            <a:xfrm rot="10800000">
              <a:off x="13681440" y="736632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59" name="Picture 1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13732920" y="741816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60" name="Button Color - Down"/>
              <p:cNvSpPr txBox="1"/>
              <p:nvPr/>
            </p:nvSpPr>
            <p:spPr>
              <a:xfrm>
                <a:off x="3765600" y="6928920"/>
                <a:ext cx="6871320" cy="87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𝑰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𝑰</m:t>
                        </m:r>
                      </m:e>
                      <m:sub>
                        <m:r>
                          <m:t xml:space="preserve">𝟏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𝑰</m:t>
                        </m:r>
                      </m:e>
                      <m:sub>
                        <m:r>
                          <m:t xml:space="preserve">𝟐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𝑰</m:t>
                        </m:r>
                      </m:e>
                      <m:sub>
                        <m:r>
                          <m:t xml:space="preserve">𝟑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61" name="Рисунок 18" descr=""/>
          <p:cNvPicPr/>
          <p:nvPr/>
        </p:nvPicPr>
        <p:blipFill>
          <a:blip r:embed="rId3"/>
          <a:stretch/>
        </p:blipFill>
        <p:spPr>
          <a:xfrm>
            <a:off x="240840" y="1649880"/>
            <a:ext cx="13896720" cy="46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Групувати 2"/>
          <p:cNvGrpSpPr/>
          <p:nvPr/>
        </p:nvGrpSpPr>
        <p:grpSpPr>
          <a:xfrm>
            <a:off x="124200" y="7365960"/>
            <a:ext cx="597600" cy="597600"/>
            <a:chOff x="124200" y="7365960"/>
            <a:chExt cx="597600" cy="597600"/>
          </a:xfrm>
        </p:grpSpPr>
        <p:sp>
          <p:nvSpPr>
            <p:cNvPr id="263" name="Овал 1"/>
            <p:cNvSpPr/>
            <p:nvPr/>
          </p:nvSpPr>
          <p:spPr>
            <a:xfrm>
              <a:off x="124200" y="736596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64" name="Picture 14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 rot="10800000">
              <a:off x="169200" y="741888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Rectangle 3"/>
          <p:cNvSpPr/>
          <p:nvPr/>
        </p:nvSpPr>
        <p:spPr>
          <a:xfrm>
            <a:off x="720" y="0"/>
            <a:ext cx="14398560" cy="988200"/>
          </a:xfrm>
          <a:prstGeom prst="rect">
            <a:avLst/>
          </a:prstGeom>
          <a:solidFill>
            <a:srgbClr val="3f51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23000" y="271440"/>
            <a:ext cx="12418920" cy="7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Roboto"/>
              </a:rPr>
              <a:t>Послідовне з’єднання провідників</a:t>
            </a:r>
            <a:endParaRPr b="0" lang="nl-NL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Групувати 30"/>
          <p:cNvGrpSpPr/>
          <p:nvPr/>
        </p:nvGrpSpPr>
        <p:grpSpPr>
          <a:xfrm>
            <a:off x="13681440" y="7366320"/>
            <a:ext cx="597600" cy="597600"/>
            <a:chOff x="13681440" y="7366320"/>
            <a:chExt cx="597600" cy="597600"/>
          </a:xfrm>
        </p:grpSpPr>
        <p:sp>
          <p:nvSpPr>
            <p:cNvPr id="268" name="Овал 31"/>
            <p:cNvSpPr/>
            <p:nvPr/>
          </p:nvSpPr>
          <p:spPr>
            <a:xfrm rot="10800000">
              <a:off x="13681440" y="736632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69" name="Picture 1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13732920" y="741816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70" name="Button Color - Down"/>
              <p:cNvSpPr txBox="1"/>
              <p:nvPr/>
            </p:nvSpPr>
            <p:spPr>
              <a:xfrm>
                <a:off x="8989200" y="4013280"/>
                <a:ext cx="5171040" cy="87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𝑼</m:t>
                        </m:r>
                        <m:r>
                          <m:t xml:space="preserve">=</m:t>
                        </m:r>
                        <m:r>
                          <m:t xml:space="preserve">𝑼</m:t>
                        </m:r>
                      </m:e>
                      <m:sub>
                        <m:r>
                          <m:t xml:space="preserve">𝟏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𝑼</m:t>
                        </m:r>
                      </m:e>
                      <m:sub>
                        <m:r>
                          <m:t xml:space="preserve">𝟐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71" name="Рисунок 11" descr=""/>
          <p:cNvPicPr/>
          <p:nvPr/>
        </p:nvPicPr>
        <p:blipFill>
          <a:blip r:embed="rId3"/>
          <a:stretch/>
        </p:blipFill>
        <p:spPr>
          <a:xfrm>
            <a:off x="722160" y="988560"/>
            <a:ext cx="8028000" cy="69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Групувати 2"/>
          <p:cNvGrpSpPr/>
          <p:nvPr/>
        </p:nvGrpSpPr>
        <p:grpSpPr>
          <a:xfrm>
            <a:off x="124200" y="7365960"/>
            <a:ext cx="597600" cy="597600"/>
            <a:chOff x="124200" y="7365960"/>
            <a:chExt cx="597600" cy="597600"/>
          </a:xfrm>
        </p:grpSpPr>
        <p:sp>
          <p:nvSpPr>
            <p:cNvPr id="273" name="Овал 1"/>
            <p:cNvSpPr/>
            <p:nvPr/>
          </p:nvSpPr>
          <p:spPr>
            <a:xfrm>
              <a:off x="124200" y="736596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74" name="Picture 14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 rot="10800000">
              <a:off x="169200" y="741888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Rectangle 3"/>
          <p:cNvSpPr/>
          <p:nvPr/>
        </p:nvSpPr>
        <p:spPr>
          <a:xfrm>
            <a:off x="720" y="0"/>
            <a:ext cx="14398560" cy="988200"/>
          </a:xfrm>
          <a:prstGeom prst="rect">
            <a:avLst/>
          </a:prstGeom>
          <a:solidFill>
            <a:srgbClr val="3f51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96880" y="135720"/>
            <a:ext cx="12418920" cy="7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uk-UA" sz="4800" spc="-1" strike="noStrike">
                <a:solidFill>
                  <a:srgbClr val="ff0000"/>
                </a:solidFill>
                <a:latin typeface="Arial"/>
                <a:ea typeface="Roboto"/>
              </a:rPr>
              <a:t>Закони послідовного з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Roboto"/>
              </a:rPr>
              <a:t>’</a:t>
            </a:r>
            <a:r>
              <a:rPr b="0" lang="uk-UA" sz="4800" spc="-1" strike="noStrike">
                <a:solidFill>
                  <a:srgbClr val="ff0000"/>
                </a:solidFill>
                <a:latin typeface="Arial"/>
                <a:ea typeface="Roboto"/>
              </a:rPr>
              <a:t>єднання провідників</a:t>
            </a:r>
            <a:endParaRPr b="0" lang="nl-NL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Групувати 30"/>
          <p:cNvGrpSpPr/>
          <p:nvPr/>
        </p:nvGrpSpPr>
        <p:grpSpPr>
          <a:xfrm>
            <a:off x="13681440" y="7366320"/>
            <a:ext cx="597600" cy="597600"/>
            <a:chOff x="13681440" y="7366320"/>
            <a:chExt cx="597600" cy="597600"/>
          </a:xfrm>
        </p:grpSpPr>
        <p:sp>
          <p:nvSpPr>
            <p:cNvPr id="278" name="Овал 31"/>
            <p:cNvSpPr/>
            <p:nvPr/>
          </p:nvSpPr>
          <p:spPr>
            <a:xfrm rot="10800000">
              <a:off x="13681440" y="736632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79" name="Picture 1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13732920" y="741816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80" name="Button Color - Down"/>
              <p:cNvSpPr txBox="1"/>
              <p:nvPr/>
            </p:nvSpPr>
            <p:spPr>
              <a:xfrm>
                <a:off x="419760" y="1454040"/>
                <a:ext cx="4732560" cy="90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𝑈</m:t>
                        </m:r>
                        <m:r>
                          <m:t xml:space="preserve">=</m:t>
                        </m:r>
                        <m:r>
                          <m:t xml:space="preserve">𝑈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𝑈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1" name="Стрілка: униз 12"/>
          <p:cNvSpPr/>
          <p:nvPr/>
        </p:nvSpPr>
        <p:spPr>
          <a:xfrm rot="16200000">
            <a:off x="5862960" y="1457280"/>
            <a:ext cx="1212120" cy="894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f51b5"/>
          </a:solidFill>
          <a:ln>
            <a:solidFill>
              <a:srgbClr val="3f51b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uk-UA" sz="2130" spc="-1" strike="noStrike">
              <a:solidFill>
                <a:schemeClr val="lt1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Button Color - Down"/>
              <p:cNvSpPr txBox="1"/>
              <p:nvPr/>
            </p:nvSpPr>
            <p:spPr>
              <a:xfrm>
                <a:off x="419760" y="3035520"/>
                <a:ext cx="4056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Button Color - Down"/>
          <p:cNvSpPr/>
          <p:nvPr/>
        </p:nvSpPr>
        <p:spPr>
          <a:xfrm>
            <a:off x="7413480" y="1454040"/>
            <a:ext cx="5601960" cy="901080"/>
          </a:xfrm>
          <a:prstGeom prst="rect">
            <a:avLst/>
          </a:prstGeom>
          <a:solidFill>
            <a:srgbClr val="009688"/>
          </a:solidFill>
          <a:ln w="38100">
            <a:solidFill>
              <a:srgbClr val="00968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uk-UA" sz="4800" spc="-1" strike="noStrike">
                <a:solidFill>
                  <a:schemeClr val="lt1"/>
                </a:solidFill>
                <a:latin typeface="Calibri"/>
                <a:ea typeface="Calibri"/>
              </a:rPr>
              <a:t>НАПРУ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трілка: униз 18"/>
          <p:cNvSpPr/>
          <p:nvPr/>
        </p:nvSpPr>
        <p:spPr>
          <a:xfrm rot="16200000">
            <a:off x="5862960" y="3055320"/>
            <a:ext cx="1212120" cy="894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f51b5"/>
          </a:solidFill>
          <a:ln>
            <a:solidFill>
              <a:srgbClr val="3f51b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uk-UA" sz="2130" spc="-1" strike="noStrike">
              <a:solidFill>
                <a:schemeClr val="lt1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Button Color - Down"/>
              <p:cNvSpPr txBox="1"/>
              <p:nvPr/>
            </p:nvSpPr>
            <p:spPr>
              <a:xfrm>
                <a:off x="419760" y="4836240"/>
                <a:ext cx="4881600" cy="90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𝑹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𝑹</m:t>
                        </m:r>
                      </m:e>
                      <m:sub>
                        <m:r>
                          <m:t xml:space="preserve">𝟏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𝑹</m:t>
                        </m:r>
                      </m:e>
                      <m:sub>
                        <m:r>
                          <m:t xml:space="preserve">𝟐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6" name="Button Color - Down"/>
          <p:cNvSpPr/>
          <p:nvPr/>
        </p:nvSpPr>
        <p:spPr>
          <a:xfrm>
            <a:off x="7413480" y="3147840"/>
            <a:ext cx="5601960" cy="901080"/>
          </a:xfrm>
          <a:prstGeom prst="rect">
            <a:avLst/>
          </a:prstGeom>
          <a:solidFill>
            <a:srgbClr val="009688"/>
          </a:solidFill>
          <a:ln w="38100">
            <a:solidFill>
              <a:srgbClr val="00968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uk-UA" sz="4800" spc="-1" strike="noStrike">
                <a:solidFill>
                  <a:schemeClr val="lt1"/>
                </a:solidFill>
                <a:latin typeface="Calibri"/>
                <a:ea typeface="Calibri"/>
              </a:rPr>
              <a:t>СИЛА СТРУМ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трілка: униз 18"/>
          <p:cNvSpPr/>
          <p:nvPr/>
        </p:nvSpPr>
        <p:spPr>
          <a:xfrm rot="16200000">
            <a:off x="5862960" y="4839480"/>
            <a:ext cx="1212120" cy="894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f51b5"/>
          </a:solidFill>
          <a:ln>
            <a:solidFill>
              <a:srgbClr val="3f51b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uk-UA" sz="213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8" name="Button Color - Down"/>
          <p:cNvSpPr/>
          <p:nvPr/>
        </p:nvSpPr>
        <p:spPr>
          <a:xfrm>
            <a:off x="7413480" y="4762440"/>
            <a:ext cx="5601960" cy="901080"/>
          </a:xfrm>
          <a:prstGeom prst="rect">
            <a:avLst/>
          </a:prstGeom>
          <a:solidFill>
            <a:srgbClr val="009688"/>
          </a:solidFill>
          <a:ln w="38100">
            <a:solidFill>
              <a:srgbClr val="00968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uk-UA" sz="4800" spc="-1" strike="noStrike">
                <a:solidFill>
                  <a:schemeClr val="lt1"/>
                </a:solidFill>
                <a:latin typeface="Calibri"/>
                <a:ea typeface="Calibri"/>
              </a:rPr>
              <a:t>ОПІ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3"/>
          <p:cNvSpPr/>
          <p:nvPr/>
        </p:nvSpPr>
        <p:spPr>
          <a:xfrm>
            <a:off x="720" y="0"/>
            <a:ext cx="14398560" cy="988200"/>
          </a:xfrm>
          <a:prstGeom prst="rect">
            <a:avLst/>
          </a:prstGeom>
          <a:solidFill>
            <a:srgbClr val="3f51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23000" y="271440"/>
            <a:ext cx="14389920" cy="7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Roboto"/>
              </a:rPr>
              <a:t>Розв'язування задач</a:t>
            </a:r>
            <a:endParaRPr b="0" lang="nl-NL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" name="Групувати 16"/>
          <p:cNvGrpSpPr/>
          <p:nvPr/>
        </p:nvGrpSpPr>
        <p:grpSpPr>
          <a:xfrm>
            <a:off x="124200" y="7365960"/>
            <a:ext cx="597600" cy="597600"/>
            <a:chOff x="124200" y="7365960"/>
            <a:chExt cx="597600" cy="597600"/>
          </a:xfrm>
        </p:grpSpPr>
        <p:sp>
          <p:nvSpPr>
            <p:cNvPr id="292" name="Овал 17"/>
            <p:cNvSpPr/>
            <p:nvPr/>
          </p:nvSpPr>
          <p:spPr>
            <a:xfrm>
              <a:off x="124200" y="736596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293" name="Picture 14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 rot="10800000">
              <a:off x="169200" y="741888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4" name="Групувати 19"/>
          <p:cNvGrpSpPr/>
          <p:nvPr/>
        </p:nvGrpSpPr>
        <p:grpSpPr>
          <a:xfrm>
            <a:off x="13681440" y="7366320"/>
            <a:ext cx="597600" cy="597600"/>
            <a:chOff x="13681440" y="7366320"/>
            <a:chExt cx="597600" cy="597600"/>
          </a:xfrm>
        </p:grpSpPr>
        <p:sp>
          <p:nvSpPr>
            <p:cNvPr id="295" name="Овал 21"/>
            <p:cNvSpPr/>
            <p:nvPr/>
          </p:nvSpPr>
          <p:spPr>
            <a:xfrm rot="10800000">
              <a:off x="13681440" y="736632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296" name="Picture 1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13732920" y="741816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Button Color - Down"/>
          <p:cNvSpPr/>
          <p:nvPr/>
        </p:nvSpPr>
        <p:spPr>
          <a:xfrm>
            <a:off x="445680" y="1260000"/>
            <a:ext cx="7059960" cy="6158160"/>
          </a:xfrm>
          <a:prstGeom prst="rect">
            <a:avLst/>
          </a:prstGeom>
          <a:solidFill>
            <a:srgbClr val="3f51b5"/>
          </a:solidFill>
          <a:ln w="38100">
            <a:solidFill>
              <a:srgbClr val="3f51b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4000" spc="-1" strike="noStrike">
                <a:solidFill>
                  <a:srgbClr val="ffffff"/>
                </a:solidFill>
                <a:latin typeface="Verdana"/>
                <a:ea typeface="Verdana"/>
              </a:rPr>
              <a:t>Резистори, опори яких </a:t>
            </a:r>
            <a:r>
              <a:rPr b="1" lang="uk-UA" sz="4000" spc="-1" strike="noStrike">
                <a:solidFill>
                  <a:srgbClr val="ffff00"/>
                </a:solidFill>
                <a:latin typeface="Verdana"/>
                <a:ea typeface="Verdana"/>
              </a:rPr>
              <a:t>2</a:t>
            </a:r>
            <a:r>
              <a:rPr b="1" lang="uk-UA" sz="4000" spc="-1" strike="noStrike">
                <a:solidFill>
                  <a:srgbClr val="ffffff"/>
                </a:solidFill>
                <a:latin typeface="Verdana"/>
                <a:ea typeface="Verdana"/>
              </a:rPr>
              <a:t> і </a:t>
            </a:r>
            <a:r>
              <a:rPr b="1" lang="uk-UA" sz="4000" spc="-1" strike="noStrike">
                <a:solidFill>
                  <a:srgbClr val="ffff00"/>
                </a:solidFill>
                <a:latin typeface="Verdana"/>
                <a:ea typeface="Verdana"/>
              </a:rPr>
              <a:t>3 Ом</a:t>
            </a:r>
            <a:r>
              <a:rPr b="1" lang="uk-UA" sz="4000" spc="-1" strike="noStrike">
                <a:solidFill>
                  <a:srgbClr val="ffffff"/>
                </a:solidFill>
                <a:latin typeface="Verdana"/>
                <a:ea typeface="Verdana"/>
              </a:rPr>
              <a:t>, з’єднані послідовно й підключені до джерела постійної напруги </a:t>
            </a:r>
            <a:r>
              <a:rPr b="1" lang="uk-UA" sz="4000" spc="-1" strike="noStrike">
                <a:solidFill>
                  <a:srgbClr val="ffff00"/>
                </a:solidFill>
                <a:latin typeface="Verdana"/>
                <a:ea typeface="Verdana"/>
              </a:rPr>
              <a:t>15 В</a:t>
            </a:r>
            <a:r>
              <a:rPr b="1" lang="uk-UA" sz="4000" spc="-1" strike="noStrike">
                <a:solidFill>
                  <a:srgbClr val="ffffff"/>
                </a:solidFill>
                <a:latin typeface="Verdana"/>
                <a:ea typeface="Verdana"/>
              </a:rPr>
              <a:t>. Яким є </a:t>
            </a:r>
            <a:r>
              <a:rPr b="1" lang="uk-UA" sz="4000" spc="-1" strike="noStrike">
                <a:solidFill>
                  <a:srgbClr val="ff0000"/>
                </a:solidFill>
                <a:latin typeface="Verdana"/>
                <a:ea typeface="Verdana"/>
              </a:rPr>
              <a:t>опір</a:t>
            </a:r>
            <a:r>
              <a:rPr b="1" lang="uk-UA" sz="4000" spc="-1" strike="noStrike">
                <a:solidFill>
                  <a:srgbClr val="ffffff"/>
                </a:solidFill>
                <a:latin typeface="Verdana"/>
                <a:ea typeface="Verdana"/>
              </a:rPr>
              <a:t> цієї ділянки кола? Знайдіть </a:t>
            </a:r>
            <a:r>
              <a:rPr b="1" lang="uk-UA" sz="4000" spc="-1" strike="noStrike">
                <a:solidFill>
                  <a:srgbClr val="ff0000"/>
                </a:solidFill>
                <a:latin typeface="Verdana"/>
                <a:ea typeface="Verdana"/>
              </a:rPr>
              <a:t>силу струму </a:t>
            </a:r>
            <a:r>
              <a:rPr b="1" lang="uk-UA" sz="4000" spc="-1" strike="noStrike">
                <a:solidFill>
                  <a:srgbClr val="ffffff"/>
                </a:solidFill>
                <a:latin typeface="Verdana"/>
                <a:ea typeface="Verdana"/>
              </a:rPr>
              <a:t>в колі та </a:t>
            </a:r>
            <a:r>
              <a:rPr b="1" lang="uk-UA" sz="4000" spc="-1" strike="noStrike">
                <a:solidFill>
                  <a:srgbClr val="ff0000"/>
                </a:solidFill>
                <a:latin typeface="Verdana"/>
                <a:ea typeface="Verdana"/>
              </a:rPr>
              <a:t>напругу </a:t>
            </a:r>
            <a:r>
              <a:rPr b="1" lang="uk-UA" sz="4000" spc="-1" strike="noStrike">
                <a:solidFill>
                  <a:srgbClr val="ffffff"/>
                </a:solidFill>
                <a:latin typeface="Verdana"/>
                <a:ea typeface="Verdana"/>
              </a:rPr>
              <a:t>на кожному резисторі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Рисунок 12" descr=""/>
          <p:cNvPicPr/>
          <p:nvPr/>
        </p:nvPicPr>
        <p:blipFill>
          <a:blip r:embed="rId3"/>
          <a:stretch/>
        </p:blipFill>
        <p:spPr>
          <a:xfrm>
            <a:off x="7782840" y="2410560"/>
            <a:ext cx="6230880" cy="4104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660960" y="856440"/>
            <a:ext cx="8902800" cy="53686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"/>
          <p:cNvPicPr/>
          <p:nvPr/>
        </p:nvPicPr>
        <p:blipFill>
          <a:blip r:embed="rId2"/>
          <a:stretch/>
        </p:blipFill>
        <p:spPr>
          <a:xfrm>
            <a:off x="7720200" y="667440"/>
            <a:ext cx="5588640" cy="36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theme/theme1.xml><?xml version="1.0" encoding="utf-8"?>
<a:theme xmlns:a="http://schemas.openxmlformats.org/drawingml/2006/main" name="1_Office Them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Office Them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2_Office Them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Custom 2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f44336"/>
      </a:accent1>
      <a:accent2>
        <a:srgbClr val="ff4081"/>
      </a:accent2>
      <a:accent3>
        <a:srgbClr val="3f51b5"/>
      </a:accent3>
      <a:accent4>
        <a:srgbClr val="2196f3"/>
      </a:accent4>
      <a:accent5>
        <a:srgbClr val="4caf50"/>
      </a:accent5>
      <a:accent6>
        <a:srgbClr val="ffc10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Custom 2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f44336"/>
      </a:accent1>
      <a:accent2>
        <a:srgbClr val="ff4081"/>
      </a:accent2>
      <a:accent3>
        <a:srgbClr val="3f51b5"/>
      </a:accent3>
      <a:accent4>
        <a:srgbClr val="2196f3"/>
      </a:accent4>
      <a:accent5>
        <a:srgbClr val="4caf50"/>
      </a:accent5>
      <a:accent6>
        <a:srgbClr val="ffc10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137924</TotalTime>
  <Application>LibreOffice/7.4.7.2$Linux_X86_64 LibreOffice_project/40$Build-2</Application>
  <AppVersion>15.0000</AppVersion>
  <Words>166</Words>
  <Paragraphs>2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5T13:10:55Z</dcterms:created>
  <dc:creator>Мартин Коноплянка</dc:creator>
  <dc:description/>
  <dc:language>en-US</dc:language>
  <cp:lastModifiedBy>User</cp:lastModifiedBy>
  <dcterms:modified xsi:type="dcterms:W3CDTF">2022-03-31T10:06:39Z</dcterms:modified>
  <cp:revision>6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14</vt:r8>
  </property>
</Properties>
</file>