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4400213" cy="8099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939-5E68-4480-8F75-1E506429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025-8EF6-4A78-993C-D1BD6EC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EA9-F197-4712-8FDF-46E619D5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CF4-D4B6-4A2D-8F4B-73373114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A34-176D-49D9-ABAD-198A06BB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186-0F9C-41F3-BB71-576F141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A19A-7A77-4B2D-B8BC-243C311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1FC-D1E1-4844-A3D4-BF8BF59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C648-87B4-44BA-8A66-521CCE6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597-9944-4676-9C31-5F3093C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20DA-5113-4D3B-9C6E-19FB6DE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4B2-019C-420E-99EB-73922282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0EAB-C318-45C8-ACCC-B238313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912-6040-4250-A670-E6B787B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C0AB-1546-4044-980B-09BEF66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DF06-17AE-44EA-AF99-926B4349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9950-96D6-41D0-9AD1-29C75E21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CDDE-43A7-48D8-BC1F-55B7EF6D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B001-66D6-4C8A-9F99-92CA177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CE41-70BA-47E7-B210-7DE9EA7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DD51-688A-40C4-B029-22F09DF4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796B-C262-4264-B650-596FC5A2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1C-49AA-4AF4-8046-8EC9EA89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35B2-1FCA-4B43-A136-E2A99A62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F366-E89D-4A28-802D-CE6073B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7D94-D80D-428D-9154-752DB82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E149-C29A-4DDC-A5D0-595A3CB3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8E12-E32A-4533-A84F-F8E5C07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6528-5DED-4825-A345-7E65565B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5E66-9F61-4494-8517-EF2B19CC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0882-9AF4-4CAD-A9E7-1A338717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33A6-F578-4237-848A-DA8679D8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9A71-0F74-4FFD-8632-78636EA2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0B3-A22A-4BD6-B61E-45455444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15F2-BB4F-40CD-A03E-341EA5C4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7A35-2C5B-4927-8C2B-20A4C34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1A43-314D-4EB8-9B5A-ADA0B8D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0176-A13A-48AF-AF84-FE4E40F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32D7-71CC-4E13-B478-8A9162F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6501-5EB0-4CA8-AF8C-30757C7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D5FC-C1D7-46C5-81C9-43D5F8B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4137-2D15-40BC-94E2-7CEE26C2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A638-F4B8-482A-9C79-11F40502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6092-FB35-4E1E-AC47-AD8CD2AB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E19-3ED1-4E0A-8889-EB51B36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1C61-6AF8-40B0-8276-8DB1E490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37AE-807F-409A-9FC7-5362A69F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0C33-729D-400A-8265-2EC92711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9E9E-44B1-4165-AAA7-C99CBE0F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5AE2-7250-47CF-85C7-28B0FB34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3EF2-63A6-47BD-8924-7953448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2726-15A5-456C-BB94-34DF39C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7725-6BA1-4F84-B54E-17A102C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91E7-24F0-4BE7-B603-44C3CBE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9158-62E8-49E7-A89B-5F975A5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7D8-57E2-4AA5-BF09-8DF1EC90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9E24-1884-4A71-8FB2-EEA43866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A31-FA65-427D-B8B8-D9C25F0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35A-3683-4DDB-8758-D2A5B4A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04C-7D1D-498C-9301-7D507F2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708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937DAD-B21F-4D4A-94E8-A57663BC632E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4BCB7-A6C1-47E6-BC5C-45AF0A460EE3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CCECB2-25F9-4021-8813-1DFB487E0E60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708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3468AA-2E46-4D69-AE80-1498110EA3EC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5975A5-9CBD-4CC6-8FE9-2D0CF6AC1E15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zikanova.com.ua/" TargetMode="External"/><Relationship Id="rId2" Type="http://schemas.openxmlformats.org/officeDocument/2006/relationships/hyperlink" Target="http://www.fizikanova.com.ua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Групувати 10"/>
          <p:cNvGrpSpPr/>
          <p:nvPr/>
        </p:nvGrpSpPr>
        <p:grpSpPr>
          <a:xfrm>
            <a:off x="3007080" y="7141320"/>
            <a:ext cx="8385840" cy="469440"/>
            <a:chOff x="3007080" y="7141320"/>
            <a:chExt cx="8385840" cy="469440"/>
          </a:xfrm>
        </p:grpSpPr>
        <p:sp>
          <p:nvSpPr>
            <p:cNvPr id="206" name="Rounded Rectangle 16">
              <a:hlinkClick r:id="rId1"/>
            </p:cNvPr>
            <p:cNvSpPr/>
            <p:nvPr/>
          </p:nvSpPr>
          <p:spPr>
            <a:xfrm>
              <a:off x="3007080" y="7141320"/>
              <a:ext cx="8385840" cy="469440"/>
            </a:xfrm>
            <a:prstGeom prst="rect">
              <a:avLst/>
            </a:prstGeom>
            <a:solidFill>
              <a:srgbClr val="3f51b5"/>
            </a:solidFill>
            <a:ln w="6350">
              <a:solidFill>
                <a:srgbClr val="3f51b5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36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Picture 17" descr="ios7-search-strong_w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0724400" y="7221600"/>
              <a:ext cx="308520" cy="308520"/>
            </a:xfrm>
            <a:prstGeom prst="rect">
              <a:avLst/>
            </a:prstGeom>
            <a:ln w="0">
              <a:solidFill>
                <a:srgbClr val="3f51b5"/>
              </a:solidFill>
            </a:ln>
          </p:spPr>
        </p:pic>
      </p:grpSp>
      <p:sp>
        <p:nvSpPr>
          <p:cNvPr id="208" name="Rounded Rectangle 3"/>
          <p:cNvSpPr/>
          <p:nvPr/>
        </p:nvSpPr>
        <p:spPr>
          <a:xfrm>
            <a:off x="720" y="1634400"/>
            <a:ext cx="14398560" cy="49467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1040" y="2693520"/>
            <a:ext cx="5130360" cy="28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2" descr=""/>
          <p:cNvPicPr/>
          <p:nvPr/>
        </p:nvPicPr>
        <p:blipFill>
          <a:blip r:embed="rId4"/>
          <a:stretch/>
        </p:blipFill>
        <p:spPr>
          <a:xfrm>
            <a:off x="10210320" y="6480"/>
            <a:ext cx="4025160" cy="1587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5"/>
          <a:stretch/>
        </p:blipFill>
        <p:spPr>
          <a:xfrm>
            <a:off x="5745240" y="2097360"/>
            <a:ext cx="7965720" cy="40204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5029920" y="7221600"/>
            <a:ext cx="3646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000000"/>
                </a:solidFill>
                <a:latin typeface="Calibri"/>
              </a:rPr>
              <a:t>https://ppt-online.org/111724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29640" y="771120"/>
            <a:ext cx="97977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27120" y="766080"/>
            <a:ext cx="12777840" cy="62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Домашня задач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838080" y="1703880"/>
            <a:ext cx="8602200" cy="55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-78120" y="-551520"/>
            <a:ext cx="14685480" cy="48945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5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2255400" y="848880"/>
            <a:ext cx="9844560" cy="2773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Rectangle 56"/>
          <p:cNvSpPr/>
          <p:nvPr/>
        </p:nvSpPr>
        <p:spPr>
          <a:xfrm>
            <a:off x="2255400" y="3622680"/>
            <a:ext cx="9844560" cy="4476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Button Color - Down"/>
          <p:cNvSpPr/>
          <p:nvPr/>
        </p:nvSpPr>
        <p:spPr>
          <a:xfrm>
            <a:off x="2842200" y="1171440"/>
            <a:ext cx="8844840" cy="2128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tton Color - Down"/>
          <p:cNvSpPr/>
          <p:nvPr/>
        </p:nvSpPr>
        <p:spPr>
          <a:xfrm>
            <a:off x="1242720" y="3944880"/>
            <a:ext cx="12043440" cy="3361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вторити § 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Задача з презент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madube.info/img/wallpaperMaterialDesign2.jpg"/>
          <p:cNvPicPr/>
          <p:nvPr/>
        </p:nvPicPr>
        <p:blipFill>
          <a:blip r:embed="rId1"/>
          <a:stretch/>
        </p:blipFill>
        <p:spPr>
          <a:xfrm>
            <a:off x="0" y="0"/>
            <a:ext cx="14398560" cy="8098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3"/>
          <p:cNvSpPr/>
          <p:nvPr/>
        </p:nvSpPr>
        <p:spPr>
          <a:xfrm>
            <a:off x="6737760" y="3399480"/>
            <a:ext cx="6928200" cy="42505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Button Color - Normal"/>
          <p:cNvSpPr/>
          <p:nvPr/>
        </p:nvSpPr>
        <p:spPr>
          <a:xfrm>
            <a:off x="1844640" y="4757760"/>
            <a:ext cx="6113880" cy="153468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роблемні питання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16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19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0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Button Color - Down"/>
          <p:cNvSpPr/>
          <p:nvPr/>
        </p:nvSpPr>
        <p:spPr>
          <a:xfrm>
            <a:off x="14587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utton Color - Down"/>
          <p:cNvSpPr/>
          <p:nvPr/>
        </p:nvSpPr>
        <p:spPr>
          <a:xfrm>
            <a:off x="86461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аралель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0" descr=""/>
          <p:cNvPicPr/>
          <p:nvPr/>
        </p:nvPicPr>
        <p:blipFill>
          <a:blip r:embed="rId3"/>
          <a:stretch/>
        </p:blipFill>
        <p:spPr>
          <a:xfrm>
            <a:off x="124200" y="2234160"/>
            <a:ext cx="6727680" cy="3824280"/>
          </a:xfrm>
          <a:prstGeom prst="rect">
            <a:avLst/>
          </a:prstGeom>
          <a:ln w="0">
            <a:noFill/>
          </a:ln>
        </p:spPr>
      </p:pic>
      <p:sp>
        <p:nvSpPr>
          <p:cNvPr id="224" name="Button Color - Down"/>
          <p:cNvSpPr/>
          <p:nvPr/>
        </p:nvSpPr>
        <p:spPr>
          <a:xfrm>
            <a:off x="529200" y="1237320"/>
            <a:ext cx="1334160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Ми знаємо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з'єднання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 пров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і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дників бува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Button Color - Down"/>
          <p:cNvSpPr/>
          <p:nvPr/>
        </p:nvSpPr>
        <p:spPr>
          <a:xfrm>
            <a:off x="1222200" y="7158600"/>
            <a:ext cx="1195884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Розглянемо детальніше </a:t>
            </a:r>
            <a:r>
              <a:rPr b="1" lang="uk-UA" sz="4400" spc="-1" strike="noStrike">
                <a:solidFill>
                  <a:srgbClr val="ffff00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5" descr=""/>
          <p:cNvPicPr/>
          <p:nvPr/>
        </p:nvPicPr>
        <p:blipFill>
          <a:blip r:embed="rId4"/>
          <a:srcRect l="0" t="9414" r="0" b="0"/>
          <a:stretch/>
        </p:blipFill>
        <p:spPr>
          <a:xfrm>
            <a:off x="6898680" y="2161080"/>
            <a:ext cx="7335720" cy="39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3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3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Рисунок 20" descr=""/>
          <p:cNvPicPr/>
          <p:nvPr/>
        </p:nvPicPr>
        <p:blipFill>
          <a:blip r:embed="rId3"/>
          <a:stretch/>
        </p:blipFill>
        <p:spPr>
          <a:xfrm>
            <a:off x="124200" y="1953360"/>
            <a:ext cx="7824960" cy="4447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4"/>
          <a:stretch/>
        </p:blipFill>
        <p:spPr>
          <a:xfrm>
            <a:off x="8652960" y="1953360"/>
            <a:ext cx="558144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4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4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Рисунок 20" descr=""/>
          <p:cNvPicPr/>
          <p:nvPr/>
        </p:nvPicPr>
        <p:blipFill>
          <a:blip r:embed="rId3"/>
          <a:stretch/>
        </p:blipFill>
        <p:spPr>
          <a:xfrm>
            <a:off x="2638800" y="1045800"/>
            <a:ext cx="8656920" cy="4920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" descr=""/>
          <p:cNvPicPr/>
          <p:nvPr/>
        </p:nvPicPr>
        <p:blipFill>
          <a:blip r:embed="rId4"/>
          <a:stretch/>
        </p:blipFill>
        <p:spPr>
          <a:xfrm>
            <a:off x="2638800" y="988560"/>
            <a:ext cx="8656920" cy="5009400"/>
          </a:xfrm>
          <a:prstGeom prst="rect">
            <a:avLst/>
          </a:prstGeom>
          <a:ln w="0">
            <a:noFill/>
          </a:ln>
        </p:spPr>
      </p:pic>
      <p:sp>
        <p:nvSpPr>
          <p:cNvPr id="247" name="Button Color - Down"/>
          <p:cNvSpPr/>
          <p:nvPr/>
        </p:nvSpPr>
        <p:spPr>
          <a:xfrm>
            <a:off x="7731000" y="5969880"/>
            <a:ext cx="518688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Інша лампочка не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працює, бо коло розімкне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Button Color - Down"/>
          <p:cNvSpPr/>
          <p:nvPr/>
        </p:nvSpPr>
        <p:spPr>
          <a:xfrm>
            <a:off x="1968840" y="5966640"/>
            <a:ext cx="312804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Лампочка вийшла з ла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 сполучна лінія 5"/>
          <p:cNvCxnSpPr/>
          <p:nvPr/>
        </p:nvCxnSpPr>
        <p:spPr>
          <a:xfrm>
            <a:off x="4863960" y="4050000"/>
            <a:ext cx="13759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cxnSp>
        <p:nvCxnSpPr>
          <p:cNvPr id="250" name="Пряма сполучна лінія 27"/>
          <p:cNvCxnSpPr/>
          <p:nvPr/>
        </p:nvCxnSpPr>
        <p:spPr>
          <a:xfrm flipH="1">
            <a:off x="4960440" y="4050000"/>
            <a:ext cx="11833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sp>
        <p:nvSpPr>
          <p:cNvPr id="251" name="Стрілка: униз 28"/>
          <p:cNvSpPr/>
          <p:nvPr/>
        </p:nvSpPr>
        <p:spPr>
          <a:xfrm rot="16200000">
            <a:off x="5897880" y="649224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5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5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60" name="Button Color - Down"/>
              <p:cNvSpPr txBox="1"/>
              <p:nvPr/>
            </p:nvSpPr>
            <p:spPr>
              <a:xfrm>
                <a:off x="3765600" y="6928920"/>
                <a:ext cx="687132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𝟑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1" name="Рисунок 18" descr=""/>
          <p:cNvPicPr/>
          <p:nvPr/>
        </p:nvPicPr>
        <p:blipFill>
          <a:blip r:embed="rId3"/>
          <a:stretch/>
        </p:blipFill>
        <p:spPr>
          <a:xfrm>
            <a:off x="240840" y="1649880"/>
            <a:ext cx="13896720" cy="46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6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6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70" name="Button Color - Down"/>
              <p:cNvSpPr txBox="1"/>
              <p:nvPr/>
            </p:nvSpPr>
            <p:spPr>
              <a:xfrm>
                <a:off x="8989200" y="4013280"/>
                <a:ext cx="517104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𝑼</m:t>
                        </m:r>
                        <m:r>
                          <m:t xml:space="preserve">=</m:t>
                        </m:r>
                        <m:r>
                          <m:t xml:space="preserve">𝑼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𝑼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1" name="Рисунок 11" descr=""/>
          <p:cNvPicPr/>
          <p:nvPr/>
        </p:nvPicPr>
        <p:blipFill>
          <a:blip r:embed="rId3"/>
          <a:stretch/>
        </p:blipFill>
        <p:spPr>
          <a:xfrm>
            <a:off x="722160" y="988560"/>
            <a:ext cx="8028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7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6880" y="13572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Закони послідовного з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Roboto"/>
              </a:rPr>
              <a:t>’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7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80" name="Button Color - Down"/>
              <p:cNvSpPr txBox="1"/>
              <p:nvPr/>
            </p:nvSpPr>
            <p:spPr>
              <a:xfrm>
                <a:off x="419760" y="1454040"/>
                <a:ext cx="473256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𝑈</m:t>
                        </m:r>
                        <m:r>
                          <m:t xml:space="preserve">=</m:t>
                        </m:r>
                        <m:r>
                          <m:t xml:space="preserve">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Стрілка: униз 12"/>
          <p:cNvSpPr/>
          <p:nvPr/>
        </p:nvSpPr>
        <p:spPr>
          <a:xfrm rot="16200000">
            <a:off x="5862960" y="14572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Button Color - Down"/>
              <p:cNvSpPr txBox="1"/>
              <p:nvPr/>
            </p:nvSpPr>
            <p:spPr>
              <a:xfrm>
                <a:off x="419760" y="3035520"/>
                <a:ext cx="4056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Button Color - Down"/>
          <p:cNvSpPr/>
          <p:nvPr/>
        </p:nvSpPr>
        <p:spPr>
          <a:xfrm>
            <a:off x="7413480" y="14540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НАП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ілка: униз 18"/>
          <p:cNvSpPr/>
          <p:nvPr/>
        </p:nvSpPr>
        <p:spPr>
          <a:xfrm rot="16200000">
            <a:off x="5862960" y="305532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Button Color - Down"/>
              <p:cNvSpPr txBox="1"/>
              <p:nvPr/>
            </p:nvSpPr>
            <p:spPr>
              <a:xfrm>
                <a:off x="419760" y="4836240"/>
                <a:ext cx="488160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𝑹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Button Color - Down"/>
          <p:cNvSpPr/>
          <p:nvPr/>
        </p:nvSpPr>
        <p:spPr>
          <a:xfrm>
            <a:off x="7413480" y="31478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ілка: униз 18"/>
          <p:cNvSpPr/>
          <p:nvPr/>
        </p:nvSpPr>
        <p:spPr>
          <a:xfrm rot="16200000">
            <a:off x="5862960" y="48394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Button Color - Down"/>
          <p:cNvSpPr/>
          <p:nvPr/>
        </p:nvSpPr>
        <p:spPr>
          <a:xfrm>
            <a:off x="7413480" y="47624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ОПІ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Розв'язування задач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92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3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95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6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Button Color - Down"/>
          <p:cNvSpPr/>
          <p:nvPr/>
        </p:nvSpPr>
        <p:spPr>
          <a:xfrm>
            <a:off x="445680" y="1260000"/>
            <a:ext cx="7059960" cy="61581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Резистори, опори яких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2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і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3 Ом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, з’єднані послідовно й підключені до джерела постійної напруги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15 В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. Яким є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опір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цієї ділянки кола? Знайдіть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силу струм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в колі та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напруг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на кожному рези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12" descr=""/>
          <p:cNvPicPr/>
          <p:nvPr/>
        </p:nvPicPr>
        <p:blipFill>
          <a:blip r:embed="rId3"/>
          <a:stretch/>
        </p:blipFill>
        <p:spPr>
          <a:xfrm>
            <a:off x="7782840" y="2410560"/>
            <a:ext cx="623088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660960" y="856440"/>
            <a:ext cx="8902800" cy="536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7720200" y="667440"/>
            <a:ext cx="5588640" cy="36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7924</TotalTime>
  <Application>LibreOffice/7.4.7.2$Linux_X86_64 LibreOffice_project/40$Build-2</Application>
  <AppVersion>15.0000</AppVersion>
  <Words>16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3:10:55Z</dcterms:created>
  <dc:creator>Мартин Коноплянка</dc:creator>
  <dc:description/>
  <dc:language>en-US</dc:language>
  <cp:lastModifiedBy>User</cp:lastModifiedBy>
  <dcterms:modified xsi:type="dcterms:W3CDTF">2022-03-31T10:06:39Z</dcterms:modified>
  <cp:revision>6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4</vt:r8>
  </property>
</Properties>
</file>