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F388-3E0A-4B65-A96C-29057124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0AA2-D721-4543-A366-FC2C654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012E-45A9-4618-AB90-FA3F270F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C45F-6B27-4A54-AE8B-47233DC5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0618-3B57-42A8-AA0B-DEAF8D50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32FF-2B10-4B19-8211-2167800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097-E57C-4122-8E6A-8470EFD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7A9E-286A-447D-8D3E-D5C80EA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6E1-BA3A-4C8D-86EC-72AD120B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0A66-3D3D-4478-887E-ABB61F63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237-00A8-4CF7-9F1C-6C14E1B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0F84-F9A0-463A-AEA2-86D19C7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4AC-37C5-4770-8F62-AA870A5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A91-7388-4168-A57A-60F1123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32A-A570-420A-BECD-F0526B9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307F-5DE2-4DA5-8214-7E2F90A7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FF5E-A92C-475A-A510-E010792C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B0EC-81BC-4509-A93E-033BB5FA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5E70-C93F-44AE-845B-58138E5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6960-DAEF-4C8D-B68E-D54BFE8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0979-A66E-456F-B55F-C020F03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5098-6ADF-435F-9898-1DD5D3A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FABF-2DA3-4237-9390-F74E149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5D32-96CC-43A1-A693-BBB0DF0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883-F1ED-45FB-9718-C1DAF7EC9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E82-0308-4CFB-838C-5FFECC5AA7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4"/>
          <p:cNvSpPr txBox="1"/>
          <p:nvPr/>
        </p:nvSpPr>
        <p:spPr>
          <a:xfrm>
            <a:off x="108000" y="115920"/>
            <a:ext cx="813744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ок   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лектролит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Century"/>
              </a:rPr>
              <a:t>1.Гальваностегия – э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декоративное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нтикоррозий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окрытие металл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зделий тонким сло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другого метал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(никел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хром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омеднение, золоч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серебр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>
            <a:lum contrast="18000"/>
          </a:blip>
          <a:srcRect l="4286" t="73781" r="52521" b="7354"/>
          <a:stretch/>
        </p:blipFill>
        <p:spPr>
          <a:xfrm>
            <a:off x="4427640" y="2276640"/>
            <a:ext cx="409572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Century"/>
              </a:rPr>
              <a:t>2.Гальванопластика – э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168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электроли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згото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металли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копий, рельеф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редм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1341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3.Электрометаллургия – это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олучение чистых металлов (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Na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Mg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Be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ри электролизе расплавленных ру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>
            <a:lum contrast="12000"/>
          </a:blip>
          <a:srcRect l="2037" t="0" r="43674" b="43601"/>
          <a:stretch/>
        </p:blipFill>
        <p:spPr>
          <a:xfrm>
            <a:off x="1476360" y="2637000"/>
            <a:ext cx="6696000" cy="40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4.Рафинирование металлов – это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очистка металлов от примесей  с помощ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электролиза, когда неочищенный металл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нодом, а на катоде оседает очищен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>
            <a:lum contrast="24000"/>
          </a:blip>
          <a:srcRect l="4286" t="47924" r="59725" b="26241"/>
          <a:stretch/>
        </p:blipFill>
        <p:spPr>
          <a:xfrm>
            <a:off x="2411280" y="2924280"/>
            <a:ext cx="42483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ая работ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еме «Законы Фарадея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419040" y="1628640"/>
            <a:ext cx="8545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89000" y="1341360"/>
            <a:ext cx="8791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-100080"/>
            <a:ext cx="8496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i="1" lang="ru-RU" sz="4000" spc="-1" strike="noStrike">
                <a:solidFill>
                  <a:srgbClr val="ffff99"/>
                </a:solidFill>
                <a:latin typeface="Century"/>
              </a:rPr>
              <a:t>Электролиты – это</a:t>
            </a:r>
            <a:r>
              <a:rPr b="0" i="1" lang="ru-RU" sz="40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Century"/>
              </a:rPr>
              <a:t>водные растворы солей, кислот, щелочей. Носителями заряда в электролитах являются положительные и отрицательные ион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aquarius"/>
          <p:cNvPicPr/>
          <p:nvPr/>
        </p:nvPicPr>
        <p:blipFill>
          <a:blip r:embed="rId1"/>
          <a:stretch/>
        </p:blipFill>
        <p:spPr>
          <a:xfrm>
            <a:off x="3276720" y="3500280"/>
            <a:ext cx="23097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697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99ff33"/>
                </a:solidFill>
                <a:latin typeface="Century"/>
              </a:rPr>
              <a:t>Диссоциация – это процесс</a:t>
            </a: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расщепления молекул электролита на положите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и отрицательные ионы под действием раствор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2565360"/>
            <a:ext cx="73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Уравнение диссоциации хлорида мед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" descr="63198734308008-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40000" y="2006640"/>
            <a:ext cx="3960720" cy="1047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rcRect l="5087" t="10701" r="49323" b="71910"/>
          <a:stretch/>
        </p:blipFill>
        <p:spPr>
          <a:xfrm>
            <a:off x="1692360" y="2997360"/>
            <a:ext cx="540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07640" y="-100080"/>
            <a:ext cx="8373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Рекомбинация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о процесс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единение ионов в нейтральную молекулу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ли в электролите нет электрического поля, то ионы движутся</a:t>
            </a:r>
            <a:r>
              <a:rPr b="0" lang="ru-RU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прерывно и хао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сли в электролите создать ЭП, то ионы начнут двигаться.  Положительные ионы меди - к аноду,  а отрицательные ионы хлора - к кат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Электролиз водного раствора хлорида меди. "/>
          <p:cNvPicPr/>
          <p:nvPr/>
        </p:nvPicPr>
        <p:blipFill>
          <a:blip r:embed="rId1"/>
          <a:stretch/>
        </p:blipFill>
        <p:spPr>
          <a:xfrm>
            <a:off x="5076720" y="3860640"/>
            <a:ext cx="403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9219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Ток в электролитах – это </a:t>
            </a:r>
            <a:r>
              <a:rPr b="0" lang="ru-RU" sz="4000" spc="-1" strike="noStrike">
                <a:solidFill>
                  <a:srgbClr val="dfdef6"/>
                </a:solidFill>
                <a:latin typeface="Century"/>
              </a:rPr>
              <a:t>упорядоченное движение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Century"/>
              </a:rPr>
              <a:t>положительных и отрицательных ионов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Oval 4"/>
          <p:cNvSpPr/>
          <p:nvPr/>
        </p:nvSpPr>
        <p:spPr>
          <a:xfrm>
            <a:off x="4211640" y="3789360"/>
            <a:ext cx="936720" cy="863640"/>
          </a:xfrm>
          <a:prstGeom prst="ellipse">
            <a:avLst/>
          </a:prstGeom>
          <a:solidFill>
            <a:srgbClr val="eeb6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284720" y="5805360"/>
            <a:ext cx="1008000" cy="863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entury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324000" y="3716280"/>
            <a:ext cx="1008000" cy="3141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Кат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"/>
              </a:rPr>
              <a:t>_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885080" y="3716280"/>
            <a:ext cx="1008000" cy="3141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Ан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"/>
              </a:rPr>
              <a:t>+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1835280" y="4724280"/>
            <a:ext cx="4897440" cy="505080"/>
          </a:xfrm>
          <a:prstGeom prst="leftArrow">
            <a:avLst>
              <a:gd name="adj1" fmla="val 50000"/>
              <a:gd name="adj2" fmla="val 24240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е тока в электро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7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74760" y="839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 прохождении электрического тока через электролит наблюдается выделение веществ, входящих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лектролит,  на электродах. Электролиз – это явление выделения на электродах веществ, входящих в состав электролита, при протекании через него электрическ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omic Sans MS"/>
              </a:rPr>
              <a:t>Закон Фарадея для электролиза формулируется так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Масса m вещества, выделившегос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электроде, прямо пропорциональ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заряду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"/>
              </a:rPr>
              <a:t>q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, прошедшему через электроли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m = k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 = kIt.  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Величину k называют электрохимическ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эквивалентом и находят для разных веществ в таблиц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4"/>
          <p:cNvSpPr txBox="1"/>
          <p:nvPr/>
        </p:nvSpPr>
        <p:spPr>
          <a:xfrm>
            <a:off x="539640" y="1341360"/>
            <a:ext cx="79916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лиз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07:10Z</dcterms:created>
  <dc:creator>1</dc:creator>
  <dc:description/>
  <dc:language>en-US</dc:language>
  <cp:lastModifiedBy>Сергей</cp:lastModifiedBy>
  <dcterms:modified xsi:type="dcterms:W3CDTF">2022-02-28T15:49:40Z</dcterms:modified>
  <cp:revision>7</cp:revision>
  <dc:subject/>
  <dc:title>Слайд 1</dc:title>
</cp:coreProperties>
</file>