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84EB-E85D-47AB-986F-36CAEEB6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1AAA-3914-4E73-8BEF-0750AEA8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8EA0-2A84-4986-AB70-78DE9F46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0F85-6A8C-44CB-9B89-70632D1A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F600-5922-4734-BA61-ABB2F05F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A26C-7502-41E3-A82B-BA2F2A80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2EEA-6658-47E9-8156-0DBA7C0C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C848-5614-49F9-AA00-E785B0F2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372F-74B9-44F3-B946-1914202A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86D9-4764-4C35-B609-50B1B6DE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C554-99AC-4DA2-BAEF-C6F25643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5809-4D83-4EAF-93A3-070B7B04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3A61-0489-488F-85B3-5CED27DF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EC56-4B0F-459D-AF4A-CD7283A8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F844-DE4D-4938-9887-94D335F8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85B4-AFED-45F0-BB03-CF81E892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97A4-0B93-462D-BDEC-06A12020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5ED3A-DF02-40C4-B0B9-B93EBF0E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52E66-DAAC-4FF8-AE7E-DCC9C06E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DC333-47EC-4665-A313-D9C9FB5F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1D6FD-6D77-42BD-B1F4-7DBA419E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C03C6-D139-430A-8CA9-EAC5DC9D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A216-05B4-4B87-8DBA-0769D6C3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6DBE7-5C1D-4249-A35C-1D0437A2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E87D5-DC08-4731-AAB3-728DD78C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81797-E18A-4A9D-AEFD-C50EF2B4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C06B2-F119-49AD-979A-50C8F678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E874C-6717-4E3C-8698-9FDC9A15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D30A5-A20C-4961-ACD6-0BD554E5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2C403-51CE-498F-B2CB-908984B8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11A7B-2BBC-43D7-BD8F-74B0686D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F7800-171D-4EB1-87C4-539A00DC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60764-4B51-4DE3-BB45-A9A73D6D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3009-B9CC-4AD2-8C49-7092896E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6FD9D-A410-4B29-A118-D55C66C2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D26C5-BD80-464F-B01E-E5614012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2F498-FF71-4F49-AFE8-9151D7FE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19332-04E8-4AFB-B9BB-27BF94AF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5BD2B-D5EC-486B-89AC-07FD7CB6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675CB-0E30-4D3B-98B2-48472764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796E0-AF8E-4A28-B154-67B7A033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8B67B-92DC-4AB5-918B-D1E156D5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2BA4F-A503-4384-A55A-08DBCB27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AAE3-B9EF-4126-BB63-17E62A8B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7B33-951F-46D3-B612-0349FF61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40EF-1418-4918-9182-8273FF14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2B55-0316-4FFC-8CF5-E0DCC312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7C28-3F8F-4BDC-B706-51358B6C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14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89120" y="2514600"/>
            <a:ext cx="8915040" cy="226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dt" idx="1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ftr" idx="2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Freeform 6"/>
          <p:cNvSpPr/>
          <p:nvPr/>
        </p:nvSpPr>
        <p:spPr>
          <a:xfrm>
            <a:off x="0" y="4323960"/>
            <a:ext cx="1744200" cy="778320"/>
          </a:xfrm>
          <a:custGeom>
            <a:avLst/>
            <a:gdLst>
              <a:gd name="textAreaLeft" fmla="*/ 0 w 1744200"/>
              <a:gd name="textAreaRight" fmla="*/ 1744560 w 1744200"/>
              <a:gd name="textAreaTop" fmla="*/ 0 h 778320"/>
              <a:gd name="textAreaBottom" fmla="*/ 778680 h 77832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3"/>
          </p:nvPr>
        </p:nvSpPr>
        <p:spPr>
          <a:xfrm>
            <a:off x="531720" y="452952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87905F-F020-4A47-ADAB-37EAD0E0129A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70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83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dt" idx="4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5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1"/>
          <p:cNvSpPr/>
          <p:nvPr/>
        </p:nvSpPr>
        <p:spPr>
          <a:xfrm flipV="1">
            <a:off x="-3960" y="713880"/>
            <a:ext cx="1588320" cy="506880"/>
          </a:xfrm>
          <a:custGeom>
            <a:avLst/>
            <a:gdLst>
              <a:gd name="textAreaLeft" fmla="*/ 0 w 1588320"/>
              <a:gd name="textAreaRight" fmla="*/ 1588680 w 1588320"/>
              <a:gd name="textAreaTop" fmla="*/ 360 h 506880"/>
              <a:gd name="textAreaBottom" fmla="*/ 507600 h 50688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6"/>
          </p:nvPr>
        </p:nvSpPr>
        <p:spPr>
          <a:xfrm>
            <a:off x="531720" y="78768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3E7695-7B38-4988-9169-4CA5DE3798CE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139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152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11"/>
          <p:cNvSpPr/>
          <p:nvPr/>
        </p:nvSpPr>
        <p:spPr>
          <a:xfrm flipV="1">
            <a:off x="-3960" y="713880"/>
            <a:ext cx="1588320" cy="506880"/>
          </a:xfrm>
          <a:custGeom>
            <a:avLst/>
            <a:gdLst>
              <a:gd name="textAreaLeft" fmla="*/ 0 w 1588320"/>
              <a:gd name="textAreaRight" fmla="*/ 1588680 w 1588320"/>
              <a:gd name="textAreaTop" fmla="*/ 360 h 506880"/>
              <a:gd name="textAreaBottom" fmla="*/ 507600 h 50688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531720" y="78768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CCC6D7-ED49-4836-AC83-329835956807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208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221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9120" y="2133720"/>
            <a:ext cx="431352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body"/>
          </p:nvPr>
        </p:nvSpPr>
        <p:spPr>
          <a:xfrm>
            <a:off x="7190640" y="2126160"/>
            <a:ext cx="431352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dt" idx="10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1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11"/>
          <p:cNvSpPr/>
          <p:nvPr/>
        </p:nvSpPr>
        <p:spPr>
          <a:xfrm flipV="1">
            <a:off x="-3960" y="713880"/>
            <a:ext cx="1588320" cy="506880"/>
          </a:xfrm>
          <a:custGeom>
            <a:avLst/>
            <a:gdLst>
              <a:gd name="textAreaLeft" fmla="*/ 0 w 1588320"/>
              <a:gd name="textAreaRight" fmla="*/ 1588680 w 1588320"/>
              <a:gd name="textAreaTop" fmla="*/ 360 h 506880"/>
              <a:gd name="textAreaBottom" fmla="*/ 507600 h 50688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2"/>
          </p:nvPr>
        </p:nvSpPr>
        <p:spPr>
          <a:xfrm>
            <a:off x="531720" y="78768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F08DB1-3BBF-4964-984B-FA102F8B576F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3880" y="648000"/>
            <a:ext cx="9143640" cy="76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262626"/>
                </a:solidFill>
                <a:latin typeface="Arial"/>
              </a:rPr>
              <a:t>Болезни новорожденных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523880" y="1864440"/>
            <a:ext cx="9143640" cy="33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</a:rPr>
              <a:t>Болезни кожи и подкожной клетча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</a:rPr>
              <a:t>Заболевания пуповинного остатка и пупочной ра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</a:rPr>
              <a:t>Сепсис новорожд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</a:rPr>
              <a:t>Синдром дыхательных расстройств новорожд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</a:rPr>
              <a:t>Пневмо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</a:rPr>
              <a:t>Ане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</a:rPr>
              <a:t>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Болезни грудничков, новорожденных: особенности течения заболевания, методы  лечения малышей"/>
          <p:cNvPicPr/>
          <p:nvPr/>
        </p:nvPicPr>
        <p:blipFill>
          <a:blip r:embed="rId1"/>
          <a:stretch/>
        </p:blipFill>
        <p:spPr>
          <a:xfrm>
            <a:off x="543960" y="4105080"/>
            <a:ext cx="42858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748880" y="266400"/>
            <a:ext cx="9755280" cy="9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</a:rPr>
              <a:t>Сепсис новорожденных (МКБ-10: Р36) – </a:t>
            </a:r>
            <a:r>
              <a:rPr b="0" i="1" lang="ru-RU" sz="2400" spc="-1" strike="noStrike">
                <a:solidFill>
                  <a:srgbClr val="262626"/>
                </a:solidFill>
                <a:latin typeface="Arial"/>
              </a:rPr>
              <a:t>неадекватный синдром системного воспалительного ответа организма на инфекцию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20960" y="1296000"/>
            <a:ext cx="104832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i="1" lang="ru-RU" sz="1800" spc="-1" strike="noStrike">
                <a:solidFill>
                  <a:srgbClr val="404040"/>
                </a:solidFill>
                <a:latin typeface="Arial"/>
              </a:rPr>
              <a:t>Частота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 неонатального сепсиса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= 0,5-8,0 на 1000 новорожденных (маловесные дети, с низкой оценкой по Апгар, материнские перинатальные факторы риска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i="1" lang="ru-RU" sz="1800" spc="-1" strike="noStrike">
                <a:solidFill>
                  <a:srgbClr val="404040"/>
                </a:solidFill>
                <a:latin typeface="Arial"/>
              </a:rPr>
              <a:t>Начало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 сепсиса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м.б. ранним (на 1-2 день; стрептококки гр.В и грам- флора) или поздним (через 3 дня и позже; стафилококки, внутрисосудистые устройства,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E.coli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2 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формы сепсиса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Септицемия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– бактерии длительно  поступают из нарушенных зон микроциркуляции в кровеносное русло.  Выраженный токсикоз, гиперэргия и отсутствие гнойных метастазов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Септикопиемия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– форма сепсиса, при которой наряду с интоксикацией – образование метастатических абсцессов в различных тканях и органах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Ранние признаки сепсиса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часто неспецифичны: сниежнная спонтанная активность, плохое сосание, апноэ, брадикардия, колебания температуры тела. Лихорадка – только у 10-15% новорождкнных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13240" y="624240"/>
            <a:ext cx="1025352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</a:rPr>
              <a:t>Синдром дыхательных расстройств новорожденных, МКБ-10: Р22.0</a:t>
            </a:r>
            <a:br>
              <a:rPr sz="2400"/>
            </a:br>
            <a:r>
              <a:rPr b="0" i="1" lang="ru-RU" sz="2000" spc="-1" strike="noStrike">
                <a:solidFill>
                  <a:srgbClr val="262626"/>
                </a:solidFill>
                <a:latin typeface="Arial"/>
              </a:rPr>
              <a:t>синонимы: респираторный дистресс-синдром, болезнь гиалиновых мембран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79520" y="1527120"/>
            <a:ext cx="11416320" cy="53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СДРН – причина ≈ 30% неонатальных смерте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Основная причина: недостаток или дефект сурфактанта и незрелость легочной ткан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Способствует: недоношенность, внутриутробные инфекции, перинатальные травмы, охлаждение ребенка сразу после рождения, роды кесаревым сечением, второй близнец из двойн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Клиника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одышка (более 60/мин) в первые минуты жизни (через 3 часа после рождения – другая причина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экспираторные шумы («хрюкающий выдох»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западение грудной клетки на вдох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ригидный сердечный ритм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парадоксальное дыхание (западение брюшной стенки на вдохе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отеки кистей и стоп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аускультативно – резко ослабленное дыхание, позже – сухие хрипы на вдохе и выдохе,   крепитирующие и мелкопузырчатые хрипы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8" descr="Неинфекционные заболевания кожных покровов Введение Какое это"/>
          <p:cNvPicPr/>
          <p:nvPr/>
        </p:nvPicPr>
        <p:blipFill>
          <a:blip r:embed="rId1"/>
          <a:stretch/>
        </p:blipFill>
        <p:spPr>
          <a:xfrm>
            <a:off x="1287360" y="321480"/>
            <a:ext cx="10484280" cy="64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8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262626"/>
                </a:solidFill>
                <a:latin typeface="Arial"/>
              </a:rPr>
              <a:t>Болезни кожи и подкожной клетчатк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233000"/>
            <a:ext cx="1051524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Опрелости («пеленочный дерматит») МКБ-10: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L30.4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при раздражении кожи мочой, калом, трением пеленок или памперсов. Нередко осложняются инфицированием ( чаще стафилококк или </a:t>
            </a: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Candida albicans).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 Покраснение кожи, эрозии, мокнути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Лечение: частое пеленание, ванны с р-ром </a:t>
            </a: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KMnO4 (1 : 10 000),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с отваром ромашки; крем «Бепантен»; эрозии → краска Кастеллани или зеленка; мокнутие → 1-2% р-р танина, 0,25% р-р азотнокислого серебр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Потница МКБ-10: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L74.3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гиперфункция потовых желез (перегревание, плохой уход). Мелкие красные узелки и пятна на коже шеи, груди, внизу живота, в складках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Лечение: ванны с р-ром </a:t>
            </a: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KMnO4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;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детская присыпка или тальк с цинком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83" name="Picture 2" descr="Потница и опрелости. Причины. Опасности. Лечение."/>
          <p:cNvPicPr/>
          <p:nvPr/>
        </p:nvPicPr>
        <p:blipFill>
          <a:blip r:embed="rId1"/>
          <a:stretch/>
        </p:blipFill>
        <p:spPr>
          <a:xfrm>
            <a:off x="935280" y="4627440"/>
            <a:ext cx="1549080" cy="1549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Опрелости и потница у новорожденных: причины образования, чем и как лечить  в домашних условиях - Медицинский советник"/>
          <p:cNvPicPr/>
          <p:nvPr/>
        </p:nvPicPr>
        <p:blipFill>
          <a:blip r:embed="rId2"/>
          <a:stretch/>
        </p:blipFill>
        <p:spPr>
          <a:xfrm>
            <a:off x="4557240" y="4627440"/>
            <a:ext cx="1871280" cy="1401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Опрелости и потница у новорожденных: причины образования, чем и как лечить  в домашних условиях - Медицинский советник"/>
          <p:cNvPicPr/>
          <p:nvPr/>
        </p:nvPicPr>
        <p:blipFill>
          <a:blip r:embed="rId3"/>
          <a:stretch/>
        </p:blipFill>
        <p:spPr>
          <a:xfrm>
            <a:off x="8684280" y="4524840"/>
            <a:ext cx="202752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70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Болезни кожи и подкожной клетчатки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08240" y="994320"/>
            <a:ext cx="5610960" cy="518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Склередема МКБ-10:Р83.0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В обл. бедер, голеней, стоп, лобка, гениталий – отек; затем – твердеет. Кожа бледная с цианотичным оттенком, холодна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Этиология и патогенез неясны. Обычно у недоношенных, с гипоксическими и септическими состояниями, при инфекционных заболеваниях. Появляется вследствие охлаждения на 2-4 день жизни. Состояние тяжелое-вялость, гипотермия, брадикардия, брадипноэ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Лечение: осторожное согревание; лечение основного заболевания; вит. Е (15 мг/кг в/м или внутрь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172200" y="994320"/>
            <a:ext cx="5181120" cy="518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Склерема МКБ-10: Р83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600" spc="-1" strike="noStrike">
                <a:solidFill>
                  <a:srgbClr val="404040"/>
                </a:solidFill>
                <a:latin typeface="Arial"/>
              </a:rPr>
              <a:t>У недоношенных и при тяжелом поражении мозга на 1-2 неделе жизни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600" spc="-1" strike="noStrike">
                <a:solidFill>
                  <a:srgbClr val="404040"/>
                </a:solidFill>
                <a:latin typeface="Arial"/>
              </a:rPr>
              <a:t>Образования кожи и подкожной клетчатки каменной плотности; кожи холодная, красновато-цианотичная или желтушная. Лицо маскообразное, подвижность конечностей резко снижена; гипотермия; отказ от еды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600" spc="-1" strike="noStrike">
                <a:solidFill>
                  <a:srgbClr val="404040"/>
                </a:solidFill>
                <a:latin typeface="Arial"/>
              </a:rPr>
              <a:t>Приступы апноэ, артериальная гипотония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600" spc="-1" strike="noStrike">
                <a:solidFill>
                  <a:srgbClr val="404040"/>
                </a:solidFill>
                <a:latin typeface="Arial"/>
              </a:rPr>
              <a:t>Лечение инфекционного процесса, согревание; в/м вит Е 20 мг/кг/сут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89" name="Picture 2" descr="Склерема новорожденных - причины, симптомы, диагностика и лечение"/>
          <p:cNvPicPr/>
          <p:nvPr/>
        </p:nvPicPr>
        <p:blipFill>
          <a:blip r:embed="rId1"/>
          <a:stretch/>
        </p:blipFill>
        <p:spPr>
          <a:xfrm>
            <a:off x="2045160" y="4889520"/>
            <a:ext cx="2428920" cy="17852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Склерема новорожденных"/>
          <p:cNvPicPr/>
          <p:nvPr/>
        </p:nvPicPr>
        <p:blipFill>
          <a:blip r:embed="rId2"/>
          <a:stretch/>
        </p:blipFill>
        <p:spPr>
          <a:xfrm>
            <a:off x="7445880" y="4635720"/>
            <a:ext cx="2857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819800" y="266400"/>
            <a:ext cx="9684360" cy="109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262626"/>
                </a:solidFill>
                <a:latin typeface="Arial"/>
              </a:rPr>
              <a:t>Инфекционные заболевания кожных покровов.</a:t>
            </a:r>
            <a:br>
              <a:rPr sz="2800"/>
            </a:br>
            <a:r>
              <a:rPr b="0" lang="ru-RU" sz="2800" spc="-1" strike="noStrike">
                <a:solidFill>
                  <a:srgbClr val="262626"/>
                </a:solidFill>
                <a:latin typeface="Arial"/>
              </a:rPr>
              <a:t>Стафилодермии (пиококковый пемфигоид, МКБ-10: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08.0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49280" y="1189440"/>
            <a:ext cx="101548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i="1" lang="ru-RU" sz="1800" spc="-1" strike="noStrike">
                <a:solidFill>
                  <a:srgbClr val="404040"/>
                </a:solidFill>
                <a:latin typeface="Arial"/>
              </a:rPr>
              <a:t>Везикулопустулез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– воспаление в области устьев потовых желез. На коже ягодиц, бедер, в складках – мелкие пузырьки, затем маленькие эрозии. Течение доброкачественно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Пузырчатка новорожденных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– в 2 формах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доброкачественная: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пузырьки 0,5-1 см, наполненные серозно-гнойным содержимым. Состояние изменяется мало, субфебрилитет, беспокойство, ↓ прибавки М.Т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злокачественная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: много пузырей до 2-3 см (фликтены). Состояние тяжелое, интоксикация, риск сепсис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404040"/>
                </a:solidFill>
                <a:latin typeface="Arial"/>
              </a:rPr>
              <a:t>Эксфолиативный дерматит Риттера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– септический вариант стафилодермии. На фоне гиперемии – вялые пузыри, трещины, эрозии. Очаги инфекции во внутренних органах: отит, конъюнктивит, пневмония, энтероколит. Состояние тяжелое – интоксикация, фебрильная лихорадка.  Эпидермис отслаивается, симптомы эксикоз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404040"/>
                </a:solidFill>
                <a:latin typeface="Arial"/>
              </a:rPr>
              <a:t>Мастит новорожденных-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на фоне физиологического нагрубания грудных желез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93" name="Picture 8" descr="Эксфолиативный дерматит риттера (Эдр) - признаки, причины, симптомы,  лечение и профилактика - iDoctor.kz"/>
          <p:cNvPicPr/>
          <p:nvPr/>
        </p:nvPicPr>
        <p:blipFill>
          <a:blip r:embed="rId1"/>
          <a:stretch/>
        </p:blipFill>
        <p:spPr>
          <a:xfrm>
            <a:off x="9875160" y="5415480"/>
            <a:ext cx="2100600" cy="15735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0" descr="Эксфолиативный дерматит Риттера - причины, симптомы, диагностика и лечение"/>
          <p:cNvPicPr/>
          <p:nvPr/>
        </p:nvPicPr>
        <p:blipFill>
          <a:blip r:embed="rId2"/>
          <a:stretch/>
        </p:blipFill>
        <p:spPr>
          <a:xfrm>
            <a:off x="1819800" y="5535360"/>
            <a:ext cx="1904760" cy="117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</a:rPr>
              <a:t>Инфекционные заболевания кожных покровов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67680" y="1056600"/>
            <a:ext cx="10536480" cy="48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i="1" lang="ru-RU" sz="2000" spc="-1" strike="noStrike">
                <a:solidFill>
                  <a:srgbClr val="404040"/>
                </a:solidFill>
                <a:latin typeface="Arial"/>
              </a:rPr>
              <a:t>Стрептодермия, 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или рожистое воспаление. Кожа гиперемирована или «белая рожа»; возможно появление пузырей, абсцессов, некрозов. Состояние тяжелое. Возможны диспепсия, миокардит, поражение почек, менингит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i="1" lang="ru-RU" sz="2000" spc="-1" strike="noStrike">
                <a:solidFill>
                  <a:srgbClr val="404040"/>
                </a:solidFill>
                <a:latin typeface="Arial"/>
              </a:rPr>
              <a:t>Лечение инфекционных заболеваний кожи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Стерильное белье, оптимальная температура, обработка бокса УФО 4 раза в день. Коррекция баланса жидкости и электролитов. Местно: бриллиантовая зелень; местное УФО, при эксфолиативном дерматите – компрессы с жидкостью Бурова, с изотоническим  физ.р-ром  с добавлением 0,1% нитрата серебра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Основной метод – антибиотики (по чувствительности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Специфическая иммунотерапии: антистафилококковые (антистрептококковые) иммуноглобулины, плазм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97" name="Picture 2" descr="Стрептодермия"/>
          <p:cNvPicPr/>
          <p:nvPr/>
        </p:nvPicPr>
        <p:blipFill>
          <a:blip r:embed="rId1"/>
          <a:stretch/>
        </p:blipFill>
        <p:spPr>
          <a:xfrm>
            <a:off x="1283400" y="5039640"/>
            <a:ext cx="2619000" cy="17427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Пиодермии. Часть 1"/>
          <p:cNvPicPr/>
          <p:nvPr/>
        </p:nvPicPr>
        <p:blipFill>
          <a:blip r:embed="rId2"/>
          <a:stretch/>
        </p:blipFill>
        <p:spPr>
          <a:xfrm>
            <a:off x="7254360" y="4856760"/>
            <a:ext cx="2619000" cy="17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7960" y="624240"/>
            <a:ext cx="9826200" cy="5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</a:rPr>
              <a:t>Заболевания пуповинного остатка и пупочной ранк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34880" y="1305000"/>
            <a:ext cx="11336400" cy="460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i="1" lang="ru-RU" sz="1800" spc="-1" strike="noStrike">
                <a:solidFill>
                  <a:srgbClr val="404040"/>
                </a:solidFill>
                <a:latin typeface="Arial"/>
              </a:rPr>
              <a:t>Неинфекционная патология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Пупочная грыжа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. Показан массаж, раннее выкладывание на живот; вправлять в ванне пр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37-38º  Не рекомендуется заклеивать грыжу пластырем – повреждение кожи!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Фунгус пупка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– грибовидное  разрастание грануляций. Состояние не нарушается. Лечение: прижигание грануляций ляписным карандашом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Грыжа пупочного канатика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– тяжелая аномалия развития, дефект передней брюшной ,стенки, через который – выпячивание органов брюшной полости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Полные свищи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– незаращение протока между пупком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и петлей кишки или сохранение мочевого проток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Возможна инвагинация подвздошной кишк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Неполные свищи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– незаращение мочевого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или желточного протоко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Требуется консультация хирург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01" name="Picture 12" descr="Фунгус пупка у новорожденных - причины, симптомы, диагностика и лечение"/>
          <p:cNvPicPr/>
          <p:nvPr/>
        </p:nvPicPr>
        <p:blipFill>
          <a:blip r:embed="rId1"/>
          <a:stretch/>
        </p:blipFill>
        <p:spPr>
          <a:xfrm>
            <a:off x="10351440" y="136080"/>
            <a:ext cx="1632600" cy="1306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6" descr="Пупочные свищи у детей - презентация онлайн"/>
          <p:cNvPicPr/>
          <p:nvPr/>
        </p:nvPicPr>
        <p:blipFill>
          <a:blip r:embed="rId2"/>
          <a:stretch/>
        </p:blipFill>
        <p:spPr>
          <a:xfrm>
            <a:off x="6808680" y="3625920"/>
            <a:ext cx="5382720" cy="30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05960" y="313560"/>
            <a:ext cx="8911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</a:rPr>
              <a:t>Инфекционное воспаление пупочной ранки - омфалит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79520" y="923400"/>
            <a:ext cx="11513880" cy="49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Простая форма, или «мокнущий пупок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» – инфицированная пупочная ранка плохо заживает. При засыхании отделяемое образует корочки, которые постепенно отпадают. Общее состояние остается удовлетворительным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Флегмонозная форма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– воспаление распространяется на прилегающие ткани. Кожа гиперемированная, отечная инфильтрированная; пупочная область выбухает над поверхностью живота  На дне пупочной ямки – язвочка. Состояние нарушено: лихорадка, снижение аппетита, м.б. диспепси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Некротическая форма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– очень редко, у детей с гипотрофией. Флегмонозный омфалит распространяется вглубь. В области пупка – некроз кож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с образованием обширной раны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Состояние тяжелое, интоксикация. Часто → 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сепсис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05" name="Picture 22" descr="Выделения из пупка. Омфалит у взрослых: лечение и меры профилактики"/>
          <p:cNvPicPr/>
          <p:nvPr/>
        </p:nvPicPr>
        <p:blipFill>
          <a:blip r:embed="rId1"/>
          <a:stretch/>
        </p:blipFill>
        <p:spPr>
          <a:xfrm>
            <a:off x="1127520" y="5129640"/>
            <a:ext cx="2133360" cy="14144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0" descr="Мокнущий пупок и омфалит - приобретенные заболевания пупка | Медицинская  литература, книги по медицине, учебники, медицинские статьи и лекции, видео"/>
          <p:cNvPicPr/>
          <p:nvPr/>
        </p:nvPicPr>
        <p:blipFill>
          <a:blip r:embed="rId2"/>
          <a:stretch/>
        </p:blipFill>
        <p:spPr>
          <a:xfrm>
            <a:off x="10193040" y="3417480"/>
            <a:ext cx="1742760" cy="2619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4" descr="Как лечить омфалит у новорожденных - MAMABOOK — найкращий український сайт  для батьків"/>
          <p:cNvPicPr/>
          <p:nvPr/>
        </p:nvPicPr>
        <p:blipFill>
          <a:blip r:embed="rId3"/>
          <a:stretch/>
        </p:blipFill>
        <p:spPr>
          <a:xfrm>
            <a:off x="7041960" y="4093920"/>
            <a:ext cx="2628720" cy="17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91480" y="310680"/>
            <a:ext cx="10012680" cy="71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</a:rPr>
              <a:t>Сепсис новорожденных (МКБ-10: Р36) – </a:t>
            </a:r>
            <a:r>
              <a:rPr b="0" i="1" lang="ru-RU" sz="2000" spc="-1" strike="noStrike">
                <a:solidFill>
                  <a:srgbClr val="262626"/>
                </a:solidFill>
                <a:latin typeface="Arial"/>
              </a:rPr>
              <a:t>неадекватный синдром </a:t>
            </a:r>
            <a:br>
              <a:rPr sz="2000"/>
            </a:br>
            <a:r>
              <a:rPr b="0" i="1" lang="ru-RU" sz="2000" spc="-1" strike="noStrike">
                <a:solidFill>
                  <a:srgbClr val="262626"/>
                </a:solidFill>
                <a:latin typeface="Arial"/>
              </a:rPr>
              <a:t>системного воспалительного ответа организма на инфекцию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94720" y="1029960"/>
            <a:ext cx="11487240" cy="48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Международная терминология, принятая на конференции  Американской коллеги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грудных хирургов и Общества специалистов интенсивной терапии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Бактериемия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– наличие жизнеспособных бактерий в крови. Этиологически значимым микроорганизмы, выделенные из стерильных в норме сред и тканей (крови,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спинномозговой жидкости, экссудатов и биоптатов) или из гнойно-воспалительных очагов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Синдром системной воспалительной реакции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- системная воспалительная реакция на различные тяжелые повреждения тканей проявляющаяся двумя или более из следующих признаков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1) t тела выше 38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º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С или ниже 36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º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2) тахикардия более 90 уд/мин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3) тахипноэ более 20/мин или парциальное давление СО</a:t>
            </a:r>
            <a:r>
              <a:rPr b="0" lang="ru-RU" sz="1200" spc="-1" strike="noStrike">
                <a:solidFill>
                  <a:srgbClr val="404040"/>
                </a:solidFill>
                <a:latin typeface="Arial"/>
              </a:rPr>
              <a:t>2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ниже 32 мм рт ст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4) число лейкоцитов более 12х10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^9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/л  или менее 4х10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^9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/л или более 10% молодых форм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Сепсис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– системная реакция на инфекцию при явном выявленном очаге инфекци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404040"/>
                </a:solidFill>
                <a:latin typeface="Arial"/>
              </a:rPr>
              <a:t>Септический шок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– сепсис с гипертензией (лактат-ацидоз, олигурия, нарушение сознания и др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10" name="Picture 26" descr="МИНИСТЕРСТВО ЗДРАВООХРАНЕНИЯ РЕСПУБЛИКИ БЕЛАРУСЬ"/>
          <p:cNvPicPr/>
          <p:nvPr/>
        </p:nvPicPr>
        <p:blipFill>
          <a:blip r:embed="rId1"/>
          <a:stretch/>
        </p:blipFill>
        <p:spPr>
          <a:xfrm>
            <a:off x="9990360" y="38160"/>
            <a:ext cx="2201400" cy="12639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0" descr="Синдром дыхательных расстройств - причины, симптомы, диагностика и лечение"/>
          <p:cNvPicPr/>
          <p:nvPr/>
        </p:nvPicPr>
        <p:blipFill>
          <a:blip r:embed="rId2"/>
          <a:stretch/>
        </p:blipFill>
        <p:spPr>
          <a:xfrm>
            <a:off x="225000" y="5599080"/>
            <a:ext cx="1662480" cy="122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Легкий дым</Template>
  <TotalTime>263</TotalTime>
  <Application>LibreOffice/7.4.7.2$Linux_X86_64 LibreOffice_project/40$Build-2</Application>
  <AppVersion>15.0000</AppVersion>
  <Words>1268</Words>
  <Paragraphs>9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22T16:15:52Z</dcterms:created>
  <dc:creator>Natalija smirnowa</dc:creator>
  <dc:description/>
  <dc:language>en-US</dc:language>
  <cp:lastModifiedBy>Natalija smirnowa</cp:lastModifiedBy>
  <dcterms:modified xsi:type="dcterms:W3CDTF">2022-02-01T07:51:33Z</dcterms:modified>
  <cp:revision>10</cp:revision>
  <dc:subject/>
  <dc:title>Болезни новорожденны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1</vt:r8>
  </property>
</Properties>
</file>