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97B-DC67-4CAE-86F5-1A474B55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0B2-1CEC-40BF-84C3-2A5FE77C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974-D8B9-4EB1-B043-F92405D8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B02-5FED-4C47-A948-51D631C7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34B-87B2-4538-AEB9-EC240E33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D82-D009-40E5-9730-1C3C6B80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E0D-9AE8-455A-A2AA-2A737565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F7D-5909-45A9-90E0-DA8B0D57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0BA-3BA4-4739-BCF6-D54DDD68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80E-FAFC-4408-8550-17CEE35F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918-B331-44F4-B76C-E00191AD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CFD-333B-4D84-BD97-83E29A98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45ED-E773-40C5-8D57-60A0616FB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80880" y="260280"/>
            <a:ext cx="27334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адачи группы «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91320" y="333360"/>
            <a:ext cx="3634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рактическое занятие № 4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2153880" y="1197000"/>
            <a:ext cx="4469400" cy="36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РЕМЕННЫЙ ЭЛЕКТРИЧЕСКИЙ Т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6156360" y="5373720"/>
            <a:ext cx="273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-й модуль 2-го семест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1802880" y="2205000"/>
            <a:ext cx="5074200" cy="119124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№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616(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Сборник вопросов, упражнений и задач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по курсу общей физики в системе РИТМ. Часть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Стр. 179 – 19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789360"/>
            <a:ext cx="6696000" cy="974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еред решением задач необходимо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о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разобрать 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теоретические основы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по рассматриваемой тем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приведены в данной презентаци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250920" y="174600"/>
            <a:ext cx="8642160" cy="73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2. (В.14.24) Конденсатор емкостью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 = 1 мкФ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резистор с сопротивлением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кО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в цепь переменного тока с частотой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50 Г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полное сопротивление цепи, если конденсатор и резистор включены : 1) последовательно; 2) параллельн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1052640"/>
            <a:ext cx="1008000" cy="118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 = 1 мкФ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кО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50 Гц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1052640"/>
            <a:ext cx="4969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)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пь из последовательно соединенных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 Ома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332000" y="2060640"/>
                <a:ext cx="3527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50920" y="2637000"/>
                <a:ext cx="4105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476360" y="143820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I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859280" y="2924280"/>
                <a:ext cx="2270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C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50920" y="3390840"/>
            <a:ext cx="1584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Сопротивление цепи согласно (1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580000" y="1484280"/>
                <a:ext cx="13683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0" name=""/>
          <p:cNvGraphicFramePr/>
          <p:nvPr/>
        </p:nvGraphicFramePr>
        <p:xfrm>
          <a:off x="7786800" y="1052640"/>
          <a:ext cx="11491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1052640"/>
                    <a:ext cx="11491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 flipH="1">
            <a:off x="5148360" y="1628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/>
          <p:nvPr/>
        </p:nvSpPr>
        <p:spPr>
          <a:xfrm>
            <a:off x="5075280" y="1916280"/>
            <a:ext cx="252108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спользуем метод векторных диаграмм, где вектор - это амплитуда напряжения с учетом начальной фазы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050920" y="3357720"/>
                <a:ext cx="24498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πν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716360" y="3357720"/>
                <a:ext cx="38880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6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6" name=""/>
          <p:cNvGraphicFramePr/>
          <p:nvPr/>
        </p:nvGraphicFramePr>
        <p:xfrm>
          <a:off x="6300720" y="4076640"/>
          <a:ext cx="266220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4076640"/>
                    <a:ext cx="26622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324000" y="4221000"/>
            <a:ext cx="4679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пь из параллельно соединенных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 Ома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572000" y="4621320"/>
                <a:ext cx="14572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9280" y="4653000"/>
                <a:ext cx="3837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79280" y="5300640"/>
                <a:ext cx="345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 flipH="1">
            <a:off x="4140360" y="479736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79280" y="5950080"/>
                <a:ext cx="4032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572000" y="5589720"/>
                <a:ext cx="22050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E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946920" y="5445000"/>
                <a:ext cx="18730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6732720" y="63086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/>
          <p:nvPr/>
        </p:nvSpPr>
        <p:spPr>
          <a:xfrm>
            <a:off x="4356000" y="5516640"/>
            <a:ext cx="0" cy="1152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5067360"/>
            <a:ext cx="2017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екторная  диаграм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740120" y="6140520"/>
                <a:ext cx="3648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108000" y="4149720"/>
            <a:ext cx="60483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/>
          <p:nvPr/>
        </p:nvSpPr>
        <p:spPr>
          <a:xfrm>
            <a:off x="7311240" y="2924280"/>
            <a:ext cx="38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50920" y="1249200"/>
            <a:ext cx="1225440" cy="185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220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50 Гц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 = 35,4 мкФ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0 О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0,7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390600"/>
            <a:ext cx="8713800" cy="762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3. (В.14.25) В цепь переменного тока напряжением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220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частотой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50 Гц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следовательн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ены емкости, емкость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 = 35,4 мкФ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100 О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= 0,7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Г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ток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и падение напряжения на емк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сопротивлени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индуктивн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/>
          <p:nvPr/>
        </p:nvSpPr>
        <p:spPr>
          <a:xfrm>
            <a:off x="1692360" y="1341360"/>
            <a:ext cx="107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Закон О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916360" y="1341360"/>
                <a:ext cx="20145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6133680" y="191628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619280" y="2492280"/>
                <a:ext cx="51847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6735240" y="342900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7246800" y="1341360"/>
          <a:ext cx="164628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341360"/>
                    <a:ext cx="164628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31640" y="3236760"/>
                <a:ext cx="6156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098800" y="1800360"/>
                <a:ext cx="37432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I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580000" y="1341360"/>
                <a:ext cx="13683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 flipH="1">
            <a:off x="5075280" y="153180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3990960"/>
            <a:ext cx="446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спользуем метод векторных диаграмм, где вектор - это амплитуда напряжения с учетом начальной фазы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121360" y="4076640"/>
                <a:ext cx="2736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C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8076600" y="407664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5445000"/>
            <a:ext cx="2448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Ток в цепи и напряжение на элементах цепи согласно (3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987640" y="5445000"/>
                <a:ext cx="2254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124000" y="4591080"/>
                <a:ext cx="67690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πν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πν</m:t>
                                    </m:r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0,7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5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6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395280" y="4653000"/>
            <a:ext cx="1584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Сопротивление цепи согласно (3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508720" y="5560920"/>
                <a:ext cx="27558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3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219640" y="6165720"/>
                <a:ext cx="37051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ν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t xml:space="preserve">0,7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95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187280" y="6093000"/>
                <a:ext cx="37054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ν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250920" y="260280"/>
            <a:ext cx="871380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4. (В.14.26)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22,6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мГ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ены параллельно в цепь переменного тока с частотой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50 Г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если сдвиг фаз между напряжением и током равен</a:t>
            </a: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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= 60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1052640"/>
            <a:ext cx="1152360" cy="115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22,6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мГ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50 Гц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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60</a:t>
            </a: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/>
          <p:nvPr/>
        </p:nvSpPr>
        <p:spPr>
          <a:xfrm>
            <a:off x="1547640" y="1052640"/>
            <a:ext cx="4608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Запишем закон Ома и воспользуемся выражением ЭДС самоиндукции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>
            <a:off x="8462160" y="3191040"/>
            <a:ext cx="38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979640" y="1766880"/>
                <a:ext cx="1295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468360" y="5157720"/>
            <a:ext cx="3313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Угол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общим током в цепи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068720" y="5240160"/>
                <a:ext cx="1488960" cy="6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140360" y="2468520"/>
                <a:ext cx="16030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76360" y="2325600"/>
                <a:ext cx="2158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68360" y="3046320"/>
                <a:ext cx="3367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ω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 flipH="1">
            <a:off x="3420720" y="196704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500720" y="3046320"/>
                <a:ext cx="38350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ω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4427640" y="405432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022720" y="3767040"/>
                <a:ext cx="863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084720" y="3767040"/>
                <a:ext cx="8812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848040" y="1679400"/>
                <a:ext cx="22366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 flipH="1">
            <a:off x="3708000" y="261144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76280" y="3767040"/>
                <a:ext cx="38178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5844600" y="2471760"/>
            <a:ext cx="38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333360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372360" y="1125360"/>
          <a:ext cx="2536560" cy="13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125360"/>
                    <a:ext cx="253656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724360" y="552924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6307200" y="5405400"/>
                <a:ext cx="229860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ωL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ν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005280" y="6027840"/>
                <a:ext cx="35114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227640" y="4508640"/>
                <a:ext cx="2217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395280" y="4495680"/>
            <a:ext cx="55450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общего тока цепи согласно векторной диаграмме 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то гипотенуза прямоугольного треугольника с катетами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m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4"/>
          <p:cNvSpPr/>
          <p:nvPr/>
        </p:nvSpPr>
        <p:spPr>
          <a:xfrm>
            <a:off x="324000" y="189000"/>
            <a:ext cx="8496000" cy="73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5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В.14.27) Активное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соединены параллельно и включены в цепь переменного тока напряжением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127 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частотой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50 Г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если известно, что цепь поглощает мощность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404 Вт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сдвиг фаз между напряжением и током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60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/>
          <p:nvPr/>
        </p:nvSpPr>
        <p:spPr>
          <a:xfrm>
            <a:off x="5869800" y="1460520"/>
            <a:ext cx="38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/>
          <p:nvPr/>
        </p:nvSpPr>
        <p:spPr>
          <a:xfrm>
            <a:off x="1476360" y="1244520"/>
            <a:ext cx="1589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глощаемая цепью мощность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1243080"/>
            <a:ext cx="1008000" cy="137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 :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7 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Symbol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50 Г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= 404 В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60</a:t>
            </a: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6372360" y="1244520"/>
          <a:ext cx="2536560" cy="13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244520"/>
                    <a:ext cx="253656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159000" y="1244520"/>
                <a:ext cx="24656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Е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476720" y="2090880"/>
            <a:ext cx="1599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з (1) найдем ток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94000" y="1928880"/>
                <a:ext cx="2122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Р</m:t>
                        </m:r>
                      </m:num>
                      <m:den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Р</m:t>
                        </m:r>
                      </m:num>
                      <m:den>
                        <m:r>
                          <m:t xml:space="preserve">Е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5798160" y="2035080"/>
            <a:ext cx="389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/>
          <p:nvPr/>
        </p:nvSpPr>
        <p:spPr>
          <a:xfrm>
            <a:off x="322200" y="2781360"/>
            <a:ext cx="43941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решения предыдущей задачи для такой же цепи (1) следуют два уравнения, из которых найдем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170320" y="2805120"/>
                <a:ext cx="14893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234040" y="3500280"/>
                <a:ext cx="2217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322200" y="3429000"/>
            <a:ext cx="45370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общего тока цепи по векторной диаграмме – это гипотенуза треугольника с катетами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m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/>
          <p:nvPr/>
        </p:nvSpPr>
        <p:spPr>
          <a:xfrm>
            <a:off x="4932360" y="278136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/>
          <p:nvPr/>
        </p:nvSpPr>
        <p:spPr>
          <a:xfrm>
            <a:off x="6734160" y="306864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164360" y="2946240"/>
                <a:ext cx="115884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ωL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8462520" y="297972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7598880" y="357336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/>
          <p:nvPr/>
        </p:nvSpPr>
        <p:spPr>
          <a:xfrm>
            <a:off x="326160" y="4292640"/>
            <a:ext cx="172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з (1) и (4) следует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136600" y="4149720"/>
                <a:ext cx="26067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Р</m:t>
                        </m:r>
                      </m:num>
                      <m:den>
                        <m:sSup>
                          <m:e>
                            <m:r>
                              <m:t xml:space="preserve">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L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L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835520" y="450864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330880" y="4149720"/>
                <a:ext cx="22017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L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Р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Е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ϕ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7644960" y="436572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/>
          <p:nvPr/>
        </p:nvSpPr>
        <p:spPr>
          <a:xfrm>
            <a:off x="322200" y="5210280"/>
            <a:ext cx="3179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сле подстановки (5) в (3) получаем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732120" y="5084640"/>
                <a:ext cx="23526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4</m:t>
                        </m:r>
                      </m:den>
                    </m:f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415440" y="5950080"/>
            <a:ext cx="1346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з (3) следует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238480" y="5778360"/>
                <a:ext cx="4709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ν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ϕ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π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7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Гн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2"/>
          <p:cNvSpPr/>
          <p:nvPr/>
        </p:nvSpPr>
        <p:spPr>
          <a:xfrm>
            <a:off x="250920" y="260280"/>
            <a:ext cx="8569080" cy="79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6. (В.14.28) В цепь переменного тока напряжением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220 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оследовательно емкость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падение напряжения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на сопротивлении, если известно, что падение напряжения на конденсатор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2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1" i="1" lang="ru-RU" sz="1400" spc="-1" strike="noStrike" baseline="-25000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а на напряжение индуктивности равно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3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/>
          <p:nvPr/>
        </p:nvSpPr>
        <p:spPr>
          <a:xfrm>
            <a:off x="250920" y="1125360"/>
            <a:ext cx="936360" cy="124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= 220 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3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/>
          <p:nvPr/>
        </p:nvSpPr>
        <p:spPr>
          <a:xfrm>
            <a:off x="1258920" y="1182600"/>
            <a:ext cx="649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Зако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О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050920" y="1268280"/>
                <a:ext cx="20145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8391240" y="139536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258920" y="2205000"/>
                <a:ext cx="53100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590880" y="371628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7246800" y="1989000"/>
          <a:ext cx="164628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989000"/>
                    <a:ext cx="164628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03280" y="2876400"/>
                <a:ext cx="6156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211640" y="1197000"/>
                <a:ext cx="4068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I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556000" y="1812960"/>
                <a:ext cx="13683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1258920" y="183204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дставим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98600" y="3597120"/>
                <a:ext cx="5806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684360" y="4365720"/>
            <a:ext cx="5472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, что вектор амплитуды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векторной сумме амплитуд напряжений на элементах цепи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95280" y="5013360"/>
                <a:ext cx="5327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5794200" y="522936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226200" y="5013360"/>
                <a:ext cx="1152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2987640" y="5589720"/>
                <a:ext cx="22716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403280" y="5661000"/>
                <a:ext cx="1027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2556000" y="5877000"/>
            <a:ext cx="358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43120" y="225360"/>
            <a:ext cx="33339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ТЕОРЕТИЧЕСКИЕ ОСНО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71480"/>
            <a:ext cx="8353440" cy="17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положения теори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Установившиеся вынужденные электромагнитные колебания можно рассматривать как переменный ток, протекающий в цепи, содержащей резистор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конденсатор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катушку индуктивност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еременный ток можно считать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квазистационарны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т.е. мгновенные значения тока можно считать во всех точках цепи одинаковыми, т.к. его изменения являются медленными в сравнении со скоростью распространения ЭМ волны (скоростью света) вдоль этой электрической цеп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Для мгновенных значений квазистационарных токов выполняется закон Ома и следующие из него правила Кирхгоф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261080" y="2692440"/>
            <a:ext cx="6490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ассмотрим процессы в простейших электрических цепях с переменным током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Текст 2"/>
              <p:cNvSpPr txBox="1"/>
              <p:nvPr/>
            </p:nvSpPr>
            <p:spPr>
              <a:xfrm>
                <a:off x="324000" y="4076640"/>
                <a:ext cx="31683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24000" y="3416400"/>
            <a:ext cx="72007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еременный ток течет через резисто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В рамках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условия квазистационарност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ток через резистор определяется законом Ома (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– внешний источник переменной ЭДС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186080" y="4221000"/>
                <a:ext cx="174816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732720" y="4135320"/>
            <a:ext cx="10792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мплитуда то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943760" y="4005360"/>
                <a:ext cx="876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24000" y="4933800"/>
            <a:ext cx="6553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глядно представить соотношение между переменным током и напряжением в цепи можно векторной диаграммой, построенной для амплитудных значений гармонических функций тока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напряжения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3638160" y="429264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1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3213000"/>
            <a:ext cx="705636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805360"/>
            <a:ext cx="662436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: сдвиг фаз между амплитудой тока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текущего через резистор, и падением напряжения на резистор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m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равен нул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6014520" y="429264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308720" y="4789440"/>
          <a:ext cx="1503360" cy="18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4789440"/>
                    <a:ext cx="1503360" cy="18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595440"/>
            <a:ext cx="8136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еременный ток течет через катушку индуктивност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 цепи течет переменный, приводящий к возникновению ЭДС самоиндукции в катушке. Закон Ома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452520"/>
            <a:ext cx="8209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8360" y="1316160"/>
                <a:ext cx="15937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7670520" y="138744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1531800"/>
            <a:ext cx="360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627280" y="1171440"/>
                <a:ext cx="19447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716360" y="1531800"/>
            <a:ext cx="360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148360" y="1204920"/>
                <a:ext cx="20876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468360" y="1892160"/>
            <a:ext cx="6048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делим из (3) дифференциал ток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проинтегрируем по времени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стоянная интегрирования равна нулю, т.к. отсутствует постоянный ток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659640" y="1892160"/>
                <a:ext cx="187164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643280" y="46530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28720" y="2679840"/>
                <a:ext cx="45385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ω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ω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156360" y="2679840"/>
                <a:ext cx="9000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5511240" y="282420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3462480"/>
            <a:ext cx="3456000" cy="76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(4) получаем реактивное индуктивное сопротивление катушки (для постоянного тока,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получаем 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= 0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749840" y="3465360"/>
                <a:ext cx="15508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ω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662160" y="367524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268360" y="5013360"/>
                <a:ext cx="32259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534960" y="4386240"/>
            <a:ext cx="3672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дставим в (3) выражение амплитуды ЭДС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 получим падение напряжения на катушк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148360" y="4429080"/>
                <a:ext cx="11253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5798520" y="508464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6662160" y="445464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82560" y="5589720"/>
            <a:ext cx="7777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Выво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: из сравнения (4) и (7) следует, что падение напряжения на индуктивности опережает по фазе ток, текущий через катушку, на угол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/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, см. векторную диаграмм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6308640"/>
            <a:ext cx="8209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Текст 2"/>
          <p:cNvGraphicFramePr/>
          <p:nvPr/>
        </p:nvGraphicFramePr>
        <p:xfrm>
          <a:off x="7380360" y="2781360"/>
          <a:ext cx="148752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Текс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2781360"/>
                    <a:ext cx="14875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595440"/>
            <a:ext cx="81360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еременный ток течет через конденсато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конденсатор непрерывно перезаряжается, в результате в цепи течет переменный ток. Напряжение ЭДС полностью приложено к конденсатору. Пренебрегая сопротивлением проводов, закон Ома запишется в виде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84360" y="1585800"/>
                <a:ext cx="9968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158880" y="162864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849320" y="1773360"/>
            <a:ext cx="360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340000" y="1484280"/>
                <a:ext cx="1400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51280" y="1801800"/>
            <a:ext cx="360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443480" y="1609560"/>
                <a:ext cx="149688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58800" y="2263680"/>
            <a:ext cx="2376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Найдем ток, используя выражение для заряда (8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178080" y="2205000"/>
                <a:ext cx="3908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7213320" y="234936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84360" y="3706920"/>
                <a:ext cx="2428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ω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254040" y="3862440"/>
            <a:ext cx="47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12720" y="3068640"/>
            <a:ext cx="575964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(9) находим реактивное емкостное сопротивление конденсатор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1" i="1" lang="ru-RU" sz="1400" spc="-1" strike="noStrike" baseline="-25000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которое для постоянного тока (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 очень большое 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00536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16440" y="3716280"/>
                <a:ext cx="952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83280" y="4508640"/>
            <a:ext cx="5865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дстановкой (10) в (8) получим падение напряжение на конденсаторе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4954680"/>
                <a:ext cx="33829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898960" y="3860640"/>
            <a:ext cx="47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285800" y="5079960"/>
            <a:ext cx="47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5805360"/>
            <a:ext cx="7848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Выво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: из сравнения (9) и (12) следует, что ток, текущий через конденсатор, опережает по фазе падение напряжения на конденсаторе на угол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/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, см. векторную диаграмм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6524640"/>
            <a:ext cx="8209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087880" y="4941720"/>
                <a:ext cx="12826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10" name="Текст 2"/>
          <p:cNvGraphicFramePr/>
          <p:nvPr/>
        </p:nvGraphicFramePr>
        <p:xfrm>
          <a:off x="7093080" y="3070080"/>
          <a:ext cx="1608120" cy="25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Текс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3070080"/>
                    <a:ext cx="160812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95280" y="404640"/>
            <a:ext cx="84247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492360" y="4068720"/>
            <a:ext cx="5400720" cy="2126520"/>
          </a:xfrm>
          <a:prstGeom prst="rect">
            <a:avLst/>
          </a:prstGeom>
          <a:solidFill>
            <a:srgbClr val="ffcc66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СПРАВОЧНЫЙ МАТЕРИАЛ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отность меди: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 8,6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кг/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дельное сопротивление меди: 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= 0,017 мкОм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гнитная постоянная: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 4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н/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ическая постоянная:          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 8,8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/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орость света в вакууме:             с = 3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3409920"/>
            <a:ext cx="309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. Закон Ома для переменного тока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708360" y="3338640"/>
                <a:ext cx="93996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ЭФ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03120" y="4778280"/>
                <a:ext cx="13716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Ф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50920" y="3914640"/>
            <a:ext cx="29527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6. Связь между эффективными (действующими) и амплитудными значениями тока и напряж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2760" y="5715000"/>
                <a:ext cx="3068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Ф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Ф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68360" y="5281560"/>
            <a:ext cx="273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7. Мощность переменного тока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43120" y="4778280"/>
                <a:ext cx="15145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Ф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6000" y="2563920"/>
                <a:ext cx="2131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L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ω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995640" y="979560"/>
                <a:ext cx="1013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435640" y="907920"/>
            <a:ext cx="316872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Реактивное сопротивление катушки индуктивности переменному ток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 индуктивность катушки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586560" y="1700280"/>
                <a:ext cx="890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50920" y="1771560"/>
            <a:ext cx="4105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. Полное сопротивление переменному току последовательной цепи, состоящей из активного сопротивления, электроемкости и индуктивност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4859280" y="2131920"/>
            <a:ext cx="410544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4. Угол сдвига фазы между током и напряжением в последовательной цепи, содержащей активное сопротивление, электроемкость и индуктивность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907920"/>
            <a:ext cx="360036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Реактивное сопротивление конденсатора переменному току (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электроемкость конденсатора;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- круговая частота)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084720" y="2924280"/>
                <a:ext cx="1825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ω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ω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2139480" y="369720"/>
            <a:ext cx="48013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сновные формулы для решения зада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539640" y="189000"/>
            <a:ext cx="8136000" cy="94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1. (В.14.23)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ти полное сопротивление цеп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разность фаз между напряжением и током при разных способах включения сопротивления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емкост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ссмотреть следующие случаи : 1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оследовательно; 2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араллельно; 3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оследовательно; 4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араллельно; 5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оследовательно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268280"/>
            <a:ext cx="70578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)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пь переменного тока из последовательно соединенных резистора конденсатора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озникает переменный ток, создающий падения напряжения на каждом из элементов цепи. Закон Ома запишется в виде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4790520" y="2203560"/>
            <a:ext cx="38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39640" y="2168640"/>
                <a:ext cx="13683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11280" y="2708280"/>
                <a:ext cx="3384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50920" y="3284640"/>
                <a:ext cx="3960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124000" y="2060640"/>
                <a:ext cx="25192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I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24000" y="4782960"/>
            <a:ext cx="3816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Угол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силой тока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3716280"/>
            <a:ext cx="2089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мплитуда напряжения ЭДС – это гипотенуза треугольника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730920" y="4427640"/>
                <a:ext cx="22338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C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284720" y="4746600"/>
                <a:ext cx="1949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114200" y="5611680"/>
            <a:ext cx="1520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мплитуда тока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71640" y="6043680"/>
                <a:ext cx="18381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3276720" y="5635800"/>
            <a:ext cx="252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лное сопротивление цеп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467160" y="6067440"/>
                <a:ext cx="2259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C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6086520" y="5635800"/>
            <a:ext cx="280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еактивное сопротивление цеп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734160" y="6067440"/>
                <a:ext cx="15811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940360" y="2171880"/>
                <a:ext cx="13683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8" name=""/>
          <p:cNvGraphicFramePr/>
          <p:nvPr/>
        </p:nvGraphicFramePr>
        <p:xfrm>
          <a:off x="7586640" y="1341360"/>
          <a:ext cx="137808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6640" y="1341360"/>
                    <a:ext cx="137808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500720" y="2708280"/>
            <a:ext cx="3024000" cy="97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, что вектор амплитуды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векторной сумме амплитуд напряжений на элементах цеп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364000" y="2347920"/>
            <a:ext cx="43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2708280"/>
            <a:ext cx="0" cy="1871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43080" y="3932280"/>
                <a:ext cx="3776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 flipH="1" flipV="1">
            <a:off x="250920" y="4579920"/>
            <a:ext cx="619272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091280" y="4005360"/>
                <a:ext cx="14526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443640" y="4581360"/>
            <a:ext cx="0" cy="935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602480" y="4897440"/>
                <a:ext cx="14335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ωC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588000" y="4911840"/>
                <a:ext cx="9352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H="1" flipV="1">
            <a:off x="250560" y="5514480"/>
            <a:ext cx="8785080" cy="1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2200" y="404640"/>
            <a:ext cx="69138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пь переменного тока из параллельно соединенных резистор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конденсатора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озникает переменный ток, создающий падения напряжения на каждом из элементов цепи. Закон Ома запишется в виде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95280" y="1305000"/>
                <a:ext cx="11890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042920" y="4869000"/>
            <a:ext cx="3816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Угол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ток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 цепи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327720" y="3930480"/>
                <a:ext cx="22050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E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099040" y="4892760"/>
                <a:ext cx="2425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394920" y="5805360"/>
            <a:ext cx="1520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мплитуда тока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050920" y="5661000"/>
                <a:ext cx="2016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C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427640" y="5734080"/>
            <a:ext cx="2016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л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588000" y="5675400"/>
                <a:ext cx="21988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80160" y="1236600"/>
                <a:ext cx="1457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11280" y="4060800"/>
            <a:ext cx="4968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, что вектор амплитуды то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векторной сумме амплитуд тока в  элементах цеп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833480" y="1224000"/>
                <a:ext cx="302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312920" y="1916280"/>
                <a:ext cx="361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 flipH="1" flipV="1">
            <a:off x="4932000" y="1483920"/>
            <a:ext cx="431640" cy="7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042920" y="2600280"/>
                <a:ext cx="41785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778360" y="2637000"/>
                <a:ext cx="863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778360" y="3355920"/>
                <a:ext cx="10987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5435640" y="2637000"/>
            <a:ext cx="198360" cy="1079280"/>
          </a:xfrm>
          <a:custGeom>
            <a:avLst/>
            <a:gdLst>
              <a:gd name="textAreaLeft" fmla="*/ 126720 w 198360"/>
              <a:gd name="textAreaRight" fmla="*/ 198720 w 198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451640" y="404640"/>
          <a:ext cx="1527120" cy="28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404640"/>
                    <a:ext cx="152712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796000" y="1646280"/>
                <a:ext cx="11365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5508720" y="1197000"/>
            <a:ext cx="142920" cy="720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327720" y="4362480"/>
                <a:ext cx="126864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6083280" y="3859200"/>
            <a:ext cx="144360" cy="863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68560" y="3321000"/>
                <a:ext cx="3925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11280" y="466560"/>
            <a:ext cx="6337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)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пь переменного тока из последовательно соединенных резистор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под действием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озникает переменный ток, создающий напряжения на каждом из элементов цепи. Закон Ома имеет вид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442280" y="476280"/>
          <a:ext cx="145080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2280" y="476280"/>
                    <a:ext cx="14508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824040" y="1411200"/>
                <a:ext cx="151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595600" y="1297080"/>
                <a:ext cx="1544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55640" y="2060640"/>
                <a:ext cx="3909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254560" y="1268280"/>
                <a:ext cx="1621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81000" y="2492280"/>
                <a:ext cx="445464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 flipH="1" flipV="1">
            <a:off x="4356000" y="1626840"/>
            <a:ext cx="43200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3990960"/>
            <a:ext cx="8424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гласно векторной диаграмме вектор амплитуды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сумме векторов амплитуд напряжений на элементах цепи. 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током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11280" y="4676760"/>
                <a:ext cx="36464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L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881600" y="4653000"/>
                <a:ext cx="15620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725400" y="5394240"/>
            <a:ext cx="1974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мплитуда тока из (3)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00000" y="5826240"/>
                <a:ext cx="1654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L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08520" y="5411880"/>
            <a:ext cx="2504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л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216240" y="5843520"/>
                <a:ext cx="2076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790240" y="5411880"/>
            <a:ext cx="2820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еактив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534000" y="5908680"/>
                <a:ext cx="1212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246640" y="1700280"/>
                <a:ext cx="1197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4932360" y="1268280"/>
            <a:ext cx="198360" cy="1079640"/>
          </a:xfrm>
          <a:custGeom>
            <a:avLst/>
            <a:gdLst>
              <a:gd name="textAreaLeft" fmla="*/ 126720 w 198360"/>
              <a:gd name="textAreaRight" fmla="*/ 198720 w 198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028880" y="3213000"/>
                <a:ext cx="43383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5722920" y="2637000"/>
            <a:ext cx="198360" cy="1079280"/>
          </a:xfrm>
          <a:custGeom>
            <a:avLst/>
            <a:gdLst>
              <a:gd name="textAreaLeft" fmla="*/ 126720 w 198360"/>
              <a:gd name="textAreaRight" fmla="*/ 198720 w 198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012000" y="2739960"/>
                <a:ext cx="10792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012000" y="3208320"/>
                <a:ext cx="12240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260280"/>
            <a:ext cx="8136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). Цепь переменного тока из последовательно соединенных резистор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конденсатора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катушки индуктивн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В цепи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озникает переменный ток, создающий падения напряжения на каждом из элементов цепи. Закон Ома запишется в виде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68360" y="1222200"/>
                <a:ext cx="1942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87280" y="1820880"/>
                <a:ext cx="51134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027160" y="3992400"/>
                <a:ext cx="1041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3" name=""/>
          <p:cNvGraphicFramePr/>
          <p:nvPr/>
        </p:nvGraphicFramePr>
        <p:xfrm>
          <a:off x="7102440" y="1700280"/>
          <a:ext cx="164628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02440" y="1700280"/>
                    <a:ext cx="164628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55640" y="2484360"/>
                <a:ext cx="59040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627280" y="1108080"/>
                <a:ext cx="39258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I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95280" y="3897360"/>
            <a:ext cx="6481800" cy="76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, что вектор амплитуды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векторной сумме амплитуд падений напряжений на элементах цепи. 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силой тока в цепи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3421080" y="4737240"/>
            <a:ext cx="26636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мплитуда напряжения ЭДС – это гипотенуза прямоугольного треугольника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170760" y="4724280"/>
                <a:ext cx="27939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C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46040" y="4757760"/>
                <a:ext cx="2685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ω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820440" y="5560920"/>
            <a:ext cx="1520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мплитуда тока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74840" y="5970600"/>
                <a:ext cx="2296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L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3295800" y="5572080"/>
            <a:ext cx="2504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л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30560" y="5994360"/>
                <a:ext cx="27367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C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005880" y="5616720"/>
            <a:ext cx="2820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еактив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6327720" y="6043680"/>
                <a:ext cx="2205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L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380360" y="1236600"/>
                <a:ext cx="13683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 flipH="1">
            <a:off x="6732720" y="141300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822240" y="3162240"/>
                <a:ext cx="57657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512040" y="5157720"/>
                <a:ext cx="22240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1:28:18Z</dcterms:created>
  <dc:creator>Колпачева</dc:creator>
  <dc:description/>
  <dc:language>en-US</dc:language>
  <cp:lastModifiedBy>Gavrilov A.M.</cp:lastModifiedBy>
  <dcterms:modified xsi:type="dcterms:W3CDTF">2013-06-15T06:45:27Z</dcterms:modified>
  <cp:revision>259</cp:revision>
  <dc:subject/>
  <dc:title>Слайд 1</dc:title>
</cp:coreProperties>
</file>