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CBE-AB64-4A1E-8EE8-0437C0FE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9E8-CB58-409B-BFCB-167EC033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145-E4D2-46C3-9026-54969F37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C56-E72B-442D-9610-C36AAECE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9F6-FFF4-42BC-8BF3-9602ECE6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CF6-8AB7-493F-8C7C-96DA7CDE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4E8-495E-4251-B793-21B4449C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ED0-F473-45AF-AB9C-2F524439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5C2-3202-4971-BDC9-D1EBE6D4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CA6-BC5F-4956-9DD2-715344AC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F3E-63F7-4985-A4FA-1FB56FCD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FE9-302C-4F2C-BEF8-E5291F7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Лекція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A634-73EC-49B9-B585-BFCD40063E29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31C0-967A-40DE-881E-1A0FF8CAA8A4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424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162a40"/>
                </a:solidFill>
                <a:uFillTx/>
                <a:latin typeface="Tahoma"/>
              </a:rPr>
              <a:t>ПЕРЕХІДНІ ПРОЦЕСИ В ЕЛЕКТРОЕНЕРГЕТИЦІ</a:t>
            </a:r>
            <a:br>
              <a:rPr sz="2000"/>
            </a:br>
            <a:r>
              <a:rPr b="1" lang="uk-UA" sz="2000" spc="-1" strike="noStrike">
                <a:solidFill>
                  <a:srgbClr val="2b5481"/>
                </a:solidFill>
                <a:latin typeface="Tahoma"/>
              </a:rPr>
              <a:t>03тема 1. Розрахунки перехідних процесів при трифазних коротких замиканнях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БІОРЕСУРСІВ І ПРИРОДОКОРИСТУВАННЯ УКРАЇ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о-науковий інститут енергетики, автоматики і енергозбереже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електропостачання імені професора В.М. Синь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659040" y="5094360"/>
            <a:ext cx="5639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Лектор</a:t>
            </a: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Гай О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573C-F77B-401C-A6E6-8373B63DB811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Приклади КЗ із живленням від одного джерела: а) КЗ із живленням від мережної лінії живлення через трансформатор; б) КЗ із живленням від одного генератора (без одиничного трансформатора); в) КЗ із живленням від одного енергоблоку станції (генераторі і одиночний трансформатор з перемиканням відгалужень під навантаження чи без нього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Рисунок 122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5245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Приклади замкненої електромережі із живленням від кількох джере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2A79-F25F-402B-922E-70119A15A41B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Рисунок 290" descr=""/>
          <p:cNvPicPr/>
          <p:nvPr/>
        </p:nvPicPr>
        <p:blipFill>
          <a:blip r:embed="rId1"/>
          <a:srcRect l="0" t="46124" r="0" b="0"/>
          <a:stretch/>
        </p:blipFill>
        <p:spPr>
          <a:xfrm>
            <a:off x="4643280" y="1176480"/>
            <a:ext cx="4353120" cy="39812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90" descr=""/>
          <p:cNvPicPr/>
          <p:nvPr/>
        </p:nvPicPr>
        <p:blipFill>
          <a:blip r:embed="rId2"/>
          <a:srcRect l="0" t="0" r="0" b="53747"/>
          <a:stretch/>
        </p:blipFill>
        <p:spPr>
          <a:xfrm>
            <a:off x="108000" y="1482840"/>
            <a:ext cx="4352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A395-A81F-4CBF-8FC0-B6C6DF5E3375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112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якую за увагу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1289-2409-41B6-A28B-9B5AAC2B8A1D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2f2"/>
                </a:solidFill>
                <a:latin typeface="Times New Roman"/>
                <a:ea typeface="Times New Roman"/>
              </a:rPr>
              <a:t>ЗМІС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76360" y="234936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1. Коротке замикання на затискачах генерат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2. Коротке замикання у віддалених точках системи електропостач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3. Початкове значення періодичної складової струму короткого замик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4. Розрахунок початкового діючого значення періодичної складової струму короткого замик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5. Початкова сила струму симетричного короткого замикання 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І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к </a:t>
            </a: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за ІЕС 609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2EFB-DC6E-432D-918A-C6E6FD3E8C6A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396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1. Коротке замикання на затискачах генератор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Рисунок 2979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23268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C98B-BC45-491D-AD81-161976BCED4F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Зміни у часі струму фази та його складових для генератора з АРЗ при трифазному КЗ на затискачах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2980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438880" cy="3228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981" descr=""/>
          <p:cNvPicPr/>
          <p:nvPr/>
        </p:nvPicPr>
        <p:blipFill>
          <a:blip r:embed="rId2"/>
          <a:stretch/>
        </p:blipFill>
        <p:spPr>
          <a:xfrm>
            <a:off x="5529240" y="4162320"/>
            <a:ext cx="1943280" cy="21751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2"/>
          <p:cNvSpPr/>
          <p:nvPr/>
        </p:nvSpPr>
        <p:spPr>
          <a:xfrm>
            <a:off x="971640" y="4292640"/>
            <a:ext cx="3813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Зміни у часі періодичної складової струму КЗ для генератора з АРЗ при різних значеннях граничного струму збудження та постійний часу обмотки збудження </a:t>
            </a: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Т</a:t>
            </a:r>
            <a:r>
              <a:rPr b="0" i="1" lang="ru-RU" sz="1800" spc="-1" strike="noStrike" baseline="-25000">
                <a:solidFill>
                  <a:srgbClr val="2b5481"/>
                </a:solidFill>
                <a:latin typeface="Tahoma"/>
              </a:rPr>
              <a:t>е</a:t>
            </a: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=0</a:t>
            </a: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-3.7037E-006 C 0.06892 -3.7037E-006 0.125 0.02848 0.125 0.06389 C 0.125 0.09908 0.06892 0.12778 0 0.12778 C -0.0691 0.12778 -0.125 0.09908 -0.125 0.06389 C -0.125 0.02848 -0.0691 -3.7037E-006 0 -3.7037E-006 Z">
                                      <p:cBhvr>
                                        <p:cTn id="3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E9D7-C8BB-4F1B-A491-2AA8372035C4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1600" y="-195480"/>
            <a:ext cx="8229600" cy="96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2. Коротке замикання у віддалених точках системи електропостачанн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Рисунок 2985" descr=""/>
          <p:cNvPicPr/>
          <p:nvPr/>
        </p:nvPicPr>
        <p:blipFill>
          <a:blip r:embed="rId1"/>
          <a:stretch/>
        </p:blipFill>
        <p:spPr>
          <a:xfrm>
            <a:off x="2340000" y="669960"/>
            <a:ext cx="4514760" cy="3190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633240" y="388764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Вплив АРЗ на зміну струму і напруги при різній електричній віддаленості місця К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29" descr=""/>
          <p:cNvPicPr/>
          <p:nvPr/>
        </p:nvPicPr>
        <p:blipFill>
          <a:blip r:embed="rId2"/>
          <a:stretch/>
        </p:blipFill>
        <p:spPr>
          <a:xfrm>
            <a:off x="2124000" y="4251240"/>
            <a:ext cx="4845240" cy="218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8C0C-0986-4E17-8792-D50EAB85B8D8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512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3. Початкове значення періодичної складової струму короткого замиканн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79280" y="836640"/>
            <a:ext cx="8785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значення 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E′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і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E"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з достатньою для практичних розрахунків точністю можна визначити для машин</a:t>
            </a:r>
            <a:r>
              <a:rPr b="0" lang="en-US" sz="1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без демпферних контурів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0" name="Объект 6"/>
          <p:cNvGraphicFramePr/>
          <p:nvPr/>
        </p:nvGraphicFramePr>
        <p:xfrm>
          <a:off x="2700360" y="1420920"/>
          <a:ext cx="374328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420920"/>
                    <a:ext cx="37432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Прямоугольник 8"/>
          <p:cNvSpPr/>
          <p:nvPr/>
        </p:nvSpPr>
        <p:spPr>
          <a:xfrm>
            <a:off x="3093480" y="191628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з демпферними контурам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3" name="Объект 9"/>
          <p:cNvGraphicFramePr/>
          <p:nvPr/>
        </p:nvGraphicFramePr>
        <p:xfrm>
          <a:off x="2529000" y="2281320"/>
          <a:ext cx="40860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9000" y="2281320"/>
                    <a:ext cx="40860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Прямоугольник 11"/>
          <p:cNvSpPr/>
          <p:nvPr/>
        </p:nvSpPr>
        <p:spPr>
          <a:xfrm>
            <a:off x="54000" y="270828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Векторні діаграми синхронного машини до початку перехідного процесу: а) неявнополюсної; б) явнополюсної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Рисунок 30" descr=""/>
          <p:cNvPicPr/>
          <p:nvPr/>
        </p:nvPicPr>
        <p:blipFill>
          <a:blip r:embed="rId5"/>
          <a:stretch/>
        </p:blipFill>
        <p:spPr>
          <a:xfrm>
            <a:off x="395280" y="3570120"/>
            <a:ext cx="3360600" cy="31356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4"/>
          <p:cNvSpPr/>
          <p:nvPr/>
        </p:nvSpPr>
        <p:spPr>
          <a:xfrm>
            <a:off x="4572000" y="2852640"/>
            <a:ext cx="4572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Середні значення 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x′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d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,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x"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d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 та 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E′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,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E"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 у відносних одиницях виміру для машин потужністю до 100 МВ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Прямоугольник 16"/>
          <p:cNvSpPr/>
          <p:nvPr/>
        </p:nvSpPr>
        <p:spPr>
          <a:xfrm>
            <a:off x="4054320" y="429264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b5481"/>
                </a:solidFill>
                <a:latin typeface="Tahoma"/>
              </a:rPr>
              <a:t>турбогенератора</a:t>
            </a:r>
            <a:r>
              <a:rPr b="0" i="1" lang="uk-UA" sz="1800" spc="-1" strike="noStrike">
                <a:solidFill>
                  <a:srgbClr val="2b5481"/>
                </a:solidFill>
                <a:latin typeface="Tahoma"/>
              </a:rPr>
              <a:t> – 0,2; 0,13 та 1,12; 1,08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b5481"/>
                </a:solidFill>
                <a:latin typeface="Tahoma"/>
              </a:rPr>
              <a:t>гідрогенератора</a:t>
            </a:r>
            <a:r>
              <a:rPr b="0" i="1" lang="uk-UA" sz="1800" spc="-1" strike="noStrike">
                <a:solidFill>
                  <a:srgbClr val="2b5481"/>
                </a:solidFill>
                <a:latin typeface="Tahoma"/>
              </a:rPr>
              <a:t> – 0,35; 0,25 та 1,15; 1,2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4"/>
          <p:cNvSpPr/>
          <p:nvPr/>
        </p:nvSpPr>
        <p:spPr>
          <a:xfrm>
            <a:off x="312408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490E-CB69-41A0-95D3-FCB0122E0005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Середні значення параметрів 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x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*d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 і E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*</a:t>
            </a: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 елементів СЕП при нормальних умовах експлуатації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26920" y="1484280"/>
          <a:ext cx="7058160" cy="3240000"/>
        </p:xfrm>
        <a:graphic>
          <a:graphicData uri="http://schemas.openxmlformats.org/drawingml/2006/table">
            <a:tbl>
              <a:tblPr/>
              <a:tblGrid>
                <a:gridCol w="4853160"/>
                <a:gridCol w="1101600"/>
                <a:gridCol w="110340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лемент СЕ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"</a:t>
                      </a:r>
                      <a:r>
                        <a:rPr b="1" lang="uk-UA" sz="11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*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"</a:t>
                      </a:r>
                      <a:r>
                        <a:rPr b="1" lang="uk-UA" sz="11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*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урбогенератор потужністю до 100 МВ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1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 ж, потужністю 100-500 МВ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ідрогенератор з демпферними обмотк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 ж, без демпферних обмото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хронний компенсато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хронний двигу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синхронний двигу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агальнене навантаженн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8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6FBB-0B04-4DF1-B2CB-DEF85A1AD4C6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4. Розрахунок початкового діючого значення періодичної складової струму короткого замиканн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85640" y="142092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Для синхронних генераторів та електродвигунів надперехідною ЕРС в передчасному режимі слід визначати за формуло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7" name="Объект 6"/>
          <p:cNvGraphicFramePr/>
          <p:nvPr/>
        </p:nvGraphicFramePr>
        <p:xfrm>
          <a:off x="2392200" y="2205000"/>
          <a:ext cx="428652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2200" y="2205000"/>
                    <a:ext cx="4286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Прямоугольник 8"/>
          <p:cNvSpPr/>
          <p:nvPr/>
        </p:nvSpPr>
        <p:spPr>
          <a:xfrm>
            <a:off x="2340000" y="29242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для синхронних компенсаторів по формулі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Объект 9"/>
          <p:cNvGraphicFramePr/>
          <p:nvPr/>
        </p:nvGraphicFramePr>
        <p:xfrm>
          <a:off x="3470400" y="3500280"/>
          <a:ext cx="2130480" cy="4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0400" y="3500280"/>
                    <a:ext cx="21304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Прямоугольник 11"/>
          <p:cNvSpPr/>
          <p:nvPr/>
        </p:nvSpPr>
        <p:spPr>
          <a:xfrm>
            <a:off x="1652760" y="434016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Надперехідну ЕРС асинхронних електродвигуні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Объект 12"/>
          <p:cNvGraphicFramePr/>
          <p:nvPr/>
        </p:nvGraphicFramePr>
        <p:xfrm>
          <a:off x="2287440" y="4944960"/>
          <a:ext cx="479268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7440" y="4944960"/>
                    <a:ext cx="47926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5. Початкова сила струму симетричного короткого замикання 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І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к </a:t>
            </a: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за ІЕС 60909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9EAF-A22F-41E9-AF63-6FCFBE95E520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Объект 4"/>
          <p:cNvGraphicFramePr/>
          <p:nvPr/>
        </p:nvGraphicFramePr>
        <p:xfrm>
          <a:off x="2843280" y="765000"/>
          <a:ext cx="32414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765000"/>
                    <a:ext cx="3241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Прямоугольник 6"/>
          <p:cNvSpPr/>
          <p:nvPr/>
        </p:nvSpPr>
        <p:spPr>
          <a:xfrm>
            <a:off x="3238200" y="158760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b5481"/>
                </a:solidFill>
                <a:latin typeface="Tahoma"/>
              </a:rPr>
              <a:t>Коефіцієнт напруги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3"/>
          <a:stretch/>
        </p:blipFill>
        <p:spPr>
          <a:xfrm>
            <a:off x="1376280" y="1965240"/>
            <a:ext cx="643896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2:26:30Z</dcterms:created>
  <dc:creator>user</dc:creator>
  <dc:description/>
  <dc:language>en-US</dc:language>
  <cp:lastModifiedBy>gaalx7 gtx</cp:lastModifiedBy>
  <dcterms:modified xsi:type="dcterms:W3CDTF">2020-10-24T08:42:55Z</dcterms:modified>
  <cp:revision>41</cp:revision>
  <dc:subject/>
  <dc:title>Слайд 1</dc:title>
</cp:coreProperties>
</file>