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4B7-DD87-4BC6-8A8E-163A69FA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0B0-4680-4B9D-AFCF-FF7B2A3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691-5237-4BCD-A997-3D248608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D31-07FC-4E26-BDF7-8E0B1FBD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8BA-339F-4AC5-8B92-F57ED09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80E-32A3-4786-9BD3-8DFF076D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219-4580-427D-99FB-477342A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63B-9C1C-43C3-825D-EB1C0E7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673-CDC6-4807-AB2B-D782923E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864-B5BF-4385-A5E8-803F50B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428-BB71-46AE-B719-EBAB5A54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245-4552-4D55-8018-18BBEF1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Лекція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E046-E12C-49EC-A624-F64C8046B1E5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46B-D9AB-402A-93FE-A96AEC383DCF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162a40"/>
                </a:solidFill>
                <a:uFillTx/>
                <a:latin typeface="Tahoma"/>
              </a:rPr>
              <a:t>Математичні задачі в енергетиці</a:t>
            </a:r>
            <a:br>
              <a:rPr sz="2000"/>
            </a:br>
            <a:r>
              <a:rPr b="0" lang="ru-RU" sz="2000" spc="-1" strike="noStrike">
                <a:solidFill>
                  <a:srgbClr val="162a40"/>
                </a:solidFill>
                <a:latin typeface="Tahoma"/>
              </a:rPr>
              <a:t>01Тема 1. Основні поняття.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-науковий інститут енергетики, автоматики і енергозбереж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опостачання імені професора В.М. Синь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659040" y="5094360"/>
            <a:ext cx="563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ктор</a:t>
            </a: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Гай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009-8A80-4F68-A182-B99F5CB3DD09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2" descr="D:\!gaalx\!Doc\Education\Мат задачи\Скрипник\2\3_08.jpg"/>
          <p:cNvPicPr/>
          <p:nvPr/>
        </p:nvPicPr>
        <p:blipFill>
          <a:blip r:embed="rId1"/>
          <a:stretch/>
        </p:blipFill>
        <p:spPr>
          <a:xfrm>
            <a:off x="250920" y="1785960"/>
            <a:ext cx="8624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E3C3-333D-46DE-B9AB-6E450882128A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112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BCE3-E33F-444C-BBEA-2A3E965F4BA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2f2"/>
                </a:solidFill>
                <a:latin typeface="Times New Roman"/>
                <a:ea typeface="Times New Roman"/>
              </a:rPr>
              <a:t>ЗМІС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476360" y="18446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1. Загальні понят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2. Нормативні посил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2a40"/>
                </a:solidFill>
                <a:latin typeface="Tahoma"/>
              </a:rPr>
              <a:t>3. Терміни та визначення поня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DDE-8519-4257-9AAD-ED73DFBCB9B2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D:\!gaalx\!Doc\Education\Мат задачи\Скрипник\2\3_01.jpg"/>
          <p:cNvPicPr/>
          <p:nvPr/>
        </p:nvPicPr>
        <p:blipFill>
          <a:blip r:embed="rId1"/>
          <a:stretch/>
        </p:blipFill>
        <p:spPr>
          <a:xfrm>
            <a:off x="2771640" y="6480"/>
            <a:ext cx="464976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53A-C106-4016-9A2B-5BB0903F32C7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D:\!gaalx\!Doc\Education\Мат задачи\Скрипник\2\3_02.jpg"/>
          <p:cNvPicPr/>
          <p:nvPr/>
        </p:nvPicPr>
        <p:blipFill>
          <a:blip r:embed="rId1"/>
          <a:stretch/>
        </p:blipFill>
        <p:spPr>
          <a:xfrm>
            <a:off x="2700360" y="12600"/>
            <a:ext cx="49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858-C7C8-4073-B501-A9D0F36CB4F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D:\!gaalx\!Doc\Education\Мат задачи\Скрипник\2\3_03.jpg"/>
          <p:cNvPicPr/>
          <p:nvPr/>
        </p:nvPicPr>
        <p:blipFill>
          <a:blip r:embed="rId1"/>
          <a:stretch/>
        </p:blipFill>
        <p:spPr>
          <a:xfrm>
            <a:off x="255600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898D-DBCB-4599-B4A9-D3FBA3811655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D:\!gaalx\!Doc\Education\Мат задачи\Скрипник\2\3_04.jpg"/>
          <p:cNvPicPr/>
          <p:nvPr/>
        </p:nvPicPr>
        <p:blipFill>
          <a:blip r:embed="rId1"/>
          <a:stretch/>
        </p:blipFill>
        <p:spPr>
          <a:xfrm>
            <a:off x="2700360" y="11160"/>
            <a:ext cx="5149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8F9-99CD-49DC-8FAA-D3A60C52D3B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2" descr="D:\!gaalx\!Doc\Education\Мат задачи\Скрипник\2\3_05.jpg"/>
          <p:cNvPicPr/>
          <p:nvPr/>
        </p:nvPicPr>
        <p:blipFill>
          <a:blip r:embed="rId1"/>
          <a:stretch/>
        </p:blipFill>
        <p:spPr>
          <a:xfrm>
            <a:off x="2916360" y="0"/>
            <a:ext cx="48528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1B48-F26D-46F3-A64F-046B9DE901DB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" descr="D:\!gaalx\!Doc\Education\Мат задачи\Скрипник\2\3_06.jpg"/>
          <p:cNvPicPr/>
          <p:nvPr/>
        </p:nvPicPr>
        <p:blipFill>
          <a:blip r:embed="rId1"/>
          <a:stretch/>
        </p:blipFill>
        <p:spPr>
          <a:xfrm>
            <a:off x="249552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2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3F32-D9D6-45D0-A999-629CE642B912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2" descr="D:\!gaalx\!Doc\Education\Мат задачи\Скрипник\2\3_07.jpg"/>
          <p:cNvPicPr/>
          <p:nvPr/>
        </p:nvPicPr>
        <p:blipFill>
          <a:blip r:embed="rId1"/>
          <a:stretch/>
        </p:blipFill>
        <p:spPr>
          <a:xfrm>
            <a:off x="2611440" y="30240"/>
            <a:ext cx="50562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26:30Z</dcterms:created>
  <dc:creator>user</dc:creator>
  <dc:description/>
  <dc:language>en-US</dc:language>
  <cp:lastModifiedBy>gaalx7 gtx</cp:lastModifiedBy>
  <dcterms:modified xsi:type="dcterms:W3CDTF">2022-02-14T05:44:24Z</dcterms:modified>
  <cp:revision>55</cp:revision>
  <dc:subject/>
  <dc:title>Слайд 1</dc:title>
</cp:coreProperties>
</file>