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5EC9-3181-419B-9601-6CECE92B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AC9-2979-43BF-97B1-70242399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94CD-BDA3-418F-9F53-21BB64C0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1E9-F24E-47DA-8695-BA91F3A0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CFE8-C2A0-4D35-B210-689461C1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587C-5DF4-4922-806E-321AAF83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850-6BFE-4BE4-A6E3-D4B3CDBF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1F4-8204-47FF-A405-EF8681D8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C87A-C3BC-4232-B963-3541531D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56C6-80F5-41EE-8089-3421C7F3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78E-8050-4F51-BCC8-2A44873A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429-7AA4-4E0F-B2B6-06323100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Лекція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093E-1FBF-4AF7-BBA5-6D9329377058}" type="slidenum">
              <a:rPr b="0" lang="uk-U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2491-91BC-4D5E-9F1B-9D0DABAD3B13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424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162a40"/>
                </a:solidFill>
                <a:uFillTx/>
                <a:latin typeface="Tahoma"/>
              </a:rPr>
              <a:t>Математичні задачі в енергетиці</a:t>
            </a:r>
            <a:br>
              <a:rPr sz="2000"/>
            </a:br>
            <a:r>
              <a:rPr b="0" lang="ru-RU" sz="2000" spc="-1" strike="noStrike">
                <a:solidFill>
                  <a:srgbClr val="162a40"/>
                </a:solidFill>
                <a:latin typeface="Tahoma"/>
              </a:rPr>
              <a:t>01Тема 1. Основні поняття.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УНІВЕРСИТЕТ БІОРЕСУРСІВ І ПРИРОДОКОРИСТУВАННЯ УКРАЇ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о-науковий інститут енергетики, автоматики і енергозбереже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електропостачання імені професора В.М. Синьк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659040" y="5094360"/>
            <a:ext cx="56390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Лектор</a:t>
            </a:r>
            <a:r>
              <a:rPr b="0" lang="uk-UA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: Гай О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86F9-5A3A-4C8A-BAC0-247DB50D68B0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2" descr="D:\!gaalx\!Doc\Education\Мат задачи\Скрипник\2\3_08.jpg"/>
          <p:cNvPicPr/>
          <p:nvPr/>
        </p:nvPicPr>
        <p:blipFill>
          <a:blip r:embed="rId1"/>
          <a:stretch/>
        </p:blipFill>
        <p:spPr>
          <a:xfrm>
            <a:off x="250920" y="1785960"/>
            <a:ext cx="86248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99AA-4638-4FC9-AE48-24D04A2FC4BB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1120" y="24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якую за увагу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2D2E-3256-42C0-8679-DA0236FB0E0D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f2f2"/>
                </a:solidFill>
                <a:latin typeface="Times New Roman"/>
                <a:ea typeface="Times New Roman"/>
              </a:rPr>
              <a:t>ЗМІС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476360" y="184464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uk-UA" sz="2000" spc="-1" strike="noStrike">
                <a:solidFill>
                  <a:srgbClr val="162a40"/>
                </a:solidFill>
                <a:latin typeface="Tahoma"/>
              </a:rPr>
              <a:t>1. Загальні понятт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2a40"/>
                </a:solidFill>
                <a:latin typeface="Tahoma"/>
              </a:rPr>
              <a:t>2. Нормативні посила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2a40"/>
                </a:solidFill>
                <a:latin typeface="Tahoma"/>
              </a:rPr>
              <a:t>3. Терміни та визначення поня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C728-7481-4BE8-972F-1DA48E0AB591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5" descr="D:\!gaalx\!Doc\Education\Мат задачи\Скрипник\2\3_01.jpg"/>
          <p:cNvPicPr/>
          <p:nvPr/>
        </p:nvPicPr>
        <p:blipFill>
          <a:blip r:embed="rId1"/>
          <a:stretch/>
        </p:blipFill>
        <p:spPr>
          <a:xfrm>
            <a:off x="2771640" y="6480"/>
            <a:ext cx="464976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F7F8-255D-4DFE-8C1E-5904C75EC2F9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5" descr="D:\!gaalx\!Doc\Education\Мат задачи\Скрипник\2\3_02.jpg"/>
          <p:cNvPicPr/>
          <p:nvPr/>
        </p:nvPicPr>
        <p:blipFill>
          <a:blip r:embed="rId1"/>
          <a:stretch/>
        </p:blipFill>
        <p:spPr>
          <a:xfrm>
            <a:off x="2700360" y="12600"/>
            <a:ext cx="49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1E39-F020-45AD-905C-1D3DD956E1F2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5" descr="D:\!gaalx\!Doc\Education\Мат задачи\Скрипник\2\3_03.jpg"/>
          <p:cNvPicPr/>
          <p:nvPr/>
        </p:nvPicPr>
        <p:blipFill>
          <a:blip r:embed="rId1"/>
          <a:stretch/>
        </p:blipFill>
        <p:spPr>
          <a:xfrm>
            <a:off x="2556000" y="0"/>
            <a:ext cx="49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5568-08C0-41E9-8D8E-94F7E334AC5E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D:\!gaalx\!Doc\Education\Мат задачи\Скрипник\2\3_04.jpg"/>
          <p:cNvPicPr/>
          <p:nvPr/>
        </p:nvPicPr>
        <p:blipFill>
          <a:blip r:embed="rId1"/>
          <a:stretch/>
        </p:blipFill>
        <p:spPr>
          <a:xfrm>
            <a:off x="2700360" y="11160"/>
            <a:ext cx="51498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8360-1FE5-4A70-862E-807AB13656E3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2" descr="D:\!gaalx\!Doc\Education\Мат задачи\Скрипник\2\3_05.jpg"/>
          <p:cNvPicPr/>
          <p:nvPr/>
        </p:nvPicPr>
        <p:blipFill>
          <a:blip r:embed="rId1"/>
          <a:stretch/>
        </p:blipFill>
        <p:spPr>
          <a:xfrm>
            <a:off x="2916360" y="0"/>
            <a:ext cx="48528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B4DA-6984-41EB-BB7E-97913A477174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2" descr="D:\!gaalx\!Doc\Education\Мат задачи\Скрипник\2\3_06.jpg"/>
          <p:cNvPicPr/>
          <p:nvPr/>
        </p:nvPicPr>
        <p:blipFill>
          <a:blip r:embed="rId1"/>
          <a:stretch/>
        </p:blipFill>
        <p:spPr>
          <a:xfrm>
            <a:off x="2495520" y="0"/>
            <a:ext cx="557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6A67-B531-487A-8454-9D88029D26DA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2" descr="D:\!gaalx\!Doc\Education\Мат задачи\Скрипник\2\3_07.jpg"/>
          <p:cNvPicPr/>
          <p:nvPr/>
        </p:nvPicPr>
        <p:blipFill>
          <a:blip r:embed="rId1"/>
          <a:stretch/>
        </p:blipFill>
        <p:spPr>
          <a:xfrm>
            <a:off x="2611440" y="30240"/>
            <a:ext cx="50562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2:26:30Z</dcterms:created>
  <dc:creator>user</dc:creator>
  <dc:description/>
  <dc:language>en-US</dc:language>
  <cp:lastModifiedBy>gaalx7 gtx</cp:lastModifiedBy>
  <dcterms:modified xsi:type="dcterms:W3CDTF">2022-02-14T05:44:24Z</dcterms:modified>
  <cp:revision>55</cp:revision>
  <dc:subject/>
  <dc:title>Слайд 1</dc:title>
</cp:coreProperties>
</file>