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E07-AD46-4B2E-8013-DD7ACA34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78B-64AE-474B-8C5D-32B57AA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4AE-8DAB-4206-AFE2-4A4FB311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DF9-C76D-4323-80E1-E7A04BE0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C99-C070-4A36-93ED-6B6424BC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A8C-5875-4152-B52B-CD62C37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2C6-3A6A-4925-B5EF-5816B1E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195-E07E-43A1-B77E-7DC5996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803-AA87-4899-91BD-F07FC2A8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C25-ECD9-4F20-A644-1D2F9DC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C14-3FAA-4CBD-A6A0-0F59D21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B44-C871-41B1-AA42-D8097AA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Лекція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447-D825-4ED3-AE95-E2FAF2C435EE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F6F7-4939-4BEA-A153-CE08B1D31E8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162a40"/>
                </a:solidFill>
                <a:uFillTx/>
                <a:latin typeface="Tahoma"/>
              </a:rPr>
              <a:t>Математичні задачі в енергетиці</a:t>
            </a:r>
            <a:br>
              <a:rPr sz="2000"/>
            </a:br>
            <a:r>
              <a:rPr b="0" lang="ru-RU" sz="2000" spc="-1" strike="noStrike">
                <a:solidFill>
                  <a:srgbClr val="162a40"/>
                </a:solidFill>
                <a:latin typeface="Tahoma"/>
              </a:rPr>
              <a:t>01Тема 1. Основні поняття.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-науковий інститут енергетики, автоматики і енергозбереж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опостачання імені професора В.М. Синь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659040" y="5094360"/>
            <a:ext cx="563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ктор</a:t>
            </a: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Гай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74DA-D9E1-4045-98D1-5BCB27BB2E3F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2" descr="D:\!gaalx\!Doc\Education\Мат задачи\Скрипник\2\3_08.jpg"/>
          <p:cNvPicPr/>
          <p:nvPr/>
        </p:nvPicPr>
        <p:blipFill>
          <a:blip r:embed="rId1"/>
          <a:stretch/>
        </p:blipFill>
        <p:spPr>
          <a:xfrm>
            <a:off x="250920" y="1785960"/>
            <a:ext cx="8624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84C8-CF61-479D-9C17-47BC8784D0A0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112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0E5-4619-464F-8BCD-41B842335EF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2f2"/>
                </a:solidFill>
                <a:latin typeface="Times New Roman"/>
                <a:ea typeface="Times New Roman"/>
              </a:rPr>
              <a:t>ЗМІС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476360" y="18446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1. Загальні понят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2. Нормативні посил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3. Терміни та визначення поня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62D-E689-4ED1-86AB-5426413E8CB7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D:\!gaalx\!Doc\Education\Мат задачи\Скрипник\2\3_01.jpg"/>
          <p:cNvPicPr/>
          <p:nvPr/>
        </p:nvPicPr>
        <p:blipFill>
          <a:blip r:embed="rId1"/>
          <a:stretch/>
        </p:blipFill>
        <p:spPr>
          <a:xfrm>
            <a:off x="2771640" y="6480"/>
            <a:ext cx="464976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30D-47F7-4B83-8639-AE318E55A838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D:\!gaalx\!Doc\Education\Мат задачи\Скрипник\2\3_02.jpg"/>
          <p:cNvPicPr/>
          <p:nvPr/>
        </p:nvPicPr>
        <p:blipFill>
          <a:blip r:embed="rId1"/>
          <a:stretch/>
        </p:blipFill>
        <p:spPr>
          <a:xfrm>
            <a:off x="2700360" y="12600"/>
            <a:ext cx="49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2A55-C229-4FA1-AD34-E4AE71C14FED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D:\!gaalx\!Doc\Education\Мат задачи\Скрипник\2\3_03.jpg"/>
          <p:cNvPicPr/>
          <p:nvPr/>
        </p:nvPicPr>
        <p:blipFill>
          <a:blip r:embed="rId1"/>
          <a:stretch/>
        </p:blipFill>
        <p:spPr>
          <a:xfrm>
            <a:off x="255600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B90-C806-4BF5-B1CB-3B6FE6FE64DD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D:\!gaalx\!Doc\Education\Мат задачи\Скрипник\2\3_04.jpg"/>
          <p:cNvPicPr/>
          <p:nvPr/>
        </p:nvPicPr>
        <p:blipFill>
          <a:blip r:embed="rId1"/>
          <a:stretch/>
        </p:blipFill>
        <p:spPr>
          <a:xfrm>
            <a:off x="2700360" y="11160"/>
            <a:ext cx="5149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CF96-B288-41E4-AEDF-991CBCEA3282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2" descr="D:\!gaalx\!Doc\Education\Мат задачи\Скрипник\2\3_05.jpg"/>
          <p:cNvPicPr/>
          <p:nvPr/>
        </p:nvPicPr>
        <p:blipFill>
          <a:blip r:embed="rId1"/>
          <a:stretch/>
        </p:blipFill>
        <p:spPr>
          <a:xfrm>
            <a:off x="2916360" y="0"/>
            <a:ext cx="48528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9D99-7D8F-4FC9-B3AF-C05DAB1D800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" descr="D:\!gaalx\!Doc\Education\Мат задачи\Скрипник\2\3_06.jpg"/>
          <p:cNvPicPr/>
          <p:nvPr/>
        </p:nvPicPr>
        <p:blipFill>
          <a:blip r:embed="rId1"/>
          <a:stretch/>
        </p:blipFill>
        <p:spPr>
          <a:xfrm>
            <a:off x="249552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6CF9-E6B3-4F97-870C-381E840F1CB4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2" descr="D:\!gaalx\!Doc\Education\Мат задачи\Скрипник\2\3_07.jpg"/>
          <p:cNvPicPr/>
          <p:nvPr/>
        </p:nvPicPr>
        <p:blipFill>
          <a:blip r:embed="rId1"/>
          <a:stretch/>
        </p:blipFill>
        <p:spPr>
          <a:xfrm>
            <a:off x="2611440" y="30240"/>
            <a:ext cx="50562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26:30Z</dcterms:created>
  <dc:creator>user</dc:creator>
  <dc:description/>
  <dc:language>en-US</dc:language>
  <cp:lastModifiedBy>gaalx7 gtx</cp:lastModifiedBy>
  <dcterms:modified xsi:type="dcterms:W3CDTF">2022-02-14T05:44:24Z</dcterms:modified>
  <cp:revision>55</cp:revision>
  <dc:subject/>
  <dc:title>Слайд 1</dc:title>
</cp:coreProperties>
</file>